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2.wmf" ContentType="image/x-wmf"/>
  <Override PartName="/ppt/media/image20.wmf" ContentType="image/x-wmf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5.wmf" ContentType="image/x-wmf"/>
  <Override PartName="/ppt/media/image14.jpeg" ContentType="image/jpeg"/>
  <Override PartName="/ppt/media/image41.jpeg" ContentType="image/jpeg"/>
  <Override PartName="/ppt/media/image16.wmf" ContentType="image/x-wmf"/>
  <Override PartName="/ppt/media/image45.jpeg" ContentType="image/jpeg"/>
  <Override PartName="/ppt/media/image24.png" ContentType="image/png"/>
  <Override PartName="/ppt/media/image11.jpeg" ContentType="image/jpeg"/>
  <Override PartName="/ppt/media/image1.png" ContentType="image/png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46.jpeg" ContentType="image/jpeg"/>
  <Override PartName="/ppt/media/image3.wmf" ContentType="image/x-wmf"/>
  <Override PartName="/ppt/media/image29.jpeg" ContentType="image/jpeg"/>
  <Override PartName="/ppt/media/image33.wmf" ContentType="image/x-wmf"/>
  <Override PartName="/ppt/media/image9.jpeg" ContentType="image/jpeg"/>
  <Override PartName="/ppt/media/image8.jpeg" ContentType="image/jpeg"/>
  <Override PartName="/ppt/media/image13.wmf" ContentType="image/x-wmf"/>
  <Override PartName="/ppt/media/image50.jpeg" ContentType="image/jpeg"/>
  <Override PartName="/ppt/media/image12.jpeg" ContentType="image/jpeg"/>
  <Override PartName="/ppt/media/image40.jpeg" ContentType="image/jpeg"/>
  <Override PartName="/ppt/media/image44.jpeg" ContentType="image/jpeg"/>
  <Override PartName="/ppt/media/image31.wmf" ContentType="image/x-wmf"/>
  <Override PartName="/ppt/media/image38.jpeg" ContentType="image/jpeg"/>
  <Override PartName="/ppt/media/image42.jpeg" ContentType="image/jpeg"/>
  <Override PartName="/ppt/media/image39.png" ContentType="image/png"/>
  <Override PartName="/ppt/media/image43.jpeg" ContentType="image/jpeg"/>
  <Override PartName="/ppt/media/image48.jpeg" ContentType="image/jpeg"/>
  <Override PartName="/ppt/media/image49.jpeg" ContentType="image/jpeg"/>
  <Override PartName="/ppt/media/image23.wmf" ContentType="image/x-wmf"/>
  <Override PartName="/ppt/media/image51.jpeg" ContentType="image/jpeg"/>
  <Override PartName="/ppt/media/image7.wmf" ContentType="image/x-wmf"/>
  <Override PartName="/ppt/media/image37.wmf" ContentType="image/x-wmf"/>
  <Override PartName="/ppt/media/image30.jpeg" ContentType="image/jpeg"/>
  <Override PartName="/ppt/media/image6.wmf" ContentType="image/x-wmf"/>
  <Override PartName="/ppt/media/image47.jpeg" ContentType="image/jpeg"/>
  <Override PartName="/ppt/media/image36.wmf" ContentType="image/x-wmf"/>
  <Override PartName="/ppt/media/image10.wmf" ContentType="image/x-wmf"/>
  <Override PartName="/ppt/media/image35.wmf" ContentType="image/x-wmf"/>
  <Override PartName="/ppt/media/image5.wmf" ContentType="image/x-wmf"/>
  <Override PartName="/ppt/media/image28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86775D-3EEF-4C53-9116-354A56F79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5C5295-9862-40D8-944B-21A096E4E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563F5C-65AC-419B-9C4A-CF8AA9662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0C9A37-9884-4946-A5CE-30558AE98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A84D26-E0AB-4123-95DF-54BE8EE75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1EDC52-4670-4DB4-BA4F-9D2F9A1F5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6D6A54-0ACC-443D-BF35-28FCB36E9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C13018-413F-4664-9696-114EC73DF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ED860B-E910-461B-B89B-0B3A789E2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FFACF6-7BCC-4FA9-9928-A8DA09759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D4C463-019F-42CC-8E55-47426DAFC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C7782B-DC37-41E0-AA6E-A3B6611CC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696080" y="0"/>
            <a:ext cx="14479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03/10/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6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Biomécanique d’un jeune peup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324480"/>
            <a:ext cx="8381880" cy="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4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CC74D-4CB9-46C7-8921-FEF78088F2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24.png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8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image" Target="../media/image46.jpeg"/><Relationship Id="rId7" Type="http://schemas.openxmlformats.org/officeDocument/2006/relationships/image" Target="../media/image47.jpeg"/><Relationship Id="rId8" Type="http://schemas.openxmlformats.org/officeDocument/2006/relationships/image" Target="../media/image48.jpeg"/><Relationship Id="rId9" Type="http://schemas.openxmlformats.org/officeDocument/2006/relationships/image" Target="../media/image49.jpeg"/><Relationship Id="rId10" Type="http://schemas.openxmlformats.org/officeDocument/2006/relationships/image" Target="../media/image50.jpeg"/><Relationship Id="rId11" Type="http://schemas.openxmlformats.org/officeDocument/2006/relationships/image" Target="../media/image51.jpeg"/><Relationship Id="rId12" Type="http://schemas.openxmlformats.org/officeDocument/2006/relationships/slideLayout" Target="../slideLayouts/slideLayout1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360" y="2374920"/>
            <a:ext cx="83818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ahoma"/>
              </a:rPr>
              <a:t>Biomécanique </a:t>
            </a:r>
            <a:br>
              <a:rPr sz="4400"/>
            </a:br>
            <a:r>
              <a:rPr b="1" lang="en-US" sz="4400" spc="-1" strike="noStrike">
                <a:solidFill>
                  <a:srgbClr val="003300"/>
                </a:solidFill>
                <a:latin typeface="Tahoma"/>
              </a:rPr>
              <a:t>d’un jeune peuplement </a:t>
            </a:r>
            <a:br>
              <a:rPr sz="4400"/>
            </a:br>
            <a:r>
              <a:rPr b="1" lang="en-US" sz="4400" spc="-1" strike="noStrike">
                <a:solidFill>
                  <a:srgbClr val="003300"/>
                </a:solidFill>
                <a:latin typeface="Tahoma"/>
              </a:rPr>
              <a:t>dans une trouée</a:t>
            </a:r>
            <a:r>
              <a:rPr b="0" lang="en-US" sz="44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3300"/>
                </a:solidFill>
                <a:latin typeface="Tahoma"/>
              </a:rPr>
              <a:t>de chablis</a:t>
            </a: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274920" y="468468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FTH - 200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1981080" cy="1665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048120" y="685800"/>
            <a:ext cx="698400" cy="8380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3886200" y="7621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572000" y="609480"/>
            <a:ext cx="692280" cy="762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257800" y="762120"/>
            <a:ext cx="1066680" cy="4014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6400800" y="838080"/>
            <a:ext cx="1208160" cy="3193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57200" y="541008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435640"/>
            <a:ext cx="8305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Sous la direction de Meriem Fournier, Gaëlle Jaouen et Julien Rue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Avec Fanchon Prévost (et Georges Elfor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302400"/>
            <a:ext cx="7467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ahoma"/>
              </a:rPr>
              <a:t>Autres mesures</a:t>
            </a: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-360" y="12949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Sur les arbres sur pied :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5f5f5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Inclinaison à la base, à 50cm et 1m50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Diamètre à la base, à 50 cm et 1m30</a:t>
            </a:r>
            <a:br>
              <a:rPr sz="2600"/>
            </a:b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Sur les arbres abattus :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5f5f5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Centre de gravité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5f5f5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Hauteur tota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5f5f5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Découpe en tronçons de 2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5f5f5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Diamètres et masses de chaque tronç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5f5f5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Mesure de l’excentrement de la croissance radia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80880" y="83340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Principaux résulta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523880" y="1981080"/>
            <a:ext cx="528012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316440"/>
            <a:ext cx="890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ahoma"/>
              </a:rPr>
              <a:t>Description du peuplement (1)</a:t>
            </a: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560" y="5181120"/>
            <a:ext cx="7848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qui-répartition des classes de diamèt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5774" t="2315" r="3845" b="7700"/>
          <a:stretch/>
        </p:blipFill>
        <p:spPr>
          <a:xfrm>
            <a:off x="1600200" y="1371600"/>
            <a:ext cx="4419720" cy="36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302400"/>
            <a:ext cx="887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ahoma"/>
              </a:rPr>
              <a:t>Description du peuplement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482760" y="1066680"/>
          <a:ext cx="736596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1066680"/>
                    <a:ext cx="7365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0" y="5105520"/>
            <a:ext cx="838188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auteur corrélée avec le diamètre à 1m3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ispersion plus grande pour les gros diamètre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1166760"/>
            <a:ext cx="8134200" cy="50515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0" y="302400"/>
            <a:ext cx="887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ahoma"/>
              </a:rPr>
              <a:t>Description du peuplement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457960" y="2525760"/>
            <a:ext cx="230796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cc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cc99"/>
                </a:solidFill>
                <a:latin typeface="Tahoma"/>
              </a:rPr>
              <a:t>103 individ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cc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cc99"/>
                </a:solidFill>
                <a:latin typeface="Tahoma"/>
              </a:rPr>
              <a:t>64 espè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302400"/>
            <a:ext cx="887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ahoma"/>
              </a:rPr>
              <a:t>Description du peuplement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8728" t="2693" r="10578" b="8417"/>
          <a:stretch/>
        </p:blipFill>
        <p:spPr>
          <a:xfrm>
            <a:off x="271440" y="1300320"/>
            <a:ext cx="3637080" cy="48495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4395960" y="2643120"/>
            <a:ext cx="33526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Verdana"/>
              </a:rPr>
              <a:t>Le coupable :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Verdana"/>
              </a:rPr>
              <a:t>Vochysia tomento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it « Grignon fou 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520" y="-2520"/>
            <a:ext cx="78296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ahoma"/>
              </a:rPr>
              <a:t>Répartition des individus par classe d’inclinaison</a:t>
            </a: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240" y="472428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46 arbres se redressent,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38 semblent être plus ou moins droits,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19 s’inclinent vers le so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19320" y="1371600"/>
            <a:ext cx="5486400" cy="3413160"/>
            <a:chOff x="1219320" y="1371600"/>
            <a:chExt cx="5486400" cy="3413160"/>
          </a:xfrm>
        </p:grpSpPr>
        <p:pic>
          <p:nvPicPr>
            <p:cNvPr id="154" name="" descr=""/>
            <p:cNvPicPr/>
            <p:nvPr/>
          </p:nvPicPr>
          <p:blipFill>
            <a:blip r:embed="rId1"/>
            <a:stretch/>
          </p:blipFill>
          <p:spPr>
            <a:xfrm>
              <a:off x="1219320" y="1371600"/>
              <a:ext cx="5486400" cy="3413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5" name=""/>
            <p:cNvGrpSpPr/>
            <p:nvPr/>
          </p:nvGrpSpPr>
          <p:grpSpPr>
            <a:xfrm>
              <a:off x="2917800" y="2136600"/>
              <a:ext cx="347400" cy="971640"/>
              <a:chOff x="2917800" y="2136600"/>
              <a:chExt cx="347400" cy="971640"/>
            </a:xfrm>
          </p:grpSpPr>
          <p:sp>
            <p:nvSpPr>
              <p:cNvPr id="156" name=""/>
              <p:cNvSpPr/>
              <p:nvPr/>
            </p:nvSpPr>
            <p:spPr>
              <a:xfrm>
                <a:off x="2917800" y="2520360"/>
                <a:ext cx="269280" cy="587880"/>
              </a:xfrm>
              <a:custGeom>
                <a:avLst/>
                <a:gdLst/>
                <a:ahLst/>
                <a:rect l="l" t="t" r="r" b="b"/>
                <a:pathLst>
                  <a:path w="345" h="690">
                    <a:moveTo>
                      <a:pt x="0" y="690"/>
                    </a:moveTo>
                    <a:cubicBezTo>
                      <a:pt x="43" y="635"/>
                      <a:pt x="213" y="475"/>
                      <a:pt x="270" y="360"/>
                    </a:cubicBezTo>
                    <a:cubicBezTo>
                      <a:pt x="327" y="245"/>
                      <a:pt x="330" y="75"/>
                      <a:pt x="345" y="0"/>
                    </a:cubicBezTo>
                  </a:path>
                </a:pathLst>
              </a:custGeom>
              <a:noFill/>
              <a:ln w="76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103200" y="2136600"/>
                <a:ext cx="162000" cy="46836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7560" y="2100960"/>
              <a:ext cx="168480" cy="935640"/>
              <a:chOff x="4687560" y="2100960"/>
              <a:chExt cx="168480" cy="935640"/>
            </a:xfrm>
          </p:grpSpPr>
          <p:sp>
            <p:nvSpPr>
              <p:cNvPr id="159" name=""/>
              <p:cNvSpPr/>
              <p:nvPr/>
            </p:nvSpPr>
            <p:spPr>
              <a:xfrm flipH="1">
                <a:off x="4751280" y="2622600"/>
                <a:ext cx="19800" cy="4140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123000">
                <a:off x="4696920" y="2103120"/>
                <a:ext cx="149400" cy="53028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5559480" y="2119320"/>
              <a:ext cx="435600" cy="942480"/>
              <a:chOff x="5559480" y="2119320"/>
              <a:chExt cx="435600" cy="942480"/>
            </a:xfrm>
          </p:grpSpPr>
          <p:sp>
            <p:nvSpPr>
              <p:cNvPr id="162" name=""/>
              <p:cNvSpPr/>
              <p:nvPr/>
            </p:nvSpPr>
            <p:spPr>
              <a:xfrm>
                <a:off x="5559480" y="2548800"/>
                <a:ext cx="181440" cy="513000"/>
              </a:xfrm>
              <a:custGeom>
                <a:avLst/>
                <a:gdLst/>
                <a:ahLst/>
                <a:rect l="l" t="t" r="r" b="b"/>
                <a:pathLst>
                  <a:path w="164" h="471">
                    <a:moveTo>
                      <a:pt x="0" y="471"/>
                    </a:moveTo>
                    <a:cubicBezTo>
                      <a:pt x="0" y="435"/>
                      <a:pt x="0" y="399"/>
                      <a:pt x="10" y="346"/>
                    </a:cubicBezTo>
                    <a:cubicBezTo>
                      <a:pt x="20" y="293"/>
                      <a:pt x="32" y="212"/>
                      <a:pt x="58" y="154"/>
                    </a:cubicBezTo>
                    <a:cubicBezTo>
                      <a:pt x="84" y="96"/>
                      <a:pt x="124" y="48"/>
                      <a:pt x="164" y="0"/>
                    </a:cubicBezTo>
                  </a:path>
                </a:pathLst>
              </a:custGeom>
              <a:noFill/>
              <a:ln w="76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rot="1614000">
                <a:off x="5754600" y="2117520"/>
                <a:ext cx="123840" cy="54468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600" y="302400"/>
            <a:ext cx="7848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ahoma"/>
              </a:rPr>
              <a:t>Influence de la gravité (1)</a:t>
            </a: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ormule de GreenHill – Euler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H</a:t>
            </a:r>
            <a:r>
              <a:rPr b="1" lang="de-DE" sz="24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cr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= 0,792 (E/</a:t>
            </a:r>
            <a:r>
              <a:rPr b="1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)</a:t>
            </a:r>
            <a:r>
              <a:rPr b="1" lang="de-DE" sz="2400" spc="-1" strike="noStrike" baseline="30000">
                <a:solidFill>
                  <a:srgbClr val="000000"/>
                </a:solidFill>
                <a:latin typeface="Verdana"/>
                <a:ea typeface="Times New Roman"/>
              </a:rPr>
              <a:t>1/3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D </a:t>
            </a:r>
            <a:r>
              <a:rPr b="1" lang="de-DE" sz="2400" spc="-1" strike="noStrike" baseline="30000">
                <a:solidFill>
                  <a:srgbClr val="000000"/>
                </a:solidFill>
                <a:latin typeface="Verdana"/>
                <a:ea typeface="Times New Roman"/>
              </a:rPr>
              <a:t>2/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Hcr = Hauteur critique (m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 = Module d’élasticité (Mp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= Masse volumique (kg.m</a:t>
            </a:r>
            <a:r>
              <a:rPr b="0" lang="fr-FR" sz="2400" spc="-1" strike="noStrike" baseline="30000">
                <a:solidFill>
                  <a:srgbClr val="000000"/>
                </a:solidFill>
                <a:latin typeface="Verdana"/>
              </a:rPr>
              <a:t>-3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 = Diamètre à la base (m)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acteur de risque 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Verdana"/>
              </a:rPr>
              <a:t>F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= H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Verdana"/>
              </a:rPr>
              <a:t>tot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/ H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Verdana"/>
              </a:rPr>
              <a:t>cr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801440" y="186048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22400" y="1447920"/>
            <a:ext cx="3991680" cy="2895480"/>
            <a:chOff x="122400" y="1447920"/>
            <a:chExt cx="3991680" cy="2895480"/>
          </a:xfrm>
        </p:grpSpPr>
        <p:sp>
          <p:nvSpPr>
            <p:cNvPr id="168" name=""/>
            <p:cNvSpPr/>
            <p:nvPr/>
          </p:nvSpPr>
          <p:spPr>
            <a:xfrm>
              <a:off x="122400" y="1447920"/>
              <a:ext cx="3926880" cy="28954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13440" y="1644480"/>
              <a:ext cx="720" cy="2343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77080" y="3988440"/>
              <a:ext cx="360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77080" y="3600360"/>
              <a:ext cx="360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77080" y="3204720"/>
              <a:ext cx="36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77080" y="2816280"/>
              <a:ext cx="36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77080" y="2428560"/>
              <a:ext cx="360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77080" y="2032920"/>
              <a:ext cx="360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77080" y="1644480"/>
              <a:ext cx="36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13440" y="3988440"/>
              <a:ext cx="33476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613440" y="3988080"/>
              <a:ext cx="720" cy="47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1089720" y="3988080"/>
              <a:ext cx="720" cy="47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1570680" y="3988080"/>
              <a:ext cx="1080" cy="47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2047320" y="3988080"/>
              <a:ext cx="1080" cy="47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2528280" y="3988080"/>
              <a:ext cx="720" cy="47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3004920" y="3988080"/>
              <a:ext cx="720" cy="47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3485880" y="3988080"/>
              <a:ext cx="1080" cy="47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3961440" y="3988080"/>
              <a:ext cx="720" cy="47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918800" y="2606040"/>
              <a:ext cx="30240" cy="4032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4" y="0"/>
                  </a:moveTo>
                  <a:lnTo>
                    <a:pt x="27" y="13"/>
                  </a:lnTo>
                  <a:lnTo>
                    <a:pt x="14" y="27"/>
                  </a:lnTo>
                  <a:lnTo>
                    <a:pt x="0" y="1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318400" y="2278080"/>
              <a:ext cx="30240" cy="41760"/>
            </a:xfrm>
            <a:custGeom>
              <a:avLst/>
              <a:gdLst/>
              <a:ahLst/>
              <a:rect l="l" t="t" r="r" b="b"/>
              <a:pathLst>
                <a:path w="27" h="28">
                  <a:moveTo>
                    <a:pt x="14" y="0"/>
                  </a:moveTo>
                  <a:lnTo>
                    <a:pt x="27" y="14"/>
                  </a:lnTo>
                  <a:lnTo>
                    <a:pt x="14" y="28"/>
                  </a:lnTo>
                  <a:lnTo>
                    <a:pt x="0" y="1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282040" y="2619360"/>
              <a:ext cx="30600" cy="4032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4" y="0"/>
                  </a:moveTo>
                  <a:lnTo>
                    <a:pt x="27" y="13"/>
                  </a:lnTo>
                  <a:lnTo>
                    <a:pt x="14" y="27"/>
                  </a:lnTo>
                  <a:lnTo>
                    <a:pt x="0" y="1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819880" y="2625480"/>
              <a:ext cx="31320" cy="4212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14" y="0"/>
                  </a:moveTo>
                  <a:lnTo>
                    <a:pt x="28" y="14"/>
                  </a:lnTo>
                  <a:lnTo>
                    <a:pt x="14" y="28"/>
                  </a:lnTo>
                  <a:lnTo>
                    <a:pt x="0" y="1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268280" y="3061440"/>
              <a:ext cx="31320" cy="4212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14" y="0"/>
                  </a:moveTo>
                  <a:lnTo>
                    <a:pt x="28" y="14"/>
                  </a:lnTo>
                  <a:lnTo>
                    <a:pt x="14" y="28"/>
                  </a:lnTo>
                  <a:lnTo>
                    <a:pt x="0" y="1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28680" y="2557800"/>
              <a:ext cx="30240" cy="4032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4" y="0"/>
                  </a:moveTo>
                  <a:lnTo>
                    <a:pt x="27" y="14"/>
                  </a:lnTo>
                  <a:lnTo>
                    <a:pt x="14" y="27"/>
                  </a:lnTo>
                  <a:lnTo>
                    <a:pt x="0" y="1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841760" y="2619360"/>
              <a:ext cx="30240" cy="4032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4" y="0"/>
                  </a:moveTo>
                  <a:lnTo>
                    <a:pt x="27" y="13"/>
                  </a:lnTo>
                  <a:lnTo>
                    <a:pt x="14" y="27"/>
                  </a:lnTo>
                  <a:lnTo>
                    <a:pt x="0" y="1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171080" y="3123360"/>
              <a:ext cx="30240" cy="4032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4" y="0"/>
                  </a:moveTo>
                  <a:lnTo>
                    <a:pt x="27" y="14"/>
                  </a:lnTo>
                  <a:lnTo>
                    <a:pt x="14" y="27"/>
                  </a:lnTo>
                  <a:lnTo>
                    <a:pt x="0" y="1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05320" y="2551680"/>
              <a:ext cx="30240" cy="4032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3" y="0"/>
                  </a:moveTo>
                  <a:lnTo>
                    <a:pt x="27" y="13"/>
                  </a:lnTo>
                  <a:lnTo>
                    <a:pt x="13" y="27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512440" y="2428560"/>
              <a:ext cx="30240" cy="4032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4" y="0"/>
                  </a:moveTo>
                  <a:lnTo>
                    <a:pt x="27" y="14"/>
                  </a:lnTo>
                  <a:lnTo>
                    <a:pt x="14" y="27"/>
                  </a:lnTo>
                  <a:lnTo>
                    <a:pt x="0" y="1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276000" y="2271960"/>
              <a:ext cx="30240" cy="4032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3" y="0"/>
                  </a:moveTo>
                  <a:lnTo>
                    <a:pt x="27" y="13"/>
                  </a:lnTo>
                  <a:lnTo>
                    <a:pt x="13" y="27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073880" y="2638800"/>
              <a:ext cx="30240" cy="42120"/>
            </a:xfrm>
            <a:custGeom>
              <a:avLst/>
              <a:gdLst/>
              <a:ahLst/>
              <a:rect l="l" t="t" r="r" b="b"/>
              <a:pathLst>
                <a:path w="27" h="28">
                  <a:moveTo>
                    <a:pt x="14" y="0"/>
                  </a:moveTo>
                  <a:lnTo>
                    <a:pt x="27" y="14"/>
                  </a:lnTo>
                  <a:lnTo>
                    <a:pt x="14" y="28"/>
                  </a:lnTo>
                  <a:lnTo>
                    <a:pt x="0" y="1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605320" y="2059560"/>
              <a:ext cx="30240" cy="42120"/>
            </a:xfrm>
            <a:custGeom>
              <a:avLst/>
              <a:gdLst/>
              <a:ahLst/>
              <a:rect l="l" t="t" r="r" b="b"/>
              <a:pathLst>
                <a:path w="27" h="28">
                  <a:moveTo>
                    <a:pt x="13" y="0"/>
                  </a:moveTo>
                  <a:lnTo>
                    <a:pt x="27" y="14"/>
                  </a:lnTo>
                  <a:lnTo>
                    <a:pt x="13" y="28"/>
                  </a:lnTo>
                  <a:lnTo>
                    <a:pt x="0" y="1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652040" y="2721960"/>
              <a:ext cx="31320" cy="4032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14" y="0"/>
                  </a:moveTo>
                  <a:lnTo>
                    <a:pt x="28" y="13"/>
                  </a:lnTo>
                  <a:lnTo>
                    <a:pt x="14" y="27"/>
                  </a:lnTo>
                  <a:lnTo>
                    <a:pt x="0" y="1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799360" y="3007800"/>
              <a:ext cx="30240" cy="4032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4" y="0"/>
                  </a:moveTo>
                  <a:lnTo>
                    <a:pt x="27" y="14"/>
                  </a:lnTo>
                  <a:lnTo>
                    <a:pt x="14" y="27"/>
                  </a:lnTo>
                  <a:lnTo>
                    <a:pt x="0" y="1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183120" y="2530800"/>
              <a:ext cx="30240" cy="4032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4" y="0"/>
                  </a:moveTo>
                  <a:lnTo>
                    <a:pt x="27" y="14"/>
                  </a:lnTo>
                  <a:lnTo>
                    <a:pt x="14" y="27"/>
                  </a:lnTo>
                  <a:lnTo>
                    <a:pt x="0" y="1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799360" y="2175840"/>
              <a:ext cx="30240" cy="41760"/>
            </a:xfrm>
            <a:custGeom>
              <a:avLst/>
              <a:gdLst/>
              <a:ahLst/>
              <a:rect l="l" t="t" r="r" b="b"/>
              <a:pathLst>
                <a:path w="27" h="28">
                  <a:moveTo>
                    <a:pt x="14" y="0"/>
                  </a:moveTo>
                  <a:lnTo>
                    <a:pt x="27" y="14"/>
                  </a:lnTo>
                  <a:lnTo>
                    <a:pt x="14" y="28"/>
                  </a:lnTo>
                  <a:lnTo>
                    <a:pt x="0" y="1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318400" y="2523240"/>
              <a:ext cx="30240" cy="41760"/>
            </a:xfrm>
            <a:custGeom>
              <a:avLst/>
              <a:gdLst/>
              <a:ahLst/>
              <a:rect l="l" t="t" r="r" b="b"/>
              <a:pathLst>
                <a:path w="27" h="28">
                  <a:moveTo>
                    <a:pt x="14" y="0"/>
                  </a:moveTo>
                  <a:lnTo>
                    <a:pt x="27" y="14"/>
                  </a:lnTo>
                  <a:lnTo>
                    <a:pt x="14" y="28"/>
                  </a:lnTo>
                  <a:lnTo>
                    <a:pt x="0" y="1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312000" y="2824200"/>
              <a:ext cx="30240" cy="4032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3" y="0"/>
                  </a:moveTo>
                  <a:lnTo>
                    <a:pt x="27" y="13"/>
                  </a:lnTo>
                  <a:lnTo>
                    <a:pt x="13" y="27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037240" y="1951560"/>
              <a:ext cx="30240" cy="4032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3" y="0"/>
                  </a:moveTo>
                  <a:lnTo>
                    <a:pt x="27" y="13"/>
                  </a:lnTo>
                  <a:lnTo>
                    <a:pt x="13" y="27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514520" y="2258280"/>
              <a:ext cx="30240" cy="4068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4" y="0"/>
                  </a:moveTo>
                  <a:lnTo>
                    <a:pt x="27" y="13"/>
                  </a:lnTo>
                  <a:lnTo>
                    <a:pt x="14" y="27"/>
                  </a:lnTo>
                  <a:lnTo>
                    <a:pt x="0" y="1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183120" y="2632680"/>
              <a:ext cx="30240" cy="4068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4" y="0"/>
                  </a:moveTo>
                  <a:lnTo>
                    <a:pt x="27" y="14"/>
                  </a:lnTo>
                  <a:lnTo>
                    <a:pt x="14" y="27"/>
                  </a:lnTo>
                  <a:lnTo>
                    <a:pt x="0" y="1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225880" y="3279960"/>
              <a:ext cx="31320" cy="4032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14" y="0"/>
                  </a:moveTo>
                  <a:lnTo>
                    <a:pt x="28" y="14"/>
                  </a:lnTo>
                  <a:lnTo>
                    <a:pt x="14" y="27"/>
                  </a:lnTo>
                  <a:lnTo>
                    <a:pt x="0" y="1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20320" y="2503440"/>
              <a:ext cx="30240" cy="4032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3" y="0"/>
                  </a:moveTo>
                  <a:lnTo>
                    <a:pt x="27" y="13"/>
                  </a:lnTo>
                  <a:lnTo>
                    <a:pt x="13" y="27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883520" y="2966760"/>
              <a:ext cx="30240" cy="4068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3" y="0"/>
                  </a:moveTo>
                  <a:lnTo>
                    <a:pt x="27" y="13"/>
                  </a:lnTo>
                  <a:lnTo>
                    <a:pt x="13" y="27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607040" y="2175840"/>
              <a:ext cx="30600" cy="41760"/>
            </a:xfrm>
            <a:custGeom>
              <a:avLst/>
              <a:gdLst/>
              <a:ahLst/>
              <a:rect l="l" t="t" r="r" b="b"/>
              <a:pathLst>
                <a:path w="27" h="28">
                  <a:moveTo>
                    <a:pt x="13" y="0"/>
                  </a:moveTo>
                  <a:lnTo>
                    <a:pt x="27" y="14"/>
                  </a:lnTo>
                  <a:lnTo>
                    <a:pt x="13" y="28"/>
                  </a:lnTo>
                  <a:lnTo>
                    <a:pt x="0" y="1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433680" y="1808640"/>
              <a:ext cx="31680" cy="4032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14" y="0"/>
                  </a:moveTo>
                  <a:lnTo>
                    <a:pt x="28" y="13"/>
                  </a:lnTo>
                  <a:lnTo>
                    <a:pt x="14" y="27"/>
                  </a:lnTo>
                  <a:lnTo>
                    <a:pt x="0" y="1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729080" y="3123360"/>
              <a:ext cx="31320" cy="4032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14" y="0"/>
                  </a:moveTo>
                  <a:lnTo>
                    <a:pt x="28" y="14"/>
                  </a:lnTo>
                  <a:lnTo>
                    <a:pt x="14" y="27"/>
                  </a:lnTo>
                  <a:lnTo>
                    <a:pt x="0" y="1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966600" y="3300840"/>
              <a:ext cx="30240" cy="4032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3" y="0"/>
                  </a:moveTo>
                  <a:lnTo>
                    <a:pt x="27" y="13"/>
                  </a:lnTo>
                  <a:lnTo>
                    <a:pt x="13" y="27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465720" y="2449440"/>
              <a:ext cx="30240" cy="4068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3" y="0"/>
                  </a:moveTo>
                  <a:lnTo>
                    <a:pt x="27" y="13"/>
                  </a:lnTo>
                  <a:lnTo>
                    <a:pt x="13" y="27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554200" y="2741400"/>
              <a:ext cx="30240" cy="41760"/>
            </a:xfrm>
            <a:custGeom>
              <a:avLst/>
              <a:gdLst/>
              <a:ahLst/>
              <a:rect l="l" t="t" r="r" b="b"/>
              <a:pathLst>
                <a:path w="27" h="28">
                  <a:moveTo>
                    <a:pt x="13" y="0"/>
                  </a:moveTo>
                  <a:lnTo>
                    <a:pt x="27" y="14"/>
                  </a:lnTo>
                  <a:lnTo>
                    <a:pt x="13" y="28"/>
                  </a:lnTo>
                  <a:lnTo>
                    <a:pt x="0" y="1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575360" y="2544120"/>
              <a:ext cx="31320" cy="4032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14" y="0"/>
                  </a:moveTo>
                  <a:lnTo>
                    <a:pt x="28" y="14"/>
                  </a:lnTo>
                  <a:lnTo>
                    <a:pt x="14" y="27"/>
                  </a:lnTo>
                  <a:lnTo>
                    <a:pt x="0" y="1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181160" y="3252600"/>
              <a:ext cx="31320" cy="4032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14" y="0"/>
                  </a:moveTo>
                  <a:lnTo>
                    <a:pt x="28" y="14"/>
                  </a:lnTo>
                  <a:lnTo>
                    <a:pt x="14" y="27"/>
                  </a:lnTo>
                  <a:lnTo>
                    <a:pt x="0" y="1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037240" y="3252600"/>
              <a:ext cx="30240" cy="4032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3" y="0"/>
                  </a:moveTo>
                  <a:lnTo>
                    <a:pt x="27" y="14"/>
                  </a:lnTo>
                  <a:lnTo>
                    <a:pt x="13" y="27"/>
                  </a:lnTo>
                  <a:lnTo>
                    <a:pt x="0" y="1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645640" y="2250720"/>
              <a:ext cx="30240" cy="4032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4" y="0"/>
                  </a:moveTo>
                  <a:lnTo>
                    <a:pt x="27" y="14"/>
                  </a:lnTo>
                  <a:lnTo>
                    <a:pt x="14" y="27"/>
                  </a:lnTo>
                  <a:lnTo>
                    <a:pt x="0" y="1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948400" y="3204720"/>
              <a:ext cx="30240" cy="42120"/>
            </a:xfrm>
            <a:custGeom>
              <a:avLst/>
              <a:gdLst/>
              <a:ahLst/>
              <a:rect l="l" t="t" r="r" b="b"/>
              <a:pathLst>
                <a:path w="27" h="28">
                  <a:moveTo>
                    <a:pt x="13" y="0"/>
                  </a:moveTo>
                  <a:lnTo>
                    <a:pt x="27" y="14"/>
                  </a:lnTo>
                  <a:lnTo>
                    <a:pt x="13" y="28"/>
                  </a:lnTo>
                  <a:lnTo>
                    <a:pt x="0" y="1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645640" y="2783160"/>
              <a:ext cx="30240" cy="4068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4" y="0"/>
                  </a:moveTo>
                  <a:lnTo>
                    <a:pt x="27" y="13"/>
                  </a:lnTo>
                  <a:lnTo>
                    <a:pt x="14" y="27"/>
                  </a:lnTo>
                  <a:lnTo>
                    <a:pt x="0" y="1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058040" y="2673720"/>
              <a:ext cx="31680" cy="4032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14" y="0"/>
                  </a:moveTo>
                  <a:lnTo>
                    <a:pt x="28" y="14"/>
                  </a:lnTo>
                  <a:lnTo>
                    <a:pt x="14" y="27"/>
                  </a:lnTo>
                  <a:lnTo>
                    <a:pt x="0" y="1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250080" y="2503440"/>
              <a:ext cx="30240" cy="4032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4" y="0"/>
                  </a:moveTo>
                  <a:lnTo>
                    <a:pt x="27" y="13"/>
                  </a:lnTo>
                  <a:lnTo>
                    <a:pt x="14" y="27"/>
                  </a:lnTo>
                  <a:lnTo>
                    <a:pt x="0" y="1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575360" y="3103920"/>
              <a:ext cx="31320" cy="4032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14" y="0"/>
                  </a:moveTo>
                  <a:lnTo>
                    <a:pt x="28" y="13"/>
                  </a:lnTo>
                  <a:lnTo>
                    <a:pt x="14" y="27"/>
                  </a:lnTo>
                  <a:lnTo>
                    <a:pt x="0" y="1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79840" y="2571480"/>
              <a:ext cx="30240" cy="4032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3" y="0"/>
                  </a:moveTo>
                  <a:lnTo>
                    <a:pt x="27" y="14"/>
                  </a:lnTo>
                  <a:lnTo>
                    <a:pt x="13" y="27"/>
                  </a:lnTo>
                  <a:lnTo>
                    <a:pt x="0" y="1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94680" y="2700720"/>
              <a:ext cx="30600" cy="4032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3" y="0"/>
                  </a:moveTo>
                  <a:lnTo>
                    <a:pt x="27" y="14"/>
                  </a:lnTo>
                  <a:lnTo>
                    <a:pt x="13" y="27"/>
                  </a:lnTo>
                  <a:lnTo>
                    <a:pt x="0" y="1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427400" y="2735280"/>
              <a:ext cx="30240" cy="4032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4" y="0"/>
                  </a:moveTo>
                  <a:lnTo>
                    <a:pt x="27" y="13"/>
                  </a:lnTo>
                  <a:lnTo>
                    <a:pt x="14" y="27"/>
                  </a:lnTo>
                  <a:lnTo>
                    <a:pt x="0" y="1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120320" y="2612160"/>
              <a:ext cx="30240" cy="41760"/>
            </a:xfrm>
            <a:custGeom>
              <a:avLst/>
              <a:gdLst/>
              <a:ahLst/>
              <a:rect l="l" t="t" r="r" b="b"/>
              <a:pathLst>
                <a:path w="27" h="28">
                  <a:moveTo>
                    <a:pt x="13" y="0"/>
                  </a:moveTo>
                  <a:lnTo>
                    <a:pt x="27" y="14"/>
                  </a:lnTo>
                  <a:lnTo>
                    <a:pt x="13" y="28"/>
                  </a:lnTo>
                  <a:lnTo>
                    <a:pt x="0" y="1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250080" y="2673720"/>
              <a:ext cx="30240" cy="4032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4" y="0"/>
                  </a:moveTo>
                  <a:lnTo>
                    <a:pt x="27" y="14"/>
                  </a:lnTo>
                  <a:lnTo>
                    <a:pt x="14" y="27"/>
                  </a:lnTo>
                  <a:lnTo>
                    <a:pt x="0" y="1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308320" y="2523240"/>
              <a:ext cx="30240" cy="41760"/>
            </a:xfrm>
            <a:custGeom>
              <a:avLst/>
              <a:gdLst/>
              <a:ahLst/>
              <a:rect l="l" t="t" r="r" b="b"/>
              <a:pathLst>
                <a:path w="27" h="28">
                  <a:moveTo>
                    <a:pt x="13" y="0"/>
                  </a:moveTo>
                  <a:lnTo>
                    <a:pt x="27" y="14"/>
                  </a:lnTo>
                  <a:lnTo>
                    <a:pt x="13" y="28"/>
                  </a:lnTo>
                  <a:lnTo>
                    <a:pt x="0" y="1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308320" y="2401200"/>
              <a:ext cx="30240" cy="4032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3" y="0"/>
                  </a:moveTo>
                  <a:lnTo>
                    <a:pt x="27" y="13"/>
                  </a:lnTo>
                  <a:lnTo>
                    <a:pt x="13" y="27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399760" y="3015360"/>
              <a:ext cx="31680" cy="4032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14" y="0"/>
                  </a:moveTo>
                  <a:lnTo>
                    <a:pt x="28" y="13"/>
                  </a:lnTo>
                  <a:lnTo>
                    <a:pt x="14" y="27"/>
                  </a:lnTo>
                  <a:lnTo>
                    <a:pt x="0" y="1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544760" y="1986120"/>
              <a:ext cx="30240" cy="4032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4" y="0"/>
                  </a:moveTo>
                  <a:lnTo>
                    <a:pt x="27" y="13"/>
                  </a:lnTo>
                  <a:lnTo>
                    <a:pt x="14" y="27"/>
                  </a:lnTo>
                  <a:lnTo>
                    <a:pt x="0" y="1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277720" y="3246840"/>
              <a:ext cx="30240" cy="4032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3" y="0"/>
                  </a:moveTo>
                  <a:lnTo>
                    <a:pt x="27" y="13"/>
                  </a:lnTo>
                  <a:lnTo>
                    <a:pt x="13" y="27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403440" y="2086920"/>
              <a:ext cx="30240" cy="41760"/>
            </a:xfrm>
            <a:custGeom>
              <a:avLst/>
              <a:gdLst/>
              <a:ahLst/>
              <a:rect l="l" t="t" r="r" b="b"/>
              <a:pathLst>
                <a:path w="27" h="28">
                  <a:moveTo>
                    <a:pt x="14" y="0"/>
                  </a:moveTo>
                  <a:lnTo>
                    <a:pt x="27" y="14"/>
                  </a:lnTo>
                  <a:lnTo>
                    <a:pt x="14" y="28"/>
                  </a:lnTo>
                  <a:lnTo>
                    <a:pt x="0" y="1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338560" y="2495880"/>
              <a:ext cx="30240" cy="4032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4" y="0"/>
                  </a:moveTo>
                  <a:lnTo>
                    <a:pt x="27" y="14"/>
                  </a:lnTo>
                  <a:lnTo>
                    <a:pt x="14" y="27"/>
                  </a:lnTo>
                  <a:lnTo>
                    <a:pt x="0" y="1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966600" y="2789280"/>
              <a:ext cx="30240" cy="4032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3" y="0"/>
                  </a:moveTo>
                  <a:lnTo>
                    <a:pt x="27" y="14"/>
                  </a:lnTo>
                  <a:lnTo>
                    <a:pt x="13" y="27"/>
                  </a:lnTo>
                  <a:lnTo>
                    <a:pt x="0" y="1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037240" y="2347200"/>
              <a:ext cx="30240" cy="4032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3" y="0"/>
                  </a:moveTo>
                  <a:lnTo>
                    <a:pt x="27" y="13"/>
                  </a:lnTo>
                  <a:lnTo>
                    <a:pt x="13" y="27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09240" y="1937880"/>
              <a:ext cx="30240" cy="4032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4" y="0"/>
                  </a:moveTo>
                  <a:lnTo>
                    <a:pt x="27" y="13"/>
                  </a:lnTo>
                  <a:lnTo>
                    <a:pt x="14" y="27"/>
                  </a:lnTo>
                  <a:lnTo>
                    <a:pt x="0" y="1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760400" y="3069000"/>
              <a:ext cx="30240" cy="4032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3" y="0"/>
                  </a:moveTo>
                  <a:lnTo>
                    <a:pt x="27" y="13"/>
                  </a:lnTo>
                  <a:lnTo>
                    <a:pt x="13" y="27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427400" y="2918520"/>
              <a:ext cx="30240" cy="4032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4" y="0"/>
                  </a:moveTo>
                  <a:lnTo>
                    <a:pt x="27" y="14"/>
                  </a:lnTo>
                  <a:lnTo>
                    <a:pt x="14" y="27"/>
                  </a:lnTo>
                  <a:lnTo>
                    <a:pt x="0" y="1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433680" y="2735280"/>
              <a:ext cx="31680" cy="4032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14" y="0"/>
                  </a:moveTo>
                  <a:lnTo>
                    <a:pt x="28" y="13"/>
                  </a:lnTo>
                  <a:lnTo>
                    <a:pt x="14" y="27"/>
                  </a:lnTo>
                  <a:lnTo>
                    <a:pt x="0" y="1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185200" y="2509560"/>
              <a:ext cx="30240" cy="41760"/>
            </a:xfrm>
            <a:custGeom>
              <a:avLst/>
              <a:gdLst/>
              <a:ahLst/>
              <a:rect l="l" t="t" r="r" b="b"/>
              <a:pathLst>
                <a:path w="27" h="28">
                  <a:moveTo>
                    <a:pt x="14" y="0"/>
                  </a:moveTo>
                  <a:lnTo>
                    <a:pt x="27" y="14"/>
                  </a:lnTo>
                  <a:lnTo>
                    <a:pt x="14" y="28"/>
                  </a:lnTo>
                  <a:lnTo>
                    <a:pt x="0" y="1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575360" y="2579040"/>
              <a:ext cx="31320" cy="4032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14" y="0"/>
                  </a:moveTo>
                  <a:lnTo>
                    <a:pt x="28" y="13"/>
                  </a:lnTo>
                  <a:lnTo>
                    <a:pt x="14" y="27"/>
                  </a:lnTo>
                  <a:lnTo>
                    <a:pt x="0" y="1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062080" y="2810520"/>
              <a:ext cx="30240" cy="4032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4" y="0"/>
                  </a:moveTo>
                  <a:lnTo>
                    <a:pt x="27" y="13"/>
                  </a:lnTo>
                  <a:lnTo>
                    <a:pt x="14" y="27"/>
                  </a:lnTo>
                  <a:lnTo>
                    <a:pt x="0" y="1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671920" y="2741400"/>
              <a:ext cx="30240" cy="41760"/>
            </a:xfrm>
            <a:custGeom>
              <a:avLst/>
              <a:gdLst/>
              <a:ahLst/>
              <a:rect l="l" t="t" r="r" b="b"/>
              <a:pathLst>
                <a:path w="27" h="28">
                  <a:moveTo>
                    <a:pt x="13" y="0"/>
                  </a:moveTo>
                  <a:lnTo>
                    <a:pt x="27" y="14"/>
                  </a:lnTo>
                  <a:lnTo>
                    <a:pt x="13" y="28"/>
                  </a:lnTo>
                  <a:lnTo>
                    <a:pt x="0" y="1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037240" y="3130920"/>
              <a:ext cx="30240" cy="4032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3" y="0"/>
                  </a:moveTo>
                  <a:lnTo>
                    <a:pt x="27" y="13"/>
                  </a:lnTo>
                  <a:lnTo>
                    <a:pt x="13" y="27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645640" y="3123360"/>
              <a:ext cx="30240" cy="4032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4" y="0"/>
                  </a:moveTo>
                  <a:lnTo>
                    <a:pt x="27" y="14"/>
                  </a:lnTo>
                  <a:lnTo>
                    <a:pt x="14" y="27"/>
                  </a:lnTo>
                  <a:lnTo>
                    <a:pt x="0" y="1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966600" y="2653920"/>
              <a:ext cx="30240" cy="4032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3" y="0"/>
                  </a:moveTo>
                  <a:lnTo>
                    <a:pt x="27" y="13"/>
                  </a:lnTo>
                  <a:lnTo>
                    <a:pt x="13" y="27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794680" y="2086920"/>
              <a:ext cx="30600" cy="41760"/>
            </a:xfrm>
            <a:custGeom>
              <a:avLst/>
              <a:gdLst/>
              <a:ahLst/>
              <a:rect l="l" t="t" r="r" b="b"/>
              <a:pathLst>
                <a:path w="27" h="28">
                  <a:moveTo>
                    <a:pt x="13" y="0"/>
                  </a:moveTo>
                  <a:lnTo>
                    <a:pt x="27" y="14"/>
                  </a:lnTo>
                  <a:lnTo>
                    <a:pt x="13" y="28"/>
                  </a:lnTo>
                  <a:lnTo>
                    <a:pt x="0" y="1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369160" y="2748960"/>
              <a:ext cx="30240" cy="4032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4" y="0"/>
                  </a:moveTo>
                  <a:lnTo>
                    <a:pt x="27" y="14"/>
                  </a:lnTo>
                  <a:lnTo>
                    <a:pt x="14" y="27"/>
                  </a:lnTo>
                  <a:lnTo>
                    <a:pt x="0" y="1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760400" y="2741400"/>
              <a:ext cx="30240" cy="41760"/>
            </a:xfrm>
            <a:custGeom>
              <a:avLst/>
              <a:gdLst/>
              <a:ahLst/>
              <a:rect l="l" t="t" r="r" b="b"/>
              <a:pathLst>
                <a:path w="27" h="28">
                  <a:moveTo>
                    <a:pt x="13" y="0"/>
                  </a:moveTo>
                  <a:lnTo>
                    <a:pt x="27" y="14"/>
                  </a:lnTo>
                  <a:lnTo>
                    <a:pt x="13" y="28"/>
                  </a:lnTo>
                  <a:lnTo>
                    <a:pt x="0" y="1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794680" y="2462760"/>
              <a:ext cx="30600" cy="4032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3" y="0"/>
                  </a:moveTo>
                  <a:lnTo>
                    <a:pt x="27" y="13"/>
                  </a:lnTo>
                  <a:lnTo>
                    <a:pt x="13" y="27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554200" y="2476440"/>
              <a:ext cx="30240" cy="4032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3" y="0"/>
                  </a:moveTo>
                  <a:lnTo>
                    <a:pt x="27" y="13"/>
                  </a:lnTo>
                  <a:lnTo>
                    <a:pt x="13" y="27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005560" y="2393640"/>
              <a:ext cx="31680" cy="4212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14" y="0"/>
                  </a:moveTo>
                  <a:lnTo>
                    <a:pt x="28" y="14"/>
                  </a:lnTo>
                  <a:lnTo>
                    <a:pt x="14" y="28"/>
                  </a:lnTo>
                  <a:lnTo>
                    <a:pt x="0" y="1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185200" y="2469240"/>
              <a:ext cx="30240" cy="4032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4" y="0"/>
                  </a:moveTo>
                  <a:lnTo>
                    <a:pt x="27" y="14"/>
                  </a:lnTo>
                  <a:lnTo>
                    <a:pt x="14" y="27"/>
                  </a:lnTo>
                  <a:lnTo>
                    <a:pt x="0" y="1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904680" y="2899080"/>
              <a:ext cx="31320" cy="4032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14" y="0"/>
                  </a:moveTo>
                  <a:lnTo>
                    <a:pt x="28" y="13"/>
                  </a:lnTo>
                  <a:lnTo>
                    <a:pt x="14" y="27"/>
                  </a:lnTo>
                  <a:lnTo>
                    <a:pt x="0" y="1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427400" y="2687040"/>
              <a:ext cx="30240" cy="4032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4" y="0"/>
                  </a:moveTo>
                  <a:lnTo>
                    <a:pt x="27" y="14"/>
                  </a:lnTo>
                  <a:lnTo>
                    <a:pt x="14" y="27"/>
                  </a:lnTo>
                  <a:lnTo>
                    <a:pt x="0" y="1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274040" y="2735280"/>
              <a:ext cx="30240" cy="4032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4" y="0"/>
                  </a:moveTo>
                  <a:lnTo>
                    <a:pt x="27" y="13"/>
                  </a:lnTo>
                  <a:lnTo>
                    <a:pt x="14" y="27"/>
                  </a:lnTo>
                  <a:lnTo>
                    <a:pt x="0" y="1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399760" y="2217600"/>
              <a:ext cx="31680" cy="4032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14" y="0"/>
                  </a:moveTo>
                  <a:lnTo>
                    <a:pt x="28" y="13"/>
                  </a:lnTo>
                  <a:lnTo>
                    <a:pt x="14" y="27"/>
                  </a:lnTo>
                  <a:lnTo>
                    <a:pt x="0" y="1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193560" y="1787400"/>
              <a:ext cx="31680" cy="4032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14" y="0"/>
                  </a:moveTo>
                  <a:lnTo>
                    <a:pt x="28" y="14"/>
                  </a:lnTo>
                  <a:lnTo>
                    <a:pt x="14" y="27"/>
                  </a:lnTo>
                  <a:lnTo>
                    <a:pt x="0" y="1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037240" y="2271960"/>
              <a:ext cx="30240" cy="4032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3" y="0"/>
                  </a:moveTo>
                  <a:lnTo>
                    <a:pt x="27" y="13"/>
                  </a:lnTo>
                  <a:lnTo>
                    <a:pt x="13" y="27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185200" y="2312640"/>
              <a:ext cx="30240" cy="4032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4" y="0"/>
                  </a:moveTo>
                  <a:lnTo>
                    <a:pt x="27" y="14"/>
                  </a:lnTo>
                  <a:lnTo>
                    <a:pt x="14" y="27"/>
                  </a:lnTo>
                  <a:lnTo>
                    <a:pt x="0" y="1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607040" y="2565360"/>
              <a:ext cx="30600" cy="4032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3" y="0"/>
                  </a:moveTo>
                  <a:lnTo>
                    <a:pt x="27" y="13"/>
                  </a:lnTo>
                  <a:lnTo>
                    <a:pt x="13" y="27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338560" y="2646360"/>
              <a:ext cx="30240" cy="4032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4" y="0"/>
                  </a:moveTo>
                  <a:lnTo>
                    <a:pt x="27" y="14"/>
                  </a:lnTo>
                  <a:lnTo>
                    <a:pt x="14" y="27"/>
                  </a:lnTo>
                  <a:lnTo>
                    <a:pt x="0" y="1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97200" y="3082680"/>
              <a:ext cx="30240" cy="4032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4" y="0"/>
                  </a:moveTo>
                  <a:lnTo>
                    <a:pt x="27" y="14"/>
                  </a:lnTo>
                  <a:lnTo>
                    <a:pt x="14" y="27"/>
                  </a:lnTo>
                  <a:lnTo>
                    <a:pt x="0" y="1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522880" y="2407320"/>
              <a:ext cx="31320" cy="4176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14" y="0"/>
                  </a:moveTo>
                  <a:lnTo>
                    <a:pt x="28" y="14"/>
                  </a:lnTo>
                  <a:lnTo>
                    <a:pt x="14" y="28"/>
                  </a:lnTo>
                  <a:lnTo>
                    <a:pt x="0" y="1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243440" y="2312640"/>
              <a:ext cx="30240" cy="4032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3" y="0"/>
                  </a:moveTo>
                  <a:lnTo>
                    <a:pt x="27" y="14"/>
                  </a:lnTo>
                  <a:lnTo>
                    <a:pt x="13" y="27"/>
                  </a:lnTo>
                  <a:lnTo>
                    <a:pt x="0" y="1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794680" y="2129040"/>
              <a:ext cx="30600" cy="4032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3" y="0"/>
                  </a:moveTo>
                  <a:lnTo>
                    <a:pt x="27" y="13"/>
                  </a:lnTo>
                  <a:lnTo>
                    <a:pt x="13" y="27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645640" y="2953440"/>
              <a:ext cx="30240" cy="4032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4" y="0"/>
                  </a:moveTo>
                  <a:lnTo>
                    <a:pt x="27" y="13"/>
                  </a:lnTo>
                  <a:lnTo>
                    <a:pt x="14" y="27"/>
                  </a:lnTo>
                  <a:lnTo>
                    <a:pt x="0" y="1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702160" y="2258280"/>
              <a:ext cx="30240" cy="4068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4" y="0"/>
                  </a:moveTo>
                  <a:lnTo>
                    <a:pt x="27" y="13"/>
                  </a:lnTo>
                  <a:lnTo>
                    <a:pt x="14" y="27"/>
                  </a:lnTo>
                  <a:lnTo>
                    <a:pt x="0" y="1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037240" y="3144600"/>
              <a:ext cx="30240" cy="4032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3" y="0"/>
                  </a:moveTo>
                  <a:lnTo>
                    <a:pt x="27" y="13"/>
                  </a:lnTo>
                  <a:lnTo>
                    <a:pt x="13" y="27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698480" y="2681280"/>
              <a:ext cx="30240" cy="4032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4" y="0"/>
                  </a:moveTo>
                  <a:lnTo>
                    <a:pt x="27" y="13"/>
                  </a:lnTo>
                  <a:lnTo>
                    <a:pt x="14" y="27"/>
                  </a:lnTo>
                  <a:lnTo>
                    <a:pt x="0" y="1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522880" y="3260160"/>
              <a:ext cx="31320" cy="4032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14" y="0"/>
                  </a:moveTo>
                  <a:lnTo>
                    <a:pt x="28" y="13"/>
                  </a:lnTo>
                  <a:lnTo>
                    <a:pt x="14" y="27"/>
                  </a:lnTo>
                  <a:lnTo>
                    <a:pt x="0" y="1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966600" y="2053800"/>
              <a:ext cx="30240" cy="4032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3" y="0"/>
                  </a:moveTo>
                  <a:lnTo>
                    <a:pt x="27" y="13"/>
                  </a:lnTo>
                  <a:lnTo>
                    <a:pt x="13" y="27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062080" y="2380320"/>
              <a:ext cx="30240" cy="4032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4" y="0"/>
                  </a:moveTo>
                  <a:lnTo>
                    <a:pt x="27" y="14"/>
                  </a:lnTo>
                  <a:lnTo>
                    <a:pt x="14" y="27"/>
                  </a:lnTo>
                  <a:lnTo>
                    <a:pt x="0" y="1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966600" y="3096360"/>
              <a:ext cx="30240" cy="4032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3" y="0"/>
                  </a:moveTo>
                  <a:lnTo>
                    <a:pt x="27" y="14"/>
                  </a:lnTo>
                  <a:lnTo>
                    <a:pt x="13" y="27"/>
                  </a:lnTo>
                  <a:lnTo>
                    <a:pt x="0" y="1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79840" y="2959200"/>
              <a:ext cx="30240" cy="42120"/>
            </a:xfrm>
            <a:custGeom>
              <a:avLst/>
              <a:gdLst/>
              <a:ahLst/>
              <a:rect l="l" t="t" r="r" b="b"/>
              <a:pathLst>
                <a:path w="27" h="28">
                  <a:moveTo>
                    <a:pt x="13" y="0"/>
                  </a:moveTo>
                  <a:lnTo>
                    <a:pt x="27" y="14"/>
                  </a:lnTo>
                  <a:lnTo>
                    <a:pt x="13" y="28"/>
                  </a:lnTo>
                  <a:lnTo>
                    <a:pt x="0" y="1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120320" y="2769840"/>
              <a:ext cx="30240" cy="4032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3" y="0"/>
                  </a:moveTo>
                  <a:lnTo>
                    <a:pt x="27" y="13"/>
                  </a:lnTo>
                  <a:lnTo>
                    <a:pt x="13" y="27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89720" y="2783160"/>
              <a:ext cx="30240" cy="4068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3" y="0"/>
                  </a:moveTo>
                  <a:lnTo>
                    <a:pt x="27" y="13"/>
                  </a:lnTo>
                  <a:lnTo>
                    <a:pt x="13" y="27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637640" y="2217600"/>
              <a:ext cx="30240" cy="4032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3" y="0"/>
                  </a:moveTo>
                  <a:lnTo>
                    <a:pt x="27" y="13"/>
                  </a:lnTo>
                  <a:lnTo>
                    <a:pt x="13" y="27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974960" y="2775600"/>
              <a:ext cx="30240" cy="4032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4" y="0"/>
                  </a:moveTo>
                  <a:lnTo>
                    <a:pt x="27" y="14"/>
                  </a:lnTo>
                  <a:lnTo>
                    <a:pt x="14" y="27"/>
                  </a:lnTo>
                  <a:lnTo>
                    <a:pt x="0" y="1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399760" y="2544120"/>
              <a:ext cx="31680" cy="4032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14" y="0"/>
                  </a:moveTo>
                  <a:lnTo>
                    <a:pt x="28" y="14"/>
                  </a:lnTo>
                  <a:lnTo>
                    <a:pt x="14" y="27"/>
                  </a:lnTo>
                  <a:lnTo>
                    <a:pt x="0" y="1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794680" y="2258280"/>
              <a:ext cx="30600" cy="4068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3" y="0"/>
                  </a:moveTo>
                  <a:lnTo>
                    <a:pt x="27" y="13"/>
                  </a:lnTo>
                  <a:lnTo>
                    <a:pt x="13" y="27"/>
                  </a:lnTo>
                  <a:lnTo>
                    <a:pt x="0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794680" y="2352960"/>
              <a:ext cx="30600" cy="4032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3" y="0"/>
                  </a:moveTo>
                  <a:lnTo>
                    <a:pt x="27" y="14"/>
                  </a:lnTo>
                  <a:lnTo>
                    <a:pt x="13" y="27"/>
                  </a:lnTo>
                  <a:lnTo>
                    <a:pt x="0" y="1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183120" y="2401200"/>
              <a:ext cx="30240" cy="4032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4" y="0"/>
                  </a:moveTo>
                  <a:lnTo>
                    <a:pt x="27" y="13"/>
                  </a:lnTo>
                  <a:lnTo>
                    <a:pt x="14" y="27"/>
                  </a:lnTo>
                  <a:lnTo>
                    <a:pt x="0" y="1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744560" y="1739520"/>
              <a:ext cx="30600" cy="42120"/>
            </a:xfrm>
            <a:custGeom>
              <a:avLst/>
              <a:gdLst/>
              <a:ahLst/>
              <a:rect l="l" t="t" r="r" b="b"/>
              <a:pathLst>
                <a:path w="27" h="28">
                  <a:moveTo>
                    <a:pt x="14" y="0"/>
                  </a:moveTo>
                  <a:lnTo>
                    <a:pt x="27" y="14"/>
                  </a:lnTo>
                  <a:lnTo>
                    <a:pt x="14" y="28"/>
                  </a:lnTo>
                  <a:lnTo>
                    <a:pt x="0" y="1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8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11400" y="3905640"/>
              <a:ext cx="320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0.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11400" y="3519000"/>
              <a:ext cx="320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0.2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11400" y="3123360"/>
              <a:ext cx="320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0.4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11400" y="2733840"/>
              <a:ext cx="320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0.6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11400" y="2347200"/>
              <a:ext cx="320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0.8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11400" y="1953000"/>
              <a:ext cx="320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.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11400" y="1564920"/>
              <a:ext cx="320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.2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83920" y="413280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011240" y="413280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.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540080" y="413280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970640" y="413280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3.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496600" y="413280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927160" y="413280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4.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456360" y="413280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884760" y="413280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.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974960" y="4003560"/>
              <a:ext cx="247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DBH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rot="16200000">
              <a:off x="-30240" y="2720520"/>
              <a:ext cx="522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900" spc="-1" strike="noStrike">
                  <a:solidFill>
                    <a:srgbClr val="000000"/>
                  </a:solidFill>
                  <a:latin typeface="Arial"/>
                </a:rPr>
                <a:t>Htot/Hcri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22400" y="1447920"/>
              <a:ext cx="3926880" cy="28954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82840" y="2032920"/>
              <a:ext cx="300456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380520" y="51051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6 arbres non autoportants de hauteur supérieure à la moyenn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4114800" y="1371600"/>
            <a:ext cx="3886200" cy="304812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380880" y="4495680"/>
            <a:ext cx="3657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= f(DB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191120" y="4495680"/>
            <a:ext cx="3657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= f(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ahoma"/>
              </a:rPr>
              <a:t>tot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title"/>
          </p:nvPr>
        </p:nvSpPr>
        <p:spPr>
          <a:xfrm>
            <a:off x="228600" y="302400"/>
            <a:ext cx="7848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ahoma"/>
              </a:rPr>
              <a:t>Influence de la gravité (2)</a:t>
            </a: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1801440" y="186048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1208160" y="1150920"/>
            <a:ext cx="6173640" cy="3743280"/>
          </a:xfrm>
          <a:prstGeom prst="rect">
            <a:avLst/>
          </a:prstGeom>
          <a:ln w="0">
            <a:noFill/>
          </a:ln>
        </p:spPr>
      </p:pic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28600" y="302400"/>
            <a:ext cx="7848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ahoma"/>
              </a:rPr>
              <a:t>Influence de la gravité (3)</a:t>
            </a: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520" y="49482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ndance à l’augmentation du facteur de risque avec le diamètre à 1m30 chez les pionniers tardif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302400"/>
            <a:ext cx="7467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1040" y="1117080"/>
            <a:ext cx="7772400" cy="13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ccès à la lumière/canopée dans le champ de gravité 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006880" y="3235320"/>
            <a:ext cx="24768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383160" y="2649600"/>
            <a:ext cx="185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119320" y="2335320"/>
            <a:ext cx="2149560" cy="3655800"/>
          </a:xfrm>
          <a:prstGeom prst="rect">
            <a:avLst/>
          </a:prstGeom>
          <a:ln w="0">
            <a:noFill/>
          </a:ln>
        </p:spPr>
      </p:pic>
      <p:grpSp>
        <p:nvGrpSpPr>
          <p:cNvPr id="98" name=""/>
          <p:cNvGrpSpPr/>
          <p:nvPr/>
        </p:nvGrpSpPr>
        <p:grpSpPr>
          <a:xfrm>
            <a:off x="2338560" y="2355840"/>
            <a:ext cx="5113800" cy="3691080"/>
            <a:chOff x="2338560" y="2355840"/>
            <a:chExt cx="5113800" cy="3691080"/>
          </a:xfrm>
        </p:grpSpPr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4381560" y="2355840"/>
              <a:ext cx="2151000" cy="365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 flipH="1">
              <a:off x="5182920" y="5232240"/>
              <a:ext cx="11160" cy="8146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5246280" y="4354560"/>
              <a:ext cx="9720" cy="814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249880" y="3611520"/>
              <a:ext cx="209520" cy="38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4781520" y="3607920"/>
              <a:ext cx="466920" cy="47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255280" y="5029200"/>
              <a:ext cx="21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Bois de Tens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802040" y="3941640"/>
              <a:ext cx="990720" cy="166680"/>
            </a:xfrm>
            <a:custGeom>
              <a:avLst/>
              <a:gdLst>
                <a:gd name="textAreaLeft" fmla="*/ 191880 w 990720"/>
                <a:gd name="textAreaRight" fmla="*/ 690840 w 990720"/>
                <a:gd name="textAreaTop" fmla="*/ 22320 h 166680"/>
                <a:gd name="textAreaBottom" fmla="*/ 144360 h 1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8377" hR="21600" stAng="10800000" swAng="5400000"/>
                  <a:lnTo>
                    <a:pt x="10869" y="0"/>
                  </a:lnTo>
                  <a:arcTo wR="8377" hR="21600" stAng="-5400000" swAng="2545663"/>
                  <a:lnTo>
                    <a:pt x="20935" y="13163"/>
                  </a:lnTo>
                  <a:lnTo>
                    <a:pt x="18000" y="21600"/>
                  </a:lnTo>
                  <a:lnTo>
                    <a:pt x="13735" y="13163"/>
                  </a:lnTo>
                  <a:lnTo>
                    <a:pt x="16089" y="13163"/>
                  </a:lnTo>
                  <a:arcTo wR="8377" hR="21600" stAng="-2854337" swAng="-2345353"/>
                  <a:lnTo>
                    <a:pt x="9623" y="240"/>
                  </a:lnTo>
                  <a:arcTo wR="8377" hR="21600" stAng="-5600311" swAng="-5199689"/>
                  <a:close/>
                </a:path>
                <a:path fill="darkenLess" w="21600" h="21600">
                  <a:moveTo>
                    <a:pt x="0" y="21600"/>
                  </a:moveTo>
                  <a:arcTo wR="8377" hR="21600" stAng="10800000" swAng="5400000"/>
                  <a:lnTo>
                    <a:pt x="8377" y="0"/>
                  </a:lnTo>
                  <a:arcTo wR="8377" hR="21600" stAng="-5400000" swAng="200311"/>
                  <a:lnTo>
                    <a:pt x="9623" y="240"/>
                  </a:lnTo>
                  <a:arcTo wR="8377" hR="21600" stAng="-5600311" swAng="-5199689"/>
                  <a:close/>
                </a:path>
              </a:pathLst>
            </a:custGeom>
            <a:solidFill>
              <a:srgbClr val="fe6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2338560" y="2565360"/>
              <a:ext cx="1169280" cy="3427560"/>
              <a:chOff x="2338560" y="2565360"/>
              <a:chExt cx="1169280" cy="3427560"/>
            </a:xfrm>
          </p:grpSpPr>
          <p:sp>
            <p:nvSpPr>
              <p:cNvPr id="107" name=""/>
              <p:cNvSpPr/>
              <p:nvPr/>
            </p:nvSpPr>
            <p:spPr>
              <a:xfrm>
                <a:off x="2718720" y="2565360"/>
                <a:ext cx="627480" cy="3427560"/>
              </a:xfrm>
              <a:custGeom>
                <a:avLst/>
                <a:gdLst/>
                <a:ahLst/>
                <a:rect l="l" t="t" r="r" b="b"/>
                <a:pathLst>
                  <a:path w="500" h="3381">
                    <a:moveTo>
                      <a:pt x="0" y="3320"/>
                    </a:moveTo>
                    <a:lnTo>
                      <a:pt x="189" y="0"/>
                    </a:lnTo>
                    <a:lnTo>
                      <a:pt x="500" y="338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394720" y="3457440"/>
                <a:ext cx="1004040" cy="260280"/>
              </a:xfrm>
              <a:custGeom>
                <a:avLst/>
                <a:gdLst/>
                <a:ahLst/>
                <a:rect l="l" t="t" r="r" b="b"/>
                <a:pathLst>
                  <a:path w="800" h="257">
                    <a:moveTo>
                      <a:pt x="508" y="60"/>
                    </a:moveTo>
                    <a:cubicBezTo>
                      <a:pt x="548" y="74"/>
                      <a:pt x="587" y="83"/>
                      <a:pt x="622" y="106"/>
                    </a:cubicBezTo>
                    <a:cubicBezTo>
                      <a:pt x="647" y="103"/>
                      <a:pt x="674" y="107"/>
                      <a:pt x="698" y="98"/>
                    </a:cubicBezTo>
                    <a:cubicBezTo>
                      <a:pt x="706" y="95"/>
                      <a:pt x="701" y="82"/>
                      <a:pt x="705" y="75"/>
                    </a:cubicBezTo>
                    <a:cubicBezTo>
                      <a:pt x="725" y="37"/>
                      <a:pt x="740" y="23"/>
                      <a:pt x="773" y="0"/>
                    </a:cubicBezTo>
                    <a:cubicBezTo>
                      <a:pt x="800" y="75"/>
                      <a:pt x="767" y="124"/>
                      <a:pt x="728" y="182"/>
                    </a:cubicBezTo>
                    <a:cubicBezTo>
                      <a:pt x="723" y="190"/>
                      <a:pt x="700" y="226"/>
                      <a:pt x="690" y="227"/>
                    </a:cubicBezTo>
                    <a:cubicBezTo>
                      <a:pt x="635" y="234"/>
                      <a:pt x="579" y="227"/>
                      <a:pt x="523" y="227"/>
                    </a:cubicBezTo>
                    <a:lnTo>
                      <a:pt x="303" y="257"/>
                    </a:lnTo>
                    <a:lnTo>
                      <a:pt x="114" y="257"/>
                    </a:lnTo>
                    <a:lnTo>
                      <a:pt x="0" y="204"/>
                    </a:lnTo>
                    <a:lnTo>
                      <a:pt x="440" y="5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338560" y="3172680"/>
                <a:ext cx="579600" cy="169200"/>
              </a:xfrm>
              <a:custGeom>
                <a:avLst/>
                <a:gdLst/>
                <a:ahLst/>
                <a:rect l="l" t="t" r="r" b="b"/>
                <a:pathLst>
                  <a:path w="462" h="167">
                    <a:moveTo>
                      <a:pt x="462" y="31"/>
                    </a:moveTo>
                    <a:lnTo>
                      <a:pt x="280" y="0"/>
                    </a:lnTo>
                    <a:lnTo>
                      <a:pt x="0" y="31"/>
                    </a:lnTo>
                    <a:lnTo>
                      <a:pt x="45" y="167"/>
                    </a:lnTo>
                    <a:lnTo>
                      <a:pt x="462" y="13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984760" y="2865240"/>
                <a:ext cx="523080" cy="330120"/>
              </a:xfrm>
              <a:custGeom>
                <a:avLst/>
                <a:gdLst/>
                <a:ahLst/>
                <a:rect l="l" t="t" r="r" b="b"/>
                <a:pathLst>
                  <a:path w="417" h="326">
                    <a:moveTo>
                      <a:pt x="23" y="205"/>
                    </a:moveTo>
                    <a:lnTo>
                      <a:pt x="243" y="136"/>
                    </a:lnTo>
                    <a:lnTo>
                      <a:pt x="417" y="0"/>
                    </a:lnTo>
                    <a:lnTo>
                      <a:pt x="379" y="190"/>
                    </a:lnTo>
                    <a:lnTo>
                      <a:pt x="212" y="250"/>
                    </a:lnTo>
                    <a:lnTo>
                      <a:pt x="0" y="32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" name=""/>
            <p:cNvSpPr/>
            <p:nvPr/>
          </p:nvSpPr>
          <p:spPr>
            <a:xfrm>
              <a:off x="3822840" y="3719520"/>
              <a:ext cx="836640" cy="1848600"/>
            </a:xfrm>
            <a:prstGeom prst="downArrow">
              <a:avLst>
                <a:gd name="adj1" fmla="val 50000"/>
                <a:gd name="adj2" fmla="val 55239"/>
              </a:avLst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90320" y="208980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ahoma"/>
              </a:rPr>
              <a:t>Inclinaison des arbres et bois de tension ?</a:t>
            </a: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206280" y="174600"/>
            <a:ext cx="8777520" cy="665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90320" y="389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ahoma"/>
              </a:rPr>
              <a:t>Inclinaison des arbres et bois de tension</a:t>
            </a: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321" name=""/>
          <p:cNvSpPr/>
          <p:nvPr/>
        </p:nvSpPr>
        <p:spPr>
          <a:xfrm>
            <a:off x="380880" y="2751120"/>
            <a:ext cx="754380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Verdana"/>
              </a:rPr>
              <a:t>Aucune corrélation</a:t>
            </a:r>
            <a:br>
              <a:rPr sz="3200"/>
            </a:br>
            <a:r>
              <a:rPr b="1" i="1" lang="en-US" sz="3200" spc="-1" strike="noStrike">
                <a:solidFill>
                  <a:srgbClr val="0000ff"/>
                </a:solidFill>
                <a:latin typeface="Verdana"/>
              </a:rPr>
              <a:t> entre intensité des forces de redressement et inclina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-181080" y="257760"/>
            <a:ext cx="8964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ahoma"/>
              </a:rPr>
              <a:t>Orientation des forces de tension en périphérie du tronc</a:t>
            </a: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395280" y="1974960"/>
            <a:ext cx="7623360" cy="2449440"/>
            <a:chOff x="395280" y="1974960"/>
            <a:chExt cx="7623360" cy="2449440"/>
          </a:xfrm>
        </p:grpSpPr>
        <p:pic>
          <p:nvPicPr>
            <p:cNvPr id="324" name="" descr=""/>
            <p:cNvPicPr/>
            <p:nvPr/>
          </p:nvPicPr>
          <p:blipFill>
            <a:blip r:embed="rId1"/>
            <a:srcRect l="18897" t="4027" r="28608" b="7540"/>
            <a:stretch/>
          </p:blipFill>
          <p:spPr>
            <a:xfrm>
              <a:off x="395280" y="2259000"/>
              <a:ext cx="2438640" cy="214632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325" name=""/>
            <p:cNvGraphicFramePr/>
            <p:nvPr/>
          </p:nvGraphicFramePr>
          <p:xfrm>
            <a:off x="3194280" y="2259000"/>
            <a:ext cx="1981080" cy="1865160"/>
          </p:xfrm>
          <a:graphic>
            <a:graphicData uri="http://schemas.openxmlformats.org/presentationml/2006/ole">
              <p:oleObj progId="Excel.Sheet.12" r:id="rId2" spid="">
                <p:embed/>
                <p:pic>
                  <p:nvPicPr>
                    <p:cNvPr id="32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194280" y="2259000"/>
                      <a:ext cx="1981080" cy="186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327" name="" descr=""/>
            <p:cNvPicPr/>
            <p:nvPr/>
          </p:nvPicPr>
          <p:blipFill>
            <a:blip r:embed="rId4"/>
            <a:srcRect l="15647" t="0" r="21742" b="13847"/>
            <a:stretch/>
          </p:blipFill>
          <p:spPr>
            <a:xfrm>
              <a:off x="5426280" y="1974960"/>
              <a:ext cx="2592360" cy="2449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8" name=""/>
          <p:cNvSpPr/>
          <p:nvPr/>
        </p:nvSpPr>
        <p:spPr>
          <a:xfrm>
            <a:off x="434880" y="4983120"/>
            <a:ext cx="7543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s tensions maximales sont enregistrées majoritairement sur la face supérieur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190520" y="4441680"/>
            <a:ext cx="9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357960" y="4425840"/>
            <a:ext cx="11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50 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-360" y="172080"/>
            <a:ext cx="83502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ahoma"/>
              </a:rPr>
              <a:t>Courbure = gravité </a:t>
            </a:r>
            <a:br>
              <a:rPr sz="4400"/>
            </a:br>
            <a:r>
              <a:rPr b="1" lang="en-US" sz="4400" spc="-1" strike="noStrike">
                <a:solidFill>
                  <a:srgbClr val="003300"/>
                </a:solidFill>
                <a:latin typeface="Tahoma"/>
              </a:rPr>
              <a:t>ou bois de réaction ?</a:t>
            </a: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2444760" y="1938240"/>
            <a:ext cx="2981160" cy="386892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1596960" y="3657600"/>
            <a:ext cx="550800" cy="855720"/>
          </a:xfrm>
          <a:prstGeom prst="downArrow">
            <a:avLst>
              <a:gd name="adj1" fmla="val 50000"/>
              <a:gd name="adj2" fmla="val 38840"/>
            </a:avLst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372280" y="3556080"/>
            <a:ext cx="550800" cy="855720"/>
          </a:xfrm>
          <a:prstGeom prst="downArrow">
            <a:avLst>
              <a:gd name="adj1" fmla="val 50000"/>
              <a:gd name="adj2" fmla="val 38840"/>
            </a:avLst>
          </a:prstGeom>
          <a:solidFill>
            <a:srgbClr val="00008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1117440" y="3745080"/>
            <a:ext cx="422280" cy="581400"/>
            <a:chOff x="1117440" y="3745080"/>
            <a:chExt cx="422280" cy="581400"/>
          </a:xfrm>
        </p:grpSpPr>
        <p:sp>
          <p:nvSpPr>
            <p:cNvPr id="336" name=""/>
            <p:cNvSpPr/>
            <p:nvPr/>
          </p:nvSpPr>
          <p:spPr>
            <a:xfrm>
              <a:off x="1117440" y="3745080"/>
              <a:ext cx="422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ahoma"/>
                </a:rPr>
                <a:t>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161720" y="3816360"/>
              <a:ext cx="34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8215200" y="5415120"/>
            <a:ext cx="422280" cy="459720"/>
            <a:chOff x="8215200" y="5415120"/>
            <a:chExt cx="422280" cy="459720"/>
          </a:xfrm>
        </p:grpSpPr>
        <p:sp>
          <p:nvSpPr>
            <p:cNvPr id="339" name=""/>
            <p:cNvSpPr/>
            <p:nvPr/>
          </p:nvSpPr>
          <p:spPr>
            <a:xfrm>
              <a:off x="8215200" y="5415120"/>
              <a:ext cx="42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259480" y="5486400"/>
              <a:ext cx="34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6095880" y="3645000"/>
            <a:ext cx="422280" cy="581400"/>
            <a:chOff x="6095880" y="3645000"/>
            <a:chExt cx="422280" cy="581400"/>
          </a:xfrm>
        </p:grpSpPr>
        <p:sp>
          <p:nvSpPr>
            <p:cNvPr id="342" name=""/>
            <p:cNvSpPr/>
            <p:nvPr/>
          </p:nvSpPr>
          <p:spPr>
            <a:xfrm>
              <a:off x="6095880" y="3645000"/>
              <a:ext cx="422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ahoma"/>
                </a:rPr>
                <a:t>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140160" y="3716280"/>
              <a:ext cx="34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 flipH="1" rot="10800000">
            <a:off x="3380400" y="4671720"/>
            <a:ext cx="347400" cy="842760"/>
          </a:xfrm>
          <a:custGeom>
            <a:avLst/>
            <a:gdLst>
              <a:gd name="textAreaLeft" fmla="*/ 46440 w 347400"/>
              <a:gd name="textAreaRight" fmla="*/ 300960 w 347400"/>
              <a:gd name="textAreaTop" fmla="*/ 169200 h 842760"/>
              <a:gd name="textAreaBottom" fmla="*/ 589320 h 842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680" stAng="-5400000" swAng="5400000"/>
                <a:lnTo>
                  <a:pt x="21600" y="10761"/>
                </a:lnTo>
                <a:arcTo wR="21600" hR="8680" stAng="0" swAng="1196023"/>
                <a:lnTo>
                  <a:pt x="16035" y="18736"/>
                </a:lnTo>
                <a:lnTo>
                  <a:pt x="0" y="18400"/>
                </a:lnTo>
                <a:lnTo>
                  <a:pt x="16035" y="12335"/>
                </a:lnTo>
                <a:lnTo>
                  <a:pt x="16035" y="14495"/>
                </a:lnTo>
                <a:arcTo wR="21600" hR="8680" stAng="1196023" swAng="-1029350"/>
                <a:lnTo>
                  <a:pt x="21444" y="9720"/>
                </a:lnTo>
                <a:arcTo wR="21600" hR="8680" stAng="-166673" swAng="-5233327"/>
                <a:close/>
              </a:path>
              <a:path fill="darkenLess" w="21600" h="21600">
                <a:moveTo>
                  <a:pt x="0" y="0"/>
                </a:moveTo>
                <a:arcTo wR="21600" hR="8680" stAng="-5400000" swAng="5400000"/>
                <a:lnTo>
                  <a:pt x="21600" y="10761"/>
                </a:lnTo>
                <a:arcTo wR="21600" hR="8680" stAng="0" swAng="-166673"/>
                <a:lnTo>
                  <a:pt x="21444" y="9720"/>
                </a:lnTo>
                <a:arcTo wR="21600" hR="8680" stAng="-166673" swAng="-5233327"/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633840" y="5151600"/>
            <a:ext cx="42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Bois de ré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13160" y="5092560"/>
            <a:ext cx="2844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3300"/>
                </a:solidFill>
                <a:latin typeface="Tahoma"/>
              </a:rPr>
              <a:t>Prédominance du moteur de redressement</a:t>
            </a: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203040" y="1503360"/>
            <a:ext cx="767880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246600"/>
            <a:ext cx="8305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3300"/>
                </a:solidFill>
                <a:latin typeface="Tahoma"/>
              </a:rPr>
              <a:t>Modèle précédent affiné…</a:t>
            </a: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888840" y="1087560"/>
            <a:ext cx="6861240" cy="456408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189000" y="5665680"/>
            <a:ext cx="8501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ise en compte de l’excentrement de la moel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279360"/>
            <a:ext cx="8804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omparaison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avec FTH - 200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490920" y="4994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173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598320" y="2603520"/>
            <a:ext cx="3876840" cy="263052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5105520" y="1994040"/>
            <a:ext cx="2676240" cy="35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0" y="276840"/>
            <a:ext cx="89582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ahoma"/>
              </a:rPr>
              <a:t>Description du peuplement (1)</a:t>
            </a: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0" y="4844880"/>
            <a:ext cx="8267760" cy="9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épondérance des plus petits diamètres en 200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quilibre de croissance non atteint sur la placette  du FTH 2003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rcRect l="5774" t="2315" r="3845" b="7700"/>
          <a:stretch/>
        </p:blipFill>
        <p:spPr>
          <a:xfrm>
            <a:off x="428760" y="1550880"/>
            <a:ext cx="3693960" cy="306540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4146480" y="1684440"/>
            <a:ext cx="3691080" cy="300672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5030640" y="1631880"/>
            <a:ext cx="2916360" cy="59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Répartition des arbres en classes de diamètre en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213840" y="4882680"/>
            <a:ext cx="821052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64 espèces en 2003 / 57 espèces en 200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 espèce prédominante dans les deux c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4210200" y="1658880"/>
            <a:ext cx="3925800" cy="306072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2"/>
          <a:srcRect l="0" t="8789" r="0" b="0"/>
          <a:stretch/>
        </p:blipFill>
        <p:spPr>
          <a:xfrm>
            <a:off x="0" y="1544760"/>
            <a:ext cx="4297320" cy="316224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1741320" y="1176480"/>
            <a:ext cx="113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675400" y="1160640"/>
            <a:ext cx="113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title"/>
          </p:nvPr>
        </p:nvSpPr>
        <p:spPr>
          <a:xfrm>
            <a:off x="0" y="276840"/>
            <a:ext cx="89582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ahoma"/>
              </a:rPr>
              <a:t>Description du peuplement (2)</a:t>
            </a: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302400"/>
            <a:ext cx="7467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bjectifs :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5f5f5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600" spc="-1" strike="noStrike">
                <a:solidFill>
                  <a:srgbClr val="000000"/>
                </a:solidFill>
                <a:latin typeface="Verdana"/>
              </a:rPr>
              <a:t>Etude des stratégies de croissance dans un jeune peuplement perturbé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5f5f5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600" spc="-1" strike="noStrike">
                <a:solidFill>
                  <a:srgbClr val="000000"/>
                </a:solidFill>
                <a:latin typeface="Verdana"/>
              </a:rPr>
              <a:t>Recherche de stratégies des espèces identifié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5f5f5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600" spc="-1" strike="noStrike">
                <a:solidFill>
                  <a:srgbClr val="000000"/>
                </a:solidFill>
                <a:latin typeface="Verdana"/>
              </a:rPr>
              <a:t>Comparaison avec une étude précédente (FTH 2002 St-Elie) d’un peuplement à l’équilib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028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ahoma"/>
              </a:rPr>
              <a:t>Répartition des individus par classe d’inclinaison</a:t>
            </a: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rcRect l="29307" t="12482" r="27671" b="15267"/>
          <a:stretch/>
        </p:blipFill>
        <p:spPr>
          <a:xfrm>
            <a:off x="0" y="1987560"/>
            <a:ext cx="4114800" cy="3927600"/>
          </a:xfrm>
          <a:prstGeom prst="rect">
            <a:avLst/>
          </a:prstGeom>
          <a:ln w="0">
            <a:noFill/>
          </a:ln>
        </p:spPr>
      </p:pic>
      <p:grpSp>
        <p:nvGrpSpPr>
          <p:cNvPr id="370" name=""/>
          <p:cNvGrpSpPr/>
          <p:nvPr/>
        </p:nvGrpSpPr>
        <p:grpSpPr>
          <a:xfrm>
            <a:off x="4541400" y="1703880"/>
            <a:ext cx="3365640" cy="4109400"/>
            <a:chOff x="4541400" y="1703880"/>
            <a:chExt cx="3365640" cy="4109400"/>
          </a:xfrm>
        </p:grpSpPr>
        <p:sp>
          <p:nvSpPr>
            <p:cNvPr id="371" name=""/>
            <p:cNvSpPr/>
            <p:nvPr/>
          </p:nvSpPr>
          <p:spPr>
            <a:xfrm>
              <a:off x="4792680" y="3057120"/>
              <a:ext cx="2306160" cy="2395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010" y="20260"/>
                  </a:moveTo>
                  <a:arcTo wR="10800" hR="10800" stAng="3669318" swAng="9532028"/>
                  <a:lnTo>
                    <a:pt x="10800" y="10800"/>
                  </a:lnTo>
                  <a:close/>
                </a:path>
                <a:path fill="none" w="21600" h="21600">
                  <a:moveTo>
                    <a:pt x="16010" y="20260"/>
                  </a:moveTo>
                  <a:arcTo wR="10800" hR="10800" stAng="3669318" swAng="9532028"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2" name=""/>
            <p:cNvGrpSpPr/>
            <p:nvPr/>
          </p:nvGrpSpPr>
          <p:grpSpPr>
            <a:xfrm>
              <a:off x="4541400" y="4673160"/>
              <a:ext cx="162360" cy="1140120"/>
              <a:chOff x="4541400" y="4673160"/>
              <a:chExt cx="162360" cy="1140120"/>
            </a:xfrm>
          </p:grpSpPr>
          <p:sp>
            <p:nvSpPr>
              <p:cNvPr id="373" name=""/>
              <p:cNvSpPr/>
              <p:nvPr/>
            </p:nvSpPr>
            <p:spPr>
              <a:xfrm flipH="1">
                <a:off x="4549680" y="5313960"/>
                <a:ext cx="68400" cy="49932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rot="123000">
                <a:off x="4552560" y="4675320"/>
                <a:ext cx="139320" cy="64872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7408800" y="4131000"/>
              <a:ext cx="498240" cy="1278720"/>
              <a:chOff x="7408800" y="4131000"/>
              <a:chExt cx="498240" cy="1278720"/>
            </a:xfrm>
          </p:grpSpPr>
          <p:sp>
            <p:nvSpPr>
              <p:cNvPr id="376" name=""/>
              <p:cNvSpPr/>
              <p:nvPr/>
            </p:nvSpPr>
            <p:spPr>
              <a:xfrm rot="426000">
                <a:off x="7530480" y="4138560"/>
                <a:ext cx="165960" cy="68832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7776000" y="4165560"/>
                <a:ext cx="131040" cy="63648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408800" y="4813920"/>
                <a:ext cx="161640" cy="594720"/>
              </a:xfrm>
              <a:custGeom>
                <a:avLst/>
                <a:gdLst/>
                <a:ahLst/>
                <a:rect l="l" t="t" r="r" b="b"/>
                <a:pathLst>
                  <a:path w="180" h="675">
                    <a:moveTo>
                      <a:pt x="0" y="675"/>
                    </a:moveTo>
                    <a:cubicBezTo>
                      <a:pt x="20" y="623"/>
                      <a:pt x="90" y="472"/>
                      <a:pt x="120" y="360"/>
                    </a:cubicBezTo>
                    <a:cubicBezTo>
                      <a:pt x="150" y="248"/>
                      <a:pt x="168" y="75"/>
                      <a:pt x="180" y="0"/>
                    </a:cubicBezTo>
                  </a:path>
                </a:pathLst>
              </a:custGeom>
              <a:noFill/>
              <a:ln w="76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7723440" y="4802040"/>
                <a:ext cx="107640" cy="607680"/>
              </a:xfrm>
              <a:custGeom>
                <a:avLst/>
                <a:gdLst/>
                <a:ahLst/>
                <a:rect l="l" t="t" r="r" b="b"/>
                <a:pathLst>
                  <a:path w="120" h="585">
                    <a:moveTo>
                      <a:pt x="0" y="585"/>
                    </a:moveTo>
                    <a:lnTo>
                      <a:pt x="90" y="345"/>
                    </a:lnTo>
                    <a:lnTo>
                      <a:pt x="120" y="0"/>
                    </a:lnTo>
                  </a:path>
                </a:pathLst>
              </a:custGeom>
              <a:noFill/>
              <a:ln w="76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0" name=""/>
            <p:cNvSpPr/>
            <p:nvPr/>
          </p:nvSpPr>
          <p:spPr>
            <a:xfrm>
              <a:off x="4940280" y="3071880"/>
              <a:ext cx="2309400" cy="239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65" y="0"/>
                  </a:moveTo>
                  <a:arcTo wR="10800" hR="10800" stAng="-5411191" swAng="17292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65" y="0"/>
                  </a:moveTo>
                  <a:arcTo wR="10800" hR="10800" stAng="-5411191" swAng="1729277"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957200" y="3074400"/>
              <a:ext cx="2305800" cy="239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76" y="1321"/>
                  </a:moveTo>
                  <a:arcTo wR="10800" hR="10800" stAng="-3681914" swAng="2823736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76" y="1321"/>
                  </a:moveTo>
                  <a:arcTo wR="10800" hR="10800" stAng="-3681914" swAng="2823736"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954320" y="3096000"/>
              <a:ext cx="2307960" cy="2394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265" y="8132"/>
                  </a:moveTo>
                  <a:arcTo wR="10800" hR="10800" stAng="-858178" swAng="4527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265" y="8132"/>
                  </a:moveTo>
                  <a:arcTo wR="10800" hR="10800" stAng="-858178" swAng="4527496"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6686280" y="1801800"/>
              <a:ext cx="333360" cy="1190520"/>
              <a:chOff x="6686280" y="1801800"/>
              <a:chExt cx="333360" cy="1190520"/>
            </a:xfrm>
          </p:grpSpPr>
          <p:sp>
            <p:nvSpPr>
              <p:cNvPr id="384" name=""/>
              <p:cNvSpPr/>
              <p:nvPr/>
            </p:nvSpPr>
            <p:spPr>
              <a:xfrm>
                <a:off x="6686280" y="2271960"/>
                <a:ext cx="258120" cy="720360"/>
              </a:xfrm>
              <a:custGeom>
                <a:avLst/>
                <a:gdLst/>
                <a:ahLst/>
                <a:rect l="l" t="t" r="r" b="b"/>
                <a:pathLst>
                  <a:path w="345" h="690">
                    <a:moveTo>
                      <a:pt x="0" y="690"/>
                    </a:moveTo>
                    <a:cubicBezTo>
                      <a:pt x="43" y="635"/>
                      <a:pt x="213" y="475"/>
                      <a:pt x="270" y="360"/>
                    </a:cubicBezTo>
                    <a:cubicBezTo>
                      <a:pt x="327" y="245"/>
                      <a:pt x="330" y="75"/>
                      <a:pt x="345" y="0"/>
                    </a:cubicBezTo>
                  </a:path>
                </a:pathLst>
              </a:custGeom>
              <a:noFill/>
              <a:ln w="76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864120" y="1801800"/>
                <a:ext cx="155520" cy="57384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6" name=""/>
            <p:cNvGrpSpPr/>
            <p:nvPr/>
          </p:nvGrpSpPr>
          <p:grpSpPr>
            <a:xfrm>
              <a:off x="7408800" y="2362320"/>
              <a:ext cx="214200" cy="1320480"/>
              <a:chOff x="7408800" y="2362320"/>
              <a:chExt cx="214200" cy="1320480"/>
            </a:xfrm>
          </p:grpSpPr>
          <p:sp>
            <p:nvSpPr>
              <p:cNvPr id="387" name=""/>
              <p:cNvSpPr/>
              <p:nvPr/>
            </p:nvSpPr>
            <p:spPr>
              <a:xfrm>
                <a:off x="7408800" y="2911680"/>
                <a:ext cx="156600" cy="771120"/>
              </a:xfrm>
              <a:custGeom>
                <a:avLst/>
                <a:gdLst/>
                <a:ahLst/>
                <a:rect l="l" t="t" r="r" b="b"/>
                <a:pathLst>
                  <a:path w="75" h="645">
                    <a:moveTo>
                      <a:pt x="0" y="645"/>
                    </a:moveTo>
                    <a:lnTo>
                      <a:pt x="60" y="360"/>
                    </a:lnTo>
                    <a:lnTo>
                      <a:pt x="75" y="0"/>
                    </a:lnTo>
                  </a:path>
                </a:pathLst>
              </a:custGeom>
              <a:noFill/>
              <a:ln w="76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467480" y="2362320"/>
                <a:ext cx="155520" cy="57384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9" name=""/>
            <p:cNvSpPr/>
            <p:nvPr/>
          </p:nvSpPr>
          <p:spPr>
            <a:xfrm>
              <a:off x="4795920" y="3002040"/>
              <a:ext cx="2304720" cy="2394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529" y="3855"/>
                  </a:moveTo>
                  <a:arcTo wR="10800" hR="10800" stAng="-8398654" swAng="2561687"/>
                  <a:lnTo>
                    <a:pt x="10800" y="10800"/>
                  </a:lnTo>
                  <a:close/>
                </a:path>
                <a:path fill="none" w="21600" h="21600">
                  <a:moveTo>
                    <a:pt x="2529" y="3855"/>
                  </a:moveTo>
                  <a:arcTo wR="10800" hR="10800" stAng="-8398654" swAng="2561687"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31560" y="2962080"/>
              <a:ext cx="2299680" cy="239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431" y="87"/>
                  </a:moveTo>
                  <a:arcTo wR="10800" hR="10800" stAng="-5836967" swAng="180036"/>
                  <a:lnTo>
                    <a:pt x="10800" y="10800"/>
                  </a:lnTo>
                  <a:close/>
                </a:path>
                <a:path fill="none" w="21600" h="21600">
                  <a:moveTo>
                    <a:pt x="9431" y="87"/>
                  </a:moveTo>
                  <a:arcTo wR="10800" hR="10800" stAng="-5836967" swAng="180036"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822920" y="2897280"/>
              <a:ext cx="2342520" cy="239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994" y="30"/>
                  </a:moveTo>
                  <a:arcTo wR="10800" hR="10800" stAng="-5656932" swAng="245740"/>
                  <a:lnTo>
                    <a:pt x="10800" y="10800"/>
                  </a:lnTo>
                  <a:close/>
                </a:path>
                <a:path fill="none" w="21600" h="21600">
                  <a:moveTo>
                    <a:pt x="9994" y="30"/>
                  </a:moveTo>
                  <a:arcTo wR="10800" hR="10800" stAng="-5656932" swAng="245740"/>
                </a:path>
              </a:pathLst>
            </a:cu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4701960" y="2355120"/>
              <a:ext cx="266040" cy="1203840"/>
              <a:chOff x="4701960" y="2355120"/>
              <a:chExt cx="266040" cy="1203840"/>
            </a:xfrm>
          </p:grpSpPr>
          <p:sp>
            <p:nvSpPr>
              <p:cNvPr id="393" name=""/>
              <p:cNvSpPr/>
              <p:nvPr/>
            </p:nvSpPr>
            <p:spPr>
              <a:xfrm rot="598800">
                <a:off x="4771800" y="2362320"/>
                <a:ext cx="140760" cy="64944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701960" y="2961360"/>
                <a:ext cx="108000" cy="597600"/>
              </a:xfrm>
              <a:custGeom>
                <a:avLst/>
                <a:gdLst/>
                <a:ahLst/>
                <a:rect l="l" t="t" r="r" b="b"/>
                <a:pathLst>
                  <a:path w="153" h="451">
                    <a:moveTo>
                      <a:pt x="0" y="451"/>
                    </a:moveTo>
                    <a:cubicBezTo>
                      <a:pt x="3" y="427"/>
                      <a:pt x="6" y="404"/>
                      <a:pt x="19" y="355"/>
                    </a:cubicBezTo>
                    <a:cubicBezTo>
                      <a:pt x="32" y="306"/>
                      <a:pt x="54" y="212"/>
                      <a:pt x="76" y="153"/>
                    </a:cubicBezTo>
                    <a:cubicBezTo>
                      <a:pt x="98" y="94"/>
                      <a:pt x="125" y="47"/>
                      <a:pt x="153" y="0"/>
                    </a:cubicBezTo>
                  </a:path>
                </a:pathLst>
              </a:custGeom>
              <a:noFill/>
              <a:ln w="76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5" name=""/>
            <p:cNvGrpSpPr/>
            <p:nvPr/>
          </p:nvGrpSpPr>
          <p:grpSpPr>
            <a:xfrm>
              <a:off x="5424480" y="1703880"/>
              <a:ext cx="491760" cy="1228320"/>
              <a:chOff x="5424480" y="1703880"/>
              <a:chExt cx="491760" cy="1228320"/>
            </a:xfrm>
          </p:grpSpPr>
          <p:sp>
            <p:nvSpPr>
              <p:cNvPr id="396" name=""/>
              <p:cNvSpPr/>
              <p:nvPr/>
            </p:nvSpPr>
            <p:spPr>
              <a:xfrm>
                <a:off x="5424480" y="2320920"/>
                <a:ext cx="205200" cy="611280"/>
              </a:xfrm>
              <a:custGeom>
                <a:avLst/>
                <a:gdLst/>
                <a:ahLst/>
                <a:rect l="l" t="t" r="r" b="b"/>
                <a:pathLst>
                  <a:path w="164" h="471">
                    <a:moveTo>
                      <a:pt x="0" y="471"/>
                    </a:moveTo>
                    <a:cubicBezTo>
                      <a:pt x="0" y="435"/>
                      <a:pt x="0" y="399"/>
                      <a:pt x="10" y="346"/>
                    </a:cubicBezTo>
                    <a:cubicBezTo>
                      <a:pt x="20" y="293"/>
                      <a:pt x="32" y="212"/>
                      <a:pt x="58" y="154"/>
                    </a:cubicBezTo>
                    <a:cubicBezTo>
                      <a:pt x="84" y="96"/>
                      <a:pt x="124" y="48"/>
                      <a:pt x="164" y="0"/>
                    </a:cubicBezTo>
                  </a:path>
                </a:pathLst>
              </a:custGeom>
              <a:noFill/>
              <a:ln w="76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1194000">
                <a:off x="5669640" y="1708200"/>
                <a:ext cx="140040" cy="64908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8" name=""/>
            <p:cNvGrpSpPr/>
            <p:nvPr/>
          </p:nvGrpSpPr>
          <p:grpSpPr>
            <a:xfrm>
              <a:off x="5874840" y="1985760"/>
              <a:ext cx="700200" cy="896400"/>
              <a:chOff x="5874840" y="1985760"/>
              <a:chExt cx="700200" cy="896400"/>
            </a:xfrm>
          </p:grpSpPr>
          <p:sp>
            <p:nvSpPr>
              <p:cNvPr id="399" name=""/>
              <p:cNvSpPr/>
              <p:nvPr/>
            </p:nvSpPr>
            <p:spPr>
              <a:xfrm flipH="1" flipV="1">
                <a:off x="5874480" y="2386800"/>
                <a:ext cx="268920" cy="495000"/>
              </a:xfrm>
              <a:custGeom>
                <a:avLst/>
                <a:gdLst/>
                <a:ahLst/>
                <a:rect l="l" t="t" r="r" b="b"/>
                <a:pathLst>
                  <a:path w="345" h="690">
                    <a:moveTo>
                      <a:pt x="0" y="690"/>
                    </a:moveTo>
                    <a:cubicBezTo>
                      <a:pt x="43" y="635"/>
                      <a:pt x="213" y="475"/>
                      <a:pt x="270" y="360"/>
                    </a:cubicBezTo>
                    <a:cubicBezTo>
                      <a:pt x="327" y="245"/>
                      <a:pt x="330" y="75"/>
                      <a:pt x="345" y="0"/>
                    </a:cubicBezTo>
                  </a:path>
                </a:pathLst>
              </a:custGeom>
              <a:noFill/>
              <a:ln w="76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2917800">
                <a:off x="6219000" y="1933920"/>
                <a:ext cx="145440" cy="62640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1" name=""/>
          <p:cNvSpPr/>
          <p:nvPr/>
        </p:nvSpPr>
        <p:spPr>
          <a:xfrm>
            <a:off x="1189080" y="57769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256360" y="574848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-71280" y="430920"/>
            <a:ext cx="85262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ahoma"/>
              </a:rPr>
              <a:t>Influence de la gravité (1)</a:t>
            </a: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404" name=""/>
          <p:cNvSpPr/>
          <p:nvPr/>
        </p:nvSpPr>
        <p:spPr>
          <a:xfrm>
            <a:off x="1801440" y="186048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434880" y="1380960"/>
            <a:ext cx="7539120" cy="45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"/>
          <p:cNvGrpSpPr/>
          <p:nvPr/>
        </p:nvGrpSpPr>
        <p:grpSpPr>
          <a:xfrm>
            <a:off x="0" y="1716120"/>
            <a:ext cx="8691480" cy="3654360"/>
            <a:chOff x="0" y="1716120"/>
            <a:chExt cx="8691480" cy="3654360"/>
          </a:xfrm>
        </p:grpSpPr>
        <p:pic>
          <p:nvPicPr>
            <p:cNvPr id="407" name="" descr=""/>
            <p:cNvPicPr/>
            <p:nvPr/>
          </p:nvPicPr>
          <p:blipFill>
            <a:blip r:embed="rId1"/>
            <a:stretch/>
          </p:blipFill>
          <p:spPr>
            <a:xfrm>
              <a:off x="0" y="2911320"/>
              <a:ext cx="4332240" cy="2422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08" name=""/>
            <p:cNvGrpSpPr/>
            <p:nvPr/>
          </p:nvGrpSpPr>
          <p:grpSpPr>
            <a:xfrm>
              <a:off x="1419120" y="2357280"/>
              <a:ext cx="7272360" cy="3013200"/>
              <a:chOff x="1419120" y="2357280"/>
              <a:chExt cx="7272360" cy="3013200"/>
            </a:xfrm>
          </p:grpSpPr>
          <p:sp>
            <p:nvSpPr>
              <p:cNvPr id="409" name=""/>
              <p:cNvSpPr/>
              <p:nvPr/>
            </p:nvSpPr>
            <p:spPr>
              <a:xfrm>
                <a:off x="1771200" y="2360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0" name=""/>
              <p:cNvGrpSpPr/>
              <p:nvPr/>
            </p:nvGrpSpPr>
            <p:grpSpPr>
              <a:xfrm>
                <a:off x="4284720" y="2606760"/>
                <a:ext cx="4406760" cy="2763720"/>
                <a:chOff x="4284720" y="2606760"/>
                <a:chExt cx="4406760" cy="2763720"/>
              </a:xfrm>
            </p:grpSpPr>
            <p:pic>
              <p:nvPicPr>
                <p:cNvPr id="411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284720" y="2606760"/>
                  <a:ext cx="4406760" cy="2763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2" name=""/>
                <p:cNvSpPr/>
                <p:nvPr/>
              </p:nvSpPr>
              <p:spPr>
                <a:xfrm>
                  <a:off x="4610160" y="3386160"/>
                  <a:ext cx="3467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3" name=""/>
              <p:cNvSpPr/>
              <p:nvPr/>
            </p:nvSpPr>
            <p:spPr>
              <a:xfrm>
                <a:off x="6372360" y="2795400"/>
                <a:ext cx="1190520" cy="524160"/>
              </a:xfrm>
              <a:prstGeom prst="ellipse">
                <a:avLst/>
              </a:prstGeom>
              <a:noFill/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2981160" y="3138480"/>
                <a:ext cx="866880" cy="31428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419120" y="3147840"/>
                <a:ext cx="866880" cy="31464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H="1">
                <a:off x="3448080" y="2357280"/>
                <a:ext cx="1171440" cy="73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629240" y="2376360"/>
                <a:ext cx="1847880" cy="48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8" name=""/>
            <p:cNvSpPr/>
            <p:nvPr/>
          </p:nvSpPr>
          <p:spPr>
            <a:xfrm flipH="1">
              <a:off x="1973160" y="2357280"/>
              <a:ext cx="2657520" cy="74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87480" y="1716120"/>
              <a:ext cx="442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Arbres non autoporta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33320" y="2316240"/>
              <a:ext cx="230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ahoma"/>
                </a:rPr>
                <a:t>6 en 200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516720" y="2227320"/>
              <a:ext cx="184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ahoma"/>
                </a:rPr>
                <a:t>3 en 200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-71280" y="430920"/>
            <a:ext cx="85262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ahoma"/>
              </a:rPr>
              <a:t>Influence de la gravité (2)</a:t>
            </a: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3120" y="218160"/>
            <a:ext cx="7467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ahoma"/>
              </a:rPr>
              <a:t>Conclusions </a:t>
            </a: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212400" y="1015560"/>
            <a:ext cx="822636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araison possible avec FTH 2002 malgré deux placettes différente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7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 plupart des arbres autoportant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7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 phénomène de réorientation est important 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70000"/>
              </a:lnSpc>
              <a:spcBef>
                <a:spcPts val="451"/>
              </a:spcBef>
              <a:buClr>
                <a:srgbClr val="5f5f5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épondérance redressement / affaissem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70000"/>
              </a:lnSpc>
              <a:spcBef>
                <a:spcPts val="451"/>
              </a:spcBef>
              <a:buClr>
                <a:srgbClr val="5f5f5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nsion max sur face supérieure pour la plupart des arbr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70000"/>
              </a:lnSpc>
              <a:spcBef>
                <a:spcPts val="451"/>
              </a:spcBef>
              <a:buClr>
                <a:srgbClr val="5f5f5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uls 19 arbres s’inclinent vers le sol (Inclinaison 1m5O &gt; Inclinaison à la base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7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lation entre le facteur de risque et le diamètre chez les espèces pionnières tardiv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72880" y="464040"/>
            <a:ext cx="7467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ahoma"/>
              </a:rPr>
              <a:t>Remerciements</a:t>
            </a: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257040" y="1647360"/>
            <a:ext cx="8167680" cy="41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00"/>
                </a:solidFill>
                <a:uFillTx/>
                <a:latin typeface="Verdana"/>
              </a:rPr>
              <a:t>A nos encadrants :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eriem, Gaelle et Julien… pour leur sympathie, leur enthousiasme et surtout leur patience !!!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00"/>
                </a:solidFill>
                <a:uFillTx/>
                <a:latin typeface="Verdana"/>
              </a:rPr>
              <a:t>A Fanchon et à Georges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pour leur précieuse aid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00"/>
                </a:solidFill>
                <a:uFillTx/>
                <a:latin typeface="Verdana"/>
              </a:rPr>
              <a:t>A Louise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pour l’intendanc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…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t à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Verdana"/>
              </a:rPr>
              <a:t> tout le groupe Archi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pour les bonnes soirées à St-Eli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/>
          </p:nvPr>
        </p:nvSpPr>
        <p:spPr>
          <a:xfrm>
            <a:off x="1155240" y="1356840"/>
            <a:ext cx="659916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Une équipe de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professionnels</a:t>
            </a: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… à votre servi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>
            <a:off x="1546200" y="1981080"/>
            <a:ext cx="5334120" cy="4000680"/>
          </a:xfrm>
          <a:prstGeom prst="rect">
            <a:avLst/>
          </a:prstGeom>
          <a:ln w="0">
            <a:noFill/>
          </a:ln>
        </p:spPr>
      </p:pic>
      <p:grpSp>
        <p:nvGrpSpPr>
          <p:cNvPr id="429" name=""/>
          <p:cNvGrpSpPr/>
          <p:nvPr/>
        </p:nvGrpSpPr>
        <p:grpSpPr>
          <a:xfrm>
            <a:off x="2322360" y="392040"/>
            <a:ext cx="3645000" cy="712800"/>
            <a:chOff x="2322360" y="392040"/>
            <a:chExt cx="3645000" cy="712800"/>
          </a:xfrm>
        </p:grpSpPr>
        <p:grpSp>
          <p:nvGrpSpPr>
            <p:cNvPr id="430" name=""/>
            <p:cNvGrpSpPr/>
            <p:nvPr/>
          </p:nvGrpSpPr>
          <p:grpSpPr>
            <a:xfrm>
              <a:off x="2322360" y="392040"/>
              <a:ext cx="3645000" cy="712800"/>
              <a:chOff x="2322360" y="392040"/>
              <a:chExt cx="3645000" cy="712800"/>
            </a:xfrm>
          </p:grpSpPr>
          <p:sp>
            <p:nvSpPr>
              <p:cNvPr id="431" name=""/>
              <p:cNvSpPr/>
              <p:nvPr/>
            </p:nvSpPr>
            <p:spPr>
              <a:xfrm>
                <a:off x="2351160" y="392040"/>
                <a:ext cx="3616200" cy="7034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Arial Black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2322360" y="392040"/>
                <a:ext cx="3600720" cy="7128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3" name=""/>
            <p:cNvSpPr/>
            <p:nvPr/>
          </p:nvSpPr>
          <p:spPr>
            <a:xfrm>
              <a:off x="2743200" y="436320"/>
              <a:ext cx="287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Arial Black"/>
                </a:rPr>
                <a:t>BIOMEK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" descr=""/>
          <p:cNvPicPr/>
          <p:nvPr/>
        </p:nvPicPr>
        <p:blipFill>
          <a:blip r:embed="rId1"/>
          <a:stretch/>
        </p:blipFill>
        <p:spPr>
          <a:xfrm>
            <a:off x="306360" y="2808360"/>
            <a:ext cx="3303720" cy="247500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2"/>
          <a:srcRect l="25977" t="13468" r="35058" b="17276"/>
          <a:stretch/>
        </p:blipFill>
        <p:spPr>
          <a:xfrm>
            <a:off x="4952880" y="2057400"/>
            <a:ext cx="3086280" cy="4114800"/>
          </a:xfrm>
          <a:prstGeom prst="rect">
            <a:avLst/>
          </a:prstGeom>
          <a:ln w="0">
            <a:noFill/>
          </a:ln>
        </p:spPr>
      </p:pic>
      <p:grpSp>
        <p:nvGrpSpPr>
          <p:cNvPr id="436" name=""/>
          <p:cNvGrpSpPr/>
          <p:nvPr/>
        </p:nvGrpSpPr>
        <p:grpSpPr>
          <a:xfrm>
            <a:off x="5626080" y="947880"/>
            <a:ext cx="2362320" cy="1218960"/>
            <a:chOff x="5626080" y="947880"/>
            <a:chExt cx="2362320" cy="1218960"/>
          </a:xfrm>
        </p:grpSpPr>
        <p:sp>
          <p:nvSpPr>
            <p:cNvPr id="437" name=""/>
            <p:cNvSpPr/>
            <p:nvPr/>
          </p:nvSpPr>
          <p:spPr>
            <a:xfrm rot="16200000">
              <a:off x="6197760" y="376200"/>
              <a:ext cx="1218960" cy="2362320"/>
            </a:xfrm>
            <a:prstGeom prst="wedgeEllipseCallout">
              <a:avLst>
                <a:gd name="adj1" fmla="val -115625"/>
                <a:gd name="adj2" fmla="val 20231"/>
              </a:avLst>
            </a:prstGeom>
            <a:solidFill>
              <a:srgbClr val="ccff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702400" y="1176120"/>
              <a:ext cx="2286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Ça va finir par se voir non ??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420840" y="1171440"/>
            <a:ext cx="2666880" cy="1295640"/>
          </a:xfrm>
          <a:prstGeom prst="cloudCallout">
            <a:avLst>
              <a:gd name="adj1" fmla="val 1430"/>
              <a:gd name="adj2" fmla="val 9178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76200" y="1281240"/>
            <a:ext cx="2819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Heureusement que Juju et Meriem bossent 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3718080" y="2730600"/>
            <a:ext cx="1679400" cy="1058760"/>
            <a:chOff x="3718080" y="2730600"/>
            <a:chExt cx="1679400" cy="1058760"/>
          </a:xfrm>
        </p:grpSpPr>
        <p:sp>
          <p:nvSpPr>
            <p:cNvPr id="442" name=""/>
            <p:cNvSpPr/>
            <p:nvPr/>
          </p:nvSpPr>
          <p:spPr>
            <a:xfrm>
              <a:off x="3718080" y="2730600"/>
              <a:ext cx="1654200" cy="1058760"/>
            </a:xfrm>
            <a:prstGeom prst="wedgeEllipseCallout">
              <a:avLst>
                <a:gd name="adj1" fmla="val 83495"/>
                <a:gd name="adj2" fmla="val 24662"/>
              </a:avLst>
            </a:prstGeom>
            <a:solidFill>
              <a:srgbClr val="ffcc99">
                <a:alpha val="4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719520" y="3079800"/>
              <a:ext cx="1677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Tu crois ??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2322360" y="392040"/>
            <a:ext cx="3645000" cy="712800"/>
            <a:chOff x="2322360" y="392040"/>
            <a:chExt cx="3645000" cy="712800"/>
          </a:xfrm>
        </p:grpSpPr>
        <p:grpSp>
          <p:nvGrpSpPr>
            <p:cNvPr id="445" name=""/>
            <p:cNvGrpSpPr/>
            <p:nvPr/>
          </p:nvGrpSpPr>
          <p:grpSpPr>
            <a:xfrm>
              <a:off x="2322360" y="392040"/>
              <a:ext cx="3645000" cy="712800"/>
              <a:chOff x="2322360" y="392040"/>
              <a:chExt cx="3645000" cy="712800"/>
            </a:xfrm>
          </p:grpSpPr>
          <p:sp>
            <p:nvSpPr>
              <p:cNvPr id="446" name=""/>
              <p:cNvSpPr/>
              <p:nvPr/>
            </p:nvSpPr>
            <p:spPr>
              <a:xfrm>
                <a:off x="2351160" y="392040"/>
                <a:ext cx="3616200" cy="7034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Arial Black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322360" y="392040"/>
                <a:ext cx="3600720" cy="7128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2743200" y="436320"/>
              <a:ext cx="287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Arial Black"/>
                </a:rPr>
                <a:t>BIOMEK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9" name=""/>
          <p:cNvGrpSpPr/>
          <p:nvPr/>
        </p:nvGrpSpPr>
        <p:grpSpPr>
          <a:xfrm>
            <a:off x="2367000" y="2741760"/>
            <a:ext cx="3645000" cy="712800"/>
            <a:chOff x="2367000" y="2741760"/>
            <a:chExt cx="3645000" cy="712800"/>
          </a:xfrm>
        </p:grpSpPr>
        <p:grpSp>
          <p:nvGrpSpPr>
            <p:cNvPr id="450" name=""/>
            <p:cNvGrpSpPr/>
            <p:nvPr/>
          </p:nvGrpSpPr>
          <p:grpSpPr>
            <a:xfrm>
              <a:off x="2367000" y="2741760"/>
              <a:ext cx="3645000" cy="712800"/>
              <a:chOff x="2367000" y="2741760"/>
              <a:chExt cx="3645000" cy="712800"/>
            </a:xfrm>
          </p:grpSpPr>
          <p:sp>
            <p:nvSpPr>
              <p:cNvPr id="451" name=""/>
              <p:cNvSpPr/>
              <p:nvPr/>
            </p:nvSpPr>
            <p:spPr>
              <a:xfrm>
                <a:off x="2395800" y="2741760"/>
                <a:ext cx="3616200" cy="7034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Arial Black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367000" y="2741760"/>
                <a:ext cx="3600720" cy="7128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3" name=""/>
            <p:cNvSpPr/>
            <p:nvPr/>
          </p:nvSpPr>
          <p:spPr>
            <a:xfrm>
              <a:off x="2787840" y="2786040"/>
              <a:ext cx="287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Arial Black"/>
                </a:rPr>
                <a:t>BIOMEK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71280" y="2562120"/>
            <a:ext cx="1486080" cy="198144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2"/>
          <a:stretch/>
        </p:blipFill>
        <p:spPr>
          <a:xfrm>
            <a:off x="4089240" y="355680"/>
            <a:ext cx="2138400" cy="160344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3"/>
          <a:stretch/>
        </p:blipFill>
        <p:spPr>
          <a:xfrm>
            <a:off x="1652760" y="3770280"/>
            <a:ext cx="1215720" cy="2413080"/>
          </a:xfrm>
          <a:prstGeom prst="rect">
            <a:avLst/>
          </a:prstGeom>
          <a:ln w="0">
            <a:noFill/>
          </a:ln>
        </p:spPr>
      </p:pic>
      <p:pic>
        <p:nvPicPr>
          <p:cNvPr id="457" name="" descr=""/>
          <p:cNvPicPr/>
          <p:nvPr/>
        </p:nvPicPr>
        <p:blipFill>
          <a:blip r:embed="rId4"/>
          <a:stretch/>
        </p:blipFill>
        <p:spPr>
          <a:xfrm>
            <a:off x="4452840" y="4325760"/>
            <a:ext cx="2181240" cy="1638360"/>
          </a:xfrm>
          <a:prstGeom prst="rect">
            <a:avLst/>
          </a:prstGeom>
          <a:ln w="0">
            <a:noFill/>
          </a:ln>
        </p:spPr>
      </p:pic>
      <p:pic>
        <p:nvPicPr>
          <p:cNvPr id="458" name="" descr=""/>
          <p:cNvPicPr/>
          <p:nvPr/>
        </p:nvPicPr>
        <p:blipFill>
          <a:blip r:embed="rId5"/>
          <a:stretch/>
        </p:blipFill>
        <p:spPr>
          <a:xfrm>
            <a:off x="6613560" y="2592360"/>
            <a:ext cx="1542960" cy="2057400"/>
          </a:xfrm>
          <a:prstGeom prst="rect">
            <a:avLst/>
          </a:prstGeom>
          <a:ln w="0">
            <a:noFill/>
          </a:ln>
        </p:spPr>
      </p:pic>
      <p:pic>
        <p:nvPicPr>
          <p:cNvPr id="459" name="" descr=""/>
          <p:cNvPicPr/>
          <p:nvPr/>
        </p:nvPicPr>
        <p:blipFill>
          <a:blip r:embed="rId6"/>
          <a:stretch/>
        </p:blipFill>
        <p:spPr>
          <a:xfrm>
            <a:off x="520560" y="293760"/>
            <a:ext cx="1486080" cy="198108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7"/>
          <a:stretch/>
        </p:blipFill>
        <p:spPr>
          <a:xfrm>
            <a:off x="2376360" y="336600"/>
            <a:ext cx="1486080" cy="198108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8">
            <a:lum contrast="6000"/>
          </a:blip>
          <a:srcRect l="25349" t="0" r="27778" b="0"/>
          <a:stretch/>
        </p:blipFill>
        <p:spPr>
          <a:xfrm>
            <a:off x="3048120" y="4282920"/>
            <a:ext cx="1133280" cy="181296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9">
            <a:lum bright="-18000"/>
          </a:blip>
          <a:stretch/>
        </p:blipFill>
        <p:spPr>
          <a:xfrm>
            <a:off x="85680" y="276120"/>
            <a:ext cx="4478400" cy="5958000"/>
          </a:xfrm>
          <a:prstGeom prst="rect">
            <a:avLst/>
          </a:prstGeom>
          <a:ln w="0">
            <a:noFill/>
          </a:ln>
        </p:spPr>
      </p:pic>
      <p:pic>
        <p:nvPicPr>
          <p:cNvPr id="463" name="" descr=""/>
          <p:cNvPicPr/>
          <p:nvPr/>
        </p:nvPicPr>
        <p:blipFill>
          <a:blip r:embed="rId10"/>
          <a:stretch/>
        </p:blipFill>
        <p:spPr>
          <a:xfrm>
            <a:off x="6346800" y="733320"/>
            <a:ext cx="2130480" cy="159552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11"/>
          <a:stretch/>
        </p:blipFill>
        <p:spPr>
          <a:xfrm>
            <a:off x="4573440" y="295200"/>
            <a:ext cx="4442040" cy="59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2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2271600" y="2735280"/>
            <a:ext cx="4222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QUESTION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302400"/>
            <a:ext cx="7467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ahoma"/>
              </a:rPr>
              <a:t>PLAN</a:t>
            </a: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tériel et méthod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incipaux résulta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aison avec les résultats du FTH 200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09480" y="68580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Matériel et métho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90920" y="4994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752480" y="914400"/>
            <a:ext cx="266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600200" y="1628640"/>
            <a:ext cx="576252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378360"/>
            <a:ext cx="7467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ahoma"/>
              </a:rPr>
              <a:t>Lieu de l’étude</a:t>
            </a: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oix de la placet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istorique du lieu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5f5f5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Défrichage en 1979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5f5f5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Chablis réc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Verdana"/>
              </a:rPr>
              <a:t>=&gt; Zone très perturbé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302400"/>
            <a:ext cx="7467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ahoma"/>
              </a:rPr>
              <a:t>Répartition des arbres</a:t>
            </a: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560" y="54100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03 individus de diamètre compris entre 2,5 et 5 cm (bleu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2 individus de diamètre supérieur à 20 cm (violet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rcRect l="0" t="0" r="0" b="5447"/>
          <a:stretch/>
        </p:blipFill>
        <p:spPr>
          <a:xfrm>
            <a:off x="741240" y="1143000"/>
            <a:ext cx="7107480" cy="41911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28600" y="3429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1300 m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3024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ahoma"/>
              </a:rPr>
              <a:t>Mesures DRLM (1)</a:t>
            </a: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Appareil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: méthode Wap’s – capteur HBM</a:t>
            </a:r>
            <a:br>
              <a:rPr sz="28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[Fournier &amp; al. 1994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419720" y="2819520"/>
            <a:ext cx="3352680" cy="21333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52280" y="2057400"/>
            <a:ext cx="426744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3024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ahoma"/>
              </a:rPr>
              <a:t>Mesures DRLM (2)</a:t>
            </a: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7283160" cy="33400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04920" y="54100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lus les pointes se rapprochent, plus la contrainte estimée est grande et plus le bois est ten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Princip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19:11:34Z</dcterms:created>
  <dc:creator>Techno</dc:creator>
  <dc:description/>
  <dc:language>en-US</dc:language>
  <cp:lastModifiedBy>Eric Marcon</cp:lastModifiedBy>
  <dcterms:modified xsi:type="dcterms:W3CDTF">2003-10-03T17:17:24Z</dcterms:modified>
  <cp:revision>123</cp:revision>
  <dc:subject/>
  <dc:title>Biomécanique  d’un jeune peuplement  dans une trouée de chablis</dc:title>
</cp:coreProperties>
</file>