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4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8.wmf" ContentType="image/x-wmf"/>
  <Override PartName="/ppt/media/image20.wmf" ContentType="image/x-wmf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4D9-F2C3-4CBA-A30F-30E3AC9E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48258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4960" y="3879360"/>
            <a:ext cx="48258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6AD-AAE1-4D94-AF6C-D9014B60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77800" y="292752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04960" y="387936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77800" y="387936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B3D-9D76-4B43-9B6B-0258C3B2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1553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6840" y="2927520"/>
            <a:ext cx="1553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68720" y="2927520"/>
            <a:ext cx="1553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4960" y="3879360"/>
            <a:ext cx="1553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136840" y="3879360"/>
            <a:ext cx="1553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68720" y="3879360"/>
            <a:ext cx="1553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95C-14F1-481E-98FD-350333AC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EAFD-3EC4-4B02-B70A-1326E9A7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504960" y="2927520"/>
            <a:ext cx="48258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81DF-0A6E-405F-ADB9-64D8E9A2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48258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D906-F4ED-4303-8183-06AF5F82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235476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7800" y="2927520"/>
            <a:ext cx="235476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3E9D-4C57-4045-ACF1-4B80B046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0174-788E-4BF6-89F0-E2E0AAF8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E9D1-E3A3-41F0-B000-5C7E1960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7800" y="2927520"/>
            <a:ext cx="235476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4960" y="387936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17AA-1F40-4C8B-90CD-674607EA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504960" y="2927520"/>
            <a:ext cx="48258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691-25F9-484E-933F-0B2AAC85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235476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7800" y="292752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7800" y="387936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C99E-DE9B-4ADE-B6C4-3559CAEE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7800" y="292752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04960" y="3879360"/>
            <a:ext cx="48258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2A64-3068-499E-82B8-3FB3EEF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48258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4960" y="3879360"/>
            <a:ext cx="48258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9046-23EE-45BF-A927-9532435C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7800" y="292752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504960" y="387936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7800" y="387936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09CB-A9C0-4C46-85D3-5643F5D4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1553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36840" y="2927520"/>
            <a:ext cx="1553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68720" y="2927520"/>
            <a:ext cx="1553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504960" y="3879360"/>
            <a:ext cx="1553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36840" y="3879360"/>
            <a:ext cx="1553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68720" y="3879360"/>
            <a:ext cx="1553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FC09-509F-4BA0-9ACC-503CC587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48258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4EB-9AA0-4853-B4EF-24DA2044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235476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77800" y="2927520"/>
            <a:ext cx="235476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6D3-BF46-4D42-8D9A-91008652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3B8-1CA4-4569-AD02-CDBFC425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ADB-04AA-4183-A3CE-AA6D7D29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7800" y="2927520"/>
            <a:ext cx="235476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387936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5D0-AC4F-433D-9DF3-F6C845F7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235476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7800" y="292752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77800" y="387936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DAC-0634-4E08-8960-D799A31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4960" y="292752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77800" y="2927520"/>
            <a:ext cx="23547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04960" y="3879360"/>
            <a:ext cx="48258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04F-0877-4AEF-B891-004479D6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8001000" cy="4267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B85E-4BDD-4464-AB95-2CD750CFA9B7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F525-1A6D-49BA-90CC-A74F6C49A609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505320" y="2971800"/>
            <a:ext cx="5486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Arial"/>
              </a:rPr>
              <a:t>Répartition spatiale de quatre espèces forestières selon deux paramètres 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bas-fonds et la lumièr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2080" y="13716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Dyn</a:t>
            </a:r>
            <a:r>
              <a:rPr b="1" lang="fr-FR" sz="36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mique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Forestièr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95280" y="1311120"/>
            <a:ext cx="7848720" cy="5546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mesur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a cartographie des bas-fond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971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Classe de profondeur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0-60 cm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60-100 cm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&gt; 100 cm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mesur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a lumièr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267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L’indice de Dawkin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appréciation visuelle de la luminosité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Le LAI Leaf Aera Index (ou PAI Plant Aera Index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surface foliaire, cumulée verticalement, qui intercepte la lumière sur 1 m² au so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99"/>
                </a:solidFill>
                <a:latin typeface="Arial"/>
              </a:rPr>
              <a:t>Les photos hémisphériqu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99"/>
                </a:solidFill>
                <a:latin typeface="Arial"/>
              </a:rPr>
              <a:t>photos de la voûte forestière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Plan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267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Données de base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dispositif de Paracou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omportements des 4 espèc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s inventair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s mesures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lumièr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cartographie des bas-fond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Les analyses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lumièr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répartition des juvénil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cas particulier de 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l’Eperua falcata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a lumière: estimation de l’</a:t>
            </a:r>
            <a:r>
              <a:rPr b="1" i="1" lang="fr-FR" sz="2400" spc="-1" strike="noStrike">
                <a:solidFill>
                  <a:srgbClr val="006666"/>
                </a:solidFill>
                <a:latin typeface="Arial"/>
              </a:rPr>
              <a:t>effet</a:t>
            </a: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006666"/>
                </a:solidFill>
                <a:latin typeface="Arial"/>
              </a:rPr>
              <a:t>traitement</a:t>
            </a: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4572000"/>
            <a:ext cx="8001000" cy="1828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Calcul d ’un indicateur: 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ratio juvéniles/adult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Fort impact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du traitement (ouverture) sur le développement des jeunes </a:t>
            </a:r>
            <a:r>
              <a:rPr b="0" i="1" lang="fr-FR" sz="2000" spc="-1" strike="noStrike">
                <a:solidFill>
                  <a:srgbClr val="003366"/>
                </a:solidFill>
                <a:latin typeface="Arial"/>
              </a:rPr>
              <a:t>Virola michelii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Résultats moins significatifs pour le </a:t>
            </a:r>
            <a:r>
              <a:rPr b="0" i="1" lang="fr-FR" sz="2000" spc="-1" strike="noStrike">
                <a:solidFill>
                  <a:srgbClr val="003366"/>
                </a:solidFill>
                <a:latin typeface="Arial"/>
              </a:rPr>
              <a:t>Carapa procera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, l’</a:t>
            </a:r>
            <a:r>
              <a:rPr b="0" i="1" lang="fr-FR" sz="2000" spc="-1" strike="noStrike">
                <a:solidFill>
                  <a:srgbClr val="003366"/>
                </a:solidFill>
                <a:latin typeface="Arial"/>
              </a:rPr>
              <a:t>Eperua grandiflora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t l’</a:t>
            </a:r>
            <a:r>
              <a:rPr b="0" i="1" lang="fr-FR" sz="2000" spc="-1" strike="noStrike">
                <a:solidFill>
                  <a:srgbClr val="003366"/>
                </a:solidFill>
                <a:latin typeface="Arial"/>
              </a:rPr>
              <a:t>Eperua falcata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90720" y="2193840"/>
          <a:ext cx="7772400" cy="20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93840"/>
                    <a:ext cx="77724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810400" y="3048120"/>
            <a:ext cx="761760" cy="914400"/>
          </a:xfrm>
          <a:prstGeom prst="ellipse">
            <a:avLst/>
          </a:prstGeom>
          <a:noFill/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a répartition spatiale du </a:t>
            </a:r>
            <a:r>
              <a:rPr b="1" i="1" lang="fr-FR" sz="2400" spc="-1" strike="noStrike">
                <a:solidFill>
                  <a:srgbClr val="006666"/>
                </a:solidFill>
                <a:latin typeface="Arial"/>
              </a:rPr>
              <a:t>Virola michelii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386840" cy="4856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49440" y="632448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Rapport de densité BF/HBF = </a:t>
            </a:r>
            <a:r>
              <a:rPr b="0" lang="fr-FR" sz="2000" spc="-1" strike="noStrike">
                <a:solidFill>
                  <a:srgbClr val="ff9933"/>
                </a:solidFill>
                <a:latin typeface="Arial"/>
              </a:rPr>
              <a:t>0.2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a lumière: corrélation PAI / indice de Dawkins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6324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a lumière: PAI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12920" y="1989000"/>
            <a:ext cx="7164360" cy="433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a lumière: indice de Dawkins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76200" y="1941480"/>
            <a:ext cx="7162920" cy="44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a lumière: comparaison en bas-fonds et hors bas-fonds pour le </a:t>
            </a:r>
            <a:r>
              <a:rPr b="1" i="1" lang="fr-FR" sz="2400" spc="-1" strike="noStrike">
                <a:solidFill>
                  <a:srgbClr val="006666"/>
                </a:solidFill>
                <a:latin typeface="Arial"/>
              </a:rPr>
              <a:t>Carapa procera</a:t>
            </a: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 et </a:t>
            </a:r>
            <a:r>
              <a:rPr b="1" i="1" lang="fr-FR" sz="2400" spc="-1" strike="noStrike">
                <a:solidFill>
                  <a:srgbClr val="006666"/>
                </a:solidFill>
                <a:latin typeface="Arial"/>
              </a:rPr>
              <a:t>Eperua falcat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88920" y="1828800"/>
            <a:ext cx="7811640" cy="4774680"/>
            <a:chOff x="988920" y="1828800"/>
            <a:chExt cx="7811640" cy="4774680"/>
          </a:xfrm>
        </p:grpSpPr>
        <p:sp>
          <p:nvSpPr>
            <p:cNvPr id="142" name=""/>
            <p:cNvSpPr/>
            <p:nvPr/>
          </p:nvSpPr>
          <p:spPr>
            <a:xfrm>
              <a:off x="1051920" y="1828800"/>
              <a:ext cx="7748640" cy="47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988920" y="1836360"/>
              <a:ext cx="7671240" cy="4722840"/>
              <a:chOff x="988920" y="1836360"/>
              <a:chExt cx="7671240" cy="472284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6640" y="1836360"/>
                <a:ext cx="3860280" cy="240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47680" y="1854000"/>
                <a:ext cx="3912480" cy="243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1561320" y="1998000"/>
                <a:ext cx="1386360" cy="33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200" spc="-1" strike="noStrike">
                    <a:solidFill>
                      <a:srgbClr val="003366"/>
                    </a:solidFill>
                    <a:latin typeface="Arial"/>
                  </a:rPr>
                  <a:t>Carapa procera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73640" y="2013120"/>
                <a:ext cx="1247760" cy="33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200" spc="-1" strike="noStrike">
                    <a:solidFill>
                      <a:srgbClr val="003366"/>
                    </a:solidFill>
                    <a:latin typeface="Arial"/>
                  </a:rPr>
                  <a:t>Eperua falcata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17080" y="4118040"/>
                <a:ext cx="3921120" cy="244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5289120" y="4277520"/>
                <a:ext cx="1247760" cy="33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200" spc="-1" strike="noStrike">
                    <a:solidFill>
                      <a:srgbClr val="003366"/>
                    </a:solidFill>
                    <a:latin typeface="Arial"/>
                  </a:rPr>
                  <a:t>Eperua falcata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pic>
            <p:nvPicPr>
              <p:cNvPr id="1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88920" y="4118040"/>
                <a:ext cx="3918960" cy="243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1563480" y="4283640"/>
                <a:ext cx="1386360" cy="33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200" spc="-1" strike="noStrike">
                    <a:solidFill>
                      <a:srgbClr val="003366"/>
                    </a:solidFill>
                    <a:latin typeface="Arial"/>
                  </a:rPr>
                  <a:t>Carapa</a:t>
                </a:r>
                <a:r>
                  <a:rPr b="0" i="1" lang="fr-FR" sz="1000" spc="-1" strike="noStrike">
                    <a:solidFill>
                      <a:srgbClr val="003366"/>
                    </a:solidFill>
                    <a:latin typeface="Arial"/>
                  </a:rPr>
                  <a:t> </a:t>
                </a:r>
                <a:r>
                  <a:rPr b="0" i="1" lang="fr-FR" sz="1200" spc="-1" strike="noStrike">
                    <a:solidFill>
                      <a:srgbClr val="003366"/>
                    </a:solidFill>
                    <a:latin typeface="Arial"/>
                  </a:rPr>
                  <a:t>procera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 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a répartition spatiale du </a:t>
            </a:r>
            <a:r>
              <a:rPr b="1" i="1" lang="fr-FR" sz="2400" spc="-1" strike="noStrike">
                <a:solidFill>
                  <a:srgbClr val="006666"/>
                </a:solidFill>
                <a:latin typeface="Arial"/>
              </a:rPr>
              <a:t>Eperua grandiflor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43000" y="1687680"/>
            <a:ext cx="7415280" cy="4930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502080" y="632448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Rapport de densité BF/HBF = </a:t>
            </a:r>
            <a:r>
              <a:rPr b="0" lang="fr-FR" sz="2000" spc="-1" strike="noStrike">
                <a:solidFill>
                  <a:srgbClr val="ff9933"/>
                </a:solidFill>
                <a:latin typeface="Arial"/>
              </a:rPr>
              <a:t>0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3962520"/>
            <a:ext cx="7467840" cy="6858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répartition spatiale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des essences 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formalise et explique quelques mécanismes de la </a:t>
            </a: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dynamique forestière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3366"/>
                </a:solidFill>
                <a:latin typeface="Arial"/>
              </a:rPr>
              <a:t>différentes méthodes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étude d’une population sur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plusieurs années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(Paracou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comparaison des différentes </a:t>
            </a:r>
            <a:r>
              <a:rPr b="1" lang="fr-FR" sz="2000" spc="-1" strike="noStrike">
                <a:solidFill>
                  <a:srgbClr val="ff9933"/>
                </a:solidFill>
                <a:latin typeface="Arial"/>
              </a:rPr>
              <a:t>classes de diamètre</a:t>
            </a: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 de l’espèc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Introduction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Répartition spatiale des essenc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a répartition des juvéniles </a:t>
            </a:r>
            <a:r>
              <a:rPr b="1" i="1" lang="fr-FR" sz="2400" spc="-1" strike="noStrike">
                <a:solidFill>
                  <a:srgbClr val="006666"/>
                </a:solidFill>
                <a:latin typeface="Arial"/>
              </a:rPr>
              <a:t>Carapa procera</a:t>
            </a: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391520" cy="5002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349440" y="632448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Rapport de densité BF/HBF = </a:t>
            </a:r>
            <a:r>
              <a:rPr b="0" lang="fr-FR" sz="2000" spc="-1" strike="noStrike">
                <a:solidFill>
                  <a:srgbClr val="ff9933"/>
                </a:solidFill>
                <a:latin typeface="Arial"/>
              </a:rPr>
              <a:t>3.2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a répartition des juvéniles </a:t>
            </a:r>
            <a:r>
              <a:rPr b="1" i="1" lang="fr-FR" sz="2400" spc="-1" strike="noStrike">
                <a:solidFill>
                  <a:srgbClr val="006666"/>
                </a:solidFill>
                <a:latin typeface="Arial"/>
              </a:rPr>
              <a:t>Carapa procera</a:t>
            </a: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2444760"/>
          <a:ext cx="3733560" cy="311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44760"/>
                    <a:ext cx="373356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219320" y="2424240"/>
          <a:ext cx="3676680" cy="3138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424240"/>
                    <a:ext cx="367668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 cas particulier de l’</a:t>
            </a:r>
            <a:r>
              <a:rPr b="1" i="1" lang="fr-FR" sz="2400" spc="-1" strike="noStrike">
                <a:solidFill>
                  <a:srgbClr val="006666"/>
                </a:solidFill>
                <a:latin typeface="Arial"/>
              </a:rPr>
              <a:t>Eperua falcat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5009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 cas particulier de l’</a:t>
            </a:r>
            <a:r>
              <a:rPr b="1" i="1" lang="fr-FR" sz="2400" spc="-1" strike="noStrike">
                <a:solidFill>
                  <a:srgbClr val="006666"/>
                </a:solidFill>
                <a:latin typeface="Arial"/>
              </a:rPr>
              <a:t>Eperua falcat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2209680"/>
          <a:ext cx="3816360" cy="325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381636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105520" y="2247840"/>
          <a:ext cx="3733560" cy="331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247840"/>
                    <a:ext cx="373356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 cas particulier de l’</a:t>
            </a:r>
            <a:r>
              <a:rPr b="1" i="1" lang="fr-FR" sz="2400" spc="-1" strike="noStrike">
                <a:solidFill>
                  <a:srgbClr val="006666"/>
                </a:solidFill>
                <a:latin typeface="Arial"/>
              </a:rPr>
              <a:t>Eperua falcat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500960" cy="5078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90720" y="3533760"/>
            <a:ext cx="2529000" cy="2687760"/>
          </a:xfrm>
          <a:custGeom>
            <a:avLst/>
            <a:gdLst/>
            <a:ahLst/>
            <a:rect l="l" t="t" r="r" b="b"/>
            <a:pathLst>
              <a:path w="1536" h="1693">
                <a:moveTo>
                  <a:pt x="981" y="1677"/>
                </a:moveTo>
                <a:cubicBezTo>
                  <a:pt x="942" y="1654"/>
                  <a:pt x="916" y="1650"/>
                  <a:pt x="873" y="1641"/>
                </a:cubicBezTo>
                <a:cubicBezTo>
                  <a:pt x="842" y="1618"/>
                  <a:pt x="807" y="1621"/>
                  <a:pt x="771" y="1617"/>
                </a:cubicBezTo>
                <a:cubicBezTo>
                  <a:pt x="714" y="1611"/>
                  <a:pt x="662" y="1607"/>
                  <a:pt x="603" y="1605"/>
                </a:cubicBezTo>
                <a:cubicBezTo>
                  <a:pt x="599" y="1593"/>
                  <a:pt x="598" y="1581"/>
                  <a:pt x="594" y="1569"/>
                </a:cubicBezTo>
                <a:cubicBezTo>
                  <a:pt x="590" y="1538"/>
                  <a:pt x="590" y="1507"/>
                  <a:pt x="582" y="1476"/>
                </a:cubicBezTo>
                <a:cubicBezTo>
                  <a:pt x="588" y="1396"/>
                  <a:pt x="582" y="1463"/>
                  <a:pt x="597" y="1419"/>
                </a:cubicBezTo>
                <a:cubicBezTo>
                  <a:pt x="594" y="1274"/>
                  <a:pt x="615" y="1260"/>
                  <a:pt x="549" y="1173"/>
                </a:cubicBezTo>
                <a:cubicBezTo>
                  <a:pt x="534" y="1129"/>
                  <a:pt x="488" y="1123"/>
                  <a:pt x="447" y="1116"/>
                </a:cubicBezTo>
                <a:cubicBezTo>
                  <a:pt x="441" y="1097"/>
                  <a:pt x="432" y="1090"/>
                  <a:pt x="420" y="1074"/>
                </a:cubicBezTo>
                <a:cubicBezTo>
                  <a:pt x="410" y="994"/>
                  <a:pt x="384" y="977"/>
                  <a:pt x="306" y="969"/>
                </a:cubicBezTo>
                <a:cubicBezTo>
                  <a:pt x="288" y="963"/>
                  <a:pt x="270" y="957"/>
                  <a:pt x="252" y="951"/>
                </a:cubicBezTo>
                <a:cubicBezTo>
                  <a:pt x="246" y="949"/>
                  <a:pt x="234" y="945"/>
                  <a:pt x="234" y="945"/>
                </a:cubicBezTo>
                <a:cubicBezTo>
                  <a:pt x="222" y="933"/>
                  <a:pt x="203" y="925"/>
                  <a:pt x="198" y="909"/>
                </a:cubicBezTo>
                <a:cubicBezTo>
                  <a:pt x="196" y="903"/>
                  <a:pt x="196" y="896"/>
                  <a:pt x="192" y="891"/>
                </a:cubicBezTo>
                <a:cubicBezTo>
                  <a:pt x="182" y="878"/>
                  <a:pt x="156" y="855"/>
                  <a:pt x="156" y="855"/>
                </a:cubicBezTo>
                <a:cubicBezTo>
                  <a:pt x="141" y="811"/>
                  <a:pt x="153" y="828"/>
                  <a:pt x="126" y="801"/>
                </a:cubicBezTo>
                <a:cubicBezTo>
                  <a:pt x="108" y="747"/>
                  <a:pt x="136" y="815"/>
                  <a:pt x="102" y="777"/>
                </a:cubicBezTo>
                <a:cubicBezTo>
                  <a:pt x="96" y="771"/>
                  <a:pt x="97" y="761"/>
                  <a:pt x="93" y="753"/>
                </a:cubicBezTo>
                <a:cubicBezTo>
                  <a:pt x="91" y="749"/>
                  <a:pt x="87" y="745"/>
                  <a:pt x="84" y="741"/>
                </a:cubicBezTo>
                <a:cubicBezTo>
                  <a:pt x="79" y="733"/>
                  <a:pt x="76" y="725"/>
                  <a:pt x="72" y="717"/>
                </a:cubicBezTo>
                <a:cubicBezTo>
                  <a:pt x="67" y="706"/>
                  <a:pt x="71" y="690"/>
                  <a:pt x="63" y="681"/>
                </a:cubicBezTo>
                <a:cubicBezTo>
                  <a:pt x="59" y="676"/>
                  <a:pt x="51" y="677"/>
                  <a:pt x="45" y="675"/>
                </a:cubicBezTo>
                <a:cubicBezTo>
                  <a:pt x="38" y="633"/>
                  <a:pt x="50" y="684"/>
                  <a:pt x="24" y="639"/>
                </a:cubicBezTo>
                <a:cubicBezTo>
                  <a:pt x="18" y="629"/>
                  <a:pt x="14" y="603"/>
                  <a:pt x="12" y="591"/>
                </a:cubicBezTo>
                <a:cubicBezTo>
                  <a:pt x="10" y="579"/>
                  <a:pt x="8" y="567"/>
                  <a:pt x="6" y="555"/>
                </a:cubicBezTo>
                <a:cubicBezTo>
                  <a:pt x="3" y="539"/>
                  <a:pt x="0" y="507"/>
                  <a:pt x="0" y="507"/>
                </a:cubicBezTo>
                <a:cubicBezTo>
                  <a:pt x="39" y="494"/>
                  <a:pt x="54" y="509"/>
                  <a:pt x="81" y="474"/>
                </a:cubicBezTo>
                <a:cubicBezTo>
                  <a:pt x="86" y="434"/>
                  <a:pt x="78" y="408"/>
                  <a:pt x="60" y="372"/>
                </a:cubicBezTo>
                <a:cubicBezTo>
                  <a:pt x="56" y="348"/>
                  <a:pt x="47" y="317"/>
                  <a:pt x="60" y="294"/>
                </a:cubicBezTo>
                <a:cubicBezTo>
                  <a:pt x="62" y="290"/>
                  <a:pt x="112" y="274"/>
                  <a:pt x="120" y="273"/>
                </a:cubicBezTo>
                <a:cubicBezTo>
                  <a:pt x="154" y="256"/>
                  <a:pt x="191" y="244"/>
                  <a:pt x="228" y="237"/>
                </a:cubicBezTo>
                <a:cubicBezTo>
                  <a:pt x="240" y="235"/>
                  <a:pt x="252" y="233"/>
                  <a:pt x="264" y="231"/>
                </a:cubicBezTo>
                <a:cubicBezTo>
                  <a:pt x="270" y="230"/>
                  <a:pt x="282" y="228"/>
                  <a:pt x="282" y="228"/>
                </a:cubicBezTo>
                <a:cubicBezTo>
                  <a:pt x="354" y="233"/>
                  <a:pt x="355" y="234"/>
                  <a:pt x="408" y="252"/>
                </a:cubicBezTo>
                <a:cubicBezTo>
                  <a:pt x="418" y="282"/>
                  <a:pt x="441" y="308"/>
                  <a:pt x="471" y="318"/>
                </a:cubicBezTo>
                <a:cubicBezTo>
                  <a:pt x="502" y="287"/>
                  <a:pt x="501" y="276"/>
                  <a:pt x="519" y="240"/>
                </a:cubicBezTo>
                <a:cubicBezTo>
                  <a:pt x="520" y="234"/>
                  <a:pt x="520" y="228"/>
                  <a:pt x="522" y="222"/>
                </a:cubicBezTo>
                <a:cubicBezTo>
                  <a:pt x="523" y="218"/>
                  <a:pt x="527" y="214"/>
                  <a:pt x="528" y="210"/>
                </a:cubicBezTo>
                <a:cubicBezTo>
                  <a:pt x="535" y="176"/>
                  <a:pt x="531" y="128"/>
                  <a:pt x="549" y="96"/>
                </a:cubicBezTo>
                <a:cubicBezTo>
                  <a:pt x="596" y="14"/>
                  <a:pt x="726" y="14"/>
                  <a:pt x="810" y="0"/>
                </a:cubicBezTo>
                <a:cubicBezTo>
                  <a:pt x="851" y="2"/>
                  <a:pt x="881" y="1"/>
                  <a:pt x="918" y="18"/>
                </a:cubicBezTo>
                <a:cubicBezTo>
                  <a:pt x="945" y="30"/>
                  <a:pt x="975" y="41"/>
                  <a:pt x="1002" y="54"/>
                </a:cubicBezTo>
                <a:cubicBezTo>
                  <a:pt x="1068" y="84"/>
                  <a:pt x="1020" y="75"/>
                  <a:pt x="1068" y="81"/>
                </a:cubicBezTo>
                <a:cubicBezTo>
                  <a:pt x="1095" y="102"/>
                  <a:pt x="1107" y="132"/>
                  <a:pt x="1131" y="156"/>
                </a:cubicBezTo>
                <a:cubicBezTo>
                  <a:pt x="1137" y="174"/>
                  <a:pt x="1145" y="190"/>
                  <a:pt x="1152" y="207"/>
                </a:cubicBezTo>
                <a:cubicBezTo>
                  <a:pt x="1157" y="237"/>
                  <a:pt x="1166" y="267"/>
                  <a:pt x="1170" y="297"/>
                </a:cubicBezTo>
                <a:cubicBezTo>
                  <a:pt x="1172" y="313"/>
                  <a:pt x="1176" y="345"/>
                  <a:pt x="1176" y="345"/>
                </a:cubicBezTo>
                <a:cubicBezTo>
                  <a:pt x="1173" y="421"/>
                  <a:pt x="1183" y="498"/>
                  <a:pt x="1149" y="567"/>
                </a:cubicBezTo>
                <a:cubicBezTo>
                  <a:pt x="1145" y="600"/>
                  <a:pt x="1139" y="670"/>
                  <a:pt x="1125" y="699"/>
                </a:cubicBezTo>
                <a:cubicBezTo>
                  <a:pt x="1114" y="720"/>
                  <a:pt x="1100" y="733"/>
                  <a:pt x="1089" y="753"/>
                </a:cubicBezTo>
                <a:cubicBezTo>
                  <a:pt x="1063" y="798"/>
                  <a:pt x="1082" y="778"/>
                  <a:pt x="1062" y="798"/>
                </a:cubicBezTo>
                <a:cubicBezTo>
                  <a:pt x="1058" y="832"/>
                  <a:pt x="1037" y="856"/>
                  <a:pt x="1029" y="888"/>
                </a:cubicBezTo>
                <a:cubicBezTo>
                  <a:pt x="1016" y="941"/>
                  <a:pt x="1005" y="995"/>
                  <a:pt x="999" y="1050"/>
                </a:cubicBezTo>
                <a:cubicBezTo>
                  <a:pt x="1001" y="1059"/>
                  <a:pt x="998" y="1071"/>
                  <a:pt x="1005" y="1077"/>
                </a:cubicBezTo>
                <a:cubicBezTo>
                  <a:pt x="1015" y="1085"/>
                  <a:pt x="1041" y="1083"/>
                  <a:pt x="1041" y="1083"/>
                </a:cubicBezTo>
                <a:cubicBezTo>
                  <a:pt x="1056" y="1093"/>
                  <a:pt x="1068" y="1101"/>
                  <a:pt x="1086" y="1104"/>
                </a:cubicBezTo>
                <a:cubicBezTo>
                  <a:pt x="1097" y="1113"/>
                  <a:pt x="1103" y="1121"/>
                  <a:pt x="1113" y="1131"/>
                </a:cubicBezTo>
                <a:cubicBezTo>
                  <a:pt x="1127" y="1145"/>
                  <a:pt x="1148" y="1153"/>
                  <a:pt x="1164" y="1164"/>
                </a:cubicBezTo>
                <a:cubicBezTo>
                  <a:pt x="1172" y="1170"/>
                  <a:pt x="1178" y="1180"/>
                  <a:pt x="1188" y="1182"/>
                </a:cubicBezTo>
                <a:cubicBezTo>
                  <a:pt x="1202" y="1186"/>
                  <a:pt x="1216" y="1191"/>
                  <a:pt x="1230" y="1194"/>
                </a:cubicBezTo>
                <a:cubicBezTo>
                  <a:pt x="1242" y="1197"/>
                  <a:pt x="1266" y="1200"/>
                  <a:pt x="1266" y="1200"/>
                </a:cubicBezTo>
                <a:cubicBezTo>
                  <a:pt x="1298" y="1216"/>
                  <a:pt x="1319" y="1252"/>
                  <a:pt x="1353" y="1263"/>
                </a:cubicBezTo>
                <a:cubicBezTo>
                  <a:pt x="1378" y="1300"/>
                  <a:pt x="1404" y="1338"/>
                  <a:pt x="1434" y="1371"/>
                </a:cubicBezTo>
                <a:cubicBezTo>
                  <a:pt x="1453" y="1392"/>
                  <a:pt x="1474" y="1411"/>
                  <a:pt x="1491" y="1434"/>
                </a:cubicBezTo>
                <a:cubicBezTo>
                  <a:pt x="1498" y="1454"/>
                  <a:pt x="1501" y="1453"/>
                  <a:pt x="1515" y="1467"/>
                </a:cubicBezTo>
                <a:cubicBezTo>
                  <a:pt x="1520" y="1483"/>
                  <a:pt x="1516" y="1473"/>
                  <a:pt x="1530" y="1494"/>
                </a:cubicBezTo>
                <a:cubicBezTo>
                  <a:pt x="1532" y="1497"/>
                  <a:pt x="1536" y="1503"/>
                  <a:pt x="1536" y="1503"/>
                </a:cubicBezTo>
                <a:cubicBezTo>
                  <a:pt x="1525" y="1520"/>
                  <a:pt x="1494" y="1527"/>
                  <a:pt x="1476" y="1533"/>
                </a:cubicBezTo>
                <a:cubicBezTo>
                  <a:pt x="1432" y="1548"/>
                  <a:pt x="1364" y="1552"/>
                  <a:pt x="1317" y="1560"/>
                </a:cubicBezTo>
                <a:cubicBezTo>
                  <a:pt x="1292" y="1577"/>
                  <a:pt x="1262" y="1581"/>
                  <a:pt x="1233" y="1587"/>
                </a:cubicBezTo>
                <a:cubicBezTo>
                  <a:pt x="1217" y="1597"/>
                  <a:pt x="1179" y="1602"/>
                  <a:pt x="1179" y="1602"/>
                </a:cubicBezTo>
                <a:cubicBezTo>
                  <a:pt x="1164" y="1612"/>
                  <a:pt x="1148" y="1615"/>
                  <a:pt x="1131" y="1620"/>
                </a:cubicBezTo>
                <a:cubicBezTo>
                  <a:pt x="1128" y="1622"/>
                  <a:pt x="1125" y="1625"/>
                  <a:pt x="1122" y="1626"/>
                </a:cubicBezTo>
                <a:cubicBezTo>
                  <a:pt x="1113" y="1629"/>
                  <a:pt x="1103" y="1628"/>
                  <a:pt x="1095" y="1632"/>
                </a:cubicBezTo>
                <a:cubicBezTo>
                  <a:pt x="1081" y="1638"/>
                  <a:pt x="1074" y="1656"/>
                  <a:pt x="1059" y="1659"/>
                </a:cubicBezTo>
                <a:cubicBezTo>
                  <a:pt x="1037" y="1663"/>
                  <a:pt x="1015" y="1669"/>
                  <a:pt x="993" y="1674"/>
                </a:cubicBezTo>
                <a:cubicBezTo>
                  <a:pt x="991" y="1676"/>
                  <a:pt x="965" y="1693"/>
                  <a:pt x="981" y="1677"/>
                </a:cubicBezTo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 cas particulier de l’</a:t>
            </a:r>
            <a:r>
              <a:rPr b="1" i="1" lang="fr-FR" sz="2400" spc="-1" strike="noStrike">
                <a:solidFill>
                  <a:srgbClr val="006666"/>
                </a:solidFill>
                <a:latin typeface="Arial"/>
              </a:rPr>
              <a:t>Eperua falcat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Densité BF/hBF calculée à partir de :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1676520"/>
          <a:ext cx="3816360" cy="325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381636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181480" y="1828800"/>
          <a:ext cx="3505320" cy="326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828800"/>
                    <a:ext cx="350532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219320" y="5562720"/>
          <a:ext cx="7391160" cy="668160"/>
        </p:xfrm>
        <a:graphic>
          <a:graphicData uri="http://schemas.openxmlformats.org/drawingml/2006/table">
            <a:tbl>
              <a:tblPr/>
              <a:tblGrid>
                <a:gridCol w="4341600"/>
                <a:gridCol w="3049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’ensemble du bloc sud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</a:t>
                      </a:r>
                      <a:r>
                        <a:rPr b="0" lang="fr-F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 zone de reproduc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	</a:t>
                      </a:r>
                      <a:r>
                        <a:rPr b="0" lang="fr-FR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    </a:t>
                      </a:r>
                      <a:r>
                        <a:rPr b="0" lang="fr-FR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,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fr-FR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,7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analyses 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 comportement des 4 espèc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2362320"/>
            <a:ext cx="0" cy="34290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4038480"/>
            <a:ext cx="46479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364176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Arial"/>
              </a:rPr>
              <a:t>Ho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Arial"/>
              </a:rPr>
              <a:t>bas-fo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3809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Bas-fo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Arial"/>
              </a:rPr>
              <a:t>Hélioph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000" y="41911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66"/>
                </a:solidFill>
                <a:latin typeface="Times New Roman"/>
              </a:rPr>
              <a:t>Eperua falc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4206960"/>
            <a:ext cx="158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66"/>
                </a:solidFill>
                <a:latin typeface="Times New Roman"/>
              </a:rPr>
              <a:t>Eperu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66"/>
                </a:solidFill>
                <a:latin typeface="Times New Roman"/>
              </a:rPr>
              <a:t>grandiflo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60560" y="1905120"/>
            <a:ext cx="2021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66"/>
                </a:solidFill>
                <a:latin typeface="Times New Roman"/>
              </a:rPr>
              <a:t>Virola micheli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3366"/>
                </a:solidFill>
                <a:latin typeface="Times New Roman"/>
              </a:rPr>
              <a:t>héliophi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3366"/>
                </a:solidFill>
                <a:latin typeface="Times New Roman"/>
              </a:rPr>
              <a:t>tolérance bas-fon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8840" y="33526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66"/>
                </a:solidFill>
                <a:latin typeface="Times New Roman"/>
              </a:rPr>
              <a:t>Carapa proc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5880" y="594360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Sciaph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4857480" cy="6477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33520" y="13716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933"/>
                </a:solidFill>
                <a:latin typeface="Arial"/>
              </a:rPr>
              <a:t>Dynami</a:t>
            </a: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fr-FR" sz="3600" spc="-1" strike="noStrike">
                <a:solidFill>
                  <a:srgbClr val="ff9933"/>
                </a:solidFill>
                <a:latin typeface="Arial"/>
              </a:rPr>
              <a:t>e</a:t>
            </a: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400"/>
            </a:br>
            <a:r>
              <a:rPr b="1" lang="fr-FR" sz="3600" spc="-1" strike="noStrike">
                <a:solidFill>
                  <a:srgbClr val="ff9933"/>
                </a:solidFill>
                <a:latin typeface="Arial"/>
              </a:rPr>
              <a:t>Forestièr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Introduction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paramètres étudié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267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2 facteurs caractérisant le tempérament des espèces 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Les bas-fond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Arial"/>
              </a:rPr>
              <a:t>Milieu engorgé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Arial"/>
              </a:rPr>
              <a:t>Ressource hydrique en saison sèche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Arial"/>
              </a:rPr>
              <a:t>Milieu plus ouvert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La lumière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Arial"/>
              </a:rPr>
              <a:t>Notion de concurrence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Arial"/>
              </a:rPr>
              <a:t>Tolérance au manque de lumière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Plan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267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Données de base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dispositif de Paracou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omportements des 4 espèc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s inventair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s mesures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cartographie des bas-fonds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lumièr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s analyses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lumièr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répartition des juvénil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cas particulier de 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l’Eperua falcata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Données de base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 dispositif de Paracou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57800" y="1980720"/>
            <a:ext cx="3657600" cy="44960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Les 4 traitements sylvicol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90440" indent="95400" algn="just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66"/>
                </a:solidFill>
                <a:latin typeface="Arial"/>
              </a:rPr>
              <a:t>parcelle 11</a:t>
            </a: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témoin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1" marL="1904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1" marL="190440" indent="95400" algn="just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66"/>
                </a:solidFill>
                <a:latin typeface="Arial"/>
              </a:rPr>
              <a:t>parcelle 9</a:t>
            </a: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traitement T1</a:t>
            </a: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: exploitation de bois d'œuvre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1" marL="1904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1" marL="190440" indent="95400" algn="just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66"/>
                </a:solidFill>
                <a:latin typeface="Arial"/>
              </a:rPr>
              <a:t>parcelle 10</a:t>
            </a: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traitement T2</a:t>
            </a: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: exploitation de bois d'œuvre + dévitalisation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1" marL="1904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1" marL="190440" indent="95400" algn="just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66"/>
                </a:solidFill>
                <a:latin typeface="Arial"/>
              </a:rPr>
              <a:t>parcelle 12</a:t>
            </a: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traitement T3</a:t>
            </a:r>
            <a:r>
              <a:rPr b="0" lang="fr-FR" sz="1600" spc="-1" strike="noStrike">
                <a:solidFill>
                  <a:srgbClr val="006666"/>
                </a:solidFill>
                <a:latin typeface="Arial"/>
              </a:rPr>
              <a:t> : exploitation de bois d'œuvre + prélèvement pour le bois d'énergie + dévitalisation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85760" y="1695600"/>
            <a:ext cx="3748320" cy="480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76880" y="6537240"/>
            <a:ext cx="293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3366"/>
                </a:solidFill>
                <a:latin typeface="Arial"/>
              </a:rPr>
              <a:t>Jean-François Trébuchon, CIRAD FORET, 1998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71840" y="4057560"/>
            <a:ext cx="1562040" cy="1257480"/>
          </a:xfrm>
          <a:prstGeom prst="ellipse">
            <a:avLst/>
          </a:prstGeom>
          <a:noFill/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Données de base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Hypothèse du comportement des 4 espèc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2362320"/>
            <a:ext cx="0" cy="34290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038480"/>
            <a:ext cx="46479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364176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Arial"/>
              </a:rPr>
              <a:t>Ho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Arial"/>
              </a:rPr>
              <a:t>bas-fo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809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Bas-fo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Arial"/>
              </a:rPr>
              <a:t>Hélioph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61600" y="47242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66"/>
                </a:solidFill>
                <a:latin typeface="Times New Roman"/>
              </a:rPr>
              <a:t>Eperua falc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33600" y="472428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66"/>
                </a:solidFill>
                <a:latin typeface="Times New Roman"/>
              </a:rPr>
              <a:t>Eperua grandiflo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3360" y="26668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66"/>
                </a:solidFill>
                <a:latin typeface="Times New Roman"/>
              </a:rPr>
              <a:t>Virola micheli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7360" y="25909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66"/>
                </a:solidFill>
                <a:latin typeface="Times New Roman"/>
              </a:rPr>
              <a:t>Carapa proc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5880" y="594360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Sciaph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Données de base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inventai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267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Depuis 1984, un </a:t>
            </a:r>
            <a:r>
              <a:rPr b="1" lang="fr-FR" sz="2000" spc="-1" strike="noStrike">
                <a:solidFill>
                  <a:srgbClr val="006666"/>
                </a:solidFill>
                <a:latin typeface="Arial"/>
              </a:rPr>
              <a:t>inventaire de toutes les tiges de plus de       10 cm</a:t>
            </a: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 est effectué tous les deux ans pour quantifier le recrutement, l’accroissement et la mortalité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Cette année, mise en place d’un </a:t>
            </a:r>
            <a:r>
              <a:rPr b="1" lang="fr-FR" sz="2000" spc="-1" strike="noStrike">
                <a:solidFill>
                  <a:srgbClr val="006666"/>
                </a:solidFill>
                <a:latin typeface="Arial"/>
              </a:rPr>
              <a:t>inventaire complémentaire</a:t>
            </a: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 chez </a:t>
            </a:r>
            <a:r>
              <a:rPr b="1" lang="fr-FR" sz="2000" spc="-1" strike="noStrike">
                <a:solidFill>
                  <a:srgbClr val="006666"/>
                </a:solidFill>
                <a:latin typeface="Arial"/>
              </a:rPr>
              <a:t>15 espèces</a:t>
            </a:r>
            <a:r>
              <a:rPr b="0" lang="fr-FR" sz="2000" spc="-1" strike="noStrike">
                <a:solidFill>
                  <a:srgbClr val="006666"/>
                </a:solidFill>
                <a:latin typeface="Arial"/>
              </a:rPr>
              <a:t> de l’ensemble des  tiges comprise entre            1 et 10 cm. Il s’agit de l’inventaire des « </a:t>
            </a:r>
            <a:r>
              <a:rPr b="1" lang="fr-FR" sz="2000" spc="-1" strike="noStrike">
                <a:solidFill>
                  <a:srgbClr val="006666"/>
                </a:solidFill>
                <a:latin typeface="Arial"/>
              </a:rPr>
              <a:t>juvéniles »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Plan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267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Données de base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dispositif de Paracou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omportements des 4 espèc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s inventair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Les mesures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cartographie des bas-fond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lumière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s analyses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lumièr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répartition des juvénil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cas particulier de 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l’Eperua falcata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es mesures</a:t>
            </a:r>
            <a:br>
              <a:rPr sz="2400"/>
            </a:b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La cartographie des bas-fond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94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20:35:04Z</dcterms:created>
  <dc:creator>Théodore</dc:creator>
  <dc:description/>
  <dc:language>en-US</dc:language>
  <cp:lastModifiedBy>Eric Marcon</cp:lastModifiedBy>
  <dcterms:modified xsi:type="dcterms:W3CDTF">2003-10-03T17:11:53Z</dcterms:modified>
  <cp:revision>50</cp:revision>
  <dc:subject/>
  <dc:title>FTH 2003</dc:title>
</cp:coreProperties>
</file>