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18.png" ContentType="image/png"/>
  <Override PartName="/ppt/media/image16.wmf" ContentType="image/x-wmf"/>
  <Override PartName="/ppt/media/image14.jpeg" ContentType="image/jpe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A8F7-1230-4D5F-A607-5B1BA6DA16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forêt naturelle différents phases, arbres bloqué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as une forme, on a un stade de développement pour un âge don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marqueurs : une limite de pousse annuelle, si on regarde indiv dans conitions environnment différentes, on voi( que indiv qui pousse bien émet EN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nc on ne peut pas acéder à l’évolution de la forme des arbres dans le temps, de+ cohorte en milieu tempéré, en milieu tropical trop dispersé dans le temps et l’espace, idée: aproche ar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e feuille composée, ramification séquentielle, des bourgeons dans le bois… on appelle ça des re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a regardé différents critères, à partir d’une ACP: on a caractérisé ensemble des différents critères, donc on a émis hypothèses pour savoir comment se succède forme archi dans le te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indiv qui va mal, aura tout d’abord des rejets, apex meurt puis indiv me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2D5-768B-461B-BC78-F03D4A75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B482-3919-4AEF-90A0-1E76ED94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C508-06F7-4371-9E83-F17F9B1E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B80-7F9D-4432-A72C-A0A270C9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4ABF-D782-415F-A9A6-80E7191B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B7CD-032D-442A-9484-4D361956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5308-5918-43D9-BCA4-327D040D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6058-7329-4877-98E2-4B7D67FD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DE82-FF9F-41AA-BBA6-2B5B78EB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BBA-224E-4BC3-8F42-4EF6499FF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CE5-A94A-47AF-B39C-CD4CE08B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4CF-DC03-42F6-AF44-D269E19E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0301-6268-42E6-9FEA-6691B0588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87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420040" y="0"/>
            <a:ext cx="723960" cy="7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0" y="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ule FTH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33440" y="2652840"/>
            <a:ext cx="47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5080" y="504252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urence Pro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63200" y="4175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ure Barrab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69920" y="498780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tieu He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9720" y="4338360"/>
            <a:ext cx="2872800" cy="14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19" y="16587"/>
                </a:moveTo>
                <a:arcTo wR="10800" hR="10800" stAng="1944057" swAng="7283740"/>
                <a:lnTo>
                  <a:pt x="10800" y="10800"/>
                </a:lnTo>
                <a:close/>
              </a:path>
              <a:path fill="none" w="21600" h="21600">
                <a:moveTo>
                  <a:pt x="19919" y="16587"/>
                </a:moveTo>
                <a:arcTo wR="10800" hR="10800" stAng="1944057" swAng="728374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8280" y="4340160"/>
            <a:ext cx="2872440" cy="145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1006"/>
                </a:moveTo>
                <a:arcTo wR="10800" hR="10800" stAng="10734550" swAng="2936998"/>
                <a:lnTo>
                  <a:pt x="10800" y="10800"/>
                </a:lnTo>
                <a:close/>
              </a:path>
              <a:path fill="none" w="21600" h="21600">
                <a:moveTo>
                  <a:pt x="2" y="11006"/>
                </a:moveTo>
                <a:arcTo wR="10800" hR="10800" stAng="10734550" swAng="2936998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81160" y="4340880"/>
            <a:ext cx="2873160" cy="145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71" y="2637"/>
                </a:moveTo>
                <a:arcTo wR="10800" hR="10800" stAng="-2945978" swAng="3558203"/>
                <a:lnTo>
                  <a:pt x="10800" y="10800"/>
                </a:lnTo>
                <a:close/>
              </a:path>
              <a:path fill="none" w="21600" h="21600">
                <a:moveTo>
                  <a:pt x="17871" y="2637"/>
                </a:moveTo>
                <a:arcTo wR="10800" hR="10800" stAng="-2945978" swAng="3558203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520" y="6178680"/>
            <a:ext cx="52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adré par Patrick Heuret et Lilian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401760" y="577800"/>
            <a:ext cx="85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1986-198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différents degrés d’intensité d’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01760" y="1285920"/>
            <a:ext cx="850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99"/>
                </a:solidFill>
                <a:latin typeface="Times New Roman"/>
              </a:rPr>
              <a:t>2002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– localisation spatiale des individus de 15 espèces (1&lt;dbh&lt;10); dbh par classe de 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01760" y="2432160"/>
            <a:ext cx="84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20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cartographie des bas-fonds (F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01760" y="3112920"/>
            <a:ext cx="86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20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attribution d’une classe architecturale aux 89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T. melinoni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u peu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-3960" y="71280"/>
            <a:ext cx="73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MATERIEL &amp; METHOD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LE BLOC SUD DE PARACOU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4673520" y="665280"/>
            <a:ext cx="2533320" cy="1785600"/>
            <a:chOff x="4673520" y="665280"/>
            <a:chExt cx="2533320" cy="1785600"/>
          </a:xfrm>
        </p:grpSpPr>
        <p:grpSp>
          <p:nvGrpSpPr>
            <p:cNvPr id="1187" name=""/>
            <p:cNvGrpSpPr/>
            <p:nvPr/>
          </p:nvGrpSpPr>
          <p:grpSpPr>
            <a:xfrm>
              <a:off x="4673520" y="665280"/>
              <a:ext cx="1137600" cy="1785600"/>
              <a:chOff x="4673520" y="665280"/>
              <a:chExt cx="1137600" cy="1785600"/>
            </a:xfrm>
          </p:grpSpPr>
          <p:sp>
            <p:nvSpPr>
              <p:cNvPr id="1188" name=""/>
              <p:cNvSpPr/>
              <p:nvPr/>
            </p:nvSpPr>
            <p:spPr>
              <a:xfrm>
                <a:off x="4673520" y="665280"/>
                <a:ext cx="1137600" cy="1785600"/>
              </a:xfrm>
              <a:custGeom>
                <a:avLst/>
                <a:gdLst>
                  <a:gd name="textAreaLeft" fmla="*/ 55440 w 1137600"/>
                  <a:gd name="textAreaRight" fmla="*/ 1082160 w 1137600"/>
                  <a:gd name="textAreaTop" fmla="*/ 55440 h 1785600"/>
                  <a:gd name="textAreaBottom" fmla="*/ 1730160 h 1785600"/>
                </a:gdLst>
                <a:ahLst/>
                <a:rect l="textAreaLeft" t="textAreaTop" r="textAreaRight" b="textAreaBottom"/>
                <a:pathLst>
                  <a:path w="21600" h="33900">
                    <a:moveTo>
                      <a:pt x="3600" y="0"/>
                    </a:moveTo>
                    <a:arcTo wR="3600" hR="3600" stAng="16200000" swAng="-5400000"/>
                    <a:lnTo>
                      <a:pt x="0" y="30300"/>
                    </a:lnTo>
                    <a:arcTo wR="3600" hR="3600" stAng="10800000" swAng="-5400000"/>
                    <a:lnTo>
                      <a:pt x="18000" y="339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26080" y="731880"/>
                <a:ext cx="1050840" cy="1648800"/>
              </a:xfrm>
              <a:custGeom>
                <a:avLst/>
                <a:gdLst>
                  <a:gd name="textAreaLeft" fmla="*/ 51120 w 1050840"/>
                  <a:gd name="textAreaRight" fmla="*/ 999720 w 1050840"/>
                  <a:gd name="textAreaTop" fmla="*/ 51120 h 1648800"/>
                  <a:gd name="textAreaBottom" fmla="*/ 1597680 h 1648800"/>
                </a:gdLst>
                <a:ahLst/>
                <a:rect l="textAreaLeft" t="textAreaTop" r="textAreaRight" b="textAreaBottom"/>
                <a:pathLst>
                  <a:path w="21600" h="33887">
                    <a:moveTo>
                      <a:pt x="3600" y="0"/>
                    </a:moveTo>
                    <a:arcTo wR="3600" hR="3600" stAng="16200000" swAng="-5400000"/>
                    <a:lnTo>
                      <a:pt x="0" y="30287"/>
                    </a:lnTo>
                    <a:arcTo wR="3600" hR="3600" stAng="10800000" swAng="-5400000"/>
                    <a:lnTo>
                      <a:pt x="18000" y="3388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476320" y="2018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"/>
              <p:cNvGrpSpPr/>
              <p:nvPr/>
            </p:nvGrpSpPr>
            <p:grpSpPr>
              <a:xfrm>
                <a:off x="5049720" y="940680"/>
                <a:ext cx="480240" cy="1178280"/>
                <a:chOff x="5049720" y="940680"/>
                <a:chExt cx="480240" cy="117828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5243400" y="1146600"/>
                  <a:ext cx="70200" cy="72720"/>
                </a:xfrm>
                <a:custGeom>
                  <a:avLst/>
                  <a:gdLst/>
                  <a:ahLst/>
                  <a:rect l="l" t="t" r="r" b="b"/>
                  <a:pathLst>
                    <a:path w="72" h="288">
                      <a:moveTo>
                        <a:pt x="0" y="288"/>
                      </a:moveTo>
                      <a:cubicBezTo>
                        <a:pt x="24" y="255"/>
                        <a:pt x="48" y="222"/>
                        <a:pt x="60" y="174"/>
                      </a:cubicBezTo>
                      <a:cubicBezTo>
                        <a:pt x="72" y="126"/>
                        <a:pt x="72" y="63"/>
                        <a:pt x="72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5049720" y="1094400"/>
                  <a:ext cx="199800" cy="21024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cubicBezTo>
                        <a:pt x="194" y="170"/>
                        <a:pt x="180" y="148"/>
                        <a:pt x="149" y="126"/>
                      </a:cubicBezTo>
                      <a:cubicBezTo>
                        <a:pt x="118" y="104"/>
                        <a:pt x="46" y="81"/>
                        <a:pt x="23" y="60"/>
                      </a:cubicBezTo>
                      <a:cubicBezTo>
                        <a:pt x="0" y="39"/>
                        <a:pt x="5" y="19"/>
                        <a:pt x="11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5249520" y="1298880"/>
                  <a:ext cx="219960" cy="21060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H="1">
                  <a:off x="5072040" y="1337400"/>
                  <a:ext cx="171360" cy="23868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5261400" y="1791000"/>
                  <a:ext cx="80640" cy="11700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flipH="1">
                  <a:off x="5162400" y="1730160"/>
                  <a:ext cx="80640" cy="11736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259600" y="1594440"/>
                  <a:ext cx="80280" cy="14544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352480" y="1343160"/>
                  <a:ext cx="15840" cy="10332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51"/>
                      </a:moveTo>
                      <a:cubicBezTo>
                        <a:pt x="3" y="40"/>
                        <a:pt x="6" y="29"/>
                        <a:pt x="7" y="21"/>
                      </a:cubicBezTo>
                      <a:cubicBezTo>
                        <a:pt x="8" y="13"/>
                        <a:pt x="7" y="6"/>
                        <a:pt x="7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5185080" y="1444680"/>
                  <a:ext cx="3960" cy="84960"/>
                </a:xfrm>
                <a:custGeom>
                  <a:avLst/>
                  <a:gdLst/>
                  <a:ahLst/>
                  <a:rect l="l" t="t" r="r" b="b"/>
                  <a:pathLst>
                    <a:path w="2" h="42">
                      <a:moveTo>
                        <a:pt x="0" y="42"/>
                      </a:moveTo>
                      <a:cubicBezTo>
                        <a:pt x="0" y="35"/>
                        <a:pt x="0" y="28"/>
                        <a:pt x="0" y="21"/>
                      </a:cubicBezTo>
                      <a:cubicBezTo>
                        <a:pt x="0" y="14"/>
                        <a:pt x="1" y="7"/>
                        <a:pt x="2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5112360" y="1092240"/>
                  <a:ext cx="5760" cy="92880"/>
                </a:xfrm>
                <a:custGeom>
                  <a:avLst/>
                  <a:gdLst/>
                  <a:ahLst/>
                  <a:rect l="l" t="t" r="r" b="b"/>
                  <a:pathLst>
                    <a:path w="3" h="46">
                      <a:moveTo>
                        <a:pt x="3" y="46"/>
                      </a:moveTo>
                      <a:cubicBezTo>
                        <a:pt x="1" y="33"/>
                        <a:pt x="0" y="21"/>
                        <a:pt x="0" y="13"/>
                      </a:cubicBezTo>
                      <a:cubicBezTo>
                        <a:pt x="0" y="5"/>
                        <a:pt x="1" y="2"/>
                        <a:pt x="3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5233680" y="1140840"/>
                  <a:ext cx="19800" cy="978120"/>
                </a:xfrm>
                <a:custGeom>
                  <a:avLst/>
                  <a:gdLst/>
                  <a:ahLst/>
                  <a:rect l="l" t="t" r="r" b="b"/>
                  <a:pathLst>
                    <a:path w="10" h="483">
                      <a:moveTo>
                        <a:pt x="8" y="483"/>
                      </a:moveTo>
                      <a:cubicBezTo>
                        <a:pt x="8" y="361"/>
                        <a:pt x="8" y="239"/>
                        <a:pt x="8" y="168"/>
                      </a:cubicBezTo>
                      <a:cubicBezTo>
                        <a:pt x="8" y="97"/>
                        <a:pt x="10" y="82"/>
                        <a:pt x="9" y="54"/>
                      </a:cubicBezTo>
                      <a:cubicBezTo>
                        <a:pt x="8" y="26"/>
                        <a:pt x="4" y="13"/>
                        <a:pt x="0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5189040" y="940680"/>
                  <a:ext cx="41760" cy="200160"/>
                </a:xfrm>
                <a:custGeom>
                  <a:avLst/>
                  <a:gdLst/>
                  <a:ahLst/>
                  <a:rect l="l" t="t" r="r" b="b"/>
                  <a:pathLst>
                    <a:path w="21" h="99">
                      <a:moveTo>
                        <a:pt x="21" y="99"/>
                      </a:moveTo>
                      <a:cubicBezTo>
                        <a:pt x="13" y="87"/>
                        <a:pt x="6" y="76"/>
                        <a:pt x="3" y="60"/>
                      </a:cubicBezTo>
                      <a:cubicBezTo>
                        <a:pt x="0" y="44"/>
                        <a:pt x="2" y="22"/>
                        <a:pt x="5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5427000" y="1349280"/>
                  <a:ext cx="102960" cy="42480"/>
                </a:xfrm>
                <a:custGeom>
                  <a:avLst/>
                  <a:gdLst/>
                  <a:ahLst/>
                  <a:rect l="l" t="t" r="r" b="b"/>
                  <a:pathLst>
                    <a:path w="51" h="21">
                      <a:moveTo>
                        <a:pt x="0" y="21"/>
                      </a:moveTo>
                      <a:cubicBezTo>
                        <a:pt x="17" y="20"/>
                        <a:pt x="34" y="20"/>
                        <a:pt x="42" y="17"/>
                      </a:cubicBezTo>
                      <a:cubicBezTo>
                        <a:pt x="50" y="14"/>
                        <a:pt x="50" y="7"/>
                        <a:pt x="51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315760" y="982800"/>
                  <a:ext cx="2160" cy="163800"/>
                </a:xfrm>
                <a:custGeom>
                  <a:avLst/>
                  <a:gdLst/>
                  <a:ahLst/>
                  <a:rect l="l" t="t" r="r" b="b"/>
                  <a:pathLst>
                    <a:path w="1" h="81">
                      <a:moveTo>
                        <a:pt x="0" y="81"/>
                      </a:moveTo>
                      <a:cubicBezTo>
                        <a:pt x="0" y="68"/>
                        <a:pt x="1" y="55"/>
                        <a:pt x="1" y="42"/>
                      </a:cubicBezTo>
                      <a:cubicBezTo>
                        <a:pt x="1" y="29"/>
                        <a:pt x="1" y="14"/>
                        <a:pt x="1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6" name=""/>
            <p:cNvSpPr/>
            <p:nvPr/>
          </p:nvSpPr>
          <p:spPr>
            <a:xfrm>
              <a:off x="5778000" y="708120"/>
              <a:ext cx="1428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rbre mor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500040" y="4684680"/>
            <a:ext cx="3999960" cy="1655280"/>
            <a:chOff x="500040" y="4684680"/>
            <a:chExt cx="3999960" cy="1655280"/>
          </a:xfrm>
        </p:grpSpPr>
        <p:grpSp>
          <p:nvGrpSpPr>
            <p:cNvPr id="1208" name=""/>
            <p:cNvGrpSpPr/>
            <p:nvPr/>
          </p:nvGrpSpPr>
          <p:grpSpPr>
            <a:xfrm>
              <a:off x="500040" y="4691160"/>
              <a:ext cx="1056240" cy="1648800"/>
              <a:chOff x="500040" y="4691160"/>
              <a:chExt cx="1056240" cy="1648800"/>
            </a:xfrm>
          </p:grpSpPr>
          <p:sp>
            <p:nvSpPr>
              <p:cNvPr id="1209" name=""/>
              <p:cNvSpPr/>
              <p:nvPr/>
            </p:nvSpPr>
            <p:spPr>
              <a:xfrm>
                <a:off x="500040" y="4691160"/>
                <a:ext cx="1050120" cy="1648800"/>
              </a:xfrm>
              <a:custGeom>
                <a:avLst/>
                <a:gdLst>
                  <a:gd name="textAreaLeft" fmla="*/ 51120 w 1050120"/>
                  <a:gd name="textAreaRight" fmla="*/ 999000 w 1050120"/>
                  <a:gd name="textAreaTop" fmla="*/ 51120 h 1648800"/>
                  <a:gd name="textAreaBottom" fmla="*/ 1597680 h 1648800"/>
                </a:gdLst>
                <a:ahLst/>
                <a:rect l="textAreaLeft" t="textAreaTop" r="textAreaRight" b="textAreaBottom"/>
                <a:pathLst>
                  <a:path w="21600" h="33910">
                    <a:moveTo>
                      <a:pt x="3600" y="0"/>
                    </a:moveTo>
                    <a:arcTo wR="3600" hR="3600" stAng="16200000" swAng="-5400000"/>
                    <a:lnTo>
                      <a:pt x="0" y="30310"/>
                    </a:lnTo>
                    <a:arcTo wR="3600" hR="3600" stAng="10800000" swAng="-5400000"/>
                    <a:lnTo>
                      <a:pt x="18000" y="339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247400" y="59774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1" name=""/>
              <p:cNvGrpSpPr/>
              <p:nvPr/>
            </p:nvGrpSpPr>
            <p:grpSpPr>
              <a:xfrm>
                <a:off x="797400" y="4949280"/>
                <a:ext cx="482040" cy="1177560"/>
                <a:chOff x="797400" y="4949280"/>
                <a:chExt cx="482040" cy="117756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991800" y="5154840"/>
                  <a:ext cx="70560" cy="73800"/>
                </a:xfrm>
                <a:custGeom>
                  <a:avLst/>
                  <a:gdLst/>
                  <a:ahLst/>
                  <a:rect l="l" t="t" r="r" b="b"/>
                  <a:pathLst>
                    <a:path w="72" h="288">
                      <a:moveTo>
                        <a:pt x="0" y="288"/>
                      </a:moveTo>
                      <a:cubicBezTo>
                        <a:pt x="24" y="255"/>
                        <a:pt x="48" y="222"/>
                        <a:pt x="60" y="174"/>
                      </a:cubicBezTo>
                      <a:cubicBezTo>
                        <a:pt x="72" y="126"/>
                        <a:pt x="72" y="63"/>
                        <a:pt x="72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797400" y="5103360"/>
                  <a:ext cx="201240" cy="21060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cubicBezTo>
                        <a:pt x="194" y="170"/>
                        <a:pt x="180" y="148"/>
                        <a:pt x="149" y="126"/>
                      </a:cubicBezTo>
                      <a:cubicBezTo>
                        <a:pt x="118" y="104"/>
                        <a:pt x="46" y="81"/>
                        <a:pt x="23" y="60"/>
                      </a:cubicBezTo>
                      <a:cubicBezTo>
                        <a:pt x="0" y="39"/>
                        <a:pt x="5" y="19"/>
                        <a:pt x="11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998640" y="5307480"/>
                  <a:ext cx="219960" cy="21060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flipH="1">
                  <a:off x="819720" y="5346000"/>
                  <a:ext cx="172080" cy="23796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6" name=""/>
                <p:cNvGrpSpPr/>
                <p:nvPr/>
              </p:nvGrpSpPr>
              <p:grpSpPr>
                <a:xfrm>
                  <a:off x="1009800" y="5776200"/>
                  <a:ext cx="110520" cy="139680"/>
                  <a:chOff x="1009800" y="5776200"/>
                  <a:chExt cx="110520" cy="1396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1009800" y="5799240"/>
                    <a:ext cx="8136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8">
                        <a:moveTo>
                          <a:pt x="0" y="55"/>
                        </a:moveTo>
                        <a:cubicBezTo>
                          <a:pt x="6" y="56"/>
                          <a:pt x="12" y="58"/>
                          <a:pt x="16" y="49"/>
                        </a:cubicBezTo>
                        <a:cubicBezTo>
                          <a:pt x="20" y="40"/>
                          <a:pt x="22" y="20"/>
                          <a:pt x="2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 rot="894600">
                    <a:off x="1068120" y="5781240"/>
                    <a:ext cx="46800" cy="4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9" name=""/>
                <p:cNvGrpSpPr/>
                <p:nvPr/>
              </p:nvGrpSpPr>
              <p:grpSpPr>
                <a:xfrm>
                  <a:off x="880920" y="5715000"/>
                  <a:ext cx="110880" cy="140040"/>
                  <a:chOff x="880920" y="5715000"/>
                  <a:chExt cx="110880" cy="140040"/>
                </a:xfrm>
              </p:grpSpPr>
              <p:sp>
                <p:nvSpPr>
                  <p:cNvPr id="1220" name=""/>
                  <p:cNvSpPr/>
                  <p:nvPr/>
                </p:nvSpPr>
                <p:spPr>
                  <a:xfrm flipH="1">
                    <a:off x="910440" y="5738040"/>
                    <a:ext cx="8136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8">
                        <a:moveTo>
                          <a:pt x="0" y="55"/>
                        </a:moveTo>
                        <a:cubicBezTo>
                          <a:pt x="6" y="56"/>
                          <a:pt x="12" y="58"/>
                          <a:pt x="16" y="49"/>
                        </a:cubicBezTo>
                        <a:cubicBezTo>
                          <a:pt x="20" y="40"/>
                          <a:pt x="22" y="20"/>
                          <a:pt x="2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 flipH="1" rot="20705400">
                    <a:off x="885600" y="5720040"/>
                    <a:ext cx="46800" cy="46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2" name=""/>
                <p:cNvGrpSpPr/>
                <p:nvPr/>
              </p:nvGrpSpPr>
              <p:grpSpPr>
                <a:xfrm>
                  <a:off x="1008000" y="5575680"/>
                  <a:ext cx="111960" cy="171000"/>
                  <a:chOff x="1008000" y="5575680"/>
                  <a:chExt cx="111960" cy="171000"/>
                </a:xfrm>
              </p:grpSpPr>
              <p:sp>
                <p:nvSpPr>
                  <p:cNvPr id="1223" name=""/>
                  <p:cNvSpPr/>
                  <p:nvPr/>
                </p:nvSpPr>
                <p:spPr>
                  <a:xfrm>
                    <a:off x="1008000" y="5602680"/>
                    <a:ext cx="810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8">
                        <a:moveTo>
                          <a:pt x="0" y="55"/>
                        </a:moveTo>
                        <a:cubicBezTo>
                          <a:pt x="6" y="56"/>
                          <a:pt x="12" y="58"/>
                          <a:pt x="16" y="49"/>
                        </a:cubicBezTo>
                        <a:cubicBezTo>
                          <a:pt x="20" y="40"/>
                          <a:pt x="22" y="20"/>
                          <a:pt x="2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 rot="894600">
                    <a:off x="1066680" y="5580360"/>
                    <a:ext cx="46440" cy="56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5" name=""/>
                <p:cNvGrpSpPr/>
                <p:nvPr/>
              </p:nvGrpSpPr>
              <p:grpSpPr>
                <a:xfrm>
                  <a:off x="1091880" y="5329080"/>
                  <a:ext cx="48960" cy="126000"/>
                  <a:chOff x="1091880" y="5329080"/>
                  <a:chExt cx="48960" cy="12600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>
                    <a:off x="1101240" y="5352480"/>
                    <a:ext cx="158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1">
                        <a:moveTo>
                          <a:pt x="0" y="51"/>
                        </a:moveTo>
                        <a:cubicBezTo>
                          <a:pt x="3" y="40"/>
                          <a:pt x="6" y="29"/>
                          <a:pt x="7" y="21"/>
                        </a:cubicBezTo>
                        <a:cubicBezTo>
                          <a:pt x="8" y="13"/>
                          <a:pt x="7" y="6"/>
                          <a:pt x="7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rot="173400">
                    <a:off x="1092960" y="5330160"/>
                    <a:ext cx="46080" cy="56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911880" y="5427000"/>
                  <a:ext cx="48960" cy="111240"/>
                  <a:chOff x="911880" y="5427000"/>
                  <a:chExt cx="48960" cy="11124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933480" y="5452560"/>
                    <a:ext cx="39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2">
                        <a:moveTo>
                          <a:pt x="0" y="42"/>
                        </a:moveTo>
                        <a:cubicBezTo>
                          <a:pt x="0" y="35"/>
                          <a:pt x="0" y="28"/>
                          <a:pt x="0" y="21"/>
                        </a:cubicBezTo>
                        <a:cubicBezTo>
                          <a:pt x="0" y="14"/>
                          <a:pt x="1" y="7"/>
                          <a:pt x="2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rot="173400">
                    <a:off x="912960" y="5428080"/>
                    <a:ext cx="46080" cy="57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840960" y="5071680"/>
                  <a:ext cx="48960" cy="121320"/>
                  <a:chOff x="840960" y="5071680"/>
                  <a:chExt cx="48960" cy="12132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860400" y="5100840"/>
                    <a:ext cx="57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6">
                        <a:moveTo>
                          <a:pt x="3" y="46"/>
                        </a:moveTo>
                        <a:cubicBezTo>
                          <a:pt x="1" y="33"/>
                          <a:pt x="0" y="21"/>
                          <a:pt x="0" y="13"/>
                        </a:cubicBezTo>
                        <a:cubicBezTo>
                          <a:pt x="0" y="5"/>
                          <a:pt x="1" y="2"/>
                          <a:pt x="3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rot="173400">
                    <a:off x="842040" y="5072760"/>
                    <a:ext cx="46080" cy="56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4" name=""/>
                <p:cNvSpPr/>
                <p:nvPr/>
              </p:nvSpPr>
              <p:spPr>
                <a:xfrm>
                  <a:off x="982440" y="5149800"/>
                  <a:ext cx="18720" cy="977040"/>
                </a:xfrm>
                <a:custGeom>
                  <a:avLst/>
                  <a:gdLst/>
                  <a:ahLst/>
                  <a:rect l="l" t="t" r="r" b="b"/>
                  <a:pathLst>
                    <a:path w="10" h="483">
                      <a:moveTo>
                        <a:pt x="8" y="483"/>
                      </a:moveTo>
                      <a:cubicBezTo>
                        <a:pt x="8" y="361"/>
                        <a:pt x="8" y="239"/>
                        <a:pt x="8" y="168"/>
                      </a:cubicBezTo>
                      <a:cubicBezTo>
                        <a:pt x="8" y="97"/>
                        <a:pt x="10" y="82"/>
                        <a:pt x="9" y="54"/>
                      </a:cubicBezTo>
                      <a:cubicBezTo>
                        <a:pt x="8" y="26"/>
                        <a:pt x="4" y="13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937080" y="4949280"/>
                  <a:ext cx="41760" cy="200520"/>
                </a:xfrm>
                <a:custGeom>
                  <a:avLst/>
                  <a:gdLst/>
                  <a:ahLst/>
                  <a:rect l="l" t="t" r="r" b="b"/>
                  <a:pathLst>
                    <a:path w="21" h="99">
                      <a:moveTo>
                        <a:pt x="21" y="99"/>
                      </a:moveTo>
                      <a:cubicBezTo>
                        <a:pt x="13" y="87"/>
                        <a:pt x="6" y="76"/>
                        <a:pt x="3" y="60"/>
                      </a:cubicBezTo>
                      <a:cubicBezTo>
                        <a:pt x="0" y="44"/>
                        <a:pt x="2" y="22"/>
                        <a:pt x="5" y="0"/>
                      </a:cubicBez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1176840" y="5357520"/>
                  <a:ext cx="102600" cy="43200"/>
                </a:xfrm>
                <a:custGeom>
                  <a:avLst/>
                  <a:gdLst/>
                  <a:ahLst/>
                  <a:rect l="l" t="t" r="r" b="b"/>
                  <a:pathLst>
                    <a:path w="51" h="21">
                      <a:moveTo>
                        <a:pt x="0" y="21"/>
                      </a:moveTo>
                      <a:cubicBezTo>
                        <a:pt x="17" y="20"/>
                        <a:pt x="34" y="20"/>
                        <a:pt x="42" y="17"/>
                      </a:cubicBezTo>
                      <a:cubicBezTo>
                        <a:pt x="50" y="14"/>
                        <a:pt x="50" y="7"/>
                        <a:pt x="51" y="0"/>
                      </a:cubicBez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064160" y="4990680"/>
                  <a:ext cx="3240" cy="163800"/>
                </a:xfrm>
                <a:custGeom>
                  <a:avLst/>
                  <a:gdLst/>
                  <a:ahLst/>
                  <a:rect l="l" t="t" r="r" b="b"/>
                  <a:pathLst>
                    <a:path w="1" h="81">
                      <a:moveTo>
                        <a:pt x="0" y="81"/>
                      </a:moveTo>
                      <a:cubicBezTo>
                        <a:pt x="0" y="68"/>
                        <a:pt x="1" y="55"/>
                        <a:pt x="1" y="42"/>
                      </a:cubicBezTo>
                      <a:cubicBezTo>
                        <a:pt x="1" y="29"/>
                        <a:pt x="1" y="14"/>
                        <a:pt x="1" y="0"/>
                      </a:cubicBez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"/>
            <p:cNvSpPr/>
            <p:nvPr/>
          </p:nvSpPr>
          <p:spPr>
            <a:xfrm>
              <a:off x="1597320" y="4684680"/>
              <a:ext cx="290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rbre à l’apex desséch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vec de nombreux reje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482760" y="2678040"/>
            <a:ext cx="4001040" cy="1648800"/>
            <a:chOff x="482760" y="2678040"/>
            <a:chExt cx="4001040" cy="1648800"/>
          </a:xfrm>
        </p:grpSpPr>
        <p:grpSp>
          <p:nvGrpSpPr>
            <p:cNvPr id="1240" name=""/>
            <p:cNvGrpSpPr/>
            <p:nvPr/>
          </p:nvGrpSpPr>
          <p:grpSpPr>
            <a:xfrm>
              <a:off x="482760" y="2678040"/>
              <a:ext cx="1055880" cy="1648800"/>
              <a:chOff x="482760" y="2678040"/>
              <a:chExt cx="1055880" cy="1648800"/>
            </a:xfrm>
          </p:grpSpPr>
          <p:sp>
            <p:nvSpPr>
              <p:cNvPr id="1241" name=""/>
              <p:cNvSpPr/>
              <p:nvPr/>
            </p:nvSpPr>
            <p:spPr>
              <a:xfrm>
                <a:off x="482760" y="2678040"/>
                <a:ext cx="1051200" cy="1648800"/>
              </a:xfrm>
              <a:custGeom>
                <a:avLst/>
                <a:gdLst>
                  <a:gd name="textAreaLeft" fmla="*/ 51120 w 1051200"/>
                  <a:gd name="textAreaRight" fmla="*/ 1000080 w 1051200"/>
                  <a:gd name="textAreaTop" fmla="*/ 51120 h 1648800"/>
                  <a:gd name="textAreaBottom" fmla="*/ 1597680 h 1648800"/>
                </a:gdLst>
                <a:ahLst/>
                <a:rect l="textAreaLeft" t="textAreaTop" r="textAreaRight" b="textAreaBottom"/>
                <a:pathLst>
                  <a:path w="21600" h="33875">
                    <a:moveTo>
                      <a:pt x="3600" y="0"/>
                    </a:moveTo>
                    <a:arcTo wR="3600" hR="3600" stAng="16200000" swAng="-5400000"/>
                    <a:lnTo>
                      <a:pt x="0" y="30275"/>
                    </a:lnTo>
                    <a:arcTo wR="3600" hR="3600" stAng="10800000" swAng="-5400000"/>
                    <a:lnTo>
                      <a:pt x="18000" y="3387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229760" y="39643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817920" y="2908800"/>
                <a:ext cx="582480" cy="1224360"/>
                <a:chOff x="817920" y="2908800"/>
                <a:chExt cx="582480" cy="122436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931680" y="2948760"/>
                  <a:ext cx="96120" cy="1184400"/>
                </a:xfrm>
                <a:custGeom>
                  <a:avLst/>
                  <a:gdLst/>
                  <a:ahLst/>
                  <a:rect l="l" t="t" r="r" b="b"/>
                  <a:pathLst>
                    <a:path w="99" h="1074">
                      <a:moveTo>
                        <a:pt x="90" y="1074"/>
                      </a:moveTo>
                      <a:cubicBezTo>
                        <a:pt x="90" y="948"/>
                        <a:pt x="91" y="823"/>
                        <a:pt x="90" y="684"/>
                      </a:cubicBezTo>
                      <a:cubicBezTo>
                        <a:pt x="89" y="545"/>
                        <a:pt x="99" y="354"/>
                        <a:pt x="84" y="240"/>
                      </a:cubicBezTo>
                      <a:cubicBezTo>
                        <a:pt x="69" y="126"/>
                        <a:pt x="34" y="63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012320" y="2908800"/>
                  <a:ext cx="70560" cy="317880"/>
                </a:xfrm>
                <a:custGeom>
                  <a:avLst/>
                  <a:gdLst/>
                  <a:ahLst/>
                  <a:rect l="l" t="t" r="r" b="b"/>
                  <a:pathLst>
                    <a:path w="72" h="288">
                      <a:moveTo>
                        <a:pt x="0" y="288"/>
                      </a:moveTo>
                      <a:cubicBezTo>
                        <a:pt x="24" y="255"/>
                        <a:pt x="48" y="222"/>
                        <a:pt x="60" y="174"/>
                      </a:cubicBezTo>
                      <a:cubicBezTo>
                        <a:pt x="72" y="126"/>
                        <a:pt x="72" y="63"/>
                        <a:pt x="72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978120" y="2922840"/>
                  <a:ext cx="23760" cy="151200"/>
                </a:xfrm>
                <a:custGeom>
                  <a:avLst/>
                  <a:gdLst/>
                  <a:ahLst/>
                  <a:rect l="l" t="t" r="r" b="b"/>
                  <a:pathLst>
                    <a:path w="24" h="138">
                      <a:moveTo>
                        <a:pt x="0" y="138"/>
                      </a:moveTo>
                      <a:cubicBezTo>
                        <a:pt x="0" y="138"/>
                        <a:pt x="12" y="69"/>
                        <a:pt x="24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17920" y="3101400"/>
                  <a:ext cx="200880" cy="21060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cubicBezTo>
                        <a:pt x="194" y="170"/>
                        <a:pt x="180" y="148"/>
                        <a:pt x="149" y="126"/>
                      </a:cubicBezTo>
                      <a:cubicBezTo>
                        <a:pt x="118" y="104"/>
                        <a:pt x="46" y="81"/>
                        <a:pt x="23" y="60"/>
                      </a:cubicBezTo>
                      <a:cubicBezTo>
                        <a:pt x="0" y="39"/>
                        <a:pt x="5" y="19"/>
                        <a:pt x="11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1018800" y="3305520"/>
                  <a:ext cx="219600" cy="21060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204560" y="3305520"/>
                  <a:ext cx="155520" cy="99360"/>
                </a:xfrm>
                <a:custGeom>
                  <a:avLst/>
                  <a:gdLst/>
                  <a:ahLst/>
                  <a:rect l="l" t="t" r="r" b="b"/>
                  <a:pathLst>
                    <a:path w="162" h="90">
                      <a:moveTo>
                        <a:pt x="0" y="72"/>
                      </a:moveTo>
                      <a:cubicBezTo>
                        <a:pt x="25" y="81"/>
                        <a:pt x="51" y="90"/>
                        <a:pt x="78" y="78"/>
                      </a:cubicBezTo>
                      <a:cubicBezTo>
                        <a:pt x="105" y="66"/>
                        <a:pt x="133" y="33"/>
                        <a:pt x="162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1325160" y="3358440"/>
                  <a:ext cx="75240" cy="5040"/>
                </a:xfrm>
                <a:custGeom>
                  <a:avLst/>
                  <a:gdLst/>
                  <a:ahLst/>
                  <a:rect l="l" t="t" r="r" b="b"/>
                  <a:pathLst>
                    <a:path w="78" h="4">
                      <a:moveTo>
                        <a:pt x="0" y="0"/>
                      </a:moveTo>
                      <a:cubicBezTo>
                        <a:pt x="30" y="2"/>
                        <a:pt x="61" y="4"/>
                        <a:pt x="7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>
                  <a:off x="839520" y="3344040"/>
                  <a:ext cx="171720" cy="23940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2" name=""/>
                <p:cNvGrpSpPr/>
                <p:nvPr/>
              </p:nvGrpSpPr>
              <p:grpSpPr>
                <a:xfrm>
                  <a:off x="1029600" y="3774240"/>
                  <a:ext cx="110880" cy="141480"/>
                  <a:chOff x="1029600" y="3774240"/>
                  <a:chExt cx="110880" cy="14148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1029600" y="3797640"/>
                    <a:ext cx="813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8">
                        <a:moveTo>
                          <a:pt x="0" y="55"/>
                        </a:moveTo>
                        <a:cubicBezTo>
                          <a:pt x="6" y="56"/>
                          <a:pt x="12" y="58"/>
                          <a:pt x="16" y="49"/>
                        </a:cubicBezTo>
                        <a:cubicBezTo>
                          <a:pt x="20" y="40"/>
                          <a:pt x="22" y="20"/>
                          <a:pt x="2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 rot="894600">
                    <a:off x="1088280" y="3779280"/>
                    <a:ext cx="46800" cy="46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901440" y="3714840"/>
                  <a:ext cx="110520" cy="139680"/>
                  <a:chOff x="901440" y="3714840"/>
                  <a:chExt cx="110520" cy="13968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 flipH="1">
                    <a:off x="930600" y="3737880"/>
                    <a:ext cx="8136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8">
                        <a:moveTo>
                          <a:pt x="0" y="55"/>
                        </a:moveTo>
                        <a:cubicBezTo>
                          <a:pt x="6" y="56"/>
                          <a:pt x="12" y="58"/>
                          <a:pt x="16" y="49"/>
                        </a:cubicBezTo>
                        <a:cubicBezTo>
                          <a:pt x="20" y="40"/>
                          <a:pt x="22" y="20"/>
                          <a:pt x="2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 flipH="1" rot="20705400">
                    <a:off x="906120" y="3719880"/>
                    <a:ext cx="46800" cy="4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8" name=""/>
                <p:cNvGrpSpPr/>
                <p:nvPr/>
              </p:nvGrpSpPr>
              <p:grpSpPr>
                <a:xfrm>
                  <a:off x="1028160" y="3575520"/>
                  <a:ext cx="111960" cy="171720"/>
                  <a:chOff x="1028160" y="3575520"/>
                  <a:chExt cx="111960" cy="17172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1028160" y="3602880"/>
                    <a:ext cx="81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8">
                        <a:moveTo>
                          <a:pt x="0" y="55"/>
                        </a:moveTo>
                        <a:cubicBezTo>
                          <a:pt x="6" y="56"/>
                          <a:pt x="12" y="58"/>
                          <a:pt x="16" y="49"/>
                        </a:cubicBezTo>
                        <a:cubicBezTo>
                          <a:pt x="20" y="40"/>
                          <a:pt x="22" y="20"/>
                          <a:pt x="2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 rot="894600">
                    <a:off x="1086840" y="3580200"/>
                    <a:ext cx="46440" cy="56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1112040" y="3327120"/>
                  <a:ext cx="48960" cy="126000"/>
                  <a:chOff x="1112040" y="3327120"/>
                  <a:chExt cx="48960" cy="12600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1121400" y="3350520"/>
                    <a:ext cx="158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1">
                        <a:moveTo>
                          <a:pt x="0" y="51"/>
                        </a:moveTo>
                        <a:cubicBezTo>
                          <a:pt x="3" y="40"/>
                          <a:pt x="6" y="29"/>
                          <a:pt x="7" y="21"/>
                        </a:cubicBezTo>
                        <a:cubicBezTo>
                          <a:pt x="8" y="13"/>
                          <a:pt x="7" y="6"/>
                          <a:pt x="7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 rot="173400">
                    <a:off x="1113120" y="3328200"/>
                    <a:ext cx="46080" cy="56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932040" y="3426480"/>
                  <a:ext cx="48960" cy="109800"/>
                  <a:chOff x="932040" y="3426480"/>
                  <a:chExt cx="48960" cy="10980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953640" y="3451680"/>
                    <a:ext cx="396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2">
                        <a:moveTo>
                          <a:pt x="0" y="42"/>
                        </a:moveTo>
                        <a:cubicBezTo>
                          <a:pt x="0" y="35"/>
                          <a:pt x="0" y="28"/>
                          <a:pt x="0" y="21"/>
                        </a:cubicBezTo>
                        <a:cubicBezTo>
                          <a:pt x="0" y="14"/>
                          <a:pt x="1" y="7"/>
                          <a:pt x="2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 rot="173400">
                    <a:off x="933120" y="3427560"/>
                    <a:ext cx="46080" cy="56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7" name=""/>
                <p:cNvGrpSpPr/>
                <p:nvPr/>
              </p:nvGrpSpPr>
              <p:grpSpPr>
                <a:xfrm>
                  <a:off x="861480" y="3069720"/>
                  <a:ext cx="48960" cy="122760"/>
                  <a:chOff x="861480" y="3069720"/>
                  <a:chExt cx="48960" cy="12276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880920" y="3099240"/>
                    <a:ext cx="576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6">
                        <a:moveTo>
                          <a:pt x="3" y="46"/>
                        </a:moveTo>
                        <a:cubicBezTo>
                          <a:pt x="1" y="33"/>
                          <a:pt x="0" y="21"/>
                          <a:pt x="0" y="13"/>
                        </a:cubicBezTo>
                        <a:cubicBezTo>
                          <a:pt x="0" y="5"/>
                          <a:pt x="1" y="2"/>
                          <a:pt x="3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 rot="173400">
                    <a:off x="862560" y="3070800"/>
                    <a:ext cx="46080" cy="56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70" name=""/>
            <p:cNvSpPr/>
            <p:nvPr/>
          </p:nvSpPr>
          <p:spPr>
            <a:xfrm>
              <a:off x="1581120" y="2771640"/>
              <a:ext cx="290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rbre à l’apex viab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vec de nombreux reje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482760" y="631800"/>
            <a:ext cx="3629520" cy="1687320"/>
            <a:chOff x="482760" y="631800"/>
            <a:chExt cx="3629520" cy="1687320"/>
          </a:xfrm>
        </p:grpSpPr>
        <p:grpSp>
          <p:nvGrpSpPr>
            <p:cNvPr id="1272" name=""/>
            <p:cNvGrpSpPr/>
            <p:nvPr/>
          </p:nvGrpSpPr>
          <p:grpSpPr>
            <a:xfrm>
              <a:off x="482760" y="671760"/>
              <a:ext cx="1054800" cy="1647360"/>
              <a:chOff x="482760" y="671760"/>
              <a:chExt cx="1054800" cy="1647360"/>
            </a:xfrm>
          </p:grpSpPr>
          <p:sp>
            <p:nvSpPr>
              <p:cNvPr id="1273" name=""/>
              <p:cNvSpPr/>
              <p:nvPr/>
            </p:nvSpPr>
            <p:spPr>
              <a:xfrm>
                <a:off x="482760" y="671760"/>
                <a:ext cx="1048680" cy="1647360"/>
              </a:xfrm>
              <a:custGeom>
                <a:avLst/>
                <a:gdLst>
                  <a:gd name="textAreaLeft" fmla="*/ 51120 w 1048680"/>
                  <a:gd name="textAreaRight" fmla="*/ 997560 w 1048680"/>
                  <a:gd name="textAreaTop" fmla="*/ 51120 h 1647360"/>
                  <a:gd name="textAreaBottom" fmla="*/ 1596240 h 1647360"/>
                </a:gdLst>
                <a:ahLst/>
                <a:rect l="textAreaLeft" t="textAreaTop" r="textAreaRight" b="textAreaBottom"/>
                <a:pathLst>
                  <a:path w="21600" h="33927">
                    <a:moveTo>
                      <a:pt x="3600" y="0"/>
                    </a:moveTo>
                    <a:arcTo wR="3600" hR="3600" stAng="16200000" swAng="-5400000"/>
                    <a:lnTo>
                      <a:pt x="0" y="30327"/>
                    </a:lnTo>
                    <a:arcTo wR="3600" hR="3600" stAng="10800000" swAng="-5400000"/>
                    <a:lnTo>
                      <a:pt x="18000" y="3392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228680" y="19580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648000" y="1015560"/>
                <a:ext cx="696240" cy="1224360"/>
                <a:chOff x="648000" y="1015560"/>
                <a:chExt cx="696240" cy="12243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874440" y="1055160"/>
                  <a:ext cx="95760" cy="1184760"/>
                </a:xfrm>
                <a:custGeom>
                  <a:avLst/>
                  <a:gdLst/>
                  <a:ahLst/>
                  <a:rect l="l" t="t" r="r" b="b"/>
                  <a:pathLst>
                    <a:path w="99" h="1074">
                      <a:moveTo>
                        <a:pt x="90" y="1074"/>
                      </a:moveTo>
                      <a:cubicBezTo>
                        <a:pt x="90" y="948"/>
                        <a:pt x="91" y="823"/>
                        <a:pt x="90" y="684"/>
                      </a:cubicBezTo>
                      <a:cubicBezTo>
                        <a:pt x="89" y="545"/>
                        <a:pt x="99" y="354"/>
                        <a:pt x="84" y="240"/>
                      </a:cubicBezTo>
                      <a:cubicBezTo>
                        <a:pt x="69" y="126"/>
                        <a:pt x="34" y="63"/>
                        <a:pt x="0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955800" y="1015560"/>
                  <a:ext cx="69480" cy="317520"/>
                </a:xfrm>
                <a:custGeom>
                  <a:avLst/>
                  <a:gdLst/>
                  <a:ahLst/>
                  <a:rect l="l" t="t" r="r" b="b"/>
                  <a:pathLst>
                    <a:path w="72" h="288">
                      <a:moveTo>
                        <a:pt x="0" y="288"/>
                      </a:moveTo>
                      <a:cubicBezTo>
                        <a:pt x="24" y="255"/>
                        <a:pt x="48" y="222"/>
                        <a:pt x="60" y="174"/>
                      </a:cubicBezTo>
                      <a:cubicBezTo>
                        <a:pt x="72" y="126"/>
                        <a:pt x="72" y="63"/>
                        <a:pt x="72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920880" y="1028520"/>
                  <a:ext cx="23040" cy="152280"/>
                </a:xfrm>
                <a:custGeom>
                  <a:avLst/>
                  <a:gdLst/>
                  <a:ahLst/>
                  <a:rect l="l" t="t" r="r" b="b"/>
                  <a:pathLst>
                    <a:path w="24" h="138">
                      <a:moveTo>
                        <a:pt x="0" y="138"/>
                      </a:moveTo>
                      <a:cubicBezTo>
                        <a:pt x="0" y="138"/>
                        <a:pt x="12" y="69"/>
                        <a:pt x="24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759240" y="1207440"/>
                  <a:ext cx="201960" cy="21168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cubicBezTo>
                        <a:pt x="194" y="170"/>
                        <a:pt x="180" y="148"/>
                        <a:pt x="149" y="126"/>
                      </a:cubicBezTo>
                      <a:cubicBezTo>
                        <a:pt x="118" y="104"/>
                        <a:pt x="46" y="81"/>
                        <a:pt x="23" y="60"/>
                      </a:cubicBezTo>
                      <a:cubicBezTo>
                        <a:pt x="0" y="39"/>
                        <a:pt x="5" y="19"/>
                        <a:pt x="11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961560" y="1412640"/>
                  <a:ext cx="220320" cy="21168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1147320" y="1412640"/>
                  <a:ext cx="156600" cy="99000"/>
                </a:xfrm>
                <a:custGeom>
                  <a:avLst/>
                  <a:gdLst/>
                  <a:ahLst/>
                  <a:rect l="l" t="t" r="r" b="b"/>
                  <a:pathLst>
                    <a:path w="162" h="90">
                      <a:moveTo>
                        <a:pt x="0" y="72"/>
                      </a:moveTo>
                      <a:cubicBezTo>
                        <a:pt x="25" y="81"/>
                        <a:pt x="51" y="90"/>
                        <a:pt x="78" y="78"/>
                      </a:cubicBezTo>
                      <a:cubicBezTo>
                        <a:pt x="105" y="66"/>
                        <a:pt x="133" y="33"/>
                        <a:pt x="162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1269000" y="1465560"/>
                  <a:ext cx="75240" cy="4320"/>
                </a:xfrm>
                <a:custGeom>
                  <a:avLst/>
                  <a:gdLst/>
                  <a:ahLst/>
                  <a:rect l="l" t="t" r="r" b="b"/>
                  <a:pathLst>
                    <a:path w="78" h="4">
                      <a:moveTo>
                        <a:pt x="0" y="0"/>
                      </a:moveTo>
                      <a:cubicBezTo>
                        <a:pt x="30" y="2"/>
                        <a:pt x="61" y="4"/>
                        <a:pt x="7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>
                  <a:off x="780840" y="1452600"/>
                  <a:ext cx="173880" cy="23796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>
                  <a:off x="685080" y="1445760"/>
                  <a:ext cx="123480" cy="105840"/>
                </a:xfrm>
                <a:custGeom>
                  <a:avLst/>
                  <a:gdLst/>
                  <a:ahLst/>
                  <a:rect l="l" t="t" r="r" b="b"/>
                  <a:pathLst>
                    <a:path w="162" h="90">
                      <a:moveTo>
                        <a:pt x="0" y="72"/>
                      </a:moveTo>
                      <a:cubicBezTo>
                        <a:pt x="25" y="81"/>
                        <a:pt x="51" y="90"/>
                        <a:pt x="78" y="78"/>
                      </a:cubicBezTo>
                      <a:cubicBezTo>
                        <a:pt x="105" y="66"/>
                        <a:pt x="133" y="33"/>
                        <a:pt x="162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647640" y="1484280"/>
                  <a:ext cx="58680" cy="5400"/>
                </a:xfrm>
                <a:custGeom>
                  <a:avLst/>
                  <a:gdLst/>
                  <a:ahLst/>
                  <a:rect l="l" t="t" r="r" b="b"/>
                  <a:pathLst>
                    <a:path w="78" h="4">
                      <a:moveTo>
                        <a:pt x="0" y="0"/>
                      </a:moveTo>
                      <a:cubicBezTo>
                        <a:pt x="30" y="2"/>
                        <a:pt x="61" y="4"/>
                        <a:pt x="7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6" name=""/>
            <p:cNvSpPr/>
            <p:nvPr/>
          </p:nvSpPr>
          <p:spPr>
            <a:xfrm>
              <a:off x="1566360" y="631800"/>
              <a:ext cx="254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rbre à l’apex viab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sans reje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4662360" y="2668680"/>
            <a:ext cx="4454640" cy="1812600"/>
            <a:chOff x="4662360" y="2668680"/>
            <a:chExt cx="4454640" cy="1812600"/>
          </a:xfrm>
        </p:grpSpPr>
        <p:grpSp>
          <p:nvGrpSpPr>
            <p:cNvPr id="1288" name=""/>
            <p:cNvGrpSpPr/>
            <p:nvPr/>
          </p:nvGrpSpPr>
          <p:grpSpPr>
            <a:xfrm>
              <a:off x="4662360" y="2668680"/>
              <a:ext cx="1049040" cy="1648800"/>
              <a:chOff x="4662360" y="2668680"/>
              <a:chExt cx="1049040" cy="1648800"/>
            </a:xfrm>
          </p:grpSpPr>
          <p:sp>
            <p:nvSpPr>
              <p:cNvPr id="1289" name=""/>
              <p:cNvSpPr/>
              <p:nvPr/>
            </p:nvSpPr>
            <p:spPr>
              <a:xfrm>
                <a:off x="4662360" y="2668680"/>
                <a:ext cx="1049040" cy="1648800"/>
              </a:xfrm>
              <a:custGeom>
                <a:avLst/>
                <a:gdLst>
                  <a:gd name="textAreaLeft" fmla="*/ 51120 w 1049040"/>
                  <a:gd name="textAreaRight" fmla="*/ 997920 w 1049040"/>
                  <a:gd name="textAreaTop" fmla="*/ 51120 h 1648800"/>
                  <a:gd name="textAreaBottom" fmla="*/ 1597680 h 1648800"/>
                </a:gdLst>
                <a:ahLst/>
                <a:rect l="textAreaLeft" t="textAreaTop" r="textAreaRight" b="textAreaBottom"/>
                <a:pathLst>
                  <a:path w="21600" h="33945">
                    <a:moveTo>
                      <a:pt x="3600" y="0"/>
                    </a:moveTo>
                    <a:arcTo wR="3600" hR="3600" stAng="16200000" swAng="-5400000"/>
                    <a:lnTo>
                      <a:pt x="0" y="30345"/>
                    </a:lnTo>
                    <a:arcTo wR="3600" hR="3600" stAng="10800000" swAng="-5400000"/>
                    <a:lnTo>
                      <a:pt x="18000" y="339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403600" y="39549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1" name=""/>
              <p:cNvGrpSpPr/>
              <p:nvPr/>
            </p:nvGrpSpPr>
            <p:grpSpPr>
              <a:xfrm>
                <a:off x="4854960" y="2702880"/>
                <a:ext cx="775800" cy="1526760"/>
                <a:chOff x="4854960" y="2702880"/>
                <a:chExt cx="775800" cy="152676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5095080" y="2725200"/>
                  <a:ext cx="97920" cy="1504440"/>
                </a:xfrm>
                <a:custGeom>
                  <a:avLst/>
                  <a:gdLst/>
                  <a:ahLst/>
                  <a:rect l="l" t="t" r="r" b="b"/>
                  <a:pathLst>
                    <a:path w="99" h="1074">
                      <a:moveTo>
                        <a:pt x="90" y="1074"/>
                      </a:moveTo>
                      <a:cubicBezTo>
                        <a:pt x="90" y="948"/>
                        <a:pt x="91" y="823"/>
                        <a:pt x="90" y="684"/>
                      </a:cubicBezTo>
                      <a:cubicBezTo>
                        <a:pt x="89" y="545"/>
                        <a:pt x="99" y="354"/>
                        <a:pt x="84" y="240"/>
                      </a:cubicBezTo>
                      <a:cubicBezTo>
                        <a:pt x="69" y="126"/>
                        <a:pt x="34" y="63"/>
                        <a:pt x="0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180400" y="2702880"/>
                  <a:ext cx="70560" cy="318240"/>
                </a:xfrm>
                <a:custGeom>
                  <a:avLst/>
                  <a:gdLst/>
                  <a:ahLst/>
                  <a:rect l="l" t="t" r="r" b="b"/>
                  <a:pathLst>
                    <a:path w="72" h="288">
                      <a:moveTo>
                        <a:pt x="0" y="288"/>
                      </a:moveTo>
                      <a:cubicBezTo>
                        <a:pt x="24" y="255"/>
                        <a:pt x="48" y="222"/>
                        <a:pt x="60" y="174"/>
                      </a:cubicBezTo>
                      <a:cubicBezTo>
                        <a:pt x="72" y="126"/>
                        <a:pt x="72" y="63"/>
                        <a:pt x="72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149800" y="2735280"/>
                  <a:ext cx="23760" cy="152280"/>
                </a:xfrm>
                <a:custGeom>
                  <a:avLst/>
                  <a:gdLst/>
                  <a:ahLst/>
                  <a:rect l="l" t="t" r="r" b="b"/>
                  <a:pathLst>
                    <a:path w="24" h="138">
                      <a:moveTo>
                        <a:pt x="0" y="138"/>
                      </a:moveTo>
                      <a:cubicBezTo>
                        <a:pt x="0" y="138"/>
                        <a:pt x="12" y="69"/>
                        <a:pt x="24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rot="604800">
                  <a:off x="4935600" y="2760120"/>
                  <a:ext cx="278280" cy="36900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cubicBezTo>
                        <a:pt x="194" y="170"/>
                        <a:pt x="180" y="148"/>
                        <a:pt x="149" y="126"/>
                      </a:cubicBezTo>
                      <a:cubicBezTo>
                        <a:pt x="118" y="104"/>
                        <a:pt x="46" y="81"/>
                        <a:pt x="23" y="60"/>
                      </a:cubicBezTo>
                      <a:cubicBezTo>
                        <a:pt x="0" y="39"/>
                        <a:pt x="5" y="19"/>
                        <a:pt x="11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rot="20728200">
                  <a:off x="5151240" y="2926080"/>
                  <a:ext cx="294120" cy="21024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rot="20728200">
                  <a:off x="5380920" y="2874240"/>
                  <a:ext cx="205560" cy="99720"/>
                </a:xfrm>
                <a:custGeom>
                  <a:avLst/>
                  <a:gdLst/>
                  <a:ahLst/>
                  <a:rect l="l" t="t" r="r" b="b"/>
                  <a:pathLst>
                    <a:path w="162" h="90">
                      <a:moveTo>
                        <a:pt x="0" y="72"/>
                      </a:moveTo>
                      <a:cubicBezTo>
                        <a:pt x="25" y="81"/>
                        <a:pt x="51" y="90"/>
                        <a:pt x="78" y="78"/>
                      </a:cubicBezTo>
                      <a:cubicBezTo>
                        <a:pt x="105" y="66"/>
                        <a:pt x="133" y="33"/>
                        <a:pt x="162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rot="20728200">
                  <a:off x="5532120" y="2901960"/>
                  <a:ext cx="99720" cy="3240"/>
                </a:xfrm>
                <a:custGeom>
                  <a:avLst/>
                  <a:gdLst/>
                  <a:ahLst/>
                  <a:rect l="l" t="t" r="r" b="b"/>
                  <a:pathLst>
                    <a:path w="78" h="4">
                      <a:moveTo>
                        <a:pt x="0" y="0"/>
                      </a:moveTo>
                      <a:cubicBezTo>
                        <a:pt x="30" y="2"/>
                        <a:pt x="61" y="4"/>
                        <a:pt x="78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>
                  <a:off x="5006520" y="3072240"/>
                  <a:ext cx="172080" cy="23724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H="1">
                  <a:off x="4940280" y="3133080"/>
                  <a:ext cx="123480" cy="104400"/>
                </a:xfrm>
                <a:custGeom>
                  <a:avLst/>
                  <a:gdLst/>
                  <a:ahLst/>
                  <a:rect l="l" t="t" r="r" b="b"/>
                  <a:pathLst>
                    <a:path w="162" h="90">
                      <a:moveTo>
                        <a:pt x="0" y="72"/>
                      </a:moveTo>
                      <a:cubicBezTo>
                        <a:pt x="25" y="81"/>
                        <a:pt x="51" y="90"/>
                        <a:pt x="78" y="78"/>
                      </a:cubicBezTo>
                      <a:cubicBezTo>
                        <a:pt x="105" y="66"/>
                        <a:pt x="133" y="33"/>
                        <a:pt x="162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H="1">
                  <a:off x="4901400" y="3170160"/>
                  <a:ext cx="59400" cy="6120"/>
                </a:xfrm>
                <a:custGeom>
                  <a:avLst/>
                  <a:gdLst/>
                  <a:ahLst/>
                  <a:rect l="l" t="t" r="r" b="b"/>
                  <a:pathLst>
                    <a:path w="78" h="4">
                      <a:moveTo>
                        <a:pt x="0" y="0"/>
                      </a:moveTo>
                      <a:cubicBezTo>
                        <a:pt x="30" y="2"/>
                        <a:pt x="61" y="4"/>
                        <a:pt x="78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2" name=""/>
                <p:cNvGrpSpPr/>
                <p:nvPr/>
              </p:nvGrpSpPr>
              <p:grpSpPr>
                <a:xfrm>
                  <a:off x="4854960" y="2850120"/>
                  <a:ext cx="258480" cy="147960"/>
                  <a:chOff x="4854960" y="2850120"/>
                  <a:chExt cx="258480" cy="14796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 flipH="1" rot="871800">
                    <a:off x="4897800" y="2874240"/>
                    <a:ext cx="20628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90">
                        <a:moveTo>
                          <a:pt x="0" y="72"/>
                        </a:moveTo>
                        <a:cubicBezTo>
                          <a:pt x="25" y="81"/>
                          <a:pt x="51" y="90"/>
                          <a:pt x="78" y="78"/>
                        </a:cubicBezTo>
                        <a:cubicBezTo>
                          <a:pt x="105" y="66"/>
                          <a:pt x="133" y="33"/>
                          <a:pt x="162" y="0"/>
                        </a:cubicBezTo>
                      </a:path>
                    </a:pathLst>
                  </a:custGeom>
                  <a:noFill/>
                  <a:ln w="1584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flipH="1" rot="871800">
                    <a:off x="4853160" y="2900880"/>
                    <a:ext cx="990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">
                        <a:moveTo>
                          <a:pt x="0" y="0"/>
                        </a:moveTo>
                        <a:cubicBezTo>
                          <a:pt x="30" y="2"/>
                          <a:pt x="61" y="4"/>
                          <a:pt x="78" y="0"/>
                        </a:cubicBezTo>
                      </a:path>
                    </a:pathLst>
                  </a:custGeom>
                  <a:noFill/>
                  <a:ln w="1584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05" name=""/>
              <p:cNvSpPr/>
              <p:nvPr/>
            </p:nvSpPr>
            <p:spPr>
              <a:xfrm>
                <a:off x="4663800" y="2971440"/>
                <a:ext cx="1047600" cy="172440"/>
              </a:xfrm>
              <a:custGeom>
                <a:avLst/>
                <a:gdLst/>
                <a:ahLst/>
                <a:rect l="l" t="t" r="r" b="b"/>
                <a:pathLst>
                  <a:path w="517" h="86">
                    <a:moveTo>
                      <a:pt x="0" y="86"/>
                    </a:moveTo>
                    <a:cubicBezTo>
                      <a:pt x="5" y="78"/>
                      <a:pt x="11" y="71"/>
                      <a:pt x="18" y="65"/>
                    </a:cubicBezTo>
                    <a:cubicBezTo>
                      <a:pt x="25" y="59"/>
                      <a:pt x="36" y="53"/>
                      <a:pt x="43" y="49"/>
                    </a:cubicBezTo>
                    <a:cubicBezTo>
                      <a:pt x="50" y="45"/>
                      <a:pt x="57" y="44"/>
                      <a:pt x="64" y="43"/>
                    </a:cubicBezTo>
                    <a:cubicBezTo>
                      <a:pt x="71" y="42"/>
                      <a:pt x="83" y="45"/>
                      <a:pt x="87" y="43"/>
                    </a:cubicBezTo>
                    <a:cubicBezTo>
                      <a:pt x="91" y="41"/>
                      <a:pt x="87" y="37"/>
                      <a:pt x="91" y="32"/>
                    </a:cubicBezTo>
                    <a:cubicBezTo>
                      <a:pt x="95" y="27"/>
                      <a:pt x="104" y="18"/>
                      <a:pt x="111" y="13"/>
                    </a:cubicBezTo>
                    <a:cubicBezTo>
                      <a:pt x="118" y="8"/>
                      <a:pt x="127" y="2"/>
                      <a:pt x="136" y="1"/>
                    </a:cubicBezTo>
                    <a:cubicBezTo>
                      <a:pt x="145" y="0"/>
                      <a:pt x="157" y="1"/>
                      <a:pt x="165" y="4"/>
                    </a:cubicBezTo>
                    <a:cubicBezTo>
                      <a:pt x="173" y="7"/>
                      <a:pt x="181" y="15"/>
                      <a:pt x="187" y="20"/>
                    </a:cubicBezTo>
                    <a:cubicBezTo>
                      <a:pt x="193" y="25"/>
                      <a:pt x="194" y="31"/>
                      <a:pt x="199" y="31"/>
                    </a:cubicBezTo>
                    <a:cubicBezTo>
                      <a:pt x="204" y="31"/>
                      <a:pt x="212" y="25"/>
                      <a:pt x="220" y="23"/>
                    </a:cubicBezTo>
                    <a:cubicBezTo>
                      <a:pt x="228" y="21"/>
                      <a:pt x="238" y="18"/>
                      <a:pt x="247" y="19"/>
                    </a:cubicBezTo>
                    <a:cubicBezTo>
                      <a:pt x="256" y="20"/>
                      <a:pt x="270" y="27"/>
                      <a:pt x="277" y="31"/>
                    </a:cubicBezTo>
                    <a:cubicBezTo>
                      <a:pt x="284" y="35"/>
                      <a:pt x="287" y="38"/>
                      <a:pt x="291" y="41"/>
                    </a:cubicBezTo>
                    <a:cubicBezTo>
                      <a:pt x="295" y="44"/>
                      <a:pt x="296" y="50"/>
                      <a:pt x="300" y="50"/>
                    </a:cubicBezTo>
                    <a:cubicBezTo>
                      <a:pt x="304" y="50"/>
                      <a:pt x="307" y="44"/>
                      <a:pt x="313" y="41"/>
                    </a:cubicBezTo>
                    <a:cubicBezTo>
                      <a:pt x="319" y="38"/>
                      <a:pt x="328" y="34"/>
                      <a:pt x="336" y="34"/>
                    </a:cubicBezTo>
                    <a:cubicBezTo>
                      <a:pt x="344" y="34"/>
                      <a:pt x="356" y="38"/>
                      <a:pt x="363" y="41"/>
                    </a:cubicBezTo>
                    <a:cubicBezTo>
                      <a:pt x="370" y="44"/>
                      <a:pt x="374" y="51"/>
                      <a:pt x="379" y="52"/>
                    </a:cubicBezTo>
                    <a:cubicBezTo>
                      <a:pt x="384" y="53"/>
                      <a:pt x="388" y="51"/>
                      <a:pt x="394" y="46"/>
                    </a:cubicBezTo>
                    <a:cubicBezTo>
                      <a:pt x="400" y="41"/>
                      <a:pt x="407" y="30"/>
                      <a:pt x="415" y="25"/>
                    </a:cubicBezTo>
                    <a:cubicBezTo>
                      <a:pt x="423" y="20"/>
                      <a:pt x="435" y="18"/>
                      <a:pt x="444" y="17"/>
                    </a:cubicBezTo>
                    <a:cubicBezTo>
                      <a:pt x="453" y="16"/>
                      <a:pt x="463" y="15"/>
                      <a:pt x="472" y="17"/>
                    </a:cubicBezTo>
                    <a:cubicBezTo>
                      <a:pt x="481" y="19"/>
                      <a:pt x="488" y="24"/>
                      <a:pt x="496" y="29"/>
                    </a:cubicBezTo>
                    <a:cubicBezTo>
                      <a:pt x="504" y="34"/>
                      <a:pt x="510" y="40"/>
                      <a:pt x="517" y="47"/>
                    </a:cubicBezTo>
                  </a:path>
                </a:pathLst>
              </a:custGeom>
              <a:noFill/>
              <a:ln w="22320">
                <a:solidFill>
                  <a:srgbClr val="99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6" name=""/>
            <p:cNvSpPr/>
            <p:nvPr/>
          </p:nvSpPr>
          <p:spPr>
            <a:xfrm>
              <a:off x="5743440" y="2711520"/>
              <a:ext cx="337356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rbre à l’apex viab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sans rejet ayant percé la canopée ou ayant un espace ouvert de plus de 6 m au dessus de leur couronn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"/>
          <p:cNvSpPr/>
          <p:nvPr/>
        </p:nvSpPr>
        <p:spPr>
          <a:xfrm>
            <a:off x="4428720" y="6431040"/>
            <a:ext cx="47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us les arbres sont ramifiés (de dia &gt; 1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-2880" y="71280"/>
            <a:ext cx="84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MATERIEL &amp; METHOD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DEFINITION DES CLASSES ARCHITECTURALE EN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401760" y="577800"/>
            <a:ext cx="85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1986-198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différents degrés d’intensité d’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01760" y="1285920"/>
            <a:ext cx="850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99"/>
                </a:solidFill>
                <a:latin typeface="Times New Roman"/>
              </a:rPr>
              <a:t>2002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– localisation spatiale des individus de 15 espèces (1&lt;dbh&lt;10); dbh par classe de 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01760" y="2432160"/>
            <a:ext cx="84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20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cartographie des bas-fonds (F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01760" y="3112920"/>
            <a:ext cx="86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20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attribution d’une classe architecturale aux 89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T. melinoni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u peu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01760" y="4211640"/>
            <a:ext cx="875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99"/>
                </a:solidFill>
                <a:latin typeface="Times New Roman"/>
              </a:rPr>
              <a:t>2004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 – attribution d’une classe architecturale à 732 individus. Mesure du dbh à 20 cm, 1m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2511360" y="5223960"/>
            <a:ext cx="4003920" cy="1374480"/>
            <a:chOff x="2511360" y="5223960"/>
            <a:chExt cx="4003920" cy="1374480"/>
          </a:xfrm>
        </p:grpSpPr>
        <p:sp>
          <p:nvSpPr>
            <p:cNvPr id="1317" name=""/>
            <p:cNvSpPr/>
            <p:nvPr/>
          </p:nvSpPr>
          <p:spPr>
            <a:xfrm>
              <a:off x="5416560" y="5227560"/>
              <a:ext cx="866880" cy="1362240"/>
            </a:xfrm>
            <a:custGeom>
              <a:avLst/>
              <a:gdLst>
                <a:gd name="textAreaLeft" fmla="*/ 42120 w 866880"/>
                <a:gd name="textAreaRight" fmla="*/ 824760 w 866880"/>
                <a:gd name="textAreaTop" fmla="*/ 42120 h 1362240"/>
                <a:gd name="textAreaBottom" fmla="*/ 1320120 h 1362240"/>
              </a:gdLst>
              <a:ahLst/>
              <a:rect l="textAreaLeft" t="textAreaTop" r="textAreaRight" b="textAreaBottom"/>
              <a:pathLst>
                <a:path w="21600" h="33938">
                  <a:moveTo>
                    <a:pt x="3600" y="0"/>
                  </a:moveTo>
                  <a:arcTo wR="3600" hR="3600" stAng="16200000" swAng="-5400000"/>
                  <a:lnTo>
                    <a:pt x="0" y="30338"/>
                  </a:lnTo>
                  <a:arcTo wR="3600" hR="3600" stAng="10800000" swAng="-5400000"/>
                  <a:lnTo>
                    <a:pt x="18000" y="33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029640" y="62913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75480" y="5275440"/>
              <a:ext cx="80640" cy="1242720"/>
            </a:xfrm>
            <a:custGeom>
              <a:avLst/>
              <a:gdLst/>
              <a:ahLst/>
              <a:rect l="l" t="t" r="r" b="b"/>
              <a:pathLst>
                <a:path w="99" h="1074">
                  <a:moveTo>
                    <a:pt x="90" y="1074"/>
                  </a:moveTo>
                  <a:cubicBezTo>
                    <a:pt x="90" y="948"/>
                    <a:pt x="91" y="823"/>
                    <a:pt x="90" y="684"/>
                  </a:cubicBezTo>
                  <a:cubicBezTo>
                    <a:pt x="89" y="545"/>
                    <a:pt x="99" y="354"/>
                    <a:pt x="84" y="240"/>
                  </a:cubicBezTo>
                  <a:cubicBezTo>
                    <a:pt x="69" y="126"/>
                    <a:pt x="34" y="63"/>
                    <a:pt x="0" y="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845320" y="5256360"/>
              <a:ext cx="58680" cy="263520"/>
            </a:xfrm>
            <a:custGeom>
              <a:avLst/>
              <a:gdLst/>
              <a:ahLst/>
              <a:rect l="l" t="t" r="r" b="b"/>
              <a:pathLst>
                <a:path w="72" h="288">
                  <a:moveTo>
                    <a:pt x="0" y="288"/>
                  </a:moveTo>
                  <a:cubicBezTo>
                    <a:pt x="24" y="255"/>
                    <a:pt x="48" y="222"/>
                    <a:pt x="60" y="174"/>
                  </a:cubicBezTo>
                  <a:cubicBezTo>
                    <a:pt x="72" y="126"/>
                    <a:pt x="72" y="63"/>
                    <a:pt x="72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819760" y="5283360"/>
              <a:ext cx="20520" cy="125280"/>
            </a:xfrm>
            <a:custGeom>
              <a:avLst/>
              <a:gdLst/>
              <a:ahLst/>
              <a:rect l="l" t="t" r="r" b="b"/>
              <a:pathLst>
                <a:path w="24" h="138">
                  <a:moveTo>
                    <a:pt x="0" y="138"/>
                  </a:moveTo>
                  <a:cubicBezTo>
                    <a:pt x="0" y="138"/>
                    <a:pt x="12" y="69"/>
                    <a:pt x="24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604800">
              <a:off x="5643360" y="5303880"/>
              <a:ext cx="228600" cy="304920"/>
            </a:xfrm>
            <a:custGeom>
              <a:avLst/>
              <a:gdLst/>
              <a:ahLst/>
              <a:rect l="l" t="t" r="r" b="b"/>
              <a:pathLst>
                <a:path w="209" h="192">
                  <a:moveTo>
                    <a:pt x="209" y="192"/>
                  </a:moveTo>
                  <a:cubicBezTo>
                    <a:pt x="194" y="170"/>
                    <a:pt x="180" y="148"/>
                    <a:pt x="149" y="126"/>
                  </a:cubicBezTo>
                  <a:cubicBezTo>
                    <a:pt x="118" y="104"/>
                    <a:pt x="46" y="81"/>
                    <a:pt x="23" y="60"/>
                  </a:cubicBezTo>
                  <a:cubicBezTo>
                    <a:pt x="0" y="39"/>
                    <a:pt x="5" y="19"/>
                    <a:pt x="11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20728200">
              <a:off x="5821200" y="5439960"/>
              <a:ext cx="243000" cy="174600"/>
            </a:xfrm>
            <a:custGeom>
              <a:avLst/>
              <a:gdLst/>
              <a:ahLst/>
              <a:rect l="l" t="t" r="r" b="b"/>
              <a:pathLst>
                <a:path w="228" h="192">
                  <a:moveTo>
                    <a:pt x="0" y="192"/>
                  </a:moveTo>
                  <a:cubicBezTo>
                    <a:pt x="53" y="172"/>
                    <a:pt x="106" y="152"/>
                    <a:pt x="144" y="120"/>
                  </a:cubicBezTo>
                  <a:cubicBezTo>
                    <a:pt x="182" y="88"/>
                    <a:pt x="205" y="44"/>
                    <a:pt x="228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20728200">
              <a:off x="6010200" y="5397120"/>
              <a:ext cx="171360" cy="8244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0" y="72"/>
                  </a:moveTo>
                  <a:cubicBezTo>
                    <a:pt x="25" y="81"/>
                    <a:pt x="51" y="90"/>
                    <a:pt x="78" y="78"/>
                  </a:cubicBezTo>
                  <a:cubicBezTo>
                    <a:pt x="105" y="66"/>
                    <a:pt x="133" y="33"/>
                    <a:pt x="162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20728200">
              <a:off x="6135480" y="5421240"/>
              <a:ext cx="82440" cy="1800"/>
            </a:xfrm>
            <a:custGeom>
              <a:avLst/>
              <a:gdLst/>
              <a:ahLst/>
              <a:rect l="l" t="t" r="r" b="b"/>
              <a:pathLst>
                <a:path w="78" h="4">
                  <a:moveTo>
                    <a:pt x="0" y="0"/>
                  </a:moveTo>
                  <a:cubicBezTo>
                    <a:pt x="30" y="2"/>
                    <a:pt x="61" y="4"/>
                    <a:pt x="78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5699880" y="5560920"/>
              <a:ext cx="142920" cy="196920"/>
            </a:xfrm>
            <a:custGeom>
              <a:avLst/>
              <a:gdLst/>
              <a:ahLst/>
              <a:rect l="l" t="t" r="r" b="b"/>
              <a:pathLst>
                <a:path w="228" h="192">
                  <a:moveTo>
                    <a:pt x="0" y="192"/>
                  </a:moveTo>
                  <a:cubicBezTo>
                    <a:pt x="53" y="172"/>
                    <a:pt x="106" y="152"/>
                    <a:pt x="144" y="120"/>
                  </a:cubicBezTo>
                  <a:cubicBezTo>
                    <a:pt x="182" y="88"/>
                    <a:pt x="205" y="44"/>
                    <a:pt x="228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5645880" y="5611680"/>
              <a:ext cx="103320" cy="8568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0" y="72"/>
                  </a:moveTo>
                  <a:cubicBezTo>
                    <a:pt x="25" y="81"/>
                    <a:pt x="51" y="90"/>
                    <a:pt x="78" y="78"/>
                  </a:cubicBezTo>
                  <a:cubicBezTo>
                    <a:pt x="105" y="66"/>
                    <a:pt x="133" y="33"/>
                    <a:pt x="162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5614200" y="5641920"/>
              <a:ext cx="49320" cy="6480"/>
            </a:xfrm>
            <a:custGeom>
              <a:avLst/>
              <a:gdLst/>
              <a:ahLst/>
              <a:rect l="l" t="t" r="r" b="b"/>
              <a:pathLst>
                <a:path w="78" h="4">
                  <a:moveTo>
                    <a:pt x="0" y="0"/>
                  </a:moveTo>
                  <a:cubicBezTo>
                    <a:pt x="30" y="2"/>
                    <a:pt x="61" y="4"/>
                    <a:pt x="78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9" name=""/>
            <p:cNvGrpSpPr/>
            <p:nvPr/>
          </p:nvGrpSpPr>
          <p:grpSpPr>
            <a:xfrm>
              <a:off x="5576400" y="5377320"/>
              <a:ext cx="214560" cy="122400"/>
              <a:chOff x="5576400" y="5377320"/>
              <a:chExt cx="214560" cy="122400"/>
            </a:xfrm>
          </p:grpSpPr>
          <p:sp>
            <p:nvSpPr>
              <p:cNvPr id="1330" name=""/>
              <p:cNvSpPr/>
              <p:nvPr/>
            </p:nvSpPr>
            <p:spPr>
              <a:xfrm flipH="1" rot="871800">
                <a:off x="5611680" y="5397120"/>
                <a:ext cx="171000" cy="8208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0" y="72"/>
                    </a:moveTo>
                    <a:cubicBezTo>
                      <a:pt x="25" y="81"/>
                      <a:pt x="51" y="90"/>
                      <a:pt x="78" y="78"/>
                    </a:cubicBezTo>
                    <a:cubicBezTo>
                      <a:pt x="105" y="66"/>
                      <a:pt x="133" y="33"/>
                      <a:pt x="162" y="0"/>
                    </a:cubicBezTo>
                  </a:path>
                </a:pathLst>
              </a:custGeom>
              <a:noFill/>
              <a:ln w="158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 rot="871800">
                <a:off x="5574960" y="5419440"/>
                <a:ext cx="82080" cy="3240"/>
              </a:xfrm>
              <a:custGeom>
                <a:avLst/>
                <a:gdLst/>
                <a:ahLst/>
                <a:rect l="l" t="t" r="r" b="b"/>
                <a:pathLst>
                  <a:path w="78" h="4">
                    <a:moveTo>
                      <a:pt x="0" y="0"/>
                    </a:moveTo>
                    <a:cubicBezTo>
                      <a:pt x="30" y="2"/>
                      <a:pt x="61" y="4"/>
                      <a:pt x="78" y="0"/>
                    </a:cubicBezTo>
                  </a:path>
                </a:pathLst>
              </a:custGeom>
              <a:noFill/>
              <a:ln w="158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5418000" y="5477040"/>
              <a:ext cx="865440" cy="144360"/>
            </a:xfrm>
            <a:custGeom>
              <a:avLst/>
              <a:gdLst/>
              <a:ahLst/>
              <a:rect l="l" t="t" r="r" b="b"/>
              <a:pathLst>
                <a:path w="517" h="86">
                  <a:moveTo>
                    <a:pt x="0" y="86"/>
                  </a:moveTo>
                  <a:cubicBezTo>
                    <a:pt x="5" y="78"/>
                    <a:pt x="11" y="71"/>
                    <a:pt x="18" y="65"/>
                  </a:cubicBezTo>
                  <a:cubicBezTo>
                    <a:pt x="25" y="59"/>
                    <a:pt x="36" y="53"/>
                    <a:pt x="43" y="49"/>
                  </a:cubicBezTo>
                  <a:cubicBezTo>
                    <a:pt x="50" y="45"/>
                    <a:pt x="57" y="44"/>
                    <a:pt x="64" y="43"/>
                  </a:cubicBezTo>
                  <a:cubicBezTo>
                    <a:pt x="71" y="42"/>
                    <a:pt x="83" y="45"/>
                    <a:pt x="87" y="43"/>
                  </a:cubicBezTo>
                  <a:cubicBezTo>
                    <a:pt x="91" y="41"/>
                    <a:pt x="87" y="37"/>
                    <a:pt x="91" y="32"/>
                  </a:cubicBezTo>
                  <a:cubicBezTo>
                    <a:pt x="95" y="27"/>
                    <a:pt x="104" y="18"/>
                    <a:pt x="111" y="13"/>
                  </a:cubicBezTo>
                  <a:cubicBezTo>
                    <a:pt x="118" y="8"/>
                    <a:pt x="127" y="2"/>
                    <a:pt x="136" y="1"/>
                  </a:cubicBezTo>
                  <a:cubicBezTo>
                    <a:pt x="145" y="0"/>
                    <a:pt x="157" y="1"/>
                    <a:pt x="165" y="4"/>
                  </a:cubicBezTo>
                  <a:cubicBezTo>
                    <a:pt x="173" y="7"/>
                    <a:pt x="181" y="15"/>
                    <a:pt x="187" y="20"/>
                  </a:cubicBezTo>
                  <a:cubicBezTo>
                    <a:pt x="193" y="25"/>
                    <a:pt x="194" y="31"/>
                    <a:pt x="199" y="31"/>
                  </a:cubicBezTo>
                  <a:cubicBezTo>
                    <a:pt x="204" y="31"/>
                    <a:pt x="212" y="25"/>
                    <a:pt x="220" y="23"/>
                  </a:cubicBezTo>
                  <a:cubicBezTo>
                    <a:pt x="228" y="21"/>
                    <a:pt x="238" y="18"/>
                    <a:pt x="247" y="19"/>
                  </a:cubicBezTo>
                  <a:cubicBezTo>
                    <a:pt x="256" y="20"/>
                    <a:pt x="270" y="27"/>
                    <a:pt x="277" y="31"/>
                  </a:cubicBezTo>
                  <a:cubicBezTo>
                    <a:pt x="284" y="35"/>
                    <a:pt x="287" y="38"/>
                    <a:pt x="291" y="41"/>
                  </a:cubicBezTo>
                  <a:cubicBezTo>
                    <a:pt x="295" y="44"/>
                    <a:pt x="296" y="50"/>
                    <a:pt x="300" y="50"/>
                  </a:cubicBezTo>
                  <a:cubicBezTo>
                    <a:pt x="304" y="50"/>
                    <a:pt x="307" y="44"/>
                    <a:pt x="313" y="41"/>
                  </a:cubicBezTo>
                  <a:cubicBezTo>
                    <a:pt x="319" y="38"/>
                    <a:pt x="328" y="34"/>
                    <a:pt x="336" y="34"/>
                  </a:cubicBezTo>
                  <a:cubicBezTo>
                    <a:pt x="344" y="34"/>
                    <a:pt x="356" y="38"/>
                    <a:pt x="363" y="41"/>
                  </a:cubicBezTo>
                  <a:cubicBezTo>
                    <a:pt x="370" y="44"/>
                    <a:pt x="374" y="51"/>
                    <a:pt x="379" y="52"/>
                  </a:cubicBezTo>
                  <a:cubicBezTo>
                    <a:pt x="384" y="53"/>
                    <a:pt x="388" y="51"/>
                    <a:pt x="394" y="46"/>
                  </a:cubicBezTo>
                  <a:cubicBezTo>
                    <a:pt x="400" y="41"/>
                    <a:pt x="407" y="30"/>
                    <a:pt x="415" y="25"/>
                  </a:cubicBezTo>
                  <a:cubicBezTo>
                    <a:pt x="423" y="20"/>
                    <a:pt x="435" y="18"/>
                    <a:pt x="444" y="17"/>
                  </a:cubicBezTo>
                  <a:cubicBezTo>
                    <a:pt x="453" y="16"/>
                    <a:pt x="463" y="15"/>
                    <a:pt x="472" y="17"/>
                  </a:cubicBezTo>
                  <a:cubicBezTo>
                    <a:pt x="481" y="19"/>
                    <a:pt x="488" y="24"/>
                    <a:pt x="496" y="29"/>
                  </a:cubicBezTo>
                  <a:cubicBezTo>
                    <a:pt x="504" y="34"/>
                    <a:pt x="510" y="40"/>
                    <a:pt x="517" y="47"/>
                  </a:cubicBezTo>
                </a:path>
              </a:pathLst>
            </a:custGeom>
            <a:noFill/>
            <a:ln w="22320">
              <a:solidFill>
                <a:srgbClr val="99cc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5195880" y="5223960"/>
              <a:ext cx="1319400" cy="13194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226120" y="5253120"/>
              <a:ext cx="1260360" cy="12603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468680" y="5400720"/>
              <a:ext cx="625680" cy="982440"/>
            </a:xfrm>
            <a:custGeom>
              <a:avLst/>
              <a:gdLst>
                <a:gd name="textAreaLeft" fmla="*/ 30240 w 625680"/>
                <a:gd name="textAreaRight" fmla="*/ 595440 w 625680"/>
                <a:gd name="textAreaTop" fmla="*/ 30240 h 982440"/>
                <a:gd name="textAreaBottom" fmla="*/ 952200 h 982440"/>
              </a:gdLst>
              <a:ahLst/>
              <a:rect l="textAreaLeft" t="textAreaTop" r="textAreaRight" b="textAreaBottom"/>
              <a:pathLst>
                <a:path w="21600" h="33909">
                  <a:moveTo>
                    <a:pt x="3600" y="0"/>
                  </a:moveTo>
                  <a:arcTo wR="3600" hR="3600" stAng="16200000" swAng="-5400000"/>
                  <a:lnTo>
                    <a:pt x="0" y="30309"/>
                  </a:lnTo>
                  <a:arcTo wR="3600" hR="3600" stAng="10800000" swAng="-5400000"/>
                  <a:lnTo>
                    <a:pt x="18000" y="33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497480" y="5437080"/>
              <a:ext cx="577800" cy="90828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908280"/>
                <a:gd name="textAreaBottom" fmla="*/ 880200 h 908280"/>
              </a:gdLst>
              <a:ahLst/>
              <a:rect l="textAreaLeft" t="textAreaTop" r="textAreaRight" b="textAreaBottom"/>
              <a:pathLst>
                <a:path w="21600" h="33947">
                  <a:moveTo>
                    <a:pt x="3600" y="0"/>
                  </a:moveTo>
                  <a:arcTo wR="3600" hR="3600" stAng="16200000" swAng="-5400000"/>
                  <a:lnTo>
                    <a:pt x="0" y="30347"/>
                  </a:lnTo>
                  <a:arcTo wR="3600" hR="3600" stAng="10800000" swAng="-5400000"/>
                  <a:lnTo>
                    <a:pt x="18000" y="339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838760" y="60879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4675320" y="5551560"/>
              <a:ext cx="264600" cy="648720"/>
              <a:chOff x="4675320" y="5551560"/>
              <a:chExt cx="264600" cy="648720"/>
            </a:xfrm>
          </p:grpSpPr>
          <p:sp>
            <p:nvSpPr>
              <p:cNvPr id="1339" name=""/>
              <p:cNvSpPr/>
              <p:nvPr/>
            </p:nvSpPr>
            <p:spPr>
              <a:xfrm>
                <a:off x="4782240" y="5664960"/>
                <a:ext cx="38520" cy="39960"/>
              </a:xfrm>
              <a:custGeom>
                <a:avLst/>
                <a:gdLst/>
                <a:ahLst/>
                <a:rect l="l" t="t" r="r" b="b"/>
                <a:pathLst>
                  <a:path w="72" h="288">
                    <a:moveTo>
                      <a:pt x="0" y="288"/>
                    </a:moveTo>
                    <a:cubicBezTo>
                      <a:pt x="24" y="255"/>
                      <a:pt x="48" y="222"/>
                      <a:pt x="60" y="174"/>
                    </a:cubicBezTo>
                    <a:cubicBezTo>
                      <a:pt x="72" y="126"/>
                      <a:pt x="72" y="63"/>
                      <a:pt x="72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675320" y="5636160"/>
                <a:ext cx="110160" cy="115560"/>
              </a:xfrm>
              <a:custGeom>
                <a:avLst/>
                <a:gdLst/>
                <a:ahLst/>
                <a:rect l="l" t="t" r="r" b="b"/>
                <a:pathLst>
                  <a:path w="209" h="192">
                    <a:moveTo>
                      <a:pt x="209" y="192"/>
                    </a:moveTo>
                    <a:cubicBezTo>
                      <a:pt x="194" y="170"/>
                      <a:pt x="180" y="148"/>
                      <a:pt x="149" y="126"/>
                    </a:cubicBezTo>
                    <a:cubicBezTo>
                      <a:pt x="118" y="104"/>
                      <a:pt x="46" y="81"/>
                      <a:pt x="23" y="60"/>
                    </a:cubicBezTo>
                    <a:cubicBezTo>
                      <a:pt x="0" y="39"/>
                      <a:pt x="5" y="19"/>
                      <a:pt x="11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785480" y="5748840"/>
                <a:ext cx="121320" cy="11592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4687560" y="5770080"/>
                <a:ext cx="94320" cy="13140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791960" y="6019920"/>
                <a:ext cx="44640" cy="6444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0" y="55"/>
                    </a:moveTo>
                    <a:cubicBezTo>
                      <a:pt x="6" y="56"/>
                      <a:pt x="12" y="58"/>
                      <a:pt x="16" y="49"/>
                    </a:cubicBezTo>
                    <a:cubicBezTo>
                      <a:pt x="20" y="40"/>
                      <a:pt x="22" y="20"/>
                      <a:pt x="2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4737600" y="5986440"/>
                <a:ext cx="44640" cy="6444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0" y="55"/>
                    </a:moveTo>
                    <a:cubicBezTo>
                      <a:pt x="6" y="56"/>
                      <a:pt x="12" y="58"/>
                      <a:pt x="16" y="49"/>
                    </a:cubicBezTo>
                    <a:cubicBezTo>
                      <a:pt x="20" y="40"/>
                      <a:pt x="22" y="20"/>
                      <a:pt x="2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790880" y="5911560"/>
                <a:ext cx="44280" cy="7992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0" y="55"/>
                    </a:moveTo>
                    <a:cubicBezTo>
                      <a:pt x="6" y="56"/>
                      <a:pt x="12" y="58"/>
                      <a:pt x="16" y="49"/>
                    </a:cubicBezTo>
                    <a:cubicBezTo>
                      <a:pt x="20" y="40"/>
                      <a:pt x="22" y="20"/>
                      <a:pt x="2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842360" y="5773320"/>
                <a:ext cx="8640" cy="5688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0" y="51"/>
                    </a:moveTo>
                    <a:cubicBezTo>
                      <a:pt x="3" y="40"/>
                      <a:pt x="6" y="29"/>
                      <a:pt x="7" y="21"/>
                    </a:cubicBezTo>
                    <a:cubicBezTo>
                      <a:pt x="8" y="13"/>
                      <a:pt x="7" y="6"/>
                      <a:pt x="7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749840" y="5829120"/>
                <a:ext cx="2160" cy="468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42"/>
                    </a:moveTo>
                    <a:cubicBezTo>
                      <a:pt x="0" y="35"/>
                      <a:pt x="0" y="28"/>
                      <a:pt x="0" y="21"/>
                    </a:cubicBezTo>
                    <a:cubicBezTo>
                      <a:pt x="0" y="14"/>
                      <a:pt x="1" y="7"/>
                      <a:pt x="2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709880" y="5634720"/>
                <a:ext cx="3240" cy="5112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3" y="46"/>
                    </a:moveTo>
                    <a:cubicBezTo>
                      <a:pt x="1" y="33"/>
                      <a:pt x="0" y="21"/>
                      <a:pt x="0" y="13"/>
                    </a:cubicBezTo>
                    <a:cubicBezTo>
                      <a:pt x="0" y="5"/>
                      <a:pt x="1" y="2"/>
                      <a:pt x="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776480" y="5661720"/>
                <a:ext cx="10800" cy="538560"/>
              </a:xfrm>
              <a:custGeom>
                <a:avLst/>
                <a:gdLst/>
                <a:ahLst/>
                <a:rect l="l" t="t" r="r" b="b"/>
                <a:pathLst>
                  <a:path w="10" h="483">
                    <a:moveTo>
                      <a:pt x="8" y="483"/>
                    </a:moveTo>
                    <a:cubicBezTo>
                      <a:pt x="8" y="361"/>
                      <a:pt x="8" y="239"/>
                      <a:pt x="8" y="168"/>
                    </a:cubicBezTo>
                    <a:cubicBezTo>
                      <a:pt x="8" y="97"/>
                      <a:pt x="10" y="82"/>
                      <a:pt x="9" y="54"/>
                    </a:cubicBezTo>
                    <a:cubicBezTo>
                      <a:pt x="8" y="26"/>
                      <a:pt x="4" y="13"/>
                      <a:pt x="0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752000" y="5551560"/>
                <a:ext cx="23040" cy="110160"/>
              </a:xfrm>
              <a:custGeom>
                <a:avLst/>
                <a:gdLst/>
                <a:ahLst/>
                <a:rect l="l" t="t" r="r" b="b"/>
                <a:pathLst>
                  <a:path w="21" h="99">
                    <a:moveTo>
                      <a:pt x="21" y="99"/>
                    </a:moveTo>
                    <a:cubicBezTo>
                      <a:pt x="13" y="87"/>
                      <a:pt x="6" y="76"/>
                      <a:pt x="3" y="60"/>
                    </a:cubicBezTo>
                    <a:cubicBezTo>
                      <a:pt x="0" y="44"/>
                      <a:pt x="2" y="22"/>
                      <a:pt x="5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883400" y="5776560"/>
                <a:ext cx="56520" cy="2340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0" y="21"/>
                    </a:moveTo>
                    <a:cubicBezTo>
                      <a:pt x="17" y="20"/>
                      <a:pt x="34" y="20"/>
                      <a:pt x="42" y="17"/>
                    </a:cubicBezTo>
                    <a:cubicBezTo>
                      <a:pt x="50" y="14"/>
                      <a:pt x="50" y="7"/>
                      <a:pt x="51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22200" y="5574600"/>
                <a:ext cx="1080" cy="90000"/>
              </a:xfrm>
              <a:custGeom>
                <a:avLst/>
                <a:gdLst/>
                <a:ahLst/>
                <a:rect l="l" t="t" r="r" b="b"/>
                <a:pathLst>
                  <a:path w="1" h="81">
                    <a:moveTo>
                      <a:pt x="0" y="81"/>
                    </a:moveTo>
                    <a:cubicBezTo>
                      <a:pt x="0" y="68"/>
                      <a:pt x="1" y="55"/>
                      <a:pt x="1" y="42"/>
                    </a:cubicBezTo>
                    <a:cubicBezTo>
                      <a:pt x="1" y="29"/>
                      <a:pt x="1" y="14"/>
                      <a:pt x="1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3807000" y="5443560"/>
              <a:ext cx="579240" cy="907920"/>
            </a:xfrm>
            <a:custGeom>
              <a:avLst/>
              <a:gdLst>
                <a:gd name="textAreaLeft" fmla="*/ 28080 w 579240"/>
                <a:gd name="textAreaRight" fmla="*/ 551160 w 579240"/>
                <a:gd name="textAreaTop" fmla="*/ 28080 h 907920"/>
                <a:gd name="textAreaBottom" fmla="*/ 879840 h 907920"/>
              </a:gdLst>
              <a:ahLst/>
              <a:rect l="textAreaLeft" t="textAreaTop" r="textAreaRight" b="textAreaBottom"/>
              <a:pathLst>
                <a:path w="21600" h="33849">
                  <a:moveTo>
                    <a:pt x="3600" y="0"/>
                  </a:moveTo>
                  <a:arcTo wR="3600" hR="3600" stAng="16200000" swAng="-5400000"/>
                  <a:lnTo>
                    <a:pt x="0" y="30249"/>
                  </a:lnTo>
                  <a:arcTo wR="3600" hR="3600" stAng="10800000" swAng="-5400000"/>
                  <a:lnTo>
                    <a:pt x="18000" y="33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162680" y="6095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5" name=""/>
            <p:cNvGrpSpPr/>
            <p:nvPr/>
          </p:nvGrpSpPr>
          <p:grpSpPr>
            <a:xfrm>
              <a:off x="3970440" y="5586480"/>
              <a:ext cx="266760" cy="647280"/>
              <a:chOff x="3970440" y="5586480"/>
              <a:chExt cx="266760" cy="647280"/>
            </a:xfrm>
          </p:grpSpPr>
          <p:sp>
            <p:nvSpPr>
              <p:cNvPr id="1356" name=""/>
              <p:cNvSpPr/>
              <p:nvPr/>
            </p:nvSpPr>
            <p:spPr>
              <a:xfrm>
                <a:off x="4078080" y="5699520"/>
                <a:ext cx="38880" cy="40680"/>
              </a:xfrm>
              <a:custGeom>
                <a:avLst/>
                <a:gdLst/>
                <a:ahLst/>
                <a:rect l="l" t="t" r="r" b="b"/>
                <a:pathLst>
                  <a:path w="72" h="288">
                    <a:moveTo>
                      <a:pt x="0" y="288"/>
                    </a:moveTo>
                    <a:cubicBezTo>
                      <a:pt x="24" y="255"/>
                      <a:pt x="48" y="222"/>
                      <a:pt x="60" y="174"/>
                    </a:cubicBezTo>
                    <a:cubicBezTo>
                      <a:pt x="72" y="126"/>
                      <a:pt x="72" y="63"/>
                      <a:pt x="72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970440" y="5671080"/>
                <a:ext cx="111240" cy="115560"/>
              </a:xfrm>
              <a:custGeom>
                <a:avLst/>
                <a:gdLst/>
                <a:ahLst/>
                <a:rect l="l" t="t" r="r" b="b"/>
                <a:pathLst>
                  <a:path w="209" h="192">
                    <a:moveTo>
                      <a:pt x="209" y="192"/>
                    </a:moveTo>
                    <a:cubicBezTo>
                      <a:pt x="194" y="170"/>
                      <a:pt x="180" y="148"/>
                      <a:pt x="149" y="126"/>
                    </a:cubicBezTo>
                    <a:cubicBezTo>
                      <a:pt x="118" y="104"/>
                      <a:pt x="46" y="81"/>
                      <a:pt x="23" y="60"/>
                    </a:cubicBezTo>
                    <a:cubicBezTo>
                      <a:pt x="0" y="39"/>
                      <a:pt x="5" y="19"/>
                      <a:pt x="11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081680" y="5783400"/>
                <a:ext cx="121680" cy="11556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>
                <a:off x="3982680" y="5804640"/>
                <a:ext cx="95040" cy="13068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0" name=""/>
              <p:cNvGrpSpPr/>
              <p:nvPr/>
            </p:nvGrpSpPr>
            <p:grpSpPr>
              <a:xfrm>
                <a:off x="4087800" y="6041160"/>
                <a:ext cx="61200" cy="77040"/>
                <a:chOff x="4087800" y="6041160"/>
                <a:chExt cx="61200" cy="7704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4087800" y="6053760"/>
                  <a:ext cx="45000" cy="6444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rot="894600">
                  <a:off x="4119840" y="6044040"/>
                  <a:ext cx="25920" cy="25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3" name=""/>
              <p:cNvGrpSpPr/>
              <p:nvPr/>
            </p:nvGrpSpPr>
            <p:grpSpPr>
              <a:xfrm>
                <a:off x="4016520" y="6007680"/>
                <a:ext cx="61200" cy="77040"/>
                <a:chOff x="4016520" y="6007680"/>
                <a:chExt cx="61200" cy="77040"/>
              </a:xfrm>
            </p:grpSpPr>
            <p:sp>
              <p:nvSpPr>
                <p:cNvPr id="1364" name=""/>
                <p:cNvSpPr/>
                <p:nvPr/>
              </p:nvSpPr>
              <p:spPr>
                <a:xfrm flipH="1">
                  <a:off x="4032360" y="6020280"/>
                  <a:ext cx="45000" cy="6444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H="1" rot="20705400">
                  <a:off x="4019040" y="6010560"/>
                  <a:ext cx="26280" cy="24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6" name=""/>
              <p:cNvGrpSpPr/>
              <p:nvPr/>
            </p:nvGrpSpPr>
            <p:grpSpPr>
              <a:xfrm>
                <a:off x="4086720" y="5930640"/>
                <a:ext cx="62280" cy="94320"/>
                <a:chOff x="4086720" y="5930640"/>
                <a:chExt cx="62280" cy="943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4086720" y="5945760"/>
                  <a:ext cx="45000" cy="7920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rot="894600">
                  <a:off x="4119120" y="5933160"/>
                  <a:ext cx="25920" cy="3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4133520" y="5794920"/>
                <a:ext cx="27000" cy="69480"/>
                <a:chOff x="4133520" y="5794920"/>
                <a:chExt cx="27000" cy="6948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4138560" y="5807880"/>
                  <a:ext cx="8640" cy="5652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51"/>
                      </a:moveTo>
                      <a:cubicBezTo>
                        <a:pt x="3" y="40"/>
                        <a:pt x="6" y="29"/>
                        <a:pt x="7" y="21"/>
                      </a:cubicBezTo>
                      <a:cubicBezTo>
                        <a:pt x="8" y="13"/>
                        <a:pt x="7" y="6"/>
                        <a:pt x="7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rot="173400">
                  <a:off x="4133880" y="5795280"/>
                  <a:ext cx="25560" cy="3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4033800" y="5848920"/>
                <a:ext cx="27000" cy="61200"/>
                <a:chOff x="4033800" y="5848920"/>
                <a:chExt cx="27000" cy="6120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4045680" y="5862960"/>
                  <a:ext cx="2160" cy="47160"/>
                </a:xfrm>
                <a:custGeom>
                  <a:avLst/>
                  <a:gdLst/>
                  <a:ahLst/>
                  <a:rect l="l" t="t" r="r" b="b"/>
                  <a:pathLst>
                    <a:path w="2" h="42">
                      <a:moveTo>
                        <a:pt x="0" y="42"/>
                      </a:moveTo>
                      <a:cubicBezTo>
                        <a:pt x="0" y="35"/>
                        <a:pt x="0" y="28"/>
                        <a:pt x="0" y="21"/>
                      </a:cubicBezTo>
                      <a:cubicBezTo>
                        <a:pt x="0" y="14"/>
                        <a:pt x="1" y="7"/>
                        <a:pt x="2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173400">
                  <a:off x="4034160" y="5849280"/>
                  <a:ext cx="25560" cy="31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3994560" y="5653440"/>
                <a:ext cx="27000" cy="66960"/>
                <a:chOff x="3994560" y="5653440"/>
                <a:chExt cx="27000" cy="6696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005000" y="5669640"/>
                  <a:ext cx="3240" cy="50760"/>
                </a:xfrm>
                <a:custGeom>
                  <a:avLst/>
                  <a:gdLst/>
                  <a:ahLst/>
                  <a:rect l="l" t="t" r="r" b="b"/>
                  <a:pathLst>
                    <a:path w="3" h="46">
                      <a:moveTo>
                        <a:pt x="3" y="46"/>
                      </a:moveTo>
                      <a:cubicBezTo>
                        <a:pt x="1" y="33"/>
                        <a:pt x="0" y="21"/>
                        <a:pt x="0" y="13"/>
                      </a:cubicBezTo>
                      <a:cubicBezTo>
                        <a:pt x="0" y="5"/>
                        <a:pt x="1" y="2"/>
                        <a:pt x="3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rot="173400">
                  <a:off x="3994920" y="5653800"/>
                  <a:ext cx="25560" cy="3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4072680" y="5696640"/>
                <a:ext cx="10440" cy="537120"/>
              </a:xfrm>
              <a:custGeom>
                <a:avLst/>
                <a:gdLst/>
                <a:ahLst/>
                <a:rect l="l" t="t" r="r" b="b"/>
                <a:pathLst>
                  <a:path w="10" h="483">
                    <a:moveTo>
                      <a:pt x="8" y="483"/>
                    </a:moveTo>
                    <a:cubicBezTo>
                      <a:pt x="8" y="361"/>
                      <a:pt x="8" y="239"/>
                      <a:pt x="8" y="168"/>
                    </a:cubicBezTo>
                    <a:cubicBezTo>
                      <a:pt x="8" y="97"/>
                      <a:pt x="10" y="82"/>
                      <a:pt x="9" y="54"/>
                    </a:cubicBezTo>
                    <a:cubicBezTo>
                      <a:pt x="8" y="26"/>
                      <a:pt x="4" y="13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047840" y="5586480"/>
                <a:ext cx="23040" cy="110160"/>
              </a:xfrm>
              <a:custGeom>
                <a:avLst/>
                <a:gdLst/>
                <a:ahLst/>
                <a:rect l="l" t="t" r="r" b="b"/>
                <a:pathLst>
                  <a:path w="21" h="99">
                    <a:moveTo>
                      <a:pt x="21" y="99"/>
                    </a:moveTo>
                    <a:cubicBezTo>
                      <a:pt x="13" y="87"/>
                      <a:pt x="6" y="76"/>
                      <a:pt x="3" y="60"/>
                    </a:cubicBezTo>
                    <a:cubicBezTo>
                      <a:pt x="0" y="44"/>
                      <a:pt x="2" y="22"/>
                      <a:pt x="5" y="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180320" y="5810760"/>
                <a:ext cx="56880" cy="2376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0" y="21"/>
                    </a:moveTo>
                    <a:cubicBezTo>
                      <a:pt x="17" y="20"/>
                      <a:pt x="34" y="20"/>
                      <a:pt x="42" y="17"/>
                    </a:cubicBezTo>
                    <a:cubicBezTo>
                      <a:pt x="50" y="14"/>
                      <a:pt x="50" y="7"/>
                      <a:pt x="51" y="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118040" y="5609160"/>
                <a:ext cx="1800" cy="90000"/>
              </a:xfrm>
              <a:custGeom>
                <a:avLst/>
                <a:gdLst/>
                <a:ahLst/>
                <a:rect l="l" t="t" r="r" b="b"/>
                <a:pathLst>
                  <a:path w="1" h="81">
                    <a:moveTo>
                      <a:pt x="0" y="81"/>
                    </a:moveTo>
                    <a:cubicBezTo>
                      <a:pt x="0" y="68"/>
                      <a:pt x="1" y="55"/>
                      <a:pt x="1" y="42"/>
                    </a:cubicBezTo>
                    <a:cubicBezTo>
                      <a:pt x="1" y="29"/>
                      <a:pt x="1" y="14"/>
                      <a:pt x="1" y="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157560" y="5446800"/>
              <a:ext cx="577800" cy="90648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906480"/>
                <a:gd name="textAreaBottom" fmla="*/ 878400 h 906480"/>
              </a:gdLst>
              <a:ahLst/>
              <a:rect l="textAreaLeft" t="textAreaTop" r="textAreaRight" b="textAreaBottom"/>
              <a:pathLst>
                <a:path w="21600" h="33879">
                  <a:moveTo>
                    <a:pt x="3600" y="0"/>
                  </a:moveTo>
                  <a:arcTo wR="3600" hR="3600" stAng="16200000" swAng="-5400000"/>
                  <a:lnTo>
                    <a:pt x="0" y="30279"/>
                  </a:lnTo>
                  <a:arcTo wR="3600" hR="3600" stAng="10800000" swAng="-5400000"/>
                  <a:lnTo>
                    <a:pt x="18000" y="338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511800" y="60976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4" name=""/>
            <p:cNvGrpSpPr/>
            <p:nvPr/>
          </p:nvGrpSpPr>
          <p:grpSpPr>
            <a:xfrm>
              <a:off x="3341520" y="5573880"/>
              <a:ext cx="320760" cy="672840"/>
              <a:chOff x="3341520" y="5573880"/>
              <a:chExt cx="320760" cy="672840"/>
            </a:xfrm>
          </p:grpSpPr>
          <p:sp>
            <p:nvSpPr>
              <p:cNvPr id="1385" name=""/>
              <p:cNvSpPr/>
              <p:nvPr/>
            </p:nvSpPr>
            <p:spPr>
              <a:xfrm>
                <a:off x="3404160" y="5595840"/>
                <a:ext cx="52920" cy="650880"/>
              </a:xfrm>
              <a:custGeom>
                <a:avLst/>
                <a:gdLst/>
                <a:ahLst/>
                <a:rect l="l" t="t" r="r" b="b"/>
                <a:pathLst>
                  <a:path w="99" h="1074">
                    <a:moveTo>
                      <a:pt x="90" y="1074"/>
                    </a:moveTo>
                    <a:cubicBezTo>
                      <a:pt x="90" y="948"/>
                      <a:pt x="91" y="823"/>
                      <a:pt x="90" y="684"/>
                    </a:cubicBezTo>
                    <a:cubicBezTo>
                      <a:pt x="89" y="545"/>
                      <a:pt x="99" y="354"/>
                      <a:pt x="84" y="240"/>
                    </a:cubicBezTo>
                    <a:cubicBezTo>
                      <a:pt x="69" y="126"/>
                      <a:pt x="34" y="63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448440" y="5573880"/>
                <a:ext cx="38880" cy="174600"/>
              </a:xfrm>
              <a:custGeom>
                <a:avLst/>
                <a:gdLst/>
                <a:ahLst/>
                <a:rect l="l" t="t" r="r" b="b"/>
                <a:pathLst>
                  <a:path w="72" h="288">
                    <a:moveTo>
                      <a:pt x="0" y="288"/>
                    </a:moveTo>
                    <a:cubicBezTo>
                      <a:pt x="24" y="255"/>
                      <a:pt x="48" y="222"/>
                      <a:pt x="60" y="174"/>
                    </a:cubicBezTo>
                    <a:cubicBezTo>
                      <a:pt x="72" y="126"/>
                      <a:pt x="72" y="63"/>
                      <a:pt x="72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429720" y="5581440"/>
                <a:ext cx="12960" cy="82800"/>
              </a:xfrm>
              <a:custGeom>
                <a:avLst/>
                <a:gdLst/>
                <a:ahLst/>
                <a:rect l="l" t="t" r="r" b="b"/>
                <a:pathLst>
                  <a:path w="24" h="138">
                    <a:moveTo>
                      <a:pt x="0" y="138"/>
                    </a:moveTo>
                    <a:cubicBezTo>
                      <a:pt x="0" y="138"/>
                      <a:pt x="12" y="69"/>
                      <a:pt x="24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341520" y="5679720"/>
                <a:ext cx="110520" cy="115560"/>
              </a:xfrm>
              <a:custGeom>
                <a:avLst/>
                <a:gdLst/>
                <a:ahLst/>
                <a:rect l="l" t="t" r="r" b="b"/>
                <a:pathLst>
                  <a:path w="209" h="192">
                    <a:moveTo>
                      <a:pt x="209" y="192"/>
                    </a:moveTo>
                    <a:cubicBezTo>
                      <a:pt x="194" y="170"/>
                      <a:pt x="180" y="148"/>
                      <a:pt x="149" y="126"/>
                    </a:cubicBezTo>
                    <a:cubicBezTo>
                      <a:pt x="118" y="104"/>
                      <a:pt x="46" y="81"/>
                      <a:pt x="23" y="60"/>
                    </a:cubicBezTo>
                    <a:cubicBezTo>
                      <a:pt x="0" y="39"/>
                      <a:pt x="5" y="19"/>
                      <a:pt x="11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452040" y="5791680"/>
                <a:ext cx="120960" cy="11556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554280" y="5791680"/>
                <a:ext cx="85680" cy="5436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0" y="72"/>
                    </a:moveTo>
                    <a:cubicBezTo>
                      <a:pt x="25" y="81"/>
                      <a:pt x="51" y="90"/>
                      <a:pt x="78" y="78"/>
                    </a:cubicBezTo>
                    <a:cubicBezTo>
                      <a:pt x="105" y="66"/>
                      <a:pt x="133" y="33"/>
                      <a:pt x="162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620880" y="5820840"/>
                <a:ext cx="41400" cy="2520"/>
              </a:xfrm>
              <a:custGeom>
                <a:avLst/>
                <a:gdLst/>
                <a:ahLst/>
                <a:rect l="l" t="t" r="r" b="b"/>
                <a:pathLst>
                  <a:path w="78" h="4">
                    <a:moveTo>
                      <a:pt x="0" y="0"/>
                    </a:moveTo>
                    <a:cubicBezTo>
                      <a:pt x="30" y="2"/>
                      <a:pt x="61" y="4"/>
                      <a:pt x="7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3353760" y="5812920"/>
                <a:ext cx="94320" cy="13140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3" name=""/>
              <p:cNvGrpSpPr/>
              <p:nvPr/>
            </p:nvGrpSpPr>
            <p:grpSpPr>
              <a:xfrm>
                <a:off x="3458160" y="6049440"/>
                <a:ext cx="60840" cy="77400"/>
                <a:chOff x="3458160" y="6049440"/>
                <a:chExt cx="60840" cy="7740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3458160" y="6062040"/>
                  <a:ext cx="44640" cy="6480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rot="894600">
                  <a:off x="3490200" y="6051960"/>
                  <a:ext cx="25560" cy="25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3387600" y="6017040"/>
                <a:ext cx="60840" cy="76680"/>
                <a:chOff x="3387600" y="6017040"/>
                <a:chExt cx="60840" cy="76680"/>
              </a:xfrm>
            </p:grpSpPr>
            <p:sp>
              <p:nvSpPr>
                <p:cNvPr id="1397" name=""/>
                <p:cNvSpPr/>
                <p:nvPr/>
              </p:nvSpPr>
              <p:spPr>
                <a:xfrm flipH="1">
                  <a:off x="3403800" y="6029640"/>
                  <a:ext cx="44640" cy="6408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H="1" rot="20705400">
                  <a:off x="3390120" y="6019560"/>
                  <a:ext cx="25560" cy="25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3457080" y="5940000"/>
                <a:ext cx="61560" cy="94680"/>
                <a:chOff x="3457080" y="5940000"/>
                <a:chExt cx="61560" cy="9468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3457080" y="5955120"/>
                  <a:ext cx="44640" cy="7956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rot="894600">
                  <a:off x="3489120" y="5942520"/>
                  <a:ext cx="25560" cy="3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3503520" y="5803560"/>
                <a:ext cx="27000" cy="69480"/>
                <a:chOff x="3503520" y="5803560"/>
                <a:chExt cx="27000" cy="6948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3508560" y="5816520"/>
                  <a:ext cx="8640" cy="5652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51"/>
                      </a:moveTo>
                      <a:cubicBezTo>
                        <a:pt x="3" y="40"/>
                        <a:pt x="6" y="29"/>
                        <a:pt x="7" y="21"/>
                      </a:cubicBezTo>
                      <a:cubicBezTo>
                        <a:pt x="8" y="13"/>
                        <a:pt x="7" y="6"/>
                        <a:pt x="7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rot="173400">
                  <a:off x="3503880" y="5803920"/>
                  <a:ext cx="25560" cy="3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3404520" y="5858280"/>
                <a:ext cx="27000" cy="60120"/>
                <a:chOff x="3404520" y="5858280"/>
                <a:chExt cx="27000" cy="6012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3416400" y="5871960"/>
                  <a:ext cx="2160" cy="46440"/>
                </a:xfrm>
                <a:custGeom>
                  <a:avLst/>
                  <a:gdLst/>
                  <a:ahLst/>
                  <a:rect l="l" t="t" r="r" b="b"/>
                  <a:pathLst>
                    <a:path w="2" h="42">
                      <a:moveTo>
                        <a:pt x="0" y="42"/>
                      </a:moveTo>
                      <a:cubicBezTo>
                        <a:pt x="0" y="35"/>
                        <a:pt x="0" y="28"/>
                        <a:pt x="0" y="21"/>
                      </a:cubicBezTo>
                      <a:cubicBezTo>
                        <a:pt x="0" y="14"/>
                        <a:pt x="1" y="7"/>
                        <a:pt x="2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rot="173400">
                  <a:off x="3404880" y="5858640"/>
                  <a:ext cx="25560" cy="3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3365640" y="5662080"/>
                <a:ext cx="27000" cy="67320"/>
                <a:chOff x="3365640" y="5662080"/>
                <a:chExt cx="27000" cy="6732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3376080" y="5678280"/>
                  <a:ext cx="3240" cy="51120"/>
                </a:xfrm>
                <a:custGeom>
                  <a:avLst/>
                  <a:gdLst/>
                  <a:ahLst/>
                  <a:rect l="l" t="t" r="r" b="b"/>
                  <a:pathLst>
                    <a:path w="3" h="46">
                      <a:moveTo>
                        <a:pt x="3" y="46"/>
                      </a:moveTo>
                      <a:cubicBezTo>
                        <a:pt x="1" y="33"/>
                        <a:pt x="0" y="21"/>
                        <a:pt x="0" y="13"/>
                      </a:cubicBezTo>
                      <a:cubicBezTo>
                        <a:pt x="0" y="5"/>
                        <a:pt x="1" y="2"/>
                        <a:pt x="3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rot="173400">
                  <a:off x="3366000" y="5662440"/>
                  <a:ext cx="25560" cy="31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1" name=""/>
            <p:cNvSpPr/>
            <p:nvPr/>
          </p:nvSpPr>
          <p:spPr>
            <a:xfrm>
              <a:off x="2511360" y="5443560"/>
              <a:ext cx="577800" cy="90792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907920"/>
                <a:gd name="textAreaBottom" fmla="*/ 879840 h 907920"/>
              </a:gdLst>
              <a:ahLst/>
              <a:rect l="textAreaLeft" t="textAreaTop" r="textAreaRight" b="textAreaBottom"/>
              <a:pathLst>
                <a:path w="21600" h="33933">
                  <a:moveTo>
                    <a:pt x="3600" y="0"/>
                  </a:moveTo>
                  <a:arcTo wR="3600" hR="3600" stAng="16200000" swAng="-5400000"/>
                  <a:lnTo>
                    <a:pt x="0" y="30333"/>
                  </a:lnTo>
                  <a:arcTo wR="3600" hR="3600" stAng="10800000" swAng="-5400000"/>
                  <a:lnTo>
                    <a:pt x="18000" y="339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51200" y="6108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2603520" y="5632560"/>
              <a:ext cx="382680" cy="674280"/>
              <a:chOff x="2603520" y="5632560"/>
              <a:chExt cx="382680" cy="674280"/>
            </a:xfrm>
          </p:grpSpPr>
          <p:sp>
            <p:nvSpPr>
              <p:cNvPr id="1414" name=""/>
              <p:cNvSpPr/>
              <p:nvPr/>
            </p:nvSpPr>
            <p:spPr>
              <a:xfrm>
                <a:off x="2727720" y="5654160"/>
                <a:ext cx="52560" cy="652680"/>
              </a:xfrm>
              <a:custGeom>
                <a:avLst/>
                <a:gdLst/>
                <a:ahLst/>
                <a:rect l="l" t="t" r="r" b="b"/>
                <a:pathLst>
                  <a:path w="99" h="1074">
                    <a:moveTo>
                      <a:pt x="90" y="1074"/>
                    </a:moveTo>
                    <a:cubicBezTo>
                      <a:pt x="90" y="948"/>
                      <a:pt x="91" y="823"/>
                      <a:pt x="90" y="684"/>
                    </a:cubicBezTo>
                    <a:cubicBezTo>
                      <a:pt x="89" y="545"/>
                      <a:pt x="99" y="354"/>
                      <a:pt x="84" y="240"/>
                    </a:cubicBezTo>
                    <a:cubicBezTo>
                      <a:pt x="69" y="126"/>
                      <a:pt x="34" y="63"/>
                      <a:pt x="0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772360" y="5632560"/>
                <a:ext cx="38160" cy="174960"/>
              </a:xfrm>
              <a:custGeom>
                <a:avLst/>
                <a:gdLst/>
                <a:ahLst/>
                <a:rect l="l" t="t" r="r" b="b"/>
                <a:pathLst>
                  <a:path w="72" h="288">
                    <a:moveTo>
                      <a:pt x="0" y="288"/>
                    </a:moveTo>
                    <a:cubicBezTo>
                      <a:pt x="24" y="255"/>
                      <a:pt x="48" y="222"/>
                      <a:pt x="60" y="174"/>
                    </a:cubicBezTo>
                    <a:cubicBezTo>
                      <a:pt x="72" y="126"/>
                      <a:pt x="72" y="63"/>
                      <a:pt x="72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753280" y="5639760"/>
                <a:ext cx="12600" cy="83880"/>
              </a:xfrm>
              <a:custGeom>
                <a:avLst/>
                <a:gdLst/>
                <a:ahLst/>
                <a:rect l="l" t="t" r="r" b="b"/>
                <a:pathLst>
                  <a:path w="24" h="138">
                    <a:moveTo>
                      <a:pt x="0" y="138"/>
                    </a:moveTo>
                    <a:cubicBezTo>
                      <a:pt x="0" y="138"/>
                      <a:pt x="12" y="69"/>
                      <a:pt x="24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664360" y="5738400"/>
                <a:ext cx="110880" cy="116280"/>
              </a:xfrm>
              <a:custGeom>
                <a:avLst/>
                <a:gdLst/>
                <a:ahLst/>
                <a:rect l="l" t="t" r="r" b="b"/>
                <a:pathLst>
                  <a:path w="209" h="192">
                    <a:moveTo>
                      <a:pt x="209" y="192"/>
                    </a:moveTo>
                    <a:cubicBezTo>
                      <a:pt x="194" y="170"/>
                      <a:pt x="180" y="148"/>
                      <a:pt x="149" y="126"/>
                    </a:cubicBezTo>
                    <a:cubicBezTo>
                      <a:pt x="118" y="104"/>
                      <a:pt x="46" y="81"/>
                      <a:pt x="23" y="60"/>
                    </a:cubicBezTo>
                    <a:cubicBezTo>
                      <a:pt x="0" y="39"/>
                      <a:pt x="5" y="19"/>
                      <a:pt x="11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775600" y="5851440"/>
                <a:ext cx="121320" cy="11628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877840" y="5851440"/>
                <a:ext cx="86040" cy="5472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0" y="72"/>
                    </a:moveTo>
                    <a:cubicBezTo>
                      <a:pt x="25" y="81"/>
                      <a:pt x="51" y="90"/>
                      <a:pt x="78" y="78"/>
                    </a:cubicBezTo>
                    <a:cubicBezTo>
                      <a:pt x="105" y="66"/>
                      <a:pt x="133" y="33"/>
                      <a:pt x="162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944800" y="588024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78" h="4">
                    <a:moveTo>
                      <a:pt x="0" y="0"/>
                    </a:moveTo>
                    <a:cubicBezTo>
                      <a:pt x="30" y="2"/>
                      <a:pt x="61" y="4"/>
                      <a:pt x="7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2676600" y="5873400"/>
                <a:ext cx="95760" cy="13104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624040" y="5869440"/>
                <a:ext cx="67680" cy="5796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0" y="72"/>
                    </a:moveTo>
                    <a:cubicBezTo>
                      <a:pt x="25" y="81"/>
                      <a:pt x="51" y="90"/>
                      <a:pt x="78" y="78"/>
                    </a:cubicBezTo>
                    <a:cubicBezTo>
                      <a:pt x="105" y="66"/>
                      <a:pt x="133" y="33"/>
                      <a:pt x="162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2603520" y="5890680"/>
                <a:ext cx="32400" cy="2880"/>
              </a:xfrm>
              <a:custGeom>
                <a:avLst/>
                <a:gdLst/>
                <a:ahLst/>
                <a:rect l="l" t="t" r="r" b="b"/>
                <a:pathLst>
                  <a:path w="78" h="4">
                    <a:moveTo>
                      <a:pt x="0" y="0"/>
                    </a:moveTo>
                    <a:cubicBezTo>
                      <a:pt x="30" y="2"/>
                      <a:pt x="61" y="4"/>
                      <a:pt x="7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4" name=""/>
            <p:cNvSpPr/>
            <p:nvPr/>
          </p:nvSpPr>
          <p:spPr>
            <a:xfrm rot="5400000">
              <a:off x="2401200" y="5995080"/>
              <a:ext cx="4586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rot="10800000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-3960" y="71280"/>
            <a:ext cx="73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MATERIEL &amp; METHOD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LE BLOC SUD DE PARACOU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" descr=""/>
          <p:cNvPicPr/>
          <p:nvPr/>
        </p:nvPicPr>
        <p:blipFill>
          <a:blip r:embed="rId2"/>
          <a:stretch/>
        </p:blipFill>
        <p:spPr>
          <a:xfrm>
            <a:off x="20520" y="519120"/>
            <a:ext cx="9123480" cy="6338880"/>
          </a:xfrm>
          <a:prstGeom prst="rect">
            <a:avLst/>
          </a:prstGeom>
          <a:ln w="0">
            <a:noFill/>
          </a:ln>
        </p:spPr>
      </p:pic>
      <p:sp>
        <p:nvSpPr>
          <p:cNvPr id="1427" name=""/>
          <p:cNvSpPr/>
          <p:nvPr/>
        </p:nvSpPr>
        <p:spPr>
          <a:xfrm>
            <a:off x="-4680" y="71280"/>
            <a:ext cx="67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MATERIEL &amp; METHOD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LE BLOC SUD DE PARACOU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S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539640" y="90792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84360" y="581040"/>
            <a:ext cx="78483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 classes d’environnement lumin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ject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ractériser les condition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30200" y="2557440"/>
            <a:ext cx="1625760" cy="3549240"/>
            <a:chOff x="430200" y="2557440"/>
            <a:chExt cx="1625760" cy="3549240"/>
          </a:xfrm>
        </p:grpSpPr>
        <p:sp>
          <p:nvSpPr>
            <p:cNvPr id="1431" name=""/>
            <p:cNvSpPr/>
            <p:nvPr/>
          </p:nvSpPr>
          <p:spPr>
            <a:xfrm>
              <a:off x="1204200" y="2576880"/>
              <a:ext cx="851760" cy="398160"/>
            </a:xfrm>
            <a:custGeom>
              <a:avLst/>
              <a:gdLst/>
              <a:ahLst/>
              <a:rect l="l" t="t" r="r" b="b"/>
              <a:pathLst>
                <a:path w="910" h="427">
                  <a:moveTo>
                    <a:pt x="71" y="3"/>
                  </a:moveTo>
                  <a:cubicBezTo>
                    <a:pt x="35" y="13"/>
                    <a:pt x="0" y="24"/>
                    <a:pt x="1" y="43"/>
                  </a:cubicBezTo>
                  <a:cubicBezTo>
                    <a:pt x="2" y="62"/>
                    <a:pt x="43" y="84"/>
                    <a:pt x="79" y="119"/>
                  </a:cubicBezTo>
                  <a:cubicBezTo>
                    <a:pt x="115" y="154"/>
                    <a:pt x="175" y="231"/>
                    <a:pt x="219" y="253"/>
                  </a:cubicBezTo>
                  <a:cubicBezTo>
                    <a:pt x="263" y="275"/>
                    <a:pt x="307" y="256"/>
                    <a:pt x="345" y="253"/>
                  </a:cubicBezTo>
                  <a:cubicBezTo>
                    <a:pt x="383" y="250"/>
                    <a:pt x="409" y="225"/>
                    <a:pt x="449" y="233"/>
                  </a:cubicBezTo>
                  <a:cubicBezTo>
                    <a:pt x="489" y="241"/>
                    <a:pt x="540" y="275"/>
                    <a:pt x="585" y="301"/>
                  </a:cubicBezTo>
                  <a:cubicBezTo>
                    <a:pt x="630" y="327"/>
                    <a:pt x="681" y="368"/>
                    <a:pt x="721" y="389"/>
                  </a:cubicBezTo>
                  <a:cubicBezTo>
                    <a:pt x="761" y="410"/>
                    <a:pt x="797" y="423"/>
                    <a:pt x="827" y="425"/>
                  </a:cubicBezTo>
                  <a:cubicBezTo>
                    <a:pt x="857" y="427"/>
                    <a:pt x="892" y="423"/>
                    <a:pt x="901" y="401"/>
                  </a:cubicBezTo>
                  <a:cubicBezTo>
                    <a:pt x="910" y="379"/>
                    <a:pt x="907" y="330"/>
                    <a:pt x="879" y="293"/>
                  </a:cubicBezTo>
                  <a:cubicBezTo>
                    <a:pt x="851" y="256"/>
                    <a:pt x="783" y="210"/>
                    <a:pt x="735" y="177"/>
                  </a:cubicBezTo>
                  <a:cubicBezTo>
                    <a:pt x="687" y="144"/>
                    <a:pt x="647" y="116"/>
                    <a:pt x="589" y="95"/>
                  </a:cubicBezTo>
                  <a:cubicBezTo>
                    <a:pt x="531" y="74"/>
                    <a:pt x="448" y="63"/>
                    <a:pt x="385" y="49"/>
                  </a:cubicBezTo>
                  <a:cubicBezTo>
                    <a:pt x="322" y="35"/>
                    <a:pt x="255" y="17"/>
                    <a:pt x="211" y="9"/>
                  </a:cubicBezTo>
                  <a:cubicBezTo>
                    <a:pt x="167" y="1"/>
                    <a:pt x="147" y="2"/>
                    <a:pt x="121" y="1"/>
                  </a:cubicBezTo>
                  <a:cubicBezTo>
                    <a:pt x="95" y="0"/>
                    <a:pt x="66" y="3"/>
                    <a:pt x="55" y="3"/>
                  </a:cubicBez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57280" y="2887200"/>
              <a:ext cx="750240" cy="3219480"/>
            </a:xfrm>
            <a:custGeom>
              <a:avLst/>
              <a:gdLst/>
              <a:ahLst/>
              <a:rect l="l" t="t" r="r" b="b"/>
              <a:pathLst>
                <a:path w="802" h="3453">
                  <a:moveTo>
                    <a:pt x="620" y="3406"/>
                  </a:moveTo>
                  <a:cubicBezTo>
                    <a:pt x="598" y="3359"/>
                    <a:pt x="641" y="3290"/>
                    <a:pt x="650" y="3130"/>
                  </a:cubicBezTo>
                  <a:cubicBezTo>
                    <a:pt x="659" y="2970"/>
                    <a:pt x="669" y="2717"/>
                    <a:pt x="674" y="2446"/>
                  </a:cubicBezTo>
                  <a:cubicBezTo>
                    <a:pt x="679" y="2175"/>
                    <a:pt x="679" y="1681"/>
                    <a:pt x="680" y="1504"/>
                  </a:cubicBezTo>
                  <a:cubicBezTo>
                    <a:pt x="681" y="1327"/>
                    <a:pt x="694" y="1425"/>
                    <a:pt x="680" y="1384"/>
                  </a:cubicBezTo>
                  <a:cubicBezTo>
                    <a:pt x="666" y="1343"/>
                    <a:pt x="629" y="1323"/>
                    <a:pt x="596" y="1258"/>
                  </a:cubicBezTo>
                  <a:cubicBezTo>
                    <a:pt x="563" y="1193"/>
                    <a:pt x="524" y="1062"/>
                    <a:pt x="482" y="994"/>
                  </a:cubicBezTo>
                  <a:cubicBezTo>
                    <a:pt x="440" y="926"/>
                    <a:pt x="379" y="908"/>
                    <a:pt x="344" y="850"/>
                  </a:cubicBezTo>
                  <a:cubicBezTo>
                    <a:pt x="309" y="792"/>
                    <a:pt x="303" y="702"/>
                    <a:pt x="272" y="646"/>
                  </a:cubicBezTo>
                  <a:cubicBezTo>
                    <a:pt x="241" y="590"/>
                    <a:pt x="191" y="564"/>
                    <a:pt x="158" y="514"/>
                  </a:cubicBezTo>
                  <a:cubicBezTo>
                    <a:pt x="125" y="464"/>
                    <a:pt x="100" y="428"/>
                    <a:pt x="74" y="346"/>
                  </a:cubicBezTo>
                  <a:cubicBezTo>
                    <a:pt x="48" y="264"/>
                    <a:pt x="4" y="44"/>
                    <a:pt x="2" y="22"/>
                  </a:cubicBezTo>
                  <a:cubicBezTo>
                    <a:pt x="0" y="0"/>
                    <a:pt x="32" y="134"/>
                    <a:pt x="62" y="214"/>
                  </a:cubicBezTo>
                  <a:cubicBezTo>
                    <a:pt x="92" y="294"/>
                    <a:pt x="138" y="434"/>
                    <a:pt x="182" y="502"/>
                  </a:cubicBezTo>
                  <a:cubicBezTo>
                    <a:pt x="226" y="570"/>
                    <a:pt x="294" y="571"/>
                    <a:pt x="326" y="622"/>
                  </a:cubicBezTo>
                  <a:cubicBezTo>
                    <a:pt x="358" y="673"/>
                    <a:pt x="341" y="749"/>
                    <a:pt x="374" y="808"/>
                  </a:cubicBezTo>
                  <a:cubicBezTo>
                    <a:pt x="407" y="867"/>
                    <a:pt x="488" y="922"/>
                    <a:pt x="524" y="976"/>
                  </a:cubicBezTo>
                  <a:cubicBezTo>
                    <a:pt x="560" y="1030"/>
                    <a:pt x="566" y="1080"/>
                    <a:pt x="590" y="1132"/>
                  </a:cubicBezTo>
                  <a:cubicBezTo>
                    <a:pt x="614" y="1184"/>
                    <a:pt x="643" y="1248"/>
                    <a:pt x="668" y="1288"/>
                  </a:cubicBezTo>
                  <a:cubicBezTo>
                    <a:pt x="693" y="1328"/>
                    <a:pt x="727" y="1328"/>
                    <a:pt x="740" y="1372"/>
                  </a:cubicBezTo>
                  <a:cubicBezTo>
                    <a:pt x="753" y="1416"/>
                    <a:pt x="746" y="1266"/>
                    <a:pt x="746" y="1552"/>
                  </a:cubicBezTo>
                  <a:cubicBezTo>
                    <a:pt x="746" y="1838"/>
                    <a:pt x="737" y="2784"/>
                    <a:pt x="740" y="3088"/>
                  </a:cubicBezTo>
                  <a:cubicBezTo>
                    <a:pt x="743" y="3392"/>
                    <a:pt x="757" y="3322"/>
                    <a:pt x="764" y="3376"/>
                  </a:cubicBezTo>
                  <a:cubicBezTo>
                    <a:pt x="771" y="3430"/>
                    <a:pt x="802" y="3408"/>
                    <a:pt x="782" y="3412"/>
                  </a:cubicBezTo>
                  <a:cubicBezTo>
                    <a:pt x="762" y="3416"/>
                    <a:pt x="642" y="3453"/>
                    <a:pt x="620" y="340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227600" y="2766960"/>
              <a:ext cx="748800" cy="1530000"/>
            </a:xfrm>
            <a:custGeom>
              <a:avLst/>
              <a:gdLst/>
              <a:ahLst/>
              <a:rect l="l" t="t" r="r" b="b"/>
              <a:pathLst>
                <a:path w="800" h="1641">
                  <a:moveTo>
                    <a:pt x="18" y="1534"/>
                  </a:moveTo>
                  <a:cubicBezTo>
                    <a:pt x="50" y="1473"/>
                    <a:pt x="83" y="1413"/>
                    <a:pt x="108" y="1342"/>
                  </a:cubicBezTo>
                  <a:cubicBezTo>
                    <a:pt x="133" y="1271"/>
                    <a:pt x="160" y="1189"/>
                    <a:pt x="171" y="1105"/>
                  </a:cubicBezTo>
                  <a:cubicBezTo>
                    <a:pt x="182" y="1021"/>
                    <a:pt x="171" y="895"/>
                    <a:pt x="171" y="838"/>
                  </a:cubicBezTo>
                  <a:cubicBezTo>
                    <a:pt x="171" y="781"/>
                    <a:pt x="179" y="786"/>
                    <a:pt x="174" y="760"/>
                  </a:cubicBezTo>
                  <a:cubicBezTo>
                    <a:pt x="169" y="734"/>
                    <a:pt x="151" y="717"/>
                    <a:pt x="138" y="682"/>
                  </a:cubicBezTo>
                  <a:cubicBezTo>
                    <a:pt x="125" y="647"/>
                    <a:pt x="106" y="592"/>
                    <a:pt x="96" y="553"/>
                  </a:cubicBezTo>
                  <a:cubicBezTo>
                    <a:pt x="86" y="514"/>
                    <a:pt x="87" y="486"/>
                    <a:pt x="75" y="445"/>
                  </a:cubicBezTo>
                  <a:cubicBezTo>
                    <a:pt x="63" y="404"/>
                    <a:pt x="24" y="318"/>
                    <a:pt x="21" y="304"/>
                  </a:cubicBezTo>
                  <a:cubicBezTo>
                    <a:pt x="18" y="290"/>
                    <a:pt x="42" y="336"/>
                    <a:pt x="54" y="361"/>
                  </a:cubicBezTo>
                  <a:cubicBezTo>
                    <a:pt x="66" y="386"/>
                    <a:pt x="84" y="435"/>
                    <a:pt x="93" y="454"/>
                  </a:cubicBezTo>
                  <a:cubicBezTo>
                    <a:pt x="102" y="473"/>
                    <a:pt x="102" y="488"/>
                    <a:pt x="108" y="475"/>
                  </a:cubicBezTo>
                  <a:cubicBezTo>
                    <a:pt x="114" y="462"/>
                    <a:pt x="130" y="402"/>
                    <a:pt x="132" y="373"/>
                  </a:cubicBezTo>
                  <a:cubicBezTo>
                    <a:pt x="134" y="344"/>
                    <a:pt x="122" y="299"/>
                    <a:pt x="123" y="298"/>
                  </a:cubicBezTo>
                  <a:cubicBezTo>
                    <a:pt x="124" y="297"/>
                    <a:pt x="139" y="337"/>
                    <a:pt x="141" y="364"/>
                  </a:cubicBezTo>
                  <a:cubicBezTo>
                    <a:pt x="143" y="391"/>
                    <a:pt x="140" y="436"/>
                    <a:pt x="135" y="463"/>
                  </a:cubicBezTo>
                  <a:cubicBezTo>
                    <a:pt x="130" y="490"/>
                    <a:pt x="113" y="499"/>
                    <a:pt x="114" y="526"/>
                  </a:cubicBezTo>
                  <a:cubicBezTo>
                    <a:pt x="115" y="553"/>
                    <a:pt x="131" y="596"/>
                    <a:pt x="141" y="628"/>
                  </a:cubicBezTo>
                  <a:cubicBezTo>
                    <a:pt x="151" y="660"/>
                    <a:pt x="166" y="705"/>
                    <a:pt x="174" y="718"/>
                  </a:cubicBezTo>
                  <a:cubicBezTo>
                    <a:pt x="182" y="731"/>
                    <a:pt x="183" y="725"/>
                    <a:pt x="189" y="706"/>
                  </a:cubicBezTo>
                  <a:cubicBezTo>
                    <a:pt x="195" y="687"/>
                    <a:pt x="205" y="644"/>
                    <a:pt x="213" y="601"/>
                  </a:cubicBezTo>
                  <a:cubicBezTo>
                    <a:pt x="221" y="558"/>
                    <a:pt x="231" y="483"/>
                    <a:pt x="234" y="448"/>
                  </a:cubicBezTo>
                  <a:cubicBezTo>
                    <a:pt x="237" y="413"/>
                    <a:pt x="244" y="420"/>
                    <a:pt x="234" y="388"/>
                  </a:cubicBezTo>
                  <a:cubicBezTo>
                    <a:pt x="224" y="356"/>
                    <a:pt x="191" y="300"/>
                    <a:pt x="177" y="256"/>
                  </a:cubicBezTo>
                  <a:cubicBezTo>
                    <a:pt x="163" y="212"/>
                    <a:pt x="151" y="131"/>
                    <a:pt x="150" y="124"/>
                  </a:cubicBezTo>
                  <a:cubicBezTo>
                    <a:pt x="149" y="117"/>
                    <a:pt x="159" y="178"/>
                    <a:pt x="171" y="214"/>
                  </a:cubicBezTo>
                  <a:cubicBezTo>
                    <a:pt x="183" y="250"/>
                    <a:pt x="210" y="315"/>
                    <a:pt x="222" y="340"/>
                  </a:cubicBezTo>
                  <a:cubicBezTo>
                    <a:pt x="234" y="365"/>
                    <a:pt x="231" y="377"/>
                    <a:pt x="243" y="364"/>
                  </a:cubicBezTo>
                  <a:cubicBezTo>
                    <a:pt x="255" y="351"/>
                    <a:pt x="283" y="294"/>
                    <a:pt x="297" y="262"/>
                  </a:cubicBezTo>
                  <a:cubicBezTo>
                    <a:pt x="311" y="230"/>
                    <a:pt x="325" y="202"/>
                    <a:pt x="327" y="169"/>
                  </a:cubicBezTo>
                  <a:cubicBezTo>
                    <a:pt x="329" y="136"/>
                    <a:pt x="310" y="89"/>
                    <a:pt x="309" y="64"/>
                  </a:cubicBezTo>
                  <a:cubicBezTo>
                    <a:pt x="308" y="39"/>
                    <a:pt x="315" y="6"/>
                    <a:pt x="318" y="16"/>
                  </a:cubicBezTo>
                  <a:cubicBezTo>
                    <a:pt x="321" y="26"/>
                    <a:pt x="324" y="99"/>
                    <a:pt x="327" y="124"/>
                  </a:cubicBezTo>
                  <a:cubicBezTo>
                    <a:pt x="330" y="149"/>
                    <a:pt x="327" y="177"/>
                    <a:pt x="339" y="169"/>
                  </a:cubicBezTo>
                  <a:cubicBezTo>
                    <a:pt x="351" y="161"/>
                    <a:pt x="381" y="100"/>
                    <a:pt x="399" y="73"/>
                  </a:cubicBezTo>
                  <a:cubicBezTo>
                    <a:pt x="417" y="46"/>
                    <a:pt x="440" y="12"/>
                    <a:pt x="447" y="7"/>
                  </a:cubicBezTo>
                  <a:cubicBezTo>
                    <a:pt x="454" y="2"/>
                    <a:pt x="457" y="18"/>
                    <a:pt x="444" y="43"/>
                  </a:cubicBezTo>
                  <a:cubicBezTo>
                    <a:pt x="431" y="68"/>
                    <a:pt x="388" y="126"/>
                    <a:pt x="369" y="160"/>
                  </a:cubicBezTo>
                  <a:cubicBezTo>
                    <a:pt x="350" y="194"/>
                    <a:pt x="346" y="213"/>
                    <a:pt x="330" y="247"/>
                  </a:cubicBezTo>
                  <a:cubicBezTo>
                    <a:pt x="314" y="281"/>
                    <a:pt x="282" y="339"/>
                    <a:pt x="270" y="364"/>
                  </a:cubicBezTo>
                  <a:cubicBezTo>
                    <a:pt x="258" y="389"/>
                    <a:pt x="262" y="376"/>
                    <a:pt x="258" y="397"/>
                  </a:cubicBezTo>
                  <a:cubicBezTo>
                    <a:pt x="254" y="418"/>
                    <a:pt x="250" y="457"/>
                    <a:pt x="246" y="493"/>
                  </a:cubicBezTo>
                  <a:cubicBezTo>
                    <a:pt x="242" y="529"/>
                    <a:pt x="239" y="573"/>
                    <a:pt x="231" y="616"/>
                  </a:cubicBezTo>
                  <a:cubicBezTo>
                    <a:pt x="223" y="659"/>
                    <a:pt x="204" y="702"/>
                    <a:pt x="198" y="751"/>
                  </a:cubicBezTo>
                  <a:cubicBezTo>
                    <a:pt x="192" y="800"/>
                    <a:pt x="193" y="871"/>
                    <a:pt x="192" y="913"/>
                  </a:cubicBezTo>
                  <a:cubicBezTo>
                    <a:pt x="191" y="955"/>
                    <a:pt x="192" y="978"/>
                    <a:pt x="192" y="1006"/>
                  </a:cubicBezTo>
                  <a:cubicBezTo>
                    <a:pt x="192" y="1034"/>
                    <a:pt x="181" y="1089"/>
                    <a:pt x="195" y="1081"/>
                  </a:cubicBezTo>
                  <a:cubicBezTo>
                    <a:pt x="209" y="1073"/>
                    <a:pt x="250" y="996"/>
                    <a:pt x="276" y="955"/>
                  </a:cubicBezTo>
                  <a:cubicBezTo>
                    <a:pt x="302" y="914"/>
                    <a:pt x="338" y="863"/>
                    <a:pt x="354" y="832"/>
                  </a:cubicBezTo>
                  <a:cubicBezTo>
                    <a:pt x="370" y="801"/>
                    <a:pt x="369" y="807"/>
                    <a:pt x="372" y="766"/>
                  </a:cubicBezTo>
                  <a:cubicBezTo>
                    <a:pt x="375" y="725"/>
                    <a:pt x="374" y="631"/>
                    <a:pt x="372" y="583"/>
                  </a:cubicBezTo>
                  <a:cubicBezTo>
                    <a:pt x="370" y="535"/>
                    <a:pt x="360" y="519"/>
                    <a:pt x="360" y="478"/>
                  </a:cubicBezTo>
                  <a:cubicBezTo>
                    <a:pt x="360" y="437"/>
                    <a:pt x="368" y="372"/>
                    <a:pt x="369" y="334"/>
                  </a:cubicBezTo>
                  <a:cubicBezTo>
                    <a:pt x="370" y="296"/>
                    <a:pt x="360" y="275"/>
                    <a:pt x="369" y="250"/>
                  </a:cubicBezTo>
                  <a:cubicBezTo>
                    <a:pt x="378" y="225"/>
                    <a:pt x="410" y="207"/>
                    <a:pt x="426" y="181"/>
                  </a:cubicBezTo>
                  <a:cubicBezTo>
                    <a:pt x="442" y="155"/>
                    <a:pt x="450" y="120"/>
                    <a:pt x="465" y="91"/>
                  </a:cubicBezTo>
                  <a:cubicBezTo>
                    <a:pt x="480" y="62"/>
                    <a:pt x="511" y="14"/>
                    <a:pt x="516" y="7"/>
                  </a:cubicBezTo>
                  <a:cubicBezTo>
                    <a:pt x="521" y="0"/>
                    <a:pt x="506" y="31"/>
                    <a:pt x="498" y="49"/>
                  </a:cubicBezTo>
                  <a:cubicBezTo>
                    <a:pt x="490" y="67"/>
                    <a:pt x="477" y="95"/>
                    <a:pt x="468" y="115"/>
                  </a:cubicBezTo>
                  <a:cubicBezTo>
                    <a:pt x="459" y="135"/>
                    <a:pt x="452" y="153"/>
                    <a:pt x="444" y="169"/>
                  </a:cubicBezTo>
                  <a:cubicBezTo>
                    <a:pt x="436" y="185"/>
                    <a:pt x="432" y="194"/>
                    <a:pt x="423" y="208"/>
                  </a:cubicBezTo>
                  <a:cubicBezTo>
                    <a:pt x="414" y="222"/>
                    <a:pt x="395" y="242"/>
                    <a:pt x="387" y="256"/>
                  </a:cubicBezTo>
                  <a:cubicBezTo>
                    <a:pt x="379" y="270"/>
                    <a:pt x="378" y="270"/>
                    <a:pt x="375" y="295"/>
                  </a:cubicBezTo>
                  <a:cubicBezTo>
                    <a:pt x="372" y="320"/>
                    <a:pt x="368" y="362"/>
                    <a:pt x="369" y="406"/>
                  </a:cubicBezTo>
                  <a:cubicBezTo>
                    <a:pt x="370" y="450"/>
                    <a:pt x="378" y="513"/>
                    <a:pt x="381" y="562"/>
                  </a:cubicBezTo>
                  <a:cubicBezTo>
                    <a:pt x="384" y="611"/>
                    <a:pt x="387" y="665"/>
                    <a:pt x="387" y="703"/>
                  </a:cubicBezTo>
                  <a:cubicBezTo>
                    <a:pt x="387" y="741"/>
                    <a:pt x="370" y="792"/>
                    <a:pt x="381" y="793"/>
                  </a:cubicBezTo>
                  <a:cubicBezTo>
                    <a:pt x="392" y="794"/>
                    <a:pt x="428" y="741"/>
                    <a:pt x="456" y="709"/>
                  </a:cubicBezTo>
                  <a:cubicBezTo>
                    <a:pt x="484" y="677"/>
                    <a:pt x="516" y="636"/>
                    <a:pt x="546" y="601"/>
                  </a:cubicBezTo>
                  <a:cubicBezTo>
                    <a:pt x="576" y="566"/>
                    <a:pt x="609" y="535"/>
                    <a:pt x="636" y="499"/>
                  </a:cubicBezTo>
                  <a:cubicBezTo>
                    <a:pt x="663" y="463"/>
                    <a:pt x="686" y="438"/>
                    <a:pt x="711" y="385"/>
                  </a:cubicBezTo>
                  <a:cubicBezTo>
                    <a:pt x="736" y="332"/>
                    <a:pt x="778" y="205"/>
                    <a:pt x="789" y="181"/>
                  </a:cubicBezTo>
                  <a:cubicBezTo>
                    <a:pt x="800" y="157"/>
                    <a:pt x="790" y="199"/>
                    <a:pt x="777" y="241"/>
                  </a:cubicBezTo>
                  <a:cubicBezTo>
                    <a:pt x="764" y="283"/>
                    <a:pt x="731" y="389"/>
                    <a:pt x="708" y="436"/>
                  </a:cubicBezTo>
                  <a:cubicBezTo>
                    <a:pt x="685" y="483"/>
                    <a:pt x="663" y="492"/>
                    <a:pt x="636" y="526"/>
                  </a:cubicBezTo>
                  <a:cubicBezTo>
                    <a:pt x="609" y="560"/>
                    <a:pt x="582" y="596"/>
                    <a:pt x="546" y="640"/>
                  </a:cubicBezTo>
                  <a:cubicBezTo>
                    <a:pt x="510" y="684"/>
                    <a:pt x="449" y="757"/>
                    <a:pt x="420" y="790"/>
                  </a:cubicBezTo>
                  <a:cubicBezTo>
                    <a:pt x="391" y="823"/>
                    <a:pt x="390" y="809"/>
                    <a:pt x="369" y="838"/>
                  </a:cubicBezTo>
                  <a:cubicBezTo>
                    <a:pt x="348" y="867"/>
                    <a:pt x="322" y="924"/>
                    <a:pt x="297" y="967"/>
                  </a:cubicBezTo>
                  <a:cubicBezTo>
                    <a:pt x="272" y="1010"/>
                    <a:pt x="236" y="1056"/>
                    <a:pt x="216" y="1099"/>
                  </a:cubicBezTo>
                  <a:cubicBezTo>
                    <a:pt x="196" y="1142"/>
                    <a:pt x="201" y="1159"/>
                    <a:pt x="180" y="1225"/>
                  </a:cubicBezTo>
                  <a:cubicBezTo>
                    <a:pt x="159" y="1291"/>
                    <a:pt x="117" y="1431"/>
                    <a:pt x="90" y="1498"/>
                  </a:cubicBezTo>
                  <a:cubicBezTo>
                    <a:pt x="63" y="1565"/>
                    <a:pt x="30" y="1619"/>
                    <a:pt x="15" y="1630"/>
                  </a:cubicBezTo>
                  <a:cubicBezTo>
                    <a:pt x="0" y="1641"/>
                    <a:pt x="0" y="1602"/>
                    <a:pt x="0" y="1564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932760" y="2790360"/>
              <a:ext cx="511920" cy="1431360"/>
            </a:xfrm>
            <a:custGeom>
              <a:avLst/>
              <a:gdLst/>
              <a:ahLst/>
              <a:rect l="l" t="t" r="r" b="b"/>
              <a:pathLst>
                <a:path w="547" h="1535">
                  <a:moveTo>
                    <a:pt x="297" y="1446"/>
                  </a:moveTo>
                  <a:cubicBezTo>
                    <a:pt x="297" y="1390"/>
                    <a:pt x="309" y="1243"/>
                    <a:pt x="312" y="1167"/>
                  </a:cubicBezTo>
                  <a:cubicBezTo>
                    <a:pt x="315" y="1091"/>
                    <a:pt x="322" y="1031"/>
                    <a:pt x="318" y="987"/>
                  </a:cubicBezTo>
                  <a:cubicBezTo>
                    <a:pt x="314" y="943"/>
                    <a:pt x="313" y="957"/>
                    <a:pt x="288" y="903"/>
                  </a:cubicBezTo>
                  <a:cubicBezTo>
                    <a:pt x="263" y="849"/>
                    <a:pt x="191" y="720"/>
                    <a:pt x="165" y="663"/>
                  </a:cubicBezTo>
                  <a:cubicBezTo>
                    <a:pt x="139" y="606"/>
                    <a:pt x="145" y="581"/>
                    <a:pt x="132" y="558"/>
                  </a:cubicBezTo>
                  <a:cubicBezTo>
                    <a:pt x="119" y="535"/>
                    <a:pt x="105" y="553"/>
                    <a:pt x="87" y="522"/>
                  </a:cubicBezTo>
                  <a:cubicBezTo>
                    <a:pt x="69" y="491"/>
                    <a:pt x="34" y="410"/>
                    <a:pt x="21" y="372"/>
                  </a:cubicBezTo>
                  <a:cubicBezTo>
                    <a:pt x="8" y="334"/>
                    <a:pt x="0" y="326"/>
                    <a:pt x="9" y="294"/>
                  </a:cubicBezTo>
                  <a:cubicBezTo>
                    <a:pt x="18" y="262"/>
                    <a:pt x="57" y="222"/>
                    <a:pt x="75" y="177"/>
                  </a:cubicBezTo>
                  <a:cubicBezTo>
                    <a:pt x="93" y="132"/>
                    <a:pt x="106" y="42"/>
                    <a:pt x="114" y="21"/>
                  </a:cubicBezTo>
                  <a:cubicBezTo>
                    <a:pt x="122" y="0"/>
                    <a:pt x="127" y="26"/>
                    <a:pt x="123" y="51"/>
                  </a:cubicBezTo>
                  <a:cubicBezTo>
                    <a:pt x="119" y="76"/>
                    <a:pt x="102" y="129"/>
                    <a:pt x="87" y="171"/>
                  </a:cubicBezTo>
                  <a:cubicBezTo>
                    <a:pt x="72" y="213"/>
                    <a:pt x="35" y="266"/>
                    <a:pt x="30" y="306"/>
                  </a:cubicBezTo>
                  <a:cubicBezTo>
                    <a:pt x="25" y="346"/>
                    <a:pt x="45" y="379"/>
                    <a:pt x="57" y="414"/>
                  </a:cubicBezTo>
                  <a:cubicBezTo>
                    <a:pt x="69" y="449"/>
                    <a:pt x="85" y="491"/>
                    <a:pt x="102" y="516"/>
                  </a:cubicBezTo>
                  <a:cubicBezTo>
                    <a:pt x="119" y="541"/>
                    <a:pt x="140" y="530"/>
                    <a:pt x="159" y="564"/>
                  </a:cubicBezTo>
                  <a:cubicBezTo>
                    <a:pt x="178" y="598"/>
                    <a:pt x="196" y="671"/>
                    <a:pt x="216" y="717"/>
                  </a:cubicBezTo>
                  <a:cubicBezTo>
                    <a:pt x="236" y="763"/>
                    <a:pt x="262" y="802"/>
                    <a:pt x="282" y="840"/>
                  </a:cubicBezTo>
                  <a:cubicBezTo>
                    <a:pt x="302" y="878"/>
                    <a:pt x="318" y="939"/>
                    <a:pt x="336" y="945"/>
                  </a:cubicBezTo>
                  <a:cubicBezTo>
                    <a:pt x="354" y="951"/>
                    <a:pt x="371" y="916"/>
                    <a:pt x="390" y="879"/>
                  </a:cubicBezTo>
                  <a:cubicBezTo>
                    <a:pt x="409" y="842"/>
                    <a:pt x="433" y="776"/>
                    <a:pt x="453" y="720"/>
                  </a:cubicBezTo>
                  <a:cubicBezTo>
                    <a:pt x="473" y="664"/>
                    <a:pt x="499" y="591"/>
                    <a:pt x="510" y="543"/>
                  </a:cubicBezTo>
                  <a:cubicBezTo>
                    <a:pt x="521" y="495"/>
                    <a:pt x="521" y="475"/>
                    <a:pt x="522" y="429"/>
                  </a:cubicBezTo>
                  <a:cubicBezTo>
                    <a:pt x="523" y="383"/>
                    <a:pt x="517" y="281"/>
                    <a:pt x="519" y="264"/>
                  </a:cubicBezTo>
                  <a:cubicBezTo>
                    <a:pt x="521" y="247"/>
                    <a:pt x="531" y="283"/>
                    <a:pt x="534" y="324"/>
                  </a:cubicBezTo>
                  <a:cubicBezTo>
                    <a:pt x="537" y="365"/>
                    <a:pt x="547" y="455"/>
                    <a:pt x="540" y="513"/>
                  </a:cubicBezTo>
                  <a:cubicBezTo>
                    <a:pt x="533" y="571"/>
                    <a:pt x="509" y="624"/>
                    <a:pt x="492" y="675"/>
                  </a:cubicBezTo>
                  <a:cubicBezTo>
                    <a:pt x="475" y="726"/>
                    <a:pt x="461" y="774"/>
                    <a:pt x="441" y="822"/>
                  </a:cubicBezTo>
                  <a:cubicBezTo>
                    <a:pt x="421" y="870"/>
                    <a:pt x="387" y="917"/>
                    <a:pt x="372" y="963"/>
                  </a:cubicBezTo>
                  <a:cubicBezTo>
                    <a:pt x="357" y="1009"/>
                    <a:pt x="357" y="1014"/>
                    <a:pt x="351" y="1098"/>
                  </a:cubicBezTo>
                  <a:cubicBezTo>
                    <a:pt x="345" y="1182"/>
                    <a:pt x="343" y="1399"/>
                    <a:pt x="336" y="1467"/>
                  </a:cubicBezTo>
                  <a:cubicBezTo>
                    <a:pt x="329" y="1535"/>
                    <a:pt x="316" y="1510"/>
                    <a:pt x="309" y="1506"/>
                  </a:cubicBezTo>
                  <a:cubicBezTo>
                    <a:pt x="302" y="1502"/>
                    <a:pt x="297" y="1502"/>
                    <a:pt x="297" y="144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8520" y="2790360"/>
              <a:ext cx="162720" cy="679680"/>
            </a:xfrm>
            <a:custGeom>
              <a:avLst/>
              <a:gdLst/>
              <a:ahLst/>
              <a:rect l="l" t="t" r="r" b="b"/>
              <a:pathLst>
                <a:path w="174" h="729">
                  <a:moveTo>
                    <a:pt x="51" y="681"/>
                  </a:moveTo>
                  <a:cubicBezTo>
                    <a:pt x="60" y="636"/>
                    <a:pt x="69" y="591"/>
                    <a:pt x="75" y="537"/>
                  </a:cubicBezTo>
                  <a:cubicBezTo>
                    <a:pt x="81" y="483"/>
                    <a:pt x="91" y="400"/>
                    <a:pt x="87" y="357"/>
                  </a:cubicBezTo>
                  <a:cubicBezTo>
                    <a:pt x="83" y="314"/>
                    <a:pt x="62" y="311"/>
                    <a:pt x="54" y="282"/>
                  </a:cubicBezTo>
                  <a:cubicBezTo>
                    <a:pt x="46" y="253"/>
                    <a:pt x="45" y="214"/>
                    <a:pt x="36" y="183"/>
                  </a:cubicBezTo>
                  <a:cubicBezTo>
                    <a:pt x="27" y="152"/>
                    <a:pt x="0" y="98"/>
                    <a:pt x="0" y="93"/>
                  </a:cubicBezTo>
                  <a:cubicBezTo>
                    <a:pt x="0" y="88"/>
                    <a:pt x="25" y="123"/>
                    <a:pt x="36" y="150"/>
                  </a:cubicBezTo>
                  <a:cubicBezTo>
                    <a:pt x="47" y="177"/>
                    <a:pt x="61" y="228"/>
                    <a:pt x="69" y="255"/>
                  </a:cubicBezTo>
                  <a:cubicBezTo>
                    <a:pt x="77" y="282"/>
                    <a:pt x="81" y="315"/>
                    <a:pt x="87" y="312"/>
                  </a:cubicBezTo>
                  <a:cubicBezTo>
                    <a:pt x="93" y="309"/>
                    <a:pt x="101" y="264"/>
                    <a:pt x="108" y="237"/>
                  </a:cubicBezTo>
                  <a:cubicBezTo>
                    <a:pt x="115" y="210"/>
                    <a:pt x="123" y="172"/>
                    <a:pt x="129" y="147"/>
                  </a:cubicBezTo>
                  <a:cubicBezTo>
                    <a:pt x="135" y="122"/>
                    <a:pt x="139" y="107"/>
                    <a:pt x="144" y="84"/>
                  </a:cubicBezTo>
                  <a:cubicBezTo>
                    <a:pt x="149" y="61"/>
                    <a:pt x="155" y="12"/>
                    <a:pt x="159" y="6"/>
                  </a:cubicBezTo>
                  <a:cubicBezTo>
                    <a:pt x="163" y="0"/>
                    <a:pt x="174" y="17"/>
                    <a:pt x="171" y="45"/>
                  </a:cubicBezTo>
                  <a:cubicBezTo>
                    <a:pt x="168" y="73"/>
                    <a:pt x="148" y="130"/>
                    <a:pt x="138" y="174"/>
                  </a:cubicBezTo>
                  <a:cubicBezTo>
                    <a:pt x="128" y="218"/>
                    <a:pt x="113" y="278"/>
                    <a:pt x="108" y="312"/>
                  </a:cubicBezTo>
                  <a:cubicBezTo>
                    <a:pt x="103" y="346"/>
                    <a:pt x="105" y="347"/>
                    <a:pt x="105" y="381"/>
                  </a:cubicBezTo>
                  <a:cubicBezTo>
                    <a:pt x="105" y="415"/>
                    <a:pt x="114" y="458"/>
                    <a:pt x="108" y="516"/>
                  </a:cubicBezTo>
                  <a:cubicBezTo>
                    <a:pt x="102" y="574"/>
                    <a:pt x="85" y="651"/>
                    <a:pt x="69" y="729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122480" y="2713680"/>
              <a:ext cx="622440" cy="28260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83080" y="2557440"/>
              <a:ext cx="719640" cy="300240"/>
            </a:xfrm>
            <a:custGeom>
              <a:avLst/>
              <a:gdLst/>
              <a:ahLst/>
              <a:rect l="l" t="t" r="r" b="b"/>
              <a:pathLst>
                <a:path w="739" h="292">
                  <a:moveTo>
                    <a:pt x="156" y="98"/>
                  </a:moveTo>
                  <a:cubicBezTo>
                    <a:pt x="158" y="98"/>
                    <a:pt x="108" y="116"/>
                    <a:pt x="90" y="128"/>
                  </a:cubicBezTo>
                  <a:cubicBezTo>
                    <a:pt x="72" y="140"/>
                    <a:pt x="56" y="154"/>
                    <a:pt x="48" y="172"/>
                  </a:cubicBezTo>
                  <a:cubicBezTo>
                    <a:pt x="40" y="190"/>
                    <a:pt x="32" y="219"/>
                    <a:pt x="42" y="236"/>
                  </a:cubicBezTo>
                  <a:cubicBezTo>
                    <a:pt x="52" y="253"/>
                    <a:pt x="72" y="266"/>
                    <a:pt x="110" y="274"/>
                  </a:cubicBezTo>
                  <a:cubicBezTo>
                    <a:pt x="148" y="282"/>
                    <a:pt x="228" y="285"/>
                    <a:pt x="268" y="284"/>
                  </a:cubicBezTo>
                  <a:cubicBezTo>
                    <a:pt x="308" y="283"/>
                    <a:pt x="327" y="280"/>
                    <a:pt x="352" y="268"/>
                  </a:cubicBezTo>
                  <a:cubicBezTo>
                    <a:pt x="377" y="256"/>
                    <a:pt x="398" y="224"/>
                    <a:pt x="416" y="210"/>
                  </a:cubicBezTo>
                  <a:cubicBezTo>
                    <a:pt x="434" y="196"/>
                    <a:pt x="443" y="179"/>
                    <a:pt x="460" y="186"/>
                  </a:cubicBezTo>
                  <a:cubicBezTo>
                    <a:pt x="477" y="193"/>
                    <a:pt x="483" y="233"/>
                    <a:pt x="518" y="250"/>
                  </a:cubicBezTo>
                  <a:cubicBezTo>
                    <a:pt x="553" y="267"/>
                    <a:pt x="633" y="292"/>
                    <a:pt x="668" y="290"/>
                  </a:cubicBezTo>
                  <a:cubicBezTo>
                    <a:pt x="703" y="288"/>
                    <a:pt x="715" y="261"/>
                    <a:pt x="726" y="240"/>
                  </a:cubicBezTo>
                  <a:cubicBezTo>
                    <a:pt x="737" y="219"/>
                    <a:pt x="739" y="184"/>
                    <a:pt x="734" y="162"/>
                  </a:cubicBezTo>
                  <a:cubicBezTo>
                    <a:pt x="729" y="140"/>
                    <a:pt x="727" y="127"/>
                    <a:pt x="698" y="108"/>
                  </a:cubicBezTo>
                  <a:cubicBezTo>
                    <a:pt x="669" y="89"/>
                    <a:pt x="622" y="61"/>
                    <a:pt x="562" y="48"/>
                  </a:cubicBezTo>
                  <a:cubicBezTo>
                    <a:pt x="502" y="35"/>
                    <a:pt x="404" y="37"/>
                    <a:pt x="340" y="30"/>
                  </a:cubicBezTo>
                  <a:cubicBezTo>
                    <a:pt x="276" y="23"/>
                    <a:pt x="224" y="12"/>
                    <a:pt x="178" y="8"/>
                  </a:cubicBezTo>
                  <a:cubicBezTo>
                    <a:pt x="132" y="4"/>
                    <a:pt x="90" y="0"/>
                    <a:pt x="62" y="4"/>
                  </a:cubicBezTo>
                  <a:cubicBezTo>
                    <a:pt x="34" y="8"/>
                    <a:pt x="16" y="18"/>
                    <a:pt x="8" y="30"/>
                  </a:cubicBezTo>
                  <a:cubicBezTo>
                    <a:pt x="0" y="42"/>
                    <a:pt x="5" y="58"/>
                    <a:pt x="16" y="74"/>
                  </a:cubicBezTo>
                  <a:cubicBezTo>
                    <a:pt x="27" y="90"/>
                    <a:pt x="52" y="125"/>
                    <a:pt x="76" y="128"/>
                  </a:cubicBezTo>
                  <a:cubicBezTo>
                    <a:pt x="100" y="131"/>
                    <a:pt x="154" y="98"/>
                    <a:pt x="156" y="9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29200" y="2609640"/>
              <a:ext cx="491040" cy="265320"/>
            </a:xfrm>
            <a:custGeom>
              <a:avLst/>
              <a:gdLst/>
              <a:ahLst/>
              <a:rect l="l" t="t" r="r" b="b"/>
              <a:pathLst>
                <a:path w="525" h="237">
                  <a:moveTo>
                    <a:pt x="22" y="130"/>
                  </a:moveTo>
                  <a:cubicBezTo>
                    <a:pt x="15" y="142"/>
                    <a:pt x="0" y="162"/>
                    <a:pt x="4" y="178"/>
                  </a:cubicBezTo>
                  <a:cubicBezTo>
                    <a:pt x="8" y="194"/>
                    <a:pt x="23" y="214"/>
                    <a:pt x="44" y="224"/>
                  </a:cubicBezTo>
                  <a:cubicBezTo>
                    <a:pt x="65" y="234"/>
                    <a:pt x="102" y="237"/>
                    <a:pt x="130" y="236"/>
                  </a:cubicBezTo>
                  <a:cubicBezTo>
                    <a:pt x="158" y="235"/>
                    <a:pt x="172" y="217"/>
                    <a:pt x="210" y="216"/>
                  </a:cubicBezTo>
                  <a:cubicBezTo>
                    <a:pt x="248" y="215"/>
                    <a:pt x="317" y="235"/>
                    <a:pt x="356" y="230"/>
                  </a:cubicBezTo>
                  <a:cubicBezTo>
                    <a:pt x="395" y="225"/>
                    <a:pt x="419" y="207"/>
                    <a:pt x="446" y="184"/>
                  </a:cubicBezTo>
                  <a:cubicBezTo>
                    <a:pt x="473" y="161"/>
                    <a:pt x="507" y="117"/>
                    <a:pt x="516" y="94"/>
                  </a:cubicBezTo>
                  <a:cubicBezTo>
                    <a:pt x="525" y="71"/>
                    <a:pt x="524" y="63"/>
                    <a:pt x="498" y="48"/>
                  </a:cubicBezTo>
                  <a:cubicBezTo>
                    <a:pt x="472" y="33"/>
                    <a:pt x="403" y="12"/>
                    <a:pt x="360" y="6"/>
                  </a:cubicBezTo>
                  <a:cubicBezTo>
                    <a:pt x="317" y="0"/>
                    <a:pt x="277" y="5"/>
                    <a:pt x="240" y="14"/>
                  </a:cubicBezTo>
                  <a:cubicBezTo>
                    <a:pt x="203" y="23"/>
                    <a:pt x="168" y="45"/>
                    <a:pt x="136" y="60"/>
                  </a:cubicBezTo>
                  <a:cubicBezTo>
                    <a:pt x="104" y="75"/>
                    <a:pt x="66" y="93"/>
                    <a:pt x="46" y="106"/>
                  </a:cubicBezTo>
                  <a:cubicBezTo>
                    <a:pt x="26" y="119"/>
                    <a:pt x="29" y="118"/>
                    <a:pt x="22" y="1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30200" y="2772360"/>
              <a:ext cx="392760" cy="176040"/>
            </a:xfrm>
            <a:custGeom>
              <a:avLst/>
              <a:gdLst/>
              <a:ahLst/>
              <a:rect l="l" t="t" r="r" b="b"/>
              <a:pathLst>
                <a:path w="420" h="189">
                  <a:moveTo>
                    <a:pt x="112" y="3"/>
                  </a:moveTo>
                  <a:cubicBezTo>
                    <a:pt x="97" y="6"/>
                    <a:pt x="58" y="19"/>
                    <a:pt x="40" y="29"/>
                  </a:cubicBezTo>
                  <a:cubicBezTo>
                    <a:pt x="22" y="39"/>
                    <a:pt x="4" y="46"/>
                    <a:pt x="2" y="61"/>
                  </a:cubicBezTo>
                  <a:cubicBezTo>
                    <a:pt x="0" y="76"/>
                    <a:pt x="9" y="102"/>
                    <a:pt x="26" y="117"/>
                  </a:cubicBezTo>
                  <a:cubicBezTo>
                    <a:pt x="43" y="132"/>
                    <a:pt x="77" y="138"/>
                    <a:pt x="104" y="149"/>
                  </a:cubicBezTo>
                  <a:cubicBezTo>
                    <a:pt x="131" y="160"/>
                    <a:pt x="159" y="181"/>
                    <a:pt x="188" y="185"/>
                  </a:cubicBezTo>
                  <a:cubicBezTo>
                    <a:pt x="217" y="189"/>
                    <a:pt x="248" y="180"/>
                    <a:pt x="280" y="173"/>
                  </a:cubicBezTo>
                  <a:cubicBezTo>
                    <a:pt x="312" y="166"/>
                    <a:pt x="357" y="155"/>
                    <a:pt x="380" y="141"/>
                  </a:cubicBezTo>
                  <a:cubicBezTo>
                    <a:pt x="403" y="127"/>
                    <a:pt x="420" y="106"/>
                    <a:pt x="420" y="91"/>
                  </a:cubicBezTo>
                  <a:cubicBezTo>
                    <a:pt x="420" y="76"/>
                    <a:pt x="407" y="56"/>
                    <a:pt x="382" y="49"/>
                  </a:cubicBezTo>
                  <a:cubicBezTo>
                    <a:pt x="357" y="42"/>
                    <a:pt x="302" y="51"/>
                    <a:pt x="268" y="51"/>
                  </a:cubicBezTo>
                  <a:cubicBezTo>
                    <a:pt x="234" y="51"/>
                    <a:pt x="203" y="54"/>
                    <a:pt x="180" y="47"/>
                  </a:cubicBezTo>
                  <a:cubicBezTo>
                    <a:pt x="157" y="40"/>
                    <a:pt x="144" y="18"/>
                    <a:pt x="132" y="11"/>
                  </a:cubicBezTo>
                  <a:cubicBezTo>
                    <a:pt x="120" y="4"/>
                    <a:pt x="127" y="0"/>
                    <a:pt x="112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113120" y="2945160"/>
              <a:ext cx="338760" cy="15372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7356600" y="2205000"/>
            <a:ext cx="1787400" cy="3898800"/>
            <a:chOff x="7356600" y="2205000"/>
            <a:chExt cx="1787400" cy="3898800"/>
          </a:xfrm>
        </p:grpSpPr>
        <p:sp>
          <p:nvSpPr>
            <p:cNvPr id="1442" name=""/>
            <p:cNvSpPr/>
            <p:nvPr/>
          </p:nvSpPr>
          <p:spPr>
            <a:xfrm>
              <a:off x="8207640" y="2226240"/>
              <a:ext cx="936360" cy="437040"/>
            </a:xfrm>
            <a:custGeom>
              <a:avLst/>
              <a:gdLst/>
              <a:ahLst/>
              <a:rect l="l" t="t" r="r" b="b"/>
              <a:pathLst>
                <a:path w="910" h="427">
                  <a:moveTo>
                    <a:pt x="71" y="3"/>
                  </a:moveTo>
                  <a:cubicBezTo>
                    <a:pt x="35" y="13"/>
                    <a:pt x="0" y="24"/>
                    <a:pt x="1" y="43"/>
                  </a:cubicBezTo>
                  <a:cubicBezTo>
                    <a:pt x="2" y="62"/>
                    <a:pt x="43" y="84"/>
                    <a:pt x="79" y="119"/>
                  </a:cubicBezTo>
                  <a:cubicBezTo>
                    <a:pt x="115" y="154"/>
                    <a:pt x="175" y="231"/>
                    <a:pt x="219" y="253"/>
                  </a:cubicBezTo>
                  <a:cubicBezTo>
                    <a:pt x="263" y="275"/>
                    <a:pt x="307" y="256"/>
                    <a:pt x="345" y="253"/>
                  </a:cubicBezTo>
                  <a:cubicBezTo>
                    <a:pt x="383" y="250"/>
                    <a:pt x="409" y="225"/>
                    <a:pt x="449" y="233"/>
                  </a:cubicBezTo>
                  <a:cubicBezTo>
                    <a:pt x="489" y="241"/>
                    <a:pt x="540" y="275"/>
                    <a:pt x="585" y="301"/>
                  </a:cubicBezTo>
                  <a:cubicBezTo>
                    <a:pt x="630" y="327"/>
                    <a:pt x="681" y="368"/>
                    <a:pt x="721" y="389"/>
                  </a:cubicBezTo>
                  <a:cubicBezTo>
                    <a:pt x="761" y="410"/>
                    <a:pt x="797" y="423"/>
                    <a:pt x="827" y="425"/>
                  </a:cubicBezTo>
                  <a:cubicBezTo>
                    <a:pt x="857" y="427"/>
                    <a:pt x="892" y="423"/>
                    <a:pt x="901" y="401"/>
                  </a:cubicBezTo>
                  <a:cubicBezTo>
                    <a:pt x="910" y="379"/>
                    <a:pt x="907" y="330"/>
                    <a:pt x="879" y="293"/>
                  </a:cubicBezTo>
                  <a:cubicBezTo>
                    <a:pt x="851" y="256"/>
                    <a:pt x="783" y="210"/>
                    <a:pt x="735" y="177"/>
                  </a:cubicBezTo>
                  <a:cubicBezTo>
                    <a:pt x="687" y="144"/>
                    <a:pt x="647" y="116"/>
                    <a:pt x="589" y="95"/>
                  </a:cubicBezTo>
                  <a:cubicBezTo>
                    <a:pt x="531" y="74"/>
                    <a:pt x="448" y="63"/>
                    <a:pt x="385" y="49"/>
                  </a:cubicBezTo>
                  <a:cubicBezTo>
                    <a:pt x="322" y="35"/>
                    <a:pt x="255" y="17"/>
                    <a:pt x="211" y="9"/>
                  </a:cubicBezTo>
                  <a:cubicBezTo>
                    <a:pt x="167" y="1"/>
                    <a:pt x="147" y="2"/>
                    <a:pt x="121" y="1"/>
                  </a:cubicBezTo>
                  <a:cubicBezTo>
                    <a:pt x="95" y="0"/>
                    <a:pt x="66" y="3"/>
                    <a:pt x="55" y="3"/>
                  </a:cubicBez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496280" y="2567520"/>
              <a:ext cx="825120" cy="3536280"/>
            </a:xfrm>
            <a:custGeom>
              <a:avLst/>
              <a:gdLst/>
              <a:ahLst/>
              <a:rect l="l" t="t" r="r" b="b"/>
              <a:pathLst>
                <a:path w="802" h="3453">
                  <a:moveTo>
                    <a:pt x="620" y="3406"/>
                  </a:moveTo>
                  <a:cubicBezTo>
                    <a:pt x="598" y="3359"/>
                    <a:pt x="641" y="3290"/>
                    <a:pt x="650" y="3130"/>
                  </a:cubicBezTo>
                  <a:cubicBezTo>
                    <a:pt x="659" y="2970"/>
                    <a:pt x="669" y="2717"/>
                    <a:pt x="674" y="2446"/>
                  </a:cubicBezTo>
                  <a:cubicBezTo>
                    <a:pt x="679" y="2175"/>
                    <a:pt x="679" y="1681"/>
                    <a:pt x="680" y="1504"/>
                  </a:cubicBezTo>
                  <a:cubicBezTo>
                    <a:pt x="681" y="1327"/>
                    <a:pt x="694" y="1425"/>
                    <a:pt x="680" y="1384"/>
                  </a:cubicBezTo>
                  <a:cubicBezTo>
                    <a:pt x="666" y="1343"/>
                    <a:pt x="629" y="1323"/>
                    <a:pt x="596" y="1258"/>
                  </a:cubicBezTo>
                  <a:cubicBezTo>
                    <a:pt x="563" y="1193"/>
                    <a:pt x="524" y="1062"/>
                    <a:pt x="482" y="994"/>
                  </a:cubicBezTo>
                  <a:cubicBezTo>
                    <a:pt x="440" y="926"/>
                    <a:pt x="379" y="908"/>
                    <a:pt x="344" y="850"/>
                  </a:cubicBezTo>
                  <a:cubicBezTo>
                    <a:pt x="309" y="792"/>
                    <a:pt x="303" y="702"/>
                    <a:pt x="272" y="646"/>
                  </a:cubicBezTo>
                  <a:cubicBezTo>
                    <a:pt x="241" y="590"/>
                    <a:pt x="191" y="564"/>
                    <a:pt x="158" y="514"/>
                  </a:cubicBezTo>
                  <a:cubicBezTo>
                    <a:pt x="125" y="464"/>
                    <a:pt x="100" y="428"/>
                    <a:pt x="74" y="346"/>
                  </a:cubicBezTo>
                  <a:cubicBezTo>
                    <a:pt x="48" y="264"/>
                    <a:pt x="4" y="44"/>
                    <a:pt x="2" y="22"/>
                  </a:cubicBezTo>
                  <a:cubicBezTo>
                    <a:pt x="0" y="0"/>
                    <a:pt x="32" y="134"/>
                    <a:pt x="62" y="214"/>
                  </a:cubicBezTo>
                  <a:cubicBezTo>
                    <a:pt x="92" y="294"/>
                    <a:pt x="138" y="434"/>
                    <a:pt x="182" y="502"/>
                  </a:cubicBezTo>
                  <a:cubicBezTo>
                    <a:pt x="226" y="570"/>
                    <a:pt x="294" y="571"/>
                    <a:pt x="326" y="622"/>
                  </a:cubicBezTo>
                  <a:cubicBezTo>
                    <a:pt x="358" y="673"/>
                    <a:pt x="341" y="749"/>
                    <a:pt x="374" y="808"/>
                  </a:cubicBezTo>
                  <a:cubicBezTo>
                    <a:pt x="407" y="867"/>
                    <a:pt x="488" y="922"/>
                    <a:pt x="524" y="976"/>
                  </a:cubicBezTo>
                  <a:cubicBezTo>
                    <a:pt x="560" y="1030"/>
                    <a:pt x="566" y="1080"/>
                    <a:pt x="590" y="1132"/>
                  </a:cubicBezTo>
                  <a:cubicBezTo>
                    <a:pt x="614" y="1184"/>
                    <a:pt x="643" y="1248"/>
                    <a:pt x="668" y="1288"/>
                  </a:cubicBezTo>
                  <a:cubicBezTo>
                    <a:pt x="693" y="1328"/>
                    <a:pt x="727" y="1328"/>
                    <a:pt x="740" y="1372"/>
                  </a:cubicBezTo>
                  <a:cubicBezTo>
                    <a:pt x="753" y="1416"/>
                    <a:pt x="746" y="1266"/>
                    <a:pt x="746" y="1552"/>
                  </a:cubicBezTo>
                  <a:cubicBezTo>
                    <a:pt x="746" y="1838"/>
                    <a:pt x="737" y="2784"/>
                    <a:pt x="740" y="3088"/>
                  </a:cubicBezTo>
                  <a:cubicBezTo>
                    <a:pt x="743" y="3392"/>
                    <a:pt x="757" y="3322"/>
                    <a:pt x="764" y="3376"/>
                  </a:cubicBezTo>
                  <a:cubicBezTo>
                    <a:pt x="771" y="3430"/>
                    <a:pt x="802" y="3408"/>
                    <a:pt x="782" y="3412"/>
                  </a:cubicBezTo>
                  <a:cubicBezTo>
                    <a:pt x="762" y="3416"/>
                    <a:pt x="642" y="3453"/>
                    <a:pt x="620" y="340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233200" y="2435400"/>
              <a:ext cx="822960" cy="1680480"/>
            </a:xfrm>
            <a:custGeom>
              <a:avLst/>
              <a:gdLst/>
              <a:ahLst/>
              <a:rect l="l" t="t" r="r" b="b"/>
              <a:pathLst>
                <a:path w="800" h="1641">
                  <a:moveTo>
                    <a:pt x="18" y="1534"/>
                  </a:moveTo>
                  <a:cubicBezTo>
                    <a:pt x="50" y="1473"/>
                    <a:pt x="83" y="1413"/>
                    <a:pt x="108" y="1342"/>
                  </a:cubicBezTo>
                  <a:cubicBezTo>
                    <a:pt x="133" y="1271"/>
                    <a:pt x="160" y="1189"/>
                    <a:pt x="171" y="1105"/>
                  </a:cubicBezTo>
                  <a:cubicBezTo>
                    <a:pt x="182" y="1021"/>
                    <a:pt x="171" y="895"/>
                    <a:pt x="171" y="838"/>
                  </a:cubicBezTo>
                  <a:cubicBezTo>
                    <a:pt x="171" y="781"/>
                    <a:pt x="179" y="786"/>
                    <a:pt x="174" y="760"/>
                  </a:cubicBezTo>
                  <a:cubicBezTo>
                    <a:pt x="169" y="734"/>
                    <a:pt x="151" y="717"/>
                    <a:pt x="138" y="682"/>
                  </a:cubicBezTo>
                  <a:cubicBezTo>
                    <a:pt x="125" y="647"/>
                    <a:pt x="106" y="592"/>
                    <a:pt x="96" y="553"/>
                  </a:cubicBezTo>
                  <a:cubicBezTo>
                    <a:pt x="86" y="514"/>
                    <a:pt x="87" y="486"/>
                    <a:pt x="75" y="445"/>
                  </a:cubicBezTo>
                  <a:cubicBezTo>
                    <a:pt x="63" y="404"/>
                    <a:pt x="24" y="318"/>
                    <a:pt x="21" y="304"/>
                  </a:cubicBezTo>
                  <a:cubicBezTo>
                    <a:pt x="18" y="290"/>
                    <a:pt x="42" y="336"/>
                    <a:pt x="54" y="361"/>
                  </a:cubicBezTo>
                  <a:cubicBezTo>
                    <a:pt x="66" y="386"/>
                    <a:pt x="84" y="435"/>
                    <a:pt x="93" y="454"/>
                  </a:cubicBezTo>
                  <a:cubicBezTo>
                    <a:pt x="102" y="473"/>
                    <a:pt x="102" y="488"/>
                    <a:pt x="108" y="475"/>
                  </a:cubicBezTo>
                  <a:cubicBezTo>
                    <a:pt x="114" y="462"/>
                    <a:pt x="130" y="402"/>
                    <a:pt x="132" y="373"/>
                  </a:cubicBezTo>
                  <a:cubicBezTo>
                    <a:pt x="134" y="344"/>
                    <a:pt x="122" y="299"/>
                    <a:pt x="123" y="298"/>
                  </a:cubicBezTo>
                  <a:cubicBezTo>
                    <a:pt x="124" y="297"/>
                    <a:pt x="139" y="337"/>
                    <a:pt x="141" y="364"/>
                  </a:cubicBezTo>
                  <a:cubicBezTo>
                    <a:pt x="143" y="391"/>
                    <a:pt x="140" y="436"/>
                    <a:pt x="135" y="463"/>
                  </a:cubicBezTo>
                  <a:cubicBezTo>
                    <a:pt x="130" y="490"/>
                    <a:pt x="113" y="499"/>
                    <a:pt x="114" y="526"/>
                  </a:cubicBezTo>
                  <a:cubicBezTo>
                    <a:pt x="115" y="553"/>
                    <a:pt x="131" y="596"/>
                    <a:pt x="141" y="628"/>
                  </a:cubicBezTo>
                  <a:cubicBezTo>
                    <a:pt x="151" y="660"/>
                    <a:pt x="166" y="705"/>
                    <a:pt x="174" y="718"/>
                  </a:cubicBezTo>
                  <a:cubicBezTo>
                    <a:pt x="182" y="731"/>
                    <a:pt x="183" y="725"/>
                    <a:pt x="189" y="706"/>
                  </a:cubicBezTo>
                  <a:cubicBezTo>
                    <a:pt x="195" y="687"/>
                    <a:pt x="205" y="644"/>
                    <a:pt x="213" y="601"/>
                  </a:cubicBezTo>
                  <a:cubicBezTo>
                    <a:pt x="221" y="558"/>
                    <a:pt x="231" y="483"/>
                    <a:pt x="234" y="448"/>
                  </a:cubicBezTo>
                  <a:cubicBezTo>
                    <a:pt x="237" y="413"/>
                    <a:pt x="244" y="420"/>
                    <a:pt x="234" y="388"/>
                  </a:cubicBezTo>
                  <a:cubicBezTo>
                    <a:pt x="224" y="356"/>
                    <a:pt x="191" y="300"/>
                    <a:pt x="177" y="256"/>
                  </a:cubicBezTo>
                  <a:cubicBezTo>
                    <a:pt x="163" y="212"/>
                    <a:pt x="151" y="131"/>
                    <a:pt x="150" y="124"/>
                  </a:cubicBezTo>
                  <a:cubicBezTo>
                    <a:pt x="149" y="117"/>
                    <a:pt x="159" y="178"/>
                    <a:pt x="171" y="214"/>
                  </a:cubicBezTo>
                  <a:cubicBezTo>
                    <a:pt x="183" y="250"/>
                    <a:pt x="210" y="315"/>
                    <a:pt x="222" y="340"/>
                  </a:cubicBezTo>
                  <a:cubicBezTo>
                    <a:pt x="234" y="365"/>
                    <a:pt x="231" y="377"/>
                    <a:pt x="243" y="364"/>
                  </a:cubicBezTo>
                  <a:cubicBezTo>
                    <a:pt x="255" y="351"/>
                    <a:pt x="283" y="294"/>
                    <a:pt x="297" y="262"/>
                  </a:cubicBezTo>
                  <a:cubicBezTo>
                    <a:pt x="311" y="230"/>
                    <a:pt x="325" y="202"/>
                    <a:pt x="327" y="169"/>
                  </a:cubicBezTo>
                  <a:cubicBezTo>
                    <a:pt x="329" y="136"/>
                    <a:pt x="310" y="89"/>
                    <a:pt x="309" y="64"/>
                  </a:cubicBezTo>
                  <a:cubicBezTo>
                    <a:pt x="308" y="39"/>
                    <a:pt x="315" y="6"/>
                    <a:pt x="318" y="16"/>
                  </a:cubicBezTo>
                  <a:cubicBezTo>
                    <a:pt x="321" y="26"/>
                    <a:pt x="324" y="99"/>
                    <a:pt x="327" y="124"/>
                  </a:cubicBezTo>
                  <a:cubicBezTo>
                    <a:pt x="330" y="149"/>
                    <a:pt x="327" y="177"/>
                    <a:pt x="339" y="169"/>
                  </a:cubicBezTo>
                  <a:cubicBezTo>
                    <a:pt x="351" y="161"/>
                    <a:pt x="381" y="100"/>
                    <a:pt x="399" y="73"/>
                  </a:cubicBezTo>
                  <a:cubicBezTo>
                    <a:pt x="417" y="46"/>
                    <a:pt x="440" y="12"/>
                    <a:pt x="447" y="7"/>
                  </a:cubicBezTo>
                  <a:cubicBezTo>
                    <a:pt x="454" y="2"/>
                    <a:pt x="457" y="18"/>
                    <a:pt x="444" y="43"/>
                  </a:cubicBezTo>
                  <a:cubicBezTo>
                    <a:pt x="431" y="68"/>
                    <a:pt x="388" y="126"/>
                    <a:pt x="369" y="160"/>
                  </a:cubicBezTo>
                  <a:cubicBezTo>
                    <a:pt x="350" y="194"/>
                    <a:pt x="346" y="213"/>
                    <a:pt x="330" y="247"/>
                  </a:cubicBezTo>
                  <a:cubicBezTo>
                    <a:pt x="314" y="281"/>
                    <a:pt x="282" y="339"/>
                    <a:pt x="270" y="364"/>
                  </a:cubicBezTo>
                  <a:cubicBezTo>
                    <a:pt x="258" y="389"/>
                    <a:pt x="262" y="376"/>
                    <a:pt x="258" y="397"/>
                  </a:cubicBezTo>
                  <a:cubicBezTo>
                    <a:pt x="254" y="418"/>
                    <a:pt x="250" y="457"/>
                    <a:pt x="246" y="493"/>
                  </a:cubicBezTo>
                  <a:cubicBezTo>
                    <a:pt x="242" y="529"/>
                    <a:pt x="239" y="573"/>
                    <a:pt x="231" y="616"/>
                  </a:cubicBezTo>
                  <a:cubicBezTo>
                    <a:pt x="223" y="659"/>
                    <a:pt x="204" y="702"/>
                    <a:pt x="198" y="751"/>
                  </a:cubicBezTo>
                  <a:cubicBezTo>
                    <a:pt x="192" y="800"/>
                    <a:pt x="193" y="871"/>
                    <a:pt x="192" y="913"/>
                  </a:cubicBezTo>
                  <a:cubicBezTo>
                    <a:pt x="191" y="955"/>
                    <a:pt x="192" y="978"/>
                    <a:pt x="192" y="1006"/>
                  </a:cubicBezTo>
                  <a:cubicBezTo>
                    <a:pt x="192" y="1034"/>
                    <a:pt x="181" y="1089"/>
                    <a:pt x="195" y="1081"/>
                  </a:cubicBezTo>
                  <a:cubicBezTo>
                    <a:pt x="209" y="1073"/>
                    <a:pt x="250" y="996"/>
                    <a:pt x="276" y="955"/>
                  </a:cubicBezTo>
                  <a:cubicBezTo>
                    <a:pt x="302" y="914"/>
                    <a:pt x="338" y="863"/>
                    <a:pt x="354" y="832"/>
                  </a:cubicBezTo>
                  <a:cubicBezTo>
                    <a:pt x="370" y="801"/>
                    <a:pt x="369" y="807"/>
                    <a:pt x="372" y="766"/>
                  </a:cubicBezTo>
                  <a:cubicBezTo>
                    <a:pt x="375" y="725"/>
                    <a:pt x="374" y="631"/>
                    <a:pt x="372" y="583"/>
                  </a:cubicBezTo>
                  <a:cubicBezTo>
                    <a:pt x="370" y="535"/>
                    <a:pt x="360" y="519"/>
                    <a:pt x="360" y="478"/>
                  </a:cubicBezTo>
                  <a:cubicBezTo>
                    <a:pt x="360" y="437"/>
                    <a:pt x="368" y="372"/>
                    <a:pt x="369" y="334"/>
                  </a:cubicBezTo>
                  <a:cubicBezTo>
                    <a:pt x="370" y="296"/>
                    <a:pt x="360" y="275"/>
                    <a:pt x="369" y="250"/>
                  </a:cubicBezTo>
                  <a:cubicBezTo>
                    <a:pt x="378" y="225"/>
                    <a:pt x="410" y="207"/>
                    <a:pt x="426" y="181"/>
                  </a:cubicBezTo>
                  <a:cubicBezTo>
                    <a:pt x="442" y="155"/>
                    <a:pt x="450" y="120"/>
                    <a:pt x="465" y="91"/>
                  </a:cubicBezTo>
                  <a:cubicBezTo>
                    <a:pt x="480" y="62"/>
                    <a:pt x="511" y="14"/>
                    <a:pt x="516" y="7"/>
                  </a:cubicBezTo>
                  <a:cubicBezTo>
                    <a:pt x="521" y="0"/>
                    <a:pt x="506" y="31"/>
                    <a:pt x="498" y="49"/>
                  </a:cubicBezTo>
                  <a:cubicBezTo>
                    <a:pt x="490" y="67"/>
                    <a:pt x="477" y="95"/>
                    <a:pt x="468" y="115"/>
                  </a:cubicBezTo>
                  <a:cubicBezTo>
                    <a:pt x="459" y="135"/>
                    <a:pt x="452" y="153"/>
                    <a:pt x="444" y="169"/>
                  </a:cubicBezTo>
                  <a:cubicBezTo>
                    <a:pt x="436" y="185"/>
                    <a:pt x="432" y="194"/>
                    <a:pt x="423" y="208"/>
                  </a:cubicBezTo>
                  <a:cubicBezTo>
                    <a:pt x="414" y="222"/>
                    <a:pt x="395" y="242"/>
                    <a:pt x="387" y="256"/>
                  </a:cubicBezTo>
                  <a:cubicBezTo>
                    <a:pt x="379" y="270"/>
                    <a:pt x="378" y="270"/>
                    <a:pt x="375" y="295"/>
                  </a:cubicBezTo>
                  <a:cubicBezTo>
                    <a:pt x="372" y="320"/>
                    <a:pt x="368" y="362"/>
                    <a:pt x="369" y="406"/>
                  </a:cubicBezTo>
                  <a:cubicBezTo>
                    <a:pt x="370" y="450"/>
                    <a:pt x="378" y="513"/>
                    <a:pt x="381" y="562"/>
                  </a:cubicBezTo>
                  <a:cubicBezTo>
                    <a:pt x="384" y="611"/>
                    <a:pt x="387" y="665"/>
                    <a:pt x="387" y="703"/>
                  </a:cubicBezTo>
                  <a:cubicBezTo>
                    <a:pt x="387" y="741"/>
                    <a:pt x="370" y="792"/>
                    <a:pt x="381" y="793"/>
                  </a:cubicBezTo>
                  <a:cubicBezTo>
                    <a:pt x="392" y="794"/>
                    <a:pt x="428" y="741"/>
                    <a:pt x="456" y="709"/>
                  </a:cubicBezTo>
                  <a:cubicBezTo>
                    <a:pt x="484" y="677"/>
                    <a:pt x="516" y="636"/>
                    <a:pt x="546" y="601"/>
                  </a:cubicBezTo>
                  <a:cubicBezTo>
                    <a:pt x="576" y="566"/>
                    <a:pt x="609" y="535"/>
                    <a:pt x="636" y="499"/>
                  </a:cubicBezTo>
                  <a:cubicBezTo>
                    <a:pt x="663" y="463"/>
                    <a:pt x="686" y="438"/>
                    <a:pt x="711" y="385"/>
                  </a:cubicBezTo>
                  <a:cubicBezTo>
                    <a:pt x="736" y="332"/>
                    <a:pt x="778" y="205"/>
                    <a:pt x="789" y="181"/>
                  </a:cubicBezTo>
                  <a:cubicBezTo>
                    <a:pt x="800" y="157"/>
                    <a:pt x="790" y="199"/>
                    <a:pt x="777" y="241"/>
                  </a:cubicBezTo>
                  <a:cubicBezTo>
                    <a:pt x="764" y="283"/>
                    <a:pt x="731" y="389"/>
                    <a:pt x="708" y="436"/>
                  </a:cubicBezTo>
                  <a:cubicBezTo>
                    <a:pt x="685" y="483"/>
                    <a:pt x="663" y="492"/>
                    <a:pt x="636" y="526"/>
                  </a:cubicBezTo>
                  <a:cubicBezTo>
                    <a:pt x="609" y="560"/>
                    <a:pt x="582" y="596"/>
                    <a:pt x="546" y="640"/>
                  </a:cubicBezTo>
                  <a:cubicBezTo>
                    <a:pt x="510" y="684"/>
                    <a:pt x="449" y="757"/>
                    <a:pt x="420" y="790"/>
                  </a:cubicBezTo>
                  <a:cubicBezTo>
                    <a:pt x="391" y="823"/>
                    <a:pt x="390" y="809"/>
                    <a:pt x="369" y="838"/>
                  </a:cubicBezTo>
                  <a:cubicBezTo>
                    <a:pt x="348" y="867"/>
                    <a:pt x="322" y="924"/>
                    <a:pt x="297" y="967"/>
                  </a:cubicBezTo>
                  <a:cubicBezTo>
                    <a:pt x="272" y="1010"/>
                    <a:pt x="236" y="1056"/>
                    <a:pt x="216" y="1099"/>
                  </a:cubicBezTo>
                  <a:cubicBezTo>
                    <a:pt x="196" y="1142"/>
                    <a:pt x="201" y="1159"/>
                    <a:pt x="180" y="1225"/>
                  </a:cubicBezTo>
                  <a:cubicBezTo>
                    <a:pt x="159" y="1291"/>
                    <a:pt x="117" y="1431"/>
                    <a:pt x="90" y="1498"/>
                  </a:cubicBezTo>
                  <a:cubicBezTo>
                    <a:pt x="63" y="1565"/>
                    <a:pt x="30" y="1619"/>
                    <a:pt x="15" y="1630"/>
                  </a:cubicBezTo>
                  <a:cubicBezTo>
                    <a:pt x="0" y="1641"/>
                    <a:pt x="0" y="1602"/>
                    <a:pt x="0" y="1564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08840" y="2460600"/>
              <a:ext cx="562680" cy="1572120"/>
            </a:xfrm>
            <a:custGeom>
              <a:avLst/>
              <a:gdLst/>
              <a:ahLst/>
              <a:rect l="l" t="t" r="r" b="b"/>
              <a:pathLst>
                <a:path w="547" h="1535">
                  <a:moveTo>
                    <a:pt x="297" y="1446"/>
                  </a:moveTo>
                  <a:cubicBezTo>
                    <a:pt x="297" y="1390"/>
                    <a:pt x="309" y="1243"/>
                    <a:pt x="312" y="1167"/>
                  </a:cubicBezTo>
                  <a:cubicBezTo>
                    <a:pt x="315" y="1091"/>
                    <a:pt x="322" y="1031"/>
                    <a:pt x="318" y="987"/>
                  </a:cubicBezTo>
                  <a:cubicBezTo>
                    <a:pt x="314" y="943"/>
                    <a:pt x="313" y="957"/>
                    <a:pt x="288" y="903"/>
                  </a:cubicBezTo>
                  <a:cubicBezTo>
                    <a:pt x="263" y="849"/>
                    <a:pt x="191" y="720"/>
                    <a:pt x="165" y="663"/>
                  </a:cubicBezTo>
                  <a:cubicBezTo>
                    <a:pt x="139" y="606"/>
                    <a:pt x="145" y="581"/>
                    <a:pt x="132" y="558"/>
                  </a:cubicBezTo>
                  <a:cubicBezTo>
                    <a:pt x="119" y="535"/>
                    <a:pt x="105" y="553"/>
                    <a:pt x="87" y="522"/>
                  </a:cubicBezTo>
                  <a:cubicBezTo>
                    <a:pt x="69" y="491"/>
                    <a:pt x="34" y="410"/>
                    <a:pt x="21" y="372"/>
                  </a:cubicBezTo>
                  <a:cubicBezTo>
                    <a:pt x="8" y="334"/>
                    <a:pt x="0" y="326"/>
                    <a:pt x="9" y="294"/>
                  </a:cubicBezTo>
                  <a:cubicBezTo>
                    <a:pt x="18" y="262"/>
                    <a:pt x="57" y="222"/>
                    <a:pt x="75" y="177"/>
                  </a:cubicBezTo>
                  <a:cubicBezTo>
                    <a:pt x="93" y="132"/>
                    <a:pt x="106" y="42"/>
                    <a:pt x="114" y="21"/>
                  </a:cubicBezTo>
                  <a:cubicBezTo>
                    <a:pt x="122" y="0"/>
                    <a:pt x="127" y="26"/>
                    <a:pt x="123" y="51"/>
                  </a:cubicBezTo>
                  <a:cubicBezTo>
                    <a:pt x="119" y="76"/>
                    <a:pt x="102" y="129"/>
                    <a:pt x="87" y="171"/>
                  </a:cubicBezTo>
                  <a:cubicBezTo>
                    <a:pt x="72" y="213"/>
                    <a:pt x="35" y="266"/>
                    <a:pt x="30" y="306"/>
                  </a:cubicBezTo>
                  <a:cubicBezTo>
                    <a:pt x="25" y="346"/>
                    <a:pt x="45" y="379"/>
                    <a:pt x="57" y="414"/>
                  </a:cubicBezTo>
                  <a:cubicBezTo>
                    <a:pt x="69" y="449"/>
                    <a:pt x="85" y="491"/>
                    <a:pt x="102" y="516"/>
                  </a:cubicBezTo>
                  <a:cubicBezTo>
                    <a:pt x="119" y="541"/>
                    <a:pt x="140" y="530"/>
                    <a:pt x="159" y="564"/>
                  </a:cubicBezTo>
                  <a:cubicBezTo>
                    <a:pt x="178" y="598"/>
                    <a:pt x="196" y="671"/>
                    <a:pt x="216" y="717"/>
                  </a:cubicBezTo>
                  <a:cubicBezTo>
                    <a:pt x="236" y="763"/>
                    <a:pt x="262" y="802"/>
                    <a:pt x="282" y="840"/>
                  </a:cubicBezTo>
                  <a:cubicBezTo>
                    <a:pt x="302" y="878"/>
                    <a:pt x="318" y="939"/>
                    <a:pt x="336" y="945"/>
                  </a:cubicBezTo>
                  <a:cubicBezTo>
                    <a:pt x="354" y="951"/>
                    <a:pt x="371" y="916"/>
                    <a:pt x="390" y="879"/>
                  </a:cubicBezTo>
                  <a:cubicBezTo>
                    <a:pt x="409" y="842"/>
                    <a:pt x="433" y="776"/>
                    <a:pt x="453" y="720"/>
                  </a:cubicBezTo>
                  <a:cubicBezTo>
                    <a:pt x="473" y="664"/>
                    <a:pt x="499" y="591"/>
                    <a:pt x="510" y="543"/>
                  </a:cubicBezTo>
                  <a:cubicBezTo>
                    <a:pt x="521" y="495"/>
                    <a:pt x="521" y="475"/>
                    <a:pt x="522" y="429"/>
                  </a:cubicBezTo>
                  <a:cubicBezTo>
                    <a:pt x="523" y="383"/>
                    <a:pt x="517" y="281"/>
                    <a:pt x="519" y="264"/>
                  </a:cubicBezTo>
                  <a:cubicBezTo>
                    <a:pt x="521" y="247"/>
                    <a:pt x="531" y="283"/>
                    <a:pt x="534" y="324"/>
                  </a:cubicBezTo>
                  <a:cubicBezTo>
                    <a:pt x="537" y="365"/>
                    <a:pt x="547" y="455"/>
                    <a:pt x="540" y="513"/>
                  </a:cubicBezTo>
                  <a:cubicBezTo>
                    <a:pt x="533" y="571"/>
                    <a:pt x="509" y="624"/>
                    <a:pt x="492" y="675"/>
                  </a:cubicBezTo>
                  <a:cubicBezTo>
                    <a:pt x="475" y="726"/>
                    <a:pt x="461" y="774"/>
                    <a:pt x="441" y="822"/>
                  </a:cubicBezTo>
                  <a:cubicBezTo>
                    <a:pt x="421" y="870"/>
                    <a:pt x="387" y="917"/>
                    <a:pt x="372" y="963"/>
                  </a:cubicBezTo>
                  <a:cubicBezTo>
                    <a:pt x="357" y="1009"/>
                    <a:pt x="357" y="1014"/>
                    <a:pt x="351" y="1098"/>
                  </a:cubicBezTo>
                  <a:cubicBezTo>
                    <a:pt x="345" y="1182"/>
                    <a:pt x="343" y="1399"/>
                    <a:pt x="336" y="1467"/>
                  </a:cubicBezTo>
                  <a:cubicBezTo>
                    <a:pt x="329" y="1535"/>
                    <a:pt x="316" y="1510"/>
                    <a:pt x="309" y="1506"/>
                  </a:cubicBezTo>
                  <a:cubicBezTo>
                    <a:pt x="302" y="1502"/>
                    <a:pt x="297" y="1502"/>
                    <a:pt x="297" y="144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717680" y="2460600"/>
              <a:ext cx="178920" cy="746640"/>
            </a:xfrm>
            <a:custGeom>
              <a:avLst/>
              <a:gdLst/>
              <a:ahLst/>
              <a:rect l="l" t="t" r="r" b="b"/>
              <a:pathLst>
                <a:path w="174" h="729">
                  <a:moveTo>
                    <a:pt x="51" y="681"/>
                  </a:moveTo>
                  <a:cubicBezTo>
                    <a:pt x="60" y="636"/>
                    <a:pt x="69" y="591"/>
                    <a:pt x="75" y="537"/>
                  </a:cubicBezTo>
                  <a:cubicBezTo>
                    <a:pt x="81" y="483"/>
                    <a:pt x="91" y="400"/>
                    <a:pt x="87" y="357"/>
                  </a:cubicBezTo>
                  <a:cubicBezTo>
                    <a:pt x="83" y="314"/>
                    <a:pt x="62" y="311"/>
                    <a:pt x="54" y="282"/>
                  </a:cubicBezTo>
                  <a:cubicBezTo>
                    <a:pt x="46" y="253"/>
                    <a:pt x="45" y="214"/>
                    <a:pt x="36" y="183"/>
                  </a:cubicBezTo>
                  <a:cubicBezTo>
                    <a:pt x="27" y="152"/>
                    <a:pt x="0" y="98"/>
                    <a:pt x="0" y="93"/>
                  </a:cubicBezTo>
                  <a:cubicBezTo>
                    <a:pt x="0" y="88"/>
                    <a:pt x="25" y="123"/>
                    <a:pt x="36" y="150"/>
                  </a:cubicBezTo>
                  <a:cubicBezTo>
                    <a:pt x="47" y="177"/>
                    <a:pt x="61" y="228"/>
                    <a:pt x="69" y="255"/>
                  </a:cubicBezTo>
                  <a:cubicBezTo>
                    <a:pt x="77" y="282"/>
                    <a:pt x="81" y="315"/>
                    <a:pt x="87" y="312"/>
                  </a:cubicBezTo>
                  <a:cubicBezTo>
                    <a:pt x="93" y="309"/>
                    <a:pt x="101" y="264"/>
                    <a:pt x="108" y="237"/>
                  </a:cubicBezTo>
                  <a:cubicBezTo>
                    <a:pt x="115" y="210"/>
                    <a:pt x="123" y="172"/>
                    <a:pt x="129" y="147"/>
                  </a:cubicBezTo>
                  <a:cubicBezTo>
                    <a:pt x="135" y="122"/>
                    <a:pt x="139" y="107"/>
                    <a:pt x="144" y="84"/>
                  </a:cubicBezTo>
                  <a:cubicBezTo>
                    <a:pt x="149" y="61"/>
                    <a:pt x="155" y="12"/>
                    <a:pt x="159" y="6"/>
                  </a:cubicBezTo>
                  <a:cubicBezTo>
                    <a:pt x="163" y="0"/>
                    <a:pt x="174" y="17"/>
                    <a:pt x="171" y="45"/>
                  </a:cubicBezTo>
                  <a:cubicBezTo>
                    <a:pt x="168" y="73"/>
                    <a:pt x="148" y="130"/>
                    <a:pt x="138" y="174"/>
                  </a:cubicBezTo>
                  <a:cubicBezTo>
                    <a:pt x="128" y="218"/>
                    <a:pt x="113" y="278"/>
                    <a:pt x="108" y="312"/>
                  </a:cubicBezTo>
                  <a:cubicBezTo>
                    <a:pt x="103" y="346"/>
                    <a:pt x="105" y="347"/>
                    <a:pt x="105" y="381"/>
                  </a:cubicBezTo>
                  <a:cubicBezTo>
                    <a:pt x="105" y="415"/>
                    <a:pt x="114" y="458"/>
                    <a:pt x="108" y="516"/>
                  </a:cubicBezTo>
                  <a:cubicBezTo>
                    <a:pt x="102" y="574"/>
                    <a:pt x="85" y="651"/>
                    <a:pt x="69" y="729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118000" y="2376720"/>
              <a:ext cx="684360" cy="31032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54480" y="2205000"/>
              <a:ext cx="791280" cy="329760"/>
            </a:xfrm>
            <a:custGeom>
              <a:avLst/>
              <a:gdLst/>
              <a:ahLst/>
              <a:rect l="l" t="t" r="r" b="b"/>
              <a:pathLst>
                <a:path w="739" h="292">
                  <a:moveTo>
                    <a:pt x="156" y="98"/>
                  </a:moveTo>
                  <a:cubicBezTo>
                    <a:pt x="158" y="98"/>
                    <a:pt x="108" y="116"/>
                    <a:pt x="90" y="128"/>
                  </a:cubicBezTo>
                  <a:cubicBezTo>
                    <a:pt x="72" y="140"/>
                    <a:pt x="56" y="154"/>
                    <a:pt x="48" y="172"/>
                  </a:cubicBezTo>
                  <a:cubicBezTo>
                    <a:pt x="40" y="190"/>
                    <a:pt x="32" y="219"/>
                    <a:pt x="42" y="236"/>
                  </a:cubicBezTo>
                  <a:cubicBezTo>
                    <a:pt x="52" y="253"/>
                    <a:pt x="72" y="266"/>
                    <a:pt x="110" y="274"/>
                  </a:cubicBezTo>
                  <a:cubicBezTo>
                    <a:pt x="148" y="282"/>
                    <a:pt x="228" y="285"/>
                    <a:pt x="268" y="284"/>
                  </a:cubicBezTo>
                  <a:cubicBezTo>
                    <a:pt x="308" y="283"/>
                    <a:pt x="327" y="280"/>
                    <a:pt x="352" y="268"/>
                  </a:cubicBezTo>
                  <a:cubicBezTo>
                    <a:pt x="377" y="256"/>
                    <a:pt x="398" y="224"/>
                    <a:pt x="416" y="210"/>
                  </a:cubicBezTo>
                  <a:cubicBezTo>
                    <a:pt x="434" y="196"/>
                    <a:pt x="443" y="179"/>
                    <a:pt x="460" y="186"/>
                  </a:cubicBezTo>
                  <a:cubicBezTo>
                    <a:pt x="477" y="193"/>
                    <a:pt x="483" y="233"/>
                    <a:pt x="518" y="250"/>
                  </a:cubicBezTo>
                  <a:cubicBezTo>
                    <a:pt x="553" y="267"/>
                    <a:pt x="633" y="292"/>
                    <a:pt x="668" y="290"/>
                  </a:cubicBezTo>
                  <a:cubicBezTo>
                    <a:pt x="703" y="288"/>
                    <a:pt x="715" y="261"/>
                    <a:pt x="726" y="240"/>
                  </a:cubicBezTo>
                  <a:cubicBezTo>
                    <a:pt x="737" y="219"/>
                    <a:pt x="739" y="184"/>
                    <a:pt x="734" y="162"/>
                  </a:cubicBezTo>
                  <a:cubicBezTo>
                    <a:pt x="729" y="140"/>
                    <a:pt x="727" y="127"/>
                    <a:pt x="698" y="108"/>
                  </a:cubicBezTo>
                  <a:cubicBezTo>
                    <a:pt x="669" y="89"/>
                    <a:pt x="622" y="61"/>
                    <a:pt x="562" y="48"/>
                  </a:cubicBezTo>
                  <a:cubicBezTo>
                    <a:pt x="502" y="35"/>
                    <a:pt x="404" y="37"/>
                    <a:pt x="340" y="30"/>
                  </a:cubicBezTo>
                  <a:cubicBezTo>
                    <a:pt x="276" y="23"/>
                    <a:pt x="224" y="12"/>
                    <a:pt x="178" y="8"/>
                  </a:cubicBezTo>
                  <a:cubicBezTo>
                    <a:pt x="132" y="4"/>
                    <a:pt x="90" y="0"/>
                    <a:pt x="62" y="4"/>
                  </a:cubicBezTo>
                  <a:cubicBezTo>
                    <a:pt x="34" y="8"/>
                    <a:pt x="16" y="18"/>
                    <a:pt x="8" y="30"/>
                  </a:cubicBezTo>
                  <a:cubicBezTo>
                    <a:pt x="0" y="42"/>
                    <a:pt x="5" y="58"/>
                    <a:pt x="16" y="74"/>
                  </a:cubicBezTo>
                  <a:cubicBezTo>
                    <a:pt x="27" y="90"/>
                    <a:pt x="52" y="125"/>
                    <a:pt x="76" y="128"/>
                  </a:cubicBezTo>
                  <a:cubicBezTo>
                    <a:pt x="100" y="131"/>
                    <a:pt x="154" y="98"/>
                    <a:pt x="156" y="9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465320" y="2262240"/>
              <a:ext cx="540000" cy="291600"/>
            </a:xfrm>
            <a:custGeom>
              <a:avLst/>
              <a:gdLst/>
              <a:ahLst/>
              <a:rect l="l" t="t" r="r" b="b"/>
              <a:pathLst>
                <a:path w="525" h="237">
                  <a:moveTo>
                    <a:pt x="22" y="130"/>
                  </a:moveTo>
                  <a:cubicBezTo>
                    <a:pt x="15" y="142"/>
                    <a:pt x="0" y="162"/>
                    <a:pt x="4" y="178"/>
                  </a:cubicBezTo>
                  <a:cubicBezTo>
                    <a:pt x="8" y="194"/>
                    <a:pt x="23" y="214"/>
                    <a:pt x="44" y="224"/>
                  </a:cubicBezTo>
                  <a:cubicBezTo>
                    <a:pt x="65" y="234"/>
                    <a:pt x="102" y="237"/>
                    <a:pt x="130" y="236"/>
                  </a:cubicBezTo>
                  <a:cubicBezTo>
                    <a:pt x="158" y="235"/>
                    <a:pt x="172" y="217"/>
                    <a:pt x="210" y="216"/>
                  </a:cubicBezTo>
                  <a:cubicBezTo>
                    <a:pt x="248" y="215"/>
                    <a:pt x="317" y="235"/>
                    <a:pt x="356" y="230"/>
                  </a:cubicBezTo>
                  <a:cubicBezTo>
                    <a:pt x="395" y="225"/>
                    <a:pt x="419" y="207"/>
                    <a:pt x="446" y="184"/>
                  </a:cubicBezTo>
                  <a:cubicBezTo>
                    <a:pt x="473" y="161"/>
                    <a:pt x="507" y="117"/>
                    <a:pt x="516" y="94"/>
                  </a:cubicBezTo>
                  <a:cubicBezTo>
                    <a:pt x="525" y="71"/>
                    <a:pt x="524" y="63"/>
                    <a:pt x="498" y="48"/>
                  </a:cubicBezTo>
                  <a:cubicBezTo>
                    <a:pt x="472" y="33"/>
                    <a:pt x="403" y="12"/>
                    <a:pt x="360" y="6"/>
                  </a:cubicBezTo>
                  <a:cubicBezTo>
                    <a:pt x="317" y="0"/>
                    <a:pt x="277" y="5"/>
                    <a:pt x="240" y="14"/>
                  </a:cubicBezTo>
                  <a:cubicBezTo>
                    <a:pt x="203" y="23"/>
                    <a:pt x="168" y="45"/>
                    <a:pt x="136" y="60"/>
                  </a:cubicBezTo>
                  <a:cubicBezTo>
                    <a:pt x="104" y="75"/>
                    <a:pt x="66" y="93"/>
                    <a:pt x="46" y="106"/>
                  </a:cubicBezTo>
                  <a:cubicBezTo>
                    <a:pt x="26" y="119"/>
                    <a:pt x="29" y="118"/>
                    <a:pt x="22" y="1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356600" y="2441160"/>
              <a:ext cx="432000" cy="193680"/>
            </a:xfrm>
            <a:custGeom>
              <a:avLst/>
              <a:gdLst/>
              <a:ahLst/>
              <a:rect l="l" t="t" r="r" b="b"/>
              <a:pathLst>
                <a:path w="420" h="189">
                  <a:moveTo>
                    <a:pt x="112" y="3"/>
                  </a:moveTo>
                  <a:cubicBezTo>
                    <a:pt x="97" y="6"/>
                    <a:pt x="58" y="19"/>
                    <a:pt x="40" y="29"/>
                  </a:cubicBezTo>
                  <a:cubicBezTo>
                    <a:pt x="22" y="39"/>
                    <a:pt x="4" y="46"/>
                    <a:pt x="2" y="61"/>
                  </a:cubicBezTo>
                  <a:cubicBezTo>
                    <a:pt x="0" y="76"/>
                    <a:pt x="9" y="102"/>
                    <a:pt x="26" y="117"/>
                  </a:cubicBezTo>
                  <a:cubicBezTo>
                    <a:pt x="43" y="132"/>
                    <a:pt x="77" y="138"/>
                    <a:pt x="104" y="149"/>
                  </a:cubicBezTo>
                  <a:cubicBezTo>
                    <a:pt x="131" y="160"/>
                    <a:pt x="159" y="181"/>
                    <a:pt x="188" y="185"/>
                  </a:cubicBezTo>
                  <a:cubicBezTo>
                    <a:pt x="217" y="189"/>
                    <a:pt x="248" y="180"/>
                    <a:pt x="280" y="173"/>
                  </a:cubicBezTo>
                  <a:cubicBezTo>
                    <a:pt x="312" y="166"/>
                    <a:pt x="357" y="155"/>
                    <a:pt x="380" y="141"/>
                  </a:cubicBezTo>
                  <a:cubicBezTo>
                    <a:pt x="403" y="127"/>
                    <a:pt x="420" y="106"/>
                    <a:pt x="420" y="91"/>
                  </a:cubicBezTo>
                  <a:cubicBezTo>
                    <a:pt x="420" y="76"/>
                    <a:pt x="407" y="56"/>
                    <a:pt x="382" y="49"/>
                  </a:cubicBezTo>
                  <a:cubicBezTo>
                    <a:pt x="357" y="42"/>
                    <a:pt x="302" y="51"/>
                    <a:pt x="268" y="51"/>
                  </a:cubicBezTo>
                  <a:cubicBezTo>
                    <a:pt x="234" y="51"/>
                    <a:pt x="203" y="54"/>
                    <a:pt x="180" y="47"/>
                  </a:cubicBezTo>
                  <a:cubicBezTo>
                    <a:pt x="157" y="40"/>
                    <a:pt x="144" y="18"/>
                    <a:pt x="132" y="11"/>
                  </a:cubicBezTo>
                  <a:cubicBezTo>
                    <a:pt x="120" y="4"/>
                    <a:pt x="127" y="0"/>
                    <a:pt x="112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107560" y="2630880"/>
              <a:ext cx="372240" cy="16884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963720" y="2208240"/>
            <a:ext cx="7557840" cy="4008240"/>
            <a:chOff x="963720" y="2208240"/>
            <a:chExt cx="7557840" cy="4008240"/>
          </a:xfrm>
        </p:grpSpPr>
        <p:sp>
          <p:nvSpPr>
            <p:cNvPr id="1453" name=""/>
            <p:cNvSpPr/>
            <p:nvPr/>
          </p:nvSpPr>
          <p:spPr>
            <a:xfrm flipH="1">
              <a:off x="963720" y="6080040"/>
              <a:ext cx="7557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5786280" y="2208240"/>
              <a:ext cx="1785960" cy="3897000"/>
              <a:chOff x="5786280" y="2208240"/>
              <a:chExt cx="1785960" cy="3897000"/>
            </a:xfrm>
          </p:grpSpPr>
          <p:sp>
            <p:nvSpPr>
              <p:cNvPr id="1455" name=""/>
              <p:cNvSpPr/>
              <p:nvPr/>
            </p:nvSpPr>
            <p:spPr>
              <a:xfrm>
                <a:off x="6636600" y="2229480"/>
                <a:ext cx="935640" cy="437040"/>
              </a:xfrm>
              <a:custGeom>
                <a:avLst/>
                <a:gdLst/>
                <a:ahLst/>
                <a:rect l="l" t="t" r="r" b="b"/>
                <a:pathLst>
                  <a:path w="910" h="427">
                    <a:moveTo>
                      <a:pt x="71" y="3"/>
                    </a:moveTo>
                    <a:cubicBezTo>
                      <a:pt x="35" y="13"/>
                      <a:pt x="0" y="24"/>
                      <a:pt x="1" y="43"/>
                    </a:cubicBezTo>
                    <a:cubicBezTo>
                      <a:pt x="2" y="62"/>
                      <a:pt x="43" y="84"/>
                      <a:pt x="79" y="119"/>
                    </a:cubicBezTo>
                    <a:cubicBezTo>
                      <a:pt x="115" y="154"/>
                      <a:pt x="175" y="231"/>
                      <a:pt x="219" y="253"/>
                    </a:cubicBezTo>
                    <a:cubicBezTo>
                      <a:pt x="263" y="275"/>
                      <a:pt x="307" y="256"/>
                      <a:pt x="345" y="253"/>
                    </a:cubicBezTo>
                    <a:cubicBezTo>
                      <a:pt x="383" y="250"/>
                      <a:pt x="409" y="225"/>
                      <a:pt x="449" y="233"/>
                    </a:cubicBezTo>
                    <a:cubicBezTo>
                      <a:pt x="489" y="241"/>
                      <a:pt x="540" y="275"/>
                      <a:pt x="585" y="301"/>
                    </a:cubicBezTo>
                    <a:cubicBezTo>
                      <a:pt x="630" y="327"/>
                      <a:pt x="681" y="368"/>
                      <a:pt x="721" y="389"/>
                    </a:cubicBezTo>
                    <a:cubicBezTo>
                      <a:pt x="761" y="410"/>
                      <a:pt x="797" y="423"/>
                      <a:pt x="827" y="425"/>
                    </a:cubicBezTo>
                    <a:cubicBezTo>
                      <a:pt x="857" y="427"/>
                      <a:pt x="892" y="423"/>
                      <a:pt x="901" y="401"/>
                    </a:cubicBezTo>
                    <a:cubicBezTo>
                      <a:pt x="910" y="379"/>
                      <a:pt x="907" y="330"/>
                      <a:pt x="879" y="293"/>
                    </a:cubicBezTo>
                    <a:cubicBezTo>
                      <a:pt x="851" y="256"/>
                      <a:pt x="783" y="210"/>
                      <a:pt x="735" y="177"/>
                    </a:cubicBezTo>
                    <a:cubicBezTo>
                      <a:pt x="687" y="144"/>
                      <a:pt x="647" y="116"/>
                      <a:pt x="589" y="95"/>
                    </a:cubicBezTo>
                    <a:cubicBezTo>
                      <a:pt x="531" y="74"/>
                      <a:pt x="448" y="63"/>
                      <a:pt x="385" y="49"/>
                    </a:cubicBezTo>
                    <a:cubicBezTo>
                      <a:pt x="322" y="35"/>
                      <a:pt x="255" y="17"/>
                      <a:pt x="211" y="9"/>
                    </a:cubicBezTo>
                    <a:cubicBezTo>
                      <a:pt x="167" y="1"/>
                      <a:pt x="147" y="2"/>
                      <a:pt x="121" y="1"/>
                    </a:cubicBezTo>
                    <a:cubicBezTo>
                      <a:pt x="95" y="0"/>
                      <a:pt x="66" y="3"/>
                      <a:pt x="55" y="3"/>
                    </a:cubicBezTo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925960" y="2570400"/>
                <a:ext cx="824400" cy="3534840"/>
              </a:xfrm>
              <a:custGeom>
                <a:avLst/>
                <a:gdLst/>
                <a:ahLst/>
                <a:rect l="l" t="t" r="r" b="b"/>
                <a:pathLst>
                  <a:path w="802" h="3453">
                    <a:moveTo>
                      <a:pt x="620" y="3406"/>
                    </a:moveTo>
                    <a:cubicBezTo>
                      <a:pt x="598" y="3359"/>
                      <a:pt x="641" y="3290"/>
                      <a:pt x="650" y="3130"/>
                    </a:cubicBezTo>
                    <a:cubicBezTo>
                      <a:pt x="659" y="2970"/>
                      <a:pt x="669" y="2717"/>
                      <a:pt x="674" y="2446"/>
                    </a:cubicBezTo>
                    <a:cubicBezTo>
                      <a:pt x="679" y="2175"/>
                      <a:pt x="679" y="1681"/>
                      <a:pt x="680" y="1504"/>
                    </a:cubicBezTo>
                    <a:cubicBezTo>
                      <a:pt x="681" y="1327"/>
                      <a:pt x="694" y="1425"/>
                      <a:pt x="680" y="1384"/>
                    </a:cubicBezTo>
                    <a:cubicBezTo>
                      <a:pt x="666" y="1343"/>
                      <a:pt x="629" y="1323"/>
                      <a:pt x="596" y="1258"/>
                    </a:cubicBezTo>
                    <a:cubicBezTo>
                      <a:pt x="563" y="1193"/>
                      <a:pt x="524" y="1062"/>
                      <a:pt x="482" y="994"/>
                    </a:cubicBezTo>
                    <a:cubicBezTo>
                      <a:pt x="440" y="926"/>
                      <a:pt x="379" y="908"/>
                      <a:pt x="344" y="850"/>
                    </a:cubicBezTo>
                    <a:cubicBezTo>
                      <a:pt x="309" y="792"/>
                      <a:pt x="303" y="702"/>
                      <a:pt x="272" y="646"/>
                    </a:cubicBezTo>
                    <a:cubicBezTo>
                      <a:pt x="241" y="590"/>
                      <a:pt x="191" y="564"/>
                      <a:pt x="158" y="514"/>
                    </a:cubicBezTo>
                    <a:cubicBezTo>
                      <a:pt x="125" y="464"/>
                      <a:pt x="100" y="428"/>
                      <a:pt x="74" y="346"/>
                    </a:cubicBezTo>
                    <a:cubicBezTo>
                      <a:pt x="48" y="264"/>
                      <a:pt x="4" y="44"/>
                      <a:pt x="2" y="22"/>
                    </a:cubicBezTo>
                    <a:cubicBezTo>
                      <a:pt x="0" y="0"/>
                      <a:pt x="32" y="134"/>
                      <a:pt x="62" y="214"/>
                    </a:cubicBezTo>
                    <a:cubicBezTo>
                      <a:pt x="92" y="294"/>
                      <a:pt x="138" y="434"/>
                      <a:pt x="182" y="502"/>
                    </a:cubicBezTo>
                    <a:cubicBezTo>
                      <a:pt x="226" y="570"/>
                      <a:pt x="294" y="571"/>
                      <a:pt x="326" y="622"/>
                    </a:cubicBezTo>
                    <a:cubicBezTo>
                      <a:pt x="358" y="673"/>
                      <a:pt x="341" y="749"/>
                      <a:pt x="374" y="808"/>
                    </a:cubicBezTo>
                    <a:cubicBezTo>
                      <a:pt x="407" y="867"/>
                      <a:pt x="488" y="922"/>
                      <a:pt x="524" y="976"/>
                    </a:cubicBezTo>
                    <a:cubicBezTo>
                      <a:pt x="560" y="1030"/>
                      <a:pt x="566" y="1080"/>
                      <a:pt x="590" y="1132"/>
                    </a:cubicBezTo>
                    <a:cubicBezTo>
                      <a:pt x="614" y="1184"/>
                      <a:pt x="643" y="1248"/>
                      <a:pt x="668" y="1288"/>
                    </a:cubicBezTo>
                    <a:cubicBezTo>
                      <a:pt x="693" y="1328"/>
                      <a:pt x="727" y="1328"/>
                      <a:pt x="740" y="1372"/>
                    </a:cubicBezTo>
                    <a:cubicBezTo>
                      <a:pt x="753" y="1416"/>
                      <a:pt x="746" y="1266"/>
                      <a:pt x="746" y="1552"/>
                    </a:cubicBezTo>
                    <a:cubicBezTo>
                      <a:pt x="746" y="1838"/>
                      <a:pt x="737" y="2784"/>
                      <a:pt x="740" y="3088"/>
                    </a:cubicBezTo>
                    <a:cubicBezTo>
                      <a:pt x="743" y="3392"/>
                      <a:pt x="757" y="3322"/>
                      <a:pt x="764" y="3376"/>
                    </a:cubicBezTo>
                    <a:cubicBezTo>
                      <a:pt x="771" y="3430"/>
                      <a:pt x="802" y="3408"/>
                      <a:pt x="782" y="3412"/>
                    </a:cubicBezTo>
                    <a:cubicBezTo>
                      <a:pt x="762" y="3416"/>
                      <a:pt x="642" y="3453"/>
                      <a:pt x="620" y="3406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662160" y="2438280"/>
                <a:ext cx="822600" cy="1679760"/>
              </a:xfrm>
              <a:custGeom>
                <a:avLst/>
                <a:gdLst/>
                <a:ahLst/>
                <a:rect l="l" t="t" r="r" b="b"/>
                <a:pathLst>
                  <a:path w="800" h="1641">
                    <a:moveTo>
                      <a:pt x="18" y="1534"/>
                    </a:moveTo>
                    <a:cubicBezTo>
                      <a:pt x="50" y="1473"/>
                      <a:pt x="83" y="1413"/>
                      <a:pt x="108" y="1342"/>
                    </a:cubicBezTo>
                    <a:cubicBezTo>
                      <a:pt x="133" y="1271"/>
                      <a:pt x="160" y="1189"/>
                      <a:pt x="171" y="1105"/>
                    </a:cubicBezTo>
                    <a:cubicBezTo>
                      <a:pt x="182" y="1021"/>
                      <a:pt x="171" y="895"/>
                      <a:pt x="171" y="838"/>
                    </a:cubicBezTo>
                    <a:cubicBezTo>
                      <a:pt x="171" y="781"/>
                      <a:pt x="179" y="786"/>
                      <a:pt x="174" y="760"/>
                    </a:cubicBezTo>
                    <a:cubicBezTo>
                      <a:pt x="169" y="734"/>
                      <a:pt x="151" y="717"/>
                      <a:pt x="138" y="682"/>
                    </a:cubicBezTo>
                    <a:cubicBezTo>
                      <a:pt x="125" y="647"/>
                      <a:pt x="106" y="592"/>
                      <a:pt x="96" y="553"/>
                    </a:cubicBezTo>
                    <a:cubicBezTo>
                      <a:pt x="86" y="514"/>
                      <a:pt x="87" y="486"/>
                      <a:pt x="75" y="445"/>
                    </a:cubicBezTo>
                    <a:cubicBezTo>
                      <a:pt x="63" y="404"/>
                      <a:pt x="24" y="318"/>
                      <a:pt x="21" y="304"/>
                    </a:cubicBezTo>
                    <a:cubicBezTo>
                      <a:pt x="18" y="290"/>
                      <a:pt x="42" y="336"/>
                      <a:pt x="54" y="361"/>
                    </a:cubicBezTo>
                    <a:cubicBezTo>
                      <a:pt x="66" y="386"/>
                      <a:pt x="84" y="435"/>
                      <a:pt x="93" y="454"/>
                    </a:cubicBezTo>
                    <a:cubicBezTo>
                      <a:pt x="102" y="473"/>
                      <a:pt x="102" y="488"/>
                      <a:pt x="108" y="475"/>
                    </a:cubicBezTo>
                    <a:cubicBezTo>
                      <a:pt x="114" y="462"/>
                      <a:pt x="130" y="402"/>
                      <a:pt x="132" y="373"/>
                    </a:cubicBezTo>
                    <a:cubicBezTo>
                      <a:pt x="134" y="344"/>
                      <a:pt x="122" y="299"/>
                      <a:pt x="123" y="298"/>
                    </a:cubicBezTo>
                    <a:cubicBezTo>
                      <a:pt x="124" y="297"/>
                      <a:pt x="139" y="337"/>
                      <a:pt x="141" y="364"/>
                    </a:cubicBezTo>
                    <a:cubicBezTo>
                      <a:pt x="143" y="391"/>
                      <a:pt x="140" y="436"/>
                      <a:pt x="135" y="463"/>
                    </a:cubicBezTo>
                    <a:cubicBezTo>
                      <a:pt x="130" y="490"/>
                      <a:pt x="113" y="499"/>
                      <a:pt x="114" y="526"/>
                    </a:cubicBezTo>
                    <a:cubicBezTo>
                      <a:pt x="115" y="553"/>
                      <a:pt x="131" y="596"/>
                      <a:pt x="141" y="628"/>
                    </a:cubicBezTo>
                    <a:cubicBezTo>
                      <a:pt x="151" y="660"/>
                      <a:pt x="166" y="705"/>
                      <a:pt x="174" y="718"/>
                    </a:cubicBezTo>
                    <a:cubicBezTo>
                      <a:pt x="182" y="731"/>
                      <a:pt x="183" y="725"/>
                      <a:pt x="189" y="706"/>
                    </a:cubicBezTo>
                    <a:cubicBezTo>
                      <a:pt x="195" y="687"/>
                      <a:pt x="205" y="644"/>
                      <a:pt x="213" y="601"/>
                    </a:cubicBezTo>
                    <a:cubicBezTo>
                      <a:pt x="221" y="558"/>
                      <a:pt x="231" y="483"/>
                      <a:pt x="234" y="448"/>
                    </a:cubicBezTo>
                    <a:cubicBezTo>
                      <a:pt x="237" y="413"/>
                      <a:pt x="244" y="420"/>
                      <a:pt x="234" y="388"/>
                    </a:cubicBezTo>
                    <a:cubicBezTo>
                      <a:pt x="224" y="356"/>
                      <a:pt x="191" y="300"/>
                      <a:pt x="177" y="256"/>
                    </a:cubicBezTo>
                    <a:cubicBezTo>
                      <a:pt x="163" y="212"/>
                      <a:pt x="151" y="131"/>
                      <a:pt x="150" y="124"/>
                    </a:cubicBezTo>
                    <a:cubicBezTo>
                      <a:pt x="149" y="117"/>
                      <a:pt x="159" y="178"/>
                      <a:pt x="171" y="214"/>
                    </a:cubicBezTo>
                    <a:cubicBezTo>
                      <a:pt x="183" y="250"/>
                      <a:pt x="210" y="315"/>
                      <a:pt x="222" y="340"/>
                    </a:cubicBezTo>
                    <a:cubicBezTo>
                      <a:pt x="234" y="365"/>
                      <a:pt x="231" y="377"/>
                      <a:pt x="243" y="364"/>
                    </a:cubicBezTo>
                    <a:cubicBezTo>
                      <a:pt x="255" y="351"/>
                      <a:pt x="283" y="294"/>
                      <a:pt x="297" y="262"/>
                    </a:cubicBezTo>
                    <a:cubicBezTo>
                      <a:pt x="311" y="230"/>
                      <a:pt x="325" y="202"/>
                      <a:pt x="327" y="169"/>
                    </a:cubicBezTo>
                    <a:cubicBezTo>
                      <a:pt x="329" y="136"/>
                      <a:pt x="310" y="89"/>
                      <a:pt x="309" y="64"/>
                    </a:cubicBezTo>
                    <a:cubicBezTo>
                      <a:pt x="308" y="39"/>
                      <a:pt x="315" y="6"/>
                      <a:pt x="318" y="16"/>
                    </a:cubicBezTo>
                    <a:cubicBezTo>
                      <a:pt x="321" y="26"/>
                      <a:pt x="324" y="99"/>
                      <a:pt x="327" y="124"/>
                    </a:cubicBezTo>
                    <a:cubicBezTo>
                      <a:pt x="330" y="149"/>
                      <a:pt x="327" y="177"/>
                      <a:pt x="339" y="169"/>
                    </a:cubicBezTo>
                    <a:cubicBezTo>
                      <a:pt x="351" y="161"/>
                      <a:pt x="381" y="100"/>
                      <a:pt x="399" y="73"/>
                    </a:cubicBezTo>
                    <a:cubicBezTo>
                      <a:pt x="417" y="46"/>
                      <a:pt x="440" y="12"/>
                      <a:pt x="447" y="7"/>
                    </a:cubicBezTo>
                    <a:cubicBezTo>
                      <a:pt x="454" y="2"/>
                      <a:pt x="457" y="18"/>
                      <a:pt x="444" y="43"/>
                    </a:cubicBezTo>
                    <a:cubicBezTo>
                      <a:pt x="431" y="68"/>
                      <a:pt x="388" y="126"/>
                      <a:pt x="369" y="160"/>
                    </a:cubicBezTo>
                    <a:cubicBezTo>
                      <a:pt x="350" y="194"/>
                      <a:pt x="346" y="213"/>
                      <a:pt x="330" y="247"/>
                    </a:cubicBezTo>
                    <a:cubicBezTo>
                      <a:pt x="314" y="281"/>
                      <a:pt x="282" y="339"/>
                      <a:pt x="270" y="364"/>
                    </a:cubicBezTo>
                    <a:cubicBezTo>
                      <a:pt x="258" y="389"/>
                      <a:pt x="262" y="376"/>
                      <a:pt x="258" y="397"/>
                    </a:cubicBezTo>
                    <a:cubicBezTo>
                      <a:pt x="254" y="418"/>
                      <a:pt x="250" y="457"/>
                      <a:pt x="246" y="493"/>
                    </a:cubicBezTo>
                    <a:cubicBezTo>
                      <a:pt x="242" y="529"/>
                      <a:pt x="239" y="573"/>
                      <a:pt x="231" y="616"/>
                    </a:cubicBezTo>
                    <a:cubicBezTo>
                      <a:pt x="223" y="659"/>
                      <a:pt x="204" y="702"/>
                      <a:pt x="198" y="751"/>
                    </a:cubicBezTo>
                    <a:cubicBezTo>
                      <a:pt x="192" y="800"/>
                      <a:pt x="193" y="871"/>
                      <a:pt x="192" y="913"/>
                    </a:cubicBezTo>
                    <a:cubicBezTo>
                      <a:pt x="191" y="955"/>
                      <a:pt x="192" y="978"/>
                      <a:pt x="192" y="1006"/>
                    </a:cubicBezTo>
                    <a:cubicBezTo>
                      <a:pt x="192" y="1034"/>
                      <a:pt x="181" y="1089"/>
                      <a:pt x="195" y="1081"/>
                    </a:cubicBezTo>
                    <a:cubicBezTo>
                      <a:pt x="209" y="1073"/>
                      <a:pt x="250" y="996"/>
                      <a:pt x="276" y="955"/>
                    </a:cubicBezTo>
                    <a:cubicBezTo>
                      <a:pt x="302" y="914"/>
                      <a:pt x="338" y="863"/>
                      <a:pt x="354" y="832"/>
                    </a:cubicBezTo>
                    <a:cubicBezTo>
                      <a:pt x="370" y="801"/>
                      <a:pt x="369" y="807"/>
                      <a:pt x="372" y="766"/>
                    </a:cubicBezTo>
                    <a:cubicBezTo>
                      <a:pt x="375" y="725"/>
                      <a:pt x="374" y="631"/>
                      <a:pt x="372" y="583"/>
                    </a:cubicBezTo>
                    <a:cubicBezTo>
                      <a:pt x="370" y="535"/>
                      <a:pt x="360" y="519"/>
                      <a:pt x="360" y="478"/>
                    </a:cubicBezTo>
                    <a:cubicBezTo>
                      <a:pt x="360" y="437"/>
                      <a:pt x="368" y="372"/>
                      <a:pt x="369" y="334"/>
                    </a:cubicBezTo>
                    <a:cubicBezTo>
                      <a:pt x="370" y="296"/>
                      <a:pt x="360" y="275"/>
                      <a:pt x="369" y="250"/>
                    </a:cubicBezTo>
                    <a:cubicBezTo>
                      <a:pt x="378" y="225"/>
                      <a:pt x="410" y="207"/>
                      <a:pt x="426" y="181"/>
                    </a:cubicBezTo>
                    <a:cubicBezTo>
                      <a:pt x="442" y="155"/>
                      <a:pt x="450" y="120"/>
                      <a:pt x="465" y="91"/>
                    </a:cubicBezTo>
                    <a:cubicBezTo>
                      <a:pt x="480" y="62"/>
                      <a:pt x="511" y="14"/>
                      <a:pt x="516" y="7"/>
                    </a:cubicBezTo>
                    <a:cubicBezTo>
                      <a:pt x="521" y="0"/>
                      <a:pt x="506" y="31"/>
                      <a:pt x="498" y="49"/>
                    </a:cubicBezTo>
                    <a:cubicBezTo>
                      <a:pt x="490" y="67"/>
                      <a:pt x="477" y="95"/>
                      <a:pt x="468" y="115"/>
                    </a:cubicBezTo>
                    <a:cubicBezTo>
                      <a:pt x="459" y="135"/>
                      <a:pt x="452" y="153"/>
                      <a:pt x="444" y="169"/>
                    </a:cubicBezTo>
                    <a:cubicBezTo>
                      <a:pt x="436" y="185"/>
                      <a:pt x="432" y="194"/>
                      <a:pt x="423" y="208"/>
                    </a:cubicBezTo>
                    <a:cubicBezTo>
                      <a:pt x="414" y="222"/>
                      <a:pt x="395" y="242"/>
                      <a:pt x="387" y="256"/>
                    </a:cubicBezTo>
                    <a:cubicBezTo>
                      <a:pt x="379" y="270"/>
                      <a:pt x="378" y="270"/>
                      <a:pt x="375" y="295"/>
                    </a:cubicBezTo>
                    <a:cubicBezTo>
                      <a:pt x="372" y="320"/>
                      <a:pt x="368" y="362"/>
                      <a:pt x="369" y="406"/>
                    </a:cubicBezTo>
                    <a:cubicBezTo>
                      <a:pt x="370" y="450"/>
                      <a:pt x="378" y="513"/>
                      <a:pt x="381" y="562"/>
                    </a:cubicBezTo>
                    <a:cubicBezTo>
                      <a:pt x="384" y="611"/>
                      <a:pt x="387" y="665"/>
                      <a:pt x="387" y="703"/>
                    </a:cubicBezTo>
                    <a:cubicBezTo>
                      <a:pt x="387" y="741"/>
                      <a:pt x="370" y="792"/>
                      <a:pt x="381" y="793"/>
                    </a:cubicBezTo>
                    <a:cubicBezTo>
                      <a:pt x="392" y="794"/>
                      <a:pt x="428" y="741"/>
                      <a:pt x="456" y="709"/>
                    </a:cubicBezTo>
                    <a:cubicBezTo>
                      <a:pt x="484" y="677"/>
                      <a:pt x="516" y="636"/>
                      <a:pt x="546" y="601"/>
                    </a:cubicBezTo>
                    <a:cubicBezTo>
                      <a:pt x="576" y="566"/>
                      <a:pt x="609" y="535"/>
                      <a:pt x="636" y="499"/>
                    </a:cubicBezTo>
                    <a:cubicBezTo>
                      <a:pt x="663" y="463"/>
                      <a:pt x="686" y="438"/>
                      <a:pt x="711" y="385"/>
                    </a:cubicBezTo>
                    <a:cubicBezTo>
                      <a:pt x="736" y="332"/>
                      <a:pt x="778" y="205"/>
                      <a:pt x="789" y="181"/>
                    </a:cubicBezTo>
                    <a:cubicBezTo>
                      <a:pt x="800" y="157"/>
                      <a:pt x="790" y="199"/>
                      <a:pt x="777" y="241"/>
                    </a:cubicBezTo>
                    <a:cubicBezTo>
                      <a:pt x="764" y="283"/>
                      <a:pt x="731" y="389"/>
                      <a:pt x="708" y="436"/>
                    </a:cubicBezTo>
                    <a:cubicBezTo>
                      <a:pt x="685" y="483"/>
                      <a:pt x="663" y="492"/>
                      <a:pt x="636" y="526"/>
                    </a:cubicBezTo>
                    <a:cubicBezTo>
                      <a:pt x="609" y="560"/>
                      <a:pt x="582" y="596"/>
                      <a:pt x="546" y="640"/>
                    </a:cubicBezTo>
                    <a:cubicBezTo>
                      <a:pt x="510" y="684"/>
                      <a:pt x="449" y="757"/>
                      <a:pt x="420" y="790"/>
                    </a:cubicBezTo>
                    <a:cubicBezTo>
                      <a:pt x="391" y="823"/>
                      <a:pt x="390" y="809"/>
                      <a:pt x="369" y="838"/>
                    </a:cubicBezTo>
                    <a:cubicBezTo>
                      <a:pt x="348" y="867"/>
                      <a:pt x="322" y="924"/>
                      <a:pt x="297" y="967"/>
                    </a:cubicBezTo>
                    <a:cubicBezTo>
                      <a:pt x="272" y="1010"/>
                      <a:pt x="236" y="1056"/>
                      <a:pt x="216" y="1099"/>
                    </a:cubicBezTo>
                    <a:cubicBezTo>
                      <a:pt x="196" y="1142"/>
                      <a:pt x="201" y="1159"/>
                      <a:pt x="180" y="1225"/>
                    </a:cubicBezTo>
                    <a:cubicBezTo>
                      <a:pt x="159" y="1291"/>
                      <a:pt x="117" y="1431"/>
                      <a:pt x="90" y="1498"/>
                    </a:cubicBezTo>
                    <a:cubicBezTo>
                      <a:pt x="63" y="1565"/>
                      <a:pt x="30" y="1619"/>
                      <a:pt x="15" y="1630"/>
                    </a:cubicBezTo>
                    <a:cubicBezTo>
                      <a:pt x="0" y="1641"/>
                      <a:pt x="0" y="1602"/>
                      <a:pt x="0" y="1564"/>
                    </a:cubicBez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338160" y="2463840"/>
                <a:ext cx="562320" cy="1571400"/>
              </a:xfrm>
              <a:custGeom>
                <a:avLst/>
                <a:gdLst/>
                <a:ahLst/>
                <a:rect l="l" t="t" r="r" b="b"/>
                <a:pathLst>
                  <a:path w="547" h="1535">
                    <a:moveTo>
                      <a:pt x="297" y="1446"/>
                    </a:moveTo>
                    <a:cubicBezTo>
                      <a:pt x="297" y="1390"/>
                      <a:pt x="309" y="1243"/>
                      <a:pt x="312" y="1167"/>
                    </a:cubicBezTo>
                    <a:cubicBezTo>
                      <a:pt x="315" y="1091"/>
                      <a:pt x="322" y="1031"/>
                      <a:pt x="318" y="987"/>
                    </a:cubicBezTo>
                    <a:cubicBezTo>
                      <a:pt x="314" y="943"/>
                      <a:pt x="313" y="957"/>
                      <a:pt x="288" y="903"/>
                    </a:cubicBezTo>
                    <a:cubicBezTo>
                      <a:pt x="263" y="849"/>
                      <a:pt x="191" y="720"/>
                      <a:pt x="165" y="663"/>
                    </a:cubicBezTo>
                    <a:cubicBezTo>
                      <a:pt x="139" y="606"/>
                      <a:pt x="145" y="581"/>
                      <a:pt x="132" y="558"/>
                    </a:cubicBezTo>
                    <a:cubicBezTo>
                      <a:pt x="119" y="535"/>
                      <a:pt x="105" y="553"/>
                      <a:pt x="87" y="522"/>
                    </a:cubicBezTo>
                    <a:cubicBezTo>
                      <a:pt x="69" y="491"/>
                      <a:pt x="34" y="410"/>
                      <a:pt x="21" y="372"/>
                    </a:cubicBezTo>
                    <a:cubicBezTo>
                      <a:pt x="8" y="334"/>
                      <a:pt x="0" y="326"/>
                      <a:pt x="9" y="294"/>
                    </a:cubicBezTo>
                    <a:cubicBezTo>
                      <a:pt x="18" y="262"/>
                      <a:pt x="57" y="222"/>
                      <a:pt x="75" y="177"/>
                    </a:cubicBezTo>
                    <a:cubicBezTo>
                      <a:pt x="93" y="132"/>
                      <a:pt x="106" y="42"/>
                      <a:pt x="114" y="21"/>
                    </a:cubicBezTo>
                    <a:cubicBezTo>
                      <a:pt x="122" y="0"/>
                      <a:pt x="127" y="26"/>
                      <a:pt x="123" y="51"/>
                    </a:cubicBezTo>
                    <a:cubicBezTo>
                      <a:pt x="119" y="76"/>
                      <a:pt x="102" y="129"/>
                      <a:pt x="87" y="171"/>
                    </a:cubicBezTo>
                    <a:cubicBezTo>
                      <a:pt x="72" y="213"/>
                      <a:pt x="35" y="266"/>
                      <a:pt x="30" y="306"/>
                    </a:cubicBezTo>
                    <a:cubicBezTo>
                      <a:pt x="25" y="346"/>
                      <a:pt x="45" y="379"/>
                      <a:pt x="57" y="414"/>
                    </a:cubicBezTo>
                    <a:cubicBezTo>
                      <a:pt x="69" y="449"/>
                      <a:pt x="85" y="491"/>
                      <a:pt x="102" y="516"/>
                    </a:cubicBezTo>
                    <a:cubicBezTo>
                      <a:pt x="119" y="541"/>
                      <a:pt x="140" y="530"/>
                      <a:pt x="159" y="564"/>
                    </a:cubicBezTo>
                    <a:cubicBezTo>
                      <a:pt x="178" y="598"/>
                      <a:pt x="196" y="671"/>
                      <a:pt x="216" y="717"/>
                    </a:cubicBezTo>
                    <a:cubicBezTo>
                      <a:pt x="236" y="763"/>
                      <a:pt x="262" y="802"/>
                      <a:pt x="282" y="840"/>
                    </a:cubicBezTo>
                    <a:cubicBezTo>
                      <a:pt x="302" y="878"/>
                      <a:pt x="318" y="939"/>
                      <a:pt x="336" y="945"/>
                    </a:cubicBezTo>
                    <a:cubicBezTo>
                      <a:pt x="354" y="951"/>
                      <a:pt x="371" y="916"/>
                      <a:pt x="390" y="879"/>
                    </a:cubicBezTo>
                    <a:cubicBezTo>
                      <a:pt x="409" y="842"/>
                      <a:pt x="433" y="776"/>
                      <a:pt x="453" y="720"/>
                    </a:cubicBezTo>
                    <a:cubicBezTo>
                      <a:pt x="473" y="664"/>
                      <a:pt x="499" y="591"/>
                      <a:pt x="510" y="543"/>
                    </a:cubicBezTo>
                    <a:cubicBezTo>
                      <a:pt x="521" y="495"/>
                      <a:pt x="521" y="475"/>
                      <a:pt x="522" y="429"/>
                    </a:cubicBezTo>
                    <a:cubicBezTo>
                      <a:pt x="523" y="383"/>
                      <a:pt x="517" y="281"/>
                      <a:pt x="519" y="264"/>
                    </a:cubicBezTo>
                    <a:cubicBezTo>
                      <a:pt x="521" y="247"/>
                      <a:pt x="531" y="283"/>
                      <a:pt x="534" y="324"/>
                    </a:cubicBezTo>
                    <a:cubicBezTo>
                      <a:pt x="537" y="365"/>
                      <a:pt x="547" y="455"/>
                      <a:pt x="540" y="513"/>
                    </a:cubicBezTo>
                    <a:cubicBezTo>
                      <a:pt x="533" y="571"/>
                      <a:pt x="509" y="624"/>
                      <a:pt x="492" y="675"/>
                    </a:cubicBezTo>
                    <a:cubicBezTo>
                      <a:pt x="475" y="726"/>
                      <a:pt x="461" y="774"/>
                      <a:pt x="441" y="822"/>
                    </a:cubicBezTo>
                    <a:cubicBezTo>
                      <a:pt x="421" y="870"/>
                      <a:pt x="387" y="917"/>
                      <a:pt x="372" y="963"/>
                    </a:cubicBezTo>
                    <a:cubicBezTo>
                      <a:pt x="357" y="1009"/>
                      <a:pt x="357" y="1014"/>
                      <a:pt x="351" y="1098"/>
                    </a:cubicBezTo>
                    <a:cubicBezTo>
                      <a:pt x="345" y="1182"/>
                      <a:pt x="343" y="1399"/>
                      <a:pt x="336" y="1467"/>
                    </a:cubicBezTo>
                    <a:cubicBezTo>
                      <a:pt x="329" y="1535"/>
                      <a:pt x="316" y="1510"/>
                      <a:pt x="309" y="1506"/>
                    </a:cubicBezTo>
                    <a:cubicBezTo>
                      <a:pt x="302" y="1502"/>
                      <a:pt x="297" y="1502"/>
                      <a:pt x="297" y="1446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147000" y="2463840"/>
                <a:ext cx="178560" cy="746280"/>
              </a:xfrm>
              <a:custGeom>
                <a:avLst/>
                <a:gdLst/>
                <a:ahLst/>
                <a:rect l="l" t="t" r="r" b="b"/>
                <a:pathLst>
                  <a:path w="174" h="729">
                    <a:moveTo>
                      <a:pt x="51" y="681"/>
                    </a:moveTo>
                    <a:cubicBezTo>
                      <a:pt x="60" y="636"/>
                      <a:pt x="69" y="591"/>
                      <a:pt x="75" y="537"/>
                    </a:cubicBezTo>
                    <a:cubicBezTo>
                      <a:pt x="81" y="483"/>
                      <a:pt x="91" y="400"/>
                      <a:pt x="87" y="357"/>
                    </a:cubicBezTo>
                    <a:cubicBezTo>
                      <a:pt x="83" y="314"/>
                      <a:pt x="62" y="311"/>
                      <a:pt x="54" y="282"/>
                    </a:cubicBezTo>
                    <a:cubicBezTo>
                      <a:pt x="46" y="253"/>
                      <a:pt x="45" y="214"/>
                      <a:pt x="36" y="183"/>
                    </a:cubicBezTo>
                    <a:cubicBezTo>
                      <a:pt x="27" y="152"/>
                      <a:pt x="0" y="98"/>
                      <a:pt x="0" y="93"/>
                    </a:cubicBezTo>
                    <a:cubicBezTo>
                      <a:pt x="0" y="88"/>
                      <a:pt x="25" y="123"/>
                      <a:pt x="36" y="150"/>
                    </a:cubicBezTo>
                    <a:cubicBezTo>
                      <a:pt x="47" y="177"/>
                      <a:pt x="61" y="228"/>
                      <a:pt x="69" y="255"/>
                    </a:cubicBezTo>
                    <a:cubicBezTo>
                      <a:pt x="77" y="282"/>
                      <a:pt x="81" y="315"/>
                      <a:pt x="87" y="312"/>
                    </a:cubicBezTo>
                    <a:cubicBezTo>
                      <a:pt x="93" y="309"/>
                      <a:pt x="101" y="264"/>
                      <a:pt x="108" y="237"/>
                    </a:cubicBezTo>
                    <a:cubicBezTo>
                      <a:pt x="115" y="210"/>
                      <a:pt x="123" y="172"/>
                      <a:pt x="129" y="147"/>
                    </a:cubicBezTo>
                    <a:cubicBezTo>
                      <a:pt x="135" y="122"/>
                      <a:pt x="139" y="107"/>
                      <a:pt x="144" y="84"/>
                    </a:cubicBezTo>
                    <a:cubicBezTo>
                      <a:pt x="149" y="61"/>
                      <a:pt x="155" y="12"/>
                      <a:pt x="159" y="6"/>
                    </a:cubicBezTo>
                    <a:cubicBezTo>
                      <a:pt x="163" y="0"/>
                      <a:pt x="174" y="17"/>
                      <a:pt x="171" y="45"/>
                    </a:cubicBezTo>
                    <a:cubicBezTo>
                      <a:pt x="168" y="73"/>
                      <a:pt x="148" y="130"/>
                      <a:pt x="138" y="174"/>
                    </a:cubicBezTo>
                    <a:cubicBezTo>
                      <a:pt x="128" y="218"/>
                      <a:pt x="113" y="278"/>
                      <a:pt x="108" y="312"/>
                    </a:cubicBezTo>
                    <a:cubicBezTo>
                      <a:pt x="103" y="346"/>
                      <a:pt x="105" y="347"/>
                      <a:pt x="105" y="381"/>
                    </a:cubicBezTo>
                    <a:cubicBezTo>
                      <a:pt x="105" y="415"/>
                      <a:pt x="114" y="458"/>
                      <a:pt x="108" y="516"/>
                    </a:cubicBezTo>
                    <a:cubicBezTo>
                      <a:pt x="102" y="574"/>
                      <a:pt x="85" y="651"/>
                      <a:pt x="69" y="729"/>
                    </a:cubicBez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546960" y="2379960"/>
                <a:ext cx="683640" cy="310320"/>
              </a:xfrm>
              <a:custGeom>
                <a:avLst/>
                <a:gdLst/>
                <a:ahLst/>
                <a:rect l="l" t="t" r="r" b="b"/>
                <a:pathLst>
                  <a:path w="362" h="165">
                    <a:moveTo>
                      <a:pt x="154" y="4"/>
                    </a:moveTo>
                    <a:cubicBezTo>
                      <a:pt x="114" y="8"/>
                      <a:pt x="56" y="26"/>
                      <a:pt x="32" y="44"/>
                    </a:cubicBezTo>
                    <a:cubicBezTo>
                      <a:pt x="8" y="62"/>
                      <a:pt x="0" y="91"/>
                      <a:pt x="8" y="110"/>
                    </a:cubicBezTo>
                    <a:cubicBezTo>
                      <a:pt x="16" y="129"/>
                      <a:pt x="38" y="155"/>
                      <a:pt x="78" y="160"/>
                    </a:cubicBezTo>
                    <a:cubicBezTo>
                      <a:pt x="118" y="165"/>
                      <a:pt x="204" y="145"/>
                      <a:pt x="248" y="138"/>
                    </a:cubicBezTo>
                    <a:cubicBezTo>
                      <a:pt x="292" y="131"/>
                      <a:pt x="325" y="131"/>
                      <a:pt x="342" y="116"/>
                    </a:cubicBezTo>
                    <a:cubicBezTo>
                      <a:pt x="359" y="101"/>
                      <a:pt x="362" y="64"/>
                      <a:pt x="350" y="48"/>
                    </a:cubicBezTo>
                    <a:cubicBezTo>
                      <a:pt x="338" y="32"/>
                      <a:pt x="306" y="28"/>
                      <a:pt x="272" y="20"/>
                    </a:cubicBezTo>
                    <a:cubicBezTo>
                      <a:pt x="238" y="12"/>
                      <a:pt x="194" y="0"/>
                      <a:pt x="1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283800" y="2208240"/>
                <a:ext cx="790560" cy="329400"/>
              </a:xfrm>
              <a:custGeom>
                <a:avLst/>
                <a:gdLst/>
                <a:ahLst/>
                <a:rect l="l" t="t" r="r" b="b"/>
                <a:pathLst>
                  <a:path w="739" h="292">
                    <a:moveTo>
                      <a:pt x="156" y="98"/>
                    </a:moveTo>
                    <a:cubicBezTo>
                      <a:pt x="158" y="98"/>
                      <a:pt x="108" y="116"/>
                      <a:pt x="90" y="128"/>
                    </a:cubicBezTo>
                    <a:cubicBezTo>
                      <a:pt x="72" y="140"/>
                      <a:pt x="56" y="154"/>
                      <a:pt x="48" y="172"/>
                    </a:cubicBezTo>
                    <a:cubicBezTo>
                      <a:pt x="40" y="190"/>
                      <a:pt x="32" y="219"/>
                      <a:pt x="42" y="236"/>
                    </a:cubicBezTo>
                    <a:cubicBezTo>
                      <a:pt x="52" y="253"/>
                      <a:pt x="72" y="266"/>
                      <a:pt x="110" y="274"/>
                    </a:cubicBezTo>
                    <a:cubicBezTo>
                      <a:pt x="148" y="282"/>
                      <a:pt x="228" y="285"/>
                      <a:pt x="268" y="284"/>
                    </a:cubicBezTo>
                    <a:cubicBezTo>
                      <a:pt x="308" y="283"/>
                      <a:pt x="327" y="280"/>
                      <a:pt x="352" y="268"/>
                    </a:cubicBezTo>
                    <a:cubicBezTo>
                      <a:pt x="377" y="256"/>
                      <a:pt x="398" y="224"/>
                      <a:pt x="416" y="210"/>
                    </a:cubicBezTo>
                    <a:cubicBezTo>
                      <a:pt x="434" y="196"/>
                      <a:pt x="443" y="179"/>
                      <a:pt x="460" y="186"/>
                    </a:cubicBezTo>
                    <a:cubicBezTo>
                      <a:pt x="477" y="193"/>
                      <a:pt x="483" y="233"/>
                      <a:pt x="518" y="250"/>
                    </a:cubicBezTo>
                    <a:cubicBezTo>
                      <a:pt x="553" y="267"/>
                      <a:pt x="633" y="292"/>
                      <a:pt x="668" y="290"/>
                    </a:cubicBezTo>
                    <a:cubicBezTo>
                      <a:pt x="703" y="288"/>
                      <a:pt x="715" y="261"/>
                      <a:pt x="726" y="240"/>
                    </a:cubicBezTo>
                    <a:cubicBezTo>
                      <a:pt x="737" y="219"/>
                      <a:pt x="739" y="184"/>
                      <a:pt x="734" y="162"/>
                    </a:cubicBezTo>
                    <a:cubicBezTo>
                      <a:pt x="729" y="140"/>
                      <a:pt x="727" y="127"/>
                      <a:pt x="698" y="108"/>
                    </a:cubicBezTo>
                    <a:cubicBezTo>
                      <a:pt x="669" y="89"/>
                      <a:pt x="622" y="61"/>
                      <a:pt x="562" y="48"/>
                    </a:cubicBezTo>
                    <a:cubicBezTo>
                      <a:pt x="502" y="35"/>
                      <a:pt x="404" y="37"/>
                      <a:pt x="340" y="30"/>
                    </a:cubicBezTo>
                    <a:cubicBezTo>
                      <a:pt x="276" y="23"/>
                      <a:pt x="224" y="12"/>
                      <a:pt x="178" y="8"/>
                    </a:cubicBezTo>
                    <a:cubicBezTo>
                      <a:pt x="132" y="4"/>
                      <a:pt x="90" y="0"/>
                      <a:pt x="62" y="4"/>
                    </a:cubicBezTo>
                    <a:cubicBezTo>
                      <a:pt x="34" y="8"/>
                      <a:pt x="16" y="18"/>
                      <a:pt x="8" y="30"/>
                    </a:cubicBezTo>
                    <a:cubicBezTo>
                      <a:pt x="0" y="42"/>
                      <a:pt x="5" y="58"/>
                      <a:pt x="16" y="74"/>
                    </a:cubicBezTo>
                    <a:cubicBezTo>
                      <a:pt x="27" y="90"/>
                      <a:pt x="52" y="125"/>
                      <a:pt x="76" y="128"/>
                    </a:cubicBezTo>
                    <a:cubicBezTo>
                      <a:pt x="100" y="131"/>
                      <a:pt x="154" y="98"/>
                      <a:pt x="156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895000" y="2265480"/>
                <a:ext cx="539640" cy="291600"/>
              </a:xfrm>
              <a:custGeom>
                <a:avLst/>
                <a:gdLst/>
                <a:ahLst/>
                <a:rect l="l" t="t" r="r" b="b"/>
                <a:pathLst>
                  <a:path w="525" h="237">
                    <a:moveTo>
                      <a:pt x="22" y="130"/>
                    </a:moveTo>
                    <a:cubicBezTo>
                      <a:pt x="15" y="142"/>
                      <a:pt x="0" y="162"/>
                      <a:pt x="4" y="178"/>
                    </a:cubicBezTo>
                    <a:cubicBezTo>
                      <a:pt x="8" y="194"/>
                      <a:pt x="23" y="214"/>
                      <a:pt x="44" y="224"/>
                    </a:cubicBezTo>
                    <a:cubicBezTo>
                      <a:pt x="65" y="234"/>
                      <a:pt x="102" y="237"/>
                      <a:pt x="130" y="236"/>
                    </a:cubicBezTo>
                    <a:cubicBezTo>
                      <a:pt x="158" y="235"/>
                      <a:pt x="172" y="217"/>
                      <a:pt x="210" y="216"/>
                    </a:cubicBezTo>
                    <a:cubicBezTo>
                      <a:pt x="248" y="215"/>
                      <a:pt x="317" y="235"/>
                      <a:pt x="356" y="230"/>
                    </a:cubicBezTo>
                    <a:cubicBezTo>
                      <a:pt x="395" y="225"/>
                      <a:pt x="419" y="207"/>
                      <a:pt x="446" y="184"/>
                    </a:cubicBezTo>
                    <a:cubicBezTo>
                      <a:pt x="473" y="161"/>
                      <a:pt x="507" y="117"/>
                      <a:pt x="516" y="94"/>
                    </a:cubicBezTo>
                    <a:cubicBezTo>
                      <a:pt x="525" y="71"/>
                      <a:pt x="524" y="63"/>
                      <a:pt x="498" y="48"/>
                    </a:cubicBezTo>
                    <a:cubicBezTo>
                      <a:pt x="472" y="33"/>
                      <a:pt x="403" y="12"/>
                      <a:pt x="360" y="6"/>
                    </a:cubicBezTo>
                    <a:cubicBezTo>
                      <a:pt x="317" y="0"/>
                      <a:pt x="277" y="5"/>
                      <a:pt x="240" y="14"/>
                    </a:cubicBezTo>
                    <a:cubicBezTo>
                      <a:pt x="203" y="23"/>
                      <a:pt x="168" y="45"/>
                      <a:pt x="136" y="60"/>
                    </a:cubicBezTo>
                    <a:cubicBezTo>
                      <a:pt x="104" y="75"/>
                      <a:pt x="66" y="93"/>
                      <a:pt x="46" y="106"/>
                    </a:cubicBezTo>
                    <a:cubicBezTo>
                      <a:pt x="26" y="119"/>
                      <a:pt x="29" y="118"/>
                      <a:pt x="22" y="13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786280" y="2444400"/>
                <a:ext cx="431640" cy="193320"/>
              </a:xfrm>
              <a:custGeom>
                <a:avLst/>
                <a:gdLst/>
                <a:ahLst/>
                <a:rect l="l" t="t" r="r" b="b"/>
                <a:pathLst>
                  <a:path w="420" h="189">
                    <a:moveTo>
                      <a:pt x="112" y="3"/>
                    </a:moveTo>
                    <a:cubicBezTo>
                      <a:pt x="97" y="6"/>
                      <a:pt x="58" y="19"/>
                      <a:pt x="40" y="29"/>
                    </a:cubicBezTo>
                    <a:cubicBezTo>
                      <a:pt x="22" y="39"/>
                      <a:pt x="4" y="46"/>
                      <a:pt x="2" y="61"/>
                    </a:cubicBezTo>
                    <a:cubicBezTo>
                      <a:pt x="0" y="76"/>
                      <a:pt x="9" y="102"/>
                      <a:pt x="26" y="117"/>
                    </a:cubicBezTo>
                    <a:cubicBezTo>
                      <a:pt x="43" y="132"/>
                      <a:pt x="77" y="138"/>
                      <a:pt x="104" y="149"/>
                    </a:cubicBezTo>
                    <a:cubicBezTo>
                      <a:pt x="131" y="160"/>
                      <a:pt x="159" y="181"/>
                      <a:pt x="188" y="185"/>
                    </a:cubicBezTo>
                    <a:cubicBezTo>
                      <a:pt x="217" y="189"/>
                      <a:pt x="248" y="180"/>
                      <a:pt x="280" y="173"/>
                    </a:cubicBezTo>
                    <a:cubicBezTo>
                      <a:pt x="312" y="166"/>
                      <a:pt x="357" y="155"/>
                      <a:pt x="380" y="141"/>
                    </a:cubicBezTo>
                    <a:cubicBezTo>
                      <a:pt x="403" y="127"/>
                      <a:pt x="420" y="106"/>
                      <a:pt x="420" y="91"/>
                    </a:cubicBezTo>
                    <a:cubicBezTo>
                      <a:pt x="420" y="76"/>
                      <a:pt x="407" y="56"/>
                      <a:pt x="382" y="49"/>
                    </a:cubicBezTo>
                    <a:cubicBezTo>
                      <a:pt x="357" y="42"/>
                      <a:pt x="302" y="51"/>
                      <a:pt x="268" y="51"/>
                    </a:cubicBezTo>
                    <a:cubicBezTo>
                      <a:pt x="234" y="51"/>
                      <a:pt x="203" y="54"/>
                      <a:pt x="180" y="47"/>
                    </a:cubicBezTo>
                    <a:cubicBezTo>
                      <a:pt x="157" y="40"/>
                      <a:pt x="144" y="18"/>
                      <a:pt x="132" y="11"/>
                    </a:cubicBezTo>
                    <a:cubicBezTo>
                      <a:pt x="120" y="4"/>
                      <a:pt x="127" y="0"/>
                      <a:pt x="112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536520" y="2633760"/>
                <a:ext cx="371880" cy="168840"/>
              </a:xfrm>
              <a:custGeom>
                <a:avLst/>
                <a:gdLst/>
                <a:ahLst/>
                <a:rect l="l" t="t" r="r" b="b"/>
                <a:pathLst>
                  <a:path w="362" h="165">
                    <a:moveTo>
                      <a:pt x="154" y="4"/>
                    </a:moveTo>
                    <a:cubicBezTo>
                      <a:pt x="114" y="8"/>
                      <a:pt x="56" y="26"/>
                      <a:pt x="32" y="44"/>
                    </a:cubicBezTo>
                    <a:cubicBezTo>
                      <a:pt x="8" y="62"/>
                      <a:pt x="0" y="91"/>
                      <a:pt x="8" y="110"/>
                    </a:cubicBezTo>
                    <a:cubicBezTo>
                      <a:pt x="16" y="129"/>
                      <a:pt x="38" y="155"/>
                      <a:pt x="78" y="160"/>
                    </a:cubicBezTo>
                    <a:cubicBezTo>
                      <a:pt x="118" y="165"/>
                      <a:pt x="204" y="145"/>
                      <a:pt x="248" y="138"/>
                    </a:cubicBezTo>
                    <a:cubicBezTo>
                      <a:pt x="292" y="131"/>
                      <a:pt x="325" y="131"/>
                      <a:pt x="342" y="116"/>
                    </a:cubicBezTo>
                    <a:cubicBezTo>
                      <a:pt x="359" y="101"/>
                      <a:pt x="362" y="64"/>
                      <a:pt x="350" y="48"/>
                    </a:cubicBezTo>
                    <a:cubicBezTo>
                      <a:pt x="338" y="32"/>
                      <a:pt x="306" y="28"/>
                      <a:pt x="272" y="20"/>
                    </a:cubicBezTo>
                    <a:cubicBezTo>
                      <a:pt x="238" y="12"/>
                      <a:pt x="194" y="0"/>
                      <a:pt x="1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4164120" y="2220840"/>
              <a:ext cx="1785960" cy="3898800"/>
              <a:chOff x="4164120" y="2220840"/>
              <a:chExt cx="1785960" cy="3898800"/>
            </a:xfrm>
          </p:grpSpPr>
          <p:sp>
            <p:nvSpPr>
              <p:cNvPr id="1466" name=""/>
              <p:cNvSpPr/>
              <p:nvPr/>
            </p:nvSpPr>
            <p:spPr>
              <a:xfrm>
                <a:off x="5014440" y="2242080"/>
                <a:ext cx="935640" cy="437040"/>
              </a:xfrm>
              <a:custGeom>
                <a:avLst/>
                <a:gdLst/>
                <a:ahLst/>
                <a:rect l="l" t="t" r="r" b="b"/>
                <a:pathLst>
                  <a:path w="910" h="427">
                    <a:moveTo>
                      <a:pt x="71" y="3"/>
                    </a:moveTo>
                    <a:cubicBezTo>
                      <a:pt x="35" y="13"/>
                      <a:pt x="0" y="24"/>
                      <a:pt x="1" y="43"/>
                    </a:cubicBezTo>
                    <a:cubicBezTo>
                      <a:pt x="2" y="62"/>
                      <a:pt x="43" y="84"/>
                      <a:pt x="79" y="119"/>
                    </a:cubicBezTo>
                    <a:cubicBezTo>
                      <a:pt x="115" y="154"/>
                      <a:pt x="175" y="231"/>
                      <a:pt x="219" y="253"/>
                    </a:cubicBezTo>
                    <a:cubicBezTo>
                      <a:pt x="263" y="275"/>
                      <a:pt x="307" y="256"/>
                      <a:pt x="345" y="253"/>
                    </a:cubicBezTo>
                    <a:cubicBezTo>
                      <a:pt x="383" y="250"/>
                      <a:pt x="409" y="225"/>
                      <a:pt x="449" y="233"/>
                    </a:cubicBezTo>
                    <a:cubicBezTo>
                      <a:pt x="489" y="241"/>
                      <a:pt x="540" y="275"/>
                      <a:pt x="585" y="301"/>
                    </a:cubicBezTo>
                    <a:cubicBezTo>
                      <a:pt x="630" y="327"/>
                      <a:pt x="681" y="368"/>
                      <a:pt x="721" y="389"/>
                    </a:cubicBezTo>
                    <a:cubicBezTo>
                      <a:pt x="761" y="410"/>
                      <a:pt x="797" y="423"/>
                      <a:pt x="827" y="425"/>
                    </a:cubicBezTo>
                    <a:cubicBezTo>
                      <a:pt x="857" y="427"/>
                      <a:pt x="892" y="423"/>
                      <a:pt x="901" y="401"/>
                    </a:cubicBezTo>
                    <a:cubicBezTo>
                      <a:pt x="910" y="379"/>
                      <a:pt x="907" y="330"/>
                      <a:pt x="879" y="293"/>
                    </a:cubicBezTo>
                    <a:cubicBezTo>
                      <a:pt x="851" y="256"/>
                      <a:pt x="783" y="210"/>
                      <a:pt x="735" y="177"/>
                    </a:cubicBezTo>
                    <a:cubicBezTo>
                      <a:pt x="687" y="144"/>
                      <a:pt x="647" y="116"/>
                      <a:pt x="589" y="95"/>
                    </a:cubicBezTo>
                    <a:cubicBezTo>
                      <a:pt x="531" y="74"/>
                      <a:pt x="448" y="63"/>
                      <a:pt x="385" y="49"/>
                    </a:cubicBezTo>
                    <a:cubicBezTo>
                      <a:pt x="322" y="35"/>
                      <a:pt x="255" y="17"/>
                      <a:pt x="211" y="9"/>
                    </a:cubicBezTo>
                    <a:cubicBezTo>
                      <a:pt x="167" y="1"/>
                      <a:pt x="147" y="2"/>
                      <a:pt x="121" y="1"/>
                    </a:cubicBezTo>
                    <a:cubicBezTo>
                      <a:pt x="95" y="0"/>
                      <a:pt x="66" y="3"/>
                      <a:pt x="55" y="3"/>
                    </a:cubicBezTo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303800" y="2583360"/>
                <a:ext cx="824400" cy="3536280"/>
              </a:xfrm>
              <a:custGeom>
                <a:avLst/>
                <a:gdLst/>
                <a:ahLst/>
                <a:rect l="l" t="t" r="r" b="b"/>
                <a:pathLst>
                  <a:path w="802" h="3453">
                    <a:moveTo>
                      <a:pt x="620" y="3406"/>
                    </a:moveTo>
                    <a:cubicBezTo>
                      <a:pt x="598" y="3359"/>
                      <a:pt x="641" y="3290"/>
                      <a:pt x="650" y="3130"/>
                    </a:cubicBezTo>
                    <a:cubicBezTo>
                      <a:pt x="659" y="2970"/>
                      <a:pt x="669" y="2717"/>
                      <a:pt x="674" y="2446"/>
                    </a:cubicBezTo>
                    <a:cubicBezTo>
                      <a:pt x="679" y="2175"/>
                      <a:pt x="679" y="1681"/>
                      <a:pt x="680" y="1504"/>
                    </a:cubicBezTo>
                    <a:cubicBezTo>
                      <a:pt x="681" y="1327"/>
                      <a:pt x="694" y="1425"/>
                      <a:pt x="680" y="1384"/>
                    </a:cubicBezTo>
                    <a:cubicBezTo>
                      <a:pt x="666" y="1343"/>
                      <a:pt x="629" y="1323"/>
                      <a:pt x="596" y="1258"/>
                    </a:cubicBezTo>
                    <a:cubicBezTo>
                      <a:pt x="563" y="1193"/>
                      <a:pt x="524" y="1062"/>
                      <a:pt x="482" y="994"/>
                    </a:cubicBezTo>
                    <a:cubicBezTo>
                      <a:pt x="440" y="926"/>
                      <a:pt x="379" y="908"/>
                      <a:pt x="344" y="850"/>
                    </a:cubicBezTo>
                    <a:cubicBezTo>
                      <a:pt x="309" y="792"/>
                      <a:pt x="303" y="702"/>
                      <a:pt x="272" y="646"/>
                    </a:cubicBezTo>
                    <a:cubicBezTo>
                      <a:pt x="241" y="590"/>
                      <a:pt x="191" y="564"/>
                      <a:pt x="158" y="514"/>
                    </a:cubicBezTo>
                    <a:cubicBezTo>
                      <a:pt x="125" y="464"/>
                      <a:pt x="100" y="428"/>
                      <a:pt x="74" y="346"/>
                    </a:cubicBezTo>
                    <a:cubicBezTo>
                      <a:pt x="48" y="264"/>
                      <a:pt x="4" y="44"/>
                      <a:pt x="2" y="22"/>
                    </a:cubicBezTo>
                    <a:cubicBezTo>
                      <a:pt x="0" y="0"/>
                      <a:pt x="32" y="134"/>
                      <a:pt x="62" y="214"/>
                    </a:cubicBezTo>
                    <a:cubicBezTo>
                      <a:pt x="92" y="294"/>
                      <a:pt x="138" y="434"/>
                      <a:pt x="182" y="502"/>
                    </a:cubicBezTo>
                    <a:cubicBezTo>
                      <a:pt x="226" y="570"/>
                      <a:pt x="294" y="571"/>
                      <a:pt x="326" y="622"/>
                    </a:cubicBezTo>
                    <a:cubicBezTo>
                      <a:pt x="358" y="673"/>
                      <a:pt x="341" y="749"/>
                      <a:pt x="374" y="808"/>
                    </a:cubicBezTo>
                    <a:cubicBezTo>
                      <a:pt x="407" y="867"/>
                      <a:pt x="488" y="922"/>
                      <a:pt x="524" y="976"/>
                    </a:cubicBezTo>
                    <a:cubicBezTo>
                      <a:pt x="560" y="1030"/>
                      <a:pt x="566" y="1080"/>
                      <a:pt x="590" y="1132"/>
                    </a:cubicBezTo>
                    <a:cubicBezTo>
                      <a:pt x="614" y="1184"/>
                      <a:pt x="643" y="1248"/>
                      <a:pt x="668" y="1288"/>
                    </a:cubicBezTo>
                    <a:cubicBezTo>
                      <a:pt x="693" y="1328"/>
                      <a:pt x="727" y="1328"/>
                      <a:pt x="740" y="1372"/>
                    </a:cubicBezTo>
                    <a:cubicBezTo>
                      <a:pt x="753" y="1416"/>
                      <a:pt x="746" y="1266"/>
                      <a:pt x="746" y="1552"/>
                    </a:cubicBezTo>
                    <a:cubicBezTo>
                      <a:pt x="746" y="1838"/>
                      <a:pt x="737" y="2784"/>
                      <a:pt x="740" y="3088"/>
                    </a:cubicBezTo>
                    <a:cubicBezTo>
                      <a:pt x="743" y="3392"/>
                      <a:pt x="757" y="3322"/>
                      <a:pt x="764" y="3376"/>
                    </a:cubicBezTo>
                    <a:cubicBezTo>
                      <a:pt x="771" y="3430"/>
                      <a:pt x="802" y="3408"/>
                      <a:pt x="782" y="3412"/>
                    </a:cubicBezTo>
                    <a:cubicBezTo>
                      <a:pt x="762" y="3416"/>
                      <a:pt x="642" y="3453"/>
                      <a:pt x="620" y="3406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040000" y="2451240"/>
                <a:ext cx="822600" cy="1680480"/>
              </a:xfrm>
              <a:custGeom>
                <a:avLst/>
                <a:gdLst/>
                <a:ahLst/>
                <a:rect l="l" t="t" r="r" b="b"/>
                <a:pathLst>
                  <a:path w="800" h="1641">
                    <a:moveTo>
                      <a:pt x="18" y="1534"/>
                    </a:moveTo>
                    <a:cubicBezTo>
                      <a:pt x="50" y="1473"/>
                      <a:pt x="83" y="1413"/>
                      <a:pt x="108" y="1342"/>
                    </a:cubicBezTo>
                    <a:cubicBezTo>
                      <a:pt x="133" y="1271"/>
                      <a:pt x="160" y="1189"/>
                      <a:pt x="171" y="1105"/>
                    </a:cubicBezTo>
                    <a:cubicBezTo>
                      <a:pt x="182" y="1021"/>
                      <a:pt x="171" y="895"/>
                      <a:pt x="171" y="838"/>
                    </a:cubicBezTo>
                    <a:cubicBezTo>
                      <a:pt x="171" y="781"/>
                      <a:pt x="179" y="786"/>
                      <a:pt x="174" y="760"/>
                    </a:cubicBezTo>
                    <a:cubicBezTo>
                      <a:pt x="169" y="734"/>
                      <a:pt x="151" y="717"/>
                      <a:pt x="138" y="682"/>
                    </a:cubicBezTo>
                    <a:cubicBezTo>
                      <a:pt x="125" y="647"/>
                      <a:pt x="106" y="592"/>
                      <a:pt x="96" y="553"/>
                    </a:cubicBezTo>
                    <a:cubicBezTo>
                      <a:pt x="86" y="514"/>
                      <a:pt x="87" y="486"/>
                      <a:pt x="75" y="445"/>
                    </a:cubicBezTo>
                    <a:cubicBezTo>
                      <a:pt x="63" y="404"/>
                      <a:pt x="24" y="318"/>
                      <a:pt x="21" y="304"/>
                    </a:cubicBezTo>
                    <a:cubicBezTo>
                      <a:pt x="18" y="290"/>
                      <a:pt x="42" y="336"/>
                      <a:pt x="54" y="361"/>
                    </a:cubicBezTo>
                    <a:cubicBezTo>
                      <a:pt x="66" y="386"/>
                      <a:pt x="84" y="435"/>
                      <a:pt x="93" y="454"/>
                    </a:cubicBezTo>
                    <a:cubicBezTo>
                      <a:pt x="102" y="473"/>
                      <a:pt x="102" y="488"/>
                      <a:pt x="108" y="475"/>
                    </a:cubicBezTo>
                    <a:cubicBezTo>
                      <a:pt x="114" y="462"/>
                      <a:pt x="130" y="402"/>
                      <a:pt x="132" y="373"/>
                    </a:cubicBezTo>
                    <a:cubicBezTo>
                      <a:pt x="134" y="344"/>
                      <a:pt x="122" y="299"/>
                      <a:pt x="123" y="298"/>
                    </a:cubicBezTo>
                    <a:cubicBezTo>
                      <a:pt x="124" y="297"/>
                      <a:pt x="139" y="337"/>
                      <a:pt x="141" y="364"/>
                    </a:cubicBezTo>
                    <a:cubicBezTo>
                      <a:pt x="143" y="391"/>
                      <a:pt x="140" y="436"/>
                      <a:pt x="135" y="463"/>
                    </a:cubicBezTo>
                    <a:cubicBezTo>
                      <a:pt x="130" y="490"/>
                      <a:pt x="113" y="499"/>
                      <a:pt x="114" y="526"/>
                    </a:cubicBezTo>
                    <a:cubicBezTo>
                      <a:pt x="115" y="553"/>
                      <a:pt x="131" y="596"/>
                      <a:pt x="141" y="628"/>
                    </a:cubicBezTo>
                    <a:cubicBezTo>
                      <a:pt x="151" y="660"/>
                      <a:pt x="166" y="705"/>
                      <a:pt x="174" y="718"/>
                    </a:cubicBezTo>
                    <a:cubicBezTo>
                      <a:pt x="182" y="731"/>
                      <a:pt x="183" y="725"/>
                      <a:pt x="189" y="706"/>
                    </a:cubicBezTo>
                    <a:cubicBezTo>
                      <a:pt x="195" y="687"/>
                      <a:pt x="205" y="644"/>
                      <a:pt x="213" y="601"/>
                    </a:cubicBezTo>
                    <a:cubicBezTo>
                      <a:pt x="221" y="558"/>
                      <a:pt x="231" y="483"/>
                      <a:pt x="234" y="448"/>
                    </a:cubicBezTo>
                    <a:cubicBezTo>
                      <a:pt x="237" y="413"/>
                      <a:pt x="244" y="420"/>
                      <a:pt x="234" y="388"/>
                    </a:cubicBezTo>
                    <a:cubicBezTo>
                      <a:pt x="224" y="356"/>
                      <a:pt x="191" y="300"/>
                      <a:pt x="177" y="256"/>
                    </a:cubicBezTo>
                    <a:cubicBezTo>
                      <a:pt x="163" y="212"/>
                      <a:pt x="151" y="131"/>
                      <a:pt x="150" y="124"/>
                    </a:cubicBezTo>
                    <a:cubicBezTo>
                      <a:pt x="149" y="117"/>
                      <a:pt x="159" y="178"/>
                      <a:pt x="171" y="214"/>
                    </a:cubicBezTo>
                    <a:cubicBezTo>
                      <a:pt x="183" y="250"/>
                      <a:pt x="210" y="315"/>
                      <a:pt x="222" y="340"/>
                    </a:cubicBezTo>
                    <a:cubicBezTo>
                      <a:pt x="234" y="365"/>
                      <a:pt x="231" y="377"/>
                      <a:pt x="243" y="364"/>
                    </a:cubicBezTo>
                    <a:cubicBezTo>
                      <a:pt x="255" y="351"/>
                      <a:pt x="283" y="294"/>
                      <a:pt x="297" y="262"/>
                    </a:cubicBezTo>
                    <a:cubicBezTo>
                      <a:pt x="311" y="230"/>
                      <a:pt x="325" y="202"/>
                      <a:pt x="327" y="169"/>
                    </a:cubicBezTo>
                    <a:cubicBezTo>
                      <a:pt x="329" y="136"/>
                      <a:pt x="310" y="89"/>
                      <a:pt x="309" y="64"/>
                    </a:cubicBezTo>
                    <a:cubicBezTo>
                      <a:pt x="308" y="39"/>
                      <a:pt x="315" y="6"/>
                      <a:pt x="318" y="16"/>
                    </a:cubicBezTo>
                    <a:cubicBezTo>
                      <a:pt x="321" y="26"/>
                      <a:pt x="324" y="99"/>
                      <a:pt x="327" y="124"/>
                    </a:cubicBezTo>
                    <a:cubicBezTo>
                      <a:pt x="330" y="149"/>
                      <a:pt x="327" y="177"/>
                      <a:pt x="339" y="169"/>
                    </a:cubicBezTo>
                    <a:cubicBezTo>
                      <a:pt x="351" y="161"/>
                      <a:pt x="381" y="100"/>
                      <a:pt x="399" y="73"/>
                    </a:cubicBezTo>
                    <a:cubicBezTo>
                      <a:pt x="417" y="46"/>
                      <a:pt x="440" y="12"/>
                      <a:pt x="447" y="7"/>
                    </a:cubicBezTo>
                    <a:cubicBezTo>
                      <a:pt x="454" y="2"/>
                      <a:pt x="457" y="18"/>
                      <a:pt x="444" y="43"/>
                    </a:cubicBezTo>
                    <a:cubicBezTo>
                      <a:pt x="431" y="68"/>
                      <a:pt x="388" y="126"/>
                      <a:pt x="369" y="160"/>
                    </a:cubicBezTo>
                    <a:cubicBezTo>
                      <a:pt x="350" y="194"/>
                      <a:pt x="346" y="213"/>
                      <a:pt x="330" y="247"/>
                    </a:cubicBezTo>
                    <a:cubicBezTo>
                      <a:pt x="314" y="281"/>
                      <a:pt x="282" y="339"/>
                      <a:pt x="270" y="364"/>
                    </a:cubicBezTo>
                    <a:cubicBezTo>
                      <a:pt x="258" y="389"/>
                      <a:pt x="262" y="376"/>
                      <a:pt x="258" y="397"/>
                    </a:cubicBezTo>
                    <a:cubicBezTo>
                      <a:pt x="254" y="418"/>
                      <a:pt x="250" y="457"/>
                      <a:pt x="246" y="493"/>
                    </a:cubicBezTo>
                    <a:cubicBezTo>
                      <a:pt x="242" y="529"/>
                      <a:pt x="239" y="573"/>
                      <a:pt x="231" y="616"/>
                    </a:cubicBezTo>
                    <a:cubicBezTo>
                      <a:pt x="223" y="659"/>
                      <a:pt x="204" y="702"/>
                      <a:pt x="198" y="751"/>
                    </a:cubicBezTo>
                    <a:cubicBezTo>
                      <a:pt x="192" y="800"/>
                      <a:pt x="193" y="871"/>
                      <a:pt x="192" y="913"/>
                    </a:cubicBezTo>
                    <a:cubicBezTo>
                      <a:pt x="191" y="955"/>
                      <a:pt x="192" y="978"/>
                      <a:pt x="192" y="1006"/>
                    </a:cubicBezTo>
                    <a:cubicBezTo>
                      <a:pt x="192" y="1034"/>
                      <a:pt x="181" y="1089"/>
                      <a:pt x="195" y="1081"/>
                    </a:cubicBezTo>
                    <a:cubicBezTo>
                      <a:pt x="209" y="1073"/>
                      <a:pt x="250" y="996"/>
                      <a:pt x="276" y="955"/>
                    </a:cubicBezTo>
                    <a:cubicBezTo>
                      <a:pt x="302" y="914"/>
                      <a:pt x="338" y="863"/>
                      <a:pt x="354" y="832"/>
                    </a:cubicBezTo>
                    <a:cubicBezTo>
                      <a:pt x="370" y="801"/>
                      <a:pt x="369" y="807"/>
                      <a:pt x="372" y="766"/>
                    </a:cubicBezTo>
                    <a:cubicBezTo>
                      <a:pt x="375" y="725"/>
                      <a:pt x="374" y="631"/>
                      <a:pt x="372" y="583"/>
                    </a:cubicBezTo>
                    <a:cubicBezTo>
                      <a:pt x="370" y="535"/>
                      <a:pt x="360" y="519"/>
                      <a:pt x="360" y="478"/>
                    </a:cubicBezTo>
                    <a:cubicBezTo>
                      <a:pt x="360" y="437"/>
                      <a:pt x="368" y="372"/>
                      <a:pt x="369" y="334"/>
                    </a:cubicBezTo>
                    <a:cubicBezTo>
                      <a:pt x="370" y="296"/>
                      <a:pt x="360" y="275"/>
                      <a:pt x="369" y="250"/>
                    </a:cubicBezTo>
                    <a:cubicBezTo>
                      <a:pt x="378" y="225"/>
                      <a:pt x="410" y="207"/>
                      <a:pt x="426" y="181"/>
                    </a:cubicBezTo>
                    <a:cubicBezTo>
                      <a:pt x="442" y="155"/>
                      <a:pt x="450" y="120"/>
                      <a:pt x="465" y="91"/>
                    </a:cubicBezTo>
                    <a:cubicBezTo>
                      <a:pt x="480" y="62"/>
                      <a:pt x="511" y="14"/>
                      <a:pt x="516" y="7"/>
                    </a:cubicBezTo>
                    <a:cubicBezTo>
                      <a:pt x="521" y="0"/>
                      <a:pt x="506" y="31"/>
                      <a:pt x="498" y="49"/>
                    </a:cubicBezTo>
                    <a:cubicBezTo>
                      <a:pt x="490" y="67"/>
                      <a:pt x="477" y="95"/>
                      <a:pt x="468" y="115"/>
                    </a:cubicBezTo>
                    <a:cubicBezTo>
                      <a:pt x="459" y="135"/>
                      <a:pt x="452" y="153"/>
                      <a:pt x="444" y="169"/>
                    </a:cubicBezTo>
                    <a:cubicBezTo>
                      <a:pt x="436" y="185"/>
                      <a:pt x="432" y="194"/>
                      <a:pt x="423" y="208"/>
                    </a:cubicBezTo>
                    <a:cubicBezTo>
                      <a:pt x="414" y="222"/>
                      <a:pt x="395" y="242"/>
                      <a:pt x="387" y="256"/>
                    </a:cubicBezTo>
                    <a:cubicBezTo>
                      <a:pt x="379" y="270"/>
                      <a:pt x="378" y="270"/>
                      <a:pt x="375" y="295"/>
                    </a:cubicBezTo>
                    <a:cubicBezTo>
                      <a:pt x="372" y="320"/>
                      <a:pt x="368" y="362"/>
                      <a:pt x="369" y="406"/>
                    </a:cubicBezTo>
                    <a:cubicBezTo>
                      <a:pt x="370" y="450"/>
                      <a:pt x="378" y="513"/>
                      <a:pt x="381" y="562"/>
                    </a:cubicBezTo>
                    <a:cubicBezTo>
                      <a:pt x="384" y="611"/>
                      <a:pt x="387" y="665"/>
                      <a:pt x="387" y="703"/>
                    </a:cubicBezTo>
                    <a:cubicBezTo>
                      <a:pt x="387" y="741"/>
                      <a:pt x="370" y="792"/>
                      <a:pt x="381" y="793"/>
                    </a:cubicBezTo>
                    <a:cubicBezTo>
                      <a:pt x="392" y="794"/>
                      <a:pt x="428" y="741"/>
                      <a:pt x="456" y="709"/>
                    </a:cubicBezTo>
                    <a:cubicBezTo>
                      <a:pt x="484" y="677"/>
                      <a:pt x="516" y="636"/>
                      <a:pt x="546" y="601"/>
                    </a:cubicBezTo>
                    <a:cubicBezTo>
                      <a:pt x="576" y="566"/>
                      <a:pt x="609" y="535"/>
                      <a:pt x="636" y="499"/>
                    </a:cubicBezTo>
                    <a:cubicBezTo>
                      <a:pt x="663" y="463"/>
                      <a:pt x="686" y="438"/>
                      <a:pt x="711" y="385"/>
                    </a:cubicBezTo>
                    <a:cubicBezTo>
                      <a:pt x="736" y="332"/>
                      <a:pt x="778" y="205"/>
                      <a:pt x="789" y="181"/>
                    </a:cubicBezTo>
                    <a:cubicBezTo>
                      <a:pt x="800" y="157"/>
                      <a:pt x="790" y="199"/>
                      <a:pt x="777" y="241"/>
                    </a:cubicBezTo>
                    <a:cubicBezTo>
                      <a:pt x="764" y="283"/>
                      <a:pt x="731" y="389"/>
                      <a:pt x="708" y="436"/>
                    </a:cubicBezTo>
                    <a:cubicBezTo>
                      <a:pt x="685" y="483"/>
                      <a:pt x="663" y="492"/>
                      <a:pt x="636" y="526"/>
                    </a:cubicBezTo>
                    <a:cubicBezTo>
                      <a:pt x="609" y="560"/>
                      <a:pt x="582" y="596"/>
                      <a:pt x="546" y="640"/>
                    </a:cubicBezTo>
                    <a:cubicBezTo>
                      <a:pt x="510" y="684"/>
                      <a:pt x="449" y="757"/>
                      <a:pt x="420" y="790"/>
                    </a:cubicBezTo>
                    <a:cubicBezTo>
                      <a:pt x="391" y="823"/>
                      <a:pt x="390" y="809"/>
                      <a:pt x="369" y="838"/>
                    </a:cubicBezTo>
                    <a:cubicBezTo>
                      <a:pt x="348" y="867"/>
                      <a:pt x="322" y="924"/>
                      <a:pt x="297" y="967"/>
                    </a:cubicBezTo>
                    <a:cubicBezTo>
                      <a:pt x="272" y="1010"/>
                      <a:pt x="236" y="1056"/>
                      <a:pt x="216" y="1099"/>
                    </a:cubicBezTo>
                    <a:cubicBezTo>
                      <a:pt x="196" y="1142"/>
                      <a:pt x="201" y="1159"/>
                      <a:pt x="180" y="1225"/>
                    </a:cubicBezTo>
                    <a:cubicBezTo>
                      <a:pt x="159" y="1291"/>
                      <a:pt x="117" y="1431"/>
                      <a:pt x="90" y="1498"/>
                    </a:cubicBezTo>
                    <a:cubicBezTo>
                      <a:pt x="63" y="1565"/>
                      <a:pt x="30" y="1619"/>
                      <a:pt x="15" y="1630"/>
                    </a:cubicBezTo>
                    <a:cubicBezTo>
                      <a:pt x="0" y="1641"/>
                      <a:pt x="0" y="1602"/>
                      <a:pt x="0" y="1564"/>
                    </a:cubicBez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716000" y="2476440"/>
                <a:ext cx="562320" cy="1572120"/>
              </a:xfrm>
              <a:custGeom>
                <a:avLst/>
                <a:gdLst/>
                <a:ahLst/>
                <a:rect l="l" t="t" r="r" b="b"/>
                <a:pathLst>
                  <a:path w="547" h="1535">
                    <a:moveTo>
                      <a:pt x="297" y="1446"/>
                    </a:moveTo>
                    <a:cubicBezTo>
                      <a:pt x="297" y="1390"/>
                      <a:pt x="309" y="1243"/>
                      <a:pt x="312" y="1167"/>
                    </a:cubicBezTo>
                    <a:cubicBezTo>
                      <a:pt x="315" y="1091"/>
                      <a:pt x="322" y="1031"/>
                      <a:pt x="318" y="987"/>
                    </a:cubicBezTo>
                    <a:cubicBezTo>
                      <a:pt x="314" y="943"/>
                      <a:pt x="313" y="957"/>
                      <a:pt x="288" y="903"/>
                    </a:cubicBezTo>
                    <a:cubicBezTo>
                      <a:pt x="263" y="849"/>
                      <a:pt x="191" y="720"/>
                      <a:pt x="165" y="663"/>
                    </a:cubicBezTo>
                    <a:cubicBezTo>
                      <a:pt x="139" y="606"/>
                      <a:pt x="145" y="581"/>
                      <a:pt x="132" y="558"/>
                    </a:cubicBezTo>
                    <a:cubicBezTo>
                      <a:pt x="119" y="535"/>
                      <a:pt x="105" y="553"/>
                      <a:pt x="87" y="522"/>
                    </a:cubicBezTo>
                    <a:cubicBezTo>
                      <a:pt x="69" y="491"/>
                      <a:pt x="34" y="410"/>
                      <a:pt x="21" y="372"/>
                    </a:cubicBezTo>
                    <a:cubicBezTo>
                      <a:pt x="8" y="334"/>
                      <a:pt x="0" y="326"/>
                      <a:pt x="9" y="294"/>
                    </a:cubicBezTo>
                    <a:cubicBezTo>
                      <a:pt x="18" y="262"/>
                      <a:pt x="57" y="222"/>
                      <a:pt x="75" y="177"/>
                    </a:cubicBezTo>
                    <a:cubicBezTo>
                      <a:pt x="93" y="132"/>
                      <a:pt x="106" y="42"/>
                      <a:pt x="114" y="21"/>
                    </a:cubicBezTo>
                    <a:cubicBezTo>
                      <a:pt x="122" y="0"/>
                      <a:pt x="127" y="26"/>
                      <a:pt x="123" y="51"/>
                    </a:cubicBezTo>
                    <a:cubicBezTo>
                      <a:pt x="119" y="76"/>
                      <a:pt x="102" y="129"/>
                      <a:pt x="87" y="171"/>
                    </a:cubicBezTo>
                    <a:cubicBezTo>
                      <a:pt x="72" y="213"/>
                      <a:pt x="35" y="266"/>
                      <a:pt x="30" y="306"/>
                    </a:cubicBezTo>
                    <a:cubicBezTo>
                      <a:pt x="25" y="346"/>
                      <a:pt x="45" y="379"/>
                      <a:pt x="57" y="414"/>
                    </a:cubicBezTo>
                    <a:cubicBezTo>
                      <a:pt x="69" y="449"/>
                      <a:pt x="85" y="491"/>
                      <a:pt x="102" y="516"/>
                    </a:cubicBezTo>
                    <a:cubicBezTo>
                      <a:pt x="119" y="541"/>
                      <a:pt x="140" y="530"/>
                      <a:pt x="159" y="564"/>
                    </a:cubicBezTo>
                    <a:cubicBezTo>
                      <a:pt x="178" y="598"/>
                      <a:pt x="196" y="671"/>
                      <a:pt x="216" y="717"/>
                    </a:cubicBezTo>
                    <a:cubicBezTo>
                      <a:pt x="236" y="763"/>
                      <a:pt x="262" y="802"/>
                      <a:pt x="282" y="840"/>
                    </a:cubicBezTo>
                    <a:cubicBezTo>
                      <a:pt x="302" y="878"/>
                      <a:pt x="318" y="939"/>
                      <a:pt x="336" y="945"/>
                    </a:cubicBezTo>
                    <a:cubicBezTo>
                      <a:pt x="354" y="951"/>
                      <a:pt x="371" y="916"/>
                      <a:pt x="390" y="879"/>
                    </a:cubicBezTo>
                    <a:cubicBezTo>
                      <a:pt x="409" y="842"/>
                      <a:pt x="433" y="776"/>
                      <a:pt x="453" y="720"/>
                    </a:cubicBezTo>
                    <a:cubicBezTo>
                      <a:pt x="473" y="664"/>
                      <a:pt x="499" y="591"/>
                      <a:pt x="510" y="543"/>
                    </a:cubicBezTo>
                    <a:cubicBezTo>
                      <a:pt x="521" y="495"/>
                      <a:pt x="521" y="475"/>
                      <a:pt x="522" y="429"/>
                    </a:cubicBezTo>
                    <a:cubicBezTo>
                      <a:pt x="523" y="383"/>
                      <a:pt x="517" y="281"/>
                      <a:pt x="519" y="264"/>
                    </a:cubicBezTo>
                    <a:cubicBezTo>
                      <a:pt x="521" y="247"/>
                      <a:pt x="531" y="283"/>
                      <a:pt x="534" y="324"/>
                    </a:cubicBezTo>
                    <a:cubicBezTo>
                      <a:pt x="537" y="365"/>
                      <a:pt x="547" y="455"/>
                      <a:pt x="540" y="513"/>
                    </a:cubicBezTo>
                    <a:cubicBezTo>
                      <a:pt x="533" y="571"/>
                      <a:pt x="509" y="624"/>
                      <a:pt x="492" y="675"/>
                    </a:cubicBezTo>
                    <a:cubicBezTo>
                      <a:pt x="475" y="726"/>
                      <a:pt x="461" y="774"/>
                      <a:pt x="441" y="822"/>
                    </a:cubicBezTo>
                    <a:cubicBezTo>
                      <a:pt x="421" y="870"/>
                      <a:pt x="387" y="917"/>
                      <a:pt x="372" y="963"/>
                    </a:cubicBezTo>
                    <a:cubicBezTo>
                      <a:pt x="357" y="1009"/>
                      <a:pt x="357" y="1014"/>
                      <a:pt x="351" y="1098"/>
                    </a:cubicBezTo>
                    <a:cubicBezTo>
                      <a:pt x="345" y="1182"/>
                      <a:pt x="343" y="1399"/>
                      <a:pt x="336" y="1467"/>
                    </a:cubicBezTo>
                    <a:cubicBezTo>
                      <a:pt x="329" y="1535"/>
                      <a:pt x="316" y="1510"/>
                      <a:pt x="309" y="1506"/>
                    </a:cubicBezTo>
                    <a:cubicBezTo>
                      <a:pt x="302" y="1502"/>
                      <a:pt x="297" y="1502"/>
                      <a:pt x="297" y="1446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524840" y="2476440"/>
                <a:ext cx="178560" cy="746640"/>
              </a:xfrm>
              <a:custGeom>
                <a:avLst/>
                <a:gdLst/>
                <a:ahLst/>
                <a:rect l="l" t="t" r="r" b="b"/>
                <a:pathLst>
                  <a:path w="174" h="729">
                    <a:moveTo>
                      <a:pt x="51" y="681"/>
                    </a:moveTo>
                    <a:cubicBezTo>
                      <a:pt x="60" y="636"/>
                      <a:pt x="69" y="591"/>
                      <a:pt x="75" y="537"/>
                    </a:cubicBezTo>
                    <a:cubicBezTo>
                      <a:pt x="81" y="483"/>
                      <a:pt x="91" y="400"/>
                      <a:pt x="87" y="357"/>
                    </a:cubicBezTo>
                    <a:cubicBezTo>
                      <a:pt x="83" y="314"/>
                      <a:pt x="62" y="311"/>
                      <a:pt x="54" y="282"/>
                    </a:cubicBezTo>
                    <a:cubicBezTo>
                      <a:pt x="46" y="253"/>
                      <a:pt x="45" y="214"/>
                      <a:pt x="36" y="183"/>
                    </a:cubicBezTo>
                    <a:cubicBezTo>
                      <a:pt x="27" y="152"/>
                      <a:pt x="0" y="98"/>
                      <a:pt x="0" y="93"/>
                    </a:cubicBezTo>
                    <a:cubicBezTo>
                      <a:pt x="0" y="88"/>
                      <a:pt x="25" y="123"/>
                      <a:pt x="36" y="150"/>
                    </a:cubicBezTo>
                    <a:cubicBezTo>
                      <a:pt x="47" y="177"/>
                      <a:pt x="61" y="228"/>
                      <a:pt x="69" y="255"/>
                    </a:cubicBezTo>
                    <a:cubicBezTo>
                      <a:pt x="77" y="282"/>
                      <a:pt x="81" y="315"/>
                      <a:pt x="87" y="312"/>
                    </a:cubicBezTo>
                    <a:cubicBezTo>
                      <a:pt x="93" y="309"/>
                      <a:pt x="101" y="264"/>
                      <a:pt x="108" y="237"/>
                    </a:cubicBezTo>
                    <a:cubicBezTo>
                      <a:pt x="115" y="210"/>
                      <a:pt x="123" y="172"/>
                      <a:pt x="129" y="147"/>
                    </a:cubicBezTo>
                    <a:cubicBezTo>
                      <a:pt x="135" y="122"/>
                      <a:pt x="139" y="107"/>
                      <a:pt x="144" y="84"/>
                    </a:cubicBezTo>
                    <a:cubicBezTo>
                      <a:pt x="149" y="61"/>
                      <a:pt x="155" y="12"/>
                      <a:pt x="159" y="6"/>
                    </a:cubicBezTo>
                    <a:cubicBezTo>
                      <a:pt x="163" y="0"/>
                      <a:pt x="174" y="17"/>
                      <a:pt x="171" y="45"/>
                    </a:cubicBezTo>
                    <a:cubicBezTo>
                      <a:pt x="168" y="73"/>
                      <a:pt x="148" y="130"/>
                      <a:pt x="138" y="174"/>
                    </a:cubicBezTo>
                    <a:cubicBezTo>
                      <a:pt x="128" y="218"/>
                      <a:pt x="113" y="278"/>
                      <a:pt x="108" y="312"/>
                    </a:cubicBezTo>
                    <a:cubicBezTo>
                      <a:pt x="103" y="346"/>
                      <a:pt x="105" y="347"/>
                      <a:pt x="105" y="381"/>
                    </a:cubicBezTo>
                    <a:cubicBezTo>
                      <a:pt x="105" y="415"/>
                      <a:pt x="114" y="458"/>
                      <a:pt x="108" y="516"/>
                    </a:cubicBezTo>
                    <a:cubicBezTo>
                      <a:pt x="102" y="574"/>
                      <a:pt x="85" y="651"/>
                      <a:pt x="69" y="729"/>
                    </a:cubicBez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924800" y="2392560"/>
                <a:ext cx="683640" cy="310320"/>
              </a:xfrm>
              <a:custGeom>
                <a:avLst/>
                <a:gdLst/>
                <a:ahLst/>
                <a:rect l="l" t="t" r="r" b="b"/>
                <a:pathLst>
                  <a:path w="362" h="165">
                    <a:moveTo>
                      <a:pt x="154" y="4"/>
                    </a:moveTo>
                    <a:cubicBezTo>
                      <a:pt x="114" y="8"/>
                      <a:pt x="56" y="26"/>
                      <a:pt x="32" y="44"/>
                    </a:cubicBezTo>
                    <a:cubicBezTo>
                      <a:pt x="8" y="62"/>
                      <a:pt x="0" y="91"/>
                      <a:pt x="8" y="110"/>
                    </a:cubicBezTo>
                    <a:cubicBezTo>
                      <a:pt x="16" y="129"/>
                      <a:pt x="38" y="155"/>
                      <a:pt x="78" y="160"/>
                    </a:cubicBezTo>
                    <a:cubicBezTo>
                      <a:pt x="118" y="165"/>
                      <a:pt x="204" y="145"/>
                      <a:pt x="248" y="138"/>
                    </a:cubicBezTo>
                    <a:cubicBezTo>
                      <a:pt x="292" y="131"/>
                      <a:pt x="325" y="131"/>
                      <a:pt x="342" y="116"/>
                    </a:cubicBezTo>
                    <a:cubicBezTo>
                      <a:pt x="359" y="101"/>
                      <a:pt x="362" y="64"/>
                      <a:pt x="350" y="48"/>
                    </a:cubicBezTo>
                    <a:cubicBezTo>
                      <a:pt x="338" y="32"/>
                      <a:pt x="306" y="28"/>
                      <a:pt x="272" y="20"/>
                    </a:cubicBezTo>
                    <a:cubicBezTo>
                      <a:pt x="238" y="12"/>
                      <a:pt x="194" y="0"/>
                      <a:pt x="1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661640" y="2220840"/>
                <a:ext cx="790560" cy="329760"/>
              </a:xfrm>
              <a:custGeom>
                <a:avLst/>
                <a:gdLst/>
                <a:ahLst/>
                <a:rect l="l" t="t" r="r" b="b"/>
                <a:pathLst>
                  <a:path w="739" h="292">
                    <a:moveTo>
                      <a:pt x="156" y="98"/>
                    </a:moveTo>
                    <a:cubicBezTo>
                      <a:pt x="158" y="98"/>
                      <a:pt x="108" y="116"/>
                      <a:pt x="90" y="128"/>
                    </a:cubicBezTo>
                    <a:cubicBezTo>
                      <a:pt x="72" y="140"/>
                      <a:pt x="56" y="154"/>
                      <a:pt x="48" y="172"/>
                    </a:cubicBezTo>
                    <a:cubicBezTo>
                      <a:pt x="40" y="190"/>
                      <a:pt x="32" y="219"/>
                      <a:pt x="42" y="236"/>
                    </a:cubicBezTo>
                    <a:cubicBezTo>
                      <a:pt x="52" y="253"/>
                      <a:pt x="72" y="266"/>
                      <a:pt x="110" y="274"/>
                    </a:cubicBezTo>
                    <a:cubicBezTo>
                      <a:pt x="148" y="282"/>
                      <a:pt x="228" y="285"/>
                      <a:pt x="268" y="284"/>
                    </a:cubicBezTo>
                    <a:cubicBezTo>
                      <a:pt x="308" y="283"/>
                      <a:pt x="327" y="280"/>
                      <a:pt x="352" y="268"/>
                    </a:cubicBezTo>
                    <a:cubicBezTo>
                      <a:pt x="377" y="256"/>
                      <a:pt x="398" y="224"/>
                      <a:pt x="416" y="210"/>
                    </a:cubicBezTo>
                    <a:cubicBezTo>
                      <a:pt x="434" y="196"/>
                      <a:pt x="443" y="179"/>
                      <a:pt x="460" y="186"/>
                    </a:cubicBezTo>
                    <a:cubicBezTo>
                      <a:pt x="477" y="193"/>
                      <a:pt x="483" y="233"/>
                      <a:pt x="518" y="250"/>
                    </a:cubicBezTo>
                    <a:cubicBezTo>
                      <a:pt x="553" y="267"/>
                      <a:pt x="633" y="292"/>
                      <a:pt x="668" y="290"/>
                    </a:cubicBezTo>
                    <a:cubicBezTo>
                      <a:pt x="703" y="288"/>
                      <a:pt x="715" y="261"/>
                      <a:pt x="726" y="240"/>
                    </a:cubicBezTo>
                    <a:cubicBezTo>
                      <a:pt x="737" y="219"/>
                      <a:pt x="739" y="184"/>
                      <a:pt x="734" y="162"/>
                    </a:cubicBezTo>
                    <a:cubicBezTo>
                      <a:pt x="729" y="140"/>
                      <a:pt x="727" y="127"/>
                      <a:pt x="698" y="108"/>
                    </a:cubicBezTo>
                    <a:cubicBezTo>
                      <a:pt x="669" y="89"/>
                      <a:pt x="622" y="61"/>
                      <a:pt x="562" y="48"/>
                    </a:cubicBezTo>
                    <a:cubicBezTo>
                      <a:pt x="502" y="35"/>
                      <a:pt x="404" y="37"/>
                      <a:pt x="340" y="30"/>
                    </a:cubicBezTo>
                    <a:cubicBezTo>
                      <a:pt x="276" y="23"/>
                      <a:pt x="224" y="12"/>
                      <a:pt x="178" y="8"/>
                    </a:cubicBezTo>
                    <a:cubicBezTo>
                      <a:pt x="132" y="4"/>
                      <a:pt x="90" y="0"/>
                      <a:pt x="62" y="4"/>
                    </a:cubicBezTo>
                    <a:cubicBezTo>
                      <a:pt x="34" y="8"/>
                      <a:pt x="16" y="18"/>
                      <a:pt x="8" y="30"/>
                    </a:cubicBezTo>
                    <a:cubicBezTo>
                      <a:pt x="0" y="42"/>
                      <a:pt x="5" y="58"/>
                      <a:pt x="16" y="74"/>
                    </a:cubicBezTo>
                    <a:cubicBezTo>
                      <a:pt x="27" y="90"/>
                      <a:pt x="52" y="125"/>
                      <a:pt x="76" y="128"/>
                    </a:cubicBezTo>
                    <a:cubicBezTo>
                      <a:pt x="100" y="131"/>
                      <a:pt x="154" y="98"/>
                      <a:pt x="156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272840" y="2278080"/>
                <a:ext cx="539640" cy="291600"/>
              </a:xfrm>
              <a:custGeom>
                <a:avLst/>
                <a:gdLst/>
                <a:ahLst/>
                <a:rect l="l" t="t" r="r" b="b"/>
                <a:pathLst>
                  <a:path w="525" h="237">
                    <a:moveTo>
                      <a:pt x="22" y="130"/>
                    </a:moveTo>
                    <a:cubicBezTo>
                      <a:pt x="15" y="142"/>
                      <a:pt x="0" y="162"/>
                      <a:pt x="4" y="178"/>
                    </a:cubicBezTo>
                    <a:cubicBezTo>
                      <a:pt x="8" y="194"/>
                      <a:pt x="23" y="214"/>
                      <a:pt x="44" y="224"/>
                    </a:cubicBezTo>
                    <a:cubicBezTo>
                      <a:pt x="65" y="234"/>
                      <a:pt x="102" y="237"/>
                      <a:pt x="130" y="236"/>
                    </a:cubicBezTo>
                    <a:cubicBezTo>
                      <a:pt x="158" y="235"/>
                      <a:pt x="172" y="217"/>
                      <a:pt x="210" y="216"/>
                    </a:cubicBezTo>
                    <a:cubicBezTo>
                      <a:pt x="248" y="215"/>
                      <a:pt x="317" y="235"/>
                      <a:pt x="356" y="230"/>
                    </a:cubicBezTo>
                    <a:cubicBezTo>
                      <a:pt x="395" y="225"/>
                      <a:pt x="419" y="207"/>
                      <a:pt x="446" y="184"/>
                    </a:cubicBezTo>
                    <a:cubicBezTo>
                      <a:pt x="473" y="161"/>
                      <a:pt x="507" y="117"/>
                      <a:pt x="516" y="94"/>
                    </a:cubicBezTo>
                    <a:cubicBezTo>
                      <a:pt x="525" y="71"/>
                      <a:pt x="524" y="63"/>
                      <a:pt x="498" y="48"/>
                    </a:cubicBezTo>
                    <a:cubicBezTo>
                      <a:pt x="472" y="33"/>
                      <a:pt x="403" y="12"/>
                      <a:pt x="360" y="6"/>
                    </a:cubicBezTo>
                    <a:cubicBezTo>
                      <a:pt x="317" y="0"/>
                      <a:pt x="277" y="5"/>
                      <a:pt x="240" y="14"/>
                    </a:cubicBezTo>
                    <a:cubicBezTo>
                      <a:pt x="203" y="23"/>
                      <a:pt x="168" y="45"/>
                      <a:pt x="136" y="60"/>
                    </a:cubicBezTo>
                    <a:cubicBezTo>
                      <a:pt x="104" y="75"/>
                      <a:pt x="66" y="93"/>
                      <a:pt x="46" y="106"/>
                    </a:cubicBezTo>
                    <a:cubicBezTo>
                      <a:pt x="26" y="119"/>
                      <a:pt x="29" y="118"/>
                      <a:pt x="22" y="13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164120" y="2457000"/>
                <a:ext cx="431640" cy="193680"/>
              </a:xfrm>
              <a:custGeom>
                <a:avLst/>
                <a:gdLst/>
                <a:ahLst/>
                <a:rect l="l" t="t" r="r" b="b"/>
                <a:pathLst>
                  <a:path w="420" h="189">
                    <a:moveTo>
                      <a:pt x="112" y="3"/>
                    </a:moveTo>
                    <a:cubicBezTo>
                      <a:pt x="97" y="6"/>
                      <a:pt x="58" y="19"/>
                      <a:pt x="40" y="29"/>
                    </a:cubicBezTo>
                    <a:cubicBezTo>
                      <a:pt x="22" y="39"/>
                      <a:pt x="4" y="46"/>
                      <a:pt x="2" y="61"/>
                    </a:cubicBezTo>
                    <a:cubicBezTo>
                      <a:pt x="0" y="76"/>
                      <a:pt x="9" y="102"/>
                      <a:pt x="26" y="117"/>
                    </a:cubicBezTo>
                    <a:cubicBezTo>
                      <a:pt x="43" y="132"/>
                      <a:pt x="77" y="138"/>
                      <a:pt x="104" y="149"/>
                    </a:cubicBezTo>
                    <a:cubicBezTo>
                      <a:pt x="131" y="160"/>
                      <a:pt x="159" y="181"/>
                      <a:pt x="188" y="185"/>
                    </a:cubicBezTo>
                    <a:cubicBezTo>
                      <a:pt x="217" y="189"/>
                      <a:pt x="248" y="180"/>
                      <a:pt x="280" y="173"/>
                    </a:cubicBezTo>
                    <a:cubicBezTo>
                      <a:pt x="312" y="166"/>
                      <a:pt x="357" y="155"/>
                      <a:pt x="380" y="141"/>
                    </a:cubicBezTo>
                    <a:cubicBezTo>
                      <a:pt x="403" y="127"/>
                      <a:pt x="420" y="106"/>
                      <a:pt x="420" y="91"/>
                    </a:cubicBezTo>
                    <a:cubicBezTo>
                      <a:pt x="420" y="76"/>
                      <a:pt x="407" y="56"/>
                      <a:pt x="382" y="49"/>
                    </a:cubicBezTo>
                    <a:cubicBezTo>
                      <a:pt x="357" y="42"/>
                      <a:pt x="302" y="51"/>
                      <a:pt x="268" y="51"/>
                    </a:cubicBezTo>
                    <a:cubicBezTo>
                      <a:pt x="234" y="51"/>
                      <a:pt x="203" y="54"/>
                      <a:pt x="180" y="47"/>
                    </a:cubicBezTo>
                    <a:cubicBezTo>
                      <a:pt x="157" y="40"/>
                      <a:pt x="144" y="18"/>
                      <a:pt x="132" y="11"/>
                    </a:cubicBezTo>
                    <a:cubicBezTo>
                      <a:pt x="120" y="4"/>
                      <a:pt x="127" y="0"/>
                      <a:pt x="112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914360" y="2646720"/>
                <a:ext cx="371880" cy="168840"/>
              </a:xfrm>
              <a:custGeom>
                <a:avLst/>
                <a:gdLst/>
                <a:ahLst/>
                <a:rect l="l" t="t" r="r" b="b"/>
                <a:pathLst>
                  <a:path w="362" h="165">
                    <a:moveTo>
                      <a:pt x="154" y="4"/>
                    </a:moveTo>
                    <a:cubicBezTo>
                      <a:pt x="114" y="8"/>
                      <a:pt x="56" y="26"/>
                      <a:pt x="32" y="44"/>
                    </a:cubicBezTo>
                    <a:cubicBezTo>
                      <a:pt x="8" y="62"/>
                      <a:pt x="0" y="91"/>
                      <a:pt x="8" y="110"/>
                    </a:cubicBezTo>
                    <a:cubicBezTo>
                      <a:pt x="16" y="129"/>
                      <a:pt x="38" y="155"/>
                      <a:pt x="78" y="160"/>
                    </a:cubicBezTo>
                    <a:cubicBezTo>
                      <a:pt x="118" y="165"/>
                      <a:pt x="204" y="145"/>
                      <a:pt x="248" y="138"/>
                    </a:cubicBezTo>
                    <a:cubicBezTo>
                      <a:pt x="292" y="131"/>
                      <a:pt x="325" y="131"/>
                      <a:pt x="342" y="116"/>
                    </a:cubicBezTo>
                    <a:cubicBezTo>
                      <a:pt x="359" y="101"/>
                      <a:pt x="362" y="64"/>
                      <a:pt x="350" y="48"/>
                    </a:cubicBezTo>
                    <a:cubicBezTo>
                      <a:pt x="338" y="32"/>
                      <a:pt x="306" y="28"/>
                      <a:pt x="272" y="20"/>
                    </a:cubicBezTo>
                    <a:cubicBezTo>
                      <a:pt x="238" y="12"/>
                      <a:pt x="194" y="0"/>
                      <a:pt x="1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3017880" y="2557440"/>
              <a:ext cx="1628640" cy="3549240"/>
              <a:chOff x="3017880" y="2557440"/>
              <a:chExt cx="1628640" cy="3549240"/>
            </a:xfrm>
          </p:grpSpPr>
          <p:sp>
            <p:nvSpPr>
              <p:cNvPr id="1477" name=""/>
              <p:cNvSpPr/>
              <p:nvPr/>
            </p:nvSpPr>
            <p:spPr>
              <a:xfrm>
                <a:off x="3793320" y="2576880"/>
                <a:ext cx="853200" cy="398160"/>
              </a:xfrm>
              <a:custGeom>
                <a:avLst/>
                <a:gdLst/>
                <a:ahLst/>
                <a:rect l="l" t="t" r="r" b="b"/>
                <a:pathLst>
                  <a:path w="910" h="427">
                    <a:moveTo>
                      <a:pt x="71" y="3"/>
                    </a:moveTo>
                    <a:cubicBezTo>
                      <a:pt x="35" y="13"/>
                      <a:pt x="0" y="24"/>
                      <a:pt x="1" y="43"/>
                    </a:cubicBezTo>
                    <a:cubicBezTo>
                      <a:pt x="2" y="62"/>
                      <a:pt x="43" y="84"/>
                      <a:pt x="79" y="119"/>
                    </a:cubicBezTo>
                    <a:cubicBezTo>
                      <a:pt x="115" y="154"/>
                      <a:pt x="175" y="231"/>
                      <a:pt x="219" y="253"/>
                    </a:cubicBezTo>
                    <a:cubicBezTo>
                      <a:pt x="263" y="275"/>
                      <a:pt x="307" y="256"/>
                      <a:pt x="345" y="253"/>
                    </a:cubicBezTo>
                    <a:cubicBezTo>
                      <a:pt x="383" y="250"/>
                      <a:pt x="409" y="225"/>
                      <a:pt x="449" y="233"/>
                    </a:cubicBezTo>
                    <a:cubicBezTo>
                      <a:pt x="489" y="241"/>
                      <a:pt x="540" y="275"/>
                      <a:pt x="585" y="301"/>
                    </a:cubicBezTo>
                    <a:cubicBezTo>
                      <a:pt x="630" y="327"/>
                      <a:pt x="681" y="368"/>
                      <a:pt x="721" y="389"/>
                    </a:cubicBezTo>
                    <a:cubicBezTo>
                      <a:pt x="761" y="410"/>
                      <a:pt x="797" y="423"/>
                      <a:pt x="827" y="425"/>
                    </a:cubicBezTo>
                    <a:cubicBezTo>
                      <a:pt x="857" y="427"/>
                      <a:pt x="892" y="423"/>
                      <a:pt x="901" y="401"/>
                    </a:cubicBezTo>
                    <a:cubicBezTo>
                      <a:pt x="910" y="379"/>
                      <a:pt x="907" y="330"/>
                      <a:pt x="879" y="293"/>
                    </a:cubicBezTo>
                    <a:cubicBezTo>
                      <a:pt x="851" y="256"/>
                      <a:pt x="783" y="210"/>
                      <a:pt x="735" y="177"/>
                    </a:cubicBezTo>
                    <a:cubicBezTo>
                      <a:pt x="687" y="144"/>
                      <a:pt x="647" y="116"/>
                      <a:pt x="589" y="95"/>
                    </a:cubicBezTo>
                    <a:cubicBezTo>
                      <a:pt x="531" y="74"/>
                      <a:pt x="448" y="63"/>
                      <a:pt x="385" y="49"/>
                    </a:cubicBezTo>
                    <a:cubicBezTo>
                      <a:pt x="322" y="35"/>
                      <a:pt x="255" y="17"/>
                      <a:pt x="211" y="9"/>
                    </a:cubicBezTo>
                    <a:cubicBezTo>
                      <a:pt x="167" y="1"/>
                      <a:pt x="147" y="2"/>
                      <a:pt x="121" y="1"/>
                    </a:cubicBezTo>
                    <a:cubicBezTo>
                      <a:pt x="95" y="0"/>
                      <a:pt x="66" y="3"/>
                      <a:pt x="55" y="3"/>
                    </a:cubicBezTo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145320" y="2887200"/>
                <a:ext cx="751680" cy="3219480"/>
              </a:xfrm>
              <a:custGeom>
                <a:avLst/>
                <a:gdLst/>
                <a:ahLst/>
                <a:rect l="l" t="t" r="r" b="b"/>
                <a:pathLst>
                  <a:path w="802" h="3453">
                    <a:moveTo>
                      <a:pt x="620" y="3406"/>
                    </a:moveTo>
                    <a:cubicBezTo>
                      <a:pt x="598" y="3359"/>
                      <a:pt x="641" y="3290"/>
                      <a:pt x="650" y="3130"/>
                    </a:cubicBezTo>
                    <a:cubicBezTo>
                      <a:pt x="659" y="2970"/>
                      <a:pt x="669" y="2717"/>
                      <a:pt x="674" y="2446"/>
                    </a:cubicBezTo>
                    <a:cubicBezTo>
                      <a:pt x="679" y="2175"/>
                      <a:pt x="679" y="1681"/>
                      <a:pt x="680" y="1504"/>
                    </a:cubicBezTo>
                    <a:cubicBezTo>
                      <a:pt x="681" y="1327"/>
                      <a:pt x="694" y="1425"/>
                      <a:pt x="680" y="1384"/>
                    </a:cubicBezTo>
                    <a:cubicBezTo>
                      <a:pt x="666" y="1343"/>
                      <a:pt x="629" y="1323"/>
                      <a:pt x="596" y="1258"/>
                    </a:cubicBezTo>
                    <a:cubicBezTo>
                      <a:pt x="563" y="1193"/>
                      <a:pt x="524" y="1062"/>
                      <a:pt x="482" y="994"/>
                    </a:cubicBezTo>
                    <a:cubicBezTo>
                      <a:pt x="440" y="926"/>
                      <a:pt x="379" y="908"/>
                      <a:pt x="344" y="850"/>
                    </a:cubicBezTo>
                    <a:cubicBezTo>
                      <a:pt x="309" y="792"/>
                      <a:pt x="303" y="702"/>
                      <a:pt x="272" y="646"/>
                    </a:cubicBezTo>
                    <a:cubicBezTo>
                      <a:pt x="241" y="590"/>
                      <a:pt x="191" y="564"/>
                      <a:pt x="158" y="514"/>
                    </a:cubicBezTo>
                    <a:cubicBezTo>
                      <a:pt x="125" y="464"/>
                      <a:pt x="100" y="428"/>
                      <a:pt x="74" y="346"/>
                    </a:cubicBezTo>
                    <a:cubicBezTo>
                      <a:pt x="48" y="264"/>
                      <a:pt x="4" y="44"/>
                      <a:pt x="2" y="22"/>
                    </a:cubicBezTo>
                    <a:cubicBezTo>
                      <a:pt x="0" y="0"/>
                      <a:pt x="32" y="134"/>
                      <a:pt x="62" y="214"/>
                    </a:cubicBezTo>
                    <a:cubicBezTo>
                      <a:pt x="92" y="294"/>
                      <a:pt x="138" y="434"/>
                      <a:pt x="182" y="502"/>
                    </a:cubicBezTo>
                    <a:cubicBezTo>
                      <a:pt x="226" y="570"/>
                      <a:pt x="294" y="571"/>
                      <a:pt x="326" y="622"/>
                    </a:cubicBezTo>
                    <a:cubicBezTo>
                      <a:pt x="358" y="673"/>
                      <a:pt x="341" y="749"/>
                      <a:pt x="374" y="808"/>
                    </a:cubicBezTo>
                    <a:cubicBezTo>
                      <a:pt x="407" y="867"/>
                      <a:pt x="488" y="922"/>
                      <a:pt x="524" y="976"/>
                    </a:cubicBezTo>
                    <a:cubicBezTo>
                      <a:pt x="560" y="1030"/>
                      <a:pt x="566" y="1080"/>
                      <a:pt x="590" y="1132"/>
                    </a:cubicBezTo>
                    <a:cubicBezTo>
                      <a:pt x="614" y="1184"/>
                      <a:pt x="643" y="1248"/>
                      <a:pt x="668" y="1288"/>
                    </a:cubicBezTo>
                    <a:cubicBezTo>
                      <a:pt x="693" y="1328"/>
                      <a:pt x="727" y="1328"/>
                      <a:pt x="740" y="1372"/>
                    </a:cubicBezTo>
                    <a:cubicBezTo>
                      <a:pt x="753" y="1416"/>
                      <a:pt x="746" y="1266"/>
                      <a:pt x="746" y="1552"/>
                    </a:cubicBezTo>
                    <a:cubicBezTo>
                      <a:pt x="746" y="1838"/>
                      <a:pt x="737" y="2784"/>
                      <a:pt x="740" y="3088"/>
                    </a:cubicBezTo>
                    <a:cubicBezTo>
                      <a:pt x="743" y="3392"/>
                      <a:pt x="757" y="3322"/>
                      <a:pt x="764" y="3376"/>
                    </a:cubicBezTo>
                    <a:cubicBezTo>
                      <a:pt x="771" y="3430"/>
                      <a:pt x="802" y="3408"/>
                      <a:pt x="782" y="3412"/>
                    </a:cubicBezTo>
                    <a:cubicBezTo>
                      <a:pt x="762" y="3416"/>
                      <a:pt x="642" y="3453"/>
                      <a:pt x="620" y="3406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816720" y="2766960"/>
                <a:ext cx="749880" cy="1530000"/>
              </a:xfrm>
              <a:custGeom>
                <a:avLst/>
                <a:gdLst/>
                <a:ahLst/>
                <a:rect l="l" t="t" r="r" b="b"/>
                <a:pathLst>
                  <a:path w="800" h="1641">
                    <a:moveTo>
                      <a:pt x="18" y="1534"/>
                    </a:moveTo>
                    <a:cubicBezTo>
                      <a:pt x="50" y="1473"/>
                      <a:pt x="83" y="1413"/>
                      <a:pt x="108" y="1342"/>
                    </a:cubicBezTo>
                    <a:cubicBezTo>
                      <a:pt x="133" y="1271"/>
                      <a:pt x="160" y="1189"/>
                      <a:pt x="171" y="1105"/>
                    </a:cubicBezTo>
                    <a:cubicBezTo>
                      <a:pt x="182" y="1021"/>
                      <a:pt x="171" y="895"/>
                      <a:pt x="171" y="838"/>
                    </a:cubicBezTo>
                    <a:cubicBezTo>
                      <a:pt x="171" y="781"/>
                      <a:pt x="179" y="786"/>
                      <a:pt x="174" y="760"/>
                    </a:cubicBezTo>
                    <a:cubicBezTo>
                      <a:pt x="169" y="734"/>
                      <a:pt x="151" y="717"/>
                      <a:pt x="138" y="682"/>
                    </a:cubicBezTo>
                    <a:cubicBezTo>
                      <a:pt x="125" y="647"/>
                      <a:pt x="106" y="592"/>
                      <a:pt x="96" y="553"/>
                    </a:cubicBezTo>
                    <a:cubicBezTo>
                      <a:pt x="86" y="514"/>
                      <a:pt x="87" y="486"/>
                      <a:pt x="75" y="445"/>
                    </a:cubicBezTo>
                    <a:cubicBezTo>
                      <a:pt x="63" y="404"/>
                      <a:pt x="24" y="318"/>
                      <a:pt x="21" y="304"/>
                    </a:cubicBezTo>
                    <a:cubicBezTo>
                      <a:pt x="18" y="290"/>
                      <a:pt x="42" y="336"/>
                      <a:pt x="54" y="361"/>
                    </a:cubicBezTo>
                    <a:cubicBezTo>
                      <a:pt x="66" y="386"/>
                      <a:pt x="84" y="435"/>
                      <a:pt x="93" y="454"/>
                    </a:cubicBezTo>
                    <a:cubicBezTo>
                      <a:pt x="102" y="473"/>
                      <a:pt x="102" y="488"/>
                      <a:pt x="108" y="475"/>
                    </a:cubicBezTo>
                    <a:cubicBezTo>
                      <a:pt x="114" y="462"/>
                      <a:pt x="130" y="402"/>
                      <a:pt x="132" y="373"/>
                    </a:cubicBezTo>
                    <a:cubicBezTo>
                      <a:pt x="134" y="344"/>
                      <a:pt x="122" y="299"/>
                      <a:pt x="123" y="298"/>
                    </a:cubicBezTo>
                    <a:cubicBezTo>
                      <a:pt x="124" y="297"/>
                      <a:pt x="139" y="337"/>
                      <a:pt x="141" y="364"/>
                    </a:cubicBezTo>
                    <a:cubicBezTo>
                      <a:pt x="143" y="391"/>
                      <a:pt x="140" y="436"/>
                      <a:pt x="135" y="463"/>
                    </a:cubicBezTo>
                    <a:cubicBezTo>
                      <a:pt x="130" y="490"/>
                      <a:pt x="113" y="499"/>
                      <a:pt x="114" y="526"/>
                    </a:cubicBezTo>
                    <a:cubicBezTo>
                      <a:pt x="115" y="553"/>
                      <a:pt x="131" y="596"/>
                      <a:pt x="141" y="628"/>
                    </a:cubicBezTo>
                    <a:cubicBezTo>
                      <a:pt x="151" y="660"/>
                      <a:pt x="166" y="705"/>
                      <a:pt x="174" y="718"/>
                    </a:cubicBezTo>
                    <a:cubicBezTo>
                      <a:pt x="182" y="731"/>
                      <a:pt x="183" y="725"/>
                      <a:pt x="189" y="706"/>
                    </a:cubicBezTo>
                    <a:cubicBezTo>
                      <a:pt x="195" y="687"/>
                      <a:pt x="205" y="644"/>
                      <a:pt x="213" y="601"/>
                    </a:cubicBezTo>
                    <a:cubicBezTo>
                      <a:pt x="221" y="558"/>
                      <a:pt x="231" y="483"/>
                      <a:pt x="234" y="448"/>
                    </a:cubicBezTo>
                    <a:cubicBezTo>
                      <a:pt x="237" y="413"/>
                      <a:pt x="244" y="420"/>
                      <a:pt x="234" y="388"/>
                    </a:cubicBezTo>
                    <a:cubicBezTo>
                      <a:pt x="224" y="356"/>
                      <a:pt x="191" y="300"/>
                      <a:pt x="177" y="256"/>
                    </a:cubicBezTo>
                    <a:cubicBezTo>
                      <a:pt x="163" y="212"/>
                      <a:pt x="151" y="131"/>
                      <a:pt x="150" y="124"/>
                    </a:cubicBezTo>
                    <a:cubicBezTo>
                      <a:pt x="149" y="117"/>
                      <a:pt x="159" y="178"/>
                      <a:pt x="171" y="214"/>
                    </a:cubicBezTo>
                    <a:cubicBezTo>
                      <a:pt x="183" y="250"/>
                      <a:pt x="210" y="315"/>
                      <a:pt x="222" y="340"/>
                    </a:cubicBezTo>
                    <a:cubicBezTo>
                      <a:pt x="234" y="365"/>
                      <a:pt x="231" y="377"/>
                      <a:pt x="243" y="364"/>
                    </a:cubicBezTo>
                    <a:cubicBezTo>
                      <a:pt x="255" y="351"/>
                      <a:pt x="283" y="294"/>
                      <a:pt x="297" y="262"/>
                    </a:cubicBezTo>
                    <a:cubicBezTo>
                      <a:pt x="311" y="230"/>
                      <a:pt x="325" y="202"/>
                      <a:pt x="327" y="169"/>
                    </a:cubicBezTo>
                    <a:cubicBezTo>
                      <a:pt x="329" y="136"/>
                      <a:pt x="310" y="89"/>
                      <a:pt x="309" y="64"/>
                    </a:cubicBezTo>
                    <a:cubicBezTo>
                      <a:pt x="308" y="39"/>
                      <a:pt x="315" y="6"/>
                      <a:pt x="318" y="16"/>
                    </a:cubicBezTo>
                    <a:cubicBezTo>
                      <a:pt x="321" y="26"/>
                      <a:pt x="324" y="99"/>
                      <a:pt x="327" y="124"/>
                    </a:cubicBezTo>
                    <a:cubicBezTo>
                      <a:pt x="330" y="149"/>
                      <a:pt x="327" y="177"/>
                      <a:pt x="339" y="169"/>
                    </a:cubicBezTo>
                    <a:cubicBezTo>
                      <a:pt x="351" y="161"/>
                      <a:pt x="381" y="100"/>
                      <a:pt x="399" y="73"/>
                    </a:cubicBezTo>
                    <a:cubicBezTo>
                      <a:pt x="417" y="46"/>
                      <a:pt x="440" y="12"/>
                      <a:pt x="447" y="7"/>
                    </a:cubicBezTo>
                    <a:cubicBezTo>
                      <a:pt x="454" y="2"/>
                      <a:pt x="457" y="18"/>
                      <a:pt x="444" y="43"/>
                    </a:cubicBezTo>
                    <a:cubicBezTo>
                      <a:pt x="431" y="68"/>
                      <a:pt x="388" y="126"/>
                      <a:pt x="369" y="160"/>
                    </a:cubicBezTo>
                    <a:cubicBezTo>
                      <a:pt x="350" y="194"/>
                      <a:pt x="346" y="213"/>
                      <a:pt x="330" y="247"/>
                    </a:cubicBezTo>
                    <a:cubicBezTo>
                      <a:pt x="314" y="281"/>
                      <a:pt x="282" y="339"/>
                      <a:pt x="270" y="364"/>
                    </a:cubicBezTo>
                    <a:cubicBezTo>
                      <a:pt x="258" y="389"/>
                      <a:pt x="262" y="376"/>
                      <a:pt x="258" y="397"/>
                    </a:cubicBezTo>
                    <a:cubicBezTo>
                      <a:pt x="254" y="418"/>
                      <a:pt x="250" y="457"/>
                      <a:pt x="246" y="493"/>
                    </a:cubicBezTo>
                    <a:cubicBezTo>
                      <a:pt x="242" y="529"/>
                      <a:pt x="239" y="573"/>
                      <a:pt x="231" y="616"/>
                    </a:cubicBezTo>
                    <a:cubicBezTo>
                      <a:pt x="223" y="659"/>
                      <a:pt x="204" y="702"/>
                      <a:pt x="198" y="751"/>
                    </a:cubicBezTo>
                    <a:cubicBezTo>
                      <a:pt x="192" y="800"/>
                      <a:pt x="193" y="871"/>
                      <a:pt x="192" y="913"/>
                    </a:cubicBezTo>
                    <a:cubicBezTo>
                      <a:pt x="191" y="955"/>
                      <a:pt x="192" y="978"/>
                      <a:pt x="192" y="1006"/>
                    </a:cubicBezTo>
                    <a:cubicBezTo>
                      <a:pt x="192" y="1034"/>
                      <a:pt x="181" y="1089"/>
                      <a:pt x="195" y="1081"/>
                    </a:cubicBezTo>
                    <a:cubicBezTo>
                      <a:pt x="209" y="1073"/>
                      <a:pt x="250" y="996"/>
                      <a:pt x="276" y="955"/>
                    </a:cubicBezTo>
                    <a:cubicBezTo>
                      <a:pt x="302" y="914"/>
                      <a:pt x="338" y="863"/>
                      <a:pt x="354" y="832"/>
                    </a:cubicBezTo>
                    <a:cubicBezTo>
                      <a:pt x="370" y="801"/>
                      <a:pt x="369" y="807"/>
                      <a:pt x="372" y="766"/>
                    </a:cubicBezTo>
                    <a:cubicBezTo>
                      <a:pt x="375" y="725"/>
                      <a:pt x="374" y="631"/>
                      <a:pt x="372" y="583"/>
                    </a:cubicBezTo>
                    <a:cubicBezTo>
                      <a:pt x="370" y="535"/>
                      <a:pt x="360" y="519"/>
                      <a:pt x="360" y="478"/>
                    </a:cubicBezTo>
                    <a:cubicBezTo>
                      <a:pt x="360" y="437"/>
                      <a:pt x="368" y="372"/>
                      <a:pt x="369" y="334"/>
                    </a:cubicBezTo>
                    <a:cubicBezTo>
                      <a:pt x="370" y="296"/>
                      <a:pt x="360" y="275"/>
                      <a:pt x="369" y="250"/>
                    </a:cubicBezTo>
                    <a:cubicBezTo>
                      <a:pt x="378" y="225"/>
                      <a:pt x="410" y="207"/>
                      <a:pt x="426" y="181"/>
                    </a:cubicBezTo>
                    <a:cubicBezTo>
                      <a:pt x="442" y="155"/>
                      <a:pt x="450" y="120"/>
                      <a:pt x="465" y="91"/>
                    </a:cubicBezTo>
                    <a:cubicBezTo>
                      <a:pt x="480" y="62"/>
                      <a:pt x="511" y="14"/>
                      <a:pt x="516" y="7"/>
                    </a:cubicBezTo>
                    <a:cubicBezTo>
                      <a:pt x="521" y="0"/>
                      <a:pt x="506" y="31"/>
                      <a:pt x="498" y="49"/>
                    </a:cubicBezTo>
                    <a:cubicBezTo>
                      <a:pt x="490" y="67"/>
                      <a:pt x="477" y="95"/>
                      <a:pt x="468" y="115"/>
                    </a:cubicBezTo>
                    <a:cubicBezTo>
                      <a:pt x="459" y="135"/>
                      <a:pt x="452" y="153"/>
                      <a:pt x="444" y="169"/>
                    </a:cubicBezTo>
                    <a:cubicBezTo>
                      <a:pt x="436" y="185"/>
                      <a:pt x="432" y="194"/>
                      <a:pt x="423" y="208"/>
                    </a:cubicBezTo>
                    <a:cubicBezTo>
                      <a:pt x="414" y="222"/>
                      <a:pt x="395" y="242"/>
                      <a:pt x="387" y="256"/>
                    </a:cubicBezTo>
                    <a:cubicBezTo>
                      <a:pt x="379" y="270"/>
                      <a:pt x="378" y="270"/>
                      <a:pt x="375" y="295"/>
                    </a:cubicBezTo>
                    <a:cubicBezTo>
                      <a:pt x="372" y="320"/>
                      <a:pt x="368" y="362"/>
                      <a:pt x="369" y="406"/>
                    </a:cubicBezTo>
                    <a:cubicBezTo>
                      <a:pt x="370" y="450"/>
                      <a:pt x="378" y="513"/>
                      <a:pt x="381" y="562"/>
                    </a:cubicBezTo>
                    <a:cubicBezTo>
                      <a:pt x="384" y="611"/>
                      <a:pt x="387" y="665"/>
                      <a:pt x="387" y="703"/>
                    </a:cubicBezTo>
                    <a:cubicBezTo>
                      <a:pt x="387" y="741"/>
                      <a:pt x="370" y="792"/>
                      <a:pt x="381" y="793"/>
                    </a:cubicBezTo>
                    <a:cubicBezTo>
                      <a:pt x="392" y="794"/>
                      <a:pt x="428" y="741"/>
                      <a:pt x="456" y="709"/>
                    </a:cubicBezTo>
                    <a:cubicBezTo>
                      <a:pt x="484" y="677"/>
                      <a:pt x="516" y="636"/>
                      <a:pt x="546" y="601"/>
                    </a:cubicBezTo>
                    <a:cubicBezTo>
                      <a:pt x="576" y="566"/>
                      <a:pt x="609" y="535"/>
                      <a:pt x="636" y="499"/>
                    </a:cubicBezTo>
                    <a:cubicBezTo>
                      <a:pt x="663" y="463"/>
                      <a:pt x="686" y="438"/>
                      <a:pt x="711" y="385"/>
                    </a:cubicBezTo>
                    <a:cubicBezTo>
                      <a:pt x="736" y="332"/>
                      <a:pt x="778" y="205"/>
                      <a:pt x="789" y="181"/>
                    </a:cubicBezTo>
                    <a:cubicBezTo>
                      <a:pt x="800" y="157"/>
                      <a:pt x="790" y="199"/>
                      <a:pt x="777" y="241"/>
                    </a:cubicBezTo>
                    <a:cubicBezTo>
                      <a:pt x="764" y="283"/>
                      <a:pt x="731" y="389"/>
                      <a:pt x="708" y="436"/>
                    </a:cubicBezTo>
                    <a:cubicBezTo>
                      <a:pt x="685" y="483"/>
                      <a:pt x="663" y="492"/>
                      <a:pt x="636" y="526"/>
                    </a:cubicBezTo>
                    <a:cubicBezTo>
                      <a:pt x="609" y="560"/>
                      <a:pt x="582" y="596"/>
                      <a:pt x="546" y="640"/>
                    </a:cubicBezTo>
                    <a:cubicBezTo>
                      <a:pt x="510" y="684"/>
                      <a:pt x="449" y="757"/>
                      <a:pt x="420" y="790"/>
                    </a:cubicBezTo>
                    <a:cubicBezTo>
                      <a:pt x="391" y="823"/>
                      <a:pt x="390" y="809"/>
                      <a:pt x="369" y="838"/>
                    </a:cubicBezTo>
                    <a:cubicBezTo>
                      <a:pt x="348" y="867"/>
                      <a:pt x="322" y="924"/>
                      <a:pt x="297" y="967"/>
                    </a:cubicBezTo>
                    <a:cubicBezTo>
                      <a:pt x="272" y="1010"/>
                      <a:pt x="236" y="1056"/>
                      <a:pt x="216" y="1099"/>
                    </a:cubicBezTo>
                    <a:cubicBezTo>
                      <a:pt x="196" y="1142"/>
                      <a:pt x="201" y="1159"/>
                      <a:pt x="180" y="1225"/>
                    </a:cubicBezTo>
                    <a:cubicBezTo>
                      <a:pt x="159" y="1291"/>
                      <a:pt x="117" y="1431"/>
                      <a:pt x="90" y="1498"/>
                    </a:cubicBezTo>
                    <a:cubicBezTo>
                      <a:pt x="63" y="1565"/>
                      <a:pt x="30" y="1619"/>
                      <a:pt x="15" y="1630"/>
                    </a:cubicBezTo>
                    <a:cubicBezTo>
                      <a:pt x="0" y="1641"/>
                      <a:pt x="0" y="1602"/>
                      <a:pt x="0" y="1564"/>
                    </a:cubicBez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521160" y="2790360"/>
                <a:ext cx="512640" cy="1431360"/>
              </a:xfrm>
              <a:custGeom>
                <a:avLst/>
                <a:gdLst/>
                <a:ahLst/>
                <a:rect l="l" t="t" r="r" b="b"/>
                <a:pathLst>
                  <a:path w="547" h="1535">
                    <a:moveTo>
                      <a:pt x="297" y="1446"/>
                    </a:moveTo>
                    <a:cubicBezTo>
                      <a:pt x="297" y="1390"/>
                      <a:pt x="309" y="1243"/>
                      <a:pt x="312" y="1167"/>
                    </a:cubicBezTo>
                    <a:cubicBezTo>
                      <a:pt x="315" y="1091"/>
                      <a:pt x="322" y="1031"/>
                      <a:pt x="318" y="987"/>
                    </a:cubicBezTo>
                    <a:cubicBezTo>
                      <a:pt x="314" y="943"/>
                      <a:pt x="313" y="957"/>
                      <a:pt x="288" y="903"/>
                    </a:cubicBezTo>
                    <a:cubicBezTo>
                      <a:pt x="263" y="849"/>
                      <a:pt x="191" y="720"/>
                      <a:pt x="165" y="663"/>
                    </a:cubicBezTo>
                    <a:cubicBezTo>
                      <a:pt x="139" y="606"/>
                      <a:pt x="145" y="581"/>
                      <a:pt x="132" y="558"/>
                    </a:cubicBezTo>
                    <a:cubicBezTo>
                      <a:pt x="119" y="535"/>
                      <a:pt x="105" y="553"/>
                      <a:pt x="87" y="522"/>
                    </a:cubicBezTo>
                    <a:cubicBezTo>
                      <a:pt x="69" y="491"/>
                      <a:pt x="34" y="410"/>
                      <a:pt x="21" y="372"/>
                    </a:cubicBezTo>
                    <a:cubicBezTo>
                      <a:pt x="8" y="334"/>
                      <a:pt x="0" y="326"/>
                      <a:pt x="9" y="294"/>
                    </a:cubicBezTo>
                    <a:cubicBezTo>
                      <a:pt x="18" y="262"/>
                      <a:pt x="57" y="222"/>
                      <a:pt x="75" y="177"/>
                    </a:cubicBezTo>
                    <a:cubicBezTo>
                      <a:pt x="93" y="132"/>
                      <a:pt x="106" y="42"/>
                      <a:pt x="114" y="21"/>
                    </a:cubicBezTo>
                    <a:cubicBezTo>
                      <a:pt x="122" y="0"/>
                      <a:pt x="127" y="26"/>
                      <a:pt x="123" y="51"/>
                    </a:cubicBezTo>
                    <a:cubicBezTo>
                      <a:pt x="119" y="76"/>
                      <a:pt x="102" y="129"/>
                      <a:pt x="87" y="171"/>
                    </a:cubicBezTo>
                    <a:cubicBezTo>
                      <a:pt x="72" y="213"/>
                      <a:pt x="35" y="266"/>
                      <a:pt x="30" y="306"/>
                    </a:cubicBezTo>
                    <a:cubicBezTo>
                      <a:pt x="25" y="346"/>
                      <a:pt x="45" y="379"/>
                      <a:pt x="57" y="414"/>
                    </a:cubicBezTo>
                    <a:cubicBezTo>
                      <a:pt x="69" y="449"/>
                      <a:pt x="85" y="491"/>
                      <a:pt x="102" y="516"/>
                    </a:cubicBezTo>
                    <a:cubicBezTo>
                      <a:pt x="119" y="541"/>
                      <a:pt x="140" y="530"/>
                      <a:pt x="159" y="564"/>
                    </a:cubicBezTo>
                    <a:cubicBezTo>
                      <a:pt x="178" y="598"/>
                      <a:pt x="196" y="671"/>
                      <a:pt x="216" y="717"/>
                    </a:cubicBezTo>
                    <a:cubicBezTo>
                      <a:pt x="236" y="763"/>
                      <a:pt x="262" y="802"/>
                      <a:pt x="282" y="840"/>
                    </a:cubicBezTo>
                    <a:cubicBezTo>
                      <a:pt x="302" y="878"/>
                      <a:pt x="318" y="939"/>
                      <a:pt x="336" y="945"/>
                    </a:cubicBezTo>
                    <a:cubicBezTo>
                      <a:pt x="354" y="951"/>
                      <a:pt x="371" y="916"/>
                      <a:pt x="390" y="879"/>
                    </a:cubicBezTo>
                    <a:cubicBezTo>
                      <a:pt x="409" y="842"/>
                      <a:pt x="433" y="776"/>
                      <a:pt x="453" y="720"/>
                    </a:cubicBezTo>
                    <a:cubicBezTo>
                      <a:pt x="473" y="664"/>
                      <a:pt x="499" y="591"/>
                      <a:pt x="510" y="543"/>
                    </a:cubicBezTo>
                    <a:cubicBezTo>
                      <a:pt x="521" y="495"/>
                      <a:pt x="521" y="475"/>
                      <a:pt x="522" y="429"/>
                    </a:cubicBezTo>
                    <a:cubicBezTo>
                      <a:pt x="523" y="383"/>
                      <a:pt x="517" y="281"/>
                      <a:pt x="519" y="264"/>
                    </a:cubicBezTo>
                    <a:cubicBezTo>
                      <a:pt x="521" y="247"/>
                      <a:pt x="531" y="283"/>
                      <a:pt x="534" y="324"/>
                    </a:cubicBezTo>
                    <a:cubicBezTo>
                      <a:pt x="537" y="365"/>
                      <a:pt x="547" y="455"/>
                      <a:pt x="540" y="513"/>
                    </a:cubicBezTo>
                    <a:cubicBezTo>
                      <a:pt x="533" y="571"/>
                      <a:pt x="509" y="624"/>
                      <a:pt x="492" y="675"/>
                    </a:cubicBezTo>
                    <a:cubicBezTo>
                      <a:pt x="475" y="726"/>
                      <a:pt x="461" y="774"/>
                      <a:pt x="441" y="822"/>
                    </a:cubicBezTo>
                    <a:cubicBezTo>
                      <a:pt x="421" y="870"/>
                      <a:pt x="387" y="917"/>
                      <a:pt x="372" y="963"/>
                    </a:cubicBezTo>
                    <a:cubicBezTo>
                      <a:pt x="357" y="1009"/>
                      <a:pt x="357" y="1014"/>
                      <a:pt x="351" y="1098"/>
                    </a:cubicBezTo>
                    <a:cubicBezTo>
                      <a:pt x="345" y="1182"/>
                      <a:pt x="343" y="1399"/>
                      <a:pt x="336" y="1467"/>
                    </a:cubicBezTo>
                    <a:cubicBezTo>
                      <a:pt x="329" y="1535"/>
                      <a:pt x="316" y="1510"/>
                      <a:pt x="309" y="1506"/>
                    </a:cubicBezTo>
                    <a:cubicBezTo>
                      <a:pt x="302" y="1502"/>
                      <a:pt x="297" y="1502"/>
                      <a:pt x="297" y="1446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346920" y="2790360"/>
                <a:ext cx="163080" cy="679680"/>
              </a:xfrm>
              <a:custGeom>
                <a:avLst/>
                <a:gdLst/>
                <a:ahLst/>
                <a:rect l="l" t="t" r="r" b="b"/>
                <a:pathLst>
                  <a:path w="174" h="729">
                    <a:moveTo>
                      <a:pt x="51" y="681"/>
                    </a:moveTo>
                    <a:cubicBezTo>
                      <a:pt x="60" y="636"/>
                      <a:pt x="69" y="591"/>
                      <a:pt x="75" y="537"/>
                    </a:cubicBezTo>
                    <a:cubicBezTo>
                      <a:pt x="81" y="483"/>
                      <a:pt x="91" y="400"/>
                      <a:pt x="87" y="357"/>
                    </a:cubicBezTo>
                    <a:cubicBezTo>
                      <a:pt x="83" y="314"/>
                      <a:pt x="62" y="311"/>
                      <a:pt x="54" y="282"/>
                    </a:cubicBezTo>
                    <a:cubicBezTo>
                      <a:pt x="46" y="253"/>
                      <a:pt x="45" y="214"/>
                      <a:pt x="36" y="183"/>
                    </a:cubicBezTo>
                    <a:cubicBezTo>
                      <a:pt x="27" y="152"/>
                      <a:pt x="0" y="98"/>
                      <a:pt x="0" y="93"/>
                    </a:cubicBezTo>
                    <a:cubicBezTo>
                      <a:pt x="0" y="88"/>
                      <a:pt x="25" y="123"/>
                      <a:pt x="36" y="150"/>
                    </a:cubicBezTo>
                    <a:cubicBezTo>
                      <a:pt x="47" y="177"/>
                      <a:pt x="61" y="228"/>
                      <a:pt x="69" y="255"/>
                    </a:cubicBezTo>
                    <a:cubicBezTo>
                      <a:pt x="77" y="282"/>
                      <a:pt x="81" y="315"/>
                      <a:pt x="87" y="312"/>
                    </a:cubicBezTo>
                    <a:cubicBezTo>
                      <a:pt x="93" y="309"/>
                      <a:pt x="101" y="264"/>
                      <a:pt x="108" y="237"/>
                    </a:cubicBezTo>
                    <a:cubicBezTo>
                      <a:pt x="115" y="210"/>
                      <a:pt x="123" y="172"/>
                      <a:pt x="129" y="147"/>
                    </a:cubicBezTo>
                    <a:cubicBezTo>
                      <a:pt x="135" y="122"/>
                      <a:pt x="139" y="107"/>
                      <a:pt x="144" y="84"/>
                    </a:cubicBezTo>
                    <a:cubicBezTo>
                      <a:pt x="149" y="61"/>
                      <a:pt x="155" y="12"/>
                      <a:pt x="159" y="6"/>
                    </a:cubicBezTo>
                    <a:cubicBezTo>
                      <a:pt x="163" y="0"/>
                      <a:pt x="174" y="17"/>
                      <a:pt x="171" y="45"/>
                    </a:cubicBezTo>
                    <a:cubicBezTo>
                      <a:pt x="168" y="73"/>
                      <a:pt x="148" y="130"/>
                      <a:pt x="138" y="174"/>
                    </a:cubicBezTo>
                    <a:cubicBezTo>
                      <a:pt x="128" y="218"/>
                      <a:pt x="113" y="278"/>
                      <a:pt x="108" y="312"/>
                    </a:cubicBezTo>
                    <a:cubicBezTo>
                      <a:pt x="103" y="346"/>
                      <a:pt x="105" y="347"/>
                      <a:pt x="105" y="381"/>
                    </a:cubicBezTo>
                    <a:cubicBezTo>
                      <a:pt x="105" y="415"/>
                      <a:pt x="114" y="458"/>
                      <a:pt x="108" y="516"/>
                    </a:cubicBezTo>
                    <a:cubicBezTo>
                      <a:pt x="102" y="574"/>
                      <a:pt x="85" y="651"/>
                      <a:pt x="69" y="729"/>
                    </a:cubicBez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711600" y="2713680"/>
                <a:ext cx="623520" cy="282600"/>
              </a:xfrm>
              <a:custGeom>
                <a:avLst/>
                <a:gdLst/>
                <a:ahLst/>
                <a:rect l="l" t="t" r="r" b="b"/>
                <a:pathLst>
                  <a:path w="362" h="165">
                    <a:moveTo>
                      <a:pt x="154" y="4"/>
                    </a:moveTo>
                    <a:cubicBezTo>
                      <a:pt x="114" y="8"/>
                      <a:pt x="56" y="26"/>
                      <a:pt x="32" y="44"/>
                    </a:cubicBezTo>
                    <a:cubicBezTo>
                      <a:pt x="8" y="62"/>
                      <a:pt x="0" y="91"/>
                      <a:pt x="8" y="110"/>
                    </a:cubicBezTo>
                    <a:cubicBezTo>
                      <a:pt x="16" y="129"/>
                      <a:pt x="38" y="155"/>
                      <a:pt x="78" y="160"/>
                    </a:cubicBezTo>
                    <a:cubicBezTo>
                      <a:pt x="118" y="165"/>
                      <a:pt x="204" y="145"/>
                      <a:pt x="248" y="138"/>
                    </a:cubicBezTo>
                    <a:cubicBezTo>
                      <a:pt x="292" y="131"/>
                      <a:pt x="325" y="131"/>
                      <a:pt x="342" y="116"/>
                    </a:cubicBezTo>
                    <a:cubicBezTo>
                      <a:pt x="359" y="101"/>
                      <a:pt x="362" y="64"/>
                      <a:pt x="350" y="48"/>
                    </a:cubicBezTo>
                    <a:cubicBezTo>
                      <a:pt x="338" y="32"/>
                      <a:pt x="306" y="28"/>
                      <a:pt x="272" y="20"/>
                    </a:cubicBezTo>
                    <a:cubicBezTo>
                      <a:pt x="238" y="12"/>
                      <a:pt x="194" y="0"/>
                      <a:pt x="1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471480" y="2557440"/>
                <a:ext cx="720720" cy="300240"/>
              </a:xfrm>
              <a:custGeom>
                <a:avLst/>
                <a:gdLst/>
                <a:ahLst/>
                <a:rect l="l" t="t" r="r" b="b"/>
                <a:pathLst>
                  <a:path w="739" h="292">
                    <a:moveTo>
                      <a:pt x="156" y="98"/>
                    </a:moveTo>
                    <a:cubicBezTo>
                      <a:pt x="158" y="98"/>
                      <a:pt x="108" y="116"/>
                      <a:pt x="90" y="128"/>
                    </a:cubicBezTo>
                    <a:cubicBezTo>
                      <a:pt x="72" y="140"/>
                      <a:pt x="56" y="154"/>
                      <a:pt x="48" y="172"/>
                    </a:cubicBezTo>
                    <a:cubicBezTo>
                      <a:pt x="40" y="190"/>
                      <a:pt x="32" y="219"/>
                      <a:pt x="42" y="236"/>
                    </a:cubicBezTo>
                    <a:cubicBezTo>
                      <a:pt x="52" y="253"/>
                      <a:pt x="72" y="266"/>
                      <a:pt x="110" y="274"/>
                    </a:cubicBezTo>
                    <a:cubicBezTo>
                      <a:pt x="148" y="282"/>
                      <a:pt x="228" y="285"/>
                      <a:pt x="268" y="284"/>
                    </a:cubicBezTo>
                    <a:cubicBezTo>
                      <a:pt x="308" y="283"/>
                      <a:pt x="327" y="280"/>
                      <a:pt x="352" y="268"/>
                    </a:cubicBezTo>
                    <a:cubicBezTo>
                      <a:pt x="377" y="256"/>
                      <a:pt x="398" y="224"/>
                      <a:pt x="416" y="210"/>
                    </a:cubicBezTo>
                    <a:cubicBezTo>
                      <a:pt x="434" y="196"/>
                      <a:pt x="443" y="179"/>
                      <a:pt x="460" y="186"/>
                    </a:cubicBezTo>
                    <a:cubicBezTo>
                      <a:pt x="477" y="193"/>
                      <a:pt x="483" y="233"/>
                      <a:pt x="518" y="250"/>
                    </a:cubicBezTo>
                    <a:cubicBezTo>
                      <a:pt x="553" y="267"/>
                      <a:pt x="633" y="292"/>
                      <a:pt x="668" y="290"/>
                    </a:cubicBezTo>
                    <a:cubicBezTo>
                      <a:pt x="703" y="288"/>
                      <a:pt x="715" y="261"/>
                      <a:pt x="726" y="240"/>
                    </a:cubicBezTo>
                    <a:cubicBezTo>
                      <a:pt x="737" y="219"/>
                      <a:pt x="739" y="184"/>
                      <a:pt x="734" y="162"/>
                    </a:cubicBezTo>
                    <a:cubicBezTo>
                      <a:pt x="729" y="140"/>
                      <a:pt x="727" y="127"/>
                      <a:pt x="698" y="108"/>
                    </a:cubicBezTo>
                    <a:cubicBezTo>
                      <a:pt x="669" y="89"/>
                      <a:pt x="622" y="61"/>
                      <a:pt x="562" y="48"/>
                    </a:cubicBezTo>
                    <a:cubicBezTo>
                      <a:pt x="502" y="35"/>
                      <a:pt x="404" y="37"/>
                      <a:pt x="340" y="30"/>
                    </a:cubicBezTo>
                    <a:cubicBezTo>
                      <a:pt x="276" y="23"/>
                      <a:pt x="224" y="12"/>
                      <a:pt x="178" y="8"/>
                    </a:cubicBezTo>
                    <a:cubicBezTo>
                      <a:pt x="132" y="4"/>
                      <a:pt x="90" y="0"/>
                      <a:pt x="62" y="4"/>
                    </a:cubicBezTo>
                    <a:cubicBezTo>
                      <a:pt x="34" y="8"/>
                      <a:pt x="16" y="18"/>
                      <a:pt x="8" y="30"/>
                    </a:cubicBezTo>
                    <a:cubicBezTo>
                      <a:pt x="0" y="42"/>
                      <a:pt x="5" y="58"/>
                      <a:pt x="16" y="74"/>
                    </a:cubicBezTo>
                    <a:cubicBezTo>
                      <a:pt x="27" y="90"/>
                      <a:pt x="52" y="125"/>
                      <a:pt x="76" y="128"/>
                    </a:cubicBezTo>
                    <a:cubicBezTo>
                      <a:pt x="100" y="131"/>
                      <a:pt x="154" y="98"/>
                      <a:pt x="156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116880" y="2609640"/>
                <a:ext cx="492120" cy="265320"/>
              </a:xfrm>
              <a:custGeom>
                <a:avLst/>
                <a:gdLst/>
                <a:ahLst/>
                <a:rect l="l" t="t" r="r" b="b"/>
                <a:pathLst>
                  <a:path w="525" h="237">
                    <a:moveTo>
                      <a:pt x="22" y="130"/>
                    </a:moveTo>
                    <a:cubicBezTo>
                      <a:pt x="15" y="142"/>
                      <a:pt x="0" y="162"/>
                      <a:pt x="4" y="178"/>
                    </a:cubicBezTo>
                    <a:cubicBezTo>
                      <a:pt x="8" y="194"/>
                      <a:pt x="23" y="214"/>
                      <a:pt x="44" y="224"/>
                    </a:cubicBezTo>
                    <a:cubicBezTo>
                      <a:pt x="65" y="234"/>
                      <a:pt x="102" y="237"/>
                      <a:pt x="130" y="236"/>
                    </a:cubicBezTo>
                    <a:cubicBezTo>
                      <a:pt x="158" y="235"/>
                      <a:pt x="172" y="217"/>
                      <a:pt x="210" y="216"/>
                    </a:cubicBezTo>
                    <a:cubicBezTo>
                      <a:pt x="248" y="215"/>
                      <a:pt x="317" y="235"/>
                      <a:pt x="356" y="230"/>
                    </a:cubicBezTo>
                    <a:cubicBezTo>
                      <a:pt x="395" y="225"/>
                      <a:pt x="419" y="207"/>
                      <a:pt x="446" y="184"/>
                    </a:cubicBezTo>
                    <a:cubicBezTo>
                      <a:pt x="473" y="161"/>
                      <a:pt x="507" y="117"/>
                      <a:pt x="516" y="94"/>
                    </a:cubicBezTo>
                    <a:cubicBezTo>
                      <a:pt x="525" y="71"/>
                      <a:pt x="524" y="63"/>
                      <a:pt x="498" y="48"/>
                    </a:cubicBezTo>
                    <a:cubicBezTo>
                      <a:pt x="472" y="33"/>
                      <a:pt x="403" y="12"/>
                      <a:pt x="360" y="6"/>
                    </a:cubicBezTo>
                    <a:cubicBezTo>
                      <a:pt x="317" y="0"/>
                      <a:pt x="277" y="5"/>
                      <a:pt x="240" y="14"/>
                    </a:cubicBezTo>
                    <a:cubicBezTo>
                      <a:pt x="203" y="23"/>
                      <a:pt x="168" y="45"/>
                      <a:pt x="136" y="60"/>
                    </a:cubicBezTo>
                    <a:cubicBezTo>
                      <a:pt x="104" y="75"/>
                      <a:pt x="66" y="93"/>
                      <a:pt x="46" y="106"/>
                    </a:cubicBezTo>
                    <a:cubicBezTo>
                      <a:pt x="26" y="119"/>
                      <a:pt x="29" y="118"/>
                      <a:pt x="22" y="13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017880" y="2772360"/>
                <a:ext cx="393480" cy="176040"/>
              </a:xfrm>
              <a:custGeom>
                <a:avLst/>
                <a:gdLst/>
                <a:ahLst/>
                <a:rect l="l" t="t" r="r" b="b"/>
                <a:pathLst>
                  <a:path w="420" h="189">
                    <a:moveTo>
                      <a:pt x="112" y="3"/>
                    </a:moveTo>
                    <a:cubicBezTo>
                      <a:pt x="97" y="6"/>
                      <a:pt x="58" y="19"/>
                      <a:pt x="40" y="29"/>
                    </a:cubicBezTo>
                    <a:cubicBezTo>
                      <a:pt x="22" y="39"/>
                      <a:pt x="4" y="46"/>
                      <a:pt x="2" y="61"/>
                    </a:cubicBezTo>
                    <a:cubicBezTo>
                      <a:pt x="0" y="76"/>
                      <a:pt x="9" y="102"/>
                      <a:pt x="26" y="117"/>
                    </a:cubicBezTo>
                    <a:cubicBezTo>
                      <a:pt x="43" y="132"/>
                      <a:pt x="77" y="138"/>
                      <a:pt x="104" y="149"/>
                    </a:cubicBezTo>
                    <a:cubicBezTo>
                      <a:pt x="131" y="160"/>
                      <a:pt x="159" y="181"/>
                      <a:pt x="188" y="185"/>
                    </a:cubicBezTo>
                    <a:cubicBezTo>
                      <a:pt x="217" y="189"/>
                      <a:pt x="248" y="180"/>
                      <a:pt x="280" y="173"/>
                    </a:cubicBezTo>
                    <a:cubicBezTo>
                      <a:pt x="312" y="166"/>
                      <a:pt x="357" y="155"/>
                      <a:pt x="380" y="141"/>
                    </a:cubicBezTo>
                    <a:cubicBezTo>
                      <a:pt x="403" y="127"/>
                      <a:pt x="420" y="106"/>
                      <a:pt x="420" y="91"/>
                    </a:cubicBezTo>
                    <a:cubicBezTo>
                      <a:pt x="420" y="76"/>
                      <a:pt x="407" y="56"/>
                      <a:pt x="382" y="49"/>
                    </a:cubicBezTo>
                    <a:cubicBezTo>
                      <a:pt x="357" y="42"/>
                      <a:pt x="302" y="51"/>
                      <a:pt x="268" y="51"/>
                    </a:cubicBezTo>
                    <a:cubicBezTo>
                      <a:pt x="234" y="51"/>
                      <a:pt x="203" y="54"/>
                      <a:pt x="180" y="47"/>
                    </a:cubicBezTo>
                    <a:cubicBezTo>
                      <a:pt x="157" y="40"/>
                      <a:pt x="144" y="18"/>
                      <a:pt x="132" y="11"/>
                    </a:cubicBezTo>
                    <a:cubicBezTo>
                      <a:pt x="120" y="4"/>
                      <a:pt x="127" y="0"/>
                      <a:pt x="112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702240" y="2945160"/>
                <a:ext cx="339120" cy="153720"/>
              </a:xfrm>
              <a:custGeom>
                <a:avLst/>
                <a:gdLst/>
                <a:ahLst/>
                <a:rect l="l" t="t" r="r" b="b"/>
                <a:pathLst>
                  <a:path w="362" h="165">
                    <a:moveTo>
                      <a:pt x="154" y="4"/>
                    </a:moveTo>
                    <a:cubicBezTo>
                      <a:pt x="114" y="8"/>
                      <a:pt x="56" y="26"/>
                      <a:pt x="32" y="44"/>
                    </a:cubicBezTo>
                    <a:cubicBezTo>
                      <a:pt x="8" y="62"/>
                      <a:pt x="0" y="91"/>
                      <a:pt x="8" y="110"/>
                    </a:cubicBezTo>
                    <a:cubicBezTo>
                      <a:pt x="16" y="129"/>
                      <a:pt x="38" y="155"/>
                      <a:pt x="78" y="160"/>
                    </a:cubicBezTo>
                    <a:cubicBezTo>
                      <a:pt x="118" y="165"/>
                      <a:pt x="204" y="145"/>
                      <a:pt x="248" y="138"/>
                    </a:cubicBezTo>
                    <a:cubicBezTo>
                      <a:pt x="292" y="131"/>
                      <a:pt x="325" y="131"/>
                      <a:pt x="342" y="116"/>
                    </a:cubicBezTo>
                    <a:cubicBezTo>
                      <a:pt x="359" y="101"/>
                      <a:pt x="362" y="64"/>
                      <a:pt x="350" y="48"/>
                    </a:cubicBezTo>
                    <a:cubicBezTo>
                      <a:pt x="338" y="32"/>
                      <a:pt x="306" y="28"/>
                      <a:pt x="272" y="20"/>
                    </a:cubicBezTo>
                    <a:cubicBezTo>
                      <a:pt x="238" y="12"/>
                      <a:pt x="194" y="0"/>
                      <a:pt x="1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7025760" y="4578120"/>
              <a:ext cx="1308240" cy="1509480"/>
              <a:chOff x="7025760" y="4578120"/>
              <a:chExt cx="1308240" cy="1509480"/>
            </a:xfrm>
          </p:grpSpPr>
          <p:grpSp>
            <p:nvGrpSpPr>
              <p:cNvPr id="1488" name=""/>
              <p:cNvGrpSpPr/>
              <p:nvPr/>
            </p:nvGrpSpPr>
            <p:grpSpPr>
              <a:xfrm>
                <a:off x="7651080" y="4642920"/>
                <a:ext cx="161640" cy="724320"/>
                <a:chOff x="7651080" y="4642920"/>
                <a:chExt cx="161640" cy="724320"/>
              </a:xfrm>
            </p:grpSpPr>
            <p:sp>
              <p:nvSpPr>
                <p:cNvPr id="1489" name=""/>
                <p:cNvSpPr/>
                <p:nvPr/>
              </p:nvSpPr>
              <p:spPr>
                <a:xfrm rot="18886800">
                  <a:off x="7679520" y="5237280"/>
                  <a:ext cx="95400" cy="83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rot="18886800">
                  <a:off x="7678800" y="520668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rot="18886800">
                  <a:off x="7677360" y="518256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rot="18886800">
                  <a:off x="7674480" y="515736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rot="18886800">
                  <a:off x="7672680" y="513036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rot="18886800">
                  <a:off x="7673760" y="510264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rot="18886800">
                  <a:off x="7675920" y="507744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rot="18886800">
                  <a:off x="7677360" y="504792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rot="18886800">
                  <a:off x="7675200" y="5020560"/>
                  <a:ext cx="111600" cy="98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rot="18886800">
                  <a:off x="7673040" y="4994280"/>
                  <a:ext cx="10404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rot="18886800">
                  <a:off x="7671600" y="4967280"/>
                  <a:ext cx="10404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rot="18886800">
                  <a:off x="7672680" y="4939200"/>
                  <a:ext cx="99000" cy="87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rot="18886800">
                  <a:off x="7668360" y="4910040"/>
                  <a:ext cx="99000" cy="87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rot="18886800">
                  <a:off x="7665480" y="4878360"/>
                  <a:ext cx="88200" cy="77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rot="18886800">
                  <a:off x="7670880" y="4852440"/>
                  <a:ext cx="87120" cy="76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rot="18886800">
                  <a:off x="7672680" y="482868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rot="19496400">
                  <a:off x="7677000" y="480132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rot="19496400">
                  <a:off x="7684920" y="477432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rot="19496400">
                  <a:off x="7692120" y="474912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rot="19496400">
                  <a:off x="7698600" y="4730040"/>
                  <a:ext cx="5004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rot="19496400">
                  <a:off x="7705800" y="470988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rot="19496400">
                  <a:off x="7718760" y="46886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rot="19496400">
                  <a:off x="7724880" y="4671360"/>
                  <a:ext cx="33480" cy="36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rot="19496400">
                  <a:off x="7729560" y="465372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rot="19496400">
                  <a:off x="7735680" y="464616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rot="18886800">
                  <a:off x="7675560" y="526464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rot="18886800">
                  <a:off x="7674840" y="5293800"/>
                  <a:ext cx="66240" cy="58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6" name=""/>
              <p:cNvGrpSpPr/>
              <p:nvPr/>
            </p:nvGrpSpPr>
            <p:grpSpPr>
              <a:xfrm>
                <a:off x="7649280" y="4597560"/>
                <a:ext cx="343440" cy="915840"/>
                <a:chOff x="7649280" y="4597560"/>
                <a:chExt cx="343440" cy="915840"/>
              </a:xfrm>
            </p:grpSpPr>
            <p:sp>
              <p:nvSpPr>
                <p:cNvPr id="1517" name=""/>
                <p:cNvSpPr/>
                <p:nvPr/>
              </p:nvSpPr>
              <p:spPr>
                <a:xfrm flipH="1" rot="3667800">
                  <a:off x="7738560" y="5229720"/>
                  <a:ext cx="95400" cy="842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H="1" rot="3667800">
                  <a:off x="7743960" y="5203440"/>
                  <a:ext cx="11448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H="1" rot="3667800">
                  <a:off x="7748280" y="517932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H="1" rot="3667800">
                  <a:off x="7752960" y="515412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H="1" rot="3667800">
                  <a:off x="7758720" y="512820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H="1" rot="3667800">
                  <a:off x="7767360" y="5102280"/>
                  <a:ext cx="114840" cy="1004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H="1" rot="3667800">
                  <a:off x="7776360" y="507744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H="1" rot="3667800">
                  <a:off x="7785360" y="504936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H="1" rot="3667800">
                  <a:off x="7791480" y="5022360"/>
                  <a:ext cx="111600" cy="98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H="1" rot="3667800">
                  <a:off x="7797600" y="4996440"/>
                  <a:ext cx="10440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H="1" rot="3667800">
                  <a:off x="7804080" y="4970160"/>
                  <a:ext cx="10368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H="1" rot="3667800">
                  <a:off x="7813080" y="4942080"/>
                  <a:ext cx="98280" cy="874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 rot="3667800">
                  <a:off x="7816680" y="4913280"/>
                  <a:ext cx="99000" cy="86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H="1" rot="3667800">
                  <a:off x="7823880" y="4880880"/>
                  <a:ext cx="88200" cy="77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H="1" rot="3667800">
                  <a:off x="7836480" y="4857480"/>
                  <a:ext cx="86760" cy="76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flipH="1" rot="3667800">
                  <a:off x="7846200" y="483408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flipH="1" rot="3058200">
                  <a:off x="7857720" y="480852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H="1" rot="3058200">
                  <a:off x="7875000" y="478188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H="1" rot="3058200">
                  <a:off x="7887240" y="4759200"/>
                  <a:ext cx="5544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flipH="1" rot="3058200">
                  <a:off x="7901640" y="4742640"/>
                  <a:ext cx="4968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H="1" rot="3058200">
                  <a:off x="7914600" y="472428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H="1" rot="3058200">
                  <a:off x="7932960" y="470772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H="1" rot="3058200">
                  <a:off x="7945920" y="4690800"/>
                  <a:ext cx="3312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flipH="1" rot="3058200">
                  <a:off x="7955640" y="467532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flipH="1" rot="3058200">
                  <a:off x="7965360" y="466776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H="1" rot="3667800">
                  <a:off x="7728480" y="5254200"/>
                  <a:ext cx="81360" cy="71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H="1" rot="3667800">
                  <a:off x="7722720" y="5279400"/>
                  <a:ext cx="66600" cy="58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H="1" rot="4444200">
                  <a:off x="7652520" y="5205960"/>
                  <a:ext cx="9468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 rot="4444200">
                  <a:off x="7636320" y="516852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 rot="4444200">
                  <a:off x="7642440" y="514368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 rot="4444200">
                  <a:off x="7651800" y="5116680"/>
                  <a:ext cx="113040" cy="58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H="1" rot="4444200">
                  <a:off x="7659720" y="5087160"/>
                  <a:ext cx="113040" cy="60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H="1" rot="4444200">
                  <a:off x="7663320" y="506016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 rot="4444200">
                  <a:off x="7671600" y="503172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H="1" rot="4444200">
                  <a:off x="7680240" y="500220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H="1" rot="4444200">
                  <a:off x="7691760" y="4970160"/>
                  <a:ext cx="1101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H="1" rot="4444200">
                  <a:off x="7712280" y="4938120"/>
                  <a:ext cx="10296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H="1" rot="4444200">
                  <a:off x="7721280" y="4906800"/>
                  <a:ext cx="102240" cy="53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H="1" rot="4444200">
                  <a:off x="7728480" y="4878720"/>
                  <a:ext cx="97560" cy="51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 rot="4444200">
                  <a:off x="7738920" y="4844880"/>
                  <a:ext cx="97560" cy="50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H="1" rot="4444200">
                  <a:off x="7759440" y="4827960"/>
                  <a:ext cx="86760" cy="45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H="1" rot="4444200">
                  <a:off x="7768080" y="4802760"/>
                  <a:ext cx="85320" cy="44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 rot="4444200">
                  <a:off x="7788600" y="4776120"/>
                  <a:ext cx="75240" cy="38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 rot="3835200">
                  <a:off x="7810200" y="4757760"/>
                  <a:ext cx="44640" cy="666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 rot="3835200">
                  <a:off x="7830360" y="4741200"/>
                  <a:ext cx="37800" cy="56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 rot="3835200">
                  <a:off x="7843320" y="4723560"/>
                  <a:ext cx="345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H="1" rot="3835200">
                  <a:off x="7868520" y="4707360"/>
                  <a:ext cx="30960" cy="50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H="1" rot="3835200">
                  <a:off x="7888320" y="4692600"/>
                  <a:ext cx="2880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H="1" rot="3835200">
                  <a:off x="7905240" y="4671720"/>
                  <a:ext cx="2844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flipH="1" rot="3835200">
                  <a:off x="7926840" y="4662720"/>
                  <a:ext cx="20880" cy="32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H="1" rot="3835200">
                  <a:off x="7943760" y="465408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H="1" rot="3835200">
                  <a:off x="7959960" y="4650840"/>
                  <a:ext cx="10800" cy="1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H="1" rot="4444200">
                  <a:off x="7656480" y="5231520"/>
                  <a:ext cx="79560" cy="42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H="1" rot="4444200">
                  <a:off x="7656840" y="5257080"/>
                  <a:ext cx="65880" cy="34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rot="954600">
                  <a:off x="7774920" y="4592160"/>
                  <a:ext cx="92520" cy="925920"/>
                </a:xfrm>
                <a:custGeom>
                  <a:avLst/>
                  <a:gdLst/>
                  <a:ahLst/>
                  <a:rect l="l" t="t" r="r" b="b"/>
                  <a:pathLst>
                    <a:path w="375" h="3493">
                      <a:moveTo>
                        <a:pt x="99" y="3420"/>
                      </a:moveTo>
                      <a:cubicBezTo>
                        <a:pt x="107" y="3347"/>
                        <a:pt x="75" y="2935"/>
                        <a:pt x="67" y="2658"/>
                      </a:cubicBezTo>
                      <a:cubicBezTo>
                        <a:pt x="59" y="2381"/>
                        <a:pt x="52" y="2068"/>
                        <a:pt x="51" y="1757"/>
                      </a:cubicBezTo>
                      <a:cubicBezTo>
                        <a:pt x="50" y="1446"/>
                        <a:pt x="9" y="1072"/>
                        <a:pt x="59" y="792"/>
                      </a:cubicBezTo>
                      <a:cubicBezTo>
                        <a:pt x="109" y="512"/>
                        <a:pt x="327" y="156"/>
                        <a:pt x="351" y="78"/>
                      </a:cubicBezTo>
                      <a:cubicBezTo>
                        <a:pt x="375" y="0"/>
                        <a:pt x="252" y="225"/>
                        <a:pt x="205" y="321"/>
                      </a:cubicBezTo>
                      <a:cubicBezTo>
                        <a:pt x="158" y="417"/>
                        <a:pt x="100" y="557"/>
                        <a:pt x="67" y="654"/>
                      </a:cubicBezTo>
                      <a:cubicBezTo>
                        <a:pt x="34" y="751"/>
                        <a:pt x="20" y="786"/>
                        <a:pt x="10" y="905"/>
                      </a:cubicBezTo>
                      <a:cubicBezTo>
                        <a:pt x="0" y="1024"/>
                        <a:pt x="9" y="1154"/>
                        <a:pt x="10" y="1368"/>
                      </a:cubicBezTo>
                      <a:cubicBezTo>
                        <a:pt x="11" y="1582"/>
                        <a:pt x="19" y="1965"/>
                        <a:pt x="18" y="2187"/>
                      </a:cubicBezTo>
                      <a:cubicBezTo>
                        <a:pt x="17" y="2409"/>
                        <a:pt x="2" y="2547"/>
                        <a:pt x="2" y="2698"/>
                      </a:cubicBezTo>
                      <a:cubicBezTo>
                        <a:pt x="2" y="2849"/>
                        <a:pt x="7" y="2976"/>
                        <a:pt x="18" y="3096"/>
                      </a:cubicBezTo>
                      <a:cubicBezTo>
                        <a:pt x="29" y="3216"/>
                        <a:pt x="91" y="3493"/>
                        <a:pt x="99" y="342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00"/>
                    </a:gs>
                    <a:gs pos="100000">
                      <a:srgbClr val="99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"/>
              <p:cNvSpPr/>
              <p:nvPr/>
            </p:nvSpPr>
            <p:spPr>
              <a:xfrm flipH="1">
                <a:off x="7025400" y="5014080"/>
                <a:ext cx="682200" cy="509040"/>
              </a:xfrm>
              <a:custGeom>
                <a:avLst/>
                <a:gdLst/>
                <a:ahLst/>
                <a:rect l="l" t="t" r="r" b="b"/>
                <a:pathLst>
                  <a:path w="2751" h="1922">
                    <a:moveTo>
                      <a:pt x="40" y="1722"/>
                    </a:moveTo>
                    <a:cubicBezTo>
                      <a:pt x="20" y="1757"/>
                      <a:pt x="0" y="1847"/>
                      <a:pt x="16" y="1880"/>
                    </a:cubicBezTo>
                    <a:cubicBezTo>
                      <a:pt x="32" y="1913"/>
                      <a:pt x="98" y="1922"/>
                      <a:pt x="135" y="1919"/>
                    </a:cubicBezTo>
                    <a:cubicBezTo>
                      <a:pt x="172" y="1916"/>
                      <a:pt x="194" y="1919"/>
                      <a:pt x="237" y="1864"/>
                    </a:cubicBezTo>
                    <a:cubicBezTo>
                      <a:pt x="280" y="1809"/>
                      <a:pt x="333" y="1693"/>
                      <a:pt x="395" y="1588"/>
                    </a:cubicBezTo>
                    <a:cubicBezTo>
                      <a:pt x="457" y="1483"/>
                      <a:pt x="480" y="1399"/>
                      <a:pt x="608" y="1233"/>
                    </a:cubicBezTo>
                    <a:cubicBezTo>
                      <a:pt x="736" y="1067"/>
                      <a:pt x="980" y="764"/>
                      <a:pt x="1161" y="594"/>
                    </a:cubicBezTo>
                    <a:cubicBezTo>
                      <a:pt x="1342" y="424"/>
                      <a:pt x="1517" y="302"/>
                      <a:pt x="1697" y="215"/>
                    </a:cubicBezTo>
                    <a:cubicBezTo>
                      <a:pt x="1877" y="128"/>
                      <a:pt x="2080" y="102"/>
                      <a:pt x="2242" y="73"/>
                    </a:cubicBezTo>
                    <a:cubicBezTo>
                      <a:pt x="2404" y="44"/>
                      <a:pt x="2587" y="53"/>
                      <a:pt x="2668" y="41"/>
                    </a:cubicBezTo>
                    <a:cubicBezTo>
                      <a:pt x="2749" y="29"/>
                      <a:pt x="2751" y="4"/>
                      <a:pt x="2731" y="2"/>
                    </a:cubicBezTo>
                    <a:cubicBezTo>
                      <a:pt x="2711" y="0"/>
                      <a:pt x="2638" y="18"/>
                      <a:pt x="2549" y="26"/>
                    </a:cubicBezTo>
                    <a:cubicBezTo>
                      <a:pt x="2460" y="34"/>
                      <a:pt x="2329" y="27"/>
                      <a:pt x="2194" y="49"/>
                    </a:cubicBezTo>
                    <a:cubicBezTo>
                      <a:pt x="2059" y="71"/>
                      <a:pt x="1868" y="111"/>
                      <a:pt x="1737" y="160"/>
                    </a:cubicBezTo>
                    <a:cubicBezTo>
                      <a:pt x="1606" y="209"/>
                      <a:pt x="1513" y="267"/>
                      <a:pt x="1405" y="341"/>
                    </a:cubicBezTo>
                    <a:cubicBezTo>
                      <a:pt x="1297" y="415"/>
                      <a:pt x="1198" y="498"/>
                      <a:pt x="1090" y="602"/>
                    </a:cubicBezTo>
                    <a:cubicBezTo>
                      <a:pt x="982" y="706"/>
                      <a:pt x="862" y="841"/>
                      <a:pt x="758" y="965"/>
                    </a:cubicBezTo>
                    <a:cubicBezTo>
                      <a:pt x="654" y="1089"/>
                      <a:pt x="540" y="1243"/>
                      <a:pt x="466" y="1343"/>
                    </a:cubicBezTo>
                    <a:cubicBezTo>
                      <a:pt x="392" y="1443"/>
                      <a:pt x="371" y="1510"/>
                      <a:pt x="316" y="1564"/>
                    </a:cubicBezTo>
                    <a:cubicBezTo>
                      <a:pt x="261" y="1618"/>
                      <a:pt x="181" y="1639"/>
                      <a:pt x="135" y="1667"/>
                    </a:cubicBezTo>
                    <a:cubicBezTo>
                      <a:pt x="89" y="1695"/>
                      <a:pt x="60" y="1687"/>
                      <a:pt x="40" y="17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3" name=""/>
              <p:cNvGrpSpPr/>
              <p:nvPr/>
            </p:nvGrpSpPr>
            <p:grpSpPr>
              <a:xfrm>
                <a:off x="7040160" y="5022000"/>
                <a:ext cx="559800" cy="443520"/>
                <a:chOff x="7040160" y="5022000"/>
                <a:chExt cx="559800" cy="443520"/>
              </a:xfrm>
            </p:grpSpPr>
            <p:sp>
              <p:nvSpPr>
                <p:cNvPr id="1574" name=""/>
                <p:cNvSpPr/>
                <p:nvPr/>
              </p:nvSpPr>
              <p:spPr>
                <a:xfrm flipH="1">
                  <a:off x="7491960" y="535500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H="1">
                  <a:off x="7462080" y="53370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>
                  <a:off x="7447320" y="53190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H="1">
                  <a:off x="7432200" y="52988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H="1">
                  <a:off x="7415280" y="52786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>
                  <a:off x="7399440" y="52563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H="1">
                  <a:off x="7382520" y="52383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>
                  <a:off x="7363800" y="52171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H="1">
                  <a:off x="7346880" y="519696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H="1">
                  <a:off x="7335000" y="51757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H="1">
                  <a:off x="7318080" y="515556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H="1">
                  <a:off x="7303320" y="513324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H="1">
                  <a:off x="7277400" y="511308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H="1">
                  <a:off x="7260840" y="509616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>
                  <a:off x="7241760" y="508032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>
                  <a:off x="7223760" y="506952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 rot="20991000">
                  <a:off x="7194600" y="505764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 rot="20991000">
                  <a:off x="7173720" y="504972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 rot="20991000">
                  <a:off x="7152480" y="5043240"/>
                  <a:ext cx="5508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 rot="20991000">
                  <a:off x="7131240" y="5036400"/>
                  <a:ext cx="5040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H="1" rot="20991000">
                  <a:off x="7106760" y="50342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H="1" rot="20991000">
                  <a:off x="7085160" y="50310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H="1" rot="20991000">
                  <a:off x="7071840" y="502812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 rot="20991000">
                  <a:off x="7057440" y="502632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H="1" rot="20991000">
                  <a:off x="7041600" y="502344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H="1">
                  <a:off x="7512840" y="537696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H="1">
                  <a:off x="7537320" y="540324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7056000" y="5032440"/>
                <a:ext cx="559800" cy="443520"/>
                <a:chOff x="7056000" y="5032440"/>
                <a:chExt cx="559800" cy="443520"/>
              </a:xfrm>
            </p:grpSpPr>
            <p:sp>
              <p:nvSpPr>
                <p:cNvPr id="1602" name=""/>
                <p:cNvSpPr/>
                <p:nvPr/>
              </p:nvSpPr>
              <p:spPr>
                <a:xfrm flipH="1">
                  <a:off x="7507800" y="536544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H="1">
                  <a:off x="7477920" y="53474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>
                  <a:off x="7463160" y="53290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H="1">
                  <a:off x="7448040" y="53092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H="1">
                  <a:off x="7431120" y="52891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H="1">
                  <a:off x="7415280" y="5266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>
                  <a:off x="7398360" y="5248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7379640" y="52275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7362720" y="520740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7350840" y="518616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7333920" y="516600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7319160" y="514368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7293240" y="512352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7276680" y="510660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7257600" y="509076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7239600" y="507996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 rot="20991000">
                  <a:off x="7210440" y="506808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 rot="20991000">
                  <a:off x="7189560" y="5059800"/>
                  <a:ext cx="60840" cy="608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 rot="20991000">
                  <a:off x="7167600" y="505368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H="1" rot="20991000">
                  <a:off x="7147080" y="5046840"/>
                  <a:ext cx="50400" cy="53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 rot="20991000">
                  <a:off x="7122600" y="504468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 rot="20991000">
                  <a:off x="7101000" y="50414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 rot="20991000">
                  <a:off x="7087680" y="503856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 rot="20991000">
                  <a:off x="7073280" y="503676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 rot="20991000">
                  <a:off x="7057440" y="503388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>
                  <a:off x="7528680" y="538704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>
                  <a:off x="7553160" y="541368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7044120" y="4840560"/>
                <a:ext cx="784080" cy="657000"/>
                <a:chOff x="7044120" y="4840560"/>
                <a:chExt cx="784080" cy="657000"/>
              </a:xfrm>
            </p:grpSpPr>
            <p:sp>
              <p:nvSpPr>
                <p:cNvPr id="1630" name=""/>
                <p:cNvSpPr/>
                <p:nvPr/>
              </p:nvSpPr>
              <p:spPr>
                <a:xfrm flipH="1" rot="819600">
                  <a:off x="7094520" y="4913640"/>
                  <a:ext cx="682920" cy="510120"/>
                </a:xfrm>
                <a:custGeom>
                  <a:avLst/>
                  <a:gdLst/>
                  <a:ahLst/>
                  <a:rect l="l" t="t" r="r" b="b"/>
                  <a:pathLst>
                    <a:path w="2751" h="1922">
                      <a:moveTo>
                        <a:pt x="40" y="1722"/>
                      </a:moveTo>
                      <a:cubicBezTo>
                        <a:pt x="20" y="1757"/>
                        <a:pt x="0" y="1847"/>
                        <a:pt x="16" y="1880"/>
                      </a:cubicBezTo>
                      <a:cubicBezTo>
                        <a:pt x="32" y="1913"/>
                        <a:pt x="98" y="1922"/>
                        <a:pt x="135" y="1919"/>
                      </a:cubicBezTo>
                      <a:cubicBezTo>
                        <a:pt x="172" y="1916"/>
                        <a:pt x="194" y="1919"/>
                        <a:pt x="237" y="1864"/>
                      </a:cubicBezTo>
                      <a:cubicBezTo>
                        <a:pt x="280" y="1809"/>
                        <a:pt x="333" y="1693"/>
                        <a:pt x="395" y="1588"/>
                      </a:cubicBezTo>
                      <a:cubicBezTo>
                        <a:pt x="457" y="1483"/>
                        <a:pt x="480" y="1399"/>
                        <a:pt x="608" y="1233"/>
                      </a:cubicBezTo>
                      <a:cubicBezTo>
                        <a:pt x="736" y="1067"/>
                        <a:pt x="980" y="764"/>
                        <a:pt x="1161" y="594"/>
                      </a:cubicBezTo>
                      <a:cubicBezTo>
                        <a:pt x="1342" y="424"/>
                        <a:pt x="1517" y="302"/>
                        <a:pt x="1697" y="215"/>
                      </a:cubicBezTo>
                      <a:cubicBezTo>
                        <a:pt x="1877" y="128"/>
                        <a:pt x="2080" y="102"/>
                        <a:pt x="2242" y="73"/>
                      </a:cubicBezTo>
                      <a:cubicBezTo>
                        <a:pt x="2404" y="44"/>
                        <a:pt x="2587" y="53"/>
                        <a:pt x="2668" y="41"/>
                      </a:cubicBezTo>
                      <a:cubicBezTo>
                        <a:pt x="2749" y="29"/>
                        <a:pt x="2751" y="4"/>
                        <a:pt x="2731" y="2"/>
                      </a:cubicBezTo>
                      <a:cubicBezTo>
                        <a:pt x="2711" y="0"/>
                        <a:pt x="2638" y="18"/>
                        <a:pt x="2549" y="26"/>
                      </a:cubicBezTo>
                      <a:cubicBezTo>
                        <a:pt x="2460" y="34"/>
                        <a:pt x="2329" y="27"/>
                        <a:pt x="2194" y="49"/>
                      </a:cubicBezTo>
                      <a:cubicBezTo>
                        <a:pt x="2059" y="71"/>
                        <a:pt x="1868" y="111"/>
                        <a:pt x="1737" y="160"/>
                      </a:cubicBezTo>
                      <a:cubicBezTo>
                        <a:pt x="1606" y="209"/>
                        <a:pt x="1513" y="267"/>
                        <a:pt x="1405" y="341"/>
                      </a:cubicBezTo>
                      <a:cubicBezTo>
                        <a:pt x="1297" y="415"/>
                        <a:pt x="1198" y="498"/>
                        <a:pt x="1090" y="602"/>
                      </a:cubicBezTo>
                      <a:cubicBezTo>
                        <a:pt x="982" y="706"/>
                        <a:pt x="862" y="841"/>
                        <a:pt x="758" y="965"/>
                      </a:cubicBezTo>
                      <a:cubicBezTo>
                        <a:pt x="654" y="1089"/>
                        <a:pt x="540" y="1243"/>
                        <a:pt x="466" y="1343"/>
                      </a:cubicBezTo>
                      <a:cubicBezTo>
                        <a:pt x="392" y="1443"/>
                        <a:pt x="371" y="1510"/>
                        <a:pt x="316" y="1564"/>
                      </a:cubicBezTo>
                      <a:cubicBezTo>
                        <a:pt x="261" y="1618"/>
                        <a:pt x="181" y="1639"/>
                        <a:pt x="135" y="1667"/>
                      </a:cubicBezTo>
                      <a:cubicBezTo>
                        <a:pt x="89" y="1695"/>
                        <a:pt x="60" y="1687"/>
                        <a:pt x="40" y="172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00"/>
                    </a:gs>
                    <a:gs pos="100000">
                      <a:srgbClr val="996600"/>
                    </a:gs>
                  </a:gsLst>
                  <a:lin ang="648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1" name=""/>
                <p:cNvGrpSpPr/>
                <p:nvPr/>
              </p:nvGrpSpPr>
              <p:grpSpPr>
                <a:xfrm>
                  <a:off x="7153920" y="4854960"/>
                  <a:ext cx="471240" cy="545040"/>
                  <a:chOff x="7153920" y="4854960"/>
                  <a:chExt cx="471240" cy="545040"/>
                </a:xfrm>
              </p:grpSpPr>
              <p:sp>
                <p:nvSpPr>
                  <p:cNvPr id="1632" name=""/>
                  <p:cNvSpPr/>
                  <p:nvPr/>
                </p:nvSpPr>
                <p:spPr>
                  <a:xfrm flipH="1" rot="703800">
                    <a:off x="7520040" y="5277240"/>
                    <a:ext cx="8928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 flipH="1" rot="703800">
                    <a:off x="7492320" y="52556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 flipH="1" rot="703800">
                    <a:off x="7481160" y="523476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 flipH="1" rot="703800">
                    <a:off x="7470720" y="521208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 flipH="1" rot="703800">
                    <a:off x="7458120" y="51890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flipH="1" rot="703800">
                    <a:off x="7446960" y="51638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 flipH="1" rot="703800">
                    <a:off x="7434360" y="514260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 flipH="1" rot="703800">
                    <a:off x="7420320" y="511812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 flipH="1" rot="703800">
                    <a:off x="7408080" y="5094720"/>
                    <a:ext cx="10440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 flipH="1" rot="703800">
                    <a:off x="7400880" y="5070600"/>
                    <a:ext cx="975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 flipH="1" rot="703800">
                    <a:off x="7388280" y="5047560"/>
                    <a:ext cx="975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 flipH="1" rot="703800">
                    <a:off x="7380000" y="5022720"/>
                    <a:ext cx="9252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 flipH="1" rot="703800">
                    <a:off x="7358040" y="4997520"/>
                    <a:ext cx="92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H="1" rot="703800">
                    <a:off x="7346160" y="4977000"/>
                    <a:ext cx="82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flipH="1" rot="703800">
                    <a:off x="7331400" y="4957200"/>
                    <a:ext cx="8172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 flipH="1" rot="703800">
                    <a:off x="7317360" y="4941720"/>
                    <a:ext cx="71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 flipH="1" rot="95400">
                    <a:off x="7290720" y="4925160"/>
                    <a:ext cx="71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 flipH="1" rot="95400">
                    <a:off x="7273440" y="4911480"/>
                    <a:ext cx="6084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 flipH="1" rot="95400">
                    <a:off x="7254000" y="4900320"/>
                    <a:ext cx="5508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 flipH="1" rot="95400">
                    <a:off x="7236000" y="4889160"/>
                    <a:ext cx="500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 flipH="1" rot="95400">
                    <a:off x="7211880" y="4882320"/>
                    <a:ext cx="45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 flipH="1" rot="95400">
                    <a:off x="7191720" y="4874400"/>
                    <a:ext cx="45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 flipH="1" rot="95400">
                    <a:off x="7181640" y="4867200"/>
                    <a:ext cx="33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flipH="1" rot="95400">
                    <a:off x="7167600" y="4861800"/>
                    <a:ext cx="2448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 flipH="1" rot="95400">
                    <a:off x="7153920" y="4854960"/>
                    <a:ext cx="17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 flipH="1" rot="703800">
                    <a:off x="7536960" y="5301360"/>
                    <a:ext cx="759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flipH="1" rot="703800">
                    <a:off x="7557120" y="5331600"/>
                    <a:ext cx="622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"/>
                <p:cNvGrpSpPr/>
                <p:nvPr/>
              </p:nvGrpSpPr>
              <p:grpSpPr>
                <a:xfrm>
                  <a:off x="7173720" y="4855320"/>
                  <a:ext cx="454680" cy="561960"/>
                  <a:chOff x="7173720" y="4855320"/>
                  <a:chExt cx="454680" cy="561960"/>
                </a:xfrm>
              </p:grpSpPr>
              <p:sp>
                <p:nvSpPr>
                  <p:cNvPr id="1660" name=""/>
                  <p:cNvSpPr/>
                  <p:nvPr/>
                </p:nvSpPr>
                <p:spPr>
                  <a:xfrm flipH="1" rot="833400">
                    <a:off x="7522920" y="5293440"/>
                    <a:ext cx="896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flipH="1" rot="833400">
                    <a:off x="7495920" y="527076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flipH="1" rot="833400">
                    <a:off x="7485480" y="524952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 rot="833400">
                    <a:off x="7475760" y="522648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 flipH="1" rot="833400">
                    <a:off x="7464240" y="520272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H="1" rot="833400">
                    <a:off x="7454160" y="517752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flipH="1" rot="833400">
                    <a:off x="7441920" y="515556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H="1" rot="833400">
                    <a:off x="7428960" y="513072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flipH="1" rot="833400">
                    <a:off x="7417440" y="5106240"/>
                    <a:ext cx="10476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flipH="1" rot="833400">
                    <a:off x="7411680" y="5082120"/>
                    <a:ext cx="979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 flipH="1" rot="833400">
                    <a:off x="7400160" y="5058720"/>
                    <a:ext cx="979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 flipH="1" rot="833400">
                    <a:off x="7392240" y="5033160"/>
                    <a:ext cx="92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 flipH="1" rot="833400">
                    <a:off x="7371720" y="5007600"/>
                    <a:ext cx="92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 flipH="1" rot="833400">
                    <a:off x="7361280" y="4986000"/>
                    <a:ext cx="82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 flipH="1" rot="833400">
                    <a:off x="7346520" y="4965840"/>
                    <a:ext cx="820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flipH="1" rot="833400">
                    <a:off x="7333200" y="4950000"/>
                    <a:ext cx="72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 flipH="1" rot="224400">
                    <a:off x="7307640" y="4931640"/>
                    <a:ext cx="72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 flipH="1" rot="224400">
                    <a:off x="7290720" y="4917960"/>
                    <a:ext cx="608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flipH="1" rot="224400">
                    <a:off x="7271280" y="4905360"/>
                    <a:ext cx="55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H="1" rot="224400">
                    <a:off x="7253640" y="4893480"/>
                    <a:ext cx="50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 flipH="1" rot="224400">
                    <a:off x="7230960" y="4884840"/>
                    <a:ext cx="45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 flipH="1" rot="224400">
                    <a:off x="7210440" y="4876560"/>
                    <a:ext cx="45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H="1" rot="224400">
                    <a:off x="7200000" y="4869000"/>
                    <a:ext cx="338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 flipH="1" rot="224400">
                    <a:off x="7187400" y="4862880"/>
                    <a:ext cx="244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 flipH="1" rot="224400">
                    <a:off x="7174080" y="4855680"/>
                    <a:ext cx="17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 flipH="1" rot="833400">
                    <a:off x="7539840" y="5318280"/>
                    <a:ext cx="759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 flipH="1" rot="833400">
                    <a:off x="7559280" y="5348520"/>
                    <a:ext cx="622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87" name=""/>
              <p:cNvSpPr/>
              <p:nvPr/>
            </p:nvSpPr>
            <p:spPr>
              <a:xfrm>
                <a:off x="7553160" y="5698080"/>
                <a:ext cx="152280" cy="389520"/>
              </a:xfrm>
              <a:custGeom>
                <a:avLst/>
                <a:gdLst/>
                <a:ahLst/>
                <a:rect l="l" t="t" r="r" b="b"/>
                <a:pathLst>
                  <a:path w="348" h="838">
                    <a:moveTo>
                      <a:pt x="240" y="61"/>
                    </a:moveTo>
                    <a:cubicBezTo>
                      <a:pt x="223" y="122"/>
                      <a:pt x="214" y="279"/>
                      <a:pt x="185" y="390"/>
                    </a:cubicBezTo>
                    <a:cubicBezTo>
                      <a:pt x="156" y="501"/>
                      <a:pt x="95" y="656"/>
                      <a:pt x="66" y="728"/>
                    </a:cubicBezTo>
                    <a:cubicBezTo>
                      <a:pt x="37" y="800"/>
                      <a:pt x="0" y="805"/>
                      <a:pt x="11" y="820"/>
                    </a:cubicBezTo>
                    <a:cubicBezTo>
                      <a:pt x="22" y="835"/>
                      <a:pt x="98" y="822"/>
                      <a:pt x="130" y="820"/>
                    </a:cubicBezTo>
                    <a:cubicBezTo>
                      <a:pt x="162" y="818"/>
                      <a:pt x="183" y="838"/>
                      <a:pt x="203" y="811"/>
                    </a:cubicBezTo>
                    <a:cubicBezTo>
                      <a:pt x="223" y="784"/>
                      <a:pt x="232" y="724"/>
                      <a:pt x="249" y="655"/>
                    </a:cubicBezTo>
                    <a:cubicBezTo>
                      <a:pt x="266" y="586"/>
                      <a:pt x="290" y="486"/>
                      <a:pt x="304" y="399"/>
                    </a:cubicBezTo>
                    <a:cubicBezTo>
                      <a:pt x="318" y="312"/>
                      <a:pt x="325" y="193"/>
                      <a:pt x="331" y="134"/>
                    </a:cubicBezTo>
                    <a:cubicBezTo>
                      <a:pt x="337" y="75"/>
                      <a:pt x="348" y="61"/>
                      <a:pt x="340" y="43"/>
                    </a:cubicBezTo>
                    <a:cubicBezTo>
                      <a:pt x="332" y="25"/>
                      <a:pt x="302" y="21"/>
                      <a:pt x="285" y="24"/>
                    </a:cubicBezTo>
                    <a:cubicBezTo>
                      <a:pt x="268" y="27"/>
                      <a:pt x="257" y="0"/>
                      <a:pt x="240" y="61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20512800">
                <a:off x="7567560" y="4917600"/>
                <a:ext cx="682920" cy="509760"/>
              </a:xfrm>
              <a:custGeom>
                <a:avLst/>
                <a:gdLst/>
                <a:ahLst/>
                <a:rect l="l" t="t" r="r" b="b"/>
                <a:pathLst>
                  <a:path w="2751" h="1922">
                    <a:moveTo>
                      <a:pt x="40" y="1722"/>
                    </a:moveTo>
                    <a:cubicBezTo>
                      <a:pt x="20" y="1757"/>
                      <a:pt x="0" y="1847"/>
                      <a:pt x="16" y="1880"/>
                    </a:cubicBezTo>
                    <a:cubicBezTo>
                      <a:pt x="32" y="1913"/>
                      <a:pt x="98" y="1922"/>
                      <a:pt x="135" y="1919"/>
                    </a:cubicBezTo>
                    <a:cubicBezTo>
                      <a:pt x="172" y="1916"/>
                      <a:pt x="194" y="1919"/>
                      <a:pt x="237" y="1864"/>
                    </a:cubicBezTo>
                    <a:cubicBezTo>
                      <a:pt x="280" y="1809"/>
                      <a:pt x="333" y="1693"/>
                      <a:pt x="395" y="1588"/>
                    </a:cubicBezTo>
                    <a:cubicBezTo>
                      <a:pt x="457" y="1483"/>
                      <a:pt x="480" y="1399"/>
                      <a:pt x="608" y="1233"/>
                    </a:cubicBezTo>
                    <a:cubicBezTo>
                      <a:pt x="736" y="1067"/>
                      <a:pt x="980" y="764"/>
                      <a:pt x="1161" y="594"/>
                    </a:cubicBezTo>
                    <a:cubicBezTo>
                      <a:pt x="1342" y="424"/>
                      <a:pt x="1517" y="302"/>
                      <a:pt x="1697" y="215"/>
                    </a:cubicBezTo>
                    <a:cubicBezTo>
                      <a:pt x="1877" y="128"/>
                      <a:pt x="2080" y="102"/>
                      <a:pt x="2242" y="73"/>
                    </a:cubicBezTo>
                    <a:cubicBezTo>
                      <a:pt x="2404" y="44"/>
                      <a:pt x="2587" y="53"/>
                      <a:pt x="2668" y="41"/>
                    </a:cubicBezTo>
                    <a:cubicBezTo>
                      <a:pt x="2749" y="29"/>
                      <a:pt x="2751" y="4"/>
                      <a:pt x="2731" y="2"/>
                    </a:cubicBezTo>
                    <a:cubicBezTo>
                      <a:pt x="2711" y="0"/>
                      <a:pt x="2638" y="18"/>
                      <a:pt x="2549" y="26"/>
                    </a:cubicBezTo>
                    <a:cubicBezTo>
                      <a:pt x="2460" y="34"/>
                      <a:pt x="2329" y="27"/>
                      <a:pt x="2194" y="49"/>
                    </a:cubicBezTo>
                    <a:cubicBezTo>
                      <a:pt x="2059" y="71"/>
                      <a:pt x="1868" y="111"/>
                      <a:pt x="1737" y="160"/>
                    </a:cubicBezTo>
                    <a:cubicBezTo>
                      <a:pt x="1606" y="209"/>
                      <a:pt x="1513" y="267"/>
                      <a:pt x="1405" y="341"/>
                    </a:cubicBezTo>
                    <a:cubicBezTo>
                      <a:pt x="1297" y="415"/>
                      <a:pt x="1198" y="498"/>
                      <a:pt x="1090" y="602"/>
                    </a:cubicBezTo>
                    <a:cubicBezTo>
                      <a:pt x="982" y="706"/>
                      <a:pt x="862" y="841"/>
                      <a:pt x="758" y="965"/>
                    </a:cubicBezTo>
                    <a:cubicBezTo>
                      <a:pt x="654" y="1089"/>
                      <a:pt x="540" y="1243"/>
                      <a:pt x="466" y="1343"/>
                    </a:cubicBezTo>
                    <a:cubicBezTo>
                      <a:pt x="392" y="1443"/>
                      <a:pt x="371" y="1510"/>
                      <a:pt x="316" y="1564"/>
                    </a:cubicBezTo>
                    <a:cubicBezTo>
                      <a:pt x="261" y="1618"/>
                      <a:pt x="181" y="1639"/>
                      <a:pt x="135" y="1667"/>
                    </a:cubicBezTo>
                    <a:cubicBezTo>
                      <a:pt x="89" y="1695"/>
                      <a:pt x="60" y="1687"/>
                      <a:pt x="40" y="17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648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651800" y="5039280"/>
                <a:ext cx="682200" cy="509040"/>
              </a:xfrm>
              <a:custGeom>
                <a:avLst/>
                <a:gdLst/>
                <a:ahLst/>
                <a:rect l="l" t="t" r="r" b="b"/>
                <a:pathLst>
                  <a:path w="2751" h="1922">
                    <a:moveTo>
                      <a:pt x="40" y="1722"/>
                    </a:moveTo>
                    <a:cubicBezTo>
                      <a:pt x="20" y="1757"/>
                      <a:pt x="0" y="1847"/>
                      <a:pt x="16" y="1880"/>
                    </a:cubicBezTo>
                    <a:cubicBezTo>
                      <a:pt x="32" y="1913"/>
                      <a:pt x="98" y="1922"/>
                      <a:pt x="135" y="1919"/>
                    </a:cubicBezTo>
                    <a:cubicBezTo>
                      <a:pt x="172" y="1916"/>
                      <a:pt x="194" y="1919"/>
                      <a:pt x="237" y="1864"/>
                    </a:cubicBezTo>
                    <a:cubicBezTo>
                      <a:pt x="280" y="1809"/>
                      <a:pt x="333" y="1693"/>
                      <a:pt x="395" y="1588"/>
                    </a:cubicBezTo>
                    <a:cubicBezTo>
                      <a:pt x="457" y="1483"/>
                      <a:pt x="480" y="1399"/>
                      <a:pt x="608" y="1233"/>
                    </a:cubicBezTo>
                    <a:cubicBezTo>
                      <a:pt x="736" y="1067"/>
                      <a:pt x="980" y="764"/>
                      <a:pt x="1161" y="594"/>
                    </a:cubicBezTo>
                    <a:cubicBezTo>
                      <a:pt x="1342" y="424"/>
                      <a:pt x="1517" y="302"/>
                      <a:pt x="1697" y="215"/>
                    </a:cubicBezTo>
                    <a:cubicBezTo>
                      <a:pt x="1877" y="128"/>
                      <a:pt x="2080" y="102"/>
                      <a:pt x="2242" y="73"/>
                    </a:cubicBezTo>
                    <a:cubicBezTo>
                      <a:pt x="2404" y="44"/>
                      <a:pt x="2587" y="53"/>
                      <a:pt x="2668" y="41"/>
                    </a:cubicBezTo>
                    <a:cubicBezTo>
                      <a:pt x="2749" y="29"/>
                      <a:pt x="2751" y="4"/>
                      <a:pt x="2731" y="2"/>
                    </a:cubicBezTo>
                    <a:cubicBezTo>
                      <a:pt x="2711" y="0"/>
                      <a:pt x="2638" y="18"/>
                      <a:pt x="2549" y="26"/>
                    </a:cubicBezTo>
                    <a:cubicBezTo>
                      <a:pt x="2460" y="34"/>
                      <a:pt x="2329" y="27"/>
                      <a:pt x="2194" y="49"/>
                    </a:cubicBezTo>
                    <a:cubicBezTo>
                      <a:pt x="2059" y="71"/>
                      <a:pt x="1868" y="111"/>
                      <a:pt x="1737" y="160"/>
                    </a:cubicBezTo>
                    <a:cubicBezTo>
                      <a:pt x="1606" y="209"/>
                      <a:pt x="1513" y="267"/>
                      <a:pt x="1405" y="341"/>
                    </a:cubicBezTo>
                    <a:cubicBezTo>
                      <a:pt x="1297" y="415"/>
                      <a:pt x="1198" y="498"/>
                      <a:pt x="1090" y="602"/>
                    </a:cubicBezTo>
                    <a:cubicBezTo>
                      <a:pt x="982" y="706"/>
                      <a:pt x="862" y="841"/>
                      <a:pt x="758" y="965"/>
                    </a:cubicBezTo>
                    <a:cubicBezTo>
                      <a:pt x="654" y="1089"/>
                      <a:pt x="540" y="1243"/>
                      <a:pt x="466" y="1343"/>
                    </a:cubicBezTo>
                    <a:cubicBezTo>
                      <a:pt x="392" y="1443"/>
                      <a:pt x="371" y="1510"/>
                      <a:pt x="316" y="1564"/>
                    </a:cubicBezTo>
                    <a:cubicBezTo>
                      <a:pt x="261" y="1618"/>
                      <a:pt x="181" y="1639"/>
                      <a:pt x="135" y="1667"/>
                    </a:cubicBezTo>
                    <a:cubicBezTo>
                      <a:pt x="89" y="1695"/>
                      <a:pt x="60" y="1687"/>
                      <a:pt x="40" y="17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656840" y="4614480"/>
                <a:ext cx="92880" cy="925920"/>
              </a:xfrm>
              <a:custGeom>
                <a:avLst/>
                <a:gdLst/>
                <a:ahLst/>
                <a:rect l="l" t="t" r="r" b="b"/>
                <a:pathLst>
                  <a:path w="375" h="3493">
                    <a:moveTo>
                      <a:pt x="99" y="3420"/>
                    </a:moveTo>
                    <a:cubicBezTo>
                      <a:pt x="107" y="3347"/>
                      <a:pt x="75" y="2935"/>
                      <a:pt x="67" y="2658"/>
                    </a:cubicBezTo>
                    <a:cubicBezTo>
                      <a:pt x="59" y="2381"/>
                      <a:pt x="52" y="2068"/>
                      <a:pt x="51" y="1757"/>
                    </a:cubicBezTo>
                    <a:cubicBezTo>
                      <a:pt x="50" y="1446"/>
                      <a:pt x="9" y="1072"/>
                      <a:pt x="59" y="792"/>
                    </a:cubicBezTo>
                    <a:cubicBezTo>
                      <a:pt x="109" y="512"/>
                      <a:pt x="327" y="156"/>
                      <a:pt x="351" y="78"/>
                    </a:cubicBezTo>
                    <a:cubicBezTo>
                      <a:pt x="375" y="0"/>
                      <a:pt x="252" y="225"/>
                      <a:pt x="205" y="321"/>
                    </a:cubicBezTo>
                    <a:cubicBezTo>
                      <a:pt x="158" y="417"/>
                      <a:pt x="100" y="557"/>
                      <a:pt x="67" y="654"/>
                    </a:cubicBezTo>
                    <a:cubicBezTo>
                      <a:pt x="34" y="751"/>
                      <a:pt x="20" y="786"/>
                      <a:pt x="10" y="905"/>
                    </a:cubicBezTo>
                    <a:cubicBezTo>
                      <a:pt x="0" y="1024"/>
                      <a:pt x="9" y="1154"/>
                      <a:pt x="10" y="1368"/>
                    </a:cubicBezTo>
                    <a:cubicBezTo>
                      <a:pt x="11" y="1582"/>
                      <a:pt x="19" y="1965"/>
                      <a:pt x="18" y="2187"/>
                    </a:cubicBezTo>
                    <a:cubicBezTo>
                      <a:pt x="17" y="2409"/>
                      <a:pt x="2" y="2547"/>
                      <a:pt x="2" y="2698"/>
                    </a:cubicBezTo>
                    <a:cubicBezTo>
                      <a:pt x="2" y="2849"/>
                      <a:pt x="7" y="2976"/>
                      <a:pt x="18" y="3096"/>
                    </a:cubicBezTo>
                    <a:cubicBezTo>
                      <a:pt x="29" y="3216"/>
                      <a:pt x="91" y="3493"/>
                      <a:pt x="99" y="34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635240" y="5476320"/>
                <a:ext cx="91080" cy="249840"/>
              </a:xfrm>
              <a:custGeom>
                <a:avLst/>
                <a:gdLst>
                  <a:gd name="textAreaLeft" fmla="*/ 19800 w 91080"/>
                  <a:gd name="textAreaRight" fmla="*/ 71280 w 91080"/>
                  <a:gd name="textAreaTop" fmla="*/ 54720 h 249840"/>
                  <a:gd name="textAreaBottom" fmla="*/ 195120 h 24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rot="1985400">
                <a:off x="7704360" y="542052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rot="3498000">
                <a:off x="7710120" y="547272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3498000">
                <a:off x="7714440" y="550692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2617200">
                <a:off x="7717320" y="555336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4964400">
                <a:off x="7717320" y="555228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4964400">
                <a:off x="7722720" y="550908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3607200">
                <a:off x="7724520" y="551592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2000400">
                <a:off x="7714800" y="5574600"/>
                <a:ext cx="720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2000400">
                <a:off x="7731720" y="549216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rot="3498000">
                <a:off x="7748280" y="554292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2617200">
                <a:off x="7729560" y="545724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rot="4964400">
                <a:off x="7750440" y="558792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4964400">
                <a:off x="7756200" y="554508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3607200">
                <a:off x="7758720" y="555156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rot="2000400">
                <a:off x="7745040" y="555660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rot="3498000">
                <a:off x="7710840" y="557208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2617200">
                <a:off x="7713360" y="5619240"/>
                <a:ext cx="720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4964400">
                <a:off x="7713720" y="561744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4964400">
                <a:off x="7719480" y="557460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3607200">
                <a:off x="7722000" y="558108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3498000">
                <a:off x="7744320" y="5608440"/>
                <a:ext cx="756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4964400">
                <a:off x="7727760" y="554040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4964400">
                <a:off x="7753680" y="561132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rot="3607200">
                <a:off x="7725960" y="547704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rot="2000400">
                <a:off x="7727760" y="561348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 rot="19614600">
                <a:off x="7622280" y="543384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 rot="18982800">
                <a:off x="7626600" y="554508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 rot="16635600">
                <a:off x="7630200" y="550224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 rot="17992800">
                <a:off x="7633080" y="5506920"/>
                <a:ext cx="648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 rot="19599600">
                <a:off x="7623000" y="556740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 rot="19599600">
                <a:off x="7639200" y="548460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 rot="18102000">
                <a:off x="7656120" y="553500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rot="18982800">
                <a:off x="7626240" y="5415840"/>
                <a:ext cx="6120" cy="109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 rot="16635600">
                <a:off x="7658640" y="557892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 rot="16635600">
                <a:off x="7664760" y="553680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 rot="17992800">
                <a:off x="7667280" y="5543280"/>
                <a:ext cx="648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 rot="19599600">
                <a:off x="7652520" y="5549400"/>
                <a:ext cx="720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 rot="18982800">
                <a:off x="7620840" y="561240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 rot="16635600">
                <a:off x="7627320" y="5566680"/>
                <a:ext cx="6840" cy="102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 rot="17992800">
                <a:off x="7630200" y="5573160"/>
                <a:ext cx="648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 rot="18102000">
                <a:off x="7652520" y="560124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 rot="16635600">
                <a:off x="7635600" y="553140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 rot="16635600">
                <a:off x="7661160" y="560196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 rot="17992800">
                <a:off x="7634520" y="5469120"/>
                <a:ext cx="648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 rot="19599600">
                <a:off x="7635960" y="5607000"/>
                <a:ext cx="612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7" name=""/>
              <p:cNvGrpSpPr/>
              <p:nvPr/>
            </p:nvGrpSpPr>
            <p:grpSpPr>
              <a:xfrm>
                <a:off x="7628040" y="5546160"/>
                <a:ext cx="90360" cy="167400"/>
                <a:chOff x="7628040" y="5546160"/>
                <a:chExt cx="90360" cy="167400"/>
              </a:xfrm>
            </p:grpSpPr>
            <p:sp>
              <p:nvSpPr>
                <p:cNvPr id="1738" name=""/>
                <p:cNvSpPr/>
                <p:nvPr/>
              </p:nvSpPr>
              <p:spPr>
                <a:xfrm flipH="1" rot="20290200">
                  <a:off x="7675200" y="5543280"/>
                  <a:ext cx="6480" cy="110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 rot="20907000">
                  <a:off x="7666200" y="5562360"/>
                  <a:ext cx="6480" cy="11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 rot="20907000">
                  <a:off x="7700400" y="5556600"/>
                  <a:ext cx="6480" cy="11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flipH="1" rot="20290200">
                  <a:off x="7647840" y="5603040"/>
                  <a:ext cx="6480" cy="110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flipH="1" rot="20907000">
                  <a:off x="7663680" y="5603040"/>
                  <a:ext cx="6480" cy="11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 flipH="1" rot="20290800">
                <a:off x="7671240" y="538668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H="1" rot="20907600">
                <a:off x="7661160" y="540576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 rot="20907600">
                <a:off x="7695360" y="5400720"/>
                <a:ext cx="612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 rot="20290800">
                <a:off x="7644240" y="544608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 rot="20907600">
                <a:off x="7660800" y="5447160"/>
                <a:ext cx="6480" cy="109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309200">
                <a:off x="7681680" y="540540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692400">
                <a:off x="7690320" y="542448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692400">
                <a:off x="7656120" y="541908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309200">
                <a:off x="7707600" y="5465160"/>
                <a:ext cx="612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692400">
                <a:off x="7692480" y="547596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3" name=""/>
              <p:cNvGrpSpPr/>
              <p:nvPr/>
            </p:nvGrpSpPr>
            <p:grpSpPr>
              <a:xfrm>
                <a:off x="7760160" y="5046840"/>
                <a:ext cx="559800" cy="443520"/>
                <a:chOff x="7760160" y="5046840"/>
                <a:chExt cx="559800" cy="44352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7778160" y="537984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7790040" y="53618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7804800" y="53438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7819920" y="53236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7836840" y="5303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7852680" y="52812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7869600" y="52632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7888320" y="52419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7908120" y="522180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7927200" y="520056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7944120" y="518040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7963920" y="515808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7989840" y="513792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8016480" y="512100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8036280" y="510516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8064360" y="509436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 rot="609000">
                  <a:off x="8092800" y="508284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rot="609000">
                  <a:off x="8125200" y="507456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rot="609000">
                  <a:off x="8152200" y="5068080"/>
                  <a:ext cx="5508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rot="609000">
                  <a:off x="8177760" y="5061240"/>
                  <a:ext cx="5040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rot="609000">
                  <a:off x="8206920" y="50594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609000">
                  <a:off x="8228520" y="50562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609000">
                  <a:off x="8253720" y="505296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609000">
                  <a:off x="8278200" y="505116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rot="609000">
                  <a:off x="8300520" y="504792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7770960" y="54018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7760160" y="542808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7727040" y="4837680"/>
                <a:ext cx="434160" cy="578880"/>
                <a:chOff x="7727040" y="4837680"/>
                <a:chExt cx="434160" cy="578880"/>
              </a:xfrm>
            </p:grpSpPr>
            <p:sp>
              <p:nvSpPr>
                <p:cNvPr id="1782" name=""/>
                <p:cNvSpPr/>
                <p:nvPr/>
              </p:nvSpPr>
              <p:spPr>
                <a:xfrm rot="20628000">
                  <a:off x="7741080" y="529092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 rot="20628000">
                  <a:off x="7749720" y="5267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rot="20628000">
                  <a:off x="7759080" y="52459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rot="20628000">
                  <a:off x="7767720" y="5222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rot="20628000">
                  <a:off x="7778520" y="51984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rot="20628000">
                  <a:off x="7787520" y="51724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rot="20628000">
                  <a:off x="7798680" y="5150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rot="20628000">
                  <a:off x="7810560" y="51249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rot="20628000">
                  <a:off x="7823880" y="510048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rot="20628000">
                  <a:off x="7835400" y="507600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rot="20628000">
                  <a:off x="7846200" y="505188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rot="20628000">
                  <a:off x="7858080" y="502596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rot="20628000">
                  <a:off x="7877520" y="499932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rot="20628000">
                  <a:off x="7897320" y="497736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rot="20628000">
                  <a:off x="7911720" y="495648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rot="20628000">
                  <a:off x="7934400" y="494028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rot="21237000">
                  <a:off x="7958880" y="492084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rot="21237000">
                  <a:off x="7986240" y="4905720"/>
                  <a:ext cx="60840" cy="608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rot="21237000">
                  <a:off x="8010720" y="489276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rot="21237000">
                  <a:off x="8032320" y="4880160"/>
                  <a:ext cx="5040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rot="21237000">
                  <a:off x="8059320" y="48708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rot="21237000">
                  <a:off x="8079120" y="48614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rot="21237000">
                  <a:off x="8101080" y="4853520"/>
                  <a:ext cx="33480" cy="36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rot="21237000">
                  <a:off x="8122320" y="484668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 rot="21237000">
                  <a:off x="8142480" y="483840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rot="20628000">
                  <a:off x="7738920" y="531576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rot="20628000">
                  <a:off x="7734240" y="534672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9" name=""/>
              <p:cNvSpPr/>
              <p:nvPr/>
            </p:nvSpPr>
            <p:spPr>
              <a:xfrm rot="2000400">
                <a:off x="7728480" y="556632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0" name=""/>
              <p:cNvGrpSpPr/>
              <p:nvPr/>
            </p:nvGrpSpPr>
            <p:grpSpPr>
              <a:xfrm>
                <a:off x="7743960" y="5057280"/>
                <a:ext cx="559800" cy="443520"/>
                <a:chOff x="7743960" y="5057280"/>
                <a:chExt cx="559800" cy="44352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7761960" y="539028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773840" y="53722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7788600" y="53539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7803720" y="53341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7820640" y="53139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7836480" y="52916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853400" y="52736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872120" y="52524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7891920" y="523224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7911000" y="521100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7927920" y="519084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947720" y="516852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973640" y="514836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8000280" y="513144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8020080" y="511560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8048160" y="510480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 rot="609000">
                  <a:off x="8076600" y="509328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rot="609000">
                  <a:off x="8109000" y="5084640"/>
                  <a:ext cx="60840" cy="608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rot="609000">
                  <a:off x="8136000" y="507852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rot="609000">
                  <a:off x="8161560" y="5071680"/>
                  <a:ext cx="5040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rot="609000">
                  <a:off x="8190720" y="506988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rot="609000">
                  <a:off x="8212320" y="50666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rot="609000">
                  <a:off x="8237520" y="506340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rot="609000">
                  <a:off x="8262000" y="506160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 rot="609000">
                  <a:off x="8284320" y="505836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7754760" y="5411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7743960" y="543852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8" name=""/>
              <p:cNvSpPr/>
              <p:nvPr/>
            </p:nvSpPr>
            <p:spPr>
              <a:xfrm rot="900000">
                <a:off x="7648560" y="542304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9" name=""/>
              <p:cNvGrpSpPr/>
              <p:nvPr/>
            </p:nvGrpSpPr>
            <p:grpSpPr>
              <a:xfrm>
                <a:off x="7727760" y="4839840"/>
                <a:ext cx="415440" cy="594360"/>
                <a:chOff x="7727760" y="4839840"/>
                <a:chExt cx="415440" cy="594360"/>
              </a:xfrm>
            </p:grpSpPr>
            <p:sp>
              <p:nvSpPr>
                <p:cNvPr id="1840" name=""/>
                <p:cNvSpPr/>
                <p:nvPr/>
              </p:nvSpPr>
              <p:spPr>
                <a:xfrm rot="20499000">
                  <a:off x="7741440" y="530712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rot="20499000">
                  <a:off x="7749360" y="52830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rot="20499000">
                  <a:off x="7757640" y="52614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20499000">
                  <a:off x="7765920" y="52372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20499000">
                  <a:off x="7775640" y="5212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20499000">
                  <a:off x="7783560" y="51868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rot="20499000">
                  <a:off x="7794000" y="51642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rot="20499000">
                  <a:off x="7804800" y="51382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rot="20499000">
                  <a:off x="7817400" y="511308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rot="20499000">
                  <a:off x="7827480" y="508860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rot="20499000">
                  <a:off x="7837200" y="50641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rot="20499000">
                  <a:off x="7848360" y="503748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rot="20499000">
                  <a:off x="7866720" y="501012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rot="20499000">
                  <a:off x="7885440" y="498744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rot="20499000">
                  <a:off x="7899480" y="496656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 rot="20499000">
                  <a:off x="7920720" y="494928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rot="21108000">
                  <a:off x="7944480" y="492912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 rot="21108000">
                  <a:off x="7971840" y="491364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 rot="21108000">
                  <a:off x="7995240" y="4899600"/>
                  <a:ext cx="5544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rot="21108000">
                  <a:off x="8016480" y="4885920"/>
                  <a:ext cx="5040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rot="21108000">
                  <a:off x="8042760" y="48758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rot="21108000">
                  <a:off x="8062560" y="486612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rot="21108000">
                  <a:off x="8083440" y="485712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rot="21108000">
                  <a:off x="8104680" y="484956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rot="21108000">
                  <a:off x="8124120" y="484092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rot="20499000">
                  <a:off x="7740000" y="53326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 rot="20499000">
                  <a:off x="7735680" y="536364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7" name=""/>
              <p:cNvSpPr/>
              <p:nvPr/>
            </p:nvSpPr>
            <p:spPr>
              <a:xfrm flipH="1" rot="3489600">
                <a:off x="7584840" y="5238360"/>
                <a:ext cx="94680" cy="493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 rot="3489600">
                <a:off x="7560360" y="520380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 rot="3489600">
                <a:off x="7559640" y="517824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 rot="3489600">
                <a:off x="7561440" y="5150520"/>
                <a:ext cx="113040" cy="586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 rot="3489600">
                <a:off x="7560720" y="5119200"/>
                <a:ext cx="113040" cy="601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 rot="3489600">
                <a:off x="7556760" y="509220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 rot="3489600">
                <a:off x="7556760" y="506268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 rot="3489600">
                <a:off x="7557480" y="503172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 rot="3489600">
                <a:off x="7559280" y="4998240"/>
                <a:ext cx="110160" cy="579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 rot="3489600">
                <a:off x="7570080" y="4962960"/>
                <a:ext cx="102960" cy="543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 rot="3489600">
                <a:off x="7568280" y="4930560"/>
                <a:ext cx="102600" cy="5364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 rot="3489600">
                <a:off x="7569000" y="4901760"/>
                <a:ext cx="97560" cy="511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 rot="3489600">
                <a:off x="7568640" y="4866480"/>
                <a:ext cx="97560" cy="507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H="1" rot="3489600">
                <a:off x="7583760" y="4846320"/>
                <a:ext cx="86760" cy="453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 rot="3489600">
                <a:off x="7584840" y="4820040"/>
                <a:ext cx="85320" cy="442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 rot="3489600">
                <a:off x="7597080" y="4790520"/>
                <a:ext cx="75240" cy="388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 rot="2880600">
                <a:off x="7617600" y="4770720"/>
                <a:ext cx="44640" cy="666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 rot="2880600">
                <a:off x="7630920" y="4750920"/>
                <a:ext cx="38160" cy="565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 rot="2880600">
                <a:off x="7639200" y="4730040"/>
                <a:ext cx="34560" cy="579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 rot="2880600">
                <a:off x="7657560" y="4708800"/>
                <a:ext cx="30960" cy="50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H="1" rot="2880600">
                <a:off x="7671960" y="4688280"/>
                <a:ext cx="28440" cy="457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 rot="2880600">
                <a:off x="7683120" y="4664520"/>
                <a:ext cx="28440" cy="457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 rot="2880600">
                <a:off x="7699680" y="4650840"/>
                <a:ext cx="20880" cy="327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 rot="2880600">
                <a:off x="7711920" y="4638960"/>
                <a:ext cx="15480" cy="237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 rot="2880600">
                <a:off x="7725600" y="4632120"/>
                <a:ext cx="10800" cy="180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 rot="3489600">
                <a:off x="7594200" y="5264280"/>
                <a:ext cx="79920" cy="424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H="1" rot="3489600">
                <a:off x="7601760" y="5290560"/>
                <a:ext cx="65880" cy="342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658280" y="5725440"/>
                <a:ext cx="42480" cy="12960"/>
              </a:xfrm>
              <a:custGeom>
                <a:avLst/>
                <a:gdLst/>
                <a:ahLst/>
                <a:rect l="l" t="t" r="r" b="b"/>
                <a:pathLst>
                  <a:path w="100" h="18">
                    <a:moveTo>
                      <a:pt x="0" y="0"/>
                    </a:moveTo>
                    <a:cubicBezTo>
                      <a:pt x="8" y="5"/>
                      <a:pt x="16" y="11"/>
                      <a:pt x="28" y="14"/>
                    </a:cubicBezTo>
                    <a:cubicBezTo>
                      <a:pt x="40" y="17"/>
                      <a:pt x="58" y="18"/>
                      <a:pt x="70" y="18"/>
                    </a:cubicBezTo>
                    <a:cubicBezTo>
                      <a:pt x="82" y="18"/>
                      <a:pt x="95" y="17"/>
                      <a:pt x="100" y="16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653960" y="5749560"/>
                <a:ext cx="41400" cy="11520"/>
              </a:xfrm>
              <a:custGeom>
                <a:avLst/>
                <a:gdLst/>
                <a:ahLst/>
                <a:rect l="l" t="t" r="r" b="b"/>
                <a:pathLst>
                  <a:path w="98" h="22">
                    <a:moveTo>
                      <a:pt x="0" y="0"/>
                    </a:moveTo>
                    <a:cubicBezTo>
                      <a:pt x="7" y="6"/>
                      <a:pt x="14" y="13"/>
                      <a:pt x="24" y="16"/>
                    </a:cubicBezTo>
                    <a:cubicBezTo>
                      <a:pt x="34" y="19"/>
                      <a:pt x="48" y="19"/>
                      <a:pt x="60" y="20"/>
                    </a:cubicBezTo>
                    <a:cubicBezTo>
                      <a:pt x="72" y="21"/>
                      <a:pt x="91" y="22"/>
                      <a:pt x="98" y="2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650360" y="5773680"/>
                <a:ext cx="46440" cy="9000"/>
              </a:xfrm>
              <a:custGeom>
                <a:avLst/>
                <a:gdLst/>
                <a:ahLst/>
                <a:rect l="l" t="t" r="r" b="b"/>
                <a:pathLst>
                  <a:path w="104" h="19">
                    <a:moveTo>
                      <a:pt x="0" y="0"/>
                    </a:moveTo>
                    <a:cubicBezTo>
                      <a:pt x="14" y="6"/>
                      <a:pt x="29" y="13"/>
                      <a:pt x="42" y="16"/>
                    </a:cubicBezTo>
                    <a:cubicBezTo>
                      <a:pt x="55" y="19"/>
                      <a:pt x="66" y="18"/>
                      <a:pt x="76" y="18"/>
                    </a:cubicBezTo>
                    <a:cubicBezTo>
                      <a:pt x="86" y="18"/>
                      <a:pt x="100" y="14"/>
                      <a:pt x="104" y="14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648200" y="5798520"/>
                <a:ext cx="45000" cy="14760"/>
              </a:xfrm>
              <a:custGeom>
                <a:avLst/>
                <a:gdLst/>
                <a:ahLst/>
                <a:rect l="l" t="t" r="r" b="b"/>
                <a:pathLst>
                  <a:path w="108" h="31">
                    <a:moveTo>
                      <a:pt x="0" y="0"/>
                    </a:moveTo>
                    <a:cubicBezTo>
                      <a:pt x="9" y="8"/>
                      <a:pt x="19" y="17"/>
                      <a:pt x="30" y="22"/>
                    </a:cubicBezTo>
                    <a:cubicBezTo>
                      <a:pt x="41" y="27"/>
                      <a:pt x="56" y="29"/>
                      <a:pt x="66" y="30"/>
                    </a:cubicBezTo>
                    <a:cubicBezTo>
                      <a:pt x="76" y="31"/>
                      <a:pt x="83" y="29"/>
                      <a:pt x="90" y="28"/>
                    </a:cubicBezTo>
                    <a:cubicBezTo>
                      <a:pt x="97" y="27"/>
                      <a:pt x="102" y="24"/>
                      <a:pt x="108" y="2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645320" y="5826240"/>
                <a:ext cx="45360" cy="11520"/>
              </a:xfrm>
              <a:custGeom>
                <a:avLst/>
                <a:gdLst/>
                <a:ahLst/>
                <a:rect l="l" t="t" r="r" b="b"/>
                <a:pathLst>
                  <a:path w="110" h="22">
                    <a:moveTo>
                      <a:pt x="0" y="0"/>
                    </a:moveTo>
                    <a:cubicBezTo>
                      <a:pt x="10" y="5"/>
                      <a:pt x="21" y="11"/>
                      <a:pt x="32" y="14"/>
                    </a:cubicBezTo>
                    <a:cubicBezTo>
                      <a:pt x="43" y="17"/>
                      <a:pt x="58" y="19"/>
                      <a:pt x="68" y="20"/>
                    </a:cubicBezTo>
                    <a:cubicBezTo>
                      <a:pt x="78" y="21"/>
                      <a:pt x="87" y="22"/>
                      <a:pt x="94" y="22"/>
                    </a:cubicBezTo>
                    <a:cubicBezTo>
                      <a:pt x="101" y="22"/>
                      <a:pt x="105" y="20"/>
                      <a:pt x="110" y="18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641720" y="5849640"/>
                <a:ext cx="47880" cy="12960"/>
              </a:xfrm>
              <a:custGeom>
                <a:avLst/>
                <a:gdLst/>
                <a:ahLst/>
                <a:rect l="l" t="t" r="r" b="b"/>
                <a:pathLst>
                  <a:path w="118" h="19">
                    <a:moveTo>
                      <a:pt x="0" y="0"/>
                    </a:moveTo>
                    <a:cubicBezTo>
                      <a:pt x="17" y="6"/>
                      <a:pt x="35" y="13"/>
                      <a:pt x="50" y="16"/>
                    </a:cubicBezTo>
                    <a:cubicBezTo>
                      <a:pt x="65" y="19"/>
                      <a:pt x="81" y="17"/>
                      <a:pt x="92" y="16"/>
                    </a:cubicBezTo>
                    <a:cubicBezTo>
                      <a:pt x="103" y="15"/>
                      <a:pt x="110" y="12"/>
                      <a:pt x="118" y="1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633800" y="5873040"/>
                <a:ext cx="50760" cy="1584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0" y="0"/>
                    </a:moveTo>
                    <a:cubicBezTo>
                      <a:pt x="12" y="9"/>
                      <a:pt x="25" y="18"/>
                      <a:pt x="38" y="24"/>
                    </a:cubicBezTo>
                    <a:cubicBezTo>
                      <a:pt x="51" y="30"/>
                      <a:pt x="67" y="33"/>
                      <a:pt x="80" y="34"/>
                    </a:cubicBezTo>
                    <a:cubicBezTo>
                      <a:pt x="93" y="35"/>
                      <a:pt x="109" y="29"/>
                      <a:pt x="116" y="28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633800" y="5902560"/>
                <a:ext cx="47160" cy="12240"/>
              </a:xfrm>
              <a:custGeom>
                <a:avLst/>
                <a:gdLst/>
                <a:ahLst/>
                <a:rect l="l" t="t" r="r" b="b"/>
                <a:pathLst>
                  <a:path w="110" h="25">
                    <a:moveTo>
                      <a:pt x="0" y="0"/>
                    </a:moveTo>
                    <a:cubicBezTo>
                      <a:pt x="14" y="7"/>
                      <a:pt x="29" y="14"/>
                      <a:pt x="42" y="18"/>
                    </a:cubicBezTo>
                    <a:cubicBezTo>
                      <a:pt x="55" y="22"/>
                      <a:pt x="67" y="23"/>
                      <a:pt x="78" y="24"/>
                    </a:cubicBezTo>
                    <a:cubicBezTo>
                      <a:pt x="89" y="25"/>
                      <a:pt x="99" y="23"/>
                      <a:pt x="110" y="2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633080" y="5928120"/>
                <a:ext cx="43200" cy="9720"/>
              </a:xfrm>
              <a:custGeom>
                <a:avLst/>
                <a:gdLst/>
                <a:ahLst/>
                <a:rect l="l" t="t" r="r" b="b"/>
                <a:pathLst>
                  <a:path w="100" h="23">
                    <a:moveTo>
                      <a:pt x="0" y="0"/>
                    </a:moveTo>
                    <a:cubicBezTo>
                      <a:pt x="20" y="8"/>
                      <a:pt x="41" y="17"/>
                      <a:pt x="58" y="20"/>
                    </a:cubicBezTo>
                    <a:cubicBezTo>
                      <a:pt x="75" y="23"/>
                      <a:pt x="87" y="21"/>
                      <a:pt x="100" y="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633080" y="5959800"/>
                <a:ext cx="36720" cy="6840"/>
              </a:xfrm>
              <a:custGeom>
                <a:avLst/>
                <a:gdLst/>
                <a:ahLst/>
                <a:rect l="l" t="t" r="r" b="b"/>
                <a:pathLst>
                  <a:path w="86" h="16">
                    <a:moveTo>
                      <a:pt x="0" y="0"/>
                    </a:moveTo>
                    <a:cubicBezTo>
                      <a:pt x="16" y="4"/>
                      <a:pt x="32" y="9"/>
                      <a:pt x="44" y="12"/>
                    </a:cubicBezTo>
                    <a:cubicBezTo>
                      <a:pt x="56" y="15"/>
                      <a:pt x="65" y="16"/>
                      <a:pt x="72" y="16"/>
                    </a:cubicBezTo>
                    <a:cubicBezTo>
                      <a:pt x="79" y="16"/>
                      <a:pt x="82" y="14"/>
                      <a:pt x="86" y="1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630920" y="5981760"/>
                <a:ext cx="34560" cy="828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0" y="0"/>
                    </a:moveTo>
                    <a:cubicBezTo>
                      <a:pt x="17" y="6"/>
                      <a:pt x="35" y="13"/>
                      <a:pt x="48" y="16"/>
                    </a:cubicBezTo>
                    <a:cubicBezTo>
                      <a:pt x="61" y="19"/>
                      <a:pt x="70" y="17"/>
                      <a:pt x="80" y="16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633800" y="6004080"/>
                <a:ext cx="26640" cy="6840"/>
              </a:xfrm>
              <a:custGeom>
                <a:avLst/>
                <a:gdLst/>
                <a:ahLst/>
                <a:rect l="l" t="t" r="r" b="b"/>
                <a:pathLst>
                  <a:path w="62" h="16">
                    <a:moveTo>
                      <a:pt x="0" y="0"/>
                    </a:moveTo>
                    <a:cubicBezTo>
                      <a:pt x="19" y="6"/>
                      <a:pt x="38" y="12"/>
                      <a:pt x="48" y="14"/>
                    </a:cubicBezTo>
                    <a:cubicBezTo>
                      <a:pt x="58" y="16"/>
                      <a:pt x="60" y="14"/>
                      <a:pt x="62" y="1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633080" y="60242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52" h="14">
                    <a:moveTo>
                      <a:pt x="0" y="0"/>
                    </a:moveTo>
                    <a:cubicBezTo>
                      <a:pt x="13" y="5"/>
                      <a:pt x="27" y="10"/>
                      <a:pt x="36" y="12"/>
                    </a:cubicBezTo>
                    <a:cubicBezTo>
                      <a:pt x="45" y="14"/>
                      <a:pt x="48" y="13"/>
                      <a:pt x="52" y="1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7" name=""/>
              <p:cNvGrpSpPr/>
              <p:nvPr/>
            </p:nvGrpSpPr>
            <p:grpSpPr>
              <a:xfrm>
                <a:off x="7357680" y="4578120"/>
                <a:ext cx="343080" cy="916200"/>
                <a:chOff x="7357680" y="4578120"/>
                <a:chExt cx="343080" cy="916200"/>
              </a:xfrm>
            </p:grpSpPr>
            <p:sp>
              <p:nvSpPr>
                <p:cNvPr id="1908" name=""/>
                <p:cNvSpPr/>
                <p:nvPr/>
              </p:nvSpPr>
              <p:spPr>
                <a:xfrm rot="17932200">
                  <a:off x="7515360" y="5210280"/>
                  <a:ext cx="95400" cy="842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 rot="17932200">
                  <a:off x="7491600" y="518400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rot="17932200">
                  <a:off x="7486920" y="515988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rot="17932200">
                  <a:off x="7482240" y="513504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rot="17932200">
                  <a:off x="7476480" y="510912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rot="17932200">
                  <a:off x="7467840" y="5082840"/>
                  <a:ext cx="114840" cy="1004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rot="17932200">
                  <a:off x="7458840" y="505800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 rot="17932200">
                  <a:off x="7449840" y="503028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rot="17932200">
                  <a:off x="7446600" y="5002920"/>
                  <a:ext cx="111600" cy="98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rot="17932200">
                  <a:off x="7447680" y="4977000"/>
                  <a:ext cx="10440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 rot="17932200">
                  <a:off x="7442640" y="4950720"/>
                  <a:ext cx="10368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 rot="17932200">
                  <a:off x="7437960" y="4922640"/>
                  <a:ext cx="98280" cy="874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 rot="17932200">
                  <a:off x="7434360" y="4893840"/>
                  <a:ext cx="99000" cy="86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 rot="17932200">
                  <a:off x="7437960" y="4861440"/>
                  <a:ext cx="88200" cy="77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 rot="17932200">
                  <a:off x="7426080" y="4838040"/>
                  <a:ext cx="86760" cy="76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rot="17932200">
                  <a:off x="7426440" y="481464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rot="18541800">
                  <a:off x="7420320" y="4788720"/>
                  <a:ext cx="71640" cy="70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 rot="18541800">
                  <a:off x="7414200" y="476244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rot="18541800">
                  <a:off x="7407000" y="4739760"/>
                  <a:ext cx="5544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 rot="18541800">
                  <a:off x="7399080" y="4723200"/>
                  <a:ext cx="4968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rot="18541800">
                  <a:off x="7389720" y="4704840"/>
                  <a:ext cx="45720" cy="48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rot="18541800">
                  <a:off x="7371360" y="4688280"/>
                  <a:ext cx="45720" cy="48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rot="18541800">
                  <a:off x="7371360" y="4671360"/>
                  <a:ext cx="33120" cy="36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rot="18541800">
                  <a:off x="7369560" y="465588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 rot="18541800">
                  <a:off x="7366320" y="4648320"/>
                  <a:ext cx="1800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 rot="17932200">
                  <a:off x="7539840" y="5234760"/>
                  <a:ext cx="81360" cy="71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rot="17932200">
                  <a:off x="7560720" y="5259960"/>
                  <a:ext cx="66600" cy="58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rot="17155800">
                  <a:off x="7602840" y="5186520"/>
                  <a:ext cx="9468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 rot="17155800">
                  <a:off x="7599960" y="514908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 rot="17155800">
                  <a:off x="7593840" y="512424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rot="17155800">
                  <a:off x="7584840" y="5097240"/>
                  <a:ext cx="113040" cy="58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 rot="17155800">
                  <a:off x="7576560" y="5067720"/>
                  <a:ext cx="113040" cy="59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 rot="17155800">
                  <a:off x="7572960" y="504072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rot="17155800">
                  <a:off x="7564680" y="501228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rot="17155800">
                  <a:off x="7556040" y="498276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rot="17155800">
                  <a:off x="7547760" y="4950720"/>
                  <a:ext cx="1101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rot="17155800">
                  <a:off x="7534440" y="4918680"/>
                  <a:ext cx="10296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 rot="17155800">
                  <a:off x="7526880" y="4887360"/>
                  <a:ext cx="102240" cy="53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rot="17155800">
                  <a:off x="7523280" y="4859280"/>
                  <a:ext cx="97560" cy="50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rot="17155800">
                  <a:off x="7513200" y="4825440"/>
                  <a:ext cx="97560" cy="50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rot="17155800">
                  <a:off x="7503840" y="4808520"/>
                  <a:ext cx="86760" cy="45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 rot="17155800">
                  <a:off x="7496640" y="4783320"/>
                  <a:ext cx="85320" cy="44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 rot="17155800">
                  <a:off x="7485840" y="4756680"/>
                  <a:ext cx="75240" cy="38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 rot="17764800">
                  <a:off x="7494840" y="4738320"/>
                  <a:ext cx="44640" cy="66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 rot="17764800">
                  <a:off x="7481880" y="4721760"/>
                  <a:ext cx="37800" cy="56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rot="17764800">
                  <a:off x="7471800" y="4704120"/>
                  <a:ext cx="345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rot="17764800">
                  <a:off x="7450200" y="4687920"/>
                  <a:ext cx="30960" cy="50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rot="17764800">
                  <a:off x="7432560" y="4673160"/>
                  <a:ext cx="2880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 rot="17764800">
                  <a:off x="7415640" y="4652640"/>
                  <a:ext cx="2844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rot="17764800">
                  <a:off x="7401960" y="4643280"/>
                  <a:ext cx="20880" cy="32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rot="17764800">
                  <a:off x="7390800" y="463464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 rot="17764800">
                  <a:off x="7379640" y="4631400"/>
                  <a:ext cx="10800" cy="1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rot="17155800">
                  <a:off x="7613640" y="5211720"/>
                  <a:ext cx="79920" cy="42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rot="17155800">
                  <a:off x="7627320" y="5237640"/>
                  <a:ext cx="65880" cy="34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H="1" rot="20645400">
                  <a:off x="7481880" y="4573080"/>
                  <a:ext cx="92520" cy="925920"/>
                </a:xfrm>
                <a:custGeom>
                  <a:avLst/>
                  <a:gdLst/>
                  <a:ahLst/>
                  <a:rect l="l" t="t" r="r" b="b"/>
                  <a:pathLst>
                    <a:path w="375" h="3493">
                      <a:moveTo>
                        <a:pt x="99" y="3420"/>
                      </a:moveTo>
                      <a:cubicBezTo>
                        <a:pt x="107" y="3347"/>
                        <a:pt x="75" y="2935"/>
                        <a:pt x="67" y="2658"/>
                      </a:cubicBezTo>
                      <a:cubicBezTo>
                        <a:pt x="59" y="2381"/>
                        <a:pt x="52" y="2068"/>
                        <a:pt x="51" y="1757"/>
                      </a:cubicBezTo>
                      <a:cubicBezTo>
                        <a:pt x="50" y="1446"/>
                        <a:pt x="9" y="1072"/>
                        <a:pt x="59" y="792"/>
                      </a:cubicBezTo>
                      <a:cubicBezTo>
                        <a:pt x="109" y="512"/>
                        <a:pt x="327" y="156"/>
                        <a:pt x="351" y="78"/>
                      </a:cubicBezTo>
                      <a:cubicBezTo>
                        <a:pt x="375" y="0"/>
                        <a:pt x="252" y="225"/>
                        <a:pt x="205" y="321"/>
                      </a:cubicBezTo>
                      <a:cubicBezTo>
                        <a:pt x="158" y="417"/>
                        <a:pt x="100" y="557"/>
                        <a:pt x="67" y="654"/>
                      </a:cubicBezTo>
                      <a:cubicBezTo>
                        <a:pt x="34" y="751"/>
                        <a:pt x="20" y="786"/>
                        <a:pt x="10" y="905"/>
                      </a:cubicBezTo>
                      <a:cubicBezTo>
                        <a:pt x="0" y="1024"/>
                        <a:pt x="9" y="1154"/>
                        <a:pt x="10" y="1368"/>
                      </a:cubicBezTo>
                      <a:cubicBezTo>
                        <a:pt x="11" y="1582"/>
                        <a:pt x="19" y="1965"/>
                        <a:pt x="18" y="2187"/>
                      </a:cubicBezTo>
                      <a:cubicBezTo>
                        <a:pt x="17" y="2409"/>
                        <a:pt x="2" y="2547"/>
                        <a:pt x="2" y="2698"/>
                      </a:cubicBezTo>
                      <a:cubicBezTo>
                        <a:pt x="2" y="2849"/>
                        <a:pt x="7" y="2976"/>
                        <a:pt x="18" y="3096"/>
                      </a:cubicBezTo>
                      <a:cubicBezTo>
                        <a:pt x="29" y="3216"/>
                        <a:pt x="91" y="3493"/>
                        <a:pt x="99" y="342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00"/>
                    </a:gs>
                    <a:gs pos="100000">
                      <a:srgbClr val="99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3" name=""/>
              <p:cNvSpPr/>
              <p:nvPr/>
            </p:nvSpPr>
            <p:spPr>
              <a:xfrm rot="3498000">
                <a:off x="7688520" y="5713920"/>
                <a:ext cx="1080" cy="18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3607200">
                <a:off x="7706880" y="5719320"/>
                <a:ext cx="1440" cy="18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 rot="18982800">
                <a:off x="7650000" y="5384160"/>
                <a:ext cx="1440" cy="2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 rot="19599600">
                <a:off x="7641720" y="5400000"/>
                <a:ext cx="1440" cy="19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flipH="1" rot="17992800">
                <a:off x="7655040" y="5717160"/>
                <a:ext cx="1440" cy="18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5334120" y="2867040"/>
              <a:ext cx="892080" cy="3349440"/>
              <a:chOff x="5334120" y="2867040"/>
              <a:chExt cx="892080" cy="3349440"/>
            </a:xfrm>
          </p:grpSpPr>
          <p:sp>
            <p:nvSpPr>
              <p:cNvPr id="1969" name=""/>
              <p:cNvSpPr/>
              <p:nvPr/>
            </p:nvSpPr>
            <p:spPr>
              <a:xfrm>
                <a:off x="5754600" y="2867040"/>
                <a:ext cx="60120" cy="3349440"/>
              </a:xfrm>
              <a:custGeom>
                <a:avLst/>
                <a:gdLst/>
                <a:ahLst/>
                <a:rect l="l" t="t" r="r" b="b"/>
                <a:pathLst>
                  <a:path w="58" h="2458">
                    <a:moveTo>
                      <a:pt x="1" y="2307"/>
                    </a:moveTo>
                    <a:cubicBezTo>
                      <a:pt x="0" y="2156"/>
                      <a:pt x="20" y="1596"/>
                      <a:pt x="25" y="1375"/>
                    </a:cubicBezTo>
                    <a:cubicBezTo>
                      <a:pt x="30" y="1154"/>
                      <a:pt x="30" y="1194"/>
                      <a:pt x="33" y="983"/>
                    </a:cubicBezTo>
                    <a:cubicBezTo>
                      <a:pt x="36" y="772"/>
                      <a:pt x="41" y="214"/>
                      <a:pt x="45" y="107"/>
                    </a:cubicBezTo>
                    <a:cubicBezTo>
                      <a:pt x="49" y="0"/>
                      <a:pt x="56" y="153"/>
                      <a:pt x="57" y="339"/>
                    </a:cubicBezTo>
                    <a:cubicBezTo>
                      <a:pt x="58" y="525"/>
                      <a:pt x="53" y="909"/>
                      <a:pt x="49" y="1223"/>
                    </a:cubicBezTo>
                    <a:cubicBezTo>
                      <a:pt x="45" y="1537"/>
                      <a:pt x="36" y="2046"/>
                      <a:pt x="33" y="2223"/>
                    </a:cubicBezTo>
                    <a:cubicBezTo>
                      <a:pt x="30" y="2400"/>
                      <a:pt x="33" y="2270"/>
                      <a:pt x="29" y="2283"/>
                    </a:cubicBezTo>
                    <a:cubicBezTo>
                      <a:pt x="25" y="2296"/>
                      <a:pt x="2" y="2458"/>
                      <a:pt x="1" y="2307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334120" y="2923920"/>
                <a:ext cx="892080" cy="1452600"/>
              </a:xfrm>
              <a:custGeom>
                <a:avLst/>
                <a:gdLst/>
                <a:ahLst/>
                <a:rect l="l" t="t" r="r" b="b"/>
                <a:pathLst>
                  <a:path w="857" h="1066">
                    <a:moveTo>
                      <a:pt x="417" y="1033"/>
                    </a:moveTo>
                    <a:cubicBezTo>
                      <a:pt x="394" y="1031"/>
                      <a:pt x="395" y="1018"/>
                      <a:pt x="369" y="1021"/>
                    </a:cubicBezTo>
                    <a:cubicBezTo>
                      <a:pt x="343" y="1024"/>
                      <a:pt x="298" y="1043"/>
                      <a:pt x="261" y="1049"/>
                    </a:cubicBezTo>
                    <a:cubicBezTo>
                      <a:pt x="224" y="1055"/>
                      <a:pt x="179" y="1066"/>
                      <a:pt x="145" y="1057"/>
                    </a:cubicBezTo>
                    <a:cubicBezTo>
                      <a:pt x="111" y="1048"/>
                      <a:pt x="69" y="1016"/>
                      <a:pt x="57" y="993"/>
                    </a:cubicBezTo>
                    <a:cubicBezTo>
                      <a:pt x="45" y="970"/>
                      <a:pt x="60" y="935"/>
                      <a:pt x="73" y="917"/>
                    </a:cubicBezTo>
                    <a:cubicBezTo>
                      <a:pt x="86" y="899"/>
                      <a:pt x="122" y="894"/>
                      <a:pt x="137" y="885"/>
                    </a:cubicBezTo>
                    <a:cubicBezTo>
                      <a:pt x="152" y="876"/>
                      <a:pt x="165" y="870"/>
                      <a:pt x="161" y="865"/>
                    </a:cubicBezTo>
                    <a:cubicBezTo>
                      <a:pt x="157" y="860"/>
                      <a:pt x="134" y="864"/>
                      <a:pt x="113" y="857"/>
                    </a:cubicBezTo>
                    <a:cubicBezTo>
                      <a:pt x="92" y="850"/>
                      <a:pt x="51" y="846"/>
                      <a:pt x="33" y="821"/>
                    </a:cubicBezTo>
                    <a:cubicBezTo>
                      <a:pt x="15" y="796"/>
                      <a:pt x="0" y="730"/>
                      <a:pt x="5" y="705"/>
                    </a:cubicBezTo>
                    <a:cubicBezTo>
                      <a:pt x="10" y="680"/>
                      <a:pt x="46" y="670"/>
                      <a:pt x="65" y="669"/>
                    </a:cubicBezTo>
                    <a:cubicBezTo>
                      <a:pt x="84" y="668"/>
                      <a:pt x="110" y="705"/>
                      <a:pt x="121" y="701"/>
                    </a:cubicBezTo>
                    <a:cubicBezTo>
                      <a:pt x="132" y="697"/>
                      <a:pt x="147" y="661"/>
                      <a:pt x="133" y="645"/>
                    </a:cubicBezTo>
                    <a:cubicBezTo>
                      <a:pt x="119" y="629"/>
                      <a:pt x="54" y="636"/>
                      <a:pt x="37" y="605"/>
                    </a:cubicBezTo>
                    <a:cubicBezTo>
                      <a:pt x="20" y="574"/>
                      <a:pt x="20" y="496"/>
                      <a:pt x="29" y="461"/>
                    </a:cubicBezTo>
                    <a:cubicBezTo>
                      <a:pt x="38" y="426"/>
                      <a:pt x="73" y="400"/>
                      <a:pt x="93" y="397"/>
                    </a:cubicBezTo>
                    <a:cubicBezTo>
                      <a:pt x="113" y="394"/>
                      <a:pt x="133" y="433"/>
                      <a:pt x="149" y="441"/>
                    </a:cubicBezTo>
                    <a:cubicBezTo>
                      <a:pt x="165" y="449"/>
                      <a:pt x="186" y="456"/>
                      <a:pt x="189" y="445"/>
                    </a:cubicBezTo>
                    <a:cubicBezTo>
                      <a:pt x="192" y="434"/>
                      <a:pt x="177" y="402"/>
                      <a:pt x="169" y="377"/>
                    </a:cubicBezTo>
                    <a:cubicBezTo>
                      <a:pt x="161" y="352"/>
                      <a:pt x="138" y="324"/>
                      <a:pt x="141" y="297"/>
                    </a:cubicBezTo>
                    <a:cubicBezTo>
                      <a:pt x="144" y="270"/>
                      <a:pt x="160" y="236"/>
                      <a:pt x="185" y="217"/>
                    </a:cubicBezTo>
                    <a:cubicBezTo>
                      <a:pt x="210" y="198"/>
                      <a:pt x="264" y="206"/>
                      <a:pt x="293" y="185"/>
                    </a:cubicBezTo>
                    <a:cubicBezTo>
                      <a:pt x="322" y="164"/>
                      <a:pt x="339" y="118"/>
                      <a:pt x="361" y="93"/>
                    </a:cubicBezTo>
                    <a:cubicBezTo>
                      <a:pt x="383" y="68"/>
                      <a:pt x="402" y="46"/>
                      <a:pt x="425" y="33"/>
                    </a:cubicBezTo>
                    <a:cubicBezTo>
                      <a:pt x="448" y="20"/>
                      <a:pt x="478" y="0"/>
                      <a:pt x="501" y="13"/>
                    </a:cubicBezTo>
                    <a:cubicBezTo>
                      <a:pt x="524" y="26"/>
                      <a:pt x="544" y="81"/>
                      <a:pt x="561" y="109"/>
                    </a:cubicBezTo>
                    <a:cubicBezTo>
                      <a:pt x="578" y="137"/>
                      <a:pt x="578" y="166"/>
                      <a:pt x="601" y="181"/>
                    </a:cubicBezTo>
                    <a:cubicBezTo>
                      <a:pt x="624" y="196"/>
                      <a:pt x="671" y="185"/>
                      <a:pt x="697" y="201"/>
                    </a:cubicBezTo>
                    <a:cubicBezTo>
                      <a:pt x="723" y="217"/>
                      <a:pt x="759" y="246"/>
                      <a:pt x="761" y="277"/>
                    </a:cubicBezTo>
                    <a:cubicBezTo>
                      <a:pt x="763" y="308"/>
                      <a:pt x="698" y="360"/>
                      <a:pt x="709" y="385"/>
                    </a:cubicBezTo>
                    <a:cubicBezTo>
                      <a:pt x="720" y="410"/>
                      <a:pt x="802" y="402"/>
                      <a:pt x="825" y="429"/>
                    </a:cubicBezTo>
                    <a:cubicBezTo>
                      <a:pt x="848" y="456"/>
                      <a:pt x="854" y="517"/>
                      <a:pt x="849" y="549"/>
                    </a:cubicBezTo>
                    <a:cubicBezTo>
                      <a:pt x="844" y="581"/>
                      <a:pt x="796" y="599"/>
                      <a:pt x="797" y="621"/>
                    </a:cubicBezTo>
                    <a:cubicBezTo>
                      <a:pt x="798" y="643"/>
                      <a:pt x="849" y="654"/>
                      <a:pt x="853" y="681"/>
                    </a:cubicBezTo>
                    <a:cubicBezTo>
                      <a:pt x="857" y="708"/>
                      <a:pt x="841" y="758"/>
                      <a:pt x="821" y="781"/>
                    </a:cubicBezTo>
                    <a:cubicBezTo>
                      <a:pt x="801" y="804"/>
                      <a:pt x="740" y="803"/>
                      <a:pt x="733" y="821"/>
                    </a:cubicBezTo>
                    <a:cubicBezTo>
                      <a:pt x="726" y="839"/>
                      <a:pt x="766" y="868"/>
                      <a:pt x="781" y="893"/>
                    </a:cubicBezTo>
                    <a:cubicBezTo>
                      <a:pt x="796" y="918"/>
                      <a:pt x="831" y="950"/>
                      <a:pt x="821" y="969"/>
                    </a:cubicBezTo>
                    <a:cubicBezTo>
                      <a:pt x="811" y="988"/>
                      <a:pt x="757" y="1004"/>
                      <a:pt x="721" y="1009"/>
                    </a:cubicBezTo>
                    <a:cubicBezTo>
                      <a:pt x="685" y="1014"/>
                      <a:pt x="640" y="993"/>
                      <a:pt x="605" y="997"/>
                    </a:cubicBezTo>
                    <a:cubicBezTo>
                      <a:pt x="570" y="1001"/>
                      <a:pt x="540" y="1026"/>
                      <a:pt x="509" y="1033"/>
                    </a:cubicBezTo>
                    <a:cubicBezTo>
                      <a:pt x="478" y="1040"/>
                      <a:pt x="440" y="1035"/>
                      <a:pt x="417" y="103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197f1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1" name=""/>
            <p:cNvGrpSpPr/>
            <p:nvPr/>
          </p:nvGrpSpPr>
          <p:grpSpPr>
            <a:xfrm>
              <a:off x="2045160" y="4777200"/>
              <a:ext cx="567360" cy="1284120"/>
              <a:chOff x="2045160" y="4777200"/>
              <a:chExt cx="567360" cy="1284120"/>
            </a:xfrm>
          </p:grpSpPr>
          <p:sp>
            <p:nvSpPr>
              <p:cNvPr id="1972" name=""/>
              <p:cNvSpPr/>
              <p:nvPr/>
            </p:nvSpPr>
            <p:spPr>
              <a:xfrm rot="21435000">
                <a:off x="2294640" y="4848120"/>
                <a:ext cx="59760" cy="1212480"/>
              </a:xfrm>
              <a:custGeom>
                <a:avLst/>
                <a:gdLst/>
                <a:ahLst/>
                <a:rect l="l" t="t" r="r" b="b"/>
                <a:pathLst>
                  <a:path w="63" h="960">
                    <a:moveTo>
                      <a:pt x="3" y="960"/>
                    </a:moveTo>
                    <a:cubicBezTo>
                      <a:pt x="1" y="911"/>
                      <a:pt x="0" y="862"/>
                      <a:pt x="9" y="798"/>
                    </a:cubicBezTo>
                    <a:cubicBezTo>
                      <a:pt x="18" y="734"/>
                      <a:pt x="51" y="644"/>
                      <a:pt x="57" y="576"/>
                    </a:cubicBezTo>
                    <a:cubicBezTo>
                      <a:pt x="63" y="508"/>
                      <a:pt x="44" y="455"/>
                      <a:pt x="45" y="390"/>
                    </a:cubicBezTo>
                    <a:cubicBezTo>
                      <a:pt x="46" y="325"/>
                      <a:pt x="63" y="251"/>
                      <a:pt x="63" y="186"/>
                    </a:cubicBezTo>
                    <a:cubicBezTo>
                      <a:pt x="63" y="121"/>
                      <a:pt x="54" y="60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250800">
                <a:off x="2415240" y="4812480"/>
                <a:ext cx="1332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rot="250800">
                <a:off x="2435400" y="4802760"/>
                <a:ext cx="1332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20939400">
                <a:off x="2456640" y="4798440"/>
                <a:ext cx="1188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20939400">
                <a:off x="2476440" y="4793400"/>
                <a:ext cx="118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rot="20939400">
                <a:off x="2494800" y="4789800"/>
                <a:ext cx="1044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rot="20939400">
                <a:off x="2512800" y="478944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rot="20939400">
                <a:off x="2531520" y="479124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rot="21327600">
                <a:off x="2548440" y="479448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250800">
                <a:off x="2394360" y="4782600"/>
                <a:ext cx="15588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21435000">
                <a:off x="2334600" y="4813200"/>
                <a:ext cx="74880" cy="19296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0" y="153"/>
                    </a:moveTo>
                    <a:cubicBezTo>
                      <a:pt x="12" y="139"/>
                      <a:pt x="24" y="126"/>
                      <a:pt x="33" y="108"/>
                    </a:cubicBezTo>
                    <a:cubicBezTo>
                      <a:pt x="42" y="90"/>
                      <a:pt x="47" y="60"/>
                      <a:pt x="54" y="42"/>
                    </a:cubicBezTo>
                    <a:cubicBezTo>
                      <a:pt x="61" y="24"/>
                      <a:pt x="69" y="12"/>
                      <a:pt x="7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21435000">
                <a:off x="2341440" y="5202720"/>
                <a:ext cx="140760" cy="261000"/>
              </a:xfrm>
              <a:custGeom>
                <a:avLst/>
                <a:gdLst/>
                <a:ahLst/>
                <a:rect l="l" t="t" r="r" b="b"/>
                <a:pathLst>
                  <a:path w="147" h="207">
                    <a:moveTo>
                      <a:pt x="0" y="207"/>
                    </a:moveTo>
                    <a:cubicBezTo>
                      <a:pt x="17" y="188"/>
                      <a:pt x="35" y="169"/>
                      <a:pt x="54" y="147"/>
                    </a:cubicBezTo>
                    <a:cubicBezTo>
                      <a:pt x="73" y="125"/>
                      <a:pt x="99" y="96"/>
                      <a:pt x="114" y="72"/>
                    </a:cubicBezTo>
                    <a:cubicBezTo>
                      <a:pt x="129" y="48"/>
                      <a:pt x="138" y="24"/>
                      <a:pt x="1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21435000">
                <a:off x="2232360" y="5073840"/>
                <a:ext cx="94320" cy="208440"/>
              </a:xfrm>
              <a:custGeom>
                <a:avLst/>
                <a:gdLst/>
                <a:ahLst/>
                <a:rect l="l" t="t" r="r" b="b"/>
                <a:pathLst>
                  <a:path w="99" h="165">
                    <a:moveTo>
                      <a:pt x="99" y="165"/>
                    </a:moveTo>
                    <a:cubicBezTo>
                      <a:pt x="88" y="151"/>
                      <a:pt x="77" y="137"/>
                      <a:pt x="66" y="123"/>
                    </a:cubicBezTo>
                    <a:cubicBezTo>
                      <a:pt x="55" y="109"/>
                      <a:pt x="44" y="98"/>
                      <a:pt x="33" y="78"/>
                    </a:cubicBezTo>
                    <a:cubicBezTo>
                      <a:pt x="22" y="58"/>
                      <a:pt x="11" y="2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21435000">
                <a:off x="2175120" y="5067720"/>
                <a:ext cx="74880" cy="7920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63"/>
                    </a:moveTo>
                    <a:cubicBezTo>
                      <a:pt x="59" y="54"/>
                      <a:pt x="40" y="46"/>
                      <a:pt x="27" y="36"/>
                    </a:cubicBezTo>
                    <a:cubicBezTo>
                      <a:pt x="14" y="26"/>
                      <a:pt x="7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21435000">
                <a:off x="2330280" y="5699160"/>
                <a:ext cx="31320" cy="493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0" y="36"/>
                    </a:moveTo>
                    <a:cubicBezTo>
                      <a:pt x="11" y="37"/>
                      <a:pt x="22" y="39"/>
                      <a:pt x="27" y="33"/>
                    </a:cubicBezTo>
                    <a:cubicBezTo>
                      <a:pt x="32" y="27"/>
                      <a:pt x="32" y="5"/>
                      <a:pt x="3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21435000">
                <a:off x="2326320" y="5552640"/>
                <a:ext cx="18360" cy="7200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20" y="57"/>
                    </a:moveTo>
                    <a:cubicBezTo>
                      <a:pt x="12" y="51"/>
                      <a:pt x="4" y="45"/>
                      <a:pt x="2" y="36"/>
                    </a:cubicBezTo>
                    <a:cubicBezTo>
                      <a:pt x="0" y="27"/>
                      <a:pt x="2" y="13"/>
                      <a:pt x="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21435000">
                <a:off x="2402280" y="5308200"/>
                <a:ext cx="2880" cy="61200"/>
              </a:xfrm>
              <a:custGeom>
                <a:avLst/>
                <a:gdLst/>
                <a:ahLst/>
                <a:rect l="l" t="t" r="r" b="b"/>
                <a:pathLst>
                  <a:path w="3" h="48">
                    <a:moveTo>
                      <a:pt x="0" y="48"/>
                    </a:moveTo>
                    <a:cubicBezTo>
                      <a:pt x="0" y="48"/>
                      <a:pt x="1" y="24"/>
                      <a:pt x="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rot="973200">
                <a:off x="2406600" y="4872960"/>
                <a:ext cx="1332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rot="973200">
                <a:off x="2429280" y="486792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rot="61800">
                <a:off x="2469240" y="4871160"/>
                <a:ext cx="118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rot="61800">
                <a:off x="2507040" y="487584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61800">
                <a:off x="2525040" y="4884840"/>
                <a:ext cx="900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450000">
                <a:off x="2540880" y="489168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973200">
                <a:off x="2388600" y="485820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 rot="20297400">
                <a:off x="2357280" y="483480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H="1" rot="20297400">
                <a:off x="2335320" y="483192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 rot="21208800">
                <a:off x="2315160" y="483660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 rot="21208800">
                <a:off x="2295000" y="484020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 rot="21208800">
                <a:off x="2277720" y="4844160"/>
                <a:ext cx="1044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 rot="21208800">
                <a:off x="2260440" y="4850280"/>
                <a:ext cx="97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 rot="21208800">
                <a:off x="2243160" y="486000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 rot="20820600">
                <a:off x="2229480" y="4868640"/>
                <a:ext cx="90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H="1" rot="20297400">
                <a:off x="2231640" y="4826160"/>
                <a:ext cx="15552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 rot="19884600">
                <a:off x="2292480" y="491940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H="1" rot="19884600">
                <a:off x="2269800" y="4921560"/>
                <a:ext cx="13320" cy="47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 rot="20796000">
                <a:off x="2249640" y="492732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H="1" rot="20796000">
                <a:off x="2212560" y="4941000"/>
                <a:ext cx="1044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rot="20796000">
                <a:off x="2197800" y="4951080"/>
                <a:ext cx="90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 rot="20796000">
                <a:off x="2180160" y="4964040"/>
                <a:ext cx="792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 rot="20407800">
                <a:off x="2166120" y="497448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 rot="19884600">
                <a:off x="2165760" y="4919400"/>
                <a:ext cx="15552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1800600">
                <a:off x="2340360" y="489168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rot="889200">
                <a:off x="2375640" y="489672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rot="889200">
                <a:off x="2412000" y="4909680"/>
                <a:ext cx="792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rot="889200">
                <a:off x="2427120" y="491508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889200">
                <a:off x="2440800" y="4928400"/>
                <a:ext cx="72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277400">
                <a:off x="2451600" y="4938120"/>
                <a:ext cx="72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1800600">
                <a:off x="2327040" y="488952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rot="1800600">
                <a:off x="2244240" y="5073840"/>
                <a:ext cx="1188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1800600">
                <a:off x="2263320" y="507276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889200">
                <a:off x="2280600" y="507888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889200">
                <a:off x="2299320" y="508536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889200">
                <a:off x="2315880" y="5091840"/>
                <a:ext cx="828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889200">
                <a:off x="2331000" y="509760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889200">
                <a:off x="2344680" y="511056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1277400">
                <a:off x="2356200" y="511992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1800600">
                <a:off x="2231640" y="5070960"/>
                <a:ext cx="13248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rot="19470000">
                <a:off x="2215800" y="5106240"/>
                <a:ext cx="11880" cy="49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H="1" rot="19470000">
                <a:off x="2197440" y="510984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 rot="20381400">
                <a:off x="2164320" y="5124240"/>
                <a:ext cx="10080" cy="43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H="1" rot="20381400">
                <a:off x="2149920" y="5132520"/>
                <a:ext cx="9000" cy="37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rot="20381400">
                <a:off x="2136240" y="5141880"/>
                <a:ext cx="7560" cy="33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H="1" rot="20381400">
                <a:off x="2122200" y="515628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H="1" rot="19993200">
                <a:off x="2111400" y="516708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 rot="19470000">
                <a:off x="2108160" y="5110560"/>
                <a:ext cx="13320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H="1" rot="19470000">
                <a:off x="2156040" y="5081760"/>
                <a:ext cx="1116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H="1" rot="19470000">
                <a:off x="2137320" y="508392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H="1" rot="20381400">
                <a:off x="2121840" y="5091480"/>
                <a:ext cx="1008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H="1" rot="20381400">
                <a:off x="2103840" y="509976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 rot="20381400">
                <a:off x="2089800" y="5106240"/>
                <a:ext cx="828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H="1" rot="20381400">
                <a:off x="2076480" y="511632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H="1" rot="20381400">
                <a:off x="2062440" y="513000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 rot="19993200">
                <a:off x="2052720" y="514188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H="1" rot="19470000">
                <a:off x="2049120" y="508572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 rot="19470000">
                <a:off x="2451600" y="5209560"/>
                <a:ext cx="1188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H="1" rot="19470000">
                <a:off x="2432520" y="521172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H="1" rot="20381400">
                <a:off x="2399400" y="5226480"/>
                <a:ext cx="10440" cy="43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 rot="20381400">
                <a:off x="2372040" y="524412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H="1" rot="20381400">
                <a:off x="2357640" y="5258160"/>
                <a:ext cx="792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H="1" rot="19993200">
                <a:off x="2347920" y="5269680"/>
                <a:ext cx="8280" cy="29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 rot="19470000">
                <a:off x="2343600" y="5212440"/>
                <a:ext cx="13320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rot="1800600">
                <a:off x="2486880" y="5223600"/>
                <a:ext cx="1188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rot="1800600">
                <a:off x="2505240" y="522144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rot="889200">
                <a:off x="2522520" y="522828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rot="889200">
                <a:off x="2558160" y="5241240"/>
                <a:ext cx="792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rot="889200">
                <a:off x="2572920" y="524736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rot="1277400">
                <a:off x="2597760" y="5270040"/>
                <a:ext cx="82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rot="1800600">
                <a:off x="2473920" y="5220720"/>
                <a:ext cx="13248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H="1" rot="20511000">
                <a:off x="2376720" y="531144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H="1" rot="21422400">
                <a:off x="2344320" y="530748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H="1" rot="21422400">
                <a:off x="2328840" y="530820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H="1" rot="21422400">
                <a:off x="2314080" y="531072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 rot="21422400">
                <a:off x="2302200" y="5314320"/>
                <a:ext cx="64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 rot="21422400">
                <a:off x="2288880" y="53215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H="1" rot="21034800">
                <a:off x="2277360" y="532584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rot="20511000">
                <a:off x="2279880" y="5297400"/>
                <a:ext cx="118440" cy="514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rot="20511000">
                <a:off x="2301480" y="5562000"/>
                <a:ext cx="100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rot="20511000">
                <a:off x="2284920" y="5558040"/>
                <a:ext cx="1008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H="1" rot="21422400">
                <a:off x="2252160" y="5558760"/>
                <a:ext cx="972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rot="21422400">
                <a:off x="2226600" y="556416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H="1" rot="21422400">
                <a:off x="2212920" y="55720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rot="21034800">
                <a:off x="2201760" y="557640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H="1" rot="20511000">
                <a:off x="2204640" y="5547600"/>
                <a:ext cx="118080" cy="511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H="1" rot="20511000">
                <a:off x="2332440" y="5696640"/>
                <a:ext cx="1044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H="1" rot="20511000">
                <a:off x="2316240" y="5692680"/>
                <a:ext cx="1044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H="1" rot="21422400">
                <a:off x="2301120" y="569232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rot="21422400">
                <a:off x="2257920" y="5699520"/>
                <a:ext cx="64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 rot="21422400">
                <a:off x="2244600" y="57074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rot="20511000">
                <a:off x="2236680" y="5682600"/>
                <a:ext cx="11844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rot="21448800">
                <a:off x="2409480" y="5703480"/>
                <a:ext cx="936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rot="21448800">
                <a:off x="2424600" y="570168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rot="21448800">
                <a:off x="2453760" y="5704200"/>
                <a:ext cx="64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21448800">
                <a:off x="2468520" y="570924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rot="236400">
                <a:off x="2480040" y="57142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759600">
                <a:off x="2364120" y="5692680"/>
                <a:ext cx="11808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759600">
                <a:off x="2343960" y="5577480"/>
                <a:ext cx="1008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759600">
                <a:off x="2360160" y="5571720"/>
                <a:ext cx="1008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rot="21448800">
                <a:off x="2391840" y="55677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21448800">
                <a:off x="2406600" y="556848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rot="21448800">
                <a:off x="2435040" y="55756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236400">
                <a:off x="2447280" y="55807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rot="759600">
                <a:off x="2330280" y="5559120"/>
                <a:ext cx="11844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rot="759600">
                <a:off x="2419920" y="532800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759600">
                <a:off x="2436480" y="532116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21448800">
                <a:off x="2451960" y="5319360"/>
                <a:ext cx="9360" cy="43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rot="21448800">
                <a:off x="2468160" y="531756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21448800">
                <a:off x="2483280" y="531900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21448800">
                <a:off x="2496240" y="5320080"/>
                <a:ext cx="64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21448800">
                <a:off x="2512080" y="53251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236400">
                <a:off x="2523600" y="53301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759600">
                <a:off x="2406600" y="5308560"/>
                <a:ext cx="11844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3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1600200" y="6323040"/>
            <a:ext cx="111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5" name=""/>
          <p:cNvGrpSpPr/>
          <p:nvPr/>
        </p:nvGrpSpPr>
        <p:grpSpPr>
          <a:xfrm>
            <a:off x="3755880" y="4779000"/>
            <a:ext cx="1111320" cy="1910160"/>
            <a:chOff x="3755880" y="4779000"/>
            <a:chExt cx="1111320" cy="1910160"/>
          </a:xfrm>
        </p:grpSpPr>
        <p:grpSp>
          <p:nvGrpSpPr>
            <p:cNvPr id="2106" name=""/>
            <p:cNvGrpSpPr/>
            <p:nvPr/>
          </p:nvGrpSpPr>
          <p:grpSpPr>
            <a:xfrm>
              <a:off x="4011840" y="4779000"/>
              <a:ext cx="565920" cy="1284120"/>
              <a:chOff x="4011840" y="4779000"/>
              <a:chExt cx="565920" cy="1284120"/>
            </a:xfrm>
          </p:grpSpPr>
          <p:sp>
            <p:nvSpPr>
              <p:cNvPr id="2107" name=""/>
              <p:cNvSpPr/>
              <p:nvPr/>
            </p:nvSpPr>
            <p:spPr>
              <a:xfrm rot="21435000">
                <a:off x="4260960" y="4849920"/>
                <a:ext cx="59760" cy="1212480"/>
              </a:xfrm>
              <a:custGeom>
                <a:avLst/>
                <a:gdLst/>
                <a:ahLst/>
                <a:rect l="l" t="t" r="r" b="b"/>
                <a:pathLst>
                  <a:path w="63" h="960">
                    <a:moveTo>
                      <a:pt x="3" y="960"/>
                    </a:moveTo>
                    <a:cubicBezTo>
                      <a:pt x="1" y="911"/>
                      <a:pt x="0" y="862"/>
                      <a:pt x="9" y="798"/>
                    </a:cubicBezTo>
                    <a:cubicBezTo>
                      <a:pt x="18" y="734"/>
                      <a:pt x="51" y="644"/>
                      <a:pt x="57" y="576"/>
                    </a:cubicBezTo>
                    <a:cubicBezTo>
                      <a:pt x="63" y="508"/>
                      <a:pt x="44" y="455"/>
                      <a:pt x="45" y="390"/>
                    </a:cubicBezTo>
                    <a:cubicBezTo>
                      <a:pt x="46" y="325"/>
                      <a:pt x="63" y="251"/>
                      <a:pt x="63" y="186"/>
                    </a:cubicBezTo>
                    <a:cubicBezTo>
                      <a:pt x="63" y="121"/>
                      <a:pt x="54" y="60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250800">
                <a:off x="4381200" y="4814280"/>
                <a:ext cx="1332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250800">
                <a:off x="4401000" y="4804560"/>
                <a:ext cx="1332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rot="20939400">
                <a:off x="4422240" y="4800240"/>
                <a:ext cx="1188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20939400">
                <a:off x="4442040" y="4795200"/>
                <a:ext cx="118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20939400">
                <a:off x="4460400" y="4791600"/>
                <a:ext cx="1044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rot="20939400">
                <a:off x="4478400" y="479124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rot="20939400">
                <a:off x="4497120" y="4793040"/>
                <a:ext cx="864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rot="21327600">
                <a:off x="4513680" y="4796280"/>
                <a:ext cx="864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250800">
                <a:off x="4360320" y="4784400"/>
                <a:ext cx="15552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rot="21435000">
                <a:off x="4300560" y="4815000"/>
                <a:ext cx="74520" cy="19296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0" y="153"/>
                    </a:moveTo>
                    <a:cubicBezTo>
                      <a:pt x="12" y="139"/>
                      <a:pt x="24" y="126"/>
                      <a:pt x="33" y="108"/>
                    </a:cubicBezTo>
                    <a:cubicBezTo>
                      <a:pt x="42" y="90"/>
                      <a:pt x="47" y="60"/>
                      <a:pt x="54" y="42"/>
                    </a:cubicBezTo>
                    <a:cubicBezTo>
                      <a:pt x="61" y="24"/>
                      <a:pt x="69" y="12"/>
                      <a:pt x="7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rot="21435000">
                <a:off x="4307400" y="5204520"/>
                <a:ext cx="140400" cy="261000"/>
              </a:xfrm>
              <a:custGeom>
                <a:avLst/>
                <a:gdLst/>
                <a:ahLst/>
                <a:rect l="l" t="t" r="r" b="b"/>
                <a:pathLst>
                  <a:path w="147" h="207">
                    <a:moveTo>
                      <a:pt x="0" y="207"/>
                    </a:moveTo>
                    <a:cubicBezTo>
                      <a:pt x="17" y="188"/>
                      <a:pt x="35" y="169"/>
                      <a:pt x="54" y="147"/>
                    </a:cubicBezTo>
                    <a:cubicBezTo>
                      <a:pt x="73" y="125"/>
                      <a:pt x="99" y="96"/>
                      <a:pt x="114" y="72"/>
                    </a:cubicBezTo>
                    <a:cubicBezTo>
                      <a:pt x="129" y="48"/>
                      <a:pt x="138" y="24"/>
                      <a:pt x="1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21435000">
                <a:off x="4199040" y="5075640"/>
                <a:ext cx="93960" cy="208440"/>
              </a:xfrm>
              <a:custGeom>
                <a:avLst/>
                <a:gdLst/>
                <a:ahLst/>
                <a:rect l="l" t="t" r="r" b="b"/>
                <a:pathLst>
                  <a:path w="99" h="165">
                    <a:moveTo>
                      <a:pt x="99" y="165"/>
                    </a:moveTo>
                    <a:cubicBezTo>
                      <a:pt x="88" y="151"/>
                      <a:pt x="77" y="137"/>
                      <a:pt x="66" y="123"/>
                    </a:cubicBezTo>
                    <a:cubicBezTo>
                      <a:pt x="55" y="109"/>
                      <a:pt x="44" y="98"/>
                      <a:pt x="33" y="78"/>
                    </a:cubicBezTo>
                    <a:cubicBezTo>
                      <a:pt x="22" y="58"/>
                      <a:pt x="11" y="2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21435000">
                <a:off x="4141800" y="5069520"/>
                <a:ext cx="74520" cy="7920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63"/>
                    </a:moveTo>
                    <a:cubicBezTo>
                      <a:pt x="59" y="54"/>
                      <a:pt x="40" y="46"/>
                      <a:pt x="27" y="36"/>
                    </a:cubicBezTo>
                    <a:cubicBezTo>
                      <a:pt x="14" y="26"/>
                      <a:pt x="7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rot="21435000">
                <a:off x="4296240" y="5700960"/>
                <a:ext cx="31320" cy="493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0" y="36"/>
                    </a:moveTo>
                    <a:cubicBezTo>
                      <a:pt x="11" y="37"/>
                      <a:pt x="22" y="39"/>
                      <a:pt x="27" y="33"/>
                    </a:cubicBezTo>
                    <a:cubicBezTo>
                      <a:pt x="32" y="27"/>
                      <a:pt x="32" y="5"/>
                      <a:pt x="3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rot="21435000">
                <a:off x="4292280" y="5554440"/>
                <a:ext cx="18360" cy="7200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20" y="57"/>
                    </a:moveTo>
                    <a:cubicBezTo>
                      <a:pt x="12" y="51"/>
                      <a:pt x="4" y="45"/>
                      <a:pt x="2" y="36"/>
                    </a:cubicBezTo>
                    <a:cubicBezTo>
                      <a:pt x="0" y="27"/>
                      <a:pt x="2" y="13"/>
                      <a:pt x="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21435000">
                <a:off x="4368240" y="5310000"/>
                <a:ext cx="2880" cy="61200"/>
              </a:xfrm>
              <a:custGeom>
                <a:avLst/>
                <a:gdLst/>
                <a:ahLst/>
                <a:rect l="l" t="t" r="r" b="b"/>
                <a:pathLst>
                  <a:path w="3" h="48">
                    <a:moveTo>
                      <a:pt x="0" y="48"/>
                    </a:moveTo>
                    <a:cubicBezTo>
                      <a:pt x="0" y="48"/>
                      <a:pt x="1" y="24"/>
                      <a:pt x="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973200">
                <a:off x="4372560" y="4874760"/>
                <a:ext cx="1332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973200">
                <a:off x="4394880" y="486972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61800">
                <a:off x="4434840" y="4872960"/>
                <a:ext cx="118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61800">
                <a:off x="4472640" y="487764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61800">
                <a:off x="4490640" y="4886640"/>
                <a:ext cx="864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450000">
                <a:off x="4506120" y="489348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973200">
                <a:off x="4354560" y="4860000"/>
                <a:ext cx="15516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 rot="20297400">
                <a:off x="4323240" y="483660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 rot="20297400">
                <a:off x="4301640" y="483372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 rot="21208800">
                <a:off x="4281480" y="483840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H="1" rot="21208800">
                <a:off x="4261320" y="484200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 rot="21208800">
                <a:off x="4244040" y="4845960"/>
                <a:ext cx="1044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 rot="21208800">
                <a:off x="4226760" y="4852080"/>
                <a:ext cx="97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 rot="21208800">
                <a:off x="4210200" y="4861800"/>
                <a:ext cx="864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H="1" rot="20820600">
                <a:off x="4196160" y="4870440"/>
                <a:ext cx="864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H="1" rot="20297400">
                <a:off x="4198320" y="4827600"/>
                <a:ext cx="15480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H="1" rot="19884600">
                <a:off x="4258800" y="492120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 rot="19884600">
                <a:off x="4236120" y="4923360"/>
                <a:ext cx="13320" cy="47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 rot="20796000">
                <a:off x="4216320" y="492912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 rot="20796000">
                <a:off x="4179240" y="4942800"/>
                <a:ext cx="1044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H="1" rot="20796000">
                <a:off x="4163400" y="4952880"/>
                <a:ext cx="864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 rot="20796000">
                <a:off x="4146840" y="4965840"/>
                <a:ext cx="792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H="1" rot="20407800">
                <a:off x="4133520" y="4976280"/>
                <a:ext cx="864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 rot="19884600">
                <a:off x="4132800" y="4921200"/>
                <a:ext cx="15480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rot="1800600">
                <a:off x="4306680" y="489348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889200">
                <a:off x="4341600" y="489852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889200">
                <a:off x="4377960" y="4911480"/>
                <a:ext cx="792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889200">
                <a:off x="4392720" y="491688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889200">
                <a:off x="4406760" y="4930200"/>
                <a:ext cx="72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1277400">
                <a:off x="4417560" y="4939920"/>
                <a:ext cx="72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1800600">
                <a:off x="4293000" y="4891680"/>
                <a:ext cx="13248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1800600">
                <a:off x="4210920" y="5075640"/>
                <a:ext cx="1188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1800600">
                <a:off x="4229640" y="507456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889200">
                <a:off x="4246560" y="508068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rot="889200">
                <a:off x="4265640" y="508716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rot="889200">
                <a:off x="4282200" y="5093640"/>
                <a:ext cx="828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889200">
                <a:off x="4297320" y="509940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889200">
                <a:off x="4311000" y="511236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1277400">
                <a:off x="4322160" y="512172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1800600">
                <a:off x="4197960" y="5072400"/>
                <a:ext cx="13212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H="1" rot="19470000">
                <a:off x="4182480" y="5108040"/>
                <a:ext cx="11880" cy="49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 rot="19470000">
                <a:off x="4163760" y="511164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H="1" rot="20381400">
                <a:off x="4131000" y="5126040"/>
                <a:ext cx="10080" cy="43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 rot="20381400">
                <a:off x="4116240" y="5134320"/>
                <a:ext cx="864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H="1" rot="20381400">
                <a:off x="4102920" y="5143680"/>
                <a:ext cx="7560" cy="33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 rot="20381400">
                <a:off x="4089240" y="515808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 rot="19993200">
                <a:off x="4078440" y="516888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H="1" rot="19470000">
                <a:off x="4075560" y="5112360"/>
                <a:ext cx="1328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 rot="19470000">
                <a:off x="4122720" y="5083560"/>
                <a:ext cx="1116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 rot="19470000">
                <a:off x="4104000" y="508572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 rot="20381400">
                <a:off x="4088880" y="5093280"/>
                <a:ext cx="1008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 rot="20381400">
                <a:off x="4070880" y="510156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H="1" rot="20381400">
                <a:off x="4056480" y="5108040"/>
                <a:ext cx="828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H="1" rot="20381400">
                <a:off x="4043520" y="511812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rot="20381400">
                <a:off x="4029480" y="513180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H="1" rot="19993200">
                <a:off x="4019760" y="514368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 rot="19470000">
                <a:off x="4016160" y="5087160"/>
                <a:ext cx="132120" cy="576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 rot="19470000">
                <a:off x="4417560" y="5211360"/>
                <a:ext cx="1188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rot="19470000">
                <a:off x="4398480" y="521352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 rot="20381400">
                <a:off x="4365360" y="5228280"/>
                <a:ext cx="10440" cy="43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rot="20381400">
                <a:off x="4338000" y="524592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H="1" rot="20381400">
                <a:off x="4323600" y="5259960"/>
                <a:ext cx="792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H="1" rot="19993200">
                <a:off x="4313880" y="5271480"/>
                <a:ext cx="8280" cy="29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H="1" rot="19470000">
                <a:off x="4310280" y="5214240"/>
                <a:ext cx="1328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1800600">
                <a:off x="4452480" y="5225400"/>
                <a:ext cx="1152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1800600">
                <a:off x="4470840" y="522324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889200">
                <a:off x="4488120" y="523008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889200">
                <a:off x="4523400" y="5243040"/>
                <a:ext cx="792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889200">
                <a:off x="4538160" y="524916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277400">
                <a:off x="4563000" y="5271840"/>
                <a:ext cx="82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800600">
                <a:off x="4439520" y="5222160"/>
                <a:ext cx="13212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H="1" rot="20511000">
                <a:off x="4342680" y="531324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 rot="21422400">
                <a:off x="4310640" y="530928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H="1" rot="21422400">
                <a:off x="4295160" y="531000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H="1" rot="21422400">
                <a:off x="4280400" y="531252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 rot="21422400">
                <a:off x="4268520" y="5316120"/>
                <a:ext cx="64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 rot="21422400">
                <a:off x="4255200" y="53233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 rot="21034800">
                <a:off x="4243680" y="532764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H="1" rot="20511000">
                <a:off x="4245840" y="5299200"/>
                <a:ext cx="118080" cy="514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H="1" rot="20511000">
                <a:off x="4267800" y="5563800"/>
                <a:ext cx="100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H="1" rot="20511000">
                <a:off x="4251240" y="5559840"/>
                <a:ext cx="1008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 rot="21422400">
                <a:off x="4218840" y="5560560"/>
                <a:ext cx="972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H="1" rot="21422400">
                <a:off x="4192920" y="556596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 rot="21422400">
                <a:off x="4179600" y="55738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H="1" rot="21034800">
                <a:off x="4168440" y="557820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H="1" rot="20511000">
                <a:off x="4170600" y="5549760"/>
                <a:ext cx="117720" cy="511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H="1" rot="20511000">
                <a:off x="4298760" y="5698440"/>
                <a:ext cx="1044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H="1" rot="20511000">
                <a:off x="4282200" y="5694480"/>
                <a:ext cx="1044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 rot="21422400">
                <a:off x="4267440" y="569412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H="1" rot="21422400">
                <a:off x="4224240" y="5701320"/>
                <a:ext cx="64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 rot="21422400">
                <a:off x="4211280" y="57092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H="1" rot="20511000">
                <a:off x="4202280" y="5684400"/>
                <a:ext cx="11808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21448800">
                <a:off x="4375440" y="5705280"/>
                <a:ext cx="936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rot="21448800">
                <a:off x="4390560" y="570348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21448800">
                <a:off x="4419360" y="5706000"/>
                <a:ext cx="64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rot="21448800">
                <a:off x="4434120" y="571104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rot="236400">
                <a:off x="4445640" y="57160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rot="759600">
                <a:off x="4330080" y="5694480"/>
                <a:ext cx="11772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rot="759600">
                <a:off x="4309920" y="5579280"/>
                <a:ext cx="1008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rot="759600">
                <a:off x="4326480" y="5573520"/>
                <a:ext cx="1008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rot="21448800">
                <a:off x="4357800" y="5569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rot="21448800">
                <a:off x="4372560" y="557028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rot="21448800">
                <a:off x="4400640" y="55774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rot="236400">
                <a:off x="4412880" y="55825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rot="759600">
                <a:off x="4296240" y="5560920"/>
                <a:ext cx="11808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rot="759600">
                <a:off x="4385520" y="532980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rot="759600">
                <a:off x="4402440" y="532296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rot="21448800">
                <a:off x="4417920" y="5321160"/>
                <a:ext cx="9360" cy="43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rot="21448800">
                <a:off x="4434120" y="531936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rot="21448800">
                <a:off x="4448880" y="532080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rot="21448800">
                <a:off x="4461840" y="5321880"/>
                <a:ext cx="64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rot="21448800">
                <a:off x="4477680" y="53269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rot="236400">
                <a:off x="4489200" y="53319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rot="759600">
                <a:off x="4372560" y="5310360"/>
                <a:ext cx="11808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8" name=""/>
            <p:cNvSpPr/>
            <p:nvPr/>
          </p:nvSpPr>
          <p:spPr>
            <a:xfrm>
              <a:off x="3755880" y="6323040"/>
              <a:ext cx="1111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150160" y="4780440"/>
            <a:ext cx="1169640" cy="1908720"/>
            <a:chOff x="5150160" y="4780440"/>
            <a:chExt cx="1169640" cy="1908720"/>
          </a:xfrm>
        </p:grpSpPr>
        <p:grpSp>
          <p:nvGrpSpPr>
            <p:cNvPr id="2240" name=""/>
            <p:cNvGrpSpPr/>
            <p:nvPr/>
          </p:nvGrpSpPr>
          <p:grpSpPr>
            <a:xfrm>
              <a:off x="5150160" y="4780440"/>
              <a:ext cx="569160" cy="1284120"/>
              <a:chOff x="5150160" y="4780440"/>
              <a:chExt cx="569160" cy="1284120"/>
            </a:xfrm>
          </p:grpSpPr>
          <p:sp>
            <p:nvSpPr>
              <p:cNvPr id="2241" name=""/>
              <p:cNvSpPr/>
              <p:nvPr/>
            </p:nvSpPr>
            <p:spPr>
              <a:xfrm rot="21435000">
                <a:off x="5400360" y="4851360"/>
                <a:ext cx="60120" cy="1212480"/>
              </a:xfrm>
              <a:custGeom>
                <a:avLst/>
                <a:gdLst/>
                <a:ahLst/>
                <a:rect l="l" t="t" r="r" b="b"/>
                <a:pathLst>
                  <a:path w="63" h="960">
                    <a:moveTo>
                      <a:pt x="3" y="960"/>
                    </a:moveTo>
                    <a:cubicBezTo>
                      <a:pt x="1" y="911"/>
                      <a:pt x="0" y="862"/>
                      <a:pt x="9" y="798"/>
                    </a:cubicBezTo>
                    <a:cubicBezTo>
                      <a:pt x="18" y="734"/>
                      <a:pt x="51" y="644"/>
                      <a:pt x="57" y="576"/>
                    </a:cubicBezTo>
                    <a:cubicBezTo>
                      <a:pt x="63" y="508"/>
                      <a:pt x="44" y="455"/>
                      <a:pt x="45" y="390"/>
                    </a:cubicBezTo>
                    <a:cubicBezTo>
                      <a:pt x="46" y="325"/>
                      <a:pt x="63" y="251"/>
                      <a:pt x="63" y="186"/>
                    </a:cubicBezTo>
                    <a:cubicBezTo>
                      <a:pt x="63" y="121"/>
                      <a:pt x="54" y="60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rot="250800">
                <a:off x="5521680" y="4815720"/>
                <a:ext cx="1332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rot="250800">
                <a:off x="5541480" y="4806000"/>
                <a:ext cx="1332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rot="20939400">
                <a:off x="5562720" y="4801680"/>
                <a:ext cx="1188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rot="20939400">
                <a:off x="5582880" y="4796640"/>
                <a:ext cx="118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rot="20939400">
                <a:off x="5601240" y="4793040"/>
                <a:ext cx="1044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rot="20939400">
                <a:off x="5619240" y="479268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rot="20939400">
                <a:off x="5637960" y="479448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rot="21327600">
                <a:off x="5654880" y="479772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rot="250800">
                <a:off x="5500440" y="4785840"/>
                <a:ext cx="1562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rot="21435000">
                <a:off x="5440320" y="4816440"/>
                <a:ext cx="74880" cy="19296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0" y="153"/>
                    </a:moveTo>
                    <a:cubicBezTo>
                      <a:pt x="12" y="139"/>
                      <a:pt x="24" y="126"/>
                      <a:pt x="33" y="108"/>
                    </a:cubicBezTo>
                    <a:cubicBezTo>
                      <a:pt x="42" y="90"/>
                      <a:pt x="47" y="60"/>
                      <a:pt x="54" y="42"/>
                    </a:cubicBezTo>
                    <a:cubicBezTo>
                      <a:pt x="61" y="24"/>
                      <a:pt x="69" y="12"/>
                      <a:pt x="7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21435000">
                <a:off x="5447520" y="5205960"/>
                <a:ext cx="141120" cy="261000"/>
              </a:xfrm>
              <a:custGeom>
                <a:avLst/>
                <a:gdLst/>
                <a:ahLst/>
                <a:rect l="l" t="t" r="r" b="b"/>
                <a:pathLst>
                  <a:path w="147" h="207">
                    <a:moveTo>
                      <a:pt x="0" y="207"/>
                    </a:moveTo>
                    <a:cubicBezTo>
                      <a:pt x="17" y="188"/>
                      <a:pt x="35" y="169"/>
                      <a:pt x="54" y="147"/>
                    </a:cubicBezTo>
                    <a:cubicBezTo>
                      <a:pt x="73" y="125"/>
                      <a:pt x="99" y="96"/>
                      <a:pt x="114" y="72"/>
                    </a:cubicBezTo>
                    <a:cubicBezTo>
                      <a:pt x="129" y="48"/>
                      <a:pt x="138" y="24"/>
                      <a:pt x="1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rot="21435000">
                <a:off x="5338080" y="5077080"/>
                <a:ext cx="94680" cy="208440"/>
              </a:xfrm>
              <a:custGeom>
                <a:avLst/>
                <a:gdLst/>
                <a:ahLst/>
                <a:rect l="l" t="t" r="r" b="b"/>
                <a:pathLst>
                  <a:path w="99" h="165">
                    <a:moveTo>
                      <a:pt x="99" y="165"/>
                    </a:moveTo>
                    <a:cubicBezTo>
                      <a:pt x="88" y="151"/>
                      <a:pt x="77" y="137"/>
                      <a:pt x="66" y="123"/>
                    </a:cubicBezTo>
                    <a:cubicBezTo>
                      <a:pt x="55" y="109"/>
                      <a:pt x="44" y="98"/>
                      <a:pt x="33" y="78"/>
                    </a:cubicBezTo>
                    <a:cubicBezTo>
                      <a:pt x="22" y="58"/>
                      <a:pt x="11" y="2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rot="21435000">
                <a:off x="5280480" y="5070960"/>
                <a:ext cx="74880" cy="7920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63"/>
                    </a:moveTo>
                    <a:cubicBezTo>
                      <a:pt x="59" y="54"/>
                      <a:pt x="40" y="46"/>
                      <a:pt x="27" y="36"/>
                    </a:cubicBezTo>
                    <a:cubicBezTo>
                      <a:pt x="14" y="26"/>
                      <a:pt x="7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21435000">
                <a:off x="5436000" y="5702400"/>
                <a:ext cx="31320" cy="493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0" y="36"/>
                    </a:moveTo>
                    <a:cubicBezTo>
                      <a:pt x="11" y="37"/>
                      <a:pt x="22" y="39"/>
                      <a:pt x="27" y="33"/>
                    </a:cubicBezTo>
                    <a:cubicBezTo>
                      <a:pt x="32" y="27"/>
                      <a:pt x="32" y="5"/>
                      <a:pt x="3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rot="21435000">
                <a:off x="5432040" y="5555880"/>
                <a:ext cx="18720" cy="7200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20" y="57"/>
                    </a:moveTo>
                    <a:cubicBezTo>
                      <a:pt x="12" y="51"/>
                      <a:pt x="4" y="45"/>
                      <a:pt x="2" y="36"/>
                    </a:cubicBezTo>
                    <a:cubicBezTo>
                      <a:pt x="0" y="27"/>
                      <a:pt x="2" y="13"/>
                      <a:pt x="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21435000">
                <a:off x="5508360" y="5311440"/>
                <a:ext cx="2880" cy="61200"/>
              </a:xfrm>
              <a:custGeom>
                <a:avLst/>
                <a:gdLst/>
                <a:ahLst/>
                <a:rect l="l" t="t" r="r" b="b"/>
                <a:pathLst>
                  <a:path w="3" h="48">
                    <a:moveTo>
                      <a:pt x="0" y="48"/>
                    </a:moveTo>
                    <a:cubicBezTo>
                      <a:pt x="0" y="48"/>
                      <a:pt x="1" y="24"/>
                      <a:pt x="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rot="973200">
                <a:off x="5513040" y="4876200"/>
                <a:ext cx="1332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973200">
                <a:off x="5535360" y="487116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61800">
                <a:off x="5575680" y="4874400"/>
                <a:ext cx="118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61800">
                <a:off x="5613480" y="487908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61800">
                <a:off x="5631840" y="4888080"/>
                <a:ext cx="900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450000">
                <a:off x="5647320" y="489492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973200">
                <a:off x="5494680" y="4861440"/>
                <a:ext cx="15624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 rot="20297400">
                <a:off x="5463360" y="483804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rot="20297400">
                <a:off x="5441400" y="483516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H="1" rot="21208800">
                <a:off x="5421240" y="483984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H="1" rot="21208800">
                <a:off x="5400720" y="484344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rot="21208800">
                <a:off x="5383440" y="4847400"/>
                <a:ext cx="1044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 rot="21208800">
                <a:off x="5366160" y="4853520"/>
                <a:ext cx="97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rot="21208800">
                <a:off x="5348520" y="486324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 rot="20820600">
                <a:off x="5335200" y="4871880"/>
                <a:ext cx="90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H="1" rot="20297400">
                <a:off x="5337360" y="4829040"/>
                <a:ext cx="1562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H="1" rot="19884600">
                <a:off x="5398200" y="492264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H="1" rot="19884600">
                <a:off x="5375520" y="4924800"/>
                <a:ext cx="13320" cy="47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H="1" rot="20796000">
                <a:off x="5355360" y="493056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H="1" rot="20796000">
                <a:off x="5318280" y="4944240"/>
                <a:ext cx="1044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H="1" rot="20796000">
                <a:off x="5303160" y="4954320"/>
                <a:ext cx="90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H="1" rot="20796000">
                <a:off x="5285520" y="4967280"/>
                <a:ext cx="792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H="1" rot="20407800">
                <a:off x="5271480" y="497772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 rot="19884600">
                <a:off x="5271120" y="4922640"/>
                <a:ext cx="1562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800600">
                <a:off x="5446440" y="489492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889200">
                <a:off x="5481720" y="489996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889200">
                <a:off x="5518080" y="4912920"/>
                <a:ext cx="792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889200">
                <a:off x="5533200" y="491832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889200">
                <a:off x="5547240" y="4931640"/>
                <a:ext cx="72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277400">
                <a:off x="5558040" y="4941360"/>
                <a:ext cx="72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800600">
                <a:off x="5432760" y="489312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800600">
                <a:off x="5349960" y="5077080"/>
                <a:ext cx="1188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800600">
                <a:off x="5369040" y="507600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889200">
                <a:off x="5386320" y="508212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889200">
                <a:off x="5405400" y="508860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889200">
                <a:off x="5421960" y="5095080"/>
                <a:ext cx="828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889200">
                <a:off x="5437080" y="510084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889200">
                <a:off x="5450760" y="511380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277400">
                <a:off x="5462280" y="512316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800600">
                <a:off x="5337360" y="5074200"/>
                <a:ext cx="1328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 rot="19470000">
                <a:off x="5321520" y="5109480"/>
                <a:ext cx="11880" cy="49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 rot="19470000">
                <a:off x="5302800" y="511308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 rot="20381400">
                <a:off x="5269680" y="5127480"/>
                <a:ext cx="10080" cy="43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 rot="20381400">
                <a:off x="5255280" y="5135760"/>
                <a:ext cx="9000" cy="37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 rot="20381400">
                <a:off x="5241240" y="5145120"/>
                <a:ext cx="7560" cy="33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 rot="20381400">
                <a:off x="5227560" y="515952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 rot="19993200">
                <a:off x="5216760" y="517032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H="1" rot="19470000">
                <a:off x="5213880" y="5113800"/>
                <a:ext cx="13356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 rot="19470000">
                <a:off x="5261400" y="5085000"/>
                <a:ext cx="1116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flipH="1" rot="19470000">
                <a:off x="5242680" y="508716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 rot="20381400">
                <a:off x="5227200" y="5094720"/>
                <a:ext cx="1008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H="1" rot="20381400">
                <a:off x="5209200" y="510300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 rot="20381400">
                <a:off x="5194800" y="5109480"/>
                <a:ext cx="828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H="1" rot="20381400">
                <a:off x="5181840" y="511956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H="1" rot="20381400">
                <a:off x="5167440" y="513324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 rot="19993200">
                <a:off x="5157720" y="514512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 rot="19470000">
                <a:off x="5154120" y="50889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H="1" rot="19470000">
                <a:off x="5558040" y="5212800"/>
                <a:ext cx="1188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 rot="19470000">
                <a:off x="5538960" y="521496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 rot="20381400">
                <a:off x="5505840" y="5229720"/>
                <a:ext cx="10440" cy="43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 rot="20381400">
                <a:off x="5477760" y="524736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 rot="20381400">
                <a:off x="5463720" y="5261400"/>
                <a:ext cx="792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H="1" rot="19993200">
                <a:off x="5454000" y="5272920"/>
                <a:ext cx="8280" cy="29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H="1" rot="19470000">
                <a:off x="5450040" y="5215680"/>
                <a:ext cx="13356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800600">
                <a:off x="5593320" y="5226840"/>
                <a:ext cx="1188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800600">
                <a:off x="5611680" y="522468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889200">
                <a:off x="5628960" y="523152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889200">
                <a:off x="5664960" y="5244480"/>
                <a:ext cx="792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889200">
                <a:off x="5679360" y="525060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rot="1277400">
                <a:off x="5704560" y="5273280"/>
                <a:ext cx="82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rot="1800600">
                <a:off x="5580360" y="5223960"/>
                <a:ext cx="1328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H="1" rot="20511000">
                <a:off x="5482800" y="531468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 rot="21422400">
                <a:off x="5450400" y="531072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 rot="21422400">
                <a:off x="5434920" y="531144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flipH="1" rot="21422400">
                <a:off x="5420160" y="531396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H="1" rot="21422400">
                <a:off x="5407920" y="5317560"/>
                <a:ext cx="64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 rot="21422400">
                <a:off x="5394600" y="53247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H="1" rot="21034800">
                <a:off x="5383080" y="53290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H="1" rot="20511000">
                <a:off x="5385600" y="5300640"/>
                <a:ext cx="118800" cy="514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 rot="20511000">
                <a:off x="5407200" y="5565240"/>
                <a:ext cx="100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 rot="20511000">
                <a:off x="5390640" y="5561280"/>
                <a:ext cx="1008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 rot="21422400">
                <a:off x="5357880" y="5562000"/>
                <a:ext cx="972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 rot="21422400">
                <a:off x="5331960" y="55674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 rot="21422400">
                <a:off x="5318640" y="55753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H="1" rot="21034800">
                <a:off x="5307120" y="557964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 rot="20511000">
                <a:off x="5309640" y="5550840"/>
                <a:ext cx="118440" cy="511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 rot="20511000">
                <a:off x="5438520" y="5699880"/>
                <a:ext cx="1044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H="1" rot="20511000">
                <a:off x="5421960" y="5695920"/>
                <a:ext cx="1044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 rot="21422400">
                <a:off x="5406840" y="569556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 rot="21422400">
                <a:off x="5363640" y="5702760"/>
                <a:ext cx="64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H="1" rot="21422400">
                <a:off x="5350320" y="571068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 rot="20511000">
                <a:off x="5341320" y="5685840"/>
                <a:ext cx="11880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rot="21448800">
                <a:off x="5515560" y="5706720"/>
                <a:ext cx="936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rot="21448800">
                <a:off x="5531040" y="570492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rot="21448800">
                <a:off x="5559840" y="5707440"/>
                <a:ext cx="64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rot="21448800">
                <a:off x="5574960" y="57124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rot="236400">
                <a:off x="5586480" y="57175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rot="759600">
                <a:off x="5470200" y="5695920"/>
                <a:ext cx="11844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759600">
                <a:off x="5449680" y="5580720"/>
                <a:ext cx="1008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rot="759600">
                <a:off x="5466240" y="5574960"/>
                <a:ext cx="1008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rot="21448800">
                <a:off x="5497920" y="557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rot="21448800">
                <a:off x="5513040" y="557172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rot="21448800">
                <a:off x="5541120" y="55789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rot="236400">
                <a:off x="5553360" y="55839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rot="759600">
                <a:off x="5436000" y="5562360"/>
                <a:ext cx="11880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rot="759600">
                <a:off x="5526000" y="533124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rot="759600">
                <a:off x="5542920" y="532440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rot="21448800">
                <a:off x="5558400" y="5322600"/>
                <a:ext cx="9360" cy="43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21448800">
                <a:off x="5574600" y="532080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21448800">
                <a:off x="5589720" y="532224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21448800">
                <a:off x="5602680" y="5323320"/>
                <a:ext cx="64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21448800">
                <a:off x="5618520" y="53283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236400">
                <a:off x="5630040" y="533340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759600">
                <a:off x="5513040" y="5311800"/>
                <a:ext cx="11880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"/>
            <p:cNvSpPr/>
            <p:nvPr/>
          </p:nvSpPr>
          <p:spPr>
            <a:xfrm>
              <a:off x="5208480" y="6323040"/>
              <a:ext cx="1111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7081920" y="5144400"/>
            <a:ext cx="1190520" cy="1544760"/>
            <a:chOff x="7081920" y="5144400"/>
            <a:chExt cx="1190520" cy="1544760"/>
          </a:xfrm>
        </p:grpSpPr>
        <p:grpSp>
          <p:nvGrpSpPr>
            <p:cNvPr id="2374" name=""/>
            <p:cNvGrpSpPr/>
            <p:nvPr/>
          </p:nvGrpSpPr>
          <p:grpSpPr>
            <a:xfrm>
              <a:off x="7081920" y="5144400"/>
              <a:ext cx="405720" cy="921960"/>
              <a:chOff x="7081920" y="5144400"/>
              <a:chExt cx="405720" cy="921960"/>
            </a:xfrm>
          </p:grpSpPr>
          <p:sp>
            <p:nvSpPr>
              <p:cNvPr id="2375" name=""/>
              <p:cNvSpPr/>
              <p:nvPr/>
            </p:nvSpPr>
            <p:spPr>
              <a:xfrm rot="21435000">
                <a:off x="7260120" y="5194800"/>
                <a:ext cx="42840" cy="870840"/>
              </a:xfrm>
              <a:custGeom>
                <a:avLst/>
                <a:gdLst/>
                <a:ahLst/>
                <a:rect l="l" t="t" r="r" b="b"/>
                <a:pathLst>
                  <a:path w="63" h="960">
                    <a:moveTo>
                      <a:pt x="3" y="960"/>
                    </a:moveTo>
                    <a:cubicBezTo>
                      <a:pt x="1" y="911"/>
                      <a:pt x="0" y="862"/>
                      <a:pt x="9" y="798"/>
                    </a:cubicBezTo>
                    <a:cubicBezTo>
                      <a:pt x="18" y="734"/>
                      <a:pt x="51" y="644"/>
                      <a:pt x="57" y="576"/>
                    </a:cubicBezTo>
                    <a:cubicBezTo>
                      <a:pt x="63" y="508"/>
                      <a:pt x="44" y="455"/>
                      <a:pt x="45" y="390"/>
                    </a:cubicBezTo>
                    <a:cubicBezTo>
                      <a:pt x="46" y="325"/>
                      <a:pt x="63" y="251"/>
                      <a:pt x="63" y="186"/>
                    </a:cubicBezTo>
                    <a:cubicBezTo>
                      <a:pt x="63" y="121"/>
                      <a:pt x="54" y="60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250800">
                <a:off x="7346880" y="5169240"/>
                <a:ext cx="936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250800">
                <a:off x="7360920" y="5162040"/>
                <a:ext cx="936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20939400">
                <a:off x="7376400" y="5159160"/>
                <a:ext cx="828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20939400">
                <a:off x="7390080" y="5155920"/>
                <a:ext cx="828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20939400">
                <a:off x="7403040" y="5153040"/>
                <a:ext cx="720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20939400">
                <a:off x="7416360" y="5152680"/>
                <a:ext cx="6840" cy="24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20939400">
                <a:off x="7429320" y="515412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21327600">
                <a:off x="7441560" y="515664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250800">
                <a:off x="7331760" y="5148360"/>
                <a:ext cx="11124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21435000">
                <a:off x="7288920" y="5170320"/>
                <a:ext cx="53280" cy="13860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0" y="153"/>
                    </a:moveTo>
                    <a:cubicBezTo>
                      <a:pt x="12" y="139"/>
                      <a:pt x="24" y="126"/>
                      <a:pt x="33" y="108"/>
                    </a:cubicBezTo>
                    <a:cubicBezTo>
                      <a:pt x="42" y="90"/>
                      <a:pt x="47" y="60"/>
                      <a:pt x="54" y="42"/>
                    </a:cubicBezTo>
                    <a:cubicBezTo>
                      <a:pt x="61" y="24"/>
                      <a:pt x="69" y="12"/>
                      <a:pt x="7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21435000">
                <a:off x="7293600" y="5449680"/>
                <a:ext cx="100440" cy="187560"/>
              </a:xfrm>
              <a:custGeom>
                <a:avLst/>
                <a:gdLst/>
                <a:ahLst/>
                <a:rect l="l" t="t" r="r" b="b"/>
                <a:pathLst>
                  <a:path w="147" h="207">
                    <a:moveTo>
                      <a:pt x="0" y="207"/>
                    </a:moveTo>
                    <a:cubicBezTo>
                      <a:pt x="17" y="188"/>
                      <a:pt x="35" y="169"/>
                      <a:pt x="54" y="147"/>
                    </a:cubicBezTo>
                    <a:cubicBezTo>
                      <a:pt x="73" y="125"/>
                      <a:pt x="99" y="96"/>
                      <a:pt x="114" y="72"/>
                    </a:cubicBezTo>
                    <a:cubicBezTo>
                      <a:pt x="129" y="48"/>
                      <a:pt x="138" y="24"/>
                      <a:pt x="1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21435000">
                <a:off x="7215840" y="5357160"/>
                <a:ext cx="67320" cy="149760"/>
              </a:xfrm>
              <a:custGeom>
                <a:avLst/>
                <a:gdLst/>
                <a:ahLst/>
                <a:rect l="l" t="t" r="r" b="b"/>
                <a:pathLst>
                  <a:path w="99" h="165">
                    <a:moveTo>
                      <a:pt x="99" y="165"/>
                    </a:moveTo>
                    <a:cubicBezTo>
                      <a:pt x="88" y="151"/>
                      <a:pt x="77" y="137"/>
                      <a:pt x="66" y="123"/>
                    </a:cubicBezTo>
                    <a:cubicBezTo>
                      <a:pt x="55" y="109"/>
                      <a:pt x="44" y="98"/>
                      <a:pt x="33" y="78"/>
                    </a:cubicBezTo>
                    <a:cubicBezTo>
                      <a:pt x="22" y="58"/>
                      <a:pt x="11" y="2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rot="21435000">
                <a:off x="7174440" y="5352840"/>
                <a:ext cx="53280" cy="5688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63"/>
                    </a:moveTo>
                    <a:cubicBezTo>
                      <a:pt x="59" y="54"/>
                      <a:pt x="40" y="46"/>
                      <a:pt x="27" y="36"/>
                    </a:cubicBezTo>
                    <a:cubicBezTo>
                      <a:pt x="14" y="26"/>
                      <a:pt x="7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rot="21435000">
                <a:off x="7285680" y="580644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0" y="36"/>
                    </a:moveTo>
                    <a:cubicBezTo>
                      <a:pt x="11" y="37"/>
                      <a:pt x="22" y="39"/>
                      <a:pt x="27" y="33"/>
                    </a:cubicBezTo>
                    <a:cubicBezTo>
                      <a:pt x="32" y="27"/>
                      <a:pt x="32" y="5"/>
                      <a:pt x="3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rot="21435000">
                <a:off x="7283160" y="5701320"/>
                <a:ext cx="13320" cy="5184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20" y="57"/>
                    </a:moveTo>
                    <a:cubicBezTo>
                      <a:pt x="12" y="51"/>
                      <a:pt x="4" y="45"/>
                      <a:pt x="2" y="36"/>
                    </a:cubicBezTo>
                    <a:cubicBezTo>
                      <a:pt x="0" y="27"/>
                      <a:pt x="2" y="13"/>
                      <a:pt x="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rot="21435000">
                <a:off x="7336800" y="5525280"/>
                <a:ext cx="1800" cy="43920"/>
              </a:xfrm>
              <a:custGeom>
                <a:avLst/>
                <a:gdLst/>
                <a:ahLst/>
                <a:rect l="l" t="t" r="r" b="b"/>
                <a:pathLst>
                  <a:path w="3" h="48">
                    <a:moveTo>
                      <a:pt x="0" y="48"/>
                    </a:moveTo>
                    <a:cubicBezTo>
                      <a:pt x="0" y="48"/>
                      <a:pt x="1" y="24"/>
                      <a:pt x="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rot="973200">
                <a:off x="7340040" y="5212800"/>
                <a:ext cx="936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rot="973200">
                <a:off x="7356240" y="5209560"/>
                <a:ext cx="900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rot="61800">
                <a:off x="7385400" y="5211720"/>
                <a:ext cx="828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rot="61800">
                <a:off x="7412040" y="5214960"/>
                <a:ext cx="6840" cy="24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rot="61800">
                <a:off x="7425000" y="5221440"/>
                <a:ext cx="612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rot="450000">
                <a:off x="7435800" y="522612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rot="973200">
                <a:off x="7327080" y="5202000"/>
                <a:ext cx="111240" cy="410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 rot="20297400">
                <a:off x="7305840" y="5185800"/>
                <a:ext cx="936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 rot="20297400">
                <a:off x="7290360" y="5183640"/>
                <a:ext cx="936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 rot="21208800">
                <a:off x="7275600" y="5186880"/>
                <a:ext cx="900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 rot="21208800">
                <a:off x="7260480" y="5189040"/>
                <a:ext cx="792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 rot="21208800">
                <a:off x="7248240" y="5191920"/>
                <a:ext cx="720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 rot="21208800">
                <a:off x="7235640" y="5196240"/>
                <a:ext cx="68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 rot="21208800">
                <a:off x="7223760" y="520344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 rot="20820600">
                <a:off x="7212960" y="520992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 rot="20297400">
                <a:off x="7215840" y="5178960"/>
                <a:ext cx="11124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 rot="19884600">
                <a:off x="7258320" y="5246280"/>
                <a:ext cx="936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 rot="19884600">
                <a:off x="7242480" y="5247720"/>
                <a:ext cx="9360" cy="34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H="1" rot="20796000">
                <a:off x="7228800" y="5252040"/>
                <a:ext cx="9000" cy="34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 rot="20796000">
                <a:off x="7202520" y="5262120"/>
                <a:ext cx="720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 rot="20796000">
                <a:off x="7189920" y="5268960"/>
                <a:ext cx="6120" cy="24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 rot="20796000">
                <a:off x="7178760" y="527832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H="1" rot="20407800">
                <a:off x="7168320" y="528624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H="1" rot="19884600">
                <a:off x="7168320" y="5245920"/>
                <a:ext cx="11124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rot="1800600">
                <a:off x="7293240" y="522612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rot="889200">
                <a:off x="7318440" y="5229720"/>
                <a:ext cx="720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rot="889200">
                <a:off x="7344360" y="5239080"/>
                <a:ext cx="576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rot="889200">
                <a:off x="7354440" y="5243040"/>
                <a:ext cx="50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rot="889200">
                <a:off x="7365240" y="5252400"/>
                <a:ext cx="5040" cy="21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rot="1277400">
                <a:off x="7372080" y="5259960"/>
                <a:ext cx="5040" cy="21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rot="1800600">
                <a:off x="7283160" y="5225040"/>
                <a:ext cx="95040" cy="410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rot="1800600">
                <a:off x="7224480" y="5357160"/>
                <a:ext cx="828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rot="1800600">
                <a:off x="7238160" y="535608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rot="889200">
                <a:off x="7250400" y="5360400"/>
                <a:ext cx="720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rot="889200">
                <a:off x="7263360" y="5365800"/>
                <a:ext cx="720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rot="889200">
                <a:off x="7275600" y="5369760"/>
                <a:ext cx="576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rot="889200">
                <a:off x="7286400" y="5374080"/>
                <a:ext cx="5760" cy="24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rot="889200">
                <a:off x="7296120" y="538344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rot="1277400">
                <a:off x="7304400" y="5390640"/>
                <a:ext cx="504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rot="1800600">
                <a:off x="7215480" y="5355000"/>
                <a:ext cx="9468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 rot="19470000">
                <a:off x="7204320" y="5380560"/>
                <a:ext cx="828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 rot="19470000">
                <a:off x="7190280" y="538308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H="1" rot="20381400">
                <a:off x="7166880" y="5393160"/>
                <a:ext cx="720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H="1" rot="20381400">
                <a:off x="7156800" y="5399280"/>
                <a:ext cx="612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H="1" rot="20381400">
                <a:off x="7146720" y="5406120"/>
                <a:ext cx="5400" cy="24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H="1" rot="20381400">
                <a:off x="7138440" y="541584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H="1" rot="19993200">
                <a:off x="7130160" y="542412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 rot="19470000">
                <a:off x="7127280" y="5383080"/>
                <a:ext cx="9504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H="1" rot="19470000">
                <a:off x="7161840" y="536292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H="1" rot="19470000">
                <a:off x="7147440" y="536436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H="1" rot="20381400">
                <a:off x="7136640" y="5370120"/>
                <a:ext cx="720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 rot="20381400">
                <a:off x="7123680" y="5375520"/>
                <a:ext cx="720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H="1" rot="20381400">
                <a:off x="7113600" y="5380560"/>
                <a:ext cx="576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H="1" rot="20381400">
                <a:off x="7104240" y="5387760"/>
                <a:ext cx="50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H="1" rot="20381400">
                <a:off x="7094880" y="5397480"/>
                <a:ext cx="504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H="1" rot="19993200">
                <a:off x="7086600" y="5405760"/>
                <a:ext cx="468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H="1" rot="19470000">
                <a:off x="7084800" y="5365800"/>
                <a:ext cx="94680" cy="410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H="1" rot="19470000">
                <a:off x="7372440" y="5455080"/>
                <a:ext cx="8280" cy="34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H="1" rot="19470000">
                <a:off x="7358760" y="545616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H="1" rot="20381400">
                <a:off x="7335000" y="5466240"/>
                <a:ext cx="720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H="1" rot="20381400">
                <a:off x="7315560" y="5479560"/>
                <a:ext cx="50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H="1" rot="20381400">
                <a:off x="7306560" y="548928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H="1" rot="19993200">
                <a:off x="7297560" y="5497920"/>
                <a:ext cx="576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H="1" rot="19470000">
                <a:off x="7295760" y="5456520"/>
                <a:ext cx="9504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rot="1800600">
                <a:off x="7397280" y="5464800"/>
                <a:ext cx="828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rot="1800600">
                <a:off x="7410960" y="546300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rot="889200">
                <a:off x="7423200" y="5467680"/>
                <a:ext cx="720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rot="889200">
                <a:off x="7448760" y="5477040"/>
                <a:ext cx="576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rot="889200">
                <a:off x="7459200" y="5481360"/>
                <a:ext cx="5040" cy="24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rot="1277400">
                <a:off x="7476480" y="5497560"/>
                <a:ext cx="576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rot="1800600">
                <a:off x="7388640" y="5462280"/>
                <a:ext cx="9468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H="1" rot="20511000">
                <a:off x="7318800" y="5527440"/>
                <a:ext cx="7200" cy="320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 rot="21422400">
                <a:off x="7296120" y="5525280"/>
                <a:ext cx="684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 rot="21422400">
                <a:off x="7284240" y="5525640"/>
                <a:ext cx="684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 rot="21422400">
                <a:off x="7274880" y="5527080"/>
                <a:ext cx="5040" cy="24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 rot="21422400">
                <a:off x="7265520" y="5529960"/>
                <a:ext cx="468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 rot="21422400">
                <a:off x="7255800" y="553500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 rot="21034800">
                <a:off x="7247160" y="553824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 rot="20511000">
                <a:off x="7249680" y="5517720"/>
                <a:ext cx="84600" cy="370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 rot="20511000">
                <a:off x="7264800" y="5707800"/>
                <a:ext cx="720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 rot="20511000">
                <a:off x="7252920" y="5704560"/>
                <a:ext cx="7200" cy="320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 rot="21422400">
                <a:off x="7229880" y="5705640"/>
                <a:ext cx="684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 rot="21422400">
                <a:off x="7212240" y="5709240"/>
                <a:ext cx="4680" cy="21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 rot="21422400">
                <a:off x="7201440" y="571500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 rot="21034800">
                <a:off x="7193160" y="571824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 rot="20511000">
                <a:off x="7196400" y="5697360"/>
                <a:ext cx="84240" cy="367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 rot="20511000">
                <a:off x="7287840" y="5804280"/>
                <a:ext cx="720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rot="20511000">
                <a:off x="7276320" y="5801400"/>
                <a:ext cx="720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 rot="21422400">
                <a:off x="7265160" y="5801760"/>
                <a:ext cx="684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 rot="21422400">
                <a:off x="7233840" y="5806440"/>
                <a:ext cx="468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 rot="21422400">
                <a:off x="7224480" y="5812200"/>
                <a:ext cx="4680" cy="183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 rot="20511000">
                <a:off x="7218360" y="5794200"/>
                <a:ext cx="84600" cy="374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rot="21448800">
                <a:off x="7342200" y="5808960"/>
                <a:ext cx="684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rot="21448800">
                <a:off x="7353000" y="5807880"/>
                <a:ext cx="684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rot="21448800">
                <a:off x="7374240" y="5809680"/>
                <a:ext cx="468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rot="21448800">
                <a:off x="7385040" y="581328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rot="236400">
                <a:off x="7392960" y="581724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rot="759600">
                <a:off x="7309440" y="5801760"/>
                <a:ext cx="84240" cy="374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rot="759600">
                <a:off x="7295400" y="5718960"/>
                <a:ext cx="7200" cy="320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rot="759600">
                <a:off x="7307280" y="5715000"/>
                <a:ext cx="720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rot="21448800">
                <a:off x="7329240" y="5711760"/>
                <a:ext cx="6840" cy="28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rot="21448800">
                <a:off x="7340400" y="5712480"/>
                <a:ext cx="5040" cy="24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rot="21448800">
                <a:off x="7360920" y="571752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rot="236400">
                <a:off x="7369200" y="572148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rot="759600">
                <a:off x="7285320" y="5705640"/>
                <a:ext cx="84600" cy="374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rot="759600">
                <a:off x="7350120" y="5540040"/>
                <a:ext cx="720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rot="759600">
                <a:off x="7361640" y="5535000"/>
                <a:ext cx="7200" cy="320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rot="21448800">
                <a:off x="7372800" y="5533200"/>
                <a:ext cx="6840" cy="31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rot="21448800">
                <a:off x="7383960" y="5531760"/>
                <a:ext cx="684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rot="21448800">
                <a:off x="7395120" y="5533200"/>
                <a:ext cx="5040" cy="24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rot="21448800">
                <a:off x="7404840" y="5533920"/>
                <a:ext cx="468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rot="21448800">
                <a:off x="7416000" y="553752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rot="236400">
                <a:off x="7423920" y="554148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rot="759600">
                <a:off x="7340040" y="5525640"/>
                <a:ext cx="84600" cy="374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6" name=""/>
            <p:cNvSpPr/>
            <p:nvPr/>
          </p:nvSpPr>
          <p:spPr>
            <a:xfrm>
              <a:off x="7161120" y="6323040"/>
              <a:ext cx="1111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7" name=""/>
          <p:cNvSpPr/>
          <p:nvPr/>
        </p:nvSpPr>
        <p:spPr>
          <a:xfrm>
            <a:off x="-1800" y="71280"/>
            <a:ext cx="76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MATERIEL &amp; METHOD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 DE L’ENVIRONNEMENT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"/>
          <p:cNvSpPr/>
          <p:nvPr/>
        </p:nvSpPr>
        <p:spPr>
          <a:xfrm>
            <a:off x="461880" y="53964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Structuration spati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65120" y="1174680"/>
            <a:ext cx="7180560" cy="1194120"/>
            <a:chOff x="465120" y="1174680"/>
            <a:chExt cx="7180560" cy="1194120"/>
          </a:xfrm>
        </p:grpSpPr>
        <p:sp>
          <p:nvSpPr>
            <p:cNvPr id="2510" name=""/>
            <p:cNvSpPr/>
            <p:nvPr/>
          </p:nvSpPr>
          <p:spPr>
            <a:xfrm>
              <a:off x="465120" y="1174680"/>
              <a:ext cx="348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Distance minimale par rapport à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966840" y="1174680"/>
              <a:ext cx="22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Dégâts d’exploi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965760" y="1969920"/>
              <a:ext cx="367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Position des semenciers (&gt;20 dbh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970440" y="156384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Bas-f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522720" y="2389320"/>
            <a:ext cx="584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Fréquence des classes architectur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398520" y="2894040"/>
            <a:ext cx="8670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Probabilité de transition entre classes architectura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6" name=""/>
          <p:cNvGrpSpPr/>
          <p:nvPr/>
        </p:nvGrpSpPr>
        <p:grpSpPr>
          <a:xfrm>
            <a:off x="441360" y="3575160"/>
            <a:ext cx="3718800" cy="963000"/>
            <a:chOff x="441360" y="3575160"/>
            <a:chExt cx="3718800" cy="963000"/>
          </a:xfrm>
        </p:grpSpPr>
        <p:sp>
          <p:nvSpPr>
            <p:cNvPr id="2517" name=""/>
            <p:cNvSpPr/>
            <p:nvPr/>
          </p:nvSpPr>
          <p:spPr>
            <a:xfrm>
              <a:off x="561240" y="4078440"/>
              <a:ext cx="359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imension des arbres (H / 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41360" y="3575160"/>
              <a:ext cx="10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Selon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531720" y="499896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Bas-fond / hors bas-f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510840" y="548496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Environnement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1" name=""/>
          <p:cNvGrpSpPr/>
          <p:nvPr/>
        </p:nvGrpSpPr>
        <p:grpSpPr>
          <a:xfrm>
            <a:off x="559080" y="4196880"/>
            <a:ext cx="8413560" cy="2408760"/>
            <a:chOff x="559080" y="4196880"/>
            <a:chExt cx="8413560" cy="2408760"/>
          </a:xfrm>
        </p:grpSpPr>
        <p:sp>
          <p:nvSpPr>
            <p:cNvPr id="2522" name=""/>
            <p:cNvSpPr/>
            <p:nvPr/>
          </p:nvSpPr>
          <p:spPr>
            <a:xfrm>
              <a:off x="559080" y="4527720"/>
              <a:ext cx="446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égâts d’exploitation / non perturb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3" name=""/>
            <p:cNvGrpSpPr/>
            <p:nvPr/>
          </p:nvGrpSpPr>
          <p:grpSpPr>
            <a:xfrm>
              <a:off x="5095800" y="4196880"/>
              <a:ext cx="3876840" cy="2408760"/>
              <a:chOff x="5095800" y="4196880"/>
              <a:chExt cx="3876840" cy="2408760"/>
            </a:xfrm>
          </p:grpSpPr>
          <p:sp>
            <p:nvSpPr>
              <p:cNvPr id="2524" name=""/>
              <p:cNvSpPr/>
              <p:nvPr/>
            </p:nvSpPr>
            <p:spPr>
              <a:xfrm>
                <a:off x="5095800" y="4211640"/>
                <a:ext cx="3063960" cy="239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514840" y="5594400"/>
                <a:ext cx="919440" cy="952560"/>
              </a:xfrm>
              <a:custGeom>
                <a:avLst/>
                <a:gdLst/>
                <a:ahLst/>
                <a:rect l="l" t="t" r="r" b="b"/>
                <a:pathLst>
                  <a:path w="579" h="600">
                    <a:moveTo>
                      <a:pt x="222" y="18"/>
                    </a:moveTo>
                    <a:cubicBezTo>
                      <a:pt x="157" y="36"/>
                      <a:pt x="0" y="142"/>
                      <a:pt x="12" y="238"/>
                    </a:cubicBezTo>
                    <a:cubicBezTo>
                      <a:pt x="24" y="334"/>
                      <a:pt x="204" y="588"/>
                      <a:pt x="295" y="594"/>
                    </a:cubicBezTo>
                    <a:cubicBezTo>
                      <a:pt x="386" y="600"/>
                      <a:pt x="543" y="351"/>
                      <a:pt x="561" y="274"/>
                    </a:cubicBezTo>
                    <a:cubicBezTo>
                      <a:pt x="579" y="197"/>
                      <a:pt x="458" y="172"/>
                      <a:pt x="405" y="128"/>
                    </a:cubicBezTo>
                    <a:cubicBezTo>
                      <a:pt x="352" y="84"/>
                      <a:pt x="287" y="0"/>
                      <a:pt x="222" y="18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rot="10800000">
                <a:off x="6762240" y="5513040"/>
                <a:ext cx="1101960" cy="831960"/>
              </a:xfrm>
              <a:custGeom>
                <a:avLst/>
                <a:gdLst/>
                <a:ahLst/>
                <a:rect l="l" t="t" r="r" b="b"/>
                <a:pathLst>
                  <a:path w="579" h="600">
                    <a:moveTo>
                      <a:pt x="222" y="18"/>
                    </a:moveTo>
                    <a:cubicBezTo>
                      <a:pt x="157" y="36"/>
                      <a:pt x="0" y="142"/>
                      <a:pt x="12" y="238"/>
                    </a:cubicBezTo>
                    <a:cubicBezTo>
                      <a:pt x="24" y="334"/>
                      <a:pt x="204" y="588"/>
                      <a:pt x="295" y="594"/>
                    </a:cubicBezTo>
                    <a:cubicBezTo>
                      <a:pt x="386" y="600"/>
                      <a:pt x="543" y="351"/>
                      <a:pt x="561" y="274"/>
                    </a:cubicBezTo>
                    <a:cubicBezTo>
                      <a:pt x="579" y="197"/>
                      <a:pt x="458" y="172"/>
                      <a:pt x="405" y="128"/>
                    </a:cubicBezTo>
                    <a:cubicBezTo>
                      <a:pt x="352" y="84"/>
                      <a:pt x="287" y="0"/>
                      <a:pt x="222" y="18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rot="15568800">
                <a:off x="5664240" y="4773240"/>
                <a:ext cx="1770120" cy="718920"/>
              </a:xfrm>
              <a:custGeom>
                <a:avLst/>
                <a:gdLst/>
                <a:ahLst/>
                <a:rect l="l" t="t" r="r" b="b"/>
                <a:pathLst>
                  <a:path w="579" h="600">
                    <a:moveTo>
                      <a:pt x="222" y="18"/>
                    </a:moveTo>
                    <a:cubicBezTo>
                      <a:pt x="157" y="36"/>
                      <a:pt x="0" y="142"/>
                      <a:pt x="12" y="238"/>
                    </a:cubicBezTo>
                    <a:cubicBezTo>
                      <a:pt x="24" y="334"/>
                      <a:pt x="204" y="588"/>
                      <a:pt x="295" y="594"/>
                    </a:cubicBezTo>
                    <a:cubicBezTo>
                      <a:pt x="386" y="600"/>
                      <a:pt x="543" y="351"/>
                      <a:pt x="561" y="274"/>
                    </a:cubicBezTo>
                    <a:cubicBezTo>
                      <a:pt x="579" y="197"/>
                      <a:pt x="458" y="172"/>
                      <a:pt x="405" y="128"/>
                    </a:cubicBezTo>
                    <a:cubicBezTo>
                      <a:pt x="352" y="84"/>
                      <a:pt x="287" y="0"/>
                      <a:pt x="222" y="18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719680" y="611172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6211800" y="592128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745240" y="5019840"/>
                <a:ext cx="8892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961240" y="5235480"/>
                <a:ext cx="8856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946920" y="552456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162920" y="574056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446960" y="597996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319880" y="498312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738920" y="558972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122880" y="446400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8" name=""/>
              <p:cNvGrpSpPr/>
              <p:nvPr/>
            </p:nvGrpSpPr>
            <p:grpSpPr>
              <a:xfrm>
                <a:off x="7431120" y="4529160"/>
                <a:ext cx="1541520" cy="1650960"/>
                <a:chOff x="7431120" y="4529160"/>
                <a:chExt cx="1541520" cy="1650960"/>
              </a:xfrm>
            </p:grpSpPr>
            <p:grpSp>
              <p:nvGrpSpPr>
                <p:cNvPr id="2539" name=""/>
                <p:cNvGrpSpPr/>
                <p:nvPr/>
              </p:nvGrpSpPr>
              <p:grpSpPr>
                <a:xfrm>
                  <a:off x="8256600" y="4529160"/>
                  <a:ext cx="716040" cy="1560600"/>
                  <a:chOff x="8256600" y="4529160"/>
                  <a:chExt cx="716040" cy="1560600"/>
                </a:xfrm>
              </p:grpSpPr>
              <p:sp>
                <p:nvSpPr>
                  <p:cNvPr id="2540" name=""/>
                  <p:cNvSpPr/>
                  <p:nvPr/>
                </p:nvSpPr>
                <p:spPr>
                  <a:xfrm>
                    <a:off x="8597520" y="4537440"/>
                    <a:ext cx="37512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910" h="427">
                        <a:moveTo>
                          <a:pt x="71" y="3"/>
                        </a:moveTo>
                        <a:cubicBezTo>
                          <a:pt x="35" y="13"/>
                          <a:pt x="0" y="24"/>
                          <a:pt x="1" y="43"/>
                        </a:cubicBezTo>
                        <a:cubicBezTo>
                          <a:pt x="2" y="62"/>
                          <a:pt x="43" y="84"/>
                          <a:pt x="79" y="119"/>
                        </a:cubicBezTo>
                        <a:cubicBezTo>
                          <a:pt x="115" y="154"/>
                          <a:pt x="175" y="231"/>
                          <a:pt x="219" y="253"/>
                        </a:cubicBezTo>
                        <a:cubicBezTo>
                          <a:pt x="263" y="275"/>
                          <a:pt x="307" y="256"/>
                          <a:pt x="345" y="253"/>
                        </a:cubicBezTo>
                        <a:cubicBezTo>
                          <a:pt x="383" y="250"/>
                          <a:pt x="409" y="225"/>
                          <a:pt x="449" y="233"/>
                        </a:cubicBezTo>
                        <a:cubicBezTo>
                          <a:pt x="489" y="241"/>
                          <a:pt x="540" y="275"/>
                          <a:pt x="585" y="301"/>
                        </a:cubicBezTo>
                        <a:cubicBezTo>
                          <a:pt x="630" y="327"/>
                          <a:pt x="681" y="368"/>
                          <a:pt x="721" y="389"/>
                        </a:cubicBezTo>
                        <a:cubicBezTo>
                          <a:pt x="761" y="410"/>
                          <a:pt x="797" y="423"/>
                          <a:pt x="827" y="425"/>
                        </a:cubicBezTo>
                        <a:cubicBezTo>
                          <a:pt x="857" y="427"/>
                          <a:pt x="892" y="423"/>
                          <a:pt x="901" y="401"/>
                        </a:cubicBezTo>
                        <a:cubicBezTo>
                          <a:pt x="910" y="379"/>
                          <a:pt x="907" y="330"/>
                          <a:pt x="879" y="293"/>
                        </a:cubicBezTo>
                        <a:cubicBezTo>
                          <a:pt x="851" y="256"/>
                          <a:pt x="783" y="210"/>
                          <a:pt x="735" y="177"/>
                        </a:cubicBezTo>
                        <a:cubicBezTo>
                          <a:pt x="687" y="144"/>
                          <a:pt x="647" y="116"/>
                          <a:pt x="589" y="95"/>
                        </a:cubicBezTo>
                        <a:cubicBezTo>
                          <a:pt x="531" y="74"/>
                          <a:pt x="448" y="63"/>
                          <a:pt x="385" y="49"/>
                        </a:cubicBezTo>
                        <a:cubicBezTo>
                          <a:pt x="322" y="35"/>
                          <a:pt x="255" y="17"/>
                          <a:pt x="211" y="9"/>
                        </a:cubicBezTo>
                        <a:cubicBezTo>
                          <a:pt x="167" y="1"/>
                          <a:pt x="147" y="2"/>
                          <a:pt x="121" y="1"/>
                        </a:cubicBezTo>
                        <a:cubicBezTo>
                          <a:pt x="95" y="0"/>
                          <a:pt x="66" y="3"/>
                          <a:pt x="55" y="3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8312400" y="4674240"/>
                    <a:ext cx="330480" cy="14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3453">
                        <a:moveTo>
                          <a:pt x="620" y="3406"/>
                        </a:moveTo>
                        <a:cubicBezTo>
                          <a:pt x="598" y="3359"/>
                          <a:pt x="641" y="3290"/>
                          <a:pt x="650" y="3130"/>
                        </a:cubicBezTo>
                        <a:cubicBezTo>
                          <a:pt x="659" y="2970"/>
                          <a:pt x="669" y="2717"/>
                          <a:pt x="674" y="2446"/>
                        </a:cubicBezTo>
                        <a:cubicBezTo>
                          <a:pt x="679" y="2175"/>
                          <a:pt x="679" y="1681"/>
                          <a:pt x="680" y="1504"/>
                        </a:cubicBezTo>
                        <a:cubicBezTo>
                          <a:pt x="681" y="1327"/>
                          <a:pt x="694" y="1425"/>
                          <a:pt x="680" y="1384"/>
                        </a:cubicBezTo>
                        <a:cubicBezTo>
                          <a:pt x="666" y="1343"/>
                          <a:pt x="629" y="1323"/>
                          <a:pt x="596" y="1258"/>
                        </a:cubicBezTo>
                        <a:cubicBezTo>
                          <a:pt x="563" y="1193"/>
                          <a:pt x="524" y="1062"/>
                          <a:pt x="482" y="994"/>
                        </a:cubicBezTo>
                        <a:cubicBezTo>
                          <a:pt x="440" y="926"/>
                          <a:pt x="379" y="908"/>
                          <a:pt x="344" y="850"/>
                        </a:cubicBezTo>
                        <a:cubicBezTo>
                          <a:pt x="309" y="792"/>
                          <a:pt x="303" y="702"/>
                          <a:pt x="272" y="646"/>
                        </a:cubicBezTo>
                        <a:cubicBezTo>
                          <a:pt x="241" y="590"/>
                          <a:pt x="191" y="564"/>
                          <a:pt x="158" y="514"/>
                        </a:cubicBezTo>
                        <a:cubicBezTo>
                          <a:pt x="125" y="464"/>
                          <a:pt x="100" y="428"/>
                          <a:pt x="74" y="346"/>
                        </a:cubicBezTo>
                        <a:cubicBezTo>
                          <a:pt x="48" y="264"/>
                          <a:pt x="4" y="44"/>
                          <a:pt x="2" y="22"/>
                        </a:cubicBezTo>
                        <a:cubicBezTo>
                          <a:pt x="0" y="0"/>
                          <a:pt x="32" y="134"/>
                          <a:pt x="62" y="214"/>
                        </a:cubicBezTo>
                        <a:cubicBezTo>
                          <a:pt x="92" y="294"/>
                          <a:pt x="138" y="434"/>
                          <a:pt x="182" y="502"/>
                        </a:cubicBezTo>
                        <a:cubicBezTo>
                          <a:pt x="226" y="570"/>
                          <a:pt x="294" y="571"/>
                          <a:pt x="326" y="622"/>
                        </a:cubicBezTo>
                        <a:cubicBezTo>
                          <a:pt x="358" y="673"/>
                          <a:pt x="341" y="749"/>
                          <a:pt x="374" y="808"/>
                        </a:cubicBezTo>
                        <a:cubicBezTo>
                          <a:pt x="407" y="867"/>
                          <a:pt x="488" y="922"/>
                          <a:pt x="524" y="976"/>
                        </a:cubicBezTo>
                        <a:cubicBezTo>
                          <a:pt x="560" y="1030"/>
                          <a:pt x="566" y="1080"/>
                          <a:pt x="590" y="1132"/>
                        </a:cubicBezTo>
                        <a:cubicBezTo>
                          <a:pt x="614" y="1184"/>
                          <a:pt x="643" y="1248"/>
                          <a:pt x="668" y="1288"/>
                        </a:cubicBezTo>
                        <a:cubicBezTo>
                          <a:pt x="693" y="1328"/>
                          <a:pt x="727" y="1328"/>
                          <a:pt x="740" y="1372"/>
                        </a:cubicBezTo>
                        <a:cubicBezTo>
                          <a:pt x="753" y="1416"/>
                          <a:pt x="746" y="1266"/>
                          <a:pt x="746" y="1552"/>
                        </a:cubicBezTo>
                        <a:cubicBezTo>
                          <a:pt x="746" y="1838"/>
                          <a:pt x="737" y="2784"/>
                          <a:pt x="740" y="3088"/>
                        </a:cubicBezTo>
                        <a:cubicBezTo>
                          <a:pt x="743" y="3392"/>
                          <a:pt x="757" y="3322"/>
                          <a:pt x="764" y="3376"/>
                        </a:cubicBezTo>
                        <a:cubicBezTo>
                          <a:pt x="771" y="3430"/>
                          <a:pt x="802" y="3408"/>
                          <a:pt x="782" y="3412"/>
                        </a:cubicBezTo>
                        <a:cubicBezTo>
                          <a:pt x="762" y="3416"/>
                          <a:pt x="642" y="3453"/>
                          <a:pt x="620" y="3406"/>
                        </a:cubicBez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8607600" y="4621320"/>
                    <a:ext cx="329760" cy="67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0" h="1641">
                        <a:moveTo>
                          <a:pt x="18" y="1534"/>
                        </a:moveTo>
                        <a:cubicBezTo>
                          <a:pt x="50" y="1473"/>
                          <a:pt x="83" y="1413"/>
                          <a:pt x="108" y="1342"/>
                        </a:cubicBezTo>
                        <a:cubicBezTo>
                          <a:pt x="133" y="1271"/>
                          <a:pt x="160" y="1189"/>
                          <a:pt x="171" y="1105"/>
                        </a:cubicBezTo>
                        <a:cubicBezTo>
                          <a:pt x="182" y="1021"/>
                          <a:pt x="171" y="895"/>
                          <a:pt x="171" y="838"/>
                        </a:cubicBezTo>
                        <a:cubicBezTo>
                          <a:pt x="171" y="781"/>
                          <a:pt x="179" y="786"/>
                          <a:pt x="174" y="760"/>
                        </a:cubicBezTo>
                        <a:cubicBezTo>
                          <a:pt x="169" y="734"/>
                          <a:pt x="151" y="717"/>
                          <a:pt x="138" y="682"/>
                        </a:cubicBezTo>
                        <a:cubicBezTo>
                          <a:pt x="125" y="647"/>
                          <a:pt x="106" y="592"/>
                          <a:pt x="96" y="553"/>
                        </a:cubicBezTo>
                        <a:cubicBezTo>
                          <a:pt x="86" y="514"/>
                          <a:pt x="87" y="486"/>
                          <a:pt x="75" y="445"/>
                        </a:cubicBezTo>
                        <a:cubicBezTo>
                          <a:pt x="63" y="404"/>
                          <a:pt x="24" y="318"/>
                          <a:pt x="21" y="304"/>
                        </a:cubicBezTo>
                        <a:cubicBezTo>
                          <a:pt x="18" y="290"/>
                          <a:pt x="42" y="336"/>
                          <a:pt x="54" y="361"/>
                        </a:cubicBezTo>
                        <a:cubicBezTo>
                          <a:pt x="66" y="386"/>
                          <a:pt x="84" y="435"/>
                          <a:pt x="93" y="454"/>
                        </a:cubicBezTo>
                        <a:cubicBezTo>
                          <a:pt x="102" y="473"/>
                          <a:pt x="102" y="488"/>
                          <a:pt x="108" y="475"/>
                        </a:cubicBezTo>
                        <a:cubicBezTo>
                          <a:pt x="114" y="462"/>
                          <a:pt x="130" y="402"/>
                          <a:pt x="132" y="373"/>
                        </a:cubicBezTo>
                        <a:cubicBezTo>
                          <a:pt x="134" y="344"/>
                          <a:pt x="122" y="299"/>
                          <a:pt x="123" y="298"/>
                        </a:cubicBezTo>
                        <a:cubicBezTo>
                          <a:pt x="124" y="297"/>
                          <a:pt x="139" y="337"/>
                          <a:pt x="141" y="364"/>
                        </a:cubicBezTo>
                        <a:cubicBezTo>
                          <a:pt x="143" y="391"/>
                          <a:pt x="140" y="436"/>
                          <a:pt x="135" y="463"/>
                        </a:cubicBezTo>
                        <a:cubicBezTo>
                          <a:pt x="130" y="490"/>
                          <a:pt x="113" y="499"/>
                          <a:pt x="114" y="526"/>
                        </a:cubicBezTo>
                        <a:cubicBezTo>
                          <a:pt x="115" y="553"/>
                          <a:pt x="131" y="596"/>
                          <a:pt x="141" y="628"/>
                        </a:cubicBezTo>
                        <a:cubicBezTo>
                          <a:pt x="151" y="660"/>
                          <a:pt x="166" y="705"/>
                          <a:pt x="174" y="718"/>
                        </a:cubicBezTo>
                        <a:cubicBezTo>
                          <a:pt x="182" y="731"/>
                          <a:pt x="183" y="725"/>
                          <a:pt x="189" y="706"/>
                        </a:cubicBezTo>
                        <a:cubicBezTo>
                          <a:pt x="195" y="687"/>
                          <a:pt x="205" y="644"/>
                          <a:pt x="213" y="601"/>
                        </a:cubicBezTo>
                        <a:cubicBezTo>
                          <a:pt x="221" y="558"/>
                          <a:pt x="231" y="483"/>
                          <a:pt x="234" y="448"/>
                        </a:cubicBezTo>
                        <a:cubicBezTo>
                          <a:pt x="237" y="413"/>
                          <a:pt x="244" y="420"/>
                          <a:pt x="234" y="388"/>
                        </a:cubicBezTo>
                        <a:cubicBezTo>
                          <a:pt x="224" y="356"/>
                          <a:pt x="191" y="300"/>
                          <a:pt x="177" y="256"/>
                        </a:cubicBezTo>
                        <a:cubicBezTo>
                          <a:pt x="163" y="212"/>
                          <a:pt x="151" y="131"/>
                          <a:pt x="150" y="124"/>
                        </a:cubicBezTo>
                        <a:cubicBezTo>
                          <a:pt x="149" y="117"/>
                          <a:pt x="159" y="178"/>
                          <a:pt x="171" y="214"/>
                        </a:cubicBezTo>
                        <a:cubicBezTo>
                          <a:pt x="183" y="250"/>
                          <a:pt x="210" y="315"/>
                          <a:pt x="222" y="340"/>
                        </a:cubicBezTo>
                        <a:cubicBezTo>
                          <a:pt x="234" y="365"/>
                          <a:pt x="231" y="377"/>
                          <a:pt x="243" y="364"/>
                        </a:cubicBezTo>
                        <a:cubicBezTo>
                          <a:pt x="255" y="351"/>
                          <a:pt x="283" y="294"/>
                          <a:pt x="297" y="262"/>
                        </a:cubicBezTo>
                        <a:cubicBezTo>
                          <a:pt x="311" y="230"/>
                          <a:pt x="325" y="202"/>
                          <a:pt x="327" y="169"/>
                        </a:cubicBezTo>
                        <a:cubicBezTo>
                          <a:pt x="329" y="136"/>
                          <a:pt x="310" y="89"/>
                          <a:pt x="309" y="64"/>
                        </a:cubicBezTo>
                        <a:cubicBezTo>
                          <a:pt x="308" y="39"/>
                          <a:pt x="315" y="6"/>
                          <a:pt x="318" y="16"/>
                        </a:cubicBezTo>
                        <a:cubicBezTo>
                          <a:pt x="321" y="26"/>
                          <a:pt x="324" y="99"/>
                          <a:pt x="327" y="124"/>
                        </a:cubicBezTo>
                        <a:cubicBezTo>
                          <a:pt x="330" y="149"/>
                          <a:pt x="327" y="177"/>
                          <a:pt x="339" y="169"/>
                        </a:cubicBezTo>
                        <a:cubicBezTo>
                          <a:pt x="351" y="161"/>
                          <a:pt x="381" y="100"/>
                          <a:pt x="399" y="73"/>
                        </a:cubicBezTo>
                        <a:cubicBezTo>
                          <a:pt x="417" y="46"/>
                          <a:pt x="440" y="12"/>
                          <a:pt x="447" y="7"/>
                        </a:cubicBezTo>
                        <a:cubicBezTo>
                          <a:pt x="454" y="2"/>
                          <a:pt x="457" y="18"/>
                          <a:pt x="444" y="43"/>
                        </a:cubicBezTo>
                        <a:cubicBezTo>
                          <a:pt x="431" y="68"/>
                          <a:pt x="388" y="126"/>
                          <a:pt x="369" y="160"/>
                        </a:cubicBezTo>
                        <a:cubicBezTo>
                          <a:pt x="350" y="194"/>
                          <a:pt x="346" y="213"/>
                          <a:pt x="330" y="247"/>
                        </a:cubicBezTo>
                        <a:cubicBezTo>
                          <a:pt x="314" y="281"/>
                          <a:pt x="282" y="339"/>
                          <a:pt x="270" y="364"/>
                        </a:cubicBezTo>
                        <a:cubicBezTo>
                          <a:pt x="258" y="389"/>
                          <a:pt x="262" y="376"/>
                          <a:pt x="258" y="397"/>
                        </a:cubicBezTo>
                        <a:cubicBezTo>
                          <a:pt x="254" y="418"/>
                          <a:pt x="250" y="457"/>
                          <a:pt x="246" y="493"/>
                        </a:cubicBezTo>
                        <a:cubicBezTo>
                          <a:pt x="242" y="529"/>
                          <a:pt x="239" y="573"/>
                          <a:pt x="231" y="616"/>
                        </a:cubicBezTo>
                        <a:cubicBezTo>
                          <a:pt x="223" y="659"/>
                          <a:pt x="204" y="702"/>
                          <a:pt x="198" y="751"/>
                        </a:cubicBezTo>
                        <a:cubicBezTo>
                          <a:pt x="192" y="800"/>
                          <a:pt x="193" y="871"/>
                          <a:pt x="192" y="913"/>
                        </a:cubicBezTo>
                        <a:cubicBezTo>
                          <a:pt x="191" y="955"/>
                          <a:pt x="192" y="978"/>
                          <a:pt x="192" y="1006"/>
                        </a:cubicBezTo>
                        <a:cubicBezTo>
                          <a:pt x="192" y="1034"/>
                          <a:pt x="181" y="1089"/>
                          <a:pt x="195" y="1081"/>
                        </a:cubicBezTo>
                        <a:cubicBezTo>
                          <a:pt x="209" y="1073"/>
                          <a:pt x="250" y="996"/>
                          <a:pt x="276" y="955"/>
                        </a:cubicBezTo>
                        <a:cubicBezTo>
                          <a:pt x="302" y="914"/>
                          <a:pt x="338" y="863"/>
                          <a:pt x="354" y="832"/>
                        </a:cubicBezTo>
                        <a:cubicBezTo>
                          <a:pt x="370" y="801"/>
                          <a:pt x="369" y="807"/>
                          <a:pt x="372" y="766"/>
                        </a:cubicBezTo>
                        <a:cubicBezTo>
                          <a:pt x="375" y="725"/>
                          <a:pt x="374" y="631"/>
                          <a:pt x="372" y="583"/>
                        </a:cubicBezTo>
                        <a:cubicBezTo>
                          <a:pt x="370" y="535"/>
                          <a:pt x="360" y="519"/>
                          <a:pt x="360" y="478"/>
                        </a:cubicBezTo>
                        <a:cubicBezTo>
                          <a:pt x="360" y="437"/>
                          <a:pt x="368" y="372"/>
                          <a:pt x="369" y="334"/>
                        </a:cubicBezTo>
                        <a:cubicBezTo>
                          <a:pt x="370" y="296"/>
                          <a:pt x="360" y="275"/>
                          <a:pt x="369" y="250"/>
                        </a:cubicBezTo>
                        <a:cubicBezTo>
                          <a:pt x="378" y="225"/>
                          <a:pt x="410" y="207"/>
                          <a:pt x="426" y="181"/>
                        </a:cubicBezTo>
                        <a:cubicBezTo>
                          <a:pt x="442" y="155"/>
                          <a:pt x="450" y="120"/>
                          <a:pt x="465" y="91"/>
                        </a:cubicBezTo>
                        <a:cubicBezTo>
                          <a:pt x="480" y="62"/>
                          <a:pt x="511" y="14"/>
                          <a:pt x="516" y="7"/>
                        </a:cubicBezTo>
                        <a:cubicBezTo>
                          <a:pt x="521" y="0"/>
                          <a:pt x="506" y="31"/>
                          <a:pt x="498" y="49"/>
                        </a:cubicBezTo>
                        <a:cubicBezTo>
                          <a:pt x="490" y="67"/>
                          <a:pt x="477" y="95"/>
                          <a:pt x="468" y="115"/>
                        </a:cubicBezTo>
                        <a:cubicBezTo>
                          <a:pt x="459" y="135"/>
                          <a:pt x="452" y="153"/>
                          <a:pt x="444" y="169"/>
                        </a:cubicBezTo>
                        <a:cubicBezTo>
                          <a:pt x="436" y="185"/>
                          <a:pt x="432" y="194"/>
                          <a:pt x="423" y="208"/>
                        </a:cubicBezTo>
                        <a:cubicBezTo>
                          <a:pt x="414" y="222"/>
                          <a:pt x="395" y="242"/>
                          <a:pt x="387" y="256"/>
                        </a:cubicBezTo>
                        <a:cubicBezTo>
                          <a:pt x="379" y="270"/>
                          <a:pt x="378" y="270"/>
                          <a:pt x="375" y="295"/>
                        </a:cubicBezTo>
                        <a:cubicBezTo>
                          <a:pt x="372" y="320"/>
                          <a:pt x="368" y="362"/>
                          <a:pt x="369" y="406"/>
                        </a:cubicBezTo>
                        <a:cubicBezTo>
                          <a:pt x="370" y="450"/>
                          <a:pt x="378" y="513"/>
                          <a:pt x="381" y="562"/>
                        </a:cubicBezTo>
                        <a:cubicBezTo>
                          <a:pt x="384" y="611"/>
                          <a:pt x="387" y="665"/>
                          <a:pt x="387" y="703"/>
                        </a:cubicBezTo>
                        <a:cubicBezTo>
                          <a:pt x="387" y="741"/>
                          <a:pt x="370" y="792"/>
                          <a:pt x="381" y="793"/>
                        </a:cubicBezTo>
                        <a:cubicBezTo>
                          <a:pt x="392" y="794"/>
                          <a:pt x="428" y="741"/>
                          <a:pt x="456" y="709"/>
                        </a:cubicBezTo>
                        <a:cubicBezTo>
                          <a:pt x="484" y="677"/>
                          <a:pt x="516" y="636"/>
                          <a:pt x="546" y="601"/>
                        </a:cubicBezTo>
                        <a:cubicBezTo>
                          <a:pt x="576" y="566"/>
                          <a:pt x="609" y="535"/>
                          <a:pt x="636" y="499"/>
                        </a:cubicBezTo>
                        <a:cubicBezTo>
                          <a:pt x="663" y="463"/>
                          <a:pt x="686" y="438"/>
                          <a:pt x="711" y="385"/>
                        </a:cubicBezTo>
                        <a:cubicBezTo>
                          <a:pt x="736" y="332"/>
                          <a:pt x="778" y="205"/>
                          <a:pt x="789" y="181"/>
                        </a:cubicBezTo>
                        <a:cubicBezTo>
                          <a:pt x="800" y="157"/>
                          <a:pt x="790" y="199"/>
                          <a:pt x="777" y="241"/>
                        </a:cubicBezTo>
                        <a:cubicBezTo>
                          <a:pt x="764" y="283"/>
                          <a:pt x="731" y="389"/>
                          <a:pt x="708" y="436"/>
                        </a:cubicBezTo>
                        <a:cubicBezTo>
                          <a:pt x="685" y="483"/>
                          <a:pt x="663" y="492"/>
                          <a:pt x="636" y="526"/>
                        </a:cubicBezTo>
                        <a:cubicBezTo>
                          <a:pt x="609" y="560"/>
                          <a:pt x="582" y="596"/>
                          <a:pt x="546" y="640"/>
                        </a:cubicBezTo>
                        <a:cubicBezTo>
                          <a:pt x="510" y="684"/>
                          <a:pt x="449" y="757"/>
                          <a:pt x="420" y="790"/>
                        </a:cubicBezTo>
                        <a:cubicBezTo>
                          <a:pt x="391" y="823"/>
                          <a:pt x="390" y="809"/>
                          <a:pt x="369" y="838"/>
                        </a:cubicBezTo>
                        <a:cubicBezTo>
                          <a:pt x="348" y="867"/>
                          <a:pt x="322" y="924"/>
                          <a:pt x="297" y="967"/>
                        </a:cubicBezTo>
                        <a:cubicBezTo>
                          <a:pt x="272" y="1010"/>
                          <a:pt x="236" y="1056"/>
                          <a:pt x="216" y="1099"/>
                        </a:cubicBezTo>
                        <a:cubicBezTo>
                          <a:pt x="196" y="1142"/>
                          <a:pt x="201" y="1159"/>
                          <a:pt x="180" y="1225"/>
                        </a:cubicBezTo>
                        <a:cubicBezTo>
                          <a:pt x="159" y="1291"/>
                          <a:pt x="117" y="1431"/>
                          <a:pt x="90" y="1498"/>
                        </a:cubicBezTo>
                        <a:cubicBezTo>
                          <a:pt x="63" y="1565"/>
                          <a:pt x="30" y="1619"/>
                          <a:pt x="15" y="1630"/>
                        </a:cubicBezTo>
                        <a:cubicBezTo>
                          <a:pt x="0" y="1641"/>
                          <a:pt x="0" y="1602"/>
                          <a:pt x="0" y="1564"/>
                        </a:cubicBezTo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8478000" y="4631400"/>
                    <a:ext cx="225360" cy="62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1535">
                        <a:moveTo>
                          <a:pt x="297" y="1446"/>
                        </a:moveTo>
                        <a:cubicBezTo>
                          <a:pt x="297" y="1390"/>
                          <a:pt x="309" y="1243"/>
                          <a:pt x="312" y="1167"/>
                        </a:cubicBezTo>
                        <a:cubicBezTo>
                          <a:pt x="315" y="1091"/>
                          <a:pt x="322" y="1031"/>
                          <a:pt x="318" y="987"/>
                        </a:cubicBezTo>
                        <a:cubicBezTo>
                          <a:pt x="314" y="943"/>
                          <a:pt x="313" y="957"/>
                          <a:pt x="288" y="903"/>
                        </a:cubicBezTo>
                        <a:cubicBezTo>
                          <a:pt x="263" y="849"/>
                          <a:pt x="191" y="720"/>
                          <a:pt x="165" y="663"/>
                        </a:cubicBezTo>
                        <a:cubicBezTo>
                          <a:pt x="139" y="606"/>
                          <a:pt x="145" y="581"/>
                          <a:pt x="132" y="558"/>
                        </a:cubicBezTo>
                        <a:cubicBezTo>
                          <a:pt x="119" y="535"/>
                          <a:pt x="105" y="553"/>
                          <a:pt x="87" y="522"/>
                        </a:cubicBezTo>
                        <a:cubicBezTo>
                          <a:pt x="69" y="491"/>
                          <a:pt x="34" y="410"/>
                          <a:pt x="21" y="372"/>
                        </a:cubicBezTo>
                        <a:cubicBezTo>
                          <a:pt x="8" y="334"/>
                          <a:pt x="0" y="326"/>
                          <a:pt x="9" y="294"/>
                        </a:cubicBezTo>
                        <a:cubicBezTo>
                          <a:pt x="18" y="262"/>
                          <a:pt x="57" y="222"/>
                          <a:pt x="75" y="177"/>
                        </a:cubicBezTo>
                        <a:cubicBezTo>
                          <a:pt x="93" y="132"/>
                          <a:pt x="106" y="42"/>
                          <a:pt x="114" y="21"/>
                        </a:cubicBezTo>
                        <a:cubicBezTo>
                          <a:pt x="122" y="0"/>
                          <a:pt x="127" y="26"/>
                          <a:pt x="123" y="51"/>
                        </a:cubicBezTo>
                        <a:cubicBezTo>
                          <a:pt x="119" y="76"/>
                          <a:pt x="102" y="129"/>
                          <a:pt x="87" y="171"/>
                        </a:cubicBezTo>
                        <a:cubicBezTo>
                          <a:pt x="72" y="213"/>
                          <a:pt x="35" y="266"/>
                          <a:pt x="30" y="306"/>
                        </a:cubicBezTo>
                        <a:cubicBezTo>
                          <a:pt x="25" y="346"/>
                          <a:pt x="45" y="379"/>
                          <a:pt x="57" y="414"/>
                        </a:cubicBezTo>
                        <a:cubicBezTo>
                          <a:pt x="69" y="449"/>
                          <a:pt x="85" y="491"/>
                          <a:pt x="102" y="516"/>
                        </a:cubicBezTo>
                        <a:cubicBezTo>
                          <a:pt x="119" y="541"/>
                          <a:pt x="140" y="530"/>
                          <a:pt x="159" y="564"/>
                        </a:cubicBezTo>
                        <a:cubicBezTo>
                          <a:pt x="178" y="598"/>
                          <a:pt x="196" y="671"/>
                          <a:pt x="216" y="717"/>
                        </a:cubicBezTo>
                        <a:cubicBezTo>
                          <a:pt x="236" y="763"/>
                          <a:pt x="262" y="802"/>
                          <a:pt x="282" y="840"/>
                        </a:cubicBezTo>
                        <a:cubicBezTo>
                          <a:pt x="302" y="878"/>
                          <a:pt x="318" y="939"/>
                          <a:pt x="336" y="945"/>
                        </a:cubicBezTo>
                        <a:cubicBezTo>
                          <a:pt x="354" y="951"/>
                          <a:pt x="371" y="916"/>
                          <a:pt x="390" y="879"/>
                        </a:cubicBezTo>
                        <a:cubicBezTo>
                          <a:pt x="409" y="842"/>
                          <a:pt x="433" y="776"/>
                          <a:pt x="453" y="720"/>
                        </a:cubicBezTo>
                        <a:cubicBezTo>
                          <a:pt x="473" y="664"/>
                          <a:pt x="499" y="591"/>
                          <a:pt x="510" y="543"/>
                        </a:cubicBezTo>
                        <a:cubicBezTo>
                          <a:pt x="521" y="495"/>
                          <a:pt x="521" y="475"/>
                          <a:pt x="522" y="429"/>
                        </a:cubicBezTo>
                        <a:cubicBezTo>
                          <a:pt x="523" y="383"/>
                          <a:pt x="517" y="281"/>
                          <a:pt x="519" y="264"/>
                        </a:cubicBezTo>
                        <a:cubicBezTo>
                          <a:pt x="521" y="247"/>
                          <a:pt x="531" y="283"/>
                          <a:pt x="534" y="324"/>
                        </a:cubicBezTo>
                        <a:cubicBezTo>
                          <a:pt x="537" y="365"/>
                          <a:pt x="547" y="455"/>
                          <a:pt x="540" y="513"/>
                        </a:cubicBezTo>
                        <a:cubicBezTo>
                          <a:pt x="533" y="571"/>
                          <a:pt x="509" y="624"/>
                          <a:pt x="492" y="675"/>
                        </a:cubicBezTo>
                        <a:cubicBezTo>
                          <a:pt x="475" y="726"/>
                          <a:pt x="461" y="774"/>
                          <a:pt x="441" y="822"/>
                        </a:cubicBezTo>
                        <a:cubicBezTo>
                          <a:pt x="421" y="870"/>
                          <a:pt x="387" y="917"/>
                          <a:pt x="372" y="963"/>
                        </a:cubicBezTo>
                        <a:cubicBezTo>
                          <a:pt x="357" y="1009"/>
                          <a:pt x="357" y="1014"/>
                          <a:pt x="351" y="1098"/>
                        </a:cubicBezTo>
                        <a:cubicBezTo>
                          <a:pt x="345" y="1182"/>
                          <a:pt x="343" y="1399"/>
                          <a:pt x="336" y="1467"/>
                        </a:cubicBezTo>
                        <a:cubicBezTo>
                          <a:pt x="329" y="1535"/>
                          <a:pt x="316" y="1510"/>
                          <a:pt x="309" y="1506"/>
                        </a:cubicBezTo>
                        <a:cubicBezTo>
                          <a:pt x="302" y="1502"/>
                          <a:pt x="297" y="1502"/>
                          <a:pt x="297" y="1446"/>
                        </a:cubicBez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8401320" y="4631400"/>
                    <a:ext cx="71640" cy="29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29">
                        <a:moveTo>
                          <a:pt x="51" y="681"/>
                        </a:moveTo>
                        <a:cubicBezTo>
                          <a:pt x="60" y="636"/>
                          <a:pt x="69" y="591"/>
                          <a:pt x="75" y="537"/>
                        </a:cubicBezTo>
                        <a:cubicBezTo>
                          <a:pt x="81" y="483"/>
                          <a:pt x="91" y="400"/>
                          <a:pt x="87" y="357"/>
                        </a:cubicBezTo>
                        <a:cubicBezTo>
                          <a:pt x="83" y="314"/>
                          <a:pt x="62" y="311"/>
                          <a:pt x="54" y="282"/>
                        </a:cubicBezTo>
                        <a:cubicBezTo>
                          <a:pt x="46" y="253"/>
                          <a:pt x="45" y="214"/>
                          <a:pt x="36" y="183"/>
                        </a:cubicBezTo>
                        <a:cubicBezTo>
                          <a:pt x="27" y="152"/>
                          <a:pt x="0" y="98"/>
                          <a:pt x="0" y="93"/>
                        </a:cubicBezTo>
                        <a:cubicBezTo>
                          <a:pt x="0" y="88"/>
                          <a:pt x="25" y="123"/>
                          <a:pt x="36" y="150"/>
                        </a:cubicBezTo>
                        <a:cubicBezTo>
                          <a:pt x="47" y="177"/>
                          <a:pt x="61" y="228"/>
                          <a:pt x="69" y="255"/>
                        </a:cubicBezTo>
                        <a:cubicBezTo>
                          <a:pt x="77" y="282"/>
                          <a:pt x="81" y="315"/>
                          <a:pt x="87" y="312"/>
                        </a:cubicBezTo>
                        <a:cubicBezTo>
                          <a:pt x="93" y="309"/>
                          <a:pt x="101" y="264"/>
                          <a:pt x="108" y="237"/>
                        </a:cubicBezTo>
                        <a:cubicBezTo>
                          <a:pt x="115" y="210"/>
                          <a:pt x="123" y="172"/>
                          <a:pt x="129" y="147"/>
                        </a:cubicBezTo>
                        <a:cubicBezTo>
                          <a:pt x="135" y="122"/>
                          <a:pt x="139" y="107"/>
                          <a:pt x="144" y="84"/>
                        </a:cubicBezTo>
                        <a:cubicBezTo>
                          <a:pt x="149" y="61"/>
                          <a:pt x="155" y="12"/>
                          <a:pt x="159" y="6"/>
                        </a:cubicBezTo>
                        <a:cubicBezTo>
                          <a:pt x="163" y="0"/>
                          <a:pt x="174" y="17"/>
                          <a:pt x="171" y="45"/>
                        </a:cubicBezTo>
                        <a:cubicBezTo>
                          <a:pt x="168" y="73"/>
                          <a:pt x="148" y="130"/>
                          <a:pt x="138" y="174"/>
                        </a:cubicBezTo>
                        <a:cubicBezTo>
                          <a:pt x="128" y="218"/>
                          <a:pt x="113" y="278"/>
                          <a:pt x="108" y="312"/>
                        </a:cubicBezTo>
                        <a:cubicBezTo>
                          <a:pt x="103" y="346"/>
                          <a:pt x="105" y="347"/>
                          <a:pt x="105" y="381"/>
                        </a:cubicBezTo>
                        <a:cubicBezTo>
                          <a:pt x="105" y="415"/>
                          <a:pt x="114" y="458"/>
                          <a:pt x="108" y="516"/>
                        </a:cubicBezTo>
                        <a:cubicBezTo>
                          <a:pt x="102" y="574"/>
                          <a:pt x="85" y="651"/>
                          <a:pt x="69" y="729"/>
                        </a:cubicBezTo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8561520" y="4597920"/>
                    <a:ext cx="27396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165">
                        <a:moveTo>
                          <a:pt x="154" y="4"/>
                        </a:moveTo>
                        <a:cubicBezTo>
                          <a:pt x="114" y="8"/>
                          <a:pt x="56" y="26"/>
                          <a:pt x="32" y="44"/>
                        </a:cubicBezTo>
                        <a:cubicBezTo>
                          <a:pt x="8" y="62"/>
                          <a:pt x="0" y="91"/>
                          <a:pt x="8" y="110"/>
                        </a:cubicBezTo>
                        <a:cubicBezTo>
                          <a:pt x="16" y="129"/>
                          <a:pt x="38" y="155"/>
                          <a:pt x="78" y="160"/>
                        </a:cubicBezTo>
                        <a:cubicBezTo>
                          <a:pt x="118" y="165"/>
                          <a:pt x="204" y="145"/>
                          <a:pt x="248" y="138"/>
                        </a:cubicBezTo>
                        <a:cubicBezTo>
                          <a:pt x="292" y="131"/>
                          <a:pt x="325" y="131"/>
                          <a:pt x="342" y="116"/>
                        </a:cubicBezTo>
                        <a:cubicBezTo>
                          <a:pt x="359" y="101"/>
                          <a:pt x="362" y="64"/>
                          <a:pt x="350" y="48"/>
                        </a:cubicBezTo>
                        <a:cubicBezTo>
                          <a:pt x="338" y="32"/>
                          <a:pt x="306" y="28"/>
                          <a:pt x="272" y="20"/>
                        </a:cubicBezTo>
                        <a:cubicBezTo>
                          <a:pt x="238" y="12"/>
                          <a:pt x="194" y="0"/>
                          <a:pt x="154" y="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8456040" y="4529160"/>
                    <a:ext cx="316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292">
                        <a:moveTo>
                          <a:pt x="156" y="98"/>
                        </a:moveTo>
                        <a:cubicBezTo>
                          <a:pt x="158" y="98"/>
                          <a:pt x="108" y="116"/>
                          <a:pt x="90" y="128"/>
                        </a:cubicBezTo>
                        <a:cubicBezTo>
                          <a:pt x="72" y="140"/>
                          <a:pt x="56" y="154"/>
                          <a:pt x="48" y="172"/>
                        </a:cubicBezTo>
                        <a:cubicBezTo>
                          <a:pt x="40" y="190"/>
                          <a:pt x="32" y="219"/>
                          <a:pt x="42" y="236"/>
                        </a:cubicBezTo>
                        <a:cubicBezTo>
                          <a:pt x="52" y="253"/>
                          <a:pt x="72" y="266"/>
                          <a:pt x="110" y="274"/>
                        </a:cubicBezTo>
                        <a:cubicBezTo>
                          <a:pt x="148" y="282"/>
                          <a:pt x="228" y="285"/>
                          <a:pt x="268" y="284"/>
                        </a:cubicBezTo>
                        <a:cubicBezTo>
                          <a:pt x="308" y="283"/>
                          <a:pt x="327" y="280"/>
                          <a:pt x="352" y="268"/>
                        </a:cubicBezTo>
                        <a:cubicBezTo>
                          <a:pt x="377" y="256"/>
                          <a:pt x="398" y="224"/>
                          <a:pt x="416" y="210"/>
                        </a:cubicBezTo>
                        <a:cubicBezTo>
                          <a:pt x="434" y="196"/>
                          <a:pt x="443" y="179"/>
                          <a:pt x="460" y="186"/>
                        </a:cubicBezTo>
                        <a:cubicBezTo>
                          <a:pt x="477" y="193"/>
                          <a:pt x="483" y="233"/>
                          <a:pt x="518" y="250"/>
                        </a:cubicBezTo>
                        <a:cubicBezTo>
                          <a:pt x="553" y="267"/>
                          <a:pt x="633" y="292"/>
                          <a:pt x="668" y="290"/>
                        </a:cubicBezTo>
                        <a:cubicBezTo>
                          <a:pt x="703" y="288"/>
                          <a:pt x="715" y="261"/>
                          <a:pt x="726" y="240"/>
                        </a:cubicBezTo>
                        <a:cubicBezTo>
                          <a:pt x="737" y="219"/>
                          <a:pt x="739" y="184"/>
                          <a:pt x="734" y="162"/>
                        </a:cubicBezTo>
                        <a:cubicBezTo>
                          <a:pt x="729" y="140"/>
                          <a:pt x="727" y="127"/>
                          <a:pt x="698" y="108"/>
                        </a:cubicBezTo>
                        <a:cubicBezTo>
                          <a:pt x="669" y="89"/>
                          <a:pt x="622" y="61"/>
                          <a:pt x="562" y="48"/>
                        </a:cubicBezTo>
                        <a:cubicBezTo>
                          <a:pt x="502" y="35"/>
                          <a:pt x="404" y="37"/>
                          <a:pt x="340" y="30"/>
                        </a:cubicBezTo>
                        <a:cubicBezTo>
                          <a:pt x="276" y="23"/>
                          <a:pt x="224" y="12"/>
                          <a:pt x="178" y="8"/>
                        </a:cubicBezTo>
                        <a:cubicBezTo>
                          <a:pt x="132" y="4"/>
                          <a:pt x="90" y="0"/>
                          <a:pt x="62" y="4"/>
                        </a:cubicBezTo>
                        <a:cubicBezTo>
                          <a:pt x="34" y="8"/>
                          <a:pt x="16" y="18"/>
                          <a:pt x="8" y="30"/>
                        </a:cubicBezTo>
                        <a:cubicBezTo>
                          <a:pt x="0" y="42"/>
                          <a:pt x="5" y="58"/>
                          <a:pt x="16" y="74"/>
                        </a:cubicBezTo>
                        <a:cubicBezTo>
                          <a:pt x="27" y="90"/>
                          <a:pt x="52" y="125"/>
                          <a:pt x="76" y="128"/>
                        </a:cubicBezTo>
                        <a:cubicBezTo>
                          <a:pt x="100" y="131"/>
                          <a:pt x="154" y="98"/>
                          <a:pt x="156" y="9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8300160" y="4551840"/>
                    <a:ext cx="21636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5" h="237">
                        <a:moveTo>
                          <a:pt x="22" y="130"/>
                        </a:moveTo>
                        <a:cubicBezTo>
                          <a:pt x="15" y="142"/>
                          <a:pt x="0" y="162"/>
                          <a:pt x="4" y="178"/>
                        </a:cubicBezTo>
                        <a:cubicBezTo>
                          <a:pt x="8" y="194"/>
                          <a:pt x="23" y="214"/>
                          <a:pt x="44" y="224"/>
                        </a:cubicBezTo>
                        <a:cubicBezTo>
                          <a:pt x="65" y="234"/>
                          <a:pt x="102" y="237"/>
                          <a:pt x="130" y="236"/>
                        </a:cubicBezTo>
                        <a:cubicBezTo>
                          <a:pt x="158" y="235"/>
                          <a:pt x="172" y="217"/>
                          <a:pt x="210" y="216"/>
                        </a:cubicBezTo>
                        <a:cubicBezTo>
                          <a:pt x="248" y="215"/>
                          <a:pt x="317" y="235"/>
                          <a:pt x="356" y="230"/>
                        </a:cubicBezTo>
                        <a:cubicBezTo>
                          <a:pt x="395" y="225"/>
                          <a:pt x="419" y="207"/>
                          <a:pt x="446" y="184"/>
                        </a:cubicBezTo>
                        <a:cubicBezTo>
                          <a:pt x="473" y="161"/>
                          <a:pt x="507" y="117"/>
                          <a:pt x="516" y="94"/>
                        </a:cubicBezTo>
                        <a:cubicBezTo>
                          <a:pt x="525" y="71"/>
                          <a:pt x="524" y="63"/>
                          <a:pt x="498" y="48"/>
                        </a:cubicBezTo>
                        <a:cubicBezTo>
                          <a:pt x="472" y="33"/>
                          <a:pt x="403" y="12"/>
                          <a:pt x="360" y="6"/>
                        </a:cubicBezTo>
                        <a:cubicBezTo>
                          <a:pt x="317" y="0"/>
                          <a:pt x="277" y="5"/>
                          <a:pt x="240" y="14"/>
                        </a:cubicBezTo>
                        <a:cubicBezTo>
                          <a:pt x="203" y="23"/>
                          <a:pt x="168" y="45"/>
                          <a:pt x="136" y="60"/>
                        </a:cubicBezTo>
                        <a:cubicBezTo>
                          <a:pt x="104" y="75"/>
                          <a:pt x="66" y="93"/>
                          <a:pt x="46" y="106"/>
                        </a:cubicBezTo>
                        <a:cubicBezTo>
                          <a:pt x="26" y="119"/>
                          <a:pt x="29" y="118"/>
                          <a:pt x="22" y="13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8256600" y="4623480"/>
                    <a:ext cx="17316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189">
                        <a:moveTo>
                          <a:pt x="112" y="3"/>
                        </a:moveTo>
                        <a:cubicBezTo>
                          <a:pt x="97" y="6"/>
                          <a:pt x="58" y="19"/>
                          <a:pt x="40" y="29"/>
                        </a:cubicBezTo>
                        <a:cubicBezTo>
                          <a:pt x="22" y="39"/>
                          <a:pt x="4" y="46"/>
                          <a:pt x="2" y="61"/>
                        </a:cubicBezTo>
                        <a:cubicBezTo>
                          <a:pt x="0" y="76"/>
                          <a:pt x="9" y="102"/>
                          <a:pt x="26" y="117"/>
                        </a:cubicBezTo>
                        <a:cubicBezTo>
                          <a:pt x="43" y="132"/>
                          <a:pt x="77" y="138"/>
                          <a:pt x="104" y="149"/>
                        </a:cubicBezTo>
                        <a:cubicBezTo>
                          <a:pt x="131" y="160"/>
                          <a:pt x="159" y="181"/>
                          <a:pt x="188" y="185"/>
                        </a:cubicBezTo>
                        <a:cubicBezTo>
                          <a:pt x="217" y="189"/>
                          <a:pt x="248" y="180"/>
                          <a:pt x="280" y="173"/>
                        </a:cubicBezTo>
                        <a:cubicBezTo>
                          <a:pt x="312" y="166"/>
                          <a:pt x="357" y="155"/>
                          <a:pt x="380" y="141"/>
                        </a:cubicBezTo>
                        <a:cubicBezTo>
                          <a:pt x="403" y="127"/>
                          <a:pt x="420" y="106"/>
                          <a:pt x="420" y="91"/>
                        </a:cubicBezTo>
                        <a:cubicBezTo>
                          <a:pt x="420" y="76"/>
                          <a:pt x="407" y="56"/>
                          <a:pt x="382" y="49"/>
                        </a:cubicBezTo>
                        <a:cubicBezTo>
                          <a:pt x="357" y="42"/>
                          <a:pt x="302" y="51"/>
                          <a:pt x="268" y="51"/>
                        </a:cubicBezTo>
                        <a:cubicBezTo>
                          <a:pt x="234" y="51"/>
                          <a:pt x="203" y="54"/>
                          <a:pt x="180" y="47"/>
                        </a:cubicBezTo>
                        <a:cubicBezTo>
                          <a:pt x="157" y="40"/>
                          <a:pt x="144" y="18"/>
                          <a:pt x="132" y="11"/>
                        </a:cubicBezTo>
                        <a:cubicBezTo>
                          <a:pt x="120" y="4"/>
                          <a:pt x="127" y="0"/>
                          <a:pt x="112" y="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8557560" y="4699440"/>
                    <a:ext cx="1490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165">
                        <a:moveTo>
                          <a:pt x="154" y="4"/>
                        </a:moveTo>
                        <a:cubicBezTo>
                          <a:pt x="114" y="8"/>
                          <a:pt x="56" y="26"/>
                          <a:pt x="32" y="44"/>
                        </a:cubicBezTo>
                        <a:cubicBezTo>
                          <a:pt x="8" y="62"/>
                          <a:pt x="0" y="91"/>
                          <a:pt x="8" y="110"/>
                        </a:cubicBezTo>
                        <a:cubicBezTo>
                          <a:pt x="16" y="129"/>
                          <a:pt x="38" y="155"/>
                          <a:pt x="78" y="160"/>
                        </a:cubicBezTo>
                        <a:cubicBezTo>
                          <a:pt x="118" y="165"/>
                          <a:pt x="204" y="145"/>
                          <a:pt x="248" y="138"/>
                        </a:cubicBezTo>
                        <a:cubicBezTo>
                          <a:pt x="292" y="131"/>
                          <a:pt x="325" y="131"/>
                          <a:pt x="342" y="116"/>
                        </a:cubicBezTo>
                        <a:cubicBezTo>
                          <a:pt x="359" y="101"/>
                          <a:pt x="362" y="64"/>
                          <a:pt x="350" y="48"/>
                        </a:cubicBezTo>
                        <a:cubicBezTo>
                          <a:pt x="338" y="32"/>
                          <a:pt x="306" y="28"/>
                          <a:pt x="272" y="20"/>
                        </a:cubicBezTo>
                        <a:cubicBezTo>
                          <a:pt x="238" y="12"/>
                          <a:pt x="194" y="0"/>
                          <a:pt x="154" y="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0" name=""/>
                <p:cNvGrpSpPr/>
                <p:nvPr/>
              </p:nvGrpSpPr>
              <p:grpSpPr>
                <a:xfrm>
                  <a:off x="8651520" y="5480640"/>
                  <a:ext cx="248760" cy="564840"/>
                  <a:chOff x="8651520" y="5480640"/>
                  <a:chExt cx="248760" cy="564840"/>
                </a:xfrm>
              </p:grpSpPr>
              <p:sp>
                <p:nvSpPr>
                  <p:cNvPr id="2551" name=""/>
                  <p:cNvSpPr/>
                  <p:nvPr/>
                </p:nvSpPr>
                <p:spPr>
                  <a:xfrm rot="21435000">
                    <a:off x="8760960" y="5511600"/>
                    <a:ext cx="26280" cy="5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960">
                        <a:moveTo>
                          <a:pt x="3" y="960"/>
                        </a:moveTo>
                        <a:cubicBezTo>
                          <a:pt x="1" y="911"/>
                          <a:pt x="0" y="862"/>
                          <a:pt x="9" y="798"/>
                        </a:cubicBezTo>
                        <a:cubicBezTo>
                          <a:pt x="18" y="734"/>
                          <a:pt x="51" y="644"/>
                          <a:pt x="57" y="576"/>
                        </a:cubicBezTo>
                        <a:cubicBezTo>
                          <a:pt x="63" y="508"/>
                          <a:pt x="44" y="455"/>
                          <a:pt x="45" y="390"/>
                        </a:cubicBezTo>
                        <a:cubicBezTo>
                          <a:pt x="46" y="325"/>
                          <a:pt x="63" y="251"/>
                          <a:pt x="63" y="186"/>
                        </a:cubicBezTo>
                        <a:cubicBezTo>
                          <a:pt x="63" y="121"/>
                          <a:pt x="54" y="60"/>
                          <a:pt x="45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 rot="250800">
                    <a:off x="8813880" y="5495760"/>
                    <a:ext cx="5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 rot="250800">
                    <a:off x="8822520" y="5491440"/>
                    <a:ext cx="57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 rot="20939400">
                    <a:off x="8831880" y="5490000"/>
                    <a:ext cx="5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 rot="20939400">
                    <a:off x="8840520" y="5487840"/>
                    <a:ext cx="5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 rot="20939400">
                    <a:off x="8849160" y="5486040"/>
                    <a:ext cx="4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 rot="20939400">
                    <a:off x="8856720" y="5485680"/>
                    <a:ext cx="3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 rot="20939400">
                    <a:off x="8865360" y="548640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 rot="21327600">
                    <a:off x="8872560" y="548784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 rot="250800">
                    <a:off x="8805240" y="5482800"/>
                    <a:ext cx="68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 rot="21435000">
                    <a:off x="8778600" y="5496120"/>
                    <a:ext cx="3276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53">
                        <a:moveTo>
                          <a:pt x="0" y="153"/>
                        </a:moveTo>
                        <a:cubicBezTo>
                          <a:pt x="12" y="139"/>
                          <a:pt x="24" y="126"/>
                          <a:pt x="33" y="108"/>
                        </a:cubicBezTo>
                        <a:cubicBezTo>
                          <a:pt x="42" y="90"/>
                          <a:pt x="47" y="60"/>
                          <a:pt x="54" y="42"/>
                        </a:cubicBezTo>
                        <a:cubicBezTo>
                          <a:pt x="61" y="24"/>
                          <a:pt x="69" y="12"/>
                          <a:pt x="7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 rot="21435000">
                    <a:off x="8781480" y="5667480"/>
                    <a:ext cx="615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07">
                        <a:moveTo>
                          <a:pt x="0" y="207"/>
                        </a:moveTo>
                        <a:cubicBezTo>
                          <a:pt x="17" y="188"/>
                          <a:pt x="35" y="169"/>
                          <a:pt x="54" y="147"/>
                        </a:cubicBezTo>
                        <a:cubicBezTo>
                          <a:pt x="73" y="125"/>
                          <a:pt x="99" y="96"/>
                          <a:pt x="114" y="72"/>
                        </a:cubicBezTo>
                        <a:cubicBezTo>
                          <a:pt x="129" y="48"/>
                          <a:pt x="138" y="24"/>
                          <a:pt x="147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 rot="21435000">
                    <a:off x="8733960" y="5611320"/>
                    <a:ext cx="414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65">
                        <a:moveTo>
                          <a:pt x="99" y="165"/>
                        </a:moveTo>
                        <a:cubicBezTo>
                          <a:pt x="88" y="151"/>
                          <a:pt x="77" y="137"/>
                          <a:pt x="66" y="123"/>
                        </a:cubicBezTo>
                        <a:cubicBezTo>
                          <a:pt x="55" y="109"/>
                          <a:pt x="44" y="98"/>
                          <a:pt x="33" y="78"/>
                        </a:cubicBezTo>
                        <a:cubicBezTo>
                          <a:pt x="22" y="58"/>
                          <a:pt x="11" y="29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 rot="21435000">
                    <a:off x="8708760" y="5608080"/>
                    <a:ext cx="327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63">
                        <a:moveTo>
                          <a:pt x="78" y="63"/>
                        </a:moveTo>
                        <a:cubicBezTo>
                          <a:pt x="59" y="54"/>
                          <a:pt x="40" y="46"/>
                          <a:pt x="27" y="36"/>
                        </a:cubicBezTo>
                        <a:cubicBezTo>
                          <a:pt x="14" y="26"/>
                          <a:pt x="7" y="13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 rot="21435000">
                    <a:off x="8776800" y="5886720"/>
                    <a:ext cx="13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9">
                        <a:moveTo>
                          <a:pt x="0" y="36"/>
                        </a:moveTo>
                        <a:cubicBezTo>
                          <a:pt x="11" y="37"/>
                          <a:pt x="22" y="39"/>
                          <a:pt x="27" y="33"/>
                        </a:cubicBezTo>
                        <a:cubicBezTo>
                          <a:pt x="32" y="27"/>
                          <a:pt x="32" y="5"/>
                          <a:pt x="33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 rot="21435000">
                    <a:off x="8775360" y="5821920"/>
                    <a:ext cx="79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7">
                        <a:moveTo>
                          <a:pt x="20" y="57"/>
                        </a:moveTo>
                        <a:cubicBezTo>
                          <a:pt x="12" y="51"/>
                          <a:pt x="4" y="45"/>
                          <a:pt x="2" y="36"/>
                        </a:cubicBezTo>
                        <a:cubicBezTo>
                          <a:pt x="0" y="27"/>
                          <a:pt x="2" y="13"/>
                          <a:pt x="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 rot="21435000">
                    <a:off x="8808120" y="5713920"/>
                    <a:ext cx="1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8">
                        <a:moveTo>
                          <a:pt x="0" y="48"/>
                        </a:moveTo>
                        <a:cubicBezTo>
                          <a:pt x="0" y="48"/>
                          <a:pt x="1" y="24"/>
                          <a:pt x="3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 rot="973200">
                    <a:off x="8810280" y="5522760"/>
                    <a:ext cx="5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 rot="973200">
                    <a:off x="8820360" y="5520240"/>
                    <a:ext cx="54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 rot="61800">
                    <a:off x="8837640" y="5521680"/>
                    <a:ext cx="5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 rot="61800">
                    <a:off x="8854200" y="5523840"/>
                    <a:ext cx="3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 rot="61800">
                    <a:off x="8862120" y="5527800"/>
                    <a:ext cx="3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 rot="450000">
                    <a:off x="8868960" y="553104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 rot="973200">
                    <a:off x="8802000" y="5516280"/>
                    <a:ext cx="684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 flipH="1" rot="20297400">
                    <a:off x="8788320" y="5505840"/>
                    <a:ext cx="5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 flipH="1" rot="20297400">
                    <a:off x="8778600" y="5504400"/>
                    <a:ext cx="5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 flipH="1" rot="21208800">
                    <a:off x="8770320" y="5506200"/>
                    <a:ext cx="5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 flipH="1" rot="21208800">
                    <a:off x="8760240" y="5508000"/>
                    <a:ext cx="4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 flipH="1" rot="21208800">
                    <a:off x="8753760" y="5509800"/>
                    <a:ext cx="4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 flipH="1" rot="21208800">
                    <a:off x="8745120" y="5512320"/>
                    <a:ext cx="43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 flipH="1" rot="21208800">
                    <a:off x="8739000" y="551700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 flipH="1" rot="20820600">
                    <a:off x="8732160" y="552060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 flipH="1" rot="20297400">
                    <a:off x="8733240" y="5501880"/>
                    <a:ext cx="68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 flipH="1" rot="19884600">
                    <a:off x="8759880" y="5543280"/>
                    <a:ext cx="5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 flipH="1" rot="19884600">
                    <a:off x="8750160" y="5544000"/>
                    <a:ext cx="5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 flipH="1" rot="20796000">
                    <a:off x="8740440" y="5546160"/>
                    <a:ext cx="5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 flipH="1" rot="20796000">
                    <a:off x="8724600" y="5552280"/>
                    <a:ext cx="4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 flipH="1" rot="20796000">
                    <a:off x="8717760" y="5556600"/>
                    <a:ext cx="36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 flipH="1" rot="20796000">
                    <a:off x="8710200" y="556272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 flipH="1" rot="20407800">
                    <a:off x="8704440" y="556704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 flipH="1" rot="19884600">
                    <a:off x="8704080" y="5543280"/>
                    <a:ext cx="68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 rot="1800600">
                    <a:off x="8781480" y="5531040"/>
                    <a:ext cx="4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 rot="889200">
                    <a:off x="8796960" y="5532840"/>
                    <a:ext cx="4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 rot="889200">
                    <a:off x="8812800" y="5538960"/>
                    <a:ext cx="32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 rot="889200">
                    <a:off x="8819280" y="5541480"/>
                    <a:ext cx="32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 rot="889200">
                    <a:off x="8825400" y="554724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 rot="1277400">
                    <a:off x="8829720" y="555156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 rot="1800600">
                    <a:off x="8775360" y="5529600"/>
                    <a:ext cx="583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 rot="1800600">
                    <a:off x="8739360" y="5611320"/>
                    <a:ext cx="5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 rot="1800600">
                    <a:off x="8747640" y="5610600"/>
                    <a:ext cx="4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 rot="889200">
                    <a:off x="8755200" y="5613120"/>
                    <a:ext cx="4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 rot="889200">
                    <a:off x="8763480" y="561600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 rot="889200">
                    <a:off x="8770320" y="5618520"/>
                    <a:ext cx="36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 rot="889200">
                    <a:off x="8777160" y="5621760"/>
                    <a:ext cx="32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 rot="889200">
                    <a:off x="8783280" y="562680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 rot="1277400">
                    <a:off x="8787960" y="563148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 rot="1800600">
                    <a:off x="8733240" y="5609880"/>
                    <a:ext cx="57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 flipH="1" rot="19470000">
                    <a:off x="8727120" y="5625360"/>
                    <a:ext cx="5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 flipH="1" rot="19470000">
                    <a:off x="8718840" y="5626800"/>
                    <a:ext cx="5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 flipH="1" rot="20381400">
                    <a:off x="8704080" y="563328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 flipH="1" rot="20381400">
                    <a:off x="8696520" y="5636880"/>
                    <a:ext cx="324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 flipH="1" rot="20381400">
                    <a:off x="8691480" y="5641200"/>
                    <a:ext cx="32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 flipH="1" rot="20381400">
                    <a:off x="8685360" y="564696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 flipH="1" rot="19993200">
                    <a:off x="8681040" y="565200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 flipH="1" rot="19470000">
                    <a:off x="8678520" y="5626800"/>
                    <a:ext cx="58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 flipH="1" rot="19470000">
                    <a:off x="8700480" y="5614560"/>
                    <a:ext cx="5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 rot="19470000">
                    <a:off x="8692560" y="5615640"/>
                    <a:ext cx="5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 flipH="1" rot="20381400">
                    <a:off x="8685720" y="5618880"/>
                    <a:ext cx="4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 flipH="1" rot="20381400">
                    <a:off x="8676720" y="562248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 flipH="1" rot="20381400">
                    <a:off x="8670240" y="5625360"/>
                    <a:ext cx="324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 flipH="1" rot="20381400">
                    <a:off x="8664840" y="5629680"/>
                    <a:ext cx="32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 flipH="1" rot="20381400">
                    <a:off x="8658720" y="563580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 flipH="1" rot="19993200">
                    <a:off x="8654400" y="564120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 flipH="1" rot="19470000">
                    <a:off x="8653320" y="5616360"/>
                    <a:ext cx="579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 flipH="1" rot="19470000">
                    <a:off x="8830080" y="5670360"/>
                    <a:ext cx="5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 flipH="1" rot="19470000">
                    <a:off x="8822160" y="5671800"/>
                    <a:ext cx="5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 flipH="1" rot="20381400">
                    <a:off x="8807400" y="567828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 flipH="1" rot="20381400">
                    <a:off x="8794440" y="5686200"/>
                    <a:ext cx="32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 flipH="1" rot="20381400">
                    <a:off x="8788320" y="569232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 flipH="1" rot="19993200">
                    <a:off x="8784360" y="5697360"/>
                    <a:ext cx="3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 flipH="1" rot="19470000">
                    <a:off x="8782200" y="5671800"/>
                    <a:ext cx="58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 rot="1800600">
                    <a:off x="8845200" y="5676480"/>
                    <a:ext cx="5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 rot="1800600">
                    <a:off x="8853840" y="5676120"/>
                    <a:ext cx="4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 rot="889200">
                    <a:off x="8861400" y="5678640"/>
                    <a:ext cx="4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 rot="889200">
                    <a:off x="8876520" y="5684760"/>
                    <a:ext cx="3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 rot="889200">
                    <a:off x="8883000" y="5687280"/>
                    <a:ext cx="32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 rot="1277400">
                    <a:off x="8894160" y="5697000"/>
                    <a:ext cx="3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 rot="1800600">
                    <a:off x="8839800" y="5675760"/>
                    <a:ext cx="57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 flipH="1" rot="20511000">
                    <a:off x="8797320" y="571536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 flipH="1" rot="21422400">
                    <a:off x="8782560" y="571392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 flipH="1" rot="21422400">
                    <a:off x="8775720" y="571428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 flipH="1" rot="21422400">
                    <a:off x="8769240" y="5715360"/>
                    <a:ext cx="32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 flipH="1" rot="21422400">
                    <a:off x="8764200" y="5717160"/>
                    <a:ext cx="2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 flipH="1" rot="21422400">
                    <a:off x="8758440" y="572004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 flipH="1" rot="21034800">
                    <a:off x="8753040" y="572220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 flipH="1" rot="20511000">
                    <a:off x="8754120" y="5709240"/>
                    <a:ext cx="51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 flipH="1" rot="20511000">
                    <a:off x="8763480" y="5825520"/>
                    <a:ext cx="43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 flipH="1" rot="20511000">
                    <a:off x="8756640" y="582372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 flipH="1" rot="21422400">
                    <a:off x="8743320" y="5824800"/>
                    <a:ext cx="43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 flipH="1" rot="21422400">
                    <a:off x="8731080" y="5826960"/>
                    <a:ext cx="28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 flipH="1" rot="21422400">
                    <a:off x="8725320" y="583020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 flipH="1" rot="21034800">
                    <a:off x="8719920" y="583236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 flipH="1" rot="20511000">
                    <a:off x="8721720" y="5819400"/>
                    <a:ext cx="51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 flipH="1" rot="20511000">
                    <a:off x="8777880" y="588492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 flipH="1" rot="20511000">
                    <a:off x="8770680" y="588312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H="1" rot="21422400">
                    <a:off x="8764200" y="5883480"/>
                    <a:ext cx="39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H="1" rot="21422400">
                    <a:off x="8744760" y="5886720"/>
                    <a:ext cx="2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 flipH="1" rot="21422400">
                    <a:off x="8739000" y="588996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H="1" rot="20511000">
                    <a:off x="8735040" y="5878800"/>
                    <a:ext cx="518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 rot="21448800">
                    <a:off x="8811720" y="5887800"/>
                    <a:ext cx="39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 rot="21448800">
                    <a:off x="8818200" y="588708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 rot="21448800">
                    <a:off x="8830800" y="5888520"/>
                    <a:ext cx="28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 rot="21448800">
                    <a:off x="8837280" y="589068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 rot="236400">
                    <a:off x="8842320" y="589320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 rot="759600">
                    <a:off x="8791560" y="5883480"/>
                    <a:ext cx="518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 rot="759600">
                    <a:off x="8782560" y="583272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 rot="759600">
                    <a:off x="8789760" y="582984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 rot="21448800">
                    <a:off x="8803800" y="582804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 rot="21448800">
                    <a:off x="8809920" y="5828760"/>
                    <a:ext cx="32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 rot="21448800">
                    <a:off x="8822520" y="583164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 rot="236400">
                    <a:off x="8827920" y="583416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 rot="759600">
                    <a:off x="8776800" y="5824800"/>
                    <a:ext cx="51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rot="759600">
                    <a:off x="8816400" y="572292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 rot="759600">
                    <a:off x="8823240" y="571968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 rot="21448800">
                    <a:off x="8830440" y="5718960"/>
                    <a:ext cx="39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 rot="21448800">
                    <a:off x="8837280" y="571788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 rot="21448800">
                    <a:off x="8843760" y="5718960"/>
                    <a:ext cx="32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 rot="21448800">
                    <a:off x="8849520" y="5719320"/>
                    <a:ext cx="28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 rot="21448800">
                    <a:off x="8856360" y="572148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 rot="236400">
                    <a:off x="8861400" y="572400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 rot="759600">
                    <a:off x="8810280" y="5714280"/>
                    <a:ext cx="518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2" name=""/>
                <p:cNvSpPr/>
                <p:nvPr/>
              </p:nvSpPr>
              <p:spPr>
                <a:xfrm flipV="1">
                  <a:off x="7431120" y="4539960"/>
                  <a:ext cx="812880" cy="142236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7473960" y="6054840"/>
                  <a:ext cx="970200" cy="1252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4" name=""/>
          <p:cNvSpPr/>
          <p:nvPr/>
        </p:nvSpPr>
        <p:spPr>
          <a:xfrm>
            <a:off x="-360" y="71280"/>
            <a:ext cx="54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MATERIEL &amp; METHOD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THODE D’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"/>
          <p:cNvSpPr/>
          <p:nvPr/>
        </p:nvSpPr>
        <p:spPr>
          <a:xfrm>
            <a:off x="2718000" y="2714760"/>
            <a:ext cx="34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Résulta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"/>
          <p:cNvSpPr/>
          <p:nvPr/>
        </p:nvSpPr>
        <p:spPr>
          <a:xfrm>
            <a:off x="382680" y="771480"/>
            <a:ext cx="4414680" cy="378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1339920" y="1822320"/>
            <a:ext cx="218880" cy="190836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1558800" y="2500200"/>
            <a:ext cx="209520" cy="123048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1768320" y="3430440"/>
            <a:ext cx="220680" cy="30024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1989000" y="3639960"/>
            <a:ext cx="220680" cy="9072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2209680" y="3670200"/>
            <a:ext cx="208080" cy="6048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2417760" y="3670200"/>
            <a:ext cx="222120" cy="6048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2639880" y="3699000"/>
            <a:ext cx="208080" cy="3168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2847960" y="3670200"/>
            <a:ext cx="220680" cy="6048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289320" y="3699000"/>
            <a:ext cx="208080" cy="3168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1339920" y="1181160"/>
            <a:ext cx="1440" cy="254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1281240" y="3730680"/>
            <a:ext cx="58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1281240" y="2879640"/>
            <a:ext cx="58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1281240" y="2028960"/>
            <a:ext cx="586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1281240" y="1181160"/>
            <a:ext cx="58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339920" y="3730680"/>
            <a:ext cx="34574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V="1">
            <a:off x="133992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V="1">
            <a:off x="155880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 flipV="1">
            <a:off x="176832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 flipV="1">
            <a:off x="198900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 flipV="1">
            <a:off x="220968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 flipV="1">
            <a:off x="2417760" y="3730680"/>
            <a:ext cx="32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263988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284796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306864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 flipV="1">
            <a:off x="328932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349740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371952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393876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414648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436896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V="1">
            <a:off x="457668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V="1">
            <a:off x="479736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064880" y="3576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877680" y="272880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877680" y="188280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877680" y="103176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1369800" y="38815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176328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219348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262224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305064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349200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392076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435096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2188080" y="4148280"/>
            <a:ext cx="1306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istance (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 rot="16200000">
            <a:off x="233280" y="228816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ffec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2179800" y="812880"/>
            <a:ext cx="2592360" cy="3988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égâts d’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6" name="" descr=""/>
          <p:cNvPicPr/>
          <p:nvPr/>
        </p:nvPicPr>
        <p:blipFill>
          <a:blip r:embed="rId2"/>
          <a:stretch/>
        </p:blipFill>
        <p:spPr>
          <a:xfrm>
            <a:off x="4842000" y="787320"/>
            <a:ext cx="4287600" cy="45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37" name=""/>
          <p:cNvSpPr/>
          <p:nvPr/>
        </p:nvSpPr>
        <p:spPr>
          <a:xfrm>
            <a:off x="392040" y="4592520"/>
            <a:ext cx="440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minimale des individus par rapport aux dégâts d’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720" y="71280"/>
            <a:ext cx="68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UCTURATION SPATIALE DU PEU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9" name=""/>
          <p:cNvGrpSpPr/>
          <p:nvPr/>
        </p:nvGrpSpPr>
        <p:grpSpPr>
          <a:xfrm>
            <a:off x="349200" y="773280"/>
            <a:ext cx="4470480" cy="3578040"/>
            <a:chOff x="349200" y="773280"/>
            <a:chExt cx="4470480" cy="3578040"/>
          </a:xfrm>
        </p:grpSpPr>
        <p:sp>
          <p:nvSpPr>
            <p:cNvPr id="2740" name=""/>
            <p:cNvSpPr/>
            <p:nvPr/>
          </p:nvSpPr>
          <p:spPr>
            <a:xfrm>
              <a:off x="349200" y="773280"/>
              <a:ext cx="4470480" cy="357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117440" y="1722600"/>
              <a:ext cx="88920" cy="15490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206360" y="1406520"/>
              <a:ext cx="101880" cy="1865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308240" y="1986120"/>
              <a:ext cx="88920" cy="1285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397160" y="1986120"/>
              <a:ext cx="99720" cy="1285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496880" y="2641680"/>
              <a:ext cx="90720" cy="630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587600" y="2567160"/>
              <a:ext cx="98280" cy="7045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685880" y="2616120"/>
              <a:ext cx="88920" cy="655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774800" y="2762280"/>
              <a:ext cx="92160" cy="509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866960" y="2687760"/>
              <a:ext cx="98280" cy="583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965240" y="2641680"/>
              <a:ext cx="88920" cy="630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054160" y="2641680"/>
              <a:ext cx="101520" cy="630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155680" y="2349360"/>
              <a:ext cx="88920" cy="9223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244600" y="2254320"/>
              <a:ext cx="98640" cy="1017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343240" y="2495520"/>
              <a:ext cx="92160" cy="776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435400" y="2424240"/>
              <a:ext cx="98280" cy="8474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533680" y="2206800"/>
              <a:ext cx="88920" cy="10648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622600" y="1986120"/>
              <a:ext cx="92160" cy="1285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714760" y="2400480"/>
              <a:ext cx="98280" cy="871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813040" y="1865160"/>
              <a:ext cx="88920" cy="14065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901960" y="1768320"/>
              <a:ext cx="101520" cy="1503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3003480" y="1844640"/>
              <a:ext cx="88920" cy="14270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092400" y="1212840"/>
              <a:ext cx="98640" cy="2058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191040" y="1406520"/>
              <a:ext cx="91800" cy="1865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282840" y="1430280"/>
              <a:ext cx="88920" cy="1841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371760" y="1212840"/>
              <a:ext cx="98640" cy="2058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3470400" y="1768320"/>
              <a:ext cx="88920" cy="1503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3559320" y="2400480"/>
              <a:ext cx="101520" cy="871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660840" y="2470320"/>
              <a:ext cx="88920" cy="801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749760" y="3151080"/>
              <a:ext cx="101520" cy="120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851280" y="3222720"/>
              <a:ext cx="88920" cy="489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940200" y="3222720"/>
              <a:ext cx="98280" cy="489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038480" y="3222720"/>
              <a:ext cx="90720" cy="489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406760" y="3222720"/>
              <a:ext cx="101880" cy="489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117440" y="1066680"/>
              <a:ext cx="1800" cy="22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1068480" y="3271680"/>
              <a:ext cx="4896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068480" y="2546280"/>
              <a:ext cx="4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068480" y="1793880"/>
              <a:ext cx="4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068480" y="1066680"/>
              <a:ext cx="4896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117440" y="3271680"/>
              <a:ext cx="367056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V="1">
              <a:off x="111744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V="1">
              <a:off x="120636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130824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13971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V="1">
              <a:off x="149688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15876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168588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V="1">
              <a:off x="17748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18669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196524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205416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15568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V="1">
              <a:off x="224460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234324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V="1">
              <a:off x="24354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253368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V="1">
              <a:off x="26226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27147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81304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V="1">
              <a:off x="29019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V="1">
              <a:off x="300348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V="1">
              <a:off x="309240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V="1">
              <a:off x="319104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328284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V="1">
              <a:off x="337176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34704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V="1">
              <a:off x="3559320" y="3271680"/>
              <a:ext cx="288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 flipV="1">
              <a:off x="366084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V="1">
              <a:off x="37497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V="1">
              <a:off x="385128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V="1">
              <a:off x="39402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V="1">
              <a:off x="403848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V="1">
              <a:off x="41292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V="1">
              <a:off x="42195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>
              <a:off x="431784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40676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V="1">
              <a:off x="450864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 flipV="1">
              <a:off x="45975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469908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V="1">
              <a:off x="47880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74440" y="3122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94880" y="2400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94880" y="16477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94880" y="922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112400" y="3435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352160" y="343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875960" y="343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436480" y="343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964960" y="34354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3524040" y="34354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106520" y="34354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044080" y="3740040"/>
              <a:ext cx="123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tance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 rot="16200000">
              <a:off x="-244080" y="1595160"/>
              <a:ext cx="180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ffectif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3" name="" descr=""/>
          <p:cNvPicPr/>
          <p:nvPr/>
        </p:nvPicPr>
        <p:blipFill>
          <a:blip r:embed="rId2"/>
          <a:stretch/>
        </p:blipFill>
        <p:spPr>
          <a:xfrm>
            <a:off x="4842000" y="787320"/>
            <a:ext cx="4287600" cy="45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4" name=""/>
          <p:cNvSpPr/>
          <p:nvPr/>
        </p:nvSpPr>
        <p:spPr>
          <a:xfrm>
            <a:off x="3517920" y="795240"/>
            <a:ext cx="1297080" cy="3988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as-f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5" name=""/>
          <p:cNvGrpSpPr/>
          <p:nvPr/>
        </p:nvGrpSpPr>
        <p:grpSpPr>
          <a:xfrm>
            <a:off x="4898880" y="579600"/>
            <a:ext cx="4186080" cy="5744520"/>
            <a:chOff x="4898880" y="579600"/>
            <a:chExt cx="4186080" cy="5744520"/>
          </a:xfrm>
        </p:grpSpPr>
        <p:pic>
          <p:nvPicPr>
            <p:cNvPr id="2836" name="" descr=""/>
            <p:cNvPicPr/>
            <p:nvPr/>
          </p:nvPicPr>
          <p:blipFill>
            <a:blip r:embed="rId3"/>
            <a:srcRect l="37913" t="8925" r="26398" b="44929"/>
            <a:stretch/>
          </p:blipFill>
          <p:spPr>
            <a:xfrm>
              <a:off x="4898880" y="579600"/>
              <a:ext cx="4186080" cy="574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37" name=""/>
            <p:cNvSpPr/>
            <p:nvPr/>
          </p:nvSpPr>
          <p:spPr>
            <a:xfrm rot="20085600">
              <a:off x="6016320" y="1844640"/>
              <a:ext cx="594360" cy="18255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6423120" y="3490560"/>
              <a:ext cx="39960" cy="13431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V="1">
              <a:off x="6520320" y="1362240"/>
              <a:ext cx="1344240" cy="1130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250240" y="1450440"/>
              <a:ext cx="11908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110 mèt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1" name=""/>
          <p:cNvSpPr/>
          <p:nvPr/>
        </p:nvSpPr>
        <p:spPr>
          <a:xfrm>
            <a:off x="392040" y="4406760"/>
            <a:ext cx="440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minimale des individus par rapport aux bas-f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720" y="71280"/>
            <a:ext cx="68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UCTURATION SPATIALE DU PEU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"/>
          <p:cNvGrpSpPr/>
          <p:nvPr/>
        </p:nvGrpSpPr>
        <p:grpSpPr>
          <a:xfrm>
            <a:off x="522360" y="5110200"/>
            <a:ext cx="3885480" cy="1690560"/>
            <a:chOff x="522360" y="5110200"/>
            <a:chExt cx="3885480" cy="1690560"/>
          </a:xfrm>
        </p:grpSpPr>
        <p:sp>
          <p:nvSpPr>
            <p:cNvPr id="2844" name=""/>
            <p:cNvSpPr/>
            <p:nvPr/>
          </p:nvSpPr>
          <p:spPr>
            <a:xfrm>
              <a:off x="522360" y="5110200"/>
              <a:ext cx="3803400" cy="1690560"/>
            </a:xfrm>
            <a:prstGeom prst="rect">
              <a:avLst/>
            </a:prstGeom>
            <a:gradFill rotWithShape="0">
              <a:gsLst>
                <a:gs pos="0">
                  <a:srgbClr val="99cc00">
                    <a:alpha val="16078"/>
                  </a:srgbClr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5" name=""/>
            <p:cNvGrpSpPr/>
            <p:nvPr/>
          </p:nvGrpSpPr>
          <p:grpSpPr>
            <a:xfrm>
              <a:off x="549360" y="5154480"/>
              <a:ext cx="3858480" cy="1603440"/>
              <a:chOff x="549360" y="5154480"/>
              <a:chExt cx="3858480" cy="1603440"/>
            </a:xfrm>
          </p:grpSpPr>
          <p:sp>
            <p:nvSpPr>
              <p:cNvPr id="2846" name=""/>
              <p:cNvSpPr/>
              <p:nvPr/>
            </p:nvSpPr>
            <p:spPr>
              <a:xfrm>
                <a:off x="1224720" y="5527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1230840" y="617832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84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2099160" y="556740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479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2129760" y="614520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8759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567960" y="554832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Comic Sans MS"/>
                  </a:rPr>
                  <a:t>28,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567960" y="61848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Comic Sans MS"/>
                  </a:rPr>
                  <a:t>29,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2016000" y="5197320"/>
                <a:ext cx="0" cy="15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333600" y="5154480"/>
                <a:ext cx="0" cy="160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63400" y="5589360"/>
                <a:ext cx="370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49360" y="6095880"/>
                <a:ext cx="371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1157400" y="5197320"/>
                <a:ext cx="0" cy="15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606600" y="563868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8" name=""/>
              <p:cNvGrpSpPr/>
              <p:nvPr/>
            </p:nvGrpSpPr>
            <p:grpSpPr>
              <a:xfrm>
                <a:off x="606600" y="6176880"/>
                <a:ext cx="463320" cy="442800"/>
                <a:chOff x="606600" y="6176880"/>
                <a:chExt cx="463320" cy="442800"/>
              </a:xfrm>
            </p:grpSpPr>
            <p:sp>
              <p:nvSpPr>
                <p:cNvPr id="2859" name=""/>
                <p:cNvSpPr/>
                <p:nvPr/>
              </p:nvSpPr>
              <p:spPr>
                <a:xfrm>
                  <a:off x="606600" y="6219720"/>
                  <a:ext cx="459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flipV="1">
                  <a:off x="625680" y="6176880"/>
                  <a:ext cx="442800" cy="44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flipH="1" flipV="1">
                  <a:off x="627120" y="6176880"/>
                  <a:ext cx="442800" cy="44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2" name=""/>
              <p:cNvSpPr/>
              <p:nvPr/>
            </p:nvSpPr>
            <p:spPr>
              <a:xfrm>
                <a:off x="1333800" y="5187960"/>
                <a:ext cx="49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N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2145600" y="5172120"/>
                <a:ext cx="98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urf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407040" y="5183280"/>
                <a:ext cx="100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Densit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5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7" name="" descr=""/>
          <p:cNvPicPr/>
          <p:nvPr/>
        </p:nvPicPr>
        <p:blipFill>
          <a:blip r:embed="rId2"/>
          <a:stretch/>
        </p:blipFill>
        <p:spPr>
          <a:xfrm>
            <a:off x="4842000" y="787320"/>
            <a:ext cx="4287600" cy="45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868" name=""/>
          <p:cNvGrpSpPr/>
          <p:nvPr/>
        </p:nvGrpSpPr>
        <p:grpSpPr>
          <a:xfrm>
            <a:off x="382680" y="736560"/>
            <a:ext cx="4440240" cy="4602600"/>
            <a:chOff x="382680" y="736560"/>
            <a:chExt cx="4440240" cy="4602600"/>
          </a:xfrm>
        </p:grpSpPr>
        <p:sp>
          <p:nvSpPr>
            <p:cNvPr id="2869" name=""/>
            <p:cNvSpPr/>
            <p:nvPr/>
          </p:nvSpPr>
          <p:spPr>
            <a:xfrm>
              <a:off x="382680" y="736560"/>
              <a:ext cx="4429080" cy="3888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06440" y="4635360"/>
              <a:ext cx="440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Distance minimale des individus par rapport aux individus dbh &gt; 20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374840" y="3106800"/>
              <a:ext cx="149400" cy="4665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524240" y="2664000"/>
              <a:ext cx="149040" cy="9093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673280" y="1803240"/>
              <a:ext cx="150840" cy="17701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824120" y="2298600"/>
              <a:ext cx="147600" cy="12747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971720" y="2376360"/>
              <a:ext cx="158760" cy="11970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2130480" y="2611440"/>
              <a:ext cx="149400" cy="9619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2279880" y="2558880"/>
              <a:ext cx="149040" cy="1014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2428920" y="2322360"/>
              <a:ext cx="147600" cy="12510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576520" y="2481120"/>
              <a:ext cx="149400" cy="1092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2725920" y="3078000"/>
              <a:ext cx="149040" cy="4953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874960" y="3289320"/>
              <a:ext cx="149400" cy="2840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024360" y="3367080"/>
              <a:ext cx="147600" cy="206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171960" y="3521160"/>
              <a:ext cx="149040" cy="52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470400" y="3549600"/>
              <a:ext cx="149040" cy="237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227240" y="1101600"/>
              <a:ext cx="1440" cy="247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1176480" y="3573360"/>
              <a:ext cx="507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1176480" y="2948040"/>
              <a:ext cx="507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176480" y="2351160"/>
              <a:ext cx="507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176480" y="1727280"/>
              <a:ext cx="507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1176480" y="1101600"/>
              <a:ext cx="507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1227240" y="3573360"/>
              <a:ext cx="3594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122724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V="1">
              <a:off x="137484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V="1">
              <a:off x="152424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V="1">
              <a:off x="167328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182412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197172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213048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V="1">
              <a:off x="227988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V="1">
              <a:off x="242892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V="1">
              <a:off x="257652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272592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 flipV="1">
              <a:off x="287496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302436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V="1">
              <a:off x="317196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 flipV="1">
              <a:off x="332100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347040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361944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376740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V="1">
              <a:off x="392760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407664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V="1">
              <a:off x="422604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437364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V="1">
              <a:off x="452304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V="1">
              <a:off x="467208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V="1">
              <a:off x="482148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028160" y="3341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948600" y="2716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869040" y="21160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869040" y="149076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869040" y="8668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252080" y="382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49472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78056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10600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40444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70144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00924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30624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60468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90312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159800" y="38242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234520" y="4189320"/>
              <a:ext cx="123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tance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rot="16200000">
              <a:off x="334800" y="2464560"/>
              <a:ext cx="72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ffectif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868840" y="770040"/>
              <a:ext cx="1942920" cy="39888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Disséminate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3381480" y="1604880"/>
            <a:ext cx="1258560" cy="2503440"/>
            <a:chOff x="3381480" y="1604880"/>
            <a:chExt cx="1258560" cy="2503440"/>
          </a:xfrm>
        </p:grpSpPr>
        <p:sp>
          <p:nvSpPr>
            <p:cNvPr id="2937" name=""/>
            <p:cNvSpPr/>
            <p:nvPr/>
          </p:nvSpPr>
          <p:spPr>
            <a:xfrm>
              <a:off x="3381480" y="1844640"/>
              <a:ext cx="0" cy="226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395520" y="160488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0 mèt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9" name=""/>
          <p:cNvSpPr/>
          <p:nvPr/>
        </p:nvSpPr>
        <p:spPr>
          <a:xfrm>
            <a:off x="720" y="71280"/>
            <a:ext cx="68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UCTURATION SPATIALE DU PEU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22880" y="2482920"/>
            <a:ext cx="802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Le contexte de l’é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1" name=""/>
          <p:cNvGrpSpPr/>
          <p:nvPr/>
        </p:nvGrpSpPr>
        <p:grpSpPr>
          <a:xfrm>
            <a:off x="468360" y="3666960"/>
            <a:ext cx="10102320" cy="3176280"/>
            <a:chOff x="468360" y="3666960"/>
            <a:chExt cx="10102320" cy="3176280"/>
          </a:xfrm>
        </p:grpSpPr>
        <p:sp>
          <p:nvSpPr>
            <p:cNvPr id="2942" name=""/>
            <p:cNvSpPr/>
            <p:nvPr/>
          </p:nvSpPr>
          <p:spPr>
            <a:xfrm>
              <a:off x="468360" y="4232160"/>
              <a:ext cx="2382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Peu d’individus mal conformés chez les arbres de diamètres les plus important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3" name=""/>
            <p:cNvGrpSpPr/>
            <p:nvPr/>
          </p:nvGrpSpPr>
          <p:grpSpPr>
            <a:xfrm>
              <a:off x="3063600" y="3666960"/>
              <a:ext cx="7507080" cy="3176280"/>
              <a:chOff x="3063600" y="3666960"/>
              <a:chExt cx="7507080" cy="3176280"/>
            </a:xfrm>
          </p:grpSpPr>
          <p:sp>
            <p:nvSpPr>
              <p:cNvPr id="2944" name=""/>
              <p:cNvSpPr/>
              <p:nvPr/>
            </p:nvSpPr>
            <p:spPr>
              <a:xfrm>
                <a:off x="3585960" y="3686040"/>
                <a:ext cx="6984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063600" y="3666960"/>
                <a:ext cx="5994000" cy="3176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3873240" y="5520960"/>
                <a:ext cx="255240" cy="61884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331880" y="5308560"/>
                <a:ext cx="244080" cy="83124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779720" y="5041800"/>
                <a:ext cx="255240" cy="109800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238360" y="4657680"/>
                <a:ext cx="255240" cy="148212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697360" y="4306680"/>
                <a:ext cx="244080" cy="183312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144840" y="4390920"/>
                <a:ext cx="255240" cy="174888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603840" y="4530600"/>
                <a:ext cx="255240" cy="160920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061040" y="4370040"/>
                <a:ext cx="245520" cy="176976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508520" y="4167000"/>
                <a:ext cx="257040" cy="197280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873240" y="4775040"/>
                <a:ext cx="255240" cy="74556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331880" y="4668480"/>
                <a:ext cx="244080" cy="63972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4779720" y="4381200"/>
                <a:ext cx="255240" cy="66024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238360" y="4348080"/>
                <a:ext cx="255240" cy="30924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697360" y="4017600"/>
                <a:ext cx="244080" cy="28872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6144840" y="4157280"/>
                <a:ext cx="255240" cy="23328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603840" y="4327200"/>
                <a:ext cx="255240" cy="20304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061040" y="3922560"/>
                <a:ext cx="245520" cy="44712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508520" y="3922560"/>
                <a:ext cx="257040" cy="24408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873240" y="4039920"/>
                <a:ext cx="255240" cy="734760"/>
              </a:xfrm>
              <a:prstGeom prst="rect">
                <a:avLst/>
              </a:prstGeom>
              <a:solidFill>
                <a:srgbClr val="008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331880" y="4135320"/>
                <a:ext cx="244080" cy="532800"/>
              </a:xfrm>
              <a:prstGeom prst="rect">
                <a:avLst/>
              </a:prstGeom>
              <a:solidFill>
                <a:srgbClr val="008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779720" y="4071600"/>
                <a:ext cx="255240" cy="309240"/>
              </a:xfrm>
              <a:prstGeom prst="rect">
                <a:avLst/>
              </a:prstGeom>
              <a:solidFill>
                <a:srgbClr val="008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238360" y="4028760"/>
                <a:ext cx="255240" cy="318960"/>
              </a:xfrm>
              <a:prstGeom prst="rect">
                <a:avLst/>
              </a:prstGeom>
              <a:solidFill>
                <a:srgbClr val="008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144840" y="3922560"/>
                <a:ext cx="255240" cy="234360"/>
              </a:xfrm>
              <a:prstGeom prst="rect">
                <a:avLst/>
              </a:prstGeom>
              <a:solidFill>
                <a:srgbClr val="008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873240" y="3922560"/>
                <a:ext cx="255240" cy="11700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331880" y="3922560"/>
                <a:ext cx="244080" cy="21240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779720" y="3922560"/>
                <a:ext cx="255240" cy="14868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238360" y="3922560"/>
                <a:ext cx="255240" cy="10584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697360" y="3922560"/>
                <a:ext cx="244080" cy="9468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603840" y="3922560"/>
                <a:ext cx="255240" cy="40428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777840" y="3922560"/>
                <a:ext cx="1440" cy="221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723840" y="6140160"/>
                <a:ext cx="5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723840" y="5692680"/>
                <a:ext cx="53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723840" y="5254560"/>
                <a:ext cx="53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723840" y="4806720"/>
                <a:ext cx="53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723840" y="4370040"/>
                <a:ext cx="5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723840" y="3922560"/>
                <a:ext cx="53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3777840" y="6140160"/>
                <a:ext cx="409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3777840" y="613980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235040" y="613980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684320" y="613980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5141520" y="613980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5600520" y="6139800"/>
                <a:ext cx="108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V="1">
                <a:off x="6048000" y="613980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6507000" y="6139800"/>
                <a:ext cx="108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6965640" y="6139800"/>
                <a:ext cx="108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7413480" y="6139800"/>
                <a:ext cx="108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7872120" y="6139800"/>
                <a:ext cx="108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3425400" y="6043320"/>
                <a:ext cx="220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0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3340080" y="559584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20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3340080" y="515916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40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3340080" y="471132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60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340080" y="427320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3254400" y="3825720"/>
                <a:ext cx="38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100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84192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1,2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430056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2,3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75956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3,4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20704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4,5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66424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5,6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12288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6,7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57072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7,8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02936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8,9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445520" y="6300720"/>
                <a:ext cx="398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9,10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186880" y="6576840"/>
                <a:ext cx="1713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lasses de diamèt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rot="16200000">
                <a:off x="2724840" y="4807440"/>
                <a:ext cx="959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por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999200" y="3762000"/>
                <a:ext cx="107640" cy="10620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8148600" y="3708360"/>
                <a:ext cx="727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lasse 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999200" y="4017600"/>
                <a:ext cx="107640" cy="106200"/>
              </a:xfrm>
              <a:prstGeom prst="rect">
                <a:avLst/>
              </a:prstGeom>
              <a:solidFill>
                <a:srgbClr val="008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8148240" y="3965400"/>
                <a:ext cx="717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lasse 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999200" y="4273200"/>
                <a:ext cx="107640" cy="10764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8148240" y="4221000"/>
                <a:ext cx="717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lasse 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999200" y="4530600"/>
                <a:ext cx="107640" cy="10584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8148600" y="4476600"/>
                <a:ext cx="727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lasse 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063600" y="3666960"/>
                <a:ext cx="5994000" cy="3176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9" name=""/>
          <p:cNvGrpSpPr/>
          <p:nvPr/>
        </p:nvGrpSpPr>
        <p:grpSpPr>
          <a:xfrm>
            <a:off x="476280" y="560520"/>
            <a:ext cx="8265960" cy="3052800"/>
            <a:chOff x="476280" y="560520"/>
            <a:chExt cx="8265960" cy="3052800"/>
          </a:xfrm>
        </p:grpSpPr>
        <p:sp>
          <p:nvSpPr>
            <p:cNvPr id="3020" name=""/>
            <p:cNvSpPr/>
            <p:nvPr/>
          </p:nvSpPr>
          <p:spPr>
            <a:xfrm>
              <a:off x="476280" y="560520"/>
              <a:ext cx="5532480" cy="3052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308240" y="1154160"/>
              <a:ext cx="166680" cy="18540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876320" y="2496960"/>
              <a:ext cx="165240" cy="511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443320" y="2814480"/>
              <a:ext cx="166680" cy="193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011400" y="2906640"/>
              <a:ext cx="166680" cy="1015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578400" y="2946240"/>
              <a:ext cx="166680" cy="619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146480" y="2987640"/>
              <a:ext cx="166680" cy="205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714920" y="2978280"/>
              <a:ext cx="166680" cy="298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281560" y="2978280"/>
              <a:ext cx="166680" cy="298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1474920" y="1246320"/>
              <a:ext cx="155520" cy="1761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2041560" y="2424240"/>
              <a:ext cx="156960" cy="583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610000" y="2844720"/>
              <a:ext cx="156960" cy="163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3178080" y="2916360"/>
              <a:ext cx="155520" cy="91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3745080" y="2936880"/>
              <a:ext cx="156960" cy="71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313160" y="2967120"/>
              <a:ext cx="157320" cy="41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881600" y="2987640"/>
              <a:ext cx="155520" cy="2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448240" y="2978280"/>
              <a:ext cx="157320" cy="29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1190520" y="704880"/>
              <a:ext cx="1800" cy="230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1141560" y="300816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141560" y="262908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1141560" y="223992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1141560" y="186228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1141560" y="147168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141560" y="109368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1141560" y="70488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1190520" y="3008160"/>
              <a:ext cx="4542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V="1">
              <a:off x="1190520" y="30081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758960" y="30081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V="1">
              <a:off x="2325600" y="30081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V="1">
              <a:off x="2894040" y="30081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3460680" y="30081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V="1">
              <a:off x="4029120" y="30081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4597560" y="30081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V="1">
              <a:off x="5164200" y="30081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V="1">
              <a:off x="5732640" y="30081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474920" y="1001880"/>
              <a:ext cx="556920" cy="1566720"/>
            </a:xfrm>
            <a:custGeom>
              <a:avLst/>
              <a:gdLst/>
              <a:ahLst/>
              <a:rect l="l" t="t" r="r" b="b"/>
              <a:pathLst>
                <a:path w="57" h="153">
                  <a:moveTo>
                    <a:pt x="0" y="0"/>
                  </a:moveTo>
                  <a:lnTo>
                    <a:pt x="4" y="26"/>
                  </a:lnTo>
                  <a:lnTo>
                    <a:pt x="8" y="47"/>
                  </a:lnTo>
                  <a:lnTo>
                    <a:pt x="11" y="64"/>
                  </a:lnTo>
                  <a:lnTo>
                    <a:pt x="15" y="79"/>
                  </a:lnTo>
                  <a:lnTo>
                    <a:pt x="19" y="91"/>
                  </a:lnTo>
                  <a:lnTo>
                    <a:pt x="23" y="102"/>
                  </a:lnTo>
                  <a:lnTo>
                    <a:pt x="27" y="111"/>
                  </a:lnTo>
                  <a:lnTo>
                    <a:pt x="31" y="118"/>
                  </a:lnTo>
                  <a:lnTo>
                    <a:pt x="34" y="125"/>
                  </a:lnTo>
                  <a:lnTo>
                    <a:pt x="38" y="131"/>
                  </a:lnTo>
                  <a:lnTo>
                    <a:pt x="42" y="137"/>
                  </a:lnTo>
                  <a:lnTo>
                    <a:pt x="46" y="141"/>
                  </a:lnTo>
                  <a:lnTo>
                    <a:pt x="50" y="145"/>
                  </a:lnTo>
                  <a:lnTo>
                    <a:pt x="54" y="149"/>
                  </a:lnTo>
                  <a:lnTo>
                    <a:pt x="57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031840" y="2568600"/>
              <a:ext cx="568440" cy="25560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0" y="0"/>
                  </a:moveTo>
                  <a:lnTo>
                    <a:pt x="4" y="3"/>
                  </a:lnTo>
                  <a:lnTo>
                    <a:pt x="8" y="5"/>
                  </a:lnTo>
                  <a:lnTo>
                    <a:pt x="12" y="8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3" y="14"/>
                  </a:lnTo>
                  <a:lnTo>
                    <a:pt x="27" y="15"/>
                  </a:lnTo>
                  <a:lnTo>
                    <a:pt x="31" y="17"/>
                  </a:lnTo>
                  <a:lnTo>
                    <a:pt x="35" y="18"/>
                  </a:lnTo>
                  <a:lnTo>
                    <a:pt x="39" y="20"/>
                  </a:lnTo>
                  <a:lnTo>
                    <a:pt x="43" y="21"/>
                  </a:lnTo>
                  <a:lnTo>
                    <a:pt x="46" y="22"/>
                  </a:lnTo>
                  <a:lnTo>
                    <a:pt x="50" y="23"/>
                  </a:lnTo>
                  <a:lnTo>
                    <a:pt x="54" y="24"/>
                  </a:lnTo>
                  <a:lnTo>
                    <a:pt x="58" y="2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600280" y="2824200"/>
              <a:ext cx="557280" cy="82440"/>
            </a:xfrm>
            <a:custGeom>
              <a:avLst/>
              <a:gdLst/>
              <a:ahLst/>
              <a:rect l="l" t="t" r="r" b="b"/>
              <a:pathLst>
                <a:path w="57" h="8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7" y="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3157560" y="2906640"/>
              <a:ext cx="608040" cy="39600"/>
            </a:xfrm>
            <a:custGeom>
              <a:avLst/>
              <a:gdLst/>
              <a:ahLst/>
              <a:rect l="l" t="t" r="r" b="b"/>
              <a:pathLst>
                <a:path w="62" h="4">
                  <a:moveTo>
                    <a:pt x="0" y="0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2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3765600" y="2946240"/>
              <a:ext cx="557280" cy="20880"/>
            </a:xfrm>
            <a:custGeom>
              <a:avLst/>
              <a:gdLst/>
              <a:ahLst/>
              <a:rect l="l" t="t" r="r" b="b"/>
              <a:pathLst>
                <a:path w="57" h="2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3" y="2"/>
                  </a:lnTo>
                  <a:lnTo>
                    <a:pt x="57" y="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322880" y="2967120"/>
              <a:ext cx="568080" cy="11160"/>
            </a:xfrm>
            <a:custGeom>
              <a:avLst/>
              <a:gdLst/>
              <a:ahLst/>
              <a:rect l="l" t="t" r="r" b="b"/>
              <a:pathLst>
                <a:path w="58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8" y="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890960" y="2978280"/>
              <a:ext cx="557280" cy="936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474920" y="1103400"/>
              <a:ext cx="556920" cy="146520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0" y="0"/>
                  </a:moveTo>
                  <a:lnTo>
                    <a:pt x="4" y="24"/>
                  </a:lnTo>
                  <a:lnTo>
                    <a:pt x="8" y="43"/>
                  </a:lnTo>
                  <a:lnTo>
                    <a:pt x="11" y="59"/>
                  </a:lnTo>
                  <a:lnTo>
                    <a:pt x="15" y="73"/>
                  </a:lnTo>
                  <a:lnTo>
                    <a:pt x="19" y="84"/>
                  </a:lnTo>
                  <a:lnTo>
                    <a:pt x="23" y="94"/>
                  </a:lnTo>
                  <a:lnTo>
                    <a:pt x="27" y="103"/>
                  </a:lnTo>
                  <a:lnTo>
                    <a:pt x="31" y="110"/>
                  </a:lnTo>
                  <a:lnTo>
                    <a:pt x="34" y="117"/>
                  </a:lnTo>
                  <a:lnTo>
                    <a:pt x="38" y="123"/>
                  </a:lnTo>
                  <a:lnTo>
                    <a:pt x="42" y="128"/>
                  </a:lnTo>
                  <a:lnTo>
                    <a:pt x="46" y="132"/>
                  </a:lnTo>
                  <a:lnTo>
                    <a:pt x="50" y="136"/>
                  </a:lnTo>
                  <a:lnTo>
                    <a:pt x="54" y="140"/>
                  </a:lnTo>
                  <a:lnTo>
                    <a:pt x="57" y="1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031840" y="2568600"/>
              <a:ext cx="568440" cy="25560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0" y="0"/>
                  </a:moveTo>
                  <a:lnTo>
                    <a:pt x="4" y="3"/>
                  </a:lnTo>
                  <a:lnTo>
                    <a:pt x="8" y="5"/>
                  </a:lnTo>
                  <a:lnTo>
                    <a:pt x="12" y="8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3" y="14"/>
                  </a:lnTo>
                  <a:lnTo>
                    <a:pt x="27" y="15"/>
                  </a:lnTo>
                  <a:lnTo>
                    <a:pt x="31" y="17"/>
                  </a:lnTo>
                  <a:lnTo>
                    <a:pt x="35" y="18"/>
                  </a:lnTo>
                  <a:lnTo>
                    <a:pt x="39" y="19"/>
                  </a:lnTo>
                  <a:lnTo>
                    <a:pt x="43" y="21"/>
                  </a:lnTo>
                  <a:lnTo>
                    <a:pt x="46" y="22"/>
                  </a:lnTo>
                  <a:lnTo>
                    <a:pt x="50" y="23"/>
                  </a:lnTo>
                  <a:lnTo>
                    <a:pt x="54" y="24"/>
                  </a:lnTo>
                  <a:lnTo>
                    <a:pt x="58" y="2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600280" y="2824200"/>
              <a:ext cx="557280" cy="82440"/>
            </a:xfrm>
            <a:custGeom>
              <a:avLst/>
              <a:gdLst/>
              <a:ahLst/>
              <a:rect l="l" t="t" r="r" b="b"/>
              <a:pathLst>
                <a:path w="57" h="8">
                  <a:moveTo>
                    <a:pt x="0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2" y="6"/>
                  </a:lnTo>
                  <a:lnTo>
                    <a:pt x="46" y="7"/>
                  </a:lnTo>
                  <a:lnTo>
                    <a:pt x="50" y="7"/>
                  </a:lnTo>
                  <a:lnTo>
                    <a:pt x="54" y="8"/>
                  </a:lnTo>
                  <a:lnTo>
                    <a:pt x="57" y="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157560" y="2906640"/>
              <a:ext cx="608040" cy="39600"/>
            </a:xfrm>
            <a:custGeom>
              <a:avLst/>
              <a:gdLst/>
              <a:ahLst/>
              <a:rect l="l" t="t" r="r" b="b"/>
              <a:pathLst>
                <a:path w="62" h="4">
                  <a:moveTo>
                    <a:pt x="0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2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765600" y="2946240"/>
              <a:ext cx="557280" cy="20880"/>
            </a:xfrm>
            <a:custGeom>
              <a:avLst/>
              <a:gdLst/>
              <a:ahLst/>
              <a:rect l="l" t="t" r="r" b="b"/>
              <a:pathLst>
                <a:path w="57" h="2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3" y="2"/>
                  </a:lnTo>
                  <a:lnTo>
                    <a:pt x="57" y="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322880" y="2967120"/>
              <a:ext cx="568080" cy="11160"/>
            </a:xfrm>
            <a:custGeom>
              <a:avLst/>
              <a:gdLst/>
              <a:ahLst/>
              <a:rect l="l" t="t" r="r" b="b"/>
              <a:pathLst>
                <a:path w="58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8" y="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890960" y="2978280"/>
              <a:ext cx="557280" cy="936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1621800" y="652320"/>
              <a:ext cx="793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y = 522.92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353320" y="61272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-2.187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1796760" y="909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894680" y="86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1954800" y="909720"/>
              <a:ext cx="62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= 0.971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995040" y="29163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38080" y="25369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38080" y="21477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38080" y="17701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38080" y="13795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38080" y="100188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38080" y="612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132768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1,2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189612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2,3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46456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3,4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03120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4,5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59964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5,6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16628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6,7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73472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7,8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30280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8,9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877840" y="3355920"/>
              <a:ext cx="171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es de diamèt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rot="16200000">
              <a:off x="238680" y="157500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équ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3373560" y="693720"/>
              <a:ext cx="234720" cy="103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3648960" y="642960"/>
              <a:ext cx="128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entaire 20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3373560" y="1022400"/>
              <a:ext cx="234720" cy="101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3648960" y="969840"/>
              <a:ext cx="128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entaire 20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3373560" y="1411200"/>
              <a:ext cx="234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3651480" y="1308240"/>
              <a:ext cx="226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issance (Inventaire 200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3373560" y="1738440"/>
              <a:ext cx="23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3651480" y="1636560"/>
              <a:ext cx="226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issance (Inventaire 200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359400" y="1138320"/>
              <a:ext cx="2382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La majorité des individus sont de faibles diamèt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0" name=""/>
          <p:cNvSpPr/>
          <p:nvPr/>
        </p:nvSpPr>
        <p:spPr>
          <a:xfrm>
            <a:off x="720" y="71280"/>
            <a:ext cx="81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ME DES ARBRES SELON LEUR CLASSE DE DIAME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2" name="" descr=""/>
          <p:cNvPicPr/>
          <p:nvPr/>
        </p:nvPicPr>
        <p:blipFill>
          <a:blip r:embed="rId2"/>
          <a:stretch/>
        </p:blipFill>
        <p:spPr>
          <a:xfrm>
            <a:off x="765000" y="673200"/>
            <a:ext cx="7934400" cy="5838840"/>
          </a:xfrm>
          <a:prstGeom prst="rect">
            <a:avLst/>
          </a:prstGeom>
          <a:ln w="0">
            <a:noFill/>
          </a:ln>
        </p:spPr>
      </p:pic>
      <p:grpSp>
        <p:nvGrpSpPr>
          <p:cNvPr id="3103" name=""/>
          <p:cNvGrpSpPr/>
          <p:nvPr/>
        </p:nvGrpSpPr>
        <p:grpSpPr>
          <a:xfrm>
            <a:off x="2152800" y="896760"/>
            <a:ext cx="1309320" cy="368280"/>
            <a:chOff x="2152800" y="896760"/>
            <a:chExt cx="1309320" cy="368280"/>
          </a:xfrm>
        </p:grpSpPr>
        <p:sp>
          <p:nvSpPr>
            <p:cNvPr id="3104" name=""/>
            <p:cNvSpPr/>
            <p:nvPr/>
          </p:nvSpPr>
          <p:spPr>
            <a:xfrm>
              <a:off x="2152800" y="1014120"/>
              <a:ext cx="132840" cy="133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343960" y="89676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6" name=""/>
          <p:cNvSpPr/>
          <p:nvPr/>
        </p:nvSpPr>
        <p:spPr>
          <a:xfrm>
            <a:off x="720" y="7128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ME DES ARBRES SELON LEUR RAPPORT H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7" name="" descr=""/>
          <p:cNvPicPr/>
          <p:nvPr/>
        </p:nvPicPr>
        <p:blipFill>
          <a:blip r:embed="rId2"/>
          <a:stretch/>
        </p:blipFill>
        <p:spPr>
          <a:xfrm>
            <a:off x="765000" y="673200"/>
            <a:ext cx="7934400" cy="5838840"/>
          </a:xfrm>
          <a:prstGeom prst="rect">
            <a:avLst/>
          </a:prstGeom>
          <a:ln w="0">
            <a:noFill/>
          </a:ln>
        </p:spPr>
      </p:pic>
      <p:sp>
        <p:nvSpPr>
          <p:cNvPr id="3108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9" name=""/>
          <p:cNvGrpSpPr/>
          <p:nvPr/>
        </p:nvGrpSpPr>
        <p:grpSpPr>
          <a:xfrm>
            <a:off x="2152800" y="896760"/>
            <a:ext cx="1309320" cy="368280"/>
            <a:chOff x="2152800" y="896760"/>
            <a:chExt cx="1309320" cy="368280"/>
          </a:xfrm>
        </p:grpSpPr>
        <p:sp>
          <p:nvSpPr>
            <p:cNvPr id="3110" name=""/>
            <p:cNvSpPr/>
            <p:nvPr/>
          </p:nvSpPr>
          <p:spPr>
            <a:xfrm>
              <a:off x="2152800" y="1014120"/>
              <a:ext cx="132840" cy="133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343960" y="89676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2" name=""/>
          <p:cNvGrpSpPr/>
          <p:nvPr/>
        </p:nvGrpSpPr>
        <p:grpSpPr>
          <a:xfrm>
            <a:off x="2162160" y="1290600"/>
            <a:ext cx="1287000" cy="368280"/>
            <a:chOff x="2162160" y="1290600"/>
            <a:chExt cx="1287000" cy="368280"/>
          </a:xfrm>
        </p:grpSpPr>
        <p:sp>
          <p:nvSpPr>
            <p:cNvPr id="3113" name=""/>
            <p:cNvSpPr/>
            <p:nvPr/>
          </p:nvSpPr>
          <p:spPr>
            <a:xfrm>
              <a:off x="2162160" y="1415880"/>
              <a:ext cx="114120" cy="1144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335680" y="1290600"/>
              <a:ext cx="11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5" name=""/>
          <p:cNvSpPr/>
          <p:nvPr/>
        </p:nvSpPr>
        <p:spPr>
          <a:xfrm>
            <a:off x="720" y="7128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ME DES ARBRES SELON LEUR RAPPORT H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6" name="" descr=""/>
          <p:cNvPicPr/>
          <p:nvPr/>
        </p:nvPicPr>
        <p:blipFill>
          <a:blip r:embed="rId2"/>
          <a:stretch/>
        </p:blipFill>
        <p:spPr>
          <a:xfrm>
            <a:off x="762120" y="669960"/>
            <a:ext cx="7934040" cy="5838840"/>
          </a:xfrm>
          <a:prstGeom prst="rect">
            <a:avLst/>
          </a:prstGeom>
          <a:ln w="0">
            <a:noFill/>
          </a:ln>
        </p:spPr>
      </p:pic>
      <p:sp>
        <p:nvSpPr>
          <p:cNvPr id="3117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8" name=""/>
          <p:cNvGrpSpPr/>
          <p:nvPr/>
        </p:nvGrpSpPr>
        <p:grpSpPr>
          <a:xfrm>
            <a:off x="2152800" y="896760"/>
            <a:ext cx="1309320" cy="368280"/>
            <a:chOff x="2152800" y="896760"/>
            <a:chExt cx="1309320" cy="368280"/>
          </a:xfrm>
        </p:grpSpPr>
        <p:sp>
          <p:nvSpPr>
            <p:cNvPr id="3119" name=""/>
            <p:cNvSpPr/>
            <p:nvPr/>
          </p:nvSpPr>
          <p:spPr>
            <a:xfrm>
              <a:off x="2152800" y="1014120"/>
              <a:ext cx="132840" cy="133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343960" y="89676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1" name=""/>
          <p:cNvGrpSpPr/>
          <p:nvPr/>
        </p:nvGrpSpPr>
        <p:grpSpPr>
          <a:xfrm>
            <a:off x="2162160" y="1290600"/>
            <a:ext cx="1287000" cy="368280"/>
            <a:chOff x="2162160" y="1290600"/>
            <a:chExt cx="1287000" cy="368280"/>
          </a:xfrm>
        </p:grpSpPr>
        <p:sp>
          <p:nvSpPr>
            <p:cNvPr id="3122" name=""/>
            <p:cNvSpPr/>
            <p:nvPr/>
          </p:nvSpPr>
          <p:spPr>
            <a:xfrm>
              <a:off x="2162160" y="1415880"/>
              <a:ext cx="114120" cy="1144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35680" y="1290600"/>
              <a:ext cx="11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2171880" y="1697040"/>
            <a:ext cx="1272240" cy="368280"/>
            <a:chOff x="2171880" y="1697040"/>
            <a:chExt cx="1272240" cy="368280"/>
          </a:xfrm>
        </p:grpSpPr>
        <p:sp>
          <p:nvSpPr>
            <p:cNvPr id="3125" name=""/>
            <p:cNvSpPr/>
            <p:nvPr/>
          </p:nvSpPr>
          <p:spPr>
            <a:xfrm>
              <a:off x="2171880" y="183204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338200" y="169704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720" y="7128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ME DES ARBRES SELON LEUR RAPPORT H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809640" y="717480"/>
            <a:ext cx="7829640" cy="5743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1779480" y="936720"/>
            <a:ext cx="1800" cy="448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1693800" y="542448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693800" y="497844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693800" y="4530600"/>
            <a:ext cx="8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1693800" y="407520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1693800" y="3627360"/>
            <a:ext cx="8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1693800" y="317988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1693800" y="273384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1693800" y="228600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1693800" y="1830240"/>
            <a:ext cx="8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1693800" y="138276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1693800" y="93672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779480" y="5424480"/>
            <a:ext cx="659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 flipV="1">
            <a:off x="1779480" y="5424480"/>
            <a:ext cx="180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3102120" y="5424480"/>
            <a:ext cx="144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 flipV="1">
            <a:off x="4414680" y="5424480"/>
            <a:ext cx="180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 flipV="1">
            <a:off x="5737320" y="5424480"/>
            <a:ext cx="144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 flipV="1">
            <a:off x="7050240" y="5424480"/>
            <a:ext cx="144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 flipV="1">
            <a:off x="8372520" y="5424480"/>
            <a:ext cx="144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2436840" y="479736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2436840" y="474984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2503440" y="4721400"/>
            <a:ext cx="1335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2436840" y="468324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2835360" y="468324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2436840" y="467352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2637000" y="4664160"/>
            <a:ext cx="1317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2503440" y="4664160"/>
            <a:ext cx="1335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2570040" y="4635360"/>
            <a:ext cx="1335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2570040" y="4606920"/>
            <a:ext cx="1335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2503440" y="4597560"/>
            <a:ext cx="1335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2503440" y="4568760"/>
            <a:ext cx="1335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2370240" y="456876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2503440" y="4568760"/>
            <a:ext cx="1335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2768760" y="456876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2703600" y="4568760"/>
            <a:ext cx="1317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2637000" y="4549680"/>
            <a:ext cx="1317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2835360" y="454968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2637000" y="4502160"/>
            <a:ext cx="1317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2637000" y="4464000"/>
            <a:ext cx="1317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3102120" y="443556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2768760" y="441648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3292560" y="441648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2637000" y="4397400"/>
            <a:ext cx="1317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2835360" y="428292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3102120" y="414972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2835360" y="412128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3102120" y="410220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3292560" y="409248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3692520" y="3951360"/>
            <a:ext cx="133200" cy="131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3825720" y="3875040"/>
            <a:ext cx="1335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3559320" y="378936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3359160" y="372276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3425760" y="3722760"/>
            <a:ext cx="1335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4214880" y="362736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4548240" y="347508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4081320" y="3351240"/>
            <a:ext cx="1335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425760" y="3341520"/>
            <a:ext cx="133560" cy="133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3292560" y="3284640"/>
            <a:ext cx="133200" cy="133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4025880" y="3255840"/>
            <a:ext cx="131760" cy="1335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4281480" y="325584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5699160" y="311292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4748040" y="2981160"/>
            <a:ext cx="133560" cy="131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4548240" y="2438280"/>
            <a:ext cx="133200" cy="1335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5272200" y="2324160"/>
            <a:ext cx="131760" cy="1332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5403960" y="2219400"/>
            <a:ext cx="133200" cy="1332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7650000" y="1992240"/>
            <a:ext cx="1335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2446200" y="4940280"/>
            <a:ext cx="114480" cy="112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2513160" y="4854600"/>
            <a:ext cx="11412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2446200" y="485460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2379600" y="482616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2379600" y="475920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2446200" y="474012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2446200" y="474012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2379600" y="474012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2446200" y="473076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2513160" y="4692600"/>
            <a:ext cx="11412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2446200" y="469260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2579760" y="4692600"/>
            <a:ext cx="11412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2313000" y="4673520"/>
            <a:ext cx="11412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2579760" y="4673520"/>
            <a:ext cx="11412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2513160" y="4645080"/>
            <a:ext cx="11412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2579760" y="4645080"/>
            <a:ext cx="11412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2712960" y="4645080"/>
            <a:ext cx="1126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2712960" y="4626000"/>
            <a:ext cx="1126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2778120" y="462600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2844720" y="460692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2646360" y="4606920"/>
            <a:ext cx="1126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2513160" y="4559400"/>
            <a:ext cx="11412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2646360" y="4559400"/>
            <a:ext cx="1126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2646360" y="4540320"/>
            <a:ext cx="1126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2844720" y="447372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3568680" y="444492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2513160" y="4425840"/>
            <a:ext cx="11412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2646360" y="4425840"/>
            <a:ext cx="1126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2646360" y="4264200"/>
            <a:ext cx="1126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3111480" y="423540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3111480" y="419724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4091040" y="4140360"/>
            <a:ext cx="11412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2911320" y="4046400"/>
            <a:ext cx="114480" cy="112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3168720" y="4017960"/>
            <a:ext cx="114120" cy="112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3368520" y="3979800"/>
            <a:ext cx="114480" cy="112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3568680" y="382752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3502080" y="3798720"/>
            <a:ext cx="11412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3301920" y="368460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3235320" y="368460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2522520" y="4978440"/>
            <a:ext cx="95400" cy="93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2455920" y="4950000"/>
            <a:ext cx="950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2322360" y="488304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2787480" y="48736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921040" y="486396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522520" y="485460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121200" y="483552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2455920" y="483552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2455920" y="4768920"/>
            <a:ext cx="950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2522520" y="473076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2455920" y="4683240"/>
            <a:ext cx="950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2455920" y="467352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2987640" y="466416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2987640" y="46162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2854440" y="458784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2589120" y="456876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2589120" y="452124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2921040" y="4521240"/>
            <a:ext cx="950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2921040" y="4416480"/>
            <a:ext cx="950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3178080" y="43876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2655720" y="4302000"/>
            <a:ext cx="939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3244680" y="427356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2854440" y="425448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2787480" y="42544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3578400" y="3989520"/>
            <a:ext cx="95040" cy="93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3121200" y="3998880"/>
            <a:ext cx="95040" cy="93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1436040" y="52815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1436040" y="4835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1436040" y="43876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1436040" y="39322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1436040" y="3484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1303560" y="3038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1303560" y="25909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1303560" y="21430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1303560" y="1687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1303560" y="1239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1303560" y="793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1548720" y="5672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2871360" y="5672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4183920" y="5672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5506560" y="5672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6819480" y="5672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8141760" y="5672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4534920" y="6089760"/>
            <a:ext cx="101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130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rot="16200000">
            <a:off x="361800" y="3135600"/>
            <a:ext cx="1311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uteur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809640" y="717480"/>
            <a:ext cx="7829640" cy="5743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2357280" y="1557360"/>
            <a:ext cx="5400720" cy="3048120"/>
          </a:xfrm>
          <a:custGeom>
            <a:avLst/>
            <a:gdLst/>
            <a:ahLst/>
            <a:rect l="l" t="t" r="r" b="b"/>
            <a:pathLst>
              <a:path w="3402" h="1920">
                <a:moveTo>
                  <a:pt x="0" y="1920"/>
                </a:moveTo>
                <a:cubicBezTo>
                  <a:pt x="61" y="1852"/>
                  <a:pt x="123" y="1784"/>
                  <a:pt x="252" y="1686"/>
                </a:cubicBezTo>
                <a:cubicBezTo>
                  <a:pt x="381" y="1588"/>
                  <a:pt x="600" y="1444"/>
                  <a:pt x="774" y="1332"/>
                </a:cubicBezTo>
                <a:cubicBezTo>
                  <a:pt x="948" y="1220"/>
                  <a:pt x="1102" y="1125"/>
                  <a:pt x="1296" y="1014"/>
                </a:cubicBezTo>
                <a:cubicBezTo>
                  <a:pt x="1490" y="903"/>
                  <a:pt x="1669" y="800"/>
                  <a:pt x="1938" y="666"/>
                </a:cubicBezTo>
                <a:cubicBezTo>
                  <a:pt x="2207" y="532"/>
                  <a:pt x="2666" y="321"/>
                  <a:pt x="2910" y="210"/>
                </a:cubicBezTo>
                <a:cubicBezTo>
                  <a:pt x="3154" y="99"/>
                  <a:pt x="3278" y="49"/>
                  <a:pt x="3402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2367000" y="2233440"/>
            <a:ext cx="5352840" cy="2914920"/>
          </a:xfrm>
          <a:custGeom>
            <a:avLst/>
            <a:gdLst/>
            <a:ahLst/>
            <a:rect l="l" t="t" r="r" b="b"/>
            <a:pathLst>
              <a:path w="3372" h="1836">
                <a:moveTo>
                  <a:pt x="0" y="1836"/>
                </a:moveTo>
                <a:cubicBezTo>
                  <a:pt x="21" y="1778"/>
                  <a:pt x="42" y="1721"/>
                  <a:pt x="84" y="1650"/>
                </a:cubicBezTo>
                <a:cubicBezTo>
                  <a:pt x="126" y="1579"/>
                  <a:pt x="171" y="1505"/>
                  <a:pt x="252" y="1410"/>
                </a:cubicBezTo>
                <a:cubicBezTo>
                  <a:pt x="333" y="1315"/>
                  <a:pt x="426" y="1193"/>
                  <a:pt x="570" y="1080"/>
                </a:cubicBezTo>
                <a:cubicBezTo>
                  <a:pt x="714" y="967"/>
                  <a:pt x="937" y="831"/>
                  <a:pt x="1116" y="732"/>
                </a:cubicBezTo>
                <a:cubicBezTo>
                  <a:pt x="1295" y="633"/>
                  <a:pt x="1447" y="563"/>
                  <a:pt x="1644" y="486"/>
                </a:cubicBezTo>
                <a:cubicBezTo>
                  <a:pt x="1841" y="409"/>
                  <a:pt x="2057" y="341"/>
                  <a:pt x="2298" y="270"/>
                </a:cubicBezTo>
                <a:cubicBezTo>
                  <a:pt x="2539" y="199"/>
                  <a:pt x="2911" y="105"/>
                  <a:pt x="3090" y="60"/>
                </a:cubicBezTo>
                <a:cubicBezTo>
                  <a:pt x="3269" y="15"/>
                  <a:pt x="3320" y="7"/>
                  <a:pt x="3372" y="0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3" name=""/>
          <p:cNvGrpSpPr/>
          <p:nvPr/>
        </p:nvGrpSpPr>
        <p:grpSpPr>
          <a:xfrm>
            <a:off x="2152800" y="896760"/>
            <a:ext cx="1309320" cy="368280"/>
            <a:chOff x="2152800" y="896760"/>
            <a:chExt cx="1309320" cy="368280"/>
          </a:xfrm>
        </p:grpSpPr>
        <p:sp>
          <p:nvSpPr>
            <p:cNvPr id="3284" name=""/>
            <p:cNvSpPr/>
            <p:nvPr/>
          </p:nvSpPr>
          <p:spPr>
            <a:xfrm>
              <a:off x="2152800" y="1014120"/>
              <a:ext cx="132840" cy="133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343960" y="89676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6" name=""/>
          <p:cNvGrpSpPr/>
          <p:nvPr/>
        </p:nvGrpSpPr>
        <p:grpSpPr>
          <a:xfrm>
            <a:off x="2162160" y="1290600"/>
            <a:ext cx="1287000" cy="368280"/>
            <a:chOff x="2162160" y="1290600"/>
            <a:chExt cx="1287000" cy="368280"/>
          </a:xfrm>
        </p:grpSpPr>
        <p:sp>
          <p:nvSpPr>
            <p:cNvPr id="3287" name=""/>
            <p:cNvSpPr/>
            <p:nvPr/>
          </p:nvSpPr>
          <p:spPr>
            <a:xfrm>
              <a:off x="2162160" y="1415880"/>
              <a:ext cx="114120" cy="1144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335680" y="1290600"/>
              <a:ext cx="11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9" name=""/>
          <p:cNvGrpSpPr/>
          <p:nvPr/>
        </p:nvGrpSpPr>
        <p:grpSpPr>
          <a:xfrm>
            <a:off x="2171880" y="1697040"/>
            <a:ext cx="1272240" cy="368280"/>
            <a:chOff x="2171880" y="1697040"/>
            <a:chExt cx="1272240" cy="368280"/>
          </a:xfrm>
        </p:grpSpPr>
        <p:sp>
          <p:nvSpPr>
            <p:cNvPr id="3290" name=""/>
            <p:cNvSpPr/>
            <p:nvPr/>
          </p:nvSpPr>
          <p:spPr>
            <a:xfrm>
              <a:off x="2171880" y="183204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338200" y="169704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2" name=""/>
          <p:cNvGrpSpPr/>
          <p:nvPr/>
        </p:nvGrpSpPr>
        <p:grpSpPr>
          <a:xfrm>
            <a:off x="1922400" y="2103480"/>
            <a:ext cx="2811600" cy="368280"/>
            <a:chOff x="1922400" y="2103480"/>
            <a:chExt cx="2811600" cy="368280"/>
          </a:xfrm>
        </p:grpSpPr>
        <p:sp>
          <p:nvSpPr>
            <p:cNvPr id="3293" name=""/>
            <p:cNvSpPr/>
            <p:nvPr/>
          </p:nvSpPr>
          <p:spPr>
            <a:xfrm>
              <a:off x="1922400" y="2290680"/>
              <a:ext cx="406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343600" y="2103480"/>
              <a:ext cx="23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Seuil d’autoport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"/>
          <p:cNvSpPr/>
          <p:nvPr/>
        </p:nvSpPr>
        <p:spPr>
          <a:xfrm>
            <a:off x="720" y="7128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ME DES ARBRES SELON LEUR RAPPORT H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6" name=""/>
          <p:cNvGrpSpPr/>
          <p:nvPr/>
        </p:nvGrpSpPr>
        <p:grpSpPr>
          <a:xfrm>
            <a:off x="7408800" y="771480"/>
            <a:ext cx="821520" cy="1286640"/>
            <a:chOff x="7408800" y="771480"/>
            <a:chExt cx="821520" cy="1286640"/>
          </a:xfrm>
        </p:grpSpPr>
        <p:grpSp>
          <p:nvGrpSpPr>
            <p:cNvPr id="3297" name=""/>
            <p:cNvGrpSpPr/>
            <p:nvPr/>
          </p:nvGrpSpPr>
          <p:grpSpPr>
            <a:xfrm>
              <a:off x="7408800" y="771480"/>
              <a:ext cx="821520" cy="1286640"/>
              <a:chOff x="7408800" y="771480"/>
              <a:chExt cx="821520" cy="1286640"/>
            </a:xfrm>
          </p:grpSpPr>
          <p:grpSp>
            <p:nvGrpSpPr>
              <p:cNvPr id="3298" name=""/>
              <p:cNvGrpSpPr/>
              <p:nvPr/>
            </p:nvGrpSpPr>
            <p:grpSpPr>
              <a:xfrm>
                <a:off x="7408800" y="771480"/>
                <a:ext cx="821520" cy="1286640"/>
                <a:chOff x="7408800" y="771480"/>
                <a:chExt cx="821520" cy="128664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7408800" y="771480"/>
                  <a:ext cx="82152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7408800" y="771480"/>
                  <a:ext cx="817920" cy="1283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7408800" y="771480"/>
                  <a:ext cx="817920" cy="1283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7408800" y="771480"/>
                  <a:ext cx="82152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3" name=""/>
              <p:cNvSpPr/>
              <p:nvPr/>
            </p:nvSpPr>
            <p:spPr>
              <a:xfrm>
                <a:off x="7408800" y="771480"/>
                <a:ext cx="818280" cy="128340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4" name=""/>
            <p:cNvSpPr/>
            <p:nvPr/>
          </p:nvSpPr>
          <p:spPr>
            <a:xfrm>
              <a:off x="8094240" y="1832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5" name=""/>
            <p:cNvGrpSpPr/>
            <p:nvPr/>
          </p:nvGrpSpPr>
          <p:grpSpPr>
            <a:xfrm>
              <a:off x="7537680" y="1040760"/>
              <a:ext cx="545400" cy="954000"/>
              <a:chOff x="7537680" y="1040760"/>
              <a:chExt cx="545400" cy="954000"/>
            </a:xfrm>
          </p:grpSpPr>
          <p:sp>
            <p:nvSpPr>
              <p:cNvPr id="3306" name=""/>
              <p:cNvSpPr/>
              <p:nvPr/>
            </p:nvSpPr>
            <p:spPr>
              <a:xfrm>
                <a:off x="7708320" y="1067760"/>
                <a:ext cx="85680" cy="927000"/>
              </a:xfrm>
              <a:custGeom>
                <a:avLst/>
                <a:gdLst/>
                <a:ahLst/>
                <a:rect l="l" t="t" r="r" b="b"/>
                <a:pathLst>
                  <a:path w="47" h="510">
                    <a:moveTo>
                      <a:pt x="36" y="510"/>
                    </a:moveTo>
                    <a:lnTo>
                      <a:pt x="46" y="510"/>
                    </a:lnTo>
                    <a:lnTo>
                      <a:pt x="46" y="420"/>
                    </a:lnTo>
                    <a:lnTo>
                      <a:pt x="46" y="374"/>
                    </a:lnTo>
                    <a:lnTo>
                      <a:pt x="46" y="326"/>
                    </a:lnTo>
                    <a:lnTo>
                      <a:pt x="46" y="300"/>
                    </a:lnTo>
                    <a:lnTo>
                      <a:pt x="47" y="273"/>
                    </a:lnTo>
                    <a:lnTo>
                      <a:pt x="47" y="216"/>
                    </a:lnTo>
                    <a:lnTo>
                      <a:pt x="47" y="188"/>
                    </a:lnTo>
                    <a:lnTo>
                      <a:pt x="47" y="162"/>
                    </a:lnTo>
                    <a:lnTo>
                      <a:pt x="46" y="138"/>
                    </a:lnTo>
                    <a:lnTo>
                      <a:pt x="44" y="116"/>
                    </a:lnTo>
                    <a:lnTo>
                      <a:pt x="41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1" y="97"/>
                    </a:lnTo>
                    <a:lnTo>
                      <a:pt x="34" y="117"/>
                    </a:lnTo>
                    <a:lnTo>
                      <a:pt x="36" y="138"/>
                    </a:lnTo>
                    <a:lnTo>
                      <a:pt x="37" y="162"/>
                    </a:lnTo>
                    <a:lnTo>
                      <a:pt x="37" y="188"/>
                    </a:lnTo>
                    <a:lnTo>
                      <a:pt x="37" y="216"/>
                    </a:lnTo>
                    <a:lnTo>
                      <a:pt x="37" y="273"/>
                    </a:lnTo>
                    <a:lnTo>
                      <a:pt x="36" y="300"/>
                    </a:lnTo>
                    <a:lnTo>
                      <a:pt x="36" y="326"/>
                    </a:lnTo>
                    <a:lnTo>
                      <a:pt x="36" y="374"/>
                    </a:lnTo>
                    <a:lnTo>
                      <a:pt x="36" y="420"/>
                    </a:lnTo>
                    <a:lnTo>
                      <a:pt x="36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772040" y="1040760"/>
                <a:ext cx="68760" cy="25200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1" y="115"/>
                    </a:lnTo>
                    <a:lnTo>
                      <a:pt x="27" y="101"/>
                    </a:lnTo>
                    <a:lnTo>
                      <a:pt x="29" y="98"/>
                    </a:lnTo>
                    <a:lnTo>
                      <a:pt x="33" y="83"/>
                    </a:lnTo>
                    <a:lnTo>
                      <a:pt x="36" y="64"/>
                    </a:lnTo>
                    <a:lnTo>
                      <a:pt x="37" y="44"/>
                    </a:lnTo>
                    <a:lnTo>
                      <a:pt x="38" y="22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22"/>
                    </a:lnTo>
                    <a:lnTo>
                      <a:pt x="27" y="44"/>
                    </a:lnTo>
                    <a:lnTo>
                      <a:pt x="26" y="64"/>
                    </a:lnTo>
                    <a:lnTo>
                      <a:pt x="24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0" y="94"/>
                    </a:lnTo>
                    <a:lnTo>
                      <a:pt x="14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742880" y="1051200"/>
                <a:ext cx="36000" cy="11988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623000" y="1187640"/>
                <a:ext cx="167400" cy="172440"/>
              </a:xfrm>
              <a:custGeom>
                <a:avLst/>
                <a:gdLst/>
                <a:ahLst/>
                <a:rect l="l" t="t" r="r" b="b"/>
                <a:pathLst>
                  <a:path w="92" h="95">
                    <a:moveTo>
                      <a:pt x="84" y="95"/>
                    </a:moveTo>
                    <a:lnTo>
                      <a:pt x="92" y="90"/>
                    </a:lnTo>
                    <a:lnTo>
                      <a:pt x="87" y="81"/>
                    </a:lnTo>
                    <a:lnTo>
                      <a:pt x="82" y="73"/>
                    </a:lnTo>
                    <a:lnTo>
                      <a:pt x="75" y="65"/>
                    </a:lnTo>
                    <a:lnTo>
                      <a:pt x="66" y="57"/>
                    </a:lnTo>
                    <a:lnTo>
                      <a:pt x="63" y="61"/>
                    </a:lnTo>
                    <a:lnTo>
                      <a:pt x="67" y="58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5"/>
                    </a:lnTo>
                    <a:lnTo>
                      <a:pt x="60" y="65"/>
                    </a:lnTo>
                    <a:lnTo>
                      <a:pt x="68" y="72"/>
                    </a:lnTo>
                    <a:lnTo>
                      <a:pt x="75" y="80"/>
                    </a:lnTo>
                    <a:lnTo>
                      <a:pt x="80" y="88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7781400" y="134568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1" y="73"/>
                    </a:lnTo>
                    <a:lnTo>
                      <a:pt x="64" y="63"/>
                    </a:lnTo>
                    <a:lnTo>
                      <a:pt x="74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99" y="4"/>
                    </a:lnTo>
                    <a:lnTo>
                      <a:pt x="91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7" y="43"/>
                    </a:lnTo>
                    <a:lnTo>
                      <a:pt x="57" y="56"/>
                    </a:lnTo>
                    <a:lnTo>
                      <a:pt x="44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7924680" y="1343880"/>
                <a:ext cx="132480" cy="87120"/>
              </a:xfrm>
              <a:custGeom>
                <a:avLst/>
                <a:gdLst/>
                <a:ahLst/>
                <a:rect l="l" t="t" r="r" b="b"/>
                <a:pathLst>
                  <a:path w="73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29" y="46"/>
                    </a:lnTo>
                    <a:lnTo>
                      <a:pt x="36" y="44"/>
                    </a:lnTo>
                    <a:lnTo>
                      <a:pt x="42" y="41"/>
                    </a:lnTo>
                    <a:lnTo>
                      <a:pt x="46" y="38"/>
                    </a:lnTo>
                    <a:lnTo>
                      <a:pt x="55" y="29"/>
                    </a:lnTo>
                    <a:lnTo>
                      <a:pt x="64" y="18"/>
                    </a:lnTo>
                    <a:lnTo>
                      <a:pt x="73" y="6"/>
                    </a:lnTo>
                    <a:lnTo>
                      <a:pt x="66" y="0"/>
                    </a:lnTo>
                    <a:lnTo>
                      <a:pt x="57" y="11"/>
                    </a:lnTo>
                    <a:lnTo>
                      <a:pt x="48" y="22"/>
                    </a:lnTo>
                    <a:lnTo>
                      <a:pt x="39" y="31"/>
                    </a:lnTo>
                    <a:lnTo>
                      <a:pt x="35" y="34"/>
                    </a:lnTo>
                    <a:lnTo>
                      <a:pt x="32" y="36"/>
                    </a:lnTo>
                    <a:lnTo>
                      <a:pt x="22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8022960" y="1382400"/>
                <a:ext cx="60120" cy="194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7635600" y="1378440"/>
                <a:ext cx="148680" cy="19440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77" y="107"/>
                    </a:moveTo>
                    <a:lnTo>
                      <a:pt x="82" y="99"/>
                    </a:lnTo>
                    <a:lnTo>
                      <a:pt x="70" y="91"/>
                    </a:lnTo>
                    <a:lnTo>
                      <a:pt x="57" y="83"/>
                    </a:lnTo>
                    <a:lnTo>
                      <a:pt x="46" y="73"/>
                    </a:lnTo>
                    <a:lnTo>
                      <a:pt x="36" y="62"/>
                    </a:lnTo>
                    <a:lnTo>
                      <a:pt x="27" y="48"/>
                    </a:lnTo>
                    <a:lnTo>
                      <a:pt x="20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3" y="39"/>
                    </a:lnTo>
                    <a:lnTo>
                      <a:pt x="20" y="55"/>
                    </a:lnTo>
                    <a:lnTo>
                      <a:pt x="28" y="68"/>
                    </a:lnTo>
                    <a:lnTo>
                      <a:pt x="39" y="80"/>
                    </a:lnTo>
                    <a:lnTo>
                      <a:pt x="50" y="90"/>
                    </a:lnTo>
                    <a:lnTo>
                      <a:pt x="63" y="98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561080" y="1371240"/>
                <a:ext cx="106920" cy="910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43"/>
                    </a:moveTo>
                    <a:lnTo>
                      <a:pt x="55" y="35"/>
                    </a:lnTo>
                    <a:lnTo>
                      <a:pt x="47" y="39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4" y="39"/>
                    </a:lnTo>
                    <a:lnTo>
                      <a:pt x="34" y="44"/>
                    </a:lnTo>
                    <a:lnTo>
                      <a:pt x="38" y="40"/>
                    </a:lnTo>
                    <a:lnTo>
                      <a:pt x="34" y="38"/>
                    </a:lnTo>
                    <a:lnTo>
                      <a:pt x="31" y="42"/>
                    </a:lnTo>
                    <a:lnTo>
                      <a:pt x="34" y="38"/>
                    </a:lnTo>
                    <a:lnTo>
                      <a:pt x="31" y="36"/>
                    </a:lnTo>
                    <a:lnTo>
                      <a:pt x="28" y="32"/>
                    </a:lnTo>
                    <a:lnTo>
                      <a:pt x="21" y="23"/>
                    </a:lnTo>
                    <a:lnTo>
                      <a:pt x="14" y="1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7" y="18"/>
                    </a:lnTo>
                    <a:lnTo>
                      <a:pt x="14" y="30"/>
                    </a:lnTo>
                    <a:lnTo>
                      <a:pt x="21" y="39"/>
                    </a:lnTo>
                    <a:lnTo>
                      <a:pt x="24" y="43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8" y="50"/>
                    </a:lnTo>
                    <a:lnTo>
                      <a:pt x="44" y="49"/>
                    </a:lnTo>
                    <a:lnTo>
                      <a:pt x="51" y="47"/>
                    </a:lnTo>
                    <a:lnTo>
                      <a:pt x="54" y="46"/>
                    </a:lnTo>
                    <a:lnTo>
                      <a:pt x="59" y="4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537680" y="1396800"/>
                <a:ext cx="48960" cy="1944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27" y="10"/>
                    </a:moveTo>
                    <a:lnTo>
                      <a:pt x="26" y="0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0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6" name=""/>
            <p:cNvGrpSpPr/>
            <p:nvPr/>
          </p:nvGrpSpPr>
          <p:grpSpPr>
            <a:xfrm>
              <a:off x="7408800" y="771480"/>
              <a:ext cx="821520" cy="1286640"/>
              <a:chOff x="7408800" y="771480"/>
              <a:chExt cx="821520" cy="1286640"/>
            </a:xfrm>
          </p:grpSpPr>
          <p:grpSp>
            <p:nvGrpSpPr>
              <p:cNvPr id="3317" name=""/>
              <p:cNvGrpSpPr/>
              <p:nvPr/>
            </p:nvGrpSpPr>
            <p:grpSpPr>
              <a:xfrm>
                <a:off x="7408800" y="771480"/>
                <a:ext cx="821520" cy="1286640"/>
                <a:chOff x="7408800" y="771480"/>
                <a:chExt cx="821520" cy="1286640"/>
              </a:xfrm>
            </p:grpSpPr>
            <p:sp>
              <p:nvSpPr>
                <p:cNvPr id="3318" name=""/>
                <p:cNvSpPr/>
                <p:nvPr/>
              </p:nvSpPr>
              <p:spPr>
                <a:xfrm>
                  <a:off x="7408800" y="771480"/>
                  <a:ext cx="82152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7408800" y="771480"/>
                  <a:ext cx="817920" cy="1283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7408800" y="771480"/>
                  <a:ext cx="817920" cy="1283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7408800" y="771480"/>
                  <a:ext cx="82152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2" name=""/>
              <p:cNvSpPr/>
              <p:nvPr/>
            </p:nvSpPr>
            <p:spPr>
              <a:xfrm>
                <a:off x="7408800" y="771480"/>
                <a:ext cx="818280" cy="128340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3" name=""/>
            <p:cNvSpPr/>
            <p:nvPr/>
          </p:nvSpPr>
          <p:spPr>
            <a:xfrm>
              <a:off x="8094240" y="1832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708320" y="1068480"/>
              <a:ext cx="84960" cy="92664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771680" y="1040760"/>
              <a:ext cx="69840" cy="25308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742520" y="1051920"/>
              <a:ext cx="37080" cy="1191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623000" y="1188000"/>
              <a:ext cx="167760" cy="17316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781400" y="1346040"/>
              <a:ext cx="179640" cy="1789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925760" y="1344960"/>
              <a:ext cx="131760" cy="864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023320" y="1383120"/>
              <a:ext cx="60480" cy="190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7635240" y="1379160"/>
              <a:ext cx="149760" cy="19368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561080" y="1372320"/>
              <a:ext cx="106920" cy="907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537680" y="1397160"/>
              <a:ext cx="49320" cy="205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708320" y="1068480"/>
              <a:ext cx="84960" cy="92664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771680" y="1040760"/>
              <a:ext cx="69840" cy="25308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742520" y="1051920"/>
              <a:ext cx="37080" cy="1191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7623000" y="1188000"/>
              <a:ext cx="167760" cy="17316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781400" y="1346040"/>
              <a:ext cx="179640" cy="1789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7925760" y="1344960"/>
              <a:ext cx="131760" cy="864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023320" y="1383120"/>
              <a:ext cx="60480" cy="190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635240" y="1379160"/>
              <a:ext cx="149760" cy="19368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7561080" y="1372320"/>
              <a:ext cx="106920" cy="907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7537680" y="1397160"/>
              <a:ext cx="49320" cy="205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"/>
          <p:cNvGrpSpPr/>
          <p:nvPr/>
        </p:nvGrpSpPr>
        <p:grpSpPr>
          <a:xfrm>
            <a:off x="7405560" y="2124000"/>
            <a:ext cx="942840" cy="1352160"/>
            <a:chOff x="7405560" y="2124000"/>
            <a:chExt cx="942840" cy="1352160"/>
          </a:xfrm>
        </p:grpSpPr>
        <p:grpSp>
          <p:nvGrpSpPr>
            <p:cNvPr id="3345" name=""/>
            <p:cNvGrpSpPr/>
            <p:nvPr/>
          </p:nvGrpSpPr>
          <p:grpSpPr>
            <a:xfrm>
              <a:off x="7405560" y="2124000"/>
              <a:ext cx="824040" cy="1288440"/>
              <a:chOff x="7405560" y="2124000"/>
              <a:chExt cx="824040" cy="1288440"/>
            </a:xfrm>
          </p:grpSpPr>
          <p:grpSp>
            <p:nvGrpSpPr>
              <p:cNvPr id="3346" name=""/>
              <p:cNvGrpSpPr/>
              <p:nvPr/>
            </p:nvGrpSpPr>
            <p:grpSpPr>
              <a:xfrm>
                <a:off x="7405560" y="2124000"/>
                <a:ext cx="824040" cy="1288440"/>
                <a:chOff x="7405560" y="2124000"/>
                <a:chExt cx="824040" cy="1288440"/>
              </a:xfrm>
            </p:grpSpPr>
            <p:sp>
              <p:nvSpPr>
                <p:cNvPr id="3347" name=""/>
                <p:cNvSpPr/>
                <p:nvPr/>
              </p:nvSpPr>
              <p:spPr>
                <a:xfrm>
                  <a:off x="7405560" y="2124000"/>
                  <a:ext cx="824040" cy="12884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7405560" y="2124000"/>
                  <a:ext cx="820440" cy="1285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7405560" y="2124000"/>
                  <a:ext cx="820440" cy="1285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7405560" y="2124000"/>
                  <a:ext cx="824040" cy="12884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1" name=""/>
              <p:cNvSpPr/>
              <p:nvPr/>
            </p:nvSpPr>
            <p:spPr>
              <a:xfrm>
                <a:off x="7405560" y="2124000"/>
                <a:ext cx="820800" cy="128556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2" name=""/>
            <p:cNvSpPr/>
            <p:nvPr/>
          </p:nvSpPr>
          <p:spPr>
            <a:xfrm>
              <a:off x="7988400" y="3125880"/>
              <a:ext cx="36000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092800" y="3183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"/>
            <p:cNvGrpSpPr/>
            <p:nvPr/>
          </p:nvGrpSpPr>
          <p:grpSpPr>
            <a:xfrm>
              <a:off x="7662600" y="2305080"/>
              <a:ext cx="461520" cy="954720"/>
              <a:chOff x="7662600" y="2305080"/>
              <a:chExt cx="461520" cy="954720"/>
            </a:xfrm>
          </p:grpSpPr>
          <p:sp>
            <p:nvSpPr>
              <p:cNvPr id="3355" name=""/>
              <p:cNvSpPr/>
              <p:nvPr/>
            </p:nvSpPr>
            <p:spPr>
              <a:xfrm>
                <a:off x="7747920" y="2332080"/>
                <a:ext cx="87120" cy="927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811280" y="2305080"/>
                <a:ext cx="70920" cy="2527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782480" y="2315520"/>
                <a:ext cx="36000" cy="11988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662600" y="2453760"/>
                <a:ext cx="167400" cy="1710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820280" y="2610720"/>
                <a:ext cx="181800" cy="17820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964280" y="2608560"/>
                <a:ext cx="134280" cy="871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8064000" y="26467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677000" y="2643120"/>
                <a:ext cx="146880" cy="19440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3" name=""/>
              <p:cNvGrpSpPr/>
              <p:nvPr/>
            </p:nvGrpSpPr>
            <p:grpSpPr>
              <a:xfrm>
                <a:off x="7833240" y="2985120"/>
                <a:ext cx="76320" cy="101520"/>
                <a:chOff x="7833240" y="2985120"/>
                <a:chExt cx="76320" cy="101520"/>
              </a:xfrm>
            </p:grpSpPr>
            <p:sp>
              <p:nvSpPr>
                <p:cNvPr id="3364" name=""/>
                <p:cNvSpPr/>
                <p:nvPr/>
              </p:nvSpPr>
              <p:spPr>
                <a:xfrm>
                  <a:off x="7833240" y="2999520"/>
                  <a:ext cx="63720" cy="8712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0" y="47"/>
                      </a:move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8" y="46"/>
                      </a:lnTo>
                      <a:lnTo>
                        <a:pt x="22" y="42"/>
                      </a:lnTo>
                      <a:lnTo>
                        <a:pt x="26" y="34"/>
                      </a:lnTo>
                      <a:lnTo>
                        <a:pt x="29" y="24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7875000" y="2985120"/>
                  <a:ext cx="34560" cy="3996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6" name=""/>
              <p:cNvGrpSpPr/>
              <p:nvPr/>
            </p:nvGrpSpPr>
            <p:grpSpPr>
              <a:xfrm>
                <a:off x="7740360" y="2937600"/>
                <a:ext cx="77760" cy="101520"/>
                <a:chOff x="7740360" y="2937600"/>
                <a:chExt cx="77760" cy="101520"/>
              </a:xfrm>
            </p:grpSpPr>
            <p:sp>
              <p:nvSpPr>
                <p:cNvPr id="3367" name=""/>
                <p:cNvSpPr/>
                <p:nvPr/>
              </p:nvSpPr>
              <p:spPr>
                <a:xfrm>
                  <a:off x="7755120" y="2952360"/>
                  <a:ext cx="63000" cy="8676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7740360" y="2937600"/>
                  <a:ext cx="34200" cy="3996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9" name=""/>
              <p:cNvGrpSpPr/>
              <p:nvPr/>
            </p:nvGrpSpPr>
            <p:grpSpPr>
              <a:xfrm>
                <a:off x="7831440" y="2828880"/>
                <a:ext cx="75600" cy="127080"/>
                <a:chOff x="7831440" y="2828880"/>
                <a:chExt cx="75600" cy="127080"/>
              </a:xfrm>
            </p:grpSpPr>
            <p:sp>
              <p:nvSpPr>
                <p:cNvPr id="3370" name=""/>
                <p:cNvSpPr/>
                <p:nvPr/>
              </p:nvSpPr>
              <p:spPr>
                <a:xfrm>
                  <a:off x="7831440" y="2846880"/>
                  <a:ext cx="63000" cy="10908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7871040" y="2828880"/>
                  <a:ext cx="36000" cy="4716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2" name=""/>
              <p:cNvGrpSpPr/>
              <p:nvPr/>
            </p:nvGrpSpPr>
            <p:grpSpPr>
              <a:xfrm>
                <a:off x="7895160" y="2632320"/>
                <a:ext cx="35640" cy="97560"/>
                <a:chOff x="7895160" y="2632320"/>
                <a:chExt cx="35640" cy="97560"/>
              </a:xfrm>
            </p:grpSpPr>
            <p:sp>
              <p:nvSpPr>
                <p:cNvPr id="3373" name=""/>
                <p:cNvSpPr/>
                <p:nvPr/>
              </p:nvSpPr>
              <p:spPr>
                <a:xfrm>
                  <a:off x="7902360" y="2650320"/>
                  <a:ext cx="10440" cy="7956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>
                  <a:off x="7895160" y="2632320"/>
                  <a:ext cx="35640" cy="428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5" name=""/>
              <p:cNvGrpSpPr/>
              <p:nvPr/>
            </p:nvGrpSpPr>
            <p:grpSpPr>
              <a:xfrm>
                <a:off x="7755120" y="2710440"/>
                <a:ext cx="35640" cy="83160"/>
                <a:chOff x="7755120" y="2710440"/>
                <a:chExt cx="35640" cy="83160"/>
              </a:xfrm>
            </p:grpSpPr>
            <p:sp>
              <p:nvSpPr>
                <p:cNvPr id="3376" name=""/>
                <p:cNvSpPr/>
                <p:nvPr/>
              </p:nvSpPr>
              <p:spPr>
                <a:xfrm>
                  <a:off x="7772760" y="2728440"/>
                  <a:ext cx="1440" cy="65160"/>
                </a:xfrm>
                <a:custGeom>
                  <a:avLst/>
                  <a:gdLst/>
                  <a:ahLst/>
                  <a:rect l="l" t="t" r="r" b="b"/>
                  <a:pathLst>
                    <a:path w="1" h="36">
                      <a:moveTo>
                        <a:pt x="0" y="36"/>
                      </a:move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7755120" y="2710440"/>
                  <a:ext cx="35640" cy="4356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8" name=""/>
              <p:cNvGrpSpPr/>
              <p:nvPr/>
            </p:nvGrpSpPr>
            <p:grpSpPr>
              <a:xfrm>
                <a:off x="7698600" y="2432520"/>
                <a:ext cx="35640" cy="93960"/>
                <a:chOff x="7698600" y="2432520"/>
                <a:chExt cx="35640" cy="93960"/>
              </a:xfrm>
            </p:grpSpPr>
            <p:sp>
              <p:nvSpPr>
                <p:cNvPr id="3379" name=""/>
                <p:cNvSpPr/>
                <p:nvPr/>
              </p:nvSpPr>
              <p:spPr>
                <a:xfrm>
                  <a:off x="7714800" y="2453760"/>
                  <a:ext cx="3600" cy="7272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7698600" y="2432520"/>
                  <a:ext cx="35640" cy="432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1" name=""/>
            <p:cNvGrpSpPr/>
            <p:nvPr/>
          </p:nvGrpSpPr>
          <p:grpSpPr>
            <a:xfrm>
              <a:off x="7405560" y="2124000"/>
              <a:ext cx="824040" cy="1288440"/>
              <a:chOff x="7405560" y="2124000"/>
              <a:chExt cx="824040" cy="1288440"/>
            </a:xfrm>
          </p:grpSpPr>
          <p:grpSp>
            <p:nvGrpSpPr>
              <p:cNvPr id="3382" name=""/>
              <p:cNvGrpSpPr/>
              <p:nvPr/>
            </p:nvGrpSpPr>
            <p:grpSpPr>
              <a:xfrm>
                <a:off x="7405560" y="2124000"/>
                <a:ext cx="824040" cy="1288440"/>
                <a:chOff x="7405560" y="2124000"/>
                <a:chExt cx="824040" cy="1288440"/>
              </a:xfrm>
            </p:grpSpPr>
            <p:sp>
              <p:nvSpPr>
                <p:cNvPr id="3383" name=""/>
                <p:cNvSpPr/>
                <p:nvPr/>
              </p:nvSpPr>
              <p:spPr>
                <a:xfrm>
                  <a:off x="7405560" y="2124000"/>
                  <a:ext cx="824040" cy="12884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7405560" y="2124000"/>
                  <a:ext cx="820440" cy="1285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7405560" y="2124000"/>
                  <a:ext cx="820440" cy="1285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7405560" y="2124000"/>
                  <a:ext cx="824040" cy="12884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7" name=""/>
              <p:cNvSpPr/>
              <p:nvPr/>
            </p:nvSpPr>
            <p:spPr>
              <a:xfrm>
                <a:off x="7405560" y="2124000"/>
                <a:ext cx="820800" cy="128556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8" name=""/>
            <p:cNvSpPr/>
            <p:nvPr/>
          </p:nvSpPr>
          <p:spPr>
            <a:xfrm>
              <a:off x="7988400" y="3125880"/>
              <a:ext cx="36000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092800" y="3183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747560" y="2332800"/>
              <a:ext cx="88200" cy="927720"/>
            </a:xfrm>
            <a:custGeom>
              <a:avLst/>
              <a:gdLst/>
              <a:ahLst/>
              <a:rect l="l" t="t" r="r" b="b"/>
              <a:pathLst>
                <a:path w="48" h="510">
                  <a:moveTo>
                    <a:pt x="37" y="510"/>
                  </a:moveTo>
                  <a:lnTo>
                    <a:pt x="47" y="510"/>
                  </a:lnTo>
                  <a:lnTo>
                    <a:pt x="47" y="420"/>
                  </a:lnTo>
                  <a:lnTo>
                    <a:pt x="47" y="374"/>
                  </a:lnTo>
                  <a:lnTo>
                    <a:pt x="47" y="326"/>
                  </a:lnTo>
                  <a:lnTo>
                    <a:pt x="47" y="300"/>
                  </a:lnTo>
                  <a:lnTo>
                    <a:pt x="48" y="273"/>
                  </a:lnTo>
                  <a:lnTo>
                    <a:pt x="48" y="216"/>
                  </a:lnTo>
                  <a:lnTo>
                    <a:pt x="48" y="188"/>
                  </a:lnTo>
                  <a:lnTo>
                    <a:pt x="48" y="162"/>
                  </a:lnTo>
                  <a:lnTo>
                    <a:pt x="47" y="138"/>
                  </a:lnTo>
                  <a:lnTo>
                    <a:pt x="45" y="116"/>
                  </a:lnTo>
                  <a:lnTo>
                    <a:pt x="42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2" y="97"/>
                  </a:lnTo>
                  <a:lnTo>
                    <a:pt x="35" y="117"/>
                  </a:lnTo>
                  <a:lnTo>
                    <a:pt x="37" y="138"/>
                  </a:lnTo>
                  <a:lnTo>
                    <a:pt x="38" y="162"/>
                  </a:lnTo>
                  <a:lnTo>
                    <a:pt x="38" y="188"/>
                  </a:lnTo>
                  <a:lnTo>
                    <a:pt x="38" y="216"/>
                  </a:lnTo>
                  <a:lnTo>
                    <a:pt x="38" y="273"/>
                  </a:lnTo>
                  <a:lnTo>
                    <a:pt x="37" y="300"/>
                  </a:lnTo>
                  <a:lnTo>
                    <a:pt x="37" y="326"/>
                  </a:lnTo>
                  <a:lnTo>
                    <a:pt x="37" y="374"/>
                  </a:lnTo>
                  <a:lnTo>
                    <a:pt x="37" y="420"/>
                  </a:lnTo>
                  <a:lnTo>
                    <a:pt x="37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810920" y="2305080"/>
              <a:ext cx="71640" cy="253080"/>
            </a:xfrm>
            <a:custGeom>
              <a:avLst/>
              <a:gdLst/>
              <a:ahLst/>
              <a:rect l="l" t="t" r="r" b="b"/>
              <a:pathLst>
                <a:path w="39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2" y="115"/>
                  </a:lnTo>
                  <a:lnTo>
                    <a:pt x="28" y="101"/>
                  </a:lnTo>
                  <a:lnTo>
                    <a:pt x="29" y="98"/>
                  </a:lnTo>
                  <a:lnTo>
                    <a:pt x="34" y="83"/>
                  </a:lnTo>
                  <a:lnTo>
                    <a:pt x="37" y="64"/>
                  </a:lnTo>
                  <a:lnTo>
                    <a:pt x="38" y="44"/>
                  </a:lnTo>
                  <a:lnTo>
                    <a:pt x="39" y="22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22"/>
                  </a:lnTo>
                  <a:lnTo>
                    <a:pt x="28" y="44"/>
                  </a:lnTo>
                  <a:lnTo>
                    <a:pt x="27" y="64"/>
                  </a:lnTo>
                  <a:lnTo>
                    <a:pt x="25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1" y="94"/>
                  </a:lnTo>
                  <a:lnTo>
                    <a:pt x="15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782120" y="2316240"/>
              <a:ext cx="37080" cy="1209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662600" y="2455200"/>
              <a:ext cx="167400" cy="1702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820640" y="2611800"/>
              <a:ext cx="181080" cy="176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2" y="73"/>
                  </a:lnTo>
                  <a:lnTo>
                    <a:pt x="65" y="63"/>
                  </a:lnTo>
                  <a:lnTo>
                    <a:pt x="75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3"/>
                  </a:lnTo>
                  <a:lnTo>
                    <a:pt x="58" y="56"/>
                  </a:lnTo>
                  <a:lnTo>
                    <a:pt x="45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965000" y="2609280"/>
              <a:ext cx="133200" cy="8784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7" y="44"/>
                  </a:lnTo>
                  <a:lnTo>
                    <a:pt x="43" y="41"/>
                  </a:lnTo>
                  <a:lnTo>
                    <a:pt x="47" y="38"/>
                  </a:lnTo>
                  <a:lnTo>
                    <a:pt x="56" y="29"/>
                  </a:lnTo>
                  <a:lnTo>
                    <a:pt x="65" y="18"/>
                  </a:lnTo>
                  <a:lnTo>
                    <a:pt x="74" y="6"/>
                  </a:lnTo>
                  <a:lnTo>
                    <a:pt x="67" y="0"/>
                  </a:lnTo>
                  <a:lnTo>
                    <a:pt x="58" y="11"/>
                  </a:lnTo>
                  <a:lnTo>
                    <a:pt x="49" y="22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3" y="36"/>
                  </a:lnTo>
                  <a:lnTo>
                    <a:pt x="23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064000" y="2647440"/>
              <a:ext cx="60120" cy="2052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677720" y="2643480"/>
              <a:ext cx="146520" cy="1951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76" y="107"/>
                  </a:moveTo>
                  <a:lnTo>
                    <a:pt x="81" y="99"/>
                  </a:lnTo>
                  <a:lnTo>
                    <a:pt x="69" y="91"/>
                  </a:lnTo>
                  <a:lnTo>
                    <a:pt x="57" y="83"/>
                  </a:lnTo>
                  <a:lnTo>
                    <a:pt x="45" y="7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8" y="80"/>
                  </a:lnTo>
                  <a:lnTo>
                    <a:pt x="50" y="90"/>
                  </a:lnTo>
                  <a:lnTo>
                    <a:pt x="62" y="98"/>
                  </a:lnTo>
                  <a:lnTo>
                    <a:pt x="76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8" name=""/>
            <p:cNvGrpSpPr/>
            <p:nvPr/>
          </p:nvGrpSpPr>
          <p:grpSpPr>
            <a:xfrm>
              <a:off x="7832880" y="2985840"/>
              <a:ext cx="76320" cy="100800"/>
              <a:chOff x="7832880" y="2985840"/>
              <a:chExt cx="76320" cy="100800"/>
            </a:xfrm>
          </p:grpSpPr>
          <p:sp>
            <p:nvSpPr>
              <p:cNvPr id="3399" name=""/>
              <p:cNvSpPr/>
              <p:nvPr/>
            </p:nvSpPr>
            <p:spPr>
              <a:xfrm>
                <a:off x="7832880" y="2999880"/>
                <a:ext cx="63720" cy="8676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874640" y="2985840"/>
                <a:ext cx="34560" cy="396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1" name=""/>
            <p:cNvGrpSpPr/>
            <p:nvPr/>
          </p:nvGrpSpPr>
          <p:grpSpPr>
            <a:xfrm>
              <a:off x="7740720" y="2939040"/>
              <a:ext cx="78120" cy="101160"/>
              <a:chOff x="7740720" y="2939040"/>
              <a:chExt cx="78120" cy="101160"/>
            </a:xfrm>
          </p:grpSpPr>
          <p:sp>
            <p:nvSpPr>
              <p:cNvPr id="3402" name=""/>
              <p:cNvSpPr/>
              <p:nvPr/>
            </p:nvSpPr>
            <p:spPr>
              <a:xfrm>
                <a:off x="7755480" y="2953800"/>
                <a:ext cx="63360" cy="8640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740720" y="2939040"/>
                <a:ext cx="34560" cy="396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4" name=""/>
            <p:cNvGrpSpPr/>
            <p:nvPr/>
          </p:nvGrpSpPr>
          <p:grpSpPr>
            <a:xfrm>
              <a:off x="7831440" y="2828880"/>
              <a:ext cx="75240" cy="127440"/>
              <a:chOff x="7831440" y="2828880"/>
              <a:chExt cx="75240" cy="127440"/>
            </a:xfrm>
          </p:grpSpPr>
          <p:sp>
            <p:nvSpPr>
              <p:cNvPr id="3405" name=""/>
              <p:cNvSpPr/>
              <p:nvPr/>
            </p:nvSpPr>
            <p:spPr>
              <a:xfrm>
                <a:off x="7831440" y="2846880"/>
                <a:ext cx="62640" cy="10944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871040" y="2828880"/>
                <a:ext cx="35640" cy="4752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7" name=""/>
            <p:cNvGrpSpPr/>
            <p:nvPr/>
          </p:nvGrpSpPr>
          <p:grpSpPr>
            <a:xfrm>
              <a:off x="7894800" y="2632680"/>
              <a:ext cx="36720" cy="98280"/>
              <a:chOff x="7894800" y="2632680"/>
              <a:chExt cx="36720" cy="98280"/>
            </a:xfrm>
          </p:grpSpPr>
          <p:sp>
            <p:nvSpPr>
              <p:cNvPr id="3408" name=""/>
              <p:cNvSpPr/>
              <p:nvPr/>
            </p:nvSpPr>
            <p:spPr>
              <a:xfrm>
                <a:off x="7902360" y="2650680"/>
                <a:ext cx="10800" cy="8028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894800" y="2632680"/>
                <a:ext cx="36720" cy="43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0" name=""/>
            <p:cNvGrpSpPr/>
            <p:nvPr/>
          </p:nvGrpSpPr>
          <p:grpSpPr>
            <a:xfrm>
              <a:off x="7754760" y="2710800"/>
              <a:ext cx="36720" cy="83160"/>
              <a:chOff x="7754760" y="2710800"/>
              <a:chExt cx="36720" cy="83160"/>
            </a:xfrm>
          </p:grpSpPr>
          <p:sp>
            <p:nvSpPr>
              <p:cNvPr id="3411" name=""/>
              <p:cNvSpPr/>
              <p:nvPr/>
            </p:nvSpPr>
            <p:spPr>
              <a:xfrm>
                <a:off x="7773120" y="272880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754760" y="2710800"/>
                <a:ext cx="36720" cy="435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3" name=""/>
            <p:cNvGrpSpPr/>
            <p:nvPr/>
          </p:nvGrpSpPr>
          <p:grpSpPr>
            <a:xfrm>
              <a:off x="7698240" y="2432880"/>
              <a:ext cx="36720" cy="94320"/>
              <a:chOff x="7698240" y="2432880"/>
              <a:chExt cx="36720" cy="94320"/>
            </a:xfrm>
          </p:grpSpPr>
          <p:sp>
            <p:nvSpPr>
              <p:cNvPr id="3414" name=""/>
              <p:cNvSpPr/>
              <p:nvPr/>
            </p:nvSpPr>
            <p:spPr>
              <a:xfrm>
                <a:off x="7714800" y="2454120"/>
                <a:ext cx="3600" cy="730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698240" y="2432880"/>
                <a:ext cx="36720" cy="43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6" name=""/>
            <p:cNvSpPr/>
            <p:nvPr/>
          </p:nvSpPr>
          <p:spPr>
            <a:xfrm>
              <a:off x="7747560" y="2332800"/>
              <a:ext cx="88200" cy="927720"/>
            </a:xfrm>
            <a:custGeom>
              <a:avLst/>
              <a:gdLst/>
              <a:ahLst/>
              <a:rect l="l" t="t" r="r" b="b"/>
              <a:pathLst>
                <a:path w="48" h="510">
                  <a:moveTo>
                    <a:pt x="37" y="510"/>
                  </a:moveTo>
                  <a:lnTo>
                    <a:pt x="47" y="510"/>
                  </a:lnTo>
                  <a:lnTo>
                    <a:pt x="47" y="420"/>
                  </a:lnTo>
                  <a:lnTo>
                    <a:pt x="47" y="374"/>
                  </a:lnTo>
                  <a:lnTo>
                    <a:pt x="47" y="326"/>
                  </a:lnTo>
                  <a:lnTo>
                    <a:pt x="47" y="300"/>
                  </a:lnTo>
                  <a:lnTo>
                    <a:pt x="48" y="273"/>
                  </a:lnTo>
                  <a:lnTo>
                    <a:pt x="48" y="216"/>
                  </a:lnTo>
                  <a:lnTo>
                    <a:pt x="48" y="188"/>
                  </a:lnTo>
                  <a:lnTo>
                    <a:pt x="48" y="162"/>
                  </a:lnTo>
                  <a:lnTo>
                    <a:pt x="47" y="138"/>
                  </a:lnTo>
                  <a:lnTo>
                    <a:pt x="45" y="116"/>
                  </a:lnTo>
                  <a:lnTo>
                    <a:pt x="42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2" y="97"/>
                  </a:lnTo>
                  <a:lnTo>
                    <a:pt x="35" y="117"/>
                  </a:lnTo>
                  <a:lnTo>
                    <a:pt x="37" y="138"/>
                  </a:lnTo>
                  <a:lnTo>
                    <a:pt x="38" y="162"/>
                  </a:lnTo>
                  <a:lnTo>
                    <a:pt x="38" y="188"/>
                  </a:lnTo>
                  <a:lnTo>
                    <a:pt x="38" y="216"/>
                  </a:lnTo>
                  <a:lnTo>
                    <a:pt x="38" y="273"/>
                  </a:lnTo>
                  <a:lnTo>
                    <a:pt x="37" y="300"/>
                  </a:lnTo>
                  <a:lnTo>
                    <a:pt x="37" y="326"/>
                  </a:lnTo>
                  <a:lnTo>
                    <a:pt x="37" y="374"/>
                  </a:lnTo>
                  <a:lnTo>
                    <a:pt x="37" y="420"/>
                  </a:lnTo>
                  <a:lnTo>
                    <a:pt x="37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810920" y="2305080"/>
              <a:ext cx="71640" cy="253080"/>
            </a:xfrm>
            <a:custGeom>
              <a:avLst/>
              <a:gdLst/>
              <a:ahLst/>
              <a:rect l="l" t="t" r="r" b="b"/>
              <a:pathLst>
                <a:path w="39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2" y="115"/>
                  </a:lnTo>
                  <a:lnTo>
                    <a:pt x="28" y="101"/>
                  </a:lnTo>
                  <a:lnTo>
                    <a:pt x="29" y="98"/>
                  </a:lnTo>
                  <a:lnTo>
                    <a:pt x="34" y="83"/>
                  </a:lnTo>
                  <a:lnTo>
                    <a:pt x="37" y="64"/>
                  </a:lnTo>
                  <a:lnTo>
                    <a:pt x="38" y="44"/>
                  </a:lnTo>
                  <a:lnTo>
                    <a:pt x="39" y="22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22"/>
                  </a:lnTo>
                  <a:lnTo>
                    <a:pt x="28" y="44"/>
                  </a:lnTo>
                  <a:lnTo>
                    <a:pt x="27" y="64"/>
                  </a:lnTo>
                  <a:lnTo>
                    <a:pt x="25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1" y="94"/>
                  </a:lnTo>
                  <a:lnTo>
                    <a:pt x="15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782120" y="2316240"/>
              <a:ext cx="37080" cy="1209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662600" y="2455200"/>
              <a:ext cx="167400" cy="1702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7820640" y="2611800"/>
              <a:ext cx="181080" cy="176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2" y="73"/>
                  </a:lnTo>
                  <a:lnTo>
                    <a:pt x="65" y="63"/>
                  </a:lnTo>
                  <a:lnTo>
                    <a:pt x="75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3"/>
                  </a:lnTo>
                  <a:lnTo>
                    <a:pt x="58" y="56"/>
                  </a:lnTo>
                  <a:lnTo>
                    <a:pt x="45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965000" y="2609280"/>
              <a:ext cx="133200" cy="8784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7" y="44"/>
                  </a:lnTo>
                  <a:lnTo>
                    <a:pt x="43" y="41"/>
                  </a:lnTo>
                  <a:lnTo>
                    <a:pt x="47" y="38"/>
                  </a:lnTo>
                  <a:lnTo>
                    <a:pt x="56" y="29"/>
                  </a:lnTo>
                  <a:lnTo>
                    <a:pt x="65" y="18"/>
                  </a:lnTo>
                  <a:lnTo>
                    <a:pt x="74" y="6"/>
                  </a:lnTo>
                  <a:lnTo>
                    <a:pt x="67" y="0"/>
                  </a:lnTo>
                  <a:lnTo>
                    <a:pt x="58" y="11"/>
                  </a:lnTo>
                  <a:lnTo>
                    <a:pt x="49" y="22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3" y="36"/>
                  </a:lnTo>
                  <a:lnTo>
                    <a:pt x="23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064000" y="2647440"/>
              <a:ext cx="60120" cy="2052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7677720" y="2643480"/>
              <a:ext cx="146520" cy="1951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76" y="107"/>
                  </a:moveTo>
                  <a:lnTo>
                    <a:pt x="81" y="99"/>
                  </a:lnTo>
                  <a:lnTo>
                    <a:pt x="69" y="91"/>
                  </a:lnTo>
                  <a:lnTo>
                    <a:pt x="57" y="83"/>
                  </a:lnTo>
                  <a:lnTo>
                    <a:pt x="45" y="7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8" y="80"/>
                  </a:lnTo>
                  <a:lnTo>
                    <a:pt x="50" y="90"/>
                  </a:lnTo>
                  <a:lnTo>
                    <a:pt x="62" y="98"/>
                  </a:lnTo>
                  <a:lnTo>
                    <a:pt x="76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832880" y="3000600"/>
              <a:ext cx="64440" cy="86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7"/>
                  </a:moveTo>
                  <a:lnTo>
                    <a:pt x="6" y="48"/>
                  </a:lnTo>
                  <a:lnTo>
                    <a:pt x="12" y="48"/>
                  </a:lnTo>
                  <a:lnTo>
                    <a:pt x="18" y="46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29" y="24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875720" y="2985840"/>
              <a:ext cx="34200" cy="39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7832880" y="3000600"/>
              <a:ext cx="64440" cy="86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7"/>
                  </a:moveTo>
                  <a:lnTo>
                    <a:pt x="6" y="48"/>
                  </a:lnTo>
                  <a:lnTo>
                    <a:pt x="12" y="48"/>
                  </a:lnTo>
                  <a:lnTo>
                    <a:pt x="18" y="46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29" y="24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7875720" y="2985840"/>
              <a:ext cx="34200" cy="39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7754760" y="2952720"/>
              <a:ext cx="64440" cy="878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7740720" y="2939040"/>
              <a:ext cx="34560" cy="39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7754760" y="2952720"/>
              <a:ext cx="64440" cy="878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7740720" y="2939040"/>
              <a:ext cx="34560" cy="39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7831440" y="2848320"/>
              <a:ext cx="63000" cy="1083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7871400" y="2828880"/>
              <a:ext cx="35640" cy="482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831440" y="2848320"/>
              <a:ext cx="63000" cy="1083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871400" y="2828880"/>
              <a:ext cx="35640" cy="482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903080" y="2651400"/>
              <a:ext cx="9360" cy="795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894800" y="2632680"/>
              <a:ext cx="3708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903080" y="2651400"/>
              <a:ext cx="9360" cy="795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894800" y="2632680"/>
              <a:ext cx="3708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773840" y="2730240"/>
              <a:ext cx="1440" cy="644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36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754760" y="2710800"/>
              <a:ext cx="3708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773840" y="2730240"/>
              <a:ext cx="1440" cy="644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36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754760" y="2710800"/>
              <a:ext cx="3708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714800" y="2455200"/>
              <a:ext cx="3960" cy="727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698240" y="2432880"/>
              <a:ext cx="3708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714800" y="2455200"/>
              <a:ext cx="3960" cy="727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698240" y="2432880"/>
              <a:ext cx="3708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"/>
          <p:cNvGrpSpPr/>
          <p:nvPr/>
        </p:nvGrpSpPr>
        <p:grpSpPr>
          <a:xfrm>
            <a:off x="7407360" y="3543480"/>
            <a:ext cx="941040" cy="1350360"/>
            <a:chOff x="7407360" y="3543480"/>
            <a:chExt cx="941040" cy="1350360"/>
          </a:xfrm>
        </p:grpSpPr>
        <p:grpSp>
          <p:nvGrpSpPr>
            <p:cNvPr id="3449" name=""/>
            <p:cNvGrpSpPr/>
            <p:nvPr/>
          </p:nvGrpSpPr>
          <p:grpSpPr>
            <a:xfrm>
              <a:off x="7407360" y="3543480"/>
              <a:ext cx="822600" cy="1286640"/>
              <a:chOff x="7407360" y="3543480"/>
              <a:chExt cx="822600" cy="1286640"/>
            </a:xfrm>
          </p:grpSpPr>
          <p:grpSp>
            <p:nvGrpSpPr>
              <p:cNvPr id="3450" name=""/>
              <p:cNvGrpSpPr/>
              <p:nvPr/>
            </p:nvGrpSpPr>
            <p:grpSpPr>
              <a:xfrm>
                <a:off x="7407360" y="3543480"/>
                <a:ext cx="822600" cy="1286640"/>
                <a:chOff x="7407360" y="3543480"/>
                <a:chExt cx="822600" cy="1286640"/>
              </a:xfrm>
            </p:grpSpPr>
            <p:sp>
              <p:nvSpPr>
                <p:cNvPr id="3451" name=""/>
                <p:cNvSpPr/>
                <p:nvPr/>
              </p:nvSpPr>
              <p:spPr>
                <a:xfrm>
                  <a:off x="7407360" y="3543480"/>
                  <a:ext cx="82260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7407360" y="3543480"/>
                  <a:ext cx="819000" cy="128304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7407360" y="3543480"/>
                  <a:ext cx="819000" cy="128304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7407360" y="3543480"/>
                  <a:ext cx="82260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5" name=""/>
              <p:cNvSpPr/>
              <p:nvPr/>
            </p:nvSpPr>
            <p:spPr>
              <a:xfrm>
                <a:off x="7407360" y="3543480"/>
                <a:ext cx="819360" cy="128340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6" name=""/>
            <p:cNvSpPr/>
            <p:nvPr/>
          </p:nvSpPr>
          <p:spPr>
            <a:xfrm>
              <a:off x="7988760" y="4543560"/>
              <a:ext cx="3596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094240" y="4604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8" name=""/>
            <p:cNvGrpSpPr/>
            <p:nvPr/>
          </p:nvGrpSpPr>
          <p:grpSpPr>
            <a:xfrm>
              <a:off x="7634160" y="3744000"/>
              <a:ext cx="386640" cy="918720"/>
              <a:chOff x="7634160" y="3744000"/>
              <a:chExt cx="386640" cy="918720"/>
            </a:xfrm>
          </p:grpSpPr>
          <p:sp>
            <p:nvSpPr>
              <p:cNvPr id="3459" name=""/>
              <p:cNvSpPr/>
              <p:nvPr/>
            </p:nvSpPr>
            <p:spPr>
              <a:xfrm>
                <a:off x="7786440" y="3905280"/>
                <a:ext cx="66960" cy="6516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634160" y="3861720"/>
                <a:ext cx="167400" cy="17064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792200" y="4019760"/>
                <a:ext cx="181800" cy="1760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648560" y="4050720"/>
                <a:ext cx="145440" cy="1958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3" name=""/>
              <p:cNvGrpSpPr/>
              <p:nvPr/>
            </p:nvGrpSpPr>
            <p:grpSpPr>
              <a:xfrm>
                <a:off x="7803000" y="4392360"/>
                <a:ext cx="77400" cy="102960"/>
                <a:chOff x="7803000" y="4392360"/>
                <a:chExt cx="77400" cy="102960"/>
              </a:xfrm>
            </p:grpSpPr>
            <p:sp>
              <p:nvSpPr>
                <p:cNvPr id="3464" name=""/>
                <p:cNvSpPr/>
                <p:nvPr/>
              </p:nvSpPr>
              <p:spPr>
                <a:xfrm>
                  <a:off x="7803000" y="4406760"/>
                  <a:ext cx="63000" cy="8856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6" y="49"/>
                      </a:lnTo>
                      <a:lnTo>
                        <a:pt x="12" y="49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6" y="35"/>
                      </a:lnTo>
                      <a:lnTo>
                        <a:pt x="29" y="25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7846200" y="4392360"/>
                  <a:ext cx="34200" cy="3960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6" name=""/>
              <p:cNvGrpSpPr/>
              <p:nvPr/>
            </p:nvGrpSpPr>
            <p:grpSpPr>
              <a:xfrm>
                <a:off x="7712280" y="4344840"/>
                <a:ext cx="75600" cy="101160"/>
                <a:chOff x="7712280" y="4344840"/>
                <a:chExt cx="75600" cy="101160"/>
              </a:xfrm>
            </p:grpSpPr>
            <p:sp>
              <p:nvSpPr>
                <p:cNvPr id="3467" name=""/>
                <p:cNvSpPr/>
                <p:nvPr/>
              </p:nvSpPr>
              <p:spPr>
                <a:xfrm>
                  <a:off x="7724520" y="4359600"/>
                  <a:ext cx="63360" cy="8640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7712280" y="4344840"/>
                  <a:ext cx="338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9" name=""/>
              <p:cNvGrpSpPr/>
              <p:nvPr/>
            </p:nvGrpSpPr>
            <p:grpSpPr>
              <a:xfrm>
                <a:off x="7801560" y="4236120"/>
                <a:ext cx="77400" cy="126720"/>
                <a:chOff x="7801560" y="4236120"/>
                <a:chExt cx="77400" cy="126720"/>
              </a:xfrm>
            </p:grpSpPr>
            <p:sp>
              <p:nvSpPr>
                <p:cNvPr id="3470" name=""/>
                <p:cNvSpPr/>
                <p:nvPr/>
              </p:nvSpPr>
              <p:spPr>
                <a:xfrm>
                  <a:off x="7801560" y="4254120"/>
                  <a:ext cx="63000" cy="10872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7842960" y="4236120"/>
                  <a:ext cx="36000" cy="4680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2" name=""/>
              <p:cNvGrpSpPr/>
              <p:nvPr/>
            </p:nvGrpSpPr>
            <p:grpSpPr>
              <a:xfrm>
                <a:off x="7866720" y="4039920"/>
                <a:ext cx="36000" cy="97560"/>
                <a:chOff x="7866720" y="4039920"/>
                <a:chExt cx="36000" cy="97560"/>
              </a:xfrm>
            </p:grpSpPr>
            <p:sp>
              <p:nvSpPr>
                <p:cNvPr id="3473" name=""/>
                <p:cNvSpPr/>
                <p:nvPr/>
              </p:nvSpPr>
              <p:spPr>
                <a:xfrm>
                  <a:off x="7873920" y="4057920"/>
                  <a:ext cx="10440" cy="7956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7866720" y="4039920"/>
                  <a:ext cx="36000" cy="428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"/>
              <p:cNvGrpSpPr/>
              <p:nvPr/>
            </p:nvGrpSpPr>
            <p:grpSpPr>
              <a:xfrm>
                <a:off x="7726680" y="4117680"/>
                <a:ext cx="35640" cy="84600"/>
                <a:chOff x="7726680" y="4117680"/>
                <a:chExt cx="35640" cy="84600"/>
              </a:xfrm>
            </p:grpSpPr>
            <p:sp>
              <p:nvSpPr>
                <p:cNvPr id="3476" name=""/>
                <p:cNvSpPr/>
                <p:nvPr/>
              </p:nvSpPr>
              <p:spPr>
                <a:xfrm>
                  <a:off x="7744320" y="4135680"/>
                  <a:ext cx="1440" cy="66600"/>
                </a:xfrm>
                <a:custGeom>
                  <a:avLst/>
                  <a:gdLst/>
                  <a:ahLst/>
                  <a:rect l="l" t="t" r="r" b="b"/>
                  <a:pathLst>
                    <a:path w="1" h="37">
                      <a:moveTo>
                        <a:pt x="0" y="37"/>
                      </a:moveTo>
                      <a:lnTo>
                        <a:pt x="0" y="2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7726680" y="4117680"/>
                  <a:ext cx="35640" cy="432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8" name=""/>
              <p:cNvGrpSpPr/>
              <p:nvPr/>
            </p:nvGrpSpPr>
            <p:grpSpPr>
              <a:xfrm>
                <a:off x="7670160" y="3840120"/>
                <a:ext cx="35640" cy="93960"/>
                <a:chOff x="7670160" y="3840120"/>
                <a:chExt cx="35640" cy="93960"/>
              </a:xfrm>
            </p:grpSpPr>
            <p:sp>
              <p:nvSpPr>
                <p:cNvPr id="3479" name=""/>
                <p:cNvSpPr/>
                <p:nvPr/>
              </p:nvSpPr>
              <p:spPr>
                <a:xfrm>
                  <a:off x="7686360" y="3861360"/>
                  <a:ext cx="3600" cy="7272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7670160" y="3840120"/>
                  <a:ext cx="35640" cy="432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1" name=""/>
              <p:cNvSpPr/>
              <p:nvPr/>
            </p:nvSpPr>
            <p:spPr>
              <a:xfrm>
                <a:off x="7773840" y="3898440"/>
                <a:ext cx="30600" cy="76428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2" name=""/>
              <p:cNvGrpSpPr/>
              <p:nvPr/>
            </p:nvGrpSpPr>
            <p:grpSpPr>
              <a:xfrm>
                <a:off x="7741080" y="3744000"/>
                <a:ext cx="45000" cy="160920"/>
                <a:chOff x="7741080" y="3744000"/>
                <a:chExt cx="45000" cy="160920"/>
              </a:xfrm>
            </p:grpSpPr>
            <p:sp>
              <p:nvSpPr>
                <p:cNvPr id="3483" name=""/>
                <p:cNvSpPr/>
                <p:nvPr/>
              </p:nvSpPr>
              <p:spPr>
                <a:xfrm>
                  <a:off x="7762680" y="387792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7746120" y="385092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7741080" y="381636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7741080" y="377820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7742520" y="3744000"/>
                  <a:ext cx="20160" cy="18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8" name=""/>
              <p:cNvGrpSpPr/>
              <p:nvPr/>
            </p:nvGrpSpPr>
            <p:grpSpPr>
              <a:xfrm>
                <a:off x="7934400" y="4070880"/>
                <a:ext cx="86400" cy="33480"/>
                <a:chOff x="7934400" y="4070880"/>
                <a:chExt cx="86400" cy="33480"/>
              </a:xfrm>
            </p:grpSpPr>
            <p:sp>
              <p:nvSpPr>
                <p:cNvPr id="3489" name=""/>
                <p:cNvSpPr/>
                <p:nvPr/>
              </p:nvSpPr>
              <p:spPr>
                <a:xfrm>
                  <a:off x="7934400" y="408492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7970400" y="4082760"/>
                  <a:ext cx="19440" cy="198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8001360" y="4070880"/>
                  <a:ext cx="19440" cy="2304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2" name=""/>
              <p:cNvGrpSpPr/>
              <p:nvPr/>
            </p:nvGrpSpPr>
            <p:grpSpPr>
              <a:xfrm>
                <a:off x="7837560" y="3778560"/>
                <a:ext cx="19080" cy="126360"/>
                <a:chOff x="7837560" y="3778560"/>
                <a:chExt cx="19080" cy="126360"/>
              </a:xfrm>
            </p:grpSpPr>
            <p:sp>
              <p:nvSpPr>
                <p:cNvPr id="3493" name=""/>
                <p:cNvSpPr/>
                <p:nvPr/>
              </p:nvSpPr>
              <p:spPr>
                <a:xfrm>
                  <a:off x="7837560" y="388692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7839000" y="385092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7839000" y="381456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>
                  <a:off x="7839000" y="377856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7" name=""/>
            <p:cNvGrpSpPr/>
            <p:nvPr/>
          </p:nvGrpSpPr>
          <p:grpSpPr>
            <a:xfrm>
              <a:off x="7407360" y="3543480"/>
              <a:ext cx="822600" cy="1286640"/>
              <a:chOff x="7407360" y="3543480"/>
              <a:chExt cx="822600" cy="1286640"/>
            </a:xfrm>
          </p:grpSpPr>
          <p:grpSp>
            <p:nvGrpSpPr>
              <p:cNvPr id="3498" name=""/>
              <p:cNvGrpSpPr/>
              <p:nvPr/>
            </p:nvGrpSpPr>
            <p:grpSpPr>
              <a:xfrm>
                <a:off x="7407360" y="3543480"/>
                <a:ext cx="822600" cy="1286640"/>
                <a:chOff x="7407360" y="3543480"/>
                <a:chExt cx="822600" cy="1286640"/>
              </a:xfrm>
            </p:grpSpPr>
            <p:sp>
              <p:nvSpPr>
                <p:cNvPr id="3499" name=""/>
                <p:cNvSpPr/>
                <p:nvPr/>
              </p:nvSpPr>
              <p:spPr>
                <a:xfrm>
                  <a:off x="7407360" y="3543480"/>
                  <a:ext cx="82260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>
                  <a:off x="7407360" y="3543480"/>
                  <a:ext cx="819000" cy="128304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7407360" y="3543480"/>
                  <a:ext cx="819000" cy="128304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7407360" y="3543480"/>
                  <a:ext cx="82260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3" name=""/>
              <p:cNvSpPr/>
              <p:nvPr/>
            </p:nvSpPr>
            <p:spPr>
              <a:xfrm>
                <a:off x="7407360" y="3543480"/>
                <a:ext cx="819360" cy="128340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4" name=""/>
            <p:cNvSpPr/>
            <p:nvPr/>
          </p:nvSpPr>
          <p:spPr>
            <a:xfrm>
              <a:off x="7988760" y="4543560"/>
              <a:ext cx="3596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8094240" y="4604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786440" y="3906000"/>
              <a:ext cx="66960" cy="65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634160" y="3862080"/>
              <a:ext cx="167400" cy="171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792200" y="4020120"/>
              <a:ext cx="182520" cy="1771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648920" y="4051800"/>
              <a:ext cx="145800" cy="1962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0" name=""/>
            <p:cNvGrpSpPr/>
            <p:nvPr/>
          </p:nvGrpSpPr>
          <p:grpSpPr>
            <a:xfrm>
              <a:off x="7803000" y="4392360"/>
              <a:ext cx="78120" cy="103680"/>
              <a:chOff x="7803000" y="4392360"/>
              <a:chExt cx="78120" cy="103680"/>
            </a:xfrm>
          </p:grpSpPr>
          <p:sp>
            <p:nvSpPr>
              <p:cNvPr id="3511" name=""/>
              <p:cNvSpPr/>
              <p:nvPr/>
            </p:nvSpPr>
            <p:spPr>
              <a:xfrm>
                <a:off x="7803000" y="4406760"/>
                <a:ext cx="63360" cy="8928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7846560" y="4392360"/>
                <a:ext cx="34560" cy="399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3" name=""/>
            <p:cNvGrpSpPr/>
            <p:nvPr/>
          </p:nvGrpSpPr>
          <p:grpSpPr>
            <a:xfrm>
              <a:off x="7712280" y="4345560"/>
              <a:ext cx="76320" cy="101520"/>
              <a:chOff x="7712280" y="4345560"/>
              <a:chExt cx="76320" cy="101520"/>
            </a:xfrm>
          </p:grpSpPr>
          <p:sp>
            <p:nvSpPr>
              <p:cNvPr id="3514" name=""/>
              <p:cNvSpPr/>
              <p:nvPr/>
            </p:nvSpPr>
            <p:spPr>
              <a:xfrm>
                <a:off x="7724520" y="4360320"/>
                <a:ext cx="64080" cy="8676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7712280" y="43455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6" name=""/>
            <p:cNvGrpSpPr/>
            <p:nvPr/>
          </p:nvGrpSpPr>
          <p:grpSpPr>
            <a:xfrm>
              <a:off x="7801560" y="4237200"/>
              <a:ext cx="77400" cy="125640"/>
              <a:chOff x="7801560" y="4237200"/>
              <a:chExt cx="77400" cy="125640"/>
            </a:xfrm>
          </p:grpSpPr>
          <p:sp>
            <p:nvSpPr>
              <p:cNvPr id="3517" name=""/>
              <p:cNvSpPr/>
              <p:nvPr/>
            </p:nvSpPr>
            <p:spPr>
              <a:xfrm>
                <a:off x="7801560" y="4254840"/>
                <a:ext cx="63360" cy="10800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842960" y="4237200"/>
                <a:ext cx="36000" cy="4644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9" name=""/>
            <p:cNvGrpSpPr/>
            <p:nvPr/>
          </p:nvGrpSpPr>
          <p:grpSpPr>
            <a:xfrm>
              <a:off x="7867440" y="4040640"/>
              <a:ext cx="35280" cy="96480"/>
              <a:chOff x="7867440" y="4040640"/>
              <a:chExt cx="35280" cy="96480"/>
            </a:xfrm>
          </p:grpSpPr>
          <p:sp>
            <p:nvSpPr>
              <p:cNvPr id="3520" name=""/>
              <p:cNvSpPr/>
              <p:nvPr/>
            </p:nvSpPr>
            <p:spPr>
              <a:xfrm>
                <a:off x="7874640" y="4058280"/>
                <a:ext cx="10080" cy="78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7867440" y="4040640"/>
                <a:ext cx="35280" cy="428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2" name=""/>
            <p:cNvGrpSpPr/>
            <p:nvPr/>
          </p:nvGrpSpPr>
          <p:grpSpPr>
            <a:xfrm>
              <a:off x="7727400" y="4119120"/>
              <a:ext cx="34920" cy="84600"/>
              <a:chOff x="7727400" y="4119120"/>
              <a:chExt cx="34920" cy="84600"/>
            </a:xfrm>
          </p:grpSpPr>
          <p:sp>
            <p:nvSpPr>
              <p:cNvPr id="3523" name=""/>
              <p:cNvSpPr/>
              <p:nvPr/>
            </p:nvSpPr>
            <p:spPr>
              <a:xfrm>
                <a:off x="7744680" y="413712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727400" y="4119120"/>
                <a:ext cx="34920" cy="43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5" name=""/>
            <p:cNvGrpSpPr/>
            <p:nvPr/>
          </p:nvGrpSpPr>
          <p:grpSpPr>
            <a:xfrm>
              <a:off x="7671240" y="3839760"/>
              <a:ext cx="35280" cy="94320"/>
              <a:chOff x="7671240" y="3839760"/>
              <a:chExt cx="35280" cy="94320"/>
            </a:xfrm>
          </p:grpSpPr>
          <p:sp>
            <p:nvSpPr>
              <p:cNvPr id="3526" name=""/>
              <p:cNvSpPr/>
              <p:nvPr/>
            </p:nvSpPr>
            <p:spPr>
              <a:xfrm>
                <a:off x="7687080" y="3861000"/>
                <a:ext cx="3600" cy="730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7671240" y="383976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8" name=""/>
            <p:cNvSpPr/>
            <p:nvPr/>
          </p:nvSpPr>
          <p:spPr>
            <a:xfrm>
              <a:off x="7774200" y="3899160"/>
              <a:ext cx="31320" cy="76392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9" name=""/>
            <p:cNvGrpSpPr/>
            <p:nvPr/>
          </p:nvGrpSpPr>
          <p:grpSpPr>
            <a:xfrm>
              <a:off x="7741080" y="3744000"/>
              <a:ext cx="44640" cy="161640"/>
              <a:chOff x="7741080" y="3744000"/>
              <a:chExt cx="44640" cy="161640"/>
            </a:xfrm>
          </p:grpSpPr>
          <p:sp>
            <p:nvSpPr>
              <p:cNvPr id="3530" name=""/>
              <p:cNvSpPr/>
              <p:nvPr/>
            </p:nvSpPr>
            <p:spPr>
              <a:xfrm>
                <a:off x="7762680" y="3878640"/>
                <a:ext cx="23040" cy="270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7746120" y="385128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7741080" y="3816360"/>
                <a:ext cx="17640" cy="20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7741080" y="377856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7742520" y="374400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5" name=""/>
            <p:cNvGrpSpPr/>
            <p:nvPr/>
          </p:nvGrpSpPr>
          <p:grpSpPr>
            <a:xfrm>
              <a:off x="7935120" y="4070880"/>
              <a:ext cx="85680" cy="33840"/>
              <a:chOff x="7935120" y="4070880"/>
              <a:chExt cx="85680" cy="33840"/>
            </a:xfrm>
          </p:grpSpPr>
          <p:sp>
            <p:nvSpPr>
              <p:cNvPr id="3536" name=""/>
              <p:cNvSpPr/>
              <p:nvPr/>
            </p:nvSpPr>
            <p:spPr>
              <a:xfrm>
                <a:off x="7935120" y="4085280"/>
                <a:ext cx="1764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970760" y="4083120"/>
                <a:ext cx="19440" cy="201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8001360" y="4070880"/>
                <a:ext cx="19440" cy="234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9" name=""/>
            <p:cNvGrpSpPr/>
            <p:nvPr/>
          </p:nvGrpSpPr>
          <p:grpSpPr>
            <a:xfrm>
              <a:off x="7837200" y="3778200"/>
              <a:ext cx="20160" cy="127080"/>
              <a:chOff x="7837200" y="3778200"/>
              <a:chExt cx="20160" cy="127080"/>
            </a:xfrm>
          </p:grpSpPr>
          <p:sp>
            <p:nvSpPr>
              <p:cNvPr id="3540" name=""/>
              <p:cNvSpPr/>
              <p:nvPr/>
            </p:nvSpPr>
            <p:spPr>
              <a:xfrm>
                <a:off x="7837200" y="388728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838640" y="385092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7838640" y="381456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838640" y="377820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>
              <a:off x="7786440" y="3906000"/>
              <a:ext cx="66960" cy="65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634160" y="3862080"/>
              <a:ext cx="167400" cy="171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792200" y="4020120"/>
              <a:ext cx="182520" cy="1771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648920" y="4051800"/>
              <a:ext cx="145800" cy="1962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803000" y="4407840"/>
              <a:ext cx="644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846920" y="4392360"/>
              <a:ext cx="3456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803000" y="4407840"/>
              <a:ext cx="644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846920" y="4392360"/>
              <a:ext cx="3456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724880" y="4361040"/>
              <a:ext cx="64440" cy="86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712280" y="4345560"/>
              <a:ext cx="34200" cy="39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724880" y="4361040"/>
              <a:ext cx="64440" cy="86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712280" y="4345560"/>
              <a:ext cx="34200" cy="39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801560" y="4254840"/>
              <a:ext cx="63000" cy="10872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842960" y="4237200"/>
              <a:ext cx="37080" cy="464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801560" y="4254840"/>
              <a:ext cx="63000" cy="10872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842960" y="4237200"/>
              <a:ext cx="37080" cy="464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874280" y="4058640"/>
              <a:ext cx="11160" cy="792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867440" y="4040640"/>
              <a:ext cx="3564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874280" y="4058640"/>
              <a:ext cx="11160" cy="792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867440" y="4040640"/>
              <a:ext cx="3564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745400" y="4136760"/>
              <a:ext cx="1080" cy="6696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727400" y="4119120"/>
              <a:ext cx="35280" cy="42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745400" y="4136760"/>
              <a:ext cx="1080" cy="6696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727400" y="4119120"/>
              <a:ext cx="35280" cy="42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687800" y="3862080"/>
              <a:ext cx="2520" cy="727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671240" y="3839760"/>
              <a:ext cx="3564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687800" y="3862080"/>
              <a:ext cx="2520" cy="727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671240" y="3839760"/>
              <a:ext cx="3564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774200" y="3899160"/>
              <a:ext cx="31320" cy="76392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3" name=""/>
            <p:cNvGrpSpPr/>
            <p:nvPr/>
          </p:nvGrpSpPr>
          <p:grpSpPr>
            <a:xfrm>
              <a:off x="7741080" y="3744000"/>
              <a:ext cx="44640" cy="161640"/>
              <a:chOff x="7741080" y="3744000"/>
              <a:chExt cx="44640" cy="161640"/>
            </a:xfrm>
          </p:grpSpPr>
          <p:sp>
            <p:nvSpPr>
              <p:cNvPr id="3574" name=""/>
              <p:cNvSpPr/>
              <p:nvPr/>
            </p:nvSpPr>
            <p:spPr>
              <a:xfrm>
                <a:off x="7762680" y="3878640"/>
                <a:ext cx="23040" cy="270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746120" y="385128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741080" y="3816360"/>
                <a:ext cx="17640" cy="20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741080" y="377856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742520" y="374400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9" name=""/>
            <p:cNvGrpSpPr/>
            <p:nvPr/>
          </p:nvGrpSpPr>
          <p:grpSpPr>
            <a:xfrm>
              <a:off x="7935120" y="4070880"/>
              <a:ext cx="85680" cy="33840"/>
              <a:chOff x="7935120" y="4070880"/>
              <a:chExt cx="85680" cy="33840"/>
            </a:xfrm>
          </p:grpSpPr>
          <p:sp>
            <p:nvSpPr>
              <p:cNvPr id="3580" name=""/>
              <p:cNvSpPr/>
              <p:nvPr/>
            </p:nvSpPr>
            <p:spPr>
              <a:xfrm>
                <a:off x="7935120" y="4085280"/>
                <a:ext cx="1764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970760" y="4083120"/>
                <a:ext cx="19440" cy="201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8001360" y="4070880"/>
                <a:ext cx="19440" cy="234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3" name=""/>
            <p:cNvGrpSpPr/>
            <p:nvPr/>
          </p:nvGrpSpPr>
          <p:grpSpPr>
            <a:xfrm>
              <a:off x="7837200" y="3778200"/>
              <a:ext cx="20160" cy="127080"/>
              <a:chOff x="7837200" y="3778200"/>
              <a:chExt cx="20160" cy="127080"/>
            </a:xfrm>
          </p:grpSpPr>
          <p:sp>
            <p:nvSpPr>
              <p:cNvPr id="3584" name=""/>
              <p:cNvSpPr/>
              <p:nvPr/>
            </p:nvSpPr>
            <p:spPr>
              <a:xfrm>
                <a:off x="7837200" y="388728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7838640" y="385092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7838640" y="381456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838640" y="377820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8" name=""/>
          <p:cNvGrpSpPr/>
          <p:nvPr/>
        </p:nvGrpSpPr>
        <p:grpSpPr>
          <a:xfrm>
            <a:off x="7385040" y="4960800"/>
            <a:ext cx="985320" cy="1407960"/>
            <a:chOff x="7385040" y="4960800"/>
            <a:chExt cx="985320" cy="1407960"/>
          </a:xfrm>
        </p:grpSpPr>
        <p:grpSp>
          <p:nvGrpSpPr>
            <p:cNvPr id="3589" name=""/>
            <p:cNvGrpSpPr/>
            <p:nvPr/>
          </p:nvGrpSpPr>
          <p:grpSpPr>
            <a:xfrm>
              <a:off x="7385040" y="4960800"/>
              <a:ext cx="892440" cy="1397880"/>
              <a:chOff x="7385040" y="4960800"/>
              <a:chExt cx="892440" cy="1397880"/>
            </a:xfrm>
          </p:grpSpPr>
          <p:grpSp>
            <p:nvGrpSpPr>
              <p:cNvPr id="3590" name=""/>
              <p:cNvGrpSpPr/>
              <p:nvPr/>
            </p:nvGrpSpPr>
            <p:grpSpPr>
              <a:xfrm>
                <a:off x="7385040" y="4960800"/>
                <a:ext cx="892440" cy="1397880"/>
                <a:chOff x="7385040" y="4960800"/>
                <a:chExt cx="892440" cy="1397880"/>
              </a:xfrm>
            </p:grpSpPr>
            <p:sp>
              <p:nvSpPr>
                <p:cNvPr id="3591" name=""/>
                <p:cNvSpPr/>
                <p:nvPr/>
              </p:nvSpPr>
              <p:spPr>
                <a:xfrm>
                  <a:off x="7385040" y="4960800"/>
                  <a:ext cx="892440" cy="1397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>
                  <a:off x="7385040" y="4960800"/>
                  <a:ext cx="888840" cy="139428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7385040" y="4960800"/>
                  <a:ext cx="888840" cy="139428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7385040" y="4960800"/>
                  <a:ext cx="892440" cy="1397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5" name=""/>
              <p:cNvSpPr/>
              <p:nvPr/>
            </p:nvSpPr>
            <p:spPr>
              <a:xfrm>
                <a:off x="7385040" y="4960800"/>
                <a:ext cx="889200" cy="1394640"/>
              </a:xfrm>
              <a:custGeom>
                <a:avLst/>
                <a:gdLst/>
                <a:ahLst/>
                <a:rect l="l" t="t" r="r" b="b"/>
                <a:pathLst>
                  <a:path w="489" h="767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686"/>
                    </a:lnTo>
                    <a:lnTo>
                      <a:pt x="2" y="702"/>
                    </a:lnTo>
                    <a:lnTo>
                      <a:pt x="6" y="718"/>
                    </a:lnTo>
                    <a:lnTo>
                      <a:pt x="14" y="731"/>
                    </a:lnTo>
                    <a:lnTo>
                      <a:pt x="24" y="743"/>
                    </a:lnTo>
                    <a:lnTo>
                      <a:pt x="36" y="753"/>
                    </a:lnTo>
                    <a:lnTo>
                      <a:pt x="49" y="761"/>
                    </a:lnTo>
                    <a:lnTo>
                      <a:pt x="65" y="765"/>
                    </a:lnTo>
                    <a:lnTo>
                      <a:pt x="81" y="767"/>
                    </a:lnTo>
                    <a:lnTo>
                      <a:pt x="407" y="767"/>
                    </a:lnTo>
                    <a:lnTo>
                      <a:pt x="424" y="765"/>
                    </a:lnTo>
                    <a:lnTo>
                      <a:pt x="439" y="761"/>
                    </a:lnTo>
                    <a:lnTo>
                      <a:pt x="453" y="753"/>
                    </a:lnTo>
                    <a:lnTo>
                      <a:pt x="465" y="743"/>
                    </a:lnTo>
                    <a:lnTo>
                      <a:pt x="475" y="731"/>
                    </a:lnTo>
                    <a:lnTo>
                      <a:pt x="483" y="718"/>
                    </a:lnTo>
                    <a:lnTo>
                      <a:pt x="487" y="702"/>
                    </a:lnTo>
                    <a:lnTo>
                      <a:pt x="489" y="686"/>
                    </a:lnTo>
                    <a:lnTo>
                      <a:pt x="489" y="81"/>
                    </a:lnTo>
                    <a:lnTo>
                      <a:pt x="487" y="65"/>
                    </a:lnTo>
                    <a:lnTo>
                      <a:pt x="483" y="49"/>
                    </a:lnTo>
                    <a:lnTo>
                      <a:pt x="475" y="36"/>
                    </a:lnTo>
                    <a:lnTo>
                      <a:pt x="465" y="24"/>
                    </a:lnTo>
                    <a:lnTo>
                      <a:pt x="453" y="14"/>
                    </a:lnTo>
                    <a:lnTo>
                      <a:pt x="439" y="6"/>
                    </a:lnTo>
                    <a:lnTo>
                      <a:pt x="424" y="2"/>
                    </a:lnTo>
                    <a:lnTo>
                      <a:pt x="407" y="0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6" name=""/>
            <p:cNvGrpSpPr/>
            <p:nvPr/>
          </p:nvGrpSpPr>
          <p:grpSpPr>
            <a:xfrm>
              <a:off x="7427520" y="5014440"/>
              <a:ext cx="822240" cy="1287720"/>
              <a:chOff x="7427520" y="5014440"/>
              <a:chExt cx="822240" cy="1287720"/>
            </a:xfrm>
          </p:grpSpPr>
          <p:grpSp>
            <p:nvGrpSpPr>
              <p:cNvPr id="3597" name=""/>
              <p:cNvGrpSpPr/>
              <p:nvPr/>
            </p:nvGrpSpPr>
            <p:grpSpPr>
              <a:xfrm>
                <a:off x="7427520" y="5014440"/>
                <a:ext cx="822240" cy="1287720"/>
                <a:chOff x="7427520" y="5014440"/>
                <a:chExt cx="822240" cy="1287720"/>
              </a:xfrm>
            </p:grpSpPr>
            <p:sp>
              <p:nvSpPr>
                <p:cNvPr id="3598" name=""/>
                <p:cNvSpPr/>
                <p:nvPr/>
              </p:nvSpPr>
              <p:spPr>
                <a:xfrm>
                  <a:off x="7427520" y="5014440"/>
                  <a:ext cx="822240" cy="1287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>
                  <a:off x="7427520" y="5014440"/>
                  <a:ext cx="818640" cy="128448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7427520" y="5014440"/>
                  <a:ext cx="818640" cy="128448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>
                  <a:off x="7427520" y="5014440"/>
                  <a:ext cx="822240" cy="1287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2" name=""/>
              <p:cNvSpPr/>
              <p:nvPr/>
            </p:nvSpPr>
            <p:spPr>
              <a:xfrm>
                <a:off x="7427520" y="5014440"/>
                <a:ext cx="819000" cy="128484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3" name=""/>
            <p:cNvSpPr/>
            <p:nvPr/>
          </p:nvSpPr>
          <p:spPr>
            <a:xfrm>
              <a:off x="8010360" y="6018120"/>
              <a:ext cx="360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8116200" y="6077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5" name=""/>
            <p:cNvGrpSpPr/>
            <p:nvPr/>
          </p:nvGrpSpPr>
          <p:grpSpPr>
            <a:xfrm>
              <a:off x="7676280" y="5176440"/>
              <a:ext cx="385200" cy="919440"/>
              <a:chOff x="7676280" y="5176440"/>
              <a:chExt cx="385200" cy="919440"/>
            </a:xfrm>
          </p:grpSpPr>
          <p:sp>
            <p:nvSpPr>
              <p:cNvPr id="3606" name=""/>
              <p:cNvSpPr/>
              <p:nvPr/>
            </p:nvSpPr>
            <p:spPr>
              <a:xfrm>
                <a:off x="7828560" y="5338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676280" y="5294520"/>
                <a:ext cx="166320" cy="1710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833600" y="5452920"/>
                <a:ext cx="180720" cy="17568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691040" y="5483520"/>
                <a:ext cx="144720" cy="1958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844760" y="5839560"/>
                <a:ext cx="63000" cy="8892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768440" y="5792400"/>
                <a:ext cx="61560" cy="87120"/>
              </a:xfrm>
              <a:custGeom>
                <a:avLst/>
                <a:gdLst/>
                <a:ahLst/>
                <a:rect l="l" t="t" r="r" b="b"/>
                <a:pathLst>
                  <a:path w="34" h="48">
                    <a:moveTo>
                      <a:pt x="34" y="47"/>
                    </a:moveTo>
                    <a:lnTo>
                      <a:pt x="28" y="48"/>
                    </a:lnTo>
                    <a:lnTo>
                      <a:pt x="22" y="48"/>
                    </a:lnTo>
                    <a:lnTo>
                      <a:pt x="17" y="46"/>
                    </a:lnTo>
                    <a:lnTo>
                      <a:pt x="12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842600" y="5687280"/>
                <a:ext cx="63000" cy="10872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915320" y="5490720"/>
                <a:ext cx="10440" cy="7992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785000" y="5568840"/>
                <a:ext cx="3600" cy="6696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1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728480" y="5294520"/>
                <a:ext cx="5400" cy="72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815600" y="5330880"/>
                <a:ext cx="30600" cy="76500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7" name=""/>
              <p:cNvGrpSpPr/>
              <p:nvPr/>
            </p:nvGrpSpPr>
            <p:grpSpPr>
              <a:xfrm>
                <a:off x="7783200" y="5176440"/>
                <a:ext cx="44640" cy="161280"/>
                <a:chOff x="7783200" y="5176440"/>
                <a:chExt cx="44640" cy="161280"/>
              </a:xfrm>
            </p:grpSpPr>
            <p:sp>
              <p:nvSpPr>
                <p:cNvPr id="3618" name=""/>
                <p:cNvSpPr/>
                <p:nvPr/>
              </p:nvSpPr>
              <p:spPr>
                <a:xfrm>
                  <a:off x="7804800" y="5310720"/>
                  <a:ext cx="23040" cy="2700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7788240" y="528372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7783200" y="5249160"/>
                  <a:ext cx="17640" cy="194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>
                  <a:off x="7783200" y="521064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>
                  <a:off x="7784640" y="5176440"/>
                  <a:ext cx="19800" cy="183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3" name=""/>
              <p:cNvGrpSpPr/>
              <p:nvPr/>
            </p:nvGrpSpPr>
            <p:grpSpPr>
              <a:xfrm>
                <a:off x="7975080" y="5503320"/>
                <a:ext cx="86400" cy="33840"/>
                <a:chOff x="7975080" y="5503320"/>
                <a:chExt cx="86400" cy="33840"/>
              </a:xfrm>
            </p:grpSpPr>
            <p:sp>
              <p:nvSpPr>
                <p:cNvPr id="3624" name=""/>
                <p:cNvSpPr/>
                <p:nvPr/>
              </p:nvSpPr>
              <p:spPr>
                <a:xfrm>
                  <a:off x="7975080" y="551736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>
                  <a:off x="8010720" y="551592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>
                  <a:off x="8041680" y="5503320"/>
                  <a:ext cx="19800" cy="234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7" name=""/>
              <p:cNvGrpSpPr/>
              <p:nvPr/>
            </p:nvGrpSpPr>
            <p:grpSpPr>
              <a:xfrm>
                <a:off x="7878960" y="5211000"/>
                <a:ext cx="19440" cy="126720"/>
                <a:chOff x="7878960" y="5211000"/>
                <a:chExt cx="19440" cy="126720"/>
              </a:xfrm>
            </p:grpSpPr>
            <p:sp>
              <p:nvSpPr>
                <p:cNvPr id="3628" name=""/>
                <p:cNvSpPr/>
                <p:nvPr/>
              </p:nvSpPr>
              <p:spPr>
                <a:xfrm>
                  <a:off x="7878960" y="531972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"/>
                <p:cNvSpPr/>
                <p:nvPr/>
              </p:nvSpPr>
              <p:spPr>
                <a:xfrm>
                  <a:off x="7880760" y="528372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0" name=""/>
                <p:cNvSpPr/>
                <p:nvPr/>
              </p:nvSpPr>
              <p:spPr>
                <a:xfrm>
                  <a:off x="7880760" y="524700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"/>
                <p:cNvSpPr/>
                <p:nvPr/>
              </p:nvSpPr>
              <p:spPr>
                <a:xfrm>
                  <a:off x="7880760" y="521100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2" name=""/>
            <p:cNvGrpSpPr/>
            <p:nvPr/>
          </p:nvGrpSpPr>
          <p:grpSpPr>
            <a:xfrm>
              <a:off x="7385040" y="4960800"/>
              <a:ext cx="892440" cy="1397880"/>
              <a:chOff x="7385040" y="4960800"/>
              <a:chExt cx="892440" cy="1397880"/>
            </a:xfrm>
          </p:grpSpPr>
          <p:grpSp>
            <p:nvGrpSpPr>
              <p:cNvPr id="3633" name=""/>
              <p:cNvGrpSpPr/>
              <p:nvPr/>
            </p:nvGrpSpPr>
            <p:grpSpPr>
              <a:xfrm>
                <a:off x="7385040" y="4960800"/>
                <a:ext cx="892440" cy="1397880"/>
                <a:chOff x="7385040" y="4960800"/>
                <a:chExt cx="892440" cy="1397880"/>
              </a:xfrm>
            </p:grpSpPr>
            <p:sp>
              <p:nvSpPr>
                <p:cNvPr id="3634" name=""/>
                <p:cNvSpPr/>
                <p:nvPr/>
              </p:nvSpPr>
              <p:spPr>
                <a:xfrm>
                  <a:off x="7385040" y="4960800"/>
                  <a:ext cx="892440" cy="1397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>
                  <a:off x="7385040" y="4960800"/>
                  <a:ext cx="888840" cy="139428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>
                  <a:off x="7385040" y="4960800"/>
                  <a:ext cx="888840" cy="139428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>
                  <a:off x="7385040" y="4960800"/>
                  <a:ext cx="892440" cy="1397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8" name=""/>
              <p:cNvSpPr/>
              <p:nvPr/>
            </p:nvSpPr>
            <p:spPr>
              <a:xfrm>
                <a:off x="7385040" y="4960800"/>
                <a:ext cx="889200" cy="1394640"/>
              </a:xfrm>
              <a:custGeom>
                <a:avLst/>
                <a:gdLst/>
                <a:ahLst/>
                <a:rect l="l" t="t" r="r" b="b"/>
                <a:pathLst>
                  <a:path w="489" h="767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686"/>
                    </a:lnTo>
                    <a:lnTo>
                      <a:pt x="2" y="702"/>
                    </a:lnTo>
                    <a:lnTo>
                      <a:pt x="6" y="718"/>
                    </a:lnTo>
                    <a:lnTo>
                      <a:pt x="14" y="731"/>
                    </a:lnTo>
                    <a:lnTo>
                      <a:pt x="24" y="743"/>
                    </a:lnTo>
                    <a:lnTo>
                      <a:pt x="36" y="753"/>
                    </a:lnTo>
                    <a:lnTo>
                      <a:pt x="49" y="761"/>
                    </a:lnTo>
                    <a:lnTo>
                      <a:pt x="65" y="765"/>
                    </a:lnTo>
                    <a:lnTo>
                      <a:pt x="81" y="767"/>
                    </a:lnTo>
                    <a:lnTo>
                      <a:pt x="407" y="767"/>
                    </a:lnTo>
                    <a:lnTo>
                      <a:pt x="424" y="765"/>
                    </a:lnTo>
                    <a:lnTo>
                      <a:pt x="439" y="761"/>
                    </a:lnTo>
                    <a:lnTo>
                      <a:pt x="453" y="753"/>
                    </a:lnTo>
                    <a:lnTo>
                      <a:pt x="465" y="743"/>
                    </a:lnTo>
                    <a:lnTo>
                      <a:pt x="475" y="731"/>
                    </a:lnTo>
                    <a:lnTo>
                      <a:pt x="483" y="718"/>
                    </a:lnTo>
                    <a:lnTo>
                      <a:pt x="487" y="702"/>
                    </a:lnTo>
                    <a:lnTo>
                      <a:pt x="489" y="686"/>
                    </a:lnTo>
                    <a:lnTo>
                      <a:pt x="489" y="81"/>
                    </a:lnTo>
                    <a:lnTo>
                      <a:pt x="487" y="65"/>
                    </a:lnTo>
                    <a:lnTo>
                      <a:pt x="483" y="49"/>
                    </a:lnTo>
                    <a:lnTo>
                      <a:pt x="475" y="36"/>
                    </a:lnTo>
                    <a:lnTo>
                      <a:pt x="465" y="24"/>
                    </a:lnTo>
                    <a:lnTo>
                      <a:pt x="453" y="14"/>
                    </a:lnTo>
                    <a:lnTo>
                      <a:pt x="439" y="6"/>
                    </a:lnTo>
                    <a:lnTo>
                      <a:pt x="424" y="2"/>
                    </a:lnTo>
                    <a:lnTo>
                      <a:pt x="407" y="0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9" name=""/>
            <p:cNvGrpSpPr/>
            <p:nvPr/>
          </p:nvGrpSpPr>
          <p:grpSpPr>
            <a:xfrm>
              <a:off x="7427520" y="5014440"/>
              <a:ext cx="822240" cy="1287720"/>
              <a:chOff x="7427520" y="5014440"/>
              <a:chExt cx="822240" cy="1287720"/>
            </a:xfrm>
          </p:grpSpPr>
          <p:grpSp>
            <p:nvGrpSpPr>
              <p:cNvPr id="3640" name=""/>
              <p:cNvGrpSpPr/>
              <p:nvPr/>
            </p:nvGrpSpPr>
            <p:grpSpPr>
              <a:xfrm>
                <a:off x="7427520" y="5014440"/>
                <a:ext cx="822240" cy="1287720"/>
                <a:chOff x="7427520" y="5014440"/>
                <a:chExt cx="822240" cy="1287720"/>
              </a:xfrm>
            </p:grpSpPr>
            <p:sp>
              <p:nvSpPr>
                <p:cNvPr id="3641" name=""/>
                <p:cNvSpPr/>
                <p:nvPr/>
              </p:nvSpPr>
              <p:spPr>
                <a:xfrm>
                  <a:off x="7427520" y="5014440"/>
                  <a:ext cx="822240" cy="1287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>
                  <a:off x="7427520" y="5014440"/>
                  <a:ext cx="818640" cy="128448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>
                  <a:off x="7427520" y="5014440"/>
                  <a:ext cx="818640" cy="128448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>
                  <a:off x="7427520" y="5014440"/>
                  <a:ext cx="822240" cy="1287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5" name=""/>
              <p:cNvSpPr/>
              <p:nvPr/>
            </p:nvSpPr>
            <p:spPr>
              <a:xfrm>
                <a:off x="7427520" y="5014440"/>
                <a:ext cx="819000" cy="128484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6" name=""/>
            <p:cNvSpPr/>
            <p:nvPr/>
          </p:nvSpPr>
          <p:spPr>
            <a:xfrm>
              <a:off x="8010360" y="6018120"/>
              <a:ext cx="360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8116200" y="6077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828920" y="5337360"/>
              <a:ext cx="67320" cy="65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7676280" y="5293440"/>
              <a:ext cx="166320" cy="1717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7834320" y="5452920"/>
              <a:ext cx="181080" cy="17568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689960" y="5483160"/>
              <a:ext cx="145440" cy="1962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7845480" y="5839560"/>
              <a:ext cx="6300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768440" y="5792760"/>
              <a:ext cx="61920" cy="8640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47"/>
                  </a:moveTo>
                  <a:lnTo>
                    <a:pt x="28" y="48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2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842960" y="5686560"/>
              <a:ext cx="64440" cy="10872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7915320" y="5490000"/>
              <a:ext cx="11160" cy="792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7785000" y="5568480"/>
              <a:ext cx="4320" cy="67320"/>
            </a:xfrm>
            <a:custGeom>
              <a:avLst/>
              <a:gdLst/>
              <a:ahLst/>
              <a:rect l="l" t="t" r="r" b="b"/>
              <a:pathLst>
                <a:path w="2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7728840" y="5293440"/>
              <a:ext cx="5040" cy="727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3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7816680" y="5330520"/>
              <a:ext cx="29880" cy="76572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7783560" y="5176440"/>
              <a:ext cx="44640" cy="160560"/>
              <a:chOff x="7783560" y="5176440"/>
              <a:chExt cx="44640" cy="160560"/>
            </a:xfrm>
          </p:grpSpPr>
          <p:sp>
            <p:nvSpPr>
              <p:cNvPr id="3660" name=""/>
              <p:cNvSpPr/>
              <p:nvPr/>
            </p:nvSpPr>
            <p:spPr>
              <a:xfrm>
                <a:off x="7805160" y="5310000"/>
                <a:ext cx="23040" cy="270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788600" y="5283000"/>
                <a:ext cx="21600" cy="194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783560" y="5248800"/>
                <a:ext cx="1764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783560" y="5210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785000" y="5176440"/>
                <a:ext cx="19800" cy="18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5" name=""/>
            <p:cNvGrpSpPr/>
            <p:nvPr/>
          </p:nvGrpSpPr>
          <p:grpSpPr>
            <a:xfrm>
              <a:off x="7975800" y="5504040"/>
              <a:ext cx="86040" cy="33840"/>
              <a:chOff x="7975800" y="5504040"/>
              <a:chExt cx="86040" cy="33840"/>
            </a:xfrm>
          </p:grpSpPr>
          <p:sp>
            <p:nvSpPr>
              <p:cNvPr id="3666" name=""/>
              <p:cNvSpPr/>
              <p:nvPr/>
            </p:nvSpPr>
            <p:spPr>
              <a:xfrm>
                <a:off x="7975800" y="551808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8011440" y="5516640"/>
                <a:ext cx="19800" cy="198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8042040" y="550404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880040" y="5211000"/>
              <a:ext cx="18360" cy="125640"/>
              <a:chOff x="7880040" y="5211000"/>
              <a:chExt cx="18360" cy="125640"/>
            </a:xfrm>
          </p:grpSpPr>
          <p:sp>
            <p:nvSpPr>
              <p:cNvPr id="3670" name=""/>
              <p:cNvSpPr/>
              <p:nvPr/>
            </p:nvSpPr>
            <p:spPr>
              <a:xfrm>
                <a:off x="7880040" y="531900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881840" y="528300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881840" y="524664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881840" y="521100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4" name=""/>
            <p:cNvSpPr/>
            <p:nvPr/>
          </p:nvSpPr>
          <p:spPr>
            <a:xfrm>
              <a:off x="7828920" y="5337360"/>
              <a:ext cx="67320" cy="65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7676280" y="5293440"/>
              <a:ext cx="166320" cy="1717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7834320" y="5452920"/>
              <a:ext cx="181080" cy="17568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7689960" y="5483160"/>
              <a:ext cx="145440" cy="1962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845480" y="5839560"/>
              <a:ext cx="6300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768440" y="5792760"/>
              <a:ext cx="61920" cy="8640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47"/>
                  </a:moveTo>
                  <a:lnTo>
                    <a:pt x="28" y="48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2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842960" y="5686560"/>
              <a:ext cx="64440" cy="10872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915320" y="5490000"/>
              <a:ext cx="11160" cy="792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785000" y="5568480"/>
              <a:ext cx="4320" cy="67320"/>
            </a:xfrm>
            <a:custGeom>
              <a:avLst/>
              <a:gdLst/>
              <a:ahLst/>
              <a:rect l="l" t="t" r="r" b="b"/>
              <a:pathLst>
                <a:path w="2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728840" y="5293440"/>
              <a:ext cx="5040" cy="727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3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816680" y="5330520"/>
              <a:ext cx="29880" cy="76572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5" name=""/>
            <p:cNvGrpSpPr/>
            <p:nvPr/>
          </p:nvGrpSpPr>
          <p:grpSpPr>
            <a:xfrm>
              <a:off x="7783560" y="5176440"/>
              <a:ext cx="44640" cy="160560"/>
              <a:chOff x="7783560" y="5176440"/>
              <a:chExt cx="44640" cy="160560"/>
            </a:xfrm>
          </p:grpSpPr>
          <p:sp>
            <p:nvSpPr>
              <p:cNvPr id="3686" name=""/>
              <p:cNvSpPr/>
              <p:nvPr/>
            </p:nvSpPr>
            <p:spPr>
              <a:xfrm>
                <a:off x="7805160" y="5310000"/>
                <a:ext cx="23040" cy="270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788600" y="5283000"/>
                <a:ext cx="21600" cy="194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783560" y="5248800"/>
                <a:ext cx="1764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783560" y="5210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785000" y="5176440"/>
                <a:ext cx="19800" cy="18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1" name=""/>
            <p:cNvGrpSpPr/>
            <p:nvPr/>
          </p:nvGrpSpPr>
          <p:grpSpPr>
            <a:xfrm>
              <a:off x="7975800" y="5504040"/>
              <a:ext cx="86040" cy="33840"/>
              <a:chOff x="7975800" y="5504040"/>
              <a:chExt cx="86040" cy="33840"/>
            </a:xfrm>
          </p:grpSpPr>
          <p:sp>
            <p:nvSpPr>
              <p:cNvPr id="3692" name=""/>
              <p:cNvSpPr/>
              <p:nvPr/>
            </p:nvSpPr>
            <p:spPr>
              <a:xfrm>
                <a:off x="7975800" y="551808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8011440" y="5516640"/>
                <a:ext cx="19800" cy="198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8042040" y="550404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5" name=""/>
            <p:cNvGrpSpPr/>
            <p:nvPr/>
          </p:nvGrpSpPr>
          <p:grpSpPr>
            <a:xfrm>
              <a:off x="7880040" y="5211000"/>
              <a:ext cx="18360" cy="125640"/>
              <a:chOff x="7880040" y="5211000"/>
              <a:chExt cx="18360" cy="125640"/>
            </a:xfrm>
          </p:grpSpPr>
          <p:sp>
            <p:nvSpPr>
              <p:cNvPr id="3696" name=""/>
              <p:cNvSpPr/>
              <p:nvPr/>
            </p:nvSpPr>
            <p:spPr>
              <a:xfrm>
                <a:off x="7880040" y="531900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7881840" y="528300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7881840" y="524664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7881840" y="521100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0" name=""/>
          <p:cNvSpPr/>
          <p:nvPr/>
        </p:nvSpPr>
        <p:spPr>
          <a:xfrm>
            <a:off x="720" y="71280"/>
            <a:ext cx="76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ME DES ARBRES SELON LEUR 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496800" y="507960"/>
            <a:ext cx="5564160" cy="6297480"/>
            <a:chOff x="496800" y="507960"/>
            <a:chExt cx="5564160" cy="6297480"/>
          </a:xfrm>
        </p:grpSpPr>
        <p:sp>
          <p:nvSpPr>
            <p:cNvPr id="3702" name=""/>
            <p:cNvSpPr/>
            <p:nvPr/>
          </p:nvSpPr>
          <p:spPr>
            <a:xfrm>
              <a:off x="566640" y="514440"/>
              <a:ext cx="5475240" cy="3035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1581120" y="1482840"/>
              <a:ext cx="336600" cy="1463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754360" y="1349280"/>
              <a:ext cx="336600" cy="159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925800" y="1847880"/>
              <a:ext cx="336600" cy="1098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099040" y="2540160"/>
              <a:ext cx="336600" cy="406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1917720" y="768240"/>
              <a:ext cx="338040" cy="217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090960" y="1797120"/>
              <a:ext cx="338040" cy="1149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262400" y="2081160"/>
              <a:ext cx="338040" cy="86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435640" y="2562120"/>
              <a:ext cx="338040" cy="384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1338120" y="655560"/>
              <a:ext cx="1800" cy="229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1285920" y="29462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1285920" y="27241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1285920" y="2487600"/>
              <a:ext cx="52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1285920" y="226548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1285920" y="20318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1285920" y="18064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1285920" y="1573200"/>
              <a:ext cx="52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1285920" y="13492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285920" y="111600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285920" y="8906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285920" y="6555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338120" y="2946240"/>
              <a:ext cx="468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 flipV="1">
              <a:off x="1338120" y="294624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V="1">
              <a:off x="2508120" y="2946240"/>
              <a:ext cx="32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V="1">
              <a:off x="3681360" y="2946240"/>
              <a:ext cx="32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4854600" y="29462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6027840" y="29462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94600" y="27972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94600" y="25750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94600" y="23414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94600" y="21160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94600" y="18828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894600" y="16574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894600" y="14256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94600" y="12002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94600" y="96516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94600" y="7412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894600" y="50796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875240" y="31003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3054240" y="31003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212720" y="31003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392440" y="31003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535640" y="32940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 rot="16200000">
              <a:off x="151200" y="177804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équ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3291120" y="546120"/>
              <a:ext cx="172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-fond (N=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3297240" y="876240"/>
              <a:ext cx="223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rs bas-fond (N=63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52600" y="514440"/>
              <a:ext cx="5475240" cy="303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23800" y="3605040"/>
              <a:ext cx="5537160" cy="320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565280" y="4432320"/>
              <a:ext cx="339840" cy="1736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751120" y="5173560"/>
              <a:ext cx="339840" cy="995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3935520" y="5202360"/>
              <a:ext cx="339480" cy="96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121360" y="5846760"/>
              <a:ext cx="339480" cy="32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905120" y="4249800"/>
              <a:ext cx="339480" cy="1919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3090960" y="5032440"/>
              <a:ext cx="339480" cy="11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275000" y="5568840"/>
              <a:ext cx="339840" cy="600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460840" y="5803920"/>
              <a:ext cx="339840" cy="365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319040" y="3755880"/>
              <a:ext cx="1800" cy="241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265400" y="6168960"/>
              <a:ext cx="53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265400" y="5761080"/>
              <a:ext cx="5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265400" y="5365800"/>
              <a:ext cx="5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65400" y="4957920"/>
              <a:ext cx="5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65400" y="4562640"/>
              <a:ext cx="5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265400" y="4152960"/>
              <a:ext cx="5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265400" y="3755880"/>
              <a:ext cx="53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319040" y="6168960"/>
              <a:ext cx="473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1319040" y="616896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V="1">
              <a:off x="2503440" y="616896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V="1">
              <a:off x="3689280" y="616896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V="1">
              <a:off x="4871880" y="616896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V="1">
              <a:off x="6058080" y="616896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832680" y="604512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832680" y="563580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832680" y="524016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832680" y="483228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832680" y="443556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832680" y="402912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832680" y="363060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864800" y="6259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3054240" y="62596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225680" y="6259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420880" y="6259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070720" y="647712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asses architectur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 rot="16200000">
              <a:off x="111600" y="491652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équ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494440" y="3622680"/>
              <a:ext cx="347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n zone de dégât d'exploitation (N=378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482200" y="3938760"/>
              <a:ext cx="295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ors dégât d'exploitation (N=36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23800" y="3605040"/>
              <a:ext cx="5537160" cy="3200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025720" y="3668760"/>
              <a:ext cx="334800" cy="20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025720" y="3946680"/>
              <a:ext cx="334800" cy="204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735280" y="574560"/>
              <a:ext cx="334800" cy="20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735280" y="911160"/>
              <a:ext cx="334800" cy="204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"/>
          <p:cNvSpPr/>
          <p:nvPr/>
        </p:nvSpPr>
        <p:spPr>
          <a:xfrm>
            <a:off x="378000" y="1131840"/>
            <a:ext cx="8766000" cy="49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402840" y="566640"/>
            <a:ext cx="579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ynamique de transition des classes de vigu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5533920" y="1149480"/>
            <a:ext cx="27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e 3-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6" name=""/>
          <p:cNvGrpSpPr/>
          <p:nvPr/>
        </p:nvGrpSpPr>
        <p:grpSpPr>
          <a:xfrm>
            <a:off x="420840" y="1163520"/>
            <a:ext cx="7218000" cy="4874400"/>
            <a:chOff x="420840" y="1163520"/>
            <a:chExt cx="7218000" cy="4874400"/>
          </a:xfrm>
        </p:grpSpPr>
        <p:sp>
          <p:nvSpPr>
            <p:cNvPr id="3797" name=""/>
            <p:cNvSpPr/>
            <p:nvPr/>
          </p:nvSpPr>
          <p:spPr>
            <a:xfrm>
              <a:off x="2577960" y="2765520"/>
              <a:ext cx="1100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649520" y="3336840"/>
              <a:ext cx="320400" cy="160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454120" y="4897440"/>
              <a:ext cx="31932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649520" y="3002040"/>
              <a:ext cx="320400" cy="334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454120" y="3419640"/>
              <a:ext cx="319320" cy="1477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257640" y="4871880"/>
              <a:ext cx="320760" cy="66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649520" y="2933640"/>
              <a:ext cx="320400" cy="6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454120" y="3002040"/>
              <a:ext cx="319320" cy="417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257640" y="3243240"/>
              <a:ext cx="320760" cy="1628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649520" y="2919240"/>
              <a:ext cx="320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454120" y="2919240"/>
              <a:ext cx="319320" cy="82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3257640" y="2919240"/>
              <a:ext cx="320760" cy="3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062240" y="2919240"/>
              <a:ext cx="317520" cy="2019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1400040" y="2919240"/>
              <a:ext cx="1800" cy="201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343160" y="4938840"/>
              <a:ext cx="5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343160" y="4441680"/>
              <a:ext cx="56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343160" y="3929040"/>
              <a:ext cx="56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343160" y="3433680"/>
              <a:ext cx="56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343160" y="2919240"/>
              <a:ext cx="56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415880" y="4938840"/>
              <a:ext cx="321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 flipV="1">
              <a:off x="1400040" y="4938480"/>
              <a:ext cx="18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V="1">
              <a:off x="2219400" y="4938480"/>
              <a:ext cx="324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 flipV="1">
              <a:off x="3022560" y="4938480"/>
              <a:ext cx="18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3825720" y="4938480"/>
              <a:ext cx="18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V="1">
              <a:off x="4630680" y="4938480"/>
              <a:ext cx="18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88760" y="48448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88760" y="43466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,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88760" y="38354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88760" y="33368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,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88760" y="28274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747800" y="50115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2550960" y="50115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3355920" y="50115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4146120" y="50115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707480" y="5794200"/>
              <a:ext cx="246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e architecturale init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 rot="16200000">
              <a:off x="-516600" y="3807000"/>
              <a:ext cx="211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babilité de tran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3" name=""/>
            <p:cNvGrpSpPr/>
            <p:nvPr/>
          </p:nvGrpSpPr>
          <p:grpSpPr>
            <a:xfrm>
              <a:off x="2114640" y="1781280"/>
              <a:ext cx="5524200" cy="797400"/>
              <a:chOff x="2114640" y="1781280"/>
              <a:chExt cx="5524200" cy="797400"/>
            </a:xfrm>
          </p:grpSpPr>
          <p:sp>
            <p:nvSpPr>
              <p:cNvPr id="3834" name=""/>
              <p:cNvSpPr/>
              <p:nvPr/>
            </p:nvSpPr>
            <p:spPr>
              <a:xfrm>
                <a:off x="2114640" y="1866240"/>
                <a:ext cx="178920" cy="17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355840" y="1781280"/>
                <a:ext cx="2137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ansition vers 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5259960" y="1866240"/>
                <a:ext cx="178920" cy="172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5501880" y="1781280"/>
                <a:ext cx="21207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ansition vers 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114640" y="2300760"/>
                <a:ext cx="178920" cy="1731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356200" y="2212560"/>
                <a:ext cx="21207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ansition vers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5259960" y="2300760"/>
                <a:ext cx="178920" cy="173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5501520" y="2212560"/>
                <a:ext cx="2137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ansition vers 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2" name=""/>
            <p:cNvSpPr/>
            <p:nvPr/>
          </p:nvSpPr>
          <p:spPr>
            <a:xfrm>
              <a:off x="1446120" y="11635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lasse 1-3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605240" y="5337000"/>
              <a:ext cx="45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2430720" y="5337000"/>
              <a:ext cx="45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3227760" y="5337000"/>
              <a:ext cx="45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4053600" y="533880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153800" y="5334120"/>
              <a:ext cx="39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N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"/>
          <p:cNvGrpSpPr/>
          <p:nvPr/>
        </p:nvGrpSpPr>
        <p:grpSpPr>
          <a:xfrm>
            <a:off x="1785960" y="2935440"/>
            <a:ext cx="7273800" cy="3101040"/>
            <a:chOff x="1785960" y="2935440"/>
            <a:chExt cx="7273800" cy="3101040"/>
          </a:xfrm>
        </p:grpSpPr>
        <p:grpSp>
          <p:nvGrpSpPr>
            <p:cNvPr id="3849" name=""/>
            <p:cNvGrpSpPr/>
            <p:nvPr/>
          </p:nvGrpSpPr>
          <p:grpSpPr>
            <a:xfrm>
              <a:off x="4995000" y="2935440"/>
              <a:ext cx="4064760" cy="3101040"/>
              <a:chOff x="4995000" y="2935440"/>
              <a:chExt cx="4064760" cy="3101040"/>
            </a:xfrm>
          </p:grpSpPr>
          <p:sp>
            <p:nvSpPr>
              <p:cNvPr id="3850" name=""/>
              <p:cNvSpPr/>
              <p:nvPr/>
            </p:nvSpPr>
            <p:spPr>
              <a:xfrm>
                <a:off x="5788080" y="3195720"/>
                <a:ext cx="353880" cy="1747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5788080" y="3030480"/>
                <a:ext cx="353880" cy="165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664320" y="3673440"/>
                <a:ext cx="368280" cy="1270080"/>
              </a:xfrm>
              <a:prstGeom prst="rect">
                <a:avLst/>
              </a:prstGeom>
              <a:solidFill>
                <a:srgbClr val="c0c0c0">
                  <a:alpha val="6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7556400" y="4560840"/>
                <a:ext cx="354240" cy="382680"/>
              </a:xfrm>
              <a:prstGeom prst="rect">
                <a:avLst/>
              </a:prstGeom>
              <a:solidFill>
                <a:srgbClr val="c0c0c0">
                  <a:alpha val="6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6664320" y="3030480"/>
                <a:ext cx="368280" cy="642960"/>
              </a:xfrm>
              <a:prstGeom prst="rect">
                <a:avLst/>
              </a:prstGeom>
              <a:solidFill>
                <a:srgbClr val="808080">
                  <a:alpha val="6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556400" y="3413160"/>
                <a:ext cx="354240" cy="1147680"/>
              </a:xfrm>
              <a:prstGeom prst="rect">
                <a:avLst/>
              </a:prstGeom>
              <a:solidFill>
                <a:srgbClr val="808080">
                  <a:alpha val="6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7556400" y="3030480"/>
                <a:ext cx="354240" cy="382680"/>
              </a:xfrm>
              <a:prstGeom prst="rect">
                <a:avLst/>
              </a:prstGeom>
              <a:solidFill>
                <a:srgbClr val="000000">
                  <a:alpha val="6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8434440" y="3030480"/>
                <a:ext cx="355680" cy="1913040"/>
              </a:xfrm>
              <a:prstGeom prst="rect">
                <a:avLst/>
              </a:prstGeom>
              <a:solidFill>
                <a:srgbClr val="000000">
                  <a:alpha val="6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5532480" y="3030480"/>
                <a:ext cx="3240" cy="1913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5477040" y="4943520"/>
                <a:ext cx="55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5477040" y="4465800"/>
                <a:ext cx="55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5477040" y="3986280"/>
                <a:ext cx="55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5477040" y="3508200"/>
                <a:ext cx="55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5477040" y="3030480"/>
                <a:ext cx="55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5532480" y="4943520"/>
                <a:ext cx="352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 flipV="1">
                <a:off x="5532480" y="4943520"/>
                <a:ext cx="324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V="1">
                <a:off x="6410160" y="4943520"/>
                <a:ext cx="180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flipV="1">
                <a:off x="7300800" y="4943520"/>
                <a:ext cx="324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flipV="1">
                <a:off x="8180280" y="4943520"/>
                <a:ext cx="180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V="1">
                <a:off x="9058320" y="4943520"/>
                <a:ext cx="144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995000" y="4848120"/>
                <a:ext cx="35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,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995000" y="4368960"/>
                <a:ext cx="35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,2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995000" y="3890880"/>
                <a:ext cx="35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,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995000" y="3413160"/>
                <a:ext cx="35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,7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995000" y="2935440"/>
                <a:ext cx="35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,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5900760" y="50198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6778800" y="50198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7669080" y="50198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8532360" y="50198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060600" y="5792760"/>
                <a:ext cx="2468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lasse architecturale initia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793480" y="5337000"/>
                <a:ext cx="36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7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6749640" y="5338800"/>
                <a:ext cx="27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648200" y="5338800"/>
                <a:ext cx="27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8473680" y="5338800"/>
                <a:ext cx="27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4" name=""/>
            <p:cNvSpPr/>
            <p:nvPr/>
          </p:nvSpPr>
          <p:spPr>
            <a:xfrm flipH="1">
              <a:off x="1785960" y="3206880"/>
              <a:ext cx="410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"/>
          <p:cNvSpPr/>
          <p:nvPr/>
        </p:nvSpPr>
        <p:spPr>
          <a:xfrm>
            <a:off x="-2880" y="71280"/>
            <a:ext cx="83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DYNAMIQUE DE TRANSITION  SELON LE DIAMETRE DES AR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2536920" y="2452680"/>
            <a:ext cx="260280" cy="22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4006800" y="4576680"/>
            <a:ext cx="27468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2797200" y="2873520"/>
            <a:ext cx="276120" cy="183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2797200" y="2873520"/>
            <a:ext cx="276120" cy="18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4281480" y="4300560"/>
            <a:ext cx="262080" cy="407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4281480" y="4300560"/>
            <a:ext cx="26208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5751360" y="4562640"/>
            <a:ext cx="277920" cy="14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5751360" y="4562640"/>
            <a:ext cx="277920" cy="1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3073320" y="2932200"/>
            <a:ext cx="263520" cy="1776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3073320" y="2932200"/>
            <a:ext cx="263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4543560" y="4183200"/>
            <a:ext cx="277560" cy="525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4543560" y="4183200"/>
            <a:ext cx="27756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6029280" y="4621320"/>
            <a:ext cx="262080" cy="87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6029280" y="4621320"/>
            <a:ext cx="26208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3336840" y="3222720"/>
            <a:ext cx="262080" cy="1485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4821120" y="3963960"/>
            <a:ext cx="262080" cy="74448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6291360" y="4562640"/>
            <a:ext cx="261720" cy="14580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2332080" y="2320920"/>
            <a:ext cx="3240" cy="238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2259000" y="470844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2259000" y="422748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2259000" y="374796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2259000" y="328140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2259000" y="2800440"/>
            <a:ext cx="730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2259000" y="232092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2332080" y="4708440"/>
            <a:ext cx="444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 flipV="1">
            <a:off x="2332080" y="4708080"/>
            <a:ext cx="32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 flipV="1">
            <a:off x="3801960" y="4708080"/>
            <a:ext cx="32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 flipV="1">
            <a:off x="5288040" y="470808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 flipV="1">
            <a:off x="6756480" y="4708080"/>
            <a:ext cx="32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1749240" y="457668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1749240" y="409572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1749240" y="361620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1749240" y="314964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1749240" y="267012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1749240" y="218916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2473920" y="4925880"/>
            <a:ext cx="104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A ver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3943800" y="4925880"/>
            <a:ext cx="103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A ver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5414040" y="4925880"/>
            <a:ext cx="104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A vers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3510720" y="5235480"/>
            <a:ext cx="199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 de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 rot="16200000">
            <a:off x="870480" y="3472560"/>
            <a:ext cx="114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3595680" y="1184400"/>
            <a:ext cx="103320" cy="10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3733920" y="1131840"/>
            <a:ext cx="166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gagé (N=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3595680" y="1508040"/>
            <a:ext cx="90360" cy="92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3595680" y="1508040"/>
            <a:ext cx="10332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3734640" y="1457280"/>
            <a:ext cx="1390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Clair (N=4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3595680" y="1846440"/>
            <a:ext cx="90360" cy="9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3595680" y="1846440"/>
            <a:ext cx="103320" cy="102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3732120" y="1793880"/>
            <a:ext cx="180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Sombre (N=1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3595680" y="2241720"/>
            <a:ext cx="103320" cy="1047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3722760" y="2119320"/>
            <a:ext cx="489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re bloqué sous un obstacle physique (N=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7" name=""/>
          <p:cNvGrpSpPr/>
          <p:nvPr/>
        </p:nvGrpSpPr>
        <p:grpSpPr>
          <a:xfrm>
            <a:off x="4764240" y="5721480"/>
            <a:ext cx="429840" cy="888480"/>
            <a:chOff x="4764240" y="5721480"/>
            <a:chExt cx="429840" cy="888480"/>
          </a:xfrm>
        </p:grpSpPr>
        <p:sp>
          <p:nvSpPr>
            <p:cNvPr id="3938" name=""/>
            <p:cNvSpPr/>
            <p:nvPr/>
          </p:nvSpPr>
          <p:spPr>
            <a:xfrm>
              <a:off x="4843800" y="5746680"/>
              <a:ext cx="81000" cy="863280"/>
            </a:xfrm>
            <a:custGeom>
              <a:avLst/>
              <a:gdLst/>
              <a:ahLst/>
              <a:rect l="l" t="t" r="r" b="b"/>
              <a:pathLst>
                <a:path w="48" h="510">
                  <a:moveTo>
                    <a:pt x="37" y="510"/>
                  </a:moveTo>
                  <a:lnTo>
                    <a:pt x="47" y="510"/>
                  </a:lnTo>
                  <a:lnTo>
                    <a:pt x="47" y="420"/>
                  </a:lnTo>
                  <a:lnTo>
                    <a:pt x="47" y="374"/>
                  </a:lnTo>
                  <a:lnTo>
                    <a:pt x="47" y="326"/>
                  </a:lnTo>
                  <a:lnTo>
                    <a:pt x="47" y="300"/>
                  </a:lnTo>
                  <a:lnTo>
                    <a:pt x="48" y="273"/>
                  </a:lnTo>
                  <a:lnTo>
                    <a:pt x="48" y="216"/>
                  </a:lnTo>
                  <a:lnTo>
                    <a:pt x="48" y="188"/>
                  </a:lnTo>
                  <a:lnTo>
                    <a:pt x="48" y="162"/>
                  </a:lnTo>
                  <a:lnTo>
                    <a:pt x="47" y="138"/>
                  </a:lnTo>
                  <a:lnTo>
                    <a:pt x="45" y="116"/>
                  </a:lnTo>
                  <a:lnTo>
                    <a:pt x="42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2" y="97"/>
                  </a:lnTo>
                  <a:lnTo>
                    <a:pt x="35" y="117"/>
                  </a:lnTo>
                  <a:lnTo>
                    <a:pt x="37" y="138"/>
                  </a:lnTo>
                  <a:lnTo>
                    <a:pt x="38" y="162"/>
                  </a:lnTo>
                  <a:lnTo>
                    <a:pt x="38" y="188"/>
                  </a:lnTo>
                  <a:lnTo>
                    <a:pt x="38" y="216"/>
                  </a:lnTo>
                  <a:lnTo>
                    <a:pt x="38" y="273"/>
                  </a:lnTo>
                  <a:lnTo>
                    <a:pt x="37" y="300"/>
                  </a:lnTo>
                  <a:lnTo>
                    <a:pt x="37" y="326"/>
                  </a:lnTo>
                  <a:lnTo>
                    <a:pt x="37" y="374"/>
                  </a:lnTo>
                  <a:lnTo>
                    <a:pt x="37" y="420"/>
                  </a:lnTo>
                  <a:lnTo>
                    <a:pt x="37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4903200" y="5721480"/>
              <a:ext cx="65880" cy="235080"/>
            </a:xfrm>
            <a:custGeom>
              <a:avLst/>
              <a:gdLst/>
              <a:ahLst/>
              <a:rect l="l" t="t" r="r" b="b"/>
              <a:pathLst>
                <a:path w="39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2" y="115"/>
                  </a:lnTo>
                  <a:lnTo>
                    <a:pt x="28" y="101"/>
                  </a:lnTo>
                  <a:lnTo>
                    <a:pt x="29" y="98"/>
                  </a:lnTo>
                  <a:lnTo>
                    <a:pt x="34" y="83"/>
                  </a:lnTo>
                  <a:lnTo>
                    <a:pt x="37" y="64"/>
                  </a:lnTo>
                  <a:lnTo>
                    <a:pt x="38" y="44"/>
                  </a:lnTo>
                  <a:lnTo>
                    <a:pt x="39" y="22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22"/>
                  </a:lnTo>
                  <a:lnTo>
                    <a:pt x="28" y="44"/>
                  </a:lnTo>
                  <a:lnTo>
                    <a:pt x="27" y="64"/>
                  </a:lnTo>
                  <a:lnTo>
                    <a:pt x="25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1" y="94"/>
                  </a:lnTo>
                  <a:lnTo>
                    <a:pt x="15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875840" y="5731200"/>
              <a:ext cx="33840" cy="1116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764240" y="5860080"/>
              <a:ext cx="155880" cy="1591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4911480" y="6005880"/>
              <a:ext cx="169200" cy="1656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2" y="73"/>
                  </a:lnTo>
                  <a:lnTo>
                    <a:pt x="65" y="63"/>
                  </a:lnTo>
                  <a:lnTo>
                    <a:pt x="75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3"/>
                  </a:lnTo>
                  <a:lnTo>
                    <a:pt x="58" y="56"/>
                  </a:lnTo>
                  <a:lnTo>
                    <a:pt x="45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5045040" y="6003720"/>
              <a:ext cx="125280" cy="8136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7" y="44"/>
                  </a:lnTo>
                  <a:lnTo>
                    <a:pt x="43" y="41"/>
                  </a:lnTo>
                  <a:lnTo>
                    <a:pt x="47" y="38"/>
                  </a:lnTo>
                  <a:lnTo>
                    <a:pt x="56" y="29"/>
                  </a:lnTo>
                  <a:lnTo>
                    <a:pt x="65" y="18"/>
                  </a:lnTo>
                  <a:lnTo>
                    <a:pt x="74" y="6"/>
                  </a:lnTo>
                  <a:lnTo>
                    <a:pt x="67" y="0"/>
                  </a:lnTo>
                  <a:lnTo>
                    <a:pt x="58" y="11"/>
                  </a:lnTo>
                  <a:lnTo>
                    <a:pt x="49" y="22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3" y="36"/>
                  </a:lnTo>
                  <a:lnTo>
                    <a:pt x="23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138640" y="6039720"/>
              <a:ext cx="55440" cy="1836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4777920" y="6036120"/>
              <a:ext cx="136800" cy="18108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76" y="107"/>
                  </a:moveTo>
                  <a:lnTo>
                    <a:pt x="81" y="99"/>
                  </a:lnTo>
                  <a:lnTo>
                    <a:pt x="69" y="91"/>
                  </a:lnTo>
                  <a:lnTo>
                    <a:pt x="57" y="83"/>
                  </a:lnTo>
                  <a:lnTo>
                    <a:pt x="45" y="7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8" y="80"/>
                  </a:lnTo>
                  <a:lnTo>
                    <a:pt x="50" y="90"/>
                  </a:lnTo>
                  <a:lnTo>
                    <a:pt x="62" y="98"/>
                  </a:lnTo>
                  <a:lnTo>
                    <a:pt x="76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4923360" y="6367680"/>
              <a:ext cx="59040" cy="813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7"/>
                  </a:moveTo>
                  <a:lnTo>
                    <a:pt x="6" y="48"/>
                  </a:lnTo>
                  <a:lnTo>
                    <a:pt x="12" y="48"/>
                  </a:lnTo>
                  <a:lnTo>
                    <a:pt x="18" y="46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29" y="24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4962240" y="6354360"/>
              <a:ext cx="32040" cy="370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4850640" y="6324120"/>
              <a:ext cx="59400" cy="810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4836960" y="6310440"/>
              <a:ext cx="32040" cy="370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4921560" y="6225840"/>
              <a:ext cx="59400" cy="1011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4958640" y="6208920"/>
              <a:ext cx="33840" cy="435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4987440" y="6042960"/>
              <a:ext cx="10080" cy="741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4980960" y="6025680"/>
              <a:ext cx="33480" cy="406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4867200" y="6115680"/>
              <a:ext cx="1800" cy="608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36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4850640" y="6098760"/>
              <a:ext cx="33480" cy="406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4813200" y="5860080"/>
              <a:ext cx="3240" cy="6768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4797720" y="5839560"/>
              <a:ext cx="33840" cy="406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8" name=""/>
          <p:cNvGrpSpPr/>
          <p:nvPr/>
        </p:nvGrpSpPr>
        <p:grpSpPr>
          <a:xfrm>
            <a:off x="2498760" y="5724360"/>
            <a:ext cx="483840" cy="885600"/>
            <a:chOff x="2498760" y="5724360"/>
            <a:chExt cx="483840" cy="885600"/>
          </a:xfrm>
        </p:grpSpPr>
        <p:sp>
          <p:nvSpPr>
            <p:cNvPr id="3959" name=""/>
            <p:cNvSpPr/>
            <p:nvPr/>
          </p:nvSpPr>
          <p:spPr>
            <a:xfrm>
              <a:off x="2635200" y="5749560"/>
              <a:ext cx="79200" cy="86040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694240" y="5724360"/>
              <a:ext cx="63720" cy="23436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667240" y="5734080"/>
              <a:ext cx="33480" cy="1112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556000" y="5860800"/>
              <a:ext cx="155160" cy="16020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702880" y="6007680"/>
              <a:ext cx="166680" cy="1652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835720" y="6005880"/>
              <a:ext cx="123120" cy="810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926800" y="6041520"/>
              <a:ext cx="55800" cy="1836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567880" y="6037920"/>
              <a:ext cx="137880" cy="1803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498760" y="6031080"/>
              <a:ext cx="99360" cy="842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8" name=""/>
          <p:cNvGrpSpPr/>
          <p:nvPr/>
        </p:nvGrpSpPr>
        <p:grpSpPr>
          <a:xfrm>
            <a:off x="6318360" y="5740560"/>
            <a:ext cx="357840" cy="852120"/>
            <a:chOff x="6318360" y="5740560"/>
            <a:chExt cx="357840" cy="852120"/>
          </a:xfrm>
        </p:grpSpPr>
        <p:sp>
          <p:nvSpPr>
            <p:cNvPr id="3969" name=""/>
            <p:cNvSpPr/>
            <p:nvPr/>
          </p:nvSpPr>
          <p:spPr>
            <a:xfrm>
              <a:off x="6459480" y="5890320"/>
              <a:ext cx="62280" cy="604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318360" y="5849640"/>
              <a:ext cx="154800" cy="15840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6464880" y="5996520"/>
              <a:ext cx="168120" cy="16344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6331680" y="6024960"/>
              <a:ext cx="134640" cy="181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6515280" y="6341760"/>
              <a:ext cx="32040" cy="367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6402240" y="6311520"/>
              <a:ext cx="59040" cy="8028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6390720" y="6297840"/>
              <a:ext cx="31680" cy="367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6473160" y="6213960"/>
              <a:ext cx="58680" cy="1008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6511680" y="6197040"/>
              <a:ext cx="33480" cy="432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6540480" y="6031800"/>
              <a:ext cx="10080" cy="738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6533640" y="6014880"/>
              <a:ext cx="33840" cy="403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6420960" y="6104160"/>
              <a:ext cx="1440" cy="622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6404040" y="6087240"/>
              <a:ext cx="33480" cy="403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6366960" y="5849640"/>
              <a:ext cx="3240" cy="673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6351840" y="5829480"/>
              <a:ext cx="33480" cy="403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6447960" y="5883840"/>
              <a:ext cx="28440" cy="70884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6417360" y="5740560"/>
              <a:ext cx="41400" cy="149400"/>
              <a:chOff x="6417360" y="5740560"/>
              <a:chExt cx="41400" cy="149400"/>
            </a:xfrm>
          </p:grpSpPr>
          <p:sp>
            <p:nvSpPr>
              <p:cNvPr id="3986" name=""/>
              <p:cNvSpPr/>
              <p:nvPr/>
            </p:nvSpPr>
            <p:spPr>
              <a:xfrm>
                <a:off x="6437160" y="5864760"/>
                <a:ext cx="2160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6422040" y="583956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6417360" y="580752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6417360" y="577260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6418800" y="5740560"/>
                <a:ext cx="1836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1" name=""/>
            <p:cNvGrpSpPr/>
            <p:nvPr/>
          </p:nvGrpSpPr>
          <p:grpSpPr>
            <a:xfrm>
              <a:off x="6596280" y="6043320"/>
              <a:ext cx="79920" cy="31680"/>
              <a:chOff x="6596280" y="6043320"/>
              <a:chExt cx="79920" cy="31680"/>
            </a:xfrm>
          </p:grpSpPr>
          <p:sp>
            <p:nvSpPr>
              <p:cNvPr id="3992" name=""/>
              <p:cNvSpPr/>
              <p:nvPr/>
            </p:nvSpPr>
            <p:spPr>
              <a:xfrm>
                <a:off x="6596280" y="605664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6629400" y="605484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6658200" y="604332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5" name=""/>
            <p:cNvGrpSpPr/>
            <p:nvPr/>
          </p:nvGrpSpPr>
          <p:grpSpPr>
            <a:xfrm>
              <a:off x="6506640" y="5772240"/>
              <a:ext cx="17640" cy="117360"/>
              <a:chOff x="6506640" y="5772240"/>
              <a:chExt cx="17640" cy="117360"/>
            </a:xfrm>
          </p:grpSpPr>
          <p:sp>
            <p:nvSpPr>
              <p:cNvPr id="3996" name=""/>
              <p:cNvSpPr/>
              <p:nvPr/>
            </p:nvSpPr>
            <p:spPr>
              <a:xfrm>
                <a:off x="6506640" y="5873040"/>
                <a:ext cx="16200" cy="1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6508080" y="5839200"/>
                <a:ext cx="16200" cy="1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6508080" y="5805720"/>
                <a:ext cx="16200" cy="1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6508080" y="5772240"/>
                <a:ext cx="16200" cy="1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0" name=""/>
          <p:cNvGrpSpPr/>
          <p:nvPr/>
        </p:nvGrpSpPr>
        <p:grpSpPr>
          <a:xfrm>
            <a:off x="3156120" y="5724360"/>
            <a:ext cx="483120" cy="885600"/>
            <a:chOff x="3156120" y="5724360"/>
            <a:chExt cx="483120" cy="885600"/>
          </a:xfrm>
        </p:grpSpPr>
        <p:sp>
          <p:nvSpPr>
            <p:cNvPr id="4001" name=""/>
            <p:cNvSpPr/>
            <p:nvPr/>
          </p:nvSpPr>
          <p:spPr>
            <a:xfrm>
              <a:off x="3292200" y="5749560"/>
              <a:ext cx="79200" cy="86040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3351600" y="5724360"/>
              <a:ext cx="63720" cy="23436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3324600" y="5734080"/>
              <a:ext cx="33480" cy="1112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3213360" y="5860800"/>
              <a:ext cx="154800" cy="16020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359880" y="6007680"/>
              <a:ext cx="166320" cy="1652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493080" y="6005880"/>
              <a:ext cx="122760" cy="810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583800" y="6041520"/>
              <a:ext cx="55440" cy="1836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225240" y="6037920"/>
              <a:ext cx="137880" cy="1803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3156120" y="6031080"/>
              <a:ext cx="99360" cy="842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0" name=""/>
          <p:cNvGrpSpPr/>
          <p:nvPr/>
        </p:nvGrpSpPr>
        <p:grpSpPr>
          <a:xfrm>
            <a:off x="4114800" y="5722920"/>
            <a:ext cx="483840" cy="885600"/>
            <a:chOff x="4114800" y="5722920"/>
            <a:chExt cx="483840" cy="885600"/>
          </a:xfrm>
        </p:grpSpPr>
        <p:sp>
          <p:nvSpPr>
            <p:cNvPr id="4011" name=""/>
            <p:cNvSpPr/>
            <p:nvPr/>
          </p:nvSpPr>
          <p:spPr>
            <a:xfrm>
              <a:off x="4251240" y="5748120"/>
              <a:ext cx="79200" cy="86040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310280" y="5722920"/>
              <a:ext cx="63720" cy="23436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4283280" y="5732640"/>
              <a:ext cx="33480" cy="1112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4172040" y="5859360"/>
              <a:ext cx="155160" cy="16020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4318920" y="6006240"/>
              <a:ext cx="166680" cy="1652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4451760" y="6004440"/>
              <a:ext cx="123120" cy="810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4542840" y="6040080"/>
              <a:ext cx="55800" cy="1836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4183920" y="6036480"/>
              <a:ext cx="137880" cy="1803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4114800" y="6029640"/>
              <a:ext cx="99360" cy="842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0" name=""/>
          <p:cNvGrpSpPr/>
          <p:nvPr/>
        </p:nvGrpSpPr>
        <p:grpSpPr>
          <a:xfrm>
            <a:off x="5653080" y="5722920"/>
            <a:ext cx="483840" cy="885600"/>
            <a:chOff x="5653080" y="5722920"/>
            <a:chExt cx="483840" cy="885600"/>
          </a:xfrm>
        </p:grpSpPr>
        <p:sp>
          <p:nvSpPr>
            <p:cNvPr id="4021" name=""/>
            <p:cNvSpPr/>
            <p:nvPr/>
          </p:nvSpPr>
          <p:spPr>
            <a:xfrm>
              <a:off x="5789520" y="5748120"/>
              <a:ext cx="79200" cy="86040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848560" y="5722920"/>
              <a:ext cx="63720" cy="23436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821560" y="5732640"/>
              <a:ext cx="33480" cy="1112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5710320" y="5859360"/>
              <a:ext cx="155160" cy="16020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857200" y="6006240"/>
              <a:ext cx="166680" cy="1652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990040" y="6004440"/>
              <a:ext cx="123120" cy="810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6081120" y="6040080"/>
              <a:ext cx="55800" cy="1836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722200" y="6036480"/>
              <a:ext cx="137880" cy="1803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653080" y="6029640"/>
              <a:ext cx="99360" cy="842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0" name=""/>
          <p:cNvSpPr/>
          <p:nvPr/>
        </p:nvSpPr>
        <p:spPr>
          <a:xfrm>
            <a:off x="2887560" y="616752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4481640" y="6167520"/>
            <a:ext cx="32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6018120" y="616752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3789360" y="3062160"/>
            <a:ext cx="0" cy="37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5283360" y="3062160"/>
            <a:ext cx="0" cy="37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-5760" y="71280"/>
            <a:ext cx="82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DYNAMIQUE DE TRANSITION  SELON L’ENVIRONNEMENT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7361640" y="4818240"/>
            <a:ext cx="174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Pas de temps : 10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8" name=""/>
          <p:cNvGrpSpPr/>
          <p:nvPr/>
        </p:nvGrpSpPr>
        <p:grpSpPr>
          <a:xfrm>
            <a:off x="1463760" y="2266920"/>
            <a:ext cx="948600" cy="1485360"/>
            <a:chOff x="1463760" y="2266920"/>
            <a:chExt cx="948600" cy="1485360"/>
          </a:xfrm>
        </p:grpSpPr>
        <p:grpSp>
          <p:nvGrpSpPr>
            <p:cNvPr id="4039" name=""/>
            <p:cNvGrpSpPr/>
            <p:nvPr/>
          </p:nvGrpSpPr>
          <p:grpSpPr>
            <a:xfrm>
              <a:off x="1463760" y="2266920"/>
              <a:ext cx="948600" cy="1485360"/>
              <a:chOff x="1463760" y="2266920"/>
              <a:chExt cx="948600" cy="1485360"/>
            </a:xfrm>
          </p:grpSpPr>
          <p:sp>
            <p:nvSpPr>
              <p:cNvPr id="4040" name=""/>
              <p:cNvSpPr/>
              <p:nvPr/>
            </p:nvSpPr>
            <p:spPr>
              <a:xfrm>
                <a:off x="1463760" y="2266920"/>
                <a:ext cx="948600" cy="148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1463760" y="2266920"/>
                <a:ext cx="944280" cy="148104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1463760" y="2266920"/>
                <a:ext cx="944280" cy="148104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1463760" y="2266920"/>
                <a:ext cx="948600" cy="148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4" name=""/>
            <p:cNvSpPr/>
            <p:nvPr/>
          </p:nvSpPr>
          <p:spPr>
            <a:xfrm>
              <a:off x="1463760" y="2266920"/>
              <a:ext cx="944640" cy="1481400"/>
            </a:xfrm>
            <a:custGeom>
              <a:avLst/>
              <a:gdLst/>
              <a:ahLst/>
              <a:rect l="l" t="t" r="r" b="b"/>
              <a:pathLst>
                <a:path w="450" h="706">
                  <a:moveTo>
                    <a:pt x="75" y="0"/>
                  </a:moveTo>
                  <a:lnTo>
                    <a:pt x="60" y="2"/>
                  </a:lnTo>
                  <a:lnTo>
                    <a:pt x="46" y="6"/>
                  </a:lnTo>
                  <a:lnTo>
                    <a:pt x="33" y="13"/>
                  </a:lnTo>
                  <a:lnTo>
                    <a:pt x="22" y="22"/>
                  </a:lnTo>
                  <a:lnTo>
                    <a:pt x="13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0" y="631"/>
                  </a:lnTo>
                  <a:lnTo>
                    <a:pt x="2" y="646"/>
                  </a:lnTo>
                  <a:lnTo>
                    <a:pt x="6" y="660"/>
                  </a:lnTo>
                  <a:lnTo>
                    <a:pt x="13" y="673"/>
                  </a:lnTo>
                  <a:lnTo>
                    <a:pt x="22" y="684"/>
                  </a:lnTo>
                  <a:lnTo>
                    <a:pt x="33" y="693"/>
                  </a:lnTo>
                  <a:lnTo>
                    <a:pt x="46" y="700"/>
                  </a:lnTo>
                  <a:lnTo>
                    <a:pt x="60" y="704"/>
                  </a:lnTo>
                  <a:lnTo>
                    <a:pt x="75" y="706"/>
                  </a:lnTo>
                  <a:lnTo>
                    <a:pt x="375" y="706"/>
                  </a:lnTo>
                  <a:lnTo>
                    <a:pt x="390" y="704"/>
                  </a:lnTo>
                  <a:lnTo>
                    <a:pt x="404" y="700"/>
                  </a:lnTo>
                  <a:lnTo>
                    <a:pt x="417" y="693"/>
                  </a:lnTo>
                  <a:lnTo>
                    <a:pt x="428" y="684"/>
                  </a:lnTo>
                  <a:lnTo>
                    <a:pt x="437" y="673"/>
                  </a:lnTo>
                  <a:lnTo>
                    <a:pt x="444" y="660"/>
                  </a:lnTo>
                  <a:lnTo>
                    <a:pt x="448" y="646"/>
                  </a:lnTo>
                  <a:lnTo>
                    <a:pt x="450" y="631"/>
                  </a:lnTo>
                  <a:lnTo>
                    <a:pt x="450" y="75"/>
                  </a:lnTo>
                  <a:lnTo>
                    <a:pt x="448" y="60"/>
                  </a:lnTo>
                  <a:lnTo>
                    <a:pt x="444" y="46"/>
                  </a:lnTo>
                  <a:lnTo>
                    <a:pt x="437" y="33"/>
                  </a:lnTo>
                  <a:lnTo>
                    <a:pt x="428" y="22"/>
                  </a:lnTo>
                  <a:lnTo>
                    <a:pt x="417" y="13"/>
                  </a:lnTo>
                  <a:lnTo>
                    <a:pt x="404" y="6"/>
                  </a:lnTo>
                  <a:lnTo>
                    <a:pt x="390" y="2"/>
                  </a:lnTo>
                  <a:lnTo>
                    <a:pt x="375" y="0"/>
                  </a:lnTo>
                  <a:lnTo>
                    <a:pt x="7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5" name=""/>
          <p:cNvSpPr/>
          <p:nvPr/>
        </p:nvSpPr>
        <p:spPr>
          <a:xfrm>
            <a:off x="2133720" y="3424320"/>
            <a:ext cx="41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2256480" y="3492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7" name=""/>
          <p:cNvGrpSpPr/>
          <p:nvPr/>
        </p:nvGrpSpPr>
        <p:grpSpPr>
          <a:xfrm>
            <a:off x="1612800" y="2577960"/>
            <a:ext cx="630000" cy="1101600"/>
            <a:chOff x="1612800" y="2577960"/>
            <a:chExt cx="630000" cy="1101600"/>
          </a:xfrm>
        </p:grpSpPr>
        <p:sp>
          <p:nvSpPr>
            <p:cNvPr id="4048" name=""/>
            <p:cNvSpPr/>
            <p:nvPr/>
          </p:nvSpPr>
          <p:spPr>
            <a:xfrm>
              <a:off x="1809720" y="2609280"/>
              <a:ext cx="99000" cy="107028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883520" y="2577960"/>
              <a:ext cx="79200" cy="29124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849680" y="2590200"/>
              <a:ext cx="41760" cy="1382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711080" y="2747520"/>
              <a:ext cx="193320" cy="19908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894320" y="2930040"/>
              <a:ext cx="207360" cy="2059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059920" y="2928240"/>
              <a:ext cx="153360" cy="1008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173320" y="2972520"/>
              <a:ext cx="69480" cy="226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725840" y="2968200"/>
              <a:ext cx="171720" cy="22464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639800" y="2959560"/>
              <a:ext cx="123840" cy="1051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612800" y="2989080"/>
              <a:ext cx="56520" cy="226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8" name=""/>
          <p:cNvSpPr/>
          <p:nvPr/>
        </p:nvSpPr>
        <p:spPr>
          <a:xfrm>
            <a:off x="4208400" y="3424320"/>
            <a:ext cx="416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4653000" y="4433760"/>
            <a:ext cx="63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0" name=""/>
          <p:cNvGrpSpPr/>
          <p:nvPr/>
        </p:nvGrpSpPr>
        <p:grpSpPr>
          <a:xfrm>
            <a:off x="1746360" y="3763800"/>
            <a:ext cx="6528600" cy="1000080"/>
            <a:chOff x="1746360" y="3763800"/>
            <a:chExt cx="6528600" cy="1000080"/>
          </a:xfrm>
        </p:grpSpPr>
        <p:grpSp>
          <p:nvGrpSpPr>
            <p:cNvPr id="4061" name=""/>
            <p:cNvGrpSpPr/>
            <p:nvPr/>
          </p:nvGrpSpPr>
          <p:grpSpPr>
            <a:xfrm>
              <a:off x="4894200" y="3865680"/>
              <a:ext cx="3380760" cy="898200"/>
              <a:chOff x="4894200" y="3865680"/>
              <a:chExt cx="3380760" cy="898200"/>
            </a:xfrm>
          </p:grpSpPr>
          <p:sp>
            <p:nvSpPr>
              <p:cNvPr id="4062" name=""/>
              <p:cNvSpPr/>
              <p:nvPr/>
            </p:nvSpPr>
            <p:spPr>
              <a:xfrm>
                <a:off x="8197920" y="39765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8176680" y="4001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8153640" y="40269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8130600" y="4052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8105400" y="40730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8080200" y="4096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8052480" y="41151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8025480" y="4136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7998120" y="4155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7970760" y="41742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941600" y="4190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7912080" y="42073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7882560" y="4224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853040" y="42393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823880" y="4255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792560" y="427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763040" y="4285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731360" y="4297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7701840" y="4312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7670520" y="43250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7639200" y="4337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7607520" y="43502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7575840" y="43606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7544520" y="4373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7512840" y="4384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7481520" y="43963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7450200" y="4406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418520" y="44172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7386840" y="44283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7353360" y="4436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7322040" y="4446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7290360" y="4455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7256520" y="4465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7225200" y="4474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7191360" y="44827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7160040" y="4491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7126560" y="4501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7095240" y="4507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7061400" y="4516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7030080" y="45244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6996240" y="4533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6964920" y="45392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6931440" y="4547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897600" y="4554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6866280" y="4560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6832440" y="45669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6798960" y="4574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6767640" y="45810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6733800" y="4587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6700320" y="4593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6666480" y="4600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6635160" y="4604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6601320" y="46105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6568200" y="46170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6534360" y="4620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502680" y="4627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6468840" y="46317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6435720" y="46378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401880" y="46422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6368400" y="4646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6334560" y="4650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6303240" y="4656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6269760" y="4661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235920" y="4665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202440" y="4669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168960" y="4673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135120" y="467784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6101640" y="4680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067800" y="46839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6034680" y="468828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8"/>
                    </a:moveTo>
                    <a:lnTo>
                      <a:pt x="7" y="7"/>
                    </a:lnTo>
                    <a:lnTo>
                      <a:pt x="9" y="4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6002640" y="4690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969520" y="4694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5935680" y="46987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5902200" y="4701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868360" y="4705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835240" y="4707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801400" y="47091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767920" y="4711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734080" y="47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700240" y="4717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667120" y="47196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633280" y="4722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599800" y="47239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565960" y="47264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5532840" y="4728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5499000" y="4730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465520" y="4732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431680" y="4732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5397840" y="47343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364720" y="4736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330880" y="4736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5297400" y="4738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5263560" y="47412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5230080" y="4741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196600" y="4743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163120" y="4743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129280" y="4743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095440" y="47448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061960" y="47448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028480" y="47448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995000" y="47448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961160" y="47473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4927680" y="4747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4894200" y="4747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8142840" y="3865680"/>
                <a:ext cx="132120" cy="159480"/>
              </a:xfrm>
              <a:custGeom>
                <a:avLst/>
                <a:gdLst/>
                <a:ahLst/>
                <a:rect l="l" t="t" r="r" b="b"/>
                <a:pathLst>
                  <a:path w="63" h="76">
                    <a:moveTo>
                      <a:pt x="60" y="76"/>
                    </a:moveTo>
                    <a:lnTo>
                      <a:pt x="63" y="0"/>
                    </a:lnTo>
                    <a:lnTo>
                      <a:pt x="0" y="44"/>
                    </a:lnTo>
                    <a:lnTo>
                      <a:pt x="6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1746360" y="3763800"/>
              <a:ext cx="3264840" cy="993600"/>
              <a:chOff x="1746360" y="3763800"/>
              <a:chExt cx="3264840" cy="993600"/>
            </a:xfrm>
          </p:grpSpPr>
          <p:sp>
            <p:nvSpPr>
              <p:cNvPr id="4168" name=""/>
              <p:cNvSpPr/>
              <p:nvPr/>
            </p:nvSpPr>
            <p:spPr>
              <a:xfrm>
                <a:off x="1746360" y="3763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1748160" y="37972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1754640" y="3830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1762920" y="38620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1775880" y="3893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1790640" y="3923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1807200" y="3952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1828080" y="39798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1848960" y="4007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1869840" y="4030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1895400" y="4055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1920600" y="4076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1945800" y="4100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1971000" y="4120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1998000" y="41396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2025360" y="41587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2054880" y="417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2082240" y="41961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2111400" y="42134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2140920" y="4230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2170440" y="4244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2199600" y="42595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2231280" y="4276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2260440" y="42886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2292480" y="4303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2321280" y="43182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2352960" y="43311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2384640" y="4343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2416320" y="4356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2445120" y="43686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2477160" y="4379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2508480" y="4392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2541960" y="44024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2573280" y="4412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2605320" y="4423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2636640" y="4434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2667960" y="4444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2701440" y="4455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2733120" y="44629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2764800" y="4471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2797920" y="4482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2829600" y="4490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2863440" y="44989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2894760" y="4507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2928600" y="4515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2959920" y="4524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2993400" y="45306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025080" y="45388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058560" y="4547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092400" y="4553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123720" y="4559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157200" y="45684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191040" y="4574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222360" y="45806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256200" y="4587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289320" y="4593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323160" y="4599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354840" y="46058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387960" y="46101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3421800" y="46162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3455280" y="4623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3486960" y="46270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3520440" y="4633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3554280" y="4637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3587400" y="4644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3621240" y="4648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3654720" y="46522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3686400" y="4656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719880" y="4660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753720" y="4664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3787200" y="46692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3820680" y="46731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3854160" y="46774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888000" y="4681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921480" y="46836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954960" y="46879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986640" y="4692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4020480" y="4694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4053600" y="46983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4087440" y="4700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4120920" y="47026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4154760" y="4707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4187880" y="47088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4221720" y="4711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4255560" y="4713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4289040" y="4715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4322880" y="47192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4356000" y="47217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4389840" y="4721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4423320" y="47235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4457160" y="4726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4490280" y="4727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4524120" y="4730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4557960" y="4730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4591440" y="4732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4624920" y="47340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4658400" y="47340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692240" y="4736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4725720" y="47365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4759200" y="4738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4792680" y="47383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826520" y="4738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860360" y="4738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893480" y="4740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927320" y="4740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960800" y="47408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994640" y="4740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5" name=""/>
            <p:cNvSpPr/>
            <p:nvPr/>
          </p:nvSpPr>
          <p:spPr>
            <a:xfrm>
              <a:off x="4775040" y="4505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6" name=""/>
          <p:cNvGrpSpPr/>
          <p:nvPr/>
        </p:nvGrpSpPr>
        <p:grpSpPr>
          <a:xfrm>
            <a:off x="2203560" y="1738440"/>
            <a:ext cx="1505880" cy="521280"/>
            <a:chOff x="2203560" y="1738440"/>
            <a:chExt cx="1505880" cy="521280"/>
          </a:xfrm>
        </p:grpSpPr>
        <p:grpSp>
          <p:nvGrpSpPr>
            <p:cNvPr id="4277" name=""/>
            <p:cNvGrpSpPr/>
            <p:nvPr/>
          </p:nvGrpSpPr>
          <p:grpSpPr>
            <a:xfrm>
              <a:off x="2203560" y="1738440"/>
              <a:ext cx="1505880" cy="521280"/>
              <a:chOff x="2203560" y="1738440"/>
              <a:chExt cx="1505880" cy="521280"/>
            </a:xfrm>
          </p:grpSpPr>
          <p:grpSp>
            <p:nvGrpSpPr>
              <p:cNvPr id="4278" name=""/>
              <p:cNvGrpSpPr/>
              <p:nvPr/>
            </p:nvGrpSpPr>
            <p:grpSpPr>
              <a:xfrm>
                <a:off x="2203560" y="2011320"/>
                <a:ext cx="1505880" cy="248400"/>
                <a:chOff x="2203560" y="2011320"/>
                <a:chExt cx="1505880" cy="248400"/>
              </a:xfrm>
            </p:grpSpPr>
            <p:grpSp>
              <p:nvGrpSpPr>
                <p:cNvPr id="4279" name=""/>
                <p:cNvGrpSpPr/>
                <p:nvPr/>
              </p:nvGrpSpPr>
              <p:grpSpPr>
                <a:xfrm>
                  <a:off x="2927160" y="2011320"/>
                  <a:ext cx="782280" cy="248400"/>
                  <a:chOff x="2927160" y="2011320"/>
                  <a:chExt cx="782280" cy="248400"/>
                </a:xfrm>
              </p:grpSpPr>
              <p:sp>
                <p:nvSpPr>
                  <p:cNvPr id="4280" name=""/>
                  <p:cNvSpPr/>
                  <p:nvPr/>
                </p:nvSpPr>
                <p:spPr>
                  <a:xfrm>
                    <a:off x="3692880" y="224280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4"/>
                        </a:move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1" name=""/>
                  <p:cNvSpPr/>
                  <p:nvPr/>
                </p:nvSpPr>
                <p:spPr>
                  <a:xfrm>
                    <a:off x="3684240" y="221148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2" name=""/>
                  <p:cNvSpPr/>
                  <p:nvPr/>
                </p:nvSpPr>
                <p:spPr>
                  <a:xfrm>
                    <a:off x="3665160" y="218448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3" name=""/>
                  <p:cNvSpPr/>
                  <p:nvPr/>
                </p:nvSpPr>
                <p:spPr>
                  <a:xfrm>
                    <a:off x="3640680" y="216144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4" name=""/>
                  <p:cNvSpPr/>
                  <p:nvPr/>
                </p:nvSpPr>
                <p:spPr>
                  <a:xfrm>
                    <a:off x="3612960" y="21427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5" name=""/>
                  <p:cNvSpPr/>
                  <p:nvPr/>
                </p:nvSpPr>
                <p:spPr>
                  <a:xfrm>
                    <a:off x="3583440" y="212580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6" name=""/>
                  <p:cNvSpPr/>
                  <p:nvPr/>
                </p:nvSpPr>
                <p:spPr>
                  <a:xfrm>
                    <a:off x="3554280" y="21114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7" name=""/>
                  <p:cNvSpPr/>
                  <p:nvPr/>
                </p:nvSpPr>
                <p:spPr>
                  <a:xfrm>
                    <a:off x="3522960" y="20988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8" name=""/>
                  <p:cNvSpPr/>
                  <p:nvPr/>
                </p:nvSpPr>
                <p:spPr>
                  <a:xfrm>
                    <a:off x="3491280" y="208836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9" name=""/>
                  <p:cNvSpPr/>
                  <p:nvPr/>
                </p:nvSpPr>
                <p:spPr>
                  <a:xfrm>
                    <a:off x="3459600" y="20779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0" name=""/>
                  <p:cNvSpPr/>
                  <p:nvPr/>
                </p:nvSpPr>
                <p:spPr>
                  <a:xfrm>
                    <a:off x="3426480" y="206928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1" name=""/>
                  <p:cNvSpPr/>
                  <p:nvPr/>
                </p:nvSpPr>
                <p:spPr>
                  <a:xfrm>
                    <a:off x="3395160" y="20613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2" name=""/>
                  <p:cNvSpPr/>
                  <p:nvPr/>
                </p:nvSpPr>
                <p:spPr>
                  <a:xfrm>
                    <a:off x="3361320" y="205524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3" name=""/>
                  <p:cNvSpPr/>
                  <p:nvPr/>
                </p:nvSpPr>
                <p:spPr>
                  <a:xfrm>
                    <a:off x="3327840" y="20466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4" name=""/>
                  <p:cNvSpPr/>
                  <p:nvPr/>
                </p:nvSpPr>
                <p:spPr>
                  <a:xfrm>
                    <a:off x="3296160" y="204228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6" y="6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5" name=""/>
                  <p:cNvSpPr/>
                  <p:nvPr/>
                </p:nvSpPr>
                <p:spPr>
                  <a:xfrm>
                    <a:off x="3262680" y="20361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6" name=""/>
                  <p:cNvSpPr/>
                  <p:nvPr/>
                </p:nvSpPr>
                <p:spPr>
                  <a:xfrm>
                    <a:off x="3229200" y="203184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7" name=""/>
                  <p:cNvSpPr/>
                  <p:nvPr/>
                </p:nvSpPr>
                <p:spPr>
                  <a:xfrm>
                    <a:off x="3195720" y="20278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8" name=""/>
                  <p:cNvSpPr/>
                  <p:nvPr/>
                </p:nvSpPr>
                <p:spPr>
                  <a:xfrm>
                    <a:off x="3161880" y="202356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9" name=""/>
                  <p:cNvSpPr/>
                  <p:nvPr/>
                </p:nvSpPr>
                <p:spPr>
                  <a:xfrm>
                    <a:off x="3128760" y="20214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0" name=""/>
                  <p:cNvSpPr/>
                  <p:nvPr/>
                </p:nvSpPr>
                <p:spPr>
                  <a:xfrm>
                    <a:off x="3094920" y="201744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1" name=""/>
                  <p:cNvSpPr/>
                  <p:nvPr/>
                </p:nvSpPr>
                <p:spPr>
                  <a:xfrm>
                    <a:off x="3061080" y="201528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>
                    <a:off x="3027960" y="201312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2994120" y="201312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4" name=""/>
                  <p:cNvSpPr/>
                  <p:nvPr/>
                </p:nvSpPr>
                <p:spPr>
                  <a:xfrm>
                    <a:off x="2960640" y="201132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5" name=""/>
                  <p:cNvSpPr/>
                  <p:nvPr/>
                </p:nvSpPr>
                <p:spPr>
                  <a:xfrm>
                    <a:off x="2927160" y="20113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6" name=""/>
                <p:cNvGrpSpPr/>
                <p:nvPr/>
              </p:nvGrpSpPr>
              <p:grpSpPr>
                <a:xfrm>
                  <a:off x="2203560" y="2011320"/>
                  <a:ext cx="750960" cy="239760"/>
                  <a:chOff x="2203560" y="2011320"/>
                  <a:chExt cx="750960" cy="239760"/>
                </a:xfrm>
              </p:grpSpPr>
              <p:sp>
                <p:nvSpPr>
                  <p:cNvPr id="4307" name=""/>
                  <p:cNvSpPr/>
                  <p:nvPr/>
                </p:nvSpPr>
                <p:spPr>
                  <a:xfrm>
                    <a:off x="2282760" y="213228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1"/>
                        </a:move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8" name=""/>
                  <p:cNvSpPr/>
                  <p:nvPr/>
                </p:nvSpPr>
                <p:spPr>
                  <a:xfrm>
                    <a:off x="2312280" y="211752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1"/>
                        </a:move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9" name=""/>
                  <p:cNvSpPr/>
                  <p:nvPr/>
                </p:nvSpPr>
                <p:spPr>
                  <a:xfrm>
                    <a:off x="2343600" y="21031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0" name=""/>
                  <p:cNvSpPr/>
                  <p:nvPr/>
                </p:nvSpPr>
                <p:spPr>
                  <a:xfrm>
                    <a:off x="2375280" y="209016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1" name=""/>
                  <p:cNvSpPr/>
                  <p:nvPr/>
                </p:nvSpPr>
                <p:spPr>
                  <a:xfrm>
                    <a:off x="2406960" y="207972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2" name=""/>
                  <p:cNvSpPr/>
                  <p:nvPr/>
                </p:nvSpPr>
                <p:spPr>
                  <a:xfrm>
                    <a:off x="2438280" y="20718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3" name=""/>
                  <p:cNvSpPr/>
                  <p:nvPr/>
                </p:nvSpPr>
                <p:spPr>
                  <a:xfrm>
                    <a:off x="2471760" y="206136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4" name=""/>
                  <p:cNvSpPr/>
                  <p:nvPr/>
                </p:nvSpPr>
                <p:spPr>
                  <a:xfrm>
                    <a:off x="2503080" y="205524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5" name=""/>
                  <p:cNvSpPr/>
                  <p:nvPr/>
                </p:nvSpPr>
                <p:spPr>
                  <a:xfrm>
                    <a:off x="2536920" y="20466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6" name=""/>
                  <p:cNvSpPr/>
                  <p:nvPr/>
                </p:nvSpPr>
                <p:spPr>
                  <a:xfrm>
                    <a:off x="2570760" y="20422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6" y="6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7" name=""/>
                  <p:cNvSpPr/>
                  <p:nvPr/>
                </p:nvSpPr>
                <p:spPr>
                  <a:xfrm>
                    <a:off x="2602080" y="20361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8" name=""/>
                  <p:cNvSpPr/>
                  <p:nvPr/>
                </p:nvSpPr>
                <p:spPr>
                  <a:xfrm>
                    <a:off x="2635200" y="203184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9" name=""/>
                  <p:cNvSpPr/>
                  <p:nvPr/>
                </p:nvSpPr>
                <p:spPr>
                  <a:xfrm>
                    <a:off x="2669040" y="20278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0" name=""/>
                  <p:cNvSpPr/>
                  <p:nvPr/>
                </p:nvSpPr>
                <p:spPr>
                  <a:xfrm>
                    <a:off x="2702520" y="202356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1" name=""/>
                  <p:cNvSpPr/>
                  <p:nvPr/>
                </p:nvSpPr>
                <p:spPr>
                  <a:xfrm>
                    <a:off x="2736360" y="20196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2" name=""/>
                  <p:cNvSpPr/>
                  <p:nvPr/>
                </p:nvSpPr>
                <p:spPr>
                  <a:xfrm>
                    <a:off x="2769840" y="201744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3" name=""/>
                  <p:cNvSpPr/>
                  <p:nvPr/>
                </p:nvSpPr>
                <p:spPr>
                  <a:xfrm>
                    <a:off x="2803320" y="20152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4" name=""/>
                  <p:cNvSpPr/>
                  <p:nvPr/>
                </p:nvSpPr>
                <p:spPr>
                  <a:xfrm>
                    <a:off x="2837160" y="201312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5" name=""/>
                  <p:cNvSpPr/>
                  <p:nvPr/>
                </p:nvSpPr>
                <p:spPr>
                  <a:xfrm>
                    <a:off x="2870280" y="201312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6" name=""/>
                  <p:cNvSpPr/>
                  <p:nvPr/>
                </p:nvSpPr>
                <p:spPr>
                  <a:xfrm>
                    <a:off x="2904120" y="201132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7" name=""/>
                  <p:cNvSpPr/>
                  <p:nvPr/>
                </p:nvSpPr>
                <p:spPr>
                  <a:xfrm>
                    <a:off x="2937600" y="20113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8" name=""/>
                  <p:cNvSpPr/>
                  <p:nvPr/>
                </p:nvSpPr>
                <p:spPr>
                  <a:xfrm>
                    <a:off x="2203560" y="2097000"/>
                    <a:ext cx="14436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4">
                        <a:moveTo>
                          <a:pt x="16" y="0"/>
                        </a:moveTo>
                        <a:lnTo>
                          <a:pt x="0" y="74"/>
                        </a:lnTo>
                        <a:lnTo>
                          <a:pt x="69" y="4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29" name=""/>
              <p:cNvSpPr/>
              <p:nvPr/>
            </p:nvSpPr>
            <p:spPr>
              <a:xfrm>
                <a:off x="2647800" y="1738440"/>
                <a:ext cx="6368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0" name=""/>
            <p:cNvSpPr/>
            <p:nvPr/>
          </p:nvSpPr>
          <p:spPr>
            <a:xfrm>
              <a:off x="2770200" y="17524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1" name=""/>
          <p:cNvSpPr/>
          <p:nvPr/>
        </p:nvSpPr>
        <p:spPr>
          <a:xfrm>
            <a:off x="4741920" y="3664080"/>
            <a:ext cx="63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5913360" y="3978360"/>
            <a:ext cx="6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4638600" y="2882880"/>
            <a:ext cx="6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4" name=""/>
          <p:cNvGrpSpPr/>
          <p:nvPr/>
        </p:nvGrpSpPr>
        <p:grpSpPr>
          <a:xfrm>
            <a:off x="1463760" y="2266920"/>
            <a:ext cx="948600" cy="1485360"/>
            <a:chOff x="1463760" y="2266920"/>
            <a:chExt cx="948600" cy="1485360"/>
          </a:xfrm>
        </p:grpSpPr>
        <p:grpSp>
          <p:nvGrpSpPr>
            <p:cNvPr id="4335" name=""/>
            <p:cNvGrpSpPr/>
            <p:nvPr/>
          </p:nvGrpSpPr>
          <p:grpSpPr>
            <a:xfrm>
              <a:off x="1463760" y="2266920"/>
              <a:ext cx="948600" cy="1485360"/>
              <a:chOff x="1463760" y="2266920"/>
              <a:chExt cx="948600" cy="1485360"/>
            </a:xfrm>
          </p:grpSpPr>
          <p:sp>
            <p:nvSpPr>
              <p:cNvPr id="4336" name=""/>
              <p:cNvSpPr/>
              <p:nvPr/>
            </p:nvSpPr>
            <p:spPr>
              <a:xfrm>
                <a:off x="1463760" y="2266920"/>
                <a:ext cx="948600" cy="148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1463760" y="2266920"/>
                <a:ext cx="944280" cy="148104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1463760" y="2266920"/>
                <a:ext cx="944280" cy="148104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1463760" y="2266920"/>
                <a:ext cx="948600" cy="148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0" name=""/>
            <p:cNvSpPr/>
            <p:nvPr/>
          </p:nvSpPr>
          <p:spPr>
            <a:xfrm>
              <a:off x="1463760" y="2266920"/>
              <a:ext cx="944640" cy="1481400"/>
            </a:xfrm>
            <a:custGeom>
              <a:avLst/>
              <a:gdLst/>
              <a:ahLst/>
              <a:rect l="l" t="t" r="r" b="b"/>
              <a:pathLst>
                <a:path w="450" h="706">
                  <a:moveTo>
                    <a:pt x="75" y="0"/>
                  </a:moveTo>
                  <a:lnTo>
                    <a:pt x="60" y="2"/>
                  </a:lnTo>
                  <a:lnTo>
                    <a:pt x="46" y="6"/>
                  </a:lnTo>
                  <a:lnTo>
                    <a:pt x="33" y="13"/>
                  </a:lnTo>
                  <a:lnTo>
                    <a:pt x="22" y="22"/>
                  </a:lnTo>
                  <a:lnTo>
                    <a:pt x="13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0" y="631"/>
                  </a:lnTo>
                  <a:lnTo>
                    <a:pt x="2" y="646"/>
                  </a:lnTo>
                  <a:lnTo>
                    <a:pt x="6" y="660"/>
                  </a:lnTo>
                  <a:lnTo>
                    <a:pt x="13" y="673"/>
                  </a:lnTo>
                  <a:lnTo>
                    <a:pt x="22" y="684"/>
                  </a:lnTo>
                  <a:lnTo>
                    <a:pt x="33" y="693"/>
                  </a:lnTo>
                  <a:lnTo>
                    <a:pt x="46" y="700"/>
                  </a:lnTo>
                  <a:lnTo>
                    <a:pt x="60" y="704"/>
                  </a:lnTo>
                  <a:lnTo>
                    <a:pt x="75" y="706"/>
                  </a:lnTo>
                  <a:lnTo>
                    <a:pt x="375" y="706"/>
                  </a:lnTo>
                  <a:lnTo>
                    <a:pt x="390" y="704"/>
                  </a:lnTo>
                  <a:lnTo>
                    <a:pt x="404" y="700"/>
                  </a:lnTo>
                  <a:lnTo>
                    <a:pt x="417" y="693"/>
                  </a:lnTo>
                  <a:lnTo>
                    <a:pt x="428" y="684"/>
                  </a:lnTo>
                  <a:lnTo>
                    <a:pt x="437" y="673"/>
                  </a:lnTo>
                  <a:lnTo>
                    <a:pt x="444" y="660"/>
                  </a:lnTo>
                  <a:lnTo>
                    <a:pt x="448" y="646"/>
                  </a:lnTo>
                  <a:lnTo>
                    <a:pt x="450" y="631"/>
                  </a:lnTo>
                  <a:lnTo>
                    <a:pt x="450" y="75"/>
                  </a:lnTo>
                  <a:lnTo>
                    <a:pt x="448" y="60"/>
                  </a:lnTo>
                  <a:lnTo>
                    <a:pt x="444" y="46"/>
                  </a:lnTo>
                  <a:lnTo>
                    <a:pt x="437" y="33"/>
                  </a:lnTo>
                  <a:lnTo>
                    <a:pt x="428" y="22"/>
                  </a:lnTo>
                  <a:lnTo>
                    <a:pt x="417" y="13"/>
                  </a:lnTo>
                  <a:lnTo>
                    <a:pt x="404" y="6"/>
                  </a:lnTo>
                  <a:lnTo>
                    <a:pt x="390" y="2"/>
                  </a:lnTo>
                  <a:lnTo>
                    <a:pt x="375" y="0"/>
                  </a:lnTo>
                  <a:lnTo>
                    <a:pt x="7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1" name=""/>
          <p:cNvSpPr/>
          <p:nvPr/>
        </p:nvSpPr>
        <p:spPr>
          <a:xfrm>
            <a:off x="2133720" y="3424320"/>
            <a:ext cx="41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2256480" y="3492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1809720" y="2610000"/>
            <a:ext cx="98280" cy="1069920"/>
          </a:xfrm>
          <a:custGeom>
            <a:avLst/>
            <a:gdLst/>
            <a:ahLst/>
            <a:rect l="l" t="t" r="r" b="b"/>
            <a:pathLst>
              <a:path w="47" h="510">
                <a:moveTo>
                  <a:pt x="36" y="510"/>
                </a:moveTo>
                <a:lnTo>
                  <a:pt x="46" y="510"/>
                </a:lnTo>
                <a:lnTo>
                  <a:pt x="46" y="420"/>
                </a:lnTo>
                <a:lnTo>
                  <a:pt x="46" y="374"/>
                </a:lnTo>
                <a:lnTo>
                  <a:pt x="46" y="326"/>
                </a:lnTo>
                <a:lnTo>
                  <a:pt x="46" y="300"/>
                </a:lnTo>
                <a:lnTo>
                  <a:pt x="47" y="273"/>
                </a:lnTo>
                <a:lnTo>
                  <a:pt x="47" y="216"/>
                </a:lnTo>
                <a:lnTo>
                  <a:pt x="47" y="188"/>
                </a:lnTo>
                <a:lnTo>
                  <a:pt x="47" y="162"/>
                </a:lnTo>
                <a:lnTo>
                  <a:pt x="46" y="138"/>
                </a:lnTo>
                <a:lnTo>
                  <a:pt x="44" y="116"/>
                </a:lnTo>
                <a:lnTo>
                  <a:pt x="41" y="97"/>
                </a:lnTo>
                <a:lnTo>
                  <a:pt x="38" y="80"/>
                </a:lnTo>
                <a:lnTo>
                  <a:pt x="34" y="64"/>
                </a:lnTo>
                <a:lnTo>
                  <a:pt x="30" y="50"/>
                </a:lnTo>
                <a:lnTo>
                  <a:pt x="25" y="37"/>
                </a:lnTo>
                <a:lnTo>
                  <a:pt x="23" y="34"/>
                </a:lnTo>
                <a:lnTo>
                  <a:pt x="18" y="21"/>
                </a:lnTo>
                <a:lnTo>
                  <a:pt x="8" y="0"/>
                </a:lnTo>
                <a:lnTo>
                  <a:pt x="0" y="4"/>
                </a:lnTo>
                <a:lnTo>
                  <a:pt x="11" y="28"/>
                </a:lnTo>
                <a:lnTo>
                  <a:pt x="16" y="41"/>
                </a:lnTo>
                <a:lnTo>
                  <a:pt x="20" y="37"/>
                </a:lnTo>
                <a:lnTo>
                  <a:pt x="15" y="37"/>
                </a:lnTo>
                <a:lnTo>
                  <a:pt x="20" y="50"/>
                </a:lnTo>
                <a:lnTo>
                  <a:pt x="24" y="64"/>
                </a:lnTo>
                <a:lnTo>
                  <a:pt x="28" y="80"/>
                </a:lnTo>
                <a:lnTo>
                  <a:pt x="31" y="97"/>
                </a:lnTo>
                <a:lnTo>
                  <a:pt x="34" y="117"/>
                </a:lnTo>
                <a:lnTo>
                  <a:pt x="36" y="138"/>
                </a:lnTo>
                <a:lnTo>
                  <a:pt x="37" y="162"/>
                </a:lnTo>
                <a:lnTo>
                  <a:pt x="37" y="188"/>
                </a:lnTo>
                <a:lnTo>
                  <a:pt x="37" y="216"/>
                </a:lnTo>
                <a:lnTo>
                  <a:pt x="37" y="273"/>
                </a:lnTo>
                <a:lnTo>
                  <a:pt x="36" y="300"/>
                </a:lnTo>
                <a:lnTo>
                  <a:pt x="36" y="326"/>
                </a:lnTo>
                <a:lnTo>
                  <a:pt x="36" y="374"/>
                </a:lnTo>
                <a:lnTo>
                  <a:pt x="36" y="420"/>
                </a:lnTo>
                <a:lnTo>
                  <a:pt x="36" y="5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1882800" y="2577960"/>
            <a:ext cx="81000" cy="292320"/>
          </a:xfrm>
          <a:custGeom>
            <a:avLst/>
            <a:gdLst/>
            <a:ahLst/>
            <a:rect l="l" t="t" r="r" b="b"/>
            <a:pathLst>
              <a:path w="38" h="139">
                <a:moveTo>
                  <a:pt x="0" y="134"/>
                </a:moveTo>
                <a:lnTo>
                  <a:pt x="8" y="139"/>
                </a:lnTo>
                <a:lnTo>
                  <a:pt x="15" y="128"/>
                </a:lnTo>
                <a:lnTo>
                  <a:pt x="21" y="115"/>
                </a:lnTo>
                <a:lnTo>
                  <a:pt x="27" y="101"/>
                </a:lnTo>
                <a:lnTo>
                  <a:pt x="29" y="98"/>
                </a:lnTo>
                <a:lnTo>
                  <a:pt x="33" y="83"/>
                </a:lnTo>
                <a:lnTo>
                  <a:pt x="36" y="64"/>
                </a:lnTo>
                <a:lnTo>
                  <a:pt x="37" y="44"/>
                </a:lnTo>
                <a:lnTo>
                  <a:pt x="38" y="22"/>
                </a:lnTo>
                <a:lnTo>
                  <a:pt x="38" y="0"/>
                </a:lnTo>
                <a:lnTo>
                  <a:pt x="28" y="0"/>
                </a:lnTo>
                <a:lnTo>
                  <a:pt x="28" y="22"/>
                </a:lnTo>
                <a:lnTo>
                  <a:pt x="27" y="44"/>
                </a:lnTo>
                <a:lnTo>
                  <a:pt x="26" y="64"/>
                </a:lnTo>
                <a:lnTo>
                  <a:pt x="24" y="81"/>
                </a:lnTo>
                <a:lnTo>
                  <a:pt x="19" y="98"/>
                </a:lnTo>
                <a:lnTo>
                  <a:pt x="24" y="98"/>
                </a:lnTo>
                <a:lnTo>
                  <a:pt x="20" y="94"/>
                </a:lnTo>
                <a:lnTo>
                  <a:pt x="14" y="108"/>
                </a:lnTo>
                <a:lnTo>
                  <a:pt x="8" y="121"/>
                </a:lnTo>
                <a:lnTo>
                  <a:pt x="0" y="1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1849320" y="2590920"/>
            <a:ext cx="42840" cy="137880"/>
          </a:xfrm>
          <a:custGeom>
            <a:avLst/>
            <a:gdLst/>
            <a:ahLst/>
            <a:rect l="l" t="t" r="r" b="b"/>
            <a:pathLst>
              <a:path w="20" h="66">
                <a:moveTo>
                  <a:pt x="1" y="65"/>
                </a:moveTo>
                <a:lnTo>
                  <a:pt x="10" y="66"/>
                </a:lnTo>
                <a:lnTo>
                  <a:pt x="10" y="64"/>
                </a:lnTo>
                <a:lnTo>
                  <a:pt x="11" y="59"/>
                </a:lnTo>
                <a:lnTo>
                  <a:pt x="12" y="53"/>
                </a:lnTo>
                <a:lnTo>
                  <a:pt x="13" y="45"/>
                </a:lnTo>
                <a:lnTo>
                  <a:pt x="15" y="35"/>
                </a:lnTo>
                <a:lnTo>
                  <a:pt x="16" y="24"/>
                </a:lnTo>
                <a:lnTo>
                  <a:pt x="20" y="1"/>
                </a:lnTo>
                <a:lnTo>
                  <a:pt x="11" y="0"/>
                </a:lnTo>
                <a:lnTo>
                  <a:pt x="6" y="24"/>
                </a:lnTo>
                <a:lnTo>
                  <a:pt x="5" y="35"/>
                </a:lnTo>
                <a:lnTo>
                  <a:pt x="3" y="45"/>
                </a:lnTo>
                <a:lnTo>
                  <a:pt x="2" y="53"/>
                </a:lnTo>
                <a:lnTo>
                  <a:pt x="1" y="59"/>
                </a:lnTo>
                <a:lnTo>
                  <a:pt x="0" y="64"/>
                </a:lnTo>
                <a:lnTo>
                  <a:pt x="1" y="6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>
            <a:off x="1711440" y="2747880"/>
            <a:ext cx="193680" cy="200160"/>
          </a:xfrm>
          <a:custGeom>
            <a:avLst/>
            <a:gdLst/>
            <a:ahLst/>
            <a:rect l="l" t="t" r="r" b="b"/>
            <a:pathLst>
              <a:path w="92" h="95">
                <a:moveTo>
                  <a:pt x="84" y="95"/>
                </a:moveTo>
                <a:lnTo>
                  <a:pt x="92" y="90"/>
                </a:lnTo>
                <a:lnTo>
                  <a:pt x="87" y="81"/>
                </a:lnTo>
                <a:lnTo>
                  <a:pt x="82" y="73"/>
                </a:lnTo>
                <a:lnTo>
                  <a:pt x="75" y="65"/>
                </a:lnTo>
                <a:lnTo>
                  <a:pt x="66" y="57"/>
                </a:lnTo>
                <a:lnTo>
                  <a:pt x="63" y="61"/>
                </a:lnTo>
                <a:lnTo>
                  <a:pt x="67" y="58"/>
                </a:lnTo>
                <a:lnTo>
                  <a:pt x="61" y="53"/>
                </a:lnTo>
                <a:lnTo>
                  <a:pt x="55" y="49"/>
                </a:lnTo>
                <a:lnTo>
                  <a:pt x="40" y="41"/>
                </a:lnTo>
                <a:lnTo>
                  <a:pt x="25" y="33"/>
                </a:lnTo>
                <a:lnTo>
                  <a:pt x="19" y="29"/>
                </a:lnTo>
                <a:lnTo>
                  <a:pt x="15" y="26"/>
                </a:lnTo>
                <a:lnTo>
                  <a:pt x="12" y="22"/>
                </a:lnTo>
                <a:lnTo>
                  <a:pt x="10" y="18"/>
                </a:lnTo>
                <a:lnTo>
                  <a:pt x="6" y="22"/>
                </a:lnTo>
                <a:lnTo>
                  <a:pt x="11" y="22"/>
                </a:lnTo>
                <a:lnTo>
                  <a:pt x="10" y="15"/>
                </a:lnTo>
                <a:lnTo>
                  <a:pt x="10" y="8"/>
                </a:lnTo>
                <a:lnTo>
                  <a:pt x="12" y="3"/>
                </a:lnTo>
                <a:lnTo>
                  <a:pt x="3" y="0"/>
                </a:lnTo>
                <a:lnTo>
                  <a:pt x="0" y="8"/>
                </a:lnTo>
                <a:lnTo>
                  <a:pt x="0" y="15"/>
                </a:lnTo>
                <a:lnTo>
                  <a:pt x="1" y="22"/>
                </a:lnTo>
                <a:lnTo>
                  <a:pt x="3" y="25"/>
                </a:lnTo>
                <a:lnTo>
                  <a:pt x="5" y="29"/>
                </a:lnTo>
                <a:lnTo>
                  <a:pt x="8" y="33"/>
                </a:lnTo>
                <a:lnTo>
                  <a:pt x="12" y="36"/>
                </a:lnTo>
                <a:lnTo>
                  <a:pt x="18" y="40"/>
                </a:lnTo>
                <a:lnTo>
                  <a:pt x="33" y="48"/>
                </a:lnTo>
                <a:lnTo>
                  <a:pt x="48" y="56"/>
                </a:lnTo>
                <a:lnTo>
                  <a:pt x="54" y="60"/>
                </a:lnTo>
                <a:lnTo>
                  <a:pt x="60" y="65"/>
                </a:lnTo>
                <a:lnTo>
                  <a:pt x="60" y="65"/>
                </a:lnTo>
                <a:lnTo>
                  <a:pt x="68" y="72"/>
                </a:lnTo>
                <a:lnTo>
                  <a:pt x="75" y="80"/>
                </a:lnTo>
                <a:lnTo>
                  <a:pt x="80" y="88"/>
                </a:lnTo>
                <a:lnTo>
                  <a:pt x="84" y="9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1893960" y="2930400"/>
            <a:ext cx="207720" cy="206640"/>
          </a:xfrm>
          <a:custGeom>
            <a:avLst/>
            <a:gdLst/>
            <a:ahLst/>
            <a:rect l="l" t="t" r="r" b="b"/>
            <a:pathLst>
              <a:path w="99" h="98">
                <a:moveTo>
                  <a:pt x="0" y="89"/>
                </a:moveTo>
                <a:lnTo>
                  <a:pt x="3" y="98"/>
                </a:lnTo>
                <a:lnTo>
                  <a:pt x="17" y="91"/>
                </a:lnTo>
                <a:lnTo>
                  <a:pt x="21" y="90"/>
                </a:lnTo>
                <a:lnTo>
                  <a:pt x="37" y="82"/>
                </a:lnTo>
                <a:lnTo>
                  <a:pt x="51" y="73"/>
                </a:lnTo>
                <a:lnTo>
                  <a:pt x="64" y="63"/>
                </a:lnTo>
                <a:lnTo>
                  <a:pt x="74" y="50"/>
                </a:lnTo>
                <a:lnTo>
                  <a:pt x="84" y="36"/>
                </a:lnTo>
                <a:lnTo>
                  <a:pt x="92" y="21"/>
                </a:lnTo>
                <a:lnTo>
                  <a:pt x="99" y="4"/>
                </a:lnTo>
                <a:lnTo>
                  <a:pt x="91" y="0"/>
                </a:lnTo>
                <a:lnTo>
                  <a:pt x="85" y="14"/>
                </a:lnTo>
                <a:lnTo>
                  <a:pt x="77" y="29"/>
                </a:lnTo>
                <a:lnTo>
                  <a:pt x="67" y="43"/>
                </a:lnTo>
                <a:lnTo>
                  <a:pt x="57" y="56"/>
                </a:lnTo>
                <a:lnTo>
                  <a:pt x="44" y="66"/>
                </a:lnTo>
                <a:lnTo>
                  <a:pt x="30" y="75"/>
                </a:lnTo>
                <a:lnTo>
                  <a:pt x="14" y="83"/>
                </a:lnTo>
                <a:lnTo>
                  <a:pt x="17" y="86"/>
                </a:lnTo>
                <a:lnTo>
                  <a:pt x="17" y="81"/>
                </a:lnTo>
                <a:lnTo>
                  <a:pt x="0" y="8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2060640" y="2928960"/>
            <a:ext cx="152280" cy="100080"/>
          </a:xfrm>
          <a:custGeom>
            <a:avLst/>
            <a:gdLst/>
            <a:ahLst/>
            <a:rect l="l" t="t" r="r" b="b"/>
            <a:pathLst>
              <a:path w="73" h="48">
                <a:moveTo>
                  <a:pt x="4" y="33"/>
                </a:moveTo>
                <a:lnTo>
                  <a:pt x="0" y="41"/>
                </a:lnTo>
                <a:lnTo>
                  <a:pt x="6" y="44"/>
                </a:lnTo>
                <a:lnTo>
                  <a:pt x="10" y="45"/>
                </a:lnTo>
                <a:lnTo>
                  <a:pt x="18" y="48"/>
                </a:lnTo>
                <a:lnTo>
                  <a:pt x="26" y="48"/>
                </a:lnTo>
                <a:lnTo>
                  <a:pt x="29" y="46"/>
                </a:lnTo>
                <a:lnTo>
                  <a:pt x="36" y="44"/>
                </a:lnTo>
                <a:lnTo>
                  <a:pt x="42" y="41"/>
                </a:lnTo>
                <a:lnTo>
                  <a:pt x="46" y="38"/>
                </a:lnTo>
                <a:lnTo>
                  <a:pt x="55" y="29"/>
                </a:lnTo>
                <a:lnTo>
                  <a:pt x="64" y="18"/>
                </a:lnTo>
                <a:lnTo>
                  <a:pt x="73" y="6"/>
                </a:lnTo>
                <a:lnTo>
                  <a:pt x="66" y="0"/>
                </a:lnTo>
                <a:lnTo>
                  <a:pt x="57" y="11"/>
                </a:lnTo>
                <a:lnTo>
                  <a:pt x="48" y="22"/>
                </a:lnTo>
                <a:lnTo>
                  <a:pt x="39" y="31"/>
                </a:lnTo>
                <a:lnTo>
                  <a:pt x="35" y="34"/>
                </a:lnTo>
                <a:lnTo>
                  <a:pt x="32" y="36"/>
                </a:lnTo>
                <a:lnTo>
                  <a:pt x="22" y="39"/>
                </a:lnTo>
                <a:lnTo>
                  <a:pt x="26" y="43"/>
                </a:lnTo>
                <a:lnTo>
                  <a:pt x="26" y="38"/>
                </a:lnTo>
                <a:lnTo>
                  <a:pt x="18" y="38"/>
                </a:lnTo>
                <a:lnTo>
                  <a:pt x="10" y="35"/>
                </a:lnTo>
                <a:lnTo>
                  <a:pt x="10" y="40"/>
                </a:lnTo>
                <a:lnTo>
                  <a:pt x="13" y="37"/>
                </a:lnTo>
                <a:lnTo>
                  <a:pt x="4" y="3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2173320" y="2973240"/>
            <a:ext cx="69840" cy="22320"/>
          </a:xfrm>
          <a:custGeom>
            <a:avLst/>
            <a:gdLst/>
            <a:ahLst/>
            <a:rect l="l" t="t" r="r" b="b"/>
            <a:pathLst>
              <a:path w="33" h="11">
                <a:moveTo>
                  <a:pt x="1" y="0"/>
                </a:moveTo>
                <a:lnTo>
                  <a:pt x="0" y="10"/>
                </a:lnTo>
                <a:lnTo>
                  <a:pt x="18" y="11"/>
                </a:lnTo>
                <a:lnTo>
                  <a:pt x="26" y="11"/>
                </a:lnTo>
                <a:lnTo>
                  <a:pt x="33" y="10"/>
                </a:lnTo>
                <a:lnTo>
                  <a:pt x="31" y="1"/>
                </a:lnTo>
                <a:lnTo>
                  <a:pt x="26" y="1"/>
                </a:lnTo>
                <a:lnTo>
                  <a:pt x="18" y="1"/>
                </a:lnTo>
                <a:lnTo>
                  <a:pt x="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1725480" y="2968560"/>
            <a:ext cx="173160" cy="223920"/>
          </a:xfrm>
          <a:custGeom>
            <a:avLst/>
            <a:gdLst/>
            <a:ahLst/>
            <a:rect l="l" t="t" r="r" b="b"/>
            <a:pathLst>
              <a:path w="82" h="107">
                <a:moveTo>
                  <a:pt x="77" y="107"/>
                </a:moveTo>
                <a:lnTo>
                  <a:pt x="82" y="99"/>
                </a:lnTo>
                <a:lnTo>
                  <a:pt x="70" y="91"/>
                </a:lnTo>
                <a:lnTo>
                  <a:pt x="57" y="83"/>
                </a:lnTo>
                <a:lnTo>
                  <a:pt x="46" y="73"/>
                </a:lnTo>
                <a:lnTo>
                  <a:pt x="36" y="62"/>
                </a:lnTo>
                <a:lnTo>
                  <a:pt x="27" y="48"/>
                </a:lnTo>
                <a:lnTo>
                  <a:pt x="20" y="32"/>
                </a:lnTo>
                <a:lnTo>
                  <a:pt x="16" y="35"/>
                </a:lnTo>
                <a:lnTo>
                  <a:pt x="21" y="35"/>
                </a:lnTo>
                <a:lnTo>
                  <a:pt x="15" y="18"/>
                </a:lnTo>
                <a:lnTo>
                  <a:pt x="9" y="0"/>
                </a:lnTo>
                <a:lnTo>
                  <a:pt x="0" y="3"/>
                </a:lnTo>
                <a:lnTo>
                  <a:pt x="5" y="18"/>
                </a:lnTo>
                <a:lnTo>
                  <a:pt x="11" y="35"/>
                </a:lnTo>
                <a:lnTo>
                  <a:pt x="13" y="39"/>
                </a:lnTo>
                <a:lnTo>
                  <a:pt x="20" y="55"/>
                </a:lnTo>
                <a:lnTo>
                  <a:pt x="28" y="68"/>
                </a:lnTo>
                <a:lnTo>
                  <a:pt x="39" y="80"/>
                </a:lnTo>
                <a:lnTo>
                  <a:pt x="50" y="90"/>
                </a:lnTo>
                <a:lnTo>
                  <a:pt x="63" y="98"/>
                </a:lnTo>
                <a:lnTo>
                  <a:pt x="77" y="10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>
            <a:off x="1639800" y="2960640"/>
            <a:ext cx="123840" cy="104760"/>
          </a:xfrm>
          <a:custGeom>
            <a:avLst/>
            <a:gdLst/>
            <a:ahLst/>
            <a:rect l="l" t="t" r="r" b="b"/>
            <a:pathLst>
              <a:path w="59" h="50">
                <a:moveTo>
                  <a:pt x="59" y="43"/>
                </a:moveTo>
                <a:lnTo>
                  <a:pt x="55" y="35"/>
                </a:lnTo>
                <a:lnTo>
                  <a:pt x="47" y="39"/>
                </a:lnTo>
                <a:lnTo>
                  <a:pt x="51" y="42"/>
                </a:lnTo>
                <a:lnTo>
                  <a:pt x="51" y="37"/>
                </a:lnTo>
                <a:lnTo>
                  <a:pt x="44" y="39"/>
                </a:lnTo>
                <a:lnTo>
                  <a:pt x="38" y="40"/>
                </a:lnTo>
                <a:lnTo>
                  <a:pt x="34" y="39"/>
                </a:lnTo>
                <a:lnTo>
                  <a:pt x="34" y="44"/>
                </a:lnTo>
                <a:lnTo>
                  <a:pt x="38" y="40"/>
                </a:lnTo>
                <a:lnTo>
                  <a:pt x="34" y="38"/>
                </a:lnTo>
                <a:lnTo>
                  <a:pt x="31" y="42"/>
                </a:lnTo>
                <a:lnTo>
                  <a:pt x="34" y="38"/>
                </a:lnTo>
                <a:lnTo>
                  <a:pt x="31" y="36"/>
                </a:lnTo>
                <a:lnTo>
                  <a:pt x="28" y="32"/>
                </a:lnTo>
                <a:lnTo>
                  <a:pt x="21" y="23"/>
                </a:lnTo>
                <a:lnTo>
                  <a:pt x="14" y="11"/>
                </a:lnTo>
                <a:lnTo>
                  <a:pt x="8" y="0"/>
                </a:lnTo>
                <a:lnTo>
                  <a:pt x="0" y="4"/>
                </a:lnTo>
                <a:lnTo>
                  <a:pt x="7" y="18"/>
                </a:lnTo>
                <a:lnTo>
                  <a:pt x="14" y="30"/>
                </a:lnTo>
                <a:lnTo>
                  <a:pt x="21" y="39"/>
                </a:lnTo>
                <a:lnTo>
                  <a:pt x="24" y="43"/>
                </a:lnTo>
                <a:lnTo>
                  <a:pt x="28" y="46"/>
                </a:lnTo>
                <a:lnTo>
                  <a:pt x="29" y="46"/>
                </a:lnTo>
                <a:lnTo>
                  <a:pt x="31" y="47"/>
                </a:lnTo>
                <a:lnTo>
                  <a:pt x="34" y="49"/>
                </a:lnTo>
                <a:lnTo>
                  <a:pt x="38" y="50"/>
                </a:lnTo>
                <a:lnTo>
                  <a:pt x="44" y="49"/>
                </a:lnTo>
                <a:lnTo>
                  <a:pt x="51" y="47"/>
                </a:lnTo>
                <a:lnTo>
                  <a:pt x="54" y="46"/>
                </a:lnTo>
                <a:lnTo>
                  <a:pt x="5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1612800" y="2989440"/>
            <a:ext cx="57240" cy="23760"/>
          </a:xfrm>
          <a:custGeom>
            <a:avLst/>
            <a:gdLst/>
            <a:ahLst/>
            <a:rect l="l" t="t" r="r" b="b"/>
            <a:pathLst>
              <a:path w="27" h="11">
                <a:moveTo>
                  <a:pt x="27" y="10"/>
                </a:moveTo>
                <a:lnTo>
                  <a:pt x="26" y="0"/>
                </a:lnTo>
                <a:lnTo>
                  <a:pt x="12" y="1"/>
                </a:lnTo>
                <a:lnTo>
                  <a:pt x="6" y="1"/>
                </a:lnTo>
                <a:lnTo>
                  <a:pt x="3" y="1"/>
                </a:lnTo>
                <a:lnTo>
                  <a:pt x="0" y="10"/>
                </a:lnTo>
                <a:lnTo>
                  <a:pt x="6" y="11"/>
                </a:lnTo>
                <a:lnTo>
                  <a:pt x="12" y="11"/>
                </a:lnTo>
                <a:lnTo>
                  <a:pt x="2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1809720" y="2610000"/>
            <a:ext cx="98280" cy="1069920"/>
          </a:xfrm>
          <a:custGeom>
            <a:avLst/>
            <a:gdLst/>
            <a:ahLst/>
            <a:rect l="l" t="t" r="r" b="b"/>
            <a:pathLst>
              <a:path w="47" h="510">
                <a:moveTo>
                  <a:pt x="36" y="510"/>
                </a:moveTo>
                <a:lnTo>
                  <a:pt x="46" y="510"/>
                </a:lnTo>
                <a:lnTo>
                  <a:pt x="46" y="420"/>
                </a:lnTo>
                <a:lnTo>
                  <a:pt x="46" y="374"/>
                </a:lnTo>
                <a:lnTo>
                  <a:pt x="46" y="326"/>
                </a:lnTo>
                <a:lnTo>
                  <a:pt x="46" y="300"/>
                </a:lnTo>
                <a:lnTo>
                  <a:pt x="47" y="273"/>
                </a:lnTo>
                <a:lnTo>
                  <a:pt x="47" y="216"/>
                </a:lnTo>
                <a:lnTo>
                  <a:pt x="47" y="188"/>
                </a:lnTo>
                <a:lnTo>
                  <a:pt x="47" y="162"/>
                </a:lnTo>
                <a:lnTo>
                  <a:pt x="46" y="138"/>
                </a:lnTo>
                <a:lnTo>
                  <a:pt x="44" y="116"/>
                </a:lnTo>
                <a:lnTo>
                  <a:pt x="41" y="97"/>
                </a:lnTo>
                <a:lnTo>
                  <a:pt x="38" y="80"/>
                </a:lnTo>
                <a:lnTo>
                  <a:pt x="34" y="64"/>
                </a:lnTo>
                <a:lnTo>
                  <a:pt x="30" y="50"/>
                </a:lnTo>
                <a:lnTo>
                  <a:pt x="25" y="37"/>
                </a:lnTo>
                <a:lnTo>
                  <a:pt x="23" y="34"/>
                </a:lnTo>
                <a:lnTo>
                  <a:pt x="18" y="21"/>
                </a:lnTo>
                <a:lnTo>
                  <a:pt x="8" y="0"/>
                </a:lnTo>
                <a:lnTo>
                  <a:pt x="0" y="4"/>
                </a:lnTo>
                <a:lnTo>
                  <a:pt x="11" y="28"/>
                </a:lnTo>
                <a:lnTo>
                  <a:pt x="16" y="41"/>
                </a:lnTo>
                <a:lnTo>
                  <a:pt x="20" y="37"/>
                </a:lnTo>
                <a:lnTo>
                  <a:pt x="15" y="37"/>
                </a:lnTo>
                <a:lnTo>
                  <a:pt x="20" y="50"/>
                </a:lnTo>
                <a:lnTo>
                  <a:pt x="24" y="64"/>
                </a:lnTo>
                <a:lnTo>
                  <a:pt x="28" y="80"/>
                </a:lnTo>
                <a:lnTo>
                  <a:pt x="31" y="97"/>
                </a:lnTo>
                <a:lnTo>
                  <a:pt x="34" y="117"/>
                </a:lnTo>
                <a:lnTo>
                  <a:pt x="36" y="138"/>
                </a:lnTo>
                <a:lnTo>
                  <a:pt x="37" y="162"/>
                </a:lnTo>
                <a:lnTo>
                  <a:pt x="37" y="188"/>
                </a:lnTo>
                <a:lnTo>
                  <a:pt x="37" y="216"/>
                </a:lnTo>
                <a:lnTo>
                  <a:pt x="37" y="273"/>
                </a:lnTo>
                <a:lnTo>
                  <a:pt x="36" y="300"/>
                </a:lnTo>
                <a:lnTo>
                  <a:pt x="36" y="326"/>
                </a:lnTo>
                <a:lnTo>
                  <a:pt x="36" y="374"/>
                </a:lnTo>
                <a:lnTo>
                  <a:pt x="36" y="420"/>
                </a:lnTo>
                <a:lnTo>
                  <a:pt x="36" y="5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1882800" y="2577960"/>
            <a:ext cx="81000" cy="292320"/>
          </a:xfrm>
          <a:custGeom>
            <a:avLst/>
            <a:gdLst/>
            <a:ahLst/>
            <a:rect l="l" t="t" r="r" b="b"/>
            <a:pathLst>
              <a:path w="38" h="139">
                <a:moveTo>
                  <a:pt x="0" y="134"/>
                </a:moveTo>
                <a:lnTo>
                  <a:pt x="8" y="139"/>
                </a:lnTo>
                <a:lnTo>
                  <a:pt x="15" y="128"/>
                </a:lnTo>
                <a:lnTo>
                  <a:pt x="21" y="115"/>
                </a:lnTo>
                <a:lnTo>
                  <a:pt x="27" y="101"/>
                </a:lnTo>
                <a:lnTo>
                  <a:pt x="29" y="98"/>
                </a:lnTo>
                <a:lnTo>
                  <a:pt x="33" y="83"/>
                </a:lnTo>
                <a:lnTo>
                  <a:pt x="36" y="64"/>
                </a:lnTo>
                <a:lnTo>
                  <a:pt x="37" y="44"/>
                </a:lnTo>
                <a:lnTo>
                  <a:pt x="38" y="22"/>
                </a:lnTo>
                <a:lnTo>
                  <a:pt x="38" y="0"/>
                </a:lnTo>
                <a:lnTo>
                  <a:pt x="28" y="0"/>
                </a:lnTo>
                <a:lnTo>
                  <a:pt x="28" y="22"/>
                </a:lnTo>
                <a:lnTo>
                  <a:pt x="27" y="44"/>
                </a:lnTo>
                <a:lnTo>
                  <a:pt x="26" y="64"/>
                </a:lnTo>
                <a:lnTo>
                  <a:pt x="24" y="81"/>
                </a:lnTo>
                <a:lnTo>
                  <a:pt x="19" y="98"/>
                </a:lnTo>
                <a:lnTo>
                  <a:pt x="24" y="98"/>
                </a:lnTo>
                <a:lnTo>
                  <a:pt x="20" y="94"/>
                </a:lnTo>
                <a:lnTo>
                  <a:pt x="14" y="108"/>
                </a:lnTo>
                <a:lnTo>
                  <a:pt x="8" y="121"/>
                </a:lnTo>
                <a:lnTo>
                  <a:pt x="0" y="1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1849320" y="2590920"/>
            <a:ext cx="42840" cy="137880"/>
          </a:xfrm>
          <a:custGeom>
            <a:avLst/>
            <a:gdLst/>
            <a:ahLst/>
            <a:rect l="l" t="t" r="r" b="b"/>
            <a:pathLst>
              <a:path w="20" h="66">
                <a:moveTo>
                  <a:pt x="1" y="65"/>
                </a:moveTo>
                <a:lnTo>
                  <a:pt x="10" y="66"/>
                </a:lnTo>
                <a:lnTo>
                  <a:pt x="10" y="64"/>
                </a:lnTo>
                <a:lnTo>
                  <a:pt x="11" y="59"/>
                </a:lnTo>
                <a:lnTo>
                  <a:pt x="12" y="53"/>
                </a:lnTo>
                <a:lnTo>
                  <a:pt x="13" y="45"/>
                </a:lnTo>
                <a:lnTo>
                  <a:pt x="15" y="35"/>
                </a:lnTo>
                <a:lnTo>
                  <a:pt x="16" y="24"/>
                </a:lnTo>
                <a:lnTo>
                  <a:pt x="20" y="1"/>
                </a:lnTo>
                <a:lnTo>
                  <a:pt x="11" y="0"/>
                </a:lnTo>
                <a:lnTo>
                  <a:pt x="6" y="24"/>
                </a:lnTo>
                <a:lnTo>
                  <a:pt x="5" y="35"/>
                </a:lnTo>
                <a:lnTo>
                  <a:pt x="3" y="45"/>
                </a:lnTo>
                <a:lnTo>
                  <a:pt x="2" y="53"/>
                </a:lnTo>
                <a:lnTo>
                  <a:pt x="1" y="59"/>
                </a:lnTo>
                <a:lnTo>
                  <a:pt x="0" y="64"/>
                </a:lnTo>
                <a:lnTo>
                  <a:pt x="1" y="6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1711440" y="2747880"/>
            <a:ext cx="193680" cy="200160"/>
          </a:xfrm>
          <a:custGeom>
            <a:avLst/>
            <a:gdLst/>
            <a:ahLst/>
            <a:rect l="l" t="t" r="r" b="b"/>
            <a:pathLst>
              <a:path w="92" h="95">
                <a:moveTo>
                  <a:pt x="84" y="95"/>
                </a:moveTo>
                <a:lnTo>
                  <a:pt x="92" y="90"/>
                </a:lnTo>
                <a:lnTo>
                  <a:pt x="87" y="81"/>
                </a:lnTo>
                <a:lnTo>
                  <a:pt x="82" y="73"/>
                </a:lnTo>
                <a:lnTo>
                  <a:pt x="75" y="65"/>
                </a:lnTo>
                <a:lnTo>
                  <a:pt x="66" y="57"/>
                </a:lnTo>
                <a:lnTo>
                  <a:pt x="63" y="61"/>
                </a:lnTo>
                <a:lnTo>
                  <a:pt x="67" y="58"/>
                </a:lnTo>
                <a:lnTo>
                  <a:pt x="61" y="53"/>
                </a:lnTo>
                <a:lnTo>
                  <a:pt x="55" y="49"/>
                </a:lnTo>
                <a:lnTo>
                  <a:pt x="40" y="41"/>
                </a:lnTo>
                <a:lnTo>
                  <a:pt x="25" y="33"/>
                </a:lnTo>
                <a:lnTo>
                  <a:pt x="19" y="29"/>
                </a:lnTo>
                <a:lnTo>
                  <a:pt x="15" y="26"/>
                </a:lnTo>
                <a:lnTo>
                  <a:pt x="12" y="22"/>
                </a:lnTo>
                <a:lnTo>
                  <a:pt x="10" y="18"/>
                </a:lnTo>
                <a:lnTo>
                  <a:pt x="6" y="22"/>
                </a:lnTo>
                <a:lnTo>
                  <a:pt x="11" y="22"/>
                </a:lnTo>
                <a:lnTo>
                  <a:pt x="10" y="15"/>
                </a:lnTo>
                <a:lnTo>
                  <a:pt x="10" y="8"/>
                </a:lnTo>
                <a:lnTo>
                  <a:pt x="12" y="3"/>
                </a:lnTo>
                <a:lnTo>
                  <a:pt x="3" y="0"/>
                </a:lnTo>
                <a:lnTo>
                  <a:pt x="0" y="8"/>
                </a:lnTo>
                <a:lnTo>
                  <a:pt x="0" y="15"/>
                </a:lnTo>
                <a:lnTo>
                  <a:pt x="1" y="22"/>
                </a:lnTo>
                <a:lnTo>
                  <a:pt x="3" y="25"/>
                </a:lnTo>
                <a:lnTo>
                  <a:pt x="5" y="29"/>
                </a:lnTo>
                <a:lnTo>
                  <a:pt x="8" y="33"/>
                </a:lnTo>
                <a:lnTo>
                  <a:pt x="12" y="36"/>
                </a:lnTo>
                <a:lnTo>
                  <a:pt x="18" y="40"/>
                </a:lnTo>
                <a:lnTo>
                  <a:pt x="33" y="48"/>
                </a:lnTo>
                <a:lnTo>
                  <a:pt x="48" y="56"/>
                </a:lnTo>
                <a:lnTo>
                  <a:pt x="54" y="60"/>
                </a:lnTo>
                <a:lnTo>
                  <a:pt x="60" y="65"/>
                </a:lnTo>
                <a:lnTo>
                  <a:pt x="60" y="65"/>
                </a:lnTo>
                <a:lnTo>
                  <a:pt x="68" y="72"/>
                </a:lnTo>
                <a:lnTo>
                  <a:pt x="75" y="80"/>
                </a:lnTo>
                <a:lnTo>
                  <a:pt x="80" y="88"/>
                </a:lnTo>
                <a:lnTo>
                  <a:pt x="84" y="9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>
            <a:off x="1893960" y="2930400"/>
            <a:ext cx="207720" cy="206640"/>
          </a:xfrm>
          <a:custGeom>
            <a:avLst/>
            <a:gdLst/>
            <a:ahLst/>
            <a:rect l="l" t="t" r="r" b="b"/>
            <a:pathLst>
              <a:path w="99" h="98">
                <a:moveTo>
                  <a:pt x="0" y="89"/>
                </a:moveTo>
                <a:lnTo>
                  <a:pt x="3" y="98"/>
                </a:lnTo>
                <a:lnTo>
                  <a:pt x="17" y="91"/>
                </a:lnTo>
                <a:lnTo>
                  <a:pt x="21" y="90"/>
                </a:lnTo>
                <a:lnTo>
                  <a:pt x="37" y="82"/>
                </a:lnTo>
                <a:lnTo>
                  <a:pt x="51" y="73"/>
                </a:lnTo>
                <a:lnTo>
                  <a:pt x="64" y="63"/>
                </a:lnTo>
                <a:lnTo>
                  <a:pt x="74" y="50"/>
                </a:lnTo>
                <a:lnTo>
                  <a:pt x="84" y="36"/>
                </a:lnTo>
                <a:lnTo>
                  <a:pt x="92" y="21"/>
                </a:lnTo>
                <a:lnTo>
                  <a:pt x="99" y="4"/>
                </a:lnTo>
                <a:lnTo>
                  <a:pt x="91" y="0"/>
                </a:lnTo>
                <a:lnTo>
                  <a:pt x="85" y="14"/>
                </a:lnTo>
                <a:lnTo>
                  <a:pt x="77" y="29"/>
                </a:lnTo>
                <a:lnTo>
                  <a:pt x="67" y="43"/>
                </a:lnTo>
                <a:lnTo>
                  <a:pt x="57" y="56"/>
                </a:lnTo>
                <a:lnTo>
                  <a:pt x="44" y="66"/>
                </a:lnTo>
                <a:lnTo>
                  <a:pt x="30" y="75"/>
                </a:lnTo>
                <a:lnTo>
                  <a:pt x="14" y="83"/>
                </a:lnTo>
                <a:lnTo>
                  <a:pt x="17" y="86"/>
                </a:lnTo>
                <a:lnTo>
                  <a:pt x="17" y="81"/>
                </a:lnTo>
                <a:lnTo>
                  <a:pt x="0" y="8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2060640" y="2928960"/>
            <a:ext cx="152280" cy="100080"/>
          </a:xfrm>
          <a:custGeom>
            <a:avLst/>
            <a:gdLst/>
            <a:ahLst/>
            <a:rect l="l" t="t" r="r" b="b"/>
            <a:pathLst>
              <a:path w="73" h="48">
                <a:moveTo>
                  <a:pt x="4" y="33"/>
                </a:moveTo>
                <a:lnTo>
                  <a:pt x="0" y="41"/>
                </a:lnTo>
                <a:lnTo>
                  <a:pt x="6" y="44"/>
                </a:lnTo>
                <a:lnTo>
                  <a:pt x="10" y="45"/>
                </a:lnTo>
                <a:lnTo>
                  <a:pt x="18" y="48"/>
                </a:lnTo>
                <a:lnTo>
                  <a:pt x="26" y="48"/>
                </a:lnTo>
                <a:lnTo>
                  <a:pt x="29" y="46"/>
                </a:lnTo>
                <a:lnTo>
                  <a:pt x="36" y="44"/>
                </a:lnTo>
                <a:lnTo>
                  <a:pt x="42" y="41"/>
                </a:lnTo>
                <a:lnTo>
                  <a:pt x="46" y="38"/>
                </a:lnTo>
                <a:lnTo>
                  <a:pt x="55" y="29"/>
                </a:lnTo>
                <a:lnTo>
                  <a:pt x="64" y="18"/>
                </a:lnTo>
                <a:lnTo>
                  <a:pt x="73" y="6"/>
                </a:lnTo>
                <a:lnTo>
                  <a:pt x="66" y="0"/>
                </a:lnTo>
                <a:lnTo>
                  <a:pt x="57" y="11"/>
                </a:lnTo>
                <a:lnTo>
                  <a:pt x="48" y="22"/>
                </a:lnTo>
                <a:lnTo>
                  <a:pt x="39" y="31"/>
                </a:lnTo>
                <a:lnTo>
                  <a:pt x="35" y="34"/>
                </a:lnTo>
                <a:lnTo>
                  <a:pt x="32" y="36"/>
                </a:lnTo>
                <a:lnTo>
                  <a:pt x="22" y="39"/>
                </a:lnTo>
                <a:lnTo>
                  <a:pt x="26" y="43"/>
                </a:lnTo>
                <a:lnTo>
                  <a:pt x="26" y="38"/>
                </a:lnTo>
                <a:lnTo>
                  <a:pt x="18" y="38"/>
                </a:lnTo>
                <a:lnTo>
                  <a:pt x="10" y="35"/>
                </a:lnTo>
                <a:lnTo>
                  <a:pt x="10" y="40"/>
                </a:lnTo>
                <a:lnTo>
                  <a:pt x="13" y="37"/>
                </a:lnTo>
                <a:lnTo>
                  <a:pt x="4" y="3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2173320" y="2973240"/>
            <a:ext cx="69840" cy="22320"/>
          </a:xfrm>
          <a:custGeom>
            <a:avLst/>
            <a:gdLst/>
            <a:ahLst/>
            <a:rect l="l" t="t" r="r" b="b"/>
            <a:pathLst>
              <a:path w="33" h="11">
                <a:moveTo>
                  <a:pt x="1" y="0"/>
                </a:moveTo>
                <a:lnTo>
                  <a:pt x="0" y="10"/>
                </a:lnTo>
                <a:lnTo>
                  <a:pt x="18" y="11"/>
                </a:lnTo>
                <a:lnTo>
                  <a:pt x="26" y="11"/>
                </a:lnTo>
                <a:lnTo>
                  <a:pt x="33" y="10"/>
                </a:lnTo>
                <a:lnTo>
                  <a:pt x="31" y="1"/>
                </a:lnTo>
                <a:lnTo>
                  <a:pt x="26" y="1"/>
                </a:lnTo>
                <a:lnTo>
                  <a:pt x="18" y="1"/>
                </a:lnTo>
                <a:lnTo>
                  <a:pt x="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1725480" y="2968560"/>
            <a:ext cx="173160" cy="223920"/>
          </a:xfrm>
          <a:custGeom>
            <a:avLst/>
            <a:gdLst/>
            <a:ahLst/>
            <a:rect l="l" t="t" r="r" b="b"/>
            <a:pathLst>
              <a:path w="82" h="107">
                <a:moveTo>
                  <a:pt x="77" y="107"/>
                </a:moveTo>
                <a:lnTo>
                  <a:pt x="82" y="99"/>
                </a:lnTo>
                <a:lnTo>
                  <a:pt x="70" y="91"/>
                </a:lnTo>
                <a:lnTo>
                  <a:pt x="57" y="83"/>
                </a:lnTo>
                <a:lnTo>
                  <a:pt x="46" y="73"/>
                </a:lnTo>
                <a:lnTo>
                  <a:pt x="36" y="62"/>
                </a:lnTo>
                <a:lnTo>
                  <a:pt x="27" y="48"/>
                </a:lnTo>
                <a:lnTo>
                  <a:pt x="20" y="32"/>
                </a:lnTo>
                <a:lnTo>
                  <a:pt x="16" y="35"/>
                </a:lnTo>
                <a:lnTo>
                  <a:pt x="21" y="35"/>
                </a:lnTo>
                <a:lnTo>
                  <a:pt x="15" y="18"/>
                </a:lnTo>
                <a:lnTo>
                  <a:pt x="9" y="0"/>
                </a:lnTo>
                <a:lnTo>
                  <a:pt x="0" y="3"/>
                </a:lnTo>
                <a:lnTo>
                  <a:pt x="5" y="18"/>
                </a:lnTo>
                <a:lnTo>
                  <a:pt x="11" y="35"/>
                </a:lnTo>
                <a:lnTo>
                  <a:pt x="13" y="39"/>
                </a:lnTo>
                <a:lnTo>
                  <a:pt x="20" y="55"/>
                </a:lnTo>
                <a:lnTo>
                  <a:pt x="28" y="68"/>
                </a:lnTo>
                <a:lnTo>
                  <a:pt x="39" y="80"/>
                </a:lnTo>
                <a:lnTo>
                  <a:pt x="50" y="90"/>
                </a:lnTo>
                <a:lnTo>
                  <a:pt x="63" y="98"/>
                </a:lnTo>
                <a:lnTo>
                  <a:pt x="77" y="10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1639800" y="2960640"/>
            <a:ext cx="123840" cy="104760"/>
          </a:xfrm>
          <a:custGeom>
            <a:avLst/>
            <a:gdLst/>
            <a:ahLst/>
            <a:rect l="l" t="t" r="r" b="b"/>
            <a:pathLst>
              <a:path w="59" h="50">
                <a:moveTo>
                  <a:pt x="59" y="43"/>
                </a:moveTo>
                <a:lnTo>
                  <a:pt x="55" y="35"/>
                </a:lnTo>
                <a:lnTo>
                  <a:pt x="47" y="39"/>
                </a:lnTo>
                <a:lnTo>
                  <a:pt x="51" y="42"/>
                </a:lnTo>
                <a:lnTo>
                  <a:pt x="51" y="37"/>
                </a:lnTo>
                <a:lnTo>
                  <a:pt x="44" y="39"/>
                </a:lnTo>
                <a:lnTo>
                  <a:pt x="38" y="40"/>
                </a:lnTo>
                <a:lnTo>
                  <a:pt x="34" y="39"/>
                </a:lnTo>
                <a:lnTo>
                  <a:pt x="34" y="44"/>
                </a:lnTo>
                <a:lnTo>
                  <a:pt x="38" y="40"/>
                </a:lnTo>
                <a:lnTo>
                  <a:pt x="34" y="38"/>
                </a:lnTo>
                <a:lnTo>
                  <a:pt x="31" y="42"/>
                </a:lnTo>
                <a:lnTo>
                  <a:pt x="34" y="38"/>
                </a:lnTo>
                <a:lnTo>
                  <a:pt x="31" y="36"/>
                </a:lnTo>
                <a:lnTo>
                  <a:pt x="28" y="32"/>
                </a:lnTo>
                <a:lnTo>
                  <a:pt x="21" y="23"/>
                </a:lnTo>
                <a:lnTo>
                  <a:pt x="14" y="11"/>
                </a:lnTo>
                <a:lnTo>
                  <a:pt x="8" y="0"/>
                </a:lnTo>
                <a:lnTo>
                  <a:pt x="0" y="4"/>
                </a:lnTo>
                <a:lnTo>
                  <a:pt x="7" y="18"/>
                </a:lnTo>
                <a:lnTo>
                  <a:pt x="14" y="30"/>
                </a:lnTo>
                <a:lnTo>
                  <a:pt x="21" y="39"/>
                </a:lnTo>
                <a:lnTo>
                  <a:pt x="24" y="43"/>
                </a:lnTo>
                <a:lnTo>
                  <a:pt x="28" y="46"/>
                </a:lnTo>
                <a:lnTo>
                  <a:pt x="29" y="46"/>
                </a:lnTo>
                <a:lnTo>
                  <a:pt x="31" y="47"/>
                </a:lnTo>
                <a:lnTo>
                  <a:pt x="34" y="49"/>
                </a:lnTo>
                <a:lnTo>
                  <a:pt x="38" y="50"/>
                </a:lnTo>
                <a:lnTo>
                  <a:pt x="44" y="49"/>
                </a:lnTo>
                <a:lnTo>
                  <a:pt x="51" y="47"/>
                </a:lnTo>
                <a:lnTo>
                  <a:pt x="54" y="46"/>
                </a:lnTo>
                <a:lnTo>
                  <a:pt x="5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1612800" y="2989440"/>
            <a:ext cx="57240" cy="23760"/>
          </a:xfrm>
          <a:custGeom>
            <a:avLst/>
            <a:gdLst/>
            <a:ahLst/>
            <a:rect l="l" t="t" r="r" b="b"/>
            <a:pathLst>
              <a:path w="27" h="11">
                <a:moveTo>
                  <a:pt x="27" y="10"/>
                </a:moveTo>
                <a:lnTo>
                  <a:pt x="26" y="0"/>
                </a:lnTo>
                <a:lnTo>
                  <a:pt x="12" y="1"/>
                </a:lnTo>
                <a:lnTo>
                  <a:pt x="6" y="1"/>
                </a:lnTo>
                <a:lnTo>
                  <a:pt x="3" y="1"/>
                </a:lnTo>
                <a:lnTo>
                  <a:pt x="0" y="10"/>
                </a:lnTo>
                <a:lnTo>
                  <a:pt x="6" y="11"/>
                </a:lnTo>
                <a:lnTo>
                  <a:pt x="12" y="11"/>
                </a:lnTo>
                <a:lnTo>
                  <a:pt x="2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4208400" y="3424320"/>
            <a:ext cx="416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4" name=""/>
          <p:cNvGrpSpPr/>
          <p:nvPr/>
        </p:nvGrpSpPr>
        <p:grpSpPr>
          <a:xfrm>
            <a:off x="608040" y="2719440"/>
            <a:ext cx="874440" cy="499320"/>
            <a:chOff x="608040" y="2719440"/>
            <a:chExt cx="874440" cy="499320"/>
          </a:xfrm>
        </p:grpSpPr>
        <p:sp>
          <p:nvSpPr>
            <p:cNvPr id="4365" name=""/>
            <p:cNvSpPr/>
            <p:nvPr/>
          </p:nvSpPr>
          <p:spPr>
            <a:xfrm>
              <a:off x="608040" y="29750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7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6" name=""/>
            <p:cNvGrpSpPr/>
            <p:nvPr/>
          </p:nvGrpSpPr>
          <p:grpSpPr>
            <a:xfrm>
              <a:off x="1090800" y="2719440"/>
              <a:ext cx="391680" cy="482040"/>
              <a:chOff x="1090800" y="2719440"/>
              <a:chExt cx="391680" cy="482040"/>
            </a:xfrm>
          </p:grpSpPr>
          <p:sp>
            <p:nvSpPr>
              <p:cNvPr id="4367" name=""/>
              <p:cNvSpPr/>
              <p:nvPr/>
            </p:nvSpPr>
            <p:spPr>
              <a:xfrm>
                <a:off x="1090800" y="2786400"/>
                <a:ext cx="391680" cy="415080"/>
              </a:xfrm>
              <a:custGeom>
                <a:avLst/>
                <a:gdLst/>
                <a:ahLst/>
                <a:rect l="l" t="t" r="r" b="b"/>
                <a:pathLst>
                  <a:path w="187" h="198">
                    <a:moveTo>
                      <a:pt x="65" y="13"/>
                    </a:moveTo>
                    <a:lnTo>
                      <a:pt x="70" y="2"/>
                    </a:lnTo>
                    <a:lnTo>
                      <a:pt x="69" y="1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3" y="1"/>
                    </a:lnTo>
                    <a:lnTo>
                      <a:pt x="50" y="7"/>
                    </a:lnTo>
                    <a:lnTo>
                      <a:pt x="48" y="8"/>
                    </a:lnTo>
                    <a:lnTo>
                      <a:pt x="37" y="16"/>
                    </a:lnTo>
                    <a:lnTo>
                      <a:pt x="26" y="26"/>
                    </a:lnTo>
                    <a:lnTo>
                      <a:pt x="18" y="37"/>
                    </a:lnTo>
                    <a:lnTo>
                      <a:pt x="11" y="49"/>
                    </a:lnTo>
                    <a:lnTo>
                      <a:pt x="9" y="53"/>
                    </a:lnTo>
                    <a:lnTo>
                      <a:pt x="4" y="66"/>
                    </a:lnTo>
                    <a:lnTo>
                      <a:pt x="1" y="80"/>
                    </a:lnTo>
                    <a:lnTo>
                      <a:pt x="0" y="95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8" y="133"/>
                    </a:lnTo>
                    <a:lnTo>
                      <a:pt x="9" y="137"/>
                    </a:lnTo>
                    <a:lnTo>
                      <a:pt x="18" y="154"/>
                    </a:lnTo>
                    <a:lnTo>
                      <a:pt x="30" y="168"/>
                    </a:lnTo>
                    <a:lnTo>
                      <a:pt x="44" y="180"/>
                    </a:lnTo>
                    <a:lnTo>
                      <a:pt x="46" y="181"/>
                    </a:lnTo>
                    <a:lnTo>
                      <a:pt x="63" y="190"/>
                    </a:lnTo>
                    <a:lnTo>
                      <a:pt x="81" y="196"/>
                    </a:lnTo>
                    <a:lnTo>
                      <a:pt x="83" y="196"/>
                    </a:lnTo>
                    <a:lnTo>
                      <a:pt x="93" y="198"/>
                    </a:lnTo>
                    <a:lnTo>
                      <a:pt x="103" y="198"/>
                    </a:lnTo>
                    <a:lnTo>
                      <a:pt x="115" y="197"/>
                    </a:lnTo>
                    <a:lnTo>
                      <a:pt x="127" y="195"/>
                    </a:lnTo>
                    <a:lnTo>
                      <a:pt x="129" y="195"/>
                    </a:lnTo>
                    <a:lnTo>
                      <a:pt x="140" y="191"/>
                    </a:lnTo>
                    <a:lnTo>
                      <a:pt x="151" y="186"/>
                    </a:lnTo>
                    <a:lnTo>
                      <a:pt x="161" y="180"/>
                    </a:lnTo>
                    <a:lnTo>
                      <a:pt x="163" y="179"/>
                    </a:lnTo>
                    <a:lnTo>
                      <a:pt x="172" y="172"/>
                    </a:lnTo>
                    <a:lnTo>
                      <a:pt x="180" y="163"/>
                    </a:lnTo>
                    <a:lnTo>
                      <a:pt x="187" y="154"/>
                    </a:lnTo>
                    <a:lnTo>
                      <a:pt x="179" y="145"/>
                    </a:lnTo>
                    <a:lnTo>
                      <a:pt x="171" y="154"/>
                    </a:lnTo>
                    <a:lnTo>
                      <a:pt x="163" y="163"/>
                    </a:lnTo>
                    <a:lnTo>
                      <a:pt x="154" y="170"/>
                    </a:lnTo>
                    <a:lnTo>
                      <a:pt x="158" y="175"/>
                    </a:lnTo>
                    <a:lnTo>
                      <a:pt x="156" y="169"/>
                    </a:lnTo>
                    <a:lnTo>
                      <a:pt x="146" y="175"/>
                    </a:lnTo>
                    <a:lnTo>
                      <a:pt x="135" y="180"/>
                    </a:lnTo>
                    <a:lnTo>
                      <a:pt x="124" y="184"/>
                    </a:lnTo>
                    <a:lnTo>
                      <a:pt x="127" y="189"/>
                    </a:lnTo>
                    <a:lnTo>
                      <a:pt x="127" y="183"/>
                    </a:lnTo>
                    <a:lnTo>
                      <a:pt x="115" y="185"/>
                    </a:lnTo>
                    <a:lnTo>
                      <a:pt x="103" y="186"/>
                    </a:lnTo>
                    <a:lnTo>
                      <a:pt x="93" y="186"/>
                    </a:lnTo>
                    <a:lnTo>
                      <a:pt x="83" y="184"/>
                    </a:lnTo>
                    <a:lnTo>
                      <a:pt x="83" y="190"/>
                    </a:lnTo>
                    <a:lnTo>
                      <a:pt x="86" y="185"/>
                    </a:lnTo>
                    <a:lnTo>
                      <a:pt x="68" y="179"/>
                    </a:lnTo>
                    <a:lnTo>
                      <a:pt x="51" y="170"/>
                    </a:lnTo>
                    <a:lnTo>
                      <a:pt x="49" y="176"/>
                    </a:lnTo>
                    <a:lnTo>
                      <a:pt x="53" y="171"/>
                    </a:lnTo>
                    <a:lnTo>
                      <a:pt x="39" y="159"/>
                    </a:lnTo>
                    <a:lnTo>
                      <a:pt x="27" y="145"/>
                    </a:lnTo>
                    <a:lnTo>
                      <a:pt x="18" y="128"/>
                    </a:lnTo>
                    <a:lnTo>
                      <a:pt x="14" y="133"/>
                    </a:lnTo>
                    <a:lnTo>
                      <a:pt x="20" y="133"/>
                    </a:lnTo>
                    <a:lnTo>
                      <a:pt x="14" y="115"/>
                    </a:lnTo>
                    <a:lnTo>
                      <a:pt x="13" y="105"/>
                    </a:lnTo>
                    <a:lnTo>
                      <a:pt x="12" y="95"/>
                    </a:lnTo>
                    <a:lnTo>
                      <a:pt x="13" y="80"/>
                    </a:lnTo>
                    <a:lnTo>
                      <a:pt x="16" y="66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20" y="58"/>
                    </a:lnTo>
                    <a:lnTo>
                      <a:pt x="27" y="46"/>
                    </a:lnTo>
                    <a:lnTo>
                      <a:pt x="35" y="35"/>
                    </a:lnTo>
                    <a:lnTo>
                      <a:pt x="46" y="25"/>
                    </a:lnTo>
                    <a:lnTo>
                      <a:pt x="57" y="17"/>
                    </a:lnTo>
                    <a:lnTo>
                      <a:pt x="52" y="13"/>
                    </a:lnTo>
                    <a:lnTo>
                      <a:pt x="55" y="18"/>
                    </a:lnTo>
                    <a:lnTo>
                      <a:pt x="68" y="12"/>
                    </a:lnTo>
                    <a:lnTo>
                      <a:pt x="63" y="11"/>
                    </a:lnTo>
                    <a:lnTo>
                      <a:pt x="65" y="12"/>
                    </a:lnTo>
                    <a:lnTo>
                      <a:pt x="67" y="11"/>
                    </a:lnTo>
                    <a:lnTo>
                      <a:pt x="65" y="6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1224720" y="2719440"/>
                <a:ext cx="163080" cy="1634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0" y="78"/>
                    </a:moveTo>
                    <a:lnTo>
                      <a:pt x="78" y="41"/>
                    </a:lnTo>
                    <a:lnTo>
                      <a:pt x="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9" name=""/>
          <p:cNvGrpSpPr/>
          <p:nvPr/>
        </p:nvGrpSpPr>
        <p:grpSpPr>
          <a:xfrm>
            <a:off x="2187720" y="2266920"/>
            <a:ext cx="2299320" cy="1738440"/>
            <a:chOff x="2187720" y="2266920"/>
            <a:chExt cx="2299320" cy="1738440"/>
          </a:xfrm>
        </p:grpSpPr>
        <p:grpSp>
          <p:nvGrpSpPr>
            <p:cNvPr id="4370" name=""/>
            <p:cNvGrpSpPr/>
            <p:nvPr/>
          </p:nvGrpSpPr>
          <p:grpSpPr>
            <a:xfrm>
              <a:off x="3535200" y="2266920"/>
              <a:ext cx="951840" cy="1488240"/>
              <a:chOff x="3535200" y="2266920"/>
              <a:chExt cx="951840" cy="1488240"/>
            </a:xfrm>
          </p:grpSpPr>
          <p:grpSp>
            <p:nvGrpSpPr>
              <p:cNvPr id="4371" name=""/>
              <p:cNvGrpSpPr/>
              <p:nvPr/>
            </p:nvGrpSpPr>
            <p:grpSpPr>
              <a:xfrm>
                <a:off x="3535200" y="2266920"/>
                <a:ext cx="951840" cy="1488240"/>
                <a:chOff x="3535200" y="2266920"/>
                <a:chExt cx="951840" cy="1488240"/>
              </a:xfrm>
            </p:grpSpPr>
            <p:grpSp>
              <p:nvGrpSpPr>
                <p:cNvPr id="4372" name=""/>
                <p:cNvGrpSpPr/>
                <p:nvPr/>
              </p:nvGrpSpPr>
              <p:grpSpPr>
                <a:xfrm>
                  <a:off x="3535200" y="2266920"/>
                  <a:ext cx="951840" cy="1488240"/>
                  <a:chOff x="3535200" y="2266920"/>
                  <a:chExt cx="951840" cy="1488240"/>
                </a:xfrm>
              </p:grpSpPr>
              <p:sp>
                <p:nvSpPr>
                  <p:cNvPr id="4373" name=""/>
                  <p:cNvSpPr/>
                  <p:nvPr/>
                </p:nvSpPr>
                <p:spPr>
                  <a:xfrm>
                    <a:off x="3535200" y="226692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4" name=""/>
                  <p:cNvSpPr/>
                  <p:nvPr/>
                </p:nvSpPr>
                <p:spPr>
                  <a:xfrm>
                    <a:off x="3535200" y="226692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>
                    <a:off x="3535200" y="226692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6" name=""/>
                  <p:cNvSpPr/>
                  <p:nvPr/>
                </p:nvSpPr>
                <p:spPr>
                  <a:xfrm>
                    <a:off x="3535200" y="226692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77" name=""/>
                <p:cNvSpPr/>
                <p:nvPr/>
              </p:nvSpPr>
              <p:spPr>
                <a:xfrm>
                  <a:off x="3535200" y="2266920"/>
                  <a:ext cx="947880" cy="14850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8" name=""/>
              <p:cNvSpPr/>
              <p:nvPr/>
            </p:nvSpPr>
            <p:spPr>
              <a:xfrm>
                <a:off x="4329000" y="34923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9" name=""/>
              <p:cNvGrpSpPr/>
              <p:nvPr/>
            </p:nvGrpSpPr>
            <p:grpSpPr>
              <a:xfrm>
                <a:off x="3832200" y="2476440"/>
                <a:ext cx="533160" cy="1103040"/>
                <a:chOff x="3832200" y="2476440"/>
                <a:chExt cx="533160" cy="110304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3930480" y="2507760"/>
                  <a:ext cx="100800" cy="1071720"/>
                </a:xfrm>
                <a:custGeom>
                  <a:avLst/>
                  <a:gdLst/>
                  <a:ahLst/>
                  <a:rect l="l" t="t" r="r" b="b"/>
                  <a:pathLst>
                    <a:path w="48" h="510">
                      <a:moveTo>
                        <a:pt x="37" y="510"/>
                      </a:moveTo>
                      <a:lnTo>
                        <a:pt x="47" y="510"/>
                      </a:lnTo>
                      <a:lnTo>
                        <a:pt x="47" y="420"/>
                      </a:lnTo>
                      <a:lnTo>
                        <a:pt x="47" y="374"/>
                      </a:lnTo>
                      <a:lnTo>
                        <a:pt x="47" y="326"/>
                      </a:lnTo>
                      <a:lnTo>
                        <a:pt x="47" y="300"/>
                      </a:lnTo>
                      <a:lnTo>
                        <a:pt x="48" y="273"/>
                      </a:lnTo>
                      <a:lnTo>
                        <a:pt x="48" y="216"/>
                      </a:lnTo>
                      <a:lnTo>
                        <a:pt x="48" y="188"/>
                      </a:lnTo>
                      <a:lnTo>
                        <a:pt x="48" y="162"/>
                      </a:lnTo>
                      <a:lnTo>
                        <a:pt x="47" y="138"/>
                      </a:lnTo>
                      <a:lnTo>
                        <a:pt x="45" y="116"/>
                      </a:lnTo>
                      <a:lnTo>
                        <a:pt x="42" y="97"/>
                      </a:lnTo>
                      <a:lnTo>
                        <a:pt x="38" y="80"/>
                      </a:lnTo>
                      <a:lnTo>
                        <a:pt x="34" y="64"/>
                      </a:lnTo>
                      <a:lnTo>
                        <a:pt x="30" y="50"/>
                      </a:lnTo>
                      <a:lnTo>
                        <a:pt x="25" y="37"/>
                      </a:lnTo>
                      <a:lnTo>
                        <a:pt x="23" y="34"/>
                      </a:lnTo>
                      <a:lnTo>
                        <a:pt x="18" y="2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11" y="28"/>
                      </a:lnTo>
                      <a:lnTo>
                        <a:pt x="16" y="41"/>
                      </a:lnTo>
                      <a:lnTo>
                        <a:pt x="20" y="37"/>
                      </a:lnTo>
                      <a:lnTo>
                        <a:pt x="15" y="37"/>
                      </a:lnTo>
                      <a:lnTo>
                        <a:pt x="20" y="50"/>
                      </a:lnTo>
                      <a:lnTo>
                        <a:pt x="24" y="64"/>
                      </a:lnTo>
                      <a:lnTo>
                        <a:pt x="28" y="80"/>
                      </a:lnTo>
                      <a:lnTo>
                        <a:pt x="32" y="97"/>
                      </a:lnTo>
                      <a:lnTo>
                        <a:pt x="35" y="117"/>
                      </a:lnTo>
                      <a:lnTo>
                        <a:pt x="37" y="138"/>
                      </a:lnTo>
                      <a:lnTo>
                        <a:pt x="38" y="162"/>
                      </a:lnTo>
                      <a:lnTo>
                        <a:pt x="38" y="188"/>
                      </a:lnTo>
                      <a:lnTo>
                        <a:pt x="38" y="216"/>
                      </a:lnTo>
                      <a:lnTo>
                        <a:pt x="38" y="273"/>
                      </a:lnTo>
                      <a:lnTo>
                        <a:pt x="37" y="300"/>
                      </a:lnTo>
                      <a:lnTo>
                        <a:pt x="37" y="326"/>
                      </a:lnTo>
                      <a:lnTo>
                        <a:pt x="37" y="374"/>
                      </a:lnTo>
                      <a:lnTo>
                        <a:pt x="37" y="420"/>
                      </a:lnTo>
                      <a:lnTo>
                        <a:pt x="37" y="51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4003920" y="2476440"/>
                  <a:ext cx="81720" cy="291960"/>
                </a:xfrm>
                <a:custGeom>
                  <a:avLst/>
                  <a:gdLst/>
                  <a:ahLst/>
                  <a:rect l="l" t="t" r="r" b="b"/>
                  <a:pathLst>
                    <a:path w="39" h="139">
                      <a:moveTo>
                        <a:pt x="0" y="134"/>
                      </a:moveTo>
                      <a:lnTo>
                        <a:pt x="8" y="139"/>
                      </a:lnTo>
                      <a:lnTo>
                        <a:pt x="15" y="128"/>
                      </a:lnTo>
                      <a:lnTo>
                        <a:pt x="22" y="115"/>
                      </a:lnTo>
                      <a:lnTo>
                        <a:pt x="28" y="101"/>
                      </a:lnTo>
                      <a:lnTo>
                        <a:pt x="29" y="98"/>
                      </a:lnTo>
                      <a:lnTo>
                        <a:pt x="34" y="83"/>
                      </a:lnTo>
                      <a:lnTo>
                        <a:pt x="37" y="64"/>
                      </a:lnTo>
                      <a:lnTo>
                        <a:pt x="38" y="44"/>
                      </a:lnTo>
                      <a:lnTo>
                        <a:pt x="39" y="22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29" y="22"/>
                      </a:lnTo>
                      <a:lnTo>
                        <a:pt x="28" y="44"/>
                      </a:lnTo>
                      <a:lnTo>
                        <a:pt x="27" y="64"/>
                      </a:lnTo>
                      <a:lnTo>
                        <a:pt x="25" y="81"/>
                      </a:lnTo>
                      <a:lnTo>
                        <a:pt x="19" y="98"/>
                      </a:lnTo>
                      <a:lnTo>
                        <a:pt x="24" y="98"/>
                      </a:lnTo>
                      <a:lnTo>
                        <a:pt x="21" y="94"/>
                      </a:lnTo>
                      <a:lnTo>
                        <a:pt x="15" y="108"/>
                      </a:lnTo>
                      <a:lnTo>
                        <a:pt x="8" y="121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>
                  <a:off x="3970440" y="2488680"/>
                  <a:ext cx="41760" cy="138600"/>
                </a:xfrm>
                <a:custGeom>
                  <a:avLst/>
                  <a:gdLst/>
                  <a:ahLst/>
                  <a:rect l="l" t="t" r="r" b="b"/>
                  <a:pathLst>
                    <a:path w="20" h="66">
                      <a:moveTo>
                        <a:pt x="1" y="65"/>
                      </a:moveTo>
                      <a:lnTo>
                        <a:pt x="10" y="66"/>
                      </a:lnTo>
                      <a:lnTo>
                        <a:pt x="10" y="64"/>
                      </a:lnTo>
                      <a:lnTo>
                        <a:pt x="11" y="59"/>
                      </a:lnTo>
                      <a:lnTo>
                        <a:pt x="12" y="53"/>
                      </a:lnTo>
                      <a:lnTo>
                        <a:pt x="13" y="45"/>
                      </a:lnTo>
                      <a:lnTo>
                        <a:pt x="15" y="35"/>
                      </a:lnTo>
                      <a:lnTo>
                        <a:pt x="16" y="24"/>
                      </a:lnTo>
                      <a:lnTo>
                        <a:pt x="20" y="1"/>
                      </a:lnTo>
                      <a:lnTo>
                        <a:pt x="11" y="0"/>
                      </a:lnTo>
                      <a:lnTo>
                        <a:pt x="6" y="24"/>
                      </a:lnTo>
                      <a:lnTo>
                        <a:pt x="5" y="35"/>
                      </a:lnTo>
                      <a:lnTo>
                        <a:pt x="3" y="45"/>
                      </a:lnTo>
                      <a:lnTo>
                        <a:pt x="2" y="53"/>
                      </a:lnTo>
                      <a:lnTo>
                        <a:pt x="1" y="59"/>
                      </a:lnTo>
                      <a:lnTo>
                        <a:pt x="0" y="64"/>
                      </a:lnTo>
                      <a:lnTo>
                        <a:pt x="1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3832200" y="2648160"/>
                  <a:ext cx="193320" cy="19764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4014360" y="2829240"/>
                  <a:ext cx="209880" cy="205560"/>
                </a:xfrm>
                <a:custGeom>
                  <a:avLst/>
                  <a:gdLst/>
                  <a:ahLst/>
                  <a:rect l="l" t="t" r="r" b="b"/>
                  <a:pathLst>
                    <a:path w="100" h="98">
                      <a:moveTo>
                        <a:pt x="0" y="89"/>
                      </a:moveTo>
                      <a:lnTo>
                        <a:pt x="3" y="98"/>
                      </a:lnTo>
                      <a:lnTo>
                        <a:pt x="17" y="91"/>
                      </a:lnTo>
                      <a:lnTo>
                        <a:pt x="21" y="90"/>
                      </a:lnTo>
                      <a:lnTo>
                        <a:pt x="37" y="82"/>
                      </a:lnTo>
                      <a:lnTo>
                        <a:pt x="52" y="73"/>
                      </a:lnTo>
                      <a:lnTo>
                        <a:pt x="65" y="63"/>
                      </a:lnTo>
                      <a:lnTo>
                        <a:pt x="75" y="50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3"/>
                      </a:lnTo>
                      <a:lnTo>
                        <a:pt x="58" y="56"/>
                      </a:lnTo>
                      <a:lnTo>
                        <a:pt x="45" y="66"/>
                      </a:lnTo>
                      <a:lnTo>
                        <a:pt x="30" y="75"/>
                      </a:lnTo>
                      <a:lnTo>
                        <a:pt x="14" y="83"/>
                      </a:lnTo>
                      <a:lnTo>
                        <a:pt x="17" y="86"/>
                      </a:lnTo>
                      <a:lnTo>
                        <a:pt x="17" y="81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4180680" y="2827080"/>
                  <a:ext cx="155160" cy="100800"/>
                </a:xfrm>
                <a:custGeom>
                  <a:avLst/>
                  <a:gdLst/>
                  <a:ahLst/>
                  <a:rect l="l" t="t" r="r" b="b"/>
                  <a:pathLst>
                    <a:path w="74" h="48">
                      <a:moveTo>
                        <a:pt x="4" y="33"/>
                      </a:moveTo>
                      <a:lnTo>
                        <a:pt x="0" y="41"/>
                      </a:lnTo>
                      <a:lnTo>
                        <a:pt x="6" y="44"/>
                      </a:lnTo>
                      <a:lnTo>
                        <a:pt x="10" y="45"/>
                      </a:lnTo>
                      <a:lnTo>
                        <a:pt x="18" y="48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7" y="44"/>
                      </a:lnTo>
                      <a:lnTo>
                        <a:pt x="43" y="41"/>
                      </a:lnTo>
                      <a:lnTo>
                        <a:pt x="47" y="38"/>
                      </a:lnTo>
                      <a:lnTo>
                        <a:pt x="56" y="29"/>
                      </a:lnTo>
                      <a:lnTo>
                        <a:pt x="65" y="18"/>
                      </a:lnTo>
                      <a:lnTo>
                        <a:pt x="74" y="6"/>
                      </a:lnTo>
                      <a:lnTo>
                        <a:pt x="67" y="0"/>
                      </a:lnTo>
                      <a:lnTo>
                        <a:pt x="58" y="11"/>
                      </a:lnTo>
                      <a:lnTo>
                        <a:pt x="49" y="22"/>
                      </a:lnTo>
                      <a:lnTo>
                        <a:pt x="40" y="31"/>
                      </a:lnTo>
                      <a:lnTo>
                        <a:pt x="36" y="34"/>
                      </a:lnTo>
                      <a:lnTo>
                        <a:pt x="33" y="36"/>
                      </a:lnTo>
                      <a:lnTo>
                        <a:pt x="23" y="39"/>
                      </a:lnTo>
                      <a:lnTo>
                        <a:pt x="26" y="43"/>
                      </a:lnTo>
                      <a:lnTo>
                        <a:pt x="26" y="38"/>
                      </a:lnTo>
                      <a:lnTo>
                        <a:pt x="18" y="38"/>
                      </a:lnTo>
                      <a:lnTo>
                        <a:pt x="10" y="35"/>
                      </a:lnTo>
                      <a:lnTo>
                        <a:pt x="10" y="40"/>
                      </a:lnTo>
                      <a:lnTo>
                        <a:pt x="13" y="37"/>
                      </a:lnTo>
                      <a:lnTo>
                        <a:pt x="4" y="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4295880" y="2871360"/>
                  <a:ext cx="69480" cy="2268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8" y="11"/>
                      </a:lnTo>
                      <a:lnTo>
                        <a:pt x="26" y="11"/>
                      </a:lnTo>
                      <a:lnTo>
                        <a:pt x="33" y="10"/>
                      </a:lnTo>
                      <a:lnTo>
                        <a:pt x="31" y="1"/>
                      </a:lnTo>
                      <a:lnTo>
                        <a:pt x="26" y="1"/>
                      </a:lnTo>
                      <a:lnTo>
                        <a:pt x="18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3848760" y="2867040"/>
                  <a:ext cx="169920" cy="224640"/>
                </a:xfrm>
                <a:custGeom>
                  <a:avLst/>
                  <a:gdLst/>
                  <a:ahLst/>
                  <a:rect l="l" t="t" r="r" b="b"/>
                  <a:pathLst>
                    <a:path w="81" h="107">
                      <a:moveTo>
                        <a:pt x="76" y="107"/>
                      </a:moveTo>
                      <a:lnTo>
                        <a:pt x="81" y="99"/>
                      </a:lnTo>
                      <a:lnTo>
                        <a:pt x="69" y="91"/>
                      </a:lnTo>
                      <a:lnTo>
                        <a:pt x="57" y="83"/>
                      </a:lnTo>
                      <a:lnTo>
                        <a:pt x="45" y="7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5"/>
                      </a:lnTo>
                      <a:lnTo>
                        <a:pt x="21" y="35"/>
                      </a:lnTo>
                      <a:lnTo>
                        <a:pt x="15" y="18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8"/>
                      </a:lnTo>
                      <a:lnTo>
                        <a:pt x="11" y="35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8" y="80"/>
                      </a:lnTo>
                      <a:lnTo>
                        <a:pt x="50" y="90"/>
                      </a:lnTo>
                      <a:lnTo>
                        <a:pt x="62" y="98"/>
                      </a:lnTo>
                      <a:lnTo>
                        <a:pt x="76" y="10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88" name=""/>
                <p:cNvGrpSpPr/>
                <p:nvPr/>
              </p:nvGrpSpPr>
              <p:grpSpPr>
                <a:xfrm>
                  <a:off x="4029120" y="3262320"/>
                  <a:ext cx="87840" cy="117000"/>
                  <a:chOff x="4029120" y="3262320"/>
                  <a:chExt cx="87840" cy="117000"/>
                </a:xfrm>
              </p:grpSpPr>
              <p:sp>
                <p:nvSpPr>
                  <p:cNvPr id="4389" name=""/>
                  <p:cNvSpPr/>
                  <p:nvPr/>
                </p:nvSpPr>
                <p:spPr>
                  <a:xfrm>
                    <a:off x="4029120" y="3278880"/>
                    <a:ext cx="7344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0" y="47"/>
                        </a:moveTo>
                        <a:lnTo>
                          <a:pt x="6" y="48"/>
                        </a:lnTo>
                        <a:lnTo>
                          <a:pt x="12" y="48"/>
                        </a:lnTo>
                        <a:lnTo>
                          <a:pt x="18" y="46"/>
                        </a:lnTo>
                        <a:lnTo>
                          <a:pt x="22" y="42"/>
                        </a:lnTo>
                        <a:lnTo>
                          <a:pt x="26" y="34"/>
                        </a:lnTo>
                        <a:lnTo>
                          <a:pt x="29" y="24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0" name=""/>
                  <p:cNvSpPr/>
                  <p:nvPr/>
                </p:nvSpPr>
                <p:spPr>
                  <a:xfrm>
                    <a:off x="4077360" y="326232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1" name=""/>
                <p:cNvGrpSpPr/>
                <p:nvPr/>
              </p:nvGrpSpPr>
              <p:grpSpPr>
                <a:xfrm>
                  <a:off x="3922200" y="3207240"/>
                  <a:ext cx="90000" cy="117000"/>
                  <a:chOff x="3922200" y="3207240"/>
                  <a:chExt cx="90000" cy="117000"/>
                </a:xfrm>
              </p:grpSpPr>
              <p:sp>
                <p:nvSpPr>
                  <p:cNvPr id="4392" name=""/>
                  <p:cNvSpPr/>
                  <p:nvPr/>
                </p:nvSpPr>
                <p:spPr>
                  <a:xfrm>
                    <a:off x="3939120" y="3224160"/>
                    <a:ext cx="730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3" name=""/>
                  <p:cNvSpPr/>
                  <p:nvPr/>
                </p:nvSpPr>
                <p:spPr>
                  <a:xfrm>
                    <a:off x="3922200" y="320724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4" name=""/>
                <p:cNvGrpSpPr/>
                <p:nvPr/>
              </p:nvGrpSpPr>
              <p:grpSpPr>
                <a:xfrm>
                  <a:off x="4027320" y="3081600"/>
                  <a:ext cx="87120" cy="146880"/>
                  <a:chOff x="4027320" y="3081600"/>
                  <a:chExt cx="87120" cy="146880"/>
                </a:xfrm>
              </p:grpSpPr>
              <p:sp>
                <p:nvSpPr>
                  <p:cNvPr id="4395" name=""/>
                  <p:cNvSpPr/>
                  <p:nvPr/>
                </p:nvSpPr>
                <p:spPr>
                  <a:xfrm>
                    <a:off x="4027320" y="3102480"/>
                    <a:ext cx="727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6" name=""/>
                  <p:cNvSpPr/>
                  <p:nvPr/>
                </p:nvSpPr>
                <p:spPr>
                  <a:xfrm>
                    <a:off x="4073040" y="3081600"/>
                    <a:ext cx="4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7" name=""/>
                <p:cNvGrpSpPr/>
                <p:nvPr/>
              </p:nvGrpSpPr>
              <p:grpSpPr>
                <a:xfrm>
                  <a:off x="4100760" y="2854800"/>
                  <a:ext cx="41400" cy="113040"/>
                  <a:chOff x="4100760" y="2854800"/>
                  <a:chExt cx="41400" cy="113040"/>
                </a:xfrm>
              </p:grpSpPr>
              <p:sp>
                <p:nvSpPr>
                  <p:cNvPr id="4398" name=""/>
                  <p:cNvSpPr/>
                  <p:nvPr/>
                </p:nvSpPr>
                <p:spPr>
                  <a:xfrm>
                    <a:off x="4109040" y="2875680"/>
                    <a:ext cx="122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9" name=""/>
                  <p:cNvSpPr/>
                  <p:nvPr/>
                </p:nvSpPr>
                <p:spPr>
                  <a:xfrm>
                    <a:off x="4100760" y="285480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0" name=""/>
                <p:cNvGrpSpPr/>
                <p:nvPr/>
              </p:nvGrpSpPr>
              <p:grpSpPr>
                <a:xfrm>
                  <a:off x="3939120" y="2944800"/>
                  <a:ext cx="41400" cy="96120"/>
                  <a:chOff x="3939120" y="2944800"/>
                  <a:chExt cx="41400" cy="96120"/>
                </a:xfrm>
              </p:grpSpPr>
              <p:sp>
                <p:nvSpPr>
                  <p:cNvPr id="4401" name=""/>
                  <p:cNvSpPr/>
                  <p:nvPr/>
                </p:nvSpPr>
                <p:spPr>
                  <a:xfrm>
                    <a:off x="3959640" y="2965680"/>
                    <a:ext cx="1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">
                        <a:moveTo>
                          <a:pt x="0" y="36"/>
                        </a:move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2" name=""/>
                  <p:cNvSpPr/>
                  <p:nvPr/>
                </p:nvSpPr>
                <p:spPr>
                  <a:xfrm>
                    <a:off x="3939120" y="2944800"/>
                    <a:ext cx="41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3" name=""/>
                <p:cNvGrpSpPr/>
                <p:nvPr/>
              </p:nvGrpSpPr>
              <p:grpSpPr>
                <a:xfrm>
                  <a:off x="3873960" y="2623680"/>
                  <a:ext cx="41400" cy="108360"/>
                  <a:chOff x="3873960" y="2623680"/>
                  <a:chExt cx="41400" cy="108360"/>
                </a:xfrm>
              </p:grpSpPr>
              <p:sp>
                <p:nvSpPr>
                  <p:cNvPr id="4404" name=""/>
                  <p:cNvSpPr/>
                  <p:nvPr/>
                </p:nvSpPr>
                <p:spPr>
                  <a:xfrm>
                    <a:off x="3892680" y="2648160"/>
                    <a:ext cx="39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>
                    <a:off x="3873960" y="262368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06" name=""/>
              <p:cNvGrpSpPr/>
              <p:nvPr/>
            </p:nvGrpSpPr>
            <p:grpSpPr>
              <a:xfrm>
                <a:off x="3535200" y="2266920"/>
                <a:ext cx="951840" cy="1488240"/>
                <a:chOff x="3535200" y="2266920"/>
                <a:chExt cx="951840" cy="1488240"/>
              </a:xfrm>
            </p:grpSpPr>
            <p:grpSp>
              <p:nvGrpSpPr>
                <p:cNvPr id="4407" name=""/>
                <p:cNvGrpSpPr/>
                <p:nvPr/>
              </p:nvGrpSpPr>
              <p:grpSpPr>
                <a:xfrm>
                  <a:off x="3535200" y="2266920"/>
                  <a:ext cx="951840" cy="1488240"/>
                  <a:chOff x="3535200" y="2266920"/>
                  <a:chExt cx="951840" cy="1488240"/>
                </a:xfrm>
              </p:grpSpPr>
              <p:sp>
                <p:nvSpPr>
                  <p:cNvPr id="4408" name=""/>
                  <p:cNvSpPr/>
                  <p:nvPr/>
                </p:nvSpPr>
                <p:spPr>
                  <a:xfrm>
                    <a:off x="3535200" y="226692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>
                    <a:off x="3535200" y="226692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0" name=""/>
                  <p:cNvSpPr/>
                  <p:nvPr/>
                </p:nvSpPr>
                <p:spPr>
                  <a:xfrm>
                    <a:off x="3535200" y="226692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1" name=""/>
                  <p:cNvSpPr/>
                  <p:nvPr/>
                </p:nvSpPr>
                <p:spPr>
                  <a:xfrm>
                    <a:off x="3535200" y="226692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12" name=""/>
                <p:cNvSpPr/>
                <p:nvPr/>
              </p:nvSpPr>
              <p:spPr>
                <a:xfrm>
                  <a:off x="3535200" y="2266920"/>
                  <a:ext cx="947880" cy="14850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3" name=""/>
              <p:cNvSpPr/>
              <p:nvPr/>
            </p:nvSpPr>
            <p:spPr>
              <a:xfrm>
                <a:off x="4329000" y="34923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3930480" y="2508120"/>
                <a:ext cx="101880" cy="1071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003560" y="2476440"/>
                <a:ext cx="82800" cy="2923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3970440" y="2489040"/>
                <a:ext cx="42840" cy="1400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3832200" y="2649600"/>
                <a:ext cx="193680" cy="1969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4014720" y="2830680"/>
                <a:ext cx="209520" cy="20448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4181400" y="282744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295880" y="287172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3849840" y="286704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2" name=""/>
              <p:cNvGrpSpPr/>
              <p:nvPr/>
            </p:nvGrpSpPr>
            <p:grpSpPr>
              <a:xfrm>
                <a:off x="4029120" y="3262320"/>
                <a:ext cx="88560" cy="117000"/>
                <a:chOff x="4029120" y="3262320"/>
                <a:chExt cx="88560" cy="117000"/>
              </a:xfrm>
            </p:grpSpPr>
            <p:sp>
              <p:nvSpPr>
                <p:cNvPr id="4423" name=""/>
                <p:cNvSpPr/>
                <p:nvPr/>
              </p:nvSpPr>
              <p:spPr>
                <a:xfrm>
                  <a:off x="4029120" y="3278880"/>
                  <a:ext cx="73800" cy="10044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0" y="47"/>
                      </a:move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8" y="46"/>
                      </a:lnTo>
                      <a:lnTo>
                        <a:pt x="22" y="42"/>
                      </a:lnTo>
                      <a:lnTo>
                        <a:pt x="26" y="34"/>
                      </a:lnTo>
                      <a:lnTo>
                        <a:pt x="29" y="24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4" name=""/>
                <p:cNvSpPr/>
                <p:nvPr/>
              </p:nvSpPr>
              <p:spPr>
                <a:xfrm>
                  <a:off x="4077720" y="3262320"/>
                  <a:ext cx="3996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5" name=""/>
              <p:cNvGrpSpPr/>
              <p:nvPr/>
            </p:nvGrpSpPr>
            <p:grpSpPr>
              <a:xfrm>
                <a:off x="3922560" y="3208320"/>
                <a:ext cx="90000" cy="117000"/>
                <a:chOff x="3922560" y="3208320"/>
                <a:chExt cx="90000" cy="117000"/>
              </a:xfrm>
            </p:grpSpPr>
            <p:sp>
              <p:nvSpPr>
                <p:cNvPr id="4426" name=""/>
                <p:cNvSpPr/>
                <p:nvPr/>
              </p:nvSpPr>
              <p:spPr>
                <a:xfrm>
                  <a:off x="3939480" y="3225240"/>
                  <a:ext cx="73080" cy="10008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>
                  <a:off x="3922560" y="3208320"/>
                  <a:ext cx="3996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8" name=""/>
              <p:cNvGrpSpPr/>
              <p:nvPr/>
            </p:nvGrpSpPr>
            <p:grpSpPr>
              <a:xfrm>
                <a:off x="4027320" y="3081240"/>
                <a:ext cx="87120" cy="147240"/>
                <a:chOff x="4027320" y="3081240"/>
                <a:chExt cx="87120" cy="147240"/>
              </a:xfrm>
            </p:grpSpPr>
            <p:sp>
              <p:nvSpPr>
                <p:cNvPr id="4429" name=""/>
                <p:cNvSpPr/>
                <p:nvPr/>
              </p:nvSpPr>
              <p:spPr>
                <a:xfrm>
                  <a:off x="4027320" y="3102120"/>
                  <a:ext cx="72720" cy="12636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0" name=""/>
                <p:cNvSpPr/>
                <p:nvPr/>
              </p:nvSpPr>
              <p:spPr>
                <a:xfrm>
                  <a:off x="4073040" y="3081240"/>
                  <a:ext cx="41400" cy="5472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1" name=""/>
              <p:cNvGrpSpPr/>
              <p:nvPr/>
            </p:nvGrpSpPr>
            <p:grpSpPr>
              <a:xfrm>
                <a:off x="4100400" y="2854440"/>
                <a:ext cx="42480" cy="113760"/>
                <a:chOff x="4100400" y="2854440"/>
                <a:chExt cx="42480" cy="113760"/>
              </a:xfrm>
            </p:grpSpPr>
            <p:sp>
              <p:nvSpPr>
                <p:cNvPr id="4432" name=""/>
                <p:cNvSpPr/>
                <p:nvPr/>
              </p:nvSpPr>
              <p:spPr>
                <a:xfrm>
                  <a:off x="4109040" y="2875320"/>
                  <a:ext cx="12600" cy="9288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>
                  <a:off x="4100400" y="2854440"/>
                  <a:ext cx="424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4" name=""/>
              <p:cNvGrpSpPr/>
              <p:nvPr/>
            </p:nvGrpSpPr>
            <p:grpSpPr>
              <a:xfrm>
                <a:off x="3938760" y="2944800"/>
                <a:ext cx="42480" cy="96480"/>
                <a:chOff x="3938760" y="2944800"/>
                <a:chExt cx="42480" cy="96480"/>
              </a:xfrm>
            </p:grpSpPr>
            <p:sp>
              <p:nvSpPr>
                <p:cNvPr id="4435" name=""/>
                <p:cNvSpPr/>
                <p:nvPr/>
              </p:nvSpPr>
              <p:spPr>
                <a:xfrm>
                  <a:off x="3960000" y="2965680"/>
                  <a:ext cx="1800" cy="75600"/>
                </a:xfrm>
                <a:custGeom>
                  <a:avLst/>
                  <a:gdLst/>
                  <a:ahLst/>
                  <a:rect l="l" t="t" r="r" b="b"/>
                  <a:pathLst>
                    <a:path w="1" h="36">
                      <a:moveTo>
                        <a:pt x="0" y="36"/>
                      </a:move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6" name=""/>
                <p:cNvSpPr/>
                <p:nvPr/>
              </p:nvSpPr>
              <p:spPr>
                <a:xfrm>
                  <a:off x="3938760" y="2944800"/>
                  <a:ext cx="42480" cy="504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7" name=""/>
              <p:cNvGrpSpPr/>
              <p:nvPr/>
            </p:nvGrpSpPr>
            <p:grpSpPr>
              <a:xfrm>
                <a:off x="3873600" y="2624040"/>
                <a:ext cx="42480" cy="109440"/>
                <a:chOff x="3873600" y="2624040"/>
                <a:chExt cx="42480" cy="109440"/>
              </a:xfrm>
            </p:grpSpPr>
            <p:sp>
              <p:nvSpPr>
                <p:cNvPr id="4438" name=""/>
                <p:cNvSpPr/>
                <p:nvPr/>
              </p:nvSpPr>
              <p:spPr>
                <a:xfrm>
                  <a:off x="3892680" y="2648880"/>
                  <a:ext cx="4320" cy="8460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9" name=""/>
                <p:cNvSpPr/>
                <p:nvPr/>
              </p:nvSpPr>
              <p:spPr>
                <a:xfrm>
                  <a:off x="3873600" y="2624040"/>
                  <a:ext cx="424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0" name=""/>
              <p:cNvSpPr/>
              <p:nvPr/>
            </p:nvSpPr>
            <p:spPr>
              <a:xfrm>
                <a:off x="3930480" y="2508120"/>
                <a:ext cx="101880" cy="1071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4003560" y="2476440"/>
                <a:ext cx="82800" cy="2923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3970440" y="2489040"/>
                <a:ext cx="42840" cy="1400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3832200" y="2649600"/>
                <a:ext cx="193680" cy="1969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4014720" y="2830680"/>
                <a:ext cx="209520" cy="20448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4181400" y="282744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4295880" y="287172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3849840" y="286704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029120" y="327960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4078440" y="326232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029120" y="327960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078440" y="326232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3938760" y="3224160"/>
                <a:ext cx="74520" cy="1015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3922560" y="320832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938760" y="3224160"/>
                <a:ext cx="74520" cy="1015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3922560" y="320832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027320" y="310356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073400" y="3081240"/>
                <a:ext cx="41400" cy="558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027320" y="310356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073400" y="3081240"/>
                <a:ext cx="41400" cy="558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110120" y="287640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100400" y="285444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110120" y="287640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100400" y="285444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3960720" y="296712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3938760" y="29448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3960720" y="296712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3938760" y="29448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3892680" y="2649600"/>
                <a:ext cx="46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3873600" y="262404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3892680" y="2649600"/>
                <a:ext cx="46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3873600" y="262404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2" name=""/>
            <p:cNvGrpSpPr/>
            <p:nvPr/>
          </p:nvGrpSpPr>
          <p:grpSpPr>
            <a:xfrm>
              <a:off x="2187720" y="3735360"/>
              <a:ext cx="1518480" cy="270000"/>
              <a:chOff x="2187720" y="3735360"/>
              <a:chExt cx="1518480" cy="270000"/>
            </a:xfrm>
          </p:grpSpPr>
          <p:sp>
            <p:nvSpPr>
              <p:cNvPr id="4473" name=""/>
              <p:cNvSpPr/>
              <p:nvPr/>
            </p:nvSpPr>
            <p:spPr>
              <a:xfrm>
                <a:off x="2771640" y="373536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1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187720" y="3762360"/>
                <a:ext cx="796680" cy="243000"/>
              </a:xfrm>
              <a:custGeom>
                <a:avLst/>
                <a:gdLst/>
                <a:ahLst/>
                <a:rect l="l" t="t" r="r" b="b"/>
                <a:pathLst>
                  <a:path w="379" h="116">
                    <a:moveTo>
                      <a:pt x="12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3" y="16"/>
                    </a:lnTo>
                    <a:lnTo>
                      <a:pt x="9" y="27"/>
                    </a:lnTo>
                    <a:lnTo>
                      <a:pt x="18" y="37"/>
                    </a:lnTo>
                    <a:lnTo>
                      <a:pt x="31" y="47"/>
                    </a:lnTo>
                    <a:lnTo>
                      <a:pt x="33" y="48"/>
                    </a:lnTo>
                    <a:lnTo>
                      <a:pt x="49" y="58"/>
                    </a:lnTo>
                    <a:lnTo>
                      <a:pt x="67" y="67"/>
                    </a:lnTo>
                    <a:lnTo>
                      <a:pt x="89" y="76"/>
                    </a:lnTo>
                    <a:lnTo>
                      <a:pt x="113" y="83"/>
                    </a:lnTo>
                    <a:lnTo>
                      <a:pt x="139" y="90"/>
                    </a:lnTo>
                    <a:lnTo>
                      <a:pt x="168" y="97"/>
                    </a:lnTo>
                    <a:lnTo>
                      <a:pt x="170" y="97"/>
                    </a:lnTo>
                    <a:lnTo>
                      <a:pt x="201" y="103"/>
                    </a:lnTo>
                    <a:lnTo>
                      <a:pt x="234" y="107"/>
                    </a:lnTo>
                    <a:lnTo>
                      <a:pt x="268" y="111"/>
                    </a:lnTo>
                    <a:lnTo>
                      <a:pt x="304" y="114"/>
                    </a:lnTo>
                    <a:lnTo>
                      <a:pt x="341" y="115"/>
                    </a:lnTo>
                    <a:lnTo>
                      <a:pt x="379" y="116"/>
                    </a:lnTo>
                    <a:lnTo>
                      <a:pt x="379" y="104"/>
                    </a:lnTo>
                    <a:lnTo>
                      <a:pt x="341" y="103"/>
                    </a:lnTo>
                    <a:lnTo>
                      <a:pt x="304" y="102"/>
                    </a:lnTo>
                    <a:lnTo>
                      <a:pt x="268" y="99"/>
                    </a:lnTo>
                    <a:lnTo>
                      <a:pt x="234" y="95"/>
                    </a:lnTo>
                    <a:lnTo>
                      <a:pt x="201" y="91"/>
                    </a:lnTo>
                    <a:lnTo>
                      <a:pt x="170" y="85"/>
                    </a:lnTo>
                    <a:lnTo>
                      <a:pt x="170" y="91"/>
                    </a:lnTo>
                    <a:lnTo>
                      <a:pt x="173" y="86"/>
                    </a:lnTo>
                    <a:lnTo>
                      <a:pt x="144" y="79"/>
                    </a:lnTo>
                    <a:lnTo>
                      <a:pt x="118" y="72"/>
                    </a:lnTo>
                    <a:lnTo>
                      <a:pt x="94" y="65"/>
                    </a:lnTo>
                    <a:lnTo>
                      <a:pt x="72" y="56"/>
                    </a:lnTo>
                    <a:lnTo>
                      <a:pt x="54" y="47"/>
                    </a:lnTo>
                    <a:lnTo>
                      <a:pt x="38" y="37"/>
                    </a:lnTo>
                    <a:lnTo>
                      <a:pt x="35" y="43"/>
                    </a:lnTo>
                    <a:lnTo>
                      <a:pt x="40" y="38"/>
                    </a:lnTo>
                    <a:lnTo>
                      <a:pt x="27" y="28"/>
                    </a:lnTo>
                    <a:lnTo>
                      <a:pt x="18" y="18"/>
                    </a:lnTo>
                    <a:lnTo>
                      <a:pt x="12" y="7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75" name=""/>
              <p:cNvGrpSpPr/>
              <p:nvPr/>
            </p:nvGrpSpPr>
            <p:grpSpPr>
              <a:xfrm>
                <a:off x="2952720" y="3763800"/>
                <a:ext cx="753480" cy="241200"/>
                <a:chOff x="2952720" y="3763800"/>
                <a:chExt cx="753480" cy="241200"/>
              </a:xfrm>
            </p:grpSpPr>
            <p:sp>
              <p:nvSpPr>
                <p:cNvPr id="4476" name=""/>
                <p:cNvSpPr/>
                <p:nvPr/>
              </p:nvSpPr>
              <p:spPr>
                <a:xfrm>
                  <a:off x="2952720" y="3870720"/>
                  <a:ext cx="649080" cy="134280"/>
                </a:xfrm>
                <a:custGeom>
                  <a:avLst/>
                  <a:gdLst/>
                  <a:ahLst/>
                  <a:rect l="l" t="t" r="r" b="b"/>
                  <a:pathLst>
                    <a:path w="309" h="64">
                      <a:moveTo>
                        <a:pt x="309" y="11"/>
                      </a:moveTo>
                      <a:lnTo>
                        <a:pt x="304" y="0"/>
                      </a:lnTo>
                      <a:lnTo>
                        <a:pt x="291" y="5"/>
                      </a:lnTo>
                      <a:lnTo>
                        <a:pt x="278" y="11"/>
                      </a:lnTo>
                      <a:lnTo>
                        <a:pt x="263" y="16"/>
                      </a:lnTo>
                      <a:lnTo>
                        <a:pt x="247" y="21"/>
                      </a:lnTo>
                      <a:lnTo>
                        <a:pt x="213" y="30"/>
                      </a:lnTo>
                      <a:lnTo>
                        <a:pt x="216" y="35"/>
                      </a:lnTo>
                      <a:lnTo>
                        <a:pt x="216" y="29"/>
                      </a:lnTo>
                      <a:lnTo>
                        <a:pt x="178" y="37"/>
                      </a:lnTo>
                      <a:lnTo>
                        <a:pt x="137" y="43"/>
                      </a:lnTo>
                      <a:lnTo>
                        <a:pt x="93" y="48"/>
                      </a:lnTo>
                      <a:lnTo>
                        <a:pt x="48" y="51"/>
                      </a:lnTo>
                      <a:lnTo>
                        <a:pt x="0" y="52"/>
                      </a:lnTo>
                      <a:lnTo>
                        <a:pt x="0" y="64"/>
                      </a:lnTo>
                      <a:lnTo>
                        <a:pt x="48" y="63"/>
                      </a:lnTo>
                      <a:lnTo>
                        <a:pt x="93" y="60"/>
                      </a:lnTo>
                      <a:lnTo>
                        <a:pt x="137" y="55"/>
                      </a:lnTo>
                      <a:lnTo>
                        <a:pt x="178" y="49"/>
                      </a:lnTo>
                      <a:lnTo>
                        <a:pt x="216" y="41"/>
                      </a:lnTo>
                      <a:lnTo>
                        <a:pt x="218" y="41"/>
                      </a:lnTo>
                      <a:lnTo>
                        <a:pt x="252" y="32"/>
                      </a:lnTo>
                      <a:lnTo>
                        <a:pt x="268" y="27"/>
                      </a:lnTo>
                      <a:lnTo>
                        <a:pt x="283" y="22"/>
                      </a:lnTo>
                      <a:lnTo>
                        <a:pt x="296" y="16"/>
                      </a:lnTo>
                      <a:lnTo>
                        <a:pt x="309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>
                  <a:off x="3534480" y="3763800"/>
                  <a:ext cx="171720" cy="174240"/>
                </a:xfrm>
                <a:custGeom>
                  <a:avLst/>
                  <a:gdLst/>
                  <a:ahLst/>
                  <a:rect l="l" t="t" r="r" b="b"/>
                  <a:pathLst>
                    <a:path w="82" h="83">
                      <a:moveTo>
                        <a:pt x="58" y="83"/>
                      </a:moveTo>
                      <a:lnTo>
                        <a:pt x="82" y="0"/>
                      </a:lnTo>
                      <a:lnTo>
                        <a:pt x="0" y="31"/>
                      </a:lnTo>
                      <a:lnTo>
                        <a:pt x="58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78" name=""/>
          <p:cNvGrpSpPr/>
          <p:nvPr/>
        </p:nvGrpSpPr>
        <p:grpSpPr>
          <a:xfrm>
            <a:off x="1984320" y="3774960"/>
            <a:ext cx="4078080" cy="516960"/>
            <a:chOff x="1984320" y="3774960"/>
            <a:chExt cx="4078080" cy="516960"/>
          </a:xfrm>
        </p:grpSpPr>
        <p:sp>
          <p:nvSpPr>
            <p:cNvPr id="4479" name=""/>
            <p:cNvSpPr/>
            <p:nvPr/>
          </p:nvSpPr>
          <p:spPr>
            <a:xfrm>
              <a:off x="3781440" y="40320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0" name=""/>
            <p:cNvGrpSpPr/>
            <p:nvPr/>
          </p:nvGrpSpPr>
          <p:grpSpPr>
            <a:xfrm>
              <a:off x="3963960" y="3786120"/>
              <a:ext cx="2098440" cy="505800"/>
              <a:chOff x="3963960" y="3786120"/>
              <a:chExt cx="2098440" cy="505800"/>
            </a:xfrm>
          </p:grpSpPr>
          <p:sp>
            <p:nvSpPr>
              <p:cNvPr id="4481" name=""/>
              <p:cNvSpPr/>
              <p:nvPr/>
            </p:nvSpPr>
            <p:spPr>
              <a:xfrm>
                <a:off x="5986800" y="3901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961600" y="3922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5934240" y="3941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5904720" y="39607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5875200" y="39772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5846040" y="3992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5814720" y="4006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5785200" y="4019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5753880" y="40316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5722200" y="4044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5690520" y="40550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658840" y="4065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625720" y="4075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594040" y="4086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562360" y="4095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5528880" y="41029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497560" y="41133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5463720" y="4120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5432040" y="4128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5398200" y="41367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5365080" y="4142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5333400" y="41490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5299560" y="4157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266440" y="4163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5234760" y="41702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5200920" y="4176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167080" y="41810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5133960" y="4187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102280" y="4191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5068800" y="4197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5035320" y="4201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5001480" y="42058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4967640" y="42102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934160" y="42163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902840" y="4218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869000" y="4222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835520" y="4227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801680" y="42310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768560" y="4235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734720" y="4237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700880" y="42415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667400" y="4244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4633560" y="42483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4600440" y="4250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4566600" y="42519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533120" y="4254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499280" y="42562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4465800" y="4258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431960" y="4260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398120" y="4263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4365000" y="4264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4331160" y="42667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299840" y="42667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266360" y="426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4232520" y="426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4199040" y="4271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4165200" y="4271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4131360" y="4273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4098240" y="4273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4064400" y="4273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4030920" y="4275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3997080" y="4275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3963960" y="4275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5932440" y="3786120"/>
                <a:ext cx="129960" cy="159840"/>
              </a:xfrm>
              <a:custGeom>
                <a:avLst/>
                <a:gdLst/>
                <a:ahLst/>
                <a:rect l="l" t="t" r="r" b="b"/>
                <a:pathLst>
                  <a:path w="62" h="76">
                    <a:moveTo>
                      <a:pt x="60" y="76"/>
                    </a:moveTo>
                    <a:lnTo>
                      <a:pt x="62" y="0"/>
                    </a:lnTo>
                    <a:lnTo>
                      <a:pt x="0" y="44"/>
                    </a:lnTo>
                    <a:lnTo>
                      <a:pt x="6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5" name=""/>
            <p:cNvGrpSpPr/>
            <p:nvPr/>
          </p:nvGrpSpPr>
          <p:grpSpPr>
            <a:xfrm>
              <a:off x="1984320" y="3774960"/>
              <a:ext cx="2025360" cy="512280"/>
              <a:chOff x="1984320" y="3774960"/>
              <a:chExt cx="2025360" cy="512280"/>
            </a:xfrm>
          </p:grpSpPr>
          <p:sp>
            <p:nvSpPr>
              <p:cNvPr id="4546" name=""/>
              <p:cNvSpPr/>
              <p:nvPr/>
            </p:nvSpPr>
            <p:spPr>
              <a:xfrm>
                <a:off x="1984320" y="37749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988280" y="3808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001240" y="3840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2019960" y="38671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2043000" y="38923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068560" y="3915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093760" y="3934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2122560" y="39535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2150280" y="3970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179440" y="39873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211120" y="4002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2240280" y="4016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2271600" y="4029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303640" y="40413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334960" y="4052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366280" y="4062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397600" y="4075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429280" y="4083840"/>
                <a:ext cx="18720" cy="165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462760" y="4094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494440" y="41025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527560" y="41112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559600" y="4119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592720" y="4127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624400" y="41364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658240" y="4142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691360" y="41511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723400" y="4157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756520" y="41634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790360" y="4169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821680" y="4176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855160" y="4182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889000" y="4186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922120" y="41929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955960" y="4197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987280" y="4201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3021120" y="4207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3054600" y="4212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3088440" y="42159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121560" y="42202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3155400" y="4224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3188880" y="42267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222360" y="42307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254040" y="4235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3287880" y="4237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3321000" y="42411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3354840" y="4243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3388320" y="42454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3421800" y="4249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3455280" y="42516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3489120" y="4254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3522960" y="42559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3556080" y="4258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3589920" y="4260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3623400" y="42602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3657240" y="4262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3690360" y="4264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3724200" y="4264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3757320" y="42663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3791160" y="42663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825000" y="4268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858480" y="4268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892320" y="4268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925440" y="4268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959280" y="427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992760" y="42706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1" name=""/>
          <p:cNvGrpSpPr/>
          <p:nvPr/>
        </p:nvGrpSpPr>
        <p:grpSpPr>
          <a:xfrm>
            <a:off x="4227480" y="1738440"/>
            <a:ext cx="1509480" cy="526680"/>
            <a:chOff x="4227480" y="1738440"/>
            <a:chExt cx="1509480" cy="526680"/>
          </a:xfrm>
        </p:grpSpPr>
        <p:grpSp>
          <p:nvGrpSpPr>
            <p:cNvPr id="4612" name=""/>
            <p:cNvGrpSpPr/>
            <p:nvPr/>
          </p:nvGrpSpPr>
          <p:grpSpPr>
            <a:xfrm>
              <a:off x="4227480" y="2016000"/>
              <a:ext cx="1508760" cy="248760"/>
              <a:chOff x="4227480" y="2016000"/>
              <a:chExt cx="1508760" cy="248760"/>
            </a:xfrm>
          </p:grpSpPr>
          <p:grpSp>
            <p:nvGrpSpPr>
              <p:cNvPr id="4613" name=""/>
              <p:cNvGrpSpPr/>
              <p:nvPr/>
            </p:nvGrpSpPr>
            <p:grpSpPr>
              <a:xfrm>
                <a:off x="4953960" y="2016000"/>
                <a:ext cx="782280" cy="248760"/>
                <a:chOff x="4953960" y="2016000"/>
                <a:chExt cx="782280" cy="248760"/>
              </a:xfrm>
            </p:grpSpPr>
            <p:sp>
              <p:nvSpPr>
                <p:cNvPr id="4614" name=""/>
                <p:cNvSpPr/>
                <p:nvPr/>
              </p:nvSpPr>
              <p:spPr>
                <a:xfrm>
                  <a:off x="5719680" y="22482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4"/>
                      </a:move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5" name=""/>
                <p:cNvSpPr/>
                <p:nvPr/>
              </p:nvSpPr>
              <p:spPr>
                <a:xfrm>
                  <a:off x="5711400" y="22168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6" name=""/>
                <p:cNvSpPr/>
                <p:nvPr/>
              </p:nvSpPr>
              <p:spPr>
                <a:xfrm>
                  <a:off x="5692680" y="21898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7" name=""/>
                <p:cNvSpPr/>
                <p:nvPr/>
              </p:nvSpPr>
              <p:spPr>
                <a:xfrm>
                  <a:off x="5667120" y="216648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8" name=""/>
                <p:cNvSpPr/>
                <p:nvPr/>
              </p:nvSpPr>
              <p:spPr>
                <a:xfrm>
                  <a:off x="5640120" y="21477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9" name=""/>
                <p:cNvSpPr/>
                <p:nvPr/>
              </p:nvSpPr>
              <p:spPr>
                <a:xfrm>
                  <a:off x="5610600" y="213084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0" name=""/>
                <p:cNvSpPr/>
                <p:nvPr/>
              </p:nvSpPr>
              <p:spPr>
                <a:xfrm>
                  <a:off x="5581080" y="211608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1" name=""/>
                <p:cNvSpPr/>
                <p:nvPr/>
              </p:nvSpPr>
              <p:spPr>
                <a:xfrm>
                  <a:off x="5549760" y="21038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2" name=""/>
                <p:cNvSpPr/>
                <p:nvPr/>
              </p:nvSpPr>
              <p:spPr>
                <a:xfrm>
                  <a:off x="5518440" y="20934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3" name=""/>
                <p:cNvSpPr/>
                <p:nvPr/>
              </p:nvSpPr>
              <p:spPr>
                <a:xfrm>
                  <a:off x="5486760" y="20829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4" name=""/>
                <p:cNvSpPr/>
                <p:nvPr/>
              </p:nvSpPr>
              <p:spPr>
                <a:xfrm>
                  <a:off x="5452920" y="20743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5" name=""/>
                <p:cNvSpPr/>
                <p:nvPr/>
              </p:nvSpPr>
              <p:spPr>
                <a:xfrm>
                  <a:off x="5421600" y="20660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6" name=""/>
                <p:cNvSpPr/>
                <p:nvPr/>
              </p:nvSpPr>
              <p:spPr>
                <a:xfrm>
                  <a:off x="5387760" y="2059560"/>
                  <a:ext cx="1692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7" name=""/>
                <p:cNvSpPr/>
                <p:nvPr/>
              </p:nvSpPr>
              <p:spPr>
                <a:xfrm>
                  <a:off x="5354640" y="20516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8" name=""/>
                <p:cNvSpPr/>
                <p:nvPr/>
              </p:nvSpPr>
              <p:spPr>
                <a:xfrm>
                  <a:off x="5323320" y="20473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9" name=""/>
                <p:cNvSpPr/>
                <p:nvPr/>
              </p:nvSpPr>
              <p:spPr>
                <a:xfrm>
                  <a:off x="5289480" y="20408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0" name=""/>
                <p:cNvSpPr/>
                <p:nvPr/>
              </p:nvSpPr>
              <p:spPr>
                <a:xfrm>
                  <a:off x="5256000" y="20368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1" name=""/>
                <p:cNvSpPr/>
                <p:nvPr/>
              </p:nvSpPr>
              <p:spPr>
                <a:xfrm>
                  <a:off x="5222160" y="20325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2" name=""/>
                <p:cNvSpPr/>
                <p:nvPr/>
              </p:nvSpPr>
              <p:spPr>
                <a:xfrm>
                  <a:off x="5189040" y="20282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3" name=""/>
                <p:cNvSpPr/>
                <p:nvPr/>
              </p:nvSpPr>
              <p:spPr>
                <a:xfrm>
                  <a:off x="5155200" y="20264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4" name=""/>
                <p:cNvSpPr/>
                <p:nvPr/>
              </p:nvSpPr>
              <p:spPr>
                <a:xfrm>
                  <a:off x="5121360" y="202212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5" name=""/>
                <p:cNvSpPr/>
                <p:nvPr/>
              </p:nvSpPr>
              <p:spPr>
                <a:xfrm>
                  <a:off x="5087880" y="20199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6" name=""/>
                <p:cNvSpPr/>
                <p:nvPr/>
              </p:nvSpPr>
              <p:spPr>
                <a:xfrm>
                  <a:off x="5054040" y="201780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>
                  <a:off x="5020920" y="2017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>
                  <a:off x="4987080" y="2016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9" name=""/>
                <p:cNvSpPr/>
                <p:nvPr/>
              </p:nvSpPr>
              <p:spPr>
                <a:xfrm>
                  <a:off x="4953960" y="2016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0" name=""/>
              <p:cNvGrpSpPr/>
              <p:nvPr/>
            </p:nvGrpSpPr>
            <p:grpSpPr>
              <a:xfrm>
                <a:off x="4227480" y="2016000"/>
                <a:ext cx="753480" cy="240840"/>
                <a:chOff x="4227480" y="2016000"/>
                <a:chExt cx="753480" cy="240840"/>
              </a:xfrm>
            </p:grpSpPr>
            <p:sp>
              <p:nvSpPr>
                <p:cNvPr id="4641" name=""/>
                <p:cNvSpPr/>
                <p:nvPr/>
              </p:nvSpPr>
              <p:spPr>
                <a:xfrm>
                  <a:off x="4309200" y="21376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2" name=""/>
                <p:cNvSpPr/>
                <p:nvPr/>
              </p:nvSpPr>
              <p:spPr>
                <a:xfrm>
                  <a:off x="4338720" y="21229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3" name=""/>
                <p:cNvSpPr/>
                <p:nvPr/>
              </p:nvSpPr>
              <p:spPr>
                <a:xfrm>
                  <a:off x="4370040" y="21081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>
                  <a:off x="4401720" y="209520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5" name=""/>
                <p:cNvSpPr/>
                <p:nvPr/>
              </p:nvSpPr>
              <p:spPr>
                <a:xfrm>
                  <a:off x="4433040" y="208476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6" name=""/>
                <p:cNvSpPr/>
                <p:nvPr/>
              </p:nvSpPr>
              <p:spPr>
                <a:xfrm>
                  <a:off x="4464360" y="20768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>
                  <a:off x="4498200" y="20664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8" name=""/>
                <p:cNvSpPr/>
                <p:nvPr/>
              </p:nvSpPr>
              <p:spPr>
                <a:xfrm>
                  <a:off x="4529520" y="205956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>
                  <a:off x="4563000" y="205164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0" name=""/>
                <p:cNvSpPr/>
                <p:nvPr/>
              </p:nvSpPr>
              <p:spPr>
                <a:xfrm>
                  <a:off x="4596840" y="20473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>
                  <a:off x="4628160" y="20412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4662000" y="20368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3" name=""/>
                <p:cNvSpPr/>
                <p:nvPr/>
              </p:nvSpPr>
              <p:spPr>
                <a:xfrm>
                  <a:off x="4695480" y="203256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>
                  <a:off x="4729320" y="20282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5" name=""/>
                <p:cNvSpPr/>
                <p:nvPr/>
              </p:nvSpPr>
              <p:spPr>
                <a:xfrm>
                  <a:off x="4762440" y="2023920"/>
                  <a:ext cx="1692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4796280" y="20221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7" name=""/>
                <p:cNvSpPr/>
                <p:nvPr/>
              </p:nvSpPr>
              <p:spPr>
                <a:xfrm>
                  <a:off x="4829760" y="201996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8" name=""/>
                <p:cNvSpPr/>
                <p:nvPr/>
              </p:nvSpPr>
              <p:spPr>
                <a:xfrm>
                  <a:off x="4863240" y="2017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4897080" y="2017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0" name=""/>
                <p:cNvSpPr/>
                <p:nvPr/>
              </p:nvSpPr>
              <p:spPr>
                <a:xfrm>
                  <a:off x="4930560" y="2016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1" name=""/>
                <p:cNvSpPr/>
                <p:nvPr/>
              </p:nvSpPr>
              <p:spPr>
                <a:xfrm>
                  <a:off x="4964400" y="2016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2" name=""/>
                <p:cNvSpPr/>
                <p:nvPr/>
              </p:nvSpPr>
              <p:spPr>
                <a:xfrm>
                  <a:off x="4227480" y="2102040"/>
                  <a:ext cx="146880" cy="154800"/>
                </a:xfrm>
                <a:custGeom>
                  <a:avLst/>
                  <a:gdLst/>
                  <a:ahLst/>
                  <a:rect l="l" t="t" r="r" b="b"/>
                  <a:pathLst>
                    <a:path w="70" h="74">
                      <a:moveTo>
                        <a:pt x="17" y="0"/>
                      </a:moveTo>
                      <a:lnTo>
                        <a:pt x="0" y="74"/>
                      </a:lnTo>
                      <a:lnTo>
                        <a:pt x="70" y="4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3" name=""/>
            <p:cNvSpPr/>
            <p:nvPr/>
          </p:nvSpPr>
          <p:spPr>
            <a:xfrm>
              <a:off x="4653000" y="1738440"/>
              <a:ext cx="636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775040" y="17668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"/>
            <p:cNvGrpSpPr/>
            <p:nvPr/>
          </p:nvGrpSpPr>
          <p:grpSpPr>
            <a:xfrm>
              <a:off x="4952880" y="2016000"/>
              <a:ext cx="784080" cy="249120"/>
              <a:chOff x="4952880" y="2016000"/>
              <a:chExt cx="784080" cy="249120"/>
            </a:xfrm>
          </p:grpSpPr>
          <p:sp>
            <p:nvSpPr>
              <p:cNvPr id="4666" name=""/>
              <p:cNvSpPr/>
              <p:nvPr/>
            </p:nvSpPr>
            <p:spPr>
              <a:xfrm>
                <a:off x="5720400" y="2248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5712120" y="2217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693040" y="2189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667840" y="21668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5640480" y="2148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5610960" y="21308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5581440" y="21160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5550120" y="2103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5518440" y="2093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5487120" y="2082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5453280" y="2074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5421600" y="2066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5387760" y="20595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5354280" y="2051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5322960" y="2047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5289120" y="2041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5255640" y="2036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5221800" y="2032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5188320" y="2028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5154480" y="2026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5120640" y="2022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5087160" y="2019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053320" y="2017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019840" y="201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498600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495288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2" name=""/>
            <p:cNvGrpSpPr/>
            <p:nvPr/>
          </p:nvGrpSpPr>
          <p:grpSpPr>
            <a:xfrm>
              <a:off x="4227480" y="2016000"/>
              <a:ext cx="752040" cy="241200"/>
              <a:chOff x="4227480" y="2016000"/>
              <a:chExt cx="752040" cy="241200"/>
            </a:xfrm>
          </p:grpSpPr>
          <p:sp>
            <p:nvSpPr>
              <p:cNvPr id="4693" name=""/>
              <p:cNvSpPr/>
              <p:nvPr/>
            </p:nvSpPr>
            <p:spPr>
              <a:xfrm>
                <a:off x="4309200" y="2137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338360" y="2122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4370040" y="2108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4401360" y="20952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432680" y="2084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4464000" y="2076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4497840" y="2066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4529160" y="20595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4562280" y="2051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4596120" y="2047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4627440" y="2041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4661280" y="2036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4694400" y="2032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4728240" y="2028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4761360" y="20239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4795200" y="2022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828320" y="20199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4862160" y="201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4896000" y="201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492912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496296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4227480" y="2102040"/>
                <a:ext cx="146520" cy="15516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17" y="0"/>
                    </a:moveTo>
                    <a:lnTo>
                      <a:pt x="0" y="74"/>
                    </a:lnTo>
                    <a:lnTo>
                      <a:pt x="7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5" name=""/>
            <p:cNvGrpSpPr/>
            <p:nvPr/>
          </p:nvGrpSpPr>
          <p:grpSpPr>
            <a:xfrm>
              <a:off x="4952880" y="2016000"/>
              <a:ext cx="784080" cy="249120"/>
              <a:chOff x="4952880" y="2016000"/>
              <a:chExt cx="784080" cy="249120"/>
            </a:xfrm>
          </p:grpSpPr>
          <p:sp>
            <p:nvSpPr>
              <p:cNvPr id="4716" name=""/>
              <p:cNvSpPr/>
              <p:nvPr/>
            </p:nvSpPr>
            <p:spPr>
              <a:xfrm>
                <a:off x="5720400" y="2248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5712120" y="2217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5693040" y="2189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5667840" y="21668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640480" y="2148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610960" y="21308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581440" y="21160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550120" y="2103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518440" y="2093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487120" y="2082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453280" y="2074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421600" y="2066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387760" y="20595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354280" y="2051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322960" y="2047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289120" y="2041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255640" y="2036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221800" y="2032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5188320" y="2028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154480" y="2026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120640" y="2022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5087160" y="2019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5053320" y="2017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5019840" y="201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498600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495288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2" name=""/>
            <p:cNvGrpSpPr/>
            <p:nvPr/>
          </p:nvGrpSpPr>
          <p:grpSpPr>
            <a:xfrm>
              <a:off x="4227480" y="2016000"/>
              <a:ext cx="752040" cy="241200"/>
              <a:chOff x="4227480" y="2016000"/>
              <a:chExt cx="752040" cy="241200"/>
            </a:xfrm>
          </p:grpSpPr>
          <p:sp>
            <p:nvSpPr>
              <p:cNvPr id="4743" name=""/>
              <p:cNvSpPr/>
              <p:nvPr/>
            </p:nvSpPr>
            <p:spPr>
              <a:xfrm>
                <a:off x="4309200" y="2137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4338360" y="2122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4370040" y="2108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4401360" y="20952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4432680" y="2084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4464000" y="2076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4497840" y="2066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4529160" y="20595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4562280" y="2051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4596120" y="2047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627440" y="2041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4661280" y="2036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4694400" y="2032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4728240" y="2028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4761360" y="20239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4795200" y="2022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4828320" y="20199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4862160" y="201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4896000" y="201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492912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496296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4227480" y="2102040"/>
                <a:ext cx="146520" cy="15516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17" y="0"/>
                    </a:moveTo>
                    <a:lnTo>
                      <a:pt x="0" y="74"/>
                    </a:lnTo>
                    <a:lnTo>
                      <a:pt x="7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5" name=""/>
          <p:cNvGrpSpPr/>
          <p:nvPr/>
        </p:nvGrpSpPr>
        <p:grpSpPr>
          <a:xfrm>
            <a:off x="4084560" y="3774960"/>
            <a:ext cx="3850920" cy="510840"/>
            <a:chOff x="4084560" y="3774960"/>
            <a:chExt cx="3850920" cy="510840"/>
          </a:xfrm>
        </p:grpSpPr>
        <p:sp>
          <p:nvSpPr>
            <p:cNvPr id="4766" name=""/>
            <p:cNvSpPr/>
            <p:nvPr/>
          </p:nvSpPr>
          <p:spPr>
            <a:xfrm>
              <a:off x="6033960" y="4021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7" name=""/>
            <p:cNvGrpSpPr/>
            <p:nvPr/>
          </p:nvGrpSpPr>
          <p:grpSpPr>
            <a:xfrm>
              <a:off x="5934240" y="3835440"/>
              <a:ext cx="2001240" cy="448920"/>
              <a:chOff x="5934240" y="3835440"/>
              <a:chExt cx="2001240" cy="448920"/>
            </a:xfrm>
          </p:grpSpPr>
          <p:sp>
            <p:nvSpPr>
              <p:cNvPr id="4768" name=""/>
              <p:cNvSpPr/>
              <p:nvPr/>
            </p:nvSpPr>
            <p:spPr>
              <a:xfrm>
                <a:off x="7832520" y="39294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7805520" y="3948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7776000" y="396504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7746840" y="3982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7717320" y="3997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7686000" y="40114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7654680" y="4024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7625160" y="40366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7593480" y="4049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7562160" y="4059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7528320" y="4070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7497000" y="4080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7465320" y="408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7431480" y="4099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7400160" y="41079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7366320" y="41166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7335000" y="4124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7301520" y="4131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7270200" y="41392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236360" y="4147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202520" y="415404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7171200" y="41601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7137720" y="4167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7103880" y="4173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7072560" y="417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7038720" y="4183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7005240" y="4189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6971400" y="4194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6938280" y="4200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6906600" y="4204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6872760" y="4208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6839640" y="4213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6805800" y="4217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6771960" y="42210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6738480" y="4225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6704640" y="42278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6671520" y="4231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6637680" y="42339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6604200" y="4238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6572880" y="4240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6539040" y="4244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6505200" y="42462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6471720" y="4248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6437880" y="42505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6404760" y="4253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6370920" y="4254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6337440" y="42570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303600" y="4259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6270480" y="4259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6236640" y="4260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6202800" y="4263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6169320" y="4263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135480" y="42652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6102360" y="4265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6068520" y="4265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6035040" y="4267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6001200" y="4267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967720" y="4267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934240" y="4267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7788960" y="3835440"/>
                <a:ext cx="146520" cy="153000"/>
              </a:xfrm>
              <a:custGeom>
                <a:avLst/>
                <a:gdLst/>
                <a:ahLst/>
                <a:rect l="l" t="t" r="r" b="b"/>
                <a:pathLst>
                  <a:path w="70" h="73">
                    <a:moveTo>
                      <a:pt x="50" y="73"/>
                    </a:moveTo>
                    <a:lnTo>
                      <a:pt x="70" y="0"/>
                    </a:lnTo>
                    <a:lnTo>
                      <a:pt x="0" y="27"/>
                    </a:lnTo>
                    <a:lnTo>
                      <a:pt x="5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8" name=""/>
            <p:cNvGrpSpPr/>
            <p:nvPr/>
          </p:nvGrpSpPr>
          <p:grpSpPr>
            <a:xfrm>
              <a:off x="4084560" y="3774960"/>
              <a:ext cx="1920600" cy="510840"/>
              <a:chOff x="4084560" y="3774960"/>
              <a:chExt cx="1920600" cy="510840"/>
            </a:xfrm>
          </p:grpSpPr>
          <p:sp>
            <p:nvSpPr>
              <p:cNvPr id="4829" name=""/>
              <p:cNvSpPr/>
              <p:nvPr/>
            </p:nvSpPr>
            <p:spPr>
              <a:xfrm>
                <a:off x="4084560" y="3774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4088520" y="3808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4101120" y="38397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4118040" y="3866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4141080" y="3891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4164480" y="3915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4191480" y="3936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4218480" y="39549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248000" y="3973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4277520" y="39906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4306680" y="4005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4336200" y="4019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4367520" y="40323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4399200" y="40449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4430880" y="40575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4462200" y="40680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4493880" y="4078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4525200" y="408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4559040" y="4099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4590360" y="41076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4621680" y="4116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4655160" y="4124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4687200" y="4132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4720320" y="4141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4754160" y="41497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4785480" y="4156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4818960" y="41623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4852800" y="4168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4884120" y="41745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4917960" y="4181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4951080" y="4187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4984920" y="4193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5016600" y="4197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5049720" y="42022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5083560" y="4208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5117400" y="4212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5150880" y="4217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5184360" y="42206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5216040" y="4224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5249160" y="42292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5283000" y="4233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5316840" y="42354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350320" y="4239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384160" y="4241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5417280" y="4244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5451120" y="4248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5484600" y="42501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5518080" y="4252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551560" y="4254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585400" y="42562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5619240" y="4258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5652360" y="4260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686200" y="4260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5719680" y="4263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5753520" y="4264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5786640" y="42649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5820480" y="42667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5853960" y="42667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5887800" y="42667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5921280" y="42667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954760" y="426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988600" y="426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1" name=""/>
          <p:cNvGrpSpPr/>
          <p:nvPr/>
        </p:nvGrpSpPr>
        <p:grpSpPr>
          <a:xfrm>
            <a:off x="6329520" y="2216160"/>
            <a:ext cx="2500200" cy="1816200"/>
            <a:chOff x="6329520" y="2216160"/>
            <a:chExt cx="2500200" cy="1816200"/>
          </a:xfrm>
        </p:grpSpPr>
        <p:grpSp>
          <p:nvGrpSpPr>
            <p:cNvPr id="4892" name=""/>
            <p:cNvGrpSpPr/>
            <p:nvPr/>
          </p:nvGrpSpPr>
          <p:grpSpPr>
            <a:xfrm>
              <a:off x="7691400" y="2216160"/>
              <a:ext cx="1031040" cy="1613880"/>
              <a:chOff x="7691400" y="2216160"/>
              <a:chExt cx="1031040" cy="1613880"/>
            </a:xfrm>
          </p:grpSpPr>
          <p:grpSp>
            <p:nvGrpSpPr>
              <p:cNvPr id="4893" name=""/>
              <p:cNvGrpSpPr/>
              <p:nvPr/>
            </p:nvGrpSpPr>
            <p:grpSpPr>
              <a:xfrm>
                <a:off x="7691400" y="2216160"/>
                <a:ext cx="1031040" cy="1613880"/>
                <a:chOff x="7691400" y="2216160"/>
                <a:chExt cx="1031040" cy="1613880"/>
              </a:xfrm>
            </p:grpSpPr>
            <p:sp>
              <p:nvSpPr>
                <p:cNvPr id="4894" name=""/>
                <p:cNvSpPr/>
                <p:nvPr/>
              </p:nvSpPr>
              <p:spPr>
                <a:xfrm>
                  <a:off x="7691400" y="221616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5" name=""/>
                <p:cNvSpPr/>
                <p:nvPr/>
              </p:nvSpPr>
              <p:spPr>
                <a:xfrm>
                  <a:off x="7691400" y="221616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6" name=""/>
                <p:cNvSpPr/>
                <p:nvPr/>
              </p:nvSpPr>
              <p:spPr>
                <a:xfrm>
                  <a:off x="7691400" y="221616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7" name=""/>
                <p:cNvSpPr/>
                <p:nvPr/>
              </p:nvSpPr>
              <p:spPr>
                <a:xfrm>
                  <a:off x="7691400" y="221616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8" name=""/>
              <p:cNvSpPr/>
              <p:nvPr/>
            </p:nvSpPr>
            <p:spPr>
              <a:xfrm>
                <a:off x="7691400" y="2216160"/>
                <a:ext cx="1027080" cy="1609920"/>
              </a:xfrm>
              <a:custGeom>
                <a:avLst/>
                <a:gdLst/>
                <a:ahLst/>
                <a:rect l="l" t="t" r="r" b="b"/>
                <a:pathLst>
                  <a:path w="489" h="767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686"/>
                    </a:lnTo>
                    <a:lnTo>
                      <a:pt x="2" y="702"/>
                    </a:lnTo>
                    <a:lnTo>
                      <a:pt x="6" y="718"/>
                    </a:lnTo>
                    <a:lnTo>
                      <a:pt x="14" y="731"/>
                    </a:lnTo>
                    <a:lnTo>
                      <a:pt x="24" y="743"/>
                    </a:lnTo>
                    <a:lnTo>
                      <a:pt x="36" y="753"/>
                    </a:lnTo>
                    <a:lnTo>
                      <a:pt x="49" y="761"/>
                    </a:lnTo>
                    <a:lnTo>
                      <a:pt x="65" y="765"/>
                    </a:lnTo>
                    <a:lnTo>
                      <a:pt x="81" y="767"/>
                    </a:lnTo>
                    <a:lnTo>
                      <a:pt x="407" y="767"/>
                    </a:lnTo>
                    <a:lnTo>
                      <a:pt x="424" y="765"/>
                    </a:lnTo>
                    <a:lnTo>
                      <a:pt x="439" y="761"/>
                    </a:lnTo>
                    <a:lnTo>
                      <a:pt x="453" y="753"/>
                    </a:lnTo>
                    <a:lnTo>
                      <a:pt x="465" y="743"/>
                    </a:lnTo>
                    <a:lnTo>
                      <a:pt x="475" y="731"/>
                    </a:lnTo>
                    <a:lnTo>
                      <a:pt x="483" y="718"/>
                    </a:lnTo>
                    <a:lnTo>
                      <a:pt x="487" y="702"/>
                    </a:lnTo>
                    <a:lnTo>
                      <a:pt x="489" y="686"/>
                    </a:lnTo>
                    <a:lnTo>
                      <a:pt x="489" y="81"/>
                    </a:lnTo>
                    <a:lnTo>
                      <a:pt x="487" y="65"/>
                    </a:lnTo>
                    <a:lnTo>
                      <a:pt x="483" y="49"/>
                    </a:lnTo>
                    <a:lnTo>
                      <a:pt x="475" y="36"/>
                    </a:lnTo>
                    <a:lnTo>
                      <a:pt x="465" y="24"/>
                    </a:lnTo>
                    <a:lnTo>
                      <a:pt x="453" y="14"/>
                    </a:lnTo>
                    <a:lnTo>
                      <a:pt x="439" y="6"/>
                    </a:lnTo>
                    <a:lnTo>
                      <a:pt x="424" y="2"/>
                    </a:lnTo>
                    <a:lnTo>
                      <a:pt x="407" y="0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9" name=""/>
            <p:cNvGrpSpPr/>
            <p:nvPr/>
          </p:nvGrpSpPr>
          <p:grpSpPr>
            <a:xfrm>
              <a:off x="7740720" y="2278080"/>
              <a:ext cx="950040" cy="1486800"/>
              <a:chOff x="7740720" y="2278080"/>
              <a:chExt cx="950040" cy="1486800"/>
            </a:xfrm>
          </p:grpSpPr>
          <p:grpSp>
            <p:nvGrpSpPr>
              <p:cNvPr id="4900" name=""/>
              <p:cNvGrpSpPr/>
              <p:nvPr/>
            </p:nvGrpSpPr>
            <p:grpSpPr>
              <a:xfrm>
                <a:off x="7740720" y="2278080"/>
                <a:ext cx="950040" cy="1486800"/>
                <a:chOff x="7740720" y="2278080"/>
                <a:chExt cx="950040" cy="1486800"/>
              </a:xfrm>
            </p:grpSpPr>
            <p:sp>
              <p:nvSpPr>
                <p:cNvPr id="4901" name=""/>
                <p:cNvSpPr/>
                <p:nvPr/>
              </p:nvSpPr>
              <p:spPr>
                <a:xfrm>
                  <a:off x="7740720" y="227808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2" name=""/>
                <p:cNvSpPr/>
                <p:nvPr/>
              </p:nvSpPr>
              <p:spPr>
                <a:xfrm>
                  <a:off x="7740720" y="227808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3" name=""/>
                <p:cNvSpPr/>
                <p:nvPr/>
              </p:nvSpPr>
              <p:spPr>
                <a:xfrm>
                  <a:off x="7740720" y="227808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4" name=""/>
                <p:cNvSpPr/>
                <p:nvPr/>
              </p:nvSpPr>
              <p:spPr>
                <a:xfrm>
                  <a:off x="7740720" y="227808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5" name=""/>
              <p:cNvSpPr/>
              <p:nvPr/>
            </p:nvSpPr>
            <p:spPr>
              <a:xfrm>
                <a:off x="7740720" y="2278080"/>
                <a:ext cx="946080" cy="148356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6" name=""/>
            <p:cNvSpPr/>
            <p:nvPr/>
          </p:nvSpPr>
          <p:spPr>
            <a:xfrm>
              <a:off x="8413920" y="3436920"/>
              <a:ext cx="415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8535960" y="3505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8" name=""/>
            <p:cNvGrpSpPr/>
            <p:nvPr/>
          </p:nvGrpSpPr>
          <p:grpSpPr>
            <a:xfrm>
              <a:off x="8028000" y="2465280"/>
              <a:ext cx="445320" cy="1061640"/>
              <a:chOff x="8028000" y="2465280"/>
              <a:chExt cx="445320" cy="1061640"/>
            </a:xfrm>
          </p:grpSpPr>
          <p:sp>
            <p:nvSpPr>
              <p:cNvPr id="4909" name=""/>
              <p:cNvSpPr/>
              <p:nvPr/>
            </p:nvSpPr>
            <p:spPr>
              <a:xfrm>
                <a:off x="8203680" y="2652120"/>
                <a:ext cx="77040" cy="756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8028000" y="2601720"/>
                <a:ext cx="192600" cy="19728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8210160" y="2784240"/>
                <a:ext cx="209160" cy="2030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8044920" y="2819880"/>
                <a:ext cx="167400" cy="2264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8222760" y="3231000"/>
                <a:ext cx="72720" cy="10260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8134560" y="3176280"/>
                <a:ext cx="70920" cy="100800"/>
              </a:xfrm>
              <a:custGeom>
                <a:avLst/>
                <a:gdLst/>
                <a:ahLst/>
                <a:rect l="l" t="t" r="r" b="b"/>
                <a:pathLst>
                  <a:path w="34" h="48">
                    <a:moveTo>
                      <a:pt x="34" y="47"/>
                    </a:moveTo>
                    <a:lnTo>
                      <a:pt x="28" y="48"/>
                    </a:lnTo>
                    <a:lnTo>
                      <a:pt x="22" y="48"/>
                    </a:lnTo>
                    <a:lnTo>
                      <a:pt x="17" y="46"/>
                    </a:lnTo>
                    <a:lnTo>
                      <a:pt x="12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8220600" y="3054960"/>
                <a:ext cx="7272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8304480" y="2828160"/>
                <a:ext cx="1224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8153640" y="2918520"/>
                <a:ext cx="3960" cy="7740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1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8088480" y="2601720"/>
                <a:ext cx="6480" cy="835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8189280" y="2643480"/>
                <a:ext cx="35280" cy="88344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0" name=""/>
              <p:cNvGrpSpPr/>
              <p:nvPr/>
            </p:nvGrpSpPr>
            <p:grpSpPr>
              <a:xfrm>
                <a:off x="8151480" y="2465280"/>
                <a:ext cx="51480" cy="186480"/>
                <a:chOff x="8151480" y="2465280"/>
                <a:chExt cx="51480" cy="186480"/>
              </a:xfrm>
            </p:grpSpPr>
            <p:sp>
              <p:nvSpPr>
                <p:cNvPr id="4921" name=""/>
                <p:cNvSpPr/>
                <p:nvPr/>
              </p:nvSpPr>
              <p:spPr>
                <a:xfrm>
                  <a:off x="8176320" y="262044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"/>
                <p:cNvSpPr/>
                <p:nvPr/>
              </p:nvSpPr>
              <p:spPr>
                <a:xfrm>
                  <a:off x="8157240" y="258912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3" name=""/>
                <p:cNvSpPr/>
                <p:nvPr/>
              </p:nvSpPr>
              <p:spPr>
                <a:xfrm>
                  <a:off x="8151480" y="25491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4" name=""/>
                <p:cNvSpPr/>
                <p:nvPr/>
              </p:nvSpPr>
              <p:spPr>
                <a:xfrm>
                  <a:off x="8151480" y="250488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5" name=""/>
                <p:cNvSpPr/>
                <p:nvPr/>
              </p:nvSpPr>
              <p:spPr>
                <a:xfrm>
                  <a:off x="8153280" y="2465280"/>
                  <a:ext cx="23040" cy="212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6" name=""/>
              <p:cNvGrpSpPr/>
              <p:nvPr/>
            </p:nvGrpSpPr>
            <p:grpSpPr>
              <a:xfrm>
                <a:off x="8373240" y="2842920"/>
                <a:ext cx="100080" cy="39600"/>
                <a:chOff x="8373240" y="2842920"/>
                <a:chExt cx="100080" cy="39600"/>
              </a:xfrm>
            </p:grpSpPr>
            <p:sp>
              <p:nvSpPr>
                <p:cNvPr id="4927" name=""/>
                <p:cNvSpPr/>
                <p:nvPr/>
              </p:nvSpPr>
              <p:spPr>
                <a:xfrm>
                  <a:off x="8373240" y="285948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8" name=""/>
                <p:cNvSpPr/>
                <p:nvPr/>
              </p:nvSpPr>
              <p:spPr>
                <a:xfrm>
                  <a:off x="8414640" y="285732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9" name=""/>
                <p:cNvSpPr/>
                <p:nvPr/>
              </p:nvSpPr>
              <p:spPr>
                <a:xfrm>
                  <a:off x="8450280" y="2842920"/>
                  <a:ext cx="23040" cy="270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0" name=""/>
              <p:cNvGrpSpPr/>
              <p:nvPr/>
            </p:nvGrpSpPr>
            <p:grpSpPr>
              <a:xfrm>
                <a:off x="8262000" y="2505240"/>
                <a:ext cx="22680" cy="146520"/>
                <a:chOff x="8262000" y="2505240"/>
                <a:chExt cx="22680" cy="146520"/>
              </a:xfrm>
            </p:grpSpPr>
            <p:sp>
              <p:nvSpPr>
                <p:cNvPr id="4931" name=""/>
                <p:cNvSpPr/>
                <p:nvPr/>
              </p:nvSpPr>
              <p:spPr>
                <a:xfrm>
                  <a:off x="8262000" y="263088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>
                  <a:off x="8264160" y="258912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>
                  <a:off x="8264160" y="254700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8264160" y="250524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35" name=""/>
            <p:cNvGrpSpPr/>
            <p:nvPr/>
          </p:nvGrpSpPr>
          <p:grpSpPr>
            <a:xfrm>
              <a:off x="7691400" y="2216160"/>
              <a:ext cx="1031040" cy="1613880"/>
              <a:chOff x="7691400" y="2216160"/>
              <a:chExt cx="1031040" cy="1613880"/>
            </a:xfrm>
          </p:grpSpPr>
          <p:grpSp>
            <p:nvGrpSpPr>
              <p:cNvPr id="4936" name=""/>
              <p:cNvGrpSpPr/>
              <p:nvPr/>
            </p:nvGrpSpPr>
            <p:grpSpPr>
              <a:xfrm>
                <a:off x="7691400" y="2216160"/>
                <a:ext cx="1031040" cy="1613880"/>
                <a:chOff x="7691400" y="2216160"/>
                <a:chExt cx="1031040" cy="1613880"/>
              </a:xfrm>
            </p:grpSpPr>
            <p:sp>
              <p:nvSpPr>
                <p:cNvPr id="4937" name=""/>
                <p:cNvSpPr/>
                <p:nvPr/>
              </p:nvSpPr>
              <p:spPr>
                <a:xfrm>
                  <a:off x="7691400" y="221616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8" name=""/>
                <p:cNvSpPr/>
                <p:nvPr/>
              </p:nvSpPr>
              <p:spPr>
                <a:xfrm>
                  <a:off x="7691400" y="221616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9" name=""/>
                <p:cNvSpPr/>
                <p:nvPr/>
              </p:nvSpPr>
              <p:spPr>
                <a:xfrm>
                  <a:off x="7691400" y="221616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0" name=""/>
                <p:cNvSpPr/>
                <p:nvPr/>
              </p:nvSpPr>
              <p:spPr>
                <a:xfrm>
                  <a:off x="7691400" y="221616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1" name=""/>
              <p:cNvSpPr/>
              <p:nvPr/>
            </p:nvSpPr>
            <p:spPr>
              <a:xfrm>
                <a:off x="7691400" y="2216160"/>
                <a:ext cx="1027080" cy="1609920"/>
              </a:xfrm>
              <a:custGeom>
                <a:avLst/>
                <a:gdLst/>
                <a:ahLst/>
                <a:rect l="l" t="t" r="r" b="b"/>
                <a:pathLst>
                  <a:path w="489" h="767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686"/>
                    </a:lnTo>
                    <a:lnTo>
                      <a:pt x="2" y="702"/>
                    </a:lnTo>
                    <a:lnTo>
                      <a:pt x="6" y="718"/>
                    </a:lnTo>
                    <a:lnTo>
                      <a:pt x="14" y="731"/>
                    </a:lnTo>
                    <a:lnTo>
                      <a:pt x="24" y="743"/>
                    </a:lnTo>
                    <a:lnTo>
                      <a:pt x="36" y="753"/>
                    </a:lnTo>
                    <a:lnTo>
                      <a:pt x="49" y="761"/>
                    </a:lnTo>
                    <a:lnTo>
                      <a:pt x="65" y="765"/>
                    </a:lnTo>
                    <a:lnTo>
                      <a:pt x="81" y="767"/>
                    </a:lnTo>
                    <a:lnTo>
                      <a:pt x="407" y="767"/>
                    </a:lnTo>
                    <a:lnTo>
                      <a:pt x="424" y="765"/>
                    </a:lnTo>
                    <a:lnTo>
                      <a:pt x="439" y="761"/>
                    </a:lnTo>
                    <a:lnTo>
                      <a:pt x="453" y="753"/>
                    </a:lnTo>
                    <a:lnTo>
                      <a:pt x="465" y="743"/>
                    </a:lnTo>
                    <a:lnTo>
                      <a:pt x="475" y="731"/>
                    </a:lnTo>
                    <a:lnTo>
                      <a:pt x="483" y="718"/>
                    </a:lnTo>
                    <a:lnTo>
                      <a:pt x="487" y="702"/>
                    </a:lnTo>
                    <a:lnTo>
                      <a:pt x="489" y="686"/>
                    </a:lnTo>
                    <a:lnTo>
                      <a:pt x="489" y="81"/>
                    </a:lnTo>
                    <a:lnTo>
                      <a:pt x="487" y="65"/>
                    </a:lnTo>
                    <a:lnTo>
                      <a:pt x="483" y="49"/>
                    </a:lnTo>
                    <a:lnTo>
                      <a:pt x="475" y="36"/>
                    </a:lnTo>
                    <a:lnTo>
                      <a:pt x="465" y="24"/>
                    </a:lnTo>
                    <a:lnTo>
                      <a:pt x="453" y="14"/>
                    </a:lnTo>
                    <a:lnTo>
                      <a:pt x="439" y="6"/>
                    </a:lnTo>
                    <a:lnTo>
                      <a:pt x="424" y="2"/>
                    </a:lnTo>
                    <a:lnTo>
                      <a:pt x="407" y="0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2" name=""/>
            <p:cNvGrpSpPr/>
            <p:nvPr/>
          </p:nvGrpSpPr>
          <p:grpSpPr>
            <a:xfrm>
              <a:off x="7740720" y="2278080"/>
              <a:ext cx="950040" cy="1486800"/>
              <a:chOff x="7740720" y="2278080"/>
              <a:chExt cx="950040" cy="1486800"/>
            </a:xfrm>
          </p:grpSpPr>
          <p:grpSp>
            <p:nvGrpSpPr>
              <p:cNvPr id="4943" name=""/>
              <p:cNvGrpSpPr/>
              <p:nvPr/>
            </p:nvGrpSpPr>
            <p:grpSpPr>
              <a:xfrm>
                <a:off x="7740720" y="2278080"/>
                <a:ext cx="950040" cy="1486800"/>
                <a:chOff x="7740720" y="2278080"/>
                <a:chExt cx="950040" cy="1486800"/>
              </a:xfrm>
            </p:grpSpPr>
            <p:sp>
              <p:nvSpPr>
                <p:cNvPr id="4944" name=""/>
                <p:cNvSpPr/>
                <p:nvPr/>
              </p:nvSpPr>
              <p:spPr>
                <a:xfrm>
                  <a:off x="7740720" y="227808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5" name=""/>
                <p:cNvSpPr/>
                <p:nvPr/>
              </p:nvSpPr>
              <p:spPr>
                <a:xfrm>
                  <a:off x="7740720" y="227808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>
                  <a:off x="7740720" y="227808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7" name=""/>
                <p:cNvSpPr/>
                <p:nvPr/>
              </p:nvSpPr>
              <p:spPr>
                <a:xfrm>
                  <a:off x="7740720" y="227808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8" name=""/>
              <p:cNvSpPr/>
              <p:nvPr/>
            </p:nvSpPr>
            <p:spPr>
              <a:xfrm>
                <a:off x="7740720" y="2278080"/>
                <a:ext cx="946080" cy="148356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9" name=""/>
            <p:cNvSpPr/>
            <p:nvPr/>
          </p:nvSpPr>
          <p:spPr>
            <a:xfrm>
              <a:off x="8413920" y="3436920"/>
              <a:ext cx="415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8535960" y="3505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8204040" y="2651040"/>
              <a:ext cx="78120" cy="76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8028000" y="2600280"/>
              <a:ext cx="192240" cy="198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8210520" y="2784600"/>
              <a:ext cx="209520" cy="20304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8043840" y="2819520"/>
              <a:ext cx="168120" cy="226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8223120" y="3230640"/>
              <a:ext cx="73080" cy="1029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8134200" y="3176640"/>
              <a:ext cx="71640" cy="10008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47"/>
                  </a:moveTo>
                  <a:lnTo>
                    <a:pt x="28" y="48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2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8220240" y="3054240"/>
              <a:ext cx="74520" cy="1256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8304120" y="28274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8153280" y="2917800"/>
              <a:ext cx="5040" cy="77760"/>
            </a:xfrm>
            <a:custGeom>
              <a:avLst/>
              <a:gdLst/>
              <a:ahLst/>
              <a:rect l="l" t="t" r="r" b="b"/>
              <a:pathLst>
                <a:path w="2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8088480" y="2600280"/>
              <a:ext cx="6120" cy="8424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3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8190000" y="2643120"/>
              <a:ext cx="34920" cy="88416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2" name=""/>
            <p:cNvGrpSpPr/>
            <p:nvPr/>
          </p:nvGrpSpPr>
          <p:grpSpPr>
            <a:xfrm>
              <a:off x="8151840" y="2465280"/>
              <a:ext cx="51480" cy="185400"/>
              <a:chOff x="8151840" y="2465280"/>
              <a:chExt cx="51480" cy="185400"/>
            </a:xfrm>
          </p:grpSpPr>
          <p:sp>
            <p:nvSpPr>
              <p:cNvPr id="4963" name=""/>
              <p:cNvSpPr/>
              <p:nvPr/>
            </p:nvSpPr>
            <p:spPr>
              <a:xfrm>
                <a:off x="8176680" y="2619720"/>
                <a:ext cx="26640" cy="309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8157960" y="258840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8151840" y="25488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8151840" y="2504880"/>
                <a:ext cx="20520" cy="23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8153640" y="2465280"/>
                <a:ext cx="23040" cy="212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8" name=""/>
            <p:cNvGrpSpPr/>
            <p:nvPr/>
          </p:nvGrpSpPr>
          <p:grpSpPr>
            <a:xfrm>
              <a:off x="8373960" y="2843280"/>
              <a:ext cx="99720" cy="38880"/>
              <a:chOff x="8373960" y="2843280"/>
              <a:chExt cx="99720" cy="38880"/>
            </a:xfrm>
          </p:grpSpPr>
          <p:sp>
            <p:nvSpPr>
              <p:cNvPr id="4969" name=""/>
              <p:cNvSpPr/>
              <p:nvPr/>
            </p:nvSpPr>
            <p:spPr>
              <a:xfrm>
                <a:off x="8373960" y="2859480"/>
                <a:ext cx="20520" cy="22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8415360" y="2857680"/>
                <a:ext cx="23040" cy="22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8450640" y="2843280"/>
                <a:ext cx="23040" cy="2664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2" name=""/>
            <p:cNvGrpSpPr/>
            <p:nvPr/>
          </p:nvGrpSpPr>
          <p:grpSpPr>
            <a:xfrm>
              <a:off x="8263080" y="2505240"/>
              <a:ext cx="21600" cy="145440"/>
              <a:chOff x="8263080" y="2505240"/>
              <a:chExt cx="21600" cy="145440"/>
            </a:xfrm>
          </p:grpSpPr>
          <p:sp>
            <p:nvSpPr>
              <p:cNvPr id="4973" name=""/>
              <p:cNvSpPr/>
              <p:nvPr/>
            </p:nvSpPr>
            <p:spPr>
              <a:xfrm>
                <a:off x="8263080" y="263016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8265240" y="258840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8265240" y="254664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8265240" y="250524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7" name=""/>
            <p:cNvSpPr/>
            <p:nvPr/>
          </p:nvSpPr>
          <p:spPr>
            <a:xfrm>
              <a:off x="8204040" y="2651040"/>
              <a:ext cx="78120" cy="76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8028000" y="2600280"/>
              <a:ext cx="192240" cy="198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8210520" y="2784600"/>
              <a:ext cx="209520" cy="20304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8043840" y="2819520"/>
              <a:ext cx="168120" cy="226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8223120" y="3230640"/>
              <a:ext cx="73080" cy="1029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8134200" y="3176640"/>
              <a:ext cx="71640" cy="10008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47"/>
                  </a:moveTo>
                  <a:lnTo>
                    <a:pt x="28" y="48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2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8220240" y="3054240"/>
              <a:ext cx="74520" cy="1256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8304120" y="28274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8153280" y="2917800"/>
              <a:ext cx="5040" cy="77760"/>
            </a:xfrm>
            <a:custGeom>
              <a:avLst/>
              <a:gdLst/>
              <a:ahLst/>
              <a:rect l="l" t="t" r="r" b="b"/>
              <a:pathLst>
                <a:path w="2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8088480" y="2600280"/>
              <a:ext cx="6120" cy="8424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3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8190000" y="2643120"/>
              <a:ext cx="34920" cy="88416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8" name=""/>
            <p:cNvGrpSpPr/>
            <p:nvPr/>
          </p:nvGrpSpPr>
          <p:grpSpPr>
            <a:xfrm>
              <a:off x="8151840" y="2465280"/>
              <a:ext cx="51480" cy="185400"/>
              <a:chOff x="8151840" y="2465280"/>
              <a:chExt cx="51480" cy="185400"/>
            </a:xfrm>
          </p:grpSpPr>
          <p:sp>
            <p:nvSpPr>
              <p:cNvPr id="4989" name=""/>
              <p:cNvSpPr/>
              <p:nvPr/>
            </p:nvSpPr>
            <p:spPr>
              <a:xfrm>
                <a:off x="8176680" y="2619720"/>
                <a:ext cx="26640" cy="309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8157960" y="258840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8151840" y="25488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8151840" y="2504880"/>
                <a:ext cx="20520" cy="23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8153640" y="2465280"/>
                <a:ext cx="23040" cy="212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4" name=""/>
            <p:cNvGrpSpPr/>
            <p:nvPr/>
          </p:nvGrpSpPr>
          <p:grpSpPr>
            <a:xfrm>
              <a:off x="8373960" y="2843280"/>
              <a:ext cx="99720" cy="38880"/>
              <a:chOff x="8373960" y="2843280"/>
              <a:chExt cx="99720" cy="38880"/>
            </a:xfrm>
          </p:grpSpPr>
          <p:sp>
            <p:nvSpPr>
              <p:cNvPr id="4995" name=""/>
              <p:cNvSpPr/>
              <p:nvPr/>
            </p:nvSpPr>
            <p:spPr>
              <a:xfrm>
                <a:off x="8373960" y="2859480"/>
                <a:ext cx="20520" cy="22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8415360" y="2857680"/>
                <a:ext cx="23040" cy="22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8450640" y="2843280"/>
                <a:ext cx="23040" cy="2664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8" name=""/>
            <p:cNvGrpSpPr/>
            <p:nvPr/>
          </p:nvGrpSpPr>
          <p:grpSpPr>
            <a:xfrm>
              <a:off x="8263080" y="2505240"/>
              <a:ext cx="21600" cy="145440"/>
              <a:chOff x="8263080" y="2505240"/>
              <a:chExt cx="21600" cy="145440"/>
            </a:xfrm>
          </p:grpSpPr>
          <p:sp>
            <p:nvSpPr>
              <p:cNvPr id="4999" name=""/>
              <p:cNvSpPr/>
              <p:nvPr/>
            </p:nvSpPr>
            <p:spPr>
              <a:xfrm>
                <a:off x="8263080" y="263016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8265240" y="258840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8265240" y="254664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8265240" y="250524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3" name=""/>
            <p:cNvGrpSpPr/>
            <p:nvPr/>
          </p:nvGrpSpPr>
          <p:grpSpPr>
            <a:xfrm>
              <a:off x="6329520" y="3736800"/>
              <a:ext cx="1509120" cy="295560"/>
              <a:chOff x="6329520" y="3736800"/>
              <a:chExt cx="1509120" cy="295560"/>
            </a:xfrm>
          </p:grpSpPr>
          <p:sp>
            <p:nvSpPr>
              <p:cNvPr id="5004" name=""/>
              <p:cNvSpPr/>
              <p:nvPr/>
            </p:nvSpPr>
            <p:spPr>
              <a:xfrm>
                <a:off x="6912000" y="373680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1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05" name=""/>
              <p:cNvGrpSpPr/>
              <p:nvPr/>
            </p:nvGrpSpPr>
            <p:grpSpPr>
              <a:xfrm>
                <a:off x="7061040" y="3822840"/>
                <a:ext cx="777600" cy="209160"/>
                <a:chOff x="7061040" y="3822840"/>
                <a:chExt cx="777600" cy="209160"/>
              </a:xfrm>
            </p:grpSpPr>
            <p:sp>
              <p:nvSpPr>
                <p:cNvPr id="5006" name=""/>
                <p:cNvSpPr/>
                <p:nvPr/>
              </p:nvSpPr>
              <p:spPr>
                <a:xfrm>
                  <a:off x="7061040" y="3906360"/>
                  <a:ext cx="653400" cy="125640"/>
                </a:xfrm>
                <a:custGeom>
                  <a:avLst/>
                  <a:gdLst/>
                  <a:ahLst/>
                  <a:rect l="l" t="t" r="r" b="b"/>
                  <a:pathLst>
                    <a:path w="311" h="60">
                      <a:moveTo>
                        <a:pt x="311" y="11"/>
                      </a:moveTo>
                      <a:lnTo>
                        <a:pt x="306" y="0"/>
                      </a:lnTo>
                      <a:lnTo>
                        <a:pt x="292" y="5"/>
                      </a:lnTo>
                      <a:lnTo>
                        <a:pt x="278" y="10"/>
                      </a:lnTo>
                      <a:lnTo>
                        <a:pt x="263" y="15"/>
                      </a:lnTo>
                      <a:lnTo>
                        <a:pt x="247" y="20"/>
                      </a:lnTo>
                      <a:lnTo>
                        <a:pt x="212" y="28"/>
                      </a:lnTo>
                      <a:lnTo>
                        <a:pt x="215" y="34"/>
                      </a:lnTo>
                      <a:lnTo>
                        <a:pt x="215" y="28"/>
                      </a:lnTo>
                      <a:lnTo>
                        <a:pt x="177" y="35"/>
                      </a:lnTo>
                      <a:lnTo>
                        <a:pt x="136" y="40"/>
                      </a:lnTo>
                      <a:lnTo>
                        <a:pt x="92" y="45"/>
                      </a:lnTo>
                      <a:lnTo>
                        <a:pt x="47" y="47"/>
                      </a:lnTo>
                      <a:lnTo>
                        <a:pt x="0" y="48"/>
                      </a:lnTo>
                      <a:lnTo>
                        <a:pt x="0" y="60"/>
                      </a:lnTo>
                      <a:lnTo>
                        <a:pt x="47" y="59"/>
                      </a:lnTo>
                      <a:lnTo>
                        <a:pt x="92" y="57"/>
                      </a:lnTo>
                      <a:lnTo>
                        <a:pt x="136" y="52"/>
                      </a:lnTo>
                      <a:lnTo>
                        <a:pt x="177" y="47"/>
                      </a:lnTo>
                      <a:lnTo>
                        <a:pt x="215" y="40"/>
                      </a:lnTo>
                      <a:lnTo>
                        <a:pt x="217" y="39"/>
                      </a:lnTo>
                      <a:lnTo>
                        <a:pt x="252" y="31"/>
                      </a:lnTo>
                      <a:lnTo>
                        <a:pt x="268" y="26"/>
                      </a:lnTo>
                      <a:lnTo>
                        <a:pt x="283" y="21"/>
                      </a:lnTo>
                      <a:lnTo>
                        <a:pt x="297" y="16"/>
                      </a:lnTo>
                      <a:lnTo>
                        <a:pt x="31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7" name=""/>
                <p:cNvSpPr/>
                <p:nvPr/>
              </p:nvSpPr>
              <p:spPr>
                <a:xfrm>
                  <a:off x="7657560" y="3822840"/>
                  <a:ext cx="181080" cy="165600"/>
                </a:xfrm>
                <a:custGeom>
                  <a:avLst/>
                  <a:gdLst/>
                  <a:ahLst/>
                  <a:rect l="l" t="t" r="r" b="b"/>
                  <a:pathLst>
                    <a:path w="86" h="79">
                      <a:moveTo>
                        <a:pt x="47" y="79"/>
                      </a:moveTo>
                      <a:lnTo>
                        <a:pt x="86" y="0"/>
                      </a:lnTo>
                      <a:lnTo>
                        <a:pt x="0" y="17"/>
                      </a:lnTo>
                      <a:lnTo>
                        <a:pt x="47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8" name=""/>
              <p:cNvSpPr/>
              <p:nvPr/>
            </p:nvSpPr>
            <p:spPr>
              <a:xfrm>
                <a:off x="6329520" y="3789360"/>
                <a:ext cx="763560" cy="243000"/>
              </a:xfrm>
              <a:custGeom>
                <a:avLst/>
                <a:gdLst/>
                <a:ahLst/>
                <a:rect l="l" t="t" r="r" b="b"/>
                <a:pathLst>
                  <a:path w="364" h="116">
                    <a:moveTo>
                      <a:pt x="12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3" y="16"/>
                    </a:lnTo>
                    <a:lnTo>
                      <a:pt x="9" y="27"/>
                    </a:lnTo>
                    <a:lnTo>
                      <a:pt x="18" y="37"/>
                    </a:lnTo>
                    <a:lnTo>
                      <a:pt x="30" y="47"/>
                    </a:lnTo>
                    <a:lnTo>
                      <a:pt x="32" y="48"/>
                    </a:lnTo>
                    <a:lnTo>
                      <a:pt x="47" y="58"/>
                    </a:lnTo>
                    <a:lnTo>
                      <a:pt x="65" y="67"/>
                    </a:lnTo>
                    <a:lnTo>
                      <a:pt x="85" y="76"/>
                    </a:lnTo>
                    <a:lnTo>
                      <a:pt x="108" y="83"/>
                    </a:lnTo>
                    <a:lnTo>
                      <a:pt x="134" y="90"/>
                    </a:lnTo>
                    <a:lnTo>
                      <a:pt x="161" y="97"/>
                    </a:lnTo>
                    <a:lnTo>
                      <a:pt x="164" y="97"/>
                    </a:lnTo>
                    <a:lnTo>
                      <a:pt x="193" y="103"/>
                    </a:lnTo>
                    <a:lnTo>
                      <a:pt x="225" y="107"/>
                    </a:lnTo>
                    <a:lnTo>
                      <a:pt x="257" y="111"/>
                    </a:lnTo>
                    <a:lnTo>
                      <a:pt x="292" y="114"/>
                    </a:lnTo>
                    <a:lnTo>
                      <a:pt x="327" y="115"/>
                    </a:lnTo>
                    <a:lnTo>
                      <a:pt x="364" y="116"/>
                    </a:lnTo>
                    <a:lnTo>
                      <a:pt x="364" y="104"/>
                    </a:lnTo>
                    <a:lnTo>
                      <a:pt x="327" y="103"/>
                    </a:lnTo>
                    <a:lnTo>
                      <a:pt x="292" y="102"/>
                    </a:lnTo>
                    <a:lnTo>
                      <a:pt x="257" y="99"/>
                    </a:lnTo>
                    <a:lnTo>
                      <a:pt x="225" y="95"/>
                    </a:lnTo>
                    <a:lnTo>
                      <a:pt x="193" y="91"/>
                    </a:lnTo>
                    <a:lnTo>
                      <a:pt x="164" y="85"/>
                    </a:lnTo>
                    <a:lnTo>
                      <a:pt x="164" y="91"/>
                    </a:lnTo>
                    <a:lnTo>
                      <a:pt x="166" y="86"/>
                    </a:lnTo>
                    <a:lnTo>
                      <a:pt x="139" y="79"/>
                    </a:lnTo>
                    <a:lnTo>
                      <a:pt x="113" y="72"/>
                    </a:lnTo>
                    <a:lnTo>
                      <a:pt x="90" y="65"/>
                    </a:lnTo>
                    <a:lnTo>
                      <a:pt x="70" y="56"/>
                    </a:lnTo>
                    <a:lnTo>
                      <a:pt x="52" y="47"/>
                    </a:lnTo>
                    <a:lnTo>
                      <a:pt x="37" y="37"/>
                    </a:lnTo>
                    <a:lnTo>
                      <a:pt x="34" y="43"/>
                    </a:lnTo>
                    <a:lnTo>
                      <a:pt x="39" y="38"/>
                    </a:lnTo>
                    <a:lnTo>
                      <a:pt x="27" y="28"/>
                    </a:lnTo>
                    <a:lnTo>
                      <a:pt x="18" y="18"/>
                    </a:lnTo>
                    <a:lnTo>
                      <a:pt x="12" y="7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09" name=""/>
          <p:cNvGrpSpPr/>
          <p:nvPr/>
        </p:nvGrpSpPr>
        <p:grpSpPr>
          <a:xfrm>
            <a:off x="4257720" y="2270160"/>
            <a:ext cx="2444760" cy="1746360"/>
            <a:chOff x="4257720" y="2270160"/>
            <a:chExt cx="2444760" cy="1746360"/>
          </a:xfrm>
        </p:grpSpPr>
        <p:grpSp>
          <p:nvGrpSpPr>
            <p:cNvPr id="5010" name=""/>
            <p:cNvGrpSpPr/>
            <p:nvPr/>
          </p:nvGrpSpPr>
          <p:grpSpPr>
            <a:xfrm>
              <a:off x="5614920" y="2270160"/>
              <a:ext cx="1087560" cy="1560600"/>
              <a:chOff x="5614920" y="2270160"/>
              <a:chExt cx="1087560" cy="1560600"/>
            </a:xfrm>
          </p:grpSpPr>
          <p:grpSp>
            <p:nvGrpSpPr>
              <p:cNvPr id="5011" name=""/>
              <p:cNvGrpSpPr/>
              <p:nvPr/>
            </p:nvGrpSpPr>
            <p:grpSpPr>
              <a:xfrm>
                <a:off x="5614920" y="2270160"/>
                <a:ext cx="950400" cy="1486800"/>
                <a:chOff x="5614920" y="2270160"/>
                <a:chExt cx="950400" cy="1486800"/>
              </a:xfrm>
            </p:grpSpPr>
            <p:grpSp>
              <p:nvGrpSpPr>
                <p:cNvPr id="5012" name=""/>
                <p:cNvGrpSpPr/>
                <p:nvPr/>
              </p:nvGrpSpPr>
              <p:grpSpPr>
                <a:xfrm>
                  <a:off x="5614920" y="2270160"/>
                  <a:ext cx="950400" cy="1486800"/>
                  <a:chOff x="5614920" y="2270160"/>
                  <a:chExt cx="950400" cy="1486800"/>
                </a:xfrm>
              </p:grpSpPr>
              <p:sp>
                <p:nvSpPr>
                  <p:cNvPr id="5013" name=""/>
                  <p:cNvSpPr/>
                  <p:nvPr/>
                </p:nvSpPr>
                <p:spPr>
                  <a:xfrm>
                    <a:off x="5614920" y="2270160"/>
                    <a:ext cx="950400" cy="14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4" name=""/>
                  <p:cNvSpPr/>
                  <p:nvPr/>
                </p:nvSpPr>
                <p:spPr>
                  <a:xfrm>
                    <a:off x="5614920" y="2270160"/>
                    <a:ext cx="946080" cy="14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5" name=""/>
                  <p:cNvSpPr/>
                  <p:nvPr/>
                </p:nvSpPr>
                <p:spPr>
                  <a:xfrm>
                    <a:off x="5614920" y="2270160"/>
                    <a:ext cx="946080" cy="14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6" name=""/>
                  <p:cNvSpPr/>
                  <p:nvPr/>
                </p:nvSpPr>
                <p:spPr>
                  <a:xfrm>
                    <a:off x="5614920" y="2270160"/>
                    <a:ext cx="950400" cy="14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17" name=""/>
                <p:cNvSpPr/>
                <p:nvPr/>
              </p:nvSpPr>
              <p:spPr>
                <a:xfrm>
                  <a:off x="5614920" y="2270160"/>
                  <a:ext cx="946440" cy="148284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8" name=""/>
              <p:cNvSpPr/>
              <p:nvPr/>
            </p:nvSpPr>
            <p:spPr>
              <a:xfrm>
                <a:off x="6286680" y="3425760"/>
                <a:ext cx="415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6408720" y="34956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0" name=""/>
              <p:cNvGrpSpPr/>
              <p:nvPr/>
            </p:nvGrpSpPr>
            <p:grpSpPr>
              <a:xfrm>
                <a:off x="5877000" y="2502000"/>
                <a:ext cx="446760" cy="1061280"/>
                <a:chOff x="5877000" y="2502000"/>
                <a:chExt cx="446760" cy="1061280"/>
              </a:xfrm>
            </p:grpSpPr>
            <p:sp>
              <p:nvSpPr>
                <p:cNvPr id="5021" name=""/>
                <p:cNvSpPr/>
                <p:nvPr/>
              </p:nvSpPr>
              <p:spPr>
                <a:xfrm>
                  <a:off x="6053040" y="2688480"/>
                  <a:ext cx="77400" cy="7560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27"/>
                      </a:moveTo>
                      <a:lnTo>
                        <a:pt x="3" y="36"/>
                      </a:lnTo>
                      <a:lnTo>
                        <a:pt x="16" y="30"/>
                      </a:lnTo>
                      <a:lnTo>
                        <a:pt x="19" y="29"/>
                      </a:lnTo>
                      <a:lnTo>
                        <a:pt x="26" y="26"/>
                      </a:lnTo>
                      <a:lnTo>
                        <a:pt x="31" y="23"/>
                      </a:lnTo>
                      <a:lnTo>
                        <a:pt x="33" y="18"/>
                      </a:lnTo>
                      <a:lnTo>
                        <a:pt x="35" y="15"/>
                      </a:lnTo>
                      <a:lnTo>
                        <a:pt x="36" y="10"/>
                      </a:lnTo>
                      <a:lnTo>
                        <a:pt x="37" y="0"/>
                      </a:lnTo>
                      <a:lnTo>
                        <a:pt x="27" y="0"/>
                      </a:lnTo>
                      <a:lnTo>
                        <a:pt x="26" y="10"/>
                      </a:lnTo>
                      <a:lnTo>
                        <a:pt x="25" y="15"/>
                      </a:lnTo>
                      <a:lnTo>
                        <a:pt x="30" y="15"/>
                      </a:lnTo>
                      <a:lnTo>
                        <a:pt x="26" y="11"/>
                      </a:lnTo>
                      <a:lnTo>
                        <a:pt x="24" y="16"/>
                      </a:lnTo>
                      <a:lnTo>
                        <a:pt x="19" y="19"/>
                      </a:lnTo>
                      <a:lnTo>
                        <a:pt x="12" y="22"/>
                      </a:lnTo>
                      <a:lnTo>
                        <a:pt x="16" y="25"/>
                      </a:lnTo>
                      <a:lnTo>
                        <a:pt x="16" y="2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>
                  <a:off x="5877000" y="2638080"/>
                  <a:ext cx="193320" cy="19728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3" name=""/>
                <p:cNvSpPr/>
                <p:nvPr/>
              </p:nvSpPr>
              <p:spPr>
                <a:xfrm>
                  <a:off x="6059880" y="2820600"/>
                  <a:ext cx="209880" cy="203400"/>
                </a:xfrm>
                <a:custGeom>
                  <a:avLst/>
                  <a:gdLst/>
                  <a:ahLst/>
                  <a:rect l="l" t="t" r="r" b="b"/>
                  <a:pathLst>
                    <a:path w="100" h="97">
                      <a:moveTo>
                        <a:pt x="0" y="88"/>
                      </a:moveTo>
                      <a:lnTo>
                        <a:pt x="3" y="97"/>
                      </a:lnTo>
                      <a:lnTo>
                        <a:pt x="17" y="90"/>
                      </a:lnTo>
                      <a:lnTo>
                        <a:pt x="21" y="89"/>
                      </a:lnTo>
                      <a:lnTo>
                        <a:pt x="37" y="81"/>
                      </a:lnTo>
                      <a:lnTo>
                        <a:pt x="52" y="72"/>
                      </a:lnTo>
                      <a:lnTo>
                        <a:pt x="65" y="62"/>
                      </a:lnTo>
                      <a:lnTo>
                        <a:pt x="75" y="49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2"/>
                      </a:lnTo>
                      <a:lnTo>
                        <a:pt x="58" y="55"/>
                      </a:lnTo>
                      <a:lnTo>
                        <a:pt x="45" y="65"/>
                      </a:lnTo>
                      <a:lnTo>
                        <a:pt x="30" y="74"/>
                      </a:lnTo>
                      <a:lnTo>
                        <a:pt x="14" y="82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4" name=""/>
                <p:cNvSpPr/>
                <p:nvPr/>
              </p:nvSpPr>
              <p:spPr>
                <a:xfrm>
                  <a:off x="5893560" y="2856240"/>
                  <a:ext cx="168120" cy="226440"/>
                </a:xfrm>
                <a:custGeom>
                  <a:avLst/>
                  <a:gdLst/>
                  <a:ahLst/>
                  <a:rect l="l" t="t" r="r" b="b"/>
                  <a:pathLst>
                    <a:path w="80" h="108">
                      <a:moveTo>
                        <a:pt x="75" y="108"/>
                      </a:moveTo>
                      <a:lnTo>
                        <a:pt x="80" y="100"/>
                      </a:lnTo>
                      <a:lnTo>
                        <a:pt x="68" y="92"/>
                      </a:lnTo>
                      <a:lnTo>
                        <a:pt x="56" y="84"/>
                      </a:lnTo>
                      <a:lnTo>
                        <a:pt x="44" y="74"/>
                      </a:lnTo>
                      <a:lnTo>
                        <a:pt x="35" y="6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6"/>
                      </a:lnTo>
                      <a:lnTo>
                        <a:pt x="21" y="36"/>
                      </a:lnTo>
                      <a:lnTo>
                        <a:pt x="15" y="19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9"/>
                      </a:lnTo>
                      <a:lnTo>
                        <a:pt x="11" y="36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1" y="65"/>
                      </a:lnTo>
                      <a:lnTo>
                        <a:pt x="27" y="68"/>
                      </a:lnTo>
                      <a:lnTo>
                        <a:pt x="37" y="81"/>
                      </a:lnTo>
                      <a:lnTo>
                        <a:pt x="49" y="91"/>
                      </a:lnTo>
                      <a:lnTo>
                        <a:pt x="61" y="99"/>
                      </a:lnTo>
                      <a:lnTo>
                        <a:pt x="75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25" name=""/>
                <p:cNvGrpSpPr/>
                <p:nvPr/>
              </p:nvGrpSpPr>
              <p:grpSpPr>
                <a:xfrm>
                  <a:off x="6072120" y="3251160"/>
                  <a:ext cx="89640" cy="118800"/>
                  <a:chOff x="6072120" y="3251160"/>
                  <a:chExt cx="89640" cy="118800"/>
                </a:xfrm>
              </p:grpSpPr>
              <p:sp>
                <p:nvSpPr>
                  <p:cNvPr id="5026" name=""/>
                  <p:cNvSpPr/>
                  <p:nvPr/>
                </p:nvSpPr>
                <p:spPr>
                  <a:xfrm>
                    <a:off x="6072120" y="3267720"/>
                    <a:ext cx="730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0" y="48"/>
                        </a:moveTo>
                        <a:lnTo>
                          <a:pt x="6" y="49"/>
                        </a:lnTo>
                        <a:lnTo>
                          <a:pt x="12" y="49"/>
                        </a:lnTo>
                        <a:lnTo>
                          <a:pt x="18" y="47"/>
                        </a:lnTo>
                        <a:lnTo>
                          <a:pt x="22" y="43"/>
                        </a:lnTo>
                        <a:lnTo>
                          <a:pt x="26" y="35"/>
                        </a:lnTo>
                        <a:lnTo>
                          <a:pt x="29" y="25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7" name=""/>
                  <p:cNvSpPr/>
                  <p:nvPr/>
                </p:nvSpPr>
                <p:spPr>
                  <a:xfrm>
                    <a:off x="6122160" y="325116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8" name=""/>
                <p:cNvGrpSpPr/>
                <p:nvPr/>
              </p:nvGrpSpPr>
              <p:grpSpPr>
                <a:xfrm>
                  <a:off x="5967360" y="3196080"/>
                  <a:ext cx="87480" cy="117000"/>
                  <a:chOff x="5967360" y="3196080"/>
                  <a:chExt cx="87480" cy="117000"/>
                </a:xfrm>
              </p:grpSpPr>
              <p:sp>
                <p:nvSpPr>
                  <p:cNvPr id="5029" name=""/>
                  <p:cNvSpPr/>
                  <p:nvPr/>
                </p:nvSpPr>
                <p:spPr>
                  <a:xfrm>
                    <a:off x="5981400" y="3213000"/>
                    <a:ext cx="73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0" name=""/>
                  <p:cNvSpPr/>
                  <p:nvPr/>
                </p:nvSpPr>
                <p:spPr>
                  <a:xfrm>
                    <a:off x="5967360" y="3196080"/>
                    <a:ext cx="39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1" name=""/>
                <p:cNvGrpSpPr/>
                <p:nvPr/>
              </p:nvGrpSpPr>
              <p:grpSpPr>
                <a:xfrm>
                  <a:off x="6070320" y="3070440"/>
                  <a:ext cx="89640" cy="146520"/>
                  <a:chOff x="6070320" y="3070440"/>
                  <a:chExt cx="89640" cy="146520"/>
                </a:xfrm>
              </p:grpSpPr>
              <p:sp>
                <p:nvSpPr>
                  <p:cNvPr id="5032" name=""/>
                  <p:cNvSpPr/>
                  <p:nvPr/>
                </p:nvSpPr>
                <p:spPr>
                  <a:xfrm>
                    <a:off x="6070320" y="3091320"/>
                    <a:ext cx="730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3" name=""/>
                  <p:cNvSpPr/>
                  <p:nvPr/>
                </p:nvSpPr>
                <p:spPr>
                  <a:xfrm>
                    <a:off x="6118200" y="307044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4" name=""/>
                <p:cNvGrpSpPr/>
                <p:nvPr/>
              </p:nvGrpSpPr>
              <p:grpSpPr>
                <a:xfrm>
                  <a:off x="6145560" y="2844000"/>
                  <a:ext cx="41760" cy="112320"/>
                  <a:chOff x="6145560" y="2844000"/>
                  <a:chExt cx="41760" cy="112320"/>
                </a:xfrm>
              </p:grpSpPr>
              <p:sp>
                <p:nvSpPr>
                  <p:cNvPr id="5035" name=""/>
                  <p:cNvSpPr/>
                  <p:nvPr/>
                </p:nvSpPr>
                <p:spPr>
                  <a:xfrm>
                    <a:off x="6153840" y="2864520"/>
                    <a:ext cx="122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6" name=""/>
                  <p:cNvSpPr/>
                  <p:nvPr/>
                </p:nvSpPr>
                <p:spPr>
                  <a:xfrm>
                    <a:off x="6145560" y="2844000"/>
                    <a:ext cx="417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7" name=""/>
                <p:cNvGrpSpPr/>
                <p:nvPr/>
              </p:nvGrpSpPr>
              <p:grpSpPr>
                <a:xfrm>
                  <a:off x="5983920" y="2934000"/>
                  <a:ext cx="41400" cy="97560"/>
                  <a:chOff x="5983920" y="2934000"/>
                  <a:chExt cx="41400" cy="97560"/>
                </a:xfrm>
              </p:grpSpPr>
              <p:sp>
                <p:nvSpPr>
                  <p:cNvPr id="5038" name=""/>
                  <p:cNvSpPr/>
                  <p:nvPr/>
                </p:nvSpPr>
                <p:spPr>
                  <a:xfrm>
                    <a:off x="6004440" y="2954520"/>
                    <a:ext cx="18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">
                        <a:moveTo>
                          <a:pt x="0" y="37"/>
                        </a:moveTo>
                        <a:lnTo>
                          <a:pt x="0" y="28"/>
                        </a:ln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9" name=""/>
                  <p:cNvSpPr/>
                  <p:nvPr/>
                </p:nvSpPr>
                <p:spPr>
                  <a:xfrm>
                    <a:off x="5983920" y="2934000"/>
                    <a:ext cx="41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0" name=""/>
                <p:cNvGrpSpPr/>
                <p:nvPr/>
              </p:nvGrpSpPr>
              <p:grpSpPr>
                <a:xfrm>
                  <a:off x="5918760" y="2613240"/>
                  <a:ext cx="41400" cy="108360"/>
                  <a:chOff x="5918760" y="2613240"/>
                  <a:chExt cx="41400" cy="108360"/>
                </a:xfrm>
              </p:grpSpPr>
              <p:sp>
                <p:nvSpPr>
                  <p:cNvPr id="5041" name=""/>
                  <p:cNvSpPr/>
                  <p:nvPr/>
                </p:nvSpPr>
                <p:spPr>
                  <a:xfrm>
                    <a:off x="5937480" y="2637720"/>
                    <a:ext cx="39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2" name=""/>
                  <p:cNvSpPr/>
                  <p:nvPr/>
                </p:nvSpPr>
                <p:spPr>
                  <a:xfrm>
                    <a:off x="5918760" y="261324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3" name=""/>
                <p:cNvSpPr/>
                <p:nvPr/>
              </p:nvSpPr>
              <p:spPr>
                <a:xfrm>
                  <a:off x="6038280" y="2680200"/>
                  <a:ext cx="35640" cy="883080"/>
                </a:xfrm>
                <a:custGeom>
                  <a:avLst/>
                  <a:gdLst/>
                  <a:ahLst/>
                  <a:rect l="l" t="t" r="r" b="b"/>
                  <a:pathLst>
                    <a:path w="17" h="421">
                      <a:moveTo>
                        <a:pt x="6" y="421"/>
                      </a:moveTo>
                      <a:lnTo>
                        <a:pt x="16" y="421"/>
                      </a:lnTo>
                      <a:lnTo>
                        <a:pt x="16" y="381"/>
                      </a:lnTo>
                      <a:lnTo>
                        <a:pt x="16" y="342"/>
                      </a:lnTo>
                      <a:lnTo>
                        <a:pt x="16" y="304"/>
                      </a:lnTo>
                      <a:lnTo>
                        <a:pt x="16" y="268"/>
                      </a:lnTo>
                      <a:lnTo>
                        <a:pt x="16" y="233"/>
                      </a:lnTo>
                      <a:lnTo>
                        <a:pt x="16" y="201"/>
                      </a:lnTo>
                      <a:lnTo>
                        <a:pt x="16" y="172"/>
                      </a:lnTo>
                      <a:lnTo>
                        <a:pt x="16" y="159"/>
                      </a:lnTo>
                      <a:lnTo>
                        <a:pt x="16" y="147"/>
                      </a:lnTo>
                      <a:lnTo>
                        <a:pt x="16" y="136"/>
                      </a:lnTo>
                      <a:lnTo>
                        <a:pt x="16" y="126"/>
                      </a:lnTo>
                      <a:lnTo>
                        <a:pt x="16" y="109"/>
                      </a:lnTo>
                      <a:lnTo>
                        <a:pt x="17" y="95"/>
                      </a:lnTo>
                      <a:lnTo>
                        <a:pt x="17" y="83"/>
                      </a:lnTo>
                      <a:lnTo>
                        <a:pt x="17" y="74"/>
                      </a:lnTo>
                      <a:lnTo>
                        <a:pt x="17" y="65"/>
                      </a:lnTo>
                      <a:lnTo>
                        <a:pt x="17" y="57"/>
                      </a:lnTo>
                      <a:lnTo>
                        <a:pt x="17" y="48"/>
                      </a:lnTo>
                      <a:lnTo>
                        <a:pt x="17" y="40"/>
                      </a:lnTo>
                      <a:lnTo>
                        <a:pt x="16" y="32"/>
                      </a:lnTo>
                      <a:lnTo>
                        <a:pt x="14" y="20"/>
                      </a:lnTo>
                      <a:lnTo>
                        <a:pt x="12" y="10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20"/>
                      </a:lnTo>
                      <a:lnTo>
                        <a:pt x="6" y="32"/>
                      </a:lnTo>
                      <a:lnTo>
                        <a:pt x="7" y="40"/>
                      </a:lnTo>
                      <a:lnTo>
                        <a:pt x="7" y="48"/>
                      </a:lnTo>
                      <a:lnTo>
                        <a:pt x="7" y="57"/>
                      </a:lnTo>
                      <a:lnTo>
                        <a:pt x="7" y="65"/>
                      </a:lnTo>
                      <a:lnTo>
                        <a:pt x="7" y="74"/>
                      </a:lnTo>
                      <a:lnTo>
                        <a:pt x="7" y="83"/>
                      </a:lnTo>
                      <a:lnTo>
                        <a:pt x="7" y="95"/>
                      </a:lnTo>
                      <a:lnTo>
                        <a:pt x="6" y="109"/>
                      </a:lnTo>
                      <a:lnTo>
                        <a:pt x="6" y="126"/>
                      </a:lnTo>
                      <a:lnTo>
                        <a:pt x="6" y="136"/>
                      </a:lnTo>
                      <a:lnTo>
                        <a:pt x="6" y="147"/>
                      </a:lnTo>
                      <a:lnTo>
                        <a:pt x="6" y="159"/>
                      </a:lnTo>
                      <a:lnTo>
                        <a:pt x="6" y="172"/>
                      </a:lnTo>
                      <a:lnTo>
                        <a:pt x="6" y="201"/>
                      </a:lnTo>
                      <a:lnTo>
                        <a:pt x="6" y="233"/>
                      </a:lnTo>
                      <a:lnTo>
                        <a:pt x="6" y="268"/>
                      </a:lnTo>
                      <a:lnTo>
                        <a:pt x="6" y="304"/>
                      </a:lnTo>
                      <a:lnTo>
                        <a:pt x="6" y="342"/>
                      </a:lnTo>
                      <a:lnTo>
                        <a:pt x="6" y="381"/>
                      </a:lnTo>
                      <a:lnTo>
                        <a:pt x="6" y="4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44" name=""/>
                <p:cNvGrpSpPr/>
                <p:nvPr/>
              </p:nvGrpSpPr>
              <p:grpSpPr>
                <a:xfrm>
                  <a:off x="6000840" y="2502000"/>
                  <a:ext cx="51480" cy="186120"/>
                  <a:chOff x="6000840" y="2502000"/>
                  <a:chExt cx="51480" cy="186120"/>
                </a:xfrm>
              </p:grpSpPr>
              <p:sp>
                <p:nvSpPr>
                  <p:cNvPr id="5045" name=""/>
                  <p:cNvSpPr/>
                  <p:nvPr/>
                </p:nvSpPr>
                <p:spPr>
                  <a:xfrm>
                    <a:off x="6025680" y="2656800"/>
                    <a:ext cx="266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5" y="15"/>
                        </a:moveTo>
                        <a:lnTo>
                          <a:pt x="13" y="9"/>
                        </a:lnTo>
                        <a:lnTo>
                          <a:pt x="8" y="0"/>
                        </a:lnTo>
                        <a:lnTo>
                          <a:pt x="0" y="6"/>
                        </a:lnTo>
                        <a:lnTo>
                          <a:pt x="5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6" name=""/>
                  <p:cNvSpPr/>
                  <p:nvPr/>
                </p:nvSpPr>
                <p:spPr>
                  <a:xfrm>
                    <a:off x="6006960" y="2625480"/>
                    <a:ext cx="24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3" y="11"/>
                        </a:moveTo>
                        <a:lnTo>
                          <a:pt x="12" y="8"/>
                        </a:lnTo>
                        <a:lnTo>
                          <a:pt x="10" y="3"/>
                        </a:lnTo>
                        <a:lnTo>
                          <a:pt x="9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7" name=""/>
                  <p:cNvSpPr/>
                  <p:nvPr/>
                </p:nvSpPr>
                <p:spPr>
                  <a:xfrm>
                    <a:off x="6000840" y="2585520"/>
                    <a:ext cx="205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1" y="11"/>
                        </a:move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8" name=""/>
                  <p:cNvSpPr/>
                  <p:nvPr/>
                </p:nvSpPr>
                <p:spPr>
                  <a:xfrm>
                    <a:off x="6000840" y="2541600"/>
                    <a:ext cx="205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1"/>
                        </a:moveTo>
                        <a:lnTo>
                          <a:pt x="10" y="11"/>
                        </a:ln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9" name=""/>
                  <p:cNvSpPr/>
                  <p:nvPr/>
                </p:nvSpPr>
                <p:spPr>
                  <a:xfrm>
                    <a:off x="6002640" y="2502000"/>
                    <a:ext cx="23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0" y="9"/>
                        </a:moveTo>
                        <a:lnTo>
                          <a:pt x="10" y="10"/>
                        </a:lnTo>
                        <a:lnTo>
                          <a:pt x="11" y="1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0" name=""/>
                <p:cNvGrpSpPr/>
                <p:nvPr/>
              </p:nvGrpSpPr>
              <p:grpSpPr>
                <a:xfrm>
                  <a:off x="6223680" y="2879640"/>
                  <a:ext cx="100080" cy="38520"/>
                  <a:chOff x="6223680" y="2879640"/>
                  <a:chExt cx="100080" cy="38520"/>
                </a:xfrm>
              </p:grpSpPr>
              <p:sp>
                <p:nvSpPr>
                  <p:cNvPr id="5051" name=""/>
                  <p:cNvSpPr/>
                  <p:nvPr/>
                </p:nvSpPr>
                <p:spPr>
                  <a:xfrm>
                    <a:off x="6223680" y="2895840"/>
                    <a:ext cx="20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>
                    <a:off x="6265440" y="2893680"/>
                    <a:ext cx="226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0" y="10"/>
                        </a:lnTo>
                        <a:lnTo>
                          <a:pt x="11" y="10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3" name=""/>
                  <p:cNvSpPr/>
                  <p:nvPr/>
                </p:nvSpPr>
                <p:spPr>
                  <a:xfrm>
                    <a:off x="6301080" y="2879640"/>
                    <a:ext cx="226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3">
                        <a:moveTo>
                          <a:pt x="0" y="4"/>
                        </a:moveTo>
                        <a:lnTo>
                          <a:pt x="4" y="13"/>
                        </a:lnTo>
                        <a:lnTo>
                          <a:pt x="7" y="12"/>
                        </a:lnTo>
                        <a:lnTo>
                          <a:pt x="9" y="8"/>
                        </a:lnTo>
                        <a:lnTo>
                          <a:pt x="10" y="5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5"/>
                        </a:lnTo>
                        <a:lnTo>
                          <a:pt x="5" y="5"/>
                        </a:ln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4" name=""/>
                <p:cNvGrpSpPr/>
                <p:nvPr/>
              </p:nvGrpSpPr>
              <p:grpSpPr>
                <a:xfrm>
                  <a:off x="6112080" y="2541960"/>
                  <a:ext cx="22320" cy="146160"/>
                  <a:chOff x="6112080" y="2541960"/>
                  <a:chExt cx="22320" cy="146160"/>
                </a:xfrm>
              </p:grpSpPr>
              <p:sp>
                <p:nvSpPr>
                  <p:cNvPr id="5055" name=""/>
                  <p:cNvSpPr/>
                  <p:nvPr/>
                </p:nvSpPr>
                <p:spPr>
                  <a:xfrm>
                    <a:off x="6112080" y="266724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6" name=""/>
                  <p:cNvSpPr/>
                  <p:nvPr/>
                </p:nvSpPr>
                <p:spPr>
                  <a:xfrm>
                    <a:off x="6113880" y="262548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>
                    <a:off x="6113880" y="258372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>
                    <a:off x="6113880" y="254196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9" name=""/>
              <p:cNvSpPr/>
              <p:nvPr/>
            </p:nvSpPr>
            <p:spPr>
              <a:xfrm>
                <a:off x="6286680" y="3425760"/>
                <a:ext cx="415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408720" y="34956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053040" y="2689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5877000" y="2638440"/>
                <a:ext cx="193680" cy="19836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059520" y="2820960"/>
                <a:ext cx="210960" cy="2048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5894280" y="2857680"/>
                <a:ext cx="168480" cy="22680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5" name=""/>
              <p:cNvGrpSpPr/>
              <p:nvPr/>
            </p:nvGrpSpPr>
            <p:grpSpPr>
              <a:xfrm>
                <a:off x="6072120" y="3251160"/>
                <a:ext cx="90360" cy="120240"/>
                <a:chOff x="6072120" y="3251160"/>
                <a:chExt cx="90360" cy="120240"/>
              </a:xfrm>
            </p:grpSpPr>
            <p:sp>
              <p:nvSpPr>
                <p:cNvPr id="5066" name=""/>
                <p:cNvSpPr/>
                <p:nvPr/>
              </p:nvSpPr>
              <p:spPr>
                <a:xfrm>
                  <a:off x="6072120" y="3267720"/>
                  <a:ext cx="73080" cy="10368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6" y="49"/>
                      </a:lnTo>
                      <a:lnTo>
                        <a:pt x="12" y="49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6" y="35"/>
                      </a:lnTo>
                      <a:lnTo>
                        <a:pt x="29" y="25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>
                  <a:off x="6122520" y="3251160"/>
                  <a:ext cx="39960" cy="4644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8" name=""/>
              <p:cNvGrpSpPr/>
              <p:nvPr/>
            </p:nvGrpSpPr>
            <p:grpSpPr>
              <a:xfrm>
                <a:off x="5967360" y="3197160"/>
                <a:ext cx="88560" cy="117360"/>
                <a:chOff x="5967360" y="3197160"/>
                <a:chExt cx="88560" cy="117360"/>
              </a:xfrm>
            </p:grpSpPr>
            <p:sp>
              <p:nvSpPr>
                <p:cNvPr id="5069" name=""/>
                <p:cNvSpPr/>
                <p:nvPr/>
              </p:nvSpPr>
              <p:spPr>
                <a:xfrm>
                  <a:off x="5981760" y="3214080"/>
                  <a:ext cx="74160" cy="10044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"/>
                <p:cNvSpPr/>
                <p:nvPr/>
              </p:nvSpPr>
              <p:spPr>
                <a:xfrm>
                  <a:off x="5967360" y="3197160"/>
                  <a:ext cx="39600" cy="4608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1" name=""/>
              <p:cNvGrpSpPr/>
              <p:nvPr/>
            </p:nvGrpSpPr>
            <p:grpSpPr>
              <a:xfrm>
                <a:off x="6070680" y="3071880"/>
                <a:ext cx="89640" cy="145440"/>
                <a:chOff x="6070680" y="3071880"/>
                <a:chExt cx="89640" cy="145440"/>
              </a:xfrm>
            </p:grpSpPr>
            <p:sp>
              <p:nvSpPr>
                <p:cNvPr id="5072" name=""/>
                <p:cNvSpPr/>
                <p:nvPr/>
              </p:nvSpPr>
              <p:spPr>
                <a:xfrm>
                  <a:off x="6070680" y="3092400"/>
                  <a:ext cx="73440" cy="12492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3" name=""/>
                <p:cNvSpPr/>
                <p:nvPr/>
              </p:nvSpPr>
              <p:spPr>
                <a:xfrm>
                  <a:off x="6118560" y="3071880"/>
                  <a:ext cx="41760" cy="5364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4" name=""/>
              <p:cNvGrpSpPr/>
              <p:nvPr/>
            </p:nvGrpSpPr>
            <p:grpSpPr>
              <a:xfrm>
                <a:off x="6146640" y="2844720"/>
                <a:ext cx="41040" cy="111960"/>
                <a:chOff x="6146640" y="2844720"/>
                <a:chExt cx="41040" cy="111960"/>
              </a:xfrm>
            </p:grpSpPr>
            <p:sp>
              <p:nvSpPr>
                <p:cNvPr id="5075" name=""/>
                <p:cNvSpPr/>
                <p:nvPr/>
              </p:nvSpPr>
              <p:spPr>
                <a:xfrm>
                  <a:off x="6154920" y="2865240"/>
                  <a:ext cx="11880" cy="9144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>
                  <a:off x="6146640" y="2844720"/>
                  <a:ext cx="41040" cy="49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7" name=""/>
              <p:cNvGrpSpPr/>
              <p:nvPr/>
            </p:nvGrpSpPr>
            <p:grpSpPr>
              <a:xfrm>
                <a:off x="5985000" y="2935440"/>
                <a:ext cx="40680" cy="97560"/>
                <a:chOff x="5985000" y="2935440"/>
                <a:chExt cx="40680" cy="97560"/>
              </a:xfrm>
            </p:grpSpPr>
            <p:sp>
              <p:nvSpPr>
                <p:cNvPr id="5078" name=""/>
                <p:cNvSpPr/>
                <p:nvPr/>
              </p:nvSpPr>
              <p:spPr>
                <a:xfrm>
                  <a:off x="6005160" y="2955960"/>
                  <a:ext cx="1800" cy="77040"/>
                </a:xfrm>
                <a:custGeom>
                  <a:avLst/>
                  <a:gdLst/>
                  <a:ahLst/>
                  <a:rect l="l" t="t" r="r" b="b"/>
                  <a:pathLst>
                    <a:path w="1" h="37">
                      <a:moveTo>
                        <a:pt x="0" y="37"/>
                      </a:moveTo>
                      <a:lnTo>
                        <a:pt x="0" y="2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9" name=""/>
                <p:cNvSpPr/>
                <p:nvPr/>
              </p:nvSpPr>
              <p:spPr>
                <a:xfrm>
                  <a:off x="5985000" y="2935440"/>
                  <a:ext cx="406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0" name=""/>
              <p:cNvGrpSpPr/>
              <p:nvPr/>
            </p:nvGrpSpPr>
            <p:grpSpPr>
              <a:xfrm>
                <a:off x="5919840" y="2612880"/>
                <a:ext cx="41040" cy="109440"/>
                <a:chOff x="5919840" y="2612880"/>
                <a:chExt cx="41040" cy="109440"/>
              </a:xfrm>
            </p:grpSpPr>
            <p:sp>
              <p:nvSpPr>
                <p:cNvPr id="5081" name=""/>
                <p:cNvSpPr/>
                <p:nvPr/>
              </p:nvSpPr>
              <p:spPr>
                <a:xfrm>
                  <a:off x="5938560" y="2637720"/>
                  <a:ext cx="3960" cy="8460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>
                  <a:off x="5919840" y="2612880"/>
                  <a:ext cx="4104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3" name=""/>
              <p:cNvSpPr/>
              <p:nvPr/>
            </p:nvSpPr>
            <p:spPr>
              <a:xfrm>
                <a:off x="6039000" y="2681280"/>
                <a:ext cx="36360" cy="88272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4" name=""/>
              <p:cNvGrpSpPr/>
              <p:nvPr/>
            </p:nvGrpSpPr>
            <p:grpSpPr>
              <a:xfrm>
                <a:off x="6000840" y="2502000"/>
                <a:ext cx="51480" cy="186840"/>
                <a:chOff x="6000840" y="2502000"/>
                <a:chExt cx="51480" cy="186840"/>
              </a:xfrm>
            </p:grpSpPr>
            <p:sp>
              <p:nvSpPr>
                <p:cNvPr id="5085" name=""/>
                <p:cNvSpPr/>
                <p:nvPr/>
              </p:nvSpPr>
              <p:spPr>
                <a:xfrm>
                  <a:off x="6025680" y="265752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6" name=""/>
                <p:cNvSpPr/>
                <p:nvPr/>
              </p:nvSpPr>
              <p:spPr>
                <a:xfrm>
                  <a:off x="6006960" y="262584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>
                  <a:off x="6000840" y="258588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6000840" y="25419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9" name=""/>
                <p:cNvSpPr/>
                <p:nvPr/>
              </p:nvSpPr>
              <p:spPr>
                <a:xfrm>
                  <a:off x="6002640" y="250200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0" name=""/>
              <p:cNvGrpSpPr/>
              <p:nvPr/>
            </p:nvGrpSpPr>
            <p:grpSpPr>
              <a:xfrm>
                <a:off x="6224760" y="2879640"/>
                <a:ext cx="99000" cy="39240"/>
                <a:chOff x="6224760" y="2879640"/>
                <a:chExt cx="99000" cy="39240"/>
              </a:xfrm>
            </p:grpSpPr>
            <p:sp>
              <p:nvSpPr>
                <p:cNvPr id="5091" name=""/>
                <p:cNvSpPr/>
                <p:nvPr/>
              </p:nvSpPr>
              <p:spPr>
                <a:xfrm>
                  <a:off x="6224760" y="2896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>
                  <a:off x="6266160" y="289368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6301440" y="2879640"/>
                  <a:ext cx="22320" cy="270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4" name=""/>
              <p:cNvGrpSpPr/>
              <p:nvPr/>
            </p:nvGrpSpPr>
            <p:grpSpPr>
              <a:xfrm>
                <a:off x="6111720" y="2541600"/>
                <a:ext cx="23760" cy="147240"/>
                <a:chOff x="6111720" y="2541600"/>
                <a:chExt cx="23760" cy="147240"/>
              </a:xfrm>
            </p:grpSpPr>
            <p:sp>
              <p:nvSpPr>
                <p:cNvPr id="5095" name=""/>
                <p:cNvSpPr/>
                <p:nvPr/>
              </p:nvSpPr>
              <p:spPr>
                <a:xfrm>
                  <a:off x="6111720" y="266796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>
                  <a:off x="6113520" y="262584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>
                  <a:off x="6113520" y="258372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>
                  <a:off x="6113520" y="254160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9" name=""/>
              <p:cNvSpPr/>
              <p:nvPr/>
            </p:nvSpPr>
            <p:spPr>
              <a:xfrm>
                <a:off x="6053040" y="2689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5877000" y="2638440"/>
                <a:ext cx="193680" cy="19836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059520" y="2820960"/>
                <a:ext cx="210960" cy="2048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5894280" y="2857680"/>
                <a:ext cx="168480" cy="22680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072120" y="3268800"/>
                <a:ext cx="74520" cy="10296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122880" y="3251160"/>
                <a:ext cx="39960" cy="475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072120" y="3268800"/>
                <a:ext cx="74520" cy="10296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122880" y="3251160"/>
                <a:ext cx="39960" cy="475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5981760" y="321480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5967360" y="319716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5981760" y="321480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5967360" y="319716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070680" y="3092400"/>
                <a:ext cx="73080" cy="12564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118200" y="307188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070680" y="3092400"/>
                <a:ext cx="73080" cy="12564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118200" y="307188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154560" y="2865600"/>
                <a:ext cx="12960" cy="9180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146640" y="284472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154560" y="2865600"/>
                <a:ext cx="12960" cy="9180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146640" y="284472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005520" y="2955960"/>
                <a:ext cx="1440" cy="7776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5985000" y="2935440"/>
                <a:ext cx="41040" cy="489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005520" y="2955960"/>
                <a:ext cx="1440" cy="7776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5985000" y="2935440"/>
                <a:ext cx="41040" cy="489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5938920" y="2638440"/>
                <a:ext cx="324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5919840" y="2612880"/>
                <a:ext cx="41400" cy="51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5938920" y="2638440"/>
                <a:ext cx="324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5919840" y="2612880"/>
                <a:ext cx="41400" cy="51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6039000" y="2681280"/>
                <a:ext cx="36360" cy="88272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8" name=""/>
              <p:cNvGrpSpPr/>
              <p:nvPr/>
            </p:nvGrpSpPr>
            <p:grpSpPr>
              <a:xfrm>
                <a:off x="6000840" y="2502000"/>
                <a:ext cx="51480" cy="186840"/>
                <a:chOff x="6000840" y="2502000"/>
                <a:chExt cx="51480" cy="186840"/>
              </a:xfrm>
            </p:grpSpPr>
            <p:sp>
              <p:nvSpPr>
                <p:cNvPr id="5129" name=""/>
                <p:cNvSpPr/>
                <p:nvPr/>
              </p:nvSpPr>
              <p:spPr>
                <a:xfrm>
                  <a:off x="6025680" y="265752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0" name=""/>
                <p:cNvSpPr/>
                <p:nvPr/>
              </p:nvSpPr>
              <p:spPr>
                <a:xfrm>
                  <a:off x="6006960" y="262584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1" name=""/>
                <p:cNvSpPr/>
                <p:nvPr/>
              </p:nvSpPr>
              <p:spPr>
                <a:xfrm>
                  <a:off x="6000840" y="258588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2" name=""/>
                <p:cNvSpPr/>
                <p:nvPr/>
              </p:nvSpPr>
              <p:spPr>
                <a:xfrm>
                  <a:off x="6000840" y="25419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3" name=""/>
                <p:cNvSpPr/>
                <p:nvPr/>
              </p:nvSpPr>
              <p:spPr>
                <a:xfrm>
                  <a:off x="6002640" y="250200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4" name=""/>
              <p:cNvGrpSpPr/>
              <p:nvPr/>
            </p:nvGrpSpPr>
            <p:grpSpPr>
              <a:xfrm>
                <a:off x="6224760" y="2879640"/>
                <a:ext cx="99000" cy="39240"/>
                <a:chOff x="6224760" y="2879640"/>
                <a:chExt cx="99000" cy="39240"/>
              </a:xfrm>
            </p:grpSpPr>
            <p:sp>
              <p:nvSpPr>
                <p:cNvPr id="5135" name=""/>
                <p:cNvSpPr/>
                <p:nvPr/>
              </p:nvSpPr>
              <p:spPr>
                <a:xfrm>
                  <a:off x="6224760" y="2896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6" name=""/>
                <p:cNvSpPr/>
                <p:nvPr/>
              </p:nvSpPr>
              <p:spPr>
                <a:xfrm>
                  <a:off x="6266160" y="289368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7" name=""/>
                <p:cNvSpPr/>
                <p:nvPr/>
              </p:nvSpPr>
              <p:spPr>
                <a:xfrm>
                  <a:off x="6301440" y="2879640"/>
                  <a:ext cx="22320" cy="270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8" name=""/>
              <p:cNvGrpSpPr/>
              <p:nvPr/>
            </p:nvGrpSpPr>
            <p:grpSpPr>
              <a:xfrm>
                <a:off x="6111720" y="2541600"/>
                <a:ext cx="23760" cy="147240"/>
                <a:chOff x="6111720" y="2541600"/>
                <a:chExt cx="23760" cy="147240"/>
              </a:xfrm>
            </p:grpSpPr>
            <p:sp>
              <p:nvSpPr>
                <p:cNvPr id="5139" name=""/>
                <p:cNvSpPr/>
                <p:nvPr/>
              </p:nvSpPr>
              <p:spPr>
                <a:xfrm>
                  <a:off x="6111720" y="266796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0" name=""/>
                <p:cNvSpPr/>
                <p:nvPr/>
              </p:nvSpPr>
              <p:spPr>
                <a:xfrm>
                  <a:off x="6113520" y="262584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1" name=""/>
                <p:cNvSpPr/>
                <p:nvPr/>
              </p:nvSpPr>
              <p:spPr>
                <a:xfrm>
                  <a:off x="6113520" y="258372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2" name=""/>
                <p:cNvSpPr/>
                <p:nvPr/>
              </p:nvSpPr>
              <p:spPr>
                <a:xfrm>
                  <a:off x="6113520" y="254160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3" name=""/>
            <p:cNvGrpSpPr/>
            <p:nvPr/>
          </p:nvGrpSpPr>
          <p:grpSpPr>
            <a:xfrm>
              <a:off x="4257720" y="3735360"/>
              <a:ext cx="1518480" cy="281160"/>
              <a:chOff x="4257720" y="3735360"/>
              <a:chExt cx="1518480" cy="281160"/>
            </a:xfrm>
          </p:grpSpPr>
          <p:sp>
            <p:nvSpPr>
              <p:cNvPr id="5144" name=""/>
              <p:cNvSpPr/>
              <p:nvPr/>
            </p:nvSpPr>
            <p:spPr>
              <a:xfrm>
                <a:off x="4862520" y="373536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"/>
              <p:cNvGrpSpPr/>
              <p:nvPr/>
            </p:nvGrpSpPr>
            <p:grpSpPr>
              <a:xfrm>
                <a:off x="4991040" y="3768840"/>
                <a:ext cx="785160" cy="247320"/>
                <a:chOff x="4991040" y="3768840"/>
                <a:chExt cx="785160" cy="247320"/>
              </a:xfrm>
            </p:grpSpPr>
            <p:sp>
              <p:nvSpPr>
                <p:cNvPr id="5146" name=""/>
                <p:cNvSpPr/>
                <p:nvPr/>
              </p:nvSpPr>
              <p:spPr>
                <a:xfrm>
                  <a:off x="4991040" y="3875760"/>
                  <a:ext cx="680760" cy="140400"/>
                </a:xfrm>
                <a:custGeom>
                  <a:avLst/>
                  <a:gdLst/>
                  <a:ahLst/>
                  <a:rect l="l" t="t" r="r" b="b"/>
                  <a:pathLst>
                    <a:path w="324" h="67">
                      <a:moveTo>
                        <a:pt x="324" y="11"/>
                      </a:moveTo>
                      <a:lnTo>
                        <a:pt x="319" y="0"/>
                      </a:lnTo>
                      <a:lnTo>
                        <a:pt x="306" y="6"/>
                      </a:lnTo>
                      <a:lnTo>
                        <a:pt x="292" y="11"/>
                      </a:lnTo>
                      <a:lnTo>
                        <a:pt x="276" y="17"/>
                      </a:lnTo>
                      <a:lnTo>
                        <a:pt x="260" y="22"/>
                      </a:lnTo>
                      <a:lnTo>
                        <a:pt x="243" y="27"/>
                      </a:lnTo>
                      <a:lnTo>
                        <a:pt x="224" y="32"/>
                      </a:lnTo>
                      <a:lnTo>
                        <a:pt x="227" y="37"/>
                      </a:lnTo>
                      <a:lnTo>
                        <a:pt x="227" y="31"/>
                      </a:lnTo>
                      <a:lnTo>
                        <a:pt x="187" y="39"/>
                      </a:lnTo>
                      <a:lnTo>
                        <a:pt x="144" y="46"/>
                      </a:lnTo>
                      <a:lnTo>
                        <a:pt x="98" y="51"/>
                      </a:lnTo>
                      <a:lnTo>
                        <a:pt x="50" y="5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50" y="66"/>
                      </a:lnTo>
                      <a:lnTo>
                        <a:pt x="98" y="63"/>
                      </a:lnTo>
                      <a:lnTo>
                        <a:pt x="144" y="58"/>
                      </a:lnTo>
                      <a:lnTo>
                        <a:pt x="187" y="51"/>
                      </a:lnTo>
                      <a:lnTo>
                        <a:pt x="227" y="43"/>
                      </a:lnTo>
                      <a:lnTo>
                        <a:pt x="229" y="43"/>
                      </a:lnTo>
                      <a:lnTo>
                        <a:pt x="248" y="38"/>
                      </a:lnTo>
                      <a:lnTo>
                        <a:pt x="265" y="33"/>
                      </a:lnTo>
                      <a:lnTo>
                        <a:pt x="281" y="28"/>
                      </a:lnTo>
                      <a:lnTo>
                        <a:pt x="297" y="22"/>
                      </a:lnTo>
                      <a:lnTo>
                        <a:pt x="311" y="17"/>
                      </a:lnTo>
                      <a:lnTo>
                        <a:pt x="32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"/>
                <p:cNvSpPr/>
                <p:nvPr/>
              </p:nvSpPr>
              <p:spPr>
                <a:xfrm>
                  <a:off x="5604480" y="3768840"/>
                  <a:ext cx="171720" cy="17604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8" y="84"/>
                      </a:moveTo>
                      <a:lnTo>
                        <a:pt x="82" y="0"/>
                      </a:lnTo>
                      <a:lnTo>
                        <a:pt x="0" y="32"/>
                      </a:lnTo>
                      <a:lnTo>
                        <a:pt x="58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8" name=""/>
              <p:cNvSpPr/>
              <p:nvPr/>
            </p:nvSpPr>
            <p:spPr>
              <a:xfrm>
                <a:off x="4257720" y="3768840"/>
                <a:ext cx="765000" cy="247680"/>
              </a:xfrm>
              <a:custGeom>
                <a:avLst/>
                <a:gdLst/>
                <a:ahLst/>
                <a:rect l="l" t="t" r="r" b="b"/>
                <a:pathLst>
                  <a:path w="364" h="118">
                    <a:moveTo>
                      <a:pt x="12" y="0"/>
                    </a:moveTo>
                    <a:lnTo>
                      <a:pt x="0" y="0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9" y="27"/>
                    </a:lnTo>
                    <a:lnTo>
                      <a:pt x="18" y="38"/>
                    </a:lnTo>
                    <a:lnTo>
                      <a:pt x="30" y="48"/>
                    </a:lnTo>
                    <a:lnTo>
                      <a:pt x="32" y="49"/>
                    </a:lnTo>
                    <a:lnTo>
                      <a:pt x="47" y="59"/>
                    </a:lnTo>
                    <a:lnTo>
                      <a:pt x="65" y="68"/>
                    </a:lnTo>
                    <a:lnTo>
                      <a:pt x="85" y="77"/>
                    </a:lnTo>
                    <a:lnTo>
                      <a:pt x="108" y="85"/>
                    </a:lnTo>
                    <a:lnTo>
                      <a:pt x="134" y="92"/>
                    </a:lnTo>
                    <a:lnTo>
                      <a:pt x="161" y="98"/>
                    </a:lnTo>
                    <a:lnTo>
                      <a:pt x="164" y="99"/>
                    </a:lnTo>
                    <a:lnTo>
                      <a:pt x="193" y="105"/>
                    </a:lnTo>
                    <a:lnTo>
                      <a:pt x="225" y="109"/>
                    </a:lnTo>
                    <a:lnTo>
                      <a:pt x="257" y="113"/>
                    </a:lnTo>
                    <a:lnTo>
                      <a:pt x="292" y="116"/>
                    </a:lnTo>
                    <a:lnTo>
                      <a:pt x="327" y="117"/>
                    </a:lnTo>
                    <a:lnTo>
                      <a:pt x="364" y="118"/>
                    </a:lnTo>
                    <a:lnTo>
                      <a:pt x="364" y="106"/>
                    </a:lnTo>
                    <a:lnTo>
                      <a:pt x="327" y="105"/>
                    </a:lnTo>
                    <a:lnTo>
                      <a:pt x="292" y="104"/>
                    </a:lnTo>
                    <a:lnTo>
                      <a:pt x="257" y="101"/>
                    </a:lnTo>
                    <a:lnTo>
                      <a:pt x="225" y="97"/>
                    </a:lnTo>
                    <a:lnTo>
                      <a:pt x="193" y="93"/>
                    </a:lnTo>
                    <a:lnTo>
                      <a:pt x="164" y="87"/>
                    </a:lnTo>
                    <a:lnTo>
                      <a:pt x="164" y="93"/>
                    </a:lnTo>
                    <a:lnTo>
                      <a:pt x="166" y="87"/>
                    </a:lnTo>
                    <a:lnTo>
                      <a:pt x="139" y="81"/>
                    </a:lnTo>
                    <a:lnTo>
                      <a:pt x="113" y="74"/>
                    </a:lnTo>
                    <a:lnTo>
                      <a:pt x="90" y="66"/>
                    </a:lnTo>
                    <a:lnTo>
                      <a:pt x="70" y="57"/>
                    </a:lnTo>
                    <a:lnTo>
                      <a:pt x="52" y="48"/>
                    </a:lnTo>
                    <a:lnTo>
                      <a:pt x="37" y="38"/>
                    </a:lnTo>
                    <a:lnTo>
                      <a:pt x="34" y="44"/>
                    </a:lnTo>
                    <a:lnTo>
                      <a:pt x="39" y="39"/>
                    </a:lnTo>
                    <a:lnTo>
                      <a:pt x="27" y="29"/>
                    </a:lnTo>
                    <a:lnTo>
                      <a:pt x="18" y="18"/>
                    </a:lnTo>
                    <a:lnTo>
                      <a:pt x="12" y="7"/>
                    </a:lnTo>
                    <a:lnTo>
                      <a:pt x="8" y="12"/>
                    </a:lnTo>
                    <a:lnTo>
                      <a:pt x="14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9" name=""/>
          <p:cNvGrpSpPr/>
          <p:nvPr/>
        </p:nvGrpSpPr>
        <p:grpSpPr>
          <a:xfrm>
            <a:off x="2576520" y="2786040"/>
            <a:ext cx="958320" cy="482400"/>
            <a:chOff x="2576520" y="2786040"/>
            <a:chExt cx="958320" cy="482400"/>
          </a:xfrm>
        </p:grpSpPr>
        <p:grpSp>
          <p:nvGrpSpPr>
            <p:cNvPr id="5150" name=""/>
            <p:cNvGrpSpPr/>
            <p:nvPr/>
          </p:nvGrpSpPr>
          <p:grpSpPr>
            <a:xfrm>
              <a:off x="3144960" y="2786040"/>
              <a:ext cx="389880" cy="482400"/>
              <a:chOff x="3144960" y="2786040"/>
              <a:chExt cx="389880" cy="482400"/>
            </a:xfrm>
          </p:grpSpPr>
          <p:sp>
            <p:nvSpPr>
              <p:cNvPr id="5151" name=""/>
              <p:cNvSpPr/>
              <p:nvPr/>
            </p:nvSpPr>
            <p:spPr>
              <a:xfrm>
                <a:off x="3144960" y="2853000"/>
                <a:ext cx="389880" cy="415440"/>
              </a:xfrm>
              <a:custGeom>
                <a:avLst/>
                <a:gdLst/>
                <a:ahLst/>
                <a:rect l="l" t="t" r="r" b="b"/>
                <a:pathLst>
                  <a:path w="186" h="198">
                    <a:moveTo>
                      <a:pt x="65" y="13"/>
                    </a:moveTo>
                    <a:lnTo>
                      <a:pt x="69" y="2"/>
                    </a:lnTo>
                    <a:lnTo>
                      <a:pt x="69" y="1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4" y="0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49" y="7"/>
                    </a:lnTo>
                    <a:lnTo>
                      <a:pt x="47" y="8"/>
                    </a:lnTo>
                    <a:lnTo>
                      <a:pt x="36" y="16"/>
                    </a:lnTo>
                    <a:lnTo>
                      <a:pt x="26" y="26"/>
                    </a:lnTo>
                    <a:lnTo>
                      <a:pt x="18" y="37"/>
                    </a:lnTo>
                    <a:lnTo>
                      <a:pt x="11" y="49"/>
                    </a:lnTo>
                    <a:lnTo>
                      <a:pt x="9" y="53"/>
                    </a:lnTo>
                    <a:lnTo>
                      <a:pt x="4" y="66"/>
                    </a:lnTo>
                    <a:lnTo>
                      <a:pt x="1" y="80"/>
                    </a:lnTo>
                    <a:lnTo>
                      <a:pt x="0" y="95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8" y="133"/>
                    </a:lnTo>
                    <a:lnTo>
                      <a:pt x="9" y="137"/>
                    </a:lnTo>
                    <a:lnTo>
                      <a:pt x="18" y="154"/>
                    </a:lnTo>
                    <a:lnTo>
                      <a:pt x="30" y="168"/>
                    </a:lnTo>
                    <a:lnTo>
                      <a:pt x="44" y="180"/>
                    </a:lnTo>
                    <a:lnTo>
                      <a:pt x="46" y="181"/>
                    </a:lnTo>
                    <a:lnTo>
                      <a:pt x="62" y="190"/>
                    </a:lnTo>
                    <a:lnTo>
                      <a:pt x="80" y="196"/>
                    </a:lnTo>
                    <a:lnTo>
                      <a:pt x="83" y="196"/>
                    </a:lnTo>
                    <a:lnTo>
                      <a:pt x="92" y="198"/>
                    </a:lnTo>
                    <a:lnTo>
                      <a:pt x="102" y="198"/>
                    </a:lnTo>
                    <a:lnTo>
                      <a:pt x="114" y="197"/>
                    </a:lnTo>
                    <a:lnTo>
                      <a:pt x="126" y="195"/>
                    </a:lnTo>
                    <a:lnTo>
                      <a:pt x="128" y="195"/>
                    </a:lnTo>
                    <a:lnTo>
                      <a:pt x="139" y="191"/>
                    </a:lnTo>
                    <a:lnTo>
                      <a:pt x="150" y="186"/>
                    </a:lnTo>
                    <a:lnTo>
                      <a:pt x="160" y="180"/>
                    </a:lnTo>
                    <a:lnTo>
                      <a:pt x="162" y="179"/>
                    </a:lnTo>
                    <a:lnTo>
                      <a:pt x="171" y="172"/>
                    </a:lnTo>
                    <a:lnTo>
                      <a:pt x="179" y="163"/>
                    </a:lnTo>
                    <a:lnTo>
                      <a:pt x="186" y="154"/>
                    </a:lnTo>
                    <a:lnTo>
                      <a:pt x="178" y="145"/>
                    </a:lnTo>
                    <a:lnTo>
                      <a:pt x="170" y="154"/>
                    </a:lnTo>
                    <a:lnTo>
                      <a:pt x="162" y="163"/>
                    </a:lnTo>
                    <a:lnTo>
                      <a:pt x="153" y="170"/>
                    </a:lnTo>
                    <a:lnTo>
                      <a:pt x="157" y="175"/>
                    </a:lnTo>
                    <a:lnTo>
                      <a:pt x="155" y="169"/>
                    </a:lnTo>
                    <a:lnTo>
                      <a:pt x="145" y="175"/>
                    </a:lnTo>
                    <a:lnTo>
                      <a:pt x="134" y="180"/>
                    </a:lnTo>
                    <a:lnTo>
                      <a:pt x="123" y="184"/>
                    </a:lnTo>
                    <a:lnTo>
                      <a:pt x="126" y="189"/>
                    </a:lnTo>
                    <a:lnTo>
                      <a:pt x="126" y="183"/>
                    </a:lnTo>
                    <a:lnTo>
                      <a:pt x="114" y="185"/>
                    </a:lnTo>
                    <a:lnTo>
                      <a:pt x="102" y="186"/>
                    </a:lnTo>
                    <a:lnTo>
                      <a:pt x="92" y="186"/>
                    </a:lnTo>
                    <a:lnTo>
                      <a:pt x="83" y="184"/>
                    </a:lnTo>
                    <a:lnTo>
                      <a:pt x="83" y="190"/>
                    </a:lnTo>
                    <a:lnTo>
                      <a:pt x="85" y="185"/>
                    </a:lnTo>
                    <a:lnTo>
                      <a:pt x="67" y="179"/>
                    </a:lnTo>
                    <a:lnTo>
                      <a:pt x="51" y="170"/>
                    </a:lnTo>
                    <a:lnTo>
                      <a:pt x="48" y="176"/>
                    </a:lnTo>
                    <a:lnTo>
                      <a:pt x="53" y="171"/>
                    </a:lnTo>
                    <a:lnTo>
                      <a:pt x="39" y="159"/>
                    </a:lnTo>
                    <a:lnTo>
                      <a:pt x="27" y="145"/>
                    </a:lnTo>
                    <a:lnTo>
                      <a:pt x="18" y="128"/>
                    </a:lnTo>
                    <a:lnTo>
                      <a:pt x="14" y="133"/>
                    </a:lnTo>
                    <a:lnTo>
                      <a:pt x="20" y="133"/>
                    </a:lnTo>
                    <a:lnTo>
                      <a:pt x="14" y="115"/>
                    </a:lnTo>
                    <a:lnTo>
                      <a:pt x="13" y="105"/>
                    </a:lnTo>
                    <a:lnTo>
                      <a:pt x="12" y="95"/>
                    </a:lnTo>
                    <a:lnTo>
                      <a:pt x="13" y="80"/>
                    </a:lnTo>
                    <a:lnTo>
                      <a:pt x="16" y="66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20" y="58"/>
                    </a:lnTo>
                    <a:lnTo>
                      <a:pt x="27" y="46"/>
                    </a:lnTo>
                    <a:lnTo>
                      <a:pt x="35" y="35"/>
                    </a:lnTo>
                    <a:lnTo>
                      <a:pt x="45" y="25"/>
                    </a:lnTo>
                    <a:lnTo>
                      <a:pt x="56" y="17"/>
                    </a:lnTo>
                    <a:lnTo>
                      <a:pt x="52" y="13"/>
                    </a:lnTo>
                    <a:lnTo>
                      <a:pt x="54" y="18"/>
                    </a:lnTo>
                    <a:lnTo>
                      <a:pt x="67" y="12"/>
                    </a:lnTo>
                    <a:lnTo>
                      <a:pt x="64" y="12"/>
                    </a:lnTo>
                    <a:lnTo>
                      <a:pt x="66" y="11"/>
                    </a:lnTo>
                    <a:lnTo>
                      <a:pt x="64" y="6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278880" y="2786040"/>
                <a:ext cx="165240" cy="1634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8"/>
                    </a:moveTo>
                    <a:lnTo>
                      <a:pt x="79" y="40"/>
                    </a:lnTo>
                    <a:lnTo>
                      <a:pt x="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3" name=""/>
            <p:cNvSpPr/>
            <p:nvPr/>
          </p:nvSpPr>
          <p:spPr>
            <a:xfrm>
              <a:off x="2576520" y="2884320"/>
              <a:ext cx="636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2698920" y="29559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5" name=""/>
            <p:cNvGrpSpPr/>
            <p:nvPr/>
          </p:nvGrpSpPr>
          <p:grpSpPr>
            <a:xfrm>
              <a:off x="3144960" y="2786040"/>
              <a:ext cx="389880" cy="482400"/>
              <a:chOff x="3144960" y="2786040"/>
              <a:chExt cx="389880" cy="482400"/>
            </a:xfrm>
          </p:grpSpPr>
          <p:sp>
            <p:nvSpPr>
              <p:cNvPr id="5156" name=""/>
              <p:cNvSpPr/>
              <p:nvPr/>
            </p:nvSpPr>
            <p:spPr>
              <a:xfrm>
                <a:off x="3144960" y="2853000"/>
                <a:ext cx="389880" cy="415440"/>
              </a:xfrm>
              <a:custGeom>
                <a:avLst/>
                <a:gdLst/>
                <a:ahLst/>
                <a:rect l="l" t="t" r="r" b="b"/>
                <a:pathLst>
                  <a:path w="186" h="198">
                    <a:moveTo>
                      <a:pt x="65" y="13"/>
                    </a:moveTo>
                    <a:lnTo>
                      <a:pt x="69" y="2"/>
                    </a:lnTo>
                    <a:lnTo>
                      <a:pt x="69" y="1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4" y="0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49" y="7"/>
                    </a:lnTo>
                    <a:lnTo>
                      <a:pt x="47" y="8"/>
                    </a:lnTo>
                    <a:lnTo>
                      <a:pt x="36" y="16"/>
                    </a:lnTo>
                    <a:lnTo>
                      <a:pt x="26" y="26"/>
                    </a:lnTo>
                    <a:lnTo>
                      <a:pt x="18" y="37"/>
                    </a:lnTo>
                    <a:lnTo>
                      <a:pt x="11" y="49"/>
                    </a:lnTo>
                    <a:lnTo>
                      <a:pt x="9" y="53"/>
                    </a:lnTo>
                    <a:lnTo>
                      <a:pt x="4" y="66"/>
                    </a:lnTo>
                    <a:lnTo>
                      <a:pt x="1" y="80"/>
                    </a:lnTo>
                    <a:lnTo>
                      <a:pt x="0" y="95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8" y="133"/>
                    </a:lnTo>
                    <a:lnTo>
                      <a:pt x="9" y="137"/>
                    </a:lnTo>
                    <a:lnTo>
                      <a:pt x="18" y="154"/>
                    </a:lnTo>
                    <a:lnTo>
                      <a:pt x="30" y="168"/>
                    </a:lnTo>
                    <a:lnTo>
                      <a:pt x="44" y="180"/>
                    </a:lnTo>
                    <a:lnTo>
                      <a:pt x="46" y="181"/>
                    </a:lnTo>
                    <a:lnTo>
                      <a:pt x="62" y="190"/>
                    </a:lnTo>
                    <a:lnTo>
                      <a:pt x="80" y="196"/>
                    </a:lnTo>
                    <a:lnTo>
                      <a:pt x="83" y="196"/>
                    </a:lnTo>
                    <a:lnTo>
                      <a:pt x="92" y="198"/>
                    </a:lnTo>
                    <a:lnTo>
                      <a:pt x="102" y="198"/>
                    </a:lnTo>
                    <a:lnTo>
                      <a:pt x="114" y="197"/>
                    </a:lnTo>
                    <a:lnTo>
                      <a:pt x="126" y="195"/>
                    </a:lnTo>
                    <a:lnTo>
                      <a:pt x="128" y="195"/>
                    </a:lnTo>
                    <a:lnTo>
                      <a:pt x="139" y="191"/>
                    </a:lnTo>
                    <a:lnTo>
                      <a:pt x="150" y="186"/>
                    </a:lnTo>
                    <a:lnTo>
                      <a:pt x="160" y="180"/>
                    </a:lnTo>
                    <a:lnTo>
                      <a:pt x="162" y="179"/>
                    </a:lnTo>
                    <a:lnTo>
                      <a:pt x="171" y="172"/>
                    </a:lnTo>
                    <a:lnTo>
                      <a:pt x="179" y="163"/>
                    </a:lnTo>
                    <a:lnTo>
                      <a:pt x="186" y="154"/>
                    </a:lnTo>
                    <a:lnTo>
                      <a:pt x="178" y="145"/>
                    </a:lnTo>
                    <a:lnTo>
                      <a:pt x="170" y="154"/>
                    </a:lnTo>
                    <a:lnTo>
                      <a:pt x="162" y="163"/>
                    </a:lnTo>
                    <a:lnTo>
                      <a:pt x="153" y="170"/>
                    </a:lnTo>
                    <a:lnTo>
                      <a:pt x="157" y="175"/>
                    </a:lnTo>
                    <a:lnTo>
                      <a:pt x="155" y="169"/>
                    </a:lnTo>
                    <a:lnTo>
                      <a:pt x="145" y="175"/>
                    </a:lnTo>
                    <a:lnTo>
                      <a:pt x="134" y="180"/>
                    </a:lnTo>
                    <a:lnTo>
                      <a:pt x="123" y="184"/>
                    </a:lnTo>
                    <a:lnTo>
                      <a:pt x="126" y="189"/>
                    </a:lnTo>
                    <a:lnTo>
                      <a:pt x="126" y="183"/>
                    </a:lnTo>
                    <a:lnTo>
                      <a:pt x="114" y="185"/>
                    </a:lnTo>
                    <a:lnTo>
                      <a:pt x="102" y="186"/>
                    </a:lnTo>
                    <a:lnTo>
                      <a:pt x="92" y="186"/>
                    </a:lnTo>
                    <a:lnTo>
                      <a:pt x="83" y="184"/>
                    </a:lnTo>
                    <a:lnTo>
                      <a:pt x="83" y="190"/>
                    </a:lnTo>
                    <a:lnTo>
                      <a:pt x="85" y="185"/>
                    </a:lnTo>
                    <a:lnTo>
                      <a:pt x="67" y="179"/>
                    </a:lnTo>
                    <a:lnTo>
                      <a:pt x="51" y="170"/>
                    </a:lnTo>
                    <a:lnTo>
                      <a:pt x="48" y="176"/>
                    </a:lnTo>
                    <a:lnTo>
                      <a:pt x="53" y="171"/>
                    </a:lnTo>
                    <a:lnTo>
                      <a:pt x="39" y="159"/>
                    </a:lnTo>
                    <a:lnTo>
                      <a:pt x="27" y="145"/>
                    </a:lnTo>
                    <a:lnTo>
                      <a:pt x="18" y="128"/>
                    </a:lnTo>
                    <a:lnTo>
                      <a:pt x="14" y="133"/>
                    </a:lnTo>
                    <a:lnTo>
                      <a:pt x="20" y="133"/>
                    </a:lnTo>
                    <a:lnTo>
                      <a:pt x="14" y="115"/>
                    </a:lnTo>
                    <a:lnTo>
                      <a:pt x="13" y="105"/>
                    </a:lnTo>
                    <a:lnTo>
                      <a:pt x="12" y="95"/>
                    </a:lnTo>
                    <a:lnTo>
                      <a:pt x="13" y="80"/>
                    </a:lnTo>
                    <a:lnTo>
                      <a:pt x="16" y="66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20" y="58"/>
                    </a:lnTo>
                    <a:lnTo>
                      <a:pt x="27" y="46"/>
                    </a:lnTo>
                    <a:lnTo>
                      <a:pt x="35" y="35"/>
                    </a:lnTo>
                    <a:lnTo>
                      <a:pt x="45" y="25"/>
                    </a:lnTo>
                    <a:lnTo>
                      <a:pt x="56" y="17"/>
                    </a:lnTo>
                    <a:lnTo>
                      <a:pt x="52" y="13"/>
                    </a:lnTo>
                    <a:lnTo>
                      <a:pt x="54" y="18"/>
                    </a:lnTo>
                    <a:lnTo>
                      <a:pt x="67" y="12"/>
                    </a:lnTo>
                    <a:lnTo>
                      <a:pt x="64" y="12"/>
                    </a:lnTo>
                    <a:lnTo>
                      <a:pt x="66" y="11"/>
                    </a:lnTo>
                    <a:lnTo>
                      <a:pt x="64" y="6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278880" y="2786040"/>
                <a:ext cx="165240" cy="1634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8"/>
                    </a:moveTo>
                    <a:lnTo>
                      <a:pt x="79" y="40"/>
                    </a:lnTo>
                    <a:lnTo>
                      <a:pt x="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58" name=""/>
          <p:cNvGrpSpPr/>
          <p:nvPr/>
        </p:nvGrpSpPr>
        <p:grpSpPr>
          <a:xfrm>
            <a:off x="4761000" y="2784600"/>
            <a:ext cx="840960" cy="482040"/>
            <a:chOff x="4761000" y="2784600"/>
            <a:chExt cx="840960" cy="482040"/>
          </a:xfrm>
        </p:grpSpPr>
        <p:sp>
          <p:nvSpPr>
            <p:cNvPr id="5159" name=""/>
            <p:cNvSpPr/>
            <p:nvPr/>
          </p:nvSpPr>
          <p:spPr>
            <a:xfrm>
              <a:off x="4761000" y="29541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0" name=""/>
            <p:cNvGrpSpPr/>
            <p:nvPr/>
          </p:nvGrpSpPr>
          <p:grpSpPr>
            <a:xfrm>
              <a:off x="5210280" y="2784600"/>
              <a:ext cx="391680" cy="482040"/>
              <a:chOff x="5210280" y="2784600"/>
              <a:chExt cx="391680" cy="482040"/>
            </a:xfrm>
          </p:grpSpPr>
          <p:sp>
            <p:nvSpPr>
              <p:cNvPr id="5161" name=""/>
              <p:cNvSpPr/>
              <p:nvPr/>
            </p:nvSpPr>
            <p:spPr>
              <a:xfrm>
                <a:off x="5210280" y="2851560"/>
                <a:ext cx="391680" cy="415080"/>
              </a:xfrm>
              <a:custGeom>
                <a:avLst/>
                <a:gdLst/>
                <a:ahLst/>
                <a:rect l="l" t="t" r="r" b="b"/>
                <a:pathLst>
                  <a:path w="187" h="198">
                    <a:moveTo>
                      <a:pt x="65" y="13"/>
                    </a:moveTo>
                    <a:lnTo>
                      <a:pt x="70" y="2"/>
                    </a:lnTo>
                    <a:lnTo>
                      <a:pt x="69" y="1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3" y="1"/>
                    </a:lnTo>
                    <a:lnTo>
                      <a:pt x="50" y="7"/>
                    </a:lnTo>
                    <a:lnTo>
                      <a:pt x="48" y="8"/>
                    </a:lnTo>
                    <a:lnTo>
                      <a:pt x="37" y="16"/>
                    </a:lnTo>
                    <a:lnTo>
                      <a:pt x="26" y="26"/>
                    </a:lnTo>
                    <a:lnTo>
                      <a:pt x="18" y="37"/>
                    </a:lnTo>
                    <a:lnTo>
                      <a:pt x="11" y="49"/>
                    </a:lnTo>
                    <a:lnTo>
                      <a:pt x="9" y="53"/>
                    </a:lnTo>
                    <a:lnTo>
                      <a:pt x="4" y="66"/>
                    </a:lnTo>
                    <a:lnTo>
                      <a:pt x="1" y="80"/>
                    </a:lnTo>
                    <a:lnTo>
                      <a:pt x="0" y="95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8" y="133"/>
                    </a:lnTo>
                    <a:lnTo>
                      <a:pt x="9" y="137"/>
                    </a:lnTo>
                    <a:lnTo>
                      <a:pt x="18" y="154"/>
                    </a:lnTo>
                    <a:lnTo>
                      <a:pt x="30" y="168"/>
                    </a:lnTo>
                    <a:lnTo>
                      <a:pt x="44" y="180"/>
                    </a:lnTo>
                    <a:lnTo>
                      <a:pt x="46" y="181"/>
                    </a:lnTo>
                    <a:lnTo>
                      <a:pt x="63" y="190"/>
                    </a:lnTo>
                    <a:lnTo>
                      <a:pt x="81" y="196"/>
                    </a:lnTo>
                    <a:lnTo>
                      <a:pt x="83" y="196"/>
                    </a:lnTo>
                    <a:lnTo>
                      <a:pt x="93" y="198"/>
                    </a:lnTo>
                    <a:lnTo>
                      <a:pt x="103" y="198"/>
                    </a:lnTo>
                    <a:lnTo>
                      <a:pt x="115" y="197"/>
                    </a:lnTo>
                    <a:lnTo>
                      <a:pt x="127" y="195"/>
                    </a:lnTo>
                    <a:lnTo>
                      <a:pt x="129" y="195"/>
                    </a:lnTo>
                    <a:lnTo>
                      <a:pt x="140" y="191"/>
                    </a:lnTo>
                    <a:lnTo>
                      <a:pt x="151" y="186"/>
                    </a:lnTo>
                    <a:lnTo>
                      <a:pt x="161" y="180"/>
                    </a:lnTo>
                    <a:lnTo>
                      <a:pt x="163" y="179"/>
                    </a:lnTo>
                    <a:lnTo>
                      <a:pt x="172" y="172"/>
                    </a:lnTo>
                    <a:lnTo>
                      <a:pt x="180" y="163"/>
                    </a:lnTo>
                    <a:lnTo>
                      <a:pt x="187" y="154"/>
                    </a:lnTo>
                    <a:lnTo>
                      <a:pt x="179" y="145"/>
                    </a:lnTo>
                    <a:lnTo>
                      <a:pt x="171" y="154"/>
                    </a:lnTo>
                    <a:lnTo>
                      <a:pt x="163" y="163"/>
                    </a:lnTo>
                    <a:lnTo>
                      <a:pt x="154" y="170"/>
                    </a:lnTo>
                    <a:lnTo>
                      <a:pt x="158" y="175"/>
                    </a:lnTo>
                    <a:lnTo>
                      <a:pt x="156" y="169"/>
                    </a:lnTo>
                    <a:lnTo>
                      <a:pt x="146" y="175"/>
                    </a:lnTo>
                    <a:lnTo>
                      <a:pt x="135" y="180"/>
                    </a:lnTo>
                    <a:lnTo>
                      <a:pt x="124" y="184"/>
                    </a:lnTo>
                    <a:lnTo>
                      <a:pt x="127" y="189"/>
                    </a:lnTo>
                    <a:lnTo>
                      <a:pt x="127" y="183"/>
                    </a:lnTo>
                    <a:lnTo>
                      <a:pt x="115" y="185"/>
                    </a:lnTo>
                    <a:lnTo>
                      <a:pt x="103" y="186"/>
                    </a:lnTo>
                    <a:lnTo>
                      <a:pt x="93" y="186"/>
                    </a:lnTo>
                    <a:lnTo>
                      <a:pt x="83" y="184"/>
                    </a:lnTo>
                    <a:lnTo>
                      <a:pt x="83" y="190"/>
                    </a:lnTo>
                    <a:lnTo>
                      <a:pt x="86" y="185"/>
                    </a:lnTo>
                    <a:lnTo>
                      <a:pt x="68" y="179"/>
                    </a:lnTo>
                    <a:lnTo>
                      <a:pt x="51" y="170"/>
                    </a:lnTo>
                    <a:lnTo>
                      <a:pt x="49" y="176"/>
                    </a:lnTo>
                    <a:lnTo>
                      <a:pt x="53" y="171"/>
                    </a:lnTo>
                    <a:lnTo>
                      <a:pt x="39" y="159"/>
                    </a:lnTo>
                    <a:lnTo>
                      <a:pt x="27" y="145"/>
                    </a:lnTo>
                    <a:lnTo>
                      <a:pt x="18" y="128"/>
                    </a:lnTo>
                    <a:lnTo>
                      <a:pt x="14" y="133"/>
                    </a:lnTo>
                    <a:lnTo>
                      <a:pt x="20" y="133"/>
                    </a:lnTo>
                    <a:lnTo>
                      <a:pt x="14" y="115"/>
                    </a:lnTo>
                    <a:lnTo>
                      <a:pt x="13" y="105"/>
                    </a:lnTo>
                    <a:lnTo>
                      <a:pt x="12" y="95"/>
                    </a:lnTo>
                    <a:lnTo>
                      <a:pt x="13" y="80"/>
                    </a:lnTo>
                    <a:lnTo>
                      <a:pt x="16" y="66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20" y="58"/>
                    </a:lnTo>
                    <a:lnTo>
                      <a:pt x="27" y="46"/>
                    </a:lnTo>
                    <a:lnTo>
                      <a:pt x="35" y="35"/>
                    </a:lnTo>
                    <a:lnTo>
                      <a:pt x="46" y="25"/>
                    </a:lnTo>
                    <a:lnTo>
                      <a:pt x="57" y="17"/>
                    </a:lnTo>
                    <a:lnTo>
                      <a:pt x="52" y="13"/>
                    </a:lnTo>
                    <a:lnTo>
                      <a:pt x="55" y="18"/>
                    </a:lnTo>
                    <a:lnTo>
                      <a:pt x="68" y="12"/>
                    </a:lnTo>
                    <a:lnTo>
                      <a:pt x="63" y="11"/>
                    </a:lnTo>
                    <a:lnTo>
                      <a:pt x="65" y="12"/>
                    </a:lnTo>
                    <a:lnTo>
                      <a:pt x="67" y="11"/>
                    </a:lnTo>
                    <a:lnTo>
                      <a:pt x="65" y="6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5344200" y="2784600"/>
                <a:ext cx="163440" cy="1634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0" y="78"/>
                    </a:moveTo>
                    <a:lnTo>
                      <a:pt x="78" y="41"/>
                    </a:lnTo>
                    <a:lnTo>
                      <a:pt x="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63" name=""/>
          <p:cNvGrpSpPr/>
          <p:nvPr/>
        </p:nvGrpSpPr>
        <p:grpSpPr>
          <a:xfrm>
            <a:off x="6715080" y="2786040"/>
            <a:ext cx="969480" cy="482400"/>
            <a:chOff x="6715080" y="2786040"/>
            <a:chExt cx="969480" cy="482400"/>
          </a:xfrm>
        </p:grpSpPr>
        <p:grpSp>
          <p:nvGrpSpPr>
            <p:cNvPr id="5164" name=""/>
            <p:cNvGrpSpPr/>
            <p:nvPr/>
          </p:nvGrpSpPr>
          <p:grpSpPr>
            <a:xfrm>
              <a:off x="7294680" y="2786040"/>
              <a:ext cx="389880" cy="482400"/>
              <a:chOff x="7294680" y="2786040"/>
              <a:chExt cx="389880" cy="482400"/>
            </a:xfrm>
          </p:grpSpPr>
          <p:sp>
            <p:nvSpPr>
              <p:cNvPr id="5165" name=""/>
              <p:cNvSpPr/>
              <p:nvPr/>
            </p:nvSpPr>
            <p:spPr>
              <a:xfrm>
                <a:off x="7294680" y="2853000"/>
                <a:ext cx="389880" cy="415440"/>
              </a:xfrm>
              <a:custGeom>
                <a:avLst/>
                <a:gdLst/>
                <a:ahLst/>
                <a:rect l="l" t="t" r="r" b="b"/>
                <a:pathLst>
                  <a:path w="186" h="198">
                    <a:moveTo>
                      <a:pt x="65" y="13"/>
                    </a:moveTo>
                    <a:lnTo>
                      <a:pt x="69" y="2"/>
                    </a:lnTo>
                    <a:lnTo>
                      <a:pt x="69" y="1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4" y="0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49" y="7"/>
                    </a:lnTo>
                    <a:lnTo>
                      <a:pt x="47" y="8"/>
                    </a:lnTo>
                    <a:lnTo>
                      <a:pt x="36" y="16"/>
                    </a:lnTo>
                    <a:lnTo>
                      <a:pt x="26" y="26"/>
                    </a:lnTo>
                    <a:lnTo>
                      <a:pt x="18" y="37"/>
                    </a:lnTo>
                    <a:lnTo>
                      <a:pt x="11" y="49"/>
                    </a:lnTo>
                    <a:lnTo>
                      <a:pt x="9" y="53"/>
                    </a:lnTo>
                    <a:lnTo>
                      <a:pt x="4" y="66"/>
                    </a:lnTo>
                    <a:lnTo>
                      <a:pt x="1" y="80"/>
                    </a:lnTo>
                    <a:lnTo>
                      <a:pt x="0" y="95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8" y="133"/>
                    </a:lnTo>
                    <a:lnTo>
                      <a:pt x="9" y="137"/>
                    </a:lnTo>
                    <a:lnTo>
                      <a:pt x="18" y="154"/>
                    </a:lnTo>
                    <a:lnTo>
                      <a:pt x="30" y="168"/>
                    </a:lnTo>
                    <a:lnTo>
                      <a:pt x="44" y="180"/>
                    </a:lnTo>
                    <a:lnTo>
                      <a:pt x="46" y="181"/>
                    </a:lnTo>
                    <a:lnTo>
                      <a:pt x="62" y="190"/>
                    </a:lnTo>
                    <a:lnTo>
                      <a:pt x="80" y="196"/>
                    </a:lnTo>
                    <a:lnTo>
                      <a:pt x="83" y="196"/>
                    </a:lnTo>
                    <a:lnTo>
                      <a:pt x="92" y="198"/>
                    </a:lnTo>
                    <a:lnTo>
                      <a:pt x="102" y="198"/>
                    </a:lnTo>
                    <a:lnTo>
                      <a:pt x="114" y="197"/>
                    </a:lnTo>
                    <a:lnTo>
                      <a:pt x="126" y="195"/>
                    </a:lnTo>
                    <a:lnTo>
                      <a:pt x="128" y="195"/>
                    </a:lnTo>
                    <a:lnTo>
                      <a:pt x="139" y="191"/>
                    </a:lnTo>
                    <a:lnTo>
                      <a:pt x="150" y="186"/>
                    </a:lnTo>
                    <a:lnTo>
                      <a:pt x="160" y="180"/>
                    </a:lnTo>
                    <a:lnTo>
                      <a:pt x="162" y="179"/>
                    </a:lnTo>
                    <a:lnTo>
                      <a:pt x="171" y="172"/>
                    </a:lnTo>
                    <a:lnTo>
                      <a:pt x="179" y="163"/>
                    </a:lnTo>
                    <a:lnTo>
                      <a:pt x="186" y="154"/>
                    </a:lnTo>
                    <a:lnTo>
                      <a:pt x="178" y="145"/>
                    </a:lnTo>
                    <a:lnTo>
                      <a:pt x="170" y="154"/>
                    </a:lnTo>
                    <a:lnTo>
                      <a:pt x="162" y="163"/>
                    </a:lnTo>
                    <a:lnTo>
                      <a:pt x="153" y="170"/>
                    </a:lnTo>
                    <a:lnTo>
                      <a:pt x="157" y="175"/>
                    </a:lnTo>
                    <a:lnTo>
                      <a:pt x="155" y="169"/>
                    </a:lnTo>
                    <a:lnTo>
                      <a:pt x="145" y="175"/>
                    </a:lnTo>
                    <a:lnTo>
                      <a:pt x="134" y="180"/>
                    </a:lnTo>
                    <a:lnTo>
                      <a:pt x="123" y="184"/>
                    </a:lnTo>
                    <a:lnTo>
                      <a:pt x="126" y="189"/>
                    </a:lnTo>
                    <a:lnTo>
                      <a:pt x="126" y="183"/>
                    </a:lnTo>
                    <a:lnTo>
                      <a:pt x="114" y="185"/>
                    </a:lnTo>
                    <a:lnTo>
                      <a:pt x="102" y="186"/>
                    </a:lnTo>
                    <a:lnTo>
                      <a:pt x="92" y="186"/>
                    </a:lnTo>
                    <a:lnTo>
                      <a:pt x="83" y="184"/>
                    </a:lnTo>
                    <a:lnTo>
                      <a:pt x="83" y="190"/>
                    </a:lnTo>
                    <a:lnTo>
                      <a:pt x="85" y="185"/>
                    </a:lnTo>
                    <a:lnTo>
                      <a:pt x="67" y="179"/>
                    </a:lnTo>
                    <a:lnTo>
                      <a:pt x="51" y="170"/>
                    </a:lnTo>
                    <a:lnTo>
                      <a:pt x="48" y="176"/>
                    </a:lnTo>
                    <a:lnTo>
                      <a:pt x="53" y="171"/>
                    </a:lnTo>
                    <a:lnTo>
                      <a:pt x="39" y="159"/>
                    </a:lnTo>
                    <a:lnTo>
                      <a:pt x="27" y="145"/>
                    </a:lnTo>
                    <a:lnTo>
                      <a:pt x="18" y="128"/>
                    </a:lnTo>
                    <a:lnTo>
                      <a:pt x="14" y="133"/>
                    </a:lnTo>
                    <a:lnTo>
                      <a:pt x="20" y="133"/>
                    </a:lnTo>
                    <a:lnTo>
                      <a:pt x="14" y="115"/>
                    </a:lnTo>
                    <a:lnTo>
                      <a:pt x="13" y="105"/>
                    </a:lnTo>
                    <a:lnTo>
                      <a:pt x="12" y="95"/>
                    </a:lnTo>
                    <a:lnTo>
                      <a:pt x="13" y="80"/>
                    </a:lnTo>
                    <a:lnTo>
                      <a:pt x="16" y="66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20" y="58"/>
                    </a:lnTo>
                    <a:lnTo>
                      <a:pt x="27" y="46"/>
                    </a:lnTo>
                    <a:lnTo>
                      <a:pt x="35" y="35"/>
                    </a:lnTo>
                    <a:lnTo>
                      <a:pt x="45" y="25"/>
                    </a:lnTo>
                    <a:lnTo>
                      <a:pt x="56" y="17"/>
                    </a:lnTo>
                    <a:lnTo>
                      <a:pt x="52" y="13"/>
                    </a:lnTo>
                    <a:lnTo>
                      <a:pt x="54" y="18"/>
                    </a:lnTo>
                    <a:lnTo>
                      <a:pt x="67" y="12"/>
                    </a:lnTo>
                    <a:lnTo>
                      <a:pt x="64" y="12"/>
                    </a:lnTo>
                    <a:lnTo>
                      <a:pt x="66" y="11"/>
                    </a:lnTo>
                    <a:lnTo>
                      <a:pt x="64" y="6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428960" y="2786040"/>
                <a:ext cx="165240" cy="1634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8"/>
                    </a:moveTo>
                    <a:lnTo>
                      <a:pt x="79" y="40"/>
                    </a:lnTo>
                    <a:lnTo>
                      <a:pt x="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7" name=""/>
            <p:cNvSpPr/>
            <p:nvPr/>
          </p:nvSpPr>
          <p:spPr>
            <a:xfrm>
              <a:off x="6715080" y="2882880"/>
              <a:ext cx="636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6837480" y="29541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9" name=""/>
            <p:cNvGrpSpPr/>
            <p:nvPr/>
          </p:nvGrpSpPr>
          <p:grpSpPr>
            <a:xfrm>
              <a:off x="7294680" y="2786040"/>
              <a:ext cx="389880" cy="482400"/>
              <a:chOff x="7294680" y="2786040"/>
              <a:chExt cx="389880" cy="482400"/>
            </a:xfrm>
          </p:grpSpPr>
          <p:sp>
            <p:nvSpPr>
              <p:cNvPr id="5170" name=""/>
              <p:cNvSpPr/>
              <p:nvPr/>
            </p:nvSpPr>
            <p:spPr>
              <a:xfrm>
                <a:off x="7294680" y="2853000"/>
                <a:ext cx="389880" cy="415440"/>
              </a:xfrm>
              <a:custGeom>
                <a:avLst/>
                <a:gdLst/>
                <a:ahLst/>
                <a:rect l="l" t="t" r="r" b="b"/>
                <a:pathLst>
                  <a:path w="186" h="198">
                    <a:moveTo>
                      <a:pt x="65" y="13"/>
                    </a:moveTo>
                    <a:lnTo>
                      <a:pt x="69" y="2"/>
                    </a:lnTo>
                    <a:lnTo>
                      <a:pt x="69" y="1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4" y="0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49" y="7"/>
                    </a:lnTo>
                    <a:lnTo>
                      <a:pt x="47" y="8"/>
                    </a:lnTo>
                    <a:lnTo>
                      <a:pt x="36" y="16"/>
                    </a:lnTo>
                    <a:lnTo>
                      <a:pt x="26" y="26"/>
                    </a:lnTo>
                    <a:lnTo>
                      <a:pt x="18" y="37"/>
                    </a:lnTo>
                    <a:lnTo>
                      <a:pt x="11" y="49"/>
                    </a:lnTo>
                    <a:lnTo>
                      <a:pt x="9" y="53"/>
                    </a:lnTo>
                    <a:lnTo>
                      <a:pt x="4" y="66"/>
                    </a:lnTo>
                    <a:lnTo>
                      <a:pt x="1" y="80"/>
                    </a:lnTo>
                    <a:lnTo>
                      <a:pt x="0" y="95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8" y="133"/>
                    </a:lnTo>
                    <a:lnTo>
                      <a:pt x="9" y="137"/>
                    </a:lnTo>
                    <a:lnTo>
                      <a:pt x="18" y="154"/>
                    </a:lnTo>
                    <a:lnTo>
                      <a:pt x="30" y="168"/>
                    </a:lnTo>
                    <a:lnTo>
                      <a:pt x="44" y="180"/>
                    </a:lnTo>
                    <a:lnTo>
                      <a:pt x="46" y="181"/>
                    </a:lnTo>
                    <a:lnTo>
                      <a:pt x="62" y="190"/>
                    </a:lnTo>
                    <a:lnTo>
                      <a:pt x="80" y="196"/>
                    </a:lnTo>
                    <a:lnTo>
                      <a:pt x="83" y="196"/>
                    </a:lnTo>
                    <a:lnTo>
                      <a:pt x="92" y="198"/>
                    </a:lnTo>
                    <a:lnTo>
                      <a:pt x="102" y="198"/>
                    </a:lnTo>
                    <a:lnTo>
                      <a:pt x="114" y="197"/>
                    </a:lnTo>
                    <a:lnTo>
                      <a:pt x="126" y="195"/>
                    </a:lnTo>
                    <a:lnTo>
                      <a:pt x="128" y="195"/>
                    </a:lnTo>
                    <a:lnTo>
                      <a:pt x="139" y="191"/>
                    </a:lnTo>
                    <a:lnTo>
                      <a:pt x="150" y="186"/>
                    </a:lnTo>
                    <a:lnTo>
                      <a:pt x="160" y="180"/>
                    </a:lnTo>
                    <a:lnTo>
                      <a:pt x="162" y="179"/>
                    </a:lnTo>
                    <a:lnTo>
                      <a:pt x="171" y="172"/>
                    </a:lnTo>
                    <a:lnTo>
                      <a:pt x="179" y="163"/>
                    </a:lnTo>
                    <a:lnTo>
                      <a:pt x="186" y="154"/>
                    </a:lnTo>
                    <a:lnTo>
                      <a:pt x="178" y="145"/>
                    </a:lnTo>
                    <a:lnTo>
                      <a:pt x="170" y="154"/>
                    </a:lnTo>
                    <a:lnTo>
                      <a:pt x="162" y="163"/>
                    </a:lnTo>
                    <a:lnTo>
                      <a:pt x="153" y="170"/>
                    </a:lnTo>
                    <a:lnTo>
                      <a:pt x="157" y="175"/>
                    </a:lnTo>
                    <a:lnTo>
                      <a:pt x="155" y="169"/>
                    </a:lnTo>
                    <a:lnTo>
                      <a:pt x="145" y="175"/>
                    </a:lnTo>
                    <a:lnTo>
                      <a:pt x="134" y="180"/>
                    </a:lnTo>
                    <a:lnTo>
                      <a:pt x="123" y="184"/>
                    </a:lnTo>
                    <a:lnTo>
                      <a:pt x="126" y="189"/>
                    </a:lnTo>
                    <a:lnTo>
                      <a:pt x="126" y="183"/>
                    </a:lnTo>
                    <a:lnTo>
                      <a:pt x="114" y="185"/>
                    </a:lnTo>
                    <a:lnTo>
                      <a:pt x="102" y="186"/>
                    </a:lnTo>
                    <a:lnTo>
                      <a:pt x="92" y="186"/>
                    </a:lnTo>
                    <a:lnTo>
                      <a:pt x="83" y="184"/>
                    </a:lnTo>
                    <a:lnTo>
                      <a:pt x="83" y="190"/>
                    </a:lnTo>
                    <a:lnTo>
                      <a:pt x="85" y="185"/>
                    </a:lnTo>
                    <a:lnTo>
                      <a:pt x="67" y="179"/>
                    </a:lnTo>
                    <a:lnTo>
                      <a:pt x="51" y="170"/>
                    </a:lnTo>
                    <a:lnTo>
                      <a:pt x="48" y="176"/>
                    </a:lnTo>
                    <a:lnTo>
                      <a:pt x="53" y="171"/>
                    </a:lnTo>
                    <a:lnTo>
                      <a:pt x="39" y="159"/>
                    </a:lnTo>
                    <a:lnTo>
                      <a:pt x="27" y="145"/>
                    </a:lnTo>
                    <a:lnTo>
                      <a:pt x="18" y="128"/>
                    </a:lnTo>
                    <a:lnTo>
                      <a:pt x="14" y="133"/>
                    </a:lnTo>
                    <a:lnTo>
                      <a:pt x="20" y="133"/>
                    </a:lnTo>
                    <a:lnTo>
                      <a:pt x="14" y="115"/>
                    </a:lnTo>
                    <a:lnTo>
                      <a:pt x="13" y="105"/>
                    </a:lnTo>
                    <a:lnTo>
                      <a:pt x="12" y="95"/>
                    </a:lnTo>
                    <a:lnTo>
                      <a:pt x="13" y="80"/>
                    </a:lnTo>
                    <a:lnTo>
                      <a:pt x="16" y="66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20" y="58"/>
                    </a:lnTo>
                    <a:lnTo>
                      <a:pt x="27" y="46"/>
                    </a:lnTo>
                    <a:lnTo>
                      <a:pt x="35" y="35"/>
                    </a:lnTo>
                    <a:lnTo>
                      <a:pt x="45" y="25"/>
                    </a:lnTo>
                    <a:lnTo>
                      <a:pt x="56" y="17"/>
                    </a:lnTo>
                    <a:lnTo>
                      <a:pt x="52" y="13"/>
                    </a:lnTo>
                    <a:lnTo>
                      <a:pt x="54" y="18"/>
                    </a:lnTo>
                    <a:lnTo>
                      <a:pt x="67" y="12"/>
                    </a:lnTo>
                    <a:lnTo>
                      <a:pt x="64" y="12"/>
                    </a:lnTo>
                    <a:lnTo>
                      <a:pt x="66" y="11"/>
                    </a:lnTo>
                    <a:lnTo>
                      <a:pt x="64" y="6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428960" y="2786040"/>
                <a:ext cx="165240" cy="1634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8"/>
                    </a:moveTo>
                    <a:lnTo>
                      <a:pt x="79" y="40"/>
                    </a:lnTo>
                    <a:lnTo>
                      <a:pt x="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2" name=""/>
          <p:cNvSpPr/>
          <p:nvPr/>
        </p:nvSpPr>
        <p:spPr>
          <a:xfrm>
            <a:off x="-4320" y="71280"/>
            <a:ext cx="75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DYNAMIQUE DE TRANSITION POUR LES 1cm &lt; DBH &lt; 3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"/>
          <p:cNvSpPr/>
          <p:nvPr/>
        </p:nvSpPr>
        <p:spPr>
          <a:xfrm>
            <a:off x="314280" y="552600"/>
            <a:ext cx="69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mulation sur une période de 19 an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"/>
          <p:cNvSpPr/>
          <p:nvPr/>
        </p:nvSpPr>
        <p:spPr>
          <a:xfrm>
            <a:off x="1068480" y="5394240"/>
            <a:ext cx="93600" cy="79560"/>
          </a:xfrm>
          <a:custGeom>
            <a:avLst/>
            <a:gdLst/>
            <a:ahLst/>
            <a:rect l="l" t="t" r="r" b="b"/>
            <a:pathLst>
              <a:path w="59" h="50">
                <a:moveTo>
                  <a:pt x="59" y="43"/>
                </a:moveTo>
                <a:lnTo>
                  <a:pt x="55" y="35"/>
                </a:lnTo>
                <a:lnTo>
                  <a:pt x="47" y="39"/>
                </a:lnTo>
                <a:lnTo>
                  <a:pt x="51" y="42"/>
                </a:lnTo>
                <a:lnTo>
                  <a:pt x="51" y="37"/>
                </a:lnTo>
                <a:lnTo>
                  <a:pt x="44" y="39"/>
                </a:lnTo>
                <a:lnTo>
                  <a:pt x="38" y="40"/>
                </a:lnTo>
                <a:lnTo>
                  <a:pt x="34" y="39"/>
                </a:lnTo>
                <a:lnTo>
                  <a:pt x="34" y="44"/>
                </a:lnTo>
                <a:lnTo>
                  <a:pt x="38" y="40"/>
                </a:lnTo>
                <a:lnTo>
                  <a:pt x="34" y="38"/>
                </a:lnTo>
                <a:lnTo>
                  <a:pt x="31" y="42"/>
                </a:lnTo>
                <a:lnTo>
                  <a:pt x="34" y="38"/>
                </a:lnTo>
                <a:lnTo>
                  <a:pt x="31" y="36"/>
                </a:lnTo>
                <a:lnTo>
                  <a:pt x="28" y="32"/>
                </a:lnTo>
                <a:lnTo>
                  <a:pt x="21" y="23"/>
                </a:lnTo>
                <a:lnTo>
                  <a:pt x="14" y="11"/>
                </a:lnTo>
                <a:lnTo>
                  <a:pt x="8" y="0"/>
                </a:lnTo>
                <a:lnTo>
                  <a:pt x="0" y="4"/>
                </a:lnTo>
                <a:lnTo>
                  <a:pt x="7" y="18"/>
                </a:lnTo>
                <a:lnTo>
                  <a:pt x="14" y="30"/>
                </a:lnTo>
                <a:lnTo>
                  <a:pt x="21" y="39"/>
                </a:lnTo>
                <a:lnTo>
                  <a:pt x="24" y="43"/>
                </a:lnTo>
                <a:lnTo>
                  <a:pt x="28" y="46"/>
                </a:lnTo>
                <a:lnTo>
                  <a:pt x="29" y="46"/>
                </a:lnTo>
                <a:lnTo>
                  <a:pt x="31" y="47"/>
                </a:lnTo>
                <a:lnTo>
                  <a:pt x="34" y="49"/>
                </a:lnTo>
                <a:lnTo>
                  <a:pt x="38" y="50"/>
                </a:lnTo>
                <a:lnTo>
                  <a:pt x="44" y="49"/>
                </a:lnTo>
                <a:lnTo>
                  <a:pt x="51" y="47"/>
                </a:lnTo>
                <a:lnTo>
                  <a:pt x="54" y="46"/>
                </a:lnTo>
                <a:lnTo>
                  <a:pt x="5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6" name=""/>
          <p:cNvGrpSpPr/>
          <p:nvPr/>
        </p:nvGrpSpPr>
        <p:grpSpPr>
          <a:xfrm>
            <a:off x="839880" y="1227240"/>
            <a:ext cx="7909920" cy="5032080"/>
            <a:chOff x="839880" y="1227240"/>
            <a:chExt cx="7909920" cy="5032080"/>
          </a:xfrm>
        </p:grpSpPr>
        <p:sp>
          <p:nvSpPr>
            <p:cNvPr id="5177" name=""/>
            <p:cNvSpPr/>
            <p:nvPr/>
          </p:nvSpPr>
          <p:spPr>
            <a:xfrm>
              <a:off x="839880" y="1227240"/>
              <a:ext cx="7907400" cy="5032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1863000" y="1631160"/>
              <a:ext cx="2880" cy="36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1778760" y="5245560"/>
              <a:ext cx="83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1778760" y="4638240"/>
              <a:ext cx="83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1778760" y="4048560"/>
              <a:ext cx="838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1778760" y="3438360"/>
              <a:ext cx="83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1778760" y="2831400"/>
              <a:ext cx="838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1778760" y="2240640"/>
              <a:ext cx="83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1778760" y="1631160"/>
              <a:ext cx="838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1863000" y="5245560"/>
              <a:ext cx="68842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 flipV="1">
              <a:off x="1863000" y="5245560"/>
              <a:ext cx="288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 flipV="1">
              <a:off x="2233080" y="5245560"/>
              <a:ext cx="288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 flipV="1">
              <a:off x="258660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 flipV="1">
              <a:off x="295416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 flipV="1">
              <a:off x="3306960" y="5245560"/>
              <a:ext cx="288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 flipV="1">
              <a:off x="3677040" y="5245560"/>
              <a:ext cx="288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 flipV="1">
              <a:off x="403056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 flipV="1">
              <a:off x="439812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 flipV="1">
              <a:off x="476820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 flipV="1">
              <a:off x="5121360" y="5245560"/>
              <a:ext cx="288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 flipV="1">
              <a:off x="548892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 flipV="1">
              <a:off x="584244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 flipV="1">
              <a:off x="621252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 flipV="1">
              <a:off x="658260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 flipV="1">
              <a:off x="693288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 flipV="1">
              <a:off x="730296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765648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 flipV="1">
              <a:off x="802656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 flipV="1">
              <a:off x="837720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 flipV="1">
              <a:off x="874728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2048040" y="3912840"/>
              <a:ext cx="6513840" cy="1281960"/>
            </a:xfrm>
            <a:custGeom>
              <a:avLst/>
              <a:gdLst/>
              <a:ahLst/>
              <a:rect l="l" t="t" r="r" b="b"/>
              <a:pathLst>
                <a:path w="388" h="76">
                  <a:moveTo>
                    <a:pt x="0" y="0"/>
                  </a:moveTo>
                  <a:lnTo>
                    <a:pt x="21" y="16"/>
                  </a:lnTo>
                  <a:lnTo>
                    <a:pt x="43" y="28"/>
                  </a:lnTo>
                  <a:lnTo>
                    <a:pt x="65" y="37"/>
                  </a:lnTo>
                  <a:lnTo>
                    <a:pt x="86" y="45"/>
                  </a:lnTo>
                  <a:lnTo>
                    <a:pt x="108" y="51"/>
                  </a:lnTo>
                  <a:lnTo>
                    <a:pt x="129" y="56"/>
                  </a:lnTo>
                  <a:lnTo>
                    <a:pt x="151" y="60"/>
                  </a:lnTo>
                  <a:lnTo>
                    <a:pt x="172" y="64"/>
                  </a:lnTo>
                  <a:lnTo>
                    <a:pt x="194" y="66"/>
                  </a:lnTo>
                  <a:lnTo>
                    <a:pt x="216" y="68"/>
                  </a:lnTo>
                  <a:lnTo>
                    <a:pt x="237" y="70"/>
                  </a:lnTo>
                  <a:lnTo>
                    <a:pt x="259" y="72"/>
                  </a:lnTo>
                  <a:lnTo>
                    <a:pt x="280" y="73"/>
                  </a:lnTo>
                  <a:lnTo>
                    <a:pt x="302" y="74"/>
                  </a:lnTo>
                  <a:lnTo>
                    <a:pt x="323" y="75"/>
                  </a:lnTo>
                  <a:lnTo>
                    <a:pt x="345" y="75"/>
                  </a:lnTo>
                  <a:lnTo>
                    <a:pt x="367" y="76"/>
                  </a:lnTo>
                  <a:lnTo>
                    <a:pt x="388" y="76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2048040" y="4215240"/>
              <a:ext cx="6513840" cy="894960"/>
            </a:xfrm>
            <a:custGeom>
              <a:avLst/>
              <a:gdLst/>
              <a:ahLst/>
              <a:rect l="l" t="t" r="r" b="b"/>
              <a:pathLst>
                <a:path w="388" h="53">
                  <a:moveTo>
                    <a:pt x="0" y="0"/>
                  </a:moveTo>
                  <a:lnTo>
                    <a:pt x="21" y="1"/>
                  </a:lnTo>
                  <a:lnTo>
                    <a:pt x="43" y="4"/>
                  </a:lnTo>
                  <a:lnTo>
                    <a:pt x="65" y="8"/>
                  </a:lnTo>
                  <a:lnTo>
                    <a:pt x="86" y="13"/>
                  </a:lnTo>
                  <a:lnTo>
                    <a:pt x="108" y="18"/>
                  </a:lnTo>
                  <a:lnTo>
                    <a:pt x="129" y="22"/>
                  </a:lnTo>
                  <a:lnTo>
                    <a:pt x="151" y="27"/>
                  </a:lnTo>
                  <a:lnTo>
                    <a:pt x="172" y="31"/>
                  </a:lnTo>
                  <a:lnTo>
                    <a:pt x="194" y="34"/>
                  </a:lnTo>
                  <a:lnTo>
                    <a:pt x="216" y="37"/>
                  </a:lnTo>
                  <a:lnTo>
                    <a:pt x="237" y="40"/>
                  </a:lnTo>
                  <a:lnTo>
                    <a:pt x="259" y="43"/>
                  </a:lnTo>
                  <a:lnTo>
                    <a:pt x="280" y="45"/>
                  </a:lnTo>
                  <a:lnTo>
                    <a:pt x="302" y="47"/>
                  </a:lnTo>
                  <a:lnTo>
                    <a:pt x="323" y="49"/>
                  </a:lnTo>
                  <a:lnTo>
                    <a:pt x="345" y="50"/>
                  </a:lnTo>
                  <a:lnTo>
                    <a:pt x="367" y="51"/>
                  </a:lnTo>
                  <a:lnTo>
                    <a:pt x="388" y="5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2048040" y="4149720"/>
              <a:ext cx="6513840" cy="759960"/>
            </a:xfrm>
            <a:custGeom>
              <a:avLst/>
              <a:gdLst/>
              <a:ahLst/>
              <a:rect l="l" t="t" r="r" b="b"/>
              <a:pathLst>
                <a:path w="388" h="45">
                  <a:moveTo>
                    <a:pt x="0" y="8"/>
                  </a:moveTo>
                  <a:lnTo>
                    <a:pt x="21" y="4"/>
                  </a:lnTo>
                  <a:lnTo>
                    <a:pt x="43" y="1"/>
                  </a:lnTo>
                  <a:lnTo>
                    <a:pt x="65" y="0"/>
                  </a:lnTo>
                  <a:lnTo>
                    <a:pt x="86" y="0"/>
                  </a:lnTo>
                  <a:lnTo>
                    <a:pt x="108" y="2"/>
                  </a:lnTo>
                  <a:lnTo>
                    <a:pt x="129" y="5"/>
                  </a:lnTo>
                  <a:lnTo>
                    <a:pt x="151" y="8"/>
                  </a:lnTo>
                  <a:lnTo>
                    <a:pt x="172" y="11"/>
                  </a:lnTo>
                  <a:lnTo>
                    <a:pt x="194" y="15"/>
                  </a:lnTo>
                  <a:lnTo>
                    <a:pt x="216" y="19"/>
                  </a:lnTo>
                  <a:lnTo>
                    <a:pt x="237" y="23"/>
                  </a:lnTo>
                  <a:lnTo>
                    <a:pt x="259" y="26"/>
                  </a:lnTo>
                  <a:lnTo>
                    <a:pt x="280" y="30"/>
                  </a:lnTo>
                  <a:lnTo>
                    <a:pt x="302" y="33"/>
                  </a:lnTo>
                  <a:lnTo>
                    <a:pt x="323" y="36"/>
                  </a:lnTo>
                  <a:lnTo>
                    <a:pt x="345" y="39"/>
                  </a:lnTo>
                  <a:lnTo>
                    <a:pt x="367" y="42"/>
                  </a:lnTo>
                  <a:lnTo>
                    <a:pt x="388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2048040" y="2257920"/>
              <a:ext cx="6513840" cy="2800800"/>
            </a:xfrm>
            <a:custGeom>
              <a:avLst/>
              <a:gdLst/>
              <a:ahLst/>
              <a:rect l="l" t="t" r="r" b="b"/>
              <a:pathLst>
                <a:path w="388" h="166">
                  <a:moveTo>
                    <a:pt x="0" y="166"/>
                  </a:moveTo>
                  <a:lnTo>
                    <a:pt x="21" y="154"/>
                  </a:lnTo>
                  <a:lnTo>
                    <a:pt x="43" y="141"/>
                  </a:lnTo>
                  <a:lnTo>
                    <a:pt x="65" y="128"/>
                  </a:lnTo>
                  <a:lnTo>
                    <a:pt x="86" y="115"/>
                  </a:lnTo>
                  <a:lnTo>
                    <a:pt x="108" y="103"/>
                  </a:lnTo>
                  <a:lnTo>
                    <a:pt x="129" y="91"/>
                  </a:lnTo>
                  <a:lnTo>
                    <a:pt x="151" y="79"/>
                  </a:lnTo>
                  <a:lnTo>
                    <a:pt x="172" y="68"/>
                  </a:lnTo>
                  <a:lnTo>
                    <a:pt x="194" y="58"/>
                  </a:lnTo>
                  <a:lnTo>
                    <a:pt x="216" y="49"/>
                  </a:lnTo>
                  <a:lnTo>
                    <a:pt x="237" y="41"/>
                  </a:lnTo>
                  <a:lnTo>
                    <a:pt x="259" y="33"/>
                  </a:lnTo>
                  <a:lnTo>
                    <a:pt x="280" y="26"/>
                  </a:lnTo>
                  <a:lnTo>
                    <a:pt x="302" y="20"/>
                  </a:lnTo>
                  <a:lnTo>
                    <a:pt x="323" y="14"/>
                  </a:lnTo>
                  <a:lnTo>
                    <a:pt x="345" y="9"/>
                  </a:lnTo>
                  <a:lnTo>
                    <a:pt x="367" y="4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2048040" y="1919160"/>
              <a:ext cx="6513840" cy="2804040"/>
            </a:xfrm>
            <a:custGeom>
              <a:avLst/>
              <a:gdLst/>
              <a:ahLst/>
              <a:rect l="l" t="t" r="r" b="b"/>
              <a:pathLst>
                <a:path w="388" h="166">
                  <a:moveTo>
                    <a:pt x="0" y="0"/>
                  </a:moveTo>
                  <a:lnTo>
                    <a:pt x="21" y="12"/>
                  </a:lnTo>
                  <a:lnTo>
                    <a:pt x="43" y="25"/>
                  </a:lnTo>
                  <a:lnTo>
                    <a:pt x="65" y="38"/>
                  </a:lnTo>
                  <a:lnTo>
                    <a:pt x="86" y="51"/>
                  </a:lnTo>
                  <a:lnTo>
                    <a:pt x="108" y="63"/>
                  </a:lnTo>
                  <a:lnTo>
                    <a:pt x="129" y="75"/>
                  </a:lnTo>
                  <a:lnTo>
                    <a:pt x="151" y="87"/>
                  </a:lnTo>
                  <a:lnTo>
                    <a:pt x="172" y="97"/>
                  </a:lnTo>
                  <a:lnTo>
                    <a:pt x="194" y="107"/>
                  </a:lnTo>
                  <a:lnTo>
                    <a:pt x="216" y="116"/>
                  </a:lnTo>
                  <a:lnTo>
                    <a:pt x="237" y="125"/>
                  </a:lnTo>
                  <a:lnTo>
                    <a:pt x="259" y="133"/>
                  </a:lnTo>
                  <a:lnTo>
                    <a:pt x="280" y="140"/>
                  </a:lnTo>
                  <a:lnTo>
                    <a:pt x="302" y="146"/>
                  </a:lnTo>
                  <a:lnTo>
                    <a:pt x="323" y="152"/>
                  </a:lnTo>
                  <a:lnTo>
                    <a:pt x="345" y="157"/>
                  </a:lnTo>
                  <a:lnTo>
                    <a:pt x="367" y="161"/>
                  </a:lnTo>
                  <a:lnTo>
                    <a:pt x="388" y="166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1980360" y="384480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H="1" flipV="1">
              <a:off x="1997280" y="386208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2048040" y="391284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 flipH="1">
              <a:off x="1997280" y="391284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 flipV="1">
              <a:off x="2048040" y="386208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334240" y="4115880"/>
              <a:ext cx="1684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H="1" flipV="1">
              <a:off x="2350080" y="4132800"/>
              <a:ext cx="5076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401560" y="418104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 flipH="1">
              <a:off x="2350080" y="418104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 flipV="1">
              <a:off x="2401560" y="4132800"/>
              <a:ext cx="5004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704320" y="4316760"/>
              <a:ext cx="1652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 flipH="1" flipV="1">
              <a:off x="2720880" y="433368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771640" y="4384080"/>
              <a:ext cx="4752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 flipH="1">
              <a:off x="2720880" y="438408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 flipV="1">
              <a:off x="2771640" y="4333680"/>
              <a:ext cx="4752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3071880" y="446940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 flipH="1" flipV="1">
              <a:off x="3087720" y="448596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3139200" y="453672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 flipH="1">
              <a:off x="3087720" y="453672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 flipV="1">
              <a:off x="3139200" y="448596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3424680" y="460440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 flipH="1" flipV="1">
              <a:off x="3441600" y="462168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3492000" y="467244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 flipH="1">
              <a:off x="3441600" y="467244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 flipV="1">
              <a:off x="3492000" y="462168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3794760" y="470628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H="1" flipV="1">
              <a:off x="3811680" y="472356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3862080" y="477432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 flipH="1">
              <a:off x="3811680" y="477432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 flipV="1">
              <a:off x="3862080" y="472356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4145760" y="479088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 flipH="1" flipV="1">
              <a:off x="4161960" y="480816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4213080" y="485856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H="1">
              <a:off x="4161960" y="485856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 flipV="1">
              <a:off x="4213080" y="480816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515840" y="485856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 flipH="1" flipV="1">
              <a:off x="4532040" y="487584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583160" y="49266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H="1">
              <a:off x="4532040" y="492660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V="1">
              <a:off x="4583160" y="487584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4868640" y="4926600"/>
              <a:ext cx="168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H="1" flipV="1">
              <a:off x="4885560" y="494316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4936320" y="499428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H="1">
              <a:off x="4885560" y="499428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 flipV="1">
              <a:off x="4936320" y="494316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238720" y="4960440"/>
              <a:ext cx="168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 flipH="1" flipV="1">
              <a:off x="5255640" y="497700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306400" y="5028480"/>
              <a:ext cx="5076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 flipH="1">
              <a:off x="5255640" y="5028480"/>
              <a:ext cx="5004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5306400" y="497700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606280" y="4994280"/>
              <a:ext cx="168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 flipH="1" flipV="1">
              <a:off x="5623200" y="5010840"/>
              <a:ext cx="5004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673960" y="505908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H="1">
              <a:off x="5623200" y="505908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 flipV="1">
              <a:off x="5673960" y="5010840"/>
              <a:ext cx="5004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960160" y="5028480"/>
              <a:ext cx="1677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 flipH="1" flipV="1">
              <a:off x="5976000" y="5044680"/>
              <a:ext cx="5076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6027480" y="509292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 flipH="1">
              <a:off x="5976000" y="509292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 flipV="1">
              <a:off x="6027480" y="5044680"/>
              <a:ext cx="5004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6330240" y="505908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 flipH="1" flipV="1">
              <a:off x="6346440" y="507636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6397560" y="512712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H="1">
              <a:off x="6346440" y="512712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 flipV="1">
              <a:off x="6397560" y="507636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6683040" y="5076360"/>
              <a:ext cx="1659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 flipH="1" flipV="1">
              <a:off x="6699960" y="509292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6750360" y="514440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 flipH="1">
              <a:off x="6699960" y="51444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V="1">
              <a:off x="6750360" y="509292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7050600" y="509292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H="1" flipV="1">
              <a:off x="7067520" y="51102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7117920" y="516096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 flipH="1">
              <a:off x="7067520" y="516096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 flipV="1">
              <a:off x="7117920" y="51102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7404120" y="511020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 flipH="1" flipV="1">
              <a:off x="7420320" y="512712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7471440" y="517752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 flipH="1">
              <a:off x="7420320" y="517752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V="1">
              <a:off x="7471440" y="512712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7774200" y="511020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 flipH="1" flipV="1">
              <a:off x="7790400" y="512712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7841520" y="517752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H="1">
              <a:off x="7790400" y="517752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 flipV="1">
              <a:off x="7841520" y="512712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8144280" y="5127120"/>
              <a:ext cx="1652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H="1" flipV="1">
              <a:off x="8160840" y="5144400"/>
              <a:ext cx="4752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8208720" y="519480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 flipH="1">
              <a:off x="8160840" y="5194800"/>
              <a:ext cx="4752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 flipV="1">
              <a:off x="8208720" y="514440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8494560" y="512712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H="1" flipV="1">
              <a:off x="8511480" y="51444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8562240" y="51948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H="1">
              <a:off x="8511480" y="51948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 flipV="1">
              <a:off x="8562240" y="51444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1980360" y="4149720"/>
              <a:ext cx="1684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 flipH="1" flipV="1">
              <a:off x="1997280" y="4166640"/>
              <a:ext cx="5004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2048040" y="421524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 flipH="1">
              <a:off x="1997280" y="42152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 flipV="1">
              <a:off x="2048040" y="4166640"/>
              <a:ext cx="5076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2048040" y="4166640"/>
              <a:ext cx="288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048040" y="421524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2334240" y="4167000"/>
              <a:ext cx="168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 flipH="1" flipV="1">
              <a:off x="2350080" y="418104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401560" y="423180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 flipH="1">
              <a:off x="2350080" y="423180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V="1">
              <a:off x="2401560" y="41810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V="1">
              <a:off x="2401560" y="418104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401560" y="423180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704320" y="4215240"/>
              <a:ext cx="1652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 flipH="1" flipV="1">
              <a:off x="2720880" y="423180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771640" y="4282920"/>
              <a:ext cx="47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 flipH="1">
              <a:off x="2720880" y="428292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 flipV="1">
              <a:off x="2771640" y="4231800"/>
              <a:ext cx="47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V="1">
              <a:off x="2771640" y="423180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771640" y="428292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3071880" y="428292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 flipH="1" flipV="1">
              <a:off x="3087720" y="429948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3139200" y="435024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 flipH="1">
              <a:off x="3087720" y="435024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3139200" y="429948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 flipV="1">
              <a:off x="3139200" y="429948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3139200" y="435024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3424680" y="436752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H="1" flipV="1">
              <a:off x="3441600" y="438408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3492000" y="443556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 flipH="1">
              <a:off x="3441600" y="443556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V="1">
              <a:off x="3492000" y="438408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V="1">
              <a:off x="3492000" y="4384080"/>
              <a:ext cx="288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3492000" y="443556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3794760" y="445212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 flipH="1" flipV="1">
              <a:off x="3811680" y="446940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862080" y="451980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 flipH="1">
              <a:off x="3811680" y="451980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 flipV="1">
              <a:off x="3862080" y="446940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 flipV="1">
              <a:off x="3862080" y="446940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3862080" y="451980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4145760" y="451980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 flipH="1" flipV="1">
              <a:off x="4161960" y="453672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4213080" y="45878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 flipH="1">
              <a:off x="4161960" y="458784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 flipV="1">
              <a:off x="4213080" y="453672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 flipV="1">
              <a:off x="4213080" y="453672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4213080" y="458784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4515840" y="460440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 flipH="1" flipV="1">
              <a:off x="4532040" y="462168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4583160" y="467244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 flipH="1">
              <a:off x="4532040" y="467244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 flipV="1">
              <a:off x="4583160" y="462168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V="1">
              <a:off x="4583160" y="462168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583160" y="467244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4868640" y="467244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 flipH="1" flipV="1">
              <a:off x="4885560" y="468972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936320" y="474012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 flipH="1">
              <a:off x="4885560" y="474012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 flipV="1">
              <a:off x="4936320" y="468972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 flipV="1">
              <a:off x="4936320" y="468972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4936320" y="474012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5238720" y="472356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 flipH="1" flipV="1">
              <a:off x="5255640" y="474012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5306400" y="479088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 flipH="1">
              <a:off x="5255640" y="479088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5306400" y="474012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 flipV="1">
              <a:off x="5306400" y="474012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5306400" y="4790880"/>
              <a:ext cx="288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"/>
          <p:cNvGrpSpPr/>
          <p:nvPr/>
        </p:nvGrpSpPr>
        <p:grpSpPr>
          <a:xfrm>
            <a:off x="1981080" y="1838160"/>
            <a:ext cx="6681600" cy="3360240"/>
            <a:chOff x="1981080" y="1838160"/>
            <a:chExt cx="6681600" cy="3360240"/>
          </a:xfrm>
        </p:grpSpPr>
        <p:sp>
          <p:nvSpPr>
            <p:cNvPr id="5378" name=""/>
            <p:cNvSpPr/>
            <p:nvPr/>
          </p:nvSpPr>
          <p:spPr>
            <a:xfrm>
              <a:off x="5606280" y="476136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 flipH="1" flipV="1">
              <a:off x="5623200" y="477792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673600" y="48290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 flipH="1">
              <a:off x="5623200" y="48290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 flipV="1">
              <a:off x="5673600" y="477792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 flipV="1">
              <a:off x="5673600" y="477792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5673600" y="482904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5959800" y="481176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 flipH="1" flipV="1">
              <a:off x="5976000" y="482904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027120" y="487980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 flipH="1">
              <a:off x="5976000" y="487980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 flipV="1">
              <a:off x="6027120" y="48290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6027120" y="482904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6027120" y="487980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329880" y="486288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 flipH="1" flipV="1">
              <a:off x="6346080" y="487980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397200" y="493020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 flipH="1">
              <a:off x="6346080" y="493020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 flipV="1">
              <a:off x="6397200" y="487980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 flipV="1">
              <a:off x="6397200" y="487980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6397200" y="493020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682680" y="4897080"/>
              <a:ext cx="1656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 flipH="1" flipV="1">
              <a:off x="6699600" y="49136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750000" y="496440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H="1">
              <a:off x="6699600" y="496440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 flipV="1">
              <a:off x="6750000" y="491364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 flipV="1">
              <a:off x="6750000" y="491364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6750000" y="4964400"/>
              <a:ext cx="288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7050240" y="4930200"/>
              <a:ext cx="1684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 flipH="1" flipV="1">
              <a:off x="7067160" y="494748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7117560" y="4998240"/>
              <a:ext cx="5004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 flipH="1">
              <a:off x="7067160" y="4998240"/>
              <a:ext cx="5004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 flipV="1">
              <a:off x="7117560" y="494748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V="1">
              <a:off x="7117560" y="494748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7117560" y="4998240"/>
              <a:ext cx="252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7403760" y="4964400"/>
              <a:ext cx="16776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 flipH="1" flipV="1">
              <a:off x="7419960" y="498168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7471080" y="5032080"/>
              <a:ext cx="5004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H="1">
              <a:off x="7419960" y="5032080"/>
              <a:ext cx="5076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 flipV="1">
              <a:off x="7471080" y="498168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 flipV="1">
              <a:off x="7471080" y="498168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7471080" y="5032080"/>
              <a:ext cx="252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7773840" y="4981680"/>
              <a:ext cx="1677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H="1" flipV="1">
              <a:off x="7790040" y="4997880"/>
              <a:ext cx="5076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7841160" y="504612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 flipH="1">
              <a:off x="7790040" y="504612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 flipV="1">
              <a:off x="7841160" y="4997880"/>
              <a:ext cx="5004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 flipV="1">
              <a:off x="7841160" y="4997880"/>
              <a:ext cx="252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7841160" y="504612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8143920" y="4998240"/>
              <a:ext cx="16524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H="1" flipV="1">
              <a:off x="8160120" y="5015160"/>
              <a:ext cx="4752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8208000" y="506340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 flipH="1">
              <a:off x="8160120" y="5063400"/>
              <a:ext cx="47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8208000" y="5015160"/>
              <a:ext cx="5076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 flipV="1">
              <a:off x="8208000" y="5015160"/>
              <a:ext cx="288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8208000" y="506340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8494200" y="5032080"/>
              <a:ext cx="168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H="1" flipV="1">
              <a:off x="8510760" y="504612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8561520" y="509760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 flipH="1">
              <a:off x="8510760" y="509760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 flipV="1">
              <a:off x="8561520" y="504612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8561520" y="504612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8561520" y="509760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1981080" y="420192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 flipV="1">
              <a:off x="2048400" y="4218840"/>
              <a:ext cx="288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048400" y="426996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1997640" y="426996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048400" y="426996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2334240" y="4136760"/>
              <a:ext cx="1684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 flipV="1">
              <a:off x="2401920" y="4153680"/>
              <a:ext cx="252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2401920" y="420192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 flipH="1">
              <a:off x="2350440" y="420192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2401920" y="420192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704320" y="4086000"/>
              <a:ext cx="16524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V="1">
              <a:off x="2772000" y="410292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772000" y="4154040"/>
              <a:ext cx="252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 flipH="1">
              <a:off x="2721240" y="415404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772000" y="4154040"/>
              <a:ext cx="475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3071880" y="4069440"/>
              <a:ext cx="1677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 flipV="1">
              <a:off x="3139200" y="408600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3139200" y="4136760"/>
              <a:ext cx="252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 flipH="1">
              <a:off x="3088080" y="4136760"/>
              <a:ext cx="507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3139200" y="4136760"/>
              <a:ext cx="500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3424680" y="4069440"/>
              <a:ext cx="168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3492360" y="408600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3492360" y="4136760"/>
              <a:ext cx="28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 flipH="1">
              <a:off x="3441600" y="4136760"/>
              <a:ext cx="500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3492360" y="4136760"/>
              <a:ext cx="507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794760" y="4102920"/>
              <a:ext cx="1684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 flipV="1">
              <a:off x="3862080" y="4119840"/>
              <a:ext cx="28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862080" y="416808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 flipH="1">
              <a:off x="3811680" y="416808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3862080" y="416808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4145760" y="4154040"/>
              <a:ext cx="1677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 flipV="1">
              <a:off x="4213080" y="416808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4213080" y="421884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H="1">
              <a:off x="4161960" y="4218840"/>
              <a:ext cx="507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4213080" y="4218840"/>
              <a:ext cx="500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4515840" y="420192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 flipV="1">
              <a:off x="4583160" y="421884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4583160" y="426996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 flipH="1">
              <a:off x="4532040" y="426996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4583160" y="426996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4868640" y="425268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V="1">
              <a:off x="4935960" y="426996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4935960" y="432072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H="1">
              <a:off x="4885560" y="432072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4935960" y="432072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5238720" y="432072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 flipV="1">
              <a:off x="5306040" y="4337280"/>
              <a:ext cx="288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5306040" y="438840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 flipH="1">
              <a:off x="5255640" y="438840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5306040" y="438840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5606280" y="438840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 flipV="1">
              <a:off x="5673600" y="440496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5673600" y="445644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 flipH="1">
              <a:off x="5623200" y="445644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5673600" y="445644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5959800" y="445644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 flipV="1">
              <a:off x="6027120" y="447300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027120" y="452340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 flipH="1">
              <a:off x="5976000" y="4523400"/>
              <a:ext cx="507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027120" y="4523400"/>
              <a:ext cx="500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329880" y="450684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V="1">
              <a:off x="6397200" y="452340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397200" y="457488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H="1">
              <a:off x="6346080" y="457488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397200" y="457488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682680" y="4574880"/>
              <a:ext cx="1656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 flipV="1">
              <a:off x="6750000" y="4591440"/>
              <a:ext cx="288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750000" y="464256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 flipH="1">
              <a:off x="6699600" y="464256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750000" y="464256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7050240" y="462528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 flipV="1">
              <a:off x="7117560" y="464256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7117560" y="469332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 flipH="1">
              <a:off x="7067160" y="469332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7117560" y="469332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7403760" y="467676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 flipV="1">
              <a:off x="7471080" y="469332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7471080" y="474408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H="1">
              <a:off x="7419960" y="4744080"/>
              <a:ext cx="507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7471080" y="4744080"/>
              <a:ext cx="500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7773840" y="472716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 flipV="1">
              <a:off x="7841160" y="474408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7841160" y="479520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 flipH="1">
              <a:off x="7790040" y="479520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7841160" y="479520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8143920" y="4777920"/>
              <a:ext cx="1652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 flipV="1">
              <a:off x="8208000" y="479520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8208000" y="4845600"/>
              <a:ext cx="288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"/>
            <p:cNvSpPr/>
            <p:nvPr/>
          </p:nvSpPr>
          <p:spPr>
            <a:xfrm flipH="1">
              <a:off x="8160120" y="4845600"/>
              <a:ext cx="475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8208000" y="4845600"/>
              <a:ext cx="507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8494200" y="482904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 flipV="1">
              <a:off x="8561520" y="484560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8561520" y="489708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 flipH="1">
              <a:off x="8510760" y="489708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8561520" y="489708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1998000" y="4998240"/>
              <a:ext cx="100800" cy="99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350800" y="479520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721600" y="4574880"/>
              <a:ext cx="9756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088440" y="435456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441960" y="4136760"/>
              <a:ext cx="100800" cy="99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812040" y="393372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4162320" y="372996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4532400" y="352692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4885920" y="334044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5256000" y="3174120"/>
              <a:ext cx="100800" cy="101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5623560" y="3021480"/>
              <a:ext cx="100440" cy="101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5976360" y="288576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6346440" y="275004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699960" y="263160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7067520" y="2529720"/>
              <a:ext cx="10044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420320" y="2431080"/>
              <a:ext cx="100800" cy="98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7790400" y="2346480"/>
              <a:ext cx="100800" cy="98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8160120" y="2261520"/>
              <a:ext cx="9828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8511120" y="2193480"/>
              <a:ext cx="10044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1981080" y="183816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 flipH="1" flipV="1">
              <a:off x="1997640" y="1854720"/>
              <a:ext cx="5004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048400" y="1905840"/>
              <a:ext cx="5076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 flipH="1">
              <a:off x="1997640" y="1905840"/>
              <a:ext cx="5004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 flipV="1">
              <a:off x="2048400" y="1854720"/>
              <a:ext cx="5076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 flipV="1">
              <a:off x="2048400" y="1854720"/>
              <a:ext cx="288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048400" y="1905840"/>
              <a:ext cx="288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334240" y="204084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H="1" flipV="1">
              <a:off x="2350440" y="2058480"/>
              <a:ext cx="5076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401920" y="2108880"/>
              <a:ext cx="5004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 flipH="1">
              <a:off x="2350440" y="2108880"/>
              <a:ext cx="5076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 flipV="1">
              <a:off x="2401920" y="2058480"/>
              <a:ext cx="5004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 flipV="1">
              <a:off x="2401920" y="2058480"/>
              <a:ext cx="252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401920" y="2108880"/>
              <a:ext cx="252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704320" y="2261520"/>
              <a:ext cx="1652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 flipH="1" flipV="1">
              <a:off x="2721240" y="2278800"/>
              <a:ext cx="5004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772000" y="2329200"/>
              <a:ext cx="4752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 flipH="1">
              <a:off x="2721240" y="2329200"/>
              <a:ext cx="5004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 flipV="1">
              <a:off x="2772000" y="2278800"/>
              <a:ext cx="4752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 flipV="1">
              <a:off x="2772000" y="2278800"/>
              <a:ext cx="252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772000" y="2329200"/>
              <a:ext cx="252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3071880" y="247896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H="1" flipV="1">
              <a:off x="3088080" y="2495880"/>
              <a:ext cx="5076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8" name=""/>
          <p:cNvSpPr/>
          <p:nvPr/>
        </p:nvSpPr>
        <p:spPr>
          <a:xfrm>
            <a:off x="3138480" y="25480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"/>
          <p:cNvSpPr/>
          <p:nvPr/>
        </p:nvSpPr>
        <p:spPr>
          <a:xfrm flipH="1">
            <a:off x="3088800" y="254808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"/>
          <p:cNvSpPr/>
          <p:nvPr/>
        </p:nvSpPr>
        <p:spPr>
          <a:xfrm flipV="1">
            <a:off x="3138480" y="2496960"/>
            <a:ext cx="5076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"/>
          <p:cNvSpPr/>
          <p:nvPr/>
        </p:nvSpPr>
        <p:spPr>
          <a:xfrm flipV="1">
            <a:off x="3138480" y="2496960"/>
            <a:ext cx="324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"/>
          <p:cNvSpPr/>
          <p:nvPr/>
        </p:nvSpPr>
        <p:spPr>
          <a:xfrm>
            <a:off x="3138480" y="254808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"/>
          <p:cNvSpPr/>
          <p:nvPr/>
        </p:nvSpPr>
        <p:spPr>
          <a:xfrm>
            <a:off x="3425760" y="2700360"/>
            <a:ext cx="168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"/>
          <p:cNvSpPr/>
          <p:nvPr/>
        </p:nvSpPr>
        <p:spPr>
          <a:xfrm flipH="1" flipV="1">
            <a:off x="3441240" y="27158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"/>
          <p:cNvSpPr/>
          <p:nvPr/>
        </p:nvSpPr>
        <p:spPr>
          <a:xfrm>
            <a:off x="3492360" y="2766960"/>
            <a:ext cx="511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"/>
          <p:cNvSpPr/>
          <p:nvPr/>
        </p:nvSpPr>
        <p:spPr>
          <a:xfrm flipH="1">
            <a:off x="3441240" y="27669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"/>
          <p:cNvSpPr/>
          <p:nvPr/>
        </p:nvSpPr>
        <p:spPr>
          <a:xfrm flipV="1">
            <a:off x="3492360" y="2715840"/>
            <a:ext cx="511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"/>
          <p:cNvSpPr/>
          <p:nvPr/>
        </p:nvSpPr>
        <p:spPr>
          <a:xfrm flipV="1">
            <a:off x="3492360" y="271584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"/>
          <p:cNvSpPr/>
          <p:nvPr/>
        </p:nvSpPr>
        <p:spPr>
          <a:xfrm>
            <a:off x="3492360" y="276696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"/>
          <p:cNvSpPr/>
          <p:nvPr/>
        </p:nvSpPr>
        <p:spPr>
          <a:xfrm>
            <a:off x="3795840" y="2903400"/>
            <a:ext cx="16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"/>
          <p:cNvSpPr/>
          <p:nvPr/>
        </p:nvSpPr>
        <p:spPr>
          <a:xfrm flipH="1" flipV="1">
            <a:off x="3811320" y="2919240"/>
            <a:ext cx="5076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2" name=""/>
          <p:cNvSpPr/>
          <p:nvPr/>
        </p:nvSpPr>
        <p:spPr>
          <a:xfrm>
            <a:off x="3862440" y="29703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"/>
          <p:cNvSpPr/>
          <p:nvPr/>
        </p:nvSpPr>
        <p:spPr>
          <a:xfrm flipH="1">
            <a:off x="3811320" y="29703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"/>
          <p:cNvSpPr/>
          <p:nvPr/>
        </p:nvSpPr>
        <p:spPr>
          <a:xfrm flipV="1">
            <a:off x="3862440" y="2919240"/>
            <a:ext cx="5076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"/>
          <p:cNvSpPr/>
          <p:nvPr/>
        </p:nvSpPr>
        <p:spPr>
          <a:xfrm flipV="1">
            <a:off x="3862440" y="2919240"/>
            <a:ext cx="324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"/>
          <p:cNvSpPr/>
          <p:nvPr/>
        </p:nvSpPr>
        <p:spPr>
          <a:xfrm>
            <a:off x="3862440" y="297036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"/>
          <p:cNvSpPr/>
          <p:nvPr/>
        </p:nvSpPr>
        <p:spPr>
          <a:xfrm>
            <a:off x="4146480" y="3106800"/>
            <a:ext cx="168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"/>
          <p:cNvSpPr/>
          <p:nvPr/>
        </p:nvSpPr>
        <p:spPr>
          <a:xfrm flipH="1" flipV="1">
            <a:off x="4161960" y="31237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"/>
          <p:cNvSpPr/>
          <p:nvPr/>
        </p:nvSpPr>
        <p:spPr>
          <a:xfrm>
            <a:off x="4213080" y="3174840"/>
            <a:ext cx="5112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"/>
          <p:cNvSpPr/>
          <p:nvPr/>
        </p:nvSpPr>
        <p:spPr>
          <a:xfrm flipH="1">
            <a:off x="4161960" y="3174840"/>
            <a:ext cx="5076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"/>
          <p:cNvSpPr/>
          <p:nvPr/>
        </p:nvSpPr>
        <p:spPr>
          <a:xfrm flipV="1">
            <a:off x="4213080" y="3123720"/>
            <a:ext cx="511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"/>
          <p:cNvSpPr/>
          <p:nvPr/>
        </p:nvSpPr>
        <p:spPr>
          <a:xfrm flipV="1">
            <a:off x="4213080" y="312372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"/>
          <p:cNvSpPr/>
          <p:nvPr/>
        </p:nvSpPr>
        <p:spPr>
          <a:xfrm>
            <a:off x="4213080" y="3174840"/>
            <a:ext cx="324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"/>
          <p:cNvSpPr/>
          <p:nvPr/>
        </p:nvSpPr>
        <p:spPr>
          <a:xfrm>
            <a:off x="4516560" y="3306600"/>
            <a:ext cx="16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"/>
          <p:cNvSpPr/>
          <p:nvPr/>
        </p:nvSpPr>
        <p:spPr>
          <a:xfrm flipH="1" flipV="1">
            <a:off x="4532040" y="33238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"/>
          <p:cNvSpPr/>
          <p:nvPr/>
        </p:nvSpPr>
        <p:spPr>
          <a:xfrm>
            <a:off x="4583160" y="337500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"/>
          <p:cNvSpPr/>
          <p:nvPr/>
        </p:nvSpPr>
        <p:spPr>
          <a:xfrm flipH="1">
            <a:off x="4532040" y="337500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"/>
          <p:cNvSpPr/>
          <p:nvPr/>
        </p:nvSpPr>
        <p:spPr>
          <a:xfrm flipV="1">
            <a:off x="4583160" y="33238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"/>
          <p:cNvSpPr/>
          <p:nvPr/>
        </p:nvSpPr>
        <p:spPr>
          <a:xfrm flipV="1">
            <a:off x="4583160" y="332388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"/>
          <p:cNvSpPr/>
          <p:nvPr/>
        </p:nvSpPr>
        <p:spPr>
          <a:xfrm>
            <a:off x="4583160" y="337500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"/>
          <p:cNvSpPr/>
          <p:nvPr/>
        </p:nvSpPr>
        <p:spPr>
          <a:xfrm>
            <a:off x="4869000" y="3476520"/>
            <a:ext cx="16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"/>
          <p:cNvSpPr/>
          <p:nvPr/>
        </p:nvSpPr>
        <p:spPr>
          <a:xfrm flipH="1" flipV="1">
            <a:off x="4885920" y="349380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"/>
          <p:cNvSpPr/>
          <p:nvPr/>
        </p:nvSpPr>
        <p:spPr>
          <a:xfrm>
            <a:off x="4937040" y="354492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"/>
          <p:cNvSpPr/>
          <p:nvPr/>
        </p:nvSpPr>
        <p:spPr>
          <a:xfrm flipH="1">
            <a:off x="4885920" y="35449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"/>
          <p:cNvSpPr/>
          <p:nvPr/>
        </p:nvSpPr>
        <p:spPr>
          <a:xfrm flipV="1">
            <a:off x="4937040" y="349380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"/>
          <p:cNvSpPr/>
          <p:nvPr/>
        </p:nvSpPr>
        <p:spPr>
          <a:xfrm flipV="1">
            <a:off x="4937040" y="3493800"/>
            <a:ext cx="180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"/>
          <p:cNvSpPr/>
          <p:nvPr/>
        </p:nvSpPr>
        <p:spPr>
          <a:xfrm>
            <a:off x="4937040" y="3544920"/>
            <a:ext cx="180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/>
          <p:nvPr/>
        </p:nvSpPr>
        <p:spPr>
          <a:xfrm>
            <a:off x="5238720" y="3646440"/>
            <a:ext cx="168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"/>
          <p:cNvSpPr/>
          <p:nvPr/>
        </p:nvSpPr>
        <p:spPr>
          <a:xfrm flipH="1" flipV="1">
            <a:off x="5256000" y="36619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"/>
          <p:cNvSpPr/>
          <p:nvPr/>
        </p:nvSpPr>
        <p:spPr>
          <a:xfrm>
            <a:off x="5307120" y="37130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"/>
          <p:cNvSpPr/>
          <p:nvPr/>
        </p:nvSpPr>
        <p:spPr>
          <a:xfrm flipH="1">
            <a:off x="5256000" y="37130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"/>
          <p:cNvSpPr/>
          <p:nvPr/>
        </p:nvSpPr>
        <p:spPr>
          <a:xfrm flipV="1">
            <a:off x="5307120" y="36619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"/>
          <p:cNvSpPr/>
          <p:nvPr/>
        </p:nvSpPr>
        <p:spPr>
          <a:xfrm flipV="1">
            <a:off x="5307120" y="366192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"/>
          <p:cNvSpPr/>
          <p:nvPr/>
        </p:nvSpPr>
        <p:spPr>
          <a:xfrm>
            <a:off x="5307120" y="371304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"/>
          <p:cNvSpPr/>
          <p:nvPr/>
        </p:nvSpPr>
        <p:spPr>
          <a:xfrm>
            <a:off x="5607000" y="3798720"/>
            <a:ext cx="168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"/>
          <p:cNvSpPr/>
          <p:nvPr/>
        </p:nvSpPr>
        <p:spPr>
          <a:xfrm flipH="1" flipV="1">
            <a:off x="5622480" y="38145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5673600" y="38656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"/>
          <p:cNvSpPr/>
          <p:nvPr/>
        </p:nvSpPr>
        <p:spPr>
          <a:xfrm flipH="1">
            <a:off x="5622480" y="38656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/>
          <p:nvPr/>
        </p:nvSpPr>
        <p:spPr>
          <a:xfrm flipV="1">
            <a:off x="5673600" y="38145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"/>
          <p:cNvSpPr/>
          <p:nvPr/>
        </p:nvSpPr>
        <p:spPr>
          <a:xfrm flipV="1">
            <a:off x="5673600" y="381456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"/>
          <p:cNvSpPr/>
          <p:nvPr/>
        </p:nvSpPr>
        <p:spPr>
          <a:xfrm>
            <a:off x="5673600" y="386568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"/>
          <p:cNvSpPr/>
          <p:nvPr/>
        </p:nvSpPr>
        <p:spPr>
          <a:xfrm>
            <a:off x="5959440" y="3951360"/>
            <a:ext cx="168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/>
          <p:nvPr/>
        </p:nvSpPr>
        <p:spPr>
          <a:xfrm flipH="1" flipV="1">
            <a:off x="5976720" y="39668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"/>
          <p:cNvSpPr/>
          <p:nvPr/>
        </p:nvSpPr>
        <p:spPr>
          <a:xfrm>
            <a:off x="6027840" y="40179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"/>
          <p:cNvSpPr/>
          <p:nvPr/>
        </p:nvSpPr>
        <p:spPr>
          <a:xfrm flipH="1">
            <a:off x="5976720" y="40179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"/>
          <p:cNvSpPr/>
          <p:nvPr/>
        </p:nvSpPr>
        <p:spPr>
          <a:xfrm flipV="1">
            <a:off x="6027840" y="39668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/>
          <p:nvPr/>
        </p:nvSpPr>
        <p:spPr>
          <a:xfrm flipV="1">
            <a:off x="6027840" y="396684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"/>
          <p:cNvSpPr/>
          <p:nvPr/>
        </p:nvSpPr>
        <p:spPr>
          <a:xfrm>
            <a:off x="6027840" y="401796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"/>
          <p:cNvSpPr/>
          <p:nvPr/>
        </p:nvSpPr>
        <p:spPr>
          <a:xfrm>
            <a:off x="6330960" y="4086360"/>
            <a:ext cx="168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/>
          <p:nvPr/>
        </p:nvSpPr>
        <p:spPr>
          <a:xfrm flipH="1" flipV="1">
            <a:off x="6346440" y="41032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"/>
          <p:cNvSpPr/>
          <p:nvPr/>
        </p:nvSpPr>
        <p:spPr>
          <a:xfrm>
            <a:off x="6397560" y="4154400"/>
            <a:ext cx="50760" cy="478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"/>
          <p:cNvSpPr/>
          <p:nvPr/>
        </p:nvSpPr>
        <p:spPr>
          <a:xfrm flipH="1">
            <a:off x="6346440" y="4154400"/>
            <a:ext cx="50760" cy="478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"/>
          <p:cNvSpPr/>
          <p:nvPr/>
        </p:nvSpPr>
        <p:spPr>
          <a:xfrm flipV="1">
            <a:off x="6397560" y="41032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"/>
          <p:cNvSpPr/>
          <p:nvPr/>
        </p:nvSpPr>
        <p:spPr>
          <a:xfrm flipV="1">
            <a:off x="6397560" y="410328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"/>
          <p:cNvSpPr/>
          <p:nvPr/>
        </p:nvSpPr>
        <p:spPr>
          <a:xfrm>
            <a:off x="6397560" y="4154400"/>
            <a:ext cx="3240" cy="478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/>
          <p:nvPr/>
        </p:nvSpPr>
        <p:spPr>
          <a:xfrm>
            <a:off x="6683400" y="4202280"/>
            <a:ext cx="1652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"/>
          <p:cNvSpPr/>
          <p:nvPr/>
        </p:nvSpPr>
        <p:spPr>
          <a:xfrm flipH="1" flipV="1">
            <a:off x="6700680" y="4219200"/>
            <a:ext cx="511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"/>
          <p:cNvSpPr/>
          <p:nvPr/>
        </p:nvSpPr>
        <p:spPr>
          <a:xfrm>
            <a:off x="6751800" y="4270320"/>
            <a:ext cx="489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"/>
          <p:cNvSpPr/>
          <p:nvPr/>
        </p:nvSpPr>
        <p:spPr>
          <a:xfrm flipH="1">
            <a:off x="6700680" y="4270320"/>
            <a:ext cx="511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6751800" y="4219200"/>
            <a:ext cx="489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 flipV="1">
            <a:off x="6751800" y="421920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"/>
          <p:cNvSpPr/>
          <p:nvPr/>
        </p:nvSpPr>
        <p:spPr>
          <a:xfrm>
            <a:off x="6751800" y="427032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"/>
          <p:cNvSpPr/>
          <p:nvPr/>
        </p:nvSpPr>
        <p:spPr>
          <a:xfrm>
            <a:off x="7051680" y="4303800"/>
            <a:ext cx="16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"/>
          <p:cNvSpPr/>
          <p:nvPr/>
        </p:nvSpPr>
        <p:spPr>
          <a:xfrm flipH="1" flipV="1">
            <a:off x="7067160" y="43207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"/>
          <p:cNvSpPr/>
          <p:nvPr/>
        </p:nvSpPr>
        <p:spPr>
          <a:xfrm>
            <a:off x="7118280" y="43718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"/>
          <p:cNvSpPr/>
          <p:nvPr/>
        </p:nvSpPr>
        <p:spPr>
          <a:xfrm flipH="1">
            <a:off x="7067160" y="43718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"/>
          <p:cNvSpPr/>
          <p:nvPr/>
        </p:nvSpPr>
        <p:spPr>
          <a:xfrm flipV="1">
            <a:off x="7118280" y="43207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"/>
          <p:cNvSpPr/>
          <p:nvPr/>
        </p:nvSpPr>
        <p:spPr>
          <a:xfrm flipV="1">
            <a:off x="7118280" y="432072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"/>
          <p:cNvSpPr/>
          <p:nvPr/>
        </p:nvSpPr>
        <p:spPr>
          <a:xfrm>
            <a:off x="7118280" y="437184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"/>
          <p:cNvSpPr/>
          <p:nvPr/>
        </p:nvSpPr>
        <p:spPr>
          <a:xfrm>
            <a:off x="7404120" y="4405320"/>
            <a:ext cx="16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"/>
          <p:cNvSpPr/>
          <p:nvPr/>
        </p:nvSpPr>
        <p:spPr>
          <a:xfrm flipH="1" flipV="1">
            <a:off x="7421400" y="4422600"/>
            <a:ext cx="5112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"/>
          <p:cNvSpPr/>
          <p:nvPr/>
        </p:nvSpPr>
        <p:spPr>
          <a:xfrm>
            <a:off x="7472520" y="4473720"/>
            <a:ext cx="489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"/>
          <p:cNvSpPr/>
          <p:nvPr/>
        </p:nvSpPr>
        <p:spPr>
          <a:xfrm flipH="1">
            <a:off x="7421400" y="4473720"/>
            <a:ext cx="511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"/>
          <p:cNvSpPr/>
          <p:nvPr/>
        </p:nvSpPr>
        <p:spPr>
          <a:xfrm flipV="1">
            <a:off x="7472520" y="4422600"/>
            <a:ext cx="4896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"/>
          <p:cNvSpPr/>
          <p:nvPr/>
        </p:nvSpPr>
        <p:spPr>
          <a:xfrm flipV="1">
            <a:off x="7472520" y="4422600"/>
            <a:ext cx="144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"/>
          <p:cNvSpPr/>
          <p:nvPr/>
        </p:nvSpPr>
        <p:spPr>
          <a:xfrm>
            <a:off x="7472520" y="447372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"/>
          <p:cNvSpPr/>
          <p:nvPr/>
        </p:nvSpPr>
        <p:spPr>
          <a:xfrm>
            <a:off x="7773840" y="4491000"/>
            <a:ext cx="168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"/>
          <p:cNvSpPr/>
          <p:nvPr/>
        </p:nvSpPr>
        <p:spPr>
          <a:xfrm flipH="1" flipV="1">
            <a:off x="7791120" y="45064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"/>
          <p:cNvSpPr/>
          <p:nvPr/>
        </p:nvSpPr>
        <p:spPr>
          <a:xfrm>
            <a:off x="7842240" y="455760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"/>
          <p:cNvSpPr/>
          <p:nvPr/>
        </p:nvSpPr>
        <p:spPr>
          <a:xfrm flipH="1">
            <a:off x="7791120" y="455760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"/>
          <p:cNvSpPr/>
          <p:nvPr/>
        </p:nvSpPr>
        <p:spPr>
          <a:xfrm flipV="1">
            <a:off x="7842240" y="450648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"/>
          <p:cNvSpPr/>
          <p:nvPr/>
        </p:nvSpPr>
        <p:spPr>
          <a:xfrm flipV="1">
            <a:off x="7842240" y="450648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"/>
          <p:cNvSpPr/>
          <p:nvPr/>
        </p:nvSpPr>
        <p:spPr>
          <a:xfrm>
            <a:off x="7842240" y="455760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"/>
          <p:cNvSpPr/>
          <p:nvPr/>
        </p:nvSpPr>
        <p:spPr>
          <a:xfrm>
            <a:off x="8143920" y="4557600"/>
            <a:ext cx="16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"/>
          <p:cNvSpPr/>
          <p:nvPr/>
        </p:nvSpPr>
        <p:spPr>
          <a:xfrm flipH="1" flipV="1">
            <a:off x="8160840" y="4574880"/>
            <a:ext cx="4788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"/>
          <p:cNvSpPr/>
          <p:nvPr/>
        </p:nvSpPr>
        <p:spPr>
          <a:xfrm>
            <a:off x="8209080" y="462600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"/>
          <p:cNvSpPr/>
          <p:nvPr/>
        </p:nvSpPr>
        <p:spPr>
          <a:xfrm flipH="1">
            <a:off x="8160840" y="4626000"/>
            <a:ext cx="4788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"/>
          <p:cNvSpPr/>
          <p:nvPr/>
        </p:nvSpPr>
        <p:spPr>
          <a:xfrm flipV="1">
            <a:off x="8209080" y="45748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"/>
          <p:cNvSpPr/>
          <p:nvPr/>
        </p:nvSpPr>
        <p:spPr>
          <a:xfrm flipV="1">
            <a:off x="8209080" y="4574880"/>
            <a:ext cx="288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"/>
          <p:cNvSpPr/>
          <p:nvPr/>
        </p:nvSpPr>
        <p:spPr>
          <a:xfrm>
            <a:off x="8209080" y="4626000"/>
            <a:ext cx="288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"/>
          <p:cNvSpPr/>
          <p:nvPr/>
        </p:nvSpPr>
        <p:spPr>
          <a:xfrm>
            <a:off x="8494560" y="4643280"/>
            <a:ext cx="168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"/>
          <p:cNvSpPr/>
          <p:nvPr/>
        </p:nvSpPr>
        <p:spPr>
          <a:xfrm flipH="1" flipV="1">
            <a:off x="8511840" y="46591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"/>
          <p:cNvSpPr/>
          <p:nvPr/>
        </p:nvSpPr>
        <p:spPr>
          <a:xfrm>
            <a:off x="8562960" y="471024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"/>
          <p:cNvSpPr/>
          <p:nvPr/>
        </p:nvSpPr>
        <p:spPr>
          <a:xfrm flipH="1">
            <a:off x="8511840" y="47102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"/>
          <p:cNvSpPr/>
          <p:nvPr/>
        </p:nvSpPr>
        <p:spPr>
          <a:xfrm flipV="1">
            <a:off x="8562960" y="465912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"/>
          <p:cNvSpPr/>
          <p:nvPr/>
        </p:nvSpPr>
        <p:spPr>
          <a:xfrm flipV="1">
            <a:off x="8562960" y="465912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"/>
          <p:cNvSpPr/>
          <p:nvPr/>
        </p:nvSpPr>
        <p:spPr>
          <a:xfrm>
            <a:off x="8562960" y="471024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"/>
          <p:cNvSpPr/>
          <p:nvPr/>
        </p:nvSpPr>
        <p:spPr>
          <a:xfrm>
            <a:off x="1526760" y="50799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"/>
          <p:cNvSpPr/>
          <p:nvPr/>
        </p:nvSpPr>
        <p:spPr>
          <a:xfrm>
            <a:off x="1260000" y="44737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"/>
          <p:cNvSpPr/>
          <p:nvPr/>
        </p:nvSpPr>
        <p:spPr>
          <a:xfrm>
            <a:off x="1260000" y="388296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"/>
          <p:cNvSpPr/>
          <p:nvPr/>
        </p:nvSpPr>
        <p:spPr>
          <a:xfrm>
            <a:off x="1260000" y="32767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"/>
          <p:cNvSpPr/>
          <p:nvPr/>
        </p:nvSpPr>
        <p:spPr>
          <a:xfrm>
            <a:off x="1260000" y="266544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1260000" y="20764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"/>
          <p:cNvSpPr/>
          <p:nvPr/>
        </p:nvSpPr>
        <p:spPr>
          <a:xfrm>
            <a:off x="1260000" y="146844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"/>
          <p:cNvSpPr/>
          <p:nvPr/>
        </p:nvSpPr>
        <p:spPr>
          <a:xfrm>
            <a:off x="198072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"/>
          <p:cNvSpPr/>
          <p:nvPr/>
        </p:nvSpPr>
        <p:spPr>
          <a:xfrm>
            <a:off x="233316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7" name=""/>
          <p:cNvSpPr/>
          <p:nvPr/>
        </p:nvSpPr>
        <p:spPr>
          <a:xfrm>
            <a:off x="270468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"/>
          <p:cNvSpPr/>
          <p:nvPr/>
        </p:nvSpPr>
        <p:spPr>
          <a:xfrm>
            <a:off x="307152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"/>
          <p:cNvSpPr/>
          <p:nvPr/>
        </p:nvSpPr>
        <p:spPr>
          <a:xfrm>
            <a:off x="342540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"/>
          <p:cNvSpPr/>
          <p:nvPr/>
        </p:nvSpPr>
        <p:spPr>
          <a:xfrm>
            <a:off x="379548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"/>
          <p:cNvSpPr/>
          <p:nvPr/>
        </p:nvSpPr>
        <p:spPr>
          <a:xfrm>
            <a:off x="414612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"/>
          <p:cNvSpPr/>
          <p:nvPr/>
        </p:nvSpPr>
        <p:spPr>
          <a:xfrm>
            <a:off x="451620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486864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/>
          <p:cNvSpPr/>
          <p:nvPr/>
        </p:nvSpPr>
        <p:spPr>
          <a:xfrm>
            <a:off x="517176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"/>
          <p:cNvSpPr/>
          <p:nvPr/>
        </p:nvSpPr>
        <p:spPr>
          <a:xfrm>
            <a:off x="553860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>
            <a:off x="589248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626220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"/>
          <p:cNvSpPr/>
          <p:nvPr/>
        </p:nvSpPr>
        <p:spPr>
          <a:xfrm>
            <a:off x="661644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"/>
          <p:cNvSpPr/>
          <p:nvPr/>
        </p:nvSpPr>
        <p:spPr>
          <a:xfrm>
            <a:off x="698292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"/>
          <p:cNvSpPr/>
          <p:nvPr/>
        </p:nvSpPr>
        <p:spPr>
          <a:xfrm>
            <a:off x="733716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"/>
          <p:cNvSpPr/>
          <p:nvPr/>
        </p:nvSpPr>
        <p:spPr>
          <a:xfrm>
            <a:off x="770688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"/>
          <p:cNvSpPr/>
          <p:nvPr/>
        </p:nvSpPr>
        <p:spPr>
          <a:xfrm>
            <a:off x="807696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"/>
          <p:cNvSpPr/>
          <p:nvPr/>
        </p:nvSpPr>
        <p:spPr>
          <a:xfrm>
            <a:off x="842760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"/>
          <p:cNvSpPr/>
          <p:nvPr/>
        </p:nvSpPr>
        <p:spPr>
          <a:xfrm>
            <a:off x="4869000" y="582624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"/>
          <p:cNvSpPr/>
          <p:nvPr/>
        </p:nvSpPr>
        <p:spPr>
          <a:xfrm rot="16200000">
            <a:off x="256320" y="33454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bre de ti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"/>
          <p:cNvSpPr/>
          <p:nvPr/>
        </p:nvSpPr>
        <p:spPr>
          <a:xfrm>
            <a:off x="4114800" y="1417680"/>
            <a:ext cx="452520" cy="324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"/>
          <p:cNvSpPr/>
          <p:nvPr/>
        </p:nvSpPr>
        <p:spPr>
          <a:xfrm>
            <a:off x="4264200" y="1349280"/>
            <a:ext cx="16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"/>
          <p:cNvSpPr/>
          <p:nvPr/>
        </p:nvSpPr>
        <p:spPr>
          <a:xfrm flipH="1" flipV="1">
            <a:off x="4279680" y="1366560"/>
            <a:ext cx="50760" cy="5076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"/>
          <p:cNvSpPr/>
          <p:nvPr/>
        </p:nvSpPr>
        <p:spPr>
          <a:xfrm>
            <a:off x="4330800" y="1417680"/>
            <a:ext cx="50760" cy="5076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"/>
          <p:cNvSpPr/>
          <p:nvPr/>
        </p:nvSpPr>
        <p:spPr>
          <a:xfrm flipH="1">
            <a:off x="4279680" y="1417680"/>
            <a:ext cx="50760" cy="5076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"/>
          <p:cNvSpPr/>
          <p:nvPr/>
        </p:nvSpPr>
        <p:spPr>
          <a:xfrm flipV="1">
            <a:off x="4330800" y="1366560"/>
            <a:ext cx="50760" cy="5076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"/>
          <p:cNvSpPr/>
          <p:nvPr/>
        </p:nvSpPr>
        <p:spPr>
          <a:xfrm>
            <a:off x="4615200" y="128268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lass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"/>
          <p:cNvSpPr/>
          <p:nvPr/>
        </p:nvSpPr>
        <p:spPr>
          <a:xfrm>
            <a:off x="6532560" y="1417680"/>
            <a:ext cx="450720" cy="3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"/>
          <p:cNvSpPr/>
          <p:nvPr/>
        </p:nvSpPr>
        <p:spPr>
          <a:xfrm>
            <a:off x="6683400" y="1349280"/>
            <a:ext cx="165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"/>
          <p:cNvSpPr/>
          <p:nvPr/>
        </p:nvSpPr>
        <p:spPr>
          <a:xfrm flipH="1" flipV="1">
            <a:off x="6700680" y="1366560"/>
            <a:ext cx="51120" cy="5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"/>
          <p:cNvSpPr/>
          <p:nvPr/>
        </p:nvSpPr>
        <p:spPr>
          <a:xfrm>
            <a:off x="6751800" y="1417680"/>
            <a:ext cx="48960" cy="5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"/>
          <p:cNvSpPr/>
          <p:nvPr/>
        </p:nvSpPr>
        <p:spPr>
          <a:xfrm flipH="1">
            <a:off x="6700680" y="1417680"/>
            <a:ext cx="51120" cy="5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"/>
          <p:cNvSpPr/>
          <p:nvPr/>
        </p:nvSpPr>
        <p:spPr>
          <a:xfrm flipV="1">
            <a:off x="6751800" y="1366560"/>
            <a:ext cx="48960" cy="5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"/>
          <p:cNvSpPr/>
          <p:nvPr/>
        </p:nvSpPr>
        <p:spPr>
          <a:xfrm flipV="1">
            <a:off x="6751800" y="1366560"/>
            <a:ext cx="1440" cy="5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"/>
          <p:cNvSpPr/>
          <p:nvPr/>
        </p:nvSpPr>
        <p:spPr>
          <a:xfrm>
            <a:off x="6751800" y="1417680"/>
            <a:ext cx="1440" cy="5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"/>
          <p:cNvSpPr/>
          <p:nvPr/>
        </p:nvSpPr>
        <p:spPr>
          <a:xfrm>
            <a:off x="7032960" y="128268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lass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"/>
          <p:cNvSpPr/>
          <p:nvPr/>
        </p:nvSpPr>
        <p:spPr>
          <a:xfrm>
            <a:off x="4114800" y="1736640"/>
            <a:ext cx="4525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"/>
          <p:cNvSpPr/>
          <p:nvPr/>
        </p:nvSpPr>
        <p:spPr>
          <a:xfrm>
            <a:off x="4264200" y="1668600"/>
            <a:ext cx="1681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"/>
          <p:cNvSpPr/>
          <p:nvPr/>
        </p:nvSpPr>
        <p:spPr>
          <a:xfrm flipV="1">
            <a:off x="4330800" y="1685520"/>
            <a:ext cx="324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"/>
          <p:cNvSpPr/>
          <p:nvPr/>
        </p:nvSpPr>
        <p:spPr>
          <a:xfrm>
            <a:off x="4330800" y="1736640"/>
            <a:ext cx="324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"/>
          <p:cNvSpPr/>
          <p:nvPr/>
        </p:nvSpPr>
        <p:spPr>
          <a:xfrm flipH="1">
            <a:off x="4279680" y="1736640"/>
            <a:ext cx="50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"/>
          <p:cNvSpPr/>
          <p:nvPr/>
        </p:nvSpPr>
        <p:spPr>
          <a:xfrm>
            <a:off x="4330800" y="1736640"/>
            <a:ext cx="50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"/>
          <p:cNvSpPr/>
          <p:nvPr/>
        </p:nvSpPr>
        <p:spPr>
          <a:xfrm>
            <a:off x="4615560" y="1601640"/>
            <a:ext cx="77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lass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6532560" y="1736640"/>
            <a:ext cx="450720" cy="3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6700680" y="1685880"/>
            <a:ext cx="100080" cy="101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7033320" y="1601640"/>
            <a:ext cx="14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dividus m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4114800" y="2041560"/>
            <a:ext cx="452520" cy="32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/>
          <p:nvPr/>
        </p:nvSpPr>
        <p:spPr>
          <a:xfrm>
            <a:off x="4264200" y="1974960"/>
            <a:ext cx="168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/>
          <p:nvPr/>
        </p:nvSpPr>
        <p:spPr>
          <a:xfrm flipH="1" flipV="1">
            <a:off x="4279680" y="19904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5" name=""/>
          <p:cNvSpPr/>
          <p:nvPr/>
        </p:nvSpPr>
        <p:spPr>
          <a:xfrm>
            <a:off x="4330800" y="20415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6" name=""/>
          <p:cNvSpPr/>
          <p:nvPr/>
        </p:nvSpPr>
        <p:spPr>
          <a:xfrm flipH="1">
            <a:off x="4279680" y="20415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7" name=""/>
          <p:cNvSpPr/>
          <p:nvPr/>
        </p:nvSpPr>
        <p:spPr>
          <a:xfrm flipV="1">
            <a:off x="4330800" y="19904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8" name=""/>
          <p:cNvSpPr/>
          <p:nvPr/>
        </p:nvSpPr>
        <p:spPr>
          <a:xfrm flipV="1">
            <a:off x="4330800" y="199044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9" name=""/>
          <p:cNvSpPr/>
          <p:nvPr/>
        </p:nvSpPr>
        <p:spPr>
          <a:xfrm>
            <a:off x="4330800" y="204156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0" name=""/>
          <p:cNvSpPr/>
          <p:nvPr/>
        </p:nvSpPr>
        <p:spPr>
          <a:xfrm>
            <a:off x="4614120" y="1906560"/>
            <a:ext cx="15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dividus viv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1" name=""/>
          <p:cNvSpPr/>
          <p:nvPr/>
        </p:nvSpPr>
        <p:spPr>
          <a:xfrm>
            <a:off x="-4320" y="71280"/>
            <a:ext cx="75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DYNAMIQUE DE TRANSITION POUR LES 1cm &lt; DBH &lt; 3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09680" y="1028880"/>
            <a:ext cx="8665920" cy="56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5800" y="6351480"/>
            <a:ext cx="349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(d’après Hallé, Oldeman &amp; Tomlinson 197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93880" y="1387440"/>
            <a:ext cx="7786080" cy="3652560"/>
            <a:chOff x="893880" y="1387440"/>
            <a:chExt cx="7786080" cy="3652560"/>
          </a:xfrm>
        </p:grpSpPr>
        <p:pic>
          <p:nvPicPr>
            <p:cNvPr id="63" name="" descr=""/>
            <p:cNvPicPr/>
            <p:nvPr/>
          </p:nvPicPr>
          <p:blipFill>
            <a:blip r:embed="rId2"/>
            <a:srcRect l="0" t="0" r="2272" b="0"/>
            <a:stretch/>
          </p:blipFill>
          <p:spPr>
            <a:xfrm>
              <a:off x="893880" y="3907080"/>
              <a:ext cx="2183400" cy="110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792880" y="1477080"/>
              <a:ext cx="5887080" cy="356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rcRect l="0" t="0" r="66710" b="56915"/>
            <a:stretch/>
          </p:blipFill>
          <p:spPr>
            <a:xfrm>
              <a:off x="5405400" y="1387440"/>
              <a:ext cx="116820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rcRect l="0" t="0" r="66710" b="56915"/>
            <a:stretch/>
          </p:blipFill>
          <p:spPr>
            <a:xfrm>
              <a:off x="6253920" y="1567080"/>
              <a:ext cx="589320" cy="26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1092240" y="3618000"/>
            <a:ext cx="119160" cy="72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5280" y="322092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b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32120" y="2631960"/>
            <a:ext cx="285840" cy="11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25320" y="2198520"/>
            <a:ext cx="122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urc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03600" y="2362320"/>
            <a:ext cx="118584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38800" y="1335240"/>
            <a:ext cx="12708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35760" y="971640"/>
            <a:ext cx="234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einte de la canop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3189240" y="3006720"/>
            <a:ext cx="144360" cy="5348160"/>
          </a:xfrm>
          <a:custGeom>
            <a:avLst/>
            <a:gdLst>
              <a:gd name="textAreaLeft" fmla="*/ 0 w 144360"/>
              <a:gd name="textAreaRight" fmla="*/ 101160 w 144360"/>
              <a:gd name="textAreaTop" fmla="*/ 222840 h 5348160"/>
              <a:gd name="textAreaBottom" fmla="*/ 5125320 h 534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7004520" y="5042520"/>
            <a:ext cx="119160" cy="1301760"/>
          </a:xfrm>
          <a:custGeom>
            <a:avLst/>
            <a:gdLst>
              <a:gd name="textAreaLeft" fmla="*/ 0 w 119160"/>
              <a:gd name="textAreaRight" fmla="*/ 83520 w 119160"/>
              <a:gd name="textAreaTop" fmla="*/ 54000 h 1301760"/>
              <a:gd name="textAreaBottom" fmla="*/ 124776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8183520" y="5402160"/>
            <a:ext cx="144360" cy="557280"/>
          </a:xfrm>
          <a:custGeom>
            <a:avLst/>
            <a:gdLst>
              <a:gd name="textAreaLeft" fmla="*/ 0 w 144360"/>
              <a:gd name="textAreaRight" fmla="*/ 101160 w 144360"/>
              <a:gd name="textAreaTop" fmla="*/ 23040 h 557280"/>
              <a:gd name="textAreaBottom" fmla="*/ 5342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23960" y="3981600"/>
            <a:ext cx="28800" cy="5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05640" y="3365640"/>
            <a:ext cx="934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éc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68960" y="2336760"/>
            <a:ext cx="30492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61040" y="1906560"/>
            <a:ext cx="150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rt préc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1760" y="5200560"/>
            <a:ext cx="116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pro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8680" y="5019840"/>
            <a:ext cx="105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ré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17640" y="5208480"/>
            <a:ext cx="116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pro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7400" y="5018040"/>
            <a:ext cx="1065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stag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9840" y="5208480"/>
            <a:ext cx="105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ré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47960" y="5019840"/>
            <a:ext cx="116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pro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1080" y="5207040"/>
            <a:ext cx="1065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stag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2000" y="5019840"/>
            <a:ext cx="105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ré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54840" y="5019840"/>
            <a:ext cx="116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pro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56720" y="5018040"/>
            <a:ext cx="1065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stag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54360" y="4995720"/>
            <a:ext cx="105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ré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24920" y="57960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 pré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17320" y="5796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 pas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38560" y="57196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bres du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285624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120" y="71280"/>
            <a:ext cx="91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ONTEXTE DE L’ETUDE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L’HISTOIRE DE LA VIE D’UN ARBRE EN FORET NATUR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"/>
          <p:cNvSpPr/>
          <p:nvPr/>
        </p:nvSpPr>
        <p:spPr>
          <a:xfrm>
            <a:off x="2687760" y="2714760"/>
            <a:ext cx="46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Persp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"/>
          <p:cNvSpPr/>
          <p:nvPr/>
        </p:nvSpPr>
        <p:spPr>
          <a:xfrm>
            <a:off x="1080" y="71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"/>
          <p:cNvSpPr/>
          <p:nvPr/>
        </p:nvSpPr>
        <p:spPr>
          <a:xfrm>
            <a:off x="403200" y="631800"/>
            <a:ext cx="85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répartition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spatiale du </a:t>
            </a: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T. melino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5" name=""/>
          <p:cNvGrpSpPr/>
          <p:nvPr/>
        </p:nvGrpSpPr>
        <p:grpSpPr>
          <a:xfrm>
            <a:off x="455760" y="1407960"/>
            <a:ext cx="5935680" cy="1968480"/>
            <a:chOff x="455760" y="1407960"/>
            <a:chExt cx="5935680" cy="1968480"/>
          </a:xfrm>
        </p:grpSpPr>
        <p:sp>
          <p:nvSpPr>
            <p:cNvPr id="5756" name=""/>
            <p:cNvSpPr/>
            <p:nvPr/>
          </p:nvSpPr>
          <p:spPr>
            <a:xfrm>
              <a:off x="455760" y="1407960"/>
              <a:ext cx="4470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Perturbation et dissémin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2657520" y="2146320"/>
              <a:ext cx="155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mic Sans MS"/>
                </a:rPr>
                <a:t>Phénolog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2657520" y="1749600"/>
              <a:ext cx="2539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mic Sans MS"/>
                </a:rPr>
                <a:t>Individus matur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2657520" y="2543040"/>
              <a:ext cx="3733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mic Sans MS"/>
                </a:rPr>
                <a:t>Distance de dissémin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657520" y="2938320"/>
              <a:ext cx="3733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mic Sans MS"/>
                </a:rPr>
                <a:t>Effet du vent 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2639880" y="1798560"/>
              <a:ext cx="88920" cy="157788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2" name=""/>
          <p:cNvSpPr/>
          <p:nvPr/>
        </p:nvSpPr>
        <p:spPr>
          <a:xfrm>
            <a:off x="371520" y="5187960"/>
            <a:ext cx="85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e espèce « facile » pour passer de l’individu au peuple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"/>
          <p:cNvSpPr/>
          <p:nvPr/>
        </p:nvSpPr>
        <p:spPr>
          <a:xfrm>
            <a:off x="341280" y="4494240"/>
            <a:ext cx="830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facteurs pour spatialiser les indivi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"/>
          <p:cNvSpPr/>
          <p:nvPr/>
        </p:nvSpPr>
        <p:spPr>
          <a:xfrm>
            <a:off x="5951520" y="1484280"/>
            <a:ext cx="319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6" name="" descr=""/>
          <p:cNvPicPr/>
          <p:nvPr/>
        </p:nvPicPr>
        <p:blipFill>
          <a:blip r:embed="rId2"/>
          <a:stretch/>
        </p:blipFill>
        <p:spPr>
          <a:xfrm>
            <a:off x="2200320" y="1755720"/>
            <a:ext cx="492588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26281" fill="hold"/>
                                        <p:tgtEl>
                                          <p:spTgt spid="57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5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5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576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576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2" dur="1" fill="hold"/>
                                        <p:tgtEl>
                                          <p:spTgt spid="57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7" name=""/>
          <p:cNvSpPr/>
          <p:nvPr/>
        </p:nvSpPr>
        <p:spPr>
          <a:xfrm>
            <a:off x="649440" y="3086280"/>
            <a:ext cx="8200800" cy="566640"/>
          </a:xfrm>
          <a:prstGeom prst="rightArrow">
            <a:avLst>
              <a:gd name="adj1" fmla="val 50000"/>
              <a:gd name="adj2" fmla="val 361817"/>
            </a:avLst>
          </a:prstGeom>
          <a:gradFill rotWithShape="0">
            <a:gsLst>
              <a:gs pos="0">
                <a:srgbClr val="ff00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"/>
          <p:cNvSpPr/>
          <p:nvPr/>
        </p:nvSpPr>
        <p:spPr>
          <a:xfrm>
            <a:off x="560520" y="631800"/>
            <a:ext cx="855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Vérification des hypothèses de Dodet (2003) sur la trajectoire suivie par les arbres au cours d’un dépériss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"/>
          <p:cNvSpPr/>
          <p:nvPr/>
        </p:nvSpPr>
        <p:spPr>
          <a:xfrm>
            <a:off x="1080" y="71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0" name=""/>
          <p:cNvGrpSpPr/>
          <p:nvPr/>
        </p:nvGrpSpPr>
        <p:grpSpPr>
          <a:xfrm>
            <a:off x="1347840" y="2627280"/>
            <a:ext cx="1085760" cy="1562040"/>
            <a:chOff x="1347840" y="2627280"/>
            <a:chExt cx="1085760" cy="1562040"/>
          </a:xfrm>
        </p:grpSpPr>
        <p:grpSp>
          <p:nvGrpSpPr>
            <p:cNvPr id="5771" name=""/>
            <p:cNvGrpSpPr/>
            <p:nvPr/>
          </p:nvGrpSpPr>
          <p:grpSpPr>
            <a:xfrm>
              <a:off x="1347840" y="2627280"/>
              <a:ext cx="948600" cy="1485360"/>
              <a:chOff x="1347840" y="2627280"/>
              <a:chExt cx="948600" cy="1485360"/>
            </a:xfrm>
          </p:grpSpPr>
          <p:grpSp>
            <p:nvGrpSpPr>
              <p:cNvPr id="5772" name=""/>
              <p:cNvGrpSpPr/>
              <p:nvPr/>
            </p:nvGrpSpPr>
            <p:grpSpPr>
              <a:xfrm>
                <a:off x="1347840" y="2627280"/>
                <a:ext cx="948600" cy="1485360"/>
                <a:chOff x="1347840" y="2627280"/>
                <a:chExt cx="948600" cy="1485360"/>
              </a:xfrm>
            </p:grpSpPr>
            <p:sp>
              <p:nvSpPr>
                <p:cNvPr id="5773" name=""/>
                <p:cNvSpPr/>
                <p:nvPr/>
              </p:nvSpPr>
              <p:spPr>
                <a:xfrm>
                  <a:off x="1347840" y="2627280"/>
                  <a:ext cx="948600" cy="148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4" name=""/>
                <p:cNvSpPr/>
                <p:nvPr/>
              </p:nvSpPr>
              <p:spPr>
                <a:xfrm>
                  <a:off x="1347840" y="2627280"/>
                  <a:ext cx="944280" cy="1481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5" name=""/>
                <p:cNvSpPr/>
                <p:nvPr/>
              </p:nvSpPr>
              <p:spPr>
                <a:xfrm>
                  <a:off x="1347840" y="2627280"/>
                  <a:ext cx="944280" cy="1481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6" name=""/>
                <p:cNvSpPr/>
                <p:nvPr/>
              </p:nvSpPr>
              <p:spPr>
                <a:xfrm>
                  <a:off x="1347840" y="2627280"/>
                  <a:ext cx="948600" cy="148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7" name=""/>
              <p:cNvSpPr/>
              <p:nvPr/>
            </p:nvSpPr>
            <p:spPr>
              <a:xfrm>
                <a:off x="1347840" y="2627280"/>
                <a:ext cx="944640" cy="148140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8" name=""/>
            <p:cNvSpPr/>
            <p:nvPr/>
          </p:nvSpPr>
          <p:spPr>
            <a:xfrm>
              <a:off x="2017800" y="3784680"/>
              <a:ext cx="4158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140560" y="3852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0" name=""/>
            <p:cNvGrpSpPr/>
            <p:nvPr/>
          </p:nvGrpSpPr>
          <p:grpSpPr>
            <a:xfrm>
              <a:off x="1496880" y="2938320"/>
              <a:ext cx="630000" cy="1101600"/>
              <a:chOff x="1496880" y="2938320"/>
              <a:chExt cx="630000" cy="1101600"/>
            </a:xfrm>
          </p:grpSpPr>
          <p:sp>
            <p:nvSpPr>
              <p:cNvPr id="5781" name=""/>
              <p:cNvSpPr/>
              <p:nvPr/>
            </p:nvSpPr>
            <p:spPr>
              <a:xfrm>
                <a:off x="1693800" y="2969640"/>
                <a:ext cx="99000" cy="1070280"/>
              </a:xfrm>
              <a:custGeom>
                <a:avLst/>
                <a:gdLst/>
                <a:ahLst/>
                <a:rect l="l" t="t" r="r" b="b"/>
                <a:pathLst>
                  <a:path w="47" h="510">
                    <a:moveTo>
                      <a:pt x="36" y="510"/>
                    </a:moveTo>
                    <a:lnTo>
                      <a:pt x="46" y="510"/>
                    </a:lnTo>
                    <a:lnTo>
                      <a:pt x="46" y="420"/>
                    </a:lnTo>
                    <a:lnTo>
                      <a:pt x="46" y="374"/>
                    </a:lnTo>
                    <a:lnTo>
                      <a:pt x="46" y="326"/>
                    </a:lnTo>
                    <a:lnTo>
                      <a:pt x="46" y="300"/>
                    </a:lnTo>
                    <a:lnTo>
                      <a:pt x="47" y="273"/>
                    </a:lnTo>
                    <a:lnTo>
                      <a:pt x="47" y="216"/>
                    </a:lnTo>
                    <a:lnTo>
                      <a:pt x="47" y="188"/>
                    </a:lnTo>
                    <a:lnTo>
                      <a:pt x="47" y="162"/>
                    </a:lnTo>
                    <a:lnTo>
                      <a:pt x="46" y="138"/>
                    </a:lnTo>
                    <a:lnTo>
                      <a:pt x="44" y="116"/>
                    </a:lnTo>
                    <a:lnTo>
                      <a:pt x="41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1" y="97"/>
                    </a:lnTo>
                    <a:lnTo>
                      <a:pt x="34" y="117"/>
                    </a:lnTo>
                    <a:lnTo>
                      <a:pt x="36" y="138"/>
                    </a:lnTo>
                    <a:lnTo>
                      <a:pt x="37" y="162"/>
                    </a:lnTo>
                    <a:lnTo>
                      <a:pt x="37" y="188"/>
                    </a:lnTo>
                    <a:lnTo>
                      <a:pt x="37" y="216"/>
                    </a:lnTo>
                    <a:lnTo>
                      <a:pt x="37" y="273"/>
                    </a:lnTo>
                    <a:lnTo>
                      <a:pt x="36" y="300"/>
                    </a:lnTo>
                    <a:lnTo>
                      <a:pt x="36" y="326"/>
                    </a:lnTo>
                    <a:lnTo>
                      <a:pt x="36" y="374"/>
                    </a:lnTo>
                    <a:lnTo>
                      <a:pt x="36" y="420"/>
                    </a:lnTo>
                    <a:lnTo>
                      <a:pt x="36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1767600" y="2938320"/>
                <a:ext cx="79200" cy="29124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1" y="115"/>
                    </a:lnTo>
                    <a:lnTo>
                      <a:pt x="27" y="101"/>
                    </a:lnTo>
                    <a:lnTo>
                      <a:pt x="29" y="98"/>
                    </a:lnTo>
                    <a:lnTo>
                      <a:pt x="33" y="83"/>
                    </a:lnTo>
                    <a:lnTo>
                      <a:pt x="36" y="64"/>
                    </a:lnTo>
                    <a:lnTo>
                      <a:pt x="37" y="44"/>
                    </a:lnTo>
                    <a:lnTo>
                      <a:pt x="38" y="22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22"/>
                    </a:lnTo>
                    <a:lnTo>
                      <a:pt x="27" y="44"/>
                    </a:lnTo>
                    <a:lnTo>
                      <a:pt x="26" y="64"/>
                    </a:lnTo>
                    <a:lnTo>
                      <a:pt x="24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0" y="94"/>
                    </a:lnTo>
                    <a:lnTo>
                      <a:pt x="14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1733760" y="2950560"/>
                <a:ext cx="41760" cy="1382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1595160" y="3107880"/>
                <a:ext cx="193320" cy="199080"/>
              </a:xfrm>
              <a:custGeom>
                <a:avLst/>
                <a:gdLst/>
                <a:ahLst/>
                <a:rect l="l" t="t" r="r" b="b"/>
                <a:pathLst>
                  <a:path w="92" h="95">
                    <a:moveTo>
                      <a:pt x="84" y="95"/>
                    </a:moveTo>
                    <a:lnTo>
                      <a:pt x="92" y="90"/>
                    </a:lnTo>
                    <a:lnTo>
                      <a:pt x="87" y="81"/>
                    </a:lnTo>
                    <a:lnTo>
                      <a:pt x="82" y="73"/>
                    </a:lnTo>
                    <a:lnTo>
                      <a:pt x="75" y="65"/>
                    </a:lnTo>
                    <a:lnTo>
                      <a:pt x="66" y="57"/>
                    </a:lnTo>
                    <a:lnTo>
                      <a:pt x="63" y="61"/>
                    </a:lnTo>
                    <a:lnTo>
                      <a:pt x="67" y="58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5"/>
                    </a:lnTo>
                    <a:lnTo>
                      <a:pt x="60" y="65"/>
                    </a:lnTo>
                    <a:lnTo>
                      <a:pt x="68" y="72"/>
                    </a:lnTo>
                    <a:lnTo>
                      <a:pt x="75" y="80"/>
                    </a:lnTo>
                    <a:lnTo>
                      <a:pt x="80" y="88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1778400" y="3290400"/>
                <a:ext cx="207360" cy="2059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1" y="73"/>
                    </a:lnTo>
                    <a:lnTo>
                      <a:pt x="64" y="63"/>
                    </a:lnTo>
                    <a:lnTo>
                      <a:pt x="74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99" y="4"/>
                    </a:lnTo>
                    <a:lnTo>
                      <a:pt x="91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7" y="43"/>
                    </a:lnTo>
                    <a:lnTo>
                      <a:pt x="57" y="56"/>
                    </a:lnTo>
                    <a:lnTo>
                      <a:pt x="44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1944000" y="3288600"/>
                <a:ext cx="153360" cy="100800"/>
              </a:xfrm>
              <a:custGeom>
                <a:avLst/>
                <a:gdLst/>
                <a:ahLst/>
                <a:rect l="l" t="t" r="r" b="b"/>
                <a:pathLst>
                  <a:path w="73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29" y="46"/>
                    </a:lnTo>
                    <a:lnTo>
                      <a:pt x="36" y="44"/>
                    </a:lnTo>
                    <a:lnTo>
                      <a:pt x="42" y="41"/>
                    </a:lnTo>
                    <a:lnTo>
                      <a:pt x="46" y="38"/>
                    </a:lnTo>
                    <a:lnTo>
                      <a:pt x="55" y="29"/>
                    </a:lnTo>
                    <a:lnTo>
                      <a:pt x="64" y="18"/>
                    </a:lnTo>
                    <a:lnTo>
                      <a:pt x="73" y="6"/>
                    </a:lnTo>
                    <a:lnTo>
                      <a:pt x="66" y="0"/>
                    </a:lnTo>
                    <a:lnTo>
                      <a:pt x="57" y="11"/>
                    </a:lnTo>
                    <a:lnTo>
                      <a:pt x="48" y="22"/>
                    </a:lnTo>
                    <a:lnTo>
                      <a:pt x="39" y="31"/>
                    </a:lnTo>
                    <a:lnTo>
                      <a:pt x="35" y="34"/>
                    </a:lnTo>
                    <a:lnTo>
                      <a:pt x="32" y="36"/>
                    </a:lnTo>
                    <a:lnTo>
                      <a:pt x="22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2057400" y="3332880"/>
                <a:ext cx="69480" cy="2268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1609920" y="3328560"/>
                <a:ext cx="171720" cy="22464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77" y="107"/>
                    </a:moveTo>
                    <a:lnTo>
                      <a:pt x="82" y="99"/>
                    </a:lnTo>
                    <a:lnTo>
                      <a:pt x="70" y="91"/>
                    </a:lnTo>
                    <a:lnTo>
                      <a:pt x="57" y="83"/>
                    </a:lnTo>
                    <a:lnTo>
                      <a:pt x="46" y="73"/>
                    </a:lnTo>
                    <a:lnTo>
                      <a:pt x="36" y="62"/>
                    </a:lnTo>
                    <a:lnTo>
                      <a:pt x="27" y="48"/>
                    </a:lnTo>
                    <a:lnTo>
                      <a:pt x="20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3" y="39"/>
                    </a:lnTo>
                    <a:lnTo>
                      <a:pt x="20" y="55"/>
                    </a:lnTo>
                    <a:lnTo>
                      <a:pt x="28" y="68"/>
                    </a:lnTo>
                    <a:lnTo>
                      <a:pt x="39" y="80"/>
                    </a:lnTo>
                    <a:lnTo>
                      <a:pt x="50" y="90"/>
                    </a:lnTo>
                    <a:lnTo>
                      <a:pt x="63" y="98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1523880" y="3319920"/>
                <a:ext cx="123840" cy="10512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43"/>
                    </a:moveTo>
                    <a:lnTo>
                      <a:pt x="55" y="35"/>
                    </a:lnTo>
                    <a:lnTo>
                      <a:pt x="47" y="39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4" y="39"/>
                    </a:lnTo>
                    <a:lnTo>
                      <a:pt x="34" y="44"/>
                    </a:lnTo>
                    <a:lnTo>
                      <a:pt x="38" y="40"/>
                    </a:lnTo>
                    <a:lnTo>
                      <a:pt x="34" y="38"/>
                    </a:lnTo>
                    <a:lnTo>
                      <a:pt x="31" y="42"/>
                    </a:lnTo>
                    <a:lnTo>
                      <a:pt x="34" y="38"/>
                    </a:lnTo>
                    <a:lnTo>
                      <a:pt x="31" y="36"/>
                    </a:lnTo>
                    <a:lnTo>
                      <a:pt x="28" y="32"/>
                    </a:lnTo>
                    <a:lnTo>
                      <a:pt x="21" y="23"/>
                    </a:lnTo>
                    <a:lnTo>
                      <a:pt x="14" y="1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7" y="18"/>
                    </a:lnTo>
                    <a:lnTo>
                      <a:pt x="14" y="30"/>
                    </a:lnTo>
                    <a:lnTo>
                      <a:pt x="21" y="39"/>
                    </a:lnTo>
                    <a:lnTo>
                      <a:pt x="24" y="43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8" y="50"/>
                    </a:lnTo>
                    <a:lnTo>
                      <a:pt x="44" y="49"/>
                    </a:lnTo>
                    <a:lnTo>
                      <a:pt x="51" y="47"/>
                    </a:lnTo>
                    <a:lnTo>
                      <a:pt x="54" y="46"/>
                    </a:lnTo>
                    <a:lnTo>
                      <a:pt x="59" y="4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1496880" y="3349440"/>
                <a:ext cx="56520" cy="2268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27" y="10"/>
                    </a:moveTo>
                    <a:lnTo>
                      <a:pt x="26" y="0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0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1" name=""/>
            <p:cNvGrpSpPr/>
            <p:nvPr/>
          </p:nvGrpSpPr>
          <p:grpSpPr>
            <a:xfrm>
              <a:off x="1347840" y="2627280"/>
              <a:ext cx="948600" cy="1485360"/>
              <a:chOff x="1347840" y="2627280"/>
              <a:chExt cx="948600" cy="1485360"/>
            </a:xfrm>
          </p:grpSpPr>
          <p:grpSp>
            <p:nvGrpSpPr>
              <p:cNvPr id="5792" name=""/>
              <p:cNvGrpSpPr/>
              <p:nvPr/>
            </p:nvGrpSpPr>
            <p:grpSpPr>
              <a:xfrm>
                <a:off x="1347840" y="2627280"/>
                <a:ext cx="948600" cy="1485360"/>
                <a:chOff x="1347840" y="2627280"/>
                <a:chExt cx="948600" cy="1485360"/>
              </a:xfrm>
            </p:grpSpPr>
            <p:sp>
              <p:nvSpPr>
                <p:cNvPr id="5793" name=""/>
                <p:cNvSpPr/>
                <p:nvPr/>
              </p:nvSpPr>
              <p:spPr>
                <a:xfrm>
                  <a:off x="1347840" y="2627280"/>
                  <a:ext cx="948600" cy="148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"/>
                <p:cNvSpPr/>
                <p:nvPr/>
              </p:nvSpPr>
              <p:spPr>
                <a:xfrm>
                  <a:off x="1347840" y="2627280"/>
                  <a:ext cx="944280" cy="1481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5" name=""/>
                <p:cNvSpPr/>
                <p:nvPr/>
              </p:nvSpPr>
              <p:spPr>
                <a:xfrm>
                  <a:off x="1347840" y="2627280"/>
                  <a:ext cx="944280" cy="1481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6" name=""/>
                <p:cNvSpPr/>
                <p:nvPr/>
              </p:nvSpPr>
              <p:spPr>
                <a:xfrm>
                  <a:off x="1347840" y="2627280"/>
                  <a:ext cx="948600" cy="148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7" name=""/>
              <p:cNvSpPr/>
              <p:nvPr/>
            </p:nvSpPr>
            <p:spPr>
              <a:xfrm>
                <a:off x="1347840" y="2627280"/>
                <a:ext cx="944640" cy="148140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8" name=""/>
            <p:cNvSpPr/>
            <p:nvPr/>
          </p:nvSpPr>
          <p:spPr>
            <a:xfrm>
              <a:off x="2017800" y="3784680"/>
              <a:ext cx="4158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2140560" y="3852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1693800" y="2970360"/>
              <a:ext cx="98280" cy="106992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1766880" y="2938320"/>
              <a:ext cx="81000" cy="29232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1733400" y="2951280"/>
              <a:ext cx="42840" cy="13788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1595520" y="3108240"/>
              <a:ext cx="193680" cy="20016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1778040" y="3290760"/>
              <a:ext cx="207720" cy="2066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1944720" y="3289320"/>
              <a:ext cx="152280" cy="1000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057400" y="3333600"/>
              <a:ext cx="69840" cy="2232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1609560" y="3328920"/>
              <a:ext cx="173160" cy="22392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1523880" y="3321000"/>
              <a:ext cx="123840" cy="1047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1496880" y="3349800"/>
              <a:ext cx="57240" cy="2376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1693800" y="2970360"/>
              <a:ext cx="98280" cy="106992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1766880" y="2938320"/>
              <a:ext cx="81000" cy="29232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1733400" y="2951280"/>
              <a:ext cx="42840" cy="13788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1595520" y="3108240"/>
              <a:ext cx="193680" cy="20016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1778040" y="3290760"/>
              <a:ext cx="207720" cy="2066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1944720" y="3289320"/>
              <a:ext cx="152280" cy="1000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2057400" y="3333600"/>
              <a:ext cx="69840" cy="2232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1609560" y="3328920"/>
              <a:ext cx="173160" cy="22392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1523880" y="3321000"/>
              <a:ext cx="123840" cy="1047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1496880" y="3349800"/>
              <a:ext cx="57240" cy="2376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2749680" y="2627280"/>
            <a:ext cx="1089000" cy="1562040"/>
            <a:chOff x="2749680" y="2627280"/>
            <a:chExt cx="1089000" cy="1562040"/>
          </a:xfrm>
        </p:grpSpPr>
        <p:sp>
          <p:nvSpPr>
            <p:cNvPr id="5821" name=""/>
            <p:cNvSpPr/>
            <p:nvPr/>
          </p:nvSpPr>
          <p:spPr>
            <a:xfrm>
              <a:off x="3422880" y="3784680"/>
              <a:ext cx="4158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3422880" y="3784680"/>
              <a:ext cx="4158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3" name=""/>
            <p:cNvGrpSpPr/>
            <p:nvPr/>
          </p:nvGrpSpPr>
          <p:grpSpPr>
            <a:xfrm>
              <a:off x="2749680" y="2627280"/>
              <a:ext cx="951840" cy="1488240"/>
              <a:chOff x="2749680" y="2627280"/>
              <a:chExt cx="951840" cy="1488240"/>
            </a:xfrm>
          </p:grpSpPr>
          <p:grpSp>
            <p:nvGrpSpPr>
              <p:cNvPr id="5824" name=""/>
              <p:cNvGrpSpPr/>
              <p:nvPr/>
            </p:nvGrpSpPr>
            <p:grpSpPr>
              <a:xfrm>
                <a:off x="2749680" y="2627280"/>
                <a:ext cx="951840" cy="1488240"/>
                <a:chOff x="2749680" y="2627280"/>
                <a:chExt cx="951840" cy="1488240"/>
              </a:xfrm>
            </p:grpSpPr>
            <p:grpSp>
              <p:nvGrpSpPr>
                <p:cNvPr id="5825" name=""/>
                <p:cNvGrpSpPr/>
                <p:nvPr/>
              </p:nvGrpSpPr>
              <p:grpSpPr>
                <a:xfrm>
                  <a:off x="2749680" y="2627280"/>
                  <a:ext cx="951840" cy="1488240"/>
                  <a:chOff x="2749680" y="2627280"/>
                  <a:chExt cx="951840" cy="1488240"/>
                </a:xfrm>
              </p:grpSpPr>
              <p:sp>
                <p:nvSpPr>
                  <p:cNvPr id="5826" name=""/>
                  <p:cNvSpPr/>
                  <p:nvPr/>
                </p:nvSpPr>
                <p:spPr>
                  <a:xfrm>
                    <a:off x="2749680" y="262728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7" name=""/>
                  <p:cNvSpPr/>
                  <p:nvPr/>
                </p:nvSpPr>
                <p:spPr>
                  <a:xfrm>
                    <a:off x="2749680" y="262728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8" name=""/>
                  <p:cNvSpPr/>
                  <p:nvPr/>
                </p:nvSpPr>
                <p:spPr>
                  <a:xfrm>
                    <a:off x="2749680" y="262728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9" name=""/>
                  <p:cNvSpPr/>
                  <p:nvPr/>
                </p:nvSpPr>
                <p:spPr>
                  <a:xfrm>
                    <a:off x="2749680" y="262728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30" name=""/>
                <p:cNvSpPr/>
                <p:nvPr/>
              </p:nvSpPr>
              <p:spPr>
                <a:xfrm>
                  <a:off x="2749680" y="2627280"/>
                  <a:ext cx="947880" cy="14850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1" name=""/>
              <p:cNvSpPr/>
              <p:nvPr/>
            </p:nvSpPr>
            <p:spPr>
              <a:xfrm>
                <a:off x="3543480" y="38527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32" name=""/>
              <p:cNvGrpSpPr/>
              <p:nvPr/>
            </p:nvGrpSpPr>
            <p:grpSpPr>
              <a:xfrm>
                <a:off x="3046680" y="2836800"/>
                <a:ext cx="533160" cy="1103040"/>
                <a:chOff x="3046680" y="2836800"/>
                <a:chExt cx="533160" cy="1103040"/>
              </a:xfrm>
            </p:grpSpPr>
            <p:sp>
              <p:nvSpPr>
                <p:cNvPr id="5833" name=""/>
                <p:cNvSpPr/>
                <p:nvPr/>
              </p:nvSpPr>
              <p:spPr>
                <a:xfrm>
                  <a:off x="3144960" y="2868120"/>
                  <a:ext cx="100800" cy="1071720"/>
                </a:xfrm>
                <a:custGeom>
                  <a:avLst/>
                  <a:gdLst/>
                  <a:ahLst/>
                  <a:rect l="l" t="t" r="r" b="b"/>
                  <a:pathLst>
                    <a:path w="48" h="510">
                      <a:moveTo>
                        <a:pt x="37" y="510"/>
                      </a:moveTo>
                      <a:lnTo>
                        <a:pt x="47" y="510"/>
                      </a:lnTo>
                      <a:lnTo>
                        <a:pt x="47" y="420"/>
                      </a:lnTo>
                      <a:lnTo>
                        <a:pt x="47" y="374"/>
                      </a:lnTo>
                      <a:lnTo>
                        <a:pt x="47" y="326"/>
                      </a:lnTo>
                      <a:lnTo>
                        <a:pt x="47" y="300"/>
                      </a:lnTo>
                      <a:lnTo>
                        <a:pt x="48" y="273"/>
                      </a:lnTo>
                      <a:lnTo>
                        <a:pt x="48" y="216"/>
                      </a:lnTo>
                      <a:lnTo>
                        <a:pt x="48" y="188"/>
                      </a:lnTo>
                      <a:lnTo>
                        <a:pt x="48" y="162"/>
                      </a:lnTo>
                      <a:lnTo>
                        <a:pt x="47" y="138"/>
                      </a:lnTo>
                      <a:lnTo>
                        <a:pt x="45" y="116"/>
                      </a:lnTo>
                      <a:lnTo>
                        <a:pt x="42" y="97"/>
                      </a:lnTo>
                      <a:lnTo>
                        <a:pt x="38" y="80"/>
                      </a:lnTo>
                      <a:lnTo>
                        <a:pt x="34" y="64"/>
                      </a:lnTo>
                      <a:lnTo>
                        <a:pt x="30" y="50"/>
                      </a:lnTo>
                      <a:lnTo>
                        <a:pt x="25" y="37"/>
                      </a:lnTo>
                      <a:lnTo>
                        <a:pt x="23" y="34"/>
                      </a:lnTo>
                      <a:lnTo>
                        <a:pt x="18" y="2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11" y="28"/>
                      </a:lnTo>
                      <a:lnTo>
                        <a:pt x="16" y="41"/>
                      </a:lnTo>
                      <a:lnTo>
                        <a:pt x="20" y="37"/>
                      </a:lnTo>
                      <a:lnTo>
                        <a:pt x="15" y="37"/>
                      </a:lnTo>
                      <a:lnTo>
                        <a:pt x="20" y="50"/>
                      </a:lnTo>
                      <a:lnTo>
                        <a:pt x="24" y="64"/>
                      </a:lnTo>
                      <a:lnTo>
                        <a:pt x="28" y="80"/>
                      </a:lnTo>
                      <a:lnTo>
                        <a:pt x="32" y="97"/>
                      </a:lnTo>
                      <a:lnTo>
                        <a:pt x="35" y="117"/>
                      </a:lnTo>
                      <a:lnTo>
                        <a:pt x="37" y="138"/>
                      </a:lnTo>
                      <a:lnTo>
                        <a:pt x="38" y="162"/>
                      </a:lnTo>
                      <a:lnTo>
                        <a:pt x="38" y="188"/>
                      </a:lnTo>
                      <a:lnTo>
                        <a:pt x="38" y="216"/>
                      </a:lnTo>
                      <a:lnTo>
                        <a:pt x="38" y="273"/>
                      </a:lnTo>
                      <a:lnTo>
                        <a:pt x="37" y="300"/>
                      </a:lnTo>
                      <a:lnTo>
                        <a:pt x="37" y="326"/>
                      </a:lnTo>
                      <a:lnTo>
                        <a:pt x="37" y="374"/>
                      </a:lnTo>
                      <a:lnTo>
                        <a:pt x="37" y="420"/>
                      </a:lnTo>
                      <a:lnTo>
                        <a:pt x="37" y="51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4" name=""/>
                <p:cNvSpPr/>
                <p:nvPr/>
              </p:nvSpPr>
              <p:spPr>
                <a:xfrm>
                  <a:off x="3218400" y="2836800"/>
                  <a:ext cx="81720" cy="291960"/>
                </a:xfrm>
                <a:custGeom>
                  <a:avLst/>
                  <a:gdLst/>
                  <a:ahLst/>
                  <a:rect l="l" t="t" r="r" b="b"/>
                  <a:pathLst>
                    <a:path w="39" h="139">
                      <a:moveTo>
                        <a:pt x="0" y="134"/>
                      </a:moveTo>
                      <a:lnTo>
                        <a:pt x="8" y="139"/>
                      </a:lnTo>
                      <a:lnTo>
                        <a:pt x="15" y="128"/>
                      </a:lnTo>
                      <a:lnTo>
                        <a:pt x="22" y="115"/>
                      </a:lnTo>
                      <a:lnTo>
                        <a:pt x="28" y="101"/>
                      </a:lnTo>
                      <a:lnTo>
                        <a:pt x="29" y="98"/>
                      </a:lnTo>
                      <a:lnTo>
                        <a:pt x="34" y="83"/>
                      </a:lnTo>
                      <a:lnTo>
                        <a:pt x="37" y="64"/>
                      </a:lnTo>
                      <a:lnTo>
                        <a:pt x="38" y="44"/>
                      </a:lnTo>
                      <a:lnTo>
                        <a:pt x="39" y="22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29" y="22"/>
                      </a:lnTo>
                      <a:lnTo>
                        <a:pt x="28" y="44"/>
                      </a:lnTo>
                      <a:lnTo>
                        <a:pt x="27" y="64"/>
                      </a:lnTo>
                      <a:lnTo>
                        <a:pt x="25" y="81"/>
                      </a:lnTo>
                      <a:lnTo>
                        <a:pt x="19" y="98"/>
                      </a:lnTo>
                      <a:lnTo>
                        <a:pt x="24" y="98"/>
                      </a:lnTo>
                      <a:lnTo>
                        <a:pt x="21" y="94"/>
                      </a:lnTo>
                      <a:lnTo>
                        <a:pt x="15" y="108"/>
                      </a:lnTo>
                      <a:lnTo>
                        <a:pt x="8" y="121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5" name=""/>
                <p:cNvSpPr/>
                <p:nvPr/>
              </p:nvSpPr>
              <p:spPr>
                <a:xfrm>
                  <a:off x="3184920" y="2849040"/>
                  <a:ext cx="41760" cy="138600"/>
                </a:xfrm>
                <a:custGeom>
                  <a:avLst/>
                  <a:gdLst/>
                  <a:ahLst/>
                  <a:rect l="l" t="t" r="r" b="b"/>
                  <a:pathLst>
                    <a:path w="20" h="66">
                      <a:moveTo>
                        <a:pt x="1" y="65"/>
                      </a:moveTo>
                      <a:lnTo>
                        <a:pt x="10" y="66"/>
                      </a:lnTo>
                      <a:lnTo>
                        <a:pt x="10" y="64"/>
                      </a:lnTo>
                      <a:lnTo>
                        <a:pt x="11" y="59"/>
                      </a:lnTo>
                      <a:lnTo>
                        <a:pt x="12" y="53"/>
                      </a:lnTo>
                      <a:lnTo>
                        <a:pt x="13" y="45"/>
                      </a:lnTo>
                      <a:lnTo>
                        <a:pt x="15" y="35"/>
                      </a:lnTo>
                      <a:lnTo>
                        <a:pt x="16" y="24"/>
                      </a:lnTo>
                      <a:lnTo>
                        <a:pt x="20" y="1"/>
                      </a:lnTo>
                      <a:lnTo>
                        <a:pt x="11" y="0"/>
                      </a:lnTo>
                      <a:lnTo>
                        <a:pt x="6" y="24"/>
                      </a:lnTo>
                      <a:lnTo>
                        <a:pt x="5" y="35"/>
                      </a:lnTo>
                      <a:lnTo>
                        <a:pt x="3" y="45"/>
                      </a:lnTo>
                      <a:lnTo>
                        <a:pt x="2" y="53"/>
                      </a:lnTo>
                      <a:lnTo>
                        <a:pt x="1" y="59"/>
                      </a:lnTo>
                      <a:lnTo>
                        <a:pt x="0" y="64"/>
                      </a:lnTo>
                      <a:lnTo>
                        <a:pt x="1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6" name=""/>
                <p:cNvSpPr/>
                <p:nvPr/>
              </p:nvSpPr>
              <p:spPr>
                <a:xfrm>
                  <a:off x="3046680" y="3008520"/>
                  <a:ext cx="193320" cy="19764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"/>
                <p:cNvSpPr/>
                <p:nvPr/>
              </p:nvSpPr>
              <p:spPr>
                <a:xfrm>
                  <a:off x="3228840" y="3189600"/>
                  <a:ext cx="209880" cy="205560"/>
                </a:xfrm>
                <a:custGeom>
                  <a:avLst/>
                  <a:gdLst/>
                  <a:ahLst/>
                  <a:rect l="l" t="t" r="r" b="b"/>
                  <a:pathLst>
                    <a:path w="100" h="98">
                      <a:moveTo>
                        <a:pt x="0" y="89"/>
                      </a:moveTo>
                      <a:lnTo>
                        <a:pt x="3" y="98"/>
                      </a:lnTo>
                      <a:lnTo>
                        <a:pt x="17" y="91"/>
                      </a:lnTo>
                      <a:lnTo>
                        <a:pt x="21" y="90"/>
                      </a:lnTo>
                      <a:lnTo>
                        <a:pt x="37" y="82"/>
                      </a:lnTo>
                      <a:lnTo>
                        <a:pt x="52" y="73"/>
                      </a:lnTo>
                      <a:lnTo>
                        <a:pt x="65" y="63"/>
                      </a:lnTo>
                      <a:lnTo>
                        <a:pt x="75" y="50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3"/>
                      </a:lnTo>
                      <a:lnTo>
                        <a:pt x="58" y="56"/>
                      </a:lnTo>
                      <a:lnTo>
                        <a:pt x="45" y="66"/>
                      </a:lnTo>
                      <a:lnTo>
                        <a:pt x="30" y="75"/>
                      </a:lnTo>
                      <a:lnTo>
                        <a:pt x="14" y="83"/>
                      </a:lnTo>
                      <a:lnTo>
                        <a:pt x="17" y="86"/>
                      </a:lnTo>
                      <a:lnTo>
                        <a:pt x="17" y="81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"/>
                <p:cNvSpPr/>
                <p:nvPr/>
              </p:nvSpPr>
              <p:spPr>
                <a:xfrm>
                  <a:off x="3395160" y="3187440"/>
                  <a:ext cx="155160" cy="100800"/>
                </a:xfrm>
                <a:custGeom>
                  <a:avLst/>
                  <a:gdLst/>
                  <a:ahLst/>
                  <a:rect l="l" t="t" r="r" b="b"/>
                  <a:pathLst>
                    <a:path w="74" h="48">
                      <a:moveTo>
                        <a:pt x="4" y="33"/>
                      </a:moveTo>
                      <a:lnTo>
                        <a:pt x="0" y="41"/>
                      </a:lnTo>
                      <a:lnTo>
                        <a:pt x="6" y="44"/>
                      </a:lnTo>
                      <a:lnTo>
                        <a:pt x="10" y="45"/>
                      </a:lnTo>
                      <a:lnTo>
                        <a:pt x="18" y="48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7" y="44"/>
                      </a:lnTo>
                      <a:lnTo>
                        <a:pt x="43" y="41"/>
                      </a:lnTo>
                      <a:lnTo>
                        <a:pt x="47" y="38"/>
                      </a:lnTo>
                      <a:lnTo>
                        <a:pt x="56" y="29"/>
                      </a:lnTo>
                      <a:lnTo>
                        <a:pt x="65" y="18"/>
                      </a:lnTo>
                      <a:lnTo>
                        <a:pt x="74" y="6"/>
                      </a:lnTo>
                      <a:lnTo>
                        <a:pt x="67" y="0"/>
                      </a:lnTo>
                      <a:lnTo>
                        <a:pt x="58" y="11"/>
                      </a:lnTo>
                      <a:lnTo>
                        <a:pt x="49" y="22"/>
                      </a:lnTo>
                      <a:lnTo>
                        <a:pt x="40" y="31"/>
                      </a:lnTo>
                      <a:lnTo>
                        <a:pt x="36" y="34"/>
                      </a:lnTo>
                      <a:lnTo>
                        <a:pt x="33" y="36"/>
                      </a:lnTo>
                      <a:lnTo>
                        <a:pt x="23" y="39"/>
                      </a:lnTo>
                      <a:lnTo>
                        <a:pt x="26" y="43"/>
                      </a:lnTo>
                      <a:lnTo>
                        <a:pt x="26" y="38"/>
                      </a:lnTo>
                      <a:lnTo>
                        <a:pt x="18" y="38"/>
                      </a:lnTo>
                      <a:lnTo>
                        <a:pt x="10" y="35"/>
                      </a:lnTo>
                      <a:lnTo>
                        <a:pt x="10" y="40"/>
                      </a:lnTo>
                      <a:lnTo>
                        <a:pt x="13" y="37"/>
                      </a:lnTo>
                      <a:lnTo>
                        <a:pt x="4" y="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9" name=""/>
                <p:cNvSpPr/>
                <p:nvPr/>
              </p:nvSpPr>
              <p:spPr>
                <a:xfrm>
                  <a:off x="3510360" y="3231720"/>
                  <a:ext cx="69480" cy="2268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8" y="11"/>
                      </a:lnTo>
                      <a:lnTo>
                        <a:pt x="26" y="11"/>
                      </a:lnTo>
                      <a:lnTo>
                        <a:pt x="33" y="10"/>
                      </a:lnTo>
                      <a:lnTo>
                        <a:pt x="31" y="1"/>
                      </a:lnTo>
                      <a:lnTo>
                        <a:pt x="26" y="1"/>
                      </a:lnTo>
                      <a:lnTo>
                        <a:pt x="18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0" name=""/>
                <p:cNvSpPr/>
                <p:nvPr/>
              </p:nvSpPr>
              <p:spPr>
                <a:xfrm>
                  <a:off x="3063240" y="3227400"/>
                  <a:ext cx="169920" cy="224640"/>
                </a:xfrm>
                <a:custGeom>
                  <a:avLst/>
                  <a:gdLst/>
                  <a:ahLst/>
                  <a:rect l="l" t="t" r="r" b="b"/>
                  <a:pathLst>
                    <a:path w="81" h="107">
                      <a:moveTo>
                        <a:pt x="76" y="107"/>
                      </a:moveTo>
                      <a:lnTo>
                        <a:pt x="81" y="99"/>
                      </a:lnTo>
                      <a:lnTo>
                        <a:pt x="69" y="91"/>
                      </a:lnTo>
                      <a:lnTo>
                        <a:pt x="57" y="83"/>
                      </a:lnTo>
                      <a:lnTo>
                        <a:pt x="45" y="7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5"/>
                      </a:lnTo>
                      <a:lnTo>
                        <a:pt x="21" y="35"/>
                      </a:lnTo>
                      <a:lnTo>
                        <a:pt x="15" y="18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8"/>
                      </a:lnTo>
                      <a:lnTo>
                        <a:pt x="11" y="35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8" y="80"/>
                      </a:lnTo>
                      <a:lnTo>
                        <a:pt x="50" y="90"/>
                      </a:lnTo>
                      <a:lnTo>
                        <a:pt x="62" y="98"/>
                      </a:lnTo>
                      <a:lnTo>
                        <a:pt x="76" y="10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41" name=""/>
                <p:cNvGrpSpPr/>
                <p:nvPr/>
              </p:nvGrpSpPr>
              <p:grpSpPr>
                <a:xfrm>
                  <a:off x="3243600" y="3622680"/>
                  <a:ext cx="87840" cy="117000"/>
                  <a:chOff x="3243600" y="3622680"/>
                  <a:chExt cx="87840" cy="117000"/>
                </a:xfrm>
              </p:grpSpPr>
              <p:sp>
                <p:nvSpPr>
                  <p:cNvPr id="5842" name=""/>
                  <p:cNvSpPr/>
                  <p:nvPr/>
                </p:nvSpPr>
                <p:spPr>
                  <a:xfrm>
                    <a:off x="3243600" y="3639240"/>
                    <a:ext cx="7344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0" y="47"/>
                        </a:moveTo>
                        <a:lnTo>
                          <a:pt x="6" y="48"/>
                        </a:lnTo>
                        <a:lnTo>
                          <a:pt x="12" y="48"/>
                        </a:lnTo>
                        <a:lnTo>
                          <a:pt x="18" y="46"/>
                        </a:lnTo>
                        <a:lnTo>
                          <a:pt x="22" y="42"/>
                        </a:lnTo>
                        <a:lnTo>
                          <a:pt x="26" y="34"/>
                        </a:lnTo>
                        <a:lnTo>
                          <a:pt x="29" y="24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3" name=""/>
                  <p:cNvSpPr/>
                  <p:nvPr/>
                </p:nvSpPr>
                <p:spPr>
                  <a:xfrm>
                    <a:off x="3291840" y="362268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4" name=""/>
                <p:cNvGrpSpPr/>
                <p:nvPr/>
              </p:nvGrpSpPr>
              <p:grpSpPr>
                <a:xfrm>
                  <a:off x="3136680" y="3567600"/>
                  <a:ext cx="90000" cy="117000"/>
                  <a:chOff x="3136680" y="3567600"/>
                  <a:chExt cx="90000" cy="117000"/>
                </a:xfrm>
              </p:grpSpPr>
              <p:sp>
                <p:nvSpPr>
                  <p:cNvPr id="5845" name=""/>
                  <p:cNvSpPr/>
                  <p:nvPr/>
                </p:nvSpPr>
                <p:spPr>
                  <a:xfrm>
                    <a:off x="3153600" y="3584520"/>
                    <a:ext cx="730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6" name=""/>
                  <p:cNvSpPr/>
                  <p:nvPr/>
                </p:nvSpPr>
                <p:spPr>
                  <a:xfrm>
                    <a:off x="3136680" y="356760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7" name=""/>
                <p:cNvGrpSpPr/>
                <p:nvPr/>
              </p:nvGrpSpPr>
              <p:grpSpPr>
                <a:xfrm>
                  <a:off x="3241800" y="3441960"/>
                  <a:ext cx="87120" cy="146880"/>
                  <a:chOff x="3241800" y="3441960"/>
                  <a:chExt cx="87120" cy="146880"/>
                </a:xfrm>
              </p:grpSpPr>
              <p:sp>
                <p:nvSpPr>
                  <p:cNvPr id="5848" name=""/>
                  <p:cNvSpPr/>
                  <p:nvPr/>
                </p:nvSpPr>
                <p:spPr>
                  <a:xfrm>
                    <a:off x="3241800" y="3462840"/>
                    <a:ext cx="727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9" name=""/>
                  <p:cNvSpPr/>
                  <p:nvPr/>
                </p:nvSpPr>
                <p:spPr>
                  <a:xfrm>
                    <a:off x="3287520" y="3441960"/>
                    <a:ext cx="4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0" name=""/>
                <p:cNvGrpSpPr/>
                <p:nvPr/>
              </p:nvGrpSpPr>
              <p:grpSpPr>
                <a:xfrm>
                  <a:off x="3315240" y="3215160"/>
                  <a:ext cx="41400" cy="113040"/>
                  <a:chOff x="3315240" y="3215160"/>
                  <a:chExt cx="41400" cy="113040"/>
                </a:xfrm>
              </p:grpSpPr>
              <p:sp>
                <p:nvSpPr>
                  <p:cNvPr id="5851" name=""/>
                  <p:cNvSpPr/>
                  <p:nvPr/>
                </p:nvSpPr>
                <p:spPr>
                  <a:xfrm>
                    <a:off x="3323520" y="3236040"/>
                    <a:ext cx="122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"/>
                  <p:cNvSpPr/>
                  <p:nvPr/>
                </p:nvSpPr>
                <p:spPr>
                  <a:xfrm>
                    <a:off x="3315240" y="321516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3" name=""/>
                <p:cNvGrpSpPr/>
                <p:nvPr/>
              </p:nvGrpSpPr>
              <p:grpSpPr>
                <a:xfrm>
                  <a:off x="3153600" y="3305160"/>
                  <a:ext cx="41400" cy="96120"/>
                  <a:chOff x="3153600" y="3305160"/>
                  <a:chExt cx="41400" cy="96120"/>
                </a:xfrm>
              </p:grpSpPr>
              <p:sp>
                <p:nvSpPr>
                  <p:cNvPr id="5854" name=""/>
                  <p:cNvSpPr/>
                  <p:nvPr/>
                </p:nvSpPr>
                <p:spPr>
                  <a:xfrm>
                    <a:off x="3174120" y="3326040"/>
                    <a:ext cx="1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">
                        <a:moveTo>
                          <a:pt x="0" y="36"/>
                        </a:move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5" name=""/>
                  <p:cNvSpPr/>
                  <p:nvPr/>
                </p:nvSpPr>
                <p:spPr>
                  <a:xfrm>
                    <a:off x="3153600" y="3305160"/>
                    <a:ext cx="41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6" name=""/>
                <p:cNvGrpSpPr/>
                <p:nvPr/>
              </p:nvGrpSpPr>
              <p:grpSpPr>
                <a:xfrm>
                  <a:off x="3088440" y="2984040"/>
                  <a:ext cx="41400" cy="108360"/>
                  <a:chOff x="3088440" y="2984040"/>
                  <a:chExt cx="41400" cy="108360"/>
                </a:xfrm>
              </p:grpSpPr>
              <p:sp>
                <p:nvSpPr>
                  <p:cNvPr id="5857" name=""/>
                  <p:cNvSpPr/>
                  <p:nvPr/>
                </p:nvSpPr>
                <p:spPr>
                  <a:xfrm>
                    <a:off x="3107160" y="3008520"/>
                    <a:ext cx="39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8" name=""/>
                  <p:cNvSpPr/>
                  <p:nvPr/>
                </p:nvSpPr>
                <p:spPr>
                  <a:xfrm>
                    <a:off x="3088440" y="298404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59" name=""/>
              <p:cNvGrpSpPr/>
              <p:nvPr/>
            </p:nvGrpSpPr>
            <p:grpSpPr>
              <a:xfrm>
                <a:off x="2749680" y="2627280"/>
                <a:ext cx="951840" cy="1488240"/>
                <a:chOff x="2749680" y="2627280"/>
                <a:chExt cx="951840" cy="1488240"/>
              </a:xfrm>
            </p:grpSpPr>
            <p:grpSp>
              <p:nvGrpSpPr>
                <p:cNvPr id="5860" name=""/>
                <p:cNvGrpSpPr/>
                <p:nvPr/>
              </p:nvGrpSpPr>
              <p:grpSpPr>
                <a:xfrm>
                  <a:off x="2749680" y="2627280"/>
                  <a:ext cx="951840" cy="1488240"/>
                  <a:chOff x="2749680" y="2627280"/>
                  <a:chExt cx="951840" cy="1488240"/>
                </a:xfrm>
              </p:grpSpPr>
              <p:sp>
                <p:nvSpPr>
                  <p:cNvPr id="5861" name=""/>
                  <p:cNvSpPr/>
                  <p:nvPr/>
                </p:nvSpPr>
                <p:spPr>
                  <a:xfrm>
                    <a:off x="2749680" y="262728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2" name=""/>
                  <p:cNvSpPr/>
                  <p:nvPr/>
                </p:nvSpPr>
                <p:spPr>
                  <a:xfrm>
                    <a:off x="2749680" y="262728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3" name=""/>
                  <p:cNvSpPr/>
                  <p:nvPr/>
                </p:nvSpPr>
                <p:spPr>
                  <a:xfrm>
                    <a:off x="2749680" y="262728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4" name=""/>
                  <p:cNvSpPr/>
                  <p:nvPr/>
                </p:nvSpPr>
                <p:spPr>
                  <a:xfrm>
                    <a:off x="2749680" y="262728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65" name=""/>
                <p:cNvSpPr/>
                <p:nvPr/>
              </p:nvSpPr>
              <p:spPr>
                <a:xfrm>
                  <a:off x="2749680" y="2627280"/>
                  <a:ext cx="947880" cy="14850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6" name=""/>
              <p:cNvSpPr/>
              <p:nvPr/>
            </p:nvSpPr>
            <p:spPr>
              <a:xfrm>
                <a:off x="3543480" y="38527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3144960" y="2868480"/>
                <a:ext cx="101880" cy="1071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3218040" y="2836800"/>
                <a:ext cx="82800" cy="2923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3184920" y="2849400"/>
                <a:ext cx="42840" cy="1400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3046680" y="3009960"/>
                <a:ext cx="193680" cy="1969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3229200" y="3191040"/>
                <a:ext cx="209520" cy="20448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3395880" y="318780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3510360" y="323208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3064320" y="322740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5" name=""/>
              <p:cNvGrpSpPr/>
              <p:nvPr/>
            </p:nvGrpSpPr>
            <p:grpSpPr>
              <a:xfrm>
                <a:off x="3243600" y="3622680"/>
                <a:ext cx="88560" cy="117000"/>
                <a:chOff x="3243600" y="3622680"/>
                <a:chExt cx="88560" cy="117000"/>
              </a:xfrm>
            </p:grpSpPr>
            <p:sp>
              <p:nvSpPr>
                <p:cNvPr id="5876" name=""/>
                <p:cNvSpPr/>
                <p:nvPr/>
              </p:nvSpPr>
              <p:spPr>
                <a:xfrm>
                  <a:off x="3243600" y="3639240"/>
                  <a:ext cx="73800" cy="10044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0" y="47"/>
                      </a:move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8" y="46"/>
                      </a:lnTo>
                      <a:lnTo>
                        <a:pt x="22" y="42"/>
                      </a:lnTo>
                      <a:lnTo>
                        <a:pt x="26" y="34"/>
                      </a:lnTo>
                      <a:lnTo>
                        <a:pt x="29" y="24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>
                  <a:off x="3292200" y="3622680"/>
                  <a:ext cx="3996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8" name=""/>
              <p:cNvGrpSpPr/>
              <p:nvPr/>
            </p:nvGrpSpPr>
            <p:grpSpPr>
              <a:xfrm>
                <a:off x="3137040" y="3568680"/>
                <a:ext cx="90000" cy="117000"/>
                <a:chOff x="3137040" y="3568680"/>
                <a:chExt cx="90000" cy="117000"/>
              </a:xfrm>
            </p:grpSpPr>
            <p:sp>
              <p:nvSpPr>
                <p:cNvPr id="5879" name=""/>
                <p:cNvSpPr/>
                <p:nvPr/>
              </p:nvSpPr>
              <p:spPr>
                <a:xfrm>
                  <a:off x="3153960" y="3585600"/>
                  <a:ext cx="73080" cy="10008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>
                  <a:off x="3137040" y="3568680"/>
                  <a:ext cx="3996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1" name=""/>
              <p:cNvGrpSpPr/>
              <p:nvPr/>
            </p:nvGrpSpPr>
            <p:grpSpPr>
              <a:xfrm>
                <a:off x="3241800" y="3441600"/>
                <a:ext cx="87120" cy="147240"/>
                <a:chOff x="3241800" y="3441600"/>
                <a:chExt cx="87120" cy="147240"/>
              </a:xfrm>
            </p:grpSpPr>
            <p:sp>
              <p:nvSpPr>
                <p:cNvPr id="5882" name=""/>
                <p:cNvSpPr/>
                <p:nvPr/>
              </p:nvSpPr>
              <p:spPr>
                <a:xfrm>
                  <a:off x="3241800" y="3462480"/>
                  <a:ext cx="72720" cy="12636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>
                  <a:off x="3287520" y="3441600"/>
                  <a:ext cx="41400" cy="5472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4" name=""/>
              <p:cNvGrpSpPr/>
              <p:nvPr/>
            </p:nvGrpSpPr>
            <p:grpSpPr>
              <a:xfrm>
                <a:off x="3314880" y="3214800"/>
                <a:ext cx="42480" cy="113760"/>
                <a:chOff x="3314880" y="3214800"/>
                <a:chExt cx="42480" cy="113760"/>
              </a:xfrm>
            </p:grpSpPr>
            <p:sp>
              <p:nvSpPr>
                <p:cNvPr id="5885" name=""/>
                <p:cNvSpPr/>
                <p:nvPr/>
              </p:nvSpPr>
              <p:spPr>
                <a:xfrm>
                  <a:off x="3323520" y="3235680"/>
                  <a:ext cx="12600" cy="9288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>
                  <a:off x="3314880" y="3214800"/>
                  <a:ext cx="424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7" name=""/>
              <p:cNvGrpSpPr/>
              <p:nvPr/>
            </p:nvGrpSpPr>
            <p:grpSpPr>
              <a:xfrm>
                <a:off x="3153240" y="3305160"/>
                <a:ext cx="42480" cy="96480"/>
                <a:chOff x="3153240" y="3305160"/>
                <a:chExt cx="42480" cy="96480"/>
              </a:xfrm>
            </p:grpSpPr>
            <p:sp>
              <p:nvSpPr>
                <p:cNvPr id="5888" name=""/>
                <p:cNvSpPr/>
                <p:nvPr/>
              </p:nvSpPr>
              <p:spPr>
                <a:xfrm>
                  <a:off x="3174480" y="3326040"/>
                  <a:ext cx="1800" cy="75600"/>
                </a:xfrm>
                <a:custGeom>
                  <a:avLst/>
                  <a:gdLst/>
                  <a:ahLst/>
                  <a:rect l="l" t="t" r="r" b="b"/>
                  <a:pathLst>
                    <a:path w="1" h="36">
                      <a:moveTo>
                        <a:pt x="0" y="36"/>
                      </a:move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>
                  <a:off x="3153240" y="3305160"/>
                  <a:ext cx="42480" cy="504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0" name=""/>
              <p:cNvGrpSpPr/>
              <p:nvPr/>
            </p:nvGrpSpPr>
            <p:grpSpPr>
              <a:xfrm>
                <a:off x="3088080" y="2984400"/>
                <a:ext cx="42480" cy="109440"/>
                <a:chOff x="3088080" y="2984400"/>
                <a:chExt cx="42480" cy="109440"/>
              </a:xfrm>
            </p:grpSpPr>
            <p:sp>
              <p:nvSpPr>
                <p:cNvPr id="5891" name=""/>
                <p:cNvSpPr/>
                <p:nvPr/>
              </p:nvSpPr>
              <p:spPr>
                <a:xfrm>
                  <a:off x="3107160" y="3009240"/>
                  <a:ext cx="4320" cy="8460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>
                  <a:off x="3088080" y="2984400"/>
                  <a:ext cx="424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3" name=""/>
              <p:cNvSpPr/>
              <p:nvPr/>
            </p:nvSpPr>
            <p:spPr>
              <a:xfrm>
                <a:off x="3144960" y="2868480"/>
                <a:ext cx="101880" cy="1071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3218040" y="2836800"/>
                <a:ext cx="82800" cy="2923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3184920" y="2849400"/>
                <a:ext cx="42840" cy="1400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3046680" y="3009960"/>
                <a:ext cx="193680" cy="1969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3229200" y="3191040"/>
                <a:ext cx="209520" cy="20448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3395880" y="318780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3510360" y="323208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3064320" y="322740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3243600" y="363996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3292920" y="36226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3243600" y="363996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3292920" y="36226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3153240" y="3584520"/>
                <a:ext cx="74520" cy="1015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3137040" y="356868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3153240" y="3584520"/>
                <a:ext cx="74520" cy="1015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3137040" y="356868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3241800" y="346392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3287880" y="3441600"/>
                <a:ext cx="41400" cy="558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3241800" y="346392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3287880" y="3441600"/>
                <a:ext cx="41400" cy="558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3324600" y="323676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3314880" y="32148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3324600" y="323676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3314880" y="32148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3175200" y="332748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3153240" y="330516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175200" y="332748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153240" y="330516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107160" y="3009960"/>
                <a:ext cx="46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3088080" y="29844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107160" y="3009960"/>
                <a:ext cx="46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088080" y="29844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25" name=""/>
          <p:cNvGrpSpPr/>
          <p:nvPr/>
        </p:nvGrpSpPr>
        <p:grpSpPr>
          <a:xfrm>
            <a:off x="5560920" y="2576520"/>
            <a:ext cx="1138320" cy="1625760"/>
            <a:chOff x="5560920" y="2576520"/>
            <a:chExt cx="1138320" cy="1625760"/>
          </a:xfrm>
        </p:grpSpPr>
        <p:grpSp>
          <p:nvGrpSpPr>
            <p:cNvPr id="5926" name=""/>
            <p:cNvGrpSpPr/>
            <p:nvPr/>
          </p:nvGrpSpPr>
          <p:grpSpPr>
            <a:xfrm>
              <a:off x="5560920" y="2576520"/>
              <a:ext cx="1031040" cy="1613880"/>
              <a:chOff x="5560920" y="2576520"/>
              <a:chExt cx="1031040" cy="1613880"/>
            </a:xfrm>
          </p:grpSpPr>
          <p:grpSp>
            <p:nvGrpSpPr>
              <p:cNvPr id="5927" name=""/>
              <p:cNvGrpSpPr/>
              <p:nvPr/>
            </p:nvGrpSpPr>
            <p:grpSpPr>
              <a:xfrm>
                <a:off x="5560920" y="2576520"/>
                <a:ext cx="1031040" cy="1613880"/>
                <a:chOff x="5560920" y="2576520"/>
                <a:chExt cx="1031040" cy="1613880"/>
              </a:xfrm>
            </p:grpSpPr>
            <p:sp>
              <p:nvSpPr>
                <p:cNvPr id="5928" name=""/>
                <p:cNvSpPr/>
                <p:nvPr/>
              </p:nvSpPr>
              <p:spPr>
                <a:xfrm>
                  <a:off x="5560920" y="257652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5560920" y="257652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>
                  <a:off x="5560920" y="257652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>
                  <a:off x="5560920" y="257652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2" name=""/>
              <p:cNvSpPr/>
              <p:nvPr/>
            </p:nvSpPr>
            <p:spPr>
              <a:xfrm>
                <a:off x="5560920" y="2576520"/>
                <a:ext cx="1027080" cy="1609920"/>
              </a:xfrm>
              <a:custGeom>
                <a:avLst/>
                <a:gdLst/>
                <a:ahLst/>
                <a:rect l="l" t="t" r="r" b="b"/>
                <a:pathLst>
                  <a:path w="489" h="767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686"/>
                    </a:lnTo>
                    <a:lnTo>
                      <a:pt x="2" y="702"/>
                    </a:lnTo>
                    <a:lnTo>
                      <a:pt x="6" y="718"/>
                    </a:lnTo>
                    <a:lnTo>
                      <a:pt x="14" y="731"/>
                    </a:lnTo>
                    <a:lnTo>
                      <a:pt x="24" y="743"/>
                    </a:lnTo>
                    <a:lnTo>
                      <a:pt x="36" y="753"/>
                    </a:lnTo>
                    <a:lnTo>
                      <a:pt x="49" y="761"/>
                    </a:lnTo>
                    <a:lnTo>
                      <a:pt x="65" y="765"/>
                    </a:lnTo>
                    <a:lnTo>
                      <a:pt x="81" y="767"/>
                    </a:lnTo>
                    <a:lnTo>
                      <a:pt x="407" y="767"/>
                    </a:lnTo>
                    <a:lnTo>
                      <a:pt x="424" y="765"/>
                    </a:lnTo>
                    <a:lnTo>
                      <a:pt x="439" y="761"/>
                    </a:lnTo>
                    <a:lnTo>
                      <a:pt x="453" y="753"/>
                    </a:lnTo>
                    <a:lnTo>
                      <a:pt x="465" y="743"/>
                    </a:lnTo>
                    <a:lnTo>
                      <a:pt x="475" y="731"/>
                    </a:lnTo>
                    <a:lnTo>
                      <a:pt x="483" y="718"/>
                    </a:lnTo>
                    <a:lnTo>
                      <a:pt x="487" y="702"/>
                    </a:lnTo>
                    <a:lnTo>
                      <a:pt x="489" y="686"/>
                    </a:lnTo>
                    <a:lnTo>
                      <a:pt x="489" y="81"/>
                    </a:lnTo>
                    <a:lnTo>
                      <a:pt x="487" y="65"/>
                    </a:lnTo>
                    <a:lnTo>
                      <a:pt x="483" y="49"/>
                    </a:lnTo>
                    <a:lnTo>
                      <a:pt x="475" y="36"/>
                    </a:lnTo>
                    <a:lnTo>
                      <a:pt x="465" y="24"/>
                    </a:lnTo>
                    <a:lnTo>
                      <a:pt x="453" y="14"/>
                    </a:lnTo>
                    <a:lnTo>
                      <a:pt x="439" y="6"/>
                    </a:lnTo>
                    <a:lnTo>
                      <a:pt x="424" y="2"/>
                    </a:lnTo>
                    <a:lnTo>
                      <a:pt x="407" y="0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3" name=""/>
            <p:cNvGrpSpPr/>
            <p:nvPr/>
          </p:nvGrpSpPr>
          <p:grpSpPr>
            <a:xfrm>
              <a:off x="5610240" y="2638440"/>
              <a:ext cx="950040" cy="1486800"/>
              <a:chOff x="5610240" y="2638440"/>
              <a:chExt cx="950040" cy="1486800"/>
            </a:xfrm>
          </p:grpSpPr>
          <p:grpSp>
            <p:nvGrpSpPr>
              <p:cNvPr id="5934" name=""/>
              <p:cNvGrpSpPr/>
              <p:nvPr/>
            </p:nvGrpSpPr>
            <p:grpSpPr>
              <a:xfrm>
                <a:off x="5610240" y="2638440"/>
                <a:ext cx="950040" cy="1486800"/>
                <a:chOff x="5610240" y="2638440"/>
                <a:chExt cx="950040" cy="1486800"/>
              </a:xfrm>
            </p:grpSpPr>
            <p:sp>
              <p:nvSpPr>
                <p:cNvPr id="5935" name=""/>
                <p:cNvSpPr/>
                <p:nvPr/>
              </p:nvSpPr>
              <p:spPr>
                <a:xfrm>
                  <a:off x="5610240" y="263844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>
                  <a:off x="5610240" y="263844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5610240" y="263844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>
                  <a:off x="5610240" y="263844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9" name=""/>
              <p:cNvSpPr/>
              <p:nvPr/>
            </p:nvSpPr>
            <p:spPr>
              <a:xfrm>
                <a:off x="5610240" y="2638440"/>
                <a:ext cx="946080" cy="148356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0" name=""/>
            <p:cNvSpPr/>
            <p:nvPr/>
          </p:nvSpPr>
          <p:spPr>
            <a:xfrm>
              <a:off x="6283440" y="3797280"/>
              <a:ext cx="415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6405480" y="3865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2" name=""/>
            <p:cNvGrpSpPr/>
            <p:nvPr/>
          </p:nvGrpSpPr>
          <p:grpSpPr>
            <a:xfrm>
              <a:off x="5897520" y="2825640"/>
              <a:ext cx="445320" cy="1061640"/>
              <a:chOff x="5897520" y="2825640"/>
              <a:chExt cx="445320" cy="1061640"/>
            </a:xfrm>
          </p:grpSpPr>
          <p:sp>
            <p:nvSpPr>
              <p:cNvPr id="5943" name=""/>
              <p:cNvSpPr/>
              <p:nvPr/>
            </p:nvSpPr>
            <p:spPr>
              <a:xfrm>
                <a:off x="6073200" y="3012480"/>
                <a:ext cx="77040" cy="756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5897520" y="2962080"/>
                <a:ext cx="192600" cy="19728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6079680" y="3144600"/>
                <a:ext cx="209160" cy="2030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5914440" y="3180240"/>
                <a:ext cx="167400" cy="2264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6092280" y="3591360"/>
                <a:ext cx="72720" cy="10260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6004080" y="3536640"/>
                <a:ext cx="70920" cy="100800"/>
              </a:xfrm>
              <a:custGeom>
                <a:avLst/>
                <a:gdLst/>
                <a:ahLst/>
                <a:rect l="l" t="t" r="r" b="b"/>
                <a:pathLst>
                  <a:path w="34" h="48">
                    <a:moveTo>
                      <a:pt x="34" y="47"/>
                    </a:moveTo>
                    <a:lnTo>
                      <a:pt x="28" y="48"/>
                    </a:lnTo>
                    <a:lnTo>
                      <a:pt x="22" y="48"/>
                    </a:lnTo>
                    <a:lnTo>
                      <a:pt x="17" y="46"/>
                    </a:lnTo>
                    <a:lnTo>
                      <a:pt x="12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6090120" y="3415320"/>
                <a:ext cx="7272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6174000" y="3188520"/>
                <a:ext cx="1224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6023160" y="3278880"/>
                <a:ext cx="3960" cy="7740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1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5958000" y="2962080"/>
                <a:ext cx="6480" cy="835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6058800" y="3003840"/>
                <a:ext cx="35280" cy="88344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54" name=""/>
              <p:cNvGrpSpPr/>
              <p:nvPr/>
            </p:nvGrpSpPr>
            <p:grpSpPr>
              <a:xfrm>
                <a:off x="6021000" y="2825640"/>
                <a:ext cx="51480" cy="186480"/>
                <a:chOff x="6021000" y="2825640"/>
                <a:chExt cx="51480" cy="186480"/>
              </a:xfrm>
            </p:grpSpPr>
            <p:sp>
              <p:nvSpPr>
                <p:cNvPr id="5955" name=""/>
                <p:cNvSpPr/>
                <p:nvPr/>
              </p:nvSpPr>
              <p:spPr>
                <a:xfrm>
                  <a:off x="6045840" y="298080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6026760" y="294948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6021000" y="290952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6021000" y="286524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6022800" y="2825640"/>
                  <a:ext cx="23040" cy="212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0" name=""/>
              <p:cNvGrpSpPr/>
              <p:nvPr/>
            </p:nvGrpSpPr>
            <p:grpSpPr>
              <a:xfrm>
                <a:off x="6242760" y="3203280"/>
                <a:ext cx="100080" cy="39600"/>
                <a:chOff x="6242760" y="3203280"/>
                <a:chExt cx="100080" cy="39600"/>
              </a:xfrm>
            </p:grpSpPr>
            <p:sp>
              <p:nvSpPr>
                <p:cNvPr id="5961" name=""/>
                <p:cNvSpPr/>
                <p:nvPr/>
              </p:nvSpPr>
              <p:spPr>
                <a:xfrm>
                  <a:off x="6242760" y="321984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6284160" y="321768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>
                  <a:off x="6319800" y="3203280"/>
                  <a:ext cx="23040" cy="270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4" name=""/>
              <p:cNvGrpSpPr/>
              <p:nvPr/>
            </p:nvGrpSpPr>
            <p:grpSpPr>
              <a:xfrm>
                <a:off x="6131520" y="2865600"/>
                <a:ext cx="22680" cy="146520"/>
                <a:chOff x="6131520" y="2865600"/>
                <a:chExt cx="22680" cy="146520"/>
              </a:xfrm>
            </p:grpSpPr>
            <p:sp>
              <p:nvSpPr>
                <p:cNvPr id="5965" name=""/>
                <p:cNvSpPr/>
                <p:nvPr/>
              </p:nvSpPr>
              <p:spPr>
                <a:xfrm>
                  <a:off x="6131520" y="299124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>
                  <a:off x="6133680" y="294948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6133680" y="290736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>
                  <a:off x="6133680" y="286560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69" name=""/>
            <p:cNvGrpSpPr/>
            <p:nvPr/>
          </p:nvGrpSpPr>
          <p:grpSpPr>
            <a:xfrm>
              <a:off x="5560920" y="2576520"/>
              <a:ext cx="1031040" cy="1613880"/>
              <a:chOff x="5560920" y="2576520"/>
              <a:chExt cx="1031040" cy="1613880"/>
            </a:xfrm>
          </p:grpSpPr>
          <p:grpSp>
            <p:nvGrpSpPr>
              <p:cNvPr id="5970" name=""/>
              <p:cNvGrpSpPr/>
              <p:nvPr/>
            </p:nvGrpSpPr>
            <p:grpSpPr>
              <a:xfrm>
                <a:off x="5560920" y="2576520"/>
                <a:ext cx="1031040" cy="1613880"/>
                <a:chOff x="5560920" y="2576520"/>
                <a:chExt cx="1031040" cy="1613880"/>
              </a:xfrm>
            </p:grpSpPr>
            <p:sp>
              <p:nvSpPr>
                <p:cNvPr id="5971" name=""/>
                <p:cNvSpPr/>
                <p:nvPr/>
              </p:nvSpPr>
              <p:spPr>
                <a:xfrm>
                  <a:off x="5560920" y="257652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>
                  <a:off x="5560920" y="257652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>
                  <a:off x="5560920" y="257652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>
                  <a:off x="5560920" y="257652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5" name=""/>
              <p:cNvSpPr/>
              <p:nvPr/>
            </p:nvSpPr>
            <p:spPr>
              <a:xfrm>
                <a:off x="5560920" y="2576520"/>
                <a:ext cx="1027080" cy="1609920"/>
              </a:xfrm>
              <a:custGeom>
                <a:avLst/>
                <a:gdLst/>
                <a:ahLst/>
                <a:rect l="l" t="t" r="r" b="b"/>
                <a:pathLst>
                  <a:path w="489" h="767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686"/>
                    </a:lnTo>
                    <a:lnTo>
                      <a:pt x="2" y="702"/>
                    </a:lnTo>
                    <a:lnTo>
                      <a:pt x="6" y="718"/>
                    </a:lnTo>
                    <a:lnTo>
                      <a:pt x="14" y="731"/>
                    </a:lnTo>
                    <a:lnTo>
                      <a:pt x="24" y="743"/>
                    </a:lnTo>
                    <a:lnTo>
                      <a:pt x="36" y="753"/>
                    </a:lnTo>
                    <a:lnTo>
                      <a:pt x="49" y="761"/>
                    </a:lnTo>
                    <a:lnTo>
                      <a:pt x="65" y="765"/>
                    </a:lnTo>
                    <a:lnTo>
                      <a:pt x="81" y="767"/>
                    </a:lnTo>
                    <a:lnTo>
                      <a:pt x="407" y="767"/>
                    </a:lnTo>
                    <a:lnTo>
                      <a:pt x="424" y="765"/>
                    </a:lnTo>
                    <a:lnTo>
                      <a:pt x="439" y="761"/>
                    </a:lnTo>
                    <a:lnTo>
                      <a:pt x="453" y="753"/>
                    </a:lnTo>
                    <a:lnTo>
                      <a:pt x="465" y="743"/>
                    </a:lnTo>
                    <a:lnTo>
                      <a:pt x="475" y="731"/>
                    </a:lnTo>
                    <a:lnTo>
                      <a:pt x="483" y="718"/>
                    </a:lnTo>
                    <a:lnTo>
                      <a:pt x="487" y="702"/>
                    </a:lnTo>
                    <a:lnTo>
                      <a:pt x="489" y="686"/>
                    </a:lnTo>
                    <a:lnTo>
                      <a:pt x="489" y="81"/>
                    </a:lnTo>
                    <a:lnTo>
                      <a:pt x="487" y="65"/>
                    </a:lnTo>
                    <a:lnTo>
                      <a:pt x="483" y="49"/>
                    </a:lnTo>
                    <a:lnTo>
                      <a:pt x="475" y="36"/>
                    </a:lnTo>
                    <a:lnTo>
                      <a:pt x="465" y="24"/>
                    </a:lnTo>
                    <a:lnTo>
                      <a:pt x="453" y="14"/>
                    </a:lnTo>
                    <a:lnTo>
                      <a:pt x="439" y="6"/>
                    </a:lnTo>
                    <a:lnTo>
                      <a:pt x="424" y="2"/>
                    </a:lnTo>
                    <a:lnTo>
                      <a:pt x="407" y="0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6" name=""/>
            <p:cNvGrpSpPr/>
            <p:nvPr/>
          </p:nvGrpSpPr>
          <p:grpSpPr>
            <a:xfrm>
              <a:off x="5610240" y="2638440"/>
              <a:ext cx="950040" cy="1486800"/>
              <a:chOff x="5610240" y="2638440"/>
              <a:chExt cx="950040" cy="1486800"/>
            </a:xfrm>
          </p:grpSpPr>
          <p:grpSp>
            <p:nvGrpSpPr>
              <p:cNvPr id="5977" name=""/>
              <p:cNvGrpSpPr/>
              <p:nvPr/>
            </p:nvGrpSpPr>
            <p:grpSpPr>
              <a:xfrm>
                <a:off x="5610240" y="2638440"/>
                <a:ext cx="950040" cy="1486800"/>
                <a:chOff x="5610240" y="2638440"/>
                <a:chExt cx="950040" cy="1486800"/>
              </a:xfrm>
            </p:grpSpPr>
            <p:sp>
              <p:nvSpPr>
                <p:cNvPr id="5978" name=""/>
                <p:cNvSpPr/>
                <p:nvPr/>
              </p:nvSpPr>
              <p:spPr>
                <a:xfrm>
                  <a:off x="5610240" y="263844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5610240" y="263844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5610240" y="263844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5610240" y="263844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2" name=""/>
              <p:cNvSpPr/>
              <p:nvPr/>
            </p:nvSpPr>
            <p:spPr>
              <a:xfrm>
                <a:off x="5610240" y="2638440"/>
                <a:ext cx="946080" cy="148356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3" name=""/>
            <p:cNvSpPr/>
            <p:nvPr/>
          </p:nvSpPr>
          <p:spPr>
            <a:xfrm>
              <a:off x="6283440" y="3797280"/>
              <a:ext cx="415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6405480" y="3865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6073920" y="3011400"/>
              <a:ext cx="77760" cy="76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5897520" y="2960640"/>
              <a:ext cx="192240" cy="198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6080040" y="3144960"/>
              <a:ext cx="209520" cy="20304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5913360" y="3179880"/>
              <a:ext cx="168480" cy="226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6092640" y="3591000"/>
              <a:ext cx="73080" cy="1029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6003720" y="3537000"/>
              <a:ext cx="71640" cy="10008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47"/>
                  </a:moveTo>
                  <a:lnTo>
                    <a:pt x="28" y="48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2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6089760" y="3414600"/>
              <a:ext cx="74520" cy="1256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6173640" y="318780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022800" y="3278160"/>
              <a:ext cx="5040" cy="77760"/>
            </a:xfrm>
            <a:custGeom>
              <a:avLst/>
              <a:gdLst/>
              <a:ahLst/>
              <a:rect l="l" t="t" r="r" b="b"/>
              <a:pathLst>
                <a:path w="2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5958000" y="2960640"/>
              <a:ext cx="6120" cy="8424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3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6059520" y="3003480"/>
              <a:ext cx="34920" cy="88416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6" name=""/>
            <p:cNvGrpSpPr/>
            <p:nvPr/>
          </p:nvGrpSpPr>
          <p:grpSpPr>
            <a:xfrm>
              <a:off x="6021360" y="2825640"/>
              <a:ext cx="52200" cy="185400"/>
              <a:chOff x="6021360" y="2825640"/>
              <a:chExt cx="52200" cy="185400"/>
            </a:xfrm>
          </p:grpSpPr>
          <p:sp>
            <p:nvSpPr>
              <p:cNvPr id="5997" name=""/>
              <p:cNvSpPr/>
              <p:nvPr/>
            </p:nvSpPr>
            <p:spPr>
              <a:xfrm>
                <a:off x="6046560" y="2980080"/>
                <a:ext cx="27000" cy="309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6027480" y="294876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6021360" y="29091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6021360" y="2865240"/>
                <a:ext cx="20880" cy="23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6023160" y="2825640"/>
                <a:ext cx="23040" cy="212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2" name=""/>
            <p:cNvGrpSpPr/>
            <p:nvPr/>
          </p:nvGrpSpPr>
          <p:grpSpPr>
            <a:xfrm>
              <a:off x="6243480" y="3203640"/>
              <a:ext cx="99720" cy="38880"/>
              <a:chOff x="6243480" y="3203640"/>
              <a:chExt cx="99720" cy="38880"/>
            </a:xfrm>
          </p:grpSpPr>
          <p:sp>
            <p:nvSpPr>
              <p:cNvPr id="6003" name=""/>
              <p:cNvSpPr/>
              <p:nvPr/>
            </p:nvSpPr>
            <p:spPr>
              <a:xfrm>
                <a:off x="6243480" y="3219840"/>
                <a:ext cx="20520" cy="22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6284880" y="3218040"/>
                <a:ext cx="23040" cy="22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6320160" y="3203640"/>
                <a:ext cx="23040" cy="2664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6" name=""/>
            <p:cNvGrpSpPr/>
            <p:nvPr/>
          </p:nvGrpSpPr>
          <p:grpSpPr>
            <a:xfrm>
              <a:off x="6132600" y="2865600"/>
              <a:ext cx="21600" cy="145440"/>
              <a:chOff x="6132600" y="2865600"/>
              <a:chExt cx="21600" cy="145440"/>
            </a:xfrm>
          </p:grpSpPr>
          <p:sp>
            <p:nvSpPr>
              <p:cNvPr id="6007" name=""/>
              <p:cNvSpPr/>
              <p:nvPr/>
            </p:nvSpPr>
            <p:spPr>
              <a:xfrm>
                <a:off x="6132600" y="299052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6134760" y="294876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6134760" y="290700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6134760" y="286560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1" name=""/>
            <p:cNvSpPr/>
            <p:nvPr/>
          </p:nvSpPr>
          <p:spPr>
            <a:xfrm>
              <a:off x="6073920" y="3011400"/>
              <a:ext cx="77760" cy="76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5897520" y="2960640"/>
              <a:ext cx="192240" cy="198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6080040" y="3144960"/>
              <a:ext cx="209520" cy="20304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5913360" y="3179880"/>
              <a:ext cx="168480" cy="226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6092640" y="3591000"/>
              <a:ext cx="73080" cy="1029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6003720" y="3537000"/>
              <a:ext cx="71640" cy="10008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47"/>
                  </a:moveTo>
                  <a:lnTo>
                    <a:pt x="28" y="48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2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6089760" y="3414600"/>
              <a:ext cx="74520" cy="1256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6173640" y="318780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6022800" y="3278160"/>
              <a:ext cx="5040" cy="77760"/>
            </a:xfrm>
            <a:custGeom>
              <a:avLst/>
              <a:gdLst/>
              <a:ahLst/>
              <a:rect l="l" t="t" r="r" b="b"/>
              <a:pathLst>
                <a:path w="2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958000" y="2960640"/>
              <a:ext cx="6120" cy="8424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3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6059520" y="3003480"/>
              <a:ext cx="34920" cy="88416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2" name=""/>
            <p:cNvGrpSpPr/>
            <p:nvPr/>
          </p:nvGrpSpPr>
          <p:grpSpPr>
            <a:xfrm>
              <a:off x="6021360" y="2825640"/>
              <a:ext cx="52200" cy="185400"/>
              <a:chOff x="6021360" y="2825640"/>
              <a:chExt cx="52200" cy="185400"/>
            </a:xfrm>
          </p:grpSpPr>
          <p:sp>
            <p:nvSpPr>
              <p:cNvPr id="6023" name=""/>
              <p:cNvSpPr/>
              <p:nvPr/>
            </p:nvSpPr>
            <p:spPr>
              <a:xfrm>
                <a:off x="6046560" y="2980080"/>
                <a:ext cx="27000" cy="309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6027480" y="294876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6021360" y="29091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6021360" y="2865240"/>
                <a:ext cx="20880" cy="23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6023160" y="2825640"/>
                <a:ext cx="23040" cy="212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8" name=""/>
            <p:cNvGrpSpPr/>
            <p:nvPr/>
          </p:nvGrpSpPr>
          <p:grpSpPr>
            <a:xfrm>
              <a:off x="6243480" y="3203640"/>
              <a:ext cx="99720" cy="38880"/>
              <a:chOff x="6243480" y="3203640"/>
              <a:chExt cx="99720" cy="38880"/>
            </a:xfrm>
          </p:grpSpPr>
          <p:sp>
            <p:nvSpPr>
              <p:cNvPr id="6029" name=""/>
              <p:cNvSpPr/>
              <p:nvPr/>
            </p:nvSpPr>
            <p:spPr>
              <a:xfrm>
                <a:off x="6243480" y="3219840"/>
                <a:ext cx="20520" cy="22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6284880" y="3218040"/>
                <a:ext cx="23040" cy="22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6320160" y="3203640"/>
                <a:ext cx="23040" cy="2664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2" name=""/>
            <p:cNvGrpSpPr/>
            <p:nvPr/>
          </p:nvGrpSpPr>
          <p:grpSpPr>
            <a:xfrm>
              <a:off x="6132600" y="2865600"/>
              <a:ext cx="21600" cy="145440"/>
              <a:chOff x="6132600" y="2865600"/>
              <a:chExt cx="21600" cy="145440"/>
            </a:xfrm>
          </p:grpSpPr>
          <p:sp>
            <p:nvSpPr>
              <p:cNvPr id="6033" name=""/>
              <p:cNvSpPr/>
              <p:nvPr/>
            </p:nvSpPr>
            <p:spPr>
              <a:xfrm>
                <a:off x="6132600" y="299052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6134760" y="294876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6134760" y="290700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6134760" y="286560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37" name=""/>
          <p:cNvGrpSpPr/>
          <p:nvPr/>
        </p:nvGrpSpPr>
        <p:grpSpPr>
          <a:xfrm>
            <a:off x="4156200" y="2630520"/>
            <a:ext cx="1086840" cy="2073240"/>
            <a:chOff x="4156200" y="2630520"/>
            <a:chExt cx="1086840" cy="2073240"/>
          </a:xfrm>
        </p:grpSpPr>
        <p:sp>
          <p:nvSpPr>
            <p:cNvPr id="6038" name=""/>
            <p:cNvSpPr/>
            <p:nvPr/>
          </p:nvSpPr>
          <p:spPr>
            <a:xfrm>
              <a:off x="4454280" y="4338720"/>
              <a:ext cx="6361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9" name=""/>
            <p:cNvGrpSpPr/>
            <p:nvPr/>
          </p:nvGrpSpPr>
          <p:grpSpPr>
            <a:xfrm>
              <a:off x="4156200" y="2630520"/>
              <a:ext cx="1086840" cy="1560600"/>
              <a:chOff x="4156200" y="2630520"/>
              <a:chExt cx="1086840" cy="1560600"/>
            </a:xfrm>
          </p:grpSpPr>
          <p:grpSp>
            <p:nvGrpSpPr>
              <p:cNvPr id="6040" name=""/>
              <p:cNvGrpSpPr/>
              <p:nvPr/>
            </p:nvGrpSpPr>
            <p:grpSpPr>
              <a:xfrm>
                <a:off x="4156200" y="2630520"/>
                <a:ext cx="950040" cy="1486800"/>
                <a:chOff x="4156200" y="2630520"/>
                <a:chExt cx="950040" cy="1486800"/>
              </a:xfrm>
            </p:grpSpPr>
            <p:grpSp>
              <p:nvGrpSpPr>
                <p:cNvPr id="6041" name=""/>
                <p:cNvGrpSpPr/>
                <p:nvPr/>
              </p:nvGrpSpPr>
              <p:grpSpPr>
                <a:xfrm>
                  <a:off x="4156200" y="2630520"/>
                  <a:ext cx="950040" cy="1486800"/>
                  <a:chOff x="4156200" y="2630520"/>
                  <a:chExt cx="950040" cy="1486800"/>
                </a:xfrm>
              </p:grpSpPr>
              <p:sp>
                <p:nvSpPr>
                  <p:cNvPr id="6042" name=""/>
                  <p:cNvSpPr/>
                  <p:nvPr/>
                </p:nvSpPr>
                <p:spPr>
                  <a:xfrm>
                    <a:off x="4156200" y="2630520"/>
                    <a:ext cx="950040" cy="14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3" name=""/>
                  <p:cNvSpPr/>
                  <p:nvPr/>
                </p:nvSpPr>
                <p:spPr>
                  <a:xfrm>
                    <a:off x="4156200" y="2630520"/>
                    <a:ext cx="945720" cy="14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4" name=""/>
                  <p:cNvSpPr/>
                  <p:nvPr/>
                </p:nvSpPr>
                <p:spPr>
                  <a:xfrm>
                    <a:off x="4156200" y="2630520"/>
                    <a:ext cx="945720" cy="14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5" name=""/>
                  <p:cNvSpPr/>
                  <p:nvPr/>
                </p:nvSpPr>
                <p:spPr>
                  <a:xfrm>
                    <a:off x="4156200" y="2630520"/>
                    <a:ext cx="950040" cy="14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6" name=""/>
                <p:cNvSpPr/>
                <p:nvPr/>
              </p:nvSpPr>
              <p:spPr>
                <a:xfrm>
                  <a:off x="4156200" y="2630520"/>
                  <a:ext cx="946080" cy="148284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7" name=""/>
              <p:cNvSpPr/>
              <p:nvPr/>
            </p:nvSpPr>
            <p:spPr>
              <a:xfrm>
                <a:off x="4827600" y="3786120"/>
                <a:ext cx="4154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4949280" y="3855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9" name=""/>
              <p:cNvGrpSpPr/>
              <p:nvPr/>
            </p:nvGrpSpPr>
            <p:grpSpPr>
              <a:xfrm>
                <a:off x="4417920" y="2862360"/>
                <a:ext cx="446400" cy="1061280"/>
                <a:chOff x="4417920" y="2862360"/>
                <a:chExt cx="446400" cy="1061280"/>
              </a:xfrm>
            </p:grpSpPr>
            <p:sp>
              <p:nvSpPr>
                <p:cNvPr id="6050" name=""/>
                <p:cNvSpPr/>
                <p:nvPr/>
              </p:nvSpPr>
              <p:spPr>
                <a:xfrm>
                  <a:off x="4593960" y="3048840"/>
                  <a:ext cx="77400" cy="7560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27"/>
                      </a:moveTo>
                      <a:lnTo>
                        <a:pt x="3" y="36"/>
                      </a:lnTo>
                      <a:lnTo>
                        <a:pt x="16" y="30"/>
                      </a:lnTo>
                      <a:lnTo>
                        <a:pt x="19" y="29"/>
                      </a:lnTo>
                      <a:lnTo>
                        <a:pt x="26" y="26"/>
                      </a:lnTo>
                      <a:lnTo>
                        <a:pt x="31" y="23"/>
                      </a:lnTo>
                      <a:lnTo>
                        <a:pt x="33" y="18"/>
                      </a:lnTo>
                      <a:lnTo>
                        <a:pt x="35" y="15"/>
                      </a:lnTo>
                      <a:lnTo>
                        <a:pt x="36" y="10"/>
                      </a:lnTo>
                      <a:lnTo>
                        <a:pt x="37" y="0"/>
                      </a:lnTo>
                      <a:lnTo>
                        <a:pt x="27" y="0"/>
                      </a:lnTo>
                      <a:lnTo>
                        <a:pt x="26" y="10"/>
                      </a:lnTo>
                      <a:lnTo>
                        <a:pt x="25" y="15"/>
                      </a:lnTo>
                      <a:lnTo>
                        <a:pt x="30" y="15"/>
                      </a:lnTo>
                      <a:lnTo>
                        <a:pt x="26" y="11"/>
                      </a:lnTo>
                      <a:lnTo>
                        <a:pt x="24" y="16"/>
                      </a:lnTo>
                      <a:lnTo>
                        <a:pt x="19" y="19"/>
                      </a:lnTo>
                      <a:lnTo>
                        <a:pt x="12" y="22"/>
                      </a:lnTo>
                      <a:lnTo>
                        <a:pt x="16" y="25"/>
                      </a:lnTo>
                      <a:lnTo>
                        <a:pt x="16" y="2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1" name=""/>
                <p:cNvSpPr/>
                <p:nvPr/>
              </p:nvSpPr>
              <p:spPr>
                <a:xfrm>
                  <a:off x="4417920" y="2998440"/>
                  <a:ext cx="192960" cy="19728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2" name=""/>
                <p:cNvSpPr/>
                <p:nvPr/>
              </p:nvSpPr>
              <p:spPr>
                <a:xfrm>
                  <a:off x="4600440" y="3180960"/>
                  <a:ext cx="209880" cy="203400"/>
                </a:xfrm>
                <a:custGeom>
                  <a:avLst/>
                  <a:gdLst/>
                  <a:ahLst/>
                  <a:rect l="l" t="t" r="r" b="b"/>
                  <a:pathLst>
                    <a:path w="100" h="97">
                      <a:moveTo>
                        <a:pt x="0" y="88"/>
                      </a:moveTo>
                      <a:lnTo>
                        <a:pt x="3" y="97"/>
                      </a:lnTo>
                      <a:lnTo>
                        <a:pt x="17" y="90"/>
                      </a:lnTo>
                      <a:lnTo>
                        <a:pt x="21" y="89"/>
                      </a:lnTo>
                      <a:lnTo>
                        <a:pt x="37" y="81"/>
                      </a:lnTo>
                      <a:lnTo>
                        <a:pt x="52" y="72"/>
                      </a:lnTo>
                      <a:lnTo>
                        <a:pt x="65" y="62"/>
                      </a:lnTo>
                      <a:lnTo>
                        <a:pt x="75" y="49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2"/>
                      </a:lnTo>
                      <a:lnTo>
                        <a:pt x="58" y="55"/>
                      </a:lnTo>
                      <a:lnTo>
                        <a:pt x="45" y="65"/>
                      </a:lnTo>
                      <a:lnTo>
                        <a:pt x="30" y="74"/>
                      </a:lnTo>
                      <a:lnTo>
                        <a:pt x="14" y="82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"/>
                <p:cNvSpPr/>
                <p:nvPr/>
              </p:nvSpPr>
              <p:spPr>
                <a:xfrm>
                  <a:off x="4434480" y="3216600"/>
                  <a:ext cx="167760" cy="226440"/>
                </a:xfrm>
                <a:custGeom>
                  <a:avLst/>
                  <a:gdLst/>
                  <a:ahLst/>
                  <a:rect l="l" t="t" r="r" b="b"/>
                  <a:pathLst>
                    <a:path w="80" h="108">
                      <a:moveTo>
                        <a:pt x="75" y="108"/>
                      </a:moveTo>
                      <a:lnTo>
                        <a:pt x="80" y="100"/>
                      </a:lnTo>
                      <a:lnTo>
                        <a:pt x="68" y="92"/>
                      </a:lnTo>
                      <a:lnTo>
                        <a:pt x="56" y="84"/>
                      </a:lnTo>
                      <a:lnTo>
                        <a:pt x="44" y="74"/>
                      </a:lnTo>
                      <a:lnTo>
                        <a:pt x="35" y="6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6"/>
                      </a:lnTo>
                      <a:lnTo>
                        <a:pt x="21" y="36"/>
                      </a:lnTo>
                      <a:lnTo>
                        <a:pt x="15" y="19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9"/>
                      </a:lnTo>
                      <a:lnTo>
                        <a:pt x="11" y="36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1" y="65"/>
                      </a:lnTo>
                      <a:lnTo>
                        <a:pt x="27" y="68"/>
                      </a:lnTo>
                      <a:lnTo>
                        <a:pt x="37" y="81"/>
                      </a:lnTo>
                      <a:lnTo>
                        <a:pt x="49" y="91"/>
                      </a:lnTo>
                      <a:lnTo>
                        <a:pt x="61" y="99"/>
                      </a:lnTo>
                      <a:lnTo>
                        <a:pt x="75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54" name=""/>
                <p:cNvGrpSpPr/>
                <p:nvPr/>
              </p:nvGrpSpPr>
              <p:grpSpPr>
                <a:xfrm>
                  <a:off x="4613040" y="3611520"/>
                  <a:ext cx="89640" cy="118800"/>
                  <a:chOff x="4613040" y="3611520"/>
                  <a:chExt cx="89640" cy="118800"/>
                </a:xfrm>
              </p:grpSpPr>
              <p:sp>
                <p:nvSpPr>
                  <p:cNvPr id="6055" name=""/>
                  <p:cNvSpPr/>
                  <p:nvPr/>
                </p:nvSpPr>
                <p:spPr>
                  <a:xfrm>
                    <a:off x="4613040" y="3628080"/>
                    <a:ext cx="730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0" y="48"/>
                        </a:moveTo>
                        <a:lnTo>
                          <a:pt x="6" y="49"/>
                        </a:lnTo>
                        <a:lnTo>
                          <a:pt x="12" y="49"/>
                        </a:lnTo>
                        <a:lnTo>
                          <a:pt x="18" y="47"/>
                        </a:lnTo>
                        <a:lnTo>
                          <a:pt x="22" y="43"/>
                        </a:lnTo>
                        <a:lnTo>
                          <a:pt x="26" y="35"/>
                        </a:lnTo>
                        <a:lnTo>
                          <a:pt x="29" y="25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6" name=""/>
                  <p:cNvSpPr/>
                  <p:nvPr/>
                </p:nvSpPr>
                <p:spPr>
                  <a:xfrm>
                    <a:off x="4663080" y="361152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7" name=""/>
                <p:cNvGrpSpPr/>
                <p:nvPr/>
              </p:nvGrpSpPr>
              <p:grpSpPr>
                <a:xfrm>
                  <a:off x="4508280" y="3556440"/>
                  <a:ext cx="87480" cy="117000"/>
                  <a:chOff x="4508280" y="3556440"/>
                  <a:chExt cx="87480" cy="117000"/>
                </a:xfrm>
              </p:grpSpPr>
              <p:sp>
                <p:nvSpPr>
                  <p:cNvPr id="6058" name=""/>
                  <p:cNvSpPr/>
                  <p:nvPr/>
                </p:nvSpPr>
                <p:spPr>
                  <a:xfrm>
                    <a:off x="4522320" y="3573360"/>
                    <a:ext cx="73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9" name=""/>
                  <p:cNvSpPr/>
                  <p:nvPr/>
                </p:nvSpPr>
                <p:spPr>
                  <a:xfrm>
                    <a:off x="4508280" y="3556440"/>
                    <a:ext cx="39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0" name=""/>
                <p:cNvGrpSpPr/>
                <p:nvPr/>
              </p:nvGrpSpPr>
              <p:grpSpPr>
                <a:xfrm>
                  <a:off x="4610880" y="3430800"/>
                  <a:ext cx="88920" cy="146520"/>
                  <a:chOff x="4610880" y="3430800"/>
                  <a:chExt cx="88920" cy="146520"/>
                </a:xfrm>
              </p:grpSpPr>
              <p:sp>
                <p:nvSpPr>
                  <p:cNvPr id="6061" name=""/>
                  <p:cNvSpPr/>
                  <p:nvPr/>
                </p:nvSpPr>
                <p:spPr>
                  <a:xfrm>
                    <a:off x="4610880" y="3451680"/>
                    <a:ext cx="727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2" name=""/>
                  <p:cNvSpPr/>
                  <p:nvPr/>
                </p:nvSpPr>
                <p:spPr>
                  <a:xfrm>
                    <a:off x="4658400" y="3430800"/>
                    <a:ext cx="41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3" name=""/>
                <p:cNvGrpSpPr/>
                <p:nvPr/>
              </p:nvGrpSpPr>
              <p:grpSpPr>
                <a:xfrm>
                  <a:off x="4686120" y="3204360"/>
                  <a:ext cx="41760" cy="112320"/>
                  <a:chOff x="4686120" y="3204360"/>
                  <a:chExt cx="41760" cy="112320"/>
                </a:xfrm>
              </p:grpSpPr>
              <p:sp>
                <p:nvSpPr>
                  <p:cNvPr id="6064" name=""/>
                  <p:cNvSpPr/>
                  <p:nvPr/>
                </p:nvSpPr>
                <p:spPr>
                  <a:xfrm>
                    <a:off x="4694400" y="3224880"/>
                    <a:ext cx="122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5" name=""/>
                  <p:cNvSpPr/>
                  <p:nvPr/>
                </p:nvSpPr>
                <p:spPr>
                  <a:xfrm>
                    <a:off x="4686120" y="3204360"/>
                    <a:ext cx="417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6" name=""/>
                <p:cNvGrpSpPr/>
                <p:nvPr/>
              </p:nvGrpSpPr>
              <p:grpSpPr>
                <a:xfrm>
                  <a:off x="4524840" y="3294360"/>
                  <a:ext cx="41400" cy="97560"/>
                  <a:chOff x="4524840" y="3294360"/>
                  <a:chExt cx="41400" cy="97560"/>
                </a:xfrm>
              </p:grpSpPr>
              <p:sp>
                <p:nvSpPr>
                  <p:cNvPr id="6067" name=""/>
                  <p:cNvSpPr/>
                  <p:nvPr/>
                </p:nvSpPr>
                <p:spPr>
                  <a:xfrm>
                    <a:off x="4545360" y="3314880"/>
                    <a:ext cx="18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">
                        <a:moveTo>
                          <a:pt x="0" y="37"/>
                        </a:moveTo>
                        <a:lnTo>
                          <a:pt x="0" y="28"/>
                        </a:ln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8" name=""/>
                  <p:cNvSpPr/>
                  <p:nvPr/>
                </p:nvSpPr>
                <p:spPr>
                  <a:xfrm>
                    <a:off x="4524840" y="3294360"/>
                    <a:ext cx="41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9" name=""/>
                <p:cNvGrpSpPr/>
                <p:nvPr/>
              </p:nvGrpSpPr>
              <p:grpSpPr>
                <a:xfrm>
                  <a:off x="4459680" y="2973600"/>
                  <a:ext cx="41400" cy="108360"/>
                  <a:chOff x="4459680" y="2973600"/>
                  <a:chExt cx="41400" cy="108360"/>
                </a:xfrm>
              </p:grpSpPr>
              <p:sp>
                <p:nvSpPr>
                  <p:cNvPr id="6070" name=""/>
                  <p:cNvSpPr/>
                  <p:nvPr/>
                </p:nvSpPr>
                <p:spPr>
                  <a:xfrm>
                    <a:off x="4478400" y="2998080"/>
                    <a:ext cx="39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1" name=""/>
                  <p:cNvSpPr/>
                  <p:nvPr/>
                </p:nvSpPr>
                <p:spPr>
                  <a:xfrm>
                    <a:off x="4459680" y="297360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72" name=""/>
                <p:cNvSpPr/>
                <p:nvPr/>
              </p:nvSpPr>
              <p:spPr>
                <a:xfrm>
                  <a:off x="4579200" y="3040560"/>
                  <a:ext cx="35640" cy="883080"/>
                </a:xfrm>
                <a:custGeom>
                  <a:avLst/>
                  <a:gdLst/>
                  <a:ahLst/>
                  <a:rect l="l" t="t" r="r" b="b"/>
                  <a:pathLst>
                    <a:path w="17" h="421">
                      <a:moveTo>
                        <a:pt x="6" y="421"/>
                      </a:moveTo>
                      <a:lnTo>
                        <a:pt x="16" y="421"/>
                      </a:lnTo>
                      <a:lnTo>
                        <a:pt x="16" y="381"/>
                      </a:lnTo>
                      <a:lnTo>
                        <a:pt x="16" y="342"/>
                      </a:lnTo>
                      <a:lnTo>
                        <a:pt x="16" y="304"/>
                      </a:lnTo>
                      <a:lnTo>
                        <a:pt x="16" y="268"/>
                      </a:lnTo>
                      <a:lnTo>
                        <a:pt x="16" y="233"/>
                      </a:lnTo>
                      <a:lnTo>
                        <a:pt x="16" y="201"/>
                      </a:lnTo>
                      <a:lnTo>
                        <a:pt x="16" y="172"/>
                      </a:lnTo>
                      <a:lnTo>
                        <a:pt x="16" y="159"/>
                      </a:lnTo>
                      <a:lnTo>
                        <a:pt x="16" y="147"/>
                      </a:lnTo>
                      <a:lnTo>
                        <a:pt x="16" y="136"/>
                      </a:lnTo>
                      <a:lnTo>
                        <a:pt x="16" y="126"/>
                      </a:lnTo>
                      <a:lnTo>
                        <a:pt x="16" y="109"/>
                      </a:lnTo>
                      <a:lnTo>
                        <a:pt x="17" y="95"/>
                      </a:lnTo>
                      <a:lnTo>
                        <a:pt x="17" y="83"/>
                      </a:lnTo>
                      <a:lnTo>
                        <a:pt x="17" y="74"/>
                      </a:lnTo>
                      <a:lnTo>
                        <a:pt x="17" y="65"/>
                      </a:lnTo>
                      <a:lnTo>
                        <a:pt x="17" y="57"/>
                      </a:lnTo>
                      <a:lnTo>
                        <a:pt x="17" y="48"/>
                      </a:lnTo>
                      <a:lnTo>
                        <a:pt x="17" y="40"/>
                      </a:lnTo>
                      <a:lnTo>
                        <a:pt x="16" y="32"/>
                      </a:lnTo>
                      <a:lnTo>
                        <a:pt x="14" y="20"/>
                      </a:lnTo>
                      <a:lnTo>
                        <a:pt x="12" y="10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20"/>
                      </a:lnTo>
                      <a:lnTo>
                        <a:pt x="6" y="32"/>
                      </a:lnTo>
                      <a:lnTo>
                        <a:pt x="7" y="40"/>
                      </a:lnTo>
                      <a:lnTo>
                        <a:pt x="7" y="48"/>
                      </a:lnTo>
                      <a:lnTo>
                        <a:pt x="7" y="57"/>
                      </a:lnTo>
                      <a:lnTo>
                        <a:pt x="7" y="65"/>
                      </a:lnTo>
                      <a:lnTo>
                        <a:pt x="7" y="74"/>
                      </a:lnTo>
                      <a:lnTo>
                        <a:pt x="7" y="83"/>
                      </a:lnTo>
                      <a:lnTo>
                        <a:pt x="7" y="95"/>
                      </a:lnTo>
                      <a:lnTo>
                        <a:pt x="6" y="109"/>
                      </a:lnTo>
                      <a:lnTo>
                        <a:pt x="6" y="126"/>
                      </a:lnTo>
                      <a:lnTo>
                        <a:pt x="6" y="136"/>
                      </a:lnTo>
                      <a:lnTo>
                        <a:pt x="6" y="147"/>
                      </a:lnTo>
                      <a:lnTo>
                        <a:pt x="6" y="159"/>
                      </a:lnTo>
                      <a:lnTo>
                        <a:pt x="6" y="172"/>
                      </a:lnTo>
                      <a:lnTo>
                        <a:pt x="6" y="201"/>
                      </a:lnTo>
                      <a:lnTo>
                        <a:pt x="6" y="233"/>
                      </a:lnTo>
                      <a:lnTo>
                        <a:pt x="6" y="268"/>
                      </a:lnTo>
                      <a:lnTo>
                        <a:pt x="6" y="304"/>
                      </a:lnTo>
                      <a:lnTo>
                        <a:pt x="6" y="342"/>
                      </a:lnTo>
                      <a:lnTo>
                        <a:pt x="6" y="381"/>
                      </a:lnTo>
                      <a:lnTo>
                        <a:pt x="6" y="4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73" name=""/>
                <p:cNvGrpSpPr/>
                <p:nvPr/>
              </p:nvGrpSpPr>
              <p:grpSpPr>
                <a:xfrm>
                  <a:off x="4541400" y="2862360"/>
                  <a:ext cx="51480" cy="186120"/>
                  <a:chOff x="4541400" y="2862360"/>
                  <a:chExt cx="51480" cy="186120"/>
                </a:xfrm>
              </p:grpSpPr>
              <p:sp>
                <p:nvSpPr>
                  <p:cNvPr id="6074" name=""/>
                  <p:cNvSpPr/>
                  <p:nvPr/>
                </p:nvSpPr>
                <p:spPr>
                  <a:xfrm>
                    <a:off x="4566240" y="3017160"/>
                    <a:ext cx="266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5" y="15"/>
                        </a:moveTo>
                        <a:lnTo>
                          <a:pt x="13" y="9"/>
                        </a:lnTo>
                        <a:lnTo>
                          <a:pt x="8" y="0"/>
                        </a:lnTo>
                        <a:lnTo>
                          <a:pt x="0" y="6"/>
                        </a:lnTo>
                        <a:lnTo>
                          <a:pt x="5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5" name=""/>
                  <p:cNvSpPr/>
                  <p:nvPr/>
                </p:nvSpPr>
                <p:spPr>
                  <a:xfrm>
                    <a:off x="4547520" y="2985840"/>
                    <a:ext cx="24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3" y="11"/>
                        </a:moveTo>
                        <a:lnTo>
                          <a:pt x="12" y="8"/>
                        </a:lnTo>
                        <a:lnTo>
                          <a:pt x="10" y="3"/>
                        </a:lnTo>
                        <a:lnTo>
                          <a:pt x="9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6" name=""/>
                  <p:cNvSpPr/>
                  <p:nvPr/>
                </p:nvSpPr>
                <p:spPr>
                  <a:xfrm>
                    <a:off x="4541400" y="2945880"/>
                    <a:ext cx="205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1" y="11"/>
                        </a:move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7" name=""/>
                  <p:cNvSpPr/>
                  <p:nvPr/>
                </p:nvSpPr>
                <p:spPr>
                  <a:xfrm>
                    <a:off x="4541400" y="2901960"/>
                    <a:ext cx="205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1"/>
                        </a:moveTo>
                        <a:lnTo>
                          <a:pt x="10" y="11"/>
                        </a:ln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8" name=""/>
                  <p:cNvSpPr/>
                  <p:nvPr/>
                </p:nvSpPr>
                <p:spPr>
                  <a:xfrm>
                    <a:off x="4543200" y="2862360"/>
                    <a:ext cx="23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0" y="9"/>
                        </a:moveTo>
                        <a:lnTo>
                          <a:pt x="10" y="10"/>
                        </a:lnTo>
                        <a:lnTo>
                          <a:pt x="11" y="1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9" name=""/>
                <p:cNvGrpSpPr/>
                <p:nvPr/>
              </p:nvGrpSpPr>
              <p:grpSpPr>
                <a:xfrm>
                  <a:off x="4764240" y="3240000"/>
                  <a:ext cx="100080" cy="38520"/>
                  <a:chOff x="4764240" y="3240000"/>
                  <a:chExt cx="100080" cy="38520"/>
                </a:xfrm>
              </p:grpSpPr>
              <p:sp>
                <p:nvSpPr>
                  <p:cNvPr id="6080" name=""/>
                  <p:cNvSpPr/>
                  <p:nvPr/>
                </p:nvSpPr>
                <p:spPr>
                  <a:xfrm>
                    <a:off x="4764240" y="3256200"/>
                    <a:ext cx="20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1" name=""/>
                  <p:cNvSpPr/>
                  <p:nvPr/>
                </p:nvSpPr>
                <p:spPr>
                  <a:xfrm>
                    <a:off x="4806000" y="3254040"/>
                    <a:ext cx="226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0" y="10"/>
                        </a:lnTo>
                        <a:lnTo>
                          <a:pt x="11" y="10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2" name=""/>
                  <p:cNvSpPr/>
                  <p:nvPr/>
                </p:nvSpPr>
                <p:spPr>
                  <a:xfrm>
                    <a:off x="4841640" y="3240000"/>
                    <a:ext cx="226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3">
                        <a:moveTo>
                          <a:pt x="0" y="4"/>
                        </a:moveTo>
                        <a:lnTo>
                          <a:pt x="4" y="13"/>
                        </a:lnTo>
                        <a:lnTo>
                          <a:pt x="7" y="12"/>
                        </a:lnTo>
                        <a:lnTo>
                          <a:pt x="9" y="8"/>
                        </a:lnTo>
                        <a:lnTo>
                          <a:pt x="10" y="5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5"/>
                        </a:lnTo>
                        <a:lnTo>
                          <a:pt x="5" y="5"/>
                        </a:ln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3" name=""/>
                <p:cNvGrpSpPr/>
                <p:nvPr/>
              </p:nvGrpSpPr>
              <p:grpSpPr>
                <a:xfrm>
                  <a:off x="4653000" y="2902320"/>
                  <a:ext cx="22320" cy="146160"/>
                  <a:chOff x="4653000" y="2902320"/>
                  <a:chExt cx="22320" cy="146160"/>
                </a:xfrm>
              </p:grpSpPr>
              <p:sp>
                <p:nvSpPr>
                  <p:cNvPr id="6084" name=""/>
                  <p:cNvSpPr/>
                  <p:nvPr/>
                </p:nvSpPr>
                <p:spPr>
                  <a:xfrm>
                    <a:off x="4653000" y="302760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5" name=""/>
                  <p:cNvSpPr/>
                  <p:nvPr/>
                </p:nvSpPr>
                <p:spPr>
                  <a:xfrm>
                    <a:off x="4654800" y="298584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6" name=""/>
                  <p:cNvSpPr/>
                  <p:nvPr/>
                </p:nvSpPr>
                <p:spPr>
                  <a:xfrm>
                    <a:off x="4654800" y="294408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7" name=""/>
                  <p:cNvSpPr/>
                  <p:nvPr/>
                </p:nvSpPr>
                <p:spPr>
                  <a:xfrm>
                    <a:off x="4654800" y="290232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88" name=""/>
              <p:cNvSpPr/>
              <p:nvPr/>
            </p:nvSpPr>
            <p:spPr>
              <a:xfrm>
                <a:off x="4827600" y="3786120"/>
                <a:ext cx="4154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949280" y="3855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593960" y="3049560"/>
                <a:ext cx="77400" cy="763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417920" y="2998800"/>
                <a:ext cx="193320" cy="19836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600440" y="3181320"/>
                <a:ext cx="210600" cy="2048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435200" y="3218040"/>
                <a:ext cx="168120" cy="22680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94" name=""/>
              <p:cNvGrpSpPr/>
              <p:nvPr/>
            </p:nvGrpSpPr>
            <p:grpSpPr>
              <a:xfrm>
                <a:off x="4613040" y="3611520"/>
                <a:ext cx="89640" cy="120240"/>
                <a:chOff x="4613040" y="3611520"/>
                <a:chExt cx="89640" cy="120240"/>
              </a:xfrm>
            </p:grpSpPr>
            <p:sp>
              <p:nvSpPr>
                <p:cNvPr id="6095" name=""/>
                <p:cNvSpPr/>
                <p:nvPr/>
              </p:nvSpPr>
              <p:spPr>
                <a:xfrm>
                  <a:off x="4613040" y="3628080"/>
                  <a:ext cx="73080" cy="10368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6" y="49"/>
                      </a:lnTo>
                      <a:lnTo>
                        <a:pt x="12" y="49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6" y="35"/>
                      </a:lnTo>
                      <a:lnTo>
                        <a:pt x="29" y="25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6" name=""/>
                <p:cNvSpPr/>
                <p:nvPr/>
              </p:nvSpPr>
              <p:spPr>
                <a:xfrm>
                  <a:off x="4663080" y="3611520"/>
                  <a:ext cx="39600" cy="4644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7" name=""/>
              <p:cNvGrpSpPr/>
              <p:nvPr/>
            </p:nvGrpSpPr>
            <p:grpSpPr>
              <a:xfrm>
                <a:off x="4508280" y="3557520"/>
                <a:ext cx="87840" cy="117360"/>
                <a:chOff x="4508280" y="3557520"/>
                <a:chExt cx="87840" cy="117360"/>
              </a:xfrm>
            </p:grpSpPr>
            <p:sp>
              <p:nvSpPr>
                <p:cNvPr id="6098" name=""/>
                <p:cNvSpPr/>
                <p:nvPr/>
              </p:nvSpPr>
              <p:spPr>
                <a:xfrm>
                  <a:off x="4522320" y="3574440"/>
                  <a:ext cx="73800" cy="10044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9" name=""/>
                <p:cNvSpPr/>
                <p:nvPr/>
              </p:nvSpPr>
              <p:spPr>
                <a:xfrm>
                  <a:off x="4508280" y="3557520"/>
                  <a:ext cx="39600" cy="4608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0" name=""/>
              <p:cNvGrpSpPr/>
              <p:nvPr/>
            </p:nvGrpSpPr>
            <p:grpSpPr>
              <a:xfrm>
                <a:off x="4611600" y="3432240"/>
                <a:ext cx="89640" cy="145440"/>
                <a:chOff x="4611600" y="3432240"/>
                <a:chExt cx="89640" cy="145440"/>
              </a:xfrm>
            </p:grpSpPr>
            <p:sp>
              <p:nvSpPr>
                <p:cNvPr id="6101" name=""/>
                <p:cNvSpPr/>
                <p:nvPr/>
              </p:nvSpPr>
              <p:spPr>
                <a:xfrm>
                  <a:off x="4611600" y="3452760"/>
                  <a:ext cx="73080" cy="12492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2" name=""/>
                <p:cNvSpPr/>
                <p:nvPr/>
              </p:nvSpPr>
              <p:spPr>
                <a:xfrm>
                  <a:off x="4659480" y="3432240"/>
                  <a:ext cx="41760" cy="5364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3" name=""/>
              <p:cNvGrpSpPr/>
              <p:nvPr/>
            </p:nvGrpSpPr>
            <p:grpSpPr>
              <a:xfrm>
                <a:off x="4687560" y="3205080"/>
                <a:ext cx="40680" cy="111960"/>
                <a:chOff x="4687560" y="3205080"/>
                <a:chExt cx="40680" cy="111960"/>
              </a:xfrm>
            </p:grpSpPr>
            <p:sp>
              <p:nvSpPr>
                <p:cNvPr id="6104" name=""/>
                <p:cNvSpPr/>
                <p:nvPr/>
              </p:nvSpPr>
              <p:spPr>
                <a:xfrm>
                  <a:off x="4695840" y="3225600"/>
                  <a:ext cx="11880" cy="9144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5" name=""/>
                <p:cNvSpPr/>
                <p:nvPr/>
              </p:nvSpPr>
              <p:spPr>
                <a:xfrm>
                  <a:off x="4687560" y="3205080"/>
                  <a:ext cx="40680" cy="49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6" name=""/>
              <p:cNvGrpSpPr/>
              <p:nvPr/>
            </p:nvGrpSpPr>
            <p:grpSpPr>
              <a:xfrm>
                <a:off x="4525920" y="3295800"/>
                <a:ext cx="40320" cy="97560"/>
                <a:chOff x="4525920" y="3295800"/>
                <a:chExt cx="40320" cy="97560"/>
              </a:xfrm>
            </p:grpSpPr>
            <p:sp>
              <p:nvSpPr>
                <p:cNvPr id="6107" name=""/>
                <p:cNvSpPr/>
                <p:nvPr/>
              </p:nvSpPr>
              <p:spPr>
                <a:xfrm>
                  <a:off x="4546080" y="3316320"/>
                  <a:ext cx="1800" cy="77040"/>
                </a:xfrm>
                <a:custGeom>
                  <a:avLst/>
                  <a:gdLst/>
                  <a:ahLst/>
                  <a:rect l="l" t="t" r="r" b="b"/>
                  <a:pathLst>
                    <a:path w="1" h="37">
                      <a:moveTo>
                        <a:pt x="0" y="37"/>
                      </a:moveTo>
                      <a:lnTo>
                        <a:pt x="0" y="2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8" name=""/>
                <p:cNvSpPr/>
                <p:nvPr/>
              </p:nvSpPr>
              <p:spPr>
                <a:xfrm>
                  <a:off x="4525920" y="3295800"/>
                  <a:ext cx="4032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9" name=""/>
              <p:cNvGrpSpPr/>
              <p:nvPr/>
            </p:nvGrpSpPr>
            <p:grpSpPr>
              <a:xfrm>
                <a:off x="4460760" y="2973240"/>
                <a:ext cx="40680" cy="109440"/>
                <a:chOff x="4460760" y="2973240"/>
                <a:chExt cx="40680" cy="109440"/>
              </a:xfrm>
            </p:grpSpPr>
            <p:sp>
              <p:nvSpPr>
                <p:cNvPr id="6110" name=""/>
                <p:cNvSpPr/>
                <p:nvPr/>
              </p:nvSpPr>
              <p:spPr>
                <a:xfrm>
                  <a:off x="4479120" y="2998080"/>
                  <a:ext cx="3960" cy="8460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1" name=""/>
                <p:cNvSpPr/>
                <p:nvPr/>
              </p:nvSpPr>
              <p:spPr>
                <a:xfrm>
                  <a:off x="4460760" y="2973240"/>
                  <a:ext cx="406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2" name=""/>
              <p:cNvSpPr/>
              <p:nvPr/>
            </p:nvSpPr>
            <p:spPr>
              <a:xfrm>
                <a:off x="4579920" y="3041640"/>
                <a:ext cx="36000" cy="88272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3" name=""/>
              <p:cNvGrpSpPr/>
              <p:nvPr/>
            </p:nvGrpSpPr>
            <p:grpSpPr>
              <a:xfrm>
                <a:off x="4541760" y="2862360"/>
                <a:ext cx="51480" cy="186840"/>
                <a:chOff x="4541760" y="2862360"/>
                <a:chExt cx="51480" cy="186840"/>
              </a:xfrm>
            </p:grpSpPr>
            <p:sp>
              <p:nvSpPr>
                <p:cNvPr id="6114" name=""/>
                <p:cNvSpPr/>
                <p:nvPr/>
              </p:nvSpPr>
              <p:spPr>
                <a:xfrm>
                  <a:off x="4566600" y="301788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5" name=""/>
                <p:cNvSpPr/>
                <p:nvPr/>
              </p:nvSpPr>
              <p:spPr>
                <a:xfrm>
                  <a:off x="4547520" y="298620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6" name=""/>
                <p:cNvSpPr/>
                <p:nvPr/>
              </p:nvSpPr>
              <p:spPr>
                <a:xfrm>
                  <a:off x="4541760" y="294624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7" name=""/>
                <p:cNvSpPr/>
                <p:nvPr/>
              </p:nvSpPr>
              <p:spPr>
                <a:xfrm>
                  <a:off x="4541760" y="290232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8" name=""/>
                <p:cNvSpPr/>
                <p:nvPr/>
              </p:nvSpPr>
              <p:spPr>
                <a:xfrm>
                  <a:off x="4543560" y="286236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9" name=""/>
              <p:cNvGrpSpPr/>
              <p:nvPr/>
            </p:nvGrpSpPr>
            <p:grpSpPr>
              <a:xfrm>
                <a:off x="4765680" y="3240000"/>
                <a:ext cx="98640" cy="39240"/>
                <a:chOff x="4765680" y="3240000"/>
                <a:chExt cx="98640" cy="39240"/>
              </a:xfrm>
            </p:grpSpPr>
            <p:sp>
              <p:nvSpPr>
                <p:cNvPr id="6120" name=""/>
                <p:cNvSpPr/>
                <p:nvPr/>
              </p:nvSpPr>
              <p:spPr>
                <a:xfrm>
                  <a:off x="4765680" y="32565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1" name=""/>
                <p:cNvSpPr/>
                <p:nvPr/>
              </p:nvSpPr>
              <p:spPr>
                <a:xfrm>
                  <a:off x="4806720" y="325404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2" name=""/>
                <p:cNvSpPr/>
                <p:nvPr/>
              </p:nvSpPr>
              <p:spPr>
                <a:xfrm>
                  <a:off x="4842000" y="3240000"/>
                  <a:ext cx="22320" cy="270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3" name=""/>
              <p:cNvGrpSpPr/>
              <p:nvPr/>
            </p:nvGrpSpPr>
            <p:grpSpPr>
              <a:xfrm>
                <a:off x="4652640" y="2901960"/>
                <a:ext cx="23400" cy="147240"/>
                <a:chOff x="4652640" y="2901960"/>
                <a:chExt cx="23400" cy="147240"/>
              </a:xfrm>
            </p:grpSpPr>
            <p:sp>
              <p:nvSpPr>
                <p:cNvPr id="6124" name=""/>
                <p:cNvSpPr/>
                <p:nvPr/>
              </p:nvSpPr>
              <p:spPr>
                <a:xfrm>
                  <a:off x="4652640" y="302832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5" name=""/>
                <p:cNvSpPr/>
                <p:nvPr/>
              </p:nvSpPr>
              <p:spPr>
                <a:xfrm>
                  <a:off x="4654440" y="298620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6" name=""/>
                <p:cNvSpPr/>
                <p:nvPr/>
              </p:nvSpPr>
              <p:spPr>
                <a:xfrm>
                  <a:off x="4654440" y="294408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7" name=""/>
                <p:cNvSpPr/>
                <p:nvPr/>
              </p:nvSpPr>
              <p:spPr>
                <a:xfrm>
                  <a:off x="4654440" y="290196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8" name=""/>
              <p:cNvSpPr/>
              <p:nvPr/>
            </p:nvSpPr>
            <p:spPr>
              <a:xfrm>
                <a:off x="4593960" y="3049560"/>
                <a:ext cx="77400" cy="763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4417920" y="2998800"/>
                <a:ext cx="193320" cy="19836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4600440" y="3181320"/>
                <a:ext cx="210600" cy="2048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4435200" y="3218040"/>
                <a:ext cx="168120" cy="22680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4613040" y="3629160"/>
                <a:ext cx="74160" cy="10296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4663800" y="3611520"/>
                <a:ext cx="39600" cy="475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4613040" y="3629160"/>
                <a:ext cx="74160" cy="10296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4663800" y="3611520"/>
                <a:ext cx="39600" cy="475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4522680" y="3575160"/>
                <a:ext cx="7416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4508280" y="3557520"/>
                <a:ext cx="3924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4522680" y="3575160"/>
                <a:ext cx="7416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4508280" y="3557520"/>
                <a:ext cx="3924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4611600" y="3452760"/>
                <a:ext cx="72720" cy="12564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4659120" y="3432240"/>
                <a:ext cx="42480" cy="540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4611600" y="3452760"/>
                <a:ext cx="72720" cy="12564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4659120" y="3432240"/>
                <a:ext cx="42480" cy="540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4695480" y="3225960"/>
                <a:ext cx="12600" cy="9180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4687560" y="320508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4695480" y="3225960"/>
                <a:ext cx="12600" cy="9180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4687560" y="320508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546440" y="3316320"/>
                <a:ext cx="1080" cy="7776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525920" y="3295800"/>
                <a:ext cx="40680" cy="489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546440" y="3316320"/>
                <a:ext cx="1080" cy="7776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4525920" y="3295800"/>
                <a:ext cx="40680" cy="489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4479840" y="2998800"/>
                <a:ext cx="28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460760" y="2973240"/>
                <a:ext cx="41040" cy="51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4479840" y="2998800"/>
                <a:ext cx="28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4460760" y="2973240"/>
                <a:ext cx="41040" cy="51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4579920" y="3041640"/>
                <a:ext cx="36000" cy="88272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7" name=""/>
              <p:cNvGrpSpPr/>
              <p:nvPr/>
            </p:nvGrpSpPr>
            <p:grpSpPr>
              <a:xfrm>
                <a:off x="4541760" y="2862360"/>
                <a:ext cx="51480" cy="186840"/>
                <a:chOff x="4541760" y="2862360"/>
                <a:chExt cx="51480" cy="186840"/>
              </a:xfrm>
            </p:grpSpPr>
            <p:sp>
              <p:nvSpPr>
                <p:cNvPr id="6158" name=""/>
                <p:cNvSpPr/>
                <p:nvPr/>
              </p:nvSpPr>
              <p:spPr>
                <a:xfrm>
                  <a:off x="4566600" y="301788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9" name=""/>
                <p:cNvSpPr/>
                <p:nvPr/>
              </p:nvSpPr>
              <p:spPr>
                <a:xfrm>
                  <a:off x="4547520" y="298620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0" name=""/>
                <p:cNvSpPr/>
                <p:nvPr/>
              </p:nvSpPr>
              <p:spPr>
                <a:xfrm>
                  <a:off x="4541760" y="294624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1" name=""/>
                <p:cNvSpPr/>
                <p:nvPr/>
              </p:nvSpPr>
              <p:spPr>
                <a:xfrm>
                  <a:off x="4541760" y="290232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2" name=""/>
                <p:cNvSpPr/>
                <p:nvPr/>
              </p:nvSpPr>
              <p:spPr>
                <a:xfrm>
                  <a:off x="4543560" y="286236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3" name=""/>
              <p:cNvGrpSpPr/>
              <p:nvPr/>
            </p:nvGrpSpPr>
            <p:grpSpPr>
              <a:xfrm>
                <a:off x="4765680" y="3240000"/>
                <a:ext cx="98640" cy="39240"/>
                <a:chOff x="4765680" y="3240000"/>
                <a:chExt cx="98640" cy="39240"/>
              </a:xfrm>
            </p:grpSpPr>
            <p:sp>
              <p:nvSpPr>
                <p:cNvPr id="6164" name=""/>
                <p:cNvSpPr/>
                <p:nvPr/>
              </p:nvSpPr>
              <p:spPr>
                <a:xfrm>
                  <a:off x="4765680" y="32565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5" name=""/>
                <p:cNvSpPr/>
                <p:nvPr/>
              </p:nvSpPr>
              <p:spPr>
                <a:xfrm>
                  <a:off x="4806720" y="325404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6" name=""/>
                <p:cNvSpPr/>
                <p:nvPr/>
              </p:nvSpPr>
              <p:spPr>
                <a:xfrm>
                  <a:off x="4842000" y="3240000"/>
                  <a:ext cx="22320" cy="270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7" name=""/>
              <p:cNvGrpSpPr/>
              <p:nvPr/>
            </p:nvGrpSpPr>
            <p:grpSpPr>
              <a:xfrm>
                <a:off x="4652640" y="2901960"/>
                <a:ext cx="23400" cy="147240"/>
                <a:chOff x="4652640" y="2901960"/>
                <a:chExt cx="23400" cy="147240"/>
              </a:xfrm>
            </p:grpSpPr>
            <p:sp>
              <p:nvSpPr>
                <p:cNvPr id="6168" name=""/>
                <p:cNvSpPr/>
                <p:nvPr/>
              </p:nvSpPr>
              <p:spPr>
                <a:xfrm>
                  <a:off x="4652640" y="302832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9" name=""/>
                <p:cNvSpPr/>
                <p:nvPr/>
              </p:nvSpPr>
              <p:spPr>
                <a:xfrm>
                  <a:off x="4654440" y="298620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0" name=""/>
                <p:cNvSpPr/>
                <p:nvPr/>
              </p:nvSpPr>
              <p:spPr>
                <a:xfrm>
                  <a:off x="4654440" y="294408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1" name=""/>
                <p:cNvSpPr/>
                <p:nvPr/>
              </p:nvSpPr>
              <p:spPr>
                <a:xfrm>
                  <a:off x="4654440" y="290196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72" name=""/>
          <p:cNvSpPr/>
          <p:nvPr/>
        </p:nvSpPr>
        <p:spPr>
          <a:xfrm>
            <a:off x="1087560" y="1870200"/>
            <a:ext cx="552240" cy="522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3" name=""/>
          <p:cNvGrpSpPr/>
          <p:nvPr/>
        </p:nvGrpSpPr>
        <p:grpSpPr>
          <a:xfrm>
            <a:off x="3043080" y="1592280"/>
            <a:ext cx="1130040" cy="825480"/>
            <a:chOff x="3043080" y="1592280"/>
            <a:chExt cx="1130040" cy="825480"/>
          </a:xfrm>
        </p:grpSpPr>
        <p:sp>
          <p:nvSpPr>
            <p:cNvPr id="6174" name=""/>
            <p:cNvSpPr/>
            <p:nvPr/>
          </p:nvSpPr>
          <p:spPr>
            <a:xfrm>
              <a:off x="3620880" y="1592280"/>
              <a:ext cx="552240" cy="5223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5" name=""/>
            <p:cNvGrpSpPr/>
            <p:nvPr/>
          </p:nvGrpSpPr>
          <p:grpSpPr>
            <a:xfrm>
              <a:off x="3043080" y="1746360"/>
              <a:ext cx="1020600" cy="671400"/>
              <a:chOff x="3043080" y="1746360"/>
              <a:chExt cx="1020600" cy="671400"/>
            </a:xfrm>
          </p:grpSpPr>
          <p:sp>
            <p:nvSpPr>
              <p:cNvPr id="6176" name=""/>
              <p:cNvSpPr/>
              <p:nvPr/>
            </p:nvSpPr>
            <p:spPr>
              <a:xfrm>
                <a:off x="3043080" y="1887480"/>
                <a:ext cx="290520" cy="274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3098520" y="2016360"/>
                <a:ext cx="290520" cy="274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3198600" y="1782720"/>
                <a:ext cx="420840" cy="3762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3284280" y="2041560"/>
                <a:ext cx="420840" cy="3762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3471480" y="1893960"/>
                <a:ext cx="420840" cy="3762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3441600" y="1746360"/>
                <a:ext cx="304560" cy="272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3759120" y="2005200"/>
                <a:ext cx="304560" cy="272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3552480" y="2119320"/>
                <a:ext cx="304920" cy="2732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84" name=""/>
          <p:cNvGrpSpPr/>
          <p:nvPr/>
        </p:nvGrpSpPr>
        <p:grpSpPr>
          <a:xfrm>
            <a:off x="5543640" y="1744560"/>
            <a:ext cx="1020600" cy="671400"/>
            <a:chOff x="5543640" y="1744560"/>
            <a:chExt cx="1020600" cy="671400"/>
          </a:xfrm>
        </p:grpSpPr>
        <p:sp>
          <p:nvSpPr>
            <p:cNvPr id="6185" name=""/>
            <p:cNvSpPr/>
            <p:nvPr/>
          </p:nvSpPr>
          <p:spPr>
            <a:xfrm>
              <a:off x="5543640" y="1885680"/>
              <a:ext cx="290520" cy="2746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5599080" y="2014560"/>
              <a:ext cx="290520" cy="274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5699160" y="1780920"/>
              <a:ext cx="420840" cy="376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5784840" y="2039760"/>
              <a:ext cx="420840" cy="376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5972040" y="1892160"/>
              <a:ext cx="420840" cy="376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5942160" y="1744560"/>
              <a:ext cx="304560" cy="2728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6259680" y="2003400"/>
              <a:ext cx="304560" cy="2728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6053040" y="2117520"/>
              <a:ext cx="304920" cy="27324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3" name=""/>
          <p:cNvSpPr/>
          <p:nvPr/>
        </p:nvSpPr>
        <p:spPr>
          <a:xfrm>
            <a:off x="2941560" y="9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4" name=""/>
          <p:cNvSpPr/>
          <p:nvPr/>
        </p:nvSpPr>
        <p:spPr>
          <a:xfrm>
            <a:off x="503280" y="4287960"/>
            <a:ext cx="855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Lien avec l’environnement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5" name=""/>
          <p:cNvSpPr/>
          <p:nvPr/>
        </p:nvSpPr>
        <p:spPr>
          <a:xfrm>
            <a:off x="1952640" y="4780080"/>
            <a:ext cx="719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ais comment le caractériser plus précisément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6" name=""/>
          <p:cNvSpPr/>
          <p:nvPr/>
        </p:nvSpPr>
        <p:spPr>
          <a:xfrm>
            <a:off x="588960" y="5361120"/>
            <a:ext cx="855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Lien avec un environnement global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7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8" name=""/>
          <p:cNvSpPr/>
          <p:nvPr/>
        </p:nvSpPr>
        <p:spPr>
          <a:xfrm>
            <a:off x="1959120" y="5878440"/>
            <a:ext cx="59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as-fond ou degrés de perturb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247 -0.0625 C -0.529 -0.07222 -0.52795 -0.08334 -0.52448 -0.09283 C -0.52309 -0.10232 -0.52049 -0.10949 -0.51771 -0.11759 C -0.51545 -0.12431 -0.51407 -0.13264 -0.51094 -0.13704 C -0.50886 -0.14352 -0.50625 -0.14861 -0.504 -0.15486 C -0.50278 -0.1588 -0.50191 -0.16366 -0.50052 -0.16736 C -0.49775 -0.17616 -0.49375 -0.18403 -0.49045 -0.19236 C -0.48785 -0.19838 -0.48611 -0.2044 -0.48351 -0.21019 C -0.48247 -0.21713 -0.48143 -0.22014 -0.4783 -0.22431 C -0.46979 -0.25162 -0.45504 -0.27222 -0.44132 -0.28658 C -0.4349 -0.29352 -0.42934 -0.30093 -0.4224 -0.3044 C -0.41372 -0.3132 -0.40347 -0.32431 -0.39393 -0.32755 C -0.38854 -0.33195 -0.38351 -0.33773 -0.37761 -0.33982 C -0.37084 -0.34699 -0.36337 -0.34908 -0.35591 -0.35047 C -0.34792 -0.35023 -0.33993 -0.35 -0.33195 -0.34908 C -0.32413 -0.34792 -0.31632 -0.34213 -0.30868 -0.33982 C -0.30104 -0.33496 -0.29236 -0.33172 -0.28525 -0.32408 C -0.28073 -0.31922 -0.27587 -0.31412 -0.27084 -0.31158 C -0.26754 -0.30672 -0.26389 -0.30463 -0.26042 -0.30093 C -0.25243 -0.29259 -0.24427 -0.28403 -0.23629 -0.27593 C -0.23368 -0.2706 -0.23195 -0.26759 -0.22865 -0.26528 C -0.22327 -0.25718 -0.22049 -0.25 -0.21563 -0.24213 C -0.21181 -0.22639 -0.20504 -0.21551 -0.19913 -0.20301 C -0.19618 -0.19676 -0.19445 -0.19097 -0.1908 -0.18704 C -0.18872 -0.17616 -0.19132 -0.18634 -0.18542 -0.17639 C -0.18455 -0.175 -0.18438 -0.17269 -0.18368 -0.17107 C -0.18038 -0.16366 -0.17622 -0.15625 -0.17257 -0.14954 C -0.16962 -0.14468 -0.16702 -0.13982 -0.16389 -0.13542 C -0.16302 -0.13426 -0.16216 -0.1331 -0.16129 -0.13195 C -0.15764 -0.125 -0.15851 -0.12454 -0.15452 -0.11945 C -0.15052 -0.11459 -0.14688 -0.11019 -0.14323 -0.10533 C -0.14097 -0.10209 -0.13941 -0.09746 -0.13733 -0.09445 C -0.12344 -0.07477 -0.14219 -0.10301 -0.125 -0.07662 C -0.12327 -0.07408 -0.12101 -0.07384 -0.1191 -0.0713 C -0.11372 -0.06435 -0.11025 -0.05949 -0.10434 -0.05533 C -0.09879 -0.04722 -0.08785 -0.03704 -0.08125 -0.03403 C -0.07136 -0.02199 -0.06233 -0.01713 -0.05104 -0.01273 C -0.04913 -0.01181 -0.04757 -0.01019 -0.04584 -0.00903 C -0.04479 -0.0081 -0.04358 -0.00787 -0.04254 -0.00741 C -0.02847 -0.00209 -0.01424 2.22222E-006 2.77778E-006 2.22222E-006 E">
                                      <p:cBhvr>
                                        <p:cTn id="308" dur="2000" fill="hold"/>
                                        <p:tgtEl>
                                          <p:spTgt spid="5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5156 -0.25602 C 0.7717 -0.27269 0.69184 -0.28935 0.61771 -0.29259 C 0.54358 -0.29583 0.47031 -0.28287 0.40642 -0.27546 C 0.34253 -0.26806 0.29809 -0.26783 0.23385 -0.24745 C 0.16962 -0.22708 0.06771 -0.18357 0.02101 -0.15278 C -0.0257 -0.12199 -0.02899 -0.09398 -0.0467 -0.0625 C -0.06441 -0.03102 -0.07813 -0.00417 -0.08542 0.03634 C -0.09271 0.07685 -0.09722 0.13542 -0.09028 0.18055 C -0.08333 0.22569 -0.07743 0.2787 -0.04358 0.30741 C -0.00972 0.33611 0.06788 0.35532 0.11285 0.35255 C 0.15781 0.34977 0.20521 0.32037 0.22587 0.29028 C 0.24653 0.26018 0.23854 0.21065 0.23715 0.17199 C 0.23576 0.1331 0.22743 0.0875 0.21771 0.05787 C 0.20799 0.02824 0.19826 0.00972 0.17899 -0.00648 C 0.15972 -0.02269 0.12604 -0.03542 0.10156 -0.03889 C 0.07708 -0.04236 0.04913 -0.03449 0.03229 -0.02801 C 0.01545 -0.02153 0.00764 -0.01088 3.05556E-006 -7.40741E-007 E">
                                      <p:cBhvr>
                                        <p:cTn id="314" dur="2000" fill="hold"/>
                                        <p:tgtEl>
                                          <p:spTgt spid="6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56 -0.28171 C 0.02204 -0.27731 0.0217 -0.27291 0.021 -0.26875 C 0.02013 -0.26296 0.0177 -0.25162 0.0177 -0.25162 C 0.01614 -0.23449 0.01562 -0.21689 0.01284 -0.20023 C 0.01128 -0.16875 0.00937 -0.13634 0.00486 -0.10532 C 0.00225 -0.0699 -6.66667E-006 -0.03587 -6.66667E-006 -3.7037E-006 E">
                                      <p:cBhvr>
                                        <p:cTn id="320" dur="2000" fill="hold"/>
                                        <p:tgtEl>
                                          <p:spTgt spid="6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58 -0.34398 C 0.03803 -0.32709 0.03646 -0.30671 0.03091 -0.28935 C 0.02882 -0.27153 0.02501 -0.25394 0.02119 -0.23727 C 0.01876 -0.21574 0.0158 -0.19306 0.01129 -0.17361 C 0.00869 -0.14421 0.00608 -0.11528 0.00278 -0.08658 C 0.00157 -0.05764 5E-006 -0.02917 5E-006 1.85185E-006 E">
                                      <p:cBhvr>
                                        <p:cTn id="326" dur="2000" fill="hold"/>
                                        <p:tgtEl>
                                          <p:spTgt spid="6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6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6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9" name=""/>
          <p:cNvGrpSpPr/>
          <p:nvPr/>
        </p:nvGrpSpPr>
        <p:grpSpPr>
          <a:xfrm>
            <a:off x="658800" y="2397240"/>
            <a:ext cx="1405800" cy="2680920"/>
            <a:chOff x="658800" y="2397240"/>
            <a:chExt cx="1405800" cy="2680920"/>
          </a:xfrm>
        </p:grpSpPr>
        <p:sp>
          <p:nvSpPr>
            <p:cNvPr id="6200" name=""/>
            <p:cNvSpPr/>
            <p:nvPr/>
          </p:nvSpPr>
          <p:spPr>
            <a:xfrm>
              <a:off x="1044720" y="4606200"/>
              <a:ext cx="82296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1" name=""/>
            <p:cNvGrpSpPr/>
            <p:nvPr/>
          </p:nvGrpSpPr>
          <p:grpSpPr>
            <a:xfrm>
              <a:off x="658800" y="2397240"/>
              <a:ext cx="1405800" cy="2017440"/>
              <a:chOff x="658800" y="2397240"/>
              <a:chExt cx="1405800" cy="2017440"/>
            </a:xfrm>
          </p:grpSpPr>
          <p:grpSp>
            <p:nvGrpSpPr>
              <p:cNvPr id="6202" name=""/>
              <p:cNvGrpSpPr/>
              <p:nvPr/>
            </p:nvGrpSpPr>
            <p:grpSpPr>
              <a:xfrm>
                <a:off x="658800" y="2397240"/>
                <a:ext cx="1228680" cy="1922760"/>
                <a:chOff x="658800" y="2397240"/>
                <a:chExt cx="1228680" cy="1922760"/>
              </a:xfrm>
            </p:grpSpPr>
            <p:grpSp>
              <p:nvGrpSpPr>
                <p:cNvPr id="6203" name=""/>
                <p:cNvGrpSpPr/>
                <p:nvPr/>
              </p:nvGrpSpPr>
              <p:grpSpPr>
                <a:xfrm>
                  <a:off x="658800" y="2397240"/>
                  <a:ext cx="1228680" cy="1922760"/>
                  <a:chOff x="658800" y="2397240"/>
                  <a:chExt cx="1228680" cy="1922760"/>
                </a:xfrm>
              </p:grpSpPr>
              <p:sp>
                <p:nvSpPr>
                  <p:cNvPr id="6204" name=""/>
                  <p:cNvSpPr/>
                  <p:nvPr/>
                </p:nvSpPr>
                <p:spPr>
                  <a:xfrm>
                    <a:off x="658800" y="2397240"/>
                    <a:ext cx="1228680" cy="19227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5" name=""/>
                  <p:cNvSpPr/>
                  <p:nvPr/>
                </p:nvSpPr>
                <p:spPr>
                  <a:xfrm>
                    <a:off x="658800" y="2397240"/>
                    <a:ext cx="1222920" cy="19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6" name=""/>
                  <p:cNvSpPr/>
                  <p:nvPr/>
                </p:nvSpPr>
                <p:spPr>
                  <a:xfrm>
                    <a:off x="658800" y="2397240"/>
                    <a:ext cx="1222920" cy="19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7" name=""/>
                  <p:cNvSpPr/>
                  <p:nvPr/>
                </p:nvSpPr>
                <p:spPr>
                  <a:xfrm>
                    <a:off x="658800" y="2397240"/>
                    <a:ext cx="1228680" cy="19227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08" name=""/>
                <p:cNvSpPr/>
                <p:nvPr/>
              </p:nvSpPr>
              <p:spPr>
                <a:xfrm>
                  <a:off x="658800" y="2397240"/>
                  <a:ext cx="1223280" cy="191736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9" name=""/>
              <p:cNvSpPr/>
              <p:nvPr/>
            </p:nvSpPr>
            <p:spPr>
              <a:xfrm>
                <a:off x="1527120" y="3891240"/>
                <a:ext cx="53748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1684800" y="39816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1" name=""/>
              <p:cNvGrpSpPr/>
              <p:nvPr/>
            </p:nvGrpSpPr>
            <p:grpSpPr>
              <a:xfrm>
                <a:off x="997560" y="2696760"/>
                <a:ext cx="577080" cy="1372320"/>
                <a:chOff x="997560" y="2696760"/>
                <a:chExt cx="577080" cy="1372320"/>
              </a:xfrm>
            </p:grpSpPr>
            <p:sp>
              <p:nvSpPr>
                <p:cNvPr id="6212" name=""/>
                <p:cNvSpPr/>
                <p:nvPr/>
              </p:nvSpPr>
              <p:spPr>
                <a:xfrm>
                  <a:off x="1225080" y="2937960"/>
                  <a:ext cx="100080" cy="9756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27"/>
                      </a:moveTo>
                      <a:lnTo>
                        <a:pt x="3" y="36"/>
                      </a:lnTo>
                      <a:lnTo>
                        <a:pt x="16" y="30"/>
                      </a:lnTo>
                      <a:lnTo>
                        <a:pt x="19" y="29"/>
                      </a:lnTo>
                      <a:lnTo>
                        <a:pt x="26" y="26"/>
                      </a:lnTo>
                      <a:lnTo>
                        <a:pt x="31" y="23"/>
                      </a:lnTo>
                      <a:lnTo>
                        <a:pt x="33" y="18"/>
                      </a:lnTo>
                      <a:lnTo>
                        <a:pt x="35" y="15"/>
                      </a:lnTo>
                      <a:lnTo>
                        <a:pt x="36" y="10"/>
                      </a:lnTo>
                      <a:lnTo>
                        <a:pt x="37" y="0"/>
                      </a:lnTo>
                      <a:lnTo>
                        <a:pt x="27" y="0"/>
                      </a:lnTo>
                      <a:lnTo>
                        <a:pt x="26" y="10"/>
                      </a:lnTo>
                      <a:lnTo>
                        <a:pt x="25" y="15"/>
                      </a:lnTo>
                      <a:lnTo>
                        <a:pt x="30" y="15"/>
                      </a:lnTo>
                      <a:lnTo>
                        <a:pt x="26" y="11"/>
                      </a:lnTo>
                      <a:lnTo>
                        <a:pt x="24" y="16"/>
                      </a:lnTo>
                      <a:lnTo>
                        <a:pt x="19" y="19"/>
                      </a:lnTo>
                      <a:lnTo>
                        <a:pt x="12" y="22"/>
                      </a:lnTo>
                      <a:lnTo>
                        <a:pt x="16" y="25"/>
                      </a:lnTo>
                      <a:lnTo>
                        <a:pt x="16" y="2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3" name=""/>
                <p:cNvSpPr/>
                <p:nvPr/>
              </p:nvSpPr>
              <p:spPr>
                <a:xfrm>
                  <a:off x="997560" y="2872440"/>
                  <a:ext cx="249840" cy="25524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4" name=""/>
                <p:cNvSpPr/>
                <p:nvPr/>
              </p:nvSpPr>
              <p:spPr>
                <a:xfrm>
                  <a:off x="1233720" y="3108960"/>
                  <a:ext cx="271440" cy="263160"/>
                </a:xfrm>
                <a:custGeom>
                  <a:avLst/>
                  <a:gdLst/>
                  <a:ahLst/>
                  <a:rect l="l" t="t" r="r" b="b"/>
                  <a:pathLst>
                    <a:path w="100" h="97">
                      <a:moveTo>
                        <a:pt x="0" y="88"/>
                      </a:moveTo>
                      <a:lnTo>
                        <a:pt x="3" y="97"/>
                      </a:lnTo>
                      <a:lnTo>
                        <a:pt x="17" y="90"/>
                      </a:lnTo>
                      <a:lnTo>
                        <a:pt x="21" y="89"/>
                      </a:lnTo>
                      <a:lnTo>
                        <a:pt x="37" y="81"/>
                      </a:lnTo>
                      <a:lnTo>
                        <a:pt x="52" y="72"/>
                      </a:lnTo>
                      <a:lnTo>
                        <a:pt x="65" y="62"/>
                      </a:lnTo>
                      <a:lnTo>
                        <a:pt x="75" y="49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2"/>
                      </a:lnTo>
                      <a:lnTo>
                        <a:pt x="58" y="55"/>
                      </a:lnTo>
                      <a:lnTo>
                        <a:pt x="45" y="65"/>
                      </a:lnTo>
                      <a:lnTo>
                        <a:pt x="30" y="74"/>
                      </a:lnTo>
                      <a:lnTo>
                        <a:pt x="14" y="82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5" name=""/>
                <p:cNvSpPr/>
                <p:nvPr/>
              </p:nvSpPr>
              <p:spPr>
                <a:xfrm>
                  <a:off x="1018800" y="3155040"/>
                  <a:ext cx="217080" cy="292680"/>
                </a:xfrm>
                <a:custGeom>
                  <a:avLst/>
                  <a:gdLst/>
                  <a:ahLst/>
                  <a:rect l="l" t="t" r="r" b="b"/>
                  <a:pathLst>
                    <a:path w="80" h="108">
                      <a:moveTo>
                        <a:pt x="75" y="108"/>
                      </a:moveTo>
                      <a:lnTo>
                        <a:pt x="80" y="100"/>
                      </a:lnTo>
                      <a:lnTo>
                        <a:pt x="68" y="92"/>
                      </a:lnTo>
                      <a:lnTo>
                        <a:pt x="56" y="84"/>
                      </a:lnTo>
                      <a:lnTo>
                        <a:pt x="44" y="74"/>
                      </a:lnTo>
                      <a:lnTo>
                        <a:pt x="35" y="6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6"/>
                      </a:lnTo>
                      <a:lnTo>
                        <a:pt x="21" y="36"/>
                      </a:lnTo>
                      <a:lnTo>
                        <a:pt x="15" y="19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9"/>
                      </a:lnTo>
                      <a:lnTo>
                        <a:pt x="11" y="36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1" y="65"/>
                      </a:lnTo>
                      <a:lnTo>
                        <a:pt x="27" y="68"/>
                      </a:lnTo>
                      <a:lnTo>
                        <a:pt x="37" y="81"/>
                      </a:lnTo>
                      <a:lnTo>
                        <a:pt x="49" y="91"/>
                      </a:lnTo>
                      <a:lnTo>
                        <a:pt x="61" y="99"/>
                      </a:lnTo>
                      <a:lnTo>
                        <a:pt x="75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16" name=""/>
                <p:cNvGrpSpPr/>
                <p:nvPr/>
              </p:nvGrpSpPr>
              <p:grpSpPr>
                <a:xfrm>
                  <a:off x="1249920" y="3665160"/>
                  <a:ext cx="116280" cy="153720"/>
                  <a:chOff x="1249920" y="3665160"/>
                  <a:chExt cx="116280" cy="153720"/>
                </a:xfrm>
              </p:grpSpPr>
              <p:sp>
                <p:nvSpPr>
                  <p:cNvPr id="6217" name=""/>
                  <p:cNvSpPr/>
                  <p:nvPr/>
                </p:nvSpPr>
                <p:spPr>
                  <a:xfrm>
                    <a:off x="1249920" y="3686400"/>
                    <a:ext cx="943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0" y="48"/>
                        </a:moveTo>
                        <a:lnTo>
                          <a:pt x="6" y="49"/>
                        </a:lnTo>
                        <a:lnTo>
                          <a:pt x="12" y="49"/>
                        </a:lnTo>
                        <a:lnTo>
                          <a:pt x="18" y="47"/>
                        </a:lnTo>
                        <a:lnTo>
                          <a:pt x="22" y="43"/>
                        </a:lnTo>
                        <a:lnTo>
                          <a:pt x="26" y="35"/>
                        </a:lnTo>
                        <a:lnTo>
                          <a:pt x="29" y="25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8" name=""/>
                  <p:cNvSpPr/>
                  <p:nvPr/>
                </p:nvSpPr>
                <p:spPr>
                  <a:xfrm>
                    <a:off x="1314720" y="3665160"/>
                    <a:ext cx="514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9" name=""/>
                <p:cNvGrpSpPr/>
                <p:nvPr/>
              </p:nvGrpSpPr>
              <p:grpSpPr>
                <a:xfrm>
                  <a:off x="1114560" y="3594240"/>
                  <a:ext cx="113400" cy="151200"/>
                  <a:chOff x="1114560" y="3594240"/>
                  <a:chExt cx="113400" cy="151200"/>
                </a:xfrm>
              </p:grpSpPr>
              <p:sp>
                <p:nvSpPr>
                  <p:cNvPr id="6220" name=""/>
                  <p:cNvSpPr/>
                  <p:nvPr/>
                </p:nvSpPr>
                <p:spPr>
                  <a:xfrm>
                    <a:off x="1132920" y="3616200"/>
                    <a:ext cx="95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1" name=""/>
                  <p:cNvSpPr/>
                  <p:nvPr/>
                </p:nvSpPr>
                <p:spPr>
                  <a:xfrm>
                    <a:off x="1114560" y="3594240"/>
                    <a:ext cx="507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2" name=""/>
                <p:cNvGrpSpPr/>
                <p:nvPr/>
              </p:nvGrpSpPr>
              <p:grpSpPr>
                <a:xfrm>
                  <a:off x="1247400" y="3431880"/>
                  <a:ext cx="115920" cy="189720"/>
                  <a:chOff x="1247400" y="3431880"/>
                  <a:chExt cx="115920" cy="189720"/>
                </a:xfrm>
              </p:grpSpPr>
              <p:sp>
                <p:nvSpPr>
                  <p:cNvPr id="6223" name=""/>
                  <p:cNvSpPr/>
                  <p:nvPr/>
                </p:nvSpPr>
                <p:spPr>
                  <a:xfrm>
                    <a:off x="1247400" y="3458880"/>
                    <a:ext cx="9432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4" name=""/>
                  <p:cNvSpPr/>
                  <p:nvPr/>
                </p:nvSpPr>
                <p:spPr>
                  <a:xfrm>
                    <a:off x="1309320" y="3431880"/>
                    <a:ext cx="54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5" name=""/>
                <p:cNvGrpSpPr/>
                <p:nvPr/>
              </p:nvGrpSpPr>
              <p:grpSpPr>
                <a:xfrm>
                  <a:off x="1344600" y="3138840"/>
                  <a:ext cx="54360" cy="145440"/>
                  <a:chOff x="1344600" y="3138840"/>
                  <a:chExt cx="54360" cy="145440"/>
                </a:xfrm>
              </p:grpSpPr>
              <p:sp>
                <p:nvSpPr>
                  <p:cNvPr id="6226" name=""/>
                  <p:cNvSpPr/>
                  <p:nvPr/>
                </p:nvSpPr>
                <p:spPr>
                  <a:xfrm>
                    <a:off x="1355400" y="3165480"/>
                    <a:ext cx="158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7" name=""/>
                  <p:cNvSpPr/>
                  <p:nvPr/>
                </p:nvSpPr>
                <p:spPr>
                  <a:xfrm>
                    <a:off x="1344600" y="3138840"/>
                    <a:ext cx="5436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8" name=""/>
                <p:cNvGrpSpPr/>
                <p:nvPr/>
              </p:nvGrpSpPr>
              <p:grpSpPr>
                <a:xfrm>
                  <a:off x="1135800" y="3255120"/>
                  <a:ext cx="53640" cy="126360"/>
                  <a:chOff x="1135800" y="3255120"/>
                  <a:chExt cx="53640" cy="126360"/>
                </a:xfrm>
              </p:grpSpPr>
              <p:sp>
                <p:nvSpPr>
                  <p:cNvPr id="6229" name=""/>
                  <p:cNvSpPr/>
                  <p:nvPr/>
                </p:nvSpPr>
                <p:spPr>
                  <a:xfrm>
                    <a:off x="1162440" y="3281760"/>
                    <a:ext cx="2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">
                        <a:moveTo>
                          <a:pt x="0" y="37"/>
                        </a:moveTo>
                        <a:lnTo>
                          <a:pt x="0" y="28"/>
                        </a:ln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0" name=""/>
                  <p:cNvSpPr/>
                  <p:nvPr/>
                </p:nvSpPr>
                <p:spPr>
                  <a:xfrm>
                    <a:off x="1135800" y="3255120"/>
                    <a:ext cx="536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1" name=""/>
                <p:cNvGrpSpPr/>
                <p:nvPr/>
              </p:nvGrpSpPr>
              <p:grpSpPr>
                <a:xfrm>
                  <a:off x="1051560" y="2840400"/>
                  <a:ext cx="53640" cy="140040"/>
                  <a:chOff x="1051560" y="2840400"/>
                  <a:chExt cx="53640" cy="140040"/>
                </a:xfrm>
              </p:grpSpPr>
              <p:sp>
                <p:nvSpPr>
                  <p:cNvPr id="6232" name=""/>
                  <p:cNvSpPr/>
                  <p:nvPr/>
                </p:nvSpPr>
                <p:spPr>
                  <a:xfrm>
                    <a:off x="1075680" y="2872080"/>
                    <a:ext cx="540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3" name=""/>
                  <p:cNvSpPr/>
                  <p:nvPr/>
                </p:nvSpPr>
                <p:spPr>
                  <a:xfrm>
                    <a:off x="1051560" y="2840400"/>
                    <a:ext cx="536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4" name=""/>
                <p:cNvSpPr/>
                <p:nvPr/>
              </p:nvSpPr>
              <p:spPr>
                <a:xfrm>
                  <a:off x="1206000" y="2927160"/>
                  <a:ext cx="46080" cy="1141920"/>
                </a:xfrm>
                <a:custGeom>
                  <a:avLst/>
                  <a:gdLst/>
                  <a:ahLst/>
                  <a:rect l="l" t="t" r="r" b="b"/>
                  <a:pathLst>
                    <a:path w="17" h="421">
                      <a:moveTo>
                        <a:pt x="6" y="421"/>
                      </a:moveTo>
                      <a:lnTo>
                        <a:pt x="16" y="421"/>
                      </a:lnTo>
                      <a:lnTo>
                        <a:pt x="16" y="381"/>
                      </a:lnTo>
                      <a:lnTo>
                        <a:pt x="16" y="342"/>
                      </a:lnTo>
                      <a:lnTo>
                        <a:pt x="16" y="304"/>
                      </a:lnTo>
                      <a:lnTo>
                        <a:pt x="16" y="268"/>
                      </a:lnTo>
                      <a:lnTo>
                        <a:pt x="16" y="233"/>
                      </a:lnTo>
                      <a:lnTo>
                        <a:pt x="16" y="201"/>
                      </a:lnTo>
                      <a:lnTo>
                        <a:pt x="16" y="172"/>
                      </a:lnTo>
                      <a:lnTo>
                        <a:pt x="16" y="159"/>
                      </a:lnTo>
                      <a:lnTo>
                        <a:pt x="16" y="147"/>
                      </a:lnTo>
                      <a:lnTo>
                        <a:pt x="16" y="136"/>
                      </a:lnTo>
                      <a:lnTo>
                        <a:pt x="16" y="126"/>
                      </a:lnTo>
                      <a:lnTo>
                        <a:pt x="16" y="109"/>
                      </a:lnTo>
                      <a:lnTo>
                        <a:pt x="17" y="95"/>
                      </a:lnTo>
                      <a:lnTo>
                        <a:pt x="17" y="83"/>
                      </a:lnTo>
                      <a:lnTo>
                        <a:pt x="17" y="74"/>
                      </a:lnTo>
                      <a:lnTo>
                        <a:pt x="17" y="65"/>
                      </a:lnTo>
                      <a:lnTo>
                        <a:pt x="17" y="57"/>
                      </a:lnTo>
                      <a:lnTo>
                        <a:pt x="17" y="48"/>
                      </a:lnTo>
                      <a:lnTo>
                        <a:pt x="17" y="40"/>
                      </a:lnTo>
                      <a:lnTo>
                        <a:pt x="16" y="32"/>
                      </a:lnTo>
                      <a:lnTo>
                        <a:pt x="14" y="20"/>
                      </a:lnTo>
                      <a:lnTo>
                        <a:pt x="12" y="10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20"/>
                      </a:lnTo>
                      <a:lnTo>
                        <a:pt x="6" y="32"/>
                      </a:lnTo>
                      <a:lnTo>
                        <a:pt x="7" y="40"/>
                      </a:lnTo>
                      <a:lnTo>
                        <a:pt x="7" y="48"/>
                      </a:lnTo>
                      <a:lnTo>
                        <a:pt x="7" y="57"/>
                      </a:lnTo>
                      <a:lnTo>
                        <a:pt x="7" y="65"/>
                      </a:lnTo>
                      <a:lnTo>
                        <a:pt x="7" y="74"/>
                      </a:lnTo>
                      <a:lnTo>
                        <a:pt x="7" y="83"/>
                      </a:lnTo>
                      <a:lnTo>
                        <a:pt x="7" y="95"/>
                      </a:lnTo>
                      <a:lnTo>
                        <a:pt x="6" y="109"/>
                      </a:lnTo>
                      <a:lnTo>
                        <a:pt x="6" y="126"/>
                      </a:lnTo>
                      <a:lnTo>
                        <a:pt x="6" y="136"/>
                      </a:lnTo>
                      <a:lnTo>
                        <a:pt x="6" y="147"/>
                      </a:lnTo>
                      <a:lnTo>
                        <a:pt x="6" y="159"/>
                      </a:lnTo>
                      <a:lnTo>
                        <a:pt x="6" y="172"/>
                      </a:lnTo>
                      <a:lnTo>
                        <a:pt x="6" y="201"/>
                      </a:lnTo>
                      <a:lnTo>
                        <a:pt x="6" y="233"/>
                      </a:lnTo>
                      <a:lnTo>
                        <a:pt x="6" y="268"/>
                      </a:lnTo>
                      <a:lnTo>
                        <a:pt x="6" y="304"/>
                      </a:lnTo>
                      <a:lnTo>
                        <a:pt x="6" y="342"/>
                      </a:lnTo>
                      <a:lnTo>
                        <a:pt x="6" y="381"/>
                      </a:lnTo>
                      <a:lnTo>
                        <a:pt x="6" y="4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35" name=""/>
                <p:cNvGrpSpPr/>
                <p:nvPr/>
              </p:nvGrpSpPr>
              <p:grpSpPr>
                <a:xfrm>
                  <a:off x="1157400" y="2696760"/>
                  <a:ext cx="67320" cy="240480"/>
                  <a:chOff x="1157400" y="2696760"/>
                  <a:chExt cx="67320" cy="240480"/>
                </a:xfrm>
              </p:grpSpPr>
              <p:sp>
                <p:nvSpPr>
                  <p:cNvPr id="6236" name=""/>
                  <p:cNvSpPr/>
                  <p:nvPr/>
                </p:nvSpPr>
                <p:spPr>
                  <a:xfrm>
                    <a:off x="1189800" y="2896920"/>
                    <a:ext cx="349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5" y="15"/>
                        </a:moveTo>
                        <a:lnTo>
                          <a:pt x="13" y="9"/>
                        </a:lnTo>
                        <a:lnTo>
                          <a:pt x="8" y="0"/>
                        </a:lnTo>
                        <a:lnTo>
                          <a:pt x="0" y="6"/>
                        </a:lnTo>
                        <a:lnTo>
                          <a:pt x="5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7" name=""/>
                  <p:cNvSpPr/>
                  <p:nvPr/>
                </p:nvSpPr>
                <p:spPr>
                  <a:xfrm>
                    <a:off x="1165320" y="2856240"/>
                    <a:ext cx="3240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3" y="11"/>
                        </a:moveTo>
                        <a:lnTo>
                          <a:pt x="12" y="8"/>
                        </a:lnTo>
                        <a:lnTo>
                          <a:pt x="10" y="3"/>
                        </a:lnTo>
                        <a:lnTo>
                          <a:pt x="9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8" name=""/>
                  <p:cNvSpPr/>
                  <p:nvPr/>
                </p:nvSpPr>
                <p:spPr>
                  <a:xfrm>
                    <a:off x="1157400" y="2804760"/>
                    <a:ext cx="266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1" y="11"/>
                        </a:move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9" name=""/>
                  <p:cNvSpPr/>
                  <p:nvPr/>
                </p:nvSpPr>
                <p:spPr>
                  <a:xfrm>
                    <a:off x="1157400" y="2748240"/>
                    <a:ext cx="2664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1"/>
                        </a:moveTo>
                        <a:lnTo>
                          <a:pt x="10" y="11"/>
                        </a:ln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0" name=""/>
                  <p:cNvSpPr/>
                  <p:nvPr/>
                </p:nvSpPr>
                <p:spPr>
                  <a:xfrm>
                    <a:off x="1159560" y="2696760"/>
                    <a:ext cx="29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0" y="9"/>
                        </a:moveTo>
                        <a:lnTo>
                          <a:pt x="10" y="10"/>
                        </a:lnTo>
                        <a:lnTo>
                          <a:pt x="11" y="1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1" name=""/>
                <p:cNvGrpSpPr/>
                <p:nvPr/>
              </p:nvGrpSpPr>
              <p:grpSpPr>
                <a:xfrm>
                  <a:off x="1445760" y="3185280"/>
                  <a:ext cx="128880" cy="50400"/>
                  <a:chOff x="1445760" y="3185280"/>
                  <a:chExt cx="128880" cy="50400"/>
                </a:xfrm>
              </p:grpSpPr>
              <p:sp>
                <p:nvSpPr>
                  <p:cNvPr id="6242" name=""/>
                  <p:cNvSpPr/>
                  <p:nvPr/>
                </p:nvSpPr>
                <p:spPr>
                  <a:xfrm>
                    <a:off x="1445760" y="3206520"/>
                    <a:ext cx="2664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3" name=""/>
                  <p:cNvSpPr/>
                  <p:nvPr/>
                </p:nvSpPr>
                <p:spPr>
                  <a:xfrm>
                    <a:off x="1499400" y="3203280"/>
                    <a:ext cx="291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0" y="10"/>
                        </a:lnTo>
                        <a:lnTo>
                          <a:pt x="11" y="10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4" name=""/>
                  <p:cNvSpPr/>
                  <p:nvPr/>
                </p:nvSpPr>
                <p:spPr>
                  <a:xfrm>
                    <a:off x="1545480" y="3185280"/>
                    <a:ext cx="291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3">
                        <a:moveTo>
                          <a:pt x="0" y="4"/>
                        </a:moveTo>
                        <a:lnTo>
                          <a:pt x="4" y="13"/>
                        </a:lnTo>
                        <a:lnTo>
                          <a:pt x="7" y="12"/>
                        </a:lnTo>
                        <a:lnTo>
                          <a:pt x="9" y="8"/>
                        </a:lnTo>
                        <a:lnTo>
                          <a:pt x="10" y="5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5"/>
                        </a:lnTo>
                        <a:lnTo>
                          <a:pt x="5" y="5"/>
                        </a:ln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5" name=""/>
                <p:cNvGrpSpPr/>
                <p:nvPr/>
              </p:nvGrpSpPr>
              <p:grpSpPr>
                <a:xfrm>
                  <a:off x="1301760" y="2748240"/>
                  <a:ext cx="28800" cy="189000"/>
                  <a:chOff x="1301760" y="2748240"/>
                  <a:chExt cx="28800" cy="189000"/>
                </a:xfrm>
              </p:grpSpPr>
              <p:sp>
                <p:nvSpPr>
                  <p:cNvPr id="6246" name=""/>
                  <p:cNvSpPr/>
                  <p:nvPr/>
                </p:nvSpPr>
                <p:spPr>
                  <a:xfrm>
                    <a:off x="1301760" y="2910240"/>
                    <a:ext cx="2664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7" name=""/>
                  <p:cNvSpPr/>
                  <p:nvPr/>
                </p:nvSpPr>
                <p:spPr>
                  <a:xfrm>
                    <a:off x="1303920" y="2856240"/>
                    <a:ext cx="2664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8" name=""/>
                  <p:cNvSpPr/>
                  <p:nvPr/>
                </p:nvSpPr>
                <p:spPr>
                  <a:xfrm>
                    <a:off x="1303920" y="2802240"/>
                    <a:ext cx="2664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9" name=""/>
                  <p:cNvSpPr/>
                  <p:nvPr/>
                </p:nvSpPr>
                <p:spPr>
                  <a:xfrm>
                    <a:off x="1303920" y="2748240"/>
                    <a:ext cx="2664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50" name=""/>
              <p:cNvSpPr/>
              <p:nvPr/>
            </p:nvSpPr>
            <p:spPr>
              <a:xfrm>
                <a:off x="1527120" y="3891240"/>
                <a:ext cx="53748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1684800" y="39816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1225080" y="2939040"/>
                <a:ext cx="100440" cy="986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997560" y="2873160"/>
                <a:ext cx="250200" cy="2563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1233360" y="3109320"/>
                <a:ext cx="272520" cy="26460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1019880" y="3156840"/>
                <a:ext cx="217800" cy="2930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6" name=""/>
              <p:cNvGrpSpPr/>
              <p:nvPr/>
            </p:nvGrpSpPr>
            <p:grpSpPr>
              <a:xfrm>
                <a:off x="1249560" y="3665520"/>
                <a:ext cx="116280" cy="155520"/>
                <a:chOff x="1249560" y="3665520"/>
                <a:chExt cx="116280" cy="155520"/>
              </a:xfrm>
            </p:grpSpPr>
            <p:sp>
              <p:nvSpPr>
                <p:cNvPr id="6257" name=""/>
                <p:cNvSpPr/>
                <p:nvPr/>
              </p:nvSpPr>
              <p:spPr>
                <a:xfrm>
                  <a:off x="1249560" y="3687120"/>
                  <a:ext cx="94320" cy="13392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6" y="49"/>
                      </a:lnTo>
                      <a:lnTo>
                        <a:pt x="12" y="49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6" y="35"/>
                      </a:lnTo>
                      <a:lnTo>
                        <a:pt x="29" y="25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8" name=""/>
                <p:cNvSpPr/>
                <p:nvPr/>
              </p:nvSpPr>
              <p:spPr>
                <a:xfrm>
                  <a:off x="1314360" y="3665520"/>
                  <a:ext cx="51480" cy="601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9" name=""/>
              <p:cNvGrpSpPr/>
              <p:nvPr/>
            </p:nvGrpSpPr>
            <p:grpSpPr>
              <a:xfrm>
                <a:off x="1114200" y="3595680"/>
                <a:ext cx="114120" cy="151200"/>
                <a:chOff x="1114200" y="3595680"/>
                <a:chExt cx="114120" cy="151200"/>
              </a:xfrm>
            </p:grpSpPr>
            <p:sp>
              <p:nvSpPr>
                <p:cNvPr id="6260" name=""/>
                <p:cNvSpPr/>
                <p:nvPr/>
              </p:nvSpPr>
              <p:spPr>
                <a:xfrm>
                  <a:off x="1132560" y="3617640"/>
                  <a:ext cx="95760" cy="12924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1" name=""/>
                <p:cNvSpPr/>
                <p:nvPr/>
              </p:nvSpPr>
              <p:spPr>
                <a:xfrm>
                  <a:off x="1114200" y="3595680"/>
                  <a:ext cx="51120" cy="5940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2" name=""/>
              <p:cNvGrpSpPr/>
              <p:nvPr/>
            </p:nvGrpSpPr>
            <p:grpSpPr>
              <a:xfrm>
                <a:off x="1247760" y="3433680"/>
                <a:ext cx="115920" cy="188280"/>
                <a:chOff x="1247760" y="3433680"/>
                <a:chExt cx="115920" cy="188280"/>
              </a:xfrm>
            </p:grpSpPr>
            <p:sp>
              <p:nvSpPr>
                <p:cNvPr id="6263" name=""/>
                <p:cNvSpPr/>
                <p:nvPr/>
              </p:nvSpPr>
              <p:spPr>
                <a:xfrm>
                  <a:off x="1247760" y="3460320"/>
                  <a:ext cx="94680" cy="16164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4" name=""/>
                <p:cNvSpPr/>
                <p:nvPr/>
              </p:nvSpPr>
              <p:spPr>
                <a:xfrm>
                  <a:off x="1309680" y="3433680"/>
                  <a:ext cx="54000" cy="6948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5" name=""/>
              <p:cNvGrpSpPr/>
              <p:nvPr/>
            </p:nvGrpSpPr>
            <p:grpSpPr>
              <a:xfrm>
                <a:off x="1346040" y="3139920"/>
                <a:ext cx="52920" cy="144720"/>
                <a:chOff x="1346040" y="3139920"/>
                <a:chExt cx="52920" cy="144720"/>
              </a:xfrm>
            </p:grpSpPr>
            <p:sp>
              <p:nvSpPr>
                <p:cNvPr id="6266" name=""/>
                <p:cNvSpPr/>
                <p:nvPr/>
              </p:nvSpPr>
              <p:spPr>
                <a:xfrm>
                  <a:off x="1356480" y="3166560"/>
                  <a:ext cx="15480" cy="11808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>
                  <a:off x="1346040" y="3139920"/>
                  <a:ext cx="52920" cy="637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8" name=""/>
              <p:cNvGrpSpPr/>
              <p:nvPr/>
            </p:nvGrpSpPr>
            <p:grpSpPr>
              <a:xfrm>
                <a:off x="1137240" y="3257280"/>
                <a:ext cx="52560" cy="126360"/>
                <a:chOff x="1137240" y="3257280"/>
                <a:chExt cx="52560" cy="126360"/>
              </a:xfrm>
            </p:grpSpPr>
            <p:sp>
              <p:nvSpPr>
                <p:cNvPr id="6269" name=""/>
                <p:cNvSpPr/>
                <p:nvPr/>
              </p:nvSpPr>
              <p:spPr>
                <a:xfrm>
                  <a:off x="1163520" y="3283920"/>
                  <a:ext cx="2160" cy="99720"/>
                </a:xfrm>
                <a:custGeom>
                  <a:avLst/>
                  <a:gdLst/>
                  <a:ahLst/>
                  <a:rect l="l" t="t" r="r" b="b"/>
                  <a:pathLst>
                    <a:path w="1" h="37">
                      <a:moveTo>
                        <a:pt x="0" y="37"/>
                      </a:moveTo>
                      <a:lnTo>
                        <a:pt x="0" y="2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>
                  <a:off x="1137240" y="3257280"/>
                  <a:ext cx="52560" cy="648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1" name=""/>
              <p:cNvGrpSpPr/>
              <p:nvPr/>
            </p:nvGrpSpPr>
            <p:grpSpPr>
              <a:xfrm>
                <a:off x="1053000" y="2840400"/>
                <a:ext cx="52920" cy="141120"/>
                <a:chOff x="1053000" y="2840400"/>
                <a:chExt cx="52920" cy="141120"/>
              </a:xfrm>
            </p:grpSpPr>
            <p:sp>
              <p:nvSpPr>
                <p:cNvPr id="6272" name=""/>
                <p:cNvSpPr/>
                <p:nvPr/>
              </p:nvSpPr>
              <p:spPr>
                <a:xfrm>
                  <a:off x="1076760" y="2872440"/>
                  <a:ext cx="5400" cy="10908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3" name=""/>
                <p:cNvSpPr/>
                <p:nvPr/>
              </p:nvSpPr>
              <p:spPr>
                <a:xfrm>
                  <a:off x="1053000" y="2840400"/>
                  <a:ext cx="52920" cy="648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4" name=""/>
              <p:cNvSpPr/>
              <p:nvPr/>
            </p:nvSpPr>
            <p:spPr>
              <a:xfrm>
                <a:off x="1206720" y="2928600"/>
                <a:ext cx="46800" cy="114120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5" name=""/>
              <p:cNvGrpSpPr/>
              <p:nvPr/>
            </p:nvGrpSpPr>
            <p:grpSpPr>
              <a:xfrm>
                <a:off x="1157400" y="2696760"/>
                <a:ext cx="66600" cy="241560"/>
                <a:chOff x="1157400" y="2696760"/>
                <a:chExt cx="66600" cy="241560"/>
              </a:xfrm>
            </p:grpSpPr>
            <p:sp>
              <p:nvSpPr>
                <p:cNvPr id="6276" name=""/>
                <p:cNvSpPr/>
                <p:nvPr/>
              </p:nvSpPr>
              <p:spPr>
                <a:xfrm>
                  <a:off x="1189440" y="2897640"/>
                  <a:ext cx="34560" cy="40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"/>
                <p:cNvSpPr/>
                <p:nvPr/>
              </p:nvSpPr>
              <p:spPr>
                <a:xfrm>
                  <a:off x="1165320" y="2856960"/>
                  <a:ext cx="32040" cy="2952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8" name=""/>
                <p:cNvSpPr/>
                <p:nvPr/>
              </p:nvSpPr>
              <p:spPr>
                <a:xfrm>
                  <a:off x="1157400" y="2805120"/>
                  <a:ext cx="26640" cy="298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9" name=""/>
                <p:cNvSpPr/>
                <p:nvPr/>
              </p:nvSpPr>
              <p:spPr>
                <a:xfrm>
                  <a:off x="1157400" y="2748240"/>
                  <a:ext cx="26640" cy="295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>
                  <a:off x="1159560" y="2696760"/>
                  <a:ext cx="29520" cy="27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1" name=""/>
              <p:cNvGrpSpPr/>
              <p:nvPr/>
            </p:nvGrpSpPr>
            <p:grpSpPr>
              <a:xfrm>
                <a:off x="1447200" y="3185280"/>
                <a:ext cx="128520" cy="50400"/>
                <a:chOff x="1447200" y="3185280"/>
                <a:chExt cx="128520" cy="50400"/>
              </a:xfrm>
            </p:grpSpPr>
            <p:sp>
              <p:nvSpPr>
                <p:cNvPr id="6282" name=""/>
                <p:cNvSpPr/>
                <p:nvPr/>
              </p:nvSpPr>
              <p:spPr>
                <a:xfrm>
                  <a:off x="1447200" y="320652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>
                  <a:off x="1500840" y="3203640"/>
                  <a:ext cx="29160" cy="298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>
                  <a:off x="1546560" y="3185280"/>
                  <a:ext cx="29160" cy="349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5" name=""/>
              <p:cNvGrpSpPr/>
              <p:nvPr/>
            </p:nvGrpSpPr>
            <p:grpSpPr>
              <a:xfrm>
                <a:off x="1301040" y="2748240"/>
                <a:ext cx="30600" cy="190080"/>
                <a:chOff x="1301040" y="2748240"/>
                <a:chExt cx="30600" cy="190080"/>
              </a:xfrm>
            </p:grpSpPr>
            <p:sp>
              <p:nvSpPr>
                <p:cNvPr id="6286" name=""/>
                <p:cNvSpPr/>
                <p:nvPr/>
              </p:nvSpPr>
              <p:spPr>
                <a:xfrm>
                  <a:off x="1301040" y="291132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7" name=""/>
                <p:cNvSpPr/>
                <p:nvPr/>
              </p:nvSpPr>
              <p:spPr>
                <a:xfrm>
                  <a:off x="1303560" y="285696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>
                  <a:off x="1303560" y="280260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9" name=""/>
                <p:cNvSpPr/>
                <p:nvPr/>
              </p:nvSpPr>
              <p:spPr>
                <a:xfrm>
                  <a:off x="1303560" y="274824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0" name=""/>
              <p:cNvSpPr/>
              <p:nvPr/>
            </p:nvSpPr>
            <p:spPr>
              <a:xfrm>
                <a:off x="1225080" y="2939040"/>
                <a:ext cx="100440" cy="986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997560" y="2873160"/>
                <a:ext cx="250200" cy="2563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1233360" y="3109320"/>
                <a:ext cx="272520" cy="26460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1019880" y="3156840"/>
                <a:ext cx="217800" cy="2930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1249560" y="3688560"/>
                <a:ext cx="96120" cy="13284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1315440" y="3665520"/>
                <a:ext cx="51480" cy="612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1249560" y="3688560"/>
                <a:ext cx="96120" cy="13284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1315440" y="3665520"/>
                <a:ext cx="51480" cy="612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1132920" y="3618720"/>
                <a:ext cx="96120" cy="12924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1114200" y="3595680"/>
                <a:ext cx="51120" cy="594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1132920" y="3618720"/>
                <a:ext cx="96120" cy="12924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1114200" y="3595680"/>
                <a:ext cx="51120" cy="594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1247760" y="3460320"/>
                <a:ext cx="94320" cy="16236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1309320" y="3433680"/>
                <a:ext cx="55080" cy="694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1247760" y="3460320"/>
                <a:ext cx="94320" cy="16236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1309320" y="3433680"/>
                <a:ext cx="55080" cy="694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1356120" y="3166920"/>
                <a:ext cx="16560" cy="1184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1346040" y="3139920"/>
                <a:ext cx="53280" cy="655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1356120" y="3166920"/>
                <a:ext cx="16560" cy="1184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1346040" y="3139920"/>
                <a:ext cx="53280" cy="655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1163520" y="3283920"/>
                <a:ext cx="1800" cy="1004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1137240" y="3257280"/>
                <a:ext cx="52920" cy="630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1163520" y="3283920"/>
                <a:ext cx="1800" cy="1004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1137240" y="3257280"/>
                <a:ext cx="52920" cy="630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1077480" y="2873160"/>
                <a:ext cx="3960" cy="108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1053000" y="2840400"/>
                <a:ext cx="53280" cy="658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1077480" y="2873160"/>
                <a:ext cx="3960" cy="108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1053000" y="2840400"/>
                <a:ext cx="53280" cy="658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1206720" y="2928600"/>
                <a:ext cx="46800" cy="114120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9" name=""/>
              <p:cNvGrpSpPr/>
              <p:nvPr/>
            </p:nvGrpSpPr>
            <p:grpSpPr>
              <a:xfrm>
                <a:off x="1157400" y="2696760"/>
                <a:ext cx="66600" cy="241560"/>
                <a:chOff x="1157400" y="2696760"/>
                <a:chExt cx="66600" cy="241560"/>
              </a:xfrm>
            </p:grpSpPr>
            <p:sp>
              <p:nvSpPr>
                <p:cNvPr id="6320" name=""/>
                <p:cNvSpPr/>
                <p:nvPr/>
              </p:nvSpPr>
              <p:spPr>
                <a:xfrm>
                  <a:off x="1189440" y="2897640"/>
                  <a:ext cx="34560" cy="40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1" name=""/>
                <p:cNvSpPr/>
                <p:nvPr/>
              </p:nvSpPr>
              <p:spPr>
                <a:xfrm>
                  <a:off x="1165320" y="2856960"/>
                  <a:ext cx="32040" cy="2952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2" name=""/>
                <p:cNvSpPr/>
                <p:nvPr/>
              </p:nvSpPr>
              <p:spPr>
                <a:xfrm>
                  <a:off x="1157400" y="2805120"/>
                  <a:ext cx="26640" cy="298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3" name=""/>
                <p:cNvSpPr/>
                <p:nvPr/>
              </p:nvSpPr>
              <p:spPr>
                <a:xfrm>
                  <a:off x="1157400" y="2748240"/>
                  <a:ext cx="26640" cy="295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4" name=""/>
                <p:cNvSpPr/>
                <p:nvPr/>
              </p:nvSpPr>
              <p:spPr>
                <a:xfrm>
                  <a:off x="1159560" y="2696760"/>
                  <a:ext cx="29520" cy="27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5" name=""/>
              <p:cNvGrpSpPr/>
              <p:nvPr/>
            </p:nvGrpSpPr>
            <p:grpSpPr>
              <a:xfrm>
                <a:off x="1447200" y="3185280"/>
                <a:ext cx="128520" cy="50400"/>
                <a:chOff x="1447200" y="3185280"/>
                <a:chExt cx="128520" cy="50400"/>
              </a:xfrm>
            </p:grpSpPr>
            <p:sp>
              <p:nvSpPr>
                <p:cNvPr id="6326" name=""/>
                <p:cNvSpPr/>
                <p:nvPr/>
              </p:nvSpPr>
              <p:spPr>
                <a:xfrm>
                  <a:off x="1447200" y="320652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7" name=""/>
                <p:cNvSpPr/>
                <p:nvPr/>
              </p:nvSpPr>
              <p:spPr>
                <a:xfrm>
                  <a:off x="1500840" y="3203640"/>
                  <a:ext cx="29160" cy="298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8" name=""/>
                <p:cNvSpPr/>
                <p:nvPr/>
              </p:nvSpPr>
              <p:spPr>
                <a:xfrm>
                  <a:off x="1546560" y="3185280"/>
                  <a:ext cx="29160" cy="349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9" name=""/>
              <p:cNvGrpSpPr/>
              <p:nvPr/>
            </p:nvGrpSpPr>
            <p:grpSpPr>
              <a:xfrm>
                <a:off x="1301040" y="2748240"/>
                <a:ext cx="30600" cy="190080"/>
                <a:chOff x="1301040" y="2748240"/>
                <a:chExt cx="30600" cy="190080"/>
              </a:xfrm>
            </p:grpSpPr>
            <p:sp>
              <p:nvSpPr>
                <p:cNvPr id="6330" name=""/>
                <p:cNvSpPr/>
                <p:nvPr/>
              </p:nvSpPr>
              <p:spPr>
                <a:xfrm>
                  <a:off x="1301040" y="291132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1" name=""/>
                <p:cNvSpPr/>
                <p:nvPr/>
              </p:nvSpPr>
              <p:spPr>
                <a:xfrm>
                  <a:off x="1303560" y="285696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2" name=""/>
                <p:cNvSpPr/>
                <p:nvPr/>
              </p:nvSpPr>
              <p:spPr>
                <a:xfrm>
                  <a:off x="1303560" y="280260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3" name=""/>
                <p:cNvSpPr/>
                <p:nvPr/>
              </p:nvSpPr>
              <p:spPr>
                <a:xfrm>
                  <a:off x="1303560" y="274824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34" name=""/>
          <p:cNvSpPr/>
          <p:nvPr/>
        </p:nvSpPr>
        <p:spPr>
          <a:xfrm>
            <a:off x="5478480" y="2043000"/>
            <a:ext cx="887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5" name=""/>
          <p:cNvGrpSpPr/>
          <p:nvPr/>
        </p:nvGrpSpPr>
        <p:grpSpPr>
          <a:xfrm>
            <a:off x="5587920" y="641520"/>
            <a:ext cx="954360" cy="2264760"/>
            <a:chOff x="5587920" y="641520"/>
            <a:chExt cx="954360" cy="2264760"/>
          </a:xfrm>
        </p:grpSpPr>
        <p:grpSp>
          <p:nvGrpSpPr>
            <p:cNvPr id="6336" name=""/>
            <p:cNvGrpSpPr/>
            <p:nvPr/>
          </p:nvGrpSpPr>
          <p:grpSpPr>
            <a:xfrm>
              <a:off x="5587920" y="641520"/>
              <a:ext cx="953280" cy="2264040"/>
              <a:chOff x="5587920" y="641520"/>
              <a:chExt cx="953280" cy="2264040"/>
            </a:xfrm>
          </p:grpSpPr>
          <p:sp>
            <p:nvSpPr>
              <p:cNvPr id="6337" name=""/>
              <p:cNvSpPr/>
              <p:nvPr/>
            </p:nvSpPr>
            <p:spPr>
              <a:xfrm>
                <a:off x="5964120" y="1039320"/>
                <a:ext cx="165600" cy="1612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587920" y="931680"/>
                <a:ext cx="412560" cy="4212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978160" y="1321560"/>
                <a:ext cx="448200" cy="43416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623200" y="1397520"/>
                <a:ext cx="358920" cy="48312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1" name=""/>
              <p:cNvGrpSpPr/>
              <p:nvPr/>
            </p:nvGrpSpPr>
            <p:grpSpPr>
              <a:xfrm>
                <a:off x="6004800" y="2238840"/>
                <a:ext cx="192240" cy="253440"/>
                <a:chOff x="6004800" y="2238840"/>
                <a:chExt cx="192240" cy="253440"/>
              </a:xfrm>
            </p:grpSpPr>
            <p:sp>
              <p:nvSpPr>
                <p:cNvPr id="6342" name=""/>
                <p:cNvSpPr/>
                <p:nvPr/>
              </p:nvSpPr>
              <p:spPr>
                <a:xfrm>
                  <a:off x="6004800" y="2274120"/>
                  <a:ext cx="155520" cy="21816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6" y="49"/>
                      </a:lnTo>
                      <a:lnTo>
                        <a:pt x="12" y="49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6" y="35"/>
                      </a:lnTo>
                      <a:lnTo>
                        <a:pt x="29" y="25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3" name=""/>
                <p:cNvSpPr/>
                <p:nvPr/>
              </p:nvSpPr>
              <p:spPr>
                <a:xfrm>
                  <a:off x="6112080" y="2238840"/>
                  <a:ext cx="84960" cy="97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4" name=""/>
              <p:cNvGrpSpPr/>
              <p:nvPr/>
            </p:nvGrpSpPr>
            <p:grpSpPr>
              <a:xfrm>
                <a:off x="5780880" y="2122200"/>
                <a:ext cx="186840" cy="249840"/>
                <a:chOff x="5780880" y="2122200"/>
                <a:chExt cx="186840" cy="249840"/>
              </a:xfrm>
            </p:grpSpPr>
            <p:sp>
              <p:nvSpPr>
                <p:cNvPr id="6345" name=""/>
                <p:cNvSpPr/>
                <p:nvPr/>
              </p:nvSpPr>
              <p:spPr>
                <a:xfrm>
                  <a:off x="5811120" y="2158560"/>
                  <a:ext cx="156600" cy="21348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6" name=""/>
                <p:cNvSpPr/>
                <p:nvPr/>
              </p:nvSpPr>
              <p:spPr>
                <a:xfrm>
                  <a:off x="5780880" y="2122200"/>
                  <a:ext cx="83880" cy="97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7" name=""/>
              <p:cNvGrpSpPr/>
              <p:nvPr/>
            </p:nvGrpSpPr>
            <p:grpSpPr>
              <a:xfrm>
                <a:off x="6000480" y="1854360"/>
                <a:ext cx="190800" cy="312480"/>
                <a:chOff x="6000480" y="1854360"/>
                <a:chExt cx="190800" cy="312480"/>
              </a:xfrm>
            </p:grpSpPr>
            <p:sp>
              <p:nvSpPr>
                <p:cNvPr id="6348" name=""/>
                <p:cNvSpPr/>
                <p:nvPr/>
              </p:nvSpPr>
              <p:spPr>
                <a:xfrm>
                  <a:off x="6000480" y="1898640"/>
                  <a:ext cx="155520" cy="26820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"/>
                <p:cNvSpPr/>
                <p:nvPr/>
              </p:nvSpPr>
              <p:spPr>
                <a:xfrm>
                  <a:off x="6102360" y="1854360"/>
                  <a:ext cx="88920" cy="11520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50" name=""/>
              <p:cNvGrpSpPr/>
              <p:nvPr/>
            </p:nvGrpSpPr>
            <p:grpSpPr>
              <a:xfrm>
                <a:off x="6161400" y="1371240"/>
                <a:ext cx="89640" cy="240480"/>
                <a:chOff x="6161400" y="1371240"/>
                <a:chExt cx="89640" cy="240480"/>
              </a:xfrm>
            </p:grpSpPr>
            <p:sp>
              <p:nvSpPr>
                <p:cNvPr id="6351" name=""/>
                <p:cNvSpPr/>
                <p:nvPr/>
              </p:nvSpPr>
              <p:spPr>
                <a:xfrm>
                  <a:off x="6179400" y="1415520"/>
                  <a:ext cx="25920" cy="19620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2" name=""/>
                <p:cNvSpPr/>
                <p:nvPr/>
              </p:nvSpPr>
              <p:spPr>
                <a:xfrm>
                  <a:off x="6161400" y="1371240"/>
                  <a:ext cx="89640" cy="1062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53" name=""/>
              <p:cNvGrpSpPr/>
              <p:nvPr/>
            </p:nvGrpSpPr>
            <p:grpSpPr>
              <a:xfrm>
                <a:off x="5816520" y="1563120"/>
                <a:ext cx="88560" cy="208800"/>
                <a:chOff x="5816520" y="1563120"/>
                <a:chExt cx="88560" cy="208800"/>
              </a:xfrm>
            </p:grpSpPr>
            <p:sp>
              <p:nvSpPr>
                <p:cNvPr id="6354" name=""/>
                <p:cNvSpPr/>
                <p:nvPr/>
              </p:nvSpPr>
              <p:spPr>
                <a:xfrm>
                  <a:off x="5860800" y="1607400"/>
                  <a:ext cx="3960" cy="164520"/>
                </a:xfrm>
                <a:custGeom>
                  <a:avLst/>
                  <a:gdLst/>
                  <a:ahLst/>
                  <a:rect l="l" t="t" r="r" b="b"/>
                  <a:pathLst>
                    <a:path w="1" h="37">
                      <a:moveTo>
                        <a:pt x="0" y="37"/>
                      </a:moveTo>
                      <a:lnTo>
                        <a:pt x="0" y="2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5" name=""/>
                <p:cNvSpPr/>
                <p:nvPr/>
              </p:nvSpPr>
              <p:spPr>
                <a:xfrm>
                  <a:off x="5816520" y="1563120"/>
                  <a:ext cx="88560" cy="1069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56" name=""/>
              <p:cNvGrpSpPr/>
              <p:nvPr/>
            </p:nvGrpSpPr>
            <p:grpSpPr>
              <a:xfrm>
                <a:off x="5677200" y="878760"/>
                <a:ext cx="88560" cy="231480"/>
                <a:chOff x="5677200" y="878760"/>
                <a:chExt cx="88560" cy="231480"/>
              </a:xfrm>
            </p:grpSpPr>
            <p:sp>
              <p:nvSpPr>
                <p:cNvPr id="6357" name=""/>
                <p:cNvSpPr/>
                <p:nvPr/>
              </p:nvSpPr>
              <p:spPr>
                <a:xfrm>
                  <a:off x="5717160" y="931320"/>
                  <a:ext cx="9000" cy="17892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8" name=""/>
                <p:cNvSpPr/>
                <p:nvPr/>
              </p:nvSpPr>
              <p:spPr>
                <a:xfrm>
                  <a:off x="5677200" y="878760"/>
                  <a:ext cx="88560" cy="1058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9" name=""/>
              <p:cNvSpPr/>
              <p:nvPr/>
            </p:nvSpPr>
            <p:spPr>
              <a:xfrm>
                <a:off x="5932440" y="1022040"/>
                <a:ext cx="75960" cy="188352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60" name=""/>
              <p:cNvGrpSpPr/>
              <p:nvPr/>
            </p:nvGrpSpPr>
            <p:grpSpPr>
              <a:xfrm>
                <a:off x="5852160" y="641520"/>
                <a:ext cx="110520" cy="396720"/>
                <a:chOff x="5852160" y="641520"/>
                <a:chExt cx="110520" cy="396720"/>
              </a:xfrm>
            </p:grpSpPr>
            <p:sp>
              <p:nvSpPr>
                <p:cNvPr id="6361" name=""/>
                <p:cNvSpPr/>
                <p:nvPr/>
              </p:nvSpPr>
              <p:spPr>
                <a:xfrm>
                  <a:off x="5905440" y="971640"/>
                  <a:ext cx="57240" cy="6660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2" name=""/>
                <p:cNvSpPr/>
                <p:nvPr/>
              </p:nvSpPr>
              <p:spPr>
                <a:xfrm>
                  <a:off x="5865120" y="904680"/>
                  <a:ext cx="5328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5852160" y="819720"/>
                  <a:ext cx="44280" cy="49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5852160" y="726480"/>
                  <a:ext cx="4428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5" name=""/>
                <p:cNvSpPr/>
                <p:nvPr/>
              </p:nvSpPr>
              <p:spPr>
                <a:xfrm>
                  <a:off x="5856120" y="64152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6" name=""/>
              <p:cNvGrpSpPr/>
              <p:nvPr/>
            </p:nvGrpSpPr>
            <p:grpSpPr>
              <a:xfrm>
                <a:off x="6328080" y="1447200"/>
                <a:ext cx="213120" cy="83160"/>
                <a:chOff x="6328080" y="1447200"/>
                <a:chExt cx="213120" cy="83160"/>
              </a:xfrm>
            </p:grpSpPr>
            <p:sp>
              <p:nvSpPr>
                <p:cNvPr id="6367" name=""/>
                <p:cNvSpPr/>
                <p:nvPr/>
              </p:nvSpPr>
              <p:spPr>
                <a:xfrm>
                  <a:off x="6328080" y="1482120"/>
                  <a:ext cx="44280" cy="482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6417000" y="1477080"/>
                  <a:ext cx="48240" cy="493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>
                  <a:off x="6492960" y="1447200"/>
                  <a:ext cx="48240" cy="5724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0" name=""/>
              <p:cNvGrpSpPr/>
              <p:nvPr/>
            </p:nvGrpSpPr>
            <p:grpSpPr>
              <a:xfrm>
                <a:off x="6090120" y="726480"/>
                <a:ext cx="47880" cy="311400"/>
                <a:chOff x="6090120" y="726480"/>
                <a:chExt cx="47880" cy="311400"/>
              </a:xfrm>
            </p:grpSpPr>
            <p:sp>
              <p:nvSpPr>
                <p:cNvPr id="6371" name=""/>
                <p:cNvSpPr/>
                <p:nvPr/>
              </p:nvSpPr>
              <p:spPr>
                <a:xfrm>
                  <a:off x="6090120" y="993600"/>
                  <a:ext cx="43920" cy="44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6094080" y="904320"/>
                  <a:ext cx="43920" cy="44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>
                  <a:off x="6094080" y="815400"/>
                  <a:ext cx="43920" cy="44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>
                  <a:off x="6094080" y="726480"/>
                  <a:ext cx="43920" cy="44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75" name=""/>
            <p:cNvSpPr/>
            <p:nvPr/>
          </p:nvSpPr>
          <p:spPr>
            <a:xfrm>
              <a:off x="5964120" y="1039680"/>
              <a:ext cx="166680" cy="1630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5587920" y="931680"/>
              <a:ext cx="414360" cy="4237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5978520" y="1322280"/>
              <a:ext cx="449280" cy="4363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5626080" y="1400040"/>
              <a:ext cx="358560" cy="48384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9" name=""/>
            <p:cNvGrpSpPr/>
            <p:nvPr/>
          </p:nvGrpSpPr>
          <p:grpSpPr>
            <a:xfrm>
              <a:off x="6005520" y="2239920"/>
              <a:ext cx="190800" cy="255960"/>
              <a:chOff x="6005520" y="2239920"/>
              <a:chExt cx="190800" cy="255960"/>
            </a:xfrm>
          </p:grpSpPr>
          <p:sp>
            <p:nvSpPr>
              <p:cNvPr id="6380" name=""/>
              <p:cNvSpPr/>
              <p:nvPr/>
            </p:nvSpPr>
            <p:spPr>
              <a:xfrm>
                <a:off x="6005520" y="2275560"/>
                <a:ext cx="154800" cy="22032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6112080" y="2239920"/>
                <a:ext cx="84240" cy="9864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2" name=""/>
            <p:cNvGrpSpPr/>
            <p:nvPr/>
          </p:nvGrpSpPr>
          <p:grpSpPr>
            <a:xfrm>
              <a:off x="5781600" y="2124000"/>
              <a:ext cx="187920" cy="249840"/>
              <a:chOff x="5781600" y="2124000"/>
              <a:chExt cx="187920" cy="249840"/>
            </a:xfrm>
          </p:grpSpPr>
          <p:sp>
            <p:nvSpPr>
              <p:cNvPr id="6383" name=""/>
              <p:cNvSpPr/>
              <p:nvPr/>
            </p:nvSpPr>
            <p:spPr>
              <a:xfrm>
                <a:off x="5811840" y="2160360"/>
                <a:ext cx="157680" cy="2134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5781600" y="2124000"/>
                <a:ext cx="84240" cy="97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5" name=""/>
            <p:cNvGrpSpPr/>
            <p:nvPr/>
          </p:nvGrpSpPr>
          <p:grpSpPr>
            <a:xfrm>
              <a:off x="6002280" y="1857240"/>
              <a:ext cx="190800" cy="309600"/>
              <a:chOff x="6002280" y="1857240"/>
              <a:chExt cx="190800" cy="309600"/>
            </a:xfrm>
          </p:grpSpPr>
          <p:sp>
            <p:nvSpPr>
              <p:cNvPr id="6386" name=""/>
              <p:cNvSpPr/>
              <p:nvPr/>
            </p:nvSpPr>
            <p:spPr>
              <a:xfrm>
                <a:off x="6002280" y="1901160"/>
                <a:ext cx="155520" cy="2656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6104160" y="185724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8" name=""/>
            <p:cNvGrpSpPr/>
            <p:nvPr/>
          </p:nvGrpSpPr>
          <p:grpSpPr>
            <a:xfrm>
              <a:off x="6164280" y="1373040"/>
              <a:ext cx="86400" cy="238320"/>
              <a:chOff x="6164280" y="1373040"/>
              <a:chExt cx="86400" cy="238320"/>
            </a:xfrm>
          </p:grpSpPr>
          <p:sp>
            <p:nvSpPr>
              <p:cNvPr id="6389" name=""/>
              <p:cNvSpPr/>
              <p:nvPr/>
            </p:nvSpPr>
            <p:spPr>
              <a:xfrm>
                <a:off x="6181560" y="1416960"/>
                <a:ext cx="25200" cy="19440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6164280" y="1373040"/>
                <a:ext cx="86400" cy="105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1" name=""/>
            <p:cNvGrpSpPr/>
            <p:nvPr/>
          </p:nvGrpSpPr>
          <p:grpSpPr>
            <a:xfrm>
              <a:off x="5817960" y="1565280"/>
              <a:ext cx="88200" cy="209520"/>
              <a:chOff x="5817960" y="1565280"/>
              <a:chExt cx="88200" cy="209520"/>
            </a:xfrm>
          </p:grpSpPr>
          <p:sp>
            <p:nvSpPr>
              <p:cNvPr id="6392" name=""/>
              <p:cNvSpPr/>
              <p:nvPr/>
            </p:nvSpPr>
            <p:spPr>
              <a:xfrm>
                <a:off x="5861880" y="1609560"/>
                <a:ext cx="3960" cy="1652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817960" y="1565280"/>
                <a:ext cx="88200" cy="1072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4" name=""/>
            <p:cNvGrpSpPr/>
            <p:nvPr/>
          </p:nvGrpSpPr>
          <p:grpSpPr>
            <a:xfrm>
              <a:off x="5680080" y="877680"/>
              <a:ext cx="86400" cy="231840"/>
              <a:chOff x="5680080" y="877680"/>
              <a:chExt cx="86400" cy="231840"/>
            </a:xfrm>
          </p:grpSpPr>
          <p:sp>
            <p:nvSpPr>
              <p:cNvPr id="6395" name=""/>
              <p:cNvSpPr/>
              <p:nvPr/>
            </p:nvSpPr>
            <p:spPr>
              <a:xfrm>
                <a:off x="5719320" y="930240"/>
                <a:ext cx="8640" cy="1792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5680080" y="877680"/>
                <a:ext cx="86400" cy="106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7" name=""/>
            <p:cNvSpPr/>
            <p:nvPr/>
          </p:nvSpPr>
          <p:spPr>
            <a:xfrm>
              <a:off x="5933880" y="1023840"/>
              <a:ext cx="77760" cy="188244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8" name=""/>
            <p:cNvGrpSpPr/>
            <p:nvPr/>
          </p:nvGrpSpPr>
          <p:grpSpPr>
            <a:xfrm>
              <a:off x="5852880" y="641520"/>
              <a:ext cx="110520" cy="397080"/>
              <a:chOff x="5852880" y="641520"/>
              <a:chExt cx="110520" cy="397080"/>
            </a:xfrm>
          </p:grpSpPr>
          <p:sp>
            <p:nvSpPr>
              <p:cNvPr id="6399" name=""/>
              <p:cNvSpPr/>
              <p:nvPr/>
            </p:nvSpPr>
            <p:spPr>
              <a:xfrm>
                <a:off x="5906160" y="9720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865840" y="905040"/>
                <a:ext cx="53280" cy="486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5852880" y="819720"/>
                <a:ext cx="43920" cy="49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5852880" y="726480"/>
                <a:ext cx="43920" cy="486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5856840" y="641520"/>
                <a:ext cx="48960" cy="442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4" name=""/>
            <p:cNvGrpSpPr/>
            <p:nvPr/>
          </p:nvGrpSpPr>
          <p:grpSpPr>
            <a:xfrm>
              <a:off x="6330960" y="1447560"/>
              <a:ext cx="211320" cy="82800"/>
              <a:chOff x="6330960" y="1447560"/>
              <a:chExt cx="211320" cy="82800"/>
            </a:xfrm>
          </p:grpSpPr>
          <p:sp>
            <p:nvSpPr>
              <p:cNvPr id="6405" name=""/>
              <p:cNvSpPr/>
              <p:nvPr/>
            </p:nvSpPr>
            <p:spPr>
              <a:xfrm>
                <a:off x="6330960" y="1482480"/>
                <a:ext cx="43920" cy="478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6419160" y="147744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6494400" y="1447560"/>
                <a:ext cx="47880" cy="568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8" name=""/>
            <p:cNvGrpSpPr/>
            <p:nvPr/>
          </p:nvGrpSpPr>
          <p:grpSpPr>
            <a:xfrm>
              <a:off x="6089400" y="725400"/>
              <a:ext cx="49680" cy="312840"/>
              <a:chOff x="6089400" y="725400"/>
              <a:chExt cx="49680" cy="312840"/>
            </a:xfrm>
          </p:grpSpPr>
          <p:sp>
            <p:nvSpPr>
              <p:cNvPr id="6409" name=""/>
              <p:cNvSpPr/>
              <p:nvPr/>
            </p:nvSpPr>
            <p:spPr>
              <a:xfrm>
                <a:off x="6089400" y="99360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6093360" y="90432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6093360" y="81468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6093360" y="72540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3" name=""/>
            <p:cNvSpPr/>
            <p:nvPr/>
          </p:nvSpPr>
          <p:spPr>
            <a:xfrm>
              <a:off x="5964120" y="1039680"/>
              <a:ext cx="166680" cy="1630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5587920" y="931680"/>
              <a:ext cx="414360" cy="4237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5978520" y="1322280"/>
              <a:ext cx="449280" cy="4363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626080" y="1400040"/>
              <a:ext cx="358560" cy="48384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6005520" y="2276280"/>
              <a:ext cx="158760" cy="2203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6113160" y="2239920"/>
              <a:ext cx="84240" cy="1011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6005520" y="2276280"/>
              <a:ext cx="158760" cy="2203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6113160" y="2239920"/>
              <a:ext cx="84240" cy="1011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811840" y="2162160"/>
              <a:ext cx="158760" cy="212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5781600" y="2124000"/>
              <a:ext cx="84240" cy="97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5811840" y="2162160"/>
              <a:ext cx="158760" cy="212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5781600" y="2124000"/>
              <a:ext cx="84240" cy="97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6002280" y="1901880"/>
              <a:ext cx="155520" cy="2660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6103800" y="1857240"/>
              <a:ext cx="90360" cy="1141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002280" y="1901880"/>
              <a:ext cx="155520" cy="2660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103800" y="1857240"/>
              <a:ext cx="90360" cy="1141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181560" y="1415880"/>
              <a:ext cx="27000" cy="1965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6164280" y="1373040"/>
              <a:ext cx="8712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181560" y="1415880"/>
              <a:ext cx="27000" cy="1965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6164280" y="1373040"/>
              <a:ext cx="8712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5862600" y="1609560"/>
              <a:ext cx="3240" cy="16632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5817960" y="1565280"/>
              <a:ext cx="88920" cy="104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5862600" y="1609560"/>
              <a:ext cx="3240" cy="16632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5817960" y="1565280"/>
              <a:ext cx="88920" cy="104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5719680" y="931680"/>
              <a:ext cx="7920" cy="1789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5680080" y="877680"/>
              <a:ext cx="8712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5719680" y="931680"/>
              <a:ext cx="7920" cy="1789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5680080" y="877680"/>
              <a:ext cx="8712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5933880" y="1023840"/>
              <a:ext cx="77760" cy="188244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2" name=""/>
            <p:cNvGrpSpPr/>
            <p:nvPr/>
          </p:nvGrpSpPr>
          <p:grpSpPr>
            <a:xfrm>
              <a:off x="5852880" y="641520"/>
              <a:ext cx="110520" cy="397080"/>
              <a:chOff x="5852880" y="641520"/>
              <a:chExt cx="110520" cy="397080"/>
            </a:xfrm>
          </p:grpSpPr>
          <p:sp>
            <p:nvSpPr>
              <p:cNvPr id="6443" name=""/>
              <p:cNvSpPr/>
              <p:nvPr/>
            </p:nvSpPr>
            <p:spPr>
              <a:xfrm>
                <a:off x="5906160" y="9720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865840" y="905040"/>
                <a:ext cx="53280" cy="486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5852880" y="819720"/>
                <a:ext cx="43920" cy="49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5852880" y="726480"/>
                <a:ext cx="43920" cy="486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5856840" y="641520"/>
                <a:ext cx="48960" cy="442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8" name=""/>
            <p:cNvGrpSpPr/>
            <p:nvPr/>
          </p:nvGrpSpPr>
          <p:grpSpPr>
            <a:xfrm>
              <a:off x="6330960" y="1447560"/>
              <a:ext cx="211320" cy="82800"/>
              <a:chOff x="6330960" y="1447560"/>
              <a:chExt cx="211320" cy="82800"/>
            </a:xfrm>
          </p:grpSpPr>
          <p:sp>
            <p:nvSpPr>
              <p:cNvPr id="6449" name=""/>
              <p:cNvSpPr/>
              <p:nvPr/>
            </p:nvSpPr>
            <p:spPr>
              <a:xfrm>
                <a:off x="6330960" y="1482480"/>
                <a:ext cx="43920" cy="478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6419160" y="147744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6494400" y="1447560"/>
                <a:ext cx="47880" cy="568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2" name=""/>
            <p:cNvGrpSpPr/>
            <p:nvPr/>
          </p:nvGrpSpPr>
          <p:grpSpPr>
            <a:xfrm>
              <a:off x="6089400" y="725400"/>
              <a:ext cx="49680" cy="312840"/>
              <a:chOff x="6089400" y="725400"/>
              <a:chExt cx="49680" cy="312840"/>
            </a:xfrm>
          </p:grpSpPr>
          <p:sp>
            <p:nvSpPr>
              <p:cNvPr id="6453" name=""/>
              <p:cNvSpPr/>
              <p:nvPr/>
            </p:nvSpPr>
            <p:spPr>
              <a:xfrm>
                <a:off x="6089400" y="99360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6093360" y="90432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6093360" y="81468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6093360" y="72540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7" name=""/>
          <p:cNvGrpSpPr/>
          <p:nvPr/>
        </p:nvGrpSpPr>
        <p:grpSpPr>
          <a:xfrm>
            <a:off x="7210440" y="720720"/>
            <a:ext cx="1105920" cy="2185560"/>
            <a:chOff x="7210440" y="720720"/>
            <a:chExt cx="1105920" cy="2185560"/>
          </a:xfrm>
        </p:grpSpPr>
        <p:sp>
          <p:nvSpPr>
            <p:cNvPr id="6458" name=""/>
            <p:cNvSpPr/>
            <p:nvPr/>
          </p:nvSpPr>
          <p:spPr>
            <a:xfrm>
              <a:off x="7587000" y="1039680"/>
              <a:ext cx="166680" cy="1616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7210440" y="931680"/>
              <a:ext cx="412920" cy="4201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7601040" y="1322280"/>
              <a:ext cx="449280" cy="43308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247160" y="1398240"/>
              <a:ext cx="358560" cy="4824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2" name=""/>
            <p:cNvGrpSpPr/>
            <p:nvPr/>
          </p:nvGrpSpPr>
          <p:grpSpPr>
            <a:xfrm>
              <a:off x="7628040" y="2239560"/>
              <a:ext cx="191160" cy="254160"/>
              <a:chOff x="7628040" y="2239560"/>
              <a:chExt cx="191160" cy="254160"/>
            </a:xfrm>
          </p:grpSpPr>
          <p:sp>
            <p:nvSpPr>
              <p:cNvPr id="6463" name=""/>
              <p:cNvSpPr/>
              <p:nvPr/>
            </p:nvSpPr>
            <p:spPr>
              <a:xfrm>
                <a:off x="7628040" y="2274840"/>
                <a:ext cx="155160" cy="21888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7734600" y="2239560"/>
                <a:ext cx="84600" cy="982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5" name=""/>
            <p:cNvGrpSpPr/>
            <p:nvPr/>
          </p:nvGrpSpPr>
          <p:grpSpPr>
            <a:xfrm>
              <a:off x="7404120" y="2122200"/>
              <a:ext cx="186840" cy="249840"/>
              <a:chOff x="7404120" y="2122200"/>
              <a:chExt cx="186840" cy="249840"/>
            </a:xfrm>
          </p:grpSpPr>
          <p:sp>
            <p:nvSpPr>
              <p:cNvPr id="6466" name=""/>
              <p:cNvSpPr/>
              <p:nvPr/>
            </p:nvSpPr>
            <p:spPr>
              <a:xfrm>
                <a:off x="7434360" y="2158560"/>
                <a:ext cx="156600" cy="2134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7404120" y="2122200"/>
                <a:ext cx="83520" cy="97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8" name=""/>
            <p:cNvGrpSpPr/>
            <p:nvPr/>
          </p:nvGrpSpPr>
          <p:grpSpPr>
            <a:xfrm>
              <a:off x="7623360" y="1854000"/>
              <a:ext cx="192600" cy="312840"/>
              <a:chOff x="7623360" y="1854000"/>
              <a:chExt cx="192600" cy="312840"/>
            </a:xfrm>
          </p:grpSpPr>
          <p:sp>
            <p:nvSpPr>
              <p:cNvPr id="6469" name=""/>
              <p:cNvSpPr/>
              <p:nvPr/>
            </p:nvSpPr>
            <p:spPr>
              <a:xfrm>
                <a:off x="7623360" y="1898280"/>
                <a:ext cx="156960" cy="26856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7726320" y="1854000"/>
                <a:ext cx="89640" cy="11556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1" name=""/>
            <p:cNvGrpSpPr/>
            <p:nvPr/>
          </p:nvGrpSpPr>
          <p:grpSpPr>
            <a:xfrm>
              <a:off x="7785360" y="1371240"/>
              <a:ext cx="88200" cy="240120"/>
              <a:chOff x="7785360" y="1371240"/>
              <a:chExt cx="88200" cy="240120"/>
            </a:xfrm>
          </p:grpSpPr>
          <p:sp>
            <p:nvSpPr>
              <p:cNvPr id="6472" name=""/>
              <p:cNvSpPr/>
              <p:nvPr/>
            </p:nvSpPr>
            <p:spPr>
              <a:xfrm>
                <a:off x="7803000" y="1415520"/>
                <a:ext cx="25560" cy="195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7785360" y="1371240"/>
                <a:ext cx="88200" cy="1058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4" name=""/>
            <p:cNvGrpSpPr/>
            <p:nvPr/>
          </p:nvGrpSpPr>
          <p:grpSpPr>
            <a:xfrm>
              <a:off x="7439040" y="1563480"/>
              <a:ext cx="90000" cy="209520"/>
              <a:chOff x="7439040" y="1563480"/>
              <a:chExt cx="90000" cy="209520"/>
            </a:xfrm>
          </p:grpSpPr>
          <p:sp>
            <p:nvSpPr>
              <p:cNvPr id="6475" name=""/>
              <p:cNvSpPr/>
              <p:nvPr/>
            </p:nvSpPr>
            <p:spPr>
              <a:xfrm>
                <a:off x="7484040" y="1607760"/>
                <a:ext cx="3960" cy="1652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7439040" y="1563480"/>
                <a:ext cx="90000" cy="1072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7" name=""/>
            <p:cNvGrpSpPr/>
            <p:nvPr/>
          </p:nvGrpSpPr>
          <p:grpSpPr>
            <a:xfrm>
              <a:off x="7301160" y="877680"/>
              <a:ext cx="88200" cy="231840"/>
              <a:chOff x="7301160" y="877680"/>
              <a:chExt cx="88200" cy="231840"/>
            </a:xfrm>
          </p:grpSpPr>
          <p:sp>
            <p:nvSpPr>
              <p:cNvPr id="6478" name=""/>
              <p:cNvSpPr/>
              <p:nvPr/>
            </p:nvSpPr>
            <p:spPr>
              <a:xfrm>
                <a:off x="7341120" y="930240"/>
                <a:ext cx="9000" cy="1792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7301160" y="877680"/>
                <a:ext cx="88200" cy="106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0" name=""/>
            <p:cNvSpPr/>
            <p:nvPr/>
          </p:nvSpPr>
          <p:spPr>
            <a:xfrm>
              <a:off x="7556760" y="1022040"/>
              <a:ext cx="75960" cy="188424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587000" y="1039680"/>
              <a:ext cx="166680" cy="1630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210440" y="931680"/>
              <a:ext cx="414360" cy="423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7601040" y="1322280"/>
              <a:ext cx="449280" cy="43596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7248600" y="1400040"/>
              <a:ext cx="358920" cy="48384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5" name=""/>
            <p:cNvGrpSpPr/>
            <p:nvPr/>
          </p:nvGrpSpPr>
          <p:grpSpPr>
            <a:xfrm>
              <a:off x="7628040" y="2239560"/>
              <a:ext cx="191160" cy="255960"/>
              <a:chOff x="7628040" y="2239560"/>
              <a:chExt cx="191160" cy="255960"/>
            </a:xfrm>
          </p:grpSpPr>
          <p:sp>
            <p:nvSpPr>
              <p:cNvPr id="6486" name=""/>
              <p:cNvSpPr/>
              <p:nvPr/>
            </p:nvSpPr>
            <p:spPr>
              <a:xfrm>
                <a:off x="7628040" y="2275200"/>
                <a:ext cx="155160" cy="22032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7734600" y="2239560"/>
                <a:ext cx="84600" cy="990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8" name=""/>
            <p:cNvGrpSpPr/>
            <p:nvPr/>
          </p:nvGrpSpPr>
          <p:grpSpPr>
            <a:xfrm>
              <a:off x="7404120" y="2124000"/>
              <a:ext cx="187920" cy="249480"/>
              <a:chOff x="7404120" y="2124000"/>
              <a:chExt cx="187920" cy="249480"/>
            </a:xfrm>
          </p:grpSpPr>
          <p:sp>
            <p:nvSpPr>
              <p:cNvPr id="6489" name=""/>
              <p:cNvSpPr/>
              <p:nvPr/>
            </p:nvSpPr>
            <p:spPr>
              <a:xfrm>
                <a:off x="7434360" y="2160360"/>
                <a:ext cx="157680" cy="2131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7404120" y="2124000"/>
                <a:ext cx="84240" cy="97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1" name=""/>
            <p:cNvGrpSpPr/>
            <p:nvPr/>
          </p:nvGrpSpPr>
          <p:grpSpPr>
            <a:xfrm>
              <a:off x="7624800" y="1857240"/>
              <a:ext cx="191160" cy="309600"/>
              <a:chOff x="7624800" y="1857240"/>
              <a:chExt cx="191160" cy="309600"/>
            </a:xfrm>
          </p:grpSpPr>
          <p:sp>
            <p:nvSpPr>
              <p:cNvPr id="6492" name=""/>
              <p:cNvSpPr/>
              <p:nvPr/>
            </p:nvSpPr>
            <p:spPr>
              <a:xfrm>
                <a:off x="7624800" y="1901160"/>
                <a:ext cx="155880" cy="2656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7727040" y="185724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4" name=""/>
            <p:cNvGrpSpPr/>
            <p:nvPr/>
          </p:nvGrpSpPr>
          <p:grpSpPr>
            <a:xfrm>
              <a:off x="7786800" y="1373040"/>
              <a:ext cx="86760" cy="238320"/>
              <a:chOff x="7786800" y="1373040"/>
              <a:chExt cx="86760" cy="238320"/>
            </a:xfrm>
          </p:grpSpPr>
          <p:sp>
            <p:nvSpPr>
              <p:cNvPr id="6495" name=""/>
              <p:cNvSpPr/>
              <p:nvPr/>
            </p:nvSpPr>
            <p:spPr>
              <a:xfrm>
                <a:off x="7804080" y="1416960"/>
                <a:ext cx="25200" cy="19440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7786800" y="1373040"/>
                <a:ext cx="86760" cy="105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7" name=""/>
            <p:cNvGrpSpPr/>
            <p:nvPr/>
          </p:nvGrpSpPr>
          <p:grpSpPr>
            <a:xfrm>
              <a:off x="7440840" y="1564920"/>
              <a:ext cx="88200" cy="210240"/>
              <a:chOff x="7440840" y="1564920"/>
              <a:chExt cx="88200" cy="210240"/>
            </a:xfrm>
          </p:grpSpPr>
          <p:sp>
            <p:nvSpPr>
              <p:cNvPr id="6498" name=""/>
              <p:cNvSpPr/>
              <p:nvPr/>
            </p:nvSpPr>
            <p:spPr>
              <a:xfrm>
                <a:off x="7484760" y="1609560"/>
                <a:ext cx="3960" cy="16560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7440840" y="1564920"/>
                <a:ext cx="88200" cy="1076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0" name=""/>
            <p:cNvGrpSpPr/>
            <p:nvPr/>
          </p:nvGrpSpPr>
          <p:grpSpPr>
            <a:xfrm>
              <a:off x="7302600" y="877680"/>
              <a:ext cx="86760" cy="231840"/>
              <a:chOff x="7302600" y="877680"/>
              <a:chExt cx="86760" cy="231840"/>
            </a:xfrm>
          </p:grpSpPr>
          <p:sp>
            <p:nvSpPr>
              <p:cNvPr id="6501" name=""/>
              <p:cNvSpPr/>
              <p:nvPr/>
            </p:nvSpPr>
            <p:spPr>
              <a:xfrm>
                <a:off x="7341840" y="930240"/>
                <a:ext cx="8640" cy="1792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7302600" y="877680"/>
                <a:ext cx="86760" cy="106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3" name=""/>
            <p:cNvSpPr/>
            <p:nvPr/>
          </p:nvSpPr>
          <p:spPr>
            <a:xfrm>
              <a:off x="7556760" y="1023840"/>
              <a:ext cx="77760" cy="188244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7587000" y="1039680"/>
              <a:ext cx="166680" cy="1630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7210440" y="931680"/>
              <a:ext cx="414360" cy="423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7601040" y="1322280"/>
              <a:ext cx="449280" cy="43596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7248600" y="1400040"/>
              <a:ext cx="358920" cy="48384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7628040" y="2276280"/>
              <a:ext cx="158760" cy="2203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7736040" y="2239560"/>
              <a:ext cx="84240" cy="1015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7628040" y="2276280"/>
              <a:ext cx="158760" cy="2203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7736040" y="2239560"/>
              <a:ext cx="84240" cy="1015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7434360" y="2161800"/>
              <a:ext cx="158760" cy="212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7404120" y="2124000"/>
              <a:ext cx="84240" cy="97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7434360" y="2161800"/>
              <a:ext cx="158760" cy="212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7404120" y="2124000"/>
              <a:ext cx="84240" cy="97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7624800" y="1901520"/>
              <a:ext cx="155520" cy="2664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7726680" y="1857240"/>
              <a:ext cx="90360" cy="1137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7624800" y="1901520"/>
              <a:ext cx="155520" cy="2664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7726680" y="1857240"/>
              <a:ext cx="90360" cy="1137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7804440" y="1415880"/>
              <a:ext cx="27000" cy="1965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7786800" y="1373040"/>
              <a:ext cx="8748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7804440" y="1415880"/>
              <a:ext cx="27000" cy="1965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7786800" y="1373040"/>
              <a:ext cx="8748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7485120" y="1609560"/>
              <a:ext cx="3240" cy="16632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7440840" y="1564920"/>
              <a:ext cx="88920" cy="104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7485120" y="1609560"/>
              <a:ext cx="3240" cy="16632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7440840" y="1564920"/>
              <a:ext cx="88920" cy="104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7342200" y="931680"/>
              <a:ext cx="7920" cy="1789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7302600" y="877680"/>
              <a:ext cx="8748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7342200" y="931680"/>
              <a:ext cx="7920" cy="1789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7302600" y="877680"/>
              <a:ext cx="8748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7556760" y="1023840"/>
              <a:ext cx="77760" cy="188244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7472880" y="720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8009280" y="1066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5" name=""/>
          <p:cNvGrpSpPr/>
          <p:nvPr/>
        </p:nvGrpSpPr>
        <p:grpSpPr>
          <a:xfrm>
            <a:off x="4100400" y="811080"/>
            <a:ext cx="1012320" cy="2094840"/>
            <a:chOff x="4100400" y="811080"/>
            <a:chExt cx="1012320" cy="2094840"/>
          </a:xfrm>
        </p:grpSpPr>
        <p:grpSp>
          <p:nvGrpSpPr>
            <p:cNvPr id="6536" name=""/>
            <p:cNvGrpSpPr/>
            <p:nvPr/>
          </p:nvGrpSpPr>
          <p:grpSpPr>
            <a:xfrm>
              <a:off x="4100400" y="811080"/>
              <a:ext cx="1011600" cy="2094120"/>
              <a:chOff x="4100400" y="811080"/>
              <a:chExt cx="1011600" cy="2094120"/>
            </a:xfrm>
          </p:grpSpPr>
          <p:sp>
            <p:nvSpPr>
              <p:cNvPr id="6537" name=""/>
              <p:cNvSpPr/>
              <p:nvPr/>
            </p:nvSpPr>
            <p:spPr>
              <a:xfrm>
                <a:off x="4287240" y="870480"/>
                <a:ext cx="191520" cy="2034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4426560" y="811080"/>
                <a:ext cx="155160" cy="55440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4363200" y="834480"/>
                <a:ext cx="79200" cy="2631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4100400" y="1137600"/>
                <a:ext cx="366840" cy="37548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446360" y="1481400"/>
                <a:ext cx="398520" cy="39060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761720" y="1476720"/>
                <a:ext cx="294480" cy="19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980240" y="1560960"/>
                <a:ext cx="131760" cy="4320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131720" y="1552680"/>
                <a:ext cx="322560" cy="4269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5" name=""/>
              <p:cNvGrpSpPr/>
              <p:nvPr/>
            </p:nvGrpSpPr>
            <p:grpSpPr>
              <a:xfrm>
                <a:off x="4474440" y="2302920"/>
                <a:ext cx="166680" cy="222120"/>
                <a:chOff x="4474440" y="2302920"/>
                <a:chExt cx="166680" cy="222120"/>
              </a:xfrm>
            </p:grpSpPr>
            <p:sp>
              <p:nvSpPr>
                <p:cNvPr id="6546" name=""/>
                <p:cNvSpPr/>
                <p:nvPr/>
              </p:nvSpPr>
              <p:spPr>
                <a:xfrm>
                  <a:off x="4474440" y="2334240"/>
                  <a:ext cx="139320" cy="19080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0" y="47"/>
                      </a:move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8" y="46"/>
                      </a:lnTo>
                      <a:lnTo>
                        <a:pt x="22" y="42"/>
                      </a:lnTo>
                      <a:lnTo>
                        <a:pt x="26" y="34"/>
                      </a:lnTo>
                      <a:lnTo>
                        <a:pt x="29" y="24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565880" y="2302920"/>
                  <a:ext cx="75240" cy="871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8" name=""/>
              <p:cNvGrpSpPr/>
              <p:nvPr/>
            </p:nvGrpSpPr>
            <p:grpSpPr>
              <a:xfrm>
                <a:off x="4271040" y="2198880"/>
                <a:ext cx="170280" cy="222480"/>
                <a:chOff x="4271040" y="2198880"/>
                <a:chExt cx="170280" cy="222480"/>
              </a:xfrm>
            </p:grpSpPr>
            <p:sp>
              <p:nvSpPr>
                <p:cNvPr id="6549" name=""/>
                <p:cNvSpPr/>
                <p:nvPr/>
              </p:nvSpPr>
              <p:spPr>
                <a:xfrm>
                  <a:off x="4303080" y="2231280"/>
                  <a:ext cx="138240" cy="19008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271040" y="2198880"/>
                  <a:ext cx="75240" cy="871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1" name=""/>
              <p:cNvGrpSpPr/>
              <p:nvPr/>
            </p:nvGrpSpPr>
            <p:grpSpPr>
              <a:xfrm>
                <a:off x="4470840" y="1959840"/>
                <a:ext cx="166320" cy="278640"/>
                <a:chOff x="4470840" y="1959840"/>
                <a:chExt cx="166320" cy="278640"/>
              </a:xfrm>
            </p:grpSpPr>
            <p:sp>
              <p:nvSpPr>
                <p:cNvPr id="6552" name=""/>
                <p:cNvSpPr/>
                <p:nvPr/>
              </p:nvSpPr>
              <p:spPr>
                <a:xfrm>
                  <a:off x="4470840" y="1999440"/>
                  <a:ext cx="138600" cy="23904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4557960" y="1959840"/>
                  <a:ext cx="79200" cy="10368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4" name=""/>
              <p:cNvGrpSpPr/>
              <p:nvPr/>
            </p:nvGrpSpPr>
            <p:grpSpPr>
              <a:xfrm>
                <a:off x="4609800" y="1529280"/>
                <a:ext cx="78480" cy="214560"/>
                <a:chOff x="4609800" y="1529280"/>
                <a:chExt cx="78480" cy="214560"/>
              </a:xfrm>
            </p:grpSpPr>
            <p:sp>
              <p:nvSpPr>
                <p:cNvPr id="6555" name=""/>
                <p:cNvSpPr/>
                <p:nvPr/>
              </p:nvSpPr>
              <p:spPr>
                <a:xfrm>
                  <a:off x="4625640" y="1568880"/>
                  <a:ext cx="23040" cy="17496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4609800" y="1529280"/>
                  <a:ext cx="78480" cy="9468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7" name=""/>
              <p:cNvGrpSpPr/>
              <p:nvPr/>
            </p:nvGrpSpPr>
            <p:grpSpPr>
              <a:xfrm>
                <a:off x="4303440" y="1700280"/>
                <a:ext cx="78480" cy="182880"/>
                <a:chOff x="4303440" y="1700280"/>
                <a:chExt cx="78480" cy="182880"/>
              </a:xfrm>
            </p:grpSpPr>
            <p:sp>
              <p:nvSpPr>
                <p:cNvPr id="6558" name=""/>
                <p:cNvSpPr/>
                <p:nvPr/>
              </p:nvSpPr>
              <p:spPr>
                <a:xfrm>
                  <a:off x="4342680" y="1739880"/>
                  <a:ext cx="3240" cy="143280"/>
                </a:xfrm>
                <a:custGeom>
                  <a:avLst/>
                  <a:gdLst/>
                  <a:ahLst/>
                  <a:rect l="l" t="t" r="r" b="b"/>
                  <a:pathLst>
                    <a:path w="1" h="36">
                      <a:moveTo>
                        <a:pt x="0" y="36"/>
                      </a:move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4303440" y="1700280"/>
                  <a:ext cx="78480" cy="954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0" name=""/>
              <p:cNvGrpSpPr/>
              <p:nvPr/>
            </p:nvGrpSpPr>
            <p:grpSpPr>
              <a:xfrm>
                <a:off x="4179600" y="1090440"/>
                <a:ext cx="78480" cy="206280"/>
                <a:chOff x="4179600" y="1090440"/>
                <a:chExt cx="78480" cy="206280"/>
              </a:xfrm>
            </p:grpSpPr>
            <p:sp>
              <p:nvSpPr>
                <p:cNvPr id="6561" name=""/>
                <p:cNvSpPr/>
                <p:nvPr/>
              </p:nvSpPr>
              <p:spPr>
                <a:xfrm>
                  <a:off x="4215240" y="1137240"/>
                  <a:ext cx="7920" cy="15948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4179600" y="1090440"/>
                  <a:ext cx="78480" cy="94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63" name=""/>
            <p:cNvSpPr/>
            <p:nvPr/>
          </p:nvSpPr>
          <p:spPr>
            <a:xfrm>
              <a:off x="4286880" y="871200"/>
              <a:ext cx="192600" cy="2034720"/>
            </a:xfrm>
            <a:custGeom>
              <a:avLst/>
              <a:gdLst/>
              <a:ahLst/>
              <a:rect l="l" t="t" r="r" b="b"/>
              <a:pathLst>
                <a:path w="48" h="510">
                  <a:moveTo>
                    <a:pt x="37" y="510"/>
                  </a:moveTo>
                  <a:lnTo>
                    <a:pt x="47" y="510"/>
                  </a:lnTo>
                  <a:lnTo>
                    <a:pt x="47" y="420"/>
                  </a:lnTo>
                  <a:lnTo>
                    <a:pt x="47" y="374"/>
                  </a:lnTo>
                  <a:lnTo>
                    <a:pt x="47" y="326"/>
                  </a:lnTo>
                  <a:lnTo>
                    <a:pt x="47" y="300"/>
                  </a:lnTo>
                  <a:lnTo>
                    <a:pt x="48" y="273"/>
                  </a:lnTo>
                  <a:lnTo>
                    <a:pt x="48" y="216"/>
                  </a:lnTo>
                  <a:lnTo>
                    <a:pt x="48" y="188"/>
                  </a:lnTo>
                  <a:lnTo>
                    <a:pt x="48" y="162"/>
                  </a:lnTo>
                  <a:lnTo>
                    <a:pt x="47" y="138"/>
                  </a:lnTo>
                  <a:lnTo>
                    <a:pt x="45" y="116"/>
                  </a:lnTo>
                  <a:lnTo>
                    <a:pt x="42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2" y="97"/>
                  </a:lnTo>
                  <a:lnTo>
                    <a:pt x="35" y="117"/>
                  </a:lnTo>
                  <a:lnTo>
                    <a:pt x="37" y="138"/>
                  </a:lnTo>
                  <a:lnTo>
                    <a:pt x="38" y="162"/>
                  </a:lnTo>
                  <a:lnTo>
                    <a:pt x="38" y="188"/>
                  </a:lnTo>
                  <a:lnTo>
                    <a:pt x="38" y="216"/>
                  </a:lnTo>
                  <a:lnTo>
                    <a:pt x="38" y="273"/>
                  </a:lnTo>
                  <a:lnTo>
                    <a:pt x="37" y="300"/>
                  </a:lnTo>
                  <a:lnTo>
                    <a:pt x="37" y="326"/>
                  </a:lnTo>
                  <a:lnTo>
                    <a:pt x="37" y="374"/>
                  </a:lnTo>
                  <a:lnTo>
                    <a:pt x="37" y="420"/>
                  </a:lnTo>
                  <a:lnTo>
                    <a:pt x="37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4425840" y="811080"/>
              <a:ext cx="156240" cy="554760"/>
            </a:xfrm>
            <a:custGeom>
              <a:avLst/>
              <a:gdLst/>
              <a:ahLst/>
              <a:rect l="l" t="t" r="r" b="b"/>
              <a:pathLst>
                <a:path w="39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2" y="115"/>
                  </a:lnTo>
                  <a:lnTo>
                    <a:pt x="28" y="101"/>
                  </a:lnTo>
                  <a:lnTo>
                    <a:pt x="29" y="98"/>
                  </a:lnTo>
                  <a:lnTo>
                    <a:pt x="34" y="83"/>
                  </a:lnTo>
                  <a:lnTo>
                    <a:pt x="37" y="64"/>
                  </a:lnTo>
                  <a:lnTo>
                    <a:pt x="38" y="44"/>
                  </a:lnTo>
                  <a:lnTo>
                    <a:pt x="39" y="22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22"/>
                  </a:lnTo>
                  <a:lnTo>
                    <a:pt x="28" y="44"/>
                  </a:lnTo>
                  <a:lnTo>
                    <a:pt x="27" y="64"/>
                  </a:lnTo>
                  <a:lnTo>
                    <a:pt x="25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1" y="94"/>
                  </a:lnTo>
                  <a:lnTo>
                    <a:pt x="15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4362120" y="835560"/>
              <a:ext cx="81360" cy="2649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4100400" y="1139760"/>
              <a:ext cx="367560" cy="3736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4447080" y="1483560"/>
              <a:ext cx="397800" cy="38808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2" y="73"/>
                  </a:lnTo>
                  <a:lnTo>
                    <a:pt x="65" y="63"/>
                  </a:lnTo>
                  <a:lnTo>
                    <a:pt x="75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3"/>
                  </a:lnTo>
                  <a:lnTo>
                    <a:pt x="58" y="56"/>
                  </a:lnTo>
                  <a:lnTo>
                    <a:pt x="45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4763520" y="1477440"/>
              <a:ext cx="291960" cy="1926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7" y="44"/>
                  </a:lnTo>
                  <a:lnTo>
                    <a:pt x="43" y="41"/>
                  </a:lnTo>
                  <a:lnTo>
                    <a:pt x="47" y="38"/>
                  </a:lnTo>
                  <a:lnTo>
                    <a:pt x="56" y="29"/>
                  </a:lnTo>
                  <a:lnTo>
                    <a:pt x="65" y="18"/>
                  </a:lnTo>
                  <a:lnTo>
                    <a:pt x="74" y="6"/>
                  </a:lnTo>
                  <a:lnTo>
                    <a:pt x="67" y="0"/>
                  </a:lnTo>
                  <a:lnTo>
                    <a:pt x="58" y="11"/>
                  </a:lnTo>
                  <a:lnTo>
                    <a:pt x="49" y="22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3" y="36"/>
                  </a:lnTo>
                  <a:lnTo>
                    <a:pt x="23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4980240" y="1561320"/>
              <a:ext cx="132480" cy="4500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4133160" y="1552680"/>
              <a:ext cx="322560" cy="42768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76" y="107"/>
                  </a:moveTo>
                  <a:lnTo>
                    <a:pt x="81" y="99"/>
                  </a:lnTo>
                  <a:lnTo>
                    <a:pt x="69" y="91"/>
                  </a:lnTo>
                  <a:lnTo>
                    <a:pt x="57" y="83"/>
                  </a:lnTo>
                  <a:lnTo>
                    <a:pt x="45" y="7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8" y="80"/>
                  </a:lnTo>
                  <a:lnTo>
                    <a:pt x="50" y="90"/>
                  </a:lnTo>
                  <a:lnTo>
                    <a:pt x="62" y="98"/>
                  </a:lnTo>
                  <a:lnTo>
                    <a:pt x="76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1" name=""/>
            <p:cNvGrpSpPr/>
            <p:nvPr/>
          </p:nvGrpSpPr>
          <p:grpSpPr>
            <a:xfrm>
              <a:off x="4473720" y="2303280"/>
              <a:ext cx="168120" cy="222120"/>
              <a:chOff x="4473720" y="2303280"/>
              <a:chExt cx="168120" cy="222120"/>
            </a:xfrm>
          </p:grpSpPr>
          <p:sp>
            <p:nvSpPr>
              <p:cNvPr id="6572" name=""/>
              <p:cNvSpPr/>
              <p:nvPr/>
            </p:nvSpPr>
            <p:spPr>
              <a:xfrm>
                <a:off x="4473720" y="2334600"/>
                <a:ext cx="140040" cy="19080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4565880" y="2303280"/>
                <a:ext cx="75960" cy="871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4" name=""/>
            <p:cNvGrpSpPr/>
            <p:nvPr/>
          </p:nvGrpSpPr>
          <p:grpSpPr>
            <a:xfrm>
              <a:off x="4271760" y="2200680"/>
              <a:ext cx="170280" cy="222120"/>
              <a:chOff x="4271760" y="2200680"/>
              <a:chExt cx="170280" cy="222120"/>
            </a:xfrm>
          </p:grpSpPr>
          <p:sp>
            <p:nvSpPr>
              <p:cNvPr id="6575" name=""/>
              <p:cNvSpPr/>
              <p:nvPr/>
            </p:nvSpPr>
            <p:spPr>
              <a:xfrm>
                <a:off x="4303800" y="2233080"/>
                <a:ext cx="138240" cy="1897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4271760" y="2200680"/>
                <a:ext cx="75240" cy="871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7" name=""/>
            <p:cNvGrpSpPr/>
            <p:nvPr/>
          </p:nvGrpSpPr>
          <p:grpSpPr>
            <a:xfrm>
              <a:off x="4470840" y="1959480"/>
              <a:ext cx="164880" cy="279000"/>
              <a:chOff x="4470840" y="1959480"/>
              <a:chExt cx="164880" cy="279000"/>
            </a:xfrm>
          </p:grpSpPr>
          <p:sp>
            <p:nvSpPr>
              <p:cNvPr id="6578" name=""/>
              <p:cNvSpPr/>
              <p:nvPr/>
            </p:nvSpPr>
            <p:spPr>
              <a:xfrm>
                <a:off x="4470840" y="1999080"/>
                <a:ext cx="137520" cy="23940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4557240" y="1959480"/>
                <a:ext cx="78480" cy="1036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0" name=""/>
            <p:cNvGrpSpPr/>
            <p:nvPr/>
          </p:nvGrpSpPr>
          <p:grpSpPr>
            <a:xfrm>
              <a:off x="4609800" y="1528560"/>
              <a:ext cx="80640" cy="215280"/>
              <a:chOff x="4609800" y="1528560"/>
              <a:chExt cx="80640" cy="215280"/>
            </a:xfrm>
          </p:grpSpPr>
          <p:sp>
            <p:nvSpPr>
              <p:cNvPr id="6581" name=""/>
              <p:cNvSpPr/>
              <p:nvPr/>
            </p:nvSpPr>
            <p:spPr>
              <a:xfrm>
                <a:off x="4626000" y="1568160"/>
                <a:ext cx="23760" cy="17568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4609800" y="1528560"/>
                <a:ext cx="80640" cy="95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3" name=""/>
            <p:cNvGrpSpPr/>
            <p:nvPr/>
          </p:nvGrpSpPr>
          <p:grpSpPr>
            <a:xfrm>
              <a:off x="4302000" y="1700280"/>
              <a:ext cx="80640" cy="182880"/>
              <a:chOff x="4302000" y="1700280"/>
              <a:chExt cx="80640" cy="182880"/>
            </a:xfrm>
          </p:grpSpPr>
          <p:sp>
            <p:nvSpPr>
              <p:cNvPr id="6584" name=""/>
              <p:cNvSpPr/>
              <p:nvPr/>
            </p:nvSpPr>
            <p:spPr>
              <a:xfrm>
                <a:off x="4342320" y="1739880"/>
                <a:ext cx="3600" cy="14328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4302000" y="1700280"/>
                <a:ext cx="80640" cy="954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6" name=""/>
            <p:cNvGrpSpPr/>
            <p:nvPr/>
          </p:nvGrpSpPr>
          <p:grpSpPr>
            <a:xfrm>
              <a:off x="4178160" y="1091160"/>
              <a:ext cx="80640" cy="207720"/>
              <a:chOff x="4178160" y="1091160"/>
              <a:chExt cx="80640" cy="207720"/>
            </a:xfrm>
          </p:grpSpPr>
          <p:sp>
            <p:nvSpPr>
              <p:cNvPr id="6587" name=""/>
              <p:cNvSpPr/>
              <p:nvPr/>
            </p:nvSpPr>
            <p:spPr>
              <a:xfrm>
                <a:off x="4214880" y="1138320"/>
                <a:ext cx="7920" cy="1605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4178160" y="1091160"/>
                <a:ext cx="80640" cy="95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9" name=""/>
            <p:cNvSpPr/>
            <p:nvPr/>
          </p:nvSpPr>
          <p:spPr>
            <a:xfrm>
              <a:off x="4286880" y="871200"/>
              <a:ext cx="192600" cy="2034720"/>
            </a:xfrm>
            <a:custGeom>
              <a:avLst/>
              <a:gdLst/>
              <a:ahLst/>
              <a:rect l="l" t="t" r="r" b="b"/>
              <a:pathLst>
                <a:path w="48" h="510">
                  <a:moveTo>
                    <a:pt x="37" y="510"/>
                  </a:moveTo>
                  <a:lnTo>
                    <a:pt x="47" y="510"/>
                  </a:lnTo>
                  <a:lnTo>
                    <a:pt x="47" y="420"/>
                  </a:lnTo>
                  <a:lnTo>
                    <a:pt x="47" y="374"/>
                  </a:lnTo>
                  <a:lnTo>
                    <a:pt x="47" y="326"/>
                  </a:lnTo>
                  <a:lnTo>
                    <a:pt x="47" y="300"/>
                  </a:lnTo>
                  <a:lnTo>
                    <a:pt x="48" y="273"/>
                  </a:lnTo>
                  <a:lnTo>
                    <a:pt x="48" y="216"/>
                  </a:lnTo>
                  <a:lnTo>
                    <a:pt x="48" y="188"/>
                  </a:lnTo>
                  <a:lnTo>
                    <a:pt x="48" y="162"/>
                  </a:lnTo>
                  <a:lnTo>
                    <a:pt x="47" y="138"/>
                  </a:lnTo>
                  <a:lnTo>
                    <a:pt x="45" y="116"/>
                  </a:lnTo>
                  <a:lnTo>
                    <a:pt x="42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2" y="97"/>
                  </a:lnTo>
                  <a:lnTo>
                    <a:pt x="35" y="117"/>
                  </a:lnTo>
                  <a:lnTo>
                    <a:pt x="37" y="138"/>
                  </a:lnTo>
                  <a:lnTo>
                    <a:pt x="38" y="162"/>
                  </a:lnTo>
                  <a:lnTo>
                    <a:pt x="38" y="188"/>
                  </a:lnTo>
                  <a:lnTo>
                    <a:pt x="38" y="216"/>
                  </a:lnTo>
                  <a:lnTo>
                    <a:pt x="38" y="273"/>
                  </a:lnTo>
                  <a:lnTo>
                    <a:pt x="37" y="300"/>
                  </a:lnTo>
                  <a:lnTo>
                    <a:pt x="37" y="326"/>
                  </a:lnTo>
                  <a:lnTo>
                    <a:pt x="37" y="374"/>
                  </a:lnTo>
                  <a:lnTo>
                    <a:pt x="37" y="420"/>
                  </a:lnTo>
                  <a:lnTo>
                    <a:pt x="37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4425840" y="811080"/>
              <a:ext cx="156240" cy="554760"/>
            </a:xfrm>
            <a:custGeom>
              <a:avLst/>
              <a:gdLst/>
              <a:ahLst/>
              <a:rect l="l" t="t" r="r" b="b"/>
              <a:pathLst>
                <a:path w="39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2" y="115"/>
                  </a:lnTo>
                  <a:lnTo>
                    <a:pt x="28" y="101"/>
                  </a:lnTo>
                  <a:lnTo>
                    <a:pt x="29" y="98"/>
                  </a:lnTo>
                  <a:lnTo>
                    <a:pt x="34" y="83"/>
                  </a:lnTo>
                  <a:lnTo>
                    <a:pt x="37" y="64"/>
                  </a:lnTo>
                  <a:lnTo>
                    <a:pt x="38" y="44"/>
                  </a:lnTo>
                  <a:lnTo>
                    <a:pt x="39" y="22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22"/>
                  </a:lnTo>
                  <a:lnTo>
                    <a:pt x="28" y="44"/>
                  </a:lnTo>
                  <a:lnTo>
                    <a:pt x="27" y="64"/>
                  </a:lnTo>
                  <a:lnTo>
                    <a:pt x="25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1" y="94"/>
                  </a:lnTo>
                  <a:lnTo>
                    <a:pt x="15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4362120" y="835560"/>
              <a:ext cx="81360" cy="2649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4100400" y="1139760"/>
              <a:ext cx="367560" cy="3736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4447080" y="1483560"/>
              <a:ext cx="397800" cy="38808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2" y="73"/>
                  </a:lnTo>
                  <a:lnTo>
                    <a:pt x="65" y="63"/>
                  </a:lnTo>
                  <a:lnTo>
                    <a:pt x="75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3"/>
                  </a:lnTo>
                  <a:lnTo>
                    <a:pt x="58" y="56"/>
                  </a:lnTo>
                  <a:lnTo>
                    <a:pt x="45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4763520" y="1477440"/>
              <a:ext cx="291960" cy="1926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7" y="44"/>
                  </a:lnTo>
                  <a:lnTo>
                    <a:pt x="43" y="41"/>
                  </a:lnTo>
                  <a:lnTo>
                    <a:pt x="47" y="38"/>
                  </a:lnTo>
                  <a:lnTo>
                    <a:pt x="56" y="29"/>
                  </a:lnTo>
                  <a:lnTo>
                    <a:pt x="65" y="18"/>
                  </a:lnTo>
                  <a:lnTo>
                    <a:pt x="74" y="6"/>
                  </a:lnTo>
                  <a:lnTo>
                    <a:pt x="67" y="0"/>
                  </a:lnTo>
                  <a:lnTo>
                    <a:pt x="58" y="11"/>
                  </a:lnTo>
                  <a:lnTo>
                    <a:pt x="49" y="22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3" y="36"/>
                  </a:lnTo>
                  <a:lnTo>
                    <a:pt x="23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4980240" y="1561320"/>
              <a:ext cx="132480" cy="4500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4133160" y="1552680"/>
              <a:ext cx="322560" cy="42768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76" y="107"/>
                  </a:moveTo>
                  <a:lnTo>
                    <a:pt x="81" y="99"/>
                  </a:lnTo>
                  <a:lnTo>
                    <a:pt x="69" y="91"/>
                  </a:lnTo>
                  <a:lnTo>
                    <a:pt x="57" y="83"/>
                  </a:lnTo>
                  <a:lnTo>
                    <a:pt x="45" y="7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8" y="80"/>
                  </a:lnTo>
                  <a:lnTo>
                    <a:pt x="50" y="90"/>
                  </a:lnTo>
                  <a:lnTo>
                    <a:pt x="62" y="98"/>
                  </a:lnTo>
                  <a:lnTo>
                    <a:pt x="76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4473720" y="2336760"/>
              <a:ext cx="142200" cy="1890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7"/>
                  </a:moveTo>
                  <a:lnTo>
                    <a:pt x="6" y="48"/>
                  </a:lnTo>
                  <a:lnTo>
                    <a:pt x="12" y="48"/>
                  </a:lnTo>
                  <a:lnTo>
                    <a:pt x="18" y="46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29" y="24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4567320" y="2303280"/>
              <a:ext cx="74880" cy="87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4473720" y="2336760"/>
              <a:ext cx="142200" cy="1890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7"/>
                  </a:moveTo>
                  <a:lnTo>
                    <a:pt x="6" y="48"/>
                  </a:lnTo>
                  <a:lnTo>
                    <a:pt x="12" y="48"/>
                  </a:lnTo>
                  <a:lnTo>
                    <a:pt x="18" y="46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29" y="24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4567320" y="2303280"/>
              <a:ext cx="74880" cy="87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4302000" y="2230560"/>
              <a:ext cx="141480" cy="1926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4271760" y="2200680"/>
              <a:ext cx="74880" cy="87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4302000" y="2230560"/>
              <a:ext cx="141480" cy="1926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4271760" y="2200680"/>
              <a:ext cx="74880" cy="87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4470840" y="2001600"/>
              <a:ext cx="138600" cy="2376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4558320" y="1959480"/>
              <a:ext cx="78480" cy="1058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4470840" y="2001600"/>
              <a:ext cx="138600" cy="2376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4558320" y="1959480"/>
              <a:ext cx="78480" cy="1058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4627440" y="1571040"/>
              <a:ext cx="20880" cy="1742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4609800" y="1528560"/>
              <a:ext cx="81360" cy="96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4627440" y="1571040"/>
              <a:ext cx="20880" cy="1742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4609800" y="1528560"/>
              <a:ext cx="81360" cy="96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4344480" y="1742760"/>
              <a:ext cx="2520" cy="14148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36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4302000" y="1700280"/>
              <a:ext cx="81360" cy="96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4344480" y="1742760"/>
              <a:ext cx="2520" cy="14148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36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4302000" y="1700280"/>
              <a:ext cx="81360" cy="96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4214520" y="1139760"/>
              <a:ext cx="8640" cy="15984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4178160" y="1091160"/>
              <a:ext cx="81360" cy="96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4214520" y="1139760"/>
              <a:ext cx="8640" cy="15984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4178160" y="1091160"/>
              <a:ext cx="81360" cy="96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1" name=""/>
          <p:cNvGrpSpPr/>
          <p:nvPr/>
        </p:nvGrpSpPr>
        <p:grpSpPr>
          <a:xfrm>
            <a:off x="2287440" y="781200"/>
            <a:ext cx="1216080" cy="2125440"/>
            <a:chOff x="2287440" y="781200"/>
            <a:chExt cx="1216080" cy="2125440"/>
          </a:xfrm>
        </p:grpSpPr>
        <p:grpSp>
          <p:nvGrpSpPr>
            <p:cNvPr id="6622" name=""/>
            <p:cNvGrpSpPr/>
            <p:nvPr/>
          </p:nvGrpSpPr>
          <p:grpSpPr>
            <a:xfrm>
              <a:off x="2287440" y="781200"/>
              <a:ext cx="1215000" cy="2124720"/>
              <a:chOff x="2287440" y="781200"/>
              <a:chExt cx="1215000" cy="2124720"/>
            </a:xfrm>
          </p:grpSpPr>
          <p:sp>
            <p:nvSpPr>
              <p:cNvPr id="6623" name=""/>
              <p:cNvSpPr/>
              <p:nvPr/>
            </p:nvSpPr>
            <p:spPr>
              <a:xfrm>
                <a:off x="2667600" y="841680"/>
                <a:ext cx="190800" cy="2064240"/>
              </a:xfrm>
              <a:custGeom>
                <a:avLst/>
                <a:gdLst/>
                <a:ahLst/>
                <a:rect l="l" t="t" r="r" b="b"/>
                <a:pathLst>
                  <a:path w="47" h="510">
                    <a:moveTo>
                      <a:pt x="36" y="510"/>
                    </a:moveTo>
                    <a:lnTo>
                      <a:pt x="46" y="510"/>
                    </a:lnTo>
                    <a:lnTo>
                      <a:pt x="46" y="420"/>
                    </a:lnTo>
                    <a:lnTo>
                      <a:pt x="46" y="374"/>
                    </a:lnTo>
                    <a:lnTo>
                      <a:pt x="46" y="326"/>
                    </a:lnTo>
                    <a:lnTo>
                      <a:pt x="46" y="300"/>
                    </a:lnTo>
                    <a:lnTo>
                      <a:pt x="47" y="273"/>
                    </a:lnTo>
                    <a:lnTo>
                      <a:pt x="47" y="216"/>
                    </a:lnTo>
                    <a:lnTo>
                      <a:pt x="47" y="188"/>
                    </a:lnTo>
                    <a:lnTo>
                      <a:pt x="47" y="162"/>
                    </a:lnTo>
                    <a:lnTo>
                      <a:pt x="46" y="138"/>
                    </a:lnTo>
                    <a:lnTo>
                      <a:pt x="44" y="116"/>
                    </a:lnTo>
                    <a:lnTo>
                      <a:pt x="41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1" y="97"/>
                    </a:lnTo>
                    <a:lnTo>
                      <a:pt x="34" y="117"/>
                    </a:lnTo>
                    <a:lnTo>
                      <a:pt x="36" y="138"/>
                    </a:lnTo>
                    <a:lnTo>
                      <a:pt x="37" y="162"/>
                    </a:lnTo>
                    <a:lnTo>
                      <a:pt x="37" y="188"/>
                    </a:lnTo>
                    <a:lnTo>
                      <a:pt x="37" y="216"/>
                    </a:lnTo>
                    <a:lnTo>
                      <a:pt x="37" y="273"/>
                    </a:lnTo>
                    <a:lnTo>
                      <a:pt x="36" y="300"/>
                    </a:lnTo>
                    <a:lnTo>
                      <a:pt x="36" y="326"/>
                    </a:lnTo>
                    <a:lnTo>
                      <a:pt x="36" y="374"/>
                    </a:lnTo>
                    <a:lnTo>
                      <a:pt x="36" y="420"/>
                    </a:lnTo>
                    <a:lnTo>
                      <a:pt x="36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2810160" y="781200"/>
                <a:ext cx="153360" cy="56160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1" y="115"/>
                    </a:lnTo>
                    <a:lnTo>
                      <a:pt x="27" y="101"/>
                    </a:lnTo>
                    <a:lnTo>
                      <a:pt x="29" y="98"/>
                    </a:lnTo>
                    <a:lnTo>
                      <a:pt x="33" y="83"/>
                    </a:lnTo>
                    <a:lnTo>
                      <a:pt x="36" y="64"/>
                    </a:lnTo>
                    <a:lnTo>
                      <a:pt x="37" y="44"/>
                    </a:lnTo>
                    <a:lnTo>
                      <a:pt x="38" y="22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22"/>
                    </a:lnTo>
                    <a:lnTo>
                      <a:pt x="27" y="44"/>
                    </a:lnTo>
                    <a:lnTo>
                      <a:pt x="26" y="64"/>
                    </a:lnTo>
                    <a:lnTo>
                      <a:pt x="24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0" y="94"/>
                    </a:lnTo>
                    <a:lnTo>
                      <a:pt x="14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2744640" y="804960"/>
                <a:ext cx="80640" cy="266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2477520" y="1108800"/>
                <a:ext cx="372960" cy="384480"/>
              </a:xfrm>
              <a:custGeom>
                <a:avLst/>
                <a:gdLst/>
                <a:ahLst/>
                <a:rect l="l" t="t" r="r" b="b"/>
                <a:pathLst>
                  <a:path w="92" h="95">
                    <a:moveTo>
                      <a:pt x="84" y="95"/>
                    </a:moveTo>
                    <a:lnTo>
                      <a:pt x="92" y="90"/>
                    </a:lnTo>
                    <a:lnTo>
                      <a:pt x="87" y="81"/>
                    </a:lnTo>
                    <a:lnTo>
                      <a:pt x="82" y="73"/>
                    </a:lnTo>
                    <a:lnTo>
                      <a:pt x="75" y="65"/>
                    </a:lnTo>
                    <a:lnTo>
                      <a:pt x="66" y="57"/>
                    </a:lnTo>
                    <a:lnTo>
                      <a:pt x="63" y="61"/>
                    </a:lnTo>
                    <a:lnTo>
                      <a:pt x="67" y="58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5"/>
                    </a:lnTo>
                    <a:lnTo>
                      <a:pt x="60" y="65"/>
                    </a:lnTo>
                    <a:lnTo>
                      <a:pt x="68" y="72"/>
                    </a:lnTo>
                    <a:lnTo>
                      <a:pt x="75" y="80"/>
                    </a:lnTo>
                    <a:lnTo>
                      <a:pt x="80" y="88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2830320" y="1460160"/>
                <a:ext cx="400320" cy="39744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1" y="73"/>
                    </a:lnTo>
                    <a:lnTo>
                      <a:pt x="64" y="63"/>
                    </a:lnTo>
                    <a:lnTo>
                      <a:pt x="74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99" y="4"/>
                    </a:lnTo>
                    <a:lnTo>
                      <a:pt x="91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7" y="43"/>
                    </a:lnTo>
                    <a:lnTo>
                      <a:pt x="57" y="56"/>
                    </a:lnTo>
                    <a:lnTo>
                      <a:pt x="44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3150000" y="1456560"/>
                <a:ext cx="295560" cy="194400"/>
              </a:xfrm>
              <a:custGeom>
                <a:avLst/>
                <a:gdLst/>
                <a:ahLst/>
                <a:rect l="l" t="t" r="r" b="b"/>
                <a:pathLst>
                  <a:path w="73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29" y="46"/>
                    </a:lnTo>
                    <a:lnTo>
                      <a:pt x="36" y="44"/>
                    </a:lnTo>
                    <a:lnTo>
                      <a:pt x="42" y="41"/>
                    </a:lnTo>
                    <a:lnTo>
                      <a:pt x="46" y="38"/>
                    </a:lnTo>
                    <a:lnTo>
                      <a:pt x="55" y="29"/>
                    </a:lnTo>
                    <a:lnTo>
                      <a:pt x="64" y="18"/>
                    </a:lnTo>
                    <a:lnTo>
                      <a:pt x="73" y="6"/>
                    </a:lnTo>
                    <a:lnTo>
                      <a:pt x="66" y="0"/>
                    </a:lnTo>
                    <a:lnTo>
                      <a:pt x="57" y="11"/>
                    </a:lnTo>
                    <a:lnTo>
                      <a:pt x="48" y="22"/>
                    </a:lnTo>
                    <a:lnTo>
                      <a:pt x="39" y="31"/>
                    </a:lnTo>
                    <a:lnTo>
                      <a:pt x="35" y="34"/>
                    </a:lnTo>
                    <a:lnTo>
                      <a:pt x="32" y="36"/>
                    </a:lnTo>
                    <a:lnTo>
                      <a:pt x="22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3368520" y="1541880"/>
                <a:ext cx="133920" cy="4392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2505960" y="1533600"/>
                <a:ext cx="331560" cy="43308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77" y="107"/>
                    </a:moveTo>
                    <a:lnTo>
                      <a:pt x="82" y="99"/>
                    </a:lnTo>
                    <a:lnTo>
                      <a:pt x="70" y="91"/>
                    </a:lnTo>
                    <a:lnTo>
                      <a:pt x="57" y="83"/>
                    </a:lnTo>
                    <a:lnTo>
                      <a:pt x="46" y="73"/>
                    </a:lnTo>
                    <a:lnTo>
                      <a:pt x="36" y="62"/>
                    </a:lnTo>
                    <a:lnTo>
                      <a:pt x="27" y="48"/>
                    </a:lnTo>
                    <a:lnTo>
                      <a:pt x="20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3" y="39"/>
                    </a:lnTo>
                    <a:lnTo>
                      <a:pt x="20" y="55"/>
                    </a:lnTo>
                    <a:lnTo>
                      <a:pt x="28" y="68"/>
                    </a:lnTo>
                    <a:lnTo>
                      <a:pt x="39" y="80"/>
                    </a:lnTo>
                    <a:lnTo>
                      <a:pt x="50" y="90"/>
                    </a:lnTo>
                    <a:lnTo>
                      <a:pt x="63" y="98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2339640" y="1517040"/>
                <a:ext cx="238680" cy="202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43"/>
                    </a:moveTo>
                    <a:lnTo>
                      <a:pt x="55" y="35"/>
                    </a:lnTo>
                    <a:lnTo>
                      <a:pt x="47" y="39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4" y="39"/>
                    </a:lnTo>
                    <a:lnTo>
                      <a:pt x="34" y="44"/>
                    </a:lnTo>
                    <a:lnTo>
                      <a:pt x="38" y="40"/>
                    </a:lnTo>
                    <a:lnTo>
                      <a:pt x="34" y="38"/>
                    </a:lnTo>
                    <a:lnTo>
                      <a:pt x="31" y="42"/>
                    </a:lnTo>
                    <a:lnTo>
                      <a:pt x="34" y="38"/>
                    </a:lnTo>
                    <a:lnTo>
                      <a:pt x="31" y="36"/>
                    </a:lnTo>
                    <a:lnTo>
                      <a:pt x="28" y="32"/>
                    </a:lnTo>
                    <a:lnTo>
                      <a:pt x="21" y="23"/>
                    </a:lnTo>
                    <a:lnTo>
                      <a:pt x="14" y="1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7" y="18"/>
                    </a:lnTo>
                    <a:lnTo>
                      <a:pt x="14" y="30"/>
                    </a:lnTo>
                    <a:lnTo>
                      <a:pt x="21" y="39"/>
                    </a:lnTo>
                    <a:lnTo>
                      <a:pt x="24" y="43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8" y="50"/>
                    </a:lnTo>
                    <a:lnTo>
                      <a:pt x="44" y="49"/>
                    </a:lnTo>
                    <a:lnTo>
                      <a:pt x="51" y="47"/>
                    </a:lnTo>
                    <a:lnTo>
                      <a:pt x="54" y="46"/>
                    </a:lnTo>
                    <a:lnTo>
                      <a:pt x="59" y="4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2287440" y="1573920"/>
                <a:ext cx="109080" cy="4392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27" y="10"/>
                    </a:moveTo>
                    <a:lnTo>
                      <a:pt x="26" y="0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0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3" name=""/>
            <p:cNvSpPr/>
            <p:nvPr/>
          </p:nvSpPr>
          <p:spPr>
            <a:xfrm>
              <a:off x="2666880" y="843120"/>
              <a:ext cx="190440" cy="206352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2808000" y="781200"/>
              <a:ext cx="155520" cy="56340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2742840" y="804960"/>
              <a:ext cx="82800" cy="2667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2477880" y="1108080"/>
              <a:ext cx="372960" cy="38592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2828880" y="1460520"/>
              <a:ext cx="401400" cy="398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151080" y="1457280"/>
              <a:ext cx="29376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368520" y="1543320"/>
              <a:ext cx="13500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2504880" y="1535040"/>
              <a:ext cx="333360" cy="4305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2339640" y="1519200"/>
              <a:ext cx="238320" cy="2016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2287440" y="1575000"/>
              <a:ext cx="109440" cy="460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2666880" y="843120"/>
              <a:ext cx="190440" cy="206352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2808000" y="781200"/>
              <a:ext cx="155520" cy="56340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2742840" y="804960"/>
              <a:ext cx="82800" cy="2667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2477880" y="1108080"/>
              <a:ext cx="372960" cy="38592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2828880" y="1460520"/>
              <a:ext cx="401400" cy="398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3151080" y="1457280"/>
              <a:ext cx="29376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3368520" y="1543320"/>
              <a:ext cx="13500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2504880" y="1535040"/>
              <a:ext cx="333360" cy="4305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2339640" y="1519200"/>
              <a:ext cx="238320" cy="2016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2287440" y="1575000"/>
              <a:ext cx="109440" cy="460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3" name=""/>
          <p:cNvSpPr/>
          <p:nvPr/>
        </p:nvSpPr>
        <p:spPr>
          <a:xfrm>
            <a:off x="3000240" y="5429160"/>
            <a:ext cx="1359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4" name=""/>
          <p:cNvGrpSpPr/>
          <p:nvPr/>
        </p:nvGrpSpPr>
        <p:grpSpPr>
          <a:xfrm>
            <a:off x="2448000" y="3649680"/>
            <a:ext cx="1805760" cy="2412360"/>
            <a:chOff x="2448000" y="3649680"/>
            <a:chExt cx="1805760" cy="2412360"/>
          </a:xfrm>
        </p:grpSpPr>
        <p:sp>
          <p:nvSpPr>
            <p:cNvPr id="6655" name=""/>
            <p:cNvSpPr/>
            <p:nvPr/>
          </p:nvSpPr>
          <p:spPr>
            <a:xfrm>
              <a:off x="3451680" y="5281920"/>
              <a:ext cx="80208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6" name=""/>
            <p:cNvGrpSpPr/>
            <p:nvPr/>
          </p:nvGrpSpPr>
          <p:grpSpPr>
            <a:xfrm>
              <a:off x="2448000" y="3649680"/>
              <a:ext cx="1214640" cy="2124360"/>
              <a:chOff x="2448000" y="3649680"/>
              <a:chExt cx="1214640" cy="2124360"/>
            </a:xfrm>
          </p:grpSpPr>
          <p:sp>
            <p:nvSpPr>
              <p:cNvPr id="6657" name=""/>
              <p:cNvSpPr/>
              <p:nvPr/>
            </p:nvSpPr>
            <p:spPr>
              <a:xfrm>
                <a:off x="2827800" y="3710160"/>
                <a:ext cx="190800" cy="2063880"/>
              </a:xfrm>
              <a:custGeom>
                <a:avLst/>
                <a:gdLst/>
                <a:ahLst/>
                <a:rect l="l" t="t" r="r" b="b"/>
                <a:pathLst>
                  <a:path w="47" h="510">
                    <a:moveTo>
                      <a:pt x="36" y="510"/>
                    </a:moveTo>
                    <a:lnTo>
                      <a:pt x="46" y="510"/>
                    </a:lnTo>
                    <a:lnTo>
                      <a:pt x="46" y="420"/>
                    </a:lnTo>
                    <a:lnTo>
                      <a:pt x="46" y="374"/>
                    </a:lnTo>
                    <a:lnTo>
                      <a:pt x="46" y="326"/>
                    </a:lnTo>
                    <a:lnTo>
                      <a:pt x="46" y="300"/>
                    </a:lnTo>
                    <a:lnTo>
                      <a:pt x="47" y="273"/>
                    </a:lnTo>
                    <a:lnTo>
                      <a:pt x="47" y="216"/>
                    </a:lnTo>
                    <a:lnTo>
                      <a:pt x="47" y="188"/>
                    </a:lnTo>
                    <a:lnTo>
                      <a:pt x="47" y="162"/>
                    </a:lnTo>
                    <a:lnTo>
                      <a:pt x="46" y="138"/>
                    </a:lnTo>
                    <a:lnTo>
                      <a:pt x="44" y="116"/>
                    </a:lnTo>
                    <a:lnTo>
                      <a:pt x="41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1" y="97"/>
                    </a:lnTo>
                    <a:lnTo>
                      <a:pt x="34" y="117"/>
                    </a:lnTo>
                    <a:lnTo>
                      <a:pt x="36" y="138"/>
                    </a:lnTo>
                    <a:lnTo>
                      <a:pt x="37" y="162"/>
                    </a:lnTo>
                    <a:lnTo>
                      <a:pt x="37" y="188"/>
                    </a:lnTo>
                    <a:lnTo>
                      <a:pt x="37" y="216"/>
                    </a:lnTo>
                    <a:lnTo>
                      <a:pt x="37" y="273"/>
                    </a:lnTo>
                    <a:lnTo>
                      <a:pt x="36" y="300"/>
                    </a:lnTo>
                    <a:lnTo>
                      <a:pt x="36" y="326"/>
                    </a:lnTo>
                    <a:lnTo>
                      <a:pt x="36" y="374"/>
                    </a:lnTo>
                    <a:lnTo>
                      <a:pt x="36" y="420"/>
                    </a:lnTo>
                    <a:lnTo>
                      <a:pt x="36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2970360" y="3649680"/>
                <a:ext cx="153000" cy="56160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1" y="115"/>
                    </a:lnTo>
                    <a:lnTo>
                      <a:pt x="27" y="101"/>
                    </a:lnTo>
                    <a:lnTo>
                      <a:pt x="29" y="98"/>
                    </a:lnTo>
                    <a:lnTo>
                      <a:pt x="33" y="83"/>
                    </a:lnTo>
                    <a:lnTo>
                      <a:pt x="36" y="64"/>
                    </a:lnTo>
                    <a:lnTo>
                      <a:pt x="37" y="44"/>
                    </a:lnTo>
                    <a:lnTo>
                      <a:pt x="38" y="22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22"/>
                    </a:lnTo>
                    <a:lnTo>
                      <a:pt x="27" y="44"/>
                    </a:lnTo>
                    <a:lnTo>
                      <a:pt x="26" y="64"/>
                    </a:lnTo>
                    <a:lnTo>
                      <a:pt x="24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0" y="94"/>
                    </a:lnTo>
                    <a:lnTo>
                      <a:pt x="14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2905200" y="3673440"/>
                <a:ext cx="80640" cy="266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2637720" y="3977280"/>
                <a:ext cx="372600" cy="384480"/>
              </a:xfrm>
              <a:custGeom>
                <a:avLst/>
                <a:gdLst/>
                <a:ahLst/>
                <a:rect l="l" t="t" r="r" b="b"/>
                <a:pathLst>
                  <a:path w="92" h="95">
                    <a:moveTo>
                      <a:pt x="84" y="95"/>
                    </a:moveTo>
                    <a:lnTo>
                      <a:pt x="92" y="90"/>
                    </a:lnTo>
                    <a:lnTo>
                      <a:pt x="87" y="81"/>
                    </a:lnTo>
                    <a:lnTo>
                      <a:pt x="82" y="73"/>
                    </a:lnTo>
                    <a:lnTo>
                      <a:pt x="75" y="65"/>
                    </a:lnTo>
                    <a:lnTo>
                      <a:pt x="66" y="57"/>
                    </a:lnTo>
                    <a:lnTo>
                      <a:pt x="63" y="61"/>
                    </a:lnTo>
                    <a:lnTo>
                      <a:pt x="67" y="58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5"/>
                    </a:lnTo>
                    <a:lnTo>
                      <a:pt x="60" y="65"/>
                    </a:lnTo>
                    <a:lnTo>
                      <a:pt x="68" y="72"/>
                    </a:lnTo>
                    <a:lnTo>
                      <a:pt x="75" y="80"/>
                    </a:lnTo>
                    <a:lnTo>
                      <a:pt x="80" y="88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2990520" y="4328640"/>
                <a:ext cx="400320" cy="3970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1" y="73"/>
                    </a:lnTo>
                    <a:lnTo>
                      <a:pt x="64" y="63"/>
                    </a:lnTo>
                    <a:lnTo>
                      <a:pt x="74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99" y="4"/>
                    </a:lnTo>
                    <a:lnTo>
                      <a:pt x="91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7" y="43"/>
                    </a:lnTo>
                    <a:lnTo>
                      <a:pt x="57" y="56"/>
                    </a:lnTo>
                    <a:lnTo>
                      <a:pt x="44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3310200" y="4325040"/>
                <a:ext cx="295560" cy="194400"/>
              </a:xfrm>
              <a:custGeom>
                <a:avLst/>
                <a:gdLst/>
                <a:ahLst/>
                <a:rect l="l" t="t" r="r" b="b"/>
                <a:pathLst>
                  <a:path w="73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29" y="46"/>
                    </a:lnTo>
                    <a:lnTo>
                      <a:pt x="36" y="44"/>
                    </a:lnTo>
                    <a:lnTo>
                      <a:pt x="42" y="41"/>
                    </a:lnTo>
                    <a:lnTo>
                      <a:pt x="46" y="38"/>
                    </a:lnTo>
                    <a:lnTo>
                      <a:pt x="55" y="29"/>
                    </a:lnTo>
                    <a:lnTo>
                      <a:pt x="64" y="18"/>
                    </a:lnTo>
                    <a:lnTo>
                      <a:pt x="73" y="6"/>
                    </a:lnTo>
                    <a:lnTo>
                      <a:pt x="66" y="0"/>
                    </a:lnTo>
                    <a:lnTo>
                      <a:pt x="57" y="11"/>
                    </a:lnTo>
                    <a:lnTo>
                      <a:pt x="48" y="22"/>
                    </a:lnTo>
                    <a:lnTo>
                      <a:pt x="39" y="31"/>
                    </a:lnTo>
                    <a:lnTo>
                      <a:pt x="35" y="34"/>
                    </a:lnTo>
                    <a:lnTo>
                      <a:pt x="32" y="36"/>
                    </a:lnTo>
                    <a:lnTo>
                      <a:pt x="22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3528720" y="4410360"/>
                <a:ext cx="133920" cy="4392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2666520" y="4402080"/>
                <a:ext cx="331200" cy="43308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77" y="107"/>
                    </a:moveTo>
                    <a:lnTo>
                      <a:pt x="82" y="99"/>
                    </a:lnTo>
                    <a:lnTo>
                      <a:pt x="70" y="91"/>
                    </a:lnTo>
                    <a:lnTo>
                      <a:pt x="57" y="83"/>
                    </a:lnTo>
                    <a:lnTo>
                      <a:pt x="46" y="73"/>
                    </a:lnTo>
                    <a:lnTo>
                      <a:pt x="36" y="62"/>
                    </a:lnTo>
                    <a:lnTo>
                      <a:pt x="27" y="48"/>
                    </a:lnTo>
                    <a:lnTo>
                      <a:pt x="20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3" y="39"/>
                    </a:lnTo>
                    <a:lnTo>
                      <a:pt x="20" y="55"/>
                    </a:lnTo>
                    <a:lnTo>
                      <a:pt x="28" y="68"/>
                    </a:lnTo>
                    <a:lnTo>
                      <a:pt x="39" y="80"/>
                    </a:lnTo>
                    <a:lnTo>
                      <a:pt x="50" y="90"/>
                    </a:lnTo>
                    <a:lnTo>
                      <a:pt x="63" y="98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2500200" y="4385520"/>
                <a:ext cx="238680" cy="202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43"/>
                    </a:moveTo>
                    <a:lnTo>
                      <a:pt x="55" y="35"/>
                    </a:lnTo>
                    <a:lnTo>
                      <a:pt x="47" y="39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4" y="39"/>
                    </a:lnTo>
                    <a:lnTo>
                      <a:pt x="34" y="44"/>
                    </a:lnTo>
                    <a:lnTo>
                      <a:pt x="38" y="40"/>
                    </a:lnTo>
                    <a:lnTo>
                      <a:pt x="34" y="38"/>
                    </a:lnTo>
                    <a:lnTo>
                      <a:pt x="31" y="42"/>
                    </a:lnTo>
                    <a:lnTo>
                      <a:pt x="34" y="38"/>
                    </a:lnTo>
                    <a:lnTo>
                      <a:pt x="31" y="36"/>
                    </a:lnTo>
                    <a:lnTo>
                      <a:pt x="28" y="32"/>
                    </a:lnTo>
                    <a:lnTo>
                      <a:pt x="21" y="23"/>
                    </a:lnTo>
                    <a:lnTo>
                      <a:pt x="14" y="1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7" y="18"/>
                    </a:lnTo>
                    <a:lnTo>
                      <a:pt x="14" y="30"/>
                    </a:lnTo>
                    <a:lnTo>
                      <a:pt x="21" y="39"/>
                    </a:lnTo>
                    <a:lnTo>
                      <a:pt x="24" y="43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8" y="50"/>
                    </a:lnTo>
                    <a:lnTo>
                      <a:pt x="44" y="49"/>
                    </a:lnTo>
                    <a:lnTo>
                      <a:pt x="51" y="47"/>
                    </a:lnTo>
                    <a:lnTo>
                      <a:pt x="54" y="46"/>
                    </a:lnTo>
                    <a:lnTo>
                      <a:pt x="59" y="4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2448000" y="4442400"/>
                <a:ext cx="109080" cy="4392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27" y="10"/>
                    </a:moveTo>
                    <a:lnTo>
                      <a:pt x="26" y="0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0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7" name=""/>
            <p:cNvSpPr/>
            <p:nvPr/>
          </p:nvSpPr>
          <p:spPr>
            <a:xfrm>
              <a:off x="3451680" y="5281920"/>
              <a:ext cx="80208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2827440" y="3710520"/>
              <a:ext cx="189360" cy="206388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2968560" y="3649680"/>
              <a:ext cx="155880" cy="56376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2903760" y="3673800"/>
              <a:ext cx="82440" cy="2664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2637360" y="3977280"/>
              <a:ext cx="373320" cy="38592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2989800" y="4329360"/>
              <a:ext cx="400320" cy="39780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3311280" y="4326480"/>
              <a:ext cx="293400" cy="19296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3528720" y="4411800"/>
              <a:ext cx="13464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2665080" y="4402800"/>
              <a:ext cx="333720" cy="43164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2499840" y="4387680"/>
              <a:ext cx="238680" cy="2019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2448000" y="4442400"/>
              <a:ext cx="110160" cy="457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2827440" y="3710520"/>
              <a:ext cx="189360" cy="206388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2968560" y="3649680"/>
              <a:ext cx="155880" cy="56376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2903760" y="3673800"/>
              <a:ext cx="82440" cy="2664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2637360" y="3977280"/>
              <a:ext cx="373320" cy="38592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2989800" y="4329360"/>
              <a:ext cx="400320" cy="39780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3311280" y="4326480"/>
              <a:ext cx="293400" cy="19296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3528720" y="4411800"/>
              <a:ext cx="13464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2665080" y="4402800"/>
              <a:ext cx="333720" cy="43164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2499840" y="4387680"/>
              <a:ext cx="238680" cy="2019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2448000" y="4442400"/>
              <a:ext cx="110160" cy="457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8" name=""/>
          <p:cNvGrpSpPr/>
          <p:nvPr/>
        </p:nvGrpSpPr>
        <p:grpSpPr>
          <a:xfrm>
            <a:off x="4232160" y="4043520"/>
            <a:ext cx="1216080" cy="1731960"/>
            <a:chOff x="4232160" y="4043520"/>
            <a:chExt cx="1216080" cy="1731960"/>
          </a:xfrm>
        </p:grpSpPr>
        <p:sp>
          <p:nvSpPr>
            <p:cNvPr id="6689" name=""/>
            <p:cNvSpPr/>
            <p:nvPr/>
          </p:nvSpPr>
          <p:spPr>
            <a:xfrm>
              <a:off x="4775040" y="4327560"/>
              <a:ext cx="401760" cy="3967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5095800" y="4324320"/>
              <a:ext cx="29520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5315040" y="4408560"/>
              <a:ext cx="133200" cy="460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4451400" y="4400640"/>
              <a:ext cx="331560" cy="43344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4284720" y="4384800"/>
              <a:ext cx="239760" cy="2030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4232160" y="4441680"/>
              <a:ext cx="109800" cy="44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4773600" y="4327560"/>
              <a:ext cx="401760" cy="398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5095800" y="4324320"/>
              <a:ext cx="29376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5313240" y="4410000"/>
              <a:ext cx="13500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4449600" y="4402080"/>
              <a:ext cx="333360" cy="43020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4284720" y="4386240"/>
              <a:ext cx="237960" cy="2016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4232160" y="4441680"/>
              <a:ext cx="109800" cy="460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4773600" y="4327560"/>
              <a:ext cx="401760" cy="398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5095800" y="4324320"/>
              <a:ext cx="29376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5313240" y="4410000"/>
              <a:ext cx="13500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4449600" y="4402080"/>
              <a:ext cx="333360" cy="43020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4284720" y="4386240"/>
              <a:ext cx="237960" cy="2016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4232160" y="4441680"/>
              <a:ext cx="109800" cy="460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4767120" y="4411800"/>
              <a:ext cx="19080" cy="1363680"/>
            </a:xfrm>
            <a:custGeom>
              <a:avLst/>
              <a:gdLst/>
              <a:ahLst/>
              <a:rect l="l" t="t" r="r" b="b"/>
              <a:pathLst>
                <a:path w="12" h="859">
                  <a:moveTo>
                    <a:pt x="0" y="859"/>
                  </a:moveTo>
                  <a:cubicBezTo>
                    <a:pt x="4" y="638"/>
                    <a:pt x="8" y="417"/>
                    <a:pt x="10" y="274"/>
                  </a:cubicBezTo>
                  <a:cubicBezTo>
                    <a:pt x="12" y="131"/>
                    <a:pt x="11" y="65"/>
                    <a:pt x="10" y="0"/>
                  </a:cubicBezTo>
                </a:path>
              </a:pathLst>
            </a:custGeom>
            <a:noFill/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4613760" y="4043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9" name=""/>
          <p:cNvGrpSpPr/>
          <p:nvPr/>
        </p:nvGrpSpPr>
        <p:grpSpPr>
          <a:xfrm>
            <a:off x="6261120" y="4041720"/>
            <a:ext cx="1216080" cy="1731960"/>
            <a:chOff x="6261120" y="4041720"/>
            <a:chExt cx="1216080" cy="1731960"/>
          </a:xfrm>
        </p:grpSpPr>
        <p:sp>
          <p:nvSpPr>
            <p:cNvPr id="6710" name=""/>
            <p:cNvSpPr/>
            <p:nvPr/>
          </p:nvSpPr>
          <p:spPr>
            <a:xfrm>
              <a:off x="6804000" y="4326120"/>
              <a:ext cx="401760" cy="3967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7124760" y="4322880"/>
              <a:ext cx="29520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7343640" y="4407120"/>
              <a:ext cx="133560" cy="460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6480000" y="4399200"/>
              <a:ext cx="331920" cy="43344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6313320" y="4383360"/>
              <a:ext cx="239760" cy="2030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6261120" y="4440240"/>
              <a:ext cx="109440" cy="44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6802560" y="4326120"/>
              <a:ext cx="401400" cy="398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7124760" y="4322880"/>
              <a:ext cx="29376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7342200" y="4408560"/>
              <a:ext cx="13500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6478560" y="4400640"/>
              <a:ext cx="333360" cy="43020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6313320" y="4384800"/>
              <a:ext cx="238320" cy="2016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6261120" y="4440240"/>
              <a:ext cx="109440" cy="460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6802560" y="4326120"/>
              <a:ext cx="401400" cy="398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7124760" y="4322880"/>
              <a:ext cx="29376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7342200" y="4408560"/>
              <a:ext cx="13500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6478560" y="4400640"/>
              <a:ext cx="333360" cy="43020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6313320" y="4384800"/>
              <a:ext cx="238320" cy="2016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6261120" y="4440240"/>
              <a:ext cx="109440" cy="460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6796080" y="4410360"/>
              <a:ext cx="19080" cy="1363320"/>
            </a:xfrm>
            <a:custGeom>
              <a:avLst/>
              <a:gdLst/>
              <a:ahLst/>
              <a:rect l="l" t="t" r="r" b="b"/>
              <a:pathLst>
                <a:path w="12" h="859">
                  <a:moveTo>
                    <a:pt x="0" y="859"/>
                  </a:moveTo>
                  <a:cubicBezTo>
                    <a:pt x="4" y="638"/>
                    <a:pt x="8" y="417"/>
                    <a:pt x="10" y="274"/>
                  </a:cubicBezTo>
                  <a:cubicBezTo>
                    <a:pt x="12" y="131"/>
                    <a:pt x="11" y="65"/>
                    <a:pt x="10" y="0"/>
                  </a:cubicBezTo>
                </a:path>
              </a:pathLst>
            </a:custGeom>
            <a:noFill/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6642360" y="40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7032600" y="4151520"/>
              <a:ext cx="28440" cy="406440"/>
            </a:xfrm>
            <a:custGeom>
              <a:avLst/>
              <a:gdLst/>
              <a:ahLst/>
              <a:rect l="l" t="t" r="r" b="b"/>
              <a:pathLst>
                <a:path w="18" h="256">
                  <a:moveTo>
                    <a:pt x="0" y="256"/>
                  </a:moveTo>
                  <a:cubicBezTo>
                    <a:pt x="0" y="256"/>
                    <a:pt x="9" y="128"/>
                    <a:pt x="18" y="0"/>
                  </a:cubicBezTo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6580080" y="4353120"/>
              <a:ext cx="42840" cy="203040"/>
            </a:xfrm>
            <a:custGeom>
              <a:avLst/>
              <a:gdLst/>
              <a:ahLst/>
              <a:rect l="l" t="t" r="r" b="b"/>
              <a:pathLst>
                <a:path w="18" h="256">
                  <a:moveTo>
                    <a:pt x="0" y="256"/>
                  </a:moveTo>
                  <a:cubicBezTo>
                    <a:pt x="0" y="256"/>
                    <a:pt x="9" y="128"/>
                    <a:pt x="18" y="0"/>
                  </a:cubicBezTo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6815160" y="4789440"/>
              <a:ext cx="203040" cy="347760"/>
            </a:xfrm>
            <a:custGeom>
              <a:avLst/>
              <a:gdLst/>
              <a:ahLst/>
              <a:rect l="l" t="t" r="r" b="b"/>
              <a:pathLst>
                <a:path w="128" h="219">
                  <a:moveTo>
                    <a:pt x="0" y="219"/>
                  </a:moveTo>
                  <a:cubicBezTo>
                    <a:pt x="30" y="205"/>
                    <a:pt x="61" y="191"/>
                    <a:pt x="82" y="155"/>
                  </a:cubicBezTo>
                  <a:cubicBezTo>
                    <a:pt x="103" y="119"/>
                    <a:pt x="115" y="59"/>
                    <a:pt x="12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 flipH="1">
              <a:off x="6581880" y="5005440"/>
              <a:ext cx="203040" cy="347760"/>
            </a:xfrm>
            <a:custGeom>
              <a:avLst/>
              <a:gdLst/>
              <a:ahLst/>
              <a:rect l="l" t="t" r="r" b="b"/>
              <a:pathLst>
                <a:path w="128" h="219">
                  <a:moveTo>
                    <a:pt x="0" y="219"/>
                  </a:moveTo>
                  <a:cubicBezTo>
                    <a:pt x="30" y="205"/>
                    <a:pt x="61" y="191"/>
                    <a:pt x="82" y="155"/>
                  </a:cubicBezTo>
                  <a:cubicBezTo>
                    <a:pt x="103" y="119"/>
                    <a:pt x="115" y="59"/>
                    <a:pt x="12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2359080" y="5776920"/>
            <a:ext cx="51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>
            <a:off x="2581200" y="2944800"/>
            <a:ext cx="51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>
            <a:off x="2046240" y="623880"/>
            <a:ext cx="115920" cy="5675400"/>
          </a:xfrm>
          <a:custGeom>
            <a:avLst/>
            <a:gdLst>
              <a:gd name="textAreaLeft" fmla="*/ 74160 w 115920"/>
              <a:gd name="textAreaRight" fmla="*/ 116280 w 115920"/>
              <a:gd name="textAreaTop" fmla="*/ 147960 h 5675400"/>
              <a:gd name="textAreaBottom" fmla="*/ 5527440 h 567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1080" y="71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9" name=""/>
          <p:cNvSpPr/>
          <p:nvPr/>
        </p:nvSpPr>
        <p:spPr>
          <a:xfrm>
            <a:off x="560520" y="631800"/>
            <a:ext cx="85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Une plus forte proportion d’individus de classe C et D en bas-fond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0" name=""/>
          <p:cNvGrpSpPr/>
          <p:nvPr/>
        </p:nvGrpSpPr>
        <p:grpSpPr>
          <a:xfrm>
            <a:off x="2333520" y="1612800"/>
            <a:ext cx="1569960" cy="3463200"/>
            <a:chOff x="2333520" y="1612800"/>
            <a:chExt cx="1569960" cy="3463200"/>
          </a:xfrm>
        </p:grpSpPr>
        <p:sp>
          <p:nvSpPr>
            <p:cNvPr id="6741" name=""/>
            <p:cNvSpPr/>
            <p:nvPr/>
          </p:nvSpPr>
          <p:spPr>
            <a:xfrm>
              <a:off x="2929680" y="2118600"/>
              <a:ext cx="263880" cy="256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2333520" y="1947240"/>
              <a:ext cx="653760" cy="66600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2952000" y="2566080"/>
              <a:ext cx="711360" cy="6865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2391480" y="2686680"/>
              <a:ext cx="567720" cy="76464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5" name=""/>
            <p:cNvGrpSpPr/>
            <p:nvPr/>
          </p:nvGrpSpPr>
          <p:grpSpPr>
            <a:xfrm>
              <a:off x="2994840" y="4019400"/>
              <a:ext cx="302760" cy="403200"/>
              <a:chOff x="2994840" y="4019400"/>
              <a:chExt cx="302760" cy="403200"/>
            </a:xfrm>
          </p:grpSpPr>
          <p:sp>
            <p:nvSpPr>
              <p:cNvPr id="6746" name=""/>
              <p:cNvSpPr/>
              <p:nvPr/>
            </p:nvSpPr>
            <p:spPr>
              <a:xfrm>
                <a:off x="2994840" y="4075560"/>
                <a:ext cx="245520" cy="34704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3163680" y="4019400"/>
                <a:ext cx="133920" cy="1558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8" name=""/>
            <p:cNvGrpSpPr/>
            <p:nvPr/>
          </p:nvGrpSpPr>
          <p:grpSpPr>
            <a:xfrm>
              <a:off x="2640240" y="3833640"/>
              <a:ext cx="295560" cy="396000"/>
              <a:chOff x="2640240" y="3833640"/>
              <a:chExt cx="295560" cy="396000"/>
            </a:xfrm>
          </p:grpSpPr>
          <p:sp>
            <p:nvSpPr>
              <p:cNvPr id="6749" name=""/>
              <p:cNvSpPr/>
              <p:nvPr/>
            </p:nvSpPr>
            <p:spPr>
              <a:xfrm>
                <a:off x="2688120" y="3891240"/>
                <a:ext cx="247680" cy="33840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2640240" y="3833640"/>
                <a:ext cx="132480" cy="1555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1" name=""/>
            <p:cNvGrpSpPr/>
            <p:nvPr/>
          </p:nvGrpSpPr>
          <p:grpSpPr>
            <a:xfrm>
              <a:off x="2987280" y="3408480"/>
              <a:ext cx="305280" cy="496440"/>
              <a:chOff x="2987280" y="3408480"/>
              <a:chExt cx="305280" cy="496440"/>
            </a:xfrm>
          </p:grpSpPr>
          <p:sp>
            <p:nvSpPr>
              <p:cNvPr id="6752" name=""/>
              <p:cNvSpPr/>
              <p:nvPr/>
            </p:nvSpPr>
            <p:spPr>
              <a:xfrm>
                <a:off x="2987280" y="3479040"/>
                <a:ext cx="248760" cy="4258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3150360" y="3408480"/>
                <a:ext cx="142200" cy="1828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4" name=""/>
            <p:cNvGrpSpPr/>
            <p:nvPr/>
          </p:nvGrpSpPr>
          <p:grpSpPr>
            <a:xfrm>
              <a:off x="3243960" y="2643840"/>
              <a:ext cx="139320" cy="380880"/>
              <a:chOff x="3243960" y="2643840"/>
              <a:chExt cx="139320" cy="380880"/>
            </a:xfrm>
          </p:grpSpPr>
          <p:sp>
            <p:nvSpPr>
              <p:cNvPr id="6755" name=""/>
              <p:cNvSpPr/>
              <p:nvPr/>
            </p:nvSpPr>
            <p:spPr>
              <a:xfrm>
                <a:off x="3272040" y="2714040"/>
                <a:ext cx="40680" cy="31068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3243960" y="2643840"/>
                <a:ext cx="139320" cy="168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7" name=""/>
            <p:cNvGrpSpPr/>
            <p:nvPr/>
          </p:nvGrpSpPr>
          <p:grpSpPr>
            <a:xfrm>
              <a:off x="2695320" y="2948400"/>
              <a:ext cx="142200" cy="332640"/>
              <a:chOff x="2695320" y="2948400"/>
              <a:chExt cx="142200" cy="332640"/>
            </a:xfrm>
          </p:grpSpPr>
          <p:sp>
            <p:nvSpPr>
              <p:cNvPr id="6758" name=""/>
              <p:cNvSpPr/>
              <p:nvPr/>
            </p:nvSpPr>
            <p:spPr>
              <a:xfrm>
                <a:off x="2766240" y="3018960"/>
                <a:ext cx="6120" cy="2620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2695320" y="2948400"/>
                <a:ext cx="142200" cy="1702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0" name=""/>
            <p:cNvGrpSpPr/>
            <p:nvPr/>
          </p:nvGrpSpPr>
          <p:grpSpPr>
            <a:xfrm>
              <a:off x="2477160" y="1861920"/>
              <a:ext cx="139320" cy="367920"/>
              <a:chOff x="2477160" y="1861920"/>
              <a:chExt cx="139320" cy="367920"/>
            </a:xfrm>
          </p:grpSpPr>
          <p:sp>
            <p:nvSpPr>
              <p:cNvPr id="6761" name=""/>
              <p:cNvSpPr/>
              <p:nvPr/>
            </p:nvSpPr>
            <p:spPr>
              <a:xfrm>
                <a:off x="2540520" y="1945440"/>
                <a:ext cx="14040" cy="284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2477160" y="1861920"/>
                <a:ext cx="139320" cy="1684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3" name=""/>
            <p:cNvSpPr/>
            <p:nvPr/>
          </p:nvSpPr>
          <p:spPr>
            <a:xfrm>
              <a:off x="2881800" y="2090520"/>
              <a:ext cx="120240" cy="298548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2929680" y="2118600"/>
              <a:ext cx="263880" cy="2588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2333520" y="1947240"/>
              <a:ext cx="656280" cy="671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2952000" y="2566080"/>
              <a:ext cx="711360" cy="69120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2393640" y="2689560"/>
              <a:ext cx="568440" cy="766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8" name=""/>
            <p:cNvGrpSpPr/>
            <p:nvPr/>
          </p:nvGrpSpPr>
          <p:grpSpPr>
            <a:xfrm>
              <a:off x="2994840" y="4019400"/>
              <a:ext cx="302760" cy="406080"/>
              <a:chOff x="2994840" y="4019400"/>
              <a:chExt cx="302760" cy="406080"/>
            </a:xfrm>
          </p:grpSpPr>
          <p:sp>
            <p:nvSpPr>
              <p:cNvPr id="6769" name=""/>
              <p:cNvSpPr/>
              <p:nvPr/>
            </p:nvSpPr>
            <p:spPr>
              <a:xfrm>
                <a:off x="2994840" y="4075920"/>
                <a:ext cx="245520" cy="34956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3163680" y="4019400"/>
                <a:ext cx="133920" cy="1569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1" name=""/>
            <p:cNvGrpSpPr/>
            <p:nvPr/>
          </p:nvGrpSpPr>
          <p:grpSpPr>
            <a:xfrm>
              <a:off x="2640240" y="3836520"/>
              <a:ext cx="297720" cy="395280"/>
              <a:chOff x="2640240" y="3836520"/>
              <a:chExt cx="297720" cy="395280"/>
            </a:xfrm>
          </p:grpSpPr>
          <p:sp>
            <p:nvSpPr>
              <p:cNvPr id="6772" name=""/>
              <p:cNvSpPr/>
              <p:nvPr/>
            </p:nvSpPr>
            <p:spPr>
              <a:xfrm>
                <a:off x="2688480" y="3894120"/>
                <a:ext cx="249480" cy="3376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2640240" y="3836520"/>
                <a:ext cx="133560" cy="1551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4" name=""/>
            <p:cNvGrpSpPr/>
            <p:nvPr/>
          </p:nvGrpSpPr>
          <p:grpSpPr>
            <a:xfrm>
              <a:off x="2989800" y="3413880"/>
              <a:ext cx="302400" cy="491040"/>
              <a:chOff x="2989800" y="3413880"/>
              <a:chExt cx="302400" cy="491040"/>
            </a:xfrm>
          </p:grpSpPr>
          <p:sp>
            <p:nvSpPr>
              <p:cNvPr id="6775" name=""/>
              <p:cNvSpPr/>
              <p:nvPr/>
            </p:nvSpPr>
            <p:spPr>
              <a:xfrm>
                <a:off x="2989800" y="3483720"/>
                <a:ext cx="246600" cy="42120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3151440" y="3413880"/>
                <a:ext cx="140760" cy="1810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7" name=""/>
            <p:cNvGrpSpPr/>
            <p:nvPr/>
          </p:nvGrpSpPr>
          <p:grpSpPr>
            <a:xfrm>
              <a:off x="3246120" y="2646720"/>
              <a:ext cx="136800" cy="378360"/>
              <a:chOff x="3246120" y="2646720"/>
              <a:chExt cx="136800" cy="378360"/>
            </a:xfrm>
          </p:grpSpPr>
          <p:sp>
            <p:nvSpPr>
              <p:cNvPr id="6778" name=""/>
              <p:cNvSpPr/>
              <p:nvPr/>
            </p:nvSpPr>
            <p:spPr>
              <a:xfrm>
                <a:off x="3273840" y="2716560"/>
                <a:ext cx="39960" cy="30852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3246120" y="2646720"/>
                <a:ext cx="136800" cy="1666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0" name=""/>
            <p:cNvGrpSpPr/>
            <p:nvPr/>
          </p:nvGrpSpPr>
          <p:grpSpPr>
            <a:xfrm>
              <a:off x="2698200" y="2950560"/>
              <a:ext cx="139320" cy="332640"/>
              <a:chOff x="2698200" y="2950560"/>
              <a:chExt cx="139320" cy="332640"/>
            </a:xfrm>
          </p:grpSpPr>
          <p:sp>
            <p:nvSpPr>
              <p:cNvPr id="6781" name=""/>
              <p:cNvSpPr/>
              <p:nvPr/>
            </p:nvSpPr>
            <p:spPr>
              <a:xfrm>
                <a:off x="2767680" y="3021120"/>
                <a:ext cx="6120" cy="2620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2698200" y="2950560"/>
                <a:ext cx="139320" cy="1702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3" name=""/>
            <p:cNvGrpSpPr/>
            <p:nvPr/>
          </p:nvGrpSpPr>
          <p:grpSpPr>
            <a:xfrm>
              <a:off x="2479320" y="1861920"/>
              <a:ext cx="136800" cy="367920"/>
              <a:chOff x="2479320" y="1861920"/>
              <a:chExt cx="136800" cy="367920"/>
            </a:xfrm>
          </p:grpSpPr>
          <p:sp>
            <p:nvSpPr>
              <p:cNvPr id="6784" name=""/>
              <p:cNvSpPr/>
              <p:nvPr/>
            </p:nvSpPr>
            <p:spPr>
              <a:xfrm>
                <a:off x="2541600" y="1945440"/>
                <a:ext cx="13680" cy="284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2479320" y="1861920"/>
                <a:ext cx="136800" cy="1684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6" name=""/>
            <p:cNvSpPr/>
            <p:nvPr/>
          </p:nvSpPr>
          <p:spPr>
            <a:xfrm>
              <a:off x="2881800" y="2093400"/>
              <a:ext cx="123120" cy="298260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2929680" y="2118600"/>
              <a:ext cx="263880" cy="2588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2333520" y="1947240"/>
              <a:ext cx="656280" cy="671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2952000" y="2566080"/>
              <a:ext cx="711360" cy="69120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2393640" y="2689560"/>
              <a:ext cx="568440" cy="766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2994840" y="4077720"/>
              <a:ext cx="251280" cy="3495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165840" y="4019400"/>
              <a:ext cx="133200" cy="161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2994840" y="4077720"/>
              <a:ext cx="251280" cy="3495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3165840" y="4019400"/>
              <a:ext cx="133200" cy="161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2688120" y="3896280"/>
              <a:ext cx="251280" cy="3369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2640240" y="3836520"/>
              <a:ext cx="133200" cy="1555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2688120" y="3896280"/>
              <a:ext cx="251280" cy="3369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2640240" y="3836520"/>
              <a:ext cx="133200" cy="1555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2989800" y="3484080"/>
              <a:ext cx="246240" cy="4222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3151080" y="3413880"/>
              <a:ext cx="142920" cy="180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2989800" y="3484080"/>
              <a:ext cx="246240" cy="4222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3151080" y="3413880"/>
              <a:ext cx="142920" cy="180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3274200" y="2714400"/>
              <a:ext cx="42480" cy="3117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3246120" y="2646720"/>
              <a:ext cx="138240" cy="1710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3274200" y="2714400"/>
              <a:ext cx="42480" cy="3117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3246120" y="2646720"/>
              <a:ext cx="138240" cy="1710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2768400" y="3021480"/>
              <a:ext cx="5040" cy="2638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2698200" y="2950560"/>
              <a:ext cx="140760" cy="165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2768400" y="3021480"/>
              <a:ext cx="5040" cy="2638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2698200" y="2950560"/>
              <a:ext cx="140760" cy="165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2541960" y="1947240"/>
              <a:ext cx="12240" cy="28368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2479320" y="1861920"/>
              <a:ext cx="138240" cy="1710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2541960" y="1947240"/>
              <a:ext cx="12240" cy="28368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2479320" y="1861920"/>
              <a:ext cx="138240" cy="1710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2881800" y="2093400"/>
              <a:ext cx="123120" cy="298260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2747880" y="1612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3596400" y="2161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8" name=""/>
          <p:cNvGrpSpPr/>
          <p:nvPr/>
        </p:nvGrpSpPr>
        <p:grpSpPr>
          <a:xfrm>
            <a:off x="5230800" y="2325600"/>
            <a:ext cx="1926720" cy="2744280"/>
            <a:chOff x="5230800" y="2325600"/>
            <a:chExt cx="1926720" cy="2744280"/>
          </a:xfrm>
        </p:grpSpPr>
        <p:sp>
          <p:nvSpPr>
            <p:cNvPr id="6819" name=""/>
            <p:cNvSpPr/>
            <p:nvPr/>
          </p:nvSpPr>
          <p:spPr>
            <a:xfrm>
              <a:off x="6090840" y="2775960"/>
              <a:ext cx="636480" cy="62856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6599160" y="2770920"/>
              <a:ext cx="467640" cy="3067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6945840" y="2904480"/>
              <a:ext cx="211320" cy="7272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5577480" y="2891880"/>
              <a:ext cx="525600" cy="68688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5313240" y="2866680"/>
              <a:ext cx="379800" cy="3214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5230800" y="2957040"/>
              <a:ext cx="173160" cy="7056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6088680" y="2775960"/>
              <a:ext cx="635760" cy="6314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6599160" y="2770920"/>
              <a:ext cx="465120" cy="3067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6943680" y="2906640"/>
              <a:ext cx="213840" cy="676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5575320" y="2894400"/>
              <a:ext cx="528120" cy="68148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5313240" y="2869200"/>
              <a:ext cx="377280" cy="319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5230800" y="2957040"/>
              <a:ext cx="173160" cy="727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6088680" y="2775960"/>
              <a:ext cx="635760" cy="6314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6599160" y="2770920"/>
              <a:ext cx="465120" cy="3067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6943680" y="2906640"/>
              <a:ext cx="213840" cy="676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5575320" y="2894400"/>
              <a:ext cx="528120" cy="68148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5313240" y="2869200"/>
              <a:ext cx="377280" cy="319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5230800" y="2957040"/>
              <a:ext cx="173160" cy="727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6078240" y="2909520"/>
              <a:ext cx="29880" cy="2160360"/>
            </a:xfrm>
            <a:custGeom>
              <a:avLst/>
              <a:gdLst/>
              <a:ahLst/>
              <a:rect l="l" t="t" r="r" b="b"/>
              <a:pathLst>
                <a:path w="12" h="859">
                  <a:moveTo>
                    <a:pt x="0" y="859"/>
                  </a:moveTo>
                  <a:cubicBezTo>
                    <a:pt x="4" y="638"/>
                    <a:pt x="8" y="417"/>
                    <a:pt x="10" y="274"/>
                  </a:cubicBezTo>
                  <a:cubicBezTo>
                    <a:pt x="12" y="131"/>
                    <a:pt x="11" y="65"/>
                    <a:pt x="10" y="0"/>
                  </a:cubicBezTo>
                </a:path>
              </a:pathLst>
            </a:custGeom>
            <a:noFill/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5834160" y="2325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6453000" y="2499480"/>
              <a:ext cx="45000" cy="644040"/>
            </a:xfrm>
            <a:custGeom>
              <a:avLst/>
              <a:gdLst/>
              <a:ahLst/>
              <a:rect l="l" t="t" r="r" b="b"/>
              <a:pathLst>
                <a:path w="18" h="256">
                  <a:moveTo>
                    <a:pt x="0" y="256"/>
                  </a:moveTo>
                  <a:cubicBezTo>
                    <a:pt x="0" y="256"/>
                    <a:pt x="9" y="128"/>
                    <a:pt x="18" y="0"/>
                  </a:cubicBezTo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5735880" y="2818800"/>
              <a:ext cx="67680" cy="321480"/>
            </a:xfrm>
            <a:custGeom>
              <a:avLst/>
              <a:gdLst/>
              <a:ahLst/>
              <a:rect l="l" t="t" r="r" b="b"/>
              <a:pathLst>
                <a:path w="18" h="256">
                  <a:moveTo>
                    <a:pt x="0" y="256"/>
                  </a:moveTo>
                  <a:cubicBezTo>
                    <a:pt x="0" y="256"/>
                    <a:pt x="9" y="128"/>
                    <a:pt x="18" y="0"/>
                  </a:cubicBezTo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6108480" y="3510360"/>
              <a:ext cx="321480" cy="550800"/>
            </a:xfrm>
            <a:custGeom>
              <a:avLst/>
              <a:gdLst/>
              <a:ahLst/>
              <a:rect l="l" t="t" r="r" b="b"/>
              <a:pathLst>
                <a:path w="128" h="219">
                  <a:moveTo>
                    <a:pt x="0" y="219"/>
                  </a:moveTo>
                  <a:cubicBezTo>
                    <a:pt x="30" y="205"/>
                    <a:pt x="61" y="191"/>
                    <a:pt x="82" y="155"/>
                  </a:cubicBezTo>
                  <a:cubicBezTo>
                    <a:pt x="103" y="119"/>
                    <a:pt x="115" y="59"/>
                    <a:pt x="12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"/>
            <p:cNvSpPr/>
            <p:nvPr/>
          </p:nvSpPr>
          <p:spPr>
            <a:xfrm flipH="1">
              <a:off x="5738040" y="3852720"/>
              <a:ext cx="321480" cy="550800"/>
            </a:xfrm>
            <a:custGeom>
              <a:avLst/>
              <a:gdLst/>
              <a:ahLst/>
              <a:rect l="l" t="t" r="r" b="b"/>
              <a:pathLst>
                <a:path w="128" h="219">
                  <a:moveTo>
                    <a:pt x="0" y="219"/>
                  </a:moveTo>
                  <a:cubicBezTo>
                    <a:pt x="30" y="205"/>
                    <a:pt x="61" y="191"/>
                    <a:pt x="82" y="155"/>
                  </a:cubicBezTo>
                  <a:cubicBezTo>
                    <a:pt x="103" y="119"/>
                    <a:pt x="115" y="59"/>
                    <a:pt x="12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3" name=""/>
          <p:cNvSpPr/>
          <p:nvPr/>
        </p:nvSpPr>
        <p:spPr>
          <a:xfrm>
            <a:off x="603360" y="5464080"/>
            <a:ext cx="367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Un environnement plus défavorabl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/>
          <p:nvPr/>
        </p:nvSpPr>
        <p:spPr>
          <a:xfrm>
            <a:off x="4826160" y="5297400"/>
            <a:ext cx="367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Une dynamique plus rapide et des accidents plus fréquent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/>
          <p:nvPr/>
        </p:nvSpPr>
        <p:spPr>
          <a:xfrm>
            <a:off x="1080" y="71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7" name="PlaceHolder 1"/>
          <p:cNvSpPr>
            <a:spLocks noGrp="1"/>
          </p:cNvSpPr>
          <p:nvPr>
            <p:ph/>
          </p:nvPr>
        </p:nvSpPr>
        <p:spPr>
          <a:xfrm>
            <a:off x="63504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u d’individus retrouvent un meilleur état de vigueur malgré la formation de rej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"/>
          <p:cNvSpPr/>
          <p:nvPr/>
        </p:nvSpPr>
        <p:spPr>
          <a:xfrm>
            <a:off x="33120" y="19080"/>
            <a:ext cx="48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– UNE STRATEGIE D’ATTENTE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>
            <a:off x="1401840" y="552600"/>
            <a:ext cx="75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e stratégie d’attente peu 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1" name=""/>
          <p:cNvGrpSpPr/>
          <p:nvPr/>
        </p:nvGrpSpPr>
        <p:grpSpPr>
          <a:xfrm>
            <a:off x="1552680" y="2541600"/>
            <a:ext cx="948600" cy="1485000"/>
            <a:chOff x="1552680" y="2541600"/>
            <a:chExt cx="948600" cy="1485000"/>
          </a:xfrm>
        </p:grpSpPr>
        <p:grpSp>
          <p:nvGrpSpPr>
            <p:cNvPr id="6852" name=""/>
            <p:cNvGrpSpPr/>
            <p:nvPr/>
          </p:nvGrpSpPr>
          <p:grpSpPr>
            <a:xfrm>
              <a:off x="1552680" y="2541600"/>
              <a:ext cx="948600" cy="1485000"/>
              <a:chOff x="1552680" y="2541600"/>
              <a:chExt cx="948600" cy="1485000"/>
            </a:xfrm>
          </p:grpSpPr>
          <p:sp>
            <p:nvSpPr>
              <p:cNvPr id="6853" name=""/>
              <p:cNvSpPr/>
              <p:nvPr/>
            </p:nvSpPr>
            <p:spPr>
              <a:xfrm>
                <a:off x="1552680" y="2541600"/>
                <a:ext cx="948600" cy="1485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1552680" y="2541600"/>
                <a:ext cx="944280" cy="148068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1552680" y="2541600"/>
                <a:ext cx="944280" cy="148068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1552680" y="2541600"/>
                <a:ext cx="948600" cy="1485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7" name=""/>
            <p:cNvSpPr/>
            <p:nvPr/>
          </p:nvSpPr>
          <p:spPr>
            <a:xfrm>
              <a:off x="1552680" y="2541600"/>
              <a:ext cx="944640" cy="1481040"/>
            </a:xfrm>
            <a:custGeom>
              <a:avLst/>
              <a:gdLst/>
              <a:ahLst/>
              <a:rect l="l" t="t" r="r" b="b"/>
              <a:pathLst>
                <a:path w="450" h="706">
                  <a:moveTo>
                    <a:pt x="75" y="0"/>
                  </a:moveTo>
                  <a:lnTo>
                    <a:pt x="60" y="2"/>
                  </a:lnTo>
                  <a:lnTo>
                    <a:pt x="46" y="6"/>
                  </a:lnTo>
                  <a:lnTo>
                    <a:pt x="33" y="13"/>
                  </a:lnTo>
                  <a:lnTo>
                    <a:pt x="22" y="22"/>
                  </a:lnTo>
                  <a:lnTo>
                    <a:pt x="13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0" y="631"/>
                  </a:lnTo>
                  <a:lnTo>
                    <a:pt x="2" y="646"/>
                  </a:lnTo>
                  <a:lnTo>
                    <a:pt x="6" y="660"/>
                  </a:lnTo>
                  <a:lnTo>
                    <a:pt x="13" y="673"/>
                  </a:lnTo>
                  <a:lnTo>
                    <a:pt x="22" y="684"/>
                  </a:lnTo>
                  <a:lnTo>
                    <a:pt x="33" y="693"/>
                  </a:lnTo>
                  <a:lnTo>
                    <a:pt x="46" y="700"/>
                  </a:lnTo>
                  <a:lnTo>
                    <a:pt x="60" y="704"/>
                  </a:lnTo>
                  <a:lnTo>
                    <a:pt x="75" y="706"/>
                  </a:lnTo>
                  <a:lnTo>
                    <a:pt x="375" y="706"/>
                  </a:lnTo>
                  <a:lnTo>
                    <a:pt x="390" y="704"/>
                  </a:lnTo>
                  <a:lnTo>
                    <a:pt x="404" y="700"/>
                  </a:lnTo>
                  <a:lnTo>
                    <a:pt x="417" y="693"/>
                  </a:lnTo>
                  <a:lnTo>
                    <a:pt x="428" y="684"/>
                  </a:lnTo>
                  <a:lnTo>
                    <a:pt x="437" y="673"/>
                  </a:lnTo>
                  <a:lnTo>
                    <a:pt x="444" y="660"/>
                  </a:lnTo>
                  <a:lnTo>
                    <a:pt x="448" y="646"/>
                  </a:lnTo>
                  <a:lnTo>
                    <a:pt x="450" y="631"/>
                  </a:lnTo>
                  <a:lnTo>
                    <a:pt x="450" y="75"/>
                  </a:lnTo>
                  <a:lnTo>
                    <a:pt x="448" y="60"/>
                  </a:lnTo>
                  <a:lnTo>
                    <a:pt x="444" y="46"/>
                  </a:lnTo>
                  <a:lnTo>
                    <a:pt x="437" y="33"/>
                  </a:lnTo>
                  <a:lnTo>
                    <a:pt x="428" y="22"/>
                  </a:lnTo>
                  <a:lnTo>
                    <a:pt x="417" y="13"/>
                  </a:lnTo>
                  <a:lnTo>
                    <a:pt x="404" y="6"/>
                  </a:lnTo>
                  <a:lnTo>
                    <a:pt x="390" y="2"/>
                  </a:lnTo>
                  <a:lnTo>
                    <a:pt x="375" y="0"/>
                  </a:lnTo>
                  <a:lnTo>
                    <a:pt x="7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8" name=""/>
          <p:cNvSpPr/>
          <p:nvPr/>
        </p:nvSpPr>
        <p:spPr>
          <a:xfrm>
            <a:off x="2222640" y="3699000"/>
            <a:ext cx="41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>
            <a:off x="2345400" y="3767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0" name=""/>
          <p:cNvGrpSpPr/>
          <p:nvPr/>
        </p:nvGrpSpPr>
        <p:grpSpPr>
          <a:xfrm>
            <a:off x="1701720" y="2852640"/>
            <a:ext cx="630000" cy="1101600"/>
            <a:chOff x="1701720" y="2852640"/>
            <a:chExt cx="630000" cy="1101600"/>
          </a:xfrm>
        </p:grpSpPr>
        <p:sp>
          <p:nvSpPr>
            <p:cNvPr id="6861" name=""/>
            <p:cNvSpPr/>
            <p:nvPr/>
          </p:nvSpPr>
          <p:spPr>
            <a:xfrm>
              <a:off x="1898640" y="2883960"/>
              <a:ext cx="99000" cy="107028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1972440" y="2852640"/>
              <a:ext cx="79200" cy="29124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1938600" y="2864880"/>
              <a:ext cx="41760" cy="1382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1800000" y="3022200"/>
              <a:ext cx="193320" cy="19908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1983240" y="3204720"/>
              <a:ext cx="207360" cy="2059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2148840" y="3202920"/>
              <a:ext cx="153360" cy="1008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2262240" y="3247200"/>
              <a:ext cx="69480" cy="226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1814760" y="3242880"/>
              <a:ext cx="171720" cy="22464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1728720" y="3234240"/>
              <a:ext cx="123840" cy="1051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1701720" y="3263760"/>
              <a:ext cx="56520" cy="226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1" name=""/>
          <p:cNvSpPr/>
          <p:nvPr/>
        </p:nvSpPr>
        <p:spPr>
          <a:xfrm>
            <a:off x="4297320" y="3699000"/>
            <a:ext cx="41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"/>
          <p:cNvSpPr/>
          <p:nvPr/>
        </p:nvSpPr>
        <p:spPr>
          <a:xfrm>
            <a:off x="4697280" y="4059360"/>
            <a:ext cx="6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3" name=""/>
          <p:cNvGrpSpPr/>
          <p:nvPr/>
        </p:nvGrpSpPr>
        <p:grpSpPr>
          <a:xfrm>
            <a:off x="2292480" y="2013120"/>
            <a:ext cx="1505160" cy="521280"/>
            <a:chOff x="2292480" y="2013120"/>
            <a:chExt cx="1505160" cy="521280"/>
          </a:xfrm>
        </p:grpSpPr>
        <p:grpSp>
          <p:nvGrpSpPr>
            <p:cNvPr id="6874" name=""/>
            <p:cNvGrpSpPr/>
            <p:nvPr/>
          </p:nvGrpSpPr>
          <p:grpSpPr>
            <a:xfrm>
              <a:off x="2292480" y="2013120"/>
              <a:ext cx="1505160" cy="521280"/>
              <a:chOff x="2292480" y="2013120"/>
              <a:chExt cx="1505160" cy="521280"/>
            </a:xfrm>
          </p:grpSpPr>
          <p:grpSp>
            <p:nvGrpSpPr>
              <p:cNvPr id="6875" name=""/>
              <p:cNvGrpSpPr/>
              <p:nvPr/>
            </p:nvGrpSpPr>
            <p:grpSpPr>
              <a:xfrm>
                <a:off x="2292480" y="2286000"/>
                <a:ext cx="1505160" cy="248400"/>
                <a:chOff x="2292480" y="2286000"/>
                <a:chExt cx="1505160" cy="248400"/>
              </a:xfrm>
            </p:grpSpPr>
            <p:grpSp>
              <p:nvGrpSpPr>
                <p:cNvPr id="6876" name=""/>
                <p:cNvGrpSpPr/>
                <p:nvPr/>
              </p:nvGrpSpPr>
              <p:grpSpPr>
                <a:xfrm>
                  <a:off x="3015720" y="2286000"/>
                  <a:ext cx="781920" cy="248400"/>
                  <a:chOff x="3015720" y="2286000"/>
                  <a:chExt cx="781920" cy="248400"/>
                </a:xfrm>
              </p:grpSpPr>
              <p:sp>
                <p:nvSpPr>
                  <p:cNvPr id="6877" name=""/>
                  <p:cNvSpPr/>
                  <p:nvPr/>
                </p:nvSpPr>
                <p:spPr>
                  <a:xfrm>
                    <a:off x="3781080" y="251748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4"/>
                        </a:move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"/>
                  <p:cNvSpPr/>
                  <p:nvPr/>
                </p:nvSpPr>
                <p:spPr>
                  <a:xfrm>
                    <a:off x="3772440" y="248616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9" name=""/>
                  <p:cNvSpPr/>
                  <p:nvPr/>
                </p:nvSpPr>
                <p:spPr>
                  <a:xfrm>
                    <a:off x="3753360" y="245916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0" name=""/>
                  <p:cNvSpPr/>
                  <p:nvPr/>
                </p:nvSpPr>
                <p:spPr>
                  <a:xfrm>
                    <a:off x="3728880" y="243612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1" name=""/>
                  <p:cNvSpPr/>
                  <p:nvPr/>
                </p:nvSpPr>
                <p:spPr>
                  <a:xfrm>
                    <a:off x="3701160" y="241740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2" name=""/>
                  <p:cNvSpPr/>
                  <p:nvPr/>
                </p:nvSpPr>
                <p:spPr>
                  <a:xfrm>
                    <a:off x="3671640" y="240048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"/>
                  <p:cNvSpPr/>
                  <p:nvPr/>
                </p:nvSpPr>
                <p:spPr>
                  <a:xfrm>
                    <a:off x="3642840" y="23860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4" name=""/>
                  <p:cNvSpPr/>
                  <p:nvPr/>
                </p:nvSpPr>
                <p:spPr>
                  <a:xfrm>
                    <a:off x="3611160" y="23734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5" name=""/>
                  <p:cNvSpPr/>
                  <p:nvPr/>
                </p:nvSpPr>
                <p:spPr>
                  <a:xfrm>
                    <a:off x="3579480" y="236304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6" name=""/>
                  <p:cNvSpPr/>
                  <p:nvPr/>
                </p:nvSpPr>
                <p:spPr>
                  <a:xfrm>
                    <a:off x="3548160" y="235260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"/>
                  <p:cNvSpPr/>
                  <p:nvPr/>
                </p:nvSpPr>
                <p:spPr>
                  <a:xfrm>
                    <a:off x="3514680" y="234396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8" name=""/>
                  <p:cNvSpPr/>
                  <p:nvPr/>
                </p:nvSpPr>
                <p:spPr>
                  <a:xfrm>
                    <a:off x="3483360" y="233604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9" name=""/>
                  <p:cNvSpPr/>
                  <p:nvPr/>
                </p:nvSpPr>
                <p:spPr>
                  <a:xfrm>
                    <a:off x="3449520" y="232992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0" name=""/>
                  <p:cNvSpPr/>
                  <p:nvPr/>
                </p:nvSpPr>
                <p:spPr>
                  <a:xfrm>
                    <a:off x="3416400" y="23212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1" name=""/>
                  <p:cNvSpPr/>
                  <p:nvPr/>
                </p:nvSpPr>
                <p:spPr>
                  <a:xfrm>
                    <a:off x="3384360" y="231696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6" y="6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2" name=""/>
                  <p:cNvSpPr/>
                  <p:nvPr/>
                </p:nvSpPr>
                <p:spPr>
                  <a:xfrm>
                    <a:off x="3351240" y="231084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3" name=""/>
                  <p:cNvSpPr/>
                  <p:nvPr/>
                </p:nvSpPr>
                <p:spPr>
                  <a:xfrm>
                    <a:off x="3317400" y="23065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4" name=""/>
                  <p:cNvSpPr/>
                  <p:nvPr/>
                </p:nvSpPr>
                <p:spPr>
                  <a:xfrm>
                    <a:off x="3284280" y="23025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5" name=""/>
                  <p:cNvSpPr/>
                  <p:nvPr/>
                </p:nvSpPr>
                <p:spPr>
                  <a:xfrm>
                    <a:off x="3250440" y="229824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6" name=""/>
                  <p:cNvSpPr/>
                  <p:nvPr/>
                </p:nvSpPr>
                <p:spPr>
                  <a:xfrm>
                    <a:off x="3217320" y="22960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7" name=""/>
                  <p:cNvSpPr/>
                  <p:nvPr/>
                </p:nvSpPr>
                <p:spPr>
                  <a:xfrm>
                    <a:off x="3183480" y="229212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8" name=""/>
                  <p:cNvSpPr/>
                  <p:nvPr/>
                </p:nvSpPr>
                <p:spPr>
                  <a:xfrm>
                    <a:off x="3149640" y="228996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9" name=""/>
                  <p:cNvSpPr/>
                  <p:nvPr/>
                </p:nvSpPr>
                <p:spPr>
                  <a:xfrm>
                    <a:off x="3116520" y="228780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0" name=""/>
                  <p:cNvSpPr/>
                  <p:nvPr/>
                </p:nvSpPr>
                <p:spPr>
                  <a:xfrm>
                    <a:off x="3082680" y="228780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1" name=""/>
                  <p:cNvSpPr/>
                  <p:nvPr/>
                </p:nvSpPr>
                <p:spPr>
                  <a:xfrm>
                    <a:off x="3049200" y="22860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2" name=""/>
                  <p:cNvSpPr/>
                  <p:nvPr/>
                </p:nvSpPr>
                <p:spPr>
                  <a:xfrm>
                    <a:off x="3015720" y="228600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3" name=""/>
                <p:cNvGrpSpPr/>
                <p:nvPr/>
              </p:nvGrpSpPr>
              <p:grpSpPr>
                <a:xfrm>
                  <a:off x="2292480" y="2286000"/>
                  <a:ext cx="750600" cy="239760"/>
                  <a:chOff x="2292480" y="2286000"/>
                  <a:chExt cx="750600" cy="239760"/>
                </a:xfrm>
              </p:grpSpPr>
              <p:sp>
                <p:nvSpPr>
                  <p:cNvPr id="6904" name=""/>
                  <p:cNvSpPr/>
                  <p:nvPr/>
                </p:nvSpPr>
                <p:spPr>
                  <a:xfrm>
                    <a:off x="2371680" y="240696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1"/>
                        </a:move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5" name=""/>
                  <p:cNvSpPr/>
                  <p:nvPr/>
                </p:nvSpPr>
                <p:spPr>
                  <a:xfrm>
                    <a:off x="2401200" y="23922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1"/>
                        </a:move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6" name=""/>
                  <p:cNvSpPr/>
                  <p:nvPr/>
                </p:nvSpPr>
                <p:spPr>
                  <a:xfrm>
                    <a:off x="2432520" y="237780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7" name=""/>
                  <p:cNvSpPr/>
                  <p:nvPr/>
                </p:nvSpPr>
                <p:spPr>
                  <a:xfrm>
                    <a:off x="2463840" y="236484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8" name=""/>
                  <p:cNvSpPr/>
                  <p:nvPr/>
                </p:nvSpPr>
                <p:spPr>
                  <a:xfrm>
                    <a:off x="2495880" y="235440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"/>
                  <p:cNvSpPr/>
                  <p:nvPr/>
                </p:nvSpPr>
                <p:spPr>
                  <a:xfrm>
                    <a:off x="2527200" y="23464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0" name=""/>
                  <p:cNvSpPr/>
                  <p:nvPr/>
                </p:nvSpPr>
                <p:spPr>
                  <a:xfrm>
                    <a:off x="2560320" y="233604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1" name=""/>
                  <p:cNvSpPr/>
                  <p:nvPr/>
                </p:nvSpPr>
                <p:spPr>
                  <a:xfrm>
                    <a:off x="2592000" y="23299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2" name=""/>
                  <p:cNvSpPr/>
                  <p:nvPr/>
                </p:nvSpPr>
                <p:spPr>
                  <a:xfrm>
                    <a:off x="2625480" y="23212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"/>
                  <p:cNvSpPr/>
                  <p:nvPr/>
                </p:nvSpPr>
                <p:spPr>
                  <a:xfrm>
                    <a:off x="2659320" y="23169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6" y="6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4" name=""/>
                  <p:cNvSpPr/>
                  <p:nvPr/>
                </p:nvSpPr>
                <p:spPr>
                  <a:xfrm>
                    <a:off x="2690640" y="231084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5" name=""/>
                  <p:cNvSpPr/>
                  <p:nvPr/>
                </p:nvSpPr>
                <p:spPr>
                  <a:xfrm>
                    <a:off x="2724120" y="23065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6" name=""/>
                  <p:cNvSpPr/>
                  <p:nvPr/>
                </p:nvSpPr>
                <p:spPr>
                  <a:xfrm>
                    <a:off x="2757960" y="23025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7" name=""/>
                  <p:cNvSpPr/>
                  <p:nvPr/>
                </p:nvSpPr>
                <p:spPr>
                  <a:xfrm>
                    <a:off x="2791080" y="229824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"/>
                  <p:cNvSpPr/>
                  <p:nvPr/>
                </p:nvSpPr>
                <p:spPr>
                  <a:xfrm>
                    <a:off x="2824920" y="22942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9" name=""/>
                  <p:cNvSpPr/>
                  <p:nvPr/>
                </p:nvSpPr>
                <p:spPr>
                  <a:xfrm>
                    <a:off x="2858760" y="229212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0" name=""/>
                  <p:cNvSpPr/>
                  <p:nvPr/>
                </p:nvSpPr>
                <p:spPr>
                  <a:xfrm>
                    <a:off x="2891880" y="22899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1" name=""/>
                  <p:cNvSpPr/>
                  <p:nvPr/>
                </p:nvSpPr>
                <p:spPr>
                  <a:xfrm>
                    <a:off x="2925720" y="228780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"/>
                  <p:cNvSpPr/>
                  <p:nvPr/>
                </p:nvSpPr>
                <p:spPr>
                  <a:xfrm>
                    <a:off x="2958840" y="228780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3" name=""/>
                  <p:cNvSpPr/>
                  <p:nvPr/>
                </p:nvSpPr>
                <p:spPr>
                  <a:xfrm>
                    <a:off x="2992680" y="22860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4" name=""/>
                  <p:cNvSpPr/>
                  <p:nvPr/>
                </p:nvSpPr>
                <p:spPr>
                  <a:xfrm>
                    <a:off x="3026160" y="228600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5" name=""/>
                  <p:cNvSpPr/>
                  <p:nvPr/>
                </p:nvSpPr>
                <p:spPr>
                  <a:xfrm>
                    <a:off x="2292480" y="2371680"/>
                    <a:ext cx="14436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4">
                        <a:moveTo>
                          <a:pt x="16" y="0"/>
                        </a:moveTo>
                        <a:lnTo>
                          <a:pt x="0" y="74"/>
                        </a:lnTo>
                        <a:lnTo>
                          <a:pt x="69" y="4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26" name=""/>
              <p:cNvSpPr/>
              <p:nvPr/>
            </p:nvSpPr>
            <p:spPr>
              <a:xfrm>
                <a:off x="2736360" y="2013120"/>
                <a:ext cx="63648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7" name=""/>
            <p:cNvSpPr/>
            <p:nvPr/>
          </p:nvSpPr>
          <p:spPr>
            <a:xfrm>
              <a:off x="2858760" y="20271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8" name=""/>
          <p:cNvSpPr/>
          <p:nvPr/>
        </p:nvSpPr>
        <p:spPr>
          <a:xfrm>
            <a:off x="4830840" y="3938760"/>
            <a:ext cx="63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9" name=""/>
          <p:cNvSpPr/>
          <p:nvPr/>
        </p:nvSpPr>
        <p:spPr>
          <a:xfrm>
            <a:off x="6002280" y="4253040"/>
            <a:ext cx="63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"/>
          <p:cNvSpPr/>
          <p:nvPr/>
        </p:nvSpPr>
        <p:spPr>
          <a:xfrm>
            <a:off x="4727520" y="3157560"/>
            <a:ext cx="63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1" name=""/>
          <p:cNvGrpSpPr/>
          <p:nvPr/>
        </p:nvGrpSpPr>
        <p:grpSpPr>
          <a:xfrm>
            <a:off x="1552680" y="2541600"/>
            <a:ext cx="948600" cy="1485000"/>
            <a:chOff x="1552680" y="2541600"/>
            <a:chExt cx="948600" cy="1485000"/>
          </a:xfrm>
        </p:grpSpPr>
        <p:grpSp>
          <p:nvGrpSpPr>
            <p:cNvPr id="6932" name=""/>
            <p:cNvGrpSpPr/>
            <p:nvPr/>
          </p:nvGrpSpPr>
          <p:grpSpPr>
            <a:xfrm>
              <a:off x="1552680" y="2541600"/>
              <a:ext cx="948600" cy="1485000"/>
              <a:chOff x="1552680" y="2541600"/>
              <a:chExt cx="948600" cy="1485000"/>
            </a:xfrm>
          </p:grpSpPr>
          <p:sp>
            <p:nvSpPr>
              <p:cNvPr id="6933" name=""/>
              <p:cNvSpPr/>
              <p:nvPr/>
            </p:nvSpPr>
            <p:spPr>
              <a:xfrm>
                <a:off x="1552680" y="2541600"/>
                <a:ext cx="948600" cy="1485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1552680" y="2541600"/>
                <a:ext cx="944280" cy="148068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1552680" y="2541600"/>
                <a:ext cx="944280" cy="148068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1552680" y="2541600"/>
                <a:ext cx="948600" cy="1485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7" name=""/>
            <p:cNvSpPr/>
            <p:nvPr/>
          </p:nvSpPr>
          <p:spPr>
            <a:xfrm>
              <a:off x="1552680" y="2541600"/>
              <a:ext cx="944640" cy="1481040"/>
            </a:xfrm>
            <a:custGeom>
              <a:avLst/>
              <a:gdLst/>
              <a:ahLst/>
              <a:rect l="l" t="t" r="r" b="b"/>
              <a:pathLst>
                <a:path w="450" h="706">
                  <a:moveTo>
                    <a:pt x="75" y="0"/>
                  </a:moveTo>
                  <a:lnTo>
                    <a:pt x="60" y="2"/>
                  </a:lnTo>
                  <a:lnTo>
                    <a:pt x="46" y="6"/>
                  </a:lnTo>
                  <a:lnTo>
                    <a:pt x="33" y="13"/>
                  </a:lnTo>
                  <a:lnTo>
                    <a:pt x="22" y="22"/>
                  </a:lnTo>
                  <a:lnTo>
                    <a:pt x="13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0" y="631"/>
                  </a:lnTo>
                  <a:lnTo>
                    <a:pt x="2" y="646"/>
                  </a:lnTo>
                  <a:lnTo>
                    <a:pt x="6" y="660"/>
                  </a:lnTo>
                  <a:lnTo>
                    <a:pt x="13" y="673"/>
                  </a:lnTo>
                  <a:lnTo>
                    <a:pt x="22" y="684"/>
                  </a:lnTo>
                  <a:lnTo>
                    <a:pt x="33" y="693"/>
                  </a:lnTo>
                  <a:lnTo>
                    <a:pt x="46" y="700"/>
                  </a:lnTo>
                  <a:lnTo>
                    <a:pt x="60" y="704"/>
                  </a:lnTo>
                  <a:lnTo>
                    <a:pt x="75" y="706"/>
                  </a:lnTo>
                  <a:lnTo>
                    <a:pt x="375" y="706"/>
                  </a:lnTo>
                  <a:lnTo>
                    <a:pt x="390" y="704"/>
                  </a:lnTo>
                  <a:lnTo>
                    <a:pt x="404" y="700"/>
                  </a:lnTo>
                  <a:lnTo>
                    <a:pt x="417" y="693"/>
                  </a:lnTo>
                  <a:lnTo>
                    <a:pt x="428" y="684"/>
                  </a:lnTo>
                  <a:lnTo>
                    <a:pt x="437" y="673"/>
                  </a:lnTo>
                  <a:lnTo>
                    <a:pt x="444" y="660"/>
                  </a:lnTo>
                  <a:lnTo>
                    <a:pt x="448" y="646"/>
                  </a:lnTo>
                  <a:lnTo>
                    <a:pt x="450" y="631"/>
                  </a:lnTo>
                  <a:lnTo>
                    <a:pt x="450" y="75"/>
                  </a:lnTo>
                  <a:lnTo>
                    <a:pt x="448" y="60"/>
                  </a:lnTo>
                  <a:lnTo>
                    <a:pt x="444" y="46"/>
                  </a:lnTo>
                  <a:lnTo>
                    <a:pt x="437" y="33"/>
                  </a:lnTo>
                  <a:lnTo>
                    <a:pt x="428" y="22"/>
                  </a:lnTo>
                  <a:lnTo>
                    <a:pt x="417" y="13"/>
                  </a:lnTo>
                  <a:lnTo>
                    <a:pt x="404" y="6"/>
                  </a:lnTo>
                  <a:lnTo>
                    <a:pt x="390" y="2"/>
                  </a:lnTo>
                  <a:lnTo>
                    <a:pt x="375" y="0"/>
                  </a:lnTo>
                  <a:lnTo>
                    <a:pt x="7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8" name=""/>
          <p:cNvSpPr/>
          <p:nvPr/>
        </p:nvSpPr>
        <p:spPr>
          <a:xfrm>
            <a:off x="2222640" y="3699000"/>
            <a:ext cx="41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"/>
          <p:cNvSpPr/>
          <p:nvPr/>
        </p:nvSpPr>
        <p:spPr>
          <a:xfrm>
            <a:off x="2345400" y="3767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/>
          <p:nvPr/>
        </p:nvSpPr>
        <p:spPr>
          <a:xfrm>
            <a:off x="1898640" y="2884320"/>
            <a:ext cx="98280" cy="1070280"/>
          </a:xfrm>
          <a:custGeom>
            <a:avLst/>
            <a:gdLst/>
            <a:ahLst/>
            <a:rect l="l" t="t" r="r" b="b"/>
            <a:pathLst>
              <a:path w="47" h="510">
                <a:moveTo>
                  <a:pt x="36" y="510"/>
                </a:moveTo>
                <a:lnTo>
                  <a:pt x="46" y="510"/>
                </a:lnTo>
                <a:lnTo>
                  <a:pt x="46" y="420"/>
                </a:lnTo>
                <a:lnTo>
                  <a:pt x="46" y="374"/>
                </a:lnTo>
                <a:lnTo>
                  <a:pt x="46" y="326"/>
                </a:lnTo>
                <a:lnTo>
                  <a:pt x="46" y="300"/>
                </a:lnTo>
                <a:lnTo>
                  <a:pt x="47" y="273"/>
                </a:lnTo>
                <a:lnTo>
                  <a:pt x="47" y="216"/>
                </a:lnTo>
                <a:lnTo>
                  <a:pt x="47" y="188"/>
                </a:lnTo>
                <a:lnTo>
                  <a:pt x="47" y="162"/>
                </a:lnTo>
                <a:lnTo>
                  <a:pt x="46" y="138"/>
                </a:lnTo>
                <a:lnTo>
                  <a:pt x="44" y="116"/>
                </a:lnTo>
                <a:lnTo>
                  <a:pt x="41" y="97"/>
                </a:lnTo>
                <a:lnTo>
                  <a:pt x="38" y="80"/>
                </a:lnTo>
                <a:lnTo>
                  <a:pt x="34" y="64"/>
                </a:lnTo>
                <a:lnTo>
                  <a:pt x="30" y="50"/>
                </a:lnTo>
                <a:lnTo>
                  <a:pt x="25" y="37"/>
                </a:lnTo>
                <a:lnTo>
                  <a:pt x="23" y="34"/>
                </a:lnTo>
                <a:lnTo>
                  <a:pt x="18" y="21"/>
                </a:lnTo>
                <a:lnTo>
                  <a:pt x="8" y="0"/>
                </a:lnTo>
                <a:lnTo>
                  <a:pt x="0" y="4"/>
                </a:lnTo>
                <a:lnTo>
                  <a:pt x="11" y="28"/>
                </a:lnTo>
                <a:lnTo>
                  <a:pt x="16" y="41"/>
                </a:lnTo>
                <a:lnTo>
                  <a:pt x="20" y="37"/>
                </a:lnTo>
                <a:lnTo>
                  <a:pt x="15" y="37"/>
                </a:lnTo>
                <a:lnTo>
                  <a:pt x="20" y="50"/>
                </a:lnTo>
                <a:lnTo>
                  <a:pt x="24" y="64"/>
                </a:lnTo>
                <a:lnTo>
                  <a:pt x="28" y="80"/>
                </a:lnTo>
                <a:lnTo>
                  <a:pt x="31" y="97"/>
                </a:lnTo>
                <a:lnTo>
                  <a:pt x="34" y="117"/>
                </a:lnTo>
                <a:lnTo>
                  <a:pt x="36" y="138"/>
                </a:lnTo>
                <a:lnTo>
                  <a:pt x="37" y="162"/>
                </a:lnTo>
                <a:lnTo>
                  <a:pt x="37" y="188"/>
                </a:lnTo>
                <a:lnTo>
                  <a:pt x="37" y="216"/>
                </a:lnTo>
                <a:lnTo>
                  <a:pt x="37" y="273"/>
                </a:lnTo>
                <a:lnTo>
                  <a:pt x="36" y="300"/>
                </a:lnTo>
                <a:lnTo>
                  <a:pt x="36" y="326"/>
                </a:lnTo>
                <a:lnTo>
                  <a:pt x="36" y="374"/>
                </a:lnTo>
                <a:lnTo>
                  <a:pt x="36" y="420"/>
                </a:lnTo>
                <a:lnTo>
                  <a:pt x="36" y="5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/>
          <p:nvPr/>
        </p:nvSpPr>
        <p:spPr>
          <a:xfrm>
            <a:off x="1971720" y="2852640"/>
            <a:ext cx="81000" cy="292320"/>
          </a:xfrm>
          <a:custGeom>
            <a:avLst/>
            <a:gdLst/>
            <a:ahLst/>
            <a:rect l="l" t="t" r="r" b="b"/>
            <a:pathLst>
              <a:path w="38" h="139">
                <a:moveTo>
                  <a:pt x="0" y="134"/>
                </a:moveTo>
                <a:lnTo>
                  <a:pt x="8" y="139"/>
                </a:lnTo>
                <a:lnTo>
                  <a:pt x="15" y="128"/>
                </a:lnTo>
                <a:lnTo>
                  <a:pt x="21" y="115"/>
                </a:lnTo>
                <a:lnTo>
                  <a:pt x="27" y="101"/>
                </a:lnTo>
                <a:lnTo>
                  <a:pt x="29" y="98"/>
                </a:lnTo>
                <a:lnTo>
                  <a:pt x="33" y="83"/>
                </a:lnTo>
                <a:lnTo>
                  <a:pt x="36" y="64"/>
                </a:lnTo>
                <a:lnTo>
                  <a:pt x="37" y="44"/>
                </a:lnTo>
                <a:lnTo>
                  <a:pt x="38" y="22"/>
                </a:lnTo>
                <a:lnTo>
                  <a:pt x="38" y="0"/>
                </a:lnTo>
                <a:lnTo>
                  <a:pt x="28" y="0"/>
                </a:lnTo>
                <a:lnTo>
                  <a:pt x="28" y="22"/>
                </a:lnTo>
                <a:lnTo>
                  <a:pt x="27" y="44"/>
                </a:lnTo>
                <a:lnTo>
                  <a:pt x="26" y="64"/>
                </a:lnTo>
                <a:lnTo>
                  <a:pt x="24" y="81"/>
                </a:lnTo>
                <a:lnTo>
                  <a:pt x="19" y="98"/>
                </a:lnTo>
                <a:lnTo>
                  <a:pt x="24" y="98"/>
                </a:lnTo>
                <a:lnTo>
                  <a:pt x="20" y="94"/>
                </a:lnTo>
                <a:lnTo>
                  <a:pt x="14" y="108"/>
                </a:lnTo>
                <a:lnTo>
                  <a:pt x="8" y="121"/>
                </a:lnTo>
                <a:lnTo>
                  <a:pt x="0" y="1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"/>
          <p:cNvSpPr/>
          <p:nvPr/>
        </p:nvSpPr>
        <p:spPr>
          <a:xfrm>
            <a:off x="1938240" y="2865600"/>
            <a:ext cx="42840" cy="137880"/>
          </a:xfrm>
          <a:custGeom>
            <a:avLst/>
            <a:gdLst/>
            <a:ahLst/>
            <a:rect l="l" t="t" r="r" b="b"/>
            <a:pathLst>
              <a:path w="20" h="66">
                <a:moveTo>
                  <a:pt x="1" y="65"/>
                </a:moveTo>
                <a:lnTo>
                  <a:pt x="10" y="66"/>
                </a:lnTo>
                <a:lnTo>
                  <a:pt x="10" y="64"/>
                </a:lnTo>
                <a:lnTo>
                  <a:pt x="11" y="59"/>
                </a:lnTo>
                <a:lnTo>
                  <a:pt x="12" y="53"/>
                </a:lnTo>
                <a:lnTo>
                  <a:pt x="13" y="45"/>
                </a:lnTo>
                <a:lnTo>
                  <a:pt x="15" y="35"/>
                </a:lnTo>
                <a:lnTo>
                  <a:pt x="16" y="24"/>
                </a:lnTo>
                <a:lnTo>
                  <a:pt x="20" y="1"/>
                </a:lnTo>
                <a:lnTo>
                  <a:pt x="11" y="0"/>
                </a:lnTo>
                <a:lnTo>
                  <a:pt x="6" y="24"/>
                </a:lnTo>
                <a:lnTo>
                  <a:pt x="5" y="35"/>
                </a:lnTo>
                <a:lnTo>
                  <a:pt x="3" y="45"/>
                </a:lnTo>
                <a:lnTo>
                  <a:pt x="2" y="53"/>
                </a:lnTo>
                <a:lnTo>
                  <a:pt x="1" y="59"/>
                </a:lnTo>
                <a:lnTo>
                  <a:pt x="0" y="64"/>
                </a:lnTo>
                <a:lnTo>
                  <a:pt x="1" y="6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"/>
          <p:cNvSpPr/>
          <p:nvPr/>
        </p:nvSpPr>
        <p:spPr>
          <a:xfrm>
            <a:off x="1800360" y="3022560"/>
            <a:ext cx="193680" cy="200160"/>
          </a:xfrm>
          <a:custGeom>
            <a:avLst/>
            <a:gdLst/>
            <a:ahLst/>
            <a:rect l="l" t="t" r="r" b="b"/>
            <a:pathLst>
              <a:path w="92" h="95">
                <a:moveTo>
                  <a:pt x="84" y="95"/>
                </a:moveTo>
                <a:lnTo>
                  <a:pt x="92" y="90"/>
                </a:lnTo>
                <a:lnTo>
                  <a:pt x="87" y="81"/>
                </a:lnTo>
                <a:lnTo>
                  <a:pt x="82" y="73"/>
                </a:lnTo>
                <a:lnTo>
                  <a:pt x="75" y="65"/>
                </a:lnTo>
                <a:lnTo>
                  <a:pt x="66" y="57"/>
                </a:lnTo>
                <a:lnTo>
                  <a:pt x="63" y="61"/>
                </a:lnTo>
                <a:lnTo>
                  <a:pt x="67" y="58"/>
                </a:lnTo>
                <a:lnTo>
                  <a:pt x="61" y="53"/>
                </a:lnTo>
                <a:lnTo>
                  <a:pt x="55" y="49"/>
                </a:lnTo>
                <a:lnTo>
                  <a:pt x="40" y="41"/>
                </a:lnTo>
                <a:lnTo>
                  <a:pt x="25" y="33"/>
                </a:lnTo>
                <a:lnTo>
                  <a:pt x="19" y="29"/>
                </a:lnTo>
                <a:lnTo>
                  <a:pt x="15" y="26"/>
                </a:lnTo>
                <a:lnTo>
                  <a:pt x="12" y="22"/>
                </a:lnTo>
                <a:lnTo>
                  <a:pt x="10" y="18"/>
                </a:lnTo>
                <a:lnTo>
                  <a:pt x="6" y="22"/>
                </a:lnTo>
                <a:lnTo>
                  <a:pt x="11" y="22"/>
                </a:lnTo>
                <a:lnTo>
                  <a:pt x="10" y="15"/>
                </a:lnTo>
                <a:lnTo>
                  <a:pt x="10" y="8"/>
                </a:lnTo>
                <a:lnTo>
                  <a:pt x="12" y="3"/>
                </a:lnTo>
                <a:lnTo>
                  <a:pt x="3" y="0"/>
                </a:lnTo>
                <a:lnTo>
                  <a:pt x="0" y="8"/>
                </a:lnTo>
                <a:lnTo>
                  <a:pt x="0" y="15"/>
                </a:lnTo>
                <a:lnTo>
                  <a:pt x="1" y="22"/>
                </a:lnTo>
                <a:lnTo>
                  <a:pt x="3" y="25"/>
                </a:lnTo>
                <a:lnTo>
                  <a:pt x="5" y="29"/>
                </a:lnTo>
                <a:lnTo>
                  <a:pt x="8" y="33"/>
                </a:lnTo>
                <a:lnTo>
                  <a:pt x="12" y="36"/>
                </a:lnTo>
                <a:lnTo>
                  <a:pt x="18" y="40"/>
                </a:lnTo>
                <a:lnTo>
                  <a:pt x="33" y="48"/>
                </a:lnTo>
                <a:lnTo>
                  <a:pt x="48" y="56"/>
                </a:lnTo>
                <a:lnTo>
                  <a:pt x="54" y="60"/>
                </a:lnTo>
                <a:lnTo>
                  <a:pt x="60" y="65"/>
                </a:lnTo>
                <a:lnTo>
                  <a:pt x="60" y="65"/>
                </a:lnTo>
                <a:lnTo>
                  <a:pt x="68" y="72"/>
                </a:lnTo>
                <a:lnTo>
                  <a:pt x="75" y="80"/>
                </a:lnTo>
                <a:lnTo>
                  <a:pt x="80" y="88"/>
                </a:lnTo>
                <a:lnTo>
                  <a:pt x="84" y="9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"/>
          <p:cNvSpPr/>
          <p:nvPr/>
        </p:nvSpPr>
        <p:spPr>
          <a:xfrm>
            <a:off x="1982880" y="3205080"/>
            <a:ext cx="207720" cy="206280"/>
          </a:xfrm>
          <a:custGeom>
            <a:avLst/>
            <a:gdLst/>
            <a:ahLst/>
            <a:rect l="l" t="t" r="r" b="b"/>
            <a:pathLst>
              <a:path w="99" h="98">
                <a:moveTo>
                  <a:pt x="0" y="89"/>
                </a:moveTo>
                <a:lnTo>
                  <a:pt x="3" y="98"/>
                </a:lnTo>
                <a:lnTo>
                  <a:pt x="17" y="91"/>
                </a:lnTo>
                <a:lnTo>
                  <a:pt x="21" y="90"/>
                </a:lnTo>
                <a:lnTo>
                  <a:pt x="37" y="82"/>
                </a:lnTo>
                <a:lnTo>
                  <a:pt x="51" y="73"/>
                </a:lnTo>
                <a:lnTo>
                  <a:pt x="64" y="63"/>
                </a:lnTo>
                <a:lnTo>
                  <a:pt x="74" y="50"/>
                </a:lnTo>
                <a:lnTo>
                  <a:pt x="84" y="36"/>
                </a:lnTo>
                <a:lnTo>
                  <a:pt x="92" y="21"/>
                </a:lnTo>
                <a:lnTo>
                  <a:pt x="99" y="4"/>
                </a:lnTo>
                <a:lnTo>
                  <a:pt x="91" y="0"/>
                </a:lnTo>
                <a:lnTo>
                  <a:pt x="85" y="14"/>
                </a:lnTo>
                <a:lnTo>
                  <a:pt x="77" y="29"/>
                </a:lnTo>
                <a:lnTo>
                  <a:pt x="67" y="43"/>
                </a:lnTo>
                <a:lnTo>
                  <a:pt x="57" y="56"/>
                </a:lnTo>
                <a:lnTo>
                  <a:pt x="44" y="66"/>
                </a:lnTo>
                <a:lnTo>
                  <a:pt x="30" y="75"/>
                </a:lnTo>
                <a:lnTo>
                  <a:pt x="14" y="83"/>
                </a:lnTo>
                <a:lnTo>
                  <a:pt x="17" y="86"/>
                </a:lnTo>
                <a:lnTo>
                  <a:pt x="17" y="81"/>
                </a:lnTo>
                <a:lnTo>
                  <a:pt x="0" y="8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"/>
          <p:cNvSpPr/>
          <p:nvPr/>
        </p:nvSpPr>
        <p:spPr>
          <a:xfrm>
            <a:off x="2149560" y="3203640"/>
            <a:ext cx="152280" cy="100080"/>
          </a:xfrm>
          <a:custGeom>
            <a:avLst/>
            <a:gdLst/>
            <a:ahLst/>
            <a:rect l="l" t="t" r="r" b="b"/>
            <a:pathLst>
              <a:path w="73" h="48">
                <a:moveTo>
                  <a:pt x="4" y="33"/>
                </a:moveTo>
                <a:lnTo>
                  <a:pt x="0" y="41"/>
                </a:lnTo>
                <a:lnTo>
                  <a:pt x="6" y="44"/>
                </a:lnTo>
                <a:lnTo>
                  <a:pt x="10" y="45"/>
                </a:lnTo>
                <a:lnTo>
                  <a:pt x="18" y="48"/>
                </a:lnTo>
                <a:lnTo>
                  <a:pt x="26" y="48"/>
                </a:lnTo>
                <a:lnTo>
                  <a:pt x="29" y="46"/>
                </a:lnTo>
                <a:lnTo>
                  <a:pt x="36" y="44"/>
                </a:lnTo>
                <a:lnTo>
                  <a:pt x="42" y="41"/>
                </a:lnTo>
                <a:lnTo>
                  <a:pt x="46" y="38"/>
                </a:lnTo>
                <a:lnTo>
                  <a:pt x="55" y="29"/>
                </a:lnTo>
                <a:lnTo>
                  <a:pt x="64" y="18"/>
                </a:lnTo>
                <a:lnTo>
                  <a:pt x="73" y="6"/>
                </a:lnTo>
                <a:lnTo>
                  <a:pt x="66" y="0"/>
                </a:lnTo>
                <a:lnTo>
                  <a:pt x="57" y="11"/>
                </a:lnTo>
                <a:lnTo>
                  <a:pt x="48" y="22"/>
                </a:lnTo>
                <a:lnTo>
                  <a:pt x="39" y="31"/>
                </a:lnTo>
                <a:lnTo>
                  <a:pt x="35" y="34"/>
                </a:lnTo>
                <a:lnTo>
                  <a:pt x="32" y="36"/>
                </a:lnTo>
                <a:lnTo>
                  <a:pt x="22" y="39"/>
                </a:lnTo>
                <a:lnTo>
                  <a:pt x="26" y="43"/>
                </a:lnTo>
                <a:lnTo>
                  <a:pt x="26" y="38"/>
                </a:lnTo>
                <a:lnTo>
                  <a:pt x="18" y="38"/>
                </a:lnTo>
                <a:lnTo>
                  <a:pt x="10" y="35"/>
                </a:lnTo>
                <a:lnTo>
                  <a:pt x="10" y="40"/>
                </a:lnTo>
                <a:lnTo>
                  <a:pt x="13" y="37"/>
                </a:lnTo>
                <a:lnTo>
                  <a:pt x="4" y="3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"/>
          <p:cNvSpPr/>
          <p:nvPr/>
        </p:nvSpPr>
        <p:spPr>
          <a:xfrm>
            <a:off x="2262240" y="3247920"/>
            <a:ext cx="69840" cy="22320"/>
          </a:xfrm>
          <a:custGeom>
            <a:avLst/>
            <a:gdLst/>
            <a:ahLst/>
            <a:rect l="l" t="t" r="r" b="b"/>
            <a:pathLst>
              <a:path w="33" h="11">
                <a:moveTo>
                  <a:pt x="1" y="0"/>
                </a:moveTo>
                <a:lnTo>
                  <a:pt x="0" y="10"/>
                </a:lnTo>
                <a:lnTo>
                  <a:pt x="18" y="11"/>
                </a:lnTo>
                <a:lnTo>
                  <a:pt x="26" y="11"/>
                </a:lnTo>
                <a:lnTo>
                  <a:pt x="33" y="10"/>
                </a:lnTo>
                <a:lnTo>
                  <a:pt x="31" y="1"/>
                </a:lnTo>
                <a:lnTo>
                  <a:pt x="26" y="1"/>
                </a:lnTo>
                <a:lnTo>
                  <a:pt x="18" y="1"/>
                </a:lnTo>
                <a:lnTo>
                  <a:pt x="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"/>
          <p:cNvSpPr/>
          <p:nvPr/>
        </p:nvSpPr>
        <p:spPr>
          <a:xfrm>
            <a:off x="1814400" y="3243240"/>
            <a:ext cx="173160" cy="223920"/>
          </a:xfrm>
          <a:custGeom>
            <a:avLst/>
            <a:gdLst/>
            <a:ahLst/>
            <a:rect l="l" t="t" r="r" b="b"/>
            <a:pathLst>
              <a:path w="82" h="107">
                <a:moveTo>
                  <a:pt x="77" y="107"/>
                </a:moveTo>
                <a:lnTo>
                  <a:pt x="82" y="99"/>
                </a:lnTo>
                <a:lnTo>
                  <a:pt x="70" y="91"/>
                </a:lnTo>
                <a:lnTo>
                  <a:pt x="57" y="83"/>
                </a:lnTo>
                <a:lnTo>
                  <a:pt x="46" y="73"/>
                </a:lnTo>
                <a:lnTo>
                  <a:pt x="36" y="62"/>
                </a:lnTo>
                <a:lnTo>
                  <a:pt x="27" y="48"/>
                </a:lnTo>
                <a:lnTo>
                  <a:pt x="20" y="32"/>
                </a:lnTo>
                <a:lnTo>
                  <a:pt x="16" y="35"/>
                </a:lnTo>
                <a:lnTo>
                  <a:pt x="21" y="35"/>
                </a:lnTo>
                <a:lnTo>
                  <a:pt x="15" y="18"/>
                </a:lnTo>
                <a:lnTo>
                  <a:pt x="9" y="0"/>
                </a:lnTo>
                <a:lnTo>
                  <a:pt x="0" y="3"/>
                </a:lnTo>
                <a:lnTo>
                  <a:pt x="5" y="18"/>
                </a:lnTo>
                <a:lnTo>
                  <a:pt x="11" y="35"/>
                </a:lnTo>
                <a:lnTo>
                  <a:pt x="13" y="39"/>
                </a:lnTo>
                <a:lnTo>
                  <a:pt x="20" y="55"/>
                </a:lnTo>
                <a:lnTo>
                  <a:pt x="28" y="68"/>
                </a:lnTo>
                <a:lnTo>
                  <a:pt x="39" y="80"/>
                </a:lnTo>
                <a:lnTo>
                  <a:pt x="50" y="90"/>
                </a:lnTo>
                <a:lnTo>
                  <a:pt x="63" y="98"/>
                </a:lnTo>
                <a:lnTo>
                  <a:pt x="77" y="10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"/>
          <p:cNvSpPr/>
          <p:nvPr/>
        </p:nvSpPr>
        <p:spPr>
          <a:xfrm>
            <a:off x="1728720" y="3235320"/>
            <a:ext cx="123840" cy="104760"/>
          </a:xfrm>
          <a:custGeom>
            <a:avLst/>
            <a:gdLst/>
            <a:ahLst/>
            <a:rect l="l" t="t" r="r" b="b"/>
            <a:pathLst>
              <a:path w="59" h="50">
                <a:moveTo>
                  <a:pt x="59" y="43"/>
                </a:moveTo>
                <a:lnTo>
                  <a:pt x="55" y="35"/>
                </a:lnTo>
                <a:lnTo>
                  <a:pt x="47" y="39"/>
                </a:lnTo>
                <a:lnTo>
                  <a:pt x="51" y="42"/>
                </a:lnTo>
                <a:lnTo>
                  <a:pt x="51" y="37"/>
                </a:lnTo>
                <a:lnTo>
                  <a:pt x="44" y="39"/>
                </a:lnTo>
                <a:lnTo>
                  <a:pt x="38" y="40"/>
                </a:lnTo>
                <a:lnTo>
                  <a:pt x="34" y="39"/>
                </a:lnTo>
                <a:lnTo>
                  <a:pt x="34" y="44"/>
                </a:lnTo>
                <a:lnTo>
                  <a:pt x="38" y="40"/>
                </a:lnTo>
                <a:lnTo>
                  <a:pt x="34" y="38"/>
                </a:lnTo>
                <a:lnTo>
                  <a:pt x="31" y="42"/>
                </a:lnTo>
                <a:lnTo>
                  <a:pt x="34" y="38"/>
                </a:lnTo>
                <a:lnTo>
                  <a:pt x="31" y="36"/>
                </a:lnTo>
                <a:lnTo>
                  <a:pt x="28" y="32"/>
                </a:lnTo>
                <a:lnTo>
                  <a:pt x="21" y="23"/>
                </a:lnTo>
                <a:lnTo>
                  <a:pt x="14" y="11"/>
                </a:lnTo>
                <a:lnTo>
                  <a:pt x="8" y="0"/>
                </a:lnTo>
                <a:lnTo>
                  <a:pt x="0" y="4"/>
                </a:lnTo>
                <a:lnTo>
                  <a:pt x="7" y="18"/>
                </a:lnTo>
                <a:lnTo>
                  <a:pt x="14" y="30"/>
                </a:lnTo>
                <a:lnTo>
                  <a:pt x="21" y="39"/>
                </a:lnTo>
                <a:lnTo>
                  <a:pt x="24" y="43"/>
                </a:lnTo>
                <a:lnTo>
                  <a:pt x="28" y="46"/>
                </a:lnTo>
                <a:lnTo>
                  <a:pt x="29" y="46"/>
                </a:lnTo>
                <a:lnTo>
                  <a:pt x="31" y="47"/>
                </a:lnTo>
                <a:lnTo>
                  <a:pt x="34" y="49"/>
                </a:lnTo>
                <a:lnTo>
                  <a:pt x="38" y="50"/>
                </a:lnTo>
                <a:lnTo>
                  <a:pt x="44" y="49"/>
                </a:lnTo>
                <a:lnTo>
                  <a:pt x="51" y="47"/>
                </a:lnTo>
                <a:lnTo>
                  <a:pt x="54" y="46"/>
                </a:lnTo>
                <a:lnTo>
                  <a:pt x="5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/>
          <p:nvPr/>
        </p:nvSpPr>
        <p:spPr>
          <a:xfrm>
            <a:off x="1701720" y="3263760"/>
            <a:ext cx="57240" cy="24120"/>
          </a:xfrm>
          <a:custGeom>
            <a:avLst/>
            <a:gdLst/>
            <a:ahLst/>
            <a:rect l="l" t="t" r="r" b="b"/>
            <a:pathLst>
              <a:path w="27" h="11">
                <a:moveTo>
                  <a:pt x="27" y="10"/>
                </a:moveTo>
                <a:lnTo>
                  <a:pt x="26" y="0"/>
                </a:lnTo>
                <a:lnTo>
                  <a:pt x="12" y="1"/>
                </a:lnTo>
                <a:lnTo>
                  <a:pt x="6" y="1"/>
                </a:lnTo>
                <a:lnTo>
                  <a:pt x="3" y="1"/>
                </a:lnTo>
                <a:lnTo>
                  <a:pt x="0" y="10"/>
                </a:lnTo>
                <a:lnTo>
                  <a:pt x="6" y="11"/>
                </a:lnTo>
                <a:lnTo>
                  <a:pt x="12" y="11"/>
                </a:lnTo>
                <a:lnTo>
                  <a:pt x="2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"/>
          <p:cNvSpPr/>
          <p:nvPr/>
        </p:nvSpPr>
        <p:spPr>
          <a:xfrm>
            <a:off x="1898640" y="2884320"/>
            <a:ext cx="98280" cy="1070280"/>
          </a:xfrm>
          <a:custGeom>
            <a:avLst/>
            <a:gdLst/>
            <a:ahLst/>
            <a:rect l="l" t="t" r="r" b="b"/>
            <a:pathLst>
              <a:path w="47" h="510">
                <a:moveTo>
                  <a:pt x="36" y="510"/>
                </a:moveTo>
                <a:lnTo>
                  <a:pt x="46" y="510"/>
                </a:lnTo>
                <a:lnTo>
                  <a:pt x="46" y="420"/>
                </a:lnTo>
                <a:lnTo>
                  <a:pt x="46" y="374"/>
                </a:lnTo>
                <a:lnTo>
                  <a:pt x="46" y="326"/>
                </a:lnTo>
                <a:lnTo>
                  <a:pt x="46" y="300"/>
                </a:lnTo>
                <a:lnTo>
                  <a:pt x="47" y="273"/>
                </a:lnTo>
                <a:lnTo>
                  <a:pt x="47" y="216"/>
                </a:lnTo>
                <a:lnTo>
                  <a:pt x="47" y="188"/>
                </a:lnTo>
                <a:lnTo>
                  <a:pt x="47" y="162"/>
                </a:lnTo>
                <a:lnTo>
                  <a:pt x="46" y="138"/>
                </a:lnTo>
                <a:lnTo>
                  <a:pt x="44" y="116"/>
                </a:lnTo>
                <a:lnTo>
                  <a:pt x="41" y="97"/>
                </a:lnTo>
                <a:lnTo>
                  <a:pt x="38" y="80"/>
                </a:lnTo>
                <a:lnTo>
                  <a:pt x="34" y="64"/>
                </a:lnTo>
                <a:lnTo>
                  <a:pt x="30" y="50"/>
                </a:lnTo>
                <a:lnTo>
                  <a:pt x="25" y="37"/>
                </a:lnTo>
                <a:lnTo>
                  <a:pt x="23" y="34"/>
                </a:lnTo>
                <a:lnTo>
                  <a:pt x="18" y="21"/>
                </a:lnTo>
                <a:lnTo>
                  <a:pt x="8" y="0"/>
                </a:lnTo>
                <a:lnTo>
                  <a:pt x="0" y="4"/>
                </a:lnTo>
                <a:lnTo>
                  <a:pt x="11" y="28"/>
                </a:lnTo>
                <a:lnTo>
                  <a:pt x="16" y="41"/>
                </a:lnTo>
                <a:lnTo>
                  <a:pt x="20" y="37"/>
                </a:lnTo>
                <a:lnTo>
                  <a:pt x="15" y="37"/>
                </a:lnTo>
                <a:lnTo>
                  <a:pt x="20" y="50"/>
                </a:lnTo>
                <a:lnTo>
                  <a:pt x="24" y="64"/>
                </a:lnTo>
                <a:lnTo>
                  <a:pt x="28" y="80"/>
                </a:lnTo>
                <a:lnTo>
                  <a:pt x="31" y="97"/>
                </a:lnTo>
                <a:lnTo>
                  <a:pt x="34" y="117"/>
                </a:lnTo>
                <a:lnTo>
                  <a:pt x="36" y="138"/>
                </a:lnTo>
                <a:lnTo>
                  <a:pt x="37" y="162"/>
                </a:lnTo>
                <a:lnTo>
                  <a:pt x="37" y="188"/>
                </a:lnTo>
                <a:lnTo>
                  <a:pt x="37" y="216"/>
                </a:lnTo>
                <a:lnTo>
                  <a:pt x="37" y="273"/>
                </a:lnTo>
                <a:lnTo>
                  <a:pt x="36" y="300"/>
                </a:lnTo>
                <a:lnTo>
                  <a:pt x="36" y="326"/>
                </a:lnTo>
                <a:lnTo>
                  <a:pt x="36" y="374"/>
                </a:lnTo>
                <a:lnTo>
                  <a:pt x="36" y="420"/>
                </a:lnTo>
                <a:lnTo>
                  <a:pt x="36" y="5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1" name=""/>
          <p:cNvSpPr/>
          <p:nvPr/>
        </p:nvSpPr>
        <p:spPr>
          <a:xfrm>
            <a:off x="1971720" y="2852640"/>
            <a:ext cx="81000" cy="292320"/>
          </a:xfrm>
          <a:custGeom>
            <a:avLst/>
            <a:gdLst/>
            <a:ahLst/>
            <a:rect l="l" t="t" r="r" b="b"/>
            <a:pathLst>
              <a:path w="38" h="139">
                <a:moveTo>
                  <a:pt x="0" y="134"/>
                </a:moveTo>
                <a:lnTo>
                  <a:pt x="8" y="139"/>
                </a:lnTo>
                <a:lnTo>
                  <a:pt x="15" y="128"/>
                </a:lnTo>
                <a:lnTo>
                  <a:pt x="21" y="115"/>
                </a:lnTo>
                <a:lnTo>
                  <a:pt x="27" y="101"/>
                </a:lnTo>
                <a:lnTo>
                  <a:pt x="29" y="98"/>
                </a:lnTo>
                <a:lnTo>
                  <a:pt x="33" y="83"/>
                </a:lnTo>
                <a:lnTo>
                  <a:pt x="36" y="64"/>
                </a:lnTo>
                <a:lnTo>
                  <a:pt x="37" y="44"/>
                </a:lnTo>
                <a:lnTo>
                  <a:pt x="38" y="22"/>
                </a:lnTo>
                <a:lnTo>
                  <a:pt x="38" y="0"/>
                </a:lnTo>
                <a:lnTo>
                  <a:pt x="28" y="0"/>
                </a:lnTo>
                <a:lnTo>
                  <a:pt x="28" y="22"/>
                </a:lnTo>
                <a:lnTo>
                  <a:pt x="27" y="44"/>
                </a:lnTo>
                <a:lnTo>
                  <a:pt x="26" y="64"/>
                </a:lnTo>
                <a:lnTo>
                  <a:pt x="24" y="81"/>
                </a:lnTo>
                <a:lnTo>
                  <a:pt x="19" y="98"/>
                </a:lnTo>
                <a:lnTo>
                  <a:pt x="24" y="98"/>
                </a:lnTo>
                <a:lnTo>
                  <a:pt x="20" y="94"/>
                </a:lnTo>
                <a:lnTo>
                  <a:pt x="14" y="108"/>
                </a:lnTo>
                <a:lnTo>
                  <a:pt x="8" y="121"/>
                </a:lnTo>
                <a:lnTo>
                  <a:pt x="0" y="1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2" name=""/>
          <p:cNvSpPr/>
          <p:nvPr/>
        </p:nvSpPr>
        <p:spPr>
          <a:xfrm>
            <a:off x="1938240" y="2865600"/>
            <a:ext cx="42840" cy="137880"/>
          </a:xfrm>
          <a:custGeom>
            <a:avLst/>
            <a:gdLst/>
            <a:ahLst/>
            <a:rect l="l" t="t" r="r" b="b"/>
            <a:pathLst>
              <a:path w="20" h="66">
                <a:moveTo>
                  <a:pt x="1" y="65"/>
                </a:moveTo>
                <a:lnTo>
                  <a:pt x="10" y="66"/>
                </a:lnTo>
                <a:lnTo>
                  <a:pt x="10" y="64"/>
                </a:lnTo>
                <a:lnTo>
                  <a:pt x="11" y="59"/>
                </a:lnTo>
                <a:lnTo>
                  <a:pt x="12" y="53"/>
                </a:lnTo>
                <a:lnTo>
                  <a:pt x="13" y="45"/>
                </a:lnTo>
                <a:lnTo>
                  <a:pt x="15" y="35"/>
                </a:lnTo>
                <a:lnTo>
                  <a:pt x="16" y="24"/>
                </a:lnTo>
                <a:lnTo>
                  <a:pt x="20" y="1"/>
                </a:lnTo>
                <a:lnTo>
                  <a:pt x="11" y="0"/>
                </a:lnTo>
                <a:lnTo>
                  <a:pt x="6" y="24"/>
                </a:lnTo>
                <a:lnTo>
                  <a:pt x="5" y="35"/>
                </a:lnTo>
                <a:lnTo>
                  <a:pt x="3" y="45"/>
                </a:lnTo>
                <a:lnTo>
                  <a:pt x="2" y="53"/>
                </a:lnTo>
                <a:lnTo>
                  <a:pt x="1" y="59"/>
                </a:lnTo>
                <a:lnTo>
                  <a:pt x="0" y="64"/>
                </a:lnTo>
                <a:lnTo>
                  <a:pt x="1" y="6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3" name=""/>
          <p:cNvSpPr/>
          <p:nvPr/>
        </p:nvSpPr>
        <p:spPr>
          <a:xfrm>
            <a:off x="1800360" y="3022560"/>
            <a:ext cx="193680" cy="200160"/>
          </a:xfrm>
          <a:custGeom>
            <a:avLst/>
            <a:gdLst/>
            <a:ahLst/>
            <a:rect l="l" t="t" r="r" b="b"/>
            <a:pathLst>
              <a:path w="92" h="95">
                <a:moveTo>
                  <a:pt x="84" y="95"/>
                </a:moveTo>
                <a:lnTo>
                  <a:pt x="92" y="90"/>
                </a:lnTo>
                <a:lnTo>
                  <a:pt x="87" y="81"/>
                </a:lnTo>
                <a:lnTo>
                  <a:pt x="82" y="73"/>
                </a:lnTo>
                <a:lnTo>
                  <a:pt x="75" y="65"/>
                </a:lnTo>
                <a:lnTo>
                  <a:pt x="66" y="57"/>
                </a:lnTo>
                <a:lnTo>
                  <a:pt x="63" y="61"/>
                </a:lnTo>
                <a:lnTo>
                  <a:pt x="67" y="58"/>
                </a:lnTo>
                <a:lnTo>
                  <a:pt x="61" y="53"/>
                </a:lnTo>
                <a:lnTo>
                  <a:pt x="55" y="49"/>
                </a:lnTo>
                <a:lnTo>
                  <a:pt x="40" y="41"/>
                </a:lnTo>
                <a:lnTo>
                  <a:pt x="25" y="33"/>
                </a:lnTo>
                <a:lnTo>
                  <a:pt x="19" y="29"/>
                </a:lnTo>
                <a:lnTo>
                  <a:pt x="15" y="26"/>
                </a:lnTo>
                <a:lnTo>
                  <a:pt x="12" y="22"/>
                </a:lnTo>
                <a:lnTo>
                  <a:pt x="10" y="18"/>
                </a:lnTo>
                <a:lnTo>
                  <a:pt x="6" y="22"/>
                </a:lnTo>
                <a:lnTo>
                  <a:pt x="11" y="22"/>
                </a:lnTo>
                <a:lnTo>
                  <a:pt x="10" y="15"/>
                </a:lnTo>
                <a:lnTo>
                  <a:pt x="10" y="8"/>
                </a:lnTo>
                <a:lnTo>
                  <a:pt x="12" y="3"/>
                </a:lnTo>
                <a:lnTo>
                  <a:pt x="3" y="0"/>
                </a:lnTo>
                <a:lnTo>
                  <a:pt x="0" y="8"/>
                </a:lnTo>
                <a:lnTo>
                  <a:pt x="0" y="15"/>
                </a:lnTo>
                <a:lnTo>
                  <a:pt x="1" y="22"/>
                </a:lnTo>
                <a:lnTo>
                  <a:pt x="3" y="25"/>
                </a:lnTo>
                <a:lnTo>
                  <a:pt x="5" y="29"/>
                </a:lnTo>
                <a:lnTo>
                  <a:pt x="8" y="33"/>
                </a:lnTo>
                <a:lnTo>
                  <a:pt x="12" y="36"/>
                </a:lnTo>
                <a:lnTo>
                  <a:pt x="18" y="40"/>
                </a:lnTo>
                <a:lnTo>
                  <a:pt x="33" y="48"/>
                </a:lnTo>
                <a:lnTo>
                  <a:pt x="48" y="56"/>
                </a:lnTo>
                <a:lnTo>
                  <a:pt x="54" y="60"/>
                </a:lnTo>
                <a:lnTo>
                  <a:pt x="60" y="65"/>
                </a:lnTo>
                <a:lnTo>
                  <a:pt x="60" y="65"/>
                </a:lnTo>
                <a:lnTo>
                  <a:pt x="68" y="72"/>
                </a:lnTo>
                <a:lnTo>
                  <a:pt x="75" y="80"/>
                </a:lnTo>
                <a:lnTo>
                  <a:pt x="80" y="88"/>
                </a:lnTo>
                <a:lnTo>
                  <a:pt x="84" y="9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4" name=""/>
          <p:cNvSpPr/>
          <p:nvPr/>
        </p:nvSpPr>
        <p:spPr>
          <a:xfrm>
            <a:off x="1982880" y="3205080"/>
            <a:ext cx="207720" cy="206280"/>
          </a:xfrm>
          <a:custGeom>
            <a:avLst/>
            <a:gdLst/>
            <a:ahLst/>
            <a:rect l="l" t="t" r="r" b="b"/>
            <a:pathLst>
              <a:path w="99" h="98">
                <a:moveTo>
                  <a:pt x="0" y="89"/>
                </a:moveTo>
                <a:lnTo>
                  <a:pt x="3" y="98"/>
                </a:lnTo>
                <a:lnTo>
                  <a:pt x="17" y="91"/>
                </a:lnTo>
                <a:lnTo>
                  <a:pt x="21" y="90"/>
                </a:lnTo>
                <a:lnTo>
                  <a:pt x="37" y="82"/>
                </a:lnTo>
                <a:lnTo>
                  <a:pt x="51" y="73"/>
                </a:lnTo>
                <a:lnTo>
                  <a:pt x="64" y="63"/>
                </a:lnTo>
                <a:lnTo>
                  <a:pt x="74" y="50"/>
                </a:lnTo>
                <a:lnTo>
                  <a:pt x="84" y="36"/>
                </a:lnTo>
                <a:lnTo>
                  <a:pt x="92" y="21"/>
                </a:lnTo>
                <a:lnTo>
                  <a:pt x="99" y="4"/>
                </a:lnTo>
                <a:lnTo>
                  <a:pt x="91" y="0"/>
                </a:lnTo>
                <a:lnTo>
                  <a:pt x="85" y="14"/>
                </a:lnTo>
                <a:lnTo>
                  <a:pt x="77" y="29"/>
                </a:lnTo>
                <a:lnTo>
                  <a:pt x="67" y="43"/>
                </a:lnTo>
                <a:lnTo>
                  <a:pt x="57" y="56"/>
                </a:lnTo>
                <a:lnTo>
                  <a:pt x="44" y="66"/>
                </a:lnTo>
                <a:lnTo>
                  <a:pt x="30" y="75"/>
                </a:lnTo>
                <a:lnTo>
                  <a:pt x="14" y="83"/>
                </a:lnTo>
                <a:lnTo>
                  <a:pt x="17" y="86"/>
                </a:lnTo>
                <a:lnTo>
                  <a:pt x="17" y="81"/>
                </a:lnTo>
                <a:lnTo>
                  <a:pt x="0" y="8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5" name=""/>
          <p:cNvSpPr/>
          <p:nvPr/>
        </p:nvSpPr>
        <p:spPr>
          <a:xfrm>
            <a:off x="2149560" y="3203640"/>
            <a:ext cx="152280" cy="100080"/>
          </a:xfrm>
          <a:custGeom>
            <a:avLst/>
            <a:gdLst/>
            <a:ahLst/>
            <a:rect l="l" t="t" r="r" b="b"/>
            <a:pathLst>
              <a:path w="73" h="48">
                <a:moveTo>
                  <a:pt x="4" y="33"/>
                </a:moveTo>
                <a:lnTo>
                  <a:pt x="0" y="41"/>
                </a:lnTo>
                <a:lnTo>
                  <a:pt x="6" y="44"/>
                </a:lnTo>
                <a:lnTo>
                  <a:pt x="10" y="45"/>
                </a:lnTo>
                <a:lnTo>
                  <a:pt x="18" y="48"/>
                </a:lnTo>
                <a:lnTo>
                  <a:pt x="26" y="48"/>
                </a:lnTo>
                <a:lnTo>
                  <a:pt x="29" y="46"/>
                </a:lnTo>
                <a:lnTo>
                  <a:pt x="36" y="44"/>
                </a:lnTo>
                <a:lnTo>
                  <a:pt x="42" y="41"/>
                </a:lnTo>
                <a:lnTo>
                  <a:pt x="46" y="38"/>
                </a:lnTo>
                <a:lnTo>
                  <a:pt x="55" y="29"/>
                </a:lnTo>
                <a:lnTo>
                  <a:pt x="64" y="18"/>
                </a:lnTo>
                <a:lnTo>
                  <a:pt x="73" y="6"/>
                </a:lnTo>
                <a:lnTo>
                  <a:pt x="66" y="0"/>
                </a:lnTo>
                <a:lnTo>
                  <a:pt x="57" y="11"/>
                </a:lnTo>
                <a:lnTo>
                  <a:pt x="48" y="22"/>
                </a:lnTo>
                <a:lnTo>
                  <a:pt x="39" y="31"/>
                </a:lnTo>
                <a:lnTo>
                  <a:pt x="35" y="34"/>
                </a:lnTo>
                <a:lnTo>
                  <a:pt x="32" y="36"/>
                </a:lnTo>
                <a:lnTo>
                  <a:pt x="22" y="39"/>
                </a:lnTo>
                <a:lnTo>
                  <a:pt x="26" y="43"/>
                </a:lnTo>
                <a:lnTo>
                  <a:pt x="26" y="38"/>
                </a:lnTo>
                <a:lnTo>
                  <a:pt x="18" y="38"/>
                </a:lnTo>
                <a:lnTo>
                  <a:pt x="10" y="35"/>
                </a:lnTo>
                <a:lnTo>
                  <a:pt x="10" y="40"/>
                </a:lnTo>
                <a:lnTo>
                  <a:pt x="13" y="37"/>
                </a:lnTo>
                <a:lnTo>
                  <a:pt x="4" y="3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6" name=""/>
          <p:cNvSpPr/>
          <p:nvPr/>
        </p:nvSpPr>
        <p:spPr>
          <a:xfrm>
            <a:off x="2262240" y="3247920"/>
            <a:ext cx="69840" cy="22320"/>
          </a:xfrm>
          <a:custGeom>
            <a:avLst/>
            <a:gdLst/>
            <a:ahLst/>
            <a:rect l="l" t="t" r="r" b="b"/>
            <a:pathLst>
              <a:path w="33" h="11">
                <a:moveTo>
                  <a:pt x="1" y="0"/>
                </a:moveTo>
                <a:lnTo>
                  <a:pt x="0" y="10"/>
                </a:lnTo>
                <a:lnTo>
                  <a:pt x="18" y="11"/>
                </a:lnTo>
                <a:lnTo>
                  <a:pt x="26" y="11"/>
                </a:lnTo>
                <a:lnTo>
                  <a:pt x="33" y="10"/>
                </a:lnTo>
                <a:lnTo>
                  <a:pt x="31" y="1"/>
                </a:lnTo>
                <a:lnTo>
                  <a:pt x="26" y="1"/>
                </a:lnTo>
                <a:lnTo>
                  <a:pt x="18" y="1"/>
                </a:lnTo>
                <a:lnTo>
                  <a:pt x="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7" name=""/>
          <p:cNvSpPr/>
          <p:nvPr/>
        </p:nvSpPr>
        <p:spPr>
          <a:xfrm>
            <a:off x="1814400" y="3243240"/>
            <a:ext cx="173160" cy="223920"/>
          </a:xfrm>
          <a:custGeom>
            <a:avLst/>
            <a:gdLst/>
            <a:ahLst/>
            <a:rect l="l" t="t" r="r" b="b"/>
            <a:pathLst>
              <a:path w="82" h="107">
                <a:moveTo>
                  <a:pt x="77" y="107"/>
                </a:moveTo>
                <a:lnTo>
                  <a:pt x="82" y="99"/>
                </a:lnTo>
                <a:lnTo>
                  <a:pt x="70" y="91"/>
                </a:lnTo>
                <a:lnTo>
                  <a:pt x="57" y="83"/>
                </a:lnTo>
                <a:lnTo>
                  <a:pt x="46" y="73"/>
                </a:lnTo>
                <a:lnTo>
                  <a:pt x="36" y="62"/>
                </a:lnTo>
                <a:lnTo>
                  <a:pt x="27" y="48"/>
                </a:lnTo>
                <a:lnTo>
                  <a:pt x="20" y="32"/>
                </a:lnTo>
                <a:lnTo>
                  <a:pt x="16" y="35"/>
                </a:lnTo>
                <a:lnTo>
                  <a:pt x="21" y="35"/>
                </a:lnTo>
                <a:lnTo>
                  <a:pt x="15" y="18"/>
                </a:lnTo>
                <a:lnTo>
                  <a:pt x="9" y="0"/>
                </a:lnTo>
                <a:lnTo>
                  <a:pt x="0" y="3"/>
                </a:lnTo>
                <a:lnTo>
                  <a:pt x="5" y="18"/>
                </a:lnTo>
                <a:lnTo>
                  <a:pt x="11" y="35"/>
                </a:lnTo>
                <a:lnTo>
                  <a:pt x="13" y="39"/>
                </a:lnTo>
                <a:lnTo>
                  <a:pt x="20" y="55"/>
                </a:lnTo>
                <a:lnTo>
                  <a:pt x="28" y="68"/>
                </a:lnTo>
                <a:lnTo>
                  <a:pt x="39" y="80"/>
                </a:lnTo>
                <a:lnTo>
                  <a:pt x="50" y="90"/>
                </a:lnTo>
                <a:lnTo>
                  <a:pt x="63" y="98"/>
                </a:lnTo>
                <a:lnTo>
                  <a:pt x="77" y="10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8" name=""/>
          <p:cNvSpPr/>
          <p:nvPr/>
        </p:nvSpPr>
        <p:spPr>
          <a:xfrm>
            <a:off x="1728720" y="3235320"/>
            <a:ext cx="123840" cy="104760"/>
          </a:xfrm>
          <a:custGeom>
            <a:avLst/>
            <a:gdLst/>
            <a:ahLst/>
            <a:rect l="l" t="t" r="r" b="b"/>
            <a:pathLst>
              <a:path w="59" h="50">
                <a:moveTo>
                  <a:pt x="59" y="43"/>
                </a:moveTo>
                <a:lnTo>
                  <a:pt x="55" y="35"/>
                </a:lnTo>
                <a:lnTo>
                  <a:pt x="47" y="39"/>
                </a:lnTo>
                <a:lnTo>
                  <a:pt x="51" y="42"/>
                </a:lnTo>
                <a:lnTo>
                  <a:pt x="51" y="37"/>
                </a:lnTo>
                <a:lnTo>
                  <a:pt x="44" y="39"/>
                </a:lnTo>
                <a:lnTo>
                  <a:pt x="38" y="40"/>
                </a:lnTo>
                <a:lnTo>
                  <a:pt x="34" y="39"/>
                </a:lnTo>
                <a:lnTo>
                  <a:pt x="34" y="44"/>
                </a:lnTo>
                <a:lnTo>
                  <a:pt x="38" y="40"/>
                </a:lnTo>
                <a:lnTo>
                  <a:pt x="34" y="38"/>
                </a:lnTo>
                <a:lnTo>
                  <a:pt x="31" y="42"/>
                </a:lnTo>
                <a:lnTo>
                  <a:pt x="34" y="38"/>
                </a:lnTo>
                <a:lnTo>
                  <a:pt x="31" y="36"/>
                </a:lnTo>
                <a:lnTo>
                  <a:pt x="28" y="32"/>
                </a:lnTo>
                <a:lnTo>
                  <a:pt x="21" y="23"/>
                </a:lnTo>
                <a:lnTo>
                  <a:pt x="14" y="11"/>
                </a:lnTo>
                <a:lnTo>
                  <a:pt x="8" y="0"/>
                </a:lnTo>
                <a:lnTo>
                  <a:pt x="0" y="4"/>
                </a:lnTo>
                <a:lnTo>
                  <a:pt x="7" y="18"/>
                </a:lnTo>
                <a:lnTo>
                  <a:pt x="14" y="30"/>
                </a:lnTo>
                <a:lnTo>
                  <a:pt x="21" y="39"/>
                </a:lnTo>
                <a:lnTo>
                  <a:pt x="24" y="43"/>
                </a:lnTo>
                <a:lnTo>
                  <a:pt x="28" y="46"/>
                </a:lnTo>
                <a:lnTo>
                  <a:pt x="29" y="46"/>
                </a:lnTo>
                <a:lnTo>
                  <a:pt x="31" y="47"/>
                </a:lnTo>
                <a:lnTo>
                  <a:pt x="34" y="49"/>
                </a:lnTo>
                <a:lnTo>
                  <a:pt x="38" y="50"/>
                </a:lnTo>
                <a:lnTo>
                  <a:pt x="44" y="49"/>
                </a:lnTo>
                <a:lnTo>
                  <a:pt x="51" y="47"/>
                </a:lnTo>
                <a:lnTo>
                  <a:pt x="54" y="46"/>
                </a:lnTo>
                <a:lnTo>
                  <a:pt x="5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9" name=""/>
          <p:cNvSpPr/>
          <p:nvPr/>
        </p:nvSpPr>
        <p:spPr>
          <a:xfrm>
            <a:off x="1701720" y="3263760"/>
            <a:ext cx="57240" cy="24120"/>
          </a:xfrm>
          <a:custGeom>
            <a:avLst/>
            <a:gdLst/>
            <a:ahLst/>
            <a:rect l="l" t="t" r="r" b="b"/>
            <a:pathLst>
              <a:path w="27" h="11">
                <a:moveTo>
                  <a:pt x="27" y="10"/>
                </a:moveTo>
                <a:lnTo>
                  <a:pt x="26" y="0"/>
                </a:lnTo>
                <a:lnTo>
                  <a:pt x="12" y="1"/>
                </a:lnTo>
                <a:lnTo>
                  <a:pt x="6" y="1"/>
                </a:lnTo>
                <a:lnTo>
                  <a:pt x="3" y="1"/>
                </a:lnTo>
                <a:lnTo>
                  <a:pt x="0" y="10"/>
                </a:lnTo>
                <a:lnTo>
                  <a:pt x="6" y="11"/>
                </a:lnTo>
                <a:lnTo>
                  <a:pt x="12" y="11"/>
                </a:lnTo>
                <a:lnTo>
                  <a:pt x="2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0" name=""/>
          <p:cNvSpPr/>
          <p:nvPr/>
        </p:nvSpPr>
        <p:spPr>
          <a:xfrm>
            <a:off x="4297320" y="3699000"/>
            <a:ext cx="41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1" name=""/>
          <p:cNvGrpSpPr/>
          <p:nvPr/>
        </p:nvGrpSpPr>
        <p:grpSpPr>
          <a:xfrm>
            <a:off x="2276640" y="2541600"/>
            <a:ext cx="2299320" cy="1738440"/>
            <a:chOff x="2276640" y="2541600"/>
            <a:chExt cx="2299320" cy="1738440"/>
          </a:xfrm>
        </p:grpSpPr>
        <p:grpSp>
          <p:nvGrpSpPr>
            <p:cNvPr id="6962" name=""/>
            <p:cNvGrpSpPr/>
            <p:nvPr/>
          </p:nvGrpSpPr>
          <p:grpSpPr>
            <a:xfrm>
              <a:off x="3624120" y="2541600"/>
              <a:ext cx="951840" cy="1488240"/>
              <a:chOff x="3624120" y="2541600"/>
              <a:chExt cx="951840" cy="1488240"/>
            </a:xfrm>
          </p:grpSpPr>
          <p:grpSp>
            <p:nvGrpSpPr>
              <p:cNvPr id="6963" name=""/>
              <p:cNvGrpSpPr/>
              <p:nvPr/>
            </p:nvGrpSpPr>
            <p:grpSpPr>
              <a:xfrm>
                <a:off x="3624120" y="2541600"/>
                <a:ext cx="951840" cy="1488240"/>
                <a:chOff x="3624120" y="2541600"/>
                <a:chExt cx="951840" cy="1488240"/>
              </a:xfrm>
            </p:grpSpPr>
            <p:grpSp>
              <p:nvGrpSpPr>
                <p:cNvPr id="6964" name=""/>
                <p:cNvGrpSpPr/>
                <p:nvPr/>
              </p:nvGrpSpPr>
              <p:grpSpPr>
                <a:xfrm>
                  <a:off x="3624120" y="2541600"/>
                  <a:ext cx="951840" cy="1488240"/>
                  <a:chOff x="3624120" y="2541600"/>
                  <a:chExt cx="951840" cy="1488240"/>
                </a:xfrm>
              </p:grpSpPr>
              <p:sp>
                <p:nvSpPr>
                  <p:cNvPr id="6965" name=""/>
                  <p:cNvSpPr/>
                  <p:nvPr/>
                </p:nvSpPr>
                <p:spPr>
                  <a:xfrm>
                    <a:off x="3624120" y="254160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6" name=""/>
                  <p:cNvSpPr/>
                  <p:nvPr/>
                </p:nvSpPr>
                <p:spPr>
                  <a:xfrm>
                    <a:off x="3624120" y="254160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7" name=""/>
                  <p:cNvSpPr/>
                  <p:nvPr/>
                </p:nvSpPr>
                <p:spPr>
                  <a:xfrm>
                    <a:off x="3624120" y="254160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8" name=""/>
                  <p:cNvSpPr/>
                  <p:nvPr/>
                </p:nvSpPr>
                <p:spPr>
                  <a:xfrm>
                    <a:off x="3624120" y="254160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69" name=""/>
                <p:cNvSpPr/>
                <p:nvPr/>
              </p:nvSpPr>
              <p:spPr>
                <a:xfrm>
                  <a:off x="3624120" y="2541600"/>
                  <a:ext cx="947880" cy="14850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0" name=""/>
              <p:cNvSpPr/>
              <p:nvPr/>
            </p:nvSpPr>
            <p:spPr>
              <a:xfrm>
                <a:off x="4417920" y="37670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71" name=""/>
              <p:cNvGrpSpPr/>
              <p:nvPr/>
            </p:nvGrpSpPr>
            <p:grpSpPr>
              <a:xfrm>
                <a:off x="3921120" y="2751120"/>
                <a:ext cx="533160" cy="1103040"/>
                <a:chOff x="3921120" y="2751120"/>
                <a:chExt cx="533160" cy="1103040"/>
              </a:xfrm>
            </p:grpSpPr>
            <p:sp>
              <p:nvSpPr>
                <p:cNvPr id="6972" name=""/>
                <p:cNvSpPr/>
                <p:nvPr/>
              </p:nvSpPr>
              <p:spPr>
                <a:xfrm>
                  <a:off x="4019400" y="2782440"/>
                  <a:ext cx="100800" cy="1071720"/>
                </a:xfrm>
                <a:custGeom>
                  <a:avLst/>
                  <a:gdLst/>
                  <a:ahLst/>
                  <a:rect l="l" t="t" r="r" b="b"/>
                  <a:pathLst>
                    <a:path w="48" h="510">
                      <a:moveTo>
                        <a:pt x="37" y="510"/>
                      </a:moveTo>
                      <a:lnTo>
                        <a:pt x="47" y="510"/>
                      </a:lnTo>
                      <a:lnTo>
                        <a:pt x="47" y="420"/>
                      </a:lnTo>
                      <a:lnTo>
                        <a:pt x="47" y="374"/>
                      </a:lnTo>
                      <a:lnTo>
                        <a:pt x="47" y="326"/>
                      </a:lnTo>
                      <a:lnTo>
                        <a:pt x="47" y="300"/>
                      </a:lnTo>
                      <a:lnTo>
                        <a:pt x="48" y="273"/>
                      </a:lnTo>
                      <a:lnTo>
                        <a:pt x="48" y="216"/>
                      </a:lnTo>
                      <a:lnTo>
                        <a:pt x="48" y="188"/>
                      </a:lnTo>
                      <a:lnTo>
                        <a:pt x="48" y="162"/>
                      </a:lnTo>
                      <a:lnTo>
                        <a:pt x="47" y="138"/>
                      </a:lnTo>
                      <a:lnTo>
                        <a:pt x="45" y="116"/>
                      </a:lnTo>
                      <a:lnTo>
                        <a:pt x="42" y="97"/>
                      </a:lnTo>
                      <a:lnTo>
                        <a:pt x="38" y="80"/>
                      </a:lnTo>
                      <a:lnTo>
                        <a:pt x="34" y="64"/>
                      </a:lnTo>
                      <a:lnTo>
                        <a:pt x="30" y="50"/>
                      </a:lnTo>
                      <a:lnTo>
                        <a:pt x="25" y="37"/>
                      </a:lnTo>
                      <a:lnTo>
                        <a:pt x="23" y="34"/>
                      </a:lnTo>
                      <a:lnTo>
                        <a:pt x="18" y="2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11" y="28"/>
                      </a:lnTo>
                      <a:lnTo>
                        <a:pt x="16" y="41"/>
                      </a:lnTo>
                      <a:lnTo>
                        <a:pt x="20" y="37"/>
                      </a:lnTo>
                      <a:lnTo>
                        <a:pt x="15" y="37"/>
                      </a:lnTo>
                      <a:lnTo>
                        <a:pt x="20" y="50"/>
                      </a:lnTo>
                      <a:lnTo>
                        <a:pt x="24" y="64"/>
                      </a:lnTo>
                      <a:lnTo>
                        <a:pt x="28" y="80"/>
                      </a:lnTo>
                      <a:lnTo>
                        <a:pt x="32" y="97"/>
                      </a:lnTo>
                      <a:lnTo>
                        <a:pt x="35" y="117"/>
                      </a:lnTo>
                      <a:lnTo>
                        <a:pt x="37" y="138"/>
                      </a:lnTo>
                      <a:lnTo>
                        <a:pt x="38" y="162"/>
                      </a:lnTo>
                      <a:lnTo>
                        <a:pt x="38" y="188"/>
                      </a:lnTo>
                      <a:lnTo>
                        <a:pt x="38" y="216"/>
                      </a:lnTo>
                      <a:lnTo>
                        <a:pt x="38" y="273"/>
                      </a:lnTo>
                      <a:lnTo>
                        <a:pt x="37" y="300"/>
                      </a:lnTo>
                      <a:lnTo>
                        <a:pt x="37" y="326"/>
                      </a:lnTo>
                      <a:lnTo>
                        <a:pt x="37" y="374"/>
                      </a:lnTo>
                      <a:lnTo>
                        <a:pt x="37" y="420"/>
                      </a:lnTo>
                      <a:lnTo>
                        <a:pt x="37" y="51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3" name=""/>
                <p:cNvSpPr/>
                <p:nvPr/>
              </p:nvSpPr>
              <p:spPr>
                <a:xfrm>
                  <a:off x="4092840" y="2751120"/>
                  <a:ext cx="81720" cy="291960"/>
                </a:xfrm>
                <a:custGeom>
                  <a:avLst/>
                  <a:gdLst/>
                  <a:ahLst/>
                  <a:rect l="l" t="t" r="r" b="b"/>
                  <a:pathLst>
                    <a:path w="39" h="139">
                      <a:moveTo>
                        <a:pt x="0" y="134"/>
                      </a:moveTo>
                      <a:lnTo>
                        <a:pt x="8" y="139"/>
                      </a:lnTo>
                      <a:lnTo>
                        <a:pt x="15" y="128"/>
                      </a:lnTo>
                      <a:lnTo>
                        <a:pt x="22" y="115"/>
                      </a:lnTo>
                      <a:lnTo>
                        <a:pt x="28" y="101"/>
                      </a:lnTo>
                      <a:lnTo>
                        <a:pt x="29" y="98"/>
                      </a:lnTo>
                      <a:lnTo>
                        <a:pt x="34" y="83"/>
                      </a:lnTo>
                      <a:lnTo>
                        <a:pt x="37" y="64"/>
                      </a:lnTo>
                      <a:lnTo>
                        <a:pt x="38" y="44"/>
                      </a:lnTo>
                      <a:lnTo>
                        <a:pt x="39" y="22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29" y="22"/>
                      </a:lnTo>
                      <a:lnTo>
                        <a:pt x="28" y="44"/>
                      </a:lnTo>
                      <a:lnTo>
                        <a:pt x="27" y="64"/>
                      </a:lnTo>
                      <a:lnTo>
                        <a:pt x="25" y="81"/>
                      </a:lnTo>
                      <a:lnTo>
                        <a:pt x="19" y="98"/>
                      </a:lnTo>
                      <a:lnTo>
                        <a:pt x="24" y="98"/>
                      </a:lnTo>
                      <a:lnTo>
                        <a:pt x="21" y="94"/>
                      </a:lnTo>
                      <a:lnTo>
                        <a:pt x="15" y="108"/>
                      </a:lnTo>
                      <a:lnTo>
                        <a:pt x="8" y="121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4" name=""/>
                <p:cNvSpPr/>
                <p:nvPr/>
              </p:nvSpPr>
              <p:spPr>
                <a:xfrm>
                  <a:off x="4059360" y="2763360"/>
                  <a:ext cx="41760" cy="138600"/>
                </a:xfrm>
                <a:custGeom>
                  <a:avLst/>
                  <a:gdLst/>
                  <a:ahLst/>
                  <a:rect l="l" t="t" r="r" b="b"/>
                  <a:pathLst>
                    <a:path w="20" h="66">
                      <a:moveTo>
                        <a:pt x="1" y="65"/>
                      </a:moveTo>
                      <a:lnTo>
                        <a:pt x="10" y="66"/>
                      </a:lnTo>
                      <a:lnTo>
                        <a:pt x="10" y="64"/>
                      </a:lnTo>
                      <a:lnTo>
                        <a:pt x="11" y="59"/>
                      </a:lnTo>
                      <a:lnTo>
                        <a:pt x="12" y="53"/>
                      </a:lnTo>
                      <a:lnTo>
                        <a:pt x="13" y="45"/>
                      </a:lnTo>
                      <a:lnTo>
                        <a:pt x="15" y="35"/>
                      </a:lnTo>
                      <a:lnTo>
                        <a:pt x="16" y="24"/>
                      </a:lnTo>
                      <a:lnTo>
                        <a:pt x="20" y="1"/>
                      </a:lnTo>
                      <a:lnTo>
                        <a:pt x="11" y="0"/>
                      </a:lnTo>
                      <a:lnTo>
                        <a:pt x="6" y="24"/>
                      </a:lnTo>
                      <a:lnTo>
                        <a:pt x="5" y="35"/>
                      </a:lnTo>
                      <a:lnTo>
                        <a:pt x="3" y="45"/>
                      </a:lnTo>
                      <a:lnTo>
                        <a:pt x="2" y="53"/>
                      </a:lnTo>
                      <a:lnTo>
                        <a:pt x="1" y="59"/>
                      </a:lnTo>
                      <a:lnTo>
                        <a:pt x="0" y="64"/>
                      </a:lnTo>
                      <a:lnTo>
                        <a:pt x="1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5" name=""/>
                <p:cNvSpPr/>
                <p:nvPr/>
              </p:nvSpPr>
              <p:spPr>
                <a:xfrm>
                  <a:off x="3921120" y="2922840"/>
                  <a:ext cx="193320" cy="19764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6" name=""/>
                <p:cNvSpPr/>
                <p:nvPr/>
              </p:nvSpPr>
              <p:spPr>
                <a:xfrm>
                  <a:off x="4103280" y="3103920"/>
                  <a:ext cx="209880" cy="205560"/>
                </a:xfrm>
                <a:custGeom>
                  <a:avLst/>
                  <a:gdLst/>
                  <a:ahLst/>
                  <a:rect l="l" t="t" r="r" b="b"/>
                  <a:pathLst>
                    <a:path w="100" h="98">
                      <a:moveTo>
                        <a:pt x="0" y="89"/>
                      </a:moveTo>
                      <a:lnTo>
                        <a:pt x="3" y="98"/>
                      </a:lnTo>
                      <a:lnTo>
                        <a:pt x="17" y="91"/>
                      </a:lnTo>
                      <a:lnTo>
                        <a:pt x="21" y="90"/>
                      </a:lnTo>
                      <a:lnTo>
                        <a:pt x="37" y="82"/>
                      </a:lnTo>
                      <a:lnTo>
                        <a:pt x="52" y="73"/>
                      </a:lnTo>
                      <a:lnTo>
                        <a:pt x="65" y="63"/>
                      </a:lnTo>
                      <a:lnTo>
                        <a:pt x="75" y="50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3"/>
                      </a:lnTo>
                      <a:lnTo>
                        <a:pt x="58" y="56"/>
                      </a:lnTo>
                      <a:lnTo>
                        <a:pt x="45" y="66"/>
                      </a:lnTo>
                      <a:lnTo>
                        <a:pt x="30" y="75"/>
                      </a:lnTo>
                      <a:lnTo>
                        <a:pt x="14" y="83"/>
                      </a:lnTo>
                      <a:lnTo>
                        <a:pt x="17" y="86"/>
                      </a:lnTo>
                      <a:lnTo>
                        <a:pt x="17" y="81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7" name=""/>
                <p:cNvSpPr/>
                <p:nvPr/>
              </p:nvSpPr>
              <p:spPr>
                <a:xfrm>
                  <a:off x="4269600" y="3101760"/>
                  <a:ext cx="155160" cy="100800"/>
                </a:xfrm>
                <a:custGeom>
                  <a:avLst/>
                  <a:gdLst/>
                  <a:ahLst/>
                  <a:rect l="l" t="t" r="r" b="b"/>
                  <a:pathLst>
                    <a:path w="74" h="48">
                      <a:moveTo>
                        <a:pt x="4" y="33"/>
                      </a:moveTo>
                      <a:lnTo>
                        <a:pt x="0" y="41"/>
                      </a:lnTo>
                      <a:lnTo>
                        <a:pt x="6" y="44"/>
                      </a:lnTo>
                      <a:lnTo>
                        <a:pt x="10" y="45"/>
                      </a:lnTo>
                      <a:lnTo>
                        <a:pt x="18" y="48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7" y="44"/>
                      </a:lnTo>
                      <a:lnTo>
                        <a:pt x="43" y="41"/>
                      </a:lnTo>
                      <a:lnTo>
                        <a:pt x="47" y="38"/>
                      </a:lnTo>
                      <a:lnTo>
                        <a:pt x="56" y="29"/>
                      </a:lnTo>
                      <a:lnTo>
                        <a:pt x="65" y="18"/>
                      </a:lnTo>
                      <a:lnTo>
                        <a:pt x="74" y="6"/>
                      </a:lnTo>
                      <a:lnTo>
                        <a:pt x="67" y="0"/>
                      </a:lnTo>
                      <a:lnTo>
                        <a:pt x="58" y="11"/>
                      </a:lnTo>
                      <a:lnTo>
                        <a:pt x="49" y="22"/>
                      </a:lnTo>
                      <a:lnTo>
                        <a:pt x="40" y="31"/>
                      </a:lnTo>
                      <a:lnTo>
                        <a:pt x="36" y="34"/>
                      </a:lnTo>
                      <a:lnTo>
                        <a:pt x="33" y="36"/>
                      </a:lnTo>
                      <a:lnTo>
                        <a:pt x="23" y="39"/>
                      </a:lnTo>
                      <a:lnTo>
                        <a:pt x="26" y="43"/>
                      </a:lnTo>
                      <a:lnTo>
                        <a:pt x="26" y="38"/>
                      </a:lnTo>
                      <a:lnTo>
                        <a:pt x="18" y="38"/>
                      </a:lnTo>
                      <a:lnTo>
                        <a:pt x="10" y="35"/>
                      </a:lnTo>
                      <a:lnTo>
                        <a:pt x="10" y="40"/>
                      </a:lnTo>
                      <a:lnTo>
                        <a:pt x="13" y="37"/>
                      </a:lnTo>
                      <a:lnTo>
                        <a:pt x="4" y="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8" name=""/>
                <p:cNvSpPr/>
                <p:nvPr/>
              </p:nvSpPr>
              <p:spPr>
                <a:xfrm>
                  <a:off x="4384800" y="3146040"/>
                  <a:ext cx="69480" cy="2268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8" y="11"/>
                      </a:lnTo>
                      <a:lnTo>
                        <a:pt x="26" y="11"/>
                      </a:lnTo>
                      <a:lnTo>
                        <a:pt x="33" y="10"/>
                      </a:lnTo>
                      <a:lnTo>
                        <a:pt x="31" y="1"/>
                      </a:lnTo>
                      <a:lnTo>
                        <a:pt x="26" y="1"/>
                      </a:lnTo>
                      <a:lnTo>
                        <a:pt x="18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9" name=""/>
                <p:cNvSpPr/>
                <p:nvPr/>
              </p:nvSpPr>
              <p:spPr>
                <a:xfrm>
                  <a:off x="3937680" y="3141720"/>
                  <a:ext cx="169920" cy="224640"/>
                </a:xfrm>
                <a:custGeom>
                  <a:avLst/>
                  <a:gdLst/>
                  <a:ahLst/>
                  <a:rect l="l" t="t" r="r" b="b"/>
                  <a:pathLst>
                    <a:path w="81" h="107">
                      <a:moveTo>
                        <a:pt x="76" y="107"/>
                      </a:moveTo>
                      <a:lnTo>
                        <a:pt x="81" y="99"/>
                      </a:lnTo>
                      <a:lnTo>
                        <a:pt x="69" y="91"/>
                      </a:lnTo>
                      <a:lnTo>
                        <a:pt x="57" y="83"/>
                      </a:lnTo>
                      <a:lnTo>
                        <a:pt x="45" y="7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5"/>
                      </a:lnTo>
                      <a:lnTo>
                        <a:pt x="21" y="35"/>
                      </a:lnTo>
                      <a:lnTo>
                        <a:pt x="15" y="18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8"/>
                      </a:lnTo>
                      <a:lnTo>
                        <a:pt x="11" y="35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8" y="80"/>
                      </a:lnTo>
                      <a:lnTo>
                        <a:pt x="50" y="90"/>
                      </a:lnTo>
                      <a:lnTo>
                        <a:pt x="62" y="98"/>
                      </a:lnTo>
                      <a:lnTo>
                        <a:pt x="76" y="10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0" name=""/>
                <p:cNvGrpSpPr/>
                <p:nvPr/>
              </p:nvGrpSpPr>
              <p:grpSpPr>
                <a:xfrm>
                  <a:off x="4118040" y="3537000"/>
                  <a:ext cx="87840" cy="117000"/>
                  <a:chOff x="4118040" y="3537000"/>
                  <a:chExt cx="87840" cy="117000"/>
                </a:xfrm>
              </p:grpSpPr>
              <p:sp>
                <p:nvSpPr>
                  <p:cNvPr id="6981" name=""/>
                  <p:cNvSpPr/>
                  <p:nvPr/>
                </p:nvSpPr>
                <p:spPr>
                  <a:xfrm>
                    <a:off x="4118040" y="3553560"/>
                    <a:ext cx="7344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0" y="47"/>
                        </a:moveTo>
                        <a:lnTo>
                          <a:pt x="6" y="48"/>
                        </a:lnTo>
                        <a:lnTo>
                          <a:pt x="12" y="48"/>
                        </a:lnTo>
                        <a:lnTo>
                          <a:pt x="18" y="46"/>
                        </a:lnTo>
                        <a:lnTo>
                          <a:pt x="22" y="42"/>
                        </a:lnTo>
                        <a:lnTo>
                          <a:pt x="26" y="34"/>
                        </a:lnTo>
                        <a:lnTo>
                          <a:pt x="29" y="24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2" name=""/>
                  <p:cNvSpPr/>
                  <p:nvPr/>
                </p:nvSpPr>
                <p:spPr>
                  <a:xfrm>
                    <a:off x="4166280" y="353700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3" name=""/>
                <p:cNvGrpSpPr/>
                <p:nvPr/>
              </p:nvGrpSpPr>
              <p:grpSpPr>
                <a:xfrm>
                  <a:off x="4011120" y="3481920"/>
                  <a:ext cx="90000" cy="117000"/>
                  <a:chOff x="4011120" y="3481920"/>
                  <a:chExt cx="90000" cy="117000"/>
                </a:xfrm>
              </p:grpSpPr>
              <p:sp>
                <p:nvSpPr>
                  <p:cNvPr id="6984" name=""/>
                  <p:cNvSpPr/>
                  <p:nvPr/>
                </p:nvSpPr>
                <p:spPr>
                  <a:xfrm>
                    <a:off x="4028040" y="3498840"/>
                    <a:ext cx="730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5" name=""/>
                  <p:cNvSpPr/>
                  <p:nvPr/>
                </p:nvSpPr>
                <p:spPr>
                  <a:xfrm>
                    <a:off x="4011120" y="348192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6" name=""/>
                <p:cNvGrpSpPr/>
                <p:nvPr/>
              </p:nvGrpSpPr>
              <p:grpSpPr>
                <a:xfrm>
                  <a:off x="4116240" y="3356280"/>
                  <a:ext cx="87120" cy="146880"/>
                  <a:chOff x="4116240" y="3356280"/>
                  <a:chExt cx="87120" cy="146880"/>
                </a:xfrm>
              </p:grpSpPr>
              <p:sp>
                <p:nvSpPr>
                  <p:cNvPr id="6987" name=""/>
                  <p:cNvSpPr/>
                  <p:nvPr/>
                </p:nvSpPr>
                <p:spPr>
                  <a:xfrm>
                    <a:off x="4116240" y="3377160"/>
                    <a:ext cx="727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"/>
                  <p:cNvSpPr/>
                  <p:nvPr/>
                </p:nvSpPr>
                <p:spPr>
                  <a:xfrm>
                    <a:off x="4161960" y="3356280"/>
                    <a:ext cx="4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9" name=""/>
                <p:cNvGrpSpPr/>
                <p:nvPr/>
              </p:nvGrpSpPr>
              <p:grpSpPr>
                <a:xfrm>
                  <a:off x="4189680" y="3129480"/>
                  <a:ext cx="41400" cy="113040"/>
                  <a:chOff x="4189680" y="3129480"/>
                  <a:chExt cx="41400" cy="113040"/>
                </a:xfrm>
              </p:grpSpPr>
              <p:sp>
                <p:nvSpPr>
                  <p:cNvPr id="6990" name=""/>
                  <p:cNvSpPr/>
                  <p:nvPr/>
                </p:nvSpPr>
                <p:spPr>
                  <a:xfrm>
                    <a:off x="4197960" y="3150360"/>
                    <a:ext cx="122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1" name=""/>
                  <p:cNvSpPr/>
                  <p:nvPr/>
                </p:nvSpPr>
                <p:spPr>
                  <a:xfrm>
                    <a:off x="4189680" y="312948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2" name=""/>
                <p:cNvGrpSpPr/>
                <p:nvPr/>
              </p:nvGrpSpPr>
              <p:grpSpPr>
                <a:xfrm>
                  <a:off x="4028040" y="3219480"/>
                  <a:ext cx="41400" cy="96120"/>
                  <a:chOff x="4028040" y="3219480"/>
                  <a:chExt cx="41400" cy="96120"/>
                </a:xfrm>
              </p:grpSpPr>
              <p:sp>
                <p:nvSpPr>
                  <p:cNvPr id="6993" name=""/>
                  <p:cNvSpPr/>
                  <p:nvPr/>
                </p:nvSpPr>
                <p:spPr>
                  <a:xfrm>
                    <a:off x="4048560" y="3240360"/>
                    <a:ext cx="1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">
                        <a:moveTo>
                          <a:pt x="0" y="36"/>
                        </a:move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4" name=""/>
                  <p:cNvSpPr/>
                  <p:nvPr/>
                </p:nvSpPr>
                <p:spPr>
                  <a:xfrm>
                    <a:off x="4028040" y="3219480"/>
                    <a:ext cx="41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5" name=""/>
                <p:cNvGrpSpPr/>
                <p:nvPr/>
              </p:nvGrpSpPr>
              <p:grpSpPr>
                <a:xfrm>
                  <a:off x="3962880" y="2898360"/>
                  <a:ext cx="41400" cy="108360"/>
                  <a:chOff x="3962880" y="2898360"/>
                  <a:chExt cx="41400" cy="108360"/>
                </a:xfrm>
              </p:grpSpPr>
              <p:sp>
                <p:nvSpPr>
                  <p:cNvPr id="6996" name=""/>
                  <p:cNvSpPr/>
                  <p:nvPr/>
                </p:nvSpPr>
                <p:spPr>
                  <a:xfrm>
                    <a:off x="3981600" y="2922840"/>
                    <a:ext cx="39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7" name=""/>
                  <p:cNvSpPr/>
                  <p:nvPr/>
                </p:nvSpPr>
                <p:spPr>
                  <a:xfrm>
                    <a:off x="3962880" y="289836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98" name=""/>
              <p:cNvGrpSpPr/>
              <p:nvPr/>
            </p:nvGrpSpPr>
            <p:grpSpPr>
              <a:xfrm>
                <a:off x="3624120" y="2541600"/>
                <a:ext cx="951840" cy="1488240"/>
                <a:chOff x="3624120" y="2541600"/>
                <a:chExt cx="951840" cy="1488240"/>
              </a:xfrm>
            </p:grpSpPr>
            <p:grpSp>
              <p:nvGrpSpPr>
                <p:cNvPr id="6999" name=""/>
                <p:cNvGrpSpPr/>
                <p:nvPr/>
              </p:nvGrpSpPr>
              <p:grpSpPr>
                <a:xfrm>
                  <a:off x="3624120" y="2541600"/>
                  <a:ext cx="951840" cy="1488240"/>
                  <a:chOff x="3624120" y="2541600"/>
                  <a:chExt cx="951840" cy="1488240"/>
                </a:xfrm>
              </p:grpSpPr>
              <p:sp>
                <p:nvSpPr>
                  <p:cNvPr id="7000" name=""/>
                  <p:cNvSpPr/>
                  <p:nvPr/>
                </p:nvSpPr>
                <p:spPr>
                  <a:xfrm>
                    <a:off x="3624120" y="254160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1" name=""/>
                  <p:cNvSpPr/>
                  <p:nvPr/>
                </p:nvSpPr>
                <p:spPr>
                  <a:xfrm>
                    <a:off x="3624120" y="254160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2" name=""/>
                  <p:cNvSpPr/>
                  <p:nvPr/>
                </p:nvSpPr>
                <p:spPr>
                  <a:xfrm>
                    <a:off x="3624120" y="254160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3" name=""/>
                  <p:cNvSpPr/>
                  <p:nvPr/>
                </p:nvSpPr>
                <p:spPr>
                  <a:xfrm>
                    <a:off x="3624120" y="254160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4" name=""/>
                <p:cNvSpPr/>
                <p:nvPr/>
              </p:nvSpPr>
              <p:spPr>
                <a:xfrm>
                  <a:off x="3624120" y="2541600"/>
                  <a:ext cx="947880" cy="14850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05" name=""/>
              <p:cNvSpPr/>
              <p:nvPr/>
            </p:nvSpPr>
            <p:spPr>
              <a:xfrm>
                <a:off x="4417920" y="37670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4019400" y="2782800"/>
                <a:ext cx="101880" cy="1071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4092480" y="2751120"/>
                <a:ext cx="82800" cy="2923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4059360" y="2763720"/>
                <a:ext cx="42840" cy="1400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921120" y="2924280"/>
                <a:ext cx="193680" cy="1969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4103640" y="3105360"/>
                <a:ext cx="209520" cy="20448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4270320" y="310212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4384800" y="314640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938760" y="314172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14" name=""/>
              <p:cNvGrpSpPr/>
              <p:nvPr/>
            </p:nvGrpSpPr>
            <p:grpSpPr>
              <a:xfrm>
                <a:off x="4118040" y="3537000"/>
                <a:ext cx="88560" cy="117000"/>
                <a:chOff x="4118040" y="3537000"/>
                <a:chExt cx="88560" cy="117000"/>
              </a:xfrm>
            </p:grpSpPr>
            <p:sp>
              <p:nvSpPr>
                <p:cNvPr id="7015" name=""/>
                <p:cNvSpPr/>
                <p:nvPr/>
              </p:nvSpPr>
              <p:spPr>
                <a:xfrm>
                  <a:off x="4118040" y="3553560"/>
                  <a:ext cx="73800" cy="10044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0" y="47"/>
                      </a:move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8" y="46"/>
                      </a:lnTo>
                      <a:lnTo>
                        <a:pt x="22" y="42"/>
                      </a:lnTo>
                      <a:lnTo>
                        <a:pt x="26" y="34"/>
                      </a:lnTo>
                      <a:lnTo>
                        <a:pt x="29" y="24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6" name=""/>
                <p:cNvSpPr/>
                <p:nvPr/>
              </p:nvSpPr>
              <p:spPr>
                <a:xfrm>
                  <a:off x="4166640" y="3537000"/>
                  <a:ext cx="3996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7" name=""/>
              <p:cNvGrpSpPr/>
              <p:nvPr/>
            </p:nvGrpSpPr>
            <p:grpSpPr>
              <a:xfrm>
                <a:off x="4011480" y="3483000"/>
                <a:ext cx="90000" cy="117000"/>
                <a:chOff x="4011480" y="3483000"/>
                <a:chExt cx="90000" cy="117000"/>
              </a:xfrm>
            </p:grpSpPr>
            <p:sp>
              <p:nvSpPr>
                <p:cNvPr id="7018" name=""/>
                <p:cNvSpPr/>
                <p:nvPr/>
              </p:nvSpPr>
              <p:spPr>
                <a:xfrm>
                  <a:off x="4028400" y="3499920"/>
                  <a:ext cx="73080" cy="10008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9" name=""/>
                <p:cNvSpPr/>
                <p:nvPr/>
              </p:nvSpPr>
              <p:spPr>
                <a:xfrm>
                  <a:off x="4011480" y="3483000"/>
                  <a:ext cx="3996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0" name=""/>
              <p:cNvGrpSpPr/>
              <p:nvPr/>
            </p:nvGrpSpPr>
            <p:grpSpPr>
              <a:xfrm>
                <a:off x="4116240" y="3355920"/>
                <a:ext cx="87120" cy="147240"/>
                <a:chOff x="4116240" y="3355920"/>
                <a:chExt cx="87120" cy="147240"/>
              </a:xfrm>
            </p:grpSpPr>
            <p:sp>
              <p:nvSpPr>
                <p:cNvPr id="7021" name=""/>
                <p:cNvSpPr/>
                <p:nvPr/>
              </p:nvSpPr>
              <p:spPr>
                <a:xfrm>
                  <a:off x="4116240" y="3376800"/>
                  <a:ext cx="72720" cy="12636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2" name=""/>
                <p:cNvSpPr/>
                <p:nvPr/>
              </p:nvSpPr>
              <p:spPr>
                <a:xfrm>
                  <a:off x="4161960" y="3355920"/>
                  <a:ext cx="41400" cy="5472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3" name=""/>
              <p:cNvGrpSpPr/>
              <p:nvPr/>
            </p:nvGrpSpPr>
            <p:grpSpPr>
              <a:xfrm>
                <a:off x="4189320" y="3129120"/>
                <a:ext cx="42480" cy="113760"/>
                <a:chOff x="4189320" y="3129120"/>
                <a:chExt cx="42480" cy="113760"/>
              </a:xfrm>
            </p:grpSpPr>
            <p:sp>
              <p:nvSpPr>
                <p:cNvPr id="7024" name=""/>
                <p:cNvSpPr/>
                <p:nvPr/>
              </p:nvSpPr>
              <p:spPr>
                <a:xfrm>
                  <a:off x="4197960" y="3150000"/>
                  <a:ext cx="12600" cy="9288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5" name=""/>
                <p:cNvSpPr/>
                <p:nvPr/>
              </p:nvSpPr>
              <p:spPr>
                <a:xfrm>
                  <a:off x="4189320" y="3129120"/>
                  <a:ext cx="424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6" name=""/>
              <p:cNvGrpSpPr/>
              <p:nvPr/>
            </p:nvGrpSpPr>
            <p:grpSpPr>
              <a:xfrm>
                <a:off x="4027680" y="3219480"/>
                <a:ext cx="42480" cy="96480"/>
                <a:chOff x="4027680" y="3219480"/>
                <a:chExt cx="42480" cy="96480"/>
              </a:xfrm>
            </p:grpSpPr>
            <p:sp>
              <p:nvSpPr>
                <p:cNvPr id="7027" name=""/>
                <p:cNvSpPr/>
                <p:nvPr/>
              </p:nvSpPr>
              <p:spPr>
                <a:xfrm>
                  <a:off x="4048920" y="3240360"/>
                  <a:ext cx="1800" cy="75600"/>
                </a:xfrm>
                <a:custGeom>
                  <a:avLst/>
                  <a:gdLst/>
                  <a:ahLst/>
                  <a:rect l="l" t="t" r="r" b="b"/>
                  <a:pathLst>
                    <a:path w="1" h="36">
                      <a:moveTo>
                        <a:pt x="0" y="36"/>
                      </a:move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8" name=""/>
                <p:cNvSpPr/>
                <p:nvPr/>
              </p:nvSpPr>
              <p:spPr>
                <a:xfrm>
                  <a:off x="4027680" y="3219480"/>
                  <a:ext cx="42480" cy="504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9" name=""/>
              <p:cNvGrpSpPr/>
              <p:nvPr/>
            </p:nvGrpSpPr>
            <p:grpSpPr>
              <a:xfrm>
                <a:off x="3962520" y="2898720"/>
                <a:ext cx="42480" cy="109440"/>
                <a:chOff x="3962520" y="2898720"/>
                <a:chExt cx="42480" cy="109440"/>
              </a:xfrm>
            </p:grpSpPr>
            <p:sp>
              <p:nvSpPr>
                <p:cNvPr id="7030" name=""/>
                <p:cNvSpPr/>
                <p:nvPr/>
              </p:nvSpPr>
              <p:spPr>
                <a:xfrm>
                  <a:off x="3981600" y="2923560"/>
                  <a:ext cx="4320" cy="8460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"/>
                <p:cNvSpPr/>
                <p:nvPr/>
              </p:nvSpPr>
              <p:spPr>
                <a:xfrm>
                  <a:off x="3962520" y="2898720"/>
                  <a:ext cx="424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2" name=""/>
              <p:cNvSpPr/>
              <p:nvPr/>
            </p:nvSpPr>
            <p:spPr>
              <a:xfrm>
                <a:off x="4019400" y="2782800"/>
                <a:ext cx="101880" cy="1071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4092480" y="2751120"/>
                <a:ext cx="82800" cy="2923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4059360" y="2763720"/>
                <a:ext cx="42840" cy="1400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921120" y="2924280"/>
                <a:ext cx="193680" cy="1969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4103640" y="3105360"/>
                <a:ext cx="209520" cy="20448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4270320" y="310212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4384800" y="314640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938760" y="314172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4118040" y="355428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4167360" y="353700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4118040" y="355428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4167360" y="353700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4027680" y="3498840"/>
                <a:ext cx="74520" cy="1015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4011480" y="348300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4027680" y="3498840"/>
                <a:ext cx="74520" cy="1015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4011480" y="348300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4116240" y="337824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4162320" y="3355920"/>
                <a:ext cx="41400" cy="558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4116240" y="337824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4162320" y="3355920"/>
                <a:ext cx="41400" cy="558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4199040" y="315108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4189320" y="312912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4199040" y="315108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4189320" y="312912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4049640" y="324180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4027680" y="321948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4049640" y="324180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4027680" y="321948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981600" y="2924280"/>
                <a:ext cx="46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962520" y="289872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981600" y="2924280"/>
                <a:ext cx="46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962520" y="289872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4" name=""/>
            <p:cNvGrpSpPr/>
            <p:nvPr/>
          </p:nvGrpSpPr>
          <p:grpSpPr>
            <a:xfrm>
              <a:off x="2276640" y="4010040"/>
              <a:ext cx="1518480" cy="270000"/>
              <a:chOff x="2276640" y="4010040"/>
              <a:chExt cx="1518480" cy="270000"/>
            </a:xfrm>
          </p:grpSpPr>
          <p:sp>
            <p:nvSpPr>
              <p:cNvPr id="7065" name=""/>
              <p:cNvSpPr/>
              <p:nvPr/>
            </p:nvSpPr>
            <p:spPr>
              <a:xfrm>
                <a:off x="2860560" y="401004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1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2276640" y="4037040"/>
                <a:ext cx="796680" cy="243000"/>
              </a:xfrm>
              <a:custGeom>
                <a:avLst/>
                <a:gdLst/>
                <a:ahLst/>
                <a:rect l="l" t="t" r="r" b="b"/>
                <a:pathLst>
                  <a:path w="379" h="116">
                    <a:moveTo>
                      <a:pt x="12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3" y="16"/>
                    </a:lnTo>
                    <a:lnTo>
                      <a:pt x="9" y="27"/>
                    </a:lnTo>
                    <a:lnTo>
                      <a:pt x="18" y="37"/>
                    </a:lnTo>
                    <a:lnTo>
                      <a:pt x="31" y="47"/>
                    </a:lnTo>
                    <a:lnTo>
                      <a:pt x="33" y="48"/>
                    </a:lnTo>
                    <a:lnTo>
                      <a:pt x="49" y="58"/>
                    </a:lnTo>
                    <a:lnTo>
                      <a:pt x="67" y="67"/>
                    </a:lnTo>
                    <a:lnTo>
                      <a:pt x="89" y="76"/>
                    </a:lnTo>
                    <a:lnTo>
                      <a:pt x="113" y="83"/>
                    </a:lnTo>
                    <a:lnTo>
                      <a:pt x="139" y="90"/>
                    </a:lnTo>
                    <a:lnTo>
                      <a:pt x="168" y="97"/>
                    </a:lnTo>
                    <a:lnTo>
                      <a:pt x="170" y="97"/>
                    </a:lnTo>
                    <a:lnTo>
                      <a:pt x="201" y="103"/>
                    </a:lnTo>
                    <a:lnTo>
                      <a:pt x="234" y="107"/>
                    </a:lnTo>
                    <a:lnTo>
                      <a:pt x="268" y="111"/>
                    </a:lnTo>
                    <a:lnTo>
                      <a:pt x="304" y="114"/>
                    </a:lnTo>
                    <a:lnTo>
                      <a:pt x="341" y="115"/>
                    </a:lnTo>
                    <a:lnTo>
                      <a:pt x="379" y="116"/>
                    </a:lnTo>
                    <a:lnTo>
                      <a:pt x="379" y="104"/>
                    </a:lnTo>
                    <a:lnTo>
                      <a:pt x="341" y="103"/>
                    </a:lnTo>
                    <a:lnTo>
                      <a:pt x="304" y="102"/>
                    </a:lnTo>
                    <a:lnTo>
                      <a:pt x="268" y="99"/>
                    </a:lnTo>
                    <a:lnTo>
                      <a:pt x="234" y="95"/>
                    </a:lnTo>
                    <a:lnTo>
                      <a:pt x="201" y="91"/>
                    </a:lnTo>
                    <a:lnTo>
                      <a:pt x="170" y="85"/>
                    </a:lnTo>
                    <a:lnTo>
                      <a:pt x="170" y="91"/>
                    </a:lnTo>
                    <a:lnTo>
                      <a:pt x="173" y="86"/>
                    </a:lnTo>
                    <a:lnTo>
                      <a:pt x="144" y="79"/>
                    </a:lnTo>
                    <a:lnTo>
                      <a:pt x="118" y="72"/>
                    </a:lnTo>
                    <a:lnTo>
                      <a:pt x="94" y="65"/>
                    </a:lnTo>
                    <a:lnTo>
                      <a:pt x="72" y="56"/>
                    </a:lnTo>
                    <a:lnTo>
                      <a:pt x="54" y="47"/>
                    </a:lnTo>
                    <a:lnTo>
                      <a:pt x="38" y="37"/>
                    </a:lnTo>
                    <a:lnTo>
                      <a:pt x="35" y="43"/>
                    </a:lnTo>
                    <a:lnTo>
                      <a:pt x="40" y="38"/>
                    </a:lnTo>
                    <a:lnTo>
                      <a:pt x="27" y="28"/>
                    </a:lnTo>
                    <a:lnTo>
                      <a:pt x="18" y="18"/>
                    </a:lnTo>
                    <a:lnTo>
                      <a:pt x="12" y="7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7" name=""/>
              <p:cNvGrpSpPr/>
              <p:nvPr/>
            </p:nvGrpSpPr>
            <p:grpSpPr>
              <a:xfrm>
                <a:off x="3041640" y="4038480"/>
                <a:ext cx="753480" cy="241200"/>
                <a:chOff x="3041640" y="4038480"/>
                <a:chExt cx="753480" cy="241200"/>
              </a:xfrm>
            </p:grpSpPr>
            <p:sp>
              <p:nvSpPr>
                <p:cNvPr id="7068" name=""/>
                <p:cNvSpPr/>
                <p:nvPr/>
              </p:nvSpPr>
              <p:spPr>
                <a:xfrm>
                  <a:off x="3041640" y="4145400"/>
                  <a:ext cx="649080" cy="134280"/>
                </a:xfrm>
                <a:custGeom>
                  <a:avLst/>
                  <a:gdLst/>
                  <a:ahLst/>
                  <a:rect l="l" t="t" r="r" b="b"/>
                  <a:pathLst>
                    <a:path w="309" h="64">
                      <a:moveTo>
                        <a:pt x="309" y="11"/>
                      </a:moveTo>
                      <a:lnTo>
                        <a:pt x="304" y="0"/>
                      </a:lnTo>
                      <a:lnTo>
                        <a:pt x="291" y="5"/>
                      </a:lnTo>
                      <a:lnTo>
                        <a:pt x="278" y="11"/>
                      </a:lnTo>
                      <a:lnTo>
                        <a:pt x="263" y="16"/>
                      </a:lnTo>
                      <a:lnTo>
                        <a:pt x="247" y="21"/>
                      </a:lnTo>
                      <a:lnTo>
                        <a:pt x="213" y="30"/>
                      </a:lnTo>
                      <a:lnTo>
                        <a:pt x="216" y="35"/>
                      </a:lnTo>
                      <a:lnTo>
                        <a:pt x="216" y="29"/>
                      </a:lnTo>
                      <a:lnTo>
                        <a:pt x="178" y="37"/>
                      </a:lnTo>
                      <a:lnTo>
                        <a:pt x="137" y="43"/>
                      </a:lnTo>
                      <a:lnTo>
                        <a:pt x="93" y="48"/>
                      </a:lnTo>
                      <a:lnTo>
                        <a:pt x="48" y="51"/>
                      </a:lnTo>
                      <a:lnTo>
                        <a:pt x="0" y="52"/>
                      </a:lnTo>
                      <a:lnTo>
                        <a:pt x="0" y="64"/>
                      </a:lnTo>
                      <a:lnTo>
                        <a:pt x="48" y="63"/>
                      </a:lnTo>
                      <a:lnTo>
                        <a:pt x="93" y="60"/>
                      </a:lnTo>
                      <a:lnTo>
                        <a:pt x="137" y="55"/>
                      </a:lnTo>
                      <a:lnTo>
                        <a:pt x="178" y="49"/>
                      </a:lnTo>
                      <a:lnTo>
                        <a:pt x="216" y="41"/>
                      </a:lnTo>
                      <a:lnTo>
                        <a:pt x="218" y="41"/>
                      </a:lnTo>
                      <a:lnTo>
                        <a:pt x="252" y="32"/>
                      </a:lnTo>
                      <a:lnTo>
                        <a:pt x="268" y="27"/>
                      </a:lnTo>
                      <a:lnTo>
                        <a:pt x="283" y="22"/>
                      </a:lnTo>
                      <a:lnTo>
                        <a:pt x="296" y="16"/>
                      </a:lnTo>
                      <a:lnTo>
                        <a:pt x="309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9" name=""/>
                <p:cNvSpPr/>
                <p:nvPr/>
              </p:nvSpPr>
              <p:spPr>
                <a:xfrm>
                  <a:off x="3623400" y="4038480"/>
                  <a:ext cx="171720" cy="174240"/>
                </a:xfrm>
                <a:custGeom>
                  <a:avLst/>
                  <a:gdLst/>
                  <a:ahLst/>
                  <a:rect l="l" t="t" r="r" b="b"/>
                  <a:pathLst>
                    <a:path w="82" h="83">
                      <a:moveTo>
                        <a:pt x="58" y="83"/>
                      </a:moveTo>
                      <a:lnTo>
                        <a:pt x="82" y="0"/>
                      </a:lnTo>
                      <a:lnTo>
                        <a:pt x="0" y="31"/>
                      </a:lnTo>
                      <a:lnTo>
                        <a:pt x="58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70" name=""/>
          <p:cNvGrpSpPr/>
          <p:nvPr/>
        </p:nvGrpSpPr>
        <p:grpSpPr>
          <a:xfrm>
            <a:off x="4316400" y="2013120"/>
            <a:ext cx="1509480" cy="526680"/>
            <a:chOff x="4316400" y="2013120"/>
            <a:chExt cx="1509480" cy="526680"/>
          </a:xfrm>
        </p:grpSpPr>
        <p:grpSp>
          <p:nvGrpSpPr>
            <p:cNvPr id="7071" name=""/>
            <p:cNvGrpSpPr/>
            <p:nvPr/>
          </p:nvGrpSpPr>
          <p:grpSpPr>
            <a:xfrm>
              <a:off x="4316400" y="2290680"/>
              <a:ext cx="1508760" cy="248760"/>
              <a:chOff x="4316400" y="2290680"/>
              <a:chExt cx="1508760" cy="248760"/>
            </a:xfrm>
          </p:grpSpPr>
          <p:grpSp>
            <p:nvGrpSpPr>
              <p:cNvPr id="7072" name=""/>
              <p:cNvGrpSpPr/>
              <p:nvPr/>
            </p:nvGrpSpPr>
            <p:grpSpPr>
              <a:xfrm>
                <a:off x="5042880" y="2290680"/>
                <a:ext cx="782280" cy="248760"/>
                <a:chOff x="5042880" y="2290680"/>
                <a:chExt cx="782280" cy="248760"/>
              </a:xfrm>
            </p:grpSpPr>
            <p:sp>
              <p:nvSpPr>
                <p:cNvPr id="7073" name=""/>
                <p:cNvSpPr/>
                <p:nvPr/>
              </p:nvSpPr>
              <p:spPr>
                <a:xfrm>
                  <a:off x="5808600" y="25228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4"/>
                      </a:move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4" name=""/>
                <p:cNvSpPr/>
                <p:nvPr/>
              </p:nvSpPr>
              <p:spPr>
                <a:xfrm>
                  <a:off x="5800320" y="24915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5" name=""/>
                <p:cNvSpPr/>
                <p:nvPr/>
              </p:nvSpPr>
              <p:spPr>
                <a:xfrm>
                  <a:off x="5781600" y="24645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6" name=""/>
                <p:cNvSpPr/>
                <p:nvPr/>
              </p:nvSpPr>
              <p:spPr>
                <a:xfrm>
                  <a:off x="5756040" y="244116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7" name=""/>
                <p:cNvSpPr/>
                <p:nvPr/>
              </p:nvSpPr>
              <p:spPr>
                <a:xfrm>
                  <a:off x="5729040" y="24224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8" name=""/>
                <p:cNvSpPr/>
                <p:nvPr/>
              </p:nvSpPr>
              <p:spPr>
                <a:xfrm>
                  <a:off x="5699520" y="240552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9" name=""/>
                <p:cNvSpPr/>
                <p:nvPr/>
              </p:nvSpPr>
              <p:spPr>
                <a:xfrm>
                  <a:off x="5670000" y="239076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0" name=""/>
                <p:cNvSpPr/>
                <p:nvPr/>
              </p:nvSpPr>
              <p:spPr>
                <a:xfrm>
                  <a:off x="5638680" y="23785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1" name=""/>
                <p:cNvSpPr/>
                <p:nvPr/>
              </p:nvSpPr>
              <p:spPr>
                <a:xfrm>
                  <a:off x="5607360" y="23680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2" name=""/>
                <p:cNvSpPr/>
                <p:nvPr/>
              </p:nvSpPr>
              <p:spPr>
                <a:xfrm>
                  <a:off x="5575680" y="23576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3" name=""/>
                <p:cNvSpPr/>
                <p:nvPr/>
              </p:nvSpPr>
              <p:spPr>
                <a:xfrm>
                  <a:off x="5541840" y="2349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4" name=""/>
                <p:cNvSpPr/>
                <p:nvPr/>
              </p:nvSpPr>
              <p:spPr>
                <a:xfrm>
                  <a:off x="5510520" y="23407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5" name=""/>
                <p:cNvSpPr/>
                <p:nvPr/>
              </p:nvSpPr>
              <p:spPr>
                <a:xfrm>
                  <a:off x="5476680" y="2334240"/>
                  <a:ext cx="1692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6" name=""/>
                <p:cNvSpPr/>
                <p:nvPr/>
              </p:nvSpPr>
              <p:spPr>
                <a:xfrm>
                  <a:off x="5443560" y="23263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7" name=""/>
                <p:cNvSpPr/>
                <p:nvPr/>
              </p:nvSpPr>
              <p:spPr>
                <a:xfrm>
                  <a:off x="5412240" y="2322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8" name=""/>
                <p:cNvSpPr/>
                <p:nvPr/>
              </p:nvSpPr>
              <p:spPr>
                <a:xfrm>
                  <a:off x="5378400" y="23155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9" name=""/>
                <p:cNvSpPr/>
                <p:nvPr/>
              </p:nvSpPr>
              <p:spPr>
                <a:xfrm>
                  <a:off x="5344920" y="23115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0" name=""/>
                <p:cNvSpPr/>
                <p:nvPr/>
              </p:nvSpPr>
              <p:spPr>
                <a:xfrm>
                  <a:off x="5311080" y="23072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1" name=""/>
                <p:cNvSpPr/>
                <p:nvPr/>
              </p:nvSpPr>
              <p:spPr>
                <a:xfrm>
                  <a:off x="5277960" y="23029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2" name=""/>
                <p:cNvSpPr/>
                <p:nvPr/>
              </p:nvSpPr>
              <p:spPr>
                <a:xfrm>
                  <a:off x="5244120" y="23011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3" name=""/>
                <p:cNvSpPr/>
                <p:nvPr/>
              </p:nvSpPr>
              <p:spPr>
                <a:xfrm>
                  <a:off x="5210280" y="229680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4" name=""/>
                <p:cNvSpPr/>
                <p:nvPr/>
              </p:nvSpPr>
              <p:spPr>
                <a:xfrm>
                  <a:off x="5176800" y="22946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5" name=""/>
                <p:cNvSpPr/>
                <p:nvPr/>
              </p:nvSpPr>
              <p:spPr>
                <a:xfrm>
                  <a:off x="5142960" y="229248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"/>
                <p:cNvSpPr/>
                <p:nvPr/>
              </p:nvSpPr>
              <p:spPr>
                <a:xfrm>
                  <a:off x="5109840" y="22924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"/>
                <p:cNvSpPr/>
                <p:nvPr/>
              </p:nvSpPr>
              <p:spPr>
                <a:xfrm>
                  <a:off x="5076000" y="22906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"/>
                <p:cNvSpPr/>
                <p:nvPr/>
              </p:nvSpPr>
              <p:spPr>
                <a:xfrm>
                  <a:off x="5042880" y="22906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9" name=""/>
              <p:cNvGrpSpPr/>
              <p:nvPr/>
            </p:nvGrpSpPr>
            <p:grpSpPr>
              <a:xfrm>
                <a:off x="4316400" y="2290680"/>
                <a:ext cx="753480" cy="240840"/>
                <a:chOff x="4316400" y="2290680"/>
                <a:chExt cx="753480" cy="240840"/>
              </a:xfrm>
            </p:grpSpPr>
            <p:sp>
              <p:nvSpPr>
                <p:cNvPr id="7100" name=""/>
                <p:cNvSpPr/>
                <p:nvPr/>
              </p:nvSpPr>
              <p:spPr>
                <a:xfrm>
                  <a:off x="4398120" y="24123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"/>
                <p:cNvSpPr/>
                <p:nvPr/>
              </p:nvSpPr>
              <p:spPr>
                <a:xfrm>
                  <a:off x="4427640" y="23976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"/>
                <p:cNvSpPr/>
                <p:nvPr/>
              </p:nvSpPr>
              <p:spPr>
                <a:xfrm>
                  <a:off x="4458960" y="23828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"/>
                <p:cNvSpPr/>
                <p:nvPr/>
              </p:nvSpPr>
              <p:spPr>
                <a:xfrm>
                  <a:off x="4490640" y="236988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"/>
                <p:cNvSpPr/>
                <p:nvPr/>
              </p:nvSpPr>
              <p:spPr>
                <a:xfrm>
                  <a:off x="4521960" y="235944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5" name=""/>
                <p:cNvSpPr/>
                <p:nvPr/>
              </p:nvSpPr>
              <p:spPr>
                <a:xfrm>
                  <a:off x="4553280" y="23515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6" name=""/>
                <p:cNvSpPr/>
                <p:nvPr/>
              </p:nvSpPr>
              <p:spPr>
                <a:xfrm>
                  <a:off x="4587120" y="23410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7" name=""/>
                <p:cNvSpPr/>
                <p:nvPr/>
              </p:nvSpPr>
              <p:spPr>
                <a:xfrm>
                  <a:off x="4618440" y="233424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8" name=""/>
                <p:cNvSpPr/>
                <p:nvPr/>
              </p:nvSpPr>
              <p:spPr>
                <a:xfrm>
                  <a:off x="4651920" y="232632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9" name=""/>
                <p:cNvSpPr/>
                <p:nvPr/>
              </p:nvSpPr>
              <p:spPr>
                <a:xfrm>
                  <a:off x="4685760" y="2322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0" name=""/>
                <p:cNvSpPr/>
                <p:nvPr/>
              </p:nvSpPr>
              <p:spPr>
                <a:xfrm>
                  <a:off x="4717080" y="23158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1" name=""/>
                <p:cNvSpPr/>
                <p:nvPr/>
              </p:nvSpPr>
              <p:spPr>
                <a:xfrm>
                  <a:off x="4750920" y="23115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2" name=""/>
                <p:cNvSpPr/>
                <p:nvPr/>
              </p:nvSpPr>
              <p:spPr>
                <a:xfrm>
                  <a:off x="4784400" y="230724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3" name=""/>
                <p:cNvSpPr/>
                <p:nvPr/>
              </p:nvSpPr>
              <p:spPr>
                <a:xfrm>
                  <a:off x="4818240" y="23029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4" name=""/>
                <p:cNvSpPr/>
                <p:nvPr/>
              </p:nvSpPr>
              <p:spPr>
                <a:xfrm>
                  <a:off x="4851360" y="2298600"/>
                  <a:ext cx="1692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5" name=""/>
                <p:cNvSpPr/>
                <p:nvPr/>
              </p:nvSpPr>
              <p:spPr>
                <a:xfrm>
                  <a:off x="4885200" y="2296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6" name=""/>
                <p:cNvSpPr/>
                <p:nvPr/>
              </p:nvSpPr>
              <p:spPr>
                <a:xfrm>
                  <a:off x="4918680" y="229464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7" name=""/>
                <p:cNvSpPr/>
                <p:nvPr/>
              </p:nvSpPr>
              <p:spPr>
                <a:xfrm>
                  <a:off x="4952160" y="22924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8" name=""/>
                <p:cNvSpPr/>
                <p:nvPr/>
              </p:nvSpPr>
              <p:spPr>
                <a:xfrm>
                  <a:off x="4986000" y="22924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9" name=""/>
                <p:cNvSpPr/>
                <p:nvPr/>
              </p:nvSpPr>
              <p:spPr>
                <a:xfrm>
                  <a:off x="5019480" y="22906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0" name=""/>
                <p:cNvSpPr/>
                <p:nvPr/>
              </p:nvSpPr>
              <p:spPr>
                <a:xfrm>
                  <a:off x="5053320" y="22906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1" name=""/>
                <p:cNvSpPr/>
                <p:nvPr/>
              </p:nvSpPr>
              <p:spPr>
                <a:xfrm>
                  <a:off x="4316400" y="2376720"/>
                  <a:ext cx="146880" cy="154800"/>
                </a:xfrm>
                <a:custGeom>
                  <a:avLst/>
                  <a:gdLst/>
                  <a:ahLst/>
                  <a:rect l="l" t="t" r="r" b="b"/>
                  <a:pathLst>
                    <a:path w="70" h="74">
                      <a:moveTo>
                        <a:pt x="17" y="0"/>
                      </a:moveTo>
                      <a:lnTo>
                        <a:pt x="0" y="74"/>
                      </a:lnTo>
                      <a:lnTo>
                        <a:pt x="70" y="4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22" name=""/>
            <p:cNvSpPr/>
            <p:nvPr/>
          </p:nvSpPr>
          <p:spPr>
            <a:xfrm>
              <a:off x="4741920" y="2013120"/>
              <a:ext cx="636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863960" y="20415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4" name=""/>
            <p:cNvGrpSpPr/>
            <p:nvPr/>
          </p:nvGrpSpPr>
          <p:grpSpPr>
            <a:xfrm>
              <a:off x="5041800" y="2290680"/>
              <a:ext cx="784080" cy="249120"/>
              <a:chOff x="5041800" y="2290680"/>
              <a:chExt cx="784080" cy="249120"/>
            </a:xfrm>
          </p:grpSpPr>
          <p:sp>
            <p:nvSpPr>
              <p:cNvPr id="7125" name=""/>
              <p:cNvSpPr/>
              <p:nvPr/>
            </p:nvSpPr>
            <p:spPr>
              <a:xfrm>
                <a:off x="5809320" y="2523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5801040" y="2491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5781960" y="2464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5756760" y="2441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5729400" y="2422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5699880" y="2405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5670360" y="2390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5639040" y="2378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5607360" y="2368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5576040" y="2357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5542200" y="2349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5510520" y="2341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5476680" y="233424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5443200" y="2326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5411880" y="2322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5378040" y="2315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5344560" y="2311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5310720" y="2307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5277240" y="2302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5243400" y="2301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5209560" y="2296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5176080" y="2294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142240" y="2292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5108760" y="2292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507492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504180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1" name=""/>
            <p:cNvGrpSpPr/>
            <p:nvPr/>
          </p:nvGrpSpPr>
          <p:grpSpPr>
            <a:xfrm>
              <a:off x="4316400" y="2290680"/>
              <a:ext cx="752040" cy="241200"/>
              <a:chOff x="4316400" y="2290680"/>
              <a:chExt cx="752040" cy="241200"/>
            </a:xfrm>
          </p:grpSpPr>
          <p:sp>
            <p:nvSpPr>
              <p:cNvPr id="7152" name=""/>
              <p:cNvSpPr/>
              <p:nvPr/>
            </p:nvSpPr>
            <p:spPr>
              <a:xfrm>
                <a:off x="4398120" y="2412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4427280" y="2397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4458960" y="2382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4490280" y="23698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4521600" y="2359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4552920" y="2351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4586760" y="2341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4618080" y="23342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4651200" y="23263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4685040" y="2322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4716360" y="2315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4750200" y="2311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4783320" y="23072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4817160" y="2302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4850280" y="22986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4884120" y="2296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4917240" y="2294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4951080" y="2292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4984920" y="2292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501804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505188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4316400" y="2376720"/>
                <a:ext cx="146520" cy="15516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17" y="0"/>
                    </a:moveTo>
                    <a:lnTo>
                      <a:pt x="0" y="74"/>
                    </a:lnTo>
                    <a:lnTo>
                      <a:pt x="7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4" name=""/>
            <p:cNvGrpSpPr/>
            <p:nvPr/>
          </p:nvGrpSpPr>
          <p:grpSpPr>
            <a:xfrm>
              <a:off x="5041800" y="2290680"/>
              <a:ext cx="784080" cy="249120"/>
              <a:chOff x="5041800" y="2290680"/>
              <a:chExt cx="784080" cy="249120"/>
            </a:xfrm>
          </p:grpSpPr>
          <p:sp>
            <p:nvSpPr>
              <p:cNvPr id="7175" name=""/>
              <p:cNvSpPr/>
              <p:nvPr/>
            </p:nvSpPr>
            <p:spPr>
              <a:xfrm>
                <a:off x="5809320" y="2523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5801040" y="2491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5781960" y="2464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5756760" y="2441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5729400" y="2422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5699880" y="2405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5670360" y="2390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5639040" y="2378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5607360" y="2368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5576040" y="2357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5542200" y="2349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5510520" y="2341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5476680" y="233424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5443200" y="2326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5411880" y="2322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5378040" y="2315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5344560" y="2311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5310720" y="2307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5277240" y="2302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5243400" y="2301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5209560" y="2296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5176080" y="2294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5142240" y="2292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5108760" y="2292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507492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504180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1" name=""/>
            <p:cNvGrpSpPr/>
            <p:nvPr/>
          </p:nvGrpSpPr>
          <p:grpSpPr>
            <a:xfrm>
              <a:off x="4316400" y="2290680"/>
              <a:ext cx="752040" cy="241200"/>
              <a:chOff x="4316400" y="2290680"/>
              <a:chExt cx="752040" cy="241200"/>
            </a:xfrm>
          </p:grpSpPr>
          <p:sp>
            <p:nvSpPr>
              <p:cNvPr id="7202" name=""/>
              <p:cNvSpPr/>
              <p:nvPr/>
            </p:nvSpPr>
            <p:spPr>
              <a:xfrm>
                <a:off x="4398120" y="2412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4427280" y="2397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4458960" y="2382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4490280" y="23698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4521600" y="2359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4552920" y="2351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4586760" y="2341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4618080" y="23342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4651200" y="23263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4685040" y="2322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4716360" y="2315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4750200" y="2311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4783320" y="23072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4817160" y="2302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4850280" y="22986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4884120" y="2296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4917240" y="2294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4951080" y="2292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4984920" y="2292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01804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05188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4316400" y="2376720"/>
                <a:ext cx="146520" cy="15516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17" y="0"/>
                    </a:moveTo>
                    <a:lnTo>
                      <a:pt x="0" y="74"/>
                    </a:lnTo>
                    <a:lnTo>
                      <a:pt x="7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24" name=""/>
          <p:cNvGrpSpPr/>
          <p:nvPr/>
        </p:nvGrpSpPr>
        <p:grpSpPr>
          <a:xfrm>
            <a:off x="4346640" y="2544840"/>
            <a:ext cx="2444760" cy="1745280"/>
            <a:chOff x="4346640" y="2544840"/>
            <a:chExt cx="2444760" cy="1745280"/>
          </a:xfrm>
        </p:grpSpPr>
        <p:grpSp>
          <p:nvGrpSpPr>
            <p:cNvPr id="7225" name=""/>
            <p:cNvGrpSpPr/>
            <p:nvPr/>
          </p:nvGrpSpPr>
          <p:grpSpPr>
            <a:xfrm>
              <a:off x="5703840" y="2544840"/>
              <a:ext cx="1087560" cy="1559880"/>
              <a:chOff x="5703840" y="2544840"/>
              <a:chExt cx="1087560" cy="1559880"/>
            </a:xfrm>
          </p:grpSpPr>
          <p:grpSp>
            <p:nvGrpSpPr>
              <p:cNvPr id="7226" name=""/>
              <p:cNvGrpSpPr/>
              <p:nvPr/>
            </p:nvGrpSpPr>
            <p:grpSpPr>
              <a:xfrm>
                <a:off x="5703840" y="2544840"/>
                <a:ext cx="950400" cy="1486440"/>
                <a:chOff x="5703840" y="2544840"/>
                <a:chExt cx="950400" cy="1486440"/>
              </a:xfrm>
            </p:grpSpPr>
            <p:grpSp>
              <p:nvGrpSpPr>
                <p:cNvPr id="7227" name=""/>
                <p:cNvGrpSpPr/>
                <p:nvPr/>
              </p:nvGrpSpPr>
              <p:grpSpPr>
                <a:xfrm>
                  <a:off x="5703840" y="2544840"/>
                  <a:ext cx="950400" cy="1486440"/>
                  <a:chOff x="5703840" y="2544840"/>
                  <a:chExt cx="950400" cy="1486440"/>
                </a:xfrm>
              </p:grpSpPr>
              <p:sp>
                <p:nvSpPr>
                  <p:cNvPr id="7228" name=""/>
                  <p:cNvSpPr/>
                  <p:nvPr/>
                </p:nvSpPr>
                <p:spPr>
                  <a:xfrm>
                    <a:off x="5703840" y="2544840"/>
                    <a:ext cx="950400" cy="14864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9" name=""/>
                  <p:cNvSpPr/>
                  <p:nvPr/>
                </p:nvSpPr>
                <p:spPr>
                  <a:xfrm>
                    <a:off x="5703840" y="2544840"/>
                    <a:ext cx="946080" cy="14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0" name=""/>
                  <p:cNvSpPr/>
                  <p:nvPr/>
                </p:nvSpPr>
                <p:spPr>
                  <a:xfrm>
                    <a:off x="5703840" y="2544840"/>
                    <a:ext cx="946080" cy="14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"/>
                  <p:cNvSpPr/>
                  <p:nvPr/>
                </p:nvSpPr>
                <p:spPr>
                  <a:xfrm>
                    <a:off x="5703840" y="2544840"/>
                    <a:ext cx="950400" cy="14864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32" name=""/>
                <p:cNvSpPr/>
                <p:nvPr/>
              </p:nvSpPr>
              <p:spPr>
                <a:xfrm>
                  <a:off x="5703840" y="2544840"/>
                  <a:ext cx="946440" cy="148248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3" name=""/>
              <p:cNvSpPr/>
              <p:nvPr/>
            </p:nvSpPr>
            <p:spPr>
              <a:xfrm>
                <a:off x="6375600" y="3700080"/>
                <a:ext cx="415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6497640" y="37699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35" name=""/>
              <p:cNvGrpSpPr/>
              <p:nvPr/>
            </p:nvGrpSpPr>
            <p:grpSpPr>
              <a:xfrm>
                <a:off x="5965920" y="2776320"/>
                <a:ext cx="446760" cy="1061280"/>
                <a:chOff x="5965920" y="2776320"/>
                <a:chExt cx="446760" cy="1061280"/>
              </a:xfrm>
            </p:grpSpPr>
            <p:sp>
              <p:nvSpPr>
                <p:cNvPr id="7236" name=""/>
                <p:cNvSpPr/>
                <p:nvPr/>
              </p:nvSpPr>
              <p:spPr>
                <a:xfrm>
                  <a:off x="6141960" y="2962800"/>
                  <a:ext cx="77400" cy="7560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27"/>
                      </a:moveTo>
                      <a:lnTo>
                        <a:pt x="3" y="36"/>
                      </a:lnTo>
                      <a:lnTo>
                        <a:pt x="16" y="30"/>
                      </a:lnTo>
                      <a:lnTo>
                        <a:pt x="19" y="29"/>
                      </a:lnTo>
                      <a:lnTo>
                        <a:pt x="26" y="26"/>
                      </a:lnTo>
                      <a:lnTo>
                        <a:pt x="31" y="23"/>
                      </a:lnTo>
                      <a:lnTo>
                        <a:pt x="33" y="18"/>
                      </a:lnTo>
                      <a:lnTo>
                        <a:pt x="35" y="15"/>
                      </a:lnTo>
                      <a:lnTo>
                        <a:pt x="36" y="10"/>
                      </a:lnTo>
                      <a:lnTo>
                        <a:pt x="37" y="0"/>
                      </a:lnTo>
                      <a:lnTo>
                        <a:pt x="27" y="0"/>
                      </a:lnTo>
                      <a:lnTo>
                        <a:pt x="26" y="10"/>
                      </a:lnTo>
                      <a:lnTo>
                        <a:pt x="25" y="15"/>
                      </a:lnTo>
                      <a:lnTo>
                        <a:pt x="30" y="15"/>
                      </a:lnTo>
                      <a:lnTo>
                        <a:pt x="26" y="11"/>
                      </a:lnTo>
                      <a:lnTo>
                        <a:pt x="24" y="16"/>
                      </a:lnTo>
                      <a:lnTo>
                        <a:pt x="19" y="19"/>
                      </a:lnTo>
                      <a:lnTo>
                        <a:pt x="12" y="22"/>
                      </a:lnTo>
                      <a:lnTo>
                        <a:pt x="16" y="25"/>
                      </a:lnTo>
                      <a:lnTo>
                        <a:pt x="16" y="2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7" name=""/>
                <p:cNvSpPr/>
                <p:nvPr/>
              </p:nvSpPr>
              <p:spPr>
                <a:xfrm>
                  <a:off x="5965920" y="2912400"/>
                  <a:ext cx="193320" cy="19728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8" name=""/>
                <p:cNvSpPr/>
                <p:nvPr/>
              </p:nvSpPr>
              <p:spPr>
                <a:xfrm>
                  <a:off x="6148800" y="3094920"/>
                  <a:ext cx="209880" cy="203400"/>
                </a:xfrm>
                <a:custGeom>
                  <a:avLst/>
                  <a:gdLst/>
                  <a:ahLst/>
                  <a:rect l="l" t="t" r="r" b="b"/>
                  <a:pathLst>
                    <a:path w="100" h="97">
                      <a:moveTo>
                        <a:pt x="0" y="88"/>
                      </a:moveTo>
                      <a:lnTo>
                        <a:pt x="3" y="97"/>
                      </a:lnTo>
                      <a:lnTo>
                        <a:pt x="17" y="90"/>
                      </a:lnTo>
                      <a:lnTo>
                        <a:pt x="21" y="89"/>
                      </a:lnTo>
                      <a:lnTo>
                        <a:pt x="37" y="81"/>
                      </a:lnTo>
                      <a:lnTo>
                        <a:pt x="52" y="72"/>
                      </a:lnTo>
                      <a:lnTo>
                        <a:pt x="65" y="62"/>
                      </a:lnTo>
                      <a:lnTo>
                        <a:pt x="75" y="49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2"/>
                      </a:lnTo>
                      <a:lnTo>
                        <a:pt x="58" y="55"/>
                      </a:lnTo>
                      <a:lnTo>
                        <a:pt x="45" y="65"/>
                      </a:lnTo>
                      <a:lnTo>
                        <a:pt x="30" y="74"/>
                      </a:lnTo>
                      <a:lnTo>
                        <a:pt x="14" y="82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9" name=""/>
                <p:cNvSpPr/>
                <p:nvPr/>
              </p:nvSpPr>
              <p:spPr>
                <a:xfrm>
                  <a:off x="5982480" y="3130560"/>
                  <a:ext cx="168120" cy="226440"/>
                </a:xfrm>
                <a:custGeom>
                  <a:avLst/>
                  <a:gdLst/>
                  <a:ahLst/>
                  <a:rect l="l" t="t" r="r" b="b"/>
                  <a:pathLst>
                    <a:path w="80" h="108">
                      <a:moveTo>
                        <a:pt x="75" y="108"/>
                      </a:moveTo>
                      <a:lnTo>
                        <a:pt x="80" y="100"/>
                      </a:lnTo>
                      <a:lnTo>
                        <a:pt x="68" y="92"/>
                      </a:lnTo>
                      <a:lnTo>
                        <a:pt x="56" y="84"/>
                      </a:lnTo>
                      <a:lnTo>
                        <a:pt x="44" y="74"/>
                      </a:lnTo>
                      <a:lnTo>
                        <a:pt x="35" y="6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6"/>
                      </a:lnTo>
                      <a:lnTo>
                        <a:pt x="21" y="36"/>
                      </a:lnTo>
                      <a:lnTo>
                        <a:pt x="15" y="19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9"/>
                      </a:lnTo>
                      <a:lnTo>
                        <a:pt x="11" y="36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1" y="65"/>
                      </a:lnTo>
                      <a:lnTo>
                        <a:pt x="27" y="68"/>
                      </a:lnTo>
                      <a:lnTo>
                        <a:pt x="37" y="81"/>
                      </a:lnTo>
                      <a:lnTo>
                        <a:pt x="49" y="91"/>
                      </a:lnTo>
                      <a:lnTo>
                        <a:pt x="61" y="99"/>
                      </a:lnTo>
                      <a:lnTo>
                        <a:pt x="75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40" name=""/>
                <p:cNvGrpSpPr/>
                <p:nvPr/>
              </p:nvGrpSpPr>
              <p:grpSpPr>
                <a:xfrm>
                  <a:off x="6161040" y="3525120"/>
                  <a:ext cx="89640" cy="118800"/>
                  <a:chOff x="6161040" y="3525120"/>
                  <a:chExt cx="89640" cy="118800"/>
                </a:xfrm>
              </p:grpSpPr>
              <p:sp>
                <p:nvSpPr>
                  <p:cNvPr id="7241" name=""/>
                  <p:cNvSpPr/>
                  <p:nvPr/>
                </p:nvSpPr>
                <p:spPr>
                  <a:xfrm>
                    <a:off x="6161040" y="3541680"/>
                    <a:ext cx="730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0" y="48"/>
                        </a:moveTo>
                        <a:lnTo>
                          <a:pt x="6" y="49"/>
                        </a:lnTo>
                        <a:lnTo>
                          <a:pt x="12" y="49"/>
                        </a:lnTo>
                        <a:lnTo>
                          <a:pt x="18" y="47"/>
                        </a:lnTo>
                        <a:lnTo>
                          <a:pt x="22" y="43"/>
                        </a:lnTo>
                        <a:lnTo>
                          <a:pt x="26" y="35"/>
                        </a:lnTo>
                        <a:lnTo>
                          <a:pt x="29" y="25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2" name=""/>
                  <p:cNvSpPr/>
                  <p:nvPr/>
                </p:nvSpPr>
                <p:spPr>
                  <a:xfrm>
                    <a:off x="6211080" y="352512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3" name=""/>
                <p:cNvGrpSpPr/>
                <p:nvPr/>
              </p:nvGrpSpPr>
              <p:grpSpPr>
                <a:xfrm>
                  <a:off x="6056280" y="3470400"/>
                  <a:ext cx="87480" cy="117000"/>
                  <a:chOff x="6056280" y="3470400"/>
                  <a:chExt cx="87480" cy="117000"/>
                </a:xfrm>
              </p:grpSpPr>
              <p:sp>
                <p:nvSpPr>
                  <p:cNvPr id="7244" name=""/>
                  <p:cNvSpPr/>
                  <p:nvPr/>
                </p:nvSpPr>
                <p:spPr>
                  <a:xfrm>
                    <a:off x="6070320" y="3487320"/>
                    <a:ext cx="73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5" name=""/>
                  <p:cNvSpPr/>
                  <p:nvPr/>
                </p:nvSpPr>
                <p:spPr>
                  <a:xfrm>
                    <a:off x="6056280" y="3470400"/>
                    <a:ext cx="39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6" name=""/>
                <p:cNvGrpSpPr/>
                <p:nvPr/>
              </p:nvGrpSpPr>
              <p:grpSpPr>
                <a:xfrm>
                  <a:off x="6159240" y="3344760"/>
                  <a:ext cx="89640" cy="146520"/>
                  <a:chOff x="6159240" y="3344760"/>
                  <a:chExt cx="89640" cy="146520"/>
                </a:xfrm>
              </p:grpSpPr>
              <p:sp>
                <p:nvSpPr>
                  <p:cNvPr id="7247" name=""/>
                  <p:cNvSpPr/>
                  <p:nvPr/>
                </p:nvSpPr>
                <p:spPr>
                  <a:xfrm>
                    <a:off x="6159240" y="3365640"/>
                    <a:ext cx="730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8" name=""/>
                  <p:cNvSpPr/>
                  <p:nvPr/>
                </p:nvSpPr>
                <p:spPr>
                  <a:xfrm>
                    <a:off x="6207120" y="334476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9" name=""/>
                <p:cNvGrpSpPr/>
                <p:nvPr/>
              </p:nvGrpSpPr>
              <p:grpSpPr>
                <a:xfrm>
                  <a:off x="6234480" y="3118320"/>
                  <a:ext cx="41760" cy="112320"/>
                  <a:chOff x="6234480" y="3118320"/>
                  <a:chExt cx="41760" cy="112320"/>
                </a:xfrm>
              </p:grpSpPr>
              <p:sp>
                <p:nvSpPr>
                  <p:cNvPr id="7250" name=""/>
                  <p:cNvSpPr/>
                  <p:nvPr/>
                </p:nvSpPr>
                <p:spPr>
                  <a:xfrm>
                    <a:off x="6242760" y="3138840"/>
                    <a:ext cx="122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1" name=""/>
                  <p:cNvSpPr/>
                  <p:nvPr/>
                </p:nvSpPr>
                <p:spPr>
                  <a:xfrm>
                    <a:off x="6234480" y="3118320"/>
                    <a:ext cx="417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2" name=""/>
                <p:cNvGrpSpPr/>
                <p:nvPr/>
              </p:nvGrpSpPr>
              <p:grpSpPr>
                <a:xfrm>
                  <a:off x="6072840" y="3208320"/>
                  <a:ext cx="41400" cy="97560"/>
                  <a:chOff x="6072840" y="3208320"/>
                  <a:chExt cx="41400" cy="97560"/>
                </a:xfrm>
              </p:grpSpPr>
              <p:sp>
                <p:nvSpPr>
                  <p:cNvPr id="7253" name=""/>
                  <p:cNvSpPr/>
                  <p:nvPr/>
                </p:nvSpPr>
                <p:spPr>
                  <a:xfrm>
                    <a:off x="6093360" y="3228840"/>
                    <a:ext cx="18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">
                        <a:moveTo>
                          <a:pt x="0" y="37"/>
                        </a:moveTo>
                        <a:lnTo>
                          <a:pt x="0" y="28"/>
                        </a:ln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"/>
                  <p:cNvSpPr/>
                  <p:nvPr/>
                </p:nvSpPr>
                <p:spPr>
                  <a:xfrm>
                    <a:off x="6072840" y="3208320"/>
                    <a:ext cx="41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5" name=""/>
                <p:cNvGrpSpPr/>
                <p:nvPr/>
              </p:nvGrpSpPr>
              <p:grpSpPr>
                <a:xfrm>
                  <a:off x="6007680" y="2887560"/>
                  <a:ext cx="41400" cy="108360"/>
                  <a:chOff x="6007680" y="2887560"/>
                  <a:chExt cx="41400" cy="108360"/>
                </a:xfrm>
              </p:grpSpPr>
              <p:sp>
                <p:nvSpPr>
                  <p:cNvPr id="7256" name=""/>
                  <p:cNvSpPr/>
                  <p:nvPr/>
                </p:nvSpPr>
                <p:spPr>
                  <a:xfrm>
                    <a:off x="6026400" y="2912040"/>
                    <a:ext cx="39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7" name=""/>
                  <p:cNvSpPr/>
                  <p:nvPr/>
                </p:nvSpPr>
                <p:spPr>
                  <a:xfrm>
                    <a:off x="6007680" y="288756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58" name=""/>
                <p:cNvSpPr/>
                <p:nvPr/>
              </p:nvSpPr>
              <p:spPr>
                <a:xfrm>
                  <a:off x="6127200" y="2954520"/>
                  <a:ext cx="35640" cy="883080"/>
                </a:xfrm>
                <a:custGeom>
                  <a:avLst/>
                  <a:gdLst/>
                  <a:ahLst/>
                  <a:rect l="l" t="t" r="r" b="b"/>
                  <a:pathLst>
                    <a:path w="17" h="421">
                      <a:moveTo>
                        <a:pt x="6" y="421"/>
                      </a:moveTo>
                      <a:lnTo>
                        <a:pt x="16" y="421"/>
                      </a:lnTo>
                      <a:lnTo>
                        <a:pt x="16" y="381"/>
                      </a:lnTo>
                      <a:lnTo>
                        <a:pt x="16" y="342"/>
                      </a:lnTo>
                      <a:lnTo>
                        <a:pt x="16" y="304"/>
                      </a:lnTo>
                      <a:lnTo>
                        <a:pt x="16" y="268"/>
                      </a:lnTo>
                      <a:lnTo>
                        <a:pt x="16" y="233"/>
                      </a:lnTo>
                      <a:lnTo>
                        <a:pt x="16" y="201"/>
                      </a:lnTo>
                      <a:lnTo>
                        <a:pt x="16" y="172"/>
                      </a:lnTo>
                      <a:lnTo>
                        <a:pt x="16" y="159"/>
                      </a:lnTo>
                      <a:lnTo>
                        <a:pt x="16" y="147"/>
                      </a:lnTo>
                      <a:lnTo>
                        <a:pt x="16" y="136"/>
                      </a:lnTo>
                      <a:lnTo>
                        <a:pt x="16" y="126"/>
                      </a:lnTo>
                      <a:lnTo>
                        <a:pt x="16" y="109"/>
                      </a:lnTo>
                      <a:lnTo>
                        <a:pt x="17" y="95"/>
                      </a:lnTo>
                      <a:lnTo>
                        <a:pt x="17" y="83"/>
                      </a:lnTo>
                      <a:lnTo>
                        <a:pt x="17" y="74"/>
                      </a:lnTo>
                      <a:lnTo>
                        <a:pt x="17" y="65"/>
                      </a:lnTo>
                      <a:lnTo>
                        <a:pt x="17" y="57"/>
                      </a:lnTo>
                      <a:lnTo>
                        <a:pt x="17" y="48"/>
                      </a:lnTo>
                      <a:lnTo>
                        <a:pt x="17" y="40"/>
                      </a:lnTo>
                      <a:lnTo>
                        <a:pt x="16" y="32"/>
                      </a:lnTo>
                      <a:lnTo>
                        <a:pt x="14" y="20"/>
                      </a:lnTo>
                      <a:lnTo>
                        <a:pt x="12" y="10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20"/>
                      </a:lnTo>
                      <a:lnTo>
                        <a:pt x="6" y="32"/>
                      </a:lnTo>
                      <a:lnTo>
                        <a:pt x="7" y="40"/>
                      </a:lnTo>
                      <a:lnTo>
                        <a:pt x="7" y="48"/>
                      </a:lnTo>
                      <a:lnTo>
                        <a:pt x="7" y="57"/>
                      </a:lnTo>
                      <a:lnTo>
                        <a:pt x="7" y="65"/>
                      </a:lnTo>
                      <a:lnTo>
                        <a:pt x="7" y="74"/>
                      </a:lnTo>
                      <a:lnTo>
                        <a:pt x="7" y="83"/>
                      </a:lnTo>
                      <a:lnTo>
                        <a:pt x="7" y="95"/>
                      </a:lnTo>
                      <a:lnTo>
                        <a:pt x="6" y="109"/>
                      </a:lnTo>
                      <a:lnTo>
                        <a:pt x="6" y="126"/>
                      </a:lnTo>
                      <a:lnTo>
                        <a:pt x="6" y="136"/>
                      </a:lnTo>
                      <a:lnTo>
                        <a:pt x="6" y="147"/>
                      </a:lnTo>
                      <a:lnTo>
                        <a:pt x="6" y="159"/>
                      </a:lnTo>
                      <a:lnTo>
                        <a:pt x="6" y="172"/>
                      </a:lnTo>
                      <a:lnTo>
                        <a:pt x="6" y="201"/>
                      </a:lnTo>
                      <a:lnTo>
                        <a:pt x="6" y="233"/>
                      </a:lnTo>
                      <a:lnTo>
                        <a:pt x="6" y="268"/>
                      </a:lnTo>
                      <a:lnTo>
                        <a:pt x="6" y="304"/>
                      </a:lnTo>
                      <a:lnTo>
                        <a:pt x="6" y="342"/>
                      </a:lnTo>
                      <a:lnTo>
                        <a:pt x="6" y="381"/>
                      </a:lnTo>
                      <a:lnTo>
                        <a:pt x="6" y="4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59" name=""/>
                <p:cNvGrpSpPr/>
                <p:nvPr/>
              </p:nvGrpSpPr>
              <p:grpSpPr>
                <a:xfrm>
                  <a:off x="6089760" y="2776320"/>
                  <a:ext cx="51480" cy="186120"/>
                  <a:chOff x="6089760" y="2776320"/>
                  <a:chExt cx="51480" cy="186120"/>
                </a:xfrm>
              </p:grpSpPr>
              <p:sp>
                <p:nvSpPr>
                  <p:cNvPr id="7260" name=""/>
                  <p:cNvSpPr/>
                  <p:nvPr/>
                </p:nvSpPr>
                <p:spPr>
                  <a:xfrm>
                    <a:off x="6114600" y="2931120"/>
                    <a:ext cx="266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5" y="15"/>
                        </a:moveTo>
                        <a:lnTo>
                          <a:pt x="13" y="9"/>
                        </a:lnTo>
                        <a:lnTo>
                          <a:pt x="8" y="0"/>
                        </a:lnTo>
                        <a:lnTo>
                          <a:pt x="0" y="6"/>
                        </a:lnTo>
                        <a:lnTo>
                          <a:pt x="5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"/>
                  <p:cNvSpPr/>
                  <p:nvPr/>
                </p:nvSpPr>
                <p:spPr>
                  <a:xfrm>
                    <a:off x="6095880" y="2899800"/>
                    <a:ext cx="24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3" y="11"/>
                        </a:moveTo>
                        <a:lnTo>
                          <a:pt x="12" y="8"/>
                        </a:lnTo>
                        <a:lnTo>
                          <a:pt x="10" y="3"/>
                        </a:lnTo>
                        <a:lnTo>
                          <a:pt x="9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2" name=""/>
                  <p:cNvSpPr/>
                  <p:nvPr/>
                </p:nvSpPr>
                <p:spPr>
                  <a:xfrm>
                    <a:off x="6089760" y="2859840"/>
                    <a:ext cx="205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1" y="11"/>
                        </a:move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3" name=""/>
                  <p:cNvSpPr/>
                  <p:nvPr/>
                </p:nvSpPr>
                <p:spPr>
                  <a:xfrm>
                    <a:off x="6089760" y="2815920"/>
                    <a:ext cx="205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1"/>
                        </a:moveTo>
                        <a:lnTo>
                          <a:pt x="10" y="11"/>
                        </a:ln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4" name=""/>
                  <p:cNvSpPr/>
                  <p:nvPr/>
                </p:nvSpPr>
                <p:spPr>
                  <a:xfrm>
                    <a:off x="6091560" y="2776320"/>
                    <a:ext cx="23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0" y="9"/>
                        </a:moveTo>
                        <a:lnTo>
                          <a:pt x="10" y="10"/>
                        </a:lnTo>
                        <a:lnTo>
                          <a:pt x="11" y="1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65" name=""/>
                <p:cNvGrpSpPr/>
                <p:nvPr/>
              </p:nvGrpSpPr>
              <p:grpSpPr>
                <a:xfrm>
                  <a:off x="6312600" y="3153960"/>
                  <a:ext cx="100080" cy="38520"/>
                  <a:chOff x="6312600" y="3153960"/>
                  <a:chExt cx="100080" cy="38520"/>
                </a:xfrm>
              </p:grpSpPr>
              <p:sp>
                <p:nvSpPr>
                  <p:cNvPr id="7266" name=""/>
                  <p:cNvSpPr/>
                  <p:nvPr/>
                </p:nvSpPr>
                <p:spPr>
                  <a:xfrm>
                    <a:off x="6312600" y="3170160"/>
                    <a:ext cx="20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"/>
                  <p:cNvSpPr/>
                  <p:nvPr/>
                </p:nvSpPr>
                <p:spPr>
                  <a:xfrm>
                    <a:off x="6354360" y="3168000"/>
                    <a:ext cx="226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0" y="10"/>
                        </a:lnTo>
                        <a:lnTo>
                          <a:pt x="11" y="10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"/>
                  <p:cNvSpPr/>
                  <p:nvPr/>
                </p:nvSpPr>
                <p:spPr>
                  <a:xfrm>
                    <a:off x="6390000" y="3153960"/>
                    <a:ext cx="226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3">
                        <a:moveTo>
                          <a:pt x="0" y="4"/>
                        </a:moveTo>
                        <a:lnTo>
                          <a:pt x="4" y="13"/>
                        </a:lnTo>
                        <a:lnTo>
                          <a:pt x="7" y="12"/>
                        </a:lnTo>
                        <a:lnTo>
                          <a:pt x="9" y="8"/>
                        </a:lnTo>
                        <a:lnTo>
                          <a:pt x="10" y="5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5"/>
                        </a:lnTo>
                        <a:lnTo>
                          <a:pt x="5" y="5"/>
                        </a:ln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69" name=""/>
                <p:cNvGrpSpPr/>
                <p:nvPr/>
              </p:nvGrpSpPr>
              <p:grpSpPr>
                <a:xfrm>
                  <a:off x="6201000" y="2816280"/>
                  <a:ext cx="22320" cy="146160"/>
                  <a:chOff x="6201000" y="2816280"/>
                  <a:chExt cx="22320" cy="146160"/>
                </a:xfrm>
              </p:grpSpPr>
              <p:sp>
                <p:nvSpPr>
                  <p:cNvPr id="7270" name=""/>
                  <p:cNvSpPr/>
                  <p:nvPr/>
                </p:nvSpPr>
                <p:spPr>
                  <a:xfrm>
                    <a:off x="6201000" y="294156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1" name=""/>
                  <p:cNvSpPr/>
                  <p:nvPr/>
                </p:nvSpPr>
                <p:spPr>
                  <a:xfrm>
                    <a:off x="6202800" y="289980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2" name=""/>
                  <p:cNvSpPr/>
                  <p:nvPr/>
                </p:nvSpPr>
                <p:spPr>
                  <a:xfrm>
                    <a:off x="6202800" y="285804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3" name=""/>
                  <p:cNvSpPr/>
                  <p:nvPr/>
                </p:nvSpPr>
                <p:spPr>
                  <a:xfrm>
                    <a:off x="6202800" y="281628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74" name=""/>
              <p:cNvSpPr/>
              <p:nvPr/>
            </p:nvSpPr>
            <p:spPr>
              <a:xfrm>
                <a:off x="6375600" y="3700080"/>
                <a:ext cx="415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6497640" y="37699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6141960" y="296352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5965920" y="2912760"/>
                <a:ext cx="193680" cy="1980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6148440" y="3095280"/>
                <a:ext cx="210960" cy="20448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5983200" y="3132000"/>
                <a:ext cx="168480" cy="2264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0" name=""/>
              <p:cNvGrpSpPr/>
              <p:nvPr/>
            </p:nvGrpSpPr>
            <p:grpSpPr>
              <a:xfrm>
                <a:off x="6161040" y="3525480"/>
                <a:ext cx="90360" cy="119880"/>
                <a:chOff x="6161040" y="3525480"/>
                <a:chExt cx="90360" cy="119880"/>
              </a:xfrm>
            </p:grpSpPr>
            <p:sp>
              <p:nvSpPr>
                <p:cNvPr id="7281" name=""/>
                <p:cNvSpPr/>
                <p:nvPr/>
              </p:nvSpPr>
              <p:spPr>
                <a:xfrm>
                  <a:off x="6161040" y="3542040"/>
                  <a:ext cx="73080" cy="10332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6" y="49"/>
                      </a:lnTo>
                      <a:lnTo>
                        <a:pt x="12" y="49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6" y="35"/>
                      </a:lnTo>
                      <a:lnTo>
                        <a:pt x="29" y="25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2" name=""/>
                <p:cNvSpPr/>
                <p:nvPr/>
              </p:nvSpPr>
              <p:spPr>
                <a:xfrm>
                  <a:off x="6211440" y="3525480"/>
                  <a:ext cx="39960" cy="4608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3" name=""/>
              <p:cNvGrpSpPr/>
              <p:nvPr/>
            </p:nvGrpSpPr>
            <p:grpSpPr>
              <a:xfrm>
                <a:off x="6056280" y="3471480"/>
                <a:ext cx="88560" cy="117000"/>
                <a:chOff x="6056280" y="3471480"/>
                <a:chExt cx="88560" cy="117000"/>
              </a:xfrm>
            </p:grpSpPr>
            <p:sp>
              <p:nvSpPr>
                <p:cNvPr id="7284" name=""/>
                <p:cNvSpPr/>
                <p:nvPr/>
              </p:nvSpPr>
              <p:spPr>
                <a:xfrm>
                  <a:off x="6070680" y="3488400"/>
                  <a:ext cx="74160" cy="10008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5" name=""/>
                <p:cNvSpPr/>
                <p:nvPr/>
              </p:nvSpPr>
              <p:spPr>
                <a:xfrm>
                  <a:off x="6056280" y="347148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6" name=""/>
              <p:cNvGrpSpPr/>
              <p:nvPr/>
            </p:nvGrpSpPr>
            <p:grpSpPr>
              <a:xfrm>
                <a:off x="6159600" y="3346200"/>
                <a:ext cx="89640" cy="145440"/>
                <a:chOff x="6159600" y="3346200"/>
                <a:chExt cx="89640" cy="145440"/>
              </a:xfrm>
            </p:grpSpPr>
            <p:sp>
              <p:nvSpPr>
                <p:cNvPr id="7287" name=""/>
                <p:cNvSpPr/>
                <p:nvPr/>
              </p:nvSpPr>
              <p:spPr>
                <a:xfrm>
                  <a:off x="6159600" y="3366720"/>
                  <a:ext cx="73440" cy="12492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>
                  <a:off x="6207480" y="3346200"/>
                  <a:ext cx="41760" cy="5364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9" name=""/>
              <p:cNvGrpSpPr/>
              <p:nvPr/>
            </p:nvGrpSpPr>
            <p:grpSpPr>
              <a:xfrm>
                <a:off x="6235560" y="3119040"/>
                <a:ext cx="41040" cy="111960"/>
                <a:chOff x="6235560" y="3119040"/>
                <a:chExt cx="41040" cy="111960"/>
              </a:xfrm>
            </p:grpSpPr>
            <p:sp>
              <p:nvSpPr>
                <p:cNvPr id="7290" name=""/>
                <p:cNvSpPr/>
                <p:nvPr/>
              </p:nvSpPr>
              <p:spPr>
                <a:xfrm>
                  <a:off x="6243840" y="3139560"/>
                  <a:ext cx="11880" cy="9144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1" name=""/>
                <p:cNvSpPr/>
                <p:nvPr/>
              </p:nvSpPr>
              <p:spPr>
                <a:xfrm>
                  <a:off x="6235560" y="3119040"/>
                  <a:ext cx="41040" cy="49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2" name=""/>
              <p:cNvGrpSpPr/>
              <p:nvPr/>
            </p:nvGrpSpPr>
            <p:grpSpPr>
              <a:xfrm>
                <a:off x="6073920" y="3209760"/>
                <a:ext cx="40680" cy="97200"/>
                <a:chOff x="6073920" y="3209760"/>
                <a:chExt cx="40680" cy="97200"/>
              </a:xfrm>
            </p:grpSpPr>
            <p:sp>
              <p:nvSpPr>
                <p:cNvPr id="7293" name=""/>
                <p:cNvSpPr/>
                <p:nvPr/>
              </p:nvSpPr>
              <p:spPr>
                <a:xfrm>
                  <a:off x="6094080" y="3230280"/>
                  <a:ext cx="1800" cy="76680"/>
                </a:xfrm>
                <a:custGeom>
                  <a:avLst/>
                  <a:gdLst/>
                  <a:ahLst/>
                  <a:rect l="l" t="t" r="r" b="b"/>
                  <a:pathLst>
                    <a:path w="1" h="37">
                      <a:moveTo>
                        <a:pt x="0" y="37"/>
                      </a:moveTo>
                      <a:lnTo>
                        <a:pt x="0" y="2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4" name=""/>
                <p:cNvSpPr/>
                <p:nvPr/>
              </p:nvSpPr>
              <p:spPr>
                <a:xfrm>
                  <a:off x="6073920" y="3209760"/>
                  <a:ext cx="406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5" name=""/>
              <p:cNvGrpSpPr/>
              <p:nvPr/>
            </p:nvGrpSpPr>
            <p:grpSpPr>
              <a:xfrm>
                <a:off x="6008760" y="2887200"/>
                <a:ext cx="41040" cy="108720"/>
                <a:chOff x="6008760" y="2887200"/>
                <a:chExt cx="41040" cy="108720"/>
              </a:xfrm>
            </p:grpSpPr>
            <p:sp>
              <p:nvSpPr>
                <p:cNvPr id="7296" name=""/>
                <p:cNvSpPr/>
                <p:nvPr/>
              </p:nvSpPr>
              <p:spPr>
                <a:xfrm>
                  <a:off x="6027480" y="2911680"/>
                  <a:ext cx="3960" cy="8424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7" name=""/>
                <p:cNvSpPr/>
                <p:nvPr/>
              </p:nvSpPr>
              <p:spPr>
                <a:xfrm>
                  <a:off x="6008760" y="2887200"/>
                  <a:ext cx="4104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8" name=""/>
              <p:cNvSpPr/>
              <p:nvPr/>
            </p:nvSpPr>
            <p:spPr>
              <a:xfrm>
                <a:off x="6127920" y="2955600"/>
                <a:ext cx="36360" cy="88236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99" name=""/>
              <p:cNvGrpSpPr/>
              <p:nvPr/>
            </p:nvGrpSpPr>
            <p:grpSpPr>
              <a:xfrm>
                <a:off x="6089760" y="2776320"/>
                <a:ext cx="51480" cy="186480"/>
                <a:chOff x="6089760" y="2776320"/>
                <a:chExt cx="51480" cy="186480"/>
              </a:xfrm>
            </p:grpSpPr>
            <p:sp>
              <p:nvSpPr>
                <p:cNvPr id="7300" name=""/>
                <p:cNvSpPr/>
                <p:nvPr/>
              </p:nvSpPr>
              <p:spPr>
                <a:xfrm>
                  <a:off x="6114600" y="293148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1" name=""/>
                <p:cNvSpPr/>
                <p:nvPr/>
              </p:nvSpPr>
              <p:spPr>
                <a:xfrm>
                  <a:off x="6095880" y="290016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2" name=""/>
                <p:cNvSpPr/>
                <p:nvPr/>
              </p:nvSpPr>
              <p:spPr>
                <a:xfrm>
                  <a:off x="6089760" y="285984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3" name=""/>
                <p:cNvSpPr/>
                <p:nvPr/>
              </p:nvSpPr>
              <p:spPr>
                <a:xfrm>
                  <a:off x="6089760" y="281628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4" name=""/>
                <p:cNvSpPr/>
                <p:nvPr/>
              </p:nvSpPr>
              <p:spPr>
                <a:xfrm>
                  <a:off x="6091560" y="277632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5" name=""/>
              <p:cNvGrpSpPr/>
              <p:nvPr/>
            </p:nvGrpSpPr>
            <p:grpSpPr>
              <a:xfrm>
                <a:off x="6313680" y="3153960"/>
                <a:ext cx="99000" cy="38520"/>
                <a:chOff x="6313680" y="3153960"/>
                <a:chExt cx="99000" cy="38520"/>
              </a:xfrm>
            </p:grpSpPr>
            <p:sp>
              <p:nvSpPr>
                <p:cNvPr id="7306" name=""/>
                <p:cNvSpPr/>
                <p:nvPr/>
              </p:nvSpPr>
              <p:spPr>
                <a:xfrm>
                  <a:off x="6313680" y="3170160"/>
                  <a:ext cx="20520" cy="22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7" name=""/>
                <p:cNvSpPr/>
                <p:nvPr/>
              </p:nvSpPr>
              <p:spPr>
                <a:xfrm>
                  <a:off x="6355080" y="316800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8" name=""/>
                <p:cNvSpPr/>
                <p:nvPr/>
              </p:nvSpPr>
              <p:spPr>
                <a:xfrm>
                  <a:off x="6390360" y="315396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9" name=""/>
              <p:cNvGrpSpPr/>
              <p:nvPr/>
            </p:nvGrpSpPr>
            <p:grpSpPr>
              <a:xfrm>
                <a:off x="6200640" y="2815920"/>
                <a:ext cx="23760" cy="146880"/>
                <a:chOff x="6200640" y="2815920"/>
                <a:chExt cx="23760" cy="146880"/>
              </a:xfrm>
            </p:grpSpPr>
            <p:sp>
              <p:nvSpPr>
                <p:cNvPr id="7310" name=""/>
                <p:cNvSpPr/>
                <p:nvPr/>
              </p:nvSpPr>
              <p:spPr>
                <a:xfrm>
                  <a:off x="6200640" y="294192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1" name=""/>
                <p:cNvSpPr/>
                <p:nvPr/>
              </p:nvSpPr>
              <p:spPr>
                <a:xfrm>
                  <a:off x="6202440" y="289980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2" name=""/>
                <p:cNvSpPr/>
                <p:nvPr/>
              </p:nvSpPr>
              <p:spPr>
                <a:xfrm>
                  <a:off x="6202440" y="285768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3" name=""/>
                <p:cNvSpPr/>
                <p:nvPr/>
              </p:nvSpPr>
              <p:spPr>
                <a:xfrm>
                  <a:off x="6202440" y="281592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4" name=""/>
              <p:cNvSpPr/>
              <p:nvPr/>
            </p:nvSpPr>
            <p:spPr>
              <a:xfrm>
                <a:off x="6141960" y="296352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5965920" y="2912760"/>
                <a:ext cx="193680" cy="1980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6148440" y="3095280"/>
                <a:ext cx="210960" cy="20448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5983200" y="3132000"/>
                <a:ext cx="168480" cy="2264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6161040" y="3543120"/>
                <a:ext cx="74520" cy="10260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6211800" y="3525480"/>
                <a:ext cx="39960" cy="471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6161040" y="3543120"/>
                <a:ext cx="74520" cy="10260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6211800" y="3525480"/>
                <a:ext cx="39960" cy="471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6070680" y="3489120"/>
                <a:ext cx="74520" cy="997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6056280" y="347148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6070680" y="3489120"/>
                <a:ext cx="74520" cy="997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6056280" y="347148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6159600" y="336672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6207120" y="3346200"/>
                <a:ext cx="42840" cy="5364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6159600" y="336672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6207120" y="3346200"/>
                <a:ext cx="42840" cy="5364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6243480" y="3139920"/>
                <a:ext cx="12960" cy="914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6235560" y="3119040"/>
                <a:ext cx="41400" cy="504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6243480" y="3139920"/>
                <a:ext cx="12960" cy="914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6235560" y="3119040"/>
                <a:ext cx="41400" cy="504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6094440" y="3230280"/>
                <a:ext cx="1440" cy="7740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6073920" y="3209760"/>
                <a:ext cx="41040" cy="486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6094440" y="3230280"/>
                <a:ext cx="1440" cy="7740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6073920" y="3209760"/>
                <a:ext cx="41040" cy="486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6027840" y="2912760"/>
                <a:ext cx="3240" cy="838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6008760" y="288720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6027840" y="2912760"/>
                <a:ext cx="3240" cy="838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6008760" y="288720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6127920" y="2955600"/>
                <a:ext cx="36360" cy="88236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43" name=""/>
              <p:cNvGrpSpPr/>
              <p:nvPr/>
            </p:nvGrpSpPr>
            <p:grpSpPr>
              <a:xfrm>
                <a:off x="6089760" y="2776320"/>
                <a:ext cx="51480" cy="186480"/>
                <a:chOff x="6089760" y="2776320"/>
                <a:chExt cx="51480" cy="186480"/>
              </a:xfrm>
            </p:grpSpPr>
            <p:sp>
              <p:nvSpPr>
                <p:cNvPr id="7344" name=""/>
                <p:cNvSpPr/>
                <p:nvPr/>
              </p:nvSpPr>
              <p:spPr>
                <a:xfrm>
                  <a:off x="6114600" y="293148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5" name=""/>
                <p:cNvSpPr/>
                <p:nvPr/>
              </p:nvSpPr>
              <p:spPr>
                <a:xfrm>
                  <a:off x="6095880" y="290016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6" name=""/>
                <p:cNvSpPr/>
                <p:nvPr/>
              </p:nvSpPr>
              <p:spPr>
                <a:xfrm>
                  <a:off x="6089760" y="285984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7" name=""/>
                <p:cNvSpPr/>
                <p:nvPr/>
              </p:nvSpPr>
              <p:spPr>
                <a:xfrm>
                  <a:off x="6089760" y="281628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8" name=""/>
                <p:cNvSpPr/>
                <p:nvPr/>
              </p:nvSpPr>
              <p:spPr>
                <a:xfrm>
                  <a:off x="6091560" y="277632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9" name=""/>
              <p:cNvGrpSpPr/>
              <p:nvPr/>
            </p:nvGrpSpPr>
            <p:grpSpPr>
              <a:xfrm>
                <a:off x="6313680" y="3153960"/>
                <a:ext cx="99000" cy="38520"/>
                <a:chOff x="6313680" y="3153960"/>
                <a:chExt cx="99000" cy="38520"/>
              </a:xfrm>
            </p:grpSpPr>
            <p:sp>
              <p:nvSpPr>
                <p:cNvPr id="7350" name=""/>
                <p:cNvSpPr/>
                <p:nvPr/>
              </p:nvSpPr>
              <p:spPr>
                <a:xfrm>
                  <a:off x="6313680" y="3170160"/>
                  <a:ext cx="20520" cy="22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1" name=""/>
                <p:cNvSpPr/>
                <p:nvPr/>
              </p:nvSpPr>
              <p:spPr>
                <a:xfrm>
                  <a:off x="6355080" y="316800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2" name=""/>
                <p:cNvSpPr/>
                <p:nvPr/>
              </p:nvSpPr>
              <p:spPr>
                <a:xfrm>
                  <a:off x="6390360" y="315396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3" name=""/>
              <p:cNvGrpSpPr/>
              <p:nvPr/>
            </p:nvGrpSpPr>
            <p:grpSpPr>
              <a:xfrm>
                <a:off x="6200640" y="2815920"/>
                <a:ext cx="23760" cy="146880"/>
                <a:chOff x="6200640" y="2815920"/>
                <a:chExt cx="23760" cy="146880"/>
              </a:xfrm>
            </p:grpSpPr>
            <p:sp>
              <p:nvSpPr>
                <p:cNvPr id="7354" name=""/>
                <p:cNvSpPr/>
                <p:nvPr/>
              </p:nvSpPr>
              <p:spPr>
                <a:xfrm>
                  <a:off x="6200640" y="294192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5" name=""/>
                <p:cNvSpPr/>
                <p:nvPr/>
              </p:nvSpPr>
              <p:spPr>
                <a:xfrm>
                  <a:off x="6202440" y="289980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6" name=""/>
                <p:cNvSpPr/>
                <p:nvPr/>
              </p:nvSpPr>
              <p:spPr>
                <a:xfrm>
                  <a:off x="6202440" y="285768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7" name=""/>
                <p:cNvSpPr/>
                <p:nvPr/>
              </p:nvSpPr>
              <p:spPr>
                <a:xfrm>
                  <a:off x="6202440" y="281592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58" name=""/>
            <p:cNvGrpSpPr/>
            <p:nvPr/>
          </p:nvGrpSpPr>
          <p:grpSpPr>
            <a:xfrm>
              <a:off x="4346640" y="4009680"/>
              <a:ext cx="1518480" cy="280440"/>
              <a:chOff x="4346640" y="4009680"/>
              <a:chExt cx="1518480" cy="280440"/>
            </a:xfrm>
          </p:grpSpPr>
          <p:sp>
            <p:nvSpPr>
              <p:cNvPr id="7359" name=""/>
              <p:cNvSpPr/>
              <p:nvPr/>
            </p:nvSpPr>
            <p:spPr>
              <a:xfrm>
                <a:off x="4951440" y="400968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0" name=""/>
              <p:cNvGrpSpPr/>
              <p:nvPr/>
            </p:nvGrpSpPr>
            <p:grpSpPr>
              <a:xfrm>
                <a:off x="5079960" y="4042800"/>
                <a:ext cx="785160" cy="246960"/>
                <a:chOff x="5079960" y="4042800"/>
                <a:chExt cx="785160" cy="246960"/>
              </a:xfrm>
            </p:grpSpPr>
            <p:sp>
              <p:nvSpPr>
                <p:cNvPr id="7361" name=""/>
                <p:cNvSpPr/>
                <p:nvPr/>
              </p:nvSpPr>
              <p:spPr>
                <a:xfrm>
                  <a:off x="5079960" y="4149720"/>
                  <a:ext cx="680760" cy="140040"/>
                </a:xfrm>
                <a:custGeom>
                  <a:avLst/>
                  <a:gdLst/>
                  <a:ahLst/>
                  <a:rect l="l" t="t" r="r" b="b"/>
                  <a:pathLst>
                    <a:path w="324" h="67">
                      <a:moveTo>
                        <a:pt x="324" y="11"/>
                      </a:moveTo>
                      <a:lnTo>
                        <a:pt x="319" y="0"/>
                      </a:lnTo>
                      <a:lnTo>
                        <a:pt x="306" y="6"/>
                      </a:lnTo>
                      <a:lnTo>
                        <a:pt x="292" y="11"/>
                      </a:lnTo>
                      <a:lnTo>
                        <a:pt x="276" y="17"/>
                      </a:lnTo>
                      <a:lnTo>
                        <a:pt x="260" y="22"/>
                      </a:lnTo>
                      <a:lnTo>
                        <a:pt x="243" y="27"/>
                      </a:lnTo>
                      <a:lnTo>
                        <a:pt x="224" y="32"/>
                      </a:lnTo>
                      <a:lnTo>
                        <a:pt x="227" y="37"/>
                      </a:lnTo>
                      <a:lnTo>
                        <a:pt x="227" y="31"/>
                      </a:lnTo>
                      <a:lnTo>
                        <a:pt x="187" y="39"/>
                      </a:lnTo>
                      <a:lnTo>
                        <a:pt x="144" y="46"/>
                      </a:lnTo>
                      <a:lnTo>
                        <a:pt x="98" y="51"/>
                      </a:lnTo>
                      <a:lnTo>
                        <a:pt x="50" y="5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50" y="66"/>
                      </a:lnTo>
                      <a:lnTo>
                        <a:pt x="98" y="63"/>
                      </a:lnTo>
                      <a:lnTo>
                        <a:pt x="144" y="58"/>
                      </a:lnTo>
                      <a:lnTo>
                        <a:pt x="187" y="51"/>
                      </a:lnTo>
                      <a:lnTo>
                        <a:pt x="227" y="43"/>
                      </a:lnTo>
                      <a:lnTo>
                        <a:pt x="229" y="43"/>
                      </a:lnTo>
                      <a:lnTo>
                        <a:pt x="248" y="38"/>
                      </a:lnTo>
                      <a:lnTo>
                        <a:pt x="265" y="33"/>
                      </a:lnTo>
                      <a:lnTo>
                        <a:pt x="281" y="28"/>
                      </a:lnTo>
                      <a:lnTo>
                        <a:pt x="297" y="22"/>
                      </a:lnTo>
                      <a:lnTo>
                        <a:pt x="311" y="17"/>
                      </a:lnTo>
                      <a:lnTo>
                        <a:pt x="32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2" name=""/>
                <p:cNvSpPr/>
                <p:nvPr/>
              </p:nvSpPr>
              <p:spPr>
                <a:xfrm>
                  <a:off x="5693400" y="4042800"/>
                  <a:ext cx="171720" cy="17568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8" y="84"/>
                      </a:moveTo>
                      <a:lnTo>
                        <a:pt x="82" y="0"/>
                      </a:lnTo>
                      <a:lnTo>
                        <a:pt x="0" y="32"/>
                      </a:lnTo>
                      <a:lnTo>
                        <a:pt x="58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3" name=""/>
              <p:cNvSpPr/>
              <p:nvPr/>
            </p:nvSpPr>
            <p:spPr>
              <a:xfrm>
                <a:off x="4346640" y="4042800"/>
                <a:ext cx="765000" cy="247320"/>
              </a:xfrm>
              <a:custGeom>
                <a:avLst/>
                <a:gdLst/>
                <a:ahLst/>
                <a:rect l="l" t="t" r="r" b="b"/>
                <a:pathLst>
                  <a:path w="364" h="118">
                    <a:moveTo>
                      <a:pt x="12" y="0"/>
                    </a:moveTo>
                    <a:lnTo>
                      <a:pt x="0" y="0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9" y="27"/>
                    </a:lnTo>
                    <a:lnTo>
                      <a:pt x="18" y="38"/>
                    </a:lnTo>
                    <a:lnTo>
                      <a:pt x="30" y="48"/>
                    </a:lnTo>
                    <a:lnTo>
                      <a:pt x="32" y="49"/>
                    </a:lnTo>
                    <a:lnTo>
                      <a:pt x="47" y="59"/>
                    </a:lnTo>
                    <a:lnTo>
                      <a:pt x="65" y="68"/>
                    </a:lnTo>
                    <a:lnTo>
                      <a:pt x="85" y="77"/>
                    </a:lnTo>
                    <a:lnTo>
                      <a:pt x="108" y="85"/>
                    </a:lnTo>
                    <a:lnTo>
                      <a:pt x="134" y="92"/>
                    </a:lnTo>
                    <a:lnTo>
                      <a:pt x="161" y="98"/>
                    </a:lnTo>
                    <a:lnTo>
                      <a:pt x="164" y="99"/>
                    </a:lnTo>
                    <a:lnTo>
                      <a:pt x="193" y="105"/>
                    </a:lnTo>
                    <a:lnTo>
                      <a:pt x="225" y="109"/>
                    </a:lnTo>
                    <a:lnTo>
                      <a:pt x="257" y="113"/>
                    </a:lnTo>
                    <a:lnTo>
                      <a:pt x="292" y="116"/>
                    </a:lnTo>
                    <a:lnTo>
                      <a:pt x="327" y="117"/>
                    </a:lnTo>
                    <a:lnTo>
                      <a:pt x="364" y="118"/>
                    </a:lnTo>
                    <a:lnTo>
                      <a:pt x="364" y="106"/>
                    </a:lnTo>
                    <a:lnTo>
                      <a:pt x="327" y="105"/>
                    </a:lnTo>
                    <a:lnTo>
                      <a:pt x="292" y="104"/>
                    </a:lnTo>
                    <a:lnTo>
                      <a:pt x="257" y="101"/>
                    </a:lnTo>
                    <a:lnTo>
                      <a:pt x="225" y="97"/>
                    </a:lnTo>
                    <a:lnTo>
                      <a:pt x="193" y="93"/>
                    </a:lnTo>
                    <a:lnTo>
                      <a:pt x="164" y="87"/>
                    </a:lnTo>
                    <a:lnTo>
                      <a:pt x="164" y="93"/>
                    </a:lnTo>
                    <a:lnTo>
                      <a:pt x="166" y="87"/>
                    </a:lnTo>
                    <a:lnTo>
                      <a:pt x="139" y="81"/>
                    </a:lnTo>
                    <a:lnTo>
                      <a:pt x="113" y="74"/>
                    </a:lnTo>
                    <a:lnTo>
                      <a:pt x="90" y="66"/>
                    </a:lnTo>
                    <a:lnTo>
                      <a:pt x="70" y="57"/>
                    </a:lnTo>
                    <a:lnTo>
                      <a:pt x="52" y="48"/>
                    </a:lnTo>
                    <a:lnTo>
                      <a:pt x="37" y="38"/>
                    </a:lnTo>
                    <a:lnTo>
                      <a:pt x="34" y="44"/>
                    </a:lnTo>
                    <a:lnTo>
                      <a:pt x="39" y="39"/>
                    </a:lnTo>
                    <a:lnTo>
                      <a:pt x="27" y="29"/>
                    </a:lnTo>
                    <a:lnTo>
                      <a:pt x="18" y="18"/>
                    </a:lnTo>
                    <a:lnTo>
                      <a:pt x="12" y="7"/>
                    </a:lnTo>
                    <a:lnTo>
                      <a:pt x="8" y="12"/>
                    </a:lnTo>
                    <a:lnTo>
                      <a:pt x="14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64" name=""/>
          <p:cNvGrpSpPr/>
          <p:nvPr/>
        </p:nvGrpSpPr>
        <p:grpSpPr>
          <a:xfrm>
            <a:off x="3720960" y="1258920"/>
            <a:ext cx="1130040" cy="825480"/>
            <a:chOff x="3720960" y="1258920"/>
            <a:chExt cx="1130040" cy="825480"/>
          </a:xfrm>
        </p:grpSpPr>
        <p:sp>
          <p:nvSpPr>
            <p:cNvPr id="7365" name=""/>
            <p:cNvSpPr/>
            <p:nvPr/>
          </p:nvSpPr>
          <p:spPr>
            <a:xfrm>
              <a:off x="4298760" y="1258920"/>
              <a:ext cx="552240" cy="5223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6" name=""/>
            <p:cNvGrpSpPr/>
            <p:nvPr/>
          </p:nvGrpSpPr>
          <p:grpSpPr>
            <a:xfrm>
              <a:off x="3720960" y="1413000"/>
              <a:ext cx="1020600" cy="671400"/>
              <a:chOff x="3720960" y="1413000"/>
              <a:chExt cx="1020600" cy="671400"/>
            </a:xfrm>
          </p:grpSpPr>
          <p:sp>
            <p:nvSpPr>
              <p:cNvPr id="7367" name=""/>
              <p:cNvSpPr/>
              <p:nvPr/>
            </p:nvSpPr>
            <p:spPr>
              <a:xfrm>
                <a:off x="3720960" y="1554120"/>
                <a:ext cx="290520" cy="274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3776400" y="1683000"/>
                <a:ext cx="290520" cy="274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3876480" y="1449360"/>
                <a:ext cx="420840" cy="3762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3962160" y="1708200"/>
                <a:ext cx="420840" cy="3762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4149360" y="1560600"/>
                <a:ext cx="420840" cy="3762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4119480" y="1413000"/>
                <a:ext cx="304560" cy="272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4437000" y="1671840"/>
                <a:ext cx="304560" cy="272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4230360" y="1785960"/>
                <a:ext cx="304920" cy="2732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75" name=""/>
          <p:cNvGrpSpPr/>
          <p:nvPr/>
        </p:nvGrpSpPr>
        <p:grpSpPr>
          <a:xfrm>
            <a:off x="5808600" y="1500120"/>
            <a:ext cx="1020600" cy="671400"/>
            <a:chOff x="5808600" y="1500120"/>
            <a:chExt cx="1020600" cy="671400"/>
          </a:xfrm>
        </p:grpSpPr>
        <p:sp>
          <p:nvSpPr>
            <p:cNvPr id="7376" name=""/>
            <p:cNvSpPr/>
            <p:nvPr/>
          </p:nvSpPr>
          <p:spPr>
            <a:xfrm>
              <a:off x="5808600" y="1641240"/>
              <a:ext cx="290520" cy="2746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5864040" y="1770120"/>
              <a:ext cx="290520" cy="274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5964120" y="1536480"/>
              <a:ext cx="420840" cy="376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6049800" y="1795320"/>
              <a:ext cx="420840" cy="376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6237000" y="1647720"/>
              <a:ext cx="420840" cy="376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6207120" y="1500120"/>
              <a:ext cx="304560" cy="2728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6524640" y="1758960"/>
              <a:ext cx="304560" cy="2728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6318000" y="1873080"/>
              <a:ext cx="304920" cy="27324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4" name=""/>
          <p:cNvSpPr/>
          <p:nvPr/>
        </p:nvSpPr>
        <p:spPr>
          <a:xfrm>
            <a:off x="547560" y="1165320"/>
            <a:ext cx="8355240" cy="392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5" name=""/>
          <p:cNvSpPr/>
          <p:nvPr/>
        </p:nvSpPr>
        <p:spPr>
          <a:xfrm>
            <a:off x="1278000" y="1952640"/>
            <a:ext cx="7410240" cy="2469960"/>
          </a:xfrm>
          <a:custGeom>
            <a:avLst/>
            <a:gdLst/>
            <a:ahLst/>
            <a:rect l="l" t="t" r="r" b="b"/>
            <a:pathLst>
              <a:path w="2809" h="1324">
                <a:moveTo>
                  <a:pt x="35" y="1285"/>
                </a:moveTo>
                <a:cubicBezTo>
                  <a:pt x="68" y="1246"/>
                  <a:pt x="148" y="1158"/>
                  <a:pt x="267" y="1049"/>
                </a:cubicBezTo>
                <a:cubicBezTo>
                  <a:pt x="386" y="940"/>
                  <a:pt x="614" y="740"/>
                  <a:pt x="751" y="629"/>
                </a:cubicBezTo>
                <a:cubicBezTo>
                  <a:pt x="888" y="518"/>
                  <a:pt x="980" y="449"/>
                  <a:pt x="1087" y="381"/>
                </a:cubicBezTo>
                <a:cubicBezTo>
                  <a:pt x="1194" y="313"/>
                  <a:pt x="1276" y="262"/>
                  <a:pt x="1391" y="221"/>
                </a:cubicBezTo>
                <a:cubicBezTo>
                  <a:pt x="1506" y="180"/>
                  <a:pt x="1605" y="162"/>
                  <a:pt x="1775" y="133"/>
                </a:cubicBezTo>
                <a:cubicBezTo>
                  <a:pt x="1945" y="104"/>
                  <a:pt x="2249" y="69"/>
                  <a:pt x="2411" y="49"/>
                </a:cubicBezTo>
                <a:cubicBezTo>
                  <a:pt x="2573" y="29"/>
                  <a:pt x="2685" y="19"/>
                  <a:pt x="2747" y="13"/>
                </a:cubicBezTo>
                <a:cubicBezTo>
                  <a:pt x="2809" y="7"/>
                  <a:pt x="2778" y="0"/>
                  <a:pt x="2783" y="13"/>
                </a:cubicBezTo>
                <a:cubicBezTo>
                  <a:pt x="2788" y="26"/>
                  <a:pt x="2780" y="36"/>
                  <a:pt x="2779" y="89"/>
                </a:cubicBezTo>
                <a:cubicBezTo>
                  <a:pt x="2778" y="142"/>
                  <a:pt x="2782" y="283"/>
                  <a:pt x="2779" y="329"/>
                </a:cubicBezTo>
                <a:cubicBezTo>
                  <a:pt x="2776" y="375"/>
                  <a:pt x="2780" y="358"/>
                  <a:pt x="2759" y="365"/>
                </a:cubicBezTo>
                <a:cubicBezTo>
                  <a:pt x="2738" y="372"/>
                  <a:pt x="2721" y="364"/>
                  <a:pt x="2655" y="369"/>
                </a:cubicBezTo>
                <a:cubicBezTo>
                  <a:pt x="2589" y="374"/>
                  <a:pt x="2462" y="388"/>
                  <a:pt x="2363" y="397"/>
                </a:cubicBezTo>
                <a:cubicBezTo>
                  <a:pt x="2264" y="406"/>
                  <a:pt x="2170" y="410"/>
                  <a:pt x="2059" y="425"/>
                </a:cubicBezTo>
                <a:cubicBezTo>
                  <a:pt x="1948" y="440"/>
                  <a:pt x="1831" y="454"/>
                  <a:pt x="1695" y="485"/>
                </a:cubicBezTo>
                <a:cubicBezTo>
                  <a:pt x="1559" y="516"/>
                  <a:pt x="1393" y="556"/>
                  <a:pt x="1243" y="609"/>
                </a:cubicBezTo>
                <a:cubicBezTo>
                  <a:pt x="1093" y="662"/>
                  <a:pt x="928" y="736"/>
                  <a:pt x="795" y="805"/>
                </a:cubicBezTo>
                <a:cubicBezTo>
                  <a:pt x="662" y="874"/>
                  <a:pt x="564" y="946"/>
                  <a:pt x="443" y="1025"/>
                </a:cubicBezTo>
                <a:cubicBezTo>
                  <a:pt x="322" y="1104"/>
                  <a:pt x="134" y="1238"/>
                  <a:pt x="67" y="1281"/>
                </a:cubicBezTo>
                <a:cubicBezTo>
                  <a:pt x="0" y="1324"/>
                  <a:pt x="2" y="1324"/>
                  <a:pt x="35" y="1285"/>
                </a:cubicBezTo>
                <a:close/>
              </a:path>
            </a:pathLst>
          </a:custGeom>
          <a:solidFill>
            <a:srgbClr val="3399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6" name=""/>
          <p:cNvSpPr/>
          <p:nvPr/>
        </p:nvSpPr>
        <p:spPr>
          <a:xfrm>
            <a:off x="1262160" y="1390680"/>
            <a:ext cx="1440" cy="30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7" name=""/>
          <p:cNvSpPr/>
          <p:nvPr/>
        </p:nvSpPr>
        <p:spPr>
          <a:xfrm>
            <a:off x="1193760" y="41450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8" name=""/>
          <p:cNvSpPr/>
          <p:nvPr/>
        </p:nvSpPr>
        <p:spPr>
          <a:xfrm>
            <a:off x="1193760" y="38419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9" name=""/>
          <p:cNvSpPr/>
          <p:nvPr/>
        </p:nvSpPr>
        <p:spPr>
          <a:xfrm>
            <a:off x="1193760" y="353520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0" name=""/>
          <p:cNvSpPr/>
          <p:nvPr/>
        </p:nvSpPr>
        <p:spPr>
          <a:xfrm>
            <a:off x="1193760" y="32320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1" name=""/>
          <p:cNvSpPr/>
          <p:nvPr/>
        </p:nvSpPr>
        <p:spPr>
          <a:xfrm>
            <a:off x="1193760" y="29257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2" name=""/>
          <p:cNvSpPr/>
          <p:nvPr/>
        </p:nvSpPr>
        <p:spPr>
          <a:xfrm>
            <a:off x="1193760" y="26128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3" name=""/>
          <p:cNvSpPr/>
          <p:nvPr/>
        </p:nvSpPr>
        <p:spPr>
          <a:xfrm>
            <a:off x="1193760" y="23065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4" name=""/>
          <p:cNvSpPr/>
          <p:nvPr/>
        </p:nvSpPr>
        <p:spPr>
          <a:xfrm>
            <a:off x="1193760" y="2003400"/>
            <a:ext cx="68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5" name=""/>
          <p:cNvSpPr/>
          <p:nvPr/>
        </p:nvSpPr>
        <p:spPr>
          <a:xfrm>
            <a:off x="1193760" y="1697040"/>
            <a:ext cx="68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6" name=""/>
          <p:cNvSpPr/>
          <p:nvPr/>
        </p:nvSpPr>
        <p:spPr>
          <a:xfrm>
            <a:off x="1193760" y="1390680"/>
            <a:ext cx="684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7" name=""/>
          <p:cNvSpPr/>
          <p:nvPr/>
        </p:nvSpPr>
        <p:spPr>
          <a:xfrm>
            <a:off x="1262160" y="4452840"/>
            <a:ext cx="7386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8" name=""/>
          <p:cNvSpPr/>
          <p:nvPr/>
        </p:nvSpPr>
        <p:spPr>
          <a:xfrm flipV="1">
            <a:off x="2004840" y="44528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9" name=""/>
          <p:cNvSpPr/>
          <p:nvPr/>
        </p:nvSpPr>
        <p:spPr>
          <a:xfrm flipV="1">
            <a:off x="2733840" y="4452840"/>
            <a:ext cx="288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0" name=""/>
          <p:cNvSpPr/>
          <p:nvPr/>
        </p:nvSpPr>
        <p:spPr>
          <a:xfrm flipV="1">
            <a:off x="3476520" y="445284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1" name=""/>
          <p:cNvSpPr/>
          <p:nvPr/>
        </p:nvSpPr>
        <p:spPr>
          <a:xfrm flipV="1">
            <a:off x="4219560" y="445284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2" name=""/>
          <p:cNvSpPr/>
          <p:nvPr/>
        </p:nvSpPr>
        <p:spPr>
          <a:xfrm flipV="1">
            <a:off x="4962600" y="445284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3" name=""/>
          <p:cNvSpPr/>
          <p:nvPr/>
        </p:nvSpPr>
        <p:spPr>
          <a:xfrm flipV="1">
            <a:off x="5691240" y="445284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4" name=""/>
          <p:cNvSpPr/>
          <p:nvPr/>
        </p:nvSpPr>
        <p:spPr>
          <a:xfrm flipV="1">
            <a:off x="6434280" y="4452840"/>
            <a:ext cx="288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5" name=""/>
          <p:cNvSpPr/>
          <p:nvPr/>
        </p:nvSpPr>
        <p:spPr>
          <a:xfrm flipV="1">
            <a:off x="7176960" y="445284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6" name=""/>
          <p:cNvSpPr/>
          <p:nvPr/>
        </p:nvSpPr>
        <p:spPr>
          <a:xfrm flipV="1">
            <a:off x="7907400" y="445284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7" name=""/>
          <p:cNvSpPr/>
          <p:nvPr/>
        </p:nvSpPr>
        <p:spPr>
          <a:xfrm flipV="1">
            <a:off x="8648640" y="445284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8" name=""/>
          <p:cNvSpPr/>
          <p:nvPr/>
        </p:nvSpPr>
        <p:spPr>
          <a:xfrm>
            <a:off x="993240" y="4351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9" name=""/>
          <p:cNvSpPr/>
          <p:nvPr/>
        </p:nvSpPr>
        <p:spPr>
          <a:xfrm>
            <a:off x="993240" y="4046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0" name=""/>
          <p:cNvSpPr/>
          <p:nvPr/>
        </p:nvSpPr>
        <p:spPr>
          <a:xfrm>
            <a:off x="993240" y="3741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1" name=""/>
          <p:cNvSpPr/>
          <p:nvPr/>
        </p:nvSpPr>
        <p:spPr>
          <a:xfrm>
            <a:off x="993240" y="3435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2" name=""/>
          <p:cNvSpPr/>
          <p:nvPr/>
        </p:nvSpPr>
        <p:spPr>
          <a:xfrm>
            <a:off x="993240" y="3132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3" name=""/>
          <p:cNvSpPr/>
          <p:nvPr/>
        </p:nvSpPr>
        <p:spPr>
          <a:xfrm>
            <a:off x="885240" y="2825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4" name=""/>
          <p:cNvSpPr/>
          <p:nvPr/>
        </p:nvSpPr>
        <p:spPr>
          <a:xfrm>
            <a:off x="885240" y="2509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5" name=""/>
          <p:cNvSpPr/>
          <p:nvPr/>
        </p:nvSpPr>
        <p:spPr>
          <a:xfrm>
            <a:off x="885240" y="2205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6" name=""/>
          <p:cNvSpPr/>
          <p:nvPr/>
        </p:nvSpPr>
        <p:spPr>
          <a:xfrm>
            <a:off x="885240" y="1900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7" name=""/>
          <p:cNvSpPr/>
          <p:nvPr/>
        </p:nvSpPr>
        <p:spPr>
          <a:xfrm>
            <a:off x="885240" y="159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8" name=""/>
          <p:cNvSpPr/>
          <p:nvPr/>
        </p:nvSpPr>
        <p:spPr>
          <a:xfrm>
            <a:off x="885240" y="1290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9" name=""/>
          <p:cNvSpPr/>
          <p:nvPr/>
        </p:nvSpPr>
        <p:spPr>
          <a:xfrm>
            <a:off x="121392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0" name=""/>
          <p:cNvSpPr/>
          <p:nvPr/>
        </p:nvSpPr>
        <p:spPr>
          <a:xfrm>
            <a:off x="195660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1" name=""/>
          <p:cNvSpPr/>
          <p:nvPr/>
        </p:nvSpPr>
        <p:spPr>
          <a:xfrm>
            <a:off x="268380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2" name=""/>
          <p:cNvSpPr/>
          <p:nvPr/>
        </p:nvSpPr>
        <p:spPr>
          <a:xfrm>
            <a:off x="338544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3" name=""/>
          <p:cNvSpPr/>
          <p:nvPr/>
        </p:nvSpPr>
        <p:spPr>
          <a:xfrm>
            <a:off x="412704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4" name=""/>
          <p:cNvSpPr/>
          <p:nvPr/>
        </p:nvSpPr>
        <p:spPr>
          <a:xfrm>
            <a:off x="486972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5" name=""/>
          <p:cNvSpPr/>
          <p:nvPr/>
        </p:nvSpPr>
        <p:spPr>
          <a:xfrm>
            <a:off x="560160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6" name=""/>
          <p:cNvSpPr/>
          <p:nvPr/>
        </p:nvSpPr>
        <p:spPr>
          <a:xfrm>
            <a:off x="634284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7" name=""/>
          <p:cNvSpPr/>
          <p:nvPr/>
        </p:nvSpPr>
        <p:spPr>
          <a:xfrm>
            <a:off x="708444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8" name=""/>
          <p:cNvSpPr/>
          <p:nvPr/>
        </p:nvSpPr>
        <p:spPr>
          <a:xfrm>
            <a:off x="781308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9" name=""/>
          <p:cNvSpPr/>
          <p:nvPr/>
        </p:nvSpPr>
        <p:spPr>
          <a:xfrm>
            <a:off x="8554320" y="4567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0" name=""/>
          <p:cNvSpPr/>
          <p:nvPr/>
        </p:nvSpPr>
        <p:spPr>
          <a:xfrm>
            <a:off x="4536720" y="4756320"/>
            <a:ext cx="101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130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1" name=""/>
          <p:cNvSpPr/>
          <p:nvPr/>
        </p:nvSpPr>
        <p:spPr>
          <a:xfrm rot="16200000">
            <a:off x="27000" y="2444760"/>
            <a:ext cx="1311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uteur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2" name=""/>
          <p:cNvSpPr/>
          <p:nvPr/>
        </p:nvSpPr>
        <p:spPr>
          <a:xfrm>
            <a:off x="1854360" y="1789200"/>
            <a:ext cx="6184800" cy="2128680"/>
          </a:xfrm>
          <a:custGeom>
            <a:avLst/>
            <a:gdLst/>
            <a:ahLst/>
            <a:rect l="l" t="t" r="r" b="b"/>
            <a:pathLst>
              <a:path w="2744" h="1336">
                <a:moveTo>
                  <a:pt x="0" y="1336"/>
                </a:moveTo>
                <a:cubicBezTo>
                  <a:pt x="76" y="1264"/>
                  <a:pt x="153" y="1193"/>
                  <a:pt x="320" y="1088"/>
                </a:cubicBezTo>
                <a:cubicBezTo>
                  <a:pt x="487" y="983"/>
                  <a:pt x="784" y="816"/>
                  <a:pt x="1000" y="704"/>
                </a:cubicBezTo>
                <a:cubicBezTo>
                  <a:pt x="1216" y="592"/>
                  <a:pt x="1393" y="511"/>
                  <a:pt x="1616" y="416"/>
                </a:cubicBezTo>
                <a:cubicBezTo>
                  <a:pt x="1839" y="321"/>
                  <a:pt x="2148" y="205"/>
                  <a:pt x="2336" y="136"/>
                </a:cubicBezTo>
                <a:cubicBezTo>
                  <a:pt x="2524" y="67"/>
                  <a:pt x="2634" y="33"/>
                  <a:pt x="2744" y="0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3" name=""/>
          <p:cNvSpPr/>
          <p:nvPr/>
        </p:nvSpPr>
        <p:spPr>
          <a:xfrm>
            <a:off x="2805120" y="2135160"/>
            <a:ext cx="3695760" cy="1273320"/>
          </a:xfrm>
          <a:custGeom>
            <a:avLst/>
            <a:gdLst/>
            <a:ahLst/>
            <a:rect l="l" t="t" r="r" b="b"/>
            <a:pathLst>
              <a:path w="1401" h="683">
                <a:moveTo>
                  <a:pt x="7" y="672"/>
                </a:moveTo>
                <a:cubicBezTo>
                  <a:pt x="14" y="661"/>
                  <a:pt x="51" y="627"/>
                  <a:pt x="109" y="579"/>
                </a:cubicBezTo>
                <a:cubicBezTo>
                  <a:pt x="167" y="531"/>
                  <a:pt x="272" y="447"/>
                  <a:pt x="358" y="384"/>
                </a:cubicBezTo>
                <a:cubicBezTo>
                  <a:pt x="444" y="321"/>
                  <a:pt x="547" y="249"/>
                  <a:pt x="625" y="204"/>
                </a:cubicBezTo>
                <a:cubicBezTo>
                  <a:pt x="703" y="159"/>
                  <a:pt x="754" y="139"/>
                  <a:pt x="829" y="114"/>
                </a:cubicBezTo>
                <a:cubicBezTo>
                  <a:pt x="904" y="89"/>
                  <a:pt x="995" y="68"/>
                  <a:pt x="1078" y="51"/>
                </a:cubicBezTo>
                <a:cubicBezTo>
                  <a:pt x="1161" y="34"/>
                  <a:pt x="1280" y="16"/>
                  <a:pt x="1330" y="9"/>
                </a:cubicBezTo>
                <a:cubicBezTo>
                  <a:pt x="1380" y="2"/>
                  <a:pt x="1370" y="7"/>
                  <a:pt x="1381" y="6"/>
                </a:cubicBezTo>
                <a:cubicBezTo>
                  <a:pt x="1392" y="5"/>
                  <a:pt x="1401" y="0"/>
                  <a:pt x="1399" y="3"/>
                </a:cubicBezTo>
                <a:cubicBezTo>
                  <a:pt x="1397" y="6"/>
                  <a:pt x="1394" y="11"/>
                  <a:pt x="1369" y="21"/>
                </a:cubicBezTo>
                <a:cubicBezTo>
                  <a:pt x="1344" y="31"/>
                  <a:pt x="1310" y="42"/>
                  <a:pt x="1249" y="66"/>
                </a:cubicBezTo>
                <a:cubicBezTo>
                  <a:pt x="1188" y="90"/>
                  <a:pt x="1090" y="131"/>
                  <a:pt x="1003" y="168"/>
                </a:cubicBezTo>
                <a:cubicBezTo>
                  <a:pt x="916" y="205"/>
                  <a:pt x="813" y="249"/>
                  <a:pt x="724" y="291"/>
                </a:cubicBezTo>
                <a:cubicBezTo>
                  <a:pt x="635" y="333"/>
                  <a:pt x="552" y="375"/>
                  <a:pt x="466" y="420"/>
                </a:cubicBezTo>
                <a:cubicBezTo>
                  <a:pt x="380" y="465"/>
                  <a:pt x="272" y="527"/>
                  <a:pt x="205" y="564"/>
                </a:cubicBezTo>
                <a:cubicBezTo>
                  <a:pt x="138" y="601"/>
                  <a:pt x="96" y="626"/>
                  <a:pt x="64" y="645"/>
                </a:cubicBezTo>
                <a:cubicBezTo>
                  <a:pt x="32" y="664"/>
                  <a:pt x="0" y="683"/>
                  <a:pt x="7" y="67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4" name=""/>
          <p:cNvSpPr/>
          <p:nvPr/>
        </p:nvSpPr>
        <p:spPr>
          <a:xfrm rot="20473800">
            <a:off x="6226200" y="15886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uteur cri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5" name=""/>
          <p:cNvSpPr/>
          <p:nvPr/>
        </p:nvSpPr>
        <p:spPr>
          <a:xfrm>
            <a:off x="411480" y="5014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jectoire théorique H/D des individus vigoureux (classe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6" name=""/>
          <p:cNvSpPr/>
          <p:nvPr/>
        </p:nvSpPr>
        <p:spPr>
          <a:xfrm>
            <a:off x="30600" y="19080"/>
            <a:ext cx="73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– UNE STRATEGIE LIANESCENTE CHEZ LE TACHIGALI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7" name=""/>
          <p:cNvSpPr/>
          <p:nvPr/>
        </p:nvSpPr>
        <p:spPr>
          <a:xfrm rot="16200000">
            <a:off x="-2720160" y="356436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8" name=""/>
          <p:cNvSpPr/>
          <p:nvPr/>
        </p:nvSpPr>
        <p:spPr>
          <a:xfrm>
            <a:off x="339840" y="5207040"/>
            <a:ext cx="8827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issement primaire puis seconda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fléchissement de la courbe pour un dbh&gt;4-5 c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rivés à la canopée: investissement dans la croissance sec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onda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9" name=""/>
          <p:cNvSpPr/>
          <p:nvPr/>
        </p:nvSpPr>
        <p:spPr>
          <a:xfrm>
            <a:off x="446400" y="5635800"/>
            <a:ext cx="827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 individus non autoportant ont déjà été observés en bord de pistes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0" name=""/>
          <p:cNvSpPr/>
          <p:nvPr/>
        </p:nvSpPr>
        <p:spPr>
          <a:xfrm>
            <a:off x="30600" y="19080"/>
            <a:ext cx="73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– UNE STRATEGIE LIANESCENTE CHEZ LE TACHIGALI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1" name=""/>
          <p:cNvGrpSpPr/>
          <p:nvPr/>
        </p:nvGrpSpPr>
        <p:grpSpPr>
          <a:xfrm>
            <a:off x="432000" y="628560"/>
            <a:ext cx="3520800" cy="4602600"/>
            <a:chOff x="432000" y="628560"/>
            <a:chExt cx="3520800" cy="4602600"/>
          </a:xfrm>
        </p:grpSpPr>
        <p:pic>
          <p:nvPicPr>
            <p:cNvPr id="7442" name="" descr=""/>
            <p:cNvPicPr/>
            <p:nvPr/>
          </p:nvPicPr>
          <p:blipFill>
            <a:blip r:embed="rId2"/>
            <a:stretch/>
          </p:blipFill>
          <p:spPr>
            <a:xfrm>
              <a:off x="433440" y="628560"/>
              <a:ext cx="3519360" cy="4592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443" name=""/>
            <p:cNvSpPr/>
            <p:nvPr/>
          </p:nvSpPr>
          <p:spPr>
            <a:xfrm>
              <a:off x="432000" y="5048280"/>
              <a:ext cx="829800" cy="18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imes New Roman"/>
                </a:rPr>
                <a:t>© Y. caragl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4" name=""/>
          <p:cNvGrpSpPr/>
          <p:nvPr/>
        </p:nvGrpSpPr>
        <p:grpSpPr>
          <a:xfrm>
            <a:off x="4043520" y="630360"/>
            <a:ext cx="5038560" cy="4613400"/>
            <a:chOff x="4043520" y="630360"/>
            <a:chExt cx="5038560" cy="4613400"/>
          </a:xfrm>
        </p:grpSpPr>
        <p:pic>
          <p:nvPicPr>
            <p:cNvPr id="7445" name="" descr=""/>
            <p:cNvPicPr/>
            <p:nvPr/>
          </p:nvPicPr>
          <p:blipFill>
            <a:blip r:embed="rId3"/>
            <a:stretch/>
          </p:blipFill>
          <p:spPr>
            <a:xfrm>
              <a:off x="4051440" y="630360"/>
              <a:ext cx="5030640" cy="4601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446" name=""/>
            <p:cNvSpPr/>
            <p:nvPr/>
          </p:nvSpPr>
          <p:spPr>
            <a:xfrm>
              <a:off x="4043520" y="5060880"/>
              <a:ext cx="829800" cy="18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imes New Roman"/>
                </a:rPr>
                <a:t>© Y. caragl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7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48" name=""/>
          <p:cNvGraphicFramePr/>
          <p:nvPr/>
        </p:nvGraphicFramePr>
        <p:xfrm>
          <a:off x="541440" y="1158840"/>
          <a:ext cx="8354880" cy="1530360"/>
        </p:xfrm>
        <a:graphic>
          <a:graphicData uri="http://schemas.openxmlformats.org/drawingml/2006/table">
            <a:tbl>
              <a:tblPr/>
              <a:tblGrid>
                <a:gridCol w="2889360"/>
                <a:gridCol w="2792160"/>
                <a:gridCol w="2673360"/>
              </a:tblGrid>
              <a:tr h="4021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 ha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 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 ba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blis, bord de chablis, couvert,  sit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ce/absence,  sit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ce/absence, type,  sit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9" name=""/>
          <p:cNvSpPr/>
          <p:nvPr/>
        </p:nvSpPr>
        <p:spPr>
          <a:xfrm>
            <a:off x="566640" y="2890800"/>
            <a:ext cx="6818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 de l’architectur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chantillonnage aléatoire des hauteurs , caractérisation des rejets (nombre, â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0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1" name=""/>
          <p:cNvSpPr/>
          <p:nvPr/>
        </p:nvSpPr>
        <p:spPr>
          <a:xfrm>
            <a:off x="36720" y="19080"/>
            <a:ext cx="59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PERSPECTIV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- VERS UNE NOUVELLE METHOD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2" name=""/>
          <p:cNvSpPr/>
          <p:nvPr/>
        </p:nvSpPr>
        <p:spPr>
          <a:xfrm>
            <a:off x="623880" y="609480"/>
            <a:ext cx="73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 une meilleure description de l’environnement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3" name=""/>
          <p:cNvGrpSpPr/>
          <p:nvPr/>
        </p:nvGrpSpPr>
        <p:grpSpPr>
          <a:xfrm>
            <a:off x="5878440" y="3402000"/>
            <a:ext cx="1514520" cy="2649600"/>
            <a:chOff x="5878440" y="3402000"/>
            <a:chExt cx="1514520" cy="2649600"/>
          </a:xfrm>
        </p:grpSpPr>
        <p:sp>
          <p:nvSpPr>
            <p:cNvPr id="7454" name=""/>
            <p:cNvSpPr/>
            <p:nvPr/>
          </p:nvSpPr>
          <p:spPr>
            <a:xfrm>
              <a:off x="6599520" y="3416400"/>
              <a:ext cx="793440" cy="297000"/>
            </a:xfrm>
            <a:custGeom>
              <a:avLst/>
              <a:gdLst/>
              <a:ahLst/>
              <a:rect l="l" t="t" r="r" b="b"/>
              <a:pathLst>
                <a:path w="910" h="427">
                  <a:moveTo>
                    <a:pt x="71" y="3"/>
                  </a:moveTo>
                  <a:cubicBezTo>
                    <a:pt x="35" y="13"/>
                    <a:pt x="0" y="24"/>
                    <a:pt x="1" y="43"/>
                  </a:cubicBezTo>
                  <a:cubicBezTo>
                    <a:pt x="2" y="62"/>
                    <a:pt x="43" y="84"/>
                    <a:pt x="79" y="119"/>
                  </a:cubicBezTo>
                  <a:cubicBezTo>
                    <a:pt x="115" y="154"/>
                    <a:pt x="175" y="231"/>
                    <a:pt x="219" y="253"/>
                  </a:cubicBezTo>
                  <a:cubicBezTo>
                    <a:pt x="263" y="275"/>
                    <a:pt x="307" y="256"/>
                    <a:pt x="345" y="253"/>
                  </a:cubicBezTo>
                  <a:cubicBezTo>
                    <a:pt x="383" y="250"/>
                    <a:pt x="409" y="225"/>
                    <a:pt x="449" y="233"/>
                  </a:cubicBezTo>
                  <a:cubicBezTo>
                    <a:pt x="489" y="241"/>
                    <a:pt x="540" y="275"/>
                    <a:pt x="585" y="301"/>
                  </a:cubicBezTo>
                  <a:cubicBezTo>
                    <a:pt x="630" y="327"/>
                    <a:pt x="681" y="368"/>
                    <a:pt x="721" y="389"/>
                  </a:cubicBezTo>
                  <a:cubicBezTo>
                    <a:pt x="761" y="410"/>
                    <a:pt x="797" y="423"/>
                    <a:pt x="827" y="425"/>
                  </a:cubicBezTo>
                  <a:cubicBezTo>
                    <a:pt x="857" y="427"/>
                    <a:pt x="892" y="423"/>
                    <a:pt x="901" y="401"/>
                  </a:cubicBezTo>
                  <a:cubicBezTo>
                    <a:pt x="910" y="379"/>
                    <a:pt x="907" y="330"/>
                    <a:pt x="879" y="293"/>
                  </a:cubicBezTo>
                  <a:cubicBezTo>
                    <a:pt x="851" y="256"/>
                    <a:pt x="783" y="210"/>
                    <a:pt x="735" y="177"/>
                  </a:cubicBezTo>
                  <a:cubicBezTo>
                    <a:pt x="687" y="144"/>
                    <a:pt x="647" y="116"/>
                    <a:pt x="589" y="95"/>
                  </a:cubicBezTo>
                  <a:cubicBezTo>
                    <a:pt x="531" y="74"/>
                    <a:pt x="448" y="63"/>
                    <a:pt x="385" y="49"/>
                  </a:cubicBezTo>
                  <a:cubicBezTo>
                    <a:pt x="322" y="35"/>
                    <a:pt x="255" y="17"/>
                    <a:pt x="211" y="9"/>
                  </a:cubicBezTo>
                  <a:cubicBezTo>
                    <a:pt x="167" y="1"/>
                    <a:pt x="147" y="2"/>
                    <a:pt x="121" y="1"/>
                  </a:cubicBezTo>
                  <a:cubicBezTo>
                    <a:pt x="95" y="0"/>
                    <a:pt x="66" y="3"/>
                    <a:pt x="55" y="3"/>
                  </a:cubicBez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5996880" y="3648240"/>
              <a:ext cx="699120" cy="2403360"/>
            </a:xfrm>
            <a:custGeom>
              <a:avLst/>
              <a:gdLst/>
              <a:ahLst/>
              <a:rect l="l" t="t" r="r" b="b"/>
              <a:pathLst>
                <a:path w="802" h="3453">
                  <a:moveTo>
                    <a:pt x="620" y="3406"/>
                  </a:moveTo>
                  <a:cubicBezTo>
                    <a:pt x="598" y="3359"/>
                    <a:pt x="641" y="3290"/>
                    <a:pt x="650" y="3130"/>
                  </a:cubicBezTo>
                  <a:cubicBezTo>
                    <a:pt x="659" y="2970"/>
                    <a:pt x="669" y="2717"/>
                    <a:pt x="674" y="2446"/>
                  </a:cubicBezTo>
                  <a:cubicBezTo>
                    <a:pt x="679" y="2175"/>
                    <a:pt x="679" y="1681"/>
                    <a:pt x="680" y="1504"/>
                  </a:cubicBezTo>
                  <a:cubicBezTo>
                    <a:pt x="681" y="1327"/>
                    <a:pt x="694" y="1425"/>
                    <a:pt x="680" y="1384"/>
                  </a:cubicBezTo>
                  <a:cubicBezTo>
                    <a:pt x="666" y="1343"/>
                    <a:pt x="629" y="1323"/>
                    <a:pt x="596" y="1258"/>
                  </a:cubicBezTo>
                  <a:cubicBezTo>
                    <a:pt x="563" y="1193"/>
                    <a:pt x="524" y="1062"/>
                    <a:pt x="482" y="994"/>
                  </a:cubicBezTo>
                  <a:cubicBezTo>
                    <a:pt x="440" y="926"/>
                    <a:pt x="379" y="908"/>
                    <a:pt x="344" y="850"/>
                  </a:cubicBezTo>
                  <a:cubicBezTo>
                    <a:pt x="309" y="792"/>
                    <a:pt x="303" y="702"/>
                    <a:pt x="272" y="646"/>
                  </a:cubicBezTo>
                  <a:cubicBezTo>
                    <a:pt x="241" y="590"/>
                    <a:pt x="191" y="564"/>
                    <a:pt x="158" y="514"/>
                  </a:cubicBezTo>
                  <a:cubicBezTo>
                    <a:pt x="125" y="464"/>
                    <a:pt x="100" y="428"/>
                    <a:pt x="74" y="346"/>
                  </a:cubicBezTo>
                  <a:cubicBezTo>
                    <a:pt x="48" y="264"/>
                    <a:pt x="4" y="44"/>
                    <a:pt x="2" y="22"/>
                  </a:cubicBezTo>
                  <a:cubicBezTo>
                    <a:pt x="0" y="0"/>
                    <a:pt x="32" y="134"/>
                    <a:pt x="62" y="214"/>
                  </a:cubicBezTo>
                  <a:cubicBezTo>
                    <a:pt x="92" y="294"/>
                    <a:pt x="138" y="434"/>
                    <a:pt x="182" y="502"/>
                  </a:cubicBezTo>
                  <a:cubicBezTo>
                    <a:pt x="226" y="570"/>
                    <a:pt x="294" y="571"/>
                    <a:pt x="326" y="622"/>
                  </a:cubicBezTo>
                  <a:cubicBezTo>
                    <a:pt x="358" y="673"/>
                    <a:pt x="341" y="749"/>
                    <a:pt x="374" y="808"/>
                  </a:cubicBezTo>
                  <a:cubicBezTo>
                    <a:pt x="407" y="867"/>
                    <a:pt x="488" y="922"/>
                    <a:pt x="524" y="976"/>
                  </a:cubicBezTo>
                  <a:cubicBezTo>
                    <a:pt x="560" y="1030"/>
                    <a:pt x="566" y="1080"/>
                    <a:pt x="590" y="1132"/>
                  </a:cubicBezTo>
                  <a:cubicBezTo>
                    <a:pt x="614" y="1184"/>
                    <a:pt x="643" y="1248"/>
                    <a:pt x="668" y="1288"/>
                  </a:cubicBezTo>
                  <a:cubicBezTo>
                    <a:pt x="693" y="1328"/>
                    <a:pt x="727" y="1328"/>
                    <a:pt x="740" y="1372"/>
                  </a:cubicBezTo>
                  <a:cubicBezTo>
                    <a:pt x="753" y="1416"/>
                    <a:pt x="746" y="1266"/>
                    <a:pt x="746" y="1552"/>
                  </a:cubicBezTo>
                  <a:cubicBezTo>
                    <a:pt x="746" y="1838"/>
                    <a:pt x="737" y="2784"/>
                    <a:pt x="740" y="3088"/>
                  </a:cubicBezTo>
                  <a:cubicBezTo>
                    <a:pt x="743" y="3392"/>
                    <a:pt x="757" y="3322"/>
                    <a:pt x="764" y="3376"/>
                  </a:cubicBezTo>
                  <a:cubicBezTo>
                    <a:pt x="771" y="3430"/>
                    <a:pt x="802" y="3408"/>
                    <a:pt x="782" y="3412"/>
                  </a:cubicBezTo>
                  <a:cubicBezTo>
                    <a:pt x="762" y="3416"/>
                    <a:pt x="642" y="3453"/>
                    <a:pt x="620" y="340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6621120" y="3558240"/>
              <a:ext cx="697320" cy="1141920"/>
            </a:xfrm>
            <a:custGeom>
              <a:avLst/>
              <a:gdLst/>
              <a:ahLst/>
              <a:rect l="l" t="t" r="r" b="b"/>
              <a:pathLst>
                <a:path w="800" h="1641">
                  <a:moveTo>
                    <a:pt x="18" y="1534"/>
                  </a:moveTo>
                  <a:cubicBezTo>
                    <a:pt x="50" y="1473"/>
                    <a:pt x="83" y="1413"/>
                    <a:pt x="108" y="1342"/>
                  </a:cubicBezTo>
                  <a:cubicBezTo>
                    <a:pt x="133" y="1271"/>
                    <a:pt x="160" y="1189"/>
                    <a:pt x="171" y="1105"/>
                  </a:cubicBezTo>
                  <a:cubicBezTo>
                    <a:pt x="182" y="1021"/>
                    <a:pt x="171" y="895"/>
                    <a:pt x="171" y="838"/>
                  </a:cubicBezTo>
                  <a:cubicBezTo>
                    <a:pt x="171" y="781"/>
                    <a:pt x="179" y="786"/>
                    <a:pt x="174" y="760"/>
                  </a:cubicBezTo>
                  <a:cubicBezTo>
                    <a:pt x="169" y="734"/>
                    <a:pt x="151" y="717"/>
                    <a:pt x="138" y="682"/>
                  </a:cubicBezTo>
                  <a:cubicBezTo>
                    <a:pt x="125" y="647"/>
                    <a:pt x="106" y="592"/>
                    <a:pt x="96" y="553"/>
                  </a:cubicBezTo>
                  <a:cubicBezTo>
                    <a:pt x="86" y="514"/>
                    <a:pt x="87" y="486"/>
                    <a:pt x="75" y="445"/>
                  </a:cubicBezTo>
                  <a:cubicBezTo>
                    <a:pt x="63" y="404"/>
                    <a:pt x="24" y="318"/>
                    <a:pt x="21" y="304"/>
                  </a:cubicBezTo>
                  <a:cubicBezTo>
                    <a:pt x="18" y="290"/>
                    <a:pt x="42" y="336"/>
                    <a:pt x="54" y="361"/>
                  </a:cubicBezTo>
                  <a:cubicBezTo>
                    <a:pt x="66" y="386"/>
                    <a:pt x="84" y="435"/>
                    <a:pt x="93" y="454"/>
                  </a:cubicBezTo>
                  <a:cubicBezTo>
                    <a:pt x="102" y="473"/>
                    <a:pt x="102" y="488"/>
                    <a:pt x="108" y="475"/>
                  </a:cubicBezTo>
                  <a:cubicBezTo>
                    <a:pt x="114" y="462"/>
                    <a:pt x="130" y="402"/>
                    <a:pt x="132" y="373"/>
                  </a:cubicBezTo>
                  <a:cubicBezTo>
                    <a:pt x="134" y="344"/>
                    <a:pt x="122" y="299"/>
                    <a:pt x="123" y="298"/>
                  </a:cubicBezTo>
                  <a:cubicBezTo>
                    <a:pt x="124" y="297"/>
                    <a:pt x="139" y="337"/>
                    <a:pt x="141" y="364"/>
                  </a:cubicBezTo>
                  <a:cubicBezTo>
                    <a:pt x="143" y="391"/>
                    <a:pt x="140" y="436"/>
                    <a:pt x="135" y="463"/>
                  </a:cubicBezTo>
                  <a:cubicBezTo>
                    <a:pt x="130" y="490"/>
                    <a:pt x="113" y="499"/>
                    <a:pt x="114" y="526"/>
                  </a:cubicBezTo>
                  <a:cubicBezTo>
                    <a:pt x="115" y="553"/>
                    <a:pt x="131" y="596"/>
                    <a:pt x="141" y="628"/>
                  </a:cubicBezTo>
                  <a:cubicBezTo>
                    <a:pt x="151" y="660"/>
                    <a:pt x="166" y="705"/>
                    <a:pt x="174" y="718"/>
                  </a:cubicBezTo>
                  <a:cubicBezTo>
                    <a:pt x="182" y="731"/>
                    <a:pt x="183" y="725"/>
                    <a:pt x="189" y="706"/>
                  </a:cubicBezTo>
                  <a:cubicBezTo>
                    <a:pt x="195" y="687"/>
                    <a:pt x="205" y="644"/>
                    <a:pt x="213" y="601"/>
                  </a:cubicBezTo>
                  <a:cubicBezTo>
                    <a:pt x="221" y="558"/>
                    <a:pt x="231" y="483"/>
                    <a:pt x="234" y="448"/>
                  </a:cubicBezTo>
                  <a:cubicBezTo>
                    <a:pt x="237" y="413"/>
                    <a:pt x="244" y="420"/>
                    <a:pt x="234" y="388"/>
                  </a:cubicBezTo>
                  <a:cubicBezTo>
                    <a:pt x="224" y="356"/>
                    <a:pt x="191" y="300"/>
                    <a:pt x="177" y="256"/>
                  </a:cubicBezTo>
                  <a:cubicBezTo>
                    <a:pt x="163" y="212"/>
                    <a:pt x="151" y="131"/>
                    <a:pt x="150" y="124"/>
                  </a:cubicBezTo>
                  <a:cubicBezTo>
                    <a:pt x="149" y="117"/>
                    <a:pt x="159" y="178"/>
                    <a:pt x="171" y="214"/>
                  </a:cubicBezTo>
                  <a:cubicBezTo>
                    <a:pt x="183" y="250"/>
                    <a:pt x="210" y="315"/>
                    <a:pt x="222" y="340"/>
                  </a:cubicBezTo>
                  <a:cubicBezTo>
                    <a:pt x="234" y="365"/>
                    <a:pt x="231" y="377"/>
                    <a:pt x="243" y="364"/>
                  </a:cubicBezTo>
                  <a:cubicBezTo>
                    <a:pt x="255" y="351"/>
                    <a:pt x="283" y="294"/>
                    <a:pt x="297" y="262"/>
                  </a:cubicBezTo>
                  <a:cubicBezTo>
                    <a:pt x="311" y="230"/>
                    <a:pt x="325" y="202"/>
                    <a:pt x="327" y="169"/>
                  </a:cubicBezTo>
                  <a:cubicBezTo>
                    <a:pt x="329" y="136"/>
                    <a:pt x="310" y="89"/>
                    <a:pt x="309" y="64"/>
                  </a:cubicBezTo>
                  <a:cubicBezTo>
                    <a:pt x="308" y="39"/>
                    <a:pt x="315" y="6"/>
                    <a:pt x="318" y="16"/>
                  </a:cubicBezTo>
                  <a:cubicBezTo>
                    <a:pt x="321" y="26"/>
                    <a:pt x="324" y="99"/>
                    <a:pt x="327" y="124"/>
                  </a:cubicBezTo>
                  <a:cubicBezTo>
                    <a:pt x="330" y="149"/>
                    <a:pt x="327" y="177"/>
                    <a:pt x="339" y="169"/>
                  </a:cubicBezTo>
                  <a:cubicBezTo>
                    <a:pt x="351" y="161"/>
                    <a:pt x="381" y="100"/>
                    <a:pt x="399" y="73"/>
                  </a:cubicBezTo>
                  <a:cubicBezTo>
                    <a:pt x="417" y="46"/>
                    <a:pt x="440" y="12"/>
                    <a:pt x="447" y="7"/>
                  </a:cubicBezTo>
                  <a:cubicBezTo>
                    <a:pt x="454" y="2"/>
                    <a:pt x="457" y="18"/>
                    <a:pt x="444" y="43"/>
                  </a:cubicBezTo>
                  <a:cubicBezTo>
                    <a:pt x="431" y="68"/>
                    <a:pt x="388" y="126"/>
                    <a:pt x="369" y="160"/>
                  </a:cubicBezTo>
                  <a:cubicBezTo>
                    <a:pt x="350" y="194"/>
                    <a:pt x="346" y="213"/>
                    <a:pt x="330" y="247"/>
                  </a:cubicBezTo>
                  <a:cubicBezTo>
                    <a:pt x="314" y="281"/>
                    <a:pt x="282" y="339"/>
                    <a:pt x="270" y="364"/>
                  </a:cubicBezTo>
                  <a:cubicBezTo>
                    <a:pt x="258" y="389"/>
                    <a:pt x="262" y="376"/>
                    <a:pt x="258" y="397"/>
                  </a:cubicBezTo>
                  <a:cubicBezTo>
                    <a:pt x="254" y="418"/>
                    <a:pt x="250" y="457"/>
                    <a:pt x="246" y="493"/>
                  </a:cubicBezTo>
                  <a:cubicBezTo>
                    <a:pt x="242" y="529"/>
                    <a:pt x="239" y="573"/>
                    <a:pt x="231" y="616"/>
                  </a:cubicBezTo>
                  <a:cubicBezTo>
                    <a:pt x="223" y="659"/>
                    <a:pt x="204" y="702"/>
                    <a:pt x="198" y="751"/>
                  </a:cubicBezTo>
                  <a:cubicBezTo>
                    <a:pt x="192" y="800"/>
                    <a:pt x="193" y="871"/>
                    <a:pt x="192" y="913"/>
                  </a:cubicBezTo>
                  <a:cubicBezTo>
                    <a:pt x="191" y="955"/>
                    <a:pt x="192" y="978"/>
                    <a:pt x="192" y="1006"/>
                  </a:cubicBezTo>
                  <a:cubicBezTo>
                    <a:pt x="192" y="1034"/>
                    <a:pt x="181" y="1089"/>
                    <a:pt x="195" y="1081"/>
                  </a:cubicBezTo>
                  <a:cubicBezTo>
                    <a:pt x="209" y="1073"/>
                    <a:pt x="250" y="996"/>
                    <a:pt x="276" y="955"/>
                  </a:cubicBezTo>
                  <a:cubicBezTo>
                    <a:pt x="302" y="914"/>
                    <a:pt x="338" y="863"/>
                    <a:pt x="354" y="832"/>
                  </a:cubicBezTo>
                  <a:cubicBezTo>
                    <a:pt x="370" y="801"/>
                    <a:pt x="369" y="807"/>
                    <a:pt x="372" y="766"/>
                  </a:cubicBezTo>
                  <a:cubicBezTo>
                    <a:pt x="375" y="725"/>
                    <a:pt x="374" y="631"/>
                    <a:pt x="372" y="583"/>
                  </a:cubicBezTo>
                  <a:cubicBezTo>
                    <a:pt x="370" y="535"/>
                    <a:pt x="360" y="519"/>
                    <a:pt x="360" y="478"/>
                  </a:cubicBezTo>
                  <a:cubicBezTo>
                    <a:pt x="360" y="437"/>
                    <a:pt x="368" y="372"/>
                    <a:pt x="369" y="334"/>
                  </a:cubicBezTo>
                  <a:cubicBezTo>
                    <a:pt x="370" y="296"/>
                    <a:pt x="360" y="275"/>
                    <a:pt x="369" y="250"/>
                  </a:cubicBezTo>
                  <a:cubicBezTo>
                    <a:pt x="378" y="225"/>
                    <a:pt x="410" y="207"/>
                    <a:pt x="426" y="181"/>
                  </a:cubicBezTo>
                  <a:cubicBezTo>
                    <a:pt x="442" y="155"/>
                    <a:pt x="450" y="120"/>
                    <a:pt x="465" y="91"/>
                  </a:cubicBezTo>
                  <a:cubicBezTo>
                    <a:pt x="480" y="62"/>
                    <a:pt x="511" y="14"/>
                    <a:pt x="516" y="7"/>
                  </a:cubicBezTo>
                  <a:cubicBezTo>
                    <a:pt x="521" y="0"/>
                    <a:pt x="506" y="31"/>
                    <a:pt x="498" y="49"/>
                  </a:cubicBezTo>
                  <a:cubicBezTo>
                    <a:pt x="490" y="67"/>
                    <a:pt x="477" y="95"/>
                    <a:pt x="468" y="115"/>
                  </a:cubicBezTo>
                  <a:cubicBezTo>
                    <a:pt x="459" y="135"/>
                    <a:pt x="452" y="153"/>
                    <a:pt x="444" y="169"/>
                  </a:cubicBezTo>
                  <a:cubicBezTo>
                    <a:pt x="436" y="185"/>
                    <a:pt x="432" y="194"/>
                    <a:pt x="423" y="208"/>
                  </a:cubicBezTo>
                  <a:cubicBezTo>
                    <a:pt x="414" y="222"/>
                    <a:pt x="395" y="242"/>
                    <a:pt x="387" y="256"/>
                  </a:cubicBezTo>
                  <a:cubicBezTo>
                    <a:pt x="379" y="270"/>
                    <a:pt x="378" y="270"/>
                    <a:pt x="375" y="295"/>
                  </a:cubicBezTo>
                  <a:cubicBezTo>
                    <a:pt x="372" y="320"/>
                    <a:pt x="368" y="362"/>
                    <a:pt x="369" y="406"/>
                  </a:cubicBezTo>
                  <a:cubicBezTo>
                    <a:pt x="370" y="450"/>
                    <a:pt x="378" y="513"/>
                    <a:pt x="381" y="562"/>
                  </a:cubicBezTo>
                  <a:cubicBezTo>
                    <a:pt x="384" y="611"/>
                    <a:pt x="387" y="665"/>
                    <a:pt x="387" y="703"/>
                  </a:cubicBezTo>
                  <a:cubicBezTo>
                    <a:pt x="387" y="741"/>
                    <a:pt x="370" y="792"/>
                    <a:pt x="381" y="793"/>
                  </a:cubicBezTo>
                  <a:cubicBezTo>
                    <a:pt x="392" y="794"/>
                    <a:pt x="428" y="741"/>
                    <a:pt x="456" y="709"/>
                  </a:cubicBezTo>
                  <a:cubicBezTo>
                    <a:pt x="484" y="677"/>
                    <a:pt x="516" y="636"/>
                    <a:pt x="546" y="601"/>
                  </a:cubicBezTo>
                  <a:cubicBezTo>
                    <a:pt x="576" y="566"/>
                    <a:pt x="609" y="535"/>
                    <a:pt x="636" y="499"/>
                  </a:cubicBezTo>
                  <a:cubicBezTo>
                    <a:pt x="663" y="463"/>
                    <a:pt x="686" y="438"/>
                    <a:pt x="711" y="385"/>
                  </a:cubicBezTo>
                  <a:cubicBezTo>
                    <a:pt x="736" y="332"/>
                    <a:pt x="778" y="205"/>
                    <a:pt x="789" y="181"/>
                  </a:cubicBezTo>
                  <a:cubicBezTo>
                    <a:pt x="800" y="157"/>
                    <a:pt x="790" y="199"/>
                    <a:pt x="777" y="241"/>
                  </a:cubicBezTo>
                  <a:cubicBezTo>
                    <a:pt x="764" y="283"/>
                    <a:pt x="731" y="389"/>
                    <a:pt x="708" y="436"/>
                  </a:cubicBezTo>
                  <a:cubicBezTo>
                    <a:pt x="685" y="483"/>
                    <a:pt x="663" y="492"/>
                    <a:pt x="636" y="526"/>
                  </a:cubicBezTo>
                  <a:cubicBezTo>
                    <a:pt x="609" y="560"/>
                    <a:pt x="582" y="596"/>
                    <a:pt x="546" y="640"/>
                  </a:cubicBezTo>
                  <a:cubicBezTo>
                    <a:pt x="510" y="684"/>
                    <a:pt x="449" y="757"/>
                    <a:pt x="420" y="790"/>
                  </a:cubicBezTo>
                  <a:cubicBezTo>
                    <a:pt x="391" y="823"/>
                    <a:pt x="390" y="809"/>
                    <a:pt x="369" y="838"/>
                  </a:cubicBezTo>
                  <a:cubicBezTo>
                    <a:pt x="348" y="867"/>
                    <a:pt x="322" y="924"/>
                    <a:pt x="297" y="967"/>
                  </a:cubicBezTo>
                  <a:cubicBezTo>
                    <a:pt x="272" y="1010"/>
                    <a:pt x="236" y="1056"/>
                    <a:pt x="216" y="1099"/>
                  </a:cubicBezTo>
                  <a:cubicBezTo>
                    <a:pt x="196" y="1142"/>
                    <a:pt x="201" y="1159"/>
                    <a:pt x="180" y="1225"/>
                  </a:cubicBezTo>
                  <a:cubicBezTo>
                    <a:pt x="159" y="1291"/>
                    <a:pt x="117" y="1431"/>
                    <a:pt x="90" y="1498"/>
                  </a:cubicBezTo>
                  <a:cubicBezTo>
                    <a:pt x="63" y="1565"/>
                    <a:pt x="30" y="1619"/>
                    <a:pt x="15" y="1630"/>
                  </a:cubicBezTo>
                  <a:cubicBezTo>
                    <a:pt x="0" y="1641"/>
                    <a:pt x="0" y="1602"/>
                    <a:pt x="0" y="1564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6346440" y="3575880"/>
              <a:ext cx="476640" cy="1068120"/>
            </a:xfrm>
            <a:custGeom>
              <a:avLst/>
              <a:gdLst/>
              <a:ahLst/>
              <a:rect l="l" t="t" r="r" b="b"/>
              <a:pathLst>
                <a:path w="547" h="1535">
                  <a:moveTo>
                    <a:pt x="297" y="1446"/>
                  </a:moveTo>
                  <a:cubicBezTo>
                    <a:pt x="297" y="1390"/>
                    <a:pt x="309" y="1243"/>
                    <a:pt x="312" y="1167"/>
                  </a:cubicBezTo>
                  <a:cubicBezTo>
                    <a:pt x="315" y="1091"/>
                    <a:pt x="322" y="1031"/>
                    <a:pt x="318" y="987"/>
                  </a:cubicBezTo>
                  <a:cubicBezTo>
                    <a:pt x="314" y="943"/>
                    <a:pt x="313" y="957"/>
                    <a:pt x="288" y="903"/>
                  </a:cubicBezTo>
                  <a:cubicBezTo>
                    <a:pt x="263" y="849"/>
                    <a:pt x="191" y="720"/>
                    <a:pt x="165" y="663"/>
                  </a:cubicBezTo>
                  <a:cubicBezTo>
                    <a:pt x="139" y="606"/>
                    <a:pt x="145" y="581"/>
                    <a:pt x="132" y="558"/>
                  </a:cubicBezTo>
                  <a:cubicBezTo>
                    <a:pt x="119" y="535"/>
                    <a:pt x="105" y="553"/>
                    <a:pt x="87" y="522"/>
                  </a:cubicBezTo>
                  <a:cubicBezTo>
                    <a:pt x="69" y="491"/>
                    <a:pt x="34" y="410"/>
                    <a:pt x="21" y="372"/>
                  </a:cubicBezTo>
                  <a:cubicBezTo>
                    <a:pt x="8" y="334"/>
                    <a:pt x="0" y="326"/>
                    <a:pt x="9" y="294"/>
                  </a:cubicBezTo>
                  <a:cubicBezTo>
                    <a:pt x="18" y="262"/>
                    <a:pt x="57" y="222"/>
                    <a:pt x="75" y="177"/>
                  </a:cubicBezTo>
                  <a:cubicBezTo>
                    <a:pt x="93" y="132"/>
                    <a:pt x="106" y="42"/>
                    <a:pt x="114" y="21"/>
                  </a:cubicBezTo>
                  <a:cubicBezTo>
                    <a:pt x="122" y="0"/>
                    <a:pt x="127" y="26"/>
                    <a:pt x="123" y="51"/>
                  </a:cubicBezTo>
                  <a:cubicBezTo>
                    <a:pt x="119" y="76"/>
                    <a:pt x="102" y="129"/>
                    <a:pt x="87" y="171"/>
                  </a:cubicBezTo>
                  <a:cubicBezTo>
                    <a:pt x="72" y="213"/>
                    <a:pt x="35" y="266"/>
                    <a:pt x="30" y="306"/>
                  </a:cubicBezTo>
                  <a:cubicBezTo>
                    <a:pt x="25" y="346"/>
                    <a:pt x="45" y="379"/>
                    <a:pt x="57" y="414"/>
                  </a:cubicBezTo>
                  <a:cubicBezTo>
                    <a:pt x="69" y="449"/>
                    <a:pt x="85" y="491"/>
                    <a:pt x="102" y="516"/>
                  </a:cubicBezTo>
                  <a:cubicBezTo>
                    <a:pt x="119" y="541"/>
                    <a:pt x="140" y="530"/>
                    <a:pt x="159" y="564"/>
                  </a:cubicBezTo>
                  <a:cubicBezTo>
                    <a:pt x="178" y="598"/>
                    <a:pt x="196" y="671"/>
                    <a:pt x="216" y="717"/>
                  </a:cubicBezTo>
                  <a:cubicBezTo>
                    <a:pt x="236" y="763"/>
                    <a:pt x="262" y="802"/>
                    <a:pt x="282" y="840"/>
                  </a:cubicBezTo>
                  <a:cubicBezTo>
                    <a:pt x="302" y="878"/>
                    <a:pt x="318" y="939"/>
                    <a:pt x="336" y="945"/>
                  </a:cubicBezTo>
                  <a:cubicBezTo>
                    <a:pt x="354" y="951"/>
                    <a:pt x="371" y="916"/>
                    <a:pt x="390" y="879"/>
                  </a:cubicBezTo>
                  <a:cubicBezTo>
                    <a:pt x="409" y="842"/>
                    <a:pt x="433" y="776"/>
                    <a:pt x="453" y="720"/>
                  </a:cubicBezTo>
                  <a:cubicBezTo>
                    <a:pt x="473" y="664"/>
                    <a:pt x="499" y="591"/>
                    <a:pt x="510" y="543"/>
                  </a:cubicBezTo>
                  <a:cubicBezTo>
                    <a:pt x="521" y="495"/>
                    <a:pt x="521" y="475"/>
                    <a:pt x="522" y="429"/>
                  </a:cubicBezTo>
                  <a:cubicBezTo>
                    <a:pt x="523" y="383"/>
                    <a:pt x="517" y="281"/>
                    <a:pt x="519" y="264"/>
                  </a:cubicBezTo>
                  <a:cubicBezTo>
                    <a:pt x="521" y="247"/>
                    <a:pt x="531" y="283"/>
                    <a:pt x="534" y="324"/>
                  </a:cubicBezTo>
                  <a:cubicBezTo>
                    <a:pt x="537" y="365"/>
                    <a:pt x="547" y="455"/>
                    <a:pt x="540" y="513"/>
                  </a:cubicBezTo>
                  <a:cubicBezTo>
                    <a:pt x="533" y="571"/>
                    <a:pt x="509" y="624"/>
                    <a:pt x="492" y="675"/>
                  </a:cubicBezTo>
                  <a:cubicBezTo>
                    <a:pt x="475" y="726"/>
                    <a:pt x="461" y="774"/>
                    <a:pt x="441" y="822"/>
                  </a:cubicBezTo>
                  <a:cubicBezTo>
                    <a:pt x="421" y="870"/>
                    <a:pt x="387" y="917"/>
                    <a:pt x="372" y="963"/>
                  </a:cubicBezTo>
                  <a:cubicBezTo>
                    <a:pt x="357" y="1009"/>
                    <a:pt x="357" y="1014"/>
                    <a:pt x="351" y="1098"/>
                  </a:cubicBezTo>
                  <a:cubicBezTo>
                    <a:pt x="345" y="1182"/>
                    <a:pt x="343" y="1399"/>
                    <a:pt x="336" y="1467"/>
                  </a:cubicBezTo>
                  <a:cubicBezTo>
                    <a:pt x="329" y="1535"/>
                    <a:pt x="316" y="1510"/>
                    <a:pt x="309" y="1506"/>
                  </a:cubicBezTo>
                  <a:cubicBezTo>
                    <a:pt x="302" y="1502"/>
                    <a:pt x="297" y="1502"/>
                    <a:pt x="297" y="144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6184440" y="3575880"/>
              <a:ext cx="151560" cy="507240"/>
            </a:xfrm>
            <a:custGeom>
              <a:avLst/>
              <a:gdLst/>
              <a:ahLst/>
              <a:rect l="l" t="t" r="r" b="b"/>
              <a:pathLst>
                <a:path w="174" h="729">
                  <a:moveTo>
                    <a:pt x="51" y="681"/>
                  </a:moveTo>
                  <a:cubicBezTo>
                    <a:pt x="60" y="636"/>
                    <a:pt x="69" y="591"/>
                    <a:pt x="75" y="537"/>
                  </a:cubicBezTo>
                  <a:cubicBezTo>
                    <a:pt x="81" y="483"/>
                    <a:pt x="91" y="400"/>
                    <a:pt x="87" y="357"/>
                  </a:cubicBezTo>
                  <a:cubicBezTo>
                    <a:pt x="83" y="314"/>
                    <a:pt x="62" y="311"/>
                    <a:pt x="54" y="282"/>
                  </a:cubicBezTo>
                  <a:cubicBezTo>
                    <a:pt x="46" y="253"/>
                    <a:pt x="45" y="214"/>
                    <a:pt x="36" y="183"/>
                  </a:cubicBezTo>
                  <a:cubicBezTo>
                    <a:pt x="27" y="152"/>
                    <a:pt x="0" y="98"/>
                    <a:pt x="0" y="93"/>
                  </a:cubicBezTo>
                  <a:cubicBezTo>
                    <a:pt x="0" y="88"/>
                    <a:pt x="25" y="123"/>
                    <a:pt x="36" y="150"/>
                  </a:cubicBezTo>
                  <a:cubicBezTo>
                    <a:pt x="47" y="177"/>
                    <a:pt x="61" y="228"/>
                    <a:pt x="69" y="255"/>
                  </a:cubicBezTo>
                  <a:cubicBezTo>
                    <a:pt x="77" y="282"/>
                    <a:pt x="81" y="315"/>
                    <a:pt x="87" y="312"/>
                  </a:cubicBezTo>
                  <a:cubicBezTo>
                    <a:pt x="93" y="309"/>
                    <a:pt x="101" y="264"/>
                    <a:pt x="108" y="237"/>
                  </a:cubicBezTo>
                  <a:cubicBezTo>
                    <a:pt x="115" y="210"/>
                    <a:pt x="123" y="172"/>
                    <a:pt x="129" y="147"/>
                  </a:cubicBezTo>
                  <a:cubicBezTo>
                    <a:pt x="135" y="122"/>
                    <a:pt x="139" y="107"/>
                    <a:pt x="144" y="84"/>
                  </a:cubicBezTo>
                  <a:cubicBezTo>
                    <a:pt x="149" y="61"/>
                    <a:pt x="155" y="12"/>
                    <a:pt x="159" y="6"/>
                  </a:cubicBezTo>
                  <a:cubicBezTo>
                    <a:pt x="163" y="0"/>
                    <a:pt x="174" y="17"/>
                    <a:pt x="171" y="45"/>
                  </a:cubicBezTo>
                  <a:cubicBezTo>
                    <a:pt x="168" y="73"/>
                    <a:pt x="148" y="130"/>
                    <a:pt x="138" y="174"/>
                  </a:cubicBezTo>
                  <a:cubicBezTo>
                    <a:pt x="128" y="218"/>
                    <a:pt x="113" y="278"/>
                    <a:pt x="108" y="312"/>
                  </a:cubicBezTo>
                  <a:cubicBezTo>
                    <a:pt x="103" y="346"/>
                    <a:pt x="105" y="347"/>
                    <a:pt x="105" y="381"/>
                  </a:cubicBezTo>
                  <a:cubicBezTo>
                    <a:pt x="105" y="415"/>
                    <a:pt x="114" y="458"/>
                    <a:pt x="108" y="516"/>
                  </a:cubicBezTo>
                  <a:cubicBezTo>
                    <a:pt x="102" y="574"/>
                    <a:pt x="85" y="651"/>
                    <a:pt x="69" y="729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6523560" y="3518640"/>
              <a:ext cx="579960" cy="21096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6300360" y="3402000"/>
              <a:ext cx="670320" cy="223920"/>
            </a:xfrm>
            <a:custGeom>
              <a:avLst/>
              <a:gdLst/>
              <a:ahLst/>
              <a:rect l="l" t="t" r="r" b="b"/>
              <a:pathLst>
                <a:path w="739" h="292">
                  <a:moveTo>
                    <a:pt x="156" y="98"/>
                  </a:moveTo>
                  <a:cubicBezTo>
                    <a:pt x="158" y="98"/>
                    <a:pt x="108" y="116"/>
                    <a:pt x="90" y="128"/>
                  </a:cubicBezTo>
                  <a:cubicBezTo>
                    <a:pt x="72" y="140"/>
                    <a:pt x="56" y="154"/>
                    <a:pt x="48" y="172"/>
                  </a:cubicBezTo>
                  <a:cubicBezTo>
                    <a:pt x="40" y="190"/>
                    <a:pt x="32" y="219"/>
                    <a:pt x="42" y="236"/>
                  </a:cubicBezTo>
                  <a:cubicBezTo>
                    <a:pt x="52" y="253"/>
                    <a:pt x="72" y="266"/>
                    <a:pt x="110" y="274"/>
                  </a:cubicBezTo>
                  <a:cubicBezTo>
                    <a:pt x="148" y="282"/>
                    <a:pt x="228" y="285"/>
                    <a:pt x="268" y="284"/>
                  </a:cubicBezTo>
                  <a:cubicBezTo>
                    <a:pt x="308" y="283"/>
                    <a:pt x="327" y="280"/>
                    <a:pt x="352" y="268"/>
                  </a:cubicBezTo>
                  <a:cubicBezTo>
                    <a:pt x="377" y="256"/>
                    <a:pt x="398" y="224"/>
                    <a:pt x="416" y="210"/>
                  </a:cubicBezTo>
                  <a:cubicBezTo>
                    <a:pt x="434" y="196"/>
                    <a:pt x="443" y="179"/>
                    <a:pt x="460" y="186"/>
                  </a:cubicBezTo>
                  <a:cubicBezTo>
                    <a:pt x="477" y="193"/>
                    <a:pt x="483" y="233"/>
                    <a:pt x="518" y="250"/>
                  </a:cubicBezTo>
                  <a:cubicBezTo>
                    <a:pt x="553" y="267"/>
                    <a:pt x="633" y="292"/>
                    <a:pt x="668" y="290"/>
                  </a:cubicBezTo>
                  <a:cubicBezTo>
                    <a:pt x="703" y="288"/>
                    <a:pt x="715" y="261"/>
                    <a:pt x="726" y="240"/>
                  </a:cubicBezTo>
                  <a:cubicBezTo>
                    <a:pt x="737" y="219"/>
                    <a:pt x="739" y="184"/>
                    <a:pt x="734" y="162"/>
                  </a:cubicBezTo>
                  <a:cubicBezTo>
                    <a:pt x="729" y="140"/>
                    <a:pt x="727" y="127"/>
                    <a:pt x="698" y="108"/>
                  </a:cubicBezTo>
                  <a:cubicBezTo>
                    <a:pt x="669" y="89"/>
                    <a:pt x="622" y="61"/>
                    <a:pt x="562" y="48"/>
                  </a:cubicBezTo>
                  <a:cubicBezTo>
                    <a:pt x="502" y="35"/>
                    <a:pt x="404" y="37"/>
                    <a:pt x="340" y="30"/>
                  </a:cubicBezTo>
                  <a:cubicBezTo>
                    <a:pt x="276" y="23"/>
                    <a:pt x="224" y="12"/>
                    <a:pt x="178" y="8"/>
                  </a:cubicBezTo>
                  <a:cubicBezTo>
                    <a:pt x="132" y="4"/>
                    <a:pt x="90" y="0"/>
                    <a:pt x="62" y="4"/>
                  </a:cubicBezTo>
                  <a:cubicBezTo>
                    <a:pt x="34" y="8"/>
                    <a:pt x="16" y="18"/>
                    <a:pt x="8" y="30"/>
                  </a:cubicBezTo>
                  <a:cubicBezTo>
                    <a:pt x="0" y="42"/>
                    <a:pt x="5" y="58"/>
                    <a:pt x="16" y="74"/>
                  </a:cubicBezTo>
                  <a:cubicBezTo>
                    <a:pt x="27" y="90"/>
                    <a:pt x="52" y="125"/>
                    <a:pt x="76" y="128"/>
                  </a:cubicBezTo>
                  <a:cubicBezTo>
                    <a:pt x="100" y="131"/>
                    <a:pt x="154" y="98"/>
                    <a:pt x="156" y="9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5970600" y="3440880"/>
              <a:ext cx="457560" cy="198000"/>
            </a:xfrm>
            <a:custGeom>
              <a:avLst/>
              <a:gdLst/>
              <a:ahLst/>
              <a:rect l="l" t="t" r="r" b="b"/>
              <a:pathLst>
                <a:path w="525" h="237">
                  <a:moveTo>
                    <a:pt x="22" y="130"/>
                  </a:moveTo>
                  <a:cubicBezTo>
                    <a:pt x="15" y="142"/>
                    <a:pt x="0" y="162"/>
                    <a:pt x="4" y="178"/>
                  </a:cubicBezTo>
                  <a:cubicBezTo>
                    <a:pt x="8" y="194"/>
                    <a:pt x="23" y="214"/>
                    <a:pt x="44" y="224"/>
                  </a:cubicBezTo>
                  <a:cubicBezTo>
                    <a:pt x="65" y="234"/>
                    <a:pt x="102" y="237"/>
                    <a:pt x="130" y="236"/>
                  </a:cubicBezTo>
                  <a:cubicBezTo>
                    <a:pt x="158" y="235"/>
                    <a:pt x="172" y="217"/>
                    <a:pt x="210" y="216"/>
                  </a:cubicBezTo>
                  <a:cubicBezTo>
                    <a:pt x="248" y="215"/>
                    <a:pt x="317" y="235"/>
                    <a:pt x="356" y="230"/>
                  </a:cubicBezTo>
                  <a:cubicBezTo>
                    <a:pt x="395" y="225"/>
                    <a:pt x="419" y="207"/>
                    <a:pt x="446" y="184"/>
                  </a:cubicBezTo>
                  <a:cubicBezTo>
                    <a:pt x="473" y="161"/>
                    <a:pt x="507" y="117"/>
                    <a:pt x="516" y="94"/>
                  </a:cubicBezTo>
                  <a:cubicBezTo>
                    <a:pt x="525" y="71"/>
                    <a:pt x="524" y="63"/>
                    <a:pt x="498" y="48"/>
                  </a:cubicBezTo>
                  <a:cubicBezTo>
                    <a:pt x="472" y="33"/>
                    <a:pt x="403" y="12"/>
                    <a:pt x="360" y="6"/>
                  </a:cubicBezTo>
                  <a:cubicBezTo>
                    <a:pt x="317" y="0"/>
                    <a:pt x="277" y="5"/>
                    <a:pt x="240" y="14"/>
                  </a:cubicBezTo>
                  <a:cubicBezTo>
                    <a:pt x="203" y="23"/>
                    <a:pt x="168" y="45"/>
                    <a:pt x="136" y="60"/>
                  </a:cubicBezTo>
                  <a:cubicBezTo>
                    <a:pt x="104" y="75"/>
                    <a:pt x="66" y="93"/>
                    <a:pt x="46" y="106"/>
                  </a:cubicBezTo>
                  <a:cubicBezTo>
                    <a:pt x="26" y="119"/>
                    <a:pt x="29" y="118"/>
                    <a:pt x="22" y="1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5878440" y="3562560"/>
              <a:ext cx="366120" cy="131400"/>
            </a:xfrm>
            <a:custGeom>
              <a:avLst/>
              <a:gdLst/>
              <a:ahLst/>
              <a:rect l="l" t="t" r="r" b="b"/>
              <a:pathLst>
                <a:path w="420" h="189">
                  <a:moveTo>
                    <a:pt x="112" y="3"/>
                  </a:moveTo>
                  <a:cubicBezTo>
                    <a:pt x="97" y="6"/>
                    <a:pt x="58" y="19"/>
                    <a:pt x="40" y="29"/>
                  </a:cubicBezTo>
                  <a:cubicBezTo>
                    <a:pt x="22" y="39"/>
                    <a:pt x="4" y="46"/>
                    <a:pt x="2" y="61"/>
                  </a:cubicBezTo>
                  <a:cubicBezTo>
                    <a:pt x="0" y="76"/>
                    <a:pt x="9" y="102"/>
                    <a:pt x="26" y="117"/>
                  </a:cubicBezTo>
                  <a:cubicBezTo>
                    <a:pt x="43" y="132"/>
                    <a:pt x="77" y="138"/>
                    <a:pt x="104" y="149"/>
                  </a:cubicBezTo>
                  <a:cubicBezTo>
                    <a:pt x="131" y="160"/>
                    <a:pt x="159" y="181"/>
                    <a:pt x="188" y="185"/>
                  </a:cubicBezTo>
                  <a:cubicBezTo>
                    <a:pt x="217" y="189"/>
                    <a:pt x="248" y="180"/>
                    <a:pt x="280" y="173"/>
                  </a:cubicBezTo>
                  <a:cubicBezTo>
                    <a:pt x="312" y="166"/>
                    <a:pt x="357" y="155"/>
                    <a:pt x="380" y="141"/>
                  </a:cubicBezTo>
                  <a:cubicBezTo>
                    <a:pt x="403" y="127"/>
                    <a:pt x="420" y="106"/>
                    <a:pt x="420" y="91"/>
                  </a:cubicBezTo>
                  <a:cubicBezTo>
                    <a:pt x="420" y="76"/>
                    <a:pt x="407" y="56"/>
                    <a:pt x="382" y="49"/>
                  </a:cubicBezTo>
                  <a:cubicBezTo>
                    <a:pt x="357" y="42"/>
                    <a:pt x="302" y="51"/>
                    <a:pt x="268" y="51"/>
                  </a:cubicBezTo>
                  <a:cubicBezTo>
                    <a:pt x="234" y="51"/>
                    <a:pt x="203" y="54"/>
                    <a:pt x="180" y="47"/>
                  </a:cubicBezTo>
                  <a:cubicBezTo>
                    <a:pt x="157" y="40"/>
                    <a:pt x="144" y="18"/>
                    <a:pt x="132" y="11"/>
                  </a:cubicBezTo>
                  <a:cubicBezTo>
                    <a:pt x="120" y="4"/>
                    <a:pt x="127" y="0"/>
                    <a:pt x="112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6514920" y="3691440"/>
              <a:ext cx="315360" cy="11484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4" name=""/>
          <p:cNvGrpSpPr/>
          <p:nvPr/>
        </p:nvGrpSpPr>
        <p:grpSpPr>
          <a:xfrm>
            <a:off x="7629480" y="3430440"/>
            <a:ext cx="1514520" cy="2649600"/>
            <a:chOff x="7629480" y="3430440"/>
            <a:chExt cx="1514520" cy="2649600"/>
          </a:xfrm>
        </p:grpSpPr>
        <p:sp>
          <p:nvSpPr>
            <p:cNvPr id="7465" name=""/>
            <p:cNvSpPr/>
            <p:nvPr/>
          </p:nvSpPr>
          <p:spPr>
            <a:xfrm>
              <a:off x="8350560" y="3444840"/>
              <a:ext cx="793440" cy="297000"/>
            </a:xfrm>
            <a:custGeom>
              <a:avLst/>
              <a:gdLst/>
              <a:ahLst/>
              <a:rect l="l" t="t" r="r" b="b"/>
              <a:pathLst>
                <a:path w="910" h="427">
                  <a:moveTo>
                    <a:pt x="71" y="3"/>
                  </a:moveTo>
                  <a:cubicBezTo>
                    <a:pt x="35" y="13"/>
                    <a:pt x="0" y="24"/>
                    <a:pt x="1" y="43"/>
                  </a:cubicBezTo>
                  <a:cubicBezTo>
                    <a:pt x="2" y="62"/>
                    <a:pt x="43" y="84"/>
                    <a:pt x="79" y="119"/>
                  </a:cubicBezTo>
                  <a:cubicBezTo>
                    <a:pt x="115" y="154"/>
                    <a:pt x="175" y="231"/>
                    <a:pt x="219" y="253"/>
                  </a:cubicBezTo>
                  <a:cubicBezTo>
                    <a:pt x="263" y="275"/>
                    <a:pt x="307" y="256"/>
                    <a:pt x="345" y="253"/>
                  </a:cubicBezTo>
                  <a:cubicBezTo>
                    <a:pt x="383" y="250"/>
                    <a:pt x="409" y="225"/>
                    <a:pt x="449" y="233"/>
                  </a:cubicBezTo>
                  <a:cubicBezTo>
                    <a:pt x="489" y="241"/>
                    <a:pt x="540" y="275"/>
                    <a:pt x="585" y="301"/>
                  </a:cubicBezTo>
                  <a:cubicBezTo>
                    <a:pt x="630" y="327"/>
                    <a:pt x="681" y="368"/>
                    <a:pt x="721" y="389"/>
                  </a:cubicBezTo>
                  <a:cubicBezTo>
                    <a:pt x="761" y="410"/>
                    <a:pt x="797" y="423"/>
                    <a:pt x="827" y="425"/>
                  </a:cubicBezTo>
                  <a:cubicBezTo>
                    <a:pt x="857" y="427"/>
                    <a:pt x="892" y="423"/>
                    <a:pt x="901" y="401"/>
                  </a:cubicBezTo>
                  <a:cubicBezTo>
                    <a:pt x="910" y="379"/>
                    <a:pt x="907" y="330"/>
                    <a:pt x="879" y="293"/>
                  </a:cubicBezTo>
                  <a:cubicBezTo>
                    <a:pt x="851" y="256"/>
                    <a:pt x="783" y="210"/>
                    <a:pt x="735" y="177"/>
                  </a:cubicBezTo>
                  <a:cubicBezTo>
                    <a:pt x="687" y="144"/>
                    <a:pt x="647" y="116"/>
                    <a:pt x="589" y="95"/>
                  </a:cubicBezTo>
                  <a:cubicBezTo>
                    <a:pt x="531" y="74"/>
                    <a:pt x="448" y="63"/>
                    <a:pt x="385" y="49"/>
                  </a:cubicBezTo>
                  <a:cubicBezTo>
                    <a:pt x="322" y="35"/>
                    <a:pt x="255" y="17"/>
                    <a:pt x="211" y="9"/>
                  </a:cubicBezTo>
                  <a:cubicBezTo>
                    <a:pt x="167" y="1"/>
                    <a:pt x="147" y="2"/>
                    <a:pt x="121" y="1"/>
                  </a:cubicBezTo>
                  <a:cubicBezTo>
                    <a:pt x="95" y="0"/>
                    <a:pt x="66" y="3"/>
                    <a:pt x="55" y="3"/>
                  </a:cubicBez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7747920" y="3676680"/>
              <a:ext cx="699120" cy="2403360"/>
            </a:xfrm>
            <a:custGeom>
              <a:avLst/>
              <a:gdLst/>
              <a:ahLst/>
              <a:rect l="l" t="t" r="r" b="b"/>
              <a:pathLst>
                <a:path w="802" h="3453">
                  <a:moveTo>
                    <a:pt x="620" y="3406"/>
                  </a:moveTo>
                  <a:cubicBezTo>
                    <a:pt x="598" y="3359"/>
                    <a:pt x="641" y="3290"/>
                    <a:pt x="650" y="3130"/>
                  </a:cubicBezTo>
                  <a:cubicBezTo>
                    <a:pt x="659" y="2970"/>
                    <a:pt x="669" y="2717"/>
                    <a:pt x="674" y="2446"/>
                  </a:cubicBezTo>
                  <a:cubicBezTo>
                    <a:pt x="679" y="2175"/>
                    <a:pt x="679" y="1681"/>
                    <a:pt x="680" y="1504"/>
                  </a:cubicBezTo>
                  <a:cubicBezTo>
                    <a:pt x="681" y="1327"/>
                    <a:pt x="694" y="1425"/>
                    <a:pt x="680" y="1384"/>
                  </a:cubicBezTo>
                  <a:cubicBezTo>
                    <a:pt x="666" y="1343"/>
                    <a:pt x="629" y="1323"/>
                    <a:pt x="596" y="1258"/>
                  </a:cubicBezTo>
                  <a:cubicBezTo>
                    <a:pt x="563" y="1193"/>
                    <a:pt x="524" y="1062"/>
                    <a:pt x="482" y="994"/>
                  </a:cubicBezTo>
                  <a:cubicBezTo>
                    <a:pt x="440" y="926"/>
                    <a:pt x="379" y="908"/>
                    <a:pt x="344" y="850"/>
                  </a:cubicBezTo>
                  <a:cubicBezTo>
                    <a:pt x="309" y="792"/>
                    <a:pt x="303" y="702"/>
                    <a:pt x="272" y="646"/>
                  </a:cubicBezTo>
                  <a:cubicBezTo>
                    <a:pt x="241" y="590"/>
                    <a:pt x="191" y="564"/>
                    <a:pt x="158" y="514"/>
                  </a:cubicBezTo>
                  <a:cubicBezTo>
                    <a:pt x="125" y="464"/>
                    <a:pt x="100" y="428"/>
                    <a:pt x="74" y="346"/>
                  </a:cubicBezTo>
                  <a:cubicBezTo>
                    <a:pt x="48" y="264"/>
                    <a:pt x="4" y="44"/>
                    <a:pt x="2" y="22"/>
                  </a:cubicBezTo>
                  <a:cubicBezTo>
                    <a:pt x="0" y="0"/>
                    <a:pt x="32" y="134"/>
                    <a:pt x="62" y="214"/>
                  </a:cubicBezTo>
                  <a:cubicBezTo>
                    <a:pt x="92" y="294"/>
                    <a:pt x="138" y="434"/>
                    <a:pt x="182" y="502"/>
                  </a:cubicBezTo>
                  <a:cubicBezTo>
                    <a:pt x="226" y="570"/>
                    <a:pt x="294" y="571"/>
                    <a:pt x="326" y="622"/>
                  </a:cubicBezTo>
                  <a:cubicBezTo>
                    <a:pt x="358" y="673"/>
                    <a:pt x="341" y="749"/>
                    <a:pt x="374" y="808"/>
                  </a:cubicBezTo>
                  <a:cubicBezTo>
                    <a:pt x="407" y="867"/>
                    <a:pt x="488" y="922"/>
                    <a:pt x="524" y="976"/>
                  </a:cubicBezTo>
                  <a:cubicBezTo>
                    <a:pt x="560" y="1030"/>
                    <a:pt x="566" y="1080"/>
                    <a:pt x="590" y="1132"/>
                  </a:cubicBezTo>
                  <a:cubicBezTo>
                    <a:pt x="614" y="1184"/>
                    <a:pt x="643" y="1248"/>
                    <a:pt x="668" y="1288"/>
                  </a:cubicBezTo>
                  <a:cubicBezTo>
                    <a:pt x="693" y="1328"/>
                    <a:pt x="727" y="1328"/>
                    <a:pt x="740" y="1372"/>
                  </a:cubicBezTo>
                  <a:cubicBezTo>
                    <a:pt x="753" y="1416"/>
                    <a:pt x="746" y="1266"/>
                    <a:pt x="746" y="1552"/>
                  </a:cubicBezTo>
                  <a:cubicBezTo>
                    <a:pt x="746" y="1838"/>
                    <a:pt x="737" y="2784"/>
                    <a:pt x="740" y="3088"/>
                  </a:cubicBezTo>
                  <a:cubicBezTo>
                    <a:pt x="743" y="3392"/>
                    <a:pt x="757" y="3322"/>
                    <a:pt x="764" y="3376"/>
                  </a:cubicBezTo>
                  <a:cubicBezTo>
                    <a:pt x="771" y="3430"/>
                    <a:pt x="802" y="3408"/>
                    <a:pt x="782" y="3412"/>
                  </a:cubicBezTo>
                  <a:cubicBezTo>
                    <a:pt x="762" y="3416"/>
                    <a:pt x="642" y="3453"/>
                    <a:pt x="620" y="340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8372160" y="3586680"/>
              <a:ext cx="697320" cy="1141920"/>
            </a:xfrm>
            <a:custGeom>
              <a:avLst/>
              <a:gdLst/>
              <a:ahLst/>
              <a:rect l="l" t="t" r="r" b="b"/>
              <a:pathLst>
                <a:path w="800" h="1641">
                  <a:moveTo>
                    <a:pt x="18" y="1534"/>
                  </a:moveTo>
                  <a:cubicBezTo>
                    <a:pt x="50" y="1473"/>
                    <a:pt x="83" y="1413"/>
                    <a:pt x="108" y="1342"/>
                  </a:cubicBezTo>
                  <a:cubicBezTo>
                    <a:pt x="133" y="1271"/>
                    <a:pt x="160" y="1189"/>
                    <a:pt x="171" y="1105"/>
                  </a:cubicBezTo>
                  <a:cubicBezTo>
                    <a:pt x="182" y="1021"/>
                    <a:pt x="171" y="895"/>
                    <a:pt x="171" y="838"/>
                  </a:cubicBezTo>
                  <a:cubicBezTo>
                    <a:pt x="171" y="781"/>
                    <a:pt x="179" y="786"/>
                    <a:pt x="174" y="760"/>
                  </a:cubicBezTo>
                  <a:cubicBezTo>
                    <a:pt x="169" y="734"/>
                    <a:pt x="151" y="717"/>
                    <a:pt x="138" y="682"/>
                  </a:cubicBezTo>
                  <a:cubicBezTo>
                    <a:pt x="125" y="647"/>
                    <a:pt x="106" y="592"/>
                    <a:pt x="96" y="553"/>
                  </a:cubicBezTo>
                  <a:cubicBezTo>
                    <a:pt x="86" y="514"/>
                    <a:pt x="87" y="486"/>
                    <a:pt x="75" y="445"/>
                  </a:cubicBezTo>
                  <a:cubicBezTo>
                    <a:pt x="63" y="404"/>
                    <a:pt x="24" y="318"/>
                    <a:pt x="21" y="304"/>
                  </a:cubicBezTo>
                  <a:cubicBezTo>
                    <a:pt x="18" y="290"/>
                    <a:pt x="42" y="336"/>
                    <a:pt x="54" y="361"/>
                  </a:cubicBezTo>
                  <a:cubicBezTo>
                    <a:pt x="66" y="386"/>
                    <a:pt x="84" y="435"/>
                    <a:pt x="93" y="454"/>
                  </a:cubicBezTo>
                  <a:cubicBezTo>
                    <a:pt x="102" y="473"/>
                    <a:pt x="102" y="488"/>
                    <a:pt x="108" y="475"/>
                  </a:cubicBezTo>
                  <a:cubicBezTo>
                    <a:pt x="114" y="462"/>
                    <a:pt x="130" y="402"/>
                    <a:pt x="132" y="373"/>
                  </a:cubicBezTo>
                  <a:cubicBezTo>
                    <a:pt x="134" y="344"/>
                    <a:pt x="122" y="299"/>
                    <a:pt x="123" y="298"/>
                  </a:cubicBezTo>
                  <a:cubicBezTo>
                    <a:pt x="124" y="297"/>
                    <a:pt x="139" y="337"/>
                    <a:pt x="141" y="364"/>
                  </a:cubicBezTo>
                  <a:cubicBezTo>
                    <a:pt x="143" y="391"/>
                    <a:pt x="140" y="436"/>
                    <a:pt x="135" y="463"/>
                  </a:cubicBezTo>
                  <a:cubicBezTo>
                    <a:pt x="130" y="490"/>
                    <a:pt x="113" y="499"/>
                    <a:pt x="114" y="526"/>
                  </a:cubicBezTo>
                  <a:cubicBezTo>
                    <a:pt x="115" y="553"/>
                    <a:pt x="131" y="596"/>
                    <a:pt x="141" y="628"/>
                  </a:cubicBezTo>
                  <a:cubicBezTo>
                    <a:pt x="151" y="660"/>
                    <a:pt x="166" y="705"/>
                    <a:pt x="174" y="718"/>
                  </a:cubicBezTo>
                  <a:cubicBezTo>
                    <a:pt x="182" y="731"/>
                    <a:pt x="183" y="725"/>
                    <a:pt x="189" y="706"/>
                  </a:cubicBezTo>
                  <a:cubicBezTo>
                    <a:pt x="195" y="687"/>
                    <a:pt x="205" y="644"/>
                    <a:pt x="213" y="601"/>
                  </a:cubicBezTo>
                  <a:cubicBezTo>
                    <a:pt x="221" y="558"/>
                    <a:pt x="231" y="483"/>
                    <a:pt x="234" y="448"/>
                  </a:cubicBezTo>
                  <a:cubicBezTo>
                    <a:pt x="237" y="413"/>
                    <a:pt x="244" y="420"/>
                    <a:pt x="234" y="388"/>
                  </a:cubicBezTo>
                  <a:cubicBezTo>
                    <a:pt x="224" y="356"/>
                    <a:pt x="191" y="300"/>
                    <a:pt x="177" y="256"/>
                  </a:cubicBezTo>
                  <a:cubicBezTo>
                    <a:pt x="163" y="212"/>
                    <a:pt x="151" y="131"/>
                    <a:pt x="150" y="124"/>
                  </a:cubicBezTo>
                  <a:cubicBezTo>
                    <a:pt x="149" y="117"/>
                    <a:pt x="159" y="178"/>
                    <a:pt x="171" y="214"/>
                  </a:cubicBezTo>
                  <a:cubicBezTo>
                    <a:pt x="183" y="250"/>
                    <a:pt x="210" y="315"/>
                    <a:pt x="222" y="340"/>
                  </a:cubicBezTo>
                  <a:cubicBezTo>
                    <a:pt x="234" y="365"/>
                    <a:pt x="231" y="377"/>
                    <a:pt x="243" y="364"/>
                  </a:cubicBezTo>
                  <a:cubicBezTo>
                    <a:pt x="255" y="351"/>
                    <a:pt x="283" y="294"/>
                    <a:pt x="297" y="262"/>
                  </a:cubicBezTo>
                  <a:cubicBezTo>
                    <a:pt x="311" y="230"/>
                    <a:pt x="325" y="202"/>
                    <a:pt x="327" y="169"/>
                  </a:cubicBezTo>
                  <a:cubicBezTo>
                    <a:pt x="329" y="136"/>
                    <a:pt x="310" y="89"/>
                    <a:pt x="309" y="64"/>
                  </a:cubicBezTo>
                  <a:cubicBezTo>
                    <a:pt x="308" y="39"/>
                    <a:pt x="315" y="6"/>
                    <a:pt x="318" y="16"/>
                  </a:cubicBezTo>
                  <a:cubicBezTo>
                    <a:pt x="321" y="26"/>
                    <a:pt x="324" y="99"/>
                    <a:pt x="327" y="124"/>
                  </a:cubicBezTo>
                  <a:cubicBezTo>
                    <a:pt x="330" y="149"/>
                    <a:pt x="327" y="177"/>
                    <a:pt x="339" y="169"/>
                  </a:cubicBezTo>
                  <a:cubicBezTo>
                    <a:pt x="351" y="161"/>
                    <a:pt x="381" y="100"/>
                    <a:pt x="399" y="73"/>
                  </a:cubicBezTo>
                  <a:cubicBezTo>
                    <a:pt x="417" y="46"/>
                    <a:pt x="440" y="12"/>
                    <a:pt x="447" y="7"/>
                  </a:cubicBezTo>
                  <a:cubicBezTo>
                    <a:pt x="454" y="2"/>
                    <a:pt x="457" y="18"/>
                    <a:pt x="444" y="43"/>
                  </a:cubicBezTo>
                  <a:cubicBezTo>
                    <a:pt x="431" y="68"/>
                    <a:pt x="388" y="126"/>
                    <a:pt x="369" y="160"/>
                  </a:cubicBezTo>
                  <a:cubicBezTo>
                    <a:pt x="350" y="194"/>
                    <a:pt x="346" y="213"/>
                    <a:pt x="330" y="247"/>
                  </a:cubicBezTo>
                  <a:cubicBezTo>
                    <a:pt x="314" y="281"/>
                    <a:pt x="282" y="339"/>
                    <a:pt x="270" y="364"/>
                  </a:cubicBezTo>
                  <a:cubicBezTo>
                    <a:pt x="258" y="389"/>
                    <a:pt x="262" y="376"/>
                    <a:pt x="258" y="397"/>
                  </a:cubicBezTo>
                  <a:cubicBezTo>
                    <a:pt x="254" y="418"/>
                    <a:pt x="250" y="457"/>
                    <a:pt x="246" y="493"/>
                  </a:cubicBezTo>
                  <a:cubicBezTo>
                    <a:pt x="242" y="529"/>
                    <a:pt x="239" y="573"/>
                    <a:pt x="231" y="616"/>
                  </a:cubicBezTo>
                  <a:cubicBezTo>
                    <a:pt x="223" y="659"/>
                    <a:pt x="204" y="702"/>
                    <a:pt x="198" y="751"/>
                  </a:cubicBezTo>
                  <a:cubicBezTo>
                    <a:pt x="192" y="800"/>
                    <a:pt x="193" y="871"/>
                    <a:pt x="192" y="913"/>
                  </a:cubicBezTo>
                  <a:cubicBezTo>
                    <a:pt x="191" y="955"/>
                    <a:pt x="192" y="978"/>
                    <a:pt x="192" y="1006"/>
                  </a:cubicBezTo>
                  <a:cubicBezTo>
                    <a:pt x="192" y="1034"/>
                    <a:pt x="181" y="1089"/>
                    <a:pt x="195" y="1081"/>
                  </a:cubicBezTo>
                  <a:cubicBezTo>
                    <a:pt x="209" y="1073"/>
                    <a:pt x="250" y="996"/>
                    <a:pt x="276" y="955"/>
                  </a:cubicBezTo>
                  <a:cubicBezTo>
                    <a:pt x="302" y="914"/>
                    <a:pt x="338" y="863"/>
                    <a:pt x="354" y="832"/>
                  </a:cubicBezTo>
                  <a:cubicBezTo>
                    <a:pt x="370" y="801"/>
                    <a:pt x="369" y="807"/>
                    <a:pt x="372" y="766"/>
                  </a:cubicBezTo>
                  <a:cubicBezTo>
                    <a:pt x="375" y="725"/>
                    <a:pt x="374" y="631"/>
                    <a:pt x="372" y="583"/>
                  </a:cubicBezTo>
                  <a:cubicBezTo>
                    <a:pt x="370" y="535"/>
                    <a:pt x="360" y="519"/>
                    <a:pt x="360" y="478"/>
                  </a:cubicBezTo>
                  <a:cubicBezTo>
                    <a:pt x="360" y="437"/>
                    <a:pt x="368" y="372"/>
                    <a:pt x="369" y="334"/>
                  </a:cubicBezTo>
                  <a:cubicBezTo>
                    <a:pt x="370" y="296"/>
                    <a:pt x="360" y="275"/>
                    <a:pt x="369" y="250"/>
                  </a:cubicBezTo>
                  <a:cubicBezTo>
                    <a:pt x="378" y="225"/>
                    <a:pt x="410" y="207"/>
                    <a:pt x="426" y="181"/>
                  </a:cubicBezTo>
                  <a:cubicBezTo>
                    <a:pt x="442" y="155"/>
                    <a:pt x="450" y="120"/>
                    <a:pt x="465" y="91"/>
                  </a:cubicBezTo>
                  <a:cubicBezTo>
                    <a:pt x="480" y="62"/>
                    <a:pt x="511" y="14"/>
                    <a:pt x="516" y="7"/>
                  </a:cubicBezTo>
                  <a:cubicBezTo>
                    <a:pt x="521" y="0"/>
                    <a:pt x="506" y="31"/>
                    <a:pt x="498" y="49"/>
                  </a:cubicBezTo>
                  <a:cubicBezTo>
                    <a:pt x="490" y="67"/>
                    <a:pt x="477" y="95"/>
                    <a:pt x="468" y="115"/>
                  </a:cubicBezTo>
                  <a:cubicBezTo>
                    <a:pt x="459" y="135"/>
                    <a:pt x="452" y="153"/>
                    <a:pt x="444" y="169"/>
                  </a:cubicBezTo>
                  <a:cubicBezTo>
                    <a:pt x="436" y="185"/>
                    <a:pt x="432" y="194"/>
                    <a:pt x="423" y="208"/>
                  </a:cubicBezTo>
                  <a:cubicBezTo>
                    <a:pt x="414" y="222"/>
                    <a:pt x="395" y="242"/>
                    <a:pt x="387" y="256"/>
                  </a:cubicBezTo>
                  <a:cubicBezTo>
                    <a:pt x="379" y="270"/>
                    <a:pt x="378" y="270"/>
                    <a:pt x="375" y="295"/>
                  </a:cubicBezTo>
                  <a:cubicBezTo>
                    <a:pt x="372" y="320"/>
                    <a:pt x="368" y="362"/>
                    <a:pt x="369" y="406"/>
                  </a:cubicBezTo>
                  <a:cubicBezTo>
                    <a:pt x="370" y="450"/>
                    <a:pt x="378" y="513"/>
                    <a:pt x="381" y="562"/>
                  </a:cubicBezTo>
                  <a:cubicBezTo>
                    <a:pt x="384" y="611"/>
                    <a:pt x="387" y="665"/>
                    <a:pt x="387" y="703"/>
                  </a:cubicBezTo>
                  <a:cubicBezTo>
                    <a:pt x="387" y="741"/>
                    <a:pt x="370" y="792"/>
                    <a:pt x="381" y="793"/>
                  </a:cubicBezTo>
                  <a:cubicBezTo>
                    <a:pt x="392" y="794"/>
                    <a:pt x="428" y="741"/>
                    <a:pt x="456" y="709"/>
                  </a:cubicBezTo>
                  <a:cubicBezTo>
                    <a:pt x="484" y="677"/>
                    <a:pt x="516" y="636"/>
                    <a:pt x="546" y="601"/>
                  </a:cubicBezTo>
                  <a:cubicBezTo>
                    <a:pt x="576" y="566"/>
                    <a:pt x="609" y="535"/>
                    <a:pt x="636" y="499"/>
                  </a:cubicBezTo>
                  <a:cubicBezTo>
                    <a:pt x="663" y="463"/>
                    <a:pt x="686" y="438"/>
                    <a:pt x="711" y="385"/>
                  </a:cubicBezTo>
                  <a:cubicBezTo>
                    <a:pt x="736" y="332"/>
                    <a:pt x="778" y="205"/>
                    <a:pt x="789" y="181"/>
                  </a:cubicBezTo>
                  <a:cubicBezTo>
                    <a:pt x="800" y="157"/>
                    <a:pt x="790" y="199"/>
                    <a:pt x="777" y="241"/>
                  </a:cubicBezTo>
                  <a:cubicBezTo>
                    <a:pt x="764" y="283"/>
                    <a:pt x="731" y="389"/>
                    <a:pt x="708" y="436"/>
                  </a:cubicBezTo>
                  <a:cubicBezTo>
                    <a:pt x="685" y="483"/>
                    <a:pt x="663" y="492"/>
                    <a:pt x="636" y="526"/>
                  </a:cubicBezTo>
                  <a:cubicBezTo>
                    <a:pt x="609" y="560"/>
                    <a:pt x="582" y="596"/>
                    <a:pt x="546" y="640"/>
                  </a:cubicBezTo>
                  <a:cubicBezTo>
                    <a:pt x="510" y="684"/>
                    <a:pt x="449" y="757"/>
                    <a:pt x="420" y="790"/>
                  </a:cubicBezTo>
                  <a:cubicBezTo>
                    <a:pt x="391" y="823"/>
                    <a:pt x="390" y="809"/>
                    <a:pt x="369" y="838"/>
                  </a:cubicBezTo>
                  <a:cubicBezTo>
                    <a:pt x="348" y="867"/>
                    <a:pt x="322" y="924"/>
                    <a:pt x="297" y="967"/>
                  </a:cubicBezTo>
                  <a:cubicBezTo>
                    <a:pt x="272" y="1010"/>
                    <a:pt x="236" y="1056"/>
                    <a:pt x="216" y="1099"/>
                  </a:cubicBezTo>
                  <a:cubicBezTo>
                    <a:pt x="196" y="1142"/>
                    <a:pt x="201" y="1159"/>
                    <a:pt x="180" y="1225"/>
                  </a:cubicBezTo>
                  <a:cubicBezTo>
                    <a:pt x="159" y="1291"/>
                    <a:pt x="117" y="1431"/>
                    <a:pt x="90" y="1498"/>
                  </a:cubicBezTo>
                  <a:cubicBezTo>
                    <a:pt x="63" y="1565"/>
                    <a:pt x="30" y="1619"/>
                    <a:pt x="15" y="1630"/>
                  </a:cubicBezTo>
                  <a:cubicBezTo>
                    <a:pt x="0" y="1641"/>
                    <a:pt x="0" y="1602"/>
                    <a:pt x="0" y="1564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8097480" y="3604320"/>
              <a:ext cx="476640" cy="1068120"/>
            </a:xfrm>
            <a:custGeom>
              <a:avLst/>
              <a:gdLst/>
              <a:ahLst/>
              <a:rect l="l" t="t" r="r" b="b"/>
              <a:pathLst>
                <a:path w="547" h="1535">
                  <a:moveTo>
                    <a:pt x="297" y="1446"/>
                  </a:moveTo>
                  <a:cubicBezTo>
                    <a:pt x="297" y="1390"/>
                    <a:pt x="309" y="1243"/>
                    <a:pt x="312" y="1167"/>
                  </a:cubicBezTo>
                  <a:cubicBezTo>
                    <a:pt x="315" y="1091"/>
                    <a:pt x="322" y="1031"/>
                    <a:pt x="318" y="987"/>
                  </a:cubicBezTo>
                  <a:cubicBezTo>
                    <a:pt x="314" y="943"/>
                    <a:pt x="313" y="957"/>
                    <a:pt x="288" y="903"/>
                  </a:cubicBezTo>
                  <a:cubicBezTo>
                    <a:pt x="263" y="849"/>
                    <a:pt x="191" y="720"/>
                    <a:pt x="165" y="663"/>
                  </a:cubicBezTo>
                  <a:cubicBezTo>
                    <a:pt x="139" y="606"/>
                    <a:pt x="145" y="581"/>
                    <a:pt x="132" y="558"/>
                  </a:cubicBezTo>
                  <a:cubicBezTo>
                    <a:pt x="119" y="535"/>
                    <a:pt x="105" y="553"/>
                    <a:pt x="87" y="522"/>
                  </a:cubicBezTo>
                  <a:cubicBezTo>
                    <a:pt x="69" y="491"/>
                    <a:pt x="34" y="410"/>
                    <a:pt x="21" y="372"/>
                  </a:cubicBezTo>
                  <a:cubicBezTo>
                    <a:pt x="8" y="334"/>
                    <a:pt x="0" y="326"/>
                    <a:pt x="9" y="294"/>
                  </a:cubicBezTo>
                  <a:cubicBezTo>
                    <a:pt x="18" y="262"/>
                    <a:pt x="57" y="222"/>
                    <a:pt x="75" y="177"/>
                  </a:cubicBezTo>
                  <a:cubicBezTo>
                    <a:pt x="93" y="132"/>
                    <a:pt x="106" y="42"/>
                    <a:pt x="114" y="21"/>
                  </a:cubicBezTo>
                  <a:cubicBezTo>
                    <a:pt x="122" y="0"/>
                    <a:pt x="127" y="26"/>
                    <a:pt x="123" y="51"/>
                  </a:cubicBezTo>
                  <a:cubicBezTo>
                    <a:pt x="119" y="76"/>
                    <a:pt x="102" y="129"/>
                    <a:pt x="87" y="171"/>
                  </a:cubicBezTo>
                  <a:cubicBezTo>
                    <a:pt x="72" y="213"/>
                    <a:pt x="35" y="266"/>
                    <a:pt x="30" y="306"/>
                  </a:cubicBezTo>
                  <a:cubicBezTo>
                    <a:pt x="25" y="346"/>
                    <a:pt x="45" y="379"/>
                    <a:pt x="57" y="414"/>
                  </a:cubicBezTo>
                  <a:cubicBezTo>
                    <a:pt x="69" y="449"/>
                    <a:pt x="85" y="491"/>
                    <a:pt x="102" y="516"/>
                  </a:cubicBezTo>
                  <a:cubicBezTo>
                    <a:pt x="119" y="541"/>
                    <a:pt x="140" y="530"/>
                    <a:pt x="159" y="564"/>
                  </a:cubicBezTo>
                  <a:cubicBezTo>
                    <a:pt x="178" y="598"/>
                    <a:pt x="196" y="671"/>
                    <a:pt x="216" y="717"/>
                  </a:cubicBezTo>
                  <a:cubicBezTo>
                    <a:pt x="236" y="763"/>
                    <a:pt x="262" y="802"/>
                    <a:pt x="282" y="840"/>
                  </a:cubicBezTo>
                  <a:cubicBezTo>
                    <a:pt x="302" y="878"/>
                    <a:pt x="318" y="939"/>
                    <a:pt x="336" y="945"/>
                  </a:cubicBezTo>
                  <a:cubicBezTo>
                    <a:pt x="354" y="951"/>
                    <a:pt x="371" y="916"/>
                    <a:pt x="390" y="879"/>
                  </a:cubicBezTo>
                  <a:cubicBezTo>
                    <a:pt x="409" y="842"/>
                    <a:pt x="433" y="776"/>
                    <a:pt x="453" y="720"/>
                  </a:cubicBezTo>
                  <a:cubicBezTo>
                    <a:pt x="473" y="664"/>
                    <a:pt x="499" y="591"/>
                    <a:pt x="510" y="543"/>
                  </a:cubicBezTo>
                  <a:cubicBezTo>
                    <a:pt x="521" y="495"/>
                    <a:pt x="521" y="475"/>
                    <a:pt x="522" y="429"/>
                  </a:cubicBezTo>
                  <a:cubicBezTo>
                    <a:pt x="523" y="383"/>
                    <a:pt x="517" y="281"/>
                    <a:pt x="519" y="264"/>
                  </a:cubicBezTo>
                  <a:cubicBezTo>
                    <a:pt x="521" y="247"/>
                    <a:pt x="531" y="283"/>
                    <a:pt x="534" y="324"/>
                  </a:cubicBezTo>
                  <a:cubicBezTo>
                    <a:pt x="537" y="365"/>
                    <a:pt x="547" y="455"/>
                    <a:pt x="540" y="513"/>
                  </a:cubicBezTo>
                  <a:cubicBezTo>
                    <a:pt x="533" y="571"/>
                    <a:pt x="509" y="624"/>
                    <a:pt x="492" y="675"/>
                  </a:cubicBezTo>
                  <a:cubicBezTo>
                    <a:pt x="475" y="726"/>
                    <a:pt x="461" y="774"/>
                    <a:pt x="441" y="822"/>
                  </a:cubicBezTo>
                  <a:cubicBezTo>
                    <a:pt x="421" y="870"/>
                    <a:pt x="387" y="917"/>
                    <a:pt x="372" y="963"/>
                  </a:cubicBezTo>
                  <a:cubicBezTo>
                    <a:pt x="357" y="1009"/>
                    <a:pt x="357" y="1014"/>
                    <a:pt x="351" y="1098"/>
                  </a:cubicBezTo>
                  <a:cubicBezTo>
                    <a:pt x="345" y="1182"/>
                    <a:pt x="343" y="1399"/>
                    <a:pt x="336" y="1467"/>
                  </a:cubicBezTo>
                  <a:cubicBezTo>
                    <a:pt x="329" y="1535"/>
                    <a:pt x="316" y="1510"/>
                    <a:pt x="309" y="1506"/>
                  </a:cubicBezTo>
                  <a:cubicBezTo>
                    <a:pt x="302" y="1502"/>
                    <a:pt x="297" y="1502"/>
                    <a:pt x="297" y="144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7935480" y="3604320"/>
              <a:ext cx="151560" cy="507240"/>
            </a:xfrm>
            <a:custGeom>
              <a:avLst/>
              <a:gdLst/>
              <a:ahLst/>
              <a:rect l="l" t="t" r="r" b="b"/>
              <a:pathLst>
                <a:path w="174" h="729">
                  <a:moveTo>
                    <a:pt x="51" y="681"/>
                  </a:moveTo>
                  <a:cubicBezTo>
                    <a:pt x="60" y="636"/>
                    <a:pt x="69" y="591"/>
                    <a:pt x="75" y="537"/>
                  </a:cubicBezTo>
                  <a:cubicBezTo>
                    <a:pt x="81" y="483"/>
                    <a:pt x="91" y="400"/>
                    <a:pt x="87" y="357"/>
                  </a:cubicBezTo>
                  <a:cubicBezTo>
                    <a:pt x="83" y="314"/>
                    <a:pt x="62" y="311"/>
                    <a:pt x="54" y="282"/>
                  </a:cubicBezTo>
                  <a:cubicBezTo>
                    <a:pt x="46" y="253"/>
                    <a:pt x="45" y="214"/>
                    <a:pt x="36" y="183"/>
                  </a:cubicBezTo>
                  <a:cubicBezTo>
                    <a:pt x="27" y="152"/>
                    <a:pt x="0" y="98"/>
                    <a:pt x="0" y="93"/>
                  </a:cubicBezTo>
                  <a:cubicBezTo>
                    <a:pt x="0" y="88"/>
                    <a:pt x="25" y="123"/>
                    <a:pt x="36" y="150"/>
                  </a:cubicBezTo>
                  <a:cubicBezTo>
                    <a:pt x="47" y="177"/>
                    <a:pt x="61" y="228"/>
                    <a:pt x="69" y="255"/>
                  </a:cubicBezTo>
                  <a:cubicBezTo>
                    <a:pt x="77" y="282"/>
                    <a:pt x="81" y="315"/>
                    <a:pt x="87" y="312"/>
                  </a:cubicBezTo>
                  <a:cubicBezTo>
                    <a:pt x="93" y="309"/>
                    <a:pt x="101" y="264"/>
                    <a:pt x="108" y="237"/>
                  </a:cubicBezTo>
                  <a:cubicBezTo>
                    <a:pt x="115" y="210"/>
                    <a:pt x="123" y="172"/>
                    <a:pt x="129" y="147"/>
                  </a:cubicBezTo>
                  <a:cubicBezTo>
                    <a:pt x="135" y="122"/>
                    <a:pt x="139" y="107"/>
                    <a:pt x="144" y="84"/>
                  </a:cubicBezTo>
                  <a:cubicBezTo>
                    <a:pt x="149" y="61"/>
                    <a:pt x="155" y="12"/>
                    <a:pt x="159" y="6"/>
                  </a:cubicBezTo>
                  <a:cubicBezTo>
                    <a:pt x="163" y="0"/>
                    <a:pt x="174" y="17"/>
                    <a:pt x="171" y="45"/>
                  </a:cubicBezTo>
                  <a:cubicBezTo>
                    <a:pt x="168" y="73"/>
                    <a:pt x="148" y="130"/>
                    <a:pt x="138" y="174"/>
                  </a:cubicBezTo>
                  <a:cubicBezTo>
                    <a:pt x="128" y="218"/>
                    <a:pt x="113" y="278"/>
                    <a:pt x="108" y="312"/>
                  </a:cubicBezTo>
                  <a:cubicBezTo>
                    <a:pt x="103" y="346"/>
                    <a:pt x="105" y="347"/>
                    <a:pt x="105" y="381"/>
                  </a:cubicBezTo>
                  <a:cubicBezTo>
                    <a:pt x="105" y="415"/>
                    <a:pt x="114" y="458"/>
                    <a:pt x="108" y="516"/>
                  </a:cubicBezTo>
                  <a:cubicBezTo>
                    <a:pt x="102" y="574"/>
                    <a:pt x="85" y="651"/>
                    <a:pt x="69" y="729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8274600" y="3547080"/>
              <a:ext cx="579960" cy="21096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8051400" y="3430440"/>
              <a:ext cx="670320" cy="223920"/>
            </a:xfrm>
            <a:custGeom>
              <a:avLst/>
              <a:gdLst/>
              <a:ahLst/>
              <a:rect l="l" t="t" r="r" b="b"/>
              <a:pathLst>
                <a:path w="739" h="292">
                  <a:moveTo>
                    <a:pt x="156" y="98"/>
                  </a:moveTo>
                  <a:cubicBezTo>
                    <a:pt x="158" y="98"/>
                    <a:pt x="108" y="116"/>
                    <a:pt x="90" y="128"/>
                  </a:cubicBezTo>
                  <a:cubicBezTo>
                    <a:pt x="72" y="140"/>
                    <a:pt x="56" y="154"/>
                    <a:pt x="48" y="172"/>
                  </a:cubicBezTo>
                  <a:cubicBezTo>
                    <a:pt x="40" y="190"/>
                    <a:pt x="32" y="219"/>
                    <a:pt x="42" y="236"/>
                  </a:cubicBezTo>
                  <a:cubicBezTo>
                    <a:pt x="52" y="253"/>
                    <a:pt x="72" y="266"/>
                    <a:pt x="110" y="274"/>
                  </a:cubicBezTo>
                  <a:cubicBezTo>
                    <a:pt x="148" y="282"/>
                    <a:pt x="228" y="285"/>
                    <a:pt x="268" y="284"/>
                  </a:cubicBezTo>
                  <a:cubicBezTo>
                    <a:pt x="308" y="283"/>
                    <a:pt x="327" y="280"/>
                    <a:pt x="352" y="268"/>
                  </a:cubicBezTo>
                  <a:cubicBezTo>
                    <a:pt x="377" y="256"/>
                    <a:pt x="398" y="224"/>
                    <a:pt x="416" y="210"/>
                  </a:cubicBezTo>
                  <a:cubicBezTo>
                    <a:pt x="434" y="196"/>
                    <a:pt x="443" y="179"/>
                    <a:pt x="460" y="186"/>
                  </a:cubicBezTo>
                  <a:cubicBezTo>
                    <a:pt x="477" y="193"/>
                    <a:pt x="483" y="233"/>
                    <a:pt x="518" y="250"/>
                  </a:cubicBezTo>
                  <a:cubicBezTo>
                    <a:pt x="553" y="267"/>
                    <a:pt x="633" y="292"/>
                    <a:pt x="668" y="290"/>
                  </a:cubicBezTo>
                  <a:cubicBezTo>
                    <a:pt x="703" y="288"/>
                    <a:pt x="715" y="261"/>
                    <a:pt x="726" y="240"/>
                  </a:cubicBezTo>
                  <a:cubicBezTo>
                    <a:pt x="737" y="219"/>
                    <a:pt x="739" y="184"/>
                    <a:pt x="734" y="162"/>
                  </a:cubicBezTo>
                  <a:cubicBezTo>
                    <a:pt x="729" y="140"/>
                    <a:pt x="727" y="127"/>
                    <a:pt x="698" y="108"/>
                  </a:cubicBezTo>
                  <a:cubicBezTo>
                    <a:pt x="669" y="89"/>
                    <a:pt x="622" y="61"/>
                    <a:pt x="562" y="48"/>
                  </a:cubicBezTo>
                  <a:cubicBezTo>
                    <a:pt x="502" y="35"/>
                    <a:pt x="404" y="37"/>
                    <a:pt x="340" y="30"/>
                  </a:cubicBezTo>
                  <a:cubicBezTo>
                    <a:pt x="276" y="23"/>
                    <a:pt x="224" y="12"/>
                    <a:pt x="178" y="8"/>
                  </a:cubicBezTo>
                  <a:cubicBezTo>
                    <a:pt x="132" y="4"/>
                    <a:pt x="90" y="0"/>
                    <a:pt x="62" y="4"/>
                  </a:cubicBezTo>
                  <a:cubicBezTo>
                    <a:pt x="34" y="8"/>
                    <a:pt x="16" y="18"/>
                    <a:pt x="8" y="30"/>
                  </a:cubicBezTo>
                  <a:cubicBezTo>
                    <a:pt x="0" y="42"/>
                    <a:pt x="5" y="58"/>
                    <a:pt x="16" y="74"/>
                  </a:cubicBezTo>
                  <a:cubicBezTo>
                    <a:pt x="27" y="90"/>
                    <a:pt x="52" y="125"/>
                    <a:pt x="76" y="128"/>
                  </a:cubicBezTo>
                  <a:cubicBezTo>
                    <a:pt x="100" y="131"/>
                    <a:pt x="154" y="98"/>
                    <a:pt x="156" y="9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7721640" y="3469320"/>
              <a:ext cx="457560" cy="198000"/>
            </a:xfrm>
            <a:custGeom>
              <a:avLst/>
              <a:gdLst/>
              <a:ahLst/>
              <a:rect l="l" t="t" r="r" b="b"/>
              <a:pathLst>
                <a:path w="525" h="237">
                  <a:moveTo>
                    <a:pt x="22" y="130"/>
                  </a:moveTo>
                  <a:cubicBezTo>
                    <a:pt x="15" y="142"/>
                    <a:pt x="0" y="162"/>
                    <a:pt x="4" y="178"/>
                  </a:cubicBezTo>
                  <a:cubicBezTo>
                    <a:pt x="8" y="194"/>
                    <a:pt x="23" y="214"/>
                    <a:pt x="44" y="224"/>
                  </a:cubicBezTo>
                  <a:cubicBezTo>
                    <a:pt x="65" y="234"/>
                    <a:pt x="102" y="237"/>
                    <a:pt x="130" y="236"/>
                  </a:cubicBezTo>
                  <a:cubicBezTo>
                    <a:pt x="158" y="235"/>
                    <a:pt x="172" y="217"/>
                    <a:pt x="210" y="216"/>
                  </a:cubicBezTo>
                  <a:cubicBezTo>
                    <a:pt x="248" y="215"/>
                    <a:pt x="317" y="235"/>
                    <a:pt x="356" y="230"/>
                  </a:cubicBezTo>
                  <a:cubicBezTo>
                    <a:pt x="395" y="225"/>
                    <a:pt x="419" y="207"/>
                    <a:pt x="446" y="184"/>
                  </a:cubicBezTo>
                  <a:cubicBezTo>
                    <a:pt x="473" y="161"/>
                    <a:pt x="507" y="117"/>
                    <a:pt x="516" y="94"/>
                  </a:cubicBezTo>
                  <a:cubicBezTo>
                    <a:pt x="525" y="71"/>
                    <a:pt x="524" y="63"/>
                    <a:pt x="498" y="48"/>
                  </a:cubicBezTo>
                  <a:cubicBezTo>
                    <a:pt x="472" y="33"/>
                    <a:pt x="403" y="12"/>
                    <a:pt x="360" y="6"/>
                  </a:cubicBezTo>
                  <a:cubicBezTo>
                    <a:pt x="317" y="0"/>
                    <a:pt x="277" y="5"/>
                    <a:pt x="240" y="14"/>
                  </a:cubicBezTo>
                  <a:cubicBezTo>
                    <a:pt x="203" y="23"/>
                    <a:pt x="168" y="45"/>
                    <a:pt x="136" y="60"/>
                  </a:cubicBezTo>
                  <a:cubicBezTo>
                    <a:pt x="104" y="75"/>
                    <a:pt x="66" y="93"/>
                    <a:pt x="46" y="106"/>
                  </a:cubicBezTo>
                  <a:cubicBezTo>
                    <a:pt x="26" y="119"/>
                    <a:pt x="29" y="118"/>
                    <a:pt x="22" y="1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7629480" y="3591000"/>
              <a:ext cx="366120" cy="131400"/>
            </a:xfrm>
            <a:custGeom>
              <a:avLst/>
              <a:gdLst/>
              <a:ahLst/>
              <a:rect l="l" t="t" r="r" b="b"/>
              <a:pathLst>
                <a:path w="420" h="189">
                  <a:moveTo>
                    <a:pt x="112" y="3"/>
                  </a:moveTo>
                  <a:cubicBezTo>
                    <a:pt x="97" y="6"/>
                    <a:pt x="58" y="19"/>
                    <a:pt x="40" y="29"/>
                  </a:cubicBezTo>
                  <a:cubicBezTo>
                    <a:pt x="22" y="39"/>
                    <a:pt x="4" y="46"/>
                    <a:pt x="2" y="61"/>
                  </a:cubicBezTo>
                  <a:cubicBezTo>
                    <a:pt x="0" y="76"/>
                    <a:pt x="9" y="102"/>
                    <a:pt x="26" y="117"/>
                  </a:cubicBezTo>
                  <a:cubicBezTo>
                    <a:pt x="43" y="132"/>
                    <a:pt x="77" y="138"/>
                    <a:pt x="104" y="149"/>
                  </a:cubicBezTo>
                  <a:cubicBezTo>
                    <a:pt x="131" y="160"/>
                    <a:pt x="159" y="181"/>
                    <a:pt x="188" y="185"/>
                  </a:cubicBezTo>
                  <a:cubicBezTo>
                    <a:pt x="217" y="189"/>
                    <a:pt x="248" y="180"/>
                    <a:pt x="280" y="173"/>
                  </a:cubicBezTo>
                  <a:cubicBezTo>
                    <a:pt x="312" y="166"/>
                    <a:pt x="357" y="155"/>
                    <a:pt x="380" y="141"/>
                  </a:cubicBezTo>
                  <a:cubicBezTo>
                    <a:pt x="403" y="127"/>
                    <a:pt x="420" y="106"/>
                    <a:pt x="420" y="91"/>
                  </a:cubicBezTo>
                  <a:cubicBezTo>
                    <a:pt x="420" y="76"/>
                    <a:pt x="407" y="56"/>
                    <a:pt x="382" y="49"/>
                  </a:cubicBezTo>
                  <a:cubicBezTo>
                    <a:pt x="357" y="42"/>
                    <a:pt x="302" y="51"/>
                    <a:pt x="268" y="51"/>
                  </a:cubicBezTo>
                  <a:cubicBezTo>
                    <a:pt x="234" y="51"/>
                    <a:pt x="203" y="54"/>
                    <a:pt x="180" y="47"/>
                  </a:cubicBezTo>
                  <a:cubicBezTo>
                    <a:pt x="157" y="40"/>
                    <a:pt x="144" y="18"/>
                    <a:pt x="132" y="11"/>
                  </a:cubicBezTo>
                  <a:cubicBezTo>
                    <a:pt x="120" y="4"/>
                    <a:pt x="127" y="0"/>
                    <a:pt x="112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8265960" y="3719880"/>
              <a:ext cx="315360" cy="11484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5" name=""/>
          <p:cNvGrpSpPr/>
          <p:nvPr/>
        </p:nvGrpSpPr>
        <p:grpSpPr>
          <a:xfrm>
            <a:off x="5805360" y="3432240"/>
            <a:ext cx="2351160" cy="2644560"/>
            <a:chOff x="5805360" y="3432240"/>
            <a:chExt cx="2351160" cy="2644560"/>
          </a:xfrm>
        </p:grpSpPr>
        <p:grpSp>
          <p:nvGrpSpPr>
            <p:cNvPr id="7476" name=""/>
            <p:cNvGrpSpPr/>
            <p:nvPr/>
          </p:nvGrpSpPr>
          <p:grpSpPr>
            <a:xfrm>
              <a:off x="7634160" y="5040000"/>
              <a:ext cx="522360" cy="959760"/>
              <a:chOff x="7634160" y="5040000"/>
              <a:chExt cx="522360" cy="959760"/>
            </a:xfrm>
          </p:grpSpPr>
          <p:sp>
            <p:nvSpPr>
              <p:cNvPr id="7477" name=""/>
              <p:cNvSpPr/>
              <p:nvPr/>
            </p:nvSpPr>
            <p:spPr>
              <a:xfrm rot="21435000">
                <a:off x="7863840" y="5093280"/>
                <a:ext cx="55440" cy="905400"/>
              </a:xfrm>
              <a:custGeom>
                <a:avLst/>
                <a:gdLst/>
                <a:ahLst/>
                <a:rect l="l" t="t" r="r" b="b"/>
                <a:pathLst>
                  <a:path w="63" h="960">
                    <a:moveTo>
                      <a:pt x="3" y="960"/>
                    </a:moveTo>
                    <a:cubicBezTo>
                      <a:pt x="1" y="911"/>
                      <a:pt x="0" y="862"/>
                      <a:pt x="9" y="798"/>
                    </a:cubicBezTo>
                    <a:cubicBezTo>
                      <a:pt x="18" y="734"/>
                      <a:pt x="51" y="644"/>
                      <a:pt x="57" y="576"/>
                    </a:cubicBezTo>
                    <a:cubicBezTo>
                      <a:pt x="63" y="508"/>
                      <a:pt x="44" y="455"/>
                      <a:pt x="45" y="390"/>
                    </a:cubicBezTo>
                    <a:cubicBezTo>
                      <a:pt x="46" y="325"/>
                      <a:pt x="63" y="251"/>
                      <a:pt x="63" y="186"/>
                    </a:cubicBezTo>
                    <a:cubicBezTo>
                      <a:pt x="63" y="121"/>
                      <a:pt x="54" y="60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 rot="250800">
                <a:off x="7975800" y="5067000"/>
                <a:ext cx="1224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 rot="250800">
                <a:off x="7994160" y="5059800"/>
                <a:ext cx="12240" cy="36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 rot="20939400">
                <a:off x="8013960" y="5056920"/>
                <a:ext cx="1116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 rot="20939400">
                <a:off x="8032320" y="5052960"/>
                <a:ext cx="1116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 rot="20939400">
                <a:off x="8049600" y="5049720"/>
                <a:ext cx="972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 rot="20939400">
                <a:off x="8066520" y="5050080"/>
                <a:ext cx="86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 rot="20939400">
                <a:off x="8083440" y="5051520"/>
                <a:ext cx="828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 rot="21327600">
                <a:off x="8098920" y="5053320"/>
                <a:ext cx="828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 rot="250800">
                <a:off x="7956360" y="5045040"/>
                <a:ext cx="144720" cy="435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 rot="21435000">
                <a:off x="7900920" y="5067720"/>
                <a:ext cx="69480" cy="14400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0" y="153"/>
                    </a:moveTo>
                    <a:cubicBezTo>
                      <a:pt x="12" y="139"/>
                      <a:pt x="24" y="126"/>
                      <a:pt x="33" y="108"/>
                    </a:cubicBezTo>
                    <a:cubicBezTo>
                      <a:pt x="42" y="90"/>
                      <a:pt x="47" y="60"/>
                      <a:pt x="54" y="42"/>
                    </a:cubicBezTo>
                    <a:cubicBezTo>
                      <a:pt x="61" y="24"/>
                      <a:pt x="69" y="12"/>
                      <a:pt x="7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 rot="21435000">
                <a:off x="7906680" y="5357880"/>
                <a:ext cx="130680" cy="194760"/>
              </a:xfrm>
              <a:custGeom>
                <a:avLst/>
                <a:gdLst/>
                <a:ahLst/>
                <a:rect l="l" t="t" r="r" b="b"/>
                <a:pathLst>
                  <a:path w="147" h="207">
                    <a:moveTo>
                      <a:pt x="0" y="207"/>
                    </a:moveTo>
                    <a:cubicBezTo>
                      <a:pt x="17" y="188"/>
                      <a:pt x="35" y="169"/>
                      <a:pt x="54" y="147"/>
                    </a:cubicBezTo>
                    <a:cubicBezTo>
                      <a:pt x="73" y="125"/>
                      <a:pt x="99" y="96"/>
                      <a:pt x="114" y="72"/>
                    </a:cubicBezTo>
                    <a:cubicBezTo>
                      <a:pt x="129" y="48"/>
                      <a:pt x="138" y="24"/>
                      <a:pt x="1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 rot="21435000">
                <a:off x="7806240" y="5261760"/>
                <a:ext cx="87480" cy="155520"/>
              </a:xfrm>
              <a:custGeom>
                <a:avLst/>
                <a:gdLst/>
                <a:ahLst/>
                <a:rect l="l" t="t" r="r" b="b"/>
                <a:pathLst>
                  <a:path w="99" h="165">
                    <a:moveTo>
                      <a:pt x="99" y="165"/>
                    </a:moveTo>
                    <a:cubicBezTo>
                      <a:pt x="88" y="151"/>
                      <a:pt x="77" y="137"/>
                      <a:pt x="66" y="123"/>
                    </a:cubicBezTo>
                    <a:cubicBezTo>
                      <a:pt x="55" y="109"/>
                      <a:pt x="44" y="98"/>
                      <a:pt x="33" y="78"/>
                    </a:cubicBezTo>
                    <a:cubicBezTo>
                      <a:pt x="22" y="58"/>
                      <a:pt x="11" y="2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 rot="21435000">
                <a:off x="7752240" y="5257800"/>
                <a:ext cx="69480" cy="5904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63"/>
                    </a:moveTo>
                    <a:cubicBezTo>
                      <a:pt x="59" y="54"/>
                      <a:pt x="40" y="46"/>
                      <a:pt x="27" y="36"/>
                    </a:cubicBezTo>
                    <a:cubicBezTo>
                      <a:pt x="14" y="26"/>
                      <a:pt x="7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 rot="21435000">
                <a:off x="7896600" y="5729040"/>
                <a:ext cx="29160" cy="367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0" y="36"/>
                    </a:moveTo>
                    <a:cubicBezTo>
                      <a:pt x="11" y="37"/>
                      <a:pt x="22" y="39"/>
                      <a:pt x="27" y="33"/>
                    </a:cubicBezTo>
                    <a:cubicBezTo>
                      <a:pt x="32" y="27"/>
                      <a:pt x="32" y="5"/>
                      <a:pt x="3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 rot="21435000">
                <a:off x="7892640" y="5619600"/>
                <a:ext cx="17280" cy="5364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20" y="57"/>
                    </a:moveTo>
                    <a:cubicBezTo>
                      <a:pt x="12" y="51"/>
                      <a:pt x="4" y="45"/>
                      <a:pt x="2" y="36"/>
                    </a:cubicBezTo>
                    <a:cubicBezTo>
                      <a:pt x="0" y="27"/>
                      <a:pt x="2" y="13"/>
                      <a:pt x="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 rot="21435000">
                <a:off x="7963560" y="5437080"/>
                <a:ext cx="2520" cy="45720"/>
              </a:xfrm>
              <a:custGeom>
                <a:avLst/>
                <a:gdLst/>
                <a:ahLst/>
                <a:rect l="l" t="t" r="r" b="b"/>
                <a:pathLst>
                  <a:path w="3" h="48">
                    <a:moveTo>
                      <a:pt x="0" y="48"/>
                    </a:moveTo>
                    <a:cubicBezTo>
                      <a:pt x="0" y="48"/>
                      <a:pt x="1" y="24"/>
                      <a:pt x="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 rot="973200">
                <a:off x="7967520" y="5112000"/>
                <a:ext cx="1224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 rot="973200">
                <a:off x="7988400" y="5108400"/>
                <a:ext cx="1152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 rot="61800">
                <a:off x="8025840" y="5110560"/>
                <a:ext cx="1116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 rot="61800">
                <a:off x="8060760" y="5114520"/>
                <a:ext cx="86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 rot="61800">
                <a:off x="8077680" y="5121000"/>
                <a:ext cx="828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 rot="450000">
                <a:off x="8091720" y="512604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 rot="973200">
                <a:off x="7950600" y="5100840"/>
                <a:ext cx="144360" cy="424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 flipH="1" rot="20297400">
                <a:off x="7921440" y="5083560"/>
                <a:ext cx="1260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 flipH="1" rot="20297400">
                <a:off x="7901280" y="5081400"/>
                <a:ext cx="1260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 flipH="1" rot="21208800">
                <a:off x="7882920" y="5085000"/>
                <a:ext cx="1152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 flipH="1" rot="21208800">
                <a:off x="7864200" y="5087880"/>
                <a:ext cx="1008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 flipH="1" rot="21208800">
                <a:off x="7847640" y="5090760"/>
                <a:ext cx="972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 flipH="1" rot="21208800">
                <a:off x="7831440" y="509508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 flipH="1" rot="21208800">
                <a:off x="7816320" y="5102640"/>
                <a:ext cx="8280" cy="22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 flipH="1" rot="20820600">
                <a:off x="7803000" y="5108760"/>
                <a:ext cx="8280" cy="230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 flipH="1" rot="20297400">
                <a:off x="7805880" y="5077080"/>
                <a:ext cx="144360" cy="439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 flipH="1" rot="19884600">
                <a:off x="7861320" y="5146920"/>
                <a:ext cx="1224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 flipH="1" rot="19884600">
                <a:off x="7839720" y="5148360"/>
                <a:ext cx="12600" cy="36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 flipH="1" rot="20796000">
                <a:off x="7822080" y="5152680"/>
                <a:ext cx="11520" cy="37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 flipH="1" rot="20796000">
                <a:off x="7787520" y="5163120"/>
                <a:ext cx="972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 flipH="1" rot="20796000">
                <a:off x="7773120" y="5170320"/>
                <a:ext cx="828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 flipH="1" rot="20796000">
                <a:off x="7758000" y="518004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 flipH="1" rot="20407800">
                <a:off x="7744680" y="5188320"/>
                <a:ext cx="828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 flipH="1" rot="19884600">
                <a:off x="7744680" y="5146920"/>
                <a:ext cx="144360" cy="435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 rot="1800600">
                <a:off x="7905960" y="5126040"/>
                <a:ext cx="1008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 rot="889200">
                <a:off x="7938720" y="5129640"/>
                <a:ext cx="972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rot="889200">
                <a:off x="7972200" y="5139720"/>
                <a:ext cx="7560" cy="27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 rot="889200">
                <a:off x="7986240" y="5144040"/>
                <a:ext cx="6840" cy="25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 rot="889200">
                <a:off x="7999200" y="5153760"/>
                <a:ext cx="684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 rot="1277400">
                <a:off x="8008920" y="5160960"/>
                <a:ext cx="684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 rot="1800600">
                <a:off x="7893720" y="5124600"/>
                <a:ext cx="123480" cy="424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 rot="1800600">
                <a:off x="7817400" y="5261760"/>
                <a:ext cx="1116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 rot="1800600">
                <a:off x="7834320" y="5261400"/>
                <a:ext cx="1008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 rot="889200">
                <a:off x="7850160" y="5265720"/>
                <a:ext cx="972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 rot="889200">
                <a:off x="7868160" y="5270760"/>
                <a:ext cx="972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 rot="889200">
                <a:off x="7882920" y="5275440"/>
                <a:ext cx="756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 rot="889200">
                <a:off x="7896960" y="5280120"/>
                <a:ext cx="756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 rot="889200">
                <a:off x="7910280" y="528912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 rot="1277400">
                <a:off x="7920720" y="5297040"/>
                <a:ext cx="684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 rot="1800600">
                <a:off x="7805160" y="5259960"/>
                <a:ext cx="123120" cy="435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 flipH="1" rot="19470000">
                <a:off x="7791120" y="5286600"/>
                <a:ext cx="1116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 flipH="1" rot="19470000">
                <a:off x="7773480" y="5288400"/>
                <a:ext cx="1008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 flipH="1" rot="20381400">
                <a:off x="7742880" y="5299560"/>
                <a:ext cx="9360" cy="33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 flipH="1" rot="20381400">
                <a:off x="7728480" y="5305680"/>
                <a:ext cx="828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 flipH="1" rot="20381400">
                <a:off x="7716600" y="5313240"/>
                <a:ext cx="6840" cy="24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 flipH="1" rot="20381400">
                <a:off x="7704000" y="532332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 flipH="1" rot="19993200">
                <a:off x="7693920" y="5331600"/>
                <a:ext cx="7560" cy="230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 flipH="1" rot="19470000">
                <a:off x="7691400" y="5289120"/>
                <a:ext cx="123840" cy="43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 flipH="1" rot="19470000">
                <a:off x="7735320" y="5268240"/>
                <a:ext cx="10080" cy="36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 flipH="1" rot="19470000">
                <a:off x="7717680" y="5269320"/>
                <a:ext cx="1008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 flipH="1" rot="20381400">
                <a:off x="7704000" y="5275440"/>
                <a:ext cx="936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 flipH="1" rot="20381400">
                <a:off x="7686720" y="5281200"/>
                <a:ext cx="972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 flipH="1" rot="20381400">
                <a:off x="7673400" y="5286600"/>
                <a:ext cx="756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 flipH="1" rot="20381400">
                <a:off x="7661160" y="5293440"/>
                <a:ext cx="6840" cy="25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 flipH="1" rot="20381400">
                <a:off x="7648200" y="5304240"/>
                <a:ext cx="684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 flipH="1" rot="19993200">
                <a:off x="7638840" y="5312880"/>
                <a:ext cx="684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 flipH="1" rot="19470000">
                <a:off x="7634880" y="5270760"/>
                <a:ext cx="122760" cy="428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 flipH="1" rot="19470000">
                <a:off x="8009640" y="5363640"/>
                <a:ext cx="11160" cy="36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 flipH="1" rot="19470000">
                <a:off x="7992000" y="5364720"/>
                <a:ext cx="1008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 flipH="1" rot="20381400">
                <a:off x="7960680" y="5375520"/>
                <a:ext cx="972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 flipH="1" rot="20381400">
                <a:off x="7935120" y="5388840"/>
                <a:ext cx="6840" cy="25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 flipH="1" rot="20381400">
                <a:off x="7922520" y="539928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 flipH="1" rot="19993200">
                <a:off x="7913160" y="5408640"/>
                <a:ext cx="7560" cy="22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 flipH="1" rot="19470000">
                <a:off x="7909920" y="5365440"/>
                <a:ext cx="123840" cy="43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 rot="1800600">
                <a:off x="8041680" y="5373360"/>
                <a:ext cx="10800" cy="36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 rot="1800600">
                <a:off x="8058960" y="5372280"/>
                <a:ext cx="1008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 rot="889200">
                <a:off x="8075160" y="5377320"/>
                <a:ext cx="972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 rot="889200">
                <a:off x="8107920" y="5387040"/>
                <a:ext cx="756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 rot="889200">
                <a:off x="8121600" y="5391720"/>
                <a:ext cx="68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 rot="1277400">
                <a:off x="8145000" y="5408280"/>
                <a:ext cx="75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 rot="1800600">
                <a:off x="8029800" y="5371560"/>
                <a:ext cx="122760" cy="435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 flipH="1" rot="20511000">
                <a:off x="7939080" y="5439240"/>
                <a:ext cx="972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 flipH="1" rot="21422400">
                <a:off x="7909920" y="5436360"/>
                <a:ext cx="9000" cy="33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 flipH="1" rot="21422400">
                <a:off x="7895160" y="5437080"/>
                <a:ext cx="8640" cy="291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 flipH="1" rot="21422400">
                <a:off x="7881840" y="5438880"/>
                <a:ext cx="68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 flipH="1" rot="21422400">
                <a:off x="7871040" y="544176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 flipH="1" rot="21422400">
                <a:off x="7858080" y="544680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 flipH="1" rot="21034800">
                <a:off x="7848000" y="545076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 flipH="1" rot="20511000">
                <a:off x="7849440" y="5428800"/>
                <a:ext cx="109800" cy="388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 flipH="1" rot="20511000">
                <a:off x="7869600" y="5626440"/>
                <a:ext cx="936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 flipH="1" rot="20511000">
                <a:off x="7854120" y="562320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 flipH="1" rot="21422400">
                <a:off x="7824960" y="5623920"/>
                <a:ext cx="9000" cy="291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 flipH="1" rot="21422400">
                <a:off x="7800840" y="5628240"/>
                <a:ext cx="612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 flipH="1" rot="21422400">
                <a:off x="7787520" y="563400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 flipH="1" rot="21034800">
                <a:off x="7777800" y="563760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 flipH="1" rot="20511000">
                <a:off x="7779240" y="5616000"/>
                <a:ext cx="109800" cy="381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 flipH="1" rot="20511000">
                <a:off x="7898040" y="5726880"/>
                <a:ext cx="972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 flipH="1" rot="20511000">
                <a:off x="7882560" y="5723640"/>
                <a:ext cx="972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 flipH="1" rot="21422400">
                <a:off x="7869600" y="5723640"/>
                <a:ext cx="8640" cy="33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 flipH="1" rot="21422400">
                <a:off x="7830000" y="572940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 flipH="1" rot="21422400">
                <a:off x="7817040" y="573516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 flipH="1" rot="20511000">
                <a:off x="7808400" y="5716440"/>
                <a:ext cx="109800" cy="388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 rot="21448800">
                <a:off x="7970040" y="5732280"/>
                <a:ext cx="864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 rot="21448800">
                <a:off x="7984080" y="5730840"/>
                <a:ext cx="8640" cy="291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 rot="21448800">
                <a:off x="8011440" y="5732640"/>
                <a:ext cx="612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 rot="21448800">
                <a:off x="8025480" y="573624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 rot="236400">
                <a:off x="8035920" y="574056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 rot="759600">
                <a:off x="7927920" y="5724000"/>
                <a:ext cx="109800" cy="388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 rot="759600">
                <a:off x="7908840" y="5637960"/>
                <a:ext cx="9360" cy="33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 rot="759600">
                <a:off x="7924320" y="5633640"/>
                <a:ext cx="9360" cy="33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 rot="21448800">
                <a:off x="7953480" y="5631120"/>
                <a:ext cx="864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 rot="21448800">
                <a:off x="7967160" y="5631480"/>
                <a:ext cx="684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 rot="21448800">
                <a:off x="7994160" y="563652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 rot="236400">
                <a:off x="8005320" y="564084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 rot="759600">
                <a:off x="7896600" y="5624280"/>
                <a:ext cx="109800" cy="388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 rot="759600">
                <a:off x="7979760" y="5451840"/>
                <a:ext cx="972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 rot="759600">
                <a:off x="7994880" y="5446440"/>
                <a:ext cx="9720" cy="33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 rot="21448800">
                <a:off x="8009640" y="5445360"/>
                <a:ext cx="864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 rot="21448800">
                <a:off x="8024400" y="5444280"/>
                <a:ext cx="8640" cy="291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 rot="21448800">
                <a:off x="8038440" y="5445000"/>
                <a:ext cx="68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 rot="21448800">
                <a:off x="8051040" y="5446080"/>
                <a:ext cx="612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 rot="21448800">
                <a:off x="8065800" y="544968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 rot="236400">
                <a:off x="8076240" y="545364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rot="759600">
                <a:off x="7967520" y="5437440"/>
                <a:ext cx="109800" cy="388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8" name=""/>
            <p:cNvGrpSpPr/>
            <p:nvPr/>
          </p:nvGrpSpPr>
          <p:grpSpPr>
            <a:xfrm>
              <a:off x="6678360" y="4517640"/>
              <a:ext cx="1308240" cy="1509480"/>
              <a:chOff x="6678360" y="4517640"/>
              <a:chExt cx="1308240" cy="1509480"/>
            </a:xfrm>
          </p:grpSpPr>
          <p:grpSp>
            <p:nvGrpSpPr>
              <p:cNvPr id="7609" name=""/>
              <p:cNvGrpSpPr/>
              <p:nvPr/>
            </p:nvGrpSpPr>
            <p:grpSpPr>
              <a:xfrm>
                <a:off x="7303320" y="4582440"/>
                <a:ext cx="161640" cy="724320"/>
                <a:chOff x="7303320" y="4582440"/>
                <a:chExt cx="161640" cy="724320"/>
              </a:xfrm>
            </p:grpSpPr>
            <p:sp>
              <p:nvSpPr>
                <p:cNvPr id="7610" name=""/>
                <p:cNvSpPr/>
                <p:nvPr/>
              </p:nvSpPr>
              <p:spPr>
                <a:xfrm rot="18886800">
                  <a:off x="7331760" y="5176800"/>
                  <a:ext cx="95400" cy="83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 rot="18886800">
                  <a:off x="7331040" y="514620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 rot="18886800">
                  <a:off x="7329600" y="512208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 rot="18886800">
                  <a:off x="7326720" y="509688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 rot="18886800">
                  <a:off x="7324920" y="506988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 rot="18886800">
                  <a:off x="7326000" y="504216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 rot="18886800">
                  <a:off x="7328160" y="501696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 rot="18886800">
                  <a:off x="7329600" y="498744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8" name=""/>
                <p:cNvSpPr/>
                <p:nvPr/>
              </p:nvSpPr>
              <p:spPr>
                <a:xfrm rot="18886800">
                  <a:off x="7327440" y="4960080"/>
                  <a:ext cx="111600" cy="98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9" name=""/>
                <p:cNvSpPr/>
                <p:nvPr/>
              </p:nvSpPr>
              <p:spPr>
                <a:xfrm rot="18886800">
                  <a:off x="7325280" y="4933800"/>
                  <a:ext cx="10404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 rot="18886800">
                  <a:off x="7323840" y="4906800"/>
                  <a:ext cx="10404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 rot="18886800">
                  <a:off x="7324920" y="4878720"/>
                  <a:ext cx="99000" cy="87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 rot="18886800">
                  <a:off x="7320600" y="4849560"/>
                  <a:ext cx="99000" cy="87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3" name=""/>
                <p:cNvSpPr/>
                <p:nvPr/>
              </p:nvSpPr>
              <p:spPr>
                <a:xfrm rot="18886800">
                  <a:off x="7317720" y="4817880"/>
                  <a:ext cx="88200" cy="77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4" name=""/>
                <p:cNvSpPr/>
                <p:nvPr/>
              </p:nvSpPr>
              <p:spPr>
                <a:xfrm rot="18886800">
                  <a:off x="7323120" y="4791960"/>
                  <a:ext cx="87120" cy="76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5" name=""/>
                <p:cNvSpPr/>
                <p:nvPr/>
              </p:nvSpPr>
              <p:spPr>
                <a:xfrm rot="18886800">
                  <a:off x="7324920" y="476820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6" name=""/>
                <p:cNvSpPr/>
                <p:nvPr/>
              </p:nvSpPr>
              <p:spPr>
                <a:xfrm rot="19496400">
                  <a:off x="7329240" y="474084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7" name=""/>
                <p:cNvSpPr/>
                <p:nvPr/>
              </p:nvSpPr>
              <p:spPr>
                <a:xfrm rot="19496400">
                  <a:off x="7337160" y="471384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8" name=""/>
                <p:cNvSpPr/>
                <p:nvPr/>
              </p:nvSpPr>
              <p:spPr>
                <a:xfrm rot="19496400">
                  <a:off x="7344360" y="468864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9" name=""/>
                <p:cNvSpPr/>
                <p:nvPr/>
              </p:nvSpPr>
              <p:spPr>
                <a:xfrm rot="19496400">
                  <a:off x="7350840" y="4669560"/>
                  <a:ext cx="5004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 rot="19496400">
                  <a:off x="7358040" y="46494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 rot="19496400">
                  <a:off x="7371000" y="46281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2" name=""/>
                <p:cNvSpPr/>
                <p:nvPr/>
              </p:nvSpPr>
              <p:spPr>
                <a:xfrm rot="19496400">
                  <a:off x="7377120" y="4610880"/>
                  <a:ext cx="33480" cy="36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3" name=""/>
                <p:cNvSpPr/>
                <p:nvPr/>
              </p:nvSpPr>
              <p:spPr>
                <a:xfrm rot="19496400">
                  <a:off x="7381800" y="459324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4" name=""/>
                <p:cNvSpPr/>
                <p:nvPr/>
              </p:nvSpPr>
              <p:spPr>
                <a:xfrm rot="19496400">
                  <a:off x="7387920" y="458568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 rot="18886800">
                  <a:off x="7327800" y="520416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6" name=""/>
                <p:cNvSpPr/>
                <p:nvPr/>
              </p:nvSpPr>
              <p:spPr>
                <a:xfrm rot="18886800">
                  <a:off x="7327080" y="5233320"/>
                  <a:ext cx="66240" cy="58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7" name=""/>
              <p:cNvGrpSpPr/>
              <p:nvPr/>
            </p:nvGrpSpPr>
            <p:grpSpPr>
              <a:xfrm>
                <a:off x="7301880" y="4537080"/>
                <a:ext cx="343440" cy="915840"/>
                <a:chOff x="7301880" y="4537080"/>
                <a:chExt cx="343440" cy="915840"/>
              </a:xfrm>
            </p:grpSpPr>
            <p:sp>
              <p:nvSpPr>
                <p:cNvPr id="7638" name=""/>
                <p:cNvSpPr/>
                <p:nvPr/>
              </p:nvSpPr>
              <p:spPr>
                <a:xfrm flipH="1" rot="3667800">
                  <a:off x="7391160" y="5169240"/>
                  <a:ext cx="95400" cy="842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9" name=""/>
                <p:cNvSpPr/>
                <p:nvPr/>
              </p:nvSpPr>
              <p:spPr>
                <a:xfrm flipH="1" rot="3667800">
                  <a:off x="7396560" y="5142960"/>
                  <a:ext cx="11448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0" name=""/>
                <p:cNvSpPr/>
                <p:nvPr/>
              </p:nvSpPr>
              <p:spPr>
                <a:xfrm flipH="1" rot="3667800">
                  <a:off x="7400880" y="511884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1" name=""/>
                <p:cNvSpPr/>
                <p:nvPr/>
              </p:nvSpPr>
              <p:spPr>
                <a:xfrm flipH="1" rot="3667800">
                  <a:off x="7405560" y="509364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 flipH="1" rot="3667800">
                  <a:off x="7411320" y="506772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 flipH="1" rot="3667800">
                  <a:off x="7419960" y="5041800"/>
                  <a:ext cx="114840" cy="1004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4" name=""/>
                <p:cNvSpPr/>
                <p:nvPr/>
              </p:nvSpPr>
              <p:spPr>
                <a:xfrm flipH="1" rot="3667800">
                  <a:off x="7428960" y="501696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5" name=""/>
                <p:cNvSpPr/>
                <p:nvPr/>
              </p:nvSpPr>
              <p:spPr>
                <a:xfrm flipH="1" rot="3667800">
                  <a:off x="7437960" y="498888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6" name=""/>
                <p:cNvSpPr/>
                <p:nvPr/>
              </p:nvSpPr>
              <p:spPr>
                <a:xfrm flipH="1" rot="3667800">
                  <a:off x="7444080" y="4961880"/>
                  <a:ext cx="111600" cy="98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 flipH="1" rot="3667800">
                  <a:off x="7450200" y="4935960"/>
                  <a:ext cx="10440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8" name=""/>
                <p:cNvSpPr/>
                <p:nvPr/>
              </p:nvSpPr>
              <p:spPr>
                <a:xfrm flipH="1" rot="3667800">
                  <a:off x="7456680" y="4909680"/>
                  <a:ext cx="10368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 flipH="1" rot="3667800">
                  <a:off x="7465680" y="4881600"/>
                  <a:ext cx="98280" cy="874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 flipH="1" rot="3667800">
                  <a:off x="7469280" y="4852800"/>
                  <a:ext cx="99000" cy="86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 flipH="1" rot="3667800">
                  <a:off x="7476480" y="4820400"/>
                  <a:ext cx="88200" cy="77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2" name=""/>
                <p:cNvSpPr/>
                <p:nvPr/>
              </p:nvSpPr>
              <p:spPr>
                <a:xfrm flipH="1" rot="3667800">
                  <a:off x="7489080" y="4797000"/>
                  <a:ext cx="86760" cy="76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 flipH="1" rot="3667800">
                  <a:off x="7498800" y="477360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 flipH="1" rot="3058200">
                  <a:off x="7510320" y="474804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 flipH="1" rot="3058200">
                  <a:off x="7527600" y="472140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 flipH="1" rot="3058200">
                  <a:off x="7539840" y="4698720"/>
                  <a:ext cx="5544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 flipH="1" rot="3058200">
                  <a:off x="7554240" y="4682160"/>
                  <a:ext cx="4968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 flipH="1" rot="3058200">
                  <a:off x="7567200" y="46638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 flipH="1" rot="3058200">
                  <a:off x="7585560" y="46472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 flipH="1" rot="3058200">
                  <a:off x="7598520" y="4630320"/>
                  <a:ext cx="3312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 flipH="1" rot="3058200">
                  <a:off x="7608240" y="461484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 flipH="1" rot="3058200">
                  <a:off x="7617960" y="460728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 flipH="1" rot="3667800">
                  <a:off x="7381080" y="5193720"/>
                  <a:ext cx="81360" cy="71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 flipH="1" rot="3667800">
                  <a:off x="7375320" y="5218920"/>
                  <a:ext cx="66600" cy="58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 flipH="1" rot="4444200">
                  <a:off x="7305120" y="5145480"/>
                  <a:ext cx="9468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6" name=""/>
                <p:cNvSpPr/>
                <p:nvPr/>
              </p:nvSpPr>
              <p:spPr>
                <a:xfrm flipH="1" rot="4444200">
                  <a:off x="7288920" y="510804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7" name=""/>
                <p:cNvSpPr/>
                <p:nvPr/>
              </p:nvSpPr>
              <p:spPr>
                <a:xfrm flipH="1" rot="4444200">
                  <a:off x="7295040" y="508320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8" name=""/>
                <p:cNvSpPr/>
                <p:nvPr/>
              </p:nvSpPr>
              <p:spPr>
                <a:xfrm flipH="1" rot="4444200">
                  <a:off x="7304400" y="5056200"/>
                  <a:ext cx="113040" cy="58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9" name=""/>
                <p:cNvSpPr/>
                <p:nvPr/>
              </p:nvSpPr>
              <p:spPr>
                <a:xfrm flipH="1" rot="4444200">
                  <a:off x="7312320" y="5026680"/>
                  <a:ext cx="113040" cy="60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 flipH="1" rot="4444200">
                  <a:off x="7315920" y="499968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1" name=""/>
                <p:cNvSpPr/>
                <p:nvPr/>
              </p:nvSpPr>
              <p:spPr>
                <a:xfrm flipH="1" rot="4444200">
                  <a:off x="7324200" y="497124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 flipH="1" rot="4444200">
                  <a:off x="7332840" y="494172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 flipH="1" rot="4444200">
                  <a:off x="7344360" y="4909680"/>
                  <a:ext cx="1101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 flipH="1" rot="4444200">
                  <a:off x="7364880" y="4877640"/>
                  <a:ext cx="10296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 flipH="1" rot="4444200">
                  <a:off x="7373880" y="4846320"/>
                  <a:ext cx="102240" cy="53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 flipH="1" rot="4444200">
                  <a:off x="7381080" y="4818240"/>
                  <a:ext cx="97560" cy="51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 flipH="1" rot="4444200">
                  <a:off x="7391520" y="4784400"/>
                  <a:ext cx="97560" cy="50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 flipH="1" rot="4444200">
                  <a:off x="7412040" y="4767480"/>
                  <a:ext cx="86760" cy="45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 flipH="1" rot="4444200">
                  <a:off x="7420680" y="4742280"/>
                  <a:ext cx="85320" cy="44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 flipH="1" rot="4444200">
                  <a:off x="7441200" y="4715640"/>
                  <a:ext cx="75240" cy="38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 flipH="1" rot="3835200">
                  <a:off x="7462800" y="4697280"/>
                  <a:ext cx="44640" cy="666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 flipH="1" rot="3835200">
                  <a:off x="7482960" y="4680720"/>
                  <a:ext cx="37800" cy="56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 flipH="1" rot="3835200">
                  <a:off x="7495920" y="4663080"/>
                  <a:ext cx="345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 flipH="1" rot="3835200">
                  <a:off x="7521120" y="4646880"/>
                  <a:ext cx="30960" cy="50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 flipH="1" rot="3835200">
                  <a:off x="7540920" y="4632120"/>
                  <a:ext cx="2880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 flipH="1" rot="3835200">
                  <a:off x="7557840" y="4611240"/>
                  <a:ext cx="2844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 flipH="1" rot="3835200">
                  <a:off x="7579440" y="4602240"/>
                  <a:ext cx="20880" cy="32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 flipH="1" rot="3835200">
                  <a:off x="7596360" y="459360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 flipH="1" rot="3835200">
                  <a:off x="7612560" y="4590360"/>
                  <a:ext cx="10800" cy="1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 flipH="1" rot="4444200">
                  <a:off x="7309080" y="5171040"/>
                  <a:ext cx="79560" cy="42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 flipH="1" rot="4444200">
                  <a:off x="7309440" y="5196600"/>
                  <a:ext cx="65880" cy="34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 rot="954600">
                  <a:off x="7427520" y="4531680"/>
                  <a:ext cx="92520" cy="925920"/>
                </a:xfrm>
                <a:custGeom>
                  <a:avLst/>
                  <a:gdLst/>
                  <a:ahLst/>
                  <a:rect l="l" t="t" r="r" b="b"/>
                  <a:pathLst>
                    <a:path w="375" h="3493">
                      <a:moveTo>
                        <a:pt x="99" y="3420"/>
                      </a:moveTo>
                      <a:cubicBezTo>
                        <a:pt x="107" y="3347"/>
                        <a:pt x="75" y="2935"/>
                        <a:pt x="67" y="2658"/>
                      </a:cubicBezTo>
                      <a:cubicBezTo>
                        <a:pt x="59" y="2381"/>
                        <a:pt x="52" y="2068"/>
                        <a:pt x="51" y="1757"/>
                      </a:cubicBezTo>
                      <a:cubicBezTo>
                        <a:pt x="50" y="1446"/>
                        <a:pt x="9" y="1072"/>
                        <a:pt x="59" y="792"/>
                      </a:cubicBezTo>
                      <a:cubicBezTo>
                        <a:pt x="109" y="512"/>
                        <a:pt x="327" y="156"/>
                        <a:pt x="351" y="78"/>
                      </a:cubicBezTo>
                      <a:cubicBezTo>
                        <a:pt x="375" y="0"/>
                        <a:pt x="252" y="225"/>
                        <a:pt x="205" y="321"/>
                      </a:cubicBezTo>
                      <a:cubicBezTo>
                        <a:pt x="158" y="417"/>
                        <a:pt x="100" y="557"/>
                        <a:pt x="67" y="654"/>
                      </a:cubicBezTo>
                      <a:cubicBezTo>
                        <a:pt x="34" y="751"/>
                        <a:pt x="20" y="786"/>
                        <a:pt x="10" y="905"/>
                      </a:cubicBezTo>
                      <a:cubicBezTo>
                        <a:pt x="0" y="1024"/>
                        <a:pt x="9" y="1154"/>
                        <a:pt x="10" y="1368"/>
                      </a:cubicBezTo>
                      <a:cubicBezTo>
                        <a:pt x="11" y="1582"/>
                        <a:pt x="19" y="1965"/>
                        <a:pt x="18" y="2187"/>
                      </a:cubicBezTo>
                      <a:cubicBezTo>
                        <a:pt x="17" y="2409"/>
                        <a:pt x="2" y="2547"/>
                        <a:pt x="2" y="2698"/>
                      </a:cubicBezTo>
                      <a:cubicBezTo>
                        <a:pt x="2" y="2849"/>
                        <a:pt x="7" y="2976"/>
                        <a:pt x="18" y="3096"/>
                      </a:cubicBezTo>
                      <a:cubicBezTo>
                        <a:pt x="29" y="3216"/>
                        <a:pt x="91" y="3493"/>
                        <a:pt x="99" y="342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00"/>
                    </a:gs>
                    <a:gs pos="100000">
                      <a:srgbClr val="99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3" name=""/>
              <p:cNvSpPr/>
              <p:nvPr/>
            </p:nvSpPr>
            <p:spPr>
              <a:xfrm flipH="1">
                <a:off x="6678000" y="4953600"/>
                <a:ext cx="682200" cy="509040"/>
              </a:xfrm>
              <a:custGeom>
                <a:avLst/>
                <a:gdLst/>
                <a:ahLst/>
                <a:rect l="l" t="t" r="r" b="b"/>
                <a:pathLst>
                  <a:path w="2751" h="1922">
                    <a:moveTo>
                      <a:pt x="40" y="1722"/>
                    </a:moveTo>
                    <a:cubicBezTo>
                      <a:pt x="20" y="1757"/>
                      <a:pt x="0" y="1847"/>
                      <a:pt x="16" y="1880"/>
                    </a:cubicBezTo>
                    <a:cubicBezTo>
                      <a:pt x="32" y="1913"/>
                      <a:pt x="98" y="1922"/>
                      <a:pt x="135" y="1919"/>
                    </a:cubicBezTo>
                    <a:cubicBezTo>
                      <a:pt x="172" y="1916"/>
                      <a:pt x="194" y="1919"/>
                      <a:pt x="237" y="1864"/>
                    </a:cubicBezTo>
                    <a:cubicBezTo>
                      <a:pt x="280" y="1809"/>
                      <a:pt x="333" y="1693"/>
                      <a:pt x="395" y="1588"/>
                    </a:cubicBezTo>
                    <a:cubicBezTo>
                      <a:pt x="457" y="1483"/>
                      <a:pt x="480" y="1399"/>
                      <a:pt x="608" y="1233"/>
                    </a:cubicBezTo>
                    <a:cubicBezTo>
                      <a:pt x="736" y="1067"/>
                      <a:pt x="980" y="764"/>
                      <a:pt x="1161" y="594"/>
                    </a:cubicBezTo>
                    <a:cubicBezTo>
                      <a:pt x="1342" y="424"/>
                      <a:pt x="1517" y="302"/>
                      <a:pt x="1697" y="215"/>
                    </a:cubicBezTo>
                    <a:cubicBezTo>
                      <a:pt x="1877" y="128"/>
                      <a:pt x="2080" y="102"/>
                      <a:pt x="2242" y="73"/>
                    </a:cubicBezTo>
                    <a:cubicBezTo>
                      <a:pt x="2404" y="44"/>
                      <a:pt x="2587" y="53"/>
                      <a:pt x="2668" y="41"/>
                    </a:cubicBezTo>
                    <a:cubicBezTo>
                      <a:pt x="2749" y="29"/>
                      <a:pt x="2751" y="4"/>
                      <a:pt x="2731" y="2"/>
                    </a:cubicBezTo>
                    <a:cubicBezTo>
                      <a:pt x="2711" y="0"/>
                      <a:pt x="2638" y="18"/>
                      <a:pt x="2549" y="26"/>
                    </a:cubicBezTo>
                    <a:cubicBezTo>
                      <a:pt x="2460" y="34"/>
                      <a:pt x="2329" y="27"/>
                      <a:pt x="2194" y="49"/>
                    </a:cubicBezTo>
                    <a:cubicBezTo>
                      <a:pt x="2059" y="71"/>
                      <a:pt x="1868" y="111"/>
                      <a:pt x="1737" y="160"/>
                    </a:cubicBezTo>
                    <a:cubicBezTo>
                      <a:pt x="1606" y="209"/>
                      <a:pt x="1513" y="267"/>
                      <a:pt x="1405" y="341"/>
                    </a:cubicBezTo>
                    <a:cubicBezTo>
                      <a:pt x="1297" y="415"/>
                      <a:pt x="1198" y="498"/>
                      <a:pt x="1090" y="602"/>
                    </a:cubicBezTo>
                    <a:cubicBezTo>
                      <a:pt x="982" y="706"/>
                      <a:pt x="862" y="841"/>
                      <a:pt x="758" y="965"/>
                    </a:cubicBezTo>
                    <a:cubicBezTo>
                      <a:pt x="654" y="1089"/>
                      <a:pt x="540" y="1243"/>
                      <a:pt x="466" y="1343"/>
                    </a:cubicBezTo>
                    <a:cubicBezTo>
                      <a:pt x="392" y="1443"/>
                      <a:pt x="371" y="1510"/>
                      <a:pt x="316" y="1564"/>
                    </a:cubicBezTo>
                    <a:cubicBezTo>
                      <a:pt x="261" y="1618"/>
                      <a:pt x="181" y="1639"/>
                      <a:pt x="135" y="1667"/>
                    </a:cubicBezTo>
                    <a:cubicBezTo>
                      <a:pt x="89" y="1695"/>
                      <a:pt x="60" y="1687"/>
                      <a:pt x="40" y="17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4" name=""/>
              <p:cNvGrpSpPr/>
              <p:nvPr/>
            </p:nvGrpSpPr>
            <p:grpSpPr>
              <a:xfrm>
                <a:off x="6693120" y="4961520"/>
                <a:ext cx="559440" cy="443520"/>
                <a:chOff x="6693120" y="4961520"/>
                <a:chExt cx="559440" cy="443520"/>
              </a:xfrm>
            </p:grpSpPr>
            <p:sp>
              <p:nvSpPr>
                <p:cNvPr id="7695" name=""/>
                <p:cNvSpPr/>
                <p:nvPr/>
              </p:nvSpPr>
              <p:spPr>
                <a:xfrm flipH="1">
                  <a:off x="7145280" y="5294520"/>
                  <a:ext cx="8928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6" name=""/>
                <p:cNvSpPr/>
                <p:nvPr/>
              </p:nvSpPr>
              <p:spPr>
                <a:xfrm flipH="1">
                  <a:off x="7114680" y="5276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7" name=""/>
                <p:cNvSpPr/>
                <p:nvPr/>
              </p:nvSpPr>
              <p:spPr>
                <a:xfrm flipH="1">
                  <a:off x="7099920" y="5258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 flipH="1">
                  <a:off x="7084800" y="52383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9" name=""/>
                <p:cNvSpPr/>
                <p:nvPr/>
              </p:nvSpPr>
              <p:spPr>
                <a:xfrm flipH="1">
                  <a:off x="7067880" y="52182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0" name=""/>
                <p:cNvSpPr/>
                <p:nvPr/>
              </p:nvSpPr>
              <p:spPr>
                <a:xfrm flipH="1">
                  <a:off x="7052040" y="51958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1" name=""/>
                <p:cNvSpPr/>
                <p:nvPr/>
              </p:nvSpPr>
              <p:spPr>
                <a:xfrm flipH="1">
                  <a:off x="7035120" y="51778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 flipH="1">
                  <a:off x="7016400" y="51566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 flipH="1">
                  <a:off x="7000200" y="5136480"/>
                  <a:ext cx="1044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4" name=""/>
                <p:cNvSpPr/>
                <p:nvPr/>
              </p:nvSpPr>
              <p:spPr>
                <a:xfrm flipH="1">
                  <a:off x="6987600" y="511524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5" name=""/>
                <p:cNvSpPr/>
                <p:nvPr/>
              </p:nvSpPr>
              <p:spPr>
                <a:xfrm flipH="1">
                  <a:off x="6970680" y="509508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 flipH="1">
                  <a:off x="6955920" y="5072760"/>
                  <a:ext cx="9252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 flipH="1">
                  <a:off x="6930360" y="505260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 flipH="1">
                  <a:off x="6913440" y="503568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9" name=""/>
                <p:cNvSpPr/>
                <p:nvPr/>
              </p:nvSpPr>
              <p:spPr>
                <a:xfrm flipH="1">
                  <a:off x="6894360" y="501984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0" name=""/>
                <p:cNvSpPr/>
                <p:nvPr/>
              </p:nvSpPr>
              <p:spPr>
                <a:xfrm flipH="1">
                  <a:off x="6876720" y="500904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1" name=""/>
                <p:cNvSpPr/>
                <p:nvPr/>
              </p:nvSpPr>
              <p:spPr>
                <a:xfrm flipH="1" rot="20991000">
                  <a:off x="6847560" y="499716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 flipH="1" rot="20991000">
                  <a:off x="6826680" y="498924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 flipH="1" rot="20991000">
                  <a:off x="6805440" y="4982760"/>
                  <a:ext cx="5508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 flipH="1" rot="20991000">
                  <a:off x="6784200" y="4975560"/>
                  <a:ext cx="5004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 flipH="1" rot="20991000">
                  <a:off x="6759720" y="49737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 flipH="1" rot="20991000">
                  <a:off x="6738120" y="497052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 flipH="1" rot="20991000">
                  <a:off x="6724800" y="496764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8" name=""/>
                <p:cNvSpPr/>
                <p:nvPr/>
              </p:nvSpPr>
              <p:spPr>
                <a:xfrm flipH="1" rot="20991000">
                  <a:off x="6710040" y="496584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 flipH="1" rot="20991000">
                  <a:off x="6694560" y="496296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0" name=""/>
                <p:cNvSpPr/>
                <p:nvPr/>
              </p:nvSpPr>
              <p:spPr>
                <a:xfrm flipH="1">
                  <a:off x="7165440" y="53164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1" name=""/>
                <p:cNvSpPr/>
                <p:nvPr/>
              </p:nvSpPr>
              <p:spPr>
                <a:xfrm flipH="1">
                  <a:off x="7189920" y="534276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2" name=""/>
              <p:cNvGrpSpPr/>
              <p:nvPr/>
            </p:nvGrpSpPr>
            <p:grpSpPr>
              <a:xfrm>
                <a:off x="6708960" y="4971960"/>
                <a:ext cx="559440" cy="443520"/>
                <a:chOff x="6708960" y="4971960"/>
                <a:chExt cx="559440" cy="443520"/>
              </a:xfrm>
            </p:grpSpPr>
            <p:sp>
              <p:nvSpPr>
                <p:cNvPr id="7723" name=""/>
                <p:cNvSpPr/>
                <p:nvPr/>
              </p:nvSpPr>
              <p:spPr>
                <a:xfrm flipH="1">
                  <a:off x="7161120" y="5304960"/>
                  <a:ext cx="8928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4" name=""/>
                <p:cNvSpPr/>
                <p:nvPr/>
              </p:nvSpPr>
              <p:spPr>
                <a:xfrm flipH="1">
                  <a:off x="7130520" y="52869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5" name=""/>
                <p:cNvSpPr/>
                <p:nvPr/>
              </p:nvSpPr>
              <p:spPr>
                <a:xfrm flipH="1">
                  <a:off x="7115760" y="52686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6" name=""/>
                <p:cNvSpPr/>
                <p:nvPr/>
              </p:nvSpPr>
              <p:spPr>
                <a:xfrm flipH="1">
                  <a:off x="7100640" y="5248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7" name=""/>
                <p:cNvSpPr/>
                <p:nvPr/>
              </p:nvSpPr>
              <p:spPr>
                <a:xfrm flipH="1">
                  <a:off x="7083720" y="52286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8" name=""/>
                <p:cNvSpPr/>
                <p:nvPr/>
              </p:nvSpPr>
              <p:spPr>
                <a:xfrm flipH="1">
                  <a:off x="7067880" y="52063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9" name=""/>
                <p:cNvSpPr/>
                <p:nvPr/>
              </p:nvSpPr>
              <p:spPr>
                <a:xfrm flipH="1">
                  <a:off x="7050960" y="51883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0" name=""/>
                <p:cNvSpPr/>
                <p:nvPr/>
              </p:nvSpPr>
              <p:spPr>
                <a:xfrm flipH="1">
                  <a:off x="7032240" y="51670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1" name=""/>
                <p:cNvSpPr/>
                <p:nvPr/>
              </p:nvSpPr>
              <p:spPr>
                <a:xfrm flipH="1">
                  <a:off x="7016040" y="5146920"/>
                  <a:ext cx="1044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2" name=""/>
                <p:cNvSpPr/>
                <p:nvPr/>
              </p:nvSpPr>
              <p:spPr>
                <a:xfrm flipH="1">
                  <a:off x="7003440" y="512568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3" name=""/>
                <p:cNvSpPr/>
                <p:nvPr/>
              </p:nvSpPr>
              <p:spPr>
                <a:xfrm flipH="1">
                  <a:off x="6986520" y="51055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4" name=""/>
                <p:cNvSpPr/>
                <p:nvPr/>
              </p:nvSpPr>
              <p:spPr>
                <a:xfrm flipH="1">
                  <a:off x="6971760" y="5083200"/>
                  <a:ext cx="9252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5" name=""/>
                <p:cNvSpPr/>
                <p:nvPr/>
              </p:nvSpPr>
              <p:spPr>
                <a:xfrm flipH="1">
                  <a:off x="6946200" y="506304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6" name=""/>
                <p:cNvSpPr/>
                <p:nvPr/>
              </p:nvSpPr>
              <p:spPr>
                <a:xfrm flipH="1">
                  <a:off x="6929280" y="504612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7" name=""/>
                <p:cNvSpPr/>
                <p:nvPr/>
              </p:nvSpPr>
              <p:spPr>
                <a:xfrm flipH="1">
                  <a:off x="6910200" y="503028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8" name=""/>
                <p:cNvSpPr/>
                <p:nvPr/>
              </p:nvSpPr>
              <p:spPr>
                <a:xfrm flipH="1">
                  <a:off x="6892560" y="501948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9" name=""/>
                <p:cNvSpPr/>
                <p:nvPr/>
              </p:nvSpPr>
              <p:spPr>
                <a:xfrm flipH="1" rot="20991000">
                  <a:off x="6863400" y="500760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0" name=""/>
                <p:cNvSpPr/>
                <p:nvPr/>
              </p:nvSpPr>
              <p:spPr>
                <a:xfrm flipH="1" rot="20991000">
                  <a:off x="6842520" y="4999320"/>
                  <a:ext cx="60840" cy="608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1" name=""/>
                <p:cNvSpPr/>
                <p:nvPr/>
              </p:nvSpPr>
              <p:spPr>
                <a:xfrm flipH="1" rot="20991000">
                  <a:off x="6820560" y="499320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2" name=""/>
                <p:cNvSpPr/>
                <p:nvPr/>
              </p:nvSpPr>
              <p:spPr>
                <a:xfrm flipH="1" rot="20991000">
                  <a:off x="6800400" y="4986000"/>
                  <a:ext cx="5004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3" name=""/>
                <p:cNvSpPr/>
                <p:nvPr/>
              </p:nvSpPr>
              <p:spPr>
                <a:xfrm flipH="1" rot="20991000">
                  <a:off x="6775560" y="49842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4" name=""/>
                <p:cNvSpPr/>
                <p:nvPr/>
              </p:nvSpPr>
              <p:spPr>
                <a:xfrm flipH="1" rot="20991000">
                  <a:off x="6753960" y="49809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5" name=""/>
                <p:cNvSpPr/>
                <p:nvPr/>
              </p:nvSpPr>
              <p:spPr>
                <a:xfrm flipH="1" rot="20991000">
                  <a:off x="6740640" y="497808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6" name=""/>
                <p:cNvSpPr/>
                <p:nvPr/>
              </p:nvSpPr>
              <p:spPr>
                <a:xfrm flipH="1" rot="20991000">
                  <a:off x="6725880" y="497628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7" name=""/>
                <p:cNvSpPr/>
                <p:nvPr/>
              </p:nvSpPr>
              <p:spPr>
                <a:xfrm flipH="1" rot="20991000">
                  <a:off x="6710400" y="497340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8" name=""/>
                <p:cNvSpPr/>
                <p:nvPr/>
              </p:nvSpPr>
              <p:spPr>
                <a:xfrm flipH="1">
                  <a:off x="7181280" y="532656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9" name=""/>
                <p:cNvSpPr/>
                <p:nvPr/>
              </p:nvSpPr>
              <p:spPr>
                <a:xfrm flipH="1">
                  <a:off x="7205760" y="535320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0" name=""/>
              <p:cNvGrpSpPr/>
              <p:nvPr/>
            </p:nvGrpSpPr>
            <p:grpSpPr>
              <a:xfrm>
                <a:off x="6696720" y="4780080"/>
                <a:ext cx="784080" cy="657000"/>
                <a:chOff x="6696720" y="4780080"/>
                <a:chExt cx="784080" cy="657000"/>
              </a:xfrm>
            </p:grpSpPr>
            <p:sp>
              <p:nvSpPr>
                <p:cNvPr id="7751" name=""/>
                <p:cNvSpPr/>
                <p:nvPr/>
              </p:nvSpPr>
              <p:spPr>
                <a:xfrm flipH="1" rot="819600">
                  <a:off x="6747120" y="4853160"/>
                  <a:ext cx="682920" cy="510120"/>
                </a:xfrm>
                <a:custGeom>
                  <a:avLst/>
                  <a:gdLst/>
                  <a:ahLst/>
                  <a:rect l="l" t="t" r="r" b="b"/>
                  <a:pathLst>
                    <a:path w="2751" h="1922">
                      <a:moveTo>
                        <a:pt x="40" y="1722"/>
                      </a:moveTo>
                      <a:cubicBezTo>
                        <a:pt x="20" y="1757"/>
                        <a:pt x="0" y="1847"/>
                        <a:pt x="16" y="1880"/>
                      </a:cubicBezTo>
                      <a:cubicBezTo>
                        <a:pt x="32" y="1913"/>
                        <a:pt x="98" y="1922"/>
                        <a:pt x="135" y="1919"/>
                      </a:cubicBezTo>
                      <a:cubicBezTo>
                        <a:pt x="172" y="1916"/>
                        <a:pt x="194" y="1919"/>
                        <a:pt x="237" y="1864"/>
                      </a:cubicBezTo>
                      <a:cubicBezTo>
                        <a:pt x="280" y="1809"/>
                        <a:pt x="333" y="1693"/>
                        <a:pt x="395" y="1588"/>
                      </a:cubicBezTo>
                      <a:cubicBezTo>
                        <a:pt x="457" y="1483"/>
                        <a:pt x="480" y="1399"/>
                        <a:pt x="608" y="1233"/>
                      </a:cubicBezTo>
                      <a:cubicBezTo>
                        <a:pt x="736" y="1067"/>
                        <a:pt x="980" y="764"/>
                        <a:pt x="1161" y="594"/>
                      </a:cubicBezTo>
                      <a:cubicBezTo>
                        <a:pt x="1342" y="424"/>
                        <a:pt x="1517" y="302"/>
                        <a:pt x="1697" y="215"/>
                      </a:cubicBezTo>
                      <a:cubicBezTo>
                        <a:pt x="1877" y="128"/>
                        <a:pt x="2080" y="102"/>
                        <a:pt x="2242" y="73"/>
                      </a:cubicBezTo>
                      <a:cubicBezTo>
                        <a:pt x="2404" y="44"/>
                        <a:pt x="2587" y="53"/>
                        <a:pt x="2668" y="41"/>
                      </a:cubicBezTo>
                      <a:cubicBezTo>
                        <a:pt x="2749" y="29"/>
                        <a:pt x="2751" y="4"/>
                        <a:pt x="2731" y="2"/>
                      </a:cubicBezTo>
                      <a:cubicBezTo>
                        <a:pt x="2711" y="0"/>
                        <a:pt x="2638" y="18"/>
                        <a:pt x="2549" y="26"/>
                      </a:cubicBezTo>
                      <a:cubicBezTo>
                        <a:pt x="2460" y="34"/>
                        <a:pt x="2329" y="27"/>
                        <a:pt x="2194" y="49"/>
                      </a:cubicBezTo>
                      <a:cubicBezTo>
                        <a:pt x="2059" y="71"/>
                        <a:pt x="1868" y="111"/>
                        <a:pt x="1737" y="160"/>
                      </a:cubicBezTo>
                      <a:cubicBezTo>
                        <a:pt x="1606" y="209"/>
                        <a:pt x="1513" y="267"/>
                        <a:pt x="1405" y="341"/>
                      </a:cubicBezTo>
                      <a:cubicBezTo>
                        <a:pt x="1297" y="415"/>
                        <a:pt x="1198" y="498"/>
                        <a:pt x="1090" y="602"/>
                      </a:cubicBezTo>
                      <a:cubicBezTo>
                        <a:pt x="982" y="706"/>
                        <a:pt x="862" y="841"/>
                        <a:pt x="758" y="965"/>
                      </a:cubicBezTo>
                      <a:cubicBezTo>
                        <a:pt x="654" y="1089"/>
                        <a:pt x="540" y="1243"/>
                        <a:pt x="466" y="1343"/>
                      </a:cubicBezTo>
                      <a:cubicBezTo>
                        <a:pt x="392" y="1443"/>
                        <a:pt x="371" y="1510"/>
                        <a:pt x="316" y="1564"/>
                      </a:cubicBezTo>
                      <a:cubicBezTo>
                        <a:pt x="261" y="1618"/>
                        <a:pt x="181" y="1639"/>
                        <a:pt x="135" y="1667"/>
                      </a:cubicBezTo>
                      <a:cubicBezTo>
                        <a:pt x="89" y="1695"/>
                        <a:pt x="60" y="1687"/>
                        <a:pt x="40" y="172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00"/>
                    </a:gs>
                    <a:gs pos="100000">
                      <a:srgbClr val="996600"/>
                    </a:gs>
                  </a:gsLst>
                  <a:lin ang="648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52" name=""/>
                <p:cNvGrpSpPr/>
                <p:nvPr/>
              </p:nvGrpSpPr>
              <p:grpSpPr>
                <a:xfrm>
                  <a:off x="6806520" y="4794480"/>
                  <a:ext cx="471240" cy="545040"/>
                  <a:chOff x="6806520" y="4794480"/>
                  <a:chExt cx="471240" cy="545040"/>
                </a:xfrm>
              </p:grpSpPr>
              <p:sp>
                <p:nvSpPr>
                  <p:cNvPr id="7753" name=""/>
                  <p:cNvSpPr/>
                  <p:nvPr/>
                </p:nvSpPr>
                <p:spPr>
                  <a:xfrm flipH="1" rot="703800">
                    <a:off x="7172640" y="5216760"/>
                    <a:ext cx="8928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4" name=""/>
                  <p:cNvSpPr/>
                  <p:nvPr/>
                </p:nvSpPr>
                <p:spPr>
                  <a:xfrm flipH="1" rot="703800">
                    <a:off x="7144920" y="519516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5" name=""/>
                  <p:cNvSpPr/>
                  <p:nvPr/>
                </p:nvSpPr>
                <p:spPr>
                  <a:xfrm flipH="1" rot="703800">
                    <a:off x="7133760" y="517428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6" name=""/>
                  <p:cNvSpPr/>
                  <p:nvPr/>
                </p:nvSpPr>
                <p:spPr>
                  <a:xfrm flipH="1" rot="703800">
                    <a:off x="7123320" y="515160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7" name=""/>
                  <p:cNvSpPr/>
                  <p:nvPr/>
                </p:nvSpPr>
                <p:spPr>
                  <a:xfrm flipH="1" rot="703800">
                    <a:off x="7110720" y="512856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8" name=""/>
                  <p:cNvSpPr/>
                  <p:nvPr/>
                </p:nvSpPr>
                <p:spPr>
                  <a:xfrm flipH="1" rot="703800">
                    <a:off x="7099560" y="510336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9" name=""/>
                  <p:cNvSpPr/>
                  <p:nvPr/>
                </p:nvSpPr>
                <p:spPr>
                  <a:xfrm flipH="1" rot="703800">
                    <a:off x="7086960" y="508212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0" name=""/>
                  <p:cNvSpPr/>
                  <p:nvPr/>
                </p:nvSpPr>
                <p:spPr>
                  <a:xfrm flipH="1" rot="703800">
                    <a:off x="7072920" y="50576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1" name=""/>
                  <p:cNvSpPr/>
                  <p:nvPr/>
                </p:nvSpPr>
                <p:spPr>
                  <a:xfrm flipH="1" rot="703800">
                    <a:off x="7060680" y="5034240"/>
                    <a:ext cx="10440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2" name=""/>
                  <p:cNvSpPr/>
                  <p:nvPr/>
                </p:nvSpPr>
                <p:spPr>
                  <a:xfrm flipH="1" rot="703800">
                    <a:off x="7053480" y="5010120"/>
                    <a:ext cx="975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3" name=""/>
                  <p:cNvSpPr/>
                  <p:nvPr/>
                </p:nvSpPr>
                <p:spPr>
                  <a:xfrm flipH="1" rot="703800">
                    <a:off x="7040880" y="4987080"/>
                    <a:ext cx="975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4" name=""/>
                  <p:cNvSpPr/>
                  <p:nvPr/>
                </p:nvSpPr>
                <p:spPr>
                  <a:xfrm flipH="1" rot="703800">
                    <a:off x="7032600" y="4962240"/>
                    <a:ext cx="9252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5" name=""/>
                  <p:cNvSpPr/>
                  <p:nvPr/>
                </p:nvSpPr>
                <p:spPr>
                  <a:xfrm flipH="1" rot="703800">
                    <a:off x="7010640" y="4937040"/>
                    <a:ext cx="92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6" name=""/>
                  <p:cNvSpPr/>
                  <p:nvPr/>
                </p:nvSpPr>
                <p:spPr>
                  <a:xfrm flipH="1" rot="703800">
                    <a:off x="6998760" y="4916520"/>
                    <a:ext cx="82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7" name=""/>
                  <p:cNvSpPr/>
                  <p:nvPr/>
                </p:nvSpPr>
                <p:spPr>
                  <a:xfrm flipH="1" rot="703800">
                    <a:off x="6984000" y="4896720"/>
                    <a:ext cx="8172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8" name=""/>
                  <p:cNvSpPr/>
                  <p:nvPr/>
                </p:nvSpPr>
                <p:spPr>
                  <a:xfrm flipH="1" rot="703800">
                    <a:off x="6969960" y="4881240"/>
                    <a:ext cx="71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9" name=""/>
                  <p:cNvSpPr/>
                  <p:nvPr/>
                </p:nvSpPr>
                <p:spPr>
                  <a:xfrm flipH="1" rot="95400">
                    <a:off x="6943320" y="4864680"/>
                    <a:ext cx="71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0" name=""/>
                  <p:cNvSpPr/>
                  <p:nvPr/>
                </p:nvSpPr>
                <p:spPr>
                  <a:xfrm flipH="1" rot="95400">
                    <a:off x="6926040" y="4851000"/>
                    <a:ext cx="6084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1" name=""/>
                  <p:cNvSpPr/>
                  <p:nvPr/>
                </p:nvSpPr>
                <p:spPr>
                  <a:xfrm flipH="1" rot="95400">
                    <a:off x="6906600" y="4839840"/>
                    <a:ext cx="5508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2" name=""/>
                  <p:cNvSpPr/>
                  <p:nvPr/>
                </p:nvSpPr>
                <p:spPr>
                  <a:xfrm flipH="1" rot="95400">
                    <a:off x="6888600" y="4828680"/>
                    <a:ext cx="500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3" name=""/>
                  <p:cNvSpPr/>
                  <p:nvPr/>
                </p:nvSpPr>
                <p:spPr>
                  <a:xfrm flipH="1" rot="95400">
                    <a:off x="6864480" y="4821840"/>
                    <a:ext cx="45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4" name=""/>
                  <p:cNvSpPr/>
                  <p:nvPr/>
                </p:nvSpPr>
                <p:spPr>
                  <a:xfrm flipH="1" rot="95400">
                    <a:off x="6844320" y="4813920"/>
                    <a:ext cx="45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5" name=""/>
                  <p:cNvSpPr/>
                  <p:nvPr/>
                </p:nvSpPr>
                <p:spPr>
                  <a:xfrm flipH="1" rot="95400">
                    <a:off x="6834240" y="4806720"/>
                    <a:ext cx="33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6" name=""/>
                  <p:cNvSpPr/>
                  <p:nvPr/>
                </p:nvSpPr>
                <p:spPr>
                  <a:xfrm flipH="1" rot="95400">
                    <a:off x="6820200" y="4801320"/>
                    <a:ext cx="2448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7" name=""/>
                  <p:cNvSpPr/>
                  <p:nvPr/>
                </p:nvSpPr>
                <p:spPr>
                  <a:xfrm flipH="1" rot="95400">
                    <a:off x="6806520" y="4794480"/>
                    <a:ext cx="17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8" name=""/>
                  <p:cNvSpPr/>
                  <p:nvPr/>
                </p:nvSpPr>
                <p:spPr>
                  <a:xfrm flipH="1" rot="703800">
                    <a:off x="7189560" y="5240880"/>
                    <a:ext cx="759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9" name=""/>
                  <p:cNvSpPr/>
                  <p:nvPr/>
                </p:nvSpPr>
                <p:spPr>
                  <a:xfrm flipH="1" rot="703800">
                    <a:off x="7209720" y="5271120"/>
                    <a:ext cx="622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0" name=""/>
                <p:cNvGrpSpPr/>
                <p:nvPr/>
              </p:nvGrpSpPr>
              <p:grpSpPr>
                <a:xfrm>
                  <a:off x="6826320" y="4794840"/>
                  <a:ext cx="454680" cy="561960"/>
                  <a:chOff x="6826320" y="4794840"/>
                  <a:chExt cx="454680" cy="561960"/>
                </a:xfrm>
              </p:grpSpPr>
              <p:sp>
                <p:nvSpPr>
                  <p:cNvPr id="7781" name=""/>
                  <p:cNvSpPr/>
                  <p:nvPr/>
                </p:nvSpPr>
                <p:spPr>
                  <a:xfrm flipH="1" rot="833400">
                    <a:off x="7175520" y="5232960"/>
                    <a:ext cx="896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2" name=""/>
                  <p:cNvSpPr/>
                  <p:nvPr/>
                </p:nvSpPr>
                <p:spPr>
                  <a:xfrm flipH="1" rot="833400">
                    <a:off x="7148520" y="521028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3" name=""/>
                  <p:cNvSpPr/>
                  <p:nvPr/>
                </p:nvSpPr>
                <p:spPr>
                  <a:xfrm flipH="1" rot="833400">
                    <a:off x="7138080" y="51890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4" name=""/>
                  <p:cNvSpPr/>
                  <p:nvPr/>
                </p:nvSpPr>
                <p:spPr>
                  <a:xfrm flipH="1" rot="833400">
                    <a:off x="7128360" y="516600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5" name=""/>
                  <p:cNvSpPr/>
                  <p:nvPr/>
                </p:nvSpPr>
                <p:spPr>
                  <a:xfrm flipH="1" rot="833400">
                    <a:off x="7116840" y="51422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6" name=""/>
                  <p:cNvSpPr/>
                  <p:nvPr/>
                </p:nvSpPr>
                <p:spPr>
                  <a:xfrm flipH="1" rot="833400">
                    <a:off x="7106760" y="51170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7" name=""/>
                  <p:cNvSpPr/>
                  <p:nvPr/>
                </p:nvSpPr>
                <p:spPr>
                  <a:xfrm flipH="1" rot="833400">
                    <a:off x="7094520" y="509508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8" name=""/>
                  <p:cNvSpPr/>
                  <p:nvPr/>
                </p:nvSpPr>
                <p:spPr>
                  <a:xfrm flipH="1" rot="833400">
                    <a:off x="7081560" y="50702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9" name=""/>
                  <p:cNvSpPr/>
                  <p:nvPr/>
                </p:nvSpPr>
                <p:spPr>
                  <a:xfrm flipH="1" rot="833400">
                    <a:off x="7070040" y="5045760"/>
                    <a:ext cx="10476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0" name=""/>
                  <p:cNvSpPr/>
                  <p:nvPr/>
                </p:nvSpPr>
                <p:spPr>
                  <a:xfrm flipH="1" rot="833400">
                    <a:off x="7064280" y="5021640"/>
                    <a:ext cx="979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1" name=""/>
                  <p:cNvSpPr/>
                  <p:nvPr/>
                </p:nvSpPr>
                <p:spPr>
                  <a:xfrm flipH="1" rot="833400">
                    <a:off x="7052760" y="4998240"/>
                    <a:ext cx="979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2" name=""/>
                  <p:cNvSpPr/>
                  <p:nvPr/>
                </p:nvSpPr>
                <p:spPr>
                  <a:xfrm flipH="1" rot="833400">
                    <a:off x="7044840" y="4972680"/>
                    <a:ext cx="92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3" name=""/>
                  <p:cNvSpPr/>
                  <p:nvPr/>
                </p:nvSpPr>
                <p:spPr>
                  <a:xfrm flipH="1" rot="833400">
                    <a:off x="7024320" y="4947120"/>
                    <a:ext cx="92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4" name=""/>
                  <p:cNvSpPr/>
                  <p:nvPr/>
                </p:nvSpPr>
                <p:spPr>
                  <a:xfrm flipH="1" rot="833400">
                    <a:off x="7013880" y="4925520"/>
                    <a:ext cx="82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5" name=""/>
                  <p:cNvSpPr/>
                  <p:nvPr/>
                </p:nvSpPr>
                <p:spPr>
                  <a:xfrm flipH="1" rot="833400">
                    <a:off x="6999120" y="4905360"/>
                    <a:ext cx="820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6" name=""/>
                  <p:cNvSpPr/>
                  <p:nvPr/>
                </p:nvSpPr>
                <p:spPr>
                  <a:xfrm flipH="1" rot="833400">
                    <a:off x="6985800" y="4889520"/>
                    <a:ext cx="72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7" name=""/>
                  <p:cNvSpPr/>
                  <p:nvPr/>
                </p:nvSpPr>
                <p:spPr>
                  <a:xfrm flipH="1" rot="224400">
                    <a:off x="6960240" y="4871160"/>
                    <a:ext cx="72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8" name=""/>
                  <p:cNvSpPr/>
                  <p:nvPr/>
                </p:nvSpPr>
                <p:spPr>
                  <a:xfrm flipH="1" rot="224400">
                    <a:off x="6943320" y="4857480"/>
                    <a:ext cx="608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9" name=""/>
                  <p:cNvSpPr/>
                  <p:nvPr/>
                </p:nvSpPr>
                <p:spPr>
                  <a:xfrm flipH="1" rot="224400">
                    <a:off x="6923880" y="4844880"/>
                    <a:ext cx="55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0" name=""/>
                  <p:cNvSpPr/>
                  <p:nvPr/>
                </p:nvSpPr>
                <p:spPr>
                  <a:xfrm flipH="1" rot="224400">
                    <a:off x="6906240" y="4833000"/>
                    <a:ext cx="50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1" name=""/>
                  <p:cNvSpPr/>
                  <p:nvPr/>
                </p:nvSpPr>
                <p:spPr>
                  <a:xfrm flipH="1" rot="224400">
                    <a:off x="6883560" y="4824360"/>
                    <a:ext cx="45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2" name=""/>
                  <p:cNvSpPr/>
                  <p:nvPr/>
                </p:nvSpPr>
                <p:spPr>
                  <a:xfrm flipH="1" rot="224400">
                    <a:off x="6863040" y="4816080"/>
                    <a:ext cx="45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3" name=""/>
                  <p:cNvSpPr/>
                  <p:nvPr/>
                </p:nvSpPr>
                <p:spPr>
                  <a:xfrm flipH="1" rot="224400">
                    <a:off x="6852600" y="4808520"/>
                    <a:ext cx="338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4" name=""/>
                  <p:cNvSpPr/>
                  <p:nvPr/>
                </p:nvSpPr>
                <p:spPr>
                  <a:xfrm flipH="1" rot="224400">
                    <a:off x="6840000" y="4802400"/>
                    <a:ext cx="244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5" name=""/>
                  <p:cNvSpPr/>
                  <p:nvPr/>
                </p:nvSpPr>
                <p:spPr>
                  <a:xfrm flipH="1" rot="224400">
                    <a:off x="6826680" y="4795200"/>
                    <a:ext cx="17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6" name=""/>
                  <p:cNvSpPr/>
                  <p:nvPr/>
                </p:nvSpPr>
                <p:spPr>
                  <a:xfrm flipH="1" rot="833400">
                    <a:off x="7192440" y="5257800"/>
                    <a:ext cx="759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7" name=""/>
                  <p:cNvSpPr/>
                  <p:nvPr/>
                </p:nvSpPr>
                <p:spPr>
                  <a:xfrm flipH="1" rot="833400">
                    <a:off x="7211880" y="5288040"/>
                    <a:ext cx="622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08" name=""/>
              <p:cNvSpPr/>
              <p:nvPr/>
            </p:nvSpPr>
            <p:spPr>
              <a:xfrm>
                <a:off x="7205760" y="5637600"/>
                <a:ext cx="152280" cy="389520"/>
              </a:xfrm>
              <a:custGeom>
                <a:avLst/>
                <a:gdLst/>
                <a:ahLst/>
                <a:rect l="l" t="t" r="r" b="b"/>
                <a:pathLst>
                  <a:path w="348" h="838">
                    <a:moveTo>
                      <a:pt x="240" y="61"/>
                    </a:moveTo>
                    <a:cubicBezTo>
                      <a:pt x="223" y="122"/>
                      <a:pt x="214" y="279"/>
                      <a:pt x="185" y="390"/>
                    </a:cubicBezTo>
                    <a:cubicBezTo>
                      <a:pt x="156" y="501"/>
                      <a:pt x="95" y="656"/>
                      <a:pt x="66" y="728"/>
                    </a:cubicBezTo>
                    <a:cubicBezTo>
                      <a:pt x="37" y="800"/>
                      <a:pt x="0" y="805"/>
                      <a:pt x="11" y="820"/>
                    </a:cubicBezTo>
                    <a:cubicBezTo>
                      <a:pt x="22" y="835"/>
                      <a:pt x="98" y="822"/>
                      <a:pt x="130" y="820"/>
                    </a:cubicBezTo>
                    <a:cubicBezTo>
                      <a:pt x="162" y="818"/>
                      <a:pt x="183" y="838"/>
                      <a:pt x="203" y="811"/>
                    </a:cubicBezTo>
                    <a:cubicBezTo>
                      <a:pt x="223" y="784"/>
                      <a:pt x="232" y="724"/>
                      <a:pt x="249" y="655"/>
                    </a:cubicBezTo>
                    <a:cubicBezTo>
                      <a:pt x="266" y="586"/>
                      <a:pt x="290" y="486"/>
                      <a:pt x="304" y="399"/>
                    </a:cubicBezTo>
                    <a:cubicBezTo>
                      <a:pt x="318" y="312"/>
                      <a:pt x="325" y="193"/>
                      <a:pt x="331" y="134"/>
                    </a:cubicBezTo>
                    <a:cubicBezTo>
                      <a:pt x="337" y="75"/>
                      <a:pt x="348" y="61"/>
                      <a:pt x="340" y="43"/>
                    </a:cubicBezTo>
                    <a:cubicBezTo>
                      <a:pt x="332" y="25"/>
                      <a:pt x="302" y="21"/>
                      <a:pt x="285" y="24"/>
                    </a:cubicBezTo>
                    <a:cubicBezTo>
                      <a:pt x="268" y="27"/>
                      <a:pt x="257" y="0"/>
                      <a:pt x="240" y="61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 rot="20512800">
                <a:off x="7220160" y="4857120"/>
                <a:ext cx="682920" cy="509760"/>
              </a:xfrm>
              <a:custGeom>
                <a:avLst/>
                <a:gdLst/>
                <a:ahLst/>
                <a:rect l="l" t="t" r="r" b="b"/>
                <a:pathLst>
                  <a:path w="2751" h="1922">
                    <a:moveTo>
                      <a:pt x="40" y="1722"/>
                    </a:moveTo>
                    <a:cubicBezTo>
                      <a:pt x="20" y="1757"/>
                      <a:pt x="0" y="1847"/>
                      <a:pt x="16" y="1880"/>
                    </a:cubicBezTo>
                    <a:cubicBezTo>
                      <a:pt x="32" y="1913"/>
                      <a:pt x="98" y="1922"/>
                      <a:pt x="135" y="1919"/>
                    </a:cubicBezTo>
                    <a:cubicBezTo>
                      <a:pt x="172" y="1916"/>
                      <a:pt x="194" y="1919"/>
                      <a:pt x="237" y="1864"/>
                    </a:cubicBezTo>
                    <a:cubicBezTo>
                      <a:pt x="280" y="1809"/>
                      <a:pt x="333" y="1693"/>
                      <a:pt x="395" y="1588"/>
                    </a:cubicBezTo>
                    <a:cubicBezTo>
                      <a:pt x="457" y="1483"/>
                      <a:pt x="480" y="1399"/>
                      <a:pt x="608" y="1233"/>
                    </a:cubicBezTo>
                    <a:cubicBezTo>
                      <a:pt x="736" y="1067"/>
                      <a:pt x="980" y="764"/>
                      <a:pt x="1161" y="594"/>
                    </a:cubicBezTo>
                    <a:cubicBezTo>
                      <a:pt x="1342" y="424"/>
                      <a:pt x="1517" y="302"/>
                      <a:pt x="1697" y="215"/>
                    </a:cubicBezTo>
                    <a:cubicBezTo>
                      <a:pt x="1877" y="128"/>
                      <a:pt x="2080" y="102"/>
                      <a:pt x="2242" y="73"/>
                    </a:cubicBezTo>
                    <a:cubicBezTo>
                      <a:pt x="2404" y="44"/>
                      <a:pt x="2587" y="53"/>
                      <a:pt x="2668" y="41"/>
                    </a:cubicBezTo>
                    <a:cubicBezTo>
                      <a:pt x="2749" y="29"/>
                      <a:pt x="2751" y="4"/>
                      <a:pt x="2731" y="2"/>
                    </a:cubicBezTo>
                    <a:cubicBezTo>
                      <a:pt x="2711" y="0"/>
                      <a:pt x="2638" y="18"/>
                      <a:pt x="2549" y="26"/>
                    </a:cubicBezTo>
                    <a:cubicBezTo>
                      <a:pt x="2460" y="34"/>
                      <a:pt x="2329" y="27"/>
                      <a:pt x="2194" y="49"/>
                    </a:cubicBezTo>
                    <a:cubicBezTo>
                      <a:pt x="2059" y="71"/>
                      <a:pt x="1868" y="111"/>
                      <a:pt x="1737" y="160"/>
                    </a:cubicBezTo>
                    <a:cubicBezTo>
                      <a:pt x="1606" y="209"/>
                      <a:pt x="1513" y="267"/>
                      <a:pt x="1405" y="341"/>
                    </a:cubicBezTo>
                    <a:cubicBezTo>
                      <a:pt x="1297" y="415"/>
                      <a:pt x="1198" y="498"/>
                      <a:pt x="1090" y="602"/>
                    </a:cubicBezTo>
                    <a:cubicBezTo>
                      <a:pt x="982" y="706"/>
                      <a:pt x="862" y="841"/>
                      <a:pt x="758" y="965"/>
                    </a:cubicBezTo>
                    <a:cubicBezTo>
                      <a:pt x="654" y="1089"/>
                      <a:pt x="540" y="1243"/>
                      <a:pt x="466" y="1343"/>
                    </a:cubicBezTo>
                    <a:cubicBezTo>
                      <a:pt x="392" y="1443"/>
                      <a:pt x="371" y="1510"/>
                      <a:pt x="316" y="1564"/>
                    </a:cubicBezTo>
                    <a:cubicBezTo>
                      <a:pt x="261" y="1618"/>
                      <a:pt x="181" y="1639"/>
                      <a:pt x="135" y="1667"/>
                    </a:cubicBezTo>
                    <a:cubicBezTo>
                      <a:pt x="89" y="1695"/>
                      <a:pt x="60" y="1687"/>
                      <a:pt x="40" y="17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648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7304400" y="4978800"/>
                <a:ext cx="682200" cy="509040"/>
              </a:xfrm>
              <a:custGeom>
                <a:avLst/>
                <a:gdLst/>
                <a:ahLst/>
                <a:rect l="l" t="t" r="r" b="b"/>
                <a:pathLst>
                  <a:path w="2751" h="1922">
                    <a:moveTo>
                      <a:pt x="40" y="1722"/>
                    </a:moveTo>
                    <a:cubicBezTo>
                      <a:pt x="20" y="1757"/>
                      <a:pt x="0" y="1847"/>
                      <a:pt x="16" y="1880"/>
                    </a:cubicBezTo>
                    <a:cubicBezTo>
                      <a:pt x="32" y="1913"/>
                      <a:pt x="98" y="1922"/>
                      <a:pt x="135" y="1919"/>
                    </a:cubicBezTo>
                    <a:cubicBezTo>
                      <a:pt x="172" y="1916"/>
                      <a:pt x="194" y="1919"/>
                      <a:pt x="237" y="1864"/>
                    </a:cubicBezTo>
                    <a:cubicBezTo>
                      <a:pt x="280" y="1809"/>
                      <a:pt x="333" y="1693"/>
                      <a:pt x="395" y="1588"/>
                    </a:cubicBezTo>
                    <a:cubicBezTo>
                      <a:pt x="457" y="1483"/>
                      <a:pt x="480" y="1399"/>
                      <a:pt x="608" y="1233"/>
                    </a:cubicBezTo>
                    <a:cubicBezTo>
                      <a:pt x="736" y="1067"/>
                      <a:pt x="980" y="764"/>
                      <a:pt x="1161" y="594"/>
                    </a:cubicBezTo>
                    <a:cubicBezTo>
                      <a:pt x="1342" y="424"/>
                      <a:pt x="1517" y="302"/>
                      <a:pt x="1697" y="215"/>
                    </a:cubicBezTo>
                    <a:cubicBezTo>
                      <a:pt x="1877" y="128"/>
                      <a:pt x="2080" y="102"/>
                      <a:pt x="2242" y="73"/>
                    </a:cubicBezTo>
                    <a:cubicBezTo>
                      <a:pt x="2404" y="44"/>
                      <a:pt x="2587" y="53"/>
                      <a:pt x="2668" y="41"/>
                    </a:cubicBezTo>
                    <a:cubicBezTo>
                      <a:pt x="2749" y="29"/>
                      <a:pt x="2751" y="4"/>
                      <a:pt x="2731" y="2"/>
                    </a:cubicBezTo>
                    <a:cubicBezTo>
                      <a:pt x="2711" y="0"/>
                      <a:pt x="2638" y="18"/>
                      <a:pt x="2549" y="26"/>
                    </a:cubicBezTo>
                    <a:cubicBezTo>
                      <a:pt x="2460" y="34"/>
                      <a:pt x="2329" y="27"/>
                      <a:pt x="2194" y="49"/>
                    </a:cubicBezTo>
                    <a:cubicBezTo>
                      <a:pt x="2059" y="71"/>
                      <a:pt x="1868" y="111"/>
                      <a:pt x="1737" y="160"/>
                    </a:cubicBezTo>
                    <a:cubicBezTo>
                      <a:pt x="1606" y="209"/>
                      <a:pt x="1513" y="267"/>
                      <a:pt x="1405" y="341"/>
                    </a:cubicBezTo>
                    <a:cubicBezTo>
                      <a:pt x="1297" y="415"/>
                      <a:pt x="1198" y="498"/>
                      <a:pt x="1090" y="602"/>
                    </a:cubicBezTo>
                    <a:cubicBezTo>
                      <a:pt x="982" y="706"/>
                      <a:pt x="862" y="841"/>
                      <a:pt x="758" y="965"/>
                    </a:cubicBezTo>
                    <a:cubicBezTo>
                      <a:pt x="654" y="1089"/>
                      <a:pt x="540" y="1243"/>
                      <a:pt x="466" y="1343"/>
                    </a:cubicBezTo>
                    <a:cubicBezTo>
                      <a:pt x="392" y="1443"/>
                      <a:pt x="371" y="1510"/>
                      <a:pt x="316" y="1564"/>
                    </a:cubicBezTo>
                    <a:cubicBezTo>
                      <a:pt x="261" y="1618"/>
                      <a:pt x="181" y="1639"/>
                      <a:pt x="135" y="1667"/>
                    </a:cubicBezTo>
                    <a:cubicBezTo>
                      <a:pt x="89" y="1695"/>
                      <a:pt x="60" y="1687"/>
                      <a:pt x="40" y="17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7309440" y="4554000"/>
                <a:ext cx="92880" cy="925920"/>
              </a:xfrm>
              <a:custGeom>
                <a:avLst/>
                <a:gdLst/>
                <a:ahLst/>
                <a:rect l="l" t="t" r="r" b="b"/>
                <a:pathLst>
                  <a:path w="375" h="3493">
                    <a:moveTo>
                      <a:pt x="99" y="3420"/>
                    </a:moveTo>
                    <a:cubicBezTo>
                      <a:pt x="107" y="3347"/>
                      <a:pt x="75" y="2935"/>
                      <a:pt x="67" y="2658"/>
                    </a:cubicBezTo>
                    <a:cubicBezTo>
                      <a:pt x="59" y="2381"/>
                      <a:pt x="52" y="2068"/>
                      <a:pt x="51" y="1757"/>
                    </a:cubicBezTo>
                    <a:cubicBezTo>
                      <a:pt x="50" y="1446"/>
                      <a:pt x="9" y="1072"/>
                      <a:pt x="59" y="792"/>
                    </a:cubicBezTo>
                    <a:cubicBezTo>
                      <a:pt x="109" y="512"/>
                      <a:pt x="327" y="156"/>
                      <a:pt x="351" y="78"/>
                    </a:cubicBezTo>
                    <a:cubicBezTo>
                      <a:pt x="375" y="0"/>
                      <a:pt x="252" y="225"/>
                      <a:pt x="205" y="321"/>
                    </a:cubicBezTo>
                    <a:cubicBezTo>
                      <a:pt x="158" y="417"/>
                      <a:pt x="100" y="557"/>
                      <a:pt x="67" y="654"/>
                    </a:cubicBezTo>
                    <a:cubicBezTo>
                      <a:pt x="34" y="751"/>
                      <a:pt x="20" y="786"/>
                      <a:pt x="10" y="905"/>
                    </a:cubicBezTo>
                    <a:cubicBezTo>
                      <a:pt x="0" y="1024"/>
                      <a:pt x="9" y="1154"/>
                      <a:pt x="10" y="1368"/>
                    </a:cubicBezTo>
                    <a:cubicBezTo>
                      <a:pt x="11" y="1582"/>
                      <a:pt x="19" y="1965"/>
                      <a:pt x="18" y="2187"/>
                    </a:cubicBezTo>
                    <a:cubicBezTo>
                      <a:pt x="17" y="2409"/>
                      <a:pt x="2" y="2547"/>
                      <a:pt x="2" y="2698"/>
                    </a:cubicBezTo>
                    <a:cubicBezTo>
                      <a:pt x="2" y="2849"/>
                      <a:pt x="7" y="2976"/>
                      <a:pt x="18" y="3096"/>
                    </a:cubicBezTo>
                    <a:cubicBezTo>
                      <a:pt x="29" y="3216"/>
                      <a:pt x="91" y="3493"/>
                      <a:pt x="99" y="34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7287480" y="5415840"/>
                <a:ext cx="91080" cy="249840"/>
              </a:xfrm>
              <a:custGeom>
                <a:avLst/>
                <a:gdLst>
                  <a:gd name="textAreaLeft" fmla="*/ 19800 w 91080"/>
                  <a:gd name="textAreaRight" fmla="*/ 71280 w 91080"/>
                  <a:gd name="textAreaTop" fmla="*/ 54720 h 249840"/>
                  <a:gd name="textAreaBottom" fmla="*/ 195120 h 24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 rot="1985400">
                <a:off x="7356960" y="536004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 rot="3498000">
                <a:off x="7362720" y="541224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 rot="3498000">
                <a:off x="7367040" y="544644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 rot="2617200">
                <a:off x="7369560" y="549288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 rot="4964400">
                <a:off x="7369560" y="549180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 rot="4964400">
                <a:off x="7374960" y="544860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 rot="3607200">
                <a:off x="7376760" y="545544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 rot="2000400">
                <a:off x="7367040" y="5514120"/>
                <a:ext cx="720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 rot="2000400">
                <a:off x="7383960" y="543168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 rot="3498000">
                <a:off x="7400880" y="548244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 rot="2617200">
                <a:off x="7381800" y="539676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 rot="4964400">
                <a:off x="7403040" y="552744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 rot="4964400">
                <a:off x="7408800" y="548460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 rot="3607200">
                <a:off x="7411320" y="549108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 rot="2000400">
                <a:off x="7397640" y="549612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 rot="3498000">
                <a:off x="7363440" y="551160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 rot="2617200">
                <a:off x="7365600" y="5558760"/>
                <a:ext cx="720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 rot="4964400">
                <a:off x="7365960" y="555696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 rot="4964400">
                <a:off x="7371720" y="551412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 rot="3607200">
                <a:off x="7374240" y="552060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 rot="3498000">
                <a:off x="7396920" y="5547960"/>
                <a:ext cx="756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 rot="4964400">
                <a:off x="7380000" y="547992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 rot="4964400">
                <a:off x="7405920" y="555084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 rot="3607200">
                <a:off x="7378200" y="541656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 rot="2000400">
                <a:off x="7380000" y="555300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 flipH="1" rot="19614600">
                <a:off x="7274520" y="537336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 flipH="1" rot="18982800">
                <a:off x="7278840" y="548460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 flipH="1" rot="16635600">
                <a:off x="7282800" y="544176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 flipH="1" rot="17992800">
                <a:off x="7285320" y="5446440"/>
                <a:ext cx="648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 flipH="1" rot="19599600">
                <a:off x="7275600" y="550692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 flipH="1" rot="19599600">
                <a:off x="7291440" y="542412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 flipH="1" rot="18102000">
                <a:off x="7308720" y="547452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 flipH="1" rot="18982800">
                <a:off x="7278480" y="5355360"/>
                <a:ext cx="6120" cy="109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 flipH="1" rot="16635600">
                <a:off x="7311240" y="551844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 flipH="1" rot="16635600">
                <a:off x="7317000" y="547632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 flipH="1" rot="17992800">
                <a:off x="7319520" y="5482800"/>
                <a:ext cx="648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 flipH="1" rot="19599600">
                <a:off x="7305120" y="5488920"/>
                <a:ext cx="720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 flipH="1" rot="18982800">
                <a:off x="7273440" y="555192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 flipH="1" rot="16635600">
                <a:off x="7279560" y="5506200"/>
                <a:ext cx="6840" cy="102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 flipH="1" rot="17992800">
                <a:off x="7282440" y="5512680"/>
                <a:ext cx="648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 flipH="1" rot="18102000">
                <a:off x="7305120" y="554076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 flipH="1" rot="16635600">
                <a:off x="7287840" y="547092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 flipH="1" rot="16635600">
                <a:off x="7313400" y="554148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 flipH="1" rot="17992800">
                <a:off x="7286760" y="5408640"/>
                <a:ext cx="648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 flipH="1" rot="19599600">
                <a:off x="7288560" y="5546520"/>
                <a:ext cx="612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8" name=""/>
              <p:cNvGrpSpPr/>
              <p:nvPr/>
            </p:nvGrpSpPr>
            <p:grpSpPr>
              <a:xfrm>
                <a:off x="7280280" y="5485680"/>
                <a:ext cx="90360" cy="167400"/>
                <a:chOff x="7280280" y="5485680"/>
                <a:chExt cx="90360" cy="167400"/>
              </a:xfrm>
            </p:grpSpPr>
            <p:sp>
              <p:nvSpPr>
                <p:cNvPr id="7859" name=""/>
                <p:cNvSpPr/>
                <p:nvPr/>
              </p:nvSpPr>
              <p:spPr>
                <a:xfrm flipH="1" rot="20290200">
                  <a:off x="7327440" y="5482800"/>
                  <a:ext cx="6480" cy="110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0" name=""/>
                <p:cNvSpPr/>
                <p:nvPr/>
              </p:nvSpPr>
              <p:spPr>
                <a:xfrm flipH="1" rot="20907000">
                  <a:off x="7318440" y="5501880"/>
                  <a:ext cx="6480" cy="11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1" name=""/>
                <p:cNvSpPr/>
                <p:nvPr/>
              </p:nvSpPr>
              <p:spPr>
                <a:xfrm flipH="1" rot="20907000">
                  <a:off x="7352640" y="5496120"/>
                  <a:ext cx="6480" cy="11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"/>
                <p:cNvSpPr/>
                <p:nvPr/>
              </p:nvSpPr>
              <p:spPr>
                <a:xfrm flipH="1" rot="20290200">
                  <a:off x="7300080" y="5542560"/>
                  <a:ext cx="6480" cy="110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3" name=""/>
                <p:cNvSpPr/>
                <p:nvPr/>
              </p:nvSpPr>
              <p:spPr>
                <a:xfrm flipH="1" rot="20907000">
                  <a:off x="7315920" y="5542560"/>
                  <a:ext cx="6480" cy="11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4" name=""/>
              <p:cNvSpPr/>
              <p:nvPr/>
            </p:nvSpPr>
            <p:spPr>
              <a:xfrm flipH="1" rot="20290800">
                <a:off x="7323480" y="532620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 flipH="1" rot="20907600">
                <a:off x="7313760" y="534528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 flipH="1" rot="20907600">
                <a:off x="7347960" y="5340240"/>
                <a:ext cx="612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 flipH="1" rot="20290800">
                <a:off x="7296840" y="538560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 flipH="1" rot="20907600">
                <a:off x="7313400" y="5386680"/>
                <a:ext cx="6480" cy="109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 rot="1309200">
                <a:off x="7333920" y="534492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 rot="692400">
                <a:off x="7342920" y="536400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 rot="692400">
                <a:off x="7308720" y="535860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 rot="1309200">
                <a:off x="7359840" y="5404680"/>
                <a:ext cx="612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 rot="692400">
                <a:off x="7345080" y="541548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74" name=""/>
              <p:cNvGrpSpPr/>
              <p:nvPr/>
            </p:nvGrpSpPr>
            <p:grpSpPr>
              <a:xfrm>
                <a:off x="7412400" y="4986360"/>
                <a:ext cx="559440" cy="443520"/>
                <a:chOff x="7412400" y="4986360"/>
                <a:chExt cx="559440" cy="443520"/>
              </a:xfrm>
            </p:grpSpPr>
            <p:sp>
              <p:nvSpPr>
                <p:cNvPr id="7875" name=""/>
                <p:cNvSpPr/>
                <p:nvPr/>
              </p:nvSpPr>
              <p:spPr>
                <a:xfrm>
                  <a:off x="7430400" y="5319360"/>
                  <a:ext cx="8928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6" name=""/>
                <p:cNvSpPr/>
                <p:nvPr/>
              </p:nvSpPr>
              <p:spPr>
                <a:xfrm>
                  <a:off x="7442280" y="53013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7" name=""/>
                <p:cNvSpPr/>
                <p:nvPr/>
              </p:nvSpPr>
              <p:spPr>
                <a:xfrm>
                  <a:off x="7457040" y="52833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8" name=""/>
                <p:cNvSpPr/>
                <p:nvPr/>
              </p:nvSpPr>
              <p:spPr>
                <a:xfrm>
                  <a:off x="7472160" y="52632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9" name=""/>
                <p:cNvSpPr/>
                <p:nvPr/>
              </p:nvSpPr>
              <p:spPr>
                <a:xfrm>
                  <a:off x="7489080" y="52430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0" name=""/>
                <p:cNvSpPr/>
                <p:nvPr/>
              </p:nvSpPr>
              <p:spPr>
                <a:xfrm>
                  <a:off x="7504920" y="52207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1" name=""/>
                <p:cNvSpPr/>
                <p:nvPr/>
              </p:nvSpPr>
              <p:spPr>
                <a:xfrm>
                  <a:off x="7521840" y="52027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2" name=""/>
                <p:cNvSpPr/>
                <p:nvPr/>
              </p:nvSpPr>
              <p:spPr>
                <a:xfrm>
                  <a:off x="7540560" y="51814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3" name=""/>
                <p:cNvSpPr/>
                <p:nvPr/>
              </p:nvSpPr>
              <p:spPr>
                <a:xfrm>
                  <a:off x="7560360" y="5161320"/>
                  <a:ext cx="1044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4" name=""/>
                <p:cNvSpPr/>
                <p:nvPr/>
              </p:nvSpPr>
              <p:spPr>
                <a:xfrm>
                  <a:off x="7579440" y="514008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5" name=""/>
                <p:cNvSpPr/>
                <p:nvPr/>
              </p:nvSpPr>
              <p:spPr>
                <a:xfrm>
                  <a:off x="7596360" y="51199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6" name=""/>
                <p:cNvSpPr/>
                <p:nvPr/>
              </p:nvSpPr>
              <p:spPr>
                <a:xfrm>
                  <a:off x="7616160" y="5097600"/>
                  <a:ext cx="9252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7" name=""/>
                <p:cNvSpPr/>
                <p:nvPr/>
              </p:nvSpPr>
              <p:spPr>
                <a:xfrm>
                  <a:off x="7641720" y="507744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8" name=""/>
                <p:cNvSpPr/>
                <p:nvPr/>
              </p:nvSpPr>
              <p:spPr>
                <a:xfrm>
                  <a:off x="7668720" y="506052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9" name=""/>
                <p:cNvSpPr/>
                <p:nvPr/>
              </p:nvSpPr>
              <p:spPr>
                <a:xfrm>
                  <a:off x="7688520" y="504468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0" name=""/>
                <p:cNvSpPr/>
                <p:nvPr/>
              </p:nvSpPr>
              <p:spPr>
                <a:xfrm>
                  <a:off x="7716240" y="503388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1" name=""/>
                <p:cNvSpPr/>
                <p:nvPr/>
              </p:nvSpPr>
              <p:spPr>
                <a:xfrm rot="609000">
                  <a:off x="7744680" y="502200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2" name=""/>
                <p:cNvSpPr/>
                <p:nvPr/>
              </p:nvSpPr>
              <p:spPr>
                <a:xfrm rot="609000">
                  <a:off x="7777080" y="501408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3" name=""/>
                <p:cNvSpPr/>
                <p:nvPr/>
              </p:nvSpPr>
              <p:spPr>
                <a:xfrm rot="609000">
                  <a:off x="7804080" y="5007600"/>
                  <a:ext cx="5508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4" name=""/>
                <p:cNvSpPr/>
                <p:nvPr/>
              </p:nvSpPr>
              <p:spPr>
                <a:xfrm rot="609000">
                  <a:off x="7829640" y="5000760"/>
                  <a:ext cx="5004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5" name=""/>
                <p:cNvSpPr/>
                <p:nvPr/>
              </p:nvSpPr>
              <p:spPr>
                <a:xfrm rot="609000">
                  <a:off x="7858800" y="49989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6" name=""/>
                <p:cNvSpPr/>
                <p:nvPr/>
              </p:nvSpPr>
              <p:spPr>
                <a:xfrm rot="609000">
                  <a:off x="7880400" y="499572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7" name=""/>
                <p:cNvSpPr/>
                <p:nvPr/>
              </p:nvSpPr>
              <p:spPr>
                <a:xfrm rot="609000">
                  <a:off x="7905600" y="499248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8" name=""/>
                <p:cNvSpPr/>
                <p:nvPr/>
              </p:nvSpPr>
              <p:spPr>
                <a:xfrm rot="609000">
                  <a:off x="7930440" y="499068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9" name=""/>
                <p:cNvSpPr/>
                <p:nvPr/>
              </p:nvSpPr>
              <p:spPr>
                <a:xfrm rot="609000">
                  <a:off x="7952400" y="498744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0" name=""/>
                <p:cNvSpPr/>
                <p:nvPr/>
              </p:nvSpPr>
              <p:spPr>
                <a:xfrm>
                  <a:off x="7423200" y="5341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1" name=""/>
                <p:cNvSpPr/>
                <p:nvPr/>
              </p:nvSpPr>
              <p:spPr>
                <a:xfrm>
                  <a:off x="7412400" y="536760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2" name=""/>
              <p:cNvGrpSpPr/>
              <p:nvPr/>
            </p:nvGrpSpPr>
            <p:grpSpPr>
              <a:xfrm>
                <a:off x="7379280" y="4777560"/>
                <a:ext cx="433800" cy="578520"/>
                <a:chOff x="7379280" y="4777560"/>
                <a:chExt cx="433800" cy="578520"/>
              </a:xfrm>
            </p:grpSpPr>
            <p:sp>
              <p:nvSpPr>
                <p:cNvPr id="7903" name=""/>
                <p:cNvSpPr/>
                <p:nvPr/>
              </p:nvSpPr>
              <p:spPr>
                <a:xfrm rot="20628000">
                  <a:off x="7393320" y="5230440"/>
                  <a:ext cx="8928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4" name=""/>
                <p:cNvSpPr/>
                <p:nvPr/>
              </p:nvSpPr>
              <p:spPr>
                <a:xfrm rot="20628000">
                  <a:off x="7401960" y="52070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5" name=""/>
                <p:cNvSpPr/>
                <p:nvPr/>
              </p:nvSpPr>
              <p:spPr>
                <a:xfrm rot="20628000">
                  <a:off x="7411320" y="51854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6" name=""/>
                <p:cNvSpPr/>
                <p:nvPr/>
              </p:nvSpPr>
              <p:spPr>
                <a:xfrm rot="20628000">
                  <a:off x="7419960" y="51620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7" name=""/>
                <p:cNvSpPr/>
                <p:nvPr/>
              </p:nvSpPr>
              <p:spPr>
                <a:xfrm rot="20628000">
                  <a:off x="7430760" y="51379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8" name=""/>
                <p:cNvSpPr/>
                <p:nvPr/>
              </p:nvSpPr>
              <p:spPr>
                <a:xfrm rot="20628000">
                  <a:off x="7439760" y="51120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9" name=""/>
                <p:cNvSpPr/>
                <p:nvPr/>
              </p:nvSpPr>
              <p:spPr>
                <a:xfrm rot="20628000">
                  <a:off x="7450920" y="50900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0" name=""/>
                <p:cNvSpPr/>
                <p:nvPr/>
              </p:nvSpPr>
              <p:spPr>
                <a:xfrm rot="20628000">
                  <a:off x="7462800" y="50644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1" name=""/>
                <p:cNvSpPr/>
                <p:nvPr/>
              </p:nvSpPr>
              <p:spPr>
                <a:xfrm rot="20628000">
                  <a:off x="7476120" y="5040000"/>
                  <a:ext cx="1044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2" name=""/>
                <p:cNvSpPr/>
                <p:nvPr/>
              </p:nvSpPr>
              <p:spPr>
                <a:xfrm rot="20628000">
                  <a:off x="7487640" y="50155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3" name=""/>
                <p:cNvSpPr/>
                <p:nvPr/>
              </p:nvSpPr>
              <p:spPr>
                <a:xfrm rot="20628000">
                  <a:off x="7498440" y="499140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4" name=""/>
                <p:cNvSpPr/>
                <p:nvPr/>
              </p:nvSpPr>
              <p:spPr>
                <a:xfrm rot="20628000">
                  <a:off x="7510320" y="4965840"/>
                  <a:ext cx="9252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5" name=""/>
                <p:cNvSpPr/>
                <p:nvPr/>
              </p:nvSpPr>
              <p:spPr>
                <a:xfrm rot="20628000">
                  <a:off x="7529400" y="493884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6" name=""/>
                <p:cNvSpPr/>
                <p:nvPr/>
              </p:nvSpPr>
              <p:spPr>
                <a:xfrm rot="20628000">
                  <a:off x="7549560" y="491688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7" name=""/>
                <p:cNvSpPr/>
                <p:nvPr/>
              </p:nvSpPr>
              <p:spPr>
                <a:xfrm rot="20628000">
                  <a:off x="7563960" y="489600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8" name=""/>
                <p:cNvSpPr/>
                <p:nvPr/>
              </p:nvSpPr>
              <p:spPr>
                <a:xfrm rot="20628000">
                  <a:off x="7586280" y="487980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9" name=""/>
                <p:cNvSpPr/>
                <p:nvPr/>
              </p:nvSpPr>
              <p:spPr>
                <a:xfrm rot="21237000">
                  <a:off x="7610760" y="486036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0" name=""/>
                <p:cNvSpPr/>
                <p:nvPr/>
              </p:nvSpPr>
              <p:spPr>
                <a:xfrm rot="21237000">
                  <a:off x="7638120" y="4845240"/>
                  <a:ext cx="60840" cy="608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1" name=""/>
                <p:cNvSpPr/>
                <p:nvPr/>
              </p:nvSpPr>
              <p:spPr>
                <a:xfrm rot="21237000">
                  <a:off x="7662600" y="483264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2" name=""/>
                <p:cNvSpPr/>
                <p:nvPr/>
              </p:nvSpPr>
              <p:spPr>
                <a:xfrm rot="21237000">
                  <a:off x="7684200" y="4819680"/>
                  <a:ext cx="5004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3" name=""/>
                <p:cNvSpPr/>
                <p:nvPr/>
              </p:nvSpPr>
              <p:spPr>
                <a:xfrm rot="21237000">
                  <a:off x="7711200" y="481032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4" name=""/>
                <p:cNvSpPr/>
                <p:nvPr/>
              </p:nvSpPr>
              <p:spPr>
                <a:xfrm rot="21237000">
                  <a:off x="7731000" y="48009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5" name=""/>
                <p:cNvSpPr/>
                <p:nvPr/>
              </p:nvSpPr>
              <p:spPr>
                <a:xfrm rot="21237000">
                  <a:off x="7752960" y="4793040"/>
                  <a:ext cx="33480" cy="36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6" name=""/>
                <p:cNvSpPr/>
                <p:nvPr/>
              </p:nvSpPr>
              <p:spPr>
                <a:xfrm rot="21237000">
                  <a:off x="7774560" y="478620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7" name=""/>
                <p:cNvSpPr/>
                <p:nvPr/>
              </p:nvSpPr>
              <p:spPr>
                <a:xfrm rot="21237000">
                  <a:off x="7794360" y="477828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8" name=""/>
                <p:cNvSpPr/>
                <p:nvPr/>
              </p:nvSpPr>
              <p:spPr>
                <a:xfrm rot="20628000">
                  <a:off x="7391160" y="525528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9" name=""/>
                <p:cNvSpPr/>
                <p:nvPr/>
              </p:nvSpPr>
              <p:spPr>
                <a:xfrm rot="20628000">
                  <a:off x="7386480" y="528624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30" name=""/>
              <p:cNvSpPr/>
              <p:nvPr/>
            </p:nvSpPr>
            <p:spPr>
              <a:xfrm rot="2000400">
                <a:off x="7381080" y="550584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1" name=""/>
              <p:cNvGrpSpPr/>
              <p:nvPr/>
            </p:nvGrpSpPr>
            <p:grpSpPr>
              <a:xfrm>
                <a:off x="7396560" y="4996800"/>
                <a:ext cx="559440" cy="443520"/>
                <a:chOff x="7396560" y="4996800"/>
                <a:chExt cx="559440" cy="443520"/>
              </a:xfrm>
            </p:grpSpPr>
            <p:sp>
              <p:nvSpPr>
                <p:cNvPr id="7932" name=""/>
                <p:cNvSpPr/>
                <p:nvPr/>
              </p:nvSpPr>
              <p:spPr>
                <a:xfrm>
                  <a:off x="7414560" y="5329800"/>
                  <a:ext cx="8928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3" name=""/>
                <p:cNvSpPr/>
                <p:nvPr/>
              </p:nvSpPr>
              <p:spPr>
                <a:xfrm>
                  <a:off x="7426440" y="5311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4" name=""/>
                <p:cNvSpPr/>
                <p:nvPr/>
              </p:nvSpPr>
              <p:spPr>
                <a:xfrm>
                  <a:off x="7441200" y="52934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5" name=""/>
                <p:cNvSpPr/>
                <p:nvPr/>
              </p:nvSpPr>
              <p:spPr>
                <a:xfrm>
                  <a:off x="7456320" y="52736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6" name=""/>
                <p:cNvSpPr/>
                <p:nvPr/>
              </p:nvSpPr>
              <p:spPr>
                <a:xfrm>
                  <a:off x="7473240" y="52534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7" name=""/>
                <p:cNvSpPr/>
                <p:nvPr/>
              </p:nvSpPr>
              <p:spPr>
                <a:xfrm>
                  <a:off x="7489080" y="52311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8" name=""/>
                <p:cNvSpPr/>
                <p:nvPr/>
              </p:nvSpPr>
              <p:spPr>
                <a:xfrm>
                  <a:off x="7506000" y="52131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9" name=""/>
                <p:cNvSpPr/>
                <p:nvPr/>
              </p:nvSpPr>
              <p:spPr>
                <a:xfrm>
                  <a:off x="7524720" y="51919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0" name=""/>
                <p:cNvSpPr/>
                <p:nvPr/>
              </p:nvSpPr>
              <p:spPr>
                <a:xfrm>
                  <a:off x="7544520" y="5171760"/>
                  <a:ext cx="1044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1" name=""/>
                <p:cNvSpPr/>
                <p:nvPr/>
              </p:nvSpPr>
              <p:spPr>
                <a:xfrm>
                  <a:off x="7563600" y="51505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2" name=""/>
                <p:cNvSpPr/>
                <p:nvPr/>
              </p:nvSpPr>
              <p:spPr>
                <a:xfrm>
                  <a:off x="7580520" y="513036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3" name=""/>
                <p:cNvSpPr/>
                <p:nvPr/>
              </p:nvSpPr>
              <p:spPr>
                <a:xfrm>
                  <a:off x="7600320" y="5108040"/>
                  <a:ext cx="9252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4" name=""/>
                <p:cNvSpPr/>
                <p:nvPr/>
              </p:nvSpPr>
              <p:spPr>
                <a:xfrm>
                  <a:off x="7625880" y="508788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5" name=""/>
                <p:cNvSpPr/>
                <p:nvPr/>
              </p:nvSpPr>
              <p:spPr>
                <a:xfrm>
                  <a:off x="7652880" y="507096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6" name=""/>
                <p:cNvSpPr/>
                <p:nvPr/>
              </p:nvSpPr>
              <p:spPr>
                <a:xfrm>
                  <a:off x="7672680" y="505512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7" name=""/>
                <p:cNvSpPr/>
                <p:nvPr/>
              </p:nvSpPr>
              <p:spPr>
                <a:xfrm>
                  <a:off x="7700400" y="504432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8" name=""/>
                <p:cNvSpPr/>
                <p:nvPr/>
              </p:nvSpPr>
              <p:spPr>
                <a:xfrm rot="609000">
                  <a:off x="7728840" y="503244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9" name=""/>
                <p:cNvSpPr/>
                <p:nvPr/>
              </p:nvSpPr>
              <p:spPr>
                <a:xfrm rot="609000">
                  <a:off x="7761240" y="5024160"/>
                  <a:ext cx="60840" cy="608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0" name=""/>
                <p:cNvSpPr/>
                <p:nvPr/>
              </p:nvSpPr>
              <p:spPr>
                <a:xfrm rot="609000">
                  <a:off x="7788240" y="501804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1" name=""/>
                <p:cNvSpPr/>
                <p:nvPr/>
              </p:nvSpPr>
              <p:spPr>
                <a:xfrm rot="609000">
                  <a:off x="7813800" y="5011200"/>
                  <a:ext cx="5004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2" name=""/>
                <p:cNvSpPr/>
                <p:nvPr/>
              </p:nvSpPr>
              <p:spPr>
                <a:xfrm rot="609000">
                  <a:off x="7842960" y="50094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3" name=""/>
                <p:cNvSpPr/>
                <p:nvPr/>
              </p:nvSpPr>
              <p:spPr>
                <a:xfrm rot="609000">
                  <a:off x="7864560" y="50061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4" name=""/>
                <p:cNvSpPr/>
                <p:nvPr/>
              </p:nvSpPr>
              <p:spPr>
                <a:xfrm rot="609000">
                  <a:off x="7889760" y="500292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5" name=""/>
                <p:cNvSpPr/>
                <p:nvPr/>
              </p:nvSpPr>
              <p:spPr>
                <a:xfrm rot="609000">
                  <a:off x="7914600" y="500112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6" name=""/>
                <p:cNvSpPr/>
                <p:nvPr/>
              </p:nvSpPr>
              <p:spPr>
                <a:xfrm rot="609000">
                  <a:off x="7936560" y="499788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7" name=""/>
                <p:cNvSpPr/>
                <p:nvPr/>
              </p:nvSpPr>
              <p:spPr>
                <a:xfrm>
                  <a:off x="7407360" y="53514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8" name=""/>
                <p:cNvSpPr/>
                <p:nvPr/>
              </p:nvSpPr>
              <p:spPr>
                <a:xfrm>
                  <a:off x="7396560" y="537804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9" name=""/>
              <p:cNvSpPr/>
              <p:nvPr/>
            </p:nvSpPr>
            <p:spPr>
              <a:xfrm rot="900000">
                <a:off x="7301160" y="536256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60" name=""/>
              <p:cNvGrpSpPr/>
              <p:nvPr/>
            </p:nvGrpSpPr>
            <p:grpSpPr>
              <a:xfrm>
                <a:off x="7380000" y="4779360"/>
                <a:ext cx="415440" cy="594360"/>
                <a:chOff x="7380000" y="4779360"/>
                <a:chExt cx="415440" cy="594360"/>
              </a:xfrm>
            </p:grpSpPr>
            <p:sp>
              <p:nvSpPr>
                <p:cNvPr id="7961" name=""/>
                <p:cNvSpPr/>
                <p:nvPr/>
              </p:nvSpPr>
              <p:spPr>
                <a:xfrm rot="20499000">
                  <a:off x="7393680" y="524664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2" name=""/>
                <p:cNvSpPr/>
                <p:nvPr/>
              </p:nvSpPr>
              <p:spPr>
                <a:xfrm rot="20499000">
                  <a:off x="7401600" y="5222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3" name=""/>
                <p:cNvSpPr/>
                <p:nvPr/>
              </p:nvSpPr>
              <p:spPr>
                <a:xfrm rot="20499000">
                  <a:off x="7409880" y="52009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 rot="20499000">
                  <a:off x="7418160" y="5176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5" name=""/>
                <p:cNvSpPr/>
                <p:nvPr/>
              </p:nvSpPr>
              <p:spPr>
                <a:xfrm rot="20499000">
                  <a:off x="7427880" y="51523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6" name=""/>
                <p:cNvSpPr/>
                <p:nvPr/>
              </p:nvSpPr>
              <p:spPr>
                <a:xfrm rot="20499000">
                  <a:off x="7435800" y="51264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7" name=""/>
                <p:cNvSpPr/>
                <p:nvPr/>
              </p:nvSpPr>
              <p:spPr>
                <a:xfrm rot="20499000">
                  <a:off x="7446240" y="51037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8" name=""/>
                <p:cNvSpPr/>
                <p:nvPr/>
              </p:nvSpPr>
              <p:spPr>
                <a:xfrm rot="20499000">
                  <a:off x="7457040" y="5077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9" name=""/>
                <p:cNvSpPr/>
                <p:nvPr/>
              </p:nvSpPr>
              <p:spPr>
                <a:xfrm rot="20499000">
                  <a:off x="7469640" y="505260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 rot="20499000">
                  <a:off x="7479720" y="50281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1" name=""/>
                <p:cNvSpPr/>
                <p:nvPr/>
              </p:nvSpPr>
              <p:spPr>
                <a:xfrm rot="20499000">
                  <a:off x="7489440" y="500364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2" name=""/>
                <p:cNvSpPr/>
                <p:nvPr/>
              </p:nvSpPr>
              <p:spPr>
                <a:xfrm rot="20499000">
                  <a:off x="7500600" y="497700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 rot="20499000">
                  <a:off x="7518960" y="494964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 rot="20499000">
                  <a:off x="7537680" y="492696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 rot="20499000">
                  <a:off x="7551720" y="490608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 rot="20499000">
                  <a:off x="7572960" y="488880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 rot="21108000">
                  <a:off x="7596720" y="486864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 rot="21108000">
                  <a:off x="7624080" y="485316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 rot="21108000">
                  <a:off x="7647480" y="4839120"/>
                  <a:ext cx="5544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 rot="21108000">
                  <a:off x="7668720" y="4825440"/>
                  <a:ext cx="5040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1" name=""/>
                <p:cNvSpPr/>
                <p:nvPr/>
              </p:nvSpPr>
              <p:spPr>
                <a:xfrm rot="21108000">
                  <a:off x="7695000" y="48153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 rot="21108000">
                  <a:off x="7714800" y="48056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 rot="21108000">
                  <a:off x="7735680" y="479664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 rot="21108000">
                  <a:off x="7756920" y="478908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 rot="21108000">
                  <a:off x="7776360" y="478044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 rot="20499000">
                  <a:off x="7392240" y="5272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 rot="20499000">
                  <a:off x="7387920" y="530316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8" name=""/>
              <p:cNvSpPr/>
              <p:nvPr/>
            </p:nvSpPr>
            <p:spPr>
              <a:xfrm flipH="1" rot="3489600">
                <a:off x="7237440" y="5177880"/>
                <a:ext cx="94680" cy="493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 flipH="1" rot="3489600">
                <a:off x="7212600" y="514332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 flipH="1" rot="3489600">
                <a:off x="7211880" y="511776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 flipH="1" rot="3489600">
                <a:off x="7213680" y="5090040"/>
                <a:ext cx="113040" cy="586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 flipH="1" rot="3489600">
                <a:off x="7212960" y="5058720"/>
                <a:ext cx="113040" cy="601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 flipH="1" rot="3489600">
                <a:off x="7209000" y="503172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 flipH="1" rot="3489600">
                <a:off x="7209000" y="500220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 flipH="1" rot="3489600">
                <a:off x="7209720" y="497124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 flipH="1" rot="3489600">
                <a:off x="7211520" y="4937760"/>
                <a:ext cx="110160" cy="579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 flipH="1" rot="3489600">
                <a:off x="7222320" y="4902480"/>
                <a:ext cx="102960" cy="543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 flipH="1" rot="3489600">
                <a:off x="7220520" y="4870080"/>
                <a:ext cx="102600" cy="5364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 flipH="1" rot="3489600">
                <a:off x="7221600" y="4841280"/>
                <a:ext cx="97560" cy="511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 flipH="1" rot="3489600">
                <a:off x="7220880" y="4806000"/>
                <a:ext cx="97560" cy="507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 flipH="1" rot="3489600">
                <a:off x="7236360" y="4785840"/>
                <a:ext cx="86760" cy="453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 flipH="1" rot="3489600">
                <a:off x="7237440" y="4759560"/>
                <a:ext cx="85320" cy="442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 flipH="1" rot="3489600">
                <a:off x="7249680" y="4730040"/>
                <a:ext cx="75240" cy="388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 flipH="1" rot="2880600">
                <a:off x="7270200" y="4710240"/>
                <a:ext cx="44640" cy="666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 flipH="1" rot="2880600">
                <a:off x="7283520" y="4690440"/>
                <a:ext cx="38160" cy="565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 flipH="1" rot="2880600">
                <a:off x="7291440" y="4669560"/>
                <a:ext cx="34560" cy="579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 flipH="1" rot="2880600">
                <a:off x="7310160" y="4648320"/>
                <a:ext cx="30960" cy="50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 flipH="1" rot="2880600">
                <a:off x="7324560" y="4627800"/>
                <a:ext cx="28440" cy="457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 flipH="1" rot="2880600">
                <a:off x="7335360" y="4604040"/>
                <a:ext cx="28440" cy="457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 flipH="1" rot="2880600">
                <a:off x="7352280" y="4590360"/>
                <a:ext cx="20880" cy="327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 flipH="1" rot="2880600">
                <a:off x="7364160" y="4578480"/>
                <a:ext cx="15480" cy="237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 flipH="1" rot="2880600">
                <a:off x="7377840" y="4571640"/>
                <a:ext cx="10800" cy="180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 flipH="1" rot="3489600">
                <a:off x="7246800" y="5203800"/>
                <a:ext cx="79920" cy="424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 flipH="1" rot="3489600">
                <a:off x="7254360" y="5230080"/>
                <a:ext cx="65880" cy="342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7310880" y="5664960"/>
                <a:ext cx="42480" cy="12960"/>
              </a:xfrm>
              <a:custGeom>
                <a:avLst/>
                <a:gdLst/>
                <a:ahLst/>
                <a:rect l="l" t="t" r="r" b="b"/>
                <a:pathLst>
                  <a:path w="100" h="18">
                    <a:moveTo>
                      <a:pt x="0" y="0"/>
                    </a:moveTo>
                    <a:cubicBezTo>
                      <a:pt x="8" y="5"/>
                      <a:pt x="16" y="11"/>
                      <a:pt x="28" y="14"/>
                    </a:cubicBezTo>
                    <a:cubicBezTo>
                      <a:pt x="40" y="17"/>
                      <a:pt x="58" y="18"/>
                      <a:pt x="70" y="18"/>
                    </a:cubicBezTo>
                    <a:cubicBezTo>
                      <a:pt x="82" y="18"/>
                      <a:pt x="95" y="17"/>
                      <a:pt x="100" y="16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7306560" y="5689080"/>
                <a:ext cx="41400" cy="11520"/>
              </a:xfrm>
              <a:custGeom>
                <a:avLst/>
                <a:gdLst/>
                <a:ahLst/>
                <a:rect l="l" t="t" r="r" b="b"/>
                <a:pathLst>
                  <a:path w="98" h="22">
                    <a:moveTo>
                      <a:pt x="0" y="0"/>
                    </a:moveTo>
                    <a:cubicBezTo>
                      <a:pt x="7" y="6"/>
                      <a:pt x="14" y="13"/>
                      <a:pt x="24" y="16"/>
                    </a:cubicBezTo>
                    <a:cubicBezTo>
                      <a:pt x="34" y="19"/>
                      <a:pt x="48" y="19"/>
                      <a:pt x="60" y="20"/>
                    </a:cubicBezTo>
                    <a:cubicBezTo>
                      <a:pt x="72" y="21"/>
                      <a:pt x="91" y="22"/>
                      <a:pt x="98" y="2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7302960" y="5713200"/>
                <a:ext cx="46440" cy="9000"/>
              </a:xfrm>
              <a:custGeom>
                <a:avLst/>
                <a:gdLst/>
                <a:ahLst/>
                <a:rect l="l" t="t" r="r" b="b"/>
                <a:pathLst>
                  <a:path w="104" h="19">
                    <a:moveTo>
                      <a:pt x="0" y="0"/>
                    </a:moveTo>
                    <a:cubicBezTo>
                      <a:pt x="14" y="6"/>
                      <a:pt x="29" y="13"/>
                      <a:pt x="42" y="16"/>
                    </a:cubicBezTo>
                    <a:cubicBezTo>
                      <a:pt x="55" y="19"/>
                      <a:pt x="66" y="18"/>
                      <a:pt x="76" y="18"/>
                    </a:cubicBezTo>
                    <a:cubicBezTo>
                      <a:pt x="86" y="18"/>
                      <a:pt x="100" y="14"/>
                      <a:pt x="104" y="14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7300800" y="5738040"/>
                <a:ext cx="45000" cy="14760"/>
              </a:xfrm>
              <a:custGeom>
                <a:avLst/>
                <a:gdLst/>
                <a:ahLst/>
                <a:rect l="l" t="t" r="r" b="b"/>
                <a:pathLst>
                  <a:path w="108" h="31">
                    <a:moveTo>
                      <a:pt x="0" y="0"/>
                    </a:moveTo>
                    <a:cubicBezTo>
                      <a:pt x="9" y="8"/>
                      <a:pt x="19" y="17"/>
                      <a:pt x="30" y="22"/>
                    </a:cubicBezTo>
                    <a:cubicBezTo>
                      <a:pt x="41" y="27"/>
                      <a:pt x="56" y="29"/>
                      <a:pt x="66" y="30"/>
                    </a:cubicBezTo>
                    <a:cubicBezTo>
                      <a:pt x="76" y="31"/>
                      <a:pt x="83" y="29"/>
                      <a:pt x="90" y="28"/>
                    </a:cubicBezTo>
                    <a:cubicBezTo>
                      <a:pt x="97" y="27"/>
                      <a:pt x="102" y="24"/>
                      <a:pt x="108" y="2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7297920" y="5765760"/>
                <a:ext cx="45360" cy="11520"/>
              </a:xfrm>
              <a:custGeom>
                <a:avLst/>
                <a:gdLst/>
                <a:ahLst/>
                <a:rect l="l" t="t" r="r" b="b"/>
                <a:pathLst>
                  <a:path w="110" h="22">
                    <a:moveTo>
                      <a:pt x="0" y="0"/>
                    </a:moveTo>
                    <a:cubicBezTo>
                      <a:pt x="10" y="5"/>
                      <a:pt x="21" y="11"/>
                      <a:pt x="32" y="14"/>
                    </a:cubicBezTo>
                    <a:cubicBezTo>
                      <a:pt x="43" y="17"/>
                      <a:pt x="58" y="19"/>
                      <a:pt x="68" y="20"/>
                    </a:cubicBezTo>
                    <a:cubicBezTo>
                      <a:pt x="78" y="21"/>
                      <a:pt x="87" y="22"/>
                      <a:pt x="94" y="22"/>
                    </a:cubicBezTo>
                    <a:cubicBezTo>
                      <a:pt x="101" y="22"/>
                      <a:pt x="105" y="20"/>
                      <a:pt x="110" y="18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7294320" y="5789160"/>
                <a:ext cx="47880" cy="12960"/>
              </a:xfrm>
              <a:custGeom>
                <a:avLst/>
                <a:gdLst/>
                <a:ahLst/>
                <a:rect l="l" t="t" r="r" b="b"/>
                <a:pathLst>
                  <a:path w="118" h="19">
                    <a:moveTo>
                      <a:pt x="0" y="0"/>
                    </a:moveTo>
                    <a:cubicBezTo>
                      <a:pt x="17" y="6"/>
                      <a:pt x="35" y="13"/>
                      <a:pt x="50" y="16"/>
                    </a:cubicBezTo>
                    <a:cubicBezTo>
                      <a:pt x="65" y="19"/>
                      <a:pt x="81" y="17"/>
                      <a:pt x="92" y="16"/>
                    </a:cubicBezTo>
                    <a:cubicBezTo>
                      <a:pt x="103" y="15"/>
                      <a:pt x="110" y="12"/>
                      <a:pt x="118" y="1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7286040" y="5812560"/>
                <a:ext cx="50760" cy="1584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0" y="0"/>
                    </a:moveTo>
                    <a:cubicBezTo>
                      <a:pt x="12" y="9"/>
                      <a:pt x="25" y="18"/>
                      <a:pt x="38" y="24"/>
                    </a:cubicBezTo>
                    <a:cubicBezTo>
                      <a:pt x="51" y="30"/>
                      <a:pt x="67" y="33"/>
                      <a:pt x="80" y="34"/>
                    </a:cubicBezTo>
                    <a:cubicBezTo>
                      <a:pt x="93" y="35"/>
                      <a:pt x="109" y="29"/>
                      <a:pt x="116" y="28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7286040" y="5842080"/>
                <a:ext cx="47160" cy="12240"/>
              </a:xfrm>
              <a:custGeom>
                <a:avLst/>
                <a:gdLst/>
                <a:ahLst/>
                <a:rect l="l" t="t" r="r" b="b"/>
                <a:pathLst>
                  <a:path w="110" h="25">
                    <a:moveTo>
                      <a:pt x="0" y="0"/>
                    </a:moveTo>
                    <a:cubicBezTo>
                      <a:pt x="14" y="7"/>
                      <a:pt x="29" y="14"/>
                      <a:pt x="42" y="18"/>
                    </a:cubicBezTo>
                    <a:cubicBezTo>
                      <a:pt x="55" y="22"/>
                      <a:pt x="67" y="23"/>
                      <a:pt x="78" y="24"/>
                    </a:cubicBezTo>
                    <a:cubicBezTo>
                      <a:pt x="89" y="25"/>
                      <a:pt x="99" y="23"/>
                      <a:pt x="110" y="2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7285320" y="5867640"/>
                <a:ext cx="43200" cy="9720"/>
              </a:xfrm>
              <a:custGeom>
                <a:avLst/>
                <a:gdLst/>
                <a:ahLst/>
                <a:rect l="l" t="t" r="r" b="b"/>
                <a:pathLst>
                  <a:path w="100" h="23">
                    <a:moveTo>
                      <a:pt x="0" y="0"/>
                    </a:moveTo>
                    <a:cubicBezTo>
                      <a:pt x="20" y="8"/>
                      <a:pt x="41" y="17"/>
                      <a:pt x="58" y="20"/>
                    </a:cubicBezTo>
                    <a:cubicBezTo>
                      <a:pt x="75" y="23"/>
                      <a:pt x="87" y="21"/>
                      <a:pt x="100" y="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7285320" y="5899320"/>
                <a:ext cx="36720" cy="6840"/>
              </a:xfrm>
              <a:custGeom>
                <a:avLst/>
                <a:gdLst/>
                <a:ahLst/>
                <a:rect l="l" t="t" r="r" b="b"/>
                <a:pathLst>
                  <a:path w="86" h="16">
                    <a:moveTo>
                      <a:pt x="0" y="0"/>
                    </a:moveTo>
                    <a:cubicBezTo>
                      <a:pt x="16" y="4"/>
                      <a:pt x="32" y="9"/>
                      <a:pt x="44" y="12"/>
                    </a:cubicBezTo>
                    <a:cubicBezTo>
                      <a:pt x="56" y="15"/>
                      <a:pt x="65" y="16"/>
                      <a:pt x="72" y="16"/>
                    </a:cubicBezTo>
                    <a:cubicBezTo>
                      <a:pt x="79" y="16"/>
                      <a:pt x="82" y="14"/>
                      <a:pt x="86" y="1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7283160" y="5921280"/>
                <a:ext cx="34560" cy="828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0" y="0"/>
                    </a:moveTo>
                    <a:cubicBezTo>
                      <a:pt x="17" y="6"/>
                      <a:pt x="35" y="13"/>
                      <a:pt x="48" y="16"/>
                    </a:cubicBezTo>
                    <a:cubicBezTo>
                      <a:pt x="61" y="19"/>
                      <a:pt x="70" y="17"/>
                      <a:pt x="80" y="16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7286040" y="5943600"/>
                <a:ext cx="26640" cy="6840"/>
              </a:xfrm>
              <a:custGeom>
                <a:avLst/>
                <a:gdLst/>
                <a:ahLst/>
                <a:rect l="l" t="t" r="r" b="b"/>
                <a:pathLst>
                  <a:path w="62" h="16">
                    <a:moveTo>
                      <a:pt x="0" y="0"/>
                    </a:moveTo>
                    <a:cubicBezTo>
                      <a:pt x="19" y="6"/>
                      <a:pt x="38" y="12"/>
                      <a:pt x="48" y="14"/>
                    </a:cubicBezTo>
                    <a:cubicBezTo>
                      <a:pt x="58" y="16"/>
                      <a:pt x="60" y="14"/>
                      <a:pt x="62" y="1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7285320" y="596376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52" h="14">
                    <a:moveTo>
                      <a:pt x="0" y="0"/>
                    </a:moveTo>
                    <a:cubicBezTo>
                      <a:pt x="13" y="5"/>
                      <a:pt x="27" y="10"/>
                      <a:pt x="36" y="12"/>
                    </a:cubicBezTo>
                    <a:cubicBezTo>
                      <a:pt x="45" y="14"/>
                      <a:pt x="48" y="13"/>
                      <a:pt x="52" y="1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8" name=""/>
              <p:cNvGrpSpPr/>
              <p:nvPr/>
            </p:nvGrpSpPr>
            <p:grpSpPr>
              <a:xfrm>
                <a:off x="7010280" y="4517640"/>
                <a:ext cx="343080" cy="916200"/>
                <a:chOff x="7010280" y="4517640"/>
                <a:chExt cx="343080" cy="916200"/>
              </a:xfrm>
            </p:grpSpPr>
            <p:sp>
              <p:nvSpPr>
                <p:cNvPr id="8029" name=""/>
                <p:cNvSpPr/>
                <p:nvPr/>
              </p:nvSpPr>
              <p:spPr>
                <a:xfrm rot="17932200">
                  <a:off x="7167960" y="5149800"/>
                  <a:ext cx="95400" cy="842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 rot="17932200">
                  <a:off x="7144200" y="512352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1" name=""/>
                <p:cNvSpPr/>
                <p:nvPr/>
              </p:nvSpPr>
              <p:spPr>
                <a:xfrm rot="17932200">
                  <a:off x="7139520" y="509940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 rot="17932200">
                  <a:off x="7134840" y="507456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 rot="17932200">
                  <a:off x="7129080" y="504864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 rot="17932200">
                  <a:off x="7120440" y="5022360"/>
                  <a:ext cx="114840" cy="1004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5" name=""/>
                <p:cNvSpPr/>
                <p:nvPr/>
              </p:nvSpPr>
              <p:spPr>
                <a:xfrm rot="17932200">
                  <a:off x="7111440" y="499752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 rot="17932200">
                  <a:off x="7102440" y="496980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 rot="17932200">
                  <a:off x="7099200" y="4942440"/>
                  <a:ext cx="111600" cy="98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 rot="17932200">
                  <a:off x="7100280" y="4916520"/>
                  <a:ext cx="10440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 rot="17932200">
                  <a:off x="7095240" y="4890240"/>
                  <a:ext cx="10368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 rot="17932200">
                  <a:off x="7090560" y="4862160"/>
                  <a:ext cx="98280" cy="874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1" name=""/>
                <p:cNvSpPr/>
                <p:nvPr/>
              </p:nvSpPr>
              <p:spPr>
                <a:xfrm rot="17932200">
                  <a:off x="7086960" y="4833360"/>
                  <a:ext cx="99000" cy="86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 rot="17932200">
                  <a:off x="7090560" y="4800960"/>
                  <a:ext cx="88200" cy="77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3" name=""/>
                <p:cNvSpPr/>
                <p:nvPr/>
              </p:nvSpPr>
              <p:spPr>
                <a:xfrm rot="17932200">
                  <a:off x="7078680" y="4777560"/>
                  <a:ext cx="86760" cy="76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 rot="17932200">
                  <a:off x="7079040" y="475416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5" name=""/>
                <p:cNvSpPr/>
                <p:nvPr/>
              </p:nvSpPr>
              <p:spPr>
                <a:xfrm rot="18541800">
                  <a:off x="7072920" y="4728240"/>
                  <a:ext cx="71640" cy="70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6" name=""/>
                <p:cNvSpPr/>
                <p:nvPr/>
              </p:nvSpPr>
              <p:spPr>
                <a:xfrm rot="18541800">
                  <a:off x="7066800" y="470196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7" name=""/>
                <p:cNvSpPr/>
                <p:nvPr/>
              </p:nvSpPr>
              <p:spPr>
                <a:xfrm rot="18541800">
                  <a:off x="7059600" y="4679280"/>
                  <a:ext cx="5544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8" name=""/>
                <p:cNvSpPr/>
                <p:nvPr/>
              </p:nvSpPr>
              <p:spPr>
                <a:xfrm rot="18541800">
                  <a:off x="7051680" y="4662720"/>
                  <a:ext cx="4968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 rot="18541800">
                  <a:off x="7042320" y="4644360"/>
                  <a:ext cx="45720" cy="48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 rot="18541800">
                  <a:off x="7023960" y="4627800"/>
                  <a:ext cx="45720" cy="48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 rot="18541800">
                  <a:off x="7023960" y="4610880"/>
                  <a:ext cx="33120" cy="36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 rot="18541800">
                  <a:off x="7022160" y="459540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3" name=""/>
                <p:cNvSpPr/>
                <p:nvPr/>
              </p:nvSpPr>
              <p:spPr>
                <a:xfrm rot="18541800">
                  <a:off x="7018920" y="4587840"/>
                  <a:ext cx="1800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4" name=""/>
                <p:cNvSpPr/>
                <p:nvPr/>
              </p:nvSpPr>
              <p:spPr>
                <a:xfrm rot="17932200">
                  <a:off x="7192440" y="5174280"/>
                  <a:ext cx="81360" cy="71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5" name=""/>
                <p:cNvSpPr/>
                <p:nvPr/>
              </p:nvSpPr>
              <p:spPr>
                <a:xfrm rot="17932200">
                  <a:off x="7213320" y="5199480"/>
                  <a:ext cx="66600" cy="58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6" name=""/>
                <p:cNvSpPr/>
                <p:nvPr/>
              </p:nvSpPr>
              <p:spPr>
                <a:xfrm rot="17155800">
                  <a:off x="7255440" y="5126040"/>
                  <a:ext cx="9468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7" name=""/>
                <p:cNvSpPr/>
                <p:nvPr/>
              </p:nvSpPr>
              <p:spPr>
                <a:xfrm rot="17155800">
                  <a:off x="7252560" y="508860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8" name=""/>
                <p:cNvSpPr/>
                <p:nvPr/>
              </p:nvSpPr>
              <p:spPr>
                <a:xfrm rot="17155800">
                  <a:off x="7246440" y="506376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 rot="17155800">
                  <a:off x="7237440" y="5036760"/>
                  <a:ext cx="113040" cy="58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 rot="17155800">
                  <a:off x="7229160" y="5007240"/>
                  <a:ext cx="113040" cy="59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1" name=""/>
                <p:cNvSpPr/>
                <p:nvPr/>
              </p:nvSpPr>
              <p:spPr>
                <a:xfrm rot="17155800">
                  <a:off x="7225560" y="498024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2" name=""/>
                <p:cNvSpPr/>
                <p:nvPr/>
              </p:nvSpPr>
              <p:spPr>
                <a:xfrm rot="17155800">
                  <a:off x="7217280" y="495180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 rot="17155800">
                  <a:off x="7208640" y="492228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 rot="17155800">
                  <a:off x="7200360" y="4890240"/>
                  <a:ext cx="1101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 rot="17155800">
                  <a:off x="7187040" y="4858200"/>
                  <a:ext cx="10296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 rot="17155800">
                  <a:off x="7179480" y="4826880"/>
                  <a:ext cx="102240" cy="53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7" name=""/>
                <p:cNvSpPr/>
                <p:nvPr/>
              </p:nvSpPr>
              <p:spPr>
                <a:xfrm rot="17155800">
                  <a:off x="7175880" y="4798800"/>
                  <a:ext cx="97560" cy="50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8" name=""/>
                <p:cNvSpPr/>
                <p:nvPr/>
              </p:nvSpPr>
              <p:spPr>
                <a:xfrm rot="17155800">
                  <a:off x="7165800" y="4764960"/>
                  <a:ext cx="97560" cy="50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9" name=""/>
                <p:cNvSpPr/>
                <p:nvPr/>
              </p:nvSpPr>
              <p:spPr>
                <a:xfrm rot="17155800">
                  <a:off x="7156440" y="4748040"/>
                  <a:ext cx="86760" cy="45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0" name=""/>
                <p:cNvSpPr/>
                <p:nvPr/>
              </p:nvSpPr>
              <p:spPr>
                <a:xfrm rot="17155800">
                  <a:off x="7149240" y="4722840"/>
                  <a:ext cx="85320" cy="44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1" name=""/>
                <p:cNvSpPr/>
                <p:nvPr/>
              </p:nvSpPr>
              <p:spPr>
                <a:xfrm rot="17155800">
                  <a:off x="7138440" y="4696200"/>
                  <a:ext cx="75240" cy="38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 rot="17764800">
                  <a:off x="7147440" y="4677840"/>
                  <a:ext cx="44640" cy="66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 rot="17764800">
                  <a:off x="7134480" y="4661280"/>
                  <a:ext cx="37800" cy="56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4" name=""/>
                <p:cNvSpPr/>
                <p:nvPr/>
              </p:nvSpPr>
              <p:spPr>
                <a:xfrm rot="17764800">
                  <a:off x="7124400" y="4643640"/>
                  <a:ext cx="345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 rot="17764800">
                  <a:off x="7102800" y="4627440"/>
                  <a:ext cx="30960" cy="50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 rot="17764800">
                  <a:off x="7085160" y="4612680"/>
                  <a:ext cx="2880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 rot="17764800">
                  <a:off x="7068240" y="4592160"/>
                  <a:ext cx="2844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8" name=""/>
                <p:cNvSpPr/>
                <p:nvPr/>
              </p:nvSpPr>
              <p:spPr>
                <a:xfrm rot="17764800">
                  <a:off x="7054560" y="4582800"/>
                  <a:ext cx="20880" cy="32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9" name=""/>
                <p:cNvSpPr/>
                <p:nvPr/>
              </p:nvSpPr>
              <p:spPr>
                <a:xfrm rot="17764800">
                  <a:off x="7043400" y="457416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0" name=""/>
                <p:cNvSpPr/>
                <p:nvPr/>
              </p:nvSpPr>
              <p:spPr>
                <a:xfrm rot="17764800">
                  <a:off x="7032240" y="4570920"/>
                  <a:ext cx="10800" cy="1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1" name=""/>
                <p:cNvSpPr/>
                <p:nvPr/>
              </p:nvSpPr>
              <p:spPr>
                <a:xfrm rot="17155800">
                  <a:off x="7266240" y="5151240"/>
                  <a:ext cx="79920" cy="42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2" name=""/>
                <p:cNvSpPr/>
                <p:nvPr/>
              </p:nvSpPr>
              <p:spPr>
                <a:xfrm rot="17155800">
                  <a:off x="7279920" y="5177160"/>
                  <a:ext cx="65880" cy="34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3" name=""/>
                <p:cNvSpPr/>
                <p:nvPr/>
              </p:nvSpPr>
              <p:spPr>
                <a:xfrm flipH="1" rot="20645400">
                  <a:off x="7134480" y="4512600"/>
                  <a:ext cx="92520" cy="925920"/>
                </a:xfrm>
                <a:custGeom>
                  <a:avLst/>
                  <a:gdLst/>
                  <a:ahLst/>
                  <a:rect l="l" t="t" r="r" b="b"/>
                  <a:pathLst>
                    <a:path w="375" h="3493">
                      <a:moveTo>
                        <a:pt x="99" y="3420"/>
                      </a:moveTo>
                      <a:cubicBezTo>
                        <a:pt x="107" y="3347"/>
                        <a:pt x="75" y="2935"/>
                        <a:pt x="67" y="2658"/>
                      </a:cubicBezTo>
                      <a:cubicBezTo>
                        <a:pt x="59" y="2381"/>
                        <a:pt x="52" y="2068"/>
                        <a:pt x="51" y="1757"/>
                      </a:cubicBezTo>
                      <a:cubicBezTo>
                        <a:pt x="50" y="1446"/>
                        <a:pt x="9" y="1072"/>
                        <a:pt x="59" y="792"/>
                      </a:cubicBezTo>
                      <a:cubicBezTo>
                        <a:pt x="109" y="512"/>
                        <a:pt x="327" y="156"/>
                        <a:pt x="351" y="78"/>
                      </a:cubicBezTo>
                      <a:cubicBezTo>
                        <a:pt x="375" y="0"/>
                        <a:pt x="252" y="225"/>
                        <a:pt x="205" y="321"/>
                      </a:cubicBezTo>
                      <a:cubicBezTo>
                        <a:pt x="158" y="417"/>
                        <a:pt x="100" y="557"/>
                        <a:pt x="67" y="654"/>
                      </a:cubicBezTo>
                      <a:cubicBezTo>
                        <a:pt x="34" y="751"/>
                        <a:pt x="20" y="786"/>
                        <a:pt x="10" y="905"/>
                      </a:cubicBezTo>
                      <a:cubicBezTo>
                        <a:pt x="0" y="1024"/>
                        <a:pt x="9" y="1154"/>
                        <a:pt x="10" y="1368"/>
                      </a:cubicBezTo>
                      <a:cubicBezTo>
                        <a:pt x="11" y="1582"/>
                        <a:pt x="19" y="1965"/>
                        <a:pt x="18" y="2187"/>
                      </a:cubicBezTo>
                      <a:cubicBezTo>
                        <a:pt x="17" y="2409"/>
                        <a:pt x="2" y="2547"/>
                        <a:pt x="2" y="2698"/>
                      </a:cubicBezTo>
                      <a:cubicBezTo>
                        <a:pt x="2" y="2849"/>
                        <a:pt x="7" y="2976"/>
                        <a:pt x="18" y="3096"/>
                      </a:cubicBezTo>
                      <a:cubicBezTo>
                        <a:pt x="29" y="3216"/>
                        <a:pt x="91" y="3493"/>
                        <a:pt x="99" y="342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00"/>
                    </a:gs>
                    <a:gs pos="100000">
                      <a:srgbClr val="99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84" name=""/>
              <p:cNvSpPr/>
              <p:nvPr/>
            </p:nvSpPr>
            <p:spPr>
              <a:xfrm rot="3498000">
                <a:off x="7340760" y="5653440"/>
                <a:ext cx="1080" cy="18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 rot="3607200">
                <a:off x="7359480" y="5658840"/>
                <a:ext cx="1440" cy="18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 flipH="1" rot="18982800">
                <a:off x="7302600" y="5323680"/>
                <a:ext cx="1440" cy="2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 flipH="1" rot="19599600">
                <a:off x="7294320" y="5339520"/>
                <a:ext cx="1440" cy="19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 flipH="1" rot="17992800">
                <a:off x="7307640" y="5656680"/>
                <a:ext cx="1440" cy="18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9" name=""/>
            <p:cNvGrpSpPr/>
            <p:nvPr/>
          </p:nvGrpSpPr>
          <p:grpSpPr>
            <a:xfrm>
              <a:off x="6583320" y="4019400"/>
              <a:ext cx="487440" cy="2057400"/>
              <a:chOff x="6583320" y="4019400"/>
              <a:chExt cx="487440" cy="2057400"/>
            </a:xfrm>
          </p:grpSpPr>
          <p:sp>
            <p:nvSpPr>
              <p:cNvPr id="8090" name=""/>
              <p:cNvSpPr/>
              <p:nvPr/>
            </p:nvSpPr>
            <p:spPr>
              <a:xfrm>
                <a:off x="6813000" y="4019400"/>
                <a:ext cx="32760" cy="2057400"/>
              </a:xfrm>
              <a:custGeom>
                <a:avLst/>
                <a:gdLst/>
                <a:ahLst/>
                <a:rect l="l" t="t" r="r" b="b"/>
                <a:pathLst>
                  <a:path w="58" h="2458">
                    <a:moveTo>
                      <a:pt x="1" y="2307"/>
                    </a:moveTo>
                    <a:cubicBezTo>
                      <a:pt x="0" y="2156"/>
                      <a:pt x="20" y="1596"/>
                      <a:pt x="25" y="1375"/>
                    </a:cubicBezTo>
                    <a:cubicBezTo>
                      <a:pt x="30" y="1154"/>
                      <a:pt x="30" y="1194"/>
                      <a:pt x="33" y="983"/>
                    </a:cubicBezTo>
                    <a:cubicBezTo>
                      <a:pt x="36" y="772"/>
                      <a:pt x="41" y="214"/>
                      <a:pt x="45" y="107"/>
                    </a:cubicBezTo>
                    <a:cubicBezTo>
                      <a:pt x="49" y="0"/>
                      <a:pt x="56" y="153"/>
                      <a:pt x="57" y="339"/>
                    </a:cubicBezTo>
                    <a:cubicBezTo>
                      <a:pt x="58" y="525"/>
                      <a:pt x="53" y="909"/>
                      <a:pt x="49" y="1223"/>
                    </a:cubicBezTo>
                    <a:cubicBezTo>
                      <a:pt x="45" y="1537"/>
                      <a:pt x="36" y="2046"/>
                      <a:pt x="33" y="2223"/>
                    </a:cubicBezTo>
                    <a:cubicBezTo>
                      <a:pt x="30" y="2400"/>
                      <a:pt x="33" y="2270"/>
                      <a:pt x="29" y="2283"/>
                    </a:cubicBezTo>
                    <a:cubicBezTo>
                      <a:pt x="25" y="2296"/>
                      <a:pt x="2" y="2458"/>
                      <a:pt x="1" y="2307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6583320" y="4054320"/>
                <a:ext cx="487440" cy="892080"/>
              </a:xfrm>
              <a:custGeom>
                <a:avLst/>
                <a:gdLst/>
                <a:ahLst/>
                <a:rect l="l" t="t" r="r" b="b"/>
                <a:pathLst>
                  <a:path w="857" h="1066">
                    <a:moveTo>
                      <a:pt x="417" y="1033"/>
                    </a:moveTo>
                    <a:cubicBezTo>
                      <a:pt x="394" y="1031"/>
                      <a:pt x="395" y="1018"/>
                      <a:pt x="369" y="1021"/>
                    </a:cubicBezTo>
                    <a:cubicBezTo>
                      <a:pt x="343" y="1024"/>
                      <a:pt x="298" y="1043"/>
                      <a:pt x="261" y="1049"/>
                    </a:cubicBezTo>
                    <a:cubicBezTo>
                      <a:pt x="224" y="1055"/>
                      <a:pt x="179" y="1066"/>
                      <a:pt x="145" y="1057"/>
                    </a:cubicBezTo>
                    <a:cubicBezTo>
                      <a:pt x="111" y="1048"/>
                      <a:pt x="69" y="1016"/>
                      <a:pt x="57" y="993"/>
                    </a:cubicBezTo>
                    <a:cubicBezTo>
                      <a:pt x="45" y="970"/>
                      <a:pt x="60" y="935"/>
                      <a:pt x="73" y="917"/>
                    </a:cubicBezTo>
                    <a:cubicBezTo>
                      <a:pt x="86" y="899"/>
                      <a:pt x="122" y="894"/>
                      <a:pt x="137" y="885"/>
                    </a:cubicBezTo>
                    <a:cubicBezTo>
                      <a:pt x="152" y="876"/>
                      <a:pt x="165" y="870"/>
                      <a:pt x="161" y="865"/>
                    </a:cubicBezTo>
                    <a:cubicBezTo>
                      <a:pt x="157" y="860"/>
                      <a:pt x="134" y="864"/>
                      <a:pt x="113" y="857"/>
                    </a:cubicBezTo>
                    <a:cubicBezTo>
                      <a:pt x="92" y="850"/>
                      <a:pt x="51" y="846"/>
                      <a:pt x="33" y="821"/>
                    </a:cubicBezTo>
                    <a:cubicBezTo>
                      <a:pt x="15" y="796"/>
                      <a:pt x="0" y="730"/>
                      <a:pt x="5" y="705"/>
                    </a:cubicBezTo>
                    <a:cubicBezTo>
                      <a:pt x="10" y="680"/>
                      <a:pt x="46" y="670"/>
                      <a:pt x="65" y="669"/>
                    </a:cubicBezTo>
                    <a:cubicBezTo>
                      <a:pt x="84" y="668"/>
                      <a:pt x="110" y="705"/>
                      <a:pt x="121" y="701"/>
                    </a:cubicBezTo>
                    <a:cubicBezTo>
                      <a:pt x="132" y="697"/>
                      <a:pt x="147" y="661"/>
                      <a:pt x="133" y="645"/>
                    </a:cubicBezTo>
                    <a:cubicBezTo>
                      <a:pt x="119" y="629"/>
                      <a:pt x="54" y="636"/>
                      <a:pt x="37" y="605"/>
                    </a:cubicBezTo>
                    <a:cubicBezTo>
                      <a:pt x="20" y="574"/>
                      <a:pt x="20" y="496"/>
                      <a:pt x="29" y="461"/>
                    </a:cubicBezTo>
                    <a:cubicBezTo>
                      <a:pt x="38" y="426"/>
                      <a:pt x="73" y="400"/>
                      <a:pt x="93" y="397"/>
                    </a:cubicBezTo>
                    <a:cubicBezTo>
                      <a:pt x="113" y="394"/>
                      <a:pt x="133" y="433"/>
                      <a:pt x="149" y="441"/>
                    </a:cubicBezTo>
                    <a:cubicBezTo>
                      <a:pt x="165" y="449"/>
                      <a:pt x="186" y="456"/>
                      <a:pt x="189" y="445"/>
                    </a:cubicBezTo>
                    <a:cubicBezTo>
                      <a:pt x="192" y="434"/>
                      <a:pt x="177" y="402"/>
                      <a:pt x="169" y="377"/>
                    </a:cubicBezTo>
                    <a:cubicBezTo>
                      <a:pt x="161" y="352"/>
                      <a:pt x="138" y="324"/>
                      <a:pt x="141" y="297"/>
                    </a:cubicBezTo>
                    <a:cubicBezTo>
                      <a:pt x="144" y="270"/>
                      <a:pt x="160" y="236"/>
                      <a:pt x="185" y="217"/>
                    </a:cubicBezTo>
                    <a:cubicBezTo>
                      <a:pt x="210" y="198"/>
                      <a:pt x="264" y="206"/>
                      <a:pt x="293" y="185"/>
                    </a:cubicBezTo>
                    <a:cubicBezTo>
                      <a:pt x="322" y="164"/>
                      <a:pt x="339" y="118"/>
                      <a:pt x="361" y="93"/>
                    </a:cubicBezTo>
                    <a:cubicBezTo>
                      <a:pt x="383" y="68"/>
                      <a:pt x="402" y="46"/>
                      <a:pt x="425" y="33"/>
                    </a:cubicBezTo>
                    <a:cubicBezTo>
                      <a:pt x="448" y="20"/>
                      <a:pt x="478" y="0"/>
                      <a:pt x="501" y="13"/>
                    </a:cubicBezTo>
                    <a:cubicBezTo>
                      <a:pt x="524" y="26"/>
                      <a:pt x="544" y="81"/>
                      <a:pt x="561" y="109"/>
                    </a:cubicBezTo>
                    <a:cubicBezTo>
                      <a:pt x="578" y="137"/>
                      <a:pt x="578" y="166"/>
                      <a:pt x="601" y="181"/>
                    </a:cubicBezTo>
                    <a:cubicBezTo>
                      <a:pt x="624" y="196"/>
                      <a:pt x="671" y="185"/>
                      <a:pt x="697" y="201"/>
                    </a:cubicBezTo>
                    <a:cubicBezTo>
                      <a:pt x="723" y="217"/>
                      <a:pt x="759" y="246"/>
                      <a:pt x="761" y="277"/>
                    </a:cubicBezTo>
                    <a:cubicBezTo>
                      <a:pt x="763" y="308"/>
                      <a:pt x="698" y="360"/>
                      <a:pt x="709" y="385"/>
                    </a:cubicBezTo>
                    <a:cubicBezTo>
                      <a:pt x="720" y="410"/>
                      <a:pt x="802" y="402"/>
                      <a:pt x="825" y="429"/>
                    </a:cubicBezTo>
                    <a:cubicBezTo>
                      <a:pt x="848" y="456"/>
                      <a:pt x="854" y="517"/>
                      <a:pt x="849" y="549"/>
                    </a:cubicBezTo>
                    <a:cubicBezTo>
                      <a:pt x="844" y="581"/>
                      <a:pt x="796" y="599"/>
                      <a:pt x="797" y="621"/>
                    </a:cubicBezTo>
                    <a:cubicBezTo>
                      <a:pt x="798" y="643"/>
                      <a:pt x="849" y="654"/>
                      <a:pt x="853" y="681"/>
                    </a:cubicBezTo>
                    <a:cubicBezTo>
                      <a:pt x="857" y="708"/>
                      <a:pt x="841" y="758"/>
                      <a:pt x="821" y="781"/>
                    </a:cubicBezTo>
                    <a:cubicBezTo>
                      <a:pt x="801" y="804"/>
                      <a:pt x="740" y="803"/>
                      <a:pt x="733" y="821"/>
                    </a:cubicBezTo>
                    <a:cubicBezTo>
                      <a:pt x="726" y="839"/>
                      <a:pt x="766" y="868"/>
                      <a:pt x="781" y="893"/>
                    </a:cubicBezTo>
                    <a:cubicBezTo>
                      <a:pt x="796" y="918"/>
                      <a:pt x="831" y="950"/>
                      <a:pt x="821" y="969"/>
                    </a:cubicBezTo>
                    <a:cubicBezTo>
                      <a:pt x="811" y="988"/>
                      <a:pt x="757" y="1004"/>
                      <a:pt x="721" y="1009"/>
                    </a:cubicBezTo>
                    <a:cubicBezTo>
                      <a:pt x="685" y="1014"/>
                      <a:pt x="640" y="993"/>
                      <a:pt x="605" y="997"/>
                    </a:cubicBezTo>
                    <a:cubicBezTo>
                      <a:pt x="570" y="1001"/>
                      <a:pt x="540" y="1026"/>
                      <a:pt x="509" y="1033"/>
                    </a:cubicBezTo>
                    <a:cubicBezTo>
                      <a:pt x="478" y="1040"/>
                      <a:pt x="440" y="1035"/>
                      <a:pt x="417" y="103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197f1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2" name=""/>
            <p:cNvSpPr/>
            <p:nvPr/>
          </p:nvSpPr>
          <p:spPr>
            <a:xfrm flipH="1">
              <a:off x="6197400" y="3432240"/>
              <a:ext cx="14040" cy="26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5805360" y="460836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4" name=""/>
          <p:cNvSpPr/>
          <p:nvPr/>
        </p:nvSpPr>
        <p:spPr>
          <a:xfrm>
            <a:off x="579600" y="3686040"/>
            <a:ext cx="53258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éthodologie génér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érification de la reproductibilité de la méth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se en compte des nouveaux individ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ivi de croissance sur plusieurs a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5" name=""/>
          <p:cNvSpPr/>
          <p:nvPr/>
        </p:nvSpPr>
        <p:spPr>
          <a:xfrm rot="16200000">
            <a:off x="-1697400" y="4466160"/>
            <a:ext cx="38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ynamique d’évolution décadente des étud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6" name=""/>
          <p:cNvSpPr/>
          <p:nvPr/>
        </p:nvSpPr>
        <p:spPr>
          <a:xfrm>
            <a:off x="32760" y="19080"/>
            <a:ext cx="78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S EBOUEURS DE GUYANE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-  LE TRAVAIL, TOUJOURS AVEC LE SOUR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7" name="" descr=""/>
          <p:cNvPicPr/>
          <p:nvPr/>
        </p:nvPicPr>
        <p:blipFill>
          <a:blip r:embed="rId2"/>
          <a:stretch/>
        </p:blipFill>
        <p:spPr>
          <a:xfrm>
            <a:off x="2728800" y="10666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8098" name=""/>
          <p:cNvSpPr/>
          <p:nvPr/>
        </p:nvSpPr>
        <p:spPr>
          <a:xfrm>
            <a:off x="6006960" y="631800"/>
            <a:ext cx="2773440" cy="2212200"/>
          </a:xfrm>
          <a:prstGeom prst="wedgeEllipseCallout">
            <a:avLst>
              <a:gd name="adj1" fmla="val -83078"/>
              <a:gd name="adj2" fmla="val 27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t pas déconner dans un ateli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71720" y="1085760"/>
            <a:ext cx="7174800" cy="4313160"/>
            <a:chOff x="1971720" y="1085760"/>
            <a:chExt cx="7174800" cy="4313160"/>
          </a:xfrm>
        </p:grpSpPr>
        <p:sp>
          <p:nvSpPr>
            <p:cNvPr id="99" name=""/>
            <p:cNvSpPr/>
            <p:nvPr/>
          </p:nvSpPr>
          <p:spPr>
            <a:xfrm>
              <a:off x="4253040" y="1103400"/>
              <a:ext cx="4833720" cy="374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21120" y="1941480"/>
              <a:ext cx="0" cy="209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02040" y="4037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2040" y="3513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2040" y="2992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02040" y="246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2040" y="1936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27600" y="4037040"/>
              <a:ext cx="391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821120" y="400320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607000" y="400320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391440" y="400320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7175520" y="400320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961400" y="400320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745480" y="400320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1120" y="3460680"/>
              <a:ext cx="3926160" cy="542880"/>
            </a:xfrm>
            <a:custGeom>
              <a:avLst/>
              <a:gdLst/>
              <a:ahLst/>
              <a:rect l="l" t="t" r="r" b="b"/>
              <a:pathLst>
                <a:path w="2880" h="398">
                  <a:moveTo>
                    <a:pt x="0" y="0"/>
                  </a:moveTo>
                  <a:lnTo>
                    <a:pt x="576" y="338"/>
                  </a:lnTo>
                  <a:lnTo>
                    <a:pt x="1152" y="351"/>
                  </a:lnTo>
                  <a:lnTo>
                    <a:pt x="1727" y="384"/>
                  </a:lnTo>
                  <a:lnTo>
                    <a:pt x="2303" y="397"/>
                  </a:lnTo>
                  <a:lnTo>
                    <a:pt x="2879" y="39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21120" y="2928960"/>
              <a:ext cx="3926160" cy="781200"/>
            </a:xfrm>
            <a:custGeom>
              <a:avLst/>
              <a:gdLst/>
              <a:ahLst/>
              <a:rect l="l" t="t" r="r" b="b"/>
              <a:pathLst>
                <a:path w="2880" h="573">
                  <a:moveTo>
                    <a:pt x="0" y="0"/>
                  </a:moveTo>
                  <a:lnTo>
                    <a:pt x="576" y="364"/>
                  </a:lnTo>
                  <a:lnTo>
                    <a:pt x="1152" y="390"/>
                  </a:lnTo>
                  <a:lnTo>
                    <a:pt x="1727" y="332"/>
                  </a:lnTo>
                  <a:lnTo>
                    <a:pt x="2303" y="338"/>
                  </a:lnTo>
                  <a:lnTo>
                    <a:pt x="2879" y="572"/>
                  </a:lnTo>
                </a:path>
              </a:pathLst>
            </a:custGeom>
            <a:noFill/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21120" y="2087640"/>
              <a:ext cx="3926160" cy="1260360"/>
            </a:xfrm>
            <a:custGeom>
              <a:avLst/>
              <a:gdLst/>
              <a:ahLst/>
              <a:rect l="l" t="t" r="r" b="b"/>
              <a:pathLst>
                <a:path w="2880" h="924">
                  <a:moveTo>
                    <a:pt x="0" y="897"/>
                  </a:moveTo>
                  <a:lnTo>
                    <a:pt x="576" y="923"/>
                  </a:lnTo>
                  <a:lnTo>
                    <a:pt x="1152" y="832"/>
                  </a:lnTo>
                  <a:lnTo>
                    <a:pt x="1727" y="702"/>
                  </a:lnTo>
                  <a:lnTo>
                    <a:pt x="2303" y="546"/>
                  </a:lnTo>
                  <a:lnTo>
                    <a:pt x="2879" y="0"/>
                  </a:lnTo>
                </a:path>
              </a:pathLst>
            </a:custGeom>
            <a:noFill/>
            <a:ln cap="rnd" w="5076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7360" y="3435480"/>
              <a:ext cx="5076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81800" y="3895560"/>
              <a:ext cx="5076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67320" y="3913200"/>
              <a:ext cx="5112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51760" y="3956040"/>
              <a:ext cx="49320" cy="5544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35840" y="3975120"/>
              <a:ext cx="5076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721720" y="3965400"/>
              <a:ext cx="50760" cy="55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99160" y="2905200"/>
              <a:ext cx="37800" cy="4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83240" y="3400560"/>
              <a:ext cx="38160" cy="42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69120" y="3435480"/>
              <a:ext cx="38160" cy="42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53200" y="3355920"/>
              <a:ext cx="38160" cy="4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37640" y="3365640"/>
              <a:ext cx="37800" cy="4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723160" y="3684600"/>
              <a:ext cx="38160" cy="4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97360" y="3282840"/>
              <a:ext cx="50760" cy="55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1800" y="3319560"/>
              <a:ext cx="5076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67320" y="3193920"/>
              <a:ext cx="51120" cy="55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51760" y="3017880"/>
              <a:ext cx="4932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35840" y="2805120"/>
              <a:ext cx="5076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721720" y="2060640"/>
              <a:ext cx="5076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60480" y="38498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00000" y="33116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00000" y="2816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0000" y="229860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00000" y="180180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3640" y="4068720"/>
              <a:ext cx="5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9520" y="4068720"/>
              <a:ext cx="5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15040" y="4068720"/>
              <a:ext cx="5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97680" y="4068720"/>
              <a:ext cx="5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83560" y="4068720"/>
              <a:ext cx="5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68720" y="4068720"/>
              <a:ext cx="5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89440" y="2876400"/>
              <a:ext cx="7632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59480" y="3378240"/>
              <a:ext cx="745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51480" y="3425760"/>
              <a:ext cx="763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18560" y="3341520"/>
              <a:ext cx="7452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2040" y="3338640"/>
              <a:ext cx="748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12360" y="3670200"/>
              <a:ext cx="7452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24960" y="2022480"/>
              <a:ext cx="745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94120" y="3425760"/>
              <a:ext cx="7488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51560" y="3873600"/>
              <a:ext cx="745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56520" y="3882960"/>
              <a:ext cx="745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24760" y="3944880"/>
              <a:ext cx="763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31160" y="3940200"/>
              <a:ext cx="745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712360" y="3936960"/>
              <a:ext cx="745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10640" y="2774880"/>
              <a:ext cx="7452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32680" y="3011400"/>
              <a:ext cx="763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59480" y="3284640"/>
              <a:ext cx="745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81520" y="3281400"/>
              <a:ext cx="763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35640" y="3182760"/>
              <a:ext cx="7452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3689280" y="2767680"/>
              <a:ext cx="1502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ngueur(c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78440" y="4260960"/>
              <a:ext cx="1711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usse annue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4960800" y="1349280"/>
              <a:ext cx="5781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99240" y="1528920"/>
              <a:ext cx="56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45120" y="1477800"/>
              <a:ext cx="745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4960800" y="1754280"/>
              <a:ext cx="77652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799240" y="1981080"/>
              <a:ext cx="5680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45120" y="1928880"/>
              <a:ext cx="763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4960800" y="2235240"/>
              <a:ext cx="89856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800680" y="2548080"/>
              <a:ext cx="566640" cy="0"/>
            </a:xfrm>
            <a:prstGeom prst="line">
              <a:avLst/>
            </a:prstGeom>
            <a:ln w="3816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45120" y="2496960"/>
              <a:ext cx="763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971720" y="1085760"/>
              <a:ext cx="2921040" cy="4313160"/>
              <a:chOff x="1971720" y="1085760"/>
              <a:chExt cx="2921040" cy="431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1971720" y="1085760"/>
                <a:ext cx="2193840" cy="4313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35600" y="3449520"/>
                <a:ext cx="85716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2095560" y="1214280"/>
                <a:ext cx="2054160" cy="4160160"/>
                <a:chOff x="2095560" y="1214280"/>
                <a:chExt cx="2054160" cy="4160160"/>
              </a:xfrm>
            </p:grpSpPr>
            <p:pic>
              <p:nvPicPr>
                <p:cNvPr id="17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095560" y="1214280"/>
                  <a:ext cx="2054160" cy="380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"/>
                <p:cNvSpPr/>
                <p:nvPr/>
              </p:nvSpPr>
              <p:spPr>
                <a:xfrm>
                  <a:off x="2132280" y="4919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520360" y="4919760"/>
                  <a:ext cx="3841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470400" y="4919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907720" y="4919760"/>
                  <a:ext cx="469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'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501640" y="442008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027960" y="442908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83960" y="4165560"/>
                  <a:ext cx="18108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002760" y="382140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798280" y="422604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77680" y="303660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764880" y="342576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675960" y="352152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46000" y="401688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701160" y="371988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#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71280" y="410112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#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722040" y="431136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#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698640" y="424332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552120" y="442908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631240" y="441432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392560" y="2957760"/>
                  <a:ext cx="558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401560" y="2896560"/>
                  <a:ext cx="0" cy="309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0" name=""/>
          <p:cNvSpPr/>
          <p:nvPr/>
        </p:nvSpPr>
        <p:spPr>
          <a:xfrm>
            <a:off x="321480" y="552600"/>
            <a:ext cx="852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 milieu tempéré : accès à des marqueurs morphologique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empor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387360" y="1089000"/>
            <a:ext cx="1494000" cy="31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430200" y="533412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uplement équienne : approche architecturale quantitative de la structure de l’ar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Statistique à l’échelle du peuplement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3240" y="71280"/>
            <a:ext cx="63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ONTEXTE DE L’ETUDE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MILIEU TEMPERE vs TROP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9" name=""/>
          <p:cNvSpPr/>
          <p:nvPr/>
        </p:nvSpPr>
        <p:spPr>
          <a:xfrm>
            <a:off x="34920" y="19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0" name="" descr=""/>
          <p:cNvPicPr/>
          <p:nvPr/>
        </p:nvPicPr>
        <p:blipFill>
          <a:blip r:embed="rId2"/>
          <a:stretch/>
        </p:blipFill>
        <p:spPr>
          <a:xfrm>
            <a:off x="1209600" y="1123920"/>
            <a:ext cx="6927840" cy="5195880"/>
          </a:xfrm>
          <a:prstGeom prst="rect">
            <a:avLst/>
          </a:prstGeom>
          <a:ln w="0">
            <a:noFill/>
          </a:ln>
        </p:spPr>
      </p:pic>
      <p:sp>
        <p:nvSpPr>
          <p:cNvPr id="8101" name=""/>
          <p:cNvSpPr/>
          <p:nvPr/>
        </p:nvSpPr>
        <p:spPr>
          <a:xfrm>
            <a:off x="5872320" y="409680"/>
            <a:ext cx="3271680" cy="999720"/>
          </a:xfrm>
          <a:prstGeom prst="wedgeEllipseCallout">
            <a:avLst>
              <a:gd name="adj1" fmla="val -29824"/>
              <a:gd name="adj2" fmla="val 150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chiga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’est chouette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"/>
          <p:cNvSpPr/>
          <p:nvPr/>
        </p:nvSpPr>
        <p:spPr>
          <a:xfrm>
            <a:off x="479520" y="492120"/>
            <a:ext cx="2001600" cy="1302840"/>
          </a:xfrm>
          <a:prstGeom prst="wedgeEllipseCallout">
            <a:avLst>
              <a:gd name="adj1" fmla="val 39282"/>
              <a:gd name="adj2" fmla="val 833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i, je préfère les morp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"/>
          <p:cNvSpPr/>
          <p:nvPr/>
        </p:nvSpPr>
        <p:spPr>
          <a:xfrm>
            <a:off x="2759040" y="411120"/>
            <a:ext cx="2698920" cy="1413360"/>
          </a:xfrm>
          <a:prstGeom prst="cloudCallout">
            <a:avLst>
              <a:gd name="adj1" fmla="val -7833"/>
              <a:gd name="adj2" fmla="val 93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’tit coup de rhum et c’est reparti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"/>
          <p:cNvSpPr/>
          <p:nvPr/>
        </p:nvSpPr>
        <p:spPr>
          <a:xfrm rot="16200000">
            <a:off x="-2485080" y="368172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ynamique d’évolution décadente des étudiants et de leur encad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5" name=""/>
          <p:cNvSpPr/>
          <p:nvPr/>
        </p:nvSpPr>
        <p:spPr>
          <a:xfrm>
            <a:off x="1440" y="71280"/>
            <a:ext cx="82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ES CLASSIFICATEURS ACHARN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 LA JOYEUSE EQUIPE AU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6" name=""/>
          <p:cNvSpPr/>
          <p:nvPr/>
        </p:nvSpPr>
        <p:spPr>
          <a:xfrm rot="16200000">
            <a:off x="-1744560" y="4417560"/>
            <a:ext cx="39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ynamique d’évolution des chercheurs mal ras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7" name="" descr=""/>
          <p:cNvPicPr/>
          <p:nvPr/>
        </p:nvPicPr>
        <p:blipFill>
          <a:blip r:embed="rId2"/>
          <a:stretch/>
        </p:blipFill>
        <p:spPr>
          <a:xfrm>
            <a:off x="1025640" y="860400"/>
            <a:ext cx="3017880" cy="4525920"/>
          </a:xfrm>
          <a:prstGeom prst="rect">
            <a:avLst/>
          </a:prstGeom>
          <a:ln w="0">
            <a:noFill/>
          </a:ln>
        </p:spPr>
      </p:pic>
      <p:sp>
        <p:nvSpPr>
          <p:cNvPr id="8108" name=""/>
          <p:cNvSpPr/>
          <p:nvPr/>
        </p:nvSpPr>
        <p:spPr>
          <a:xfrm>
            <a:off x="495360" y="5521320"/>
            <a:ext cx="417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atrickus heuretus IN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une espèce en voie d’extinction (L. Barrabé, M. Henry, L. Provot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9" name="" descr=""/>
          <p:cNvPicPr/>
          <p:nvPr/>
        </p:nvPicPr>
        <p:blipFill>
          <a:blip r:embed="rId3"/>
          <a:stretch/>
        </p:blipFill>
        <p:spPr>
          <a:xfrm>
            <a:off x="5137200" y="798480"/>
            <a:ext cx="3479760" cy="4638600"/>
          </a:xfrm>
          <a:prstGeom prst="rect">
            <a:avLst/>
          </a:prstGeom>
          <a:ln w="0">
            <a:noFill/>
          </a:ln>
        </p:spPr>
      </p:pic>
      <p:sp>
        <p:nvSpPr>
          <p:cNvPr id="8110" name=""/>
          <p:cNvSpPr/>
          <p:nvPr/>
        </p:nvSpPr>
        <p:spPr>
          <a:xfrm>
            <a:off x="6821640" y="8539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C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1" name=""/>
          <p:cNvSpPr/>
          <p:nvPr/>
        </p:nvSpPr>
        <p:spPr>
          <a:xfrm>
            <a:off x="4948200" y="57466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chercheur en pleine réflexion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 Paris-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2" name=""/>
          <p:cNvSpPr/>
          <p:nvPr/>
        </p:nvSpPr>
        <p:spPr>
          <a:xfrm>
            <a:off x="4645080" y="479520"/>
            <a:ext cx="1377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3" name=""/>
          <p:cNvSpPr/>
          <p:nvPr/>
        </p:nvSpPr>
        <p:spPr>
          <a:xfrm>
            <a:off x="34920" y="19080"/>
            <a:ext cx="90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HERCHEUR MAL RASE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– DES JOURNEES INTELLECTUELLEMENT BIEN REM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10320" y="528480"/>
            <a:ext cx="87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 milieu tropical : peu de marqueurs morphologiqu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3640" y="1163520"/>
            <a:ext cx="70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ment accéder à l’évolution des formes d’arbr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400" y="3129120"/>
            <a:ext cx="85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ment intégrer cette information à l’échelle du peuple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8120" y="180324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 de peuplements en cohortes, forte influence de l’hétérogénéité du milieu, décalage temporel dans la croissance des arbres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38120" y="3881520"/>
            <a:ext cx="8188200" cy="1958040"/>
            <a:chOff x="438120" y="3881520"/>
            <a:chExt cx="8188200" cy="1958040"/>
          </a:xfrm>
        </p:grpSpPr>
        <p:sp>
          <p:nvSpPr>
            <p:cNvPr id="209" name=""/>
            <p:cNvSpPr/>
            <p:nvPr/>
          </p:nvSpPr>
          <p:spPr>
            <a:xfrm>
              <a:off x="438120" y="3881520"/>
              <a:ext cx="535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ne approche architectural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9560" y="4465800"/>
              <a:ext cx="81867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ne description précise d’individus d’âges variés poussant en condition variées… Description des formes et hypothèses sur leur succession dans le tem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240" y="71280"/>
            <a:ext cx="63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ONTEXTE DE L’ETUDE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MILIEU TEMPERE vs TROP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4038480" cy="280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14360" y="600120"/>
            <a:ext cx="4518000" cy="6019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-5400" y="71280"/>
            <a:ext cx="54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ONTEXTE DE L’ETUDE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TACHIGALI MELINON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4187880" y="655560"/>
            <a:ext cx="4892760" cy="5668920"/>
            <a:chOff x="4187880" y="655560"/>
            <a:chExt cx="4892760" cy="5668920"/>
          </a:xfrm>
        </p:grpSpPr>
        <p:sp>
          <p:nvSpPr>
            <p:cNvPr id="217" name=""/>
            <p:cNvSpPr/>
            <p:nvPr/>
          </p:nvSpPr>
          <p:spPr>
            <a:xfrm>
              <a:off x="4187880" y="655560"/>
              <a:ext cx="4892760" cy="566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259160" y="728640"/>
              <a:ext cx="4813200" cy="5232240"/>
              <a:chOff x="4259160" y="728640"/>
              <a:chExt cx="4813200" cy="523224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957200" y="2748240"/>
                <a:ext cx="120600" cy="411120"/>
                <a:chOff x="4957200" y="2748240"/>
                <a:chExt cx="120600" cy="41112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4973040" y="2748240"/>
                  <a:ext cx="88200" cy="408600"/>
                  <a:chOff x="4973040" y="2748240"/>
                  <a:chExt cx="88200" cy="4086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V="1">
                    <a:off x="5013360" y="2773440"/>
                    <a:ext cx="1800" cy="383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973040" y="2748240"/>
                    <a:ext cx="882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5">
                        <a:moveTo>
                          <a:pt x="50" y="35"/>
                        </a:moveTo>
                        <a:lnTo>
                          <a:pt x="23" y="0"/>
                        </a:lnTo>
                        <a:lnTo>
                          <a:pt x="0" y="35"/>
                        </a:lnTo>
                        <a:lnTo>
                          <a:pt x="23" y="25"/>
                        </a:lnTo>
                        <a:lnTo>
                          <a:pt x="5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4957200" y="3157560"/>
                  <a:ext cx="1206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4844880" y="3152520"/>
                <a:ext cx="36180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07880" y="318528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0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4973400" y="2748240"/>
                <a:ext cx="88200" cy="409320"/>
                <a:chOff x="4973400" y="2748240"/>
                <a:chExt cx="88200" cy="409320"/>
              </a:xfrm>
            </p:grpSpPr>
            <p:sp>
              <p:nvSpPr>
                <p:cNvPr id="227" name=""/>
                <p:cNvSpPr/>
                <p:nvPr/>
              </p:nvSpPr>
              <p:spPr>
                <a:xfrm flipV="1">
                  <a:off x="5013720" y="2773800"/>
                  <a:ext cx="1800" cy="38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73400" y="2748240"/>
                  <a:ext cx="88200" cy="63360"/>
                </a:xfrm>
                <a:custGeom>
                  <a:avLst/>
                  <a:gdLst/>
                  <a:ahLst/>
                  <a:rect l="l" t="t" r="r" b="b"/>
                  <a:pathLst>
                    <a:path w="50" h="35">
                      <a:moveTo>
                        <a:pt x="50" y="35"/>
                      </a:moveTo>
                      <a:lnTo>
                        <a:pt x="23" y="0"/>
                      </a:lnTo>
                      <a:lnTo>
                        <a:pt x="0" y="35"/>
                      </a:lnTo>
                      <a:lnTo>
                        <a:pt x="23" y="25"/>
                      </a:lnTo>
                      <a:lnTo>
                        <a:pt x="5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4957200" y="315792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973400" y="2748240"/>
                <a:ext cx="88200" cy="409320"/>
                <a:chOff x="4973400" y="2748240"/>
                <a:chExt cx="88200" cy="409320"/>
              </a:xfrm>
            </p:grpSpPr>
            <p:sp>
              <p:nvSpPr>
                <p:cNvPr id="231" name=""/>
                <p:cNvSpPr/>
                <p:nvPr/>
              </p:nvSpPr>
              <p:spPr>
                <a:xfrm flipV="1">
                  <a:off x="5013720" y="2773800"/>
                  <a:ext cx="1800" cy="38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973400" y="2748240"/>
                  <a:ext cx="88200" cy="63360"/>
                </a:xfrm>
                <a:custGeom>
                  <a:avLst/>
                  <a:gdLst/>
                  <a:ahLst/>
                  <a:rect l="l" t="t" r="r" b="b"/>
                  <a:pathLst>
                    <a:path w="50" h="35">
                      <a:moveTo>
                        <a:pt x="50" y="35"/>
                      </a:moveTo>
                      <a:lnTo>
                        <a:pt x="23" y="0"/>
                      </a:lnTo>
                      <a:lnTo>
                        <a:pt x="0" y="35"/>
                      </a:lnTo>
                      <a:lnTo>
                        <a:pt x="23" y="25"/>
                      </a:lnTo>
                      <a:lnTo>
                        <a:pt x="5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4957200" y="315792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44880" y="3152520"/>
                <a:ext cx="36180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7880" y="318528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0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7071840" y="1440360"/>
                <a:ext cx="223560" cy="411120"/>
                <a:chOff x="7071840" y="1440360"/>
                <a:chExt cx="223560" cy="411120"/>
              </a:xfrm>
            </p:grpSpPr>
            <p:sp>
              <p:nvSpPr>
                <p:cNvPr id="237" name=""/>
                <p:cNvSpPr/>
                <p:nvPr/>
              </p:nvSpPr>
              <p:spPr>
                <a:xfrm flipV="1">
                  <a:off x="7183440" y="1676520"/>
                  <a:ext cx="1800" cy="172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071840" y="1521720"/>
                  <a:ext cx="223560" cy="18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151040" y="156780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#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119720" y="1849680"/>
                  <a:ext cx="1206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183440" y="1689480"/>
                  <a:ext cx="478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7192440" y="1440360"/>
                  <a:ext cx="86760" cy="248760"/>
                  <a:chOff x="7192440" y="1440360"/>
                  <a:chExt cx="86760" cy="24876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V="1">
                    <a:off x="7231320" y="1465920"/>
                    <a:ext cx="1800" cy="223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192440" y="1440360"/>
                    <a:ext cx="86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5">
                        <a:moveTo>
                          <a:pt x="49" y="35"/>
                        </a:moveTo>
                        <a:lnTo>
                          <a:pt x="22" y="0"/>
                        </a:lnTo>
                        <a:lnTo>
                          <a:pt x="0" y="35"/>
                        </a:lnTo>
                        <a:lnTo>
                          <a:pt x="22" y="24"/>
                        </a:lnTo>
                        <a:lnTo>
                          <a:pt x="49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"/>
              <p:cNvSpPr/>
              <p:nvPr/>
            </p:nvSpPr>
            <p:spPr>
              <a:xfrm>
                <a:off x="6998760" y="1843200"/>
                <a:ext cx="37044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71480" y="18759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00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7183800" y="1677240"/>
                <a:ext cx="1800" cy="17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71840" y="1522440"/>
                <a:ext cx="223920" cy="18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51400" y="1568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20080" y="1850400"/>
                <a:ext cx="1206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183800" y="1689840"/>
                <a:ext cx="47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7192800" y="1440360"/>
                <a:ext cx="86760" cy="248760"/>
                <a:chOff x="7192800" y="1440360"/>
                <a:chExt cx="86760" cy="24876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7231680" y="1465920"/>
                  <a:ext cx="1800" cy="223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192800" y="1440360"/>
                  <a:ext cx="86760" cy="63360"/>
                </a:xfrm>
                <a:custGeom>
                  <a:avLst/>
                  <a:gdLst/>
                  <a:ahLst/>
                  <a:rect l="l" t="t" r="r" b="b"/>
                  <a:pathLst>
                    <a:path w="49" h="35">
                      <a:moveTo>
                        <a:pt x="49" y="35"/>
                      </a:moveTo>
                      <a:lnTo>
                        <a:pt x="22" y="0"/>
                      </a:lnTo>
                      <a:lnTo>
                        <a:pt x="0" y="35"/>
                      </a:lnTo>
                      <a:lnTo>
                        <a:pt x="22" y="24"/>
                      </a:lnTo>
                      <a:lnTo>
                        <a:pt x="49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 flipV="1">
                <a:off x="7183800" y="1677240"/>
                <a:ext cx="1800" cy="17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71840" y="1522440"/>
                <a:ext cx="223920" cy="18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51400" y="1568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20080" y="1850400"/>
                <a:ext cx="1206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83800" y="1689840"/>
                <a:ext cx="47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7192800" y="1440360"/>
                <a:ext cx="86760" cy="248760"/>
                <a:chOff x="7192800" y="1440360"/>
                <a:chExt cx="86760" cy="248760"/>
              </a:xfrm>
            </p:grpSpPr>
            <p:sp>
              <p:nvSpPr>
                <p:cNvPr id="261" name=""/>
                <p:cNvSpPr/>
                <p:nvPr/>
              </p:nvSpPr>
              <p:spPr>
                <a:xfrm flipV="1">
                  <a:off x="7231680" y="1465920"/>
                  <a:ext cx="1800" cy="223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192800" y="1440360"/>
                  <a:ext cx="86760" cy="63360"/>
                </a:xfrm>
                <a:custGeom>
                  <a:avLst/>
                  <a:gdLst/>
                  <a:ahLst/>
                  <a:rect l="l" t="t" r="r" b="b"/>
                  <a:pathLst>
                    <a:path w="49" h="35">
                      <a:moveTo>
                        <a:pt x="49" y="35"/>
                      </a:moveTo>
                      <a:lnTo>
                        <a:pt x="22" y="0"/>
                      </a:lnTo>
                      <a:lnTo>
                        <a:pt x="0" y="35"/>
                      </a:lnTo>
                      <a:lnTo>
                        <a:pt x="22" y="24"/>
                      </a:lnTo>
                      <a:lnTo>
                        <a:pt x="49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998760" y="1843200"/>
                <a:ext cx="37044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71480" y="18759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00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5464800" y="1670040"/>
                <a:ext cx="208080" cy="552960"/>
                <a:chOff x="5464800" y="1670040"/>
                <a:chExt cx="208080" cy="552960"/>
              </a:xfrm>
            </p:grpSpPr>
            <p:sp>
              <p:nvSpPr>
                <p:cNvPr id="266" name=""/>
                <p:cNvSpPr/>
                <p:nvPr/>
              </p:nvSpPr>
              <p:spPr>
                <a:xfrm flipV="1">
                  <a:off x="5568120" y="1823760"/>
                  <a:ext cx="1440" cy="397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512680" y="2221560"/>
                  <a:ext cx="11880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464800" y="1670040"/>
                  <a:ext cx="208080" cy="18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535720" y="171000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5375520" y="2216520"/>
                <a:ext cx="377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64440" y="224172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5568480" y="1824120"/>
                <a:ext cx="1440" cy="39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13040" y="2221920"/>
                <a:ext cx="1191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64800" y="1670040"/>
                <a:ext cx="20844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536080" y="1710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568480" y="1824120"/>
                <a:ext cx="1440" cy="39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13040" y="2221920"/>
                <a:ext cx="1191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64800" y="1670040"/>
                <a:ext cx="20844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36080" y="1710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375520" y="2216520"/>
                <a:ext cx="377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464440" y="224172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5560920" y="2786400"/>
                <a:ext cx="142920" cy="423720"/>
                <a:chOff x="5560920" y="2786400"/>
                <a:chExt cx="142920" cy="42372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5592600" y="2786400"/>
                  <a:ext cx="87120" cy="421920"/>
                  <a:chOff x="5592600" y="2786400"/>
                  <a:chExt cx="87120" cy="42192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V="1">
                    <a:off x="5631480" y="2818800"/>
                    <a:ext cx="1800" cy="38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592600" y="2786400"/>
                    <a:ext cx="8712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27" y="0"/>
                        </a:lnTo>
                        <a:lnTo>
                          <a:pt x="0" y="39"/>
                        </a:lnTo>
                        <a:lnTo>
                          <a:pt x="27" y="28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5560920" y="3030120"/>
                  <a:ext cx="142920" cy="113040"/>
                  <a:chOff x="5560920" y="3030120"/>
                  <a:chExt cx="142920" cy="11304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60920" y="3067920"/>
                    <a:ext cx="69840" cy="75240"/>
                    <a:chOff x="5560920" y="3067920"/>
                    <a:chExt cx="69840" cy="7524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flipH="1" flipV="1">
                      <a:off x="5576400" y="3087360"/>
                      <a:ext cx="54360" cy="55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5560920" y="3067920"/>
                      <a:ext cx="547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8">
                          <a:moveTo>
                            <a:pt x="31" y="14"/>
                          </a:moveTo>
                          <a:lnTo>
                            <a:pt x="0" y="0"/>
                          </a:lnTo>
                          <a:lnTo>
                            <a:pt x="9" y="28"/>
                          </a:lnTo>
                          <a:lnTo>
                            <a:pt x="31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5631480" y="3030120"/>
                    <a:ext cx="72360" cy="75600"/>
                    <a:chOff x="5631480" y="3030120"/>
                    <a:chExt cx="72360" cy="7560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 flipV="1">
                      <a:off x="5631480" y="3048120"/>
                      <a:ext cx="56880" cy="576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5647320" y="3030120"/>
                      <a:ext cx="5652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8">
                          <a:moveTo>
                            <a:pt x="27" y="28"/>
                          </a:moveTo>
                          <a:lnTo>
                            <a:pt x="32" y="0"/>
                          </a:lnTo>
                          <a:lnTo>
                            <a:pt x="0" y="18"/>
                          </a:lnTo>
                          <a:lnTo>
                            <a:pt x="27" y="2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3" name=""/>
                <p:cNvSpPr/>
                <p:nvPr/>
              </p:nvSpPr>
              <p:spPr>
                <a:xfrm>
                  <a:off x="5568120" y="3208680"/>
                  <a:ext cx="12780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5456160" y="3196080"/>
                <a:ext cx="35424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19880" y="32288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1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5592960" y="2786400"/>
                <a:ext cx="87120" cy="421920"/>
                <a:chOff x="5592960" y="2786400"/>
                <a:chExt cx="87120" cy="42192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5631840" y="2818800"/>
                  <a:ext cx="1800" cy="38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592960" y="2786400"/>
                  <a:ext cx="87120" cy="7092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49" y="39"/>
                      </a:moveTo>
                      <a:lnTo>
                        <a:pt x="27" y="0"/>
                      </a:lnTo>
                      <a:lnTo>
                        <a:pt x="0" y="39"/>
                      </a:lnTo>
                      <a:lnTo>
                        <a:pt x="27" y="28"/>
                      </a:lnTo>
                      <a:lnTo>
                        <a:pt x="4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560920" y="3030480"/>
                <a:ext cx="143280" cy="113040"/>
                <a:chOff x="5560920" y="3030480"/>
                <a:chExt cx="143280" cy="11304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5560920" y="3068280"/>
                  <a:ext cx="70560" cy="75240"/>
                  <a:chOff x="5560920" y="3068280"/>
                  <a:chExt cx="70560" cy="752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flipV="1">
                    <a:off x="5576760" y="3087720"/>
                    <a:ext cx="5472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560920" y="3068280"/>
                    <a:ext cx="550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8">
                        <a:moveTo>
                          <a:pt x="31" y="14"/>
                        </a:moveTo>
                        <a:lnTo>
                          <a:pt x="0" y="0"/>
                        </a:lnTo>
                        <a:lnTo>
                          <a:pt x="9" y="28"/>
                        </a:lnTo>
                        <a:lnTo>
                          <a:pt x="3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5631840" y="3030480"/>
                  <a:ext cx="72360" cy="75600"/>
                  <a:chOff x="5631840" y="3030480"/>
                  <a:chExt cx="72360" cy="756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V="1">
                    <a:off x="5631840" y="3048480"/>
                    <a:ext cx="56880" cy="57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647680" y="3030480"/>
                    <a:ext cx="565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8">
                        <a:moveTo>
                          <a:pt x="27" y="28"/>
                        </a:moveTo>
                        <a:lnTo>
                          <a:pt x="32" y="0"/>
                        </a:lnTo>
                        <a:lnTo>
                          <a:pt x="0" y="18"/>
                        </a:lnTo>
                        <a:lnTo>
                          <a:pt x="27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6" name=""/>
              <p:cNvSpPr/>
              <p:nvPr/>
            </p:nvSpPr>
            <p:spPr>
              <a:xfrm>
                <a:off x="5568480" y="3209040"/>
                <a:ext cx="1278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5592960" y="2786400"/>
                <a:ext cx="87120" cy="421920"/>
                <a:chOff x="5592960" y="2786400"/>
                <a:chExt cx="87120" cy="421920"/>
              </a:xfrm>
            </p:grpSpPr>
            <p:sp>
              <p:nvSpPr>
                <p:cNvPr id="308" name=""/>
                <p:cNvSpPr/>
                <p:nvPr/>
              </p:nvSpPr>
              <p:spPr>
                <a:xfrm flipV="1">
                  <a:off x="5631840" y="2818800"/>
                  <a:ext cx="1800" cy="38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592960" y="2786400"/>
                  <a:ext cx="87120" cy="7092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49" y="39"/>
                      </a:moveTo>
                      <a:lnTo>
                        <a:pt x="27" y="0"/>
                      </a:lnTo>
                      <a:lnTo>
                        <a:pt x="0" y="39"/>
                      </a:lnTo>
                      <a:lnTo>
                        <a:pt x="27" y="28"/>
                      </a:lnTo>
                      <a:lnTo>
                        <a:pt x="4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560920" y="3068640"/>
                <a:ext cx="70560" cy="75600"/>
                <a:chOff x="5560920" y="3068640"/>
                <a:chExt cx="70560" cy="75600"/>
              </a:xfrm>
            </p:grpSpPr>
            <p:sp>
              <p:nvSpPr>
                <p:cNvPr id="311" name=""/>
                <p:cNvSpPr/>
                <p:nvPr/>
              </p:nvSpPr>
              <p:spPr>
                <a:xfrm flipH="1" flipV="1">
                  <a:off x="5576760" y="3088440"/>
                  <a:ext cx="54720" cy="55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60920" y="3068640"/>
                  <a:ext cx="55080" cy="5112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632200" y="3030480"/>
                <a:ext cx="72720" cy="75600"/>
                <a:chOff x="5632200" y="3030480"/>
                <a:chExt cx="72720" cy="75600"/>
              </a:xfrm>
            </p:grpSpPr>
            <p:sp>
              <p:nvSpPr>
                <p:cNvPr id="314" name=""/>
                <p:cNvSpPr/>
                <p:nvPr/>
              </p:nvSpPr>
              <p:spPr>
                <a:xfrm flipV="1">
                  <a:off x="5632200" y="3048120"/>
                  <a:ext cx="57240" cy="57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648040" y="3030480"/>
                  <a:ext cx="56880" cy="5040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27" y="28"/>
                      </a:moveTo>
                      <a:lnTo>
                        <a:pt x="32" y="0"/>
                      </a:lnTo>
                      <a:lnTo>
                        <a:pt x="0" y="18"/>
                      </a:lnTo>
                      <a:lnTo>
                        <a:pt x="2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560920" y="3068640"/>
                <a:ext cx="70560" cy="75600"/>
                <a:chOff x="5560920" y="3068640"/>
                <a:chExt cx="70560" cy="75600"/>
              </a:xfrm>
            </p:grpSpPr>
            <p:sp>
              <p:nvSpPr>
                <p:cNvPr id="317" name=""/>
                <p:cNvSpPr/>
                <p:nvPr/>
              </p:nvSpPr>
              <p:spPr>
                <a:xfrm flipH="1" flipV="1">
                  <a:off x="5576760" y="3088440"/>
                  <a:ext cx="54720" cy="55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560920" y="3068640"/>
                  <a:ext cx="55080" cy="5112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5632200" y="3030480"/>
                <a:ext cx="72720" cy="75600"/>
                <a:chOff x="5632200" y="3030480"/>
                <a:chExt cx="72720" cy="75600"/>
              </a:xfrm>
            </p:grpSpPr>
            <p:sp>
              <p:nvSpPr>
                <p:cNvPr id="320" name=""/>
                <p:cNvSpPr/>
                <p:nvPr/>
              </p:nvSpPr>
              <p:spPr>
                <a:xfrm flipV="1">
                  <a:off x="5632200" y="3048120"/>
                  <a:ext cx="57240" cy="57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648040" y="3030480"/>
                  <a:ext cx="56880" cy="5040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27" y="28"/>
                      </a:moveTo>
                      <a:lnTo>
                        <a:pt x="32" y="0"/>
                      </a:lnTo>
                      <a:lnTo>
                        <a:pt x="0" y="18"/>
                      </a:lnTo>
                      <a:lnTo>
                        <a:pt x="2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5568480" y="3209040"/>
                <a:ext cx="1278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56160" y="3196080"/>
                <a:ext cx="35424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19880" y="32288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1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6364440" y="2697480"/>
                <a:ext cx="207720" cy="545400"/>
                <a:chOff x="6364440" y="2697480"/>
                <a:chExt cx="207720" cy="54540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364440" y="2697480"/>
                  <a:ext cx="207720" cy="545400"/>
                  <a:chOff x="6364440" y="2697480"/>
                  <a:chExt cx="207720" cy="54540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460200" y="2836800"/>
                    <a:ext cx="1440" cy="403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6403320" y="3241080"/>
                    <a:ext cx="12060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364440" y="2697480"/>
                    <a:ext cx="207720" cy="17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424200" y="272988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6396120" y="3068280"/>
                  <a:ext cx="143280" cy="113760"/>
                  <a:chOff x="6396120" y="3068280"/>
                  <a:chExt cx="143280" cy="113760"/>
                </a:xfrm>
              </p:grpSpPr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6396120" y="3106440"/>
                    <a:ext cx="63360" cy="75600"/>
                    <a:chOff x="6396120" y="3106440"/>
                    <a:chExt cx="63360" cy="7560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flipV="1">
                      <a:off x="6402960" y="3125880"/>
                      <a:ext cx="56520" cy="5616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6396120" y="3106440"/>
                      <a:ext cx="5508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8">
                          <a:moveTo>
                            <a:pt x="31" y="18"/>
                          </a:moveTo>
                          <a:lnTo>
                            <a:pt x="0" y="0"/>
                          </a:lnTo>
                          <a:lnTo>
                            <a:pt x="4" y="28"/>
                          </a:lnTo>
                          <a:lnTo>
                            <a:pt x="31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6460200" y="3068280"/>
                    <a:ext cx="79200" cy="75240"/>
                    <a:chOff x="6460200" y="3068280"/>
                    <a:chExt cx="79200" cy="7524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V="1">
                      <a:off x="6460200" y="3087720"/>
                      <a:ext cx="56520" cy="55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6485040" y="3068280"/>
                      <a:ext cx="5436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8">
                          <a:moveTo>
                            <a:pt x="22" y="28"/>
                          </a:moveTo>
                          <a:lnTo>
                            <a:pt x="31" y="0"/>
                          </a:lnTo>
                          <a:lnTo>
                            <a:pt x="0" y="14"/>
                          </a:lnTo>
                          <a:lnTo>
                            <a:pt x="22" y="2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38" name=""/>
              <p:cNvSpPr/>
              <p:nvPr/>
            </p:nvSpPr>
            <p:spPr>
              <a:xfrm>
                <a:off x="6275160" y="3228840"/>
                <a:ext cx="37080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355440" y="32619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6364440" y="2697480"/>
                <a:ext cx="208080" cy="545760"/>
                <a:chOff x="6364440" y="2697480"/>
                <a:chExt cx="208080" cy="545760"/>
              </a:xfrm>
            </p:grpSpPr>
            <p:sp>
              <p:nvSpPr>
                <p:cNvPr id="341" name=""/>
                <p:cNvSpPr/>
                <p:nvPr/>
              </p:nvSpPr>
              <p:spPr>
                <a:xfrm flipV="1">
                  <a:off x="6460560" y="2837160"/>
                  <a:ext cx="1440" cy="403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403320" y="3241440"/>
                  <a:ext cx="12096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364440" y="2697480"/>
                  <a:ext cx="20808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424560" y="272988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6396480" y="3068640"/>
                <a:ext cx="143280" cy="113760"/>
                <a:chOff x="6396480" y="3068640"/>
                <a:chExt cx="143280" cy="11376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6396480" y="3106800"/>
                  <a:ext cx="63360" cy="75600"/>
                  <a:chOff x="6396480" y="3106800"/>
                  <a:chExt cx="63360" cy="756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flipV="1">
                    <a:off x="6403320" y="3126240"/>
                    <a:ext cx="56520" cy="56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396480" y="3106800"/>
                    <a:ext cx="5508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8">
                        <a:moveTo>
                          <a:pt x="31" y="18"/>
                        </a:moveTo>
                        <a:lnTo>
                          <a:pt x="0" y="0"/>
                        </a:lnTo>
                        <a:lnTo>
                          <a:pt x="4" y="28"/>
                        </a:lnTo>
                        <a:lnTo>
                          <a:pt x="31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460560" y="3068640"/>
                  <a:ext cx="79200" cy="75240"/>
                  <a:chOff x="6460560" y="3068640"/>
                  <a:chExt cx="79200" cy="752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V="1">
                    <a:off x="6460560" y="3088080"/>
                    <a:ext cx="5652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485400" y="3068640"/>
                    <a:ext cx="543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8">
                        <a:moveTo>
                          <a:pt x="22" y="28"/>
                        </a:moveTo>
                        <a:lnTo>
                          <a:pt x="31" y="0"/>
                        </a:lnTo>
                        <a:lnTo>
                          <a:pt x="0" y="14"/>
                        </a:lnTo>
                        <a:lnTo>
                          <a:pt x="22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2" name=""/>
              <p:cNvSpPr/>
              <p:nvPr/>
            </p:nvSpPr>
            <p:spPr>
              <a:xfrm flipV="1">
                <a:off x="6460560" y="2836800"/>
                <a:ext cx="1440" cy="40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03680" y="324180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364440" y="2697480"/>
                <a:ext cx="2084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28520" y="272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6460560" y="2836800"/>
                <a:ext cx="1440" cy="40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03680" y="324180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64440" y="2697480"/>
                <a:ext cx="2084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28520" y="272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6396480" y="3107160"/>
                <a:ext cx="63360" cy="75600"/>
                <a:chOff x="6396480" y="3107160"/>
                <a:chExt cx="63360" cy="75600"/>
              </a:xfrm>
            </p:grpSpPr>
            <p:sp>
              <p:nvSpPr>
                <p:cNvPr id="361" name=""/>
                <p:cNvSpPr/>
                <p:nvPr/>
              </p:nvSpPr>
              <p:spPr>
                <a:xfrm flipH="1" flipV="1">
                  <a:off x="6403320" y="3126600"/>
                  <a:ext cx="5652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396480" y="3107160"/>
                  <a:ext cx="55080" cy="5040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8"/>
                      </a:moveTo>
                      <a:lnTo>
                        <a:pt x="0" y="0"/>
                      </a:lnTo>
                      <a:lnTo>
                        <a:pt x="4" y="28"/>
                      </a:lnTo>
                      <a:lnTo>
                        <a:pt x="31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460560" y="3068640"/>
                <a:ext cx="79560" cy="75600"/>
                <a:chOff x="6460560" y="3068640"/>
                <a:chExt cx="79560" cy="7560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6460560" y="3088440"/>
                  <a:ext cx="56880" cy="55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485400" y="3068640"/>
                  <a:ext cx="54720" cy="5112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22" y="28"/>
                      </a:moveTo>
                      <a:lnTo>
                        <a:pt x="31" y="0"/>
                      </a:lnTo>
                      <a:lnTo>
                        <a:pt x="0" y="14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396480" y="3107160"/>
                <a:ext cx="63360" cy="75600"/>
                <a:chOff x="6396480" y="3107160"/>
                <a:chExt cx="63360" cy="75600"/>
              </a:xfrm>
            </p:grpSpPr>
            <p:sp>
              <p:nvSpPr>
                <p:cNvPr id="367" name=""/>
                <p:cNvSpPr/>
                <p:nvPr/>
              </p:nvSpPr>
              <p:spPr>
                <a:xfrm flipH="1" flipV="1">
                  <a:off x="6403320" y="3126600"/>
                  <a:ext cx="5652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396480" y="3107160"/>
                  <a:ext cx="55080" cy="5040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8"/>
                      </a:moveTo>
                      <a:lnTo>
                        <a:pt x="0" y="0"/>
                      </a:lnTo>
                      <a:lnTo>
                        <a:pt x="4" y="28"/>
                      </a:lnTo>
                      <a:lnTo>
                        <a:pt x="31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460560" y="3068640"/>
                <a:ext cx="79560" cy="75600"/>
                <a:chOff x="6460560" y="3068640"/>
                <a:chExt cx="79560" cy="75600"/>
              </a:xfrm>
            </p:grpSpPr>
            <p:sp>
              <p:nvSpPr>
                <p:cNvPr id="370" name=""/>
                <p:cNvSpPr/>
                <p:nvPr/>
              </p:nvSpPr>
              <p:spPr>
                <a:xfrm flipV="1">
                  <a:off x="6460560" y="3088440"/>
                  <a:ext cx="56880" cy="55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85400" y="3068640"/>
                  <a:ext cx="54720" cy="5112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22" y="28"/>
                      </a:moveTo>
                      <a:lnTo>
                        <a:pt x="31" y="0"/>
                      </a:lnTo>
                      <a:lnTo>
                        <a:pt x="0" y="14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6275160" y="3228840"/>
                <a:ext cx="37080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5440" y="32619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7160760" y="2857680"/>
                <a:ext cx="214920" cy="410400"/>
                <a:chOff x="7160760" y="2857680"/>
                <a:chExt cx="214920" cy="410400"/>
              </a:xfrm>
            </p:grpSpPr>
            <p:grpSp>
              <p:nvGrpSpPr>
                <p:cNvPr id="375" name=""/>
                <p:cNvGrpSpPr/>
                <p:nvPr/>
              </p:nvGrpSpPr>
              <p:grpSpPr>
                <a:xfrm>
                  <a:off x="7160760" y="2857680"/>
                  <a:ext cx="214920" cy="410400"/>
                  <a:chOff x="7160760" y="2857680"/>
                  <a:chExt cx="214920" cy="4104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V="1">
                    <a:off x="7256520" y="2997000"/>
                    <a:ext cx="1800" cy="26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160760" y="2857680"/>
                    <a:ext cx="214920" cy="177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229520" y="289548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#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192440" y="3266640"/>
                    <a:ext cx="11916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183440" y="3106800"/>
                  <a:ext cx="143640" cy="115200"/>
                  <a:chOff x="7183440" y="3106800"/>
                  <a:chExt cx="143640" cy="115200"/>
                </a:xfrm>
              </p:grpSpPr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7183440" y="3144600"/>
                    <a:ext cx="72000" cy="77400"/>
                    <a:chOff x="7183440" y="3144600"/>
                    <a:chExt cx="72000" cy="7740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H="1" flipV="1">
                      <a:off x="7198920" y="3164400"/>
                      <a:ext cx="56520" cy="576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183440" y="3144600"/>
                      <a:ext cx="565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8">
                          <a:moveTo>
                            <a:pt x="32" y="14"/>
                          </a:moveTo>
                          <a:lnTo>
                            <a:pt x="0" y="0"/>
                          </a:lnTo>
                          <a:lnTo>
                            <a:pt x="9" y="28"/>
                          </a:lnTo>
                          <a:lnTo>
                            <a:pt x="32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7256160" y="3106800"/>
                    <a:ext cx="70920" cy="75600"/>
                    <a:chOff x="7256160" y="3106800"/>
                    <a:chExt cx="70920" cy="7560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flipV="1">
                      <a:off x="7256160" y="3126240"/>
                      <a:ext cx="55080" cy="5616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7278840" y="3106800"/>
                      <a:ext cx="4824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8">
                          <a:moveTo>
                            <a:pt x="23" y="28"/>
                          </a:moveTo>
                          <a:lnTo>
                            <a:pt x="27" y="0"/>
                          </a:lnTo>
                          <a:lnTo>
                            <a:pt x="0" y="14"/>
                          </a:lnTo>
                          <a:lnTo>
                            <a:pt x="23" y="2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87" name=""/>
              <p:cNvSpPr/>
              <p:nvPr/>
            </p:nvSpPr>
            <p:spPr>
              <a:xfrm>
                <a:off x="7078680" y="3254400"/>
                <a:ext cx="3776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59320" y="32871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7160760" y="2857680"/>
                <a:ext cx="215280" cy="410760"/>
                <a:chOff x="7160760" y="2857680"/>
                <a:chExt cx="215280" cy="410760"/>
              </a:xfrm>
            </p:grpSpPr>
            <p:sp>
              <p:nvSpPr>
                <p:cNvPr id="390" name=""/>
                <p:cNvSpPr/>
                <p:nvPr/>
              </p:nvSpPr>
              <p:spPr>
                <a:xfrm flipV="1">
                  <a:off x="7256520" y="2997360"/>
                  <a:ext cx="1800" cy="269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160760" y="2857680"/>
                  <a:ext cx="215280" cy="17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229520" y="289548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#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92440" y="3267000"/>
                  <a:ext cx="11916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183800" y="3107160"/>
                <a:ext cx="143640" cy="115200"/>
                <a:chOff x="7183800" y="3107160"/>
                <a:chExt cx="143640" cy="11520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7183800" y="3144960"/>
                  <a:ext cx="72000" cy="77400"/>
                  <a:chOff x="7183800" y="3144960"/>
                  <a:chExt cx="72000" cy="774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flipV="1">
                    <a:off x="7199280" y="3164760"/>
                    <a:ext cx="56520" cy="57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183800" y="3144960"/>
                    <a:ext cx="565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8">
                        <a:moveTo>
                          <a:pt x="32" y="14"/>
                        </a:moveTo>
                        <a:lnTo>
                          <a:pt x="0" y="0"/>
                        </a:lnTo>
                        <a:lnTo>
                          <a:pt x="9" y="28"/>
                        </a:lnTo>
                        <a:lnTo>
                          <a:pt x="32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256520" y="3107160"/>
                  <a:ext cx="70920" cy="75600"/>
                  <a:chOff x="7256520" y="3107160"/>
                  <a:chExt cx="70920" cy="756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V="1">
                    <a:off x="7256520" y="3126600"/>
                    <a:ext cx="55080" cy="56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7279200" y="3107160"/>
                    <a:ext cx="482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3" y="28"/>
                        </a:moveTo>
                        <a:lnTo>
                          <a:pt x="27" y="0"/>
                        </a:lnTo>
                        <a:lnTo>
                          <a:pt x="0" y="14"/>
                        </a:lnTo>
                        <a:lnTo>
                          <a:pt x="23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1" name=""/>
              <p:cNvSpPr/>
              <p:nvPr/>
            </p:nvSpPr>
            <p:spPr>
              <a:xfrm flipV="1">
                <a:off x="7256880" y="2997360"/>
                <a:ext cx="1800" cy="269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160760" y="2857680"/>
                <a:ext cx="215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32040" y="2895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192800" y="3267360"/>
                <a:ext cx="119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7256880" y="2997360"/>
                <a:ext cx="1800" cy="269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60760" y="2857680"/>
                <a:ext cx="215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232040" y="2895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192800" y="3267360"/>
                <a:ext cx="119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7183800" y="3144960"/>
                <a:ext cx="72720" cy="77400"/>
                <a:chOff x="7183800" y="3144960"/>
                <a:chExt cx="72720" cy="77400"/>
              </a:xfrm>
            </p:grpSpPr>
            <p:sp>
              <p:nvSpPr>
                <p:cNvPr id="410" name=""/>
                <p:cNvSpPr/>
                <p:nvPr/>
              </p:nvSpPr>
              <p:spPr>
                <a:xfrm flipH="1" flipV="1">
                  <a:off x="7199640" y="3164760"/>
                  <a:ext cx="56880" cy="57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183800" y="3144960"/>
                  <a:ext cx="56880" cy="5076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32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7256880" y="3107160"/>
                <a:ext cx="70920" cy="75600"/>
                <a:chOff x="7256880" y="3107160"/>
                <a:chExt cx="70920" cy="75600"/>
              </a:xfrm>
            </p:grpSpPr>
            <p:sp>
              <p:nvSpPr>
                <p:cNvPr id="413" name=""/>
                <p:cNvSpPr/>
                <p:nvPr/>
              </p:nvSpPr>
              <p:spPr>
                <a:xfrm flipV="1">
                  <a:off x="7256880" y="3126600"/>
                  <a:ext cx="5508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279560" y="3107160"/>
                  <a:ext cx="48240" cy="5040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3" y="28"/>
                      </a:moveTo>
                      <a:lnTo>
                        <a:pt x="27" y="0"/>
                      </a:lnTo>
                      <a:lnTo>
                        <a:pt x="0" y="14"/>
                      </a:lnTo>
                      <a:lnTo>
                        <a:pt x="2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183800" y="3144960"/>
                <a:ext cx="72720" cy="77400"/>
                <a:chOff x="7183800" y="3144960"/>
                <a:chExt cx="72720" cy="77400"/>
              </a:xfrm>
            </p:grpSpPr>
            <p:sp>
              <p:nvSpPr>
                <p:cNvPr id="416" name=""/>
                <p:cNvSpPr/>
                <p:nvPr/>
              </p:nvSpPr>
              <p:spPr>
                <a:xfrm flipH="1" flipV="1">
                  <a:off x="7199640" y="3164760"/>
                  <a:ext cx="56880" cy="57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183800" y="3144960"/>
                  <a:ext cx="56880" cy="5076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32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256880" y="3107160"/>
                <a:ext cx="70920" cy="75600"/>
                <a:chOff x="7256880" y="3107160"/>
                <a:chExt cx="70920" cy="75600"/>
              </a:xfrm>
            </p:grpSpPr>
            <p:sp>
              <p:nvSpPr>
                <p:cNvPr id="419" name=""/>
                <p:cNvSpPr/>
                <p:nvPr/>
              </p:nvSpPr>
              <p:spPr>
                <a:xfrm flipV="1">
                  <a:off x="7256880" y="3126600"/>
                  <a:ext cx="5508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279560" y="3107160"/>
                  <a:ext cx="48240" cy="5040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3" y="28"/>
                      </a:moveTo>
                      <a:lnTo>
                        <a:pt x="27" y="0"/>
                      </a:lnTo>
                      <a:lnTo>
                        <a:pt x="0" y="14"/>
                      </a:lnTo>
                      <a:lnTo>
                        <a:pt x="2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7078680" y="3254400"/>
                <a:ext cx="3776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159320" y="32871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375520" y="4254480"/>
                <a:ext cx="377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54720" y="42944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0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5456160" y="3851640"/>
                <a:ext cx="216720" cy="423720"/>
                <a:chOff x="5456160" y="3851640"/>
                <a:chExt cx="216720" cy="42372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5504040" y="3851640"/>
                  <a:ext cx="120600" cy="423720"/>
                  <a:chOff x="5504040" y="3851640"/>
                  <a:chExt cx="120600" cy="423720"/>
                </a:xfrm>
              </p:grpSpPr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5519880" y="3851640"/>
                    <a:ext cx="88200" cy="420840"/>
                    <a:chOff x="5519880" y="3851640"/>
                    <a:chExt cx="88200" cy="42084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V="1">
                      <a:off x="5560200" y="3881880"/>
                      <a:ext cx="1440" cy="3906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5519880" y="3851640"/>
                      <a:ext cx="8820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38">
                          <a:moveTo>
                            <a:pt x="50" y="38"/>
                          </a:moveTo>
                          <a:lnTo>
                            <a:pt x="23" y="0"/>
                          </a:lnTo>
                          <a:lnTo>
                            <a:pt x="0" y="38"/>
                          </a:lnTo>
                          <a:lnTo>
                            <a:pt x="23" y="28"/>
                          </a:lnTo>
                          <a:lnTo>
                            <a:pt x="50" y="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"/>
                  <p:cNvSpPr/>
                  <p:nvPr/>
                </p:nvSpPr>
                <p:spPr>
                  <a:xfrm>
                    <a:off x="5504040" y="4273560"/>
                    <a:ext cx="12060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"/>
                <p:cNvSpPr/>
                <p:nvPr/>
              </p:nvSpPr>
              <p:spPr>
                <a:xfrm>
                  <a:off x="5456160" y="3959280"/>
                  <a:ext cx="104760" cy="57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9"/>
                      </a:moveTo>
                      <a:cubicBezTo>
                        <a:pt x="13" y="9"/>
                        <a:pt x="12" y="8"/>
                        <a:pt x="11" y="8"/>
                      </a:cubicBezTo>
                      <a:cubicBezTo>
                        <a:pt x="9" y="7"/>
                        <a:pt x="7" y="7"/>
                        <a:pt x="5" y="6"/>
                      </a:cubicBezTo>
                      <a:cubicBezTo>
                        <a:pt x="4" y="6"/>
                        <a:pt x="2" y="4"/>
                        <a:pt x="1" y="3"/>
                      </a:cubicBezTo>
                      <a:cubicBezTo>
                        <a:pt x="0" y="3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560920" y="4011480"/>
                  <a:ext cx="111960" cy="5652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9"/>
                      </a:moveTo>
                      <a:cubicBezTo>
                        <a:pt x="1" y="9"/>
                        <a:pt x="2" y="8"/>
                        <a:pt x="3" y="8"/>
                      </a:cubicBezTo>
                      <a:cubicBezTo>
                        <a:pt x="4" y="7"/>
                        <a:pt x="7" y="7"/>
                        <a:pt x="8" y="6"/>
                      </a:cubicBezTo>
                      <a:cubicBezTo>
                        <a:pt x="10" y="6"/>
                        <a:pt x="12" y="4"/>
                        <a:pt x="13" y="3"/>
                      </a:cubicBezTo>
                      <a:cubicBezTo>
                        <a:pt x="14" y="3"/>
                        <a:pt x="14" y="1"/>
                        <a:pt x="14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5375520" y="4254480"/>
                <a:ext cx="377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454720" y="42944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0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5504040" y="3851640"/>
                <a:ext cx="120600" cy="424080"/>
                <a:chOff x="5504040" y="3851640"/>
                <a:chExt cx="120600" cy="42408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5519880" y="3851640"/>
                  <a:ext cx="88200" cy="421560"/>
                  <a:chOff x="5519880" y="3851640"/>
                  <a:chExt cx="88200" cy="4215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V="1">
                    <a:off x="5560200" y="3882240"/>
                    <a:ext cx="1440" cy="3909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519880" y="3851640"/>
                    <a:ext cx="8820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8">
                        <a:moveTo>
                          <a:pt x="50" y="38"/>
                        </a:moveTo>
                        <a:lnTo>
                          <a:pt x="23" y="0"/>
                        </a:lnTo>
                        <a:lnTo>
                          <a:pt x="0" y="38"/>
                        </a:lnTo>
                        <a:lnTo>
                          <a:pt x="23" y="28"/>
                        </a:lnTo>
                        <a:lnTo>
                          <a:pt x="50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5504040" y="4273920"/>
                  <a:ext cx="1206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5456160" y="3959640"/>
                <a:ext cx="10476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9" y="7"/>
                      <a:pt x="7" y="7"/>
                      <a:pt x="5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60920" y="4011840"/>
                <a:ext cx="111960" cy="56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cubicBezTo>
                      <a:pt x="1" y="9"/>
                      <a:pt x="2" y="8"/>
                      <a:pt x="3" y="8"/>
                    </a:cubicBezTo>
                    <a:cubicBezTo>
                      <a:pt x="4" y="7"/>
                      <a:pt x="7" y="7"/>
                      <a:pt x="8" y="6"/>
                    </a:cubicBezTo>
                    <a:cubicBezTo>
                      <a:pt x="10" y="6"/>
                      <a:pt x="12" y="4"/>
                      <a:pt x="13" y="3"/>
                    </a:cubicBezTo>
                    <a:cubicBezTo>
                      <a:pt x="14" y="3"/>
                      <a:pt x="14" y="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5520240" y="3851640"/>
                <a:ext cx="88200" cy="421560"/>
                <a:chOff x="5520240" y="3851640"/>
                <a:chExt cx="88200" cy="421560"/>
              </a:xfrm>
            </p:grpSpPr>
            <p:sp>
              <p:nvSpPr>
                <p:cNvPr id="443" name=""/>
                <p:cNvSpPr/>
                <p:nvPr/>
              </p:nvSpPr>
              <p:spPr>
                <a:xfrm flipV="1">
                  <a:off x="5560560" y="3882240"/>
                  <a:ext cx="1440" cy="390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520240" y="3851640"/>
                  <a:ext cx="88200" cy="6912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50" y="38"/>
                      </a:moveTo>
                      <a:lnTo>
                        <a:pt x="23" y="0"/>
                      </a:lnTo>
                      <a:lnTo>
                        <a:pt x="0" y="38"/>
                      </a:lnTo>
                      <a:lnTo>
                        <a:pt x="23" y="28"/>
                      </a:lnTo>
                      <a:lnTo>
                        <a:pt x="5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"/>
              <p:cNvSpPr/>
              <p:nvPr/>
            </p:nvSpPr>
            <p:spPr>
              <a:xfrm>
                <a:off x="5504040" y="427428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5520240" y="3851640"/>
                <a:ext cx="88200" cy="421560"/>
                <a:chOff x="5520240" y="3851640"/>
                <a:chExt cx="88200" cy="421560"/>
              </a:xfrm>
            </p:grpSpPr>
            <p:sp>
              <p:nvSpPr>
                <p:cNvPr id="447" name=""/>
                <p:cNvSpPr/>
                <p:nvPr/>
              </p:nvSpPr>
              <p:spPr>
                <a:xfrm flipV="1">
                  <a:off x="5560560" y="3882240"/>
                  <a:ext cx="1440" cy="390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520240" y="3851640"/>
                  <a:ext cx="88200" cy="6912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50" y="38"/>
                      </a:moveTo>
                      <a:lnTo>
                        <a:pt x="23" y="0"/>
                      </a:lnTo>
                      <a:lnTo>
                        <a:pt x="0" y="38"/>
                      </a:lnTo>
                      <a:lnTo>
                        <a:pt x="23" y="28"/>
                      </a:lnTo>
                      <a:lnTo>
                        <a:pt x="5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5504040" y="427428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56160" y="3959640"/>
                <a:ext cx="10476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9" y="7"/>
                      <a:pt x="7" y="7"/>
                      <a:pt x="5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60920" y="4011840"/>
                <a:ext cx="111960" cy="56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cubicBezTo>
                      <a:pt x="1" y="9"/>
                      <a:pt x="2" y="8"/>
                      <a:pt x="3" y="8"/>
                    </a:cubicBezTo>
                    <a:cubicBezTo>
                      <a:pt x="4" y="7"/>
                      <a:pt x="7" y="7"/>
                      <a:pt x="8" y="6"/>
                    </a:cubicBezTo>
                    <a:cubicBezTo>
                      <a:pt x="10" y="6"/>
                      <a:pt x="12" y="4"/>
                      <a:pt x="13" y="3"/>
                    </a:cubicBezTo>
                    <a:cubicBezTo>
                      <a:pt x="14" y="3"/>
                      <a:pt x="14" y="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78880" y="1305720"/>
                <a:ext cx="3686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850520" y="133848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00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7851960" y="901440"/>
                <a:ext cx="271800" cy="417960"/>
                <a:chOff x="7851960" y="901440"/>
                <a:chExt cx="271800" cy="417960"/>
              </a:xfrm>
            </p:grpSpPr>
            <p:grpSp>
              <p:nvGrpSpPr>
                <p:cNvPr id="455" name=""/>
                <p:cNvGrpSpPr/>
                <p:nvPr/>
              </p:nvGrpSpPr>
              <p:grpSpPr>
                <a:xfrm>
                  <a:off x="7851960" y="901440"/>
                  <a:ext cx="214920" cy="417960"/>
                  <a:chOff x="7851960" y="901440"/>
                  <a:chExt cx="214920" cy="41796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V="1">
                    <a:off x="7963920" y="1137600"/>
                    <a:ext cx="1440" cy="180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851960" y="1003320"/>
                    <a:ext cx="214920" cy="17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927920" y="103572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#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899840" y="1317960"/>
                    <a:ext cx="11880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963920" y="1150560"/>
                    <a:ext cx="478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7970760" y="901440"/>
                    <a:ext cx="88560" cy="248040"/>
                    <a:chOff x="7970760" y="901440"/>
                    <a:chExt cx="88560" cy="24804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flipV="1">
                      <a:off x="8011440" y="925920"/>
                      <a:ext cx="1440" cy="22356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7970760" y="901440"/>
                      <a:ext cx="8856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35">
                          <a:moveTo>
                            <a:pt x="50" y="35"/>
                          </a:moveTo>
                          <a:lnTo>
                            <a:pt x="27" y="0"/>
                          </a:lnTo>
                          <a:lnTo>
                            <a:pt x="0" y="35"/>
                          </a:lnTo>
                          <a:lnTo>
                            <a:pt x="27" y="24"/>
                          </a:lnTo>
                          <a:lnTo>
                            <a:pt x="50" y="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907040" y="959400"/>
                  <a:ext cx="216720" cy="106560"/>
                  <a:chOff x="7907040" y="959400"/>
                  <a:chExt cx="216720" cy="10656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7907040" y="959400"/>
                    <a:ext cx="111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9">
                        <a:moveTo>
                          <a:pt x="14" y="9"/>
                        </a:moveTo>
                        <a:cubicBezTo>
                          <a:pt x="13" y="8"/>
                          <a:pt x="12" y="8"/>
                          <a:pt x="11" y="7"/>
                        </a:cubicBezTo>
                        <a:cubicBezTo>
                          <a:pt x="10" y="7"/>
                          <a:pt x="7" y="7"/>
                          <a:pt x="6" y="6"/>
                        </a:cubicBezTo>
                        <a:cubicBezTo>
                          <a:pt x="4" y="5"/>
                          <a:pt x="2" y="4"/>
                          <a:pt x="1" y="3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8018640" y="1009800"/>
                    <a:ext cx="10512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0" y="9"/>
                        </a:moveTo>
                        <a:cubicBezTo>
                          <a:pt x="0" y="8"/>
                          <a:pt x="1" y="8"/>
                          <a:pt x="2" y="7"/>
                        </a:cubicBezTo>
                        <a:cubicBezTo>
                          <a:pt x="4" y="7"/>
                          <a:pt x="6" y="7"/>
                          <a:pt x="8" y="6"/>
                        </a:cubicBezTo>
                        <a:cubicBezTo>
                          <a:pt x="9" y="5"/>
                          <a:pt x="11" y="4"/>
                          <a:pt x="12" y="3"/>
                        </a:cubicBezTo>
                        <a:cubicBezTo>
                          <a:pt x="13" y="2"/>
                          <a:pt x="13" y="1"/>
                          <a:pt x="13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7" name=""/>
              <p:cNvSpPr/>
              <p:nvPr/>
            </p:nvSpPr>
            <p:spPr>
              <a:xfrm>
                <a:off x="7778880" y="1305720"/>
                <a:ext cx="3686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50520" y="133848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00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851960" y="901440"/>
                <a:ext cx="215280" cy="418320"/>
                <a:chOff x="7851960" y="901440"/>
                <a:chExt cx="215280" cy="418320"/>
              </a:xfrm>
            </p:grpSpPr>
            <p:sp>
              <p:nvSpPr>
                <p:cNvPr id="470" name=""/>
                <p:cNvSpPr/>
                <p:nvPr/>
              </p:nvSpPr>
              <p:spPr>
                <a:xfrm flipV="1">
                  <a:off x="7963920" y="1137600"/>
                  <a:ext cx="1440" cy="180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851960" y="1003320"/>
                  <a:ext cx="21528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928280" y="103572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#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899840" y="1318320"/>
                  <a:ext cx="11880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963920" y="1150560"/>
                  <a:ext cx="47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7970760" y="901440"/>
                  <a:ext cx="88560" cy="248040"/>
                  <a:chOff x="7970760" y="901440"/>
                  <a:chExt cx="88560" cy="2480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flipV="1">
                    <a:off x="8011440" y="925920"/>
                    <a:ext cx="1440" cy="223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970760" y="901440"/>
                    <a:ext cx="885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5">
                        <a:moveTo>
                          <a:pt x="50" y="35"/>
                        </a:moveTo>
                        <a:lnTo>
                          <a:pt x="27" y="0"/>
                        </a:lnTo>
                        <a:lnTo>
                          <a:pt x="0" y="35"/>
                        </a:lnTo>
                        <a:lnTo>
                          <a:pt x="27" y="24"/>
                        </a:lnTo>
                        <a:lnTo>
                          <a:pt x="5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7907400" y="959760"/>
                <a:ext cx="216720" cy="106560"/>
                <a:chOff x="7907400" y="959760"/>
                <a:chExt cx="216720" cy="10656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907400" y="959760"/>
                  <a:ext cx="111600" cy="561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8"/>
                        <a:pt x="12" y="8"/>
                        <a:pt x="11" y="7"/>
                      </a:cubicBezTo>
                      <a:cubicBezTo>
                        <a:pt x="10" y="7"/>
                        <a:pt x="7" y="7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19000" y="1010160"/>
                  <a:ext cx="105120" cy="561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0" y="8"/>
                        <a:pt x="1" y="8"/>
                        <a:pt x="2" y="7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5"/>
                        <a:pt x="11" y="4"/>
                        <a:pt x="12" y="3"/>
                      </a:cubicBezTo>
                      <a:cubicBezTo>
                        <a:pt x="13" y="2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 flipV="1">
                <a:off x="7964280" y="1137960"/>
                <a:ext cx="1440" cy="18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851960" y="1003680"/>
                <a:ext cx="215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31880" y="1036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900200" y="1318680"/>
                <a:ext cx="1191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64280" y="115092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"/>
              <p:cNvGrpSpPr/>
              <p:nvPr/>
            </p:nvGrpSpPr>
            <p:grpSpPr>
              <a:xfrm>
                <a:off x="7971120" y="901440"/>
                <a:ext cx="88920" cy="248040"/>
                <a:chOff x="7971120" y="901440"/>
                <a:chExt cx="88920" cy="248040"/>
              </a:xfrm>
            </p:grpSpPr>
            <p:sp>
              <p:nvSpPr>
                <p:cNvPr id="487" name=""/>
                <p:cNvSpPr/>
                <p:nvPr/>
              </p:nvSpPr>
              <p:spPr>
                <a:xfrm flipV="1">
                  <a:off x="8012160" y="925920"/>
                  <a:ext cx="1440" cy="223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971120" y="901440"/>
                  <a:ext cx="88920" cy="63360"/>
                </a:xfrm>
                <a:custGeom>
                  <a:avLst/>
                  <a:gdLst/>
                  <a:ahLst/>
                  <a:rect l="l" t="t" r="r" b="b"/>
                  <a:pathLst>
                    <a:path w="50" h="35">
                      <a:moveTo>
                        <a:pt x="50" y="35"/>
                      </a:moveTo>
                      <a:lnTo>
                        <a:pt x="27" y="0"/>
                      </a:lnTo>
                      <a:lnTo>
                        <a:pt x="0" y="35"/>
                      </a:lnTo>
                      <a:lnTo>
                        <a:pt x="27" y="24"/>
                      </a:lnTo>
                      <a:lnTo>
                        <a:pt x="5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flipV="1">
                <a:off x="7964280" y="1137960"/>
                <a:ext cx="1440" cy="18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51960" y="1003680"/>
                <a:ext cx="215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931880" y="1036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900200" y="1318680"/>
                <a:ext cx="1191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964280" y="115092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7971120" y="901440"/>
                <a:ext cx="88920" cy="248040"/>
                <a:chOff x="7971120" y="901440"/>
                <a:chExt cx="88920" cy="248040"/>
              </a:xfrm>
            </p:grpSpPr>
            <p:sp>
              <p:nvSpPr>
                <p:cNvPr id="495" name=""/>
                <p:cNvSpPr/>
                <p:nvPr/>
              </p:nvSpPr>
              <p:spPr>
                <a:xfrm flipV="1">
                  <a:off x="8012160" y="925920"/>
                  <a:ext cx="1440" cy="223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971120" y="901440"/>
                  <a:ext cx="88920" cy="63360"/>
                </a:xfrm>
                <a:custGeom>
                  <a:avLst/>
                  <a:gdLst/>
                  <a:ahLst/>
                  <a:rect l="l" t="t" r="r" b="b"/>
                  <a:pathLst>
                    <a:path w="50" h="35">
                      <a:moveTo>
                        <a:pt x="50" y="35"/>
                      </a:moveTo>
                      <a:lnTo>
                        <a:pt x="27" y="0"/>
                      </a:lnTo>
                      <a:lnTo>
                        <a:pt x="0" y="35"/>
                      </a:lnTo>
                      <a:lnTo>
                        <a:pt x="27" y="24"/>
                      </a:lnTo>
                      <a:lnTo>
                        <a:pt x="5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7907400" y="959760"/>
                <a:ext cx="111600" cy="56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8"/>
                      <a:pt x="12" y="8"/>
                      <a:pt x="11" y="7"/>
                    </a:cubicBezTo>
                    <a:cubicBezTo>
                      <a:pt x="10" y="7"/>
                      <a:pt x="7" y="7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019360" y="1010520"/>
                <a:ext cx="105120" cy="565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0" y="8"/>
                      <a:pt x="1" y="8"/>
                      <a:pt x="2" y="7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5"/>
                      <a:pt x="11" y="4"/>
                      <a:pt x="12" y="3"/>
                    </a:cubicBezTo>
                    <a:cubicBezTo>
                      <a:pt x="13" y="2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907400" y="959760"/>
                <a:ext cx="111600" cy="56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8"/>
                      <a:pt x="12" y="8"/>
                      <a:pt x="11" y="7"/>
                    </a:cubicBezTo>
                    <a:cubicBezTo>
                      <a:pt x="10" y="7"/>
                      <a:pt x="7" y="7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019360" y="1010520"/>
                <a:ext cx="105120" cy="565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0" y="8"/>
                      <a:pt x="1" y="8"/>
                      <a:pt x="2" y="7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5"/>
                      <a:pt x="11" y="4"/>
                      <a:pt x="12" y="3"/>
                    </a:cubicBezTo>
                    <a:cubicBezTo>
                      <a:pt x="13" y="2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14960" y="5032080"/>
                <a:ext cx="3528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7680" y="50630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1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6188040" y="4620240"/>
                <a:ext cx="207720" cy="425160"/>
                <a:chOff x="6188040" y="4620240"/>
                <a:chExt cx="207720" cy="425160"/>
              </a:xfrm>
            </p:grpSpPr>
            <p:grpSp>
              <p:nvGrpSpPr>
                <p:cNvPr id="504" name=""/>
                <p:cNvGrpSpPr/>
                <p:nvPr/>
              </p:nvGrpSpPr>
              <p:grpSpPr>
                <a:xfrm>
                  <a:off x="6220080" y="4620240"/>
                  <a:ext cx="142920" cy="425160"/>
                  <a:chOff x="6220080" y="4620240"/>
                  <a:chExt cx="142920" cy="425160"/>
                </a:xfrm>
              </p:grpSpPr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6251760" y="4620240"/>
                    <a:ext cx="86400" cy="423000"/>
                    <a:chOff x="6251760" y="4620240"/>
                    <a:chExt cx="86400" cy="42300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6290640" y="4652640"/>
                      <a:ext cx="1440" cy="3906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6251760" y="4620240"/>
                      <a:ext cx="8640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9">
                          <a:moveTo>
                            <a:pt x="49" y="39"/>
                          </a:moveTo>
                          <a:lnTo>
                            <a:pt x="27" y="0"/>
                          </a:lnTo>
                          <a:lnTo>
                            <a:pt x="0" y="39"/>
                          </a:lnTo>
                          <a:lnTo>
                            <a:pt x="27" y="28"/>
                          </a:lnTo>
                          <a:lnTo>
                            <a:pt x="49" y="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6220080" y="4863600"/>
                    <a:ext cx="142920" cy="113760"/>
                    <a:chOff x="6220080" y="4863600"/>
                    <a:chExt cx="142920" cy="113760"/>
                  </a:xfrm>
                </p:grpSpPr>
                <p:grpSp>
                  <p:nvGrpSpPr>
                    <p:cNvPr id="509" name=""/>
                    <p:cNvGrpSpPr/>
                    <p:nvPr/>
                  </p:nvGrpSpPr>
                  <p:grpSpPr>
                    <a:xfrm>
                      <a:off x="6220080" y="4901760"/>
                      <a:ext cx="70200" cy="75600"/>
                      <a:chOff x="6220080" y="4901760"/>
                      <a:chExt cx="70200" cy="75600"/>
                    </a:xfrm>
                  </p:grpSpPr>
                  <p:sp>
                    <p:nvSpPr>
                      <p:cNvPr id="510" name=""/>
                      <p:cNvSpPr/>
                      <p:nvPr/>
                    </p:nvSpPr>
                    <p:spPr>
                      <a:xfrm flipH="1" flipV="1">
                        <a:off x="6235560" y="4921200"/>
                        <a:ext cx="54720" cy="5616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6220080" y="4901760"/>
                        <a:ext cx="54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8">
                            <a:moveTo>
                              <a:pt x="31" y="14"/>
                            </a:moveTo>
                            <a:lnTo>
                              <a:pt x="0" y="0"/>
                            </a:lnTo>
                            <a:lnTo>
                              <a:pt x="9" y="28"/>
                            </a:lnTo>
                            <a:lnTo>
                              <a:pt x="31" y="1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"/>
                    <p:cNvGrpSpPr/>
                    <p:nvPr/>
                  </p:nvGrpSpPr>
                  <p:grpSpPr>
                    <a:xfrm>
                      <a:off x="6290640" y="4863600"/>
                      <a:ext cx="72360" cy="75240"/>
                      <a:chOff x="6290640" y="4863600"/>
                      <a:chExt cx="72360" cy="75240"/>
                    </a:xfrm>
                  </p:grpSpPr>
                  <p:sp>
                    <p:nvSpPr>
                      <p:cNvPr id="513" name=""/>
                      <p:cNvSpPr/>
                      <p:nvPr/>
                    </p:nvSpPr>
                    <p:spPr>
                      <a:xfrm flipV="1">
                        <a:off x="6290640" y="4883040"/>
                        <a:ext cx="56520" cy="5580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6315480" y="4863600"/>
                        <a:ext cx="4752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8">
                            <a:moveTo>
                              <a:pt x="22" y="28"/>
                            </a:moveTo>
                            <a:lnTo>
                              <a:pt x="27" y="0"/>
                            </a:lnTo>
                            <a:lnTo>
                              <a:pt x="0" y="14"/>
                            </a:lnTo>
                            <a:lnTo>
                              <a:pt x="22" y="2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15" name=""/>
                  <p:cNvSpPr/>
                  <p:nvPr/>
                </p:nvSpPr>
                <p:spPr>
                  <a:xfrm>
                    <a:off x="6235560" y="5043960"/>
                    <a:ext cx="11916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6188040" y="4703760"/>
                  <a:ext cx="207720" cy="108720"/>
                  <a:chOff x="6188040" y="4703760"/>
                  <a:chExt cx="207720" cy="10872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6188040" y="4703760"/>
                    <a:ext cx="10296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13" y="9"/>
                        </a:moveTo>
                        <a:cubicBezTo>
                          <a:pt x="12" y="9"/>
                          <a:pt x="12" y="8"/>
                          <a:pt x="10" y="8"/>
                        </a:cubicBezTo>
                        <a:cubicBezTo>
                          <a:pt x="9" y="7"/>
                          <a:pt x="7" y="7"/>
                          <a:pt x="5" y="6"/>
                        </a:cubicBezTo>
                        <a:cubicBezTo>
                          <a:pt x="4" y="6"/>
                          <a:pt x="1" y="4"/>
                          <a:pt x="1" y="3"/>
                        </a:cubicBezTo>
                        <a:cubicBezTo>
                          <a:pt x="0" y="3"/>
                          <a:pt x="0" y="1"/>
                          <a:pt x="0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6291000" y="4754520"/>
                    <a:ext cx="10476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0" y="9"/>
                        </a:moveTo>
                        <a:cubicBezTo>
                          <a:pt x="1" y="9"/>
                          <a:pt x="1" y="8"/>
                          <a:pt x="3" y="8"/>
                        </a:cubicBezTo>
                        <a:cubicBezTo>
                          <a:pt x="4" y="7"/>
                          <a:pt x="6" y="7"/>
                          <a:pt x="8" y="6"/>
                        </a:cubicBezTo>
                        <a:cubicBezTo>
                          <a:pt x="9" y="6"/>
                          <a:pt x="12" y="4"/>
                          <a:pt x="12" y="3"/>
                        </a:cubicBezTo>
                        <a:cubicBezTo>
                          <a:pt x="13" y="3"/>
                          <a:pt x="13" y="1"/>
                          <a:pt x="13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9" name=""/>
              <p:cNvSpPr/>
              <p:nvPr/>
            </p:nvSpPr>
            <p:spPr>
              <a:xfrm>
                <a:off x="6114960" y="5032080"/>
                <a:ext cx="3528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7680" y="50630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1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6220440" y="4620240"/>
                <a:ext cx="142920" cy="425520"/>
                <a:chOff x="6220440" y="4620240"/>
                <a:chExt cx="142920" cy="425520"/>
              </a:xfrm>
            </p:grpSpPr>
            <p:grpSp>
              <p:nvGrpSpPr>
                <p:cNvPr id="522" name=""/>
                <p:cNvGrpSpPr/>
                <p:nvPr/>
              </p:nvGrpSpPr>
              <p:grpSpPr>
                <a:xfrm>
                  <a:off x="6252120" y="4620240"/>
                  <a:ext cx="86400" cy="423720"/>
                  <a:chOff x="6252120" y="4620240"/>
                  <a:chExt cx="86400" cy="42372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V="1">
                    <a:off x="6291000" y="4653000"/>
                    <a:ext cx="1440" cy="3909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6252120" y="4620240"/>
                    <a:ext cx="8640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27" y="0"/>
                        </a:lnTo>
                        <a:lnTo>
                          <a:pt x="0" y="39"/>
                        </a:lnTo>
                        <a:lnTo>
                          <a:pt x="27" y="28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6220440" y="4863960"/>
                  <a:ext cx="142920" cy="113760"/>
                  <a:chOff x="6220440" y="4863960"/>
                  <a:chExt cx="142920" cy="113760"/>
                </a:xfrm>
              </p:grpSpPr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6220440" y="4902120"/>
                    <a:ext cx="70200" cy="75600"/>
                    <a:chOff x="6220440" y="4902120"/>
                    <a:chExt cx="70200" cy="7560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flipH="1" flipV="1">
                      <a:off x="6235920" y="4921560"/>
                      <a:ext cx="54720" cy="5616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6220440" y="4902120"/>
                      <a:ext cx="5436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8">
                          <a:moveTo>
                            <a:pt x="31" y="14"/>
                          </a:moveTo>
                          <a:lnTo>
                            <a:pt x="0" y="0"/>
                          </a:lnTo>
                          <a:lnTo>
                            <a:pt x="9" y="28"/>
                          </a:lnTo>
                          <a:lnTo>
                            <a:pt x="31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6291000" y="4863960"/>
                    <a:ext cx="72360" cy="75240"/>
                    <a:chOff x="6291000" y="4863960"/>
                    <a:chExt cx="72360" cy="7524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flipV="1">
                      <a:off x="6291000" y="4883400"/>
                      <a:ext cx="56520" cy="55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6315840" y="4863960"/>
                      <a:ext cx="475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8">
                          <a:moveTo>
                            <a:pt x="22" y="28"/>
                          </a:moveTo>
                          <a:lnTo>
                            <a:pt x="27" y="0"/>
                          </a:lnTo>
                          <a:lnTo>
                            <a:pt x="0" y="14"/>
                          </a:lnTo>
                          <a:lnTo>
                            <a:pt x="22" y="2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2" name=""/>
                <p:cNvSpPr/>
                <p:nvPr/>
              </p:nvSpPr>
              <p:spPr>
                <a:xfrm>
                  <a:off x="6235920" y="5044320"/>
                  <a:ext cx="11916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188040" y="4704120"/>
                <a:ext cx="208080" cy="109080"/>
                <a:chOff x="6188040" y="4704120"/>
                <a:chExt cx="208080" cy="1090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188040" y="4704120"/>
                  <a:ext cx="103320" cy="57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9"/>
                      </a:moveTo>
                      <a:cubicBezTo>
                        <a:pt x="12" y="9"/>
                        <a:pt x="12" y="8"/>
                        <a:pt x="10" y="8"/>
                      </a:cubicBezTo>
                      <a:cubicBezTo>
                        <a:pt x="9" y="7"/>
                        <a:pt x="7" y="7"/>
                        <a:pt x="5" y="6"/>
                      </a:cubicBezTo>
                      <a:cubicBezTo>
                        <a:pt x="4" y="6"/>
                        <a:pt x="1" y="4"/>
                        <a:pt x="1" y="3"/>
                      </a:cubicBezTo>
                      <a:cubicBezTo>
                        <a:pt x="0" y="3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291360" y="4755240"/>
                  <a:ext cx="104760" cy="57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9"/>
                        <a:pt x="1" y="8"/>
                        <a:pt x="3" y="8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6"/>
                        <a:pt x="12" y="4"/>
                        <a:pt x="12" y="3"/>
                      </a:cubicBezTo>
                      <a:cubicBezTo>
                        <a:pt x="13" y="3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6252120" y="4620240"/>
                <a:ext cx="86760" cy="423720"/>
                <a:chOff x="6252120" y="4620240"/>
                <a:chExt cx="86760" cy="423720"/>
              </a:xfrm>
            </p:grpSpPr>
            <p:sp>
              <p:nvSpPr>
                <p:cNvPr id="537" name=""/>
                <p:cNvSpPr/>
                <p:nvPr/>
              </p:nvSpPr>
              <p:spPr>
                <a:xfrm flipV="1">
                  <a:off x="6291000" y="4652640"/>
                  <a:ext cx="1440" cy="391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252120" y="4620240"/>
                  <a:ext cx="86760" cy="7092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49" y="39"/>
                      </a:moveTo>
                      <a:lnTo>
                        <a:pt x="27" y="0"/>
                      </a:lnTo>
                      <a:lnTo>
                        <a:pt x="0" y="39"/>
                      </a:lnTo>
                      <a:lnTo>
                        <a:pt x="27" y="28"/>
                      </a:lnTo>
                      <a:lnTo>
                        <a:pt x="4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6220440" y="4864320"/>
                <a:ext cx="143280" cy="113760"/>
                <a:chOff x="6220440" y="4864320"/>
                <a:chExt cx="143280" cy="11376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6220440" y="4902480"/>
                  <a:ext cx="70200" cy="75600"/>
                  <a:chOff x="6220440" y="4902480"/>
                  <a:chExt cx="70200" cy="7560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flipV="1">
                    <a:off x="6235560" y="4921920"/>
                    <a:ext cx="55080" cy="56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220440" y="4902480"/>
                    <a:ext cx="5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8">
                        <a:moveTo>
                          <a:pt x="31" y="14"/>
                        </a:moveTo>
                        <a:lnTo>
                          <a:pt x="0" y="0"/>
                        </a:lnTo>
                        <a:lnTo>
                          <a:pt x="9" y="28"/>
                        </a:lnTo>
                        <a:lnTo>
                          <a:pt x="3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6291360" y="4864320"/>
                  <a:ext cx="72360" cy="75240"/>
                  <a:chOff x="6291360" y="4864320"/>
                  <a:chExt cx="72360" cy="752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V="1">
                    <a:off x="6291360" y="4883760"/>
                    <a:ext cx="5652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316200" y="4864320"/>
                    <a:ext cx="475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2" y="28"/>
                        </a:moveTo>
                        <a:lnTo>
                          <a:pt x="27" y="0"/>
                        </a:lnTo>
                        <a:lnTo>
                          <a:pt x="0" y="14"/>
                        </a:lnTo>
                        <a:lnTo>
                          <a:pt x="22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6" name=""/>
              <p:cNvSpPr/>
              <p:nvPr/>
            </p:nvSpPr>
            <p:spPr>
              <a:xfrm>
                <a:off x="6235920" y="5045040"/>
                <a:ext cx="119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6252120" y="4620240"/>
                <a:ext cx="86760" cy="423720"/>
                <a:chOff x="6252120" y="4620240"/>
                <a:chExt cx="86760" cy="423720"/>
              </a:xfrm>
            </p:grpSpPr>
            <p:sp>
              <p:nvSpPr>
                <p:cNvPr id="548" name=""/>
                <p:cNvSpPr/>
                <p:nvPr/>
              </p:nvSpPr>
              <p:spPr>
                <a:xfrm flipV="1">
                  <a:off x="6291000" y="4652640"/>
                  <a:ext cx="1440" cy="391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252120" y="4620240"/>
                  <a:ext cx="86760" cy="7092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49" y="39"/>
                      </a:moveTo>
                      <a:lnTo>
                        <a:pt x="27" y="0"/>
                      </a:lnTo>
                      <a:lnTo>
                        <a:pt x="0" y="39"/>
                      </a:lnTo>
                      <a:lnTo>
                        <a:pt x="27" y="28"/>
                      </a:lnTo>
                      <a:lnTo>
                        <a:pt x="4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6220440" y="4902840"/>
                <a:ext cx="70200" cy="75600"/>
                <a:chOff x="6220440" y="4902840"/>
                <a:chExt cx="70200" cy="75600"/>
              </a:xfrm>
            </p:grpSpPr>
            <p:sp>
              <p:nvSpPr>
                <p:cNvPr id="551" name=""/>
                <p:cNvSpPr/>
                <p:nvPr/>
              </p:nvSpPr>
              <p:spPr>
                <a:xfrm flipH="1" flipV="1">
                  <a:off x="6235560" y="4922280"/>
                  <a:ext cx="5508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220440" y="4902840"/>
                  <a:ext cx="54720" cy="5040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6291360" y="4864320"/>
                <a:ext cx="72720" cy="75600"/>
                <a:chOff x="6291360" y="4864320"/>
                <a:chExt cx="72720" cy="75600"/>
              </a:xfrm>
            </p:grpSpPr>
            <p:sp>
              <p:nvSpPr>
                <p:cNvPr id="554" name=""/>
                <p:cNvSpPr/>
                <p:nvPr/>
              </p:nvSpPr>
              <p:spPr>
                <a:xfrm flipV="1">
                  <a:off x="6291360" y="4884120"/>
                  <a:ext cx="56880" cy="55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316200" y="4864320"/>
                  <a:ext cx="47880" cy="5112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2" y="28"/>
                      </a:moveTo>
                      <a:lnTo>
                        <a:pt x="27" y="0"/>
                      </a:lnTo>
                      <a:lnTo>
                        <a:pt x="0" y="14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6220440" y="4902840"/>
                <a:ext cx="70200" cy="75600"/>
                <a:chOff x="6220440" y="4902840"/>
                <a:chExt cx="70200" cy="7560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flipV="1">
                  <a:off x="6235560" y="4922280"/>
                  <a:ext cx="5508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220440" y="4902840"/>
                  <a:ext cx="54720" cy="5040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291360" y="4864320"/>
                <a:ext cx="72720" cy="75600"/>
                <a:chOff x="6291360" y="4864320"/>
                <a:chExt cx="72720" cy="75600"/>
              </a:xfrm>
            </p:grpSpPr>
            <p:sp>
              <p:nvSpPr>
                <p:cNvPr id="560" name=""/>
                <p:cNvSpPr/>
                <p:nvPr/>
              </p:nvSpPr>
              <p:spPr>
                <a:xfrm flipV="1">
                  <a:off x="6291360" y="4884120"/>
                  <a:ext cx="56880" cy="55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316200" y="4864320"/>
                  <a:ext cx="47880" cy="5112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2" y="28"/>
                      </a:moveTo>
                      <a:lnTo>
                        <a:pt x="27" y="0"/>
                      </a:lnTo>
                      <a:lnTo>
                        <a:pt x="0" y="14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6235920" y="5045040"/>
                <a:ext cx="119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88040" y="4704120"/>
                <a:ext cx="10332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cubicBezTo>
                      <a:pt x="12" y="9"/>
                      <a:pt x="12" y="8"/>
                      <a:pt x="10" y="8"/>
                    </a:cubicBezTo>
                    <a:cubicBezTo>
                      <a:pt x="9" y="7"/>
                      <a:pt x="7" y="7"/>
                      <a:pt x="5" y="6"/>
                    </a:cubicBezTo>
                    <a:cubicBezTo>
                      <a:pt x="4" y="6"/>
                      <a:pt x="1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91360" y="4755240"/>
                <a:ext cx="10476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9"/>
                      <a:pt x="1" y="8"/>
                      <a:pt x="3" y="8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6"/>
                      <a:pt x="12" y="4"/>
                      <a:pt x="12" y="3"/>
                    </a:cubicBezTo>
                    <a:cubicBezTo>
                      <a:pt x="13" y="3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188040" y="4704120"/>
                <a:ext cx="10332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cubicBezTo>
                      <a:pt x="12" y="9"/>
                      <a:pt x="12" y="8"/>
                      <a:pt x="10" y="8"/>
                    </a:cubicBezTo>
                    <a:cubicBezTo>
                      <a:pt x="9" y="7"/>
                      <a:pt x="7" y="7"/>
                      <a:pt x="5" y="6"/>
                    </a:cubicBezTo>
                    <a:cubicBezTo>
                      <a:pt x="4" y="6"/>
                      <a:pt x="1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291360" y="4755240"/>
                <a:ext cx="10476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9"/>
                      <a:pt x="1" y="8"/>
                      <a:pt x="3" y="8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6"/>
                      <a:pt x="12" y="4"/>
                      <a:pt x="12" y="3"/>
                    </a:cubicBezTo>
                    <a:cubicBezTo>
                      <a:pt x="13" y="3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998760" y="5139360"/>
                <a:ext cx="354240" cy="2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071480" y="516672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7055640" y="4595040"/>
                <a:ext cx="239040" cy="552240"/>
                <a:chOff x="7055640" y="4595040"/>
                <a:chExt cx="239040" cy="552240"/>
              </a:xfrm>
            </p:grpSpPr>
            <p:grpSp>
              <p:nvGrpSpPr>
                <p:cNvPr id="570" name=""/>
                <p:cNvGrpSpPr/>
                <p:nvPr/>
              </p:nvGrpSpPr>
              <p:grpSpPr>
                <a:xfrm>
                  <a:off x="7055640" y="4595040"/>
                  <a:ext cx="239040" cy="552240"/>
                  <a:chOff x="7055640" y="4595040"/>
                  <a:chExt cx="239040" cy="552240"/>
                </a:xfrm>
              </p:grpSpPr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7055640" y="4595040"/>
                    <a:ext cx="239040" cy="552240"/>
                    <a:chOff x="7055640" y="4595040"/>
                    <a:chExt cx="239040" cy="55224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flipV="1">
                      <a:off x="7176240" y="4748760"/>
                      <a:ext cx="1440" cy="39636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7119360" y="5145840"/>
                      <a:ext cx="120240" cy="144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7055640" y="4595040"/>
                      <a:ext cx="239040" cy="18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7140240" y="4635000"/>
                      <a:ext cx="4500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7103520" y="4978440"/>
                    <a:ext cx="142920" cy="108360"/>
                    <a:chOff x="7103520" y="4978440"/>
                    <a:chExt cx="142920" cy="108360"/>
                  </a:xfrm>
                </p:grpSpPr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7103520" y="5016600"/>
                      <a:ext cx="72000" cy="70200"/>
                      <a:chOff x="7103520" y="5016600"/>
                      <a:chExt cx="72000" cy="70200"/>
                    </a:xfrm>
                  </p:grpSpPr>
                  <p:sp>
                    <p:nvSpPr>
                      <p:cNvPr id="578" name=""/>
                      <p:cNvSpPr/>
                      <p:nvPr/>
                    </p:nvSpPr>
                    <p:spPr>
                      <a:xfrm flipH="1" flipV="1">
                        <a:off x="7119000" y="5030640"/>
                        <a:ext cx="56520" cy="5616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>
                        <a:off x="7103520" y="5016600"/>
                        <a:ext cx="56520" cy="4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5">
                            <a:moveTo>
                              <a:pt x="32" y="11"/>
                            </a:moveTo>
                            <a:lnTo>
                              <a:pt x="0" y="0"/>
                            </a:lnTo>
                            <a:lnTo>
                              <a:pt x="9" y="25"/>
                            </a:lnTo>
                            <a:lnTo>
                              <a:pt x="32" y="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0" name=""/>
                    <p:cNvGrpSpPr/>
                    <p:nvPr/>
                  </p:nvGrpSpPr>
                  <p:grpSpPr>
                    <a:xfrm>
                      <a:off x="7176240" y="4978440"/>
                      <a:ext cx="70200" cy="70200"/>
                      <a:chOff x="7176240" y="4978440"/>
                      <a:chExt cx="70200" cy="70200"/>
                    </a:xfrm>
                  </p:grpSpPr>
                  <p:sp>
                    <p:nvSpPr>
                      <p:cNvPr id="581" name=""/>
                      <p:cNvSpPr/>
                      <p:nvPr/>
                    </p:nvSpPr>
                    <p:spPr>
                      <a:xfrm flipV="1">
                        <a:off x="7176240" y="4991040"/>
                        <a:ext cx="54360" cy="5760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"/>
                      <p:cNvSpPr/>
                      <p:nvPr/>
                    </p:nvSpPr>
                    <p:spPr>
                      <a:xfrm>
                        <a:off x="7198920" y="4978440"/>
                        <a:ext cx="47520" cy="4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5">
                            <a:moveTo>
                              <a:pt x="23" y="25"/>
                            </a:moveTo>
                            <a:lnTo>
                              <a:pt x="27" y="0"/>
                            </a:lnTo>
                            <a:lnTo>
                              <a:pt x="0" y="11"/>
                            </a:lnTo>
                            <a:lnTo>
                              <a:pt x="23" y="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7062480" y="4767840"/>
                  <a:ext cx="216360" cy="108360"/>
                  <a:chOff x="7062480" y="4767840"/>
                  <a:chExt cx="216360" cy="10836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7062480" y="4767840"/>
                    <a:ext cx="11376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9">
                        <a:moveTo>
                          <a:pt x="14" y="9"/>
                        </a:moveTo>
                        <a:cubicBezTo>
                          <a:pt x="13" y="8"/>
                          <a:pt x="12" y="8"/>
                          <a:pt x="11" y="7"/>
                        </a:cubicBezTo>
                        <a:cubicBezTo>
                          <a:pt x="10" y="7"/>
                          <a:pt x="8" y="7"/>
                          <a:pt x="6" y="6"/>
                        </a:cubicBezTo>
                        <a:cubicBezTo>
                          <a:pt x="4" y="5"/>
                          <a:pt x="2" y="4"/>
                          <a:pt x="1" y="3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7176240" y="4818240"/>
                    <a:ext cx="1026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0" y="9"/>
                        </a:moveTo>
                        <a:cubicBezTo>
                          <a:pt x="1" y="8"/>
                          <a:pt x="1" y="8"/>
                          <a:pt x="3" y="7"/>
                        </a:cubicBezTo>
                        <a:cubicBezTo>
                          <a:pt x="4" y="7"/>
                          <a:pt x="6" y="7"/>
                          <a:pt x="8" y="6"/>
                        </a:cubicBezTo>
                        <a:cubicBezTo>
                          <a:pt x="9" y="5"/>
                          <a:pt x="11" y="4"/>
                          <a:pt x="12" y="3"/>
                        </a:cubicBezTo>
                        <a:cubicBezTo>
                          <a:pt x="13" y="2"/>
                          <a:pt x="13" y="1"/>
                          <a:pt x="13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6" name=""/>
              <p:cNvSpPr/>
              <p:nvPr/>
            </p:nvSpPr>
            <p:spPr>
              <a:xfrm>
                <a:off x="6998760" y="5139360"/>
                <a:ext cx="354240" cy="2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071480" y="516672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7055640" y="4595040"/>
                <a:ext cx="239400" cy="552600"/>
                <a:chOff x="7055640" y="4595040"/>
                <a:chExt cx="239400" cy="5526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7055640" y="4595040"/>
                  <a:ext cx="239400" cy="552600"/>
                  <a:chOff x="7055640" y="4595040"/>
                  <a:chExt cx="239400" cy="5526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 flipV="1">
                    <a:off x="7176240" y="4749120"/>
                    <a:ext cx="1440" cy="39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7119360" y="5146200"/>
                    <a:ext cx="12024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7055640" y="4595040"/>
                    <a:ext cx="239400" cy="18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7140600" y="463500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103520" y="4978800"/>
                  <a:ext cx="143280" cy="108360"/>
                  <a:chOff x="7103520" y="4978800"/>
                  <a:chExt cx="143280" cy="108360"/>
                </a:xfrm>
              </p:grpSpPr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7103520" y="5016960"/>
                    <a:ext cx="72000" cy="70200"/>
                    <a:chOff x="7103520" y="5016960"/>
                    <a:chExt cx="72000" cy="7020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H="1" flipV="1">
                      <a:off x="7119000" y="5031000"/>
                      <a:ext cx="56520" cy="5616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7103520" y="5016960"/>
                      <a:ext cx="56520" cy="4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5">
                          <a:moveTo>
                            <a:pt x="32" y="11"/>
                          </a:moveTo>
                          <a:lnTo>
                            <a:pt x="0" y="0"/>
                          </a:lnTo>
                          <a:lnTo>
                            <a:pt x="9" y="25"/>
                          </a:lnTo>
                          <a:lnTo>
                            <a:pt x="32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7176240" y="4978800"/>
                    <a:ext cx="70560" cy="70200"/>
                    <a:chOff x="7176240" y="4978800"/>
                    <a:chExt cx="70560" cy="7020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V="1">
                      <a:off x="7176240" y="4991400"/>
                      <a:ext cx="54720" cy="576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7198920" y="4978800"/>
                      <a:ext cx="47880" cy="4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5">
                          <a:moveTo>
                            <a:pt x="23" y="25"/>
                          </a:moveTo>
                          <a:lnTo>
                            <a:pt x="27" y="0"/>
                          </a:lnTo>
                          <a:lnTo>
                            <a:pt x="0" y="11"/>
                          </a:lnTo>
                          <a:lnTo>
                            <a:pt x="23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1" name=""/>
              <p:cNvGrpSpPr/>
              <p:nvPr/>
            </p:nvGrpSpPr>
            <p:grpSpPr>
              <a:xfrm>
                <a:off x="7062480" y="4768200"/>
                <a:ext cx="216720" cy="108360"/>
                <a:chOff x="7062480" y="4768200"/>
                <a:chExt cx="216720" cy="1083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7062480" y="4768200"/>
                  <a:ext cx="114120" cy="579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8"/>
                        <a:pt x="12" y="8"/>
                        <a:pt x="11" y="7"/>
                      </a:cubicBezTo>
                      <a:cubicBezTo>
                        <a:pt x="10" y="7"/>
                        <a:pt x="8" y="7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176600" y="4818600"/>
                  <a:ext cx="102600" cy="57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8"/>
                        <a:pt x="1" y="8"/>
                        <a:pt x="3" y="7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5"/>
                        <a:pt x="11" y="4"/>
                        <a:pt x="12" y="3"/>
                      </a:cubicBezTo>
                      <a:cubicBezTo>
                        <a:pt x="13" y="2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7055640" y="4595040"/>
                <a:ext cx="239760" cy="552960"/>
                <a:chOff x="7055640" y="4595040"/>
                <a:chExt cx="239760" cy="552960"/>
              </a:xfrm>
            </p:grpSpPr>
            <p:sp>
              <p:nvSpPr>
                <p:cNvPr id="605" name=""/>
                <p:cNvSpPr/>
                <p:nvPr/>
              </p:nvSpPr>
              <p:spPr>
                <a:xfrm flipV="1">
                  <a:off x="7176600" y="4748760"/>
                  <a:ext cx="1440" cy="397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119720" y="5146560"/>
                  <a:ext cx="12060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055640" y="4595040"/>
                  <a:ext cx="239760" cy="18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140600" y="463500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103880" y="4979160"/>
                <a:ext cx="143280" cy="108720"/>
                <a:chOff x="7103880" y="4979160"/>
                <a:chExt cx="143280" cy="108720"/>
              </a:xfrm>
            </p:grpSpPr>
            <p:grpSp>
              <p:nvGrpSpPr>
                <p:cNvPr id="610" name=""/>
                <p:cNvGrpSpPr/>
                <p:nvPr/>
              </p:nvGrpSpPr>
              <p:grpSpPr>
                <a:xfrm>
                  <a:off x="7103880" y="5017320"/>
                  <a:ext cx="72000" cy="70560"/>
                  <a:chOff x="7103880" y="5017320"/>
                  <a:chExt cx="72000" cy="7056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 flipH="1" flipV="1">
                    <a:off x="7119360" y="5031720"/>
                    <a:ext cx="56520" cy="56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7103880" y="5017320"/>
                    <a:ext cx="565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5">
                        <a:moveTo>
                          <a:pt x="32" y="11"/>
                        </a:moveTo>
                        <a:lnTo>
                          <a:pt x="0" y="0"/>
                        </a:lnTo>
                        <a:lnTo>
                          <a:pt x="9" y="25"/>
                        </a:lnTo>
                        <a:lnTo>
                          <a:pt x="32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3" name=""/>
                <p:cNvGrpSpPr/>
                <p:nvPr/>
              </p:nvGrpSpPr>
              <p:grpSpPr>
                <a:xfrm>
                  <a:off x="7176600" y="4979160"/>
                  <a:ext cx="70560" cy="70200"/>
                  <a:chOff x="7176600" y="4979160"/>
                  <a:chExt cx="70560" cy="7020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V="1">
                    <a:off x="7176600" y="4991400"/>
                    <a:ext cx="54720" cy="579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199280" y="4979160"/>
                    <a:ext cx="478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23" y="25"/>
                        </a:moveTo>
                        <a:lnTo>
                          <a:pt x="27" y="0"/>
                        </a:lnTo>
                        <a:lnTo>
                          <a:pt x="0" y="11"/>
                        </a:lnTo>
                        <a:lnTo>
                          <a:pt x="23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6" name=""/>
              <p:cNvSpPr/>
              <p:nvPr/>
            </p:nvSpPr>
            <p:spPr>
              <a:xfrm flipV="1">
                <a:off x="7176960" y="4749120"/>
                <a:ext cx="1440" cy="39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20080" y="5146920"/>
                <a:ext cx="1206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055640" y="4595040"/>
                <a:ext cx="240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143840" y="4635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7176960" y="4749120"/>
                <a:ext cx="1440" cy="39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120080" y="5146920"/>
                <a:ext cx="1206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55640" y="4595040"/>
                <a:ext cx="240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143840" y="4635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" name=""/>
              <p:cNvGrpSpPr/>
              <p:nvPr/>
            </p:nvGrpSpPr>
            <p:grpSpPr>
              <a:xfrm>
                <a:off x="7103880" y="5017680"/>
                <a:ext cx="72720" cy="70560"/>
                <a:chOff x="7103880" y="5017680"/>
                <a:chExt cx="72720" cy="70560"/>
              </a:xfrm>
            </p:grpSpPr>
            <p:sp>
              <p:nvSpPr>
                <p:cNvPr id="625" name=""/>
                <p:cNvSpPr/>
                <p:nvPr/>
              </p:nvSpPr>
              <p:spPr>
                <a:xfrm flipH="1" flipV="1">
                  <a:off x="7119720" y="5032080"/>
                  <a:ext cx="5688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103880" y="5017680"/>
                  <a:ext cx="56880" cy="450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32" y="11"/>
                      </a:moveTo>
                      <a:lnTo>
                        <a:pt x="0" y="0"/>
                      </a:lnTo>
                      <a:lnTo>
                        <a:pt x="9" y="25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7176960" y="4979160"/>
                <a:ext cx="70560" cy="70200"/>
                <a:chOff x="7176960" y="4979160"/>
                <a:chExt cx="70560" cy="70200"/>
              </a:xfrm>
            </p:grpSpPr>
            <p:sp>
              <p:nvSpPr>
                <p:cNvPr id="628" name=""/>
                <p:cNvSpPr/>
                <p:nvPr/>
              </p:nvSpPr>
              <p:spPr>
                <a:xfrm flipV="1">
                  <a:off x="7176960" y="4991400"/>
                  <a:ext cx="54720" cy="57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199640" y="4979160"/>
                  <a:ext cx="47880" cy="4500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23" y="25"/>
                      </a:moveTo>
                      <a:lnTo>
                        <a:pt x="27" y="0"/>
                      </a:lnTo>
                      <a:lnTo>
                        <a:pt x="0" y="11"/>
                      </a:lnTo>
                      <a:lnTo>
                        <a:pt x="2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103880" y="5017680"/>
                <a:ext cx="72720" cy="70560"/>
                <a:chOff x="7103880" y="5017680"/>
                <a:chExt cx="72720" cy="70560"/>
              </a:xfrm>
            </p:grpSpPr>
            <p:sp>
              <p:nvSpPr>
                <p:cNvPr id="631" name=""/>
                <p:cNvSpPr/>
                <p:nvPr/>
              </p:nvSpPr>
              <p:spPr>
                <a:xfrm flipH="1" flipV="1">
                  <a:off x="7119720" y="5032080"/>
                  <a:ext cx="5688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103880" y="5017680"/>
                  <a:ext cx="56880" cy="450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32" y="11"/>
                      </a:moveTo>
                      <a:lnTo>
                        <a:pt x="0" y="0"/>
                      </a:lnTo>
                      <a:lnTo>
                        <a:pt x="9" y="25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7176960" y="4979160"/>
                <a:ext cx="70560" cy="70200"/>
                <a:chOff x="7176960" y="4979160"/>
                <a:chExt cx="70560" cy="702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7176960" y="4991400"/>
                  <a:ext cx="54720" cy="57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199640" y="4979160"/>
                  <a:ext cx="47880" cy="4500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23" y="25"/>
                      </a:moveTo>
                      <a:lnTo>
                        <a:pt x="27" y="0"/>
                      </a:lnTo>
                      <a:lnTo>
                        <a:pt x="0" y="11"/>
                      </a:lnTo>
                      <a:lnTo>
                        <a:pt x="2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7062480" y="4768200"/>
                <a:ext cx="114120" cy="579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8"/>
                      <a:pt x="12" y="8"/>
                      <a:pt x="11" y="7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76960" y="4818960"/>
                <a:ext cx="10296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8"/>
                      <a:pt x="1" y="8"/>
                      <a:pt x="3" y="7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5"/>
                      <a:pt x="11" y="4"/>
                      <a:pt x="12" y="3"/>
                    </a:cubicBezTo>
                    <a:cubicBezTo>
                      <a:pt x="13" y="2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62480" y="4768200"/>
                <a:ext cx="114120" cy="579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8"/>
                      <a:pt x="12" y="8"/>
                      <a:pt x="11" y="7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176960" y="4818960"/>
                <a:ext cx="10296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8"/>
                      <a:pt x="1" y="8"/>
                      <a:pt x="3" y="7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5"/>
                      <a:pt x="11" y="4"/>
                      <a:pt x="12" y="3"/>
                    </a:cubicBezTo>
                    <a:cubicBezTo>
                      <a:pt x="13" y="2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28000" y="2984760"/>
                <a:ext cx="87480" cy="2696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0" y="3"/>
                    </a:moveTo>
                    <a:cubicBezTo>
                      <a:pt x="3" y="1"/>
                      <a:pt x="5" y="0"/>
                      <a:pt x="7" y="4"/>
                    </a:cubicBezTo>
                    <a:cubicBezTo>
                      <a:pt x="8" y="8"/>
                      <a:pt x="7" y="22"/>
                      <a:pt x="7" y="28"/>
                    </a:cubicBezTo>
                    <a:cubicBezTo>
                      <a:pt x="8" y="34"/>
                      <a:pt x="9" y="38"/>
                      <a:pt x="11" y="4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435200" y="2966760"/>
                <a:ext cx="73080" cy="26964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3"/>
                    </a:moveTo>
                    <a:cubicBezTo>
                      <a:pt x="3" y="1"/>
                      <a:pt x="6" y="0"/>
                      <a:pt x="7" y="4"/>
                    </a:cubicBezTo>
                    <a:cubicBezTo>
                      <a:pt x="8" y="8"/>
                      <a:pt x="6" y="22"/>
                      <a:pt x="6" y="28"/>
                    </a:cubicBezTo>
                    <a:cubicBezTo>
                      <a:pt x="6" y="34"/>
                      <a:pt x="7" y="38"/>
                      <a:pt x="9" y="4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259160" y="2934000"/>
                <a:ext cx="184680" cy="1094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28000" y="2984760"/>
                <a:ext cx="87480" cy="2696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0" y="3"/>
                    </a:moveTo>
                    <a:cubicBezTo>
                      <a:pt x="3" y="1"/>
                      <a:pt x="5" y="0"/>
                      <a:pt x="7" y="4"/>
                    </a:cubicBezTo>
                    <a:cubicBezTo>
                      <a:pt x="8" y="8"/>
                      <a:pt x="7" y="22"/>
                      <a:pt x="7" y="28"/>
                    </a:cubicBezTo>
                    <a:cubicBezTo>
                      <a:pt x="8" y="34"/>
                      <a:pt x="9" y="38"/>
                      <a:pt x="11" y="4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435200" y="2966760"/>
                <a:ext cx="73080" cy="26964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3"/>
                    </a:moveTo>
                    <a:cubicBezTo>
                      <a:pt x="3" y="1"/>
                      <a:pt x="6" y="0"/>
                      <a:pt x="7" y="4"/>
                    </a:cubicBezTo>
                    <a:cubicBezTo>
                      <a:pt x="8" y="8"/>
                      <a:pt x="6" y="22"/>
                      <a:pt x="6" y="28"/>
                    </a:cubicBezTo>
                    <a:cubicBezTo>
                      <a:pt x="6" y="34"/>
                      <a:pt x="7" y="38"/>
                      <a:pt x="9" y="4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259160" y="2934000"/>
                <a:ext cx="184680" cy="1094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5085360" y="2364120"/>
                <a:ext cx="280800" cy="351000"/>
                <a:chOff x="5085360" y="2364120"/>
                <a:chExt cx="280800" cy="351000"/>
              </a:xfrm>
            </p:grpSpPr>
            <p:sp>
              <p:nvSpPr>
                <p:cNvPr id="647" name=""/>
                <p:cNvSpPr/>
                <p:nvPr/>
              </p:nvSpPr>
              <p:spPr>
                <a:xfrm flipV="1">
                  <a:off x="5085360" y="2414880"/>
                  <a:ext cx="249120" cy="300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270040" y="2364120"/>
                  <a:ext cx="96120" cy="96120"/>
                </a:xfrm>
                <a:custGeom>
                  <a:avLst/>
                  <a:gdLst/>
                  <a:ahLst/>
                  <a:rect l="l" t="t" r="r" b="b"/>
                  <a:pathLst>
                    <a:path w="54" h="53">
                      <a:moveTo>
                        <a:pt x="50" y="53"/>
                      </a:moveTo>
                      <a:lnTo>
                        <a:pt x="54" y="0"/>
                      </a:lnTo>
                      <a:lnTo>
                        <a:pt x="0" y="28"/>
                      </a:lnTo>
                      <a:lnTo>
                        <a:pt x="5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6275160" y="1003680"/>
                <a:ext cx="225720" cy="545760"/>
                <a:chOff x="6275160" y="1003680"/>
                <a:chExt cx="225720" cy="545760"/>
              </a:xfrm>
            </p:grpSpPr>
            <p:sp>
              <p:nvSpPr>
                <p:cNvPr id="650" name=""/>
                <p:cNvSpPr/>
                <p:nvPr/>
              </p:nvSpPr>
              <p:spPr>
                <a:xfrm flipV="1">
                  <a:off x="6380280" y="1145520"/>
                  <a:ext cx="1440" cy="401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323040" y="1547640"/>
                  <a:ext cx="12096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275160" y="1003680"/>
                  <a:ext cx="22572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347520" y="103788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6195240" y="1535040"/>
                <a:ext cx="36144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74080" y="15681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00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6380640" y="1145160"/>
                <a:ext cx="1440" cy="402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323400" y="154800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75160" y="1003680"/>
                <a:ext cx="2260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47880" y="1036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6380640" y="1145160"/>
                <a:ext cx="1440" cy="402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323400" y="154800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275160" y="1003680"/>
                <a:ext cx="2260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347880" y="1036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195240" y="1535040"/>
                <a:ext cx="36144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274080" y="15681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00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5842440" y="3010320"/>
                <a:ext cx="473400" cy="70560"/>
                <a:chOff x="5842440" y="3010320"/>
                <a:chExt cx="473400" cy="705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5842440" y="3043080"/>
                  <a:ext cx="40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235560" y="3010320"/>
                  <a:ext cx="80280" cy="70560"/>
                </a:xfrm>
                <a:custGeom>
                  <a:avLst/>
                  <a:gdLst/>
                  <a:ahLst/>
                  <a:rect l="l" t="t" r="r" b="b"/>
                  <a:pathLst>
                    <a:path w="45" h="39">
                      <a:moveTo>
                        <a:pt x="0" y="39"/>
                      </a:moveTo>
                      <a:lnTo>
                        <a:pt x="45" y="18"/>
                      </a:lnTo>
                      <a:lnTo>
                        <a:pt x="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5785560" y="2364120"/>
                <a:ext cx="529920" cy="421920"/>
                <a:chOff x="5785560" y="2364120"/>
                <a:chExt cx="529920" cy="4219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5785560" y="2364120"/>
                  <a:ext cx="482400" cy="38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219720" y="2709720"/>
                  <a:ext cx="95760" cy="76320"/>
                </a:xfrm>
                <a:custGeom>
                  <a:avLst/>
                  <a:gdLst/>
                  <a:ahLst/>
                  <a:rect l="l" t="t" r="r" b="b"/>
                  <a:pathLst>
                    <a:path w="54" h="42">
                      <a:moveTo>
                        <a:pt x="0" y="28"/>
                      </a:moveTo>
                      <a:lnTo>
                        <a:pt x="54" y="42"/>
                      </a:lnTo>
                      <a:lnTo>
                        <a:pt x="36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103360" y="3343680"/>
                <a:ext cx="311040" cy="507600"/>
                <a:chOff x="5103360" y="3343680"/>
                <a:chExt cx="311040" cy="50760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103360" y="3343680"/>
                  <a:ext cx="247320" cy="42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286600" y="3722040"/>
                  <a:ext cx="127800" cy="129240"/>
                </a:xfrm>
                <a:custGeom>
                  <a:avLst/>
                  <a:gdLst/>
                  <a:ahLst/>
                  <a:rect l="l" t="t" r="r" b="b"/>
                  <a:pathLst>
                    <a:path w="72" h="71">
                      <a:moveTo>
                        <a:pt x="0" y="28"/>
                      </a:moveTo>
                      <a:lnTo>
                        <a:pt x="72" y="71"/>
                      </a:lnTo>
                      <a:lnTo>
                        <a:pt x="72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5142600" y="3004920"/>
                <a:ext cx="338040" cy="70560"/>
                <a:chOff x="5142600" y="3004920"/>
                <a:chExt cx="338040" cy="705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142600" y="3035520"/>
                  <a:ext cx="264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391720" y="3004920"/>
                  <a:ext cx="88920" cy="70560"/>
                </a:xfrm>
                <a:custGeom>
                  <a:avLst/>
                  <a:gdLst/>
                  <a:ahLst/>
                  <a:rect l="l" t="t" r="r" b="b"/>
                  <a:pathLst>
                    <a:path w="50" h="39">
                      <a:moveTo>
                        <a:pt x="0" y="39"/>
                      </a:moveTo>
                      <a:lnTo>
                        <a:pt x="50" y="21"/>
                      </a:lnTo>
                      <a:lnTo>
                        <a:pt x="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5673240" y="4030560"/>
                <a:ext cx="498240" cy="70560"/>
                <a:chOff x="5673240" y="4030560"/>
                <a:chExt cx="498240" cy="705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5673240" y="4062960"/>
                  <a:ext cx="416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073560" y="4030560"/>
                  <a:ext cx="97920" cy="70560"/>
                </a:xfrm>
                <a:custGeom>
                  <a:avLst/>
                  <a:gdLst/>
                  <a:ahLst/>
                  <a:rect l="l" t="t" r="r" b="b"/>
                  <a:pathLst>
                    <a:path w="55" h="39">
                      <a:moveTo>
                        <a:pt x="0" y="39"/>
                      </a:moveTo>
                      <a:lnTo>
                        <a:pt x="55" y="21"/>
                      </a:lnTo>
                      <a:lnTo>
                        <a:pt x="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6122160" y="4254480"/>
                <a:ext cx="37908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02800" y="42944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6195240" y="3722400"/>
                <a:ext cx="223560" cy="552960"/>
                <a:chOff x="6195240" y="3722400"/>
                <a:chExt cx="223560" cy="552960"/>
              </a:xfrm>
            </p:grpSpPr>
            <p:grpSp>
              <p:nvGrpSpPr>
                <p:cNvPr id="684" name=""/>
                <p:cNvGrpSpPr/>
                <p:nvPr/>
              </p:nvGrpSpPr>
              <p:grpSpPr>
                <a:xfrm>
                  <a:off x="6195240" y="3722400"/>
                  <a:ext cx="223560" cy="552960"/>
                  <a:chOff x="6195240" y="3722400"/>
                  <a:chExt cx="223560" cy="55296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 flipV="1">
                    <a:off x="6306840" y="3870000"/>
                    <a:ext cx="1440" cy="403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251760" y="4273560"/>
                    <a:ext cx="11844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6195240" y="3722400"/>
                    <a:ext cx="223560" cy="17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6273360" y="376236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6195240" y="3920760"/>
                  <a:ext cx="216360" cy="108720"/>
                  <a:chOff x="6195240" y="3920760"/>
                  <a:chExt cx="216360" cy="10872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6195240" y="3920760"/>
                    <a:ext cx="11196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9">
                        <a:moveTo>
                          <a:pt x="14" y="9"/>
                        </a:moveTo>
                        <a:cubicBezTo>
                          <a:pt x="13" y="9"/>
                          <a:pt x="12" y="8"/>
                          <a:pt x="11" y="8"/>
                        </a:cubicBezTo>
                        <a:cubicBezTo>
                          <a:pt x="10" y="7"/>
                          <a:pt x="8" y="7"/>
                          <a:pt x="6" y="6"/>
                        </a:cubicBezTo>
                        <a:cubicBezTo>
                          <a:pt x="4" y="6"/>
                          <a:pt x="2" y="4"/>
                          <a:pt x="1" y="3"/>
                        </a:cubicBezTo>
                        <a:cubicBezTo>
                          <a:pt x="0" y="3"/>
                          <a:pt x="0" y="1"/>
                          <a:pt x="0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307200" y="3973320"/>
                    <a:ext cx="1044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0" y="9"/>
                        </a:moveTo>
                        <a:cubicBezTo>
                          <a:pt x="1" y="9"/>
                          <a:pt x="1" y="8"/>
                          <a:pt x="3" y="8"/>
                        </a:cubicBezTo>
                        <a:cubicBezTo>
                          <a:pt x="4" y="7"/>
                          <a:pt x="6" y="7"/>
                          <a:pt x="8" y="6"/>
                        </a:cubicBezTo>
                        <a:cubicBezTo>
                          <a:pt x="9" y="6"/>
                          <a:pt x="11" y="4"/>
                          <a:pt x="12" y="3"/>
                        </a:cubicBezTo>
                        <a:cubicBezTo>
                          <a:pt x="13" y="3"/>
                          <a:pt x="13" y="1"/>
                          <a:pt x="13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2" name=""/>
              <p:cNvSpPr/>
              <p:nvPr/>
            </p:nvSpPr>
            <p:spPr>
              <a:xfrm>
                <a:off x="6122160" y="4254480"/>
                <a:ext cx="37908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202800" y="42944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6195240" y="3722400"/>
                <a:ext cx="223920" cy="553320"/>
                <a:chOff x="6195240" y="3722400"/>
                <a:chExt cx="223920" cy="553320"/>
              </a:xfrm>
            </p:grpSpPr>
            <p:sp>
              <p:nvSpPr>
                <p:cNvPr id="695" name=""/>
                <p:cNvSpPr/>
                <p:nvPr/>
              </p:nvSpPr>
              <p:spPr>
                <a:xfrm flipV="1">
                  <a:off x="6307200" y="3869640"/>
                  <a:ext cx="1440" cy="403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251760" y="4273920"/>
                  <a:ext cx="1188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195240" y="3722400"/>
                  <a:ext cx="22392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273720" y="376236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6195240" y="3921120"/>
                <a:ext cx="216720" cy="109080"/>
                <a:chOff x="6195240" y="3921120"/>
                <a:chExt cx="216720" cy="10908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6195240" y="3921120"/>
                  <a:ext cx="111960" cy="579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9"/>
                        <a:pt x="12" y="8"/>
                        <a:pt x="11" y="8"/>
                      </a:cubicBezTo>
                      <a:cubicBezTo>
                        <a:pt x="10" y="7"/>
                        <a:pt x="8" y="7"/>
                        <a:pt x="6" y="6"/>
                      </a:cubicBezTo>
                      <a:cubicBezTo>
                        <a:pt x="4" y="6"/>
                        <a:pt x="2" y="4"/>
                        <a:pt x="1" y="3"/>
                      </a:cubicBezTo>
                      <a:cubicBezTo>
                        <a:pt x="0" y="3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307200" y="3973680"/>
                  <a:ext cx="104760" cy="565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9"/>
                        <a:pt x="1" y="8"/>
                        <a:pt x="3" y="8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6"/>
                        <a:pt x="11" y="4"/>
                        <a:pt x="12" y="3"/>
                      </a:cubicBezTo>
                      <a:cubicBezTo>
                        <a:pt x="13" y="3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 flipV="1">
                <a:off x="6307560" y="3870360"/>
                <a:ext cx="1440" cy="40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252120" y="4274280"/>
                <a:ext cx="1191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195240" y="3722400"/>
                <a:ext cx="224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75160" y="3762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307560" y="3870360"/>
                <a:ext cx="1440" cy="40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52120" y="4274280"/>
                <a:ext cx="1191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195240" y="3722400"/>
                <a:ext cx="224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275160" y="3762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95240" y="3921120"/>
                <a:ext cx="111960" cy="579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307560" y="3974040"/>
                <a:ext cx="104760" cy="565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9"/>
                      <a:pt x="1" y="8"/>
                      <a:pt x="3" y="8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6"/>
                      <a:pt x="11" y="4"/>
                      <a:pt x="12" y="3"/>
                    </a:cubicBezTo>
                    <a:cubicBezTo>
                      <a:pt x="13" y="3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95240" y="3921120"/>
                <a:ext cx="111960" cy="579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307560" y="3974040"/>
                <a:ext cx="104760" cy="565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9"/>
                      <a:pt x="1" y="8"/>
                      <a:pt x="3" y="8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6"/>
                      <a:pt x="11" y="4"/>
                      <a:pt x="12" y="3"/>
                    </a:cubicBezTo>
                    <a:cubicBezTo>
                      <a:pt x="13" y="3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5760720" y="4414680"/>
                <a:ext cx="312840" cy="294480"/>
                <a:chOff x="5760720" y="4414680"/>
                <a:chExt cx="312840" cy="29448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5760720" y="4414680"/>
                  <a:ext cx="273960" cy="251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986440" y="4627440"/>
                  <a:ext cx="87120" cy="81720"/>
                </a:xfrm>
                <a:custGeom>
                  <a:avLst/>
                  <a:gdLst/>
                  <a:ahLst/>
                  <a:rect l="l" t="t" r="r" b="b"/>
                  <a:pathLst>
                    <a:path w="49" h="45">
                      <a:moveTo>
                        <a:pt x="0" y="28"/>
                      </a:moveTo>
                      <a:lnTo>
                        <a:pt x="49" y="45"/>
                      </a:lnTo>
                      <a:lnTo>
                        <a:pt x="36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492600" y="4422240"/>
                <a:ext cx="402120" cy="301680"/>
                <a:chOff x="6492600" y="4422240"/>
                <a:chExt cx="402120" cy="30168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492600" y="4422240"/>
                  <a:ext cx="361440" cy="261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805800" y="4645800"/>
                  <a:ext cx="88920" cy="78120"/>
                </a:xfrm>
                <a:custGeom>
                  <a:avLst/>
                  <a:gdLst/>
                  <a:ahLst/>
                  <a:rect l="l" t="t" r="r" b="b"/>
                  <a:pathLst>
                    <a:path w="50" h="43">
                      <a:moveTo>
                        <a:pt x="0" y="28"/>
                      </a:moveTo>
                      <a:lnTo>
                        <a:pt x="50" y="43"/>
                      </a:lnTo>
                      <a:lnTo>
                        <a:pt x="36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492600" y="4961160"/>
                <a:ext cx="434160" cy="70560"/>
                <a:chOff x="6492600" y="4961160"/>
                <a:chExt cx="434160" cy="705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6492600" y="4991760"/>
                  <a:ext cx="370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846840" y="4961160"/>
                  <a:ext cx="79920" cy="70560"/>
                </a:xfrm>
                <a:custGeom>
                  <a:avLst/>
                  <a:gdLst/>
                  <a:ahLst/>
                  <a:rect l="l" t="t" r="r" b="b"/>
                  <a:pathLst>
                    <a:path w="45" h="39">
                      <a:moveTo>
                        <a:pt x="0" y="39"/>
                      </a:moveTo>
                      <a:lnTo>
                        <a:pt x="45" y="17"/>
                      </a:lnTo>
                      <a:lnTo>
                        <a:pt x="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4547520" y="2972520"/>
                <a:ext cx="338040" cy="134280"/>
                <a:chOff x="4547520" y="2972520"/>
                <a:chExt cx="338040" cy="13428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4547520" y="3035880"/>
                  <a:ext cx="176040" cy="1440"/>
                </a:xfrm>
                <a:prstGeom prst="line">
                  <a:avLst/>
                </a:prstGeom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707720" y="2972520"/>
                  <a:ext cx="177840" cy="134280"/>
                </a:xfrm>
                <a:custGeom>
                  <a:avLst/>
                  <a:gdLst/>
                  <a:ahLst/>
                  <a:rect l="l" t="t" r="r" b="b"/>
                  <a:pathLst>
                    <a:path w="100" h="74">
                      <a:moveTo>
                        <a:pt x="0" y="74"/>
                      </a:moveTo>
                      <a:lnTo>
                        <a:pt x="100" y="39"/>
                      </a:lnTo>
                      <a:lnTo>
                        <a:pt x="0" y="0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598080" y="1509840"/>
                <a:ext cx="344880" cy="159840"/>
                <a:chOff x="6598080" y="1509840"/>
                <a:chExt cx="344880" cy="1598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598080" y="1509840"/>
                  <a:ext cx="288000" cy="141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54400" y="1613160"/>
                  <a:ext cx="88560" cy="56520"/>
                </a:xfrm>
                <a:custGeom>
                  <a:avLst/>
                  <a:gdLst/>
                  <a:ahLst/>
                  <a:rect l="l" t="t" r="r" b="b"/>
                  <a:pathLst>
                    <a:path w="50" h="31">
                      <a:moveTo>
                        <a:pt x="0" y="31"/>
                      </a:moveTo>
                      <a:lnTo>
                        <a:pt x="50" y="31"/>
                      </a:lnTo>
                      <a:lnTo>
                        <a:pt x="23" y="0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5721480" y="1466280"/>
                <a:ext cx="367920" cy="312120"/>
                <a:chOff x="5721480" y="1466280"/>
                <a:chExt cx="367920" cy="312120"/>
              </a:xfrm>
            </p:grpSpPr>
            <p:sp>
              <p:nvSpPr>
                <p:cNvPr id="730" name=""/>
                <p:cNvSpPr/>
                <p:nvPr/>
              </p:nvSpPr>
              <p:spPr>
                <a:xfrm flipV="1">
                  <a:off x="5721480" y="1496880"/>
                  <a:ext cx="320400" cy="28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993640" y="1466280"/>
                  <a:ext cx="95760" cy="76320"/>
                </a:xfrm>
                <a:custGeom>
                  <a:avLst/>
                  <a:gdLst/>
                  <a:ahLst/>
                  <a:rect l="l" t="t" r="r" b="b"/>
                  <a:pathLst>
                    <a:path w="54" h="42">
                      <a:moveTo>
                        <a:pt x="36" y="42"/>
                      </a:moveTo>
                      <a:lnTo>
                        <a:pt x="54" y="0"/>
                      </a:lnTo>
                      <a:lnTo>
                        <a:pt x="0" y="14"/>
                      </a:lnTo>
                      <a:lnTo>
                        <a:pt x="36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7344360" y="1374840"/>
                <a:ext cx="385920" cy="146520"/>
                <a:chOff x="7344360" y="1374840"/>
                <a:chExt cx="385920" cy="146520"/>
              </a:xfrm>
            </p:grpSpPr>
            <p:sp>
              <p:nvSpPr>
                <p:cNvPr id="733" name=""/>
                <p:cNvSpPr/>
                <p:nvPr/>
              </p:nvSpPr>
              <p:spPr>
                <a:xfrm flipV="1">
                  <a:off x="7344360" y="1387080"/>
                  <a:ext cx="321840" cy="13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634520" y="1374840"/>
                  <a:ext cx="95760" cy="5796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22" y="32"/>
                      </a:move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22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581880" y="1119960"/>
                <a:ext cx="344880" cy="159840"/>
                <a:chOff x="6581880" y="1119960"/>
                <a:chExt cx="344880" cy="159840"/>
              </a:xfrm>
            </p:grpSpPr>
            <p:sp>
              <p:nvSpPr>
                <p:cNvPr id="736" name=""/>
                <p:cNvSpPr/>
                <p:nvPr/>
              </p:nvSpPr>
              <p:spPr>
                <a:xfrm flipV="1">
                  <a:off x="6581880" y="1137960"/>
                  <a:ext cx="288000" cy="1418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838200" y="1119960"/>
                  <a:ext cx="88560" cy="63360"/>
                </a:xfrm>
                <a:custGeom>
                  <a:avLst/>
                  <a:gdLst/>
                  <a:ahLst/>
                  <a:rect l="l" t="t" r="r" b="b"/>
                  <a:pathLst>
                    <a:path w="50" h="35">
                      <a:moveTo>
                        <a:pt x="23" y="35"/>
                      </a:moveTo>
                      <a:lnTo>
                        <a:pt x="50" y="0"/>
                      </a:lnTo>
                      <a:lnTo>
                        <a:pt x="0" y="3"/>
                      </a:lnTo>
                      <a:lnTo>
                        <a:pt x="23" y="3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7907400" y="1837440"/>
                <a:ext cx="143280" cy="108360"/>
                <a:chOff x="7907400" y="1837440"/>
                <a:chExt cx="143280" cy="108360"/>
              </a:xfrm>
            </p:grpSpPr>
            <p:grpSp>
              <p:nvGrpSpPr>
                <p:cNvPr id="739" name=""/>
                <p:cNvGrpSpPr/>
                <p:nvPr/>
              </p:nvGrpSpPr>
              <p:grpSpPr>
                <a:xfrm>
                  <a:off x="7907400" y="1875600"/>
                  <a:ext cx="71640" cy="70200"/>
                  <a:chOff x="7907400" y="1875600"/>
                  <a:chExt cx="71640" cy="7020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 flipH="1" flipV="1">
                    <a:off x="7922520" y="1887840"/>
                    <a:ext cx="56520" cy="57960"/>
                  </a:xfrm>
                  <a:prstGeom prst="line">
                    <a:avLst/>
                  </a:prstGeom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7907400" y="1875600"/>
                    <a:ext cx="565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5">
                        <a:moveTo>
                          <a:pt x="32" y="11"/>
                        </a:moveTo>
                        <a:lnTo>
                          <a:pt x="0" y="0"/>
                        </a:lnTo>
                        <a:lnTo>
                          <a:pt x="9" y="25"/>
                        </a:lnTo>
                        <a:lnTo>
                          <a:pt x="32" y="11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7979760" y="1837440"/>
                  <a:ext cx="70920" cy="70200"/>
                  <a:chOff x="7979760" y="1837440"/>
                  <a:chExt cx="70920" cy="7020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flipV="1">
                    <a:off x="7979760" y="1849680"/>
                    <a:ext cx="55080" cy="57960"/>
                  </a:xfrm>
                  <a:prstGeom prst="line">
                    <a:avLst/>
                  </a:prstGeom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7995600" y="1837440"/>
                    <a:ext cx="550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5">
                        <a:moveTo>
                          <a:pt x="27" y="25"/>
                        </a:moveTo>
                        <a:lnTo>
                          <a:pt x="31" y="0"/>
                        </a:lnTo>
                        <a:lnTo>
                          <a:pt x="0" y="14"/>
                        </a:lnTo>
                        <a:lnTo>
                          <a:pt x="27" y="25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5" name=""/>
              <p:cNvSpPr/>
              <p:nvPr/>
            </p:nvSpPr>
            <p:spPr>
              <a:xfrm flipV="1">
                <a:off x="7980120" y="1811880"/>
                <a:ext cx="1800" cy="1724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868160" y="1670040"/>
                <a:ext cx="2239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939080" y="1702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916400" y="1985040"/>
                <a:ext cx="119160" cy="180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980120" y="1824480"/>
                <a:ext cx="48240" cy="180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"/>
              <p:cNvGrpSpPr/>
              <p:nvPr/>
            </p:nvGrpSpPr>
            <p:grpSpPr>
              <a:xfrm>
                <a:off x="7987320" y="1568160"/>
                <a:ext cx="88920" cy="255600"/>
                <a:chOff x="7987320" y="1568160"/>
                <a:chExt cx="88920" cy="255600"/>
              </a:xfrm>
            </p:grpSpPr>
            <p:sp>
              <p:nvSpPr>
                <p:cNvPr id="751" name=""/>
                <p:cNvSpPr/>
                <p:nvPr/>
              </p:nvSpPr>
              <p:spPr>
                <a:xfrm flipV="1">
                  <a:off x="8028360" y="1600200"/>
                  <a:ext cx="1440" cy="2235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987320" y="1568160"/>
                  <a:ext cx="88920" cy="70920"/>
                </a:xfrm>
                <a:custGeom>
                  <a:avLst/>
                  <a:gdLst/>
                  <a:ahLst/>
                  <a:rect l="l" t="t" r="r" b="b"/>
                  <a:pathLst>
                    <a:path w="50" h="39">
                      <a:moveTo>
                        <a:pt x="50" y="39"/>
                      </a:moveTo>
                      <a:lnTo>
                        <a:pt x="27" y="0"/>
                      </a:lnTo>
                      <a:lnTo>
                        <a:pt x="0" y="39"/>
                      </a:lnTo>
                      <a:lnTo>
                        <a:pt x="27" y="28"/>
                      </a:lnTo>
                      <a:lnTo>
                        <a:pt x="50" y="3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"/>
              <p:cNvSpPr/>
              <p:nvPr/>
            </p:nvSpPr>
            <p:spPr>
              <a:xfrm>
                <a:off x="7795080" y="1972440"/>
                <a:ext cx="3524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866000" y="201060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1010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7907400" y="1875960"/>
                <a:ext cx="71640" cy="70200"/>
                <a:chOff x="7907400" y="1875960"/>
                <a:chExt cx="71640" cy="7020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flipV="1">
                  <a:off x="7922520" y="1888200"/>
                  <a:ext cx="56520" cy="57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907400" y="1875960"/>
                  <a:ext cx="56520" cy="450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32" y="11"/>
                      </a:moveTo>
                      <a:lnTo>
                        <a:pt x="0" y="0"/>
                      </a:lnTo>
                      <a:lnTo>
                        <a:pt x="9" y="25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7980120" y="1837440"/>
                <a:ext cx="70920" cy="70200"/>
                <a:chOff x="7980120" y="1837440"/>
                <a:chExt cx="70920" cy="70200"/>
              </a:xfrm>
            </p:grpSpPr>
            <p:sp>
              <p:nvSpPr>
                <p:cNvPr id="759" name=""/>
                <p:cNvSpPr/>
                <p:nvPr/>
              </p:nvSpPr>
              <p:spPr>
                <a:xfrm flipV="1">
                  <a:off x="7980120" y="1849680"/>
                  <a:ext cx="55080" cy="57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7995960" y="1837440"/>
                  <a:ext cx="55080" cy="4572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27" y="25"/>
                      </a:moveTo>
                      <a:lnTo>
                        <a:pt x="31" y="0"/>
                      </a:lnTo>
                      <a:lnTo>
                        <a:pt x="0" y="14"/>
                      </a:lnTo>
                      <a:lnTo>
                        <a:pt x="27" y="2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7907400" y="1875960"/>
                <a:ext cx="71640" cy="70200"/>
                <a:chOff x="7907400" y="1875960"/>
                <a:chExt cx="71640" cy="70200"/>
              </a:xfrm>
            </p:grpSpPr>
            <p:sp>
              <p:nvSpPr>
                <p:cNvPr id="762" name=""/>
                <p:cNvSpPr/>
                <p:nvPr/>
              </p:nvSpPr>
              <p:spPr>
                <a:xfrm flipH="1" flipV="1">
                  <a:off x="7922520" y="1888200"/>
                  <a:ext cx="56520" cy="57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907400" y="1875960"/>
                  <a:ext cx="56520" cy="450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32" y="11"/>
                      </a:moveTo>
                      <a:lnTo>
                        <a:pt x="0" y="0"/>
                      </a:lnTo>
                      <a:lnTo>
                        <a:pt x="9" y="25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7980120" y="1837440"/>
                <a:ext cx="70920" cy="70200"/>
                <a:chOff x="7980120" y="1837440"/>
                <a:chExt cx="70920" cy="70200"/>
              </a:xfrm>
            </p:grpSpPr>
            <p:sp>
              <p:nvSpPr>
                <p:cNvPr id="765" name=""/>
                <p:cNvSpPr/>
                <p:nvPr/>
              </p:nvSpPr>
              <p:spPr>
                <a:xfrm flipV="1">
                  <a:off x="7980120" y="1849680"/>
                  <a:ext cx="55080" cy="57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995960" y="1837440"/>
                  <a:ext cx="55080" cy="4572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27" y="25"/>
                      </a:moveTo>
                      <a:lnTo>
                        <a:pt x="31" y="0"/>
                      </a:lnTo>
                      <a:lnTo>
                        <a:pt x="0" y="14"/>
                      </a:lnTo>
                      <a:lnTo>
                        <a:pt x="27" y="2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 flipV="1">
                <a:off x="7980120" y="1811880"/>
                <a:ext cx="1800" cy="1724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868160" y="1670040"/>
                <a:ext cx="2239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939080" y="1702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916400" y="1985040"/>
                <a:ext cx="119160" cy="180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980120" y="1824480"/>
                <a:ext cx="48240" cy="180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7987320" y="1568160"/>
                <a:ext cx="88920" cy="255600"/>
                <a:chOff x="7987320" y="1568160"/>
                <a:chExt cx="88920" cy="255600"/>
              </a:xfrm>
            </p:grpSpPr>
            <p:sp>
              <p:nvSpPr>
                <p:cNvPr id="773" name=""/>
                <p:cNvSpPr/>
                <p:nvPr/>
              </p:nvSpPr>
              <p:spPr>
                <a:xfrm flipV="1">
                  <a:off x="8028360" y="1600200"/>
                  <a:ext cx="1440" cy="2235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987320" y="1568160"/>
                  <a:ext cx="88920" cy="70920"/>
                </a:xfrm>
                <a:custGeom>
                  <a:avLst/>
                  <a:gdLst/>
                  <a:ahLst/>
                  <a:rect l="l" t="t" r="r" b="b"/>
                  <a:pathLst>
                    <a:path w="50" h="39">
                      <a:moveTo>
                        <a:pt x="50" y="39"/>
                      </a:moveTo>
                      <a:lnTo>
                        <a:pt x="27" y="0"/>
                      </a:lnTo>
                      <a:lnTo>
                        <a:pt x="0" y="39"/>
                      </a:lnTo>
                      <a:lnTo>
                        <a:pt x="27" y="28"/>
                      </a:lnTo>
                      <a:lnTo>
                        <a:pt x="50" y="3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"/>
              <p:cNvSpPr/>
              <p:nvPr/>
            </p:nvSpPr>
            <p:spPr>
              <a:xfrm>
                <a:off x="7795080" y="1972440"/>
                <a:ext cx="3524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866000" y="201060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1010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7337520" y="1710360"/>
                <a:ext cx="441000" cy="190800"/>
                <a:chOff x="7337520" y="1710360"/>
                <a:chExt cx="441000" cy="1908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7337520" y="1710360"/>
                  <a:ext cx="384120" cy="17280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689960" y="1843200"/>
                  <a:ext cx="88560" cy="57960"/>
                </a:xfrm>
                <a:custGeom>
                  <a:avLst/>
                  <a:gdLst/>
                  <a:ahLst/>
                  <a:rect l="l" t="t" r="r" b="b"/>
                  <a:pathLst>
                    <a:path w="50" h="32">
                      <a:moveTo>
                        <a:pt x="0" y="32"/>
                      </a:moveTo>
                      <a:lnTo>
                        <a:pt x="50" y="32"/>
                      </a:lnTo>
                      <a:lnTo>
                        <a:pt x="23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689440" y="2017800"/>
                <a:ext cx="482040" cy="68400"/>
                <a:chOff x="5689440" y="2017800"/>
                <a:chExt cx="482040" cy="6840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689440" y="2048400"/>
                  <a:ext cx="40932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6082560" y="2017800"/>
                  <a:ext cx="88920" cy="6840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0" y="38"/>
                      </a:moveTo>
                      <a:lnTo>
                        <a:pt x="50" y="21"/>
                      </a:lnTo>
                      <a:lnTo>
                        <a:pt x="0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6646320" y="3048840"/>
                <a:ext cx="457200" cy="141480"/>
                <a:chOff x="6646320" y="3048840"/>
                <a:chExt cx="457200" cy="14148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6646320" y="3048840"/>
                  <a:ext cx="384120" cy="1033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991560" y="3114360"/>
                  <a:ext cx="111960" cy="75960"/>
                </a:xfrm>
                <a:custGeom>
                  <a:avLst/>
                  <a:gdLst/>
                  <a:ahLst/>
                  <a:rect l="l" t="t" r="r" b="b"/>
                  <a:pathLst>
                    <a:path w="63" h="42">
                      <a:moveTo>
                        <a:pt x="0" y="42"/>
                      </a:moveTo>
                      <a:lnTo>
                        <a:pt x="63" y="38"/>
                      </a:lnTo>
                      <a:lnTo>
                        <a:pt x="22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6621120" y="2567880"/>
                <a:ext cx="305640" cy="230400"/>
                <a:chOff x="6621120" y="2567880"/>
                <a:chExt cx="305640" cy="230400"/>
              </a:xfrm>
            </p:grpSpPr>
            <p:sp>
              <p:nvSpPr>
                <p:cNvPr id="787" name=""/>
                <p:cNvSpPr/>
                <p:nvPr/>
              </p:nvSpPr>
              <p:spPr>
                <a:xfrm flipV="1">
                  <a:off x="6621120" y="2599920"/>
                  <a:ext cx="264960" cy="198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838200" y="2567880"/>
                  <a:ext cx="88560" cy="77760"/>
                </a:xfrm>
                <a:custGeom>
                  <a:avLst/>
                  <a:gdLst/>
                  <a:ahLst/>
                  <a:rect l="l" t="t" r="r" b="b"/>
                  <a:pathLst>
                    <a:path w="50" h="43">
                      <a:moveTo>
                        <a:pt x="36" y="43"/>
                      </a:moveTo>
                      <a:lnTo>
                        <a:pt x="50" y="0"/>
                      </a:lnTo>
                      <a:lnTo>
                        <a:pt x="0" y="14"/>
                      </a:lnTo>
                      <a:lnTo>
                        <a:pt x="36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7392240" y="2478960"/>
                <a:ext cx="385920" cy="166680"/>
                <a:chOff x="7392240" y="2478960"/>
                <a:chExt cx="385920" cy="16668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7392240" y="2478960"/>
                  <a:ext cx="329040" cy="1468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689600" y="2587680"/>
                  <a:ext cx="88560" cy="57960"/>
                </a:xfrm>
                <a:custGeom>
                  <a:avLst/>
                  <a:gdLst/>
                  <a:ahLst/>
                  <a:rect l="l" t="t" r="r" b="b"/>
                  <a:pathLst>
                    <a:path w="50" h="32">
                      <a:moveTo>
                        <a:pt x="0" y="32"/>
                      </a:moveTo>
                      <a:lnTo>
                        <a:pt x="50" y="32"/>
                      </a:lnTo>
                      <a:lnTo>
                        <a:pt x="23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7488360" y="2901240"/>
                <a:ext cx="306000" cy="230400"/>
                <a:chOff x="7488360" y="2901240"/>
                <a:chExt cx="306000" cy="230400"/>
              </a:xfrm>
            </p:grpSpPr>
            <p:sp>
              <p:nvSpPr>
                <p:cNvPr id="793" name=""/>
                <p:cNvSpPr/>
                <p:nvPr/>
              </p:nvSpPr>
              <p:spPr>
                <a:xfrm flipV="1">
                  <a:off x="7488360" y="2933280"/>
                  <a:ext cx="264960" cy="198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705440" y="2901240"/>
                  <a:ext cx="88920" cy="77760"/>
                </a:xfrm>
                <a:custGeom>
                  <a:avLst/>
                  <a:gdLst/>
                  <a:ahLst/>
                  <a:rect l="l" t="t" r="r" b="b"/>
                  <a:pathLst>
                    <a:path w="50" h="43">
                      <a:moveTo>
                        <a:pt x="36" y="43"/>
                      </a:moveTo>
                      <a:lnTo>
                        <a:pt x="50" y="0"/>
                      </a:lnTo>
                      <a:lnTo>
                        <a:pt x="0" y="15"/>
                      </a:lnTo>
                      <a:lnTo>
                        <a:pt x="36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6492600" y="4422240"/>
                <a:ext cx="402120" cy="301680"/>
                <a:chOff x="6492600" y="4422240"/>
                <a:chExt cx="402120" cy="30168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6492600" y="4422240"/>
                  <a:ext cx="361440" cy="261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805800" y="4645800"/>
                  <a:ext cx="88920" cy="78120"/>
                </a:xfrm>
                <a:custGeom>
                  <a:avLst/>
                  <a:gdLst/>
                  <a:ahLst/>
                  <a:rect l="l" t="t" r="r" b="b"/>
                  <a:pathLst>
                    <a:path w="50" h="43">
                      <a:moveTo>
                        <a:pt x="0" y="28"/>
                      </a:moveTo>
                      <a:lnTo>
                        <a:pt x="50" y="43"/>
                      </a:lnTo>
                      <a:lnTo>
                        <a:pt x="36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451920" y="4121280"/>
                <a:ext cx="539280" cy="68760"/>
                <a:chOff x="6451920" y="4121280"/>
                <a:chExt cx="539280" cy="6876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451920" y="4151880"/>
                  <a:ext cx="4752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911280" y="4121280"/>
                  <a:ext cx="79920" cy="68760"/>
                </a:xfrm>
                <a:custGeom>
                  <a:avLst/>
                  <a:gdLst/>
                  <a:ahLst/>
                  <a:rect l="l" t="t" r="r" b="b"/>
                  <a:pathLst>
                    <a:path w="45" h="38">
                      <a:moveTo>
                        <a:pt x="0" y="38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1" name=""/>
              <p:cNvSpPr/>
              <p:nvPr/>
            </p:nvSpPr>
            <p:spPr>
              <a:xfrm>
                <a:off x="7801920" y="5070600"/>
                <a:ext cx="377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883640" y="509580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11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7971120" y="4806000"/>
                <a:ext cx="1800" cy="2696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75000" y="4658760"/>
                <a:ext cx="2170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955280" y="4704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916400" y="5076000"/>
                <a:ext cx="11916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7907400" y="4915800"/>
                <a:ext cx="143280" cy="115200"/>
                <a:chOff x="7907400" y="4915800"/>
                <a:chExt cx="143280" cy="115200"/>
              </a:xfrm>
            </p:grpSpPr>
            <p:grpSp>
              <p:nvGrpSpPr>
                <p:cNvPr id="808" name=""/>
                <p:cNvGrpSpPr/>
                <p:nvPr/>
              </p:nvGrpSpPr>
              <p:grpSpPr>
                <a:xfrm>
                  <a:off x="7907400" y="4953600"/>
                  <a:ext cx="71640" cy="77400"/>
                  <a:chOff x="7907400" y="4953600"/>
                  <a:chExt cx="71640" cy="7740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 flipH="1" flipV="1">
                    <a:off x="7922520" y="4973400"/>
                    <a:ext cx="56520" cy="57600"/>
                  </a:xfrm>
                  <a:prstGeom prst="line">
                    <a:avLst/>
                  </a:prstGeom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7907400" y="4953600"/>
                    <a:ext cx="565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8">
                        <a:moveTo>
                          <a:pt x="32" y="14"/>
                        </a:moveTo>
                        <a:lnTo>
                          <a:pt x="0" y="0"/>
                        </a:lnTo>
                        <a:lnTo>
                          <a:pt x="9" y="28"/>
                        </a:lnTo>
                        <a:lnTo>
                          <a:pt x="32" y="1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7979760" y="4915800"/>
                  <a:ext cx="70920" cy="75600"/>
                  <a:chOff x="7979760" y="4915800"/>
                  <a:chExt cx="70920" cy="7560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 flipV="1">
                    <a:off x="7979760" y="4935240"/>
                    <a:ext cx="55080" cy="56160"/>
                  </a:xfrm>
                  <a:prstGeom prst="line">
                    <a:avLst/>
                  </a:prstGeom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7995600" y="4915800"/>
                    <a:ext cx="5508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8">
                        <a:moveTo>
                          <a:pt x="27" y="28"/>
                        </a:moveTo>
                        <a:lnTo>
                          <a:pt x="31" y="0"/>
                        </a:lnTo>
                        <a:lnTo>
                          <a:pt x="0" y="18"/>
                        </a:lnTo>
                        <a:lnTo>
                          <a:pt x="27" y="2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7868160" y="4793400"/>
                <a:ext cx="214920" cy="103680"/>
                <a:chOff x="7868160" y="4793400"/>
                <a:chExt cx="214920" cy="10368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7868160" y="4793400"/>
                  <a:ext cx="111600" cy="5112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14" y="8"/>
                      </a:moveTo>
                      <a:cubicBezTo>
                        <a:pt x="13" y="8"/>
                        <a:pt x="12" y="7"/>
                        <a:pt x="11" y="7"/>
                      </a:cubicBezTo>
                      <a:cubicBezTo>
                        <a:pt x="10" y="7"/>
                        <a:pt x="7" y="6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79760" y="4844520"/>
                  <a:ext cx="103320" cy="5256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8"/>
                      </a:moveTo>
                      <a:cubicBezTo>
                        <a:pt x="0" y="8"/>
                        <a:pt x="1" y="7"/>
                        <a:pt x="2" y="7"/>
                      </a:cubicBezTo>
                      <a:cubicBezTo>
                        <a:pt x="4" y="7"/>
                        <a:pt x="6" y="6"/>
                        <a:pt x="8" y="6"/>
                      </a:cubicBezTo>
                      <a:cubicBezTo>
                        <a:pt x="9" y="5"/>
                        <a:pt x="11" y="4"/>
                        <a:pt x="12" y="3"/>
                      </a:cubicBezTo>
                      <a:cubicBezTo>
                        <a:pt x="13" y="2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7801920" y="5070600"/>
                <a:ext cx="377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883640" y="509580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11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7971120" y="4806000"/>
                <a:ext cx="1800" cy="2696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875000" y="4658760"/>
                <a:ext cx="2170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955280" y="4704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916400" y="5076000"/>
                <a:ext cx="11916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3" name=""/>
              <p:cNvGrpSpPr/>
              <p:nvPr/>
            </p:nvGrpSpPr>
            <p:grpSpPr>
              <a:xfrm>
                <a:off x="7907400" y="4953600"/>
                <a:ext cx="71640" cy="77400"/>
                <a:chOff x="7907400" y="4953600"/>
                <a:chExt cx="71640" cy="77400"/>
              </a:xfrm>
            </p:grpSpPr>
            <p:sp>
              <p:nvSpPr>
                <p:cNvPr id="824" name=""/>
                <p:cNvSpPr/>
                <p:nvPr/>
              </p:nvSpPr>
              <p:spPr>
                <a:xfrm flipH="1" flipV="1">
                  <a:off x="7922520" y="4973400"/>
                  <a:ext cx="56520" cy="5760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907400" y="4953600"/>
                  <a:ext cx="56520" cy="5076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32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2" y="1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980120" y="4915800"/>
                <a:ext cx="70920" cy="75600"/>
                <a:chOff x="7980120" y="4915800"/>
                <a:chExt cx="70920" cy="75600"/>
              </a:xfrm>
            </p:grpSpPr>
            <p:sp>
              <p:nvSpPr>
                <p:cNvPr id="827" name=""/>
                <p:cNvSpPr/>
                <p:nvPr/>
              </p:nvSpPr>
              <p:spPr>
                <a:xfrm flipV="1">
                  <a:off x="7980120" y="4935240"/>
                  <a:ext cx="55080" cy="561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995960" y="4915800"/>
                  <a:ext cx="55080" cy="5040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27" y="28"/>
                      </a:moveTo>
                      <a:lnTo>
                        <a:pt x="31" y="0"/>
                      </a:lnTo>
                      <a:lnTo>
                        <a:pt x="0" y="18"/>
                      </a:lnTo>
                      <a:lnTo>
                        <a:pt x="27" y="2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7907400" y="4953600"/>
                <a:ext cx="71640" cy="77400"/>
                <a:chOff x="7907400" y="4953600"/>
                <a:chExt cx="71640" cy="77400"/>
              </a:xfrm>
            </p:grpSpPr>
            <p:sp>
              <p:nvSpPr>
                <p:cNvPr id="830" name=""/>
                <p:cNvSpPr/>
                <p:nvPr/>
              </p:nvSpPr>
              <p:spPr>
                <a:xfrm flipH="1" flipV="1">
                  <a:off x="7922520" y="4973400"/>
                  <a:ext cx="56520" cy="5760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7907400" y="4953600"/>
                  <a:ext cx="56520" cy="5076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32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2" y="1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80120" y="4915800"/>
                <a:ext cx="70920" cy="75600"/>
                <a:chOff x="7980120" y="4915800"/>
                <a:chExt cx="70920" cy="75600"/>
              </a:xfrm>
            </p:grpSpPr>
            <p:sp>
              <p:nvSpPr>
                <p:cNvPr id="833" name=""/>
                <p:cNvSpPr/>
                <p:nvPr/>
              </p:nvSpPr>
              <p:spPr>
                <a:xfrm flipV="1">
                  <a:off x="7980120" y="4935240"/>
                  <a:ext cx="55080" cy="561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960" y="4915800"/>
                  <a:ext cx="55080" cy="5040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27" y="28"/>
                      </a:moveTo>
                      <a:lnTo>
                        <a:pt x="31" y="0"/>
                      </a:lnTo>
                      <a:lnTo>
                        <a:pt x="0" y="18"/>
                      </a:lnTo>
                      <a:lnTo>
                        <a:pt x="27" y="2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5" name=""/>
              <p:cNvSpPr/>
              <p:nvPr/>
            </p:nvSpPr>
            <p:spPr>
              <a:xfrm>
                <a:off x="7868160" y="4793400"/>
                <a:ext cx="111600" cy="511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8"/>
                    </a:moveTo>
                    <a:cubicBezTo>
                      <a:pt x="13" y="8"/>
                      <a:pt x="12" y="7"/>
                      <a:pt x="11" y="7"/>
                    </a:cubicBezTo>
                    <a:cubicBezTo>
                      <a:pt x="10" y="7"/>
                      <a:pt x="7" y="6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980120" y="4844520"/>
                <a:ext cx="103320" cy="525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8"/>
                    </a:moveTo>
                    <a:cubicBezTo>
                      <a:pt x="0" y="8"/>
                      <a:pt x="1" y="7"/>
                      <a:pt x="2" y="7"/>
                    </a:cubicBezTo>
                    <a:cubicBezTo>
                      <a:pt x="4" y="7"/>
                      <a:pt x="6" y="6"/>
                      <a:pt x="8" y="6"/>
                    </a:cubicBezTo>
                    <a:cubicBezTo>
                      <a:pt x="9" y="5"/>
                      <a:pt x="11" y="4"/>
                      <a:pt x="12" y="3"/>
                    </a:cubicBezTo>
                    <a:cubicBezTo>
                      <a:pt x="13" y="2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868160" y="4793400"/>
                <a:ext cx="111600" cy="511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8"/>
                    </a:moveTo>
                    <a:cubicBezTo>
                      <a:pt x="13" y="8"/>
                      <a:pt x="12" y="7"/>
                      <a:pt x="11" y="7"/>
                    </a:cubicBezTo>
                    <a:cubicBezTo>
                      <a:pt x="10" y="7"/>
                      <a:pt x="7" y="6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980120" y="4844520"/>
                <a:ext cx="103320" cy="525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8"/>
                    </a:moveTo>
                    <a:cubicBezTo>
                      <a:pt x="0" y="8"/>
                      <a:pt x="1" y="7"/>
                      <a:pt x="2" y="7"/>
                    </a:cubicBezTo>
                    <a:cubicBezTo>
                      <a:pt x="4" y="7"/>
                      <a:pt x="6" y="6"/>
                      <a:pt x="8" y="6"/>
                    </a:cubicBezTo>
                    <a:cubicBezTo>
                      <a:pt x="9" y="5"/>
                      <a:pt x="11" y="4"/>
                      <a:pt x="12" y="3"/>
                    </a:cubicBezTo>
                    <a:cubicBezTo>
                      <a:pt x="13" y="2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"/>
              <p:cNvGrpSpPr/>
              <p:nvPr/>
            </p:nvGrpSpPr>
            <p:grpSpPr>
              <a:xfrm>
                <a:off x="7344360" y="4961160"/>
                <a:ext cx="482400" cy="70560"/>
                <a:chOff x="7344360" y="4961160"/>
                <a:chExt cx="482400" cy="7056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344360" y="4991760"/>
                  <a:ext cx="40932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738200" y="4961160"/>
                  <a:ext cx="88560" cy="70560"/>
                </a:xfrm>
                <a:custGeom>
                  <a:avLst/>
                  <a:gdLst/>
                  <a:ahLst/>
                  <a:rect l="l" t="t" r="r" b="b"/>
                  <a:pathLst>
                    <a:path w="50" h="39">
                      <a:moveTo>
                        <a:pt x="0" y="39"/>
                      </a:moveTo>
                      <a:lnTo>
                        <a:pt x="50" y="17"/>
                      </a:lnTo>
                      <a:lnTo>
                        <a:pt x="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8179560" y="5210640"/>
                <a:ext cx="433800" cy="235800"/>
                <a:chOff x="8179560" y="5210640"/>
                <a:chExt cx="433800" cy="235800"/>
              </a:xfrm>
            </p:grpSpPr>
            <p:sp>
              <p:nvSpPr>
                <p:cNvPr id="843" name=""/>
                <p:cNvSpPr/>
                <p:nvPr/>
              </p:nvSpPr>
              <p:spPr>
                <a:xfrm flipV="1">
                  <a:off x="8179560" y="5235840"/>
                  <a:ext cx="379440" cy="21060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517600" y="5210640"/>
                  <a:ext cx="95760" cy="70920"/>
                </a:xfrm>
                <a:custGeom>
                  <a:avLst/>
                  <a:gdLst/>
                  <a:ahLst/>
                  <a:rect l="l" t="t" r="r" b="b"/>
                  <a:pathLst>
                    <a:path w="54" h="39">
                      <a:moveTo>
                        <a:pt x="27" y="39"/>
                      </a:moveTo>
                      <a:lnTo>
                        <a:pt x="54" y="0"/>
                      </a:lnTo>
                      <a:lnTo>
                        <a:pt x="0" y="11"/>
                      </a:lnTo>
                      <a:lnTo>
                        <a:pt x="27" y="39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8179560" y="4948200"/>
                <a:ext cx="370080" cy="68760"/>
                <a:chOff x="8179560" y="4948200"/>
                <a:chExt cx="370080" cy="6876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8179560" y="4978800"/>
                  <a:ext cx="297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460720" y="4948200"/>
                  <a:ext cx="88920" cy="6876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0" y="38"/>
                      </a:moveTo>
                      <a:lnTo>
                        <a:pt x="50" y="17"/>
                      </a:lnTo>
                      <a:lnTo>
                        <a:pt x="0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7369200" y="5248800"/>
                <a:ext cx="360720" cy="217440"/>
                <a:chOff x="7369200" y="5248800"/>
                <a:chExt cx="360720" cy="217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7369200" y="5248800"/>
                  <a:ext cx="304200" cy="1850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634160" y="5395680"/>
                  <a:ext cx="95760" cy="70560"/>
                </a:xfrm>
                <a:custGeom>
                  <a:avLst/>
                  <a:gdLst/>
                  <a:ahLst/>
                  <a:rect l="l" t="t" r="r" b="b"/>
                  <a:pathLst>
                    <a:path w="54" h="39">
                      <a:moveTo>
                        <a:pt x="0" y="28"/>
                      </a:moveTo>
                      <a:lnTo>
                        <a:pt x="54" y="39"/>
                      </a:lnTo>
                      <a:lnTo>
                        <a:pt x="27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"/>
              <p:cNvSpPr/>
              <p:nvPr/>
            </p:nvSpPr>
            <p:spPr>
              <a:xfrm flipV="1">
                <a:off x="7126920" y="867960"/>
                <a:ext cx="1800" cy="2696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30800" y="728640"/>
                <a:ext cx="2098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103520" y="766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62480" y="1138320"/>
                <a:ext cx="12996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943320" y="1132920"/>
                <a:ext cx="377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29720" y="115812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00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7126920" y="867960"/>
                <a:ext cx="1800" cy="2696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030800" y="728640"/>
                <a:ext cx="2098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103520" y="766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062480" y="1138320"/>
                <a:ext cx="12996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43320" y="1132920"/>
                <a:ext cx="377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029720" y="115812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00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868160" y="2934000"/>
                <a:ext cx="36828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947000" y="29667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0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8035560" y="2671200"/>
                <a:ext cx="1800" cy="2696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939440" y="2529720"/>
                <a:ext cx="2084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019360" y="25696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980120" y="2941560"/>
                <a:ext cx="11952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7971120" y="2780640"/>
                <a:ext cx="136800" cy="113760"/>
                <a:chOff x="7971120" y="2780640"/>
                <a:chExt cx="136800" cy="113760"/>
              </a:xfrm>
            </p:grpSpPr>
            <p:sp>
              <p:nvSpPr>
                <p:cNvPr id="870" name=""/>
                <p:cNvSpPr/>
                <p:nvPr/>
              </p:nvSpPr>
              <p:spPr>
                <a:xfrm flipH="1" flipV="1">
                  <a:off x="7971120" y="2818440"/>
                  <a:ext cx="7272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8043840" y="2780640"/>
                  <a:ext cx="6408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2" name=""/>
              <p:cNvSpPr/>
              <p:nvPr/>
            </p:nvSpPr>
            <p:spPr>
              <a:xfrm>
                <a:off x="7827120" y="2671560"/>
                <a:ext cx="2242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07040" y="2710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012520" y="2633400"/>
                <a:ext cx="2239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092440" y="2671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68160" y="2934000"/>
                <a:ext cx="36828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947000" y="29667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0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8035560" y="2671200"/>
                <a:ext cx="1800" cy="2696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39440" y="2529720"/>
                <a:ext cx="2084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19360" y="25696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980120" y="2941560"/>
                <a:ext cx="11952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7970760" y="2819160"/>
                <a:ext cx="73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8044200" y="2781000"/>
                <a:ext cx="64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 flipV="1">
                <a:off x="7970760" y="2819160"/>
                <a:ext cx="73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8044200" y="2781000"/>
                <a:ext cx="64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827120" y="2671560"/>
                <a:ext cx="2242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907040" y="2710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12520" y="2633400"/>
                <a:ext cx="2239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092440" y="2671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7167960" y="2234520"/>
                <a:ext cx="1440" cy="4042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111080" y="2639160"/>
                <a:ext cx="12060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55640" y="2081520"/>
                <a:ext cx="2239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135560" y="2126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7103880" y="2465640"/>
                <a:ext cx="136440" cy="113760"/>
                <a:chOff x="7103880" y="2465640"/>
                <a:chExt cx="136440" cy="113760"/>
              </a:xfrm>
            </p:grpSpPr>
            <p:sp>
              <p:nvSpPr>
                <p:cNvPr id="895" name=""/>
                <p:cNvSpPr/>
                <p:nvPr/>
              </p:nvSpPr>
              <p:spPr>
                <a:xfrm flipH="1" flipV="1">
                  <a:off x="7103880" y="2503440"/>
                  <a:ext cx="6408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V="1">
                  <a:off x="7167960" y="2465640"/>
                  <a:ext cx="7236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"/>
              <p:cNvSpPr/>
              <p:nvPr/>
            </p:nvSpPr>
            <p:spPr>
              <a:xfrm>
                <a:off x="6966360" y="2633400"/>
                <a:ext cx="3776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055280" y="26643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0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966360" y="2369520"/>
                <a:ext cx="2260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46640" y="2409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183800" y="2343960"/>
                <a:ext cx="2242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256520" y="2389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7167960" y="2234520"/>
                <a:ext cx="1440" cy="4042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111080" y="2639160"/>
                <a:ext cx="12060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055640" y="2081520"/>
                <a:ext cx="2239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135560" y="2126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 flipV="1">
                <a:off x="7103880" y="2504160"/>
                <a:ext cx="64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7167960" y="2466000"/>
                <a:ext cx="7236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flipV="1">
                <a:off x="7103880" y="2504160"/>
                <a:ext cx="64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7167960" y="2466000"/>
                <a:ext cx="7236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966360" y="2633400"/>
                <a:ext cx="3776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055280" y="26643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0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966360" y="2369520"/>
                <a:ext cx="2260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046640" y="2409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183800" y="2343960"/>
                <a:ext cx="2242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256520" y="2389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6468120" y="3722400"/>
                <a:ext cx="378720" cy="147240"/>
                <a:chOff x="6468120" y="3722400"/>
                <a:chExt cx="378720" cy="147240"/>
              </a:xfrm>
            </p:grpSpPr>
            <p:sp>
              <p:nvSpPr>
                <p:cNvPr id="918" name=""/>
                <p:cNvSpPr/>
                <p:nvPr/>
              </p:nvSpPr>
              <p:spPr>
                <a:xfrm flipV="1">
                  <a:off x="6468120" y="3735000"/>
                  <a:ext cx="321840" cy="1346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757920" y="3722400"/>
                  <a:ext cx="88920" cy="57960"/>
                </a:xfrm>
                <a:custGeom>
                  <a:avLst/>
                  <a:gdLst/>
                  <a:ahLst/>
                  <a:rect l="l" t="t" r="r" b="b"/>
                  <a:pathLst>
                    <a:path w="50" h="32">
                      <a:moveTo>
                        <a:pt x="22" y="32"/>
                      </a:moveTo>
                      <a:lnTo>
                        <a:pt x="50" y="0"/>
                      </a:lnTo>
                      <a:lnTo>
                        <a:pt x="0" y="0"/>
                      </a:lnTo>
                      <a:lnTo>
                        <a:pt x="22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0" name=""/>
              <p:cNvSpPr/>
              <p:nvPr/>
            </p:nvSpPr>
            <p:spPr>
              <a:xfrm>
                <a:off x="6781320" y="3864600"/>
                <a:ext cx="37908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61960" y="38955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110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6959520" y="3452760"/>
                <a:ext cx="1440" cy="4042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902640" y="3857400"/>
                <a:ext cx="12060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847200" y="3305880"/>
                <a:ext cx="224280" cy="17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928200" y="3345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"/>
              <p:cNvGrpSpPr/>
              <p:nvPr/>
            </p:nvGrpSpPr>
            <p:grpSpPr>
              <a:xfrm>
                <a:off x="6847200" y="3503880"/>
                <a:ext cx="214920" cy="109080"/>
                <a:chOff x="6847200" y="3503880"/>
                <a:chExt cx="214920" cy="10908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6847200" y="3503880"/>
                  <a:ext cx="111960" cy="579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9"/>
                        <a:pt x="12" y="8"/>
                        <a:pt x="11" y="8"/>
                      </a:cubicBezTo>
                      <a:cubicBezTo>
                        <a:pt x="10" y="7"/>
                        <a:pt x="8" y="7"/>
                        <a:pt x="6" y="6"/>
                      </a:cubicBezTo>
                      <a:cubicBezTo>
                        <a:pt x="4" y="6"/>
                        <a:pt x="2" y="4"/>
                        <a:pt x="1" y="3"/>
                      </a:cubicBezTo>
                      <a:cubicBezTo>
                        <a:pt x="0" y="3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959160" y="3556440"/>
                  <a:ext cx="102960" cy="565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9"/>
                        <a:pt x="1" y="8"/>
                        <a:pt x="3" y="8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6"/>
                        <a:pt x="11" y="4"/>
                        <a:pt x="12" y="3"/>
                      </a:cubicBezTo>
                      <a:cubicBezTo>
                        <a:pt x="13" y="3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6468120" y="3722400"/>
                <a:ext cx="378720" cy="147240"/>
                <a:chOff x="6468120" y="3722400"/>
                <a:chExt cx="378720" cy="147240"/>
              </a:xfrm>
            </p:grpSpPr>
            <p:sp>
              <p:nvSpPr>
                <p:cNvPr id="930" name=""/>
                <p:cNvSpPr/>
                <p:nvPr/>
              </p:nvSpPr>
              <p:spPr>
                <a:xfrm flipV="1">
                  <a:off x="6468120" y="3735000"/>
                  <a:ext cx="321840" cy="1346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757920" y="3722400"/>
                  <a:ext cx="88920" cy="57960"/>
                </a:xfrm>
                <a:custGeom>
                  <a:avLst/>
                  <a:gdLst/>
                  <a:ahLst/>
                  <a:rect l="l" t="t" r="r" b="b"/>
                  <a:pathLst>
                    <a:path w="50" h="32">
                      <a:moveTo>
                        <a:pt x="22" y="32"/>
                      </a:moveTo>
                      <a:lnTo>
                        <a:pt x="50" y="0"/>
                      </a:lnTo>
                      <a:lnTo>
                        <a:pt x="0" y="0"/>
                      </a:lnTo>
                      <a:lnTo>
                        <a:pt x="22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>
                <a:off x="6781320" y="3864600"/>
                <a:ext cx="37908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61960" y="38955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110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6959520" y="3452760"/>
                <a:ext cx="1440" cy="4042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902640" y="3857400"/>
                <a:ext cx="12060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847200" y="3305880"/>
                <a:ext cx="224280" cy="17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928200" y="3345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847200" y="3503880"/>
                <a:ext cx="111960" cy="579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959520" y="3556800"/>
                <a:ext cx="102960" cy="565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9"/>
                      <a:pt x="1" y="8"/>
                      <a:pt x="3" y="8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6"/>
                      <a:pt x="11" y="4"/>
                      <a:pt x="12" y="3"/>
                    </a:cubicBezTo>
                    <a:cubicBezTo>
                      <a:pt x="13" y="3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47200" y="3503880"/>
                <a:ext cx="111960" cy="579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959520" y="3556800"/>
                <a:ext cx="102960" cy="565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9"/>
                      <a:pt x="1" y="8"/>
                      <a:pt x="3" y="8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6"/>
                      <a:pt x="11" y="4"/>
                      <a:pt x="12" y="3"/>
                    </a:cubicBezTo>
                    <a:cubicBezTo>
                      <a:pt x="13" y="3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2" name=""/>
              <p:cNvGrpSpPr/>
              <p:nvPr/>
            </p:nvGrpSpPr>
            <p:grpSpPr>
              <a:xfrm>
                <a:off x="6468120" y="3722400"/>
                <a:ext cx="378720" cy="147240"/>
                <a:chOff x="6468120" y="3722400"/>
                <a:chExt cx="378720" cy="147240"/>
              </a:xfrm>
            </p:grpSpPr>
            <p:sp>
              <p:nvSpPr>
                <p:cNvPr id="943" name=""/>
                <p:cNvSpPr/>
                <p:nvPr/>
              </p:nvSpPr>
              <p:spPr>
                <a:xfrm flipV="1">
                  <a:off x="6468120" y="3735000"/>
                  <a:ext cx="321840" cy="1346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757920" y="3722400"/>
                  <a:ext cx="88920" cy="57960"/>
                </a:xfrm>
                <a:custGeom>
                  <a:avLst/>
                  <a:gdLst/>
                  <a:ahLst/>
                  <a:rect l="l" t="t" r="r" b="b"/>
                  <a:pathLst>
                    <a:path w="50" h="32">
                      <a:moveTo>
                        <a:pt x="22" y="32"/>
                      </a:moveTo>
                      <a:lnTo>
                        <a:pt x="50" y="0"/>
                      </a:lnTo>
                      <a:lnTo>
                        <a:pt x="0" y="0"/>
                      </a:lnTo>
                      <a:lnTo>
                        <a:pt x="22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6959520" y="4467600"/>
                <a:ext cx="368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29720" y="44931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1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7143120" y="4075920"/>
                <a:ext cx="1440" cy="3967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078680" y="4473000"/>
                <a:ext cx="129960" cy="180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030800" y="3921120"/>
                <a:ext cx="2098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111440" y="3961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7030800" y="4126680"/>
                <a:ext cx="216720" cy="101520"/>
                <a:chOff x="7030800" y="4126680"/>
                <a:chExt cx="216720" cy="1015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7030800" y="4126680"/>
                  <a:ext cx="104760" cy="511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3" y="8"/>
                      </a:moveTo>
                      <a:cubicBezTo>
                        <a:pt x="13" y="8"/>
                        <a:pt x="12" y="7"/>
                        <a:pt x="11" y="7"/>
                      </a:cubicBezTo>
                      <a:cubicBezTo>
                        <a:pt x="9" y="7"/>
                        <a:pt x="7" y="6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135560" y="4177800"/>
                  <a:ext cx="111960" cy="5040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8"/>
                      </a:moveTo>
                      <a:cubicBezTo>
                        <a:pt x="1" y="8"/>
                        <a:pt x="2" y="7"/>
                        <a:pt x="3" y="7"/>
                      </a:cubicBezTo>
                      <a:cubicBezTo>
                        <a:pt x="5" y="7"/>
                        <a:pt x="7" y="6"/>
                        <a:pt x="8" y="6"/>
                      </a:cubicBezTo>
                      <a:cubicBezTo>
                        <a:pt x="10" y="5"/>
                        <a:pt x="12" y="4"/>
                        <a:pt x="13" y="3"/>
                      </a:cubicBezTo>
                      <a:cubicBezTo>
                        <a:pt x="14" y="2"/>
                        <a:pt x="14" y="1"/>
                        <a:pt x="14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4" name=""/>
              <p:cNvSpPr/>
              <p:nvPr/>
            </p:nvSpPr>
            <p:spPr>
              <a:xfrm>
                <a:off x="6959520" y="4467600"/>
                <a:ext cx="368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029720" y="44931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1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7143120" y="4075920"/>
                <a:ext cx="1440" cy="3967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078680" y="4473000"/>
                <a:ext cx="129960" cy="180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030800" y="3921120"/>
                <a:ext cx="2098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111440" y="3961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030800" y="4126680"/>
                <a:ext cx="104760" cy="511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8"/>
                    </a:moveTo>
                    <a:cubicBezTo>
                      <a:pt x="13" y="8"/>
                      <a:pt x="12" y="7"/>
                      <a:pt x="11" y="7"/>
                    </a:cubicBezTo>
                    <a:cubicBezTo>
                      <a:pt x="9" y="7"/>
                      <a:pt x="7" y="6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135920" y="4178160"/>
                <a:ext cx="111960" cy="50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cubicBezTo>
                      <a:pt x="1" y="8"/>
                      <a:pt x="2" y="7"/>
                      <a:pt x="3" y="7"/>
                    </a:cubicBezTo>
                    <a:cubicBezTo>
                      <a:pt x="5" y="7"/>
                      <a:pt x="7" y="6"/>
                      <a:pt x="8" y="6"/>
                    </a:cubicBezTo>
                    <a:cubicBezTo>
                      <a:pt x="10" y="5"/>
                      <a:pt x="12" y="4"/>
                      <a:pt x="13" y="3"/>
                    </a:cubicBezTo>
                    <a:cubicBezTo>
                      <a:pt x="14" y="2"/>
                      <a:pt x="14" y="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030800" y="4126680"/>
                <a:ext cx="104760" cy="511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8"/>
                    </a:moveTo>
                    <a:cubicBezTo>
                      <a:pt x="13" y="8"/>
                      <a:pt x="12" y="7"/>
                      <a:pt x="11" y="7"/>
                    </a:cubicBezTo>
                    <a:cubicBezTo>
                      <a:pt x="9" y="7"/>
                      <a:pt x="7" y="6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135920" y="4178160"/>
                <a:ext cx="111960" cy="50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cubicBezTo>
                      <a:pt x="1" y="8"/>
                      <a:pt x="2" y="7"/>
                      <a:pt x="3" y="7"/>
                    </a:cubicBezTo>
                    <a:cubicBezTo>
                      <a:pt x="5" y="7"/>
                      <a:pt x="7" y="6"/>
                      <a:pt x="8" y="6"/>
                    </a:cubicBezTo>
                    <a:cubicBezTo>
                      <a:pt x="10" y="5"/>
                      <a:pt x="12" y="4"/>
                      <a:pt x="13" y="3"/>
                    </a:cubicBezTo>
                    <a:cubicBezTo>
                      <a:pt x="14" y="2"/>
                      <a:pt x="14" y="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671320" y="5185080"/>
                <a:ext cx="37764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758800" y="52178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1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8855280" y="4928400"/>
                <a:ext cx="1440" cy="2692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751600" y="4780440"/>
                <a:ext cx="2239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832600" y="4826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790840" y="5197680"/>
                <a:ext cx="120960" cy="180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0" name=""/>
              <p:cNvGrpSpPr/>
              <p:nvPr/>
            </p:nvGrpSpPr>
            <p:grpSpPr>
              <a:xfrm>
                <a:off x="8783640" y="5037120"/>
                <a:ext cx="136800" cy="114120"/>
                <a:chOff x="8783640" y="5037120"/>
                <a:chExt cx="136800" cy="114120"/>
              </a:xfrm>
            </p:grpSpPr>
            <p:sp>
              <p:nvSpPr>
                <p:cNvPr id="971" name=""/>
                <p:cNvSpPr/>
                <p:nvPr/>
              </p:nvSpPr>
              <p:spPr>
                <a:xfrm flipH="1" flipV="1">
                  <a:off x="8783640" y="5075280"/>
                  <a:ext cx="7128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V="1">
                  <a:off x="8854920" y="5037120"/>
                  <a:ext cx="6552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3" name=""/>
              <p:cNvSpPr/>
              <p:nvPr/>
            </p:nvSpPr>
            <p:spPr>
              <a:xfrm>
                <a:off x="8646840" y="4922640"/>
                <a:ext cx="2170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719560" y="4968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863920" y="4915800"/>
                <a:ext cx="20844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928000" y="4948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7" name=""/>
              <p:cNvGrpSpPr/>
              <p:nvPr/>
            </p:nvGrpSpPr>
            <p:grpSpPr>
              <a:xfrm>
                <a:off x="8751600" y="4884840"/>
                <a:ext cx="216720" cy="106560"/>
                <a:chOff x="8751600" y="4884840"/>
                <a:chExt cx="216720" cy="10656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8751600" y="4884840"/>
                  <a:ext cx="102960" cy="558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9"/>
                      </a:moveTo>
                      <a:cubicBezTo>
                        <a:pt x="13" y="9"/>
                        <a:pt x="12" y="8"/>
                        <a:pt x="11" y="8"/>
                      </a:cubicBezTo>
                      <a:cubicBezTo>
                        <a:pt x="9" y="7"/>
                        <a:pt x="7" y="7"/>
                        <a:pt x="5" y="6"/>
                      </a:cubicBezTo>
                      <a:cubicBezTo>
                        <a:pt x="4" y="6"/>
                        <a:pt x="2" y="4"/>
                        <a:pt x="1" y="3"/>
                      </a:cubicBezTo>
                      <a:cubicBezTo>
                        <a:pt x="0" y="3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854560" y="4935240"/>
                  <a:ext cx="113760" cy="561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9"/>
                      </a:moveTo>
                      <a:cubicBezTo>
                        <a:pt x="1" y="9"/>
                        <a:pt x="2" y="8"/>
                        <a:pt x="3" y="8"/>
                      </a:cubicBezTo>
                      <a:cubicBezTo>
                        <a:pt x="4" y="7"/>
                        <a:pt x="7" y="7"/>
                        <a:pt x="8" y="6"/>
                      </a:cubicBezTo>
                      <a:cubicBezTo>
                        <a:pt x="10" y="6"/>
                        <a:pt x="12" y="4"/>
                        <a:pt x="13" y="3"/>
                      </a:cubicBezTo>
                      <a:cubicBezTo>
                        <a:pt x="14" y="3"/>
                        <a:pt x="14" y="1"/>
                        <a:pt x="14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>
                <a:off x="8671320" y="5185080"/>
                <a:ext cx="37764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758800" y="52178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1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8855280" y="4928400"/>
                <a:ext cx="1440" cy="2692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751600" y="4780440"/>
                <a:ext cx="2239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832600" y="4826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790840" y="5197680"/>
                <a:ext cx="120960" cy="180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 flipV="1">
                <a:off x="8783640" y="5076000"/>
                <a:ext cx="712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8855280" y="5037480"/>
                <a:ext cx="6552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flipV="1">
                <a:off x="8783640" y="5076000"/>
                <a:ext cx="712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8855280" y="5037480"/>
                <a:ext cx="6552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646840" y="4922640"/>
                <a:ext cx="2170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719560" y="4968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863920" y="4915800"/>
                <a:ext cx="20844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928000" y="4948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751600" y="4884840"/>
                <a:ext cx="103320" cy="561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9" y="7"/>
                      <a:pt x="7" y="7"/>
                      <a:pt x="5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855280" y="4935600"/>
                <a:ext cx="113760" cy="56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cubicBezTo>
                      <a:pt x="1" y="9"/>
                      <a:pt x="2" y="8"/>
                      <a:pt x="3" y="8"/>
                    </a:cubicBezTo>
                    <a:cubicBezTo>
                      <a:pt x="4" y="7"/>
                      <a:pt x="7" y="7"/>
                      <a:pt x="8" y="6"/>
                    </a:cubicBezTo>
                    <a:cubicBezTo>
                      <a:pt x="10" y="6"/>
                      <a:pt x="12" y="4"/>
                      <a:pt x="13" y="3"/>
                    </a:cubicBezTo>
                    <a:cubicBezTo>
                      <a:pt x="14" y="3"/>
                      <a:pt x="14" y="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751600" y="4884840"/>
                <a:ext cx="103320" cy="561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9" y="7"/>
                      <a:pt x="7" y="7"/>
                      <a:pt x="5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855280" y="4935600"/>
                <a:ext cx="113760" cy="56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cubicBezTo>
                      <a:pt x="1" y="9"/>
                      <a:pt x="2" y="8"/>
                      <a:pt x="3" y="8"/>
                    </a:cubicBezTo>
                    <a:cubicBezTo>
                      <a:pt x="4" y="7"/>
                      <a:pt x="7" y="7"/>
                      <a:pt x="8" y="6"/>
                    </a:cubicBezTo>
                    <a:cubicBezTo>
                      <a:pt x="10" y="6"/>
                      <a:pt x="12" y="4"/>
                      <a:pt x="13" y="3"/>
                    </a:cubicBezTo>
                    <a:cubicBezTo>
                      <a:pt x="14" y="3"/>
                      <a:pt x="14" y="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795080" y="5807880"/>
                <a:ext cx="35244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866000" y="58460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1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7971120" y="5428800"/>
                <a:ext cx="1800" cy="3970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916400" y="5826240"/>
                <a:ext cx="11916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851960" y="5274000"/>
                <a:ext cx="2401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939080" y="5314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4" name=""/>
              <p:cNvGrpSpPr/>
              <p:nvPr/>
            </p:nvGrpSpPr>
            <p:grpSpPr>
              <a:xfrm>
                <a:off x="7899840" y="5653080"/>
                <a:ext cx="144000" cy="113760"/>
                <a:chOff x="7899840" y="5653080"/>
                <a:chExt cx="144000" cy="113760"/>
              </a:xfrm>
            </p:grpSpPr>
            <p:sp>
              <p:nvSpPr>
                <p:cNvPr id="1005" name=""/>
                <p:cNvSpPr/>
                <p:nvPr/>
              </p:nvSpPr>
              <p:spPr>
                <a:xfrm flipH="1" flipV="1">
                  <a:off x="7899840" y="5690880"/>
                  <a:ext cx="7092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7971120" y="5653080"/>
                  <a:ext cx="7272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7859160" y="5447160"/>
                <a:ext cx="216720" cy="109080"/>
                <a:chOff x="7859160" y="5447160"/>
                <a:chExt cx="216720" cy="10908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7859160" y="5447160"/>
                  <a:ext cx="111600" cy="579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8"/>
                        <a:pt x="12" y="8"/>
                        <a:pt x="11" y="7"/>
                      </a:cubicBezTo>
                      <a:cubicBezTo>
                        <a:pt x="10" y="7"/>
                        <a:pt x="8" y="7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970760" y="5499720"/>
                  <a:ext cx="105120" cy="565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8"/>
                        <a:pt x="1" y="8"/>
                        <a:pt x="3" y="7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5"/>
                        <a:pt x="11" y="4"/>
                        <a:pt x="12" y="3"/>
                      </a:cubicBezTo>
                      <a:cubicBezTo>
                        <a:pt x="13" y="2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7762680" y="5544000"/>
                <a:ext cx="2242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842960" y="55839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980120" y="5525640"/>
                <a:ext cx="2242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051400" y="5564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795080" y="5807880"/>
                <a:ext cx="35244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866000" y="58460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1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7971120" y="5428800"/>
                <a:ext cx="1800" cy="3970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916400" y="5826240"/>
                <a:ext cx="11916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851960" y="5274000"/>
                <a:ext cx="2401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939080" y="5314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 flipV="1">
                <a:off x="7899840" y="5691240"/>
                <a:ext cx="7092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7971120" y="5653440"/>
                <a:ext cx="73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 flipV="1">
                <a:off x="7899840" y="5691240"/>
                <a:ext cx="7092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7971120" y="5653440"/>
                <a:ext cx="73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6172200" y="1779120"/>
                <a:ext cx="2031840" cy="3949920"/>
                <a:chOff x="6172200" y="1779120"/>
                <a:chExt cx="2031840" cy="39499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7858800" y="5446800"/>
                  <a:ext cx="111600" cy="579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8"/>
                        <a:pt x="12" y="8"/>
                        <a:pt x="11" y="7"/>
                      </a:cubicBezTo>
                      <a:cubicBezTo>
                        <a:pt x="10" y="7"/>
                        <a:pt x="8" y="7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970760" y="5499720"/>
                  <a:ext cx="105120" cy="565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8"/>
                        <a:pt x="1" y="8"/>
                        <a:pt x="3" y="7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5"/>
                        <a:pt x="11" y="4"/>
                        <a:pt x="12" y="3"/>
                      </a:cubicBezTo>
                      <a:cubicBezTo>
                        <a:pt x="13" y="2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858800" y="5446800"/>
                  <a:ext cx="111600" cy="579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8"/>
                        <a:pt x="12" y="8"/>
                        <a:pt x="11" y="7"/>
                      </a:cubicBezTo>
                      <a:cubicBezTo>
                        <a:pt x="10" y="7"/>
                        <a:pt x="8" y="7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970760" y="5499720"/>
                  <a:ext cx="105120" cy="565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8"/>
                        <a:pt x="1" y="8"/>
                        <a:pt x="3" y="7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5"/>
                        <a:pt x="11" y="4"/>
                        <a:pt x="12" y="3"/>
                      </a:cubicBezTo>
                      <a:cubicBezTo>
                        <a:pt x="13" y="2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762320" y="5543280"/>
                  <a:ext cx="2242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842240" y="558324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b2b2b2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979760" y="5525280"/>
                  <a:ext cx="2242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8050680" y="556524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b2b2b2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3" name=""/>
                <p:cNvGrpSpPr/>
                <p:nvPr/>
              </p:nvGrpSpPr>
              <p:grpSpPr>
                <a:xfrm>
                  <a:off x="6172200" y="1779120"/>
                  <a:ext cx="376560" cy="558720"/>
                  <a:chOff x="6172200" y="1779120"/>
                  <a:chExt cx="376560" cy="55872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 flipV="1">
                    <a:off x="6364080" y="1913400"/>
                    <a:ext cx="1440" cy="269280"/>
                  </a:xfrm>
                  <a:prstGeom prst="line">
                    <a:avLst/>
                  </a:prstGeom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6274800" y="1779120"/>
                    <a:ext cx="209880" cy="17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6338880" y="181368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b2b2b2"/>
                        </a:solidFill>
                        <a:latin typeface="Times New Roman"/>
                      </a:rPr>
                      <a:t>#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6300000" y="2183040"/>
                    <a:ext cx="128160" cy="1800"/>
                  </a:xfrm>
                  <a:prstGeom prst="line">
                    <a:avLst/>
                  </a:prstGeom>
                  <a:ln w="144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172200" y="2183040"/>
                    <a:ext cx="376560" cy="15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256080" y="2217960"/>
                    <a:ext cx="160920" cy="7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500" spc="-1" strike="noStrike">
                        <a:solidFill>
                          <a:srgbClr val="b2b2b2"/>
                        </a:solidFill>
                        <a:latin typeface="Times New Roman"/>
                      </a:rPr>
                      <a:t>10011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 flipV="1">
                    <a:off x="6364080" y="1913400"/>
                    <a:ext cx="1440" cy="269280"/>
                  </a:xfrm>
                  <a:prstGeom prst="line">
                    <a:avLst/>
                  </a:prstGeom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274800" y="1779120"/>
                    <a:ext cx="209880" cy="17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38880" y="181368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b2b2b2"/>
                        </a:solidFill>
                        <a:latin typeface="Times New Roman"/>
                      </a:rPr>
                      <a:t>#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6300000" y="2183040"/>
                    <a:ext cx="128160" cy="1800"/>
                  </a:xfrm>
                  <a:prstGeom prst="line">
                    <a:avLst/>
                  </a:prstGeom>
                  <a:ln w="144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172200" y="2183040"/>
                    <a:ext cx="376560" cy="15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6256080" y="2217960"/>
                    <a:ext cx="160920" cy="7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500" spc="-1" strike="noStrike">
                        <a:solidFill>
                          <a:srgbClr val="b2b2b2"/>
                        </a:solidFill>
                        <a:latin typeface="Times New Roman"/>
                      </a:rPr>
                      <a:t>10011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46" name=""/>
          <p:cNvGrpSpPr/>
          <p:nvPr/>
        </p:nvGrpSpPr>
        <p:grpSpPr>
          <a:xfrm>
            <a:off x="409680" y="657360"/>
            <a:ext cx="3709800" cy="3430440"/>
            <a:chOff x="409680" y="657360"/>
            <a:chExt cx="3709800" cy="3430440"/>
          </a:xfrm>
        </p:grpSpPr>
        <p:sp>
          <p:nvSpPr>
            <p:cNvPr id="1047" name=""/>
            <p:cNvSpPr/>
            <p:nvPr/>
          </p:nvSpPr>
          <p:spPr>
            <a:xfrm>
              <a:off x="409680" y="657360"/>
              <a:ext cx="3687480" cy="34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263680" y="752400"/>
              <a:ext cx="4680" cy="3240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249640" y="399240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49640" y="3672000"/>
              <a:ext cx="33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249640" y="3344760"/>
              <a:ext cx="331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249640" y="302256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249640" y="2695680"/>
              <a:ext cx="331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249640" y="2373480"/>
              <a:ext cx="33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49640" y="2044800"/>
              <a:ext cx="3312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249640" y="1725480"/>
              <a:ext cx="331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49640" y="1397160"/>
              <a:ext cx="3312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49640" y="107460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249640" y="75240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47840" y="2373480"/>
              <a:ext cx="3636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447840" y="2354040"/>
              <a:ext cx="144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809640" y="2354040"/>
              <a:ext cx="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1171440" y="2354040"/>
              <a:ext cx="6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153972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190008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2263680" y="2354040"/>
              <a:ext cx="46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263196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99232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336060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372420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84560" y="2354040"/>
              <a:ext cx="792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14880" y="2530440"/>
              <a:ext cx="3312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792520" y="1982880"/>
              <a:ext cx="39600" cy="44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59280" y="3370320"/>
              <a:ext cx="4104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919240" y="3274920"/>
              <a:ext cx="334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069920" y="3005280"/>
              <a:ext cx="3492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76240" y="3035160"/>
              <a:ext cx="4140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20960" y="1441440"/>
              <a:ext cx="3312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957240" y="2784600"/>
              <a:ext cx="3168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44720" y="3243240"/>
              <a:ext cx="4140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97240" y="3092400"/>
              <a:ext cx="57600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082520" y="2720880"/>
              <a:ext cx="5302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190520" y="1504800"/>
              <a:ext cx="7034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229760" y="1447920"/>
              <a:ext cx="159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oissance vertic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63640" y="3129120"/>
              <a:ext cx="3603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90520" y="2933640"/>
              <a:ext cx="1936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06720" y="3198960"/>
              <a:ext cx="22860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457360" y="3463920"/>
              <a:ext cx="88416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92600" y="1925640"/>
              <a:ext cx="4363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81400" y="2563920"/>
              <a:ext cx="24120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122560" y="3627360"/>
              <a:ext cx="1411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22560" y="3306600"/>
              <a:ext cx="1411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122560" y="2979720"/>
              <a:ext cx="1411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22560" y="2657520"/>
              <a:ext cx="1411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590920" y="2436840"/>
              <a:ext cx="1141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52720" y="2436840"/>
              <a:ext cx="1144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1000" y="2436840"/>
              <a:ext cx="1065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83160" y="2436840"/>
              <a:ext cx="1126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071960" y="2436840"/>
              <a:ext cx="47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1600" y="24494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890880" y="2254320"/>
              <a:ext cx="13968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911760" y="226692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 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2360" y="3784680"/>
              <a:ext cx="12240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322360" y="379872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 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7840" y="765000"/>
              <a:ext cx="3644640" cy="322272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63680" y="752400"/>
              <a:ext cx="4680" cy="3240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49640" y="399240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249640" y="3672000"/>
              <a:ext cx="33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49640" y="3344760"/>
              <a:ext cx="331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49640" y="302256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49640" y="2695680"/>
              <a:ext cx="331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49640" y="2373480"/>
              <a:ext cx="33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249640" y="2044800"/>
              <a:ext cx="3312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49640" y="1725480"/>
              <a:ext cx="331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49640" y="1397160"/>
              <a:ext cx="3312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49640" y="107460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249640" y="75240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47840" y="2373480"/>
              <a:ext cx="363672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447840" y="2354040"/>
              <a:ext cx="144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809640" y="2354040"/>
              <a:ext cx="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1171440" y="2354040"/>
              <a:ext cx="6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153972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190008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263680" y="2354040"/>
              <a:ext cx="46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263196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299232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36060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372420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4084560" y="2354040"/>
              <a:ext cx="792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314880" y="2530440"/>
              <a:ext cx="3312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792520" y="1982880"/>
              <a:ext cx="39600" cy="44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59280" y="3370320"/>
              <a:ext cx="4104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19240" y="3274920"/>
              <a:ext cx="334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069920" y="3005280"/>
              <a:ext cx="3492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76240" y="3035160"/>
              <a:ext cx="4140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920960" y="1441440"/>
              <a:ext cx="3312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957240" y="2784600"/>
              <a:ext cx="3168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44720" y="3243240"/>
              <a:ext cx="4140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397240" y="3092400"/>
              <a:ext cx="57600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89680" y="2960640"/>
              <a:ext cx="129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umatisé/vol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082520" y="2720880"/>
              <a:ext cx="5302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7280" y="2670120"/>
              <a:ext cx="125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séché /cass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90520" y="1504800"/>
              <a:ext cx="7034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63640" y="3129120"/>
              <a:ext cx="3603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39520" y="3117960"/>
              <a:ext cx="817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ex m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190520" y="2933640"/>
              <a:ext cx="1936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135080" y="290988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j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990160" y="3141720"/>
              <a:ext cx="51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éitér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932120" y="3408480"/>
              <a:ext cx="201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mifié séquentiell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892600" y="1925640"/>
              <a:ext cx="4363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62360" y="1870200"/>
              <a:ext cx="975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bre viv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81400" y="2563920"/>
              <a:ext cx="24120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63120" y="2468520"/>
              <a:ext cx="55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dul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122560" y="3627360"/>
              <a:ext cx="1411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122560" y="3306600"/>
              <a:ext cx="1411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122560" y="2979720"/>
              <a:ext cx="1411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122560" y="2657520"/>
              <a:ext cx="1411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590920" y="2436840"/>
              <a:ext cx="1141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952720" y="2436840"/>
              <a:ext cx="1144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321000" y="2436840"/>
              <a:ext cx="1065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071960" y="2436840"/>
              <a:ext cx="47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90880" y="2254320"/>
              <a:ext cx="13968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911760" y="226692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 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322360" y="3784680"/>
              <a:ext cx="12240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322360" y="379872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 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47840" y="765000"/>
              <a:ext cx="3644640" cy="322272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795240" y="4238640"/>
            <a:ext cx="30006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1520" y="414324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odet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47840" y="4616280"/>
            <a:ext cx="3716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actérisation chez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. melinoni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 critères morphologiques associés sur une échantillon de 1200 arbres. Hypothèse sur les successions de formes menant à la mort de l’individu en conditions lumineuses limi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782960" y="2684520"/>
            <a:ext cx="2779920" cy="2712960"/>
          </a:xfrm>
          <a:custGeom>
            <a:avLst/>
            <a:gdLst/>
            <a:ahLst/>
            <a:rect l="l" t="t" r="r" b="b"/>
            <a:pathLst>
              <a:path w="1751" h="1709">
                <a:moveTo>
                  <a:pt x="101" y="1"/>
                </a:moveTo>
                <a:cubicBezTo>
                  <a:pt x="57" y="2"/>
                  <a:pt x="54" y="37"/>
                  <a:pt x="41" y="91"/>
                </a:cubicBezTo>
                <a:cubicBezTo>
                  <a:pt x="28" y="145"/>
                  <a:pt x="0" y="230"/>
                  <a:pt x="23" y="325"/>
                </a:cubicBezTo>
                <a:cubicBezTo>
                  <a:pt x="46" y="420"/>
                  <a:pt x="130" y="553"/>
                  <a:pt x="179" y="661"/>
                </a:cubicBezTo>
                <a:cubicBezTo>
                  <a:pt x="228" y="769"/>
                  <a:pt x="273" y="897"/>
                  <a:pt x="317" y="973"/>
                </a:cubicBezTo>
                <a:cubicBezTo>
                  <a:pt x="361" y="1049"/>
                  <a:pt x="381" y="1075"/>
                  <a:pt x="443" y="1117"/>
                </a:cubicBezTo>
                <a:cubicBezTo>
                  <a:pt x="505" y="1159"/>
                  <a:pt x="622" y="1163"/>
                  <a:pt x="689" y="1225"/>
                </a:cubicBezTo>
                <a:cubicBezTo>
                  <a:pt x="756" y="1287"/>
                  <a:pt x="800" y="1422"/>
                  <a:pt x="845" y="1489"/>
                </a:cubicBezTo>
                <a:cubicBezTo>
                  <a:pt x="890" y="1556"/>
                  <a:pt x="902" y="1604"/>
                  <a:pt x="959" y="1627"/>
                </a:cubicBezTo>
                <a:cubicBezTo>
                  <a:pt x="1016" y="1650"/>
                  <a:pt x="1089" y="1615"/>
                  <a:pt x="1187" y="1627"/>
                </a:cubicBezTo>
                <a:cubicBezTo>
                  <a:pt x="1285" y="1639"/>
                  <a:pt x="1465" y="1695"/>
                  <a:pt x="1547" y="1699"/>
                </a:cubicBezTo>
                <a:cubicBezTo>
                  <a:pt x="1629" y="1703"/>
                  <a:pt x="1648" y="1709"/>
                  <a:pt x="1679" y="1651"/>
                </a:cubicBezTo>
                <a:cubicBezTo>
                  <a:pt x="1710" y="1593"/>
                  <a:pt x="1751" y="1424"/>
                  <a:pt x="1733" y="1351"/>
                </a:cubicBezTo>
                <a:cubicBezTo>
                  <a:pt x="1715" y="1278"/>
                  <a:pt x="1640" y="1225"/>
                  <a:pt x="1571" y="1213"/>
                </a:cubicBezTo>
                <a:cubicBezTo>
                  <a:pt x="1502" y="1201"/>
                  <a:pt x="1400" y="1275"/>
                  <a:pt x="1319" y="1279"/>
                </a:cubicBezTo>
                <a:cubicBezTo>
                  <a:pt x="1238" y="1283"/>
                  <a:pt x="1178" y="1290"/>
                  <a:pt x="1085" y="1237"/>
                </a:cubicBezTo>
                <a:cubicBezTo>
                  <a:pt x="992" y="1184"/>
                  <a:pt x="847" y="1065"/>
                  <a:pt x="761" y="961"/>
                </a:cubicBezTo>
                <a:cubicBezTo>
                  <a:pt x="675" y="857"/>
                  <a:pt x="629" y="707"/>
                  <a:pt x="569" y="613"/>
                </a:cubicBezTo>
                <a:cubicBezTo>
                  <a:pt x="509" y="519"/>
                  <a:pt x="445" y="485"/>
                  <a:pt x="401" y="397"/>
                </a:cubicBezTo>
                <a:cubicBezTo>
                  <a:pt x="357" y="309"/>
                  <a:pt x="352" y="154"/>
                  <a:pt x="305" y="85"/>
                </a:cubicBezTo>
                <a:cubicBezTo>
                  <a:pt x="258" y="16"/>
                  <a:pt x="145" y="0"/>
                  <a:pt x="101" y="1"/>
                </a:cubicBezTo>
                <a:close/>
              </a:path>
            </a:pathLst>
          </a:custGeom>
          <a:solidFill>
            <a:srgbClr val="ff99cc">
              <a:alpha val="23000"/>
            </a:srgbClr>
          </a:solidFill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-1800" y="71280"/>
            <a:ext cx="60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ONTEXTE DE L’ETUDE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LES TRAVAUX DE M. DO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434880" y="633240"/>
            <a:ext cx="899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- Vérifier les hypothèses de Dodet (2003) sur la succession des formes archite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34960" y="1922400"/>
            <a:ext cx="89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« rejet » est-il une structure qui traduit une dégénérescence de l’individu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34880" y="2909880"/>
            <a:ext cx="863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tifier les probabilités de passage d’une classe architecturale à une autre 1 an après la mise en place d’un suivi de croiss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34880" y="4721400"/>
            <a:ext cx="863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Éprouver un protocole de description applicable à l’échelle du peup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-1440" y="71280"/>
            <a:ext cx="47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ONTEXTE DE L’ETUDE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LES OBJEC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735840" y="2482920"/>
            <a:ext cx="784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Matériel et Métho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9:43:57Z</dcterms:created>
  <dc:creator>heuret</dc:creator>
  <dc:description/>
  <dc:language>en-US</dc:language>
  <cp:lastModifiedBy>Eric Marcon</cp:lastModifiedBy>
  <dcterms:modified xsi:type="dcterms:W3CDTF">2004-10-01T11:53:45Z</dcterms:modified>
  <cp:revision>53</cp:revision>
  <dc:subject/>
  <dc:title>Diapositive 1</dc:title>
</cp:coreProperties>
</file>