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6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A34-BD9A-4464-B894-E7C64CEC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61A-DCF6-4F1B-AEFC-45D56CDE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087-2857-40A4-9786-6B2E7529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959-AC3B-4551-83B5-40D4C999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E7BB-5D61-4E6F-9831-4F948CD8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EA16-A19C-4452-9944-1D7F7C62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A4B1-042A-492B-90DC-8DB4137B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3377-C52A-4AAC-92D3-26D98456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9830-24A9-4988-A15D-E33BA484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F189-A0A5-46AB-9DB9-80CE601D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339A-A6F2-40F9-A6CF-69241A44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688-A783-4319-B075-3A4E2D0D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45C6-4EF8-4668-B74A-A7B1EA0E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50F8-D77E-436B-A5B0-CCEB5CB3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2A8D-9C09-4A00-AFED-BD6DCCEB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BBEF-F9DE-47CD-B633-B6B969D5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9F8C-65D3-487B-809B-EA0A1582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8C6-A4AE-4139-9CF4-46961F66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331-1356-447A-BDE1-39CBAF81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13D-9EAB-4B15-9CE5-1B95F001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2A8-7318-43A0-A225-5AB994AB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3DE-0F70-4CCD-801C-57702E18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2C9-6232-421D-9729-6EDC9241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E91-802F-499F-8EC3-938778F1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3CE8-70AD-479E-9A76-209ADC76A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8D43-EEF1-4F7C-9F79-D70AC0C06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8.wmf"/><Relationship Id="rId3" Type="http://schemas.openxmlformats.org/officeDocument/2006/relationships/image" Target="../media/image12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7118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280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ffets de l’engorgement hydrique sur la distribution des espèces : étude du BAF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300640"/>
            <a:ext cx="896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yrille BARNERIAS, Frédéric BÖHM, Samuel DUBOI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Guillemette JUNOD, Marc LE TREÏS, Jean-Sébastien POUSS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ncadrants : Bruno FERRY, François MORNEAU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1280" y="6308640"/>
            <a:ext cx="151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TH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tér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relev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topographiqu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c clinomètre, boussole et jau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11640" y="3160800"/>
            <a:ext cx="4932360" cy="369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aitement des donné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560" y="1905120"/>
            <a:ext cx="800748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 des données floristiques et des données s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3213000"/>
            <a:ext cx="83170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sition des données d’altitude sous S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ement sous S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4587840"/>
            <a:ext cx="84600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des cortèges floristiques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AF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5456160"/>
            <a:ext cx="8460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s sur l’écologie des espèces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Khi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de perm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st de permut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135160"/>
            <a:ext cx="9144000" cy="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484280"/>
          <a:ext cx="2448000" cy="2587680"/>
        </p:xfrm>
        <a:graphic>
          <a:graphicData uri="http://schemas.openxmlformats.org/drawingml/2006/table">
            <a:tbl>
              <a:tblPr/>
              <a:tblGrid>
                <a:gridCol w="488880"/>
                <a:gridCol w="490680"/>
                <a:gridCol w="488880"/>
                <a:gridCol w="490320"/>
                <a:gridCol w="48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348000" y="206064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24360" y="1484280"/>
          <a:ext cx="2447640" cy="2587680"/>
        </p:xfrm>
        <a:graphic>
          <a:graphicData uri="http://schemas.openxmlformats.org/drawingml/2006/table">
            <a:tbl>
              <a:tblPr/>
              <a:tblGrid>
                <a:gridCol w="488880"/>
                <a:gridCol w="490320"/>
                <a:gridCol w="489240"/>
                <a:gridCol w="490320"/>
                <a:gridCol w="488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3132000" y="2565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219640" y="3894120"/>
          <a:ext cx="3924360" cy="296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3894120"/>
                    <a:ext cx="392436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187280" y="1627200"/>
            <a:ext cx="142920" cy="144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2203560"/>
            <a:ext cx="142920" cy="144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708280"/>
            <a:ext cx="142920" cy="144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2203560"/>
            <a:ext cx="142920" cy="144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2708280"/>
            <a:ext cx="142920" cy="144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4200" y="2205000"/>
            <a:ext cx="142920" cy="144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213000"/>
            <a:ext cx="142920" cy="1447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4200" y="1701720"/>
            <a:ext cx="142920" cy="1447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1628640"/>
            <a:ext cx="142920" cy="1447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2205000"/>
            <a:ext cx="142920" cy="144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709720"/>
            <a:ext cx="142920" cy="1447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75280" y="2205000"/>
            <a:ext cx="142920" cy="144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75280" y="2709720"/>
            <a:ext cx="142920" cy="1447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2133720"/>
            <a:ext cx="142560" cy="144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3141720"/>
            <a:ext cx="142560" cy="144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630440"/>
            <a:ext cx="142560" cy="144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43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tuation rée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4149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mple de perm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5157720"/>
            <a:ext cx="43164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5805360"/>
            <a:ext cx="431640" cy="43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5229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s bas-f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-f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Comparaison interplaceaux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ésult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1680" y="472428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ersité spécifique équivalente entre placea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6440" y="2708280"/>
            <a:ext cx="828036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et densité plus faibles en milieu engorg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7540" t="0" r="7696" b="1988"/>
          <a:stretch/>
        </p:blipFill>
        <p:spPr>
          <a:xfrm>
            <a:off x="755640" y="1828800"/>
            <a:ext cx="3495600" cy="36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rcRect l="0" t="0" r="17503" b="22139"/>
          <a:stretch/>
        </p:blipFill>
        <p:spPr>
          <a:xfrm>
            <a:off x="4859280" y="1514520"/>
            <a:ext cx="3697200" cy="4103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rcRect l="54230" t="76463" r="0" b="0"/>
          <a:stretch/>
        </p:blipFill>
        <p:spPr>
          <a:xfrm>
            <a:off x="5584680" y="5373720"/>
            <a:ext cx="2345040" cy="1511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044720" y="55468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pographie du placeau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-17136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ésult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440" y="98100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Placeau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ésulta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685440" y="134136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Placeau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889080" cy="2374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19280" y="508464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xes factori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15900" t="8509" r="12422" b="3595"/>
          <a:stretch/>
        </p:blipFill>
        <p:spPr>
          <a:xfrm>
            <a:off x="3851280" y="1922400"/>
            <a:ext cx="509760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ésulta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35344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distribution fonction de la na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58920" y="2454120"/>
            <a:ext cx="6985080" cy="4084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440" y="134136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Placeau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0" t="0" r="18611" b="25236"/>
          <a:stretch/>
        </p:blipFill>
        <p:spPr>
          <a:xfrm>
            <a:off x="4484520" y="0"/>
            <a:ext cx="4321440" cy="4724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rcRect l="0" t="0" r="17503" b="22139"/>
          <a:stretch/>
        </p:blipFill>
        <p:spPr>
          <a:xfrm>
            <a:off x="109440" y="260280"/>
            <a:ext cx="4303800" cy="4508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rcRect l="54061" t="75222" r="0" b="0"/>
          <a:stretch/>
        </p:blipFill>
        <p:spPr>
          <a:xfrm>
            <a:off x="6012000" y="4797360"/>
            <a:ext cx="2736720" cy="1755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rcRect l="54230" t="76463" r="0" b="0"/>
          <a:stretch/>
        </p:blipFill>
        <p:spPr>
          <a:xfrm>
            <a:off x="684360" y="4724280"/>
            <a:ext cx="3168360" cy="18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ésulta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1720" y="3357720"/>
            <a:ext cx="861228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Euterpe oleracea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Pachira aquatica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Symphonia globulifera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rois espèces préférant les sols engorg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35344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Placeau 1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00"/>
                </a:solidFill>
                <a:latin typeface="Arial"/>
              </a:rPr>
              <a:t>Une distribution fonction de la na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ésulta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35344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Placeau 1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00"/>
                </a:solidFill>
                <a:latin typeface="Arial"/>
              </a:rPr>
              <a:t>Une distribution fonction de la na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0280" y="5013360"/>
            <a:ext cx="861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Iryanthera hostmanni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e espèce indicatrice des milieux intermédi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1720" y="3357720"/>
            <a:ext cx="861228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8000"/>
                </a:solidFill>
                <a:latin typeface="Arial"/>
              </a:rPr>
              <a:t>Euterpe oleracea</a:t>
            </a:r>
            <a:r>
              <a:rPr b="0" lang="fr-F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0" i="1" lang="fr-FR" sz="2400" spc="-1" strike="noStrike">
                <a:solidFill>
                  <a:srgbClr val="008000"/>
                </a:solidFill>
                <a:latin typeface="Arial"/>
              </a:rPr>
              <a:t>Pachira aquatica</a:t>
            </a:r>
            <a:r>
              <a:rPr b="0" lang="fr-FR" sz="2400" spc="-1" strike="noStrike">
                <a:solidFill>
                  <a:srgbClr val="008000"/>
                </a:solidFill>
                <a:latin typeface="Arial"/>
              </a:rPr>
              <a:t> , </a:t>
            </a:r>
            <a:r>
              <a:rPr b="0" i="1" lang="fr-FR" sz="2400" spc="-1" strike="noStrike">
                <a:solidFill>
                  <a:srgbClr val="008000"/>
                </a:solidFill>
                <a:latin typeface="Arial"/>
              </a:rPr>
              <a:t>Symphonia globulifera</a:t>
            </a:r>
            <a:r>
              <a:rPr b="0" lang="fr-F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8000"/>
                </a:solidFill>
                <a:latin typeface="Arial"/>
              </a:rPr>
              <a:t>Trois espèces préférant les sols engorg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l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4065480"/>
            <a:ext cx="80071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ésentation du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ésult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6000" y="4354560"/>
            <a:ext cx="800748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" y="386064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2560" y="1401840"/>
            <a:ext cx="846144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"/>
              </a:rPr>
              <a:t>Observe-t-on une influence de l’engorgement ou de la topographie sur la répartition des espèces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ésulta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distribution « fonction » de la topograph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0720" y="126828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Placeau 3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010640" cy="4091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rcRect l="32063" t="10122" r="5196" b="22191"/>
          <a:stretch/>
        </p:blipFill>
        <p:spPr>
          <a:xfrm>
            <a:off x="1835280" y="115920"/>
            <a:ext cx="5616360" cy="5091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706920" y="5092560"/>
            <a:ext cx="2520720" cy="162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ésulta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540720" y="126828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Placeau 3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3716280"/>
            <a:ext cx="907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Eperua falcata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: préfère les platea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Ruizteriana albiflora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: préfère les bas de p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905120"/>
            <a:ext cx="9144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Une distribution « fonction » de la topograph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ésulta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Placeau 4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3141720"/>
            <a:ext cx="588636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 de gradient identifi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cun autre test significa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1557360"/>
            <a:ext cx="802656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t de la topographie = le reflet d’une autre contrai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arition de nouvelles hypothè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26920" y="3209760"/>
            <a:ext cx="77425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ien topographie-engorgement fa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est de permutation et test du Khi 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laceau 1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rrélation très forte entre l’engorgement et la végé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’engorgement mesuré confirmé par les profils pédologiq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2195640" y="1052640"/>
            <a:ext cx="5159160" cy="5595480"/>
            <a:chOff x="2195640" y="1052640"/>
            <a:chExt cx="5159160" cy="5595480"/>
          </a:xfrm>
        </p:grpSpPr>
        <p:grpSp>
          <p:nvGrpSpPr>
            <p:cNvPr id="244" name=""/>
            <p:cNvGrpSpPr/>
            <p:nvPr/>
          </p:nvGrpSpPr>
          <p:grpSpPr>
            <a:xfrm>
              <a:off x="2195640" y="1091880"/>
              <a:ext cx="5159160" cy="5556240"/>
              <a:chOff x="2195640" y="1091880"/>
              <a:chExt cx="5159160" cy="5556240"/>
            </a:xfrm>
          </p:grpSpPr>
          <p:pic>
            <p:nvPicPr>
              <p:cNvPr id="2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10240" y="5435640"/>
                <a:ext cx="2286000" cy="121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95640" y="5435640"/>
                <a:ext cx="2514600" cy="58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39040" y="1091880"/>
                <a:ext cx="815760" cy="904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8" name="" descr=""/>
            <p:cNvPicPr/>
            <p:nvPr/>
          </p:nvPicPr>
          <p:blipFill>
            <a:blip r:embed="rId4"/>
            <a:srcRect l="3388" t="776" r="21380" b="14803"/>
            <a:stretch/>
          </p:blipFill>
          <p:spPr>
            <a:xfrm>
              <a:off x="2229120" y="1052640"/>
              <a:ext cx="4305240" cy="438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-1368360" y="6127920"/>
            <a:ext cx="608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2 : Faible engorg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3 : Engorgement intermédia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4 : Fort engorg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50920" y="6135840"/>
            <a:ext cx="114120" cy="677880"/>
            <a:chOff x="250920" y="6135840"/>
            <a:chExt cx="114120" cy="677880"/>
          </a:xfrm>
        </p:grpSpPr>
        <p:sp>
          <p:nvSpPr>
            <p:cNvPr id="251" name=""/>
            <p:cNvSpPr/>
            <p:nvPr/>
          </p:nvSpPr>
          <p:spPr>
            <a:xfrm>
              <a:off x="250920" y="6135840"/>
              <a:ext cx="114120" cy="114480"/>
            </a:xfrm>
            <a:prstGeom prst="flowChartConnector">
              <a:avLst/>
            </a:prstGeom>
            <a:solidFill>
              <a:srgbClr val="9933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0920" y="6418440"/>
              <a:ext cx="114120" cy="1144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0920" y="6699600"/>
              <a:ext cx="114120" cy="114120"/>
            </a:xfrm>
            <a:prstGeom prst="flowChartConnector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laceau 1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rrélation très forte entre l’engorgement et la végé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’engorgement mesuré confirmé par les profils pédologiq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laceau 3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rrélation entre la topographie et la végé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 si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28000" y="2456280"/>
            <a:ext cx="522000" cy="856440"/>
            <a:chOff x="5328000" y="2456280"/>
            <a:chExt cx="522000" cy="856440"/>
          </a:xfrm>
        </p:grpSpPr>
        <p:sp>
          <p:nvSpPr>
            <p:cNvPr id="109" name=""/>
            <p:cNvSpPr/>
            <p:nvPr/>
          </p:nvSpPr>
          <p:spPr>
            <a:xfrm rot="20965800">
              <a:off x="5363640" y="2491920"/>
              <a:ext cx="432000" cy="432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6720" y="2527200"/>
              <a:ext cx="503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786920" y="4256640"/>
            <a:ext cx="504360" cy="503640"/>
            <a:chOff x="4786920" y="4256640"/>
            <a:chExt cx="504360" cy="503640"/>
          </a:xfrm>
        </p:grpSpPr>
        <p:sp>
          <p:nvSpPr>
            <p:cNvPr id="112" name=""/>
            <p:cNvSpPr/>
            <p:nvPr/>
          </p:nvSpPr>
          <p:spPr>
            <a:xfrm rot="20965800">
              <a:off x="4822560" y="4292280"/>
              <a:ext cx="43200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88000" y="4330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0" y="934920"/>
            <a:ext cx="9144000" cy="5950080"/>
            <a:chOff x="0" y="934920"/>
            <a:chExt cx="9144000" cy="595008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0" y="934920"/>
              <a:ext cx="9144000" cy="595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"/>
            <p:cNvGrpSpPr/>
            <p:nvPr/>
          </p:nvGrpSpPr>
          <p:grpSpPr>
            <a:xfrm>
              <a:off x="7778520" y="4476240"/>
              <a:ext cx="536760" cy="477360"/>
              <a:chOff x="7778520" y="4476240"/>
              <a:chExt cx="536760" cy="477360"/>
            </a:xfrm>
          </p:grpSpPr>
          <p:sp>
            <p:nvSpPr>
              <p:cNvPr id="117" name=""/>
              <p:cNvSpPr/>
              <p:nvPr/>
            </p:nvSpPr>
            <p:spPr>
              <a:xfrm rot="20965800">
                <a:off x="7812000" y="4512240"/>
                <a:ext cx="432000" cy="4050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12000" y="4545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330520" y="2750040"/>
              <a:ext cx="519480" cy="854280"/>
              <a:chOff x="5330520" y="2750040"/>
              <a:chExt cx="519480" cy="854280"/>
            </a:xfrm>
          </p:grpSpPr>
          <p:sp>
            <p:nvSpPr>
              <p:cNvPr id="120" name=""/>
              <p:cNvSpPr/>
              <p:nvPr/>
            </p:nvSpPr>
            <p:spPr>
              <a:xfrm rot="20965800">
                <a:off x="5364000" y="2786040"/>
                <a:ext cx="432000" cy="4053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46720" y="2818800"/>
                <a:ext cx="50328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788000" y="4440240"/>
              <a:ext cx="503280" cy="477360"/>
              <a:chOff x="4788000" y="4440240"/>
              <a:chExt cx="503280" cy="477360"/>
            </a:xfrm>
          </p:grpSpPr>
          <p:sp>
            <p:nvSpPr>
              <p:cNvPr id="123" name=""/>
              <p:cNvSpPr/>
              <p:nvPr/>
            </p:nvSpPr>
            <p:spPr>
              <a:xfrm rot="20965800">
                <a:off x="4822920" y="4476240"/>
                <a:ext cx="432000" cy="4050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88000" y="45133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toco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toco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125360"/>
          <a:ext cx="8686800" cy="5492880"/>
        </p:xfrm>
        <a:graphic>
          <a:graphicData uri="http://schemas.openxmlformats.org/drawingml/2006/table">
            <a:tbl>
              <a:tblPr/>
              <a:tblGrid>
                <a:gridCol w="1811160"/>
                <a:gridCol w="1663920"/>
                <a:gridCol w="1736640"/>
                <a:gridCol w="1782720"/>
                <a:gridCol w="1692360"/>
              </a:tblGrid>
              <a:tr h="103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fo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Con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Observations et me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Objecti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Li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ngorgement hydr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égé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rtèges floristiq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ensité, surface terriè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tructure diamétr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Végé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s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mèt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 inventair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termination botanique de quelques tax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rrél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rrélation : comprendre le déterminisme de l’engor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ngorgement hydrique du s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Quelques profils sur le P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rof nappe (P1), couleur du s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54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opograph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arte P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titudes relatives P3 P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6300720" y="3789360"/>
            <a:ext cx="432000" cy="72072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60800">
            <a:off x="5292360" y="30686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01080" y="3068640"/>
            <a:ext cx="358560" cy="647640"/>
          </a:xfrm>
          <a:prstGeom prst="upDownArrow">
            <a:avLst>
              <a:gd name="adj1" fmla="val 50000"/>
              <a:gd name="adj2" fmla="val 35957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toco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125360"/>
          <a:ext cx="8686800" cy="5492880"/>
        </p:xfrm>
        <a:graphic>
          <a:graphicData uri="http://schemas.openxmlformats.org/drawingml/2006/table">
            <a:tbl>
              <a:tblPr/>
              <a:tblGrid>
                <a:gridCol w="1811160"/>
                <a:gridCol w="1663920"/>
                <a:gridCol w="1736640"/>
                <a:gridCol w="1782720"/>
                <a:gridCol w="1692360"/>
              </a:tblGrid>
              <a:tr h="103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fo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Con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Observations et me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Objecti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Li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ngorgement hydr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égé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rtèges floristiq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ensité, surface terriè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tructure diamétr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égé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ositions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iamèt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5 inventair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étermination botanique de quelques tax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rrél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rrélation : comprendre le déterminisme de l’engor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Engorgement hydrique du s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lques profils sur le P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 nappe (P1), couleur du s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54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opograph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arte P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titudes relatives P3 P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6300720" y="3789360"/>
            <a:ext cx="432000" cy="72072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60800">
            <a:off x="5292360" y="30686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3068640"/>
            <a:ext cx="358560" cy="647640"/>
          </a:xfrm>
          <a:prstGeom prst="upDownArrow">
            <a:avLst>
              <a:gd name="adj1" fmla="val 50000"/>
              <a:gd name="adj2" fmla="val 35957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toco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125360"/>
          <a:ext cx="8686800" cy="5492880"/>
        </p:xfrm>
        <a:graphic>
          <a:graphicData uri="http://schemas.openxmlformats.org/drawingml/2006/table">
            <a:tbl>
              <a:tblPr/>
              <a:tblGrid>
                <a:gridCol w="1811160"/>
                <a:gridCol w="1663920"/>
                <a:gridCol w="1736640"/>
                <a:gridCol w="1782720"/>
                <a:gridCol w="1692360"/>
              </a:tblGrid>
              <a:tr h="103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fo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Con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Observations et me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Objecti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Li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ngorgement hydr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égé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rtèges floristiq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ensité, surface terriè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tructure diamétr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égé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ositions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iamèt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5 inventair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étermination botanique de quelques tax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rrél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rrélation : comprendre le déterminisme de l’engor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ngorgement hydrique du s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Quelques profils sur le P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rof nappe (P1), couleur du s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54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Topograph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te P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itudes relatives P3 P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6300720" y="3789360"/>
            <a:ext cx="432000" cy="72072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60800">
            <a:off x="5292360" y="30686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01080" y="3068640"/>
            <a:ext cx="358560" cy="647640"/>
          </a:xfrm>
          <a:prstGeom prst="upDownArrow">
            <a:avLst>
              <a:gd name="adj1" fmla="val 50000"/>
              <a:gd name="adj2" fmla="val 35957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toco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125360"/>
          <a:ext cx="8686800" cy="5575320"/>
        </p:xfrm>
        <a:graphic>
          <a:graphicData uri="http://schemas.openxmlformats.org/drawingml/2006/table">
            <a:tbl>
              <a:tblPr/>
              <a:tblGrid>
                <a:gridCol w="1811160"/>
                <a:gridCol w="1663920"/>
                <a:gridCol w="1736640"/>
                <a:gridCol w="1782720"/>
                <a:gridCol w="1692360"/>
              </a:tblGrid>
              <a:tr h="103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fo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Con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Observations et me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Objecti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Li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orgement hydr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égé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tèges floristiq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sité, surface terriè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cture diamétr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Végé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ositions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iamèt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5 inventair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étermination botanique de quelques tax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él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élation : comprendre le déterminisme de l’engor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Engorgement hydrique du s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Quelques profils sur le P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rof nappe (P1), couleur du s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54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Topograph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arte P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titudes relatives P3 P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6300720" y="3789360"/>
            <a:ext cx="432000" cy="72072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b4ecb4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60800">
            <a:off x="5292360" y="30686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b4ecb4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3068640"/>
            <a:ext cx="358560" cy="647640"/>
          </a:xfrm>
          <a:prstGeom prst="upDownArrow">
            <a:avLst>
              <a:gd name="adj1" fmla="val 50000"/>
              <a:gd name="adj2" fmla="val 35957"/>
            </a:avLst>
          </a:prstGeom>
          <a:solidFill>
            <a:srgbClr val="b4ecb4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776760" y="1916280"/>
            <a:ext cx="2795400" cy="334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173480" y="2565720"/>
            <a:ext cx="1712520" cy="1058040"/>
            <a:chOff x="4173480" y="2565720"/>
            <a:chExt cx="1712520" cy="1058040"/>
          </a:xfrm>
        </p:grpSpPr>
        <p:sp>
          <p:nvSpPr>
            <p:cNvPr id="148" name=""/>
            <p:cNvSpPr/>
            <p:nvPr/>
          </p:nvSpPr>
          <p:spPr>
            <a:xfrm rot="16570800">
              <a:off x="5544000" y="2887920"/>
              <a:ext cx="358920" cy="287280"/>
            </a:xfrm>
            <a:prstGeom prst="lightningBol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9620400">
              <a:off x="4210920" y="3284280"/>
              <a:ext cx="358920" cy="287280"/>
            </a:xfrm>
            <a:prstGeom prst="lightningBol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2632400">
              <a:off x="4715640" y="2637000"/>
              <a:ext cx="358920" cy="287280"/>
            </a:xfrm>
            <a:prstGeom prst="lightningBol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tér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es relev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pédologiqu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=&gt;A la tariè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=&gt;Prélé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514680" y="1484280"/>
            <a:ext cx="5329440" cy="3807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42920" y="5300640"/>
            <a:ext cx="4572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fondeur de nap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c une jauge gradu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4:31:31Z</dcterms:created>
  <dc:creator>Administrateur</dc:creator>
  <dc:description/>
  <dc:language>en-US</dc:language>
  <cp:lastModifiedBy>Eric Marcon</cp:lastModifiedBy>
  <dcterms:modified xsi:type="dcterms:W3CDTF">2004-10-01T11:56:34Z</dcterms:modified>
  <cp:revision>52</cp:revision>
  <dc:subject/>
  <dc:title>Effets de l’engorgement hydrique sur la couleur des sols  et la distribution des espèces : étude du BAFOG</dc:title>
</cp:coreProperties>
</file>