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4.wmf" ContentType="image/x-wmf"/>
  <Override PartName="/ppt/media/image27.jpeg" ContentType="image/jpeg"/>
  <Override PartName="/ppt/media/image6.wmf" ContentType="image/x-wmf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31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0800" y="-2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mportement lianescent de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T.melinon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8381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fr/imgres?imgurl=http://mc.clintock.com/about/ICON-images/Pizza.jpg&amp;imgrefurl=http://mc.clintock.com/about/archives/2003_03.php&amp;h=185&amp;w=250&amp;sz=31&amp;tbnid=67kQR5159EEJ:&amp;tbnh=78&amp;tbnw=105&amp;start=35&amp;prev=/images%3Fq%3Dpizza%26start%3D20%26imgsz%3Dsmall%257Cmedium%257Clarge%257Cxlarge%26hl%3Dfr%26lr%3D%26ie%3DUTF-8%26sa%3DN" TargetMode="External"/><Relationship Id="rId7" Type="http://schemas.openxmlformats.org/officeDocument/2006/relationships/image" Target="../media/image29.jpeg"/><Relationship Id="rId8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9" Type="http://schemas.openxmlformats.org/officeDocument/2006/relationships/image" Target="../media/image27.jpeg"/><Relationship Id="rId10" Type="http://schemas.openxmlformats.org/officeDocument/2006/relationships/hyperlink" Target="http://images.google.fr/imgres?imgurl=http://mc.clintock.com/about/ICON-images/Pizza.jpg&amp;imgrefurl=http://mc.clintock.com/about/archives/2003_03.php&amp;h=185&amp;w=250&amp;sz=31&amp;tbnid=67kQR5159EEJ:&amp;tbnh=78&amp;tbnw=105&amp;start=35&amp;prev=/images%3Fq%3Dpizza%26start%3D20%26imgsz%3Dsmall%257Cmedium%257Clarge%257Cxlarge%26hl%3Dfr%26lr%3D%26ie%3DUTF-8%26sa%3DN" TargetMode="External"/><Relationship Id="rId11" Type="http://schemas.openxmlformats.org/officeDocument/2006/relationships/image" Target="../media/image29.jpeg"/><Relationship Id="rId12" Type="http://schemas.openxmlformats.org/officeDocument/2006/relationships/hyperlink" Target="http://images.google.fr/imgres?imgurl=http://mc.clintock.com/about/ICON-images/Pizza.jpg&amp;imgrefurl=http://mc.clintock.com/about/archives/2003_03.php&amp;h=185&amp;w=250&amp;sz=31&amp;tbnid=67kQR5159EEJ:&amp;tbnh=78&amp;tbnw=105&amp;start=35&amp;prev=/images%3Fq%3Dpizza%26start%3D20%26imgsz%3Dsmall%257Cmedium%257Clarge%257Cxlarge%26hl%3Dfr%26lr%3D%26ie%3DUTF-8%26sa%3DN" TargetMode="External"/><Relationship Id="rId13" Type="http://schemas.openxmlformats.org/officeDocument/2006/relationships/image" Target="../media/image29.jpe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fr/imgres?imgurl=http://www.ensic.u-nancy.fr/PROMEMA/SEMINAR/SEM97/PosterUn/Clipart/Pouce.jpg&amp;imgrefurl=http://www.ensic.u-nancy.fr/PROMEMA/SEMINAR/SEM97/PosterUn/Subject.htm&amp;h=247&amp;w=199&amp;sz=11&amp;tbnid=YxPVg1pJFr4J:&amp;tbnh=104&amp;tbnw=84&amp;start=3&amp;prev=/images%3Fq%3Dpouce%26imgsz%3Dsmall%257Cmedium%257Clarge%257Cxlarge%26hl%3Dfr%26lr%3D%26ie%3DUTF-8%26sa%3D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perso.wanadoo.fr/therese.eveilleau/pages/jeux_mat/Images/cible.gif&amp;imgrefurl=http://perso.wanadoo.fr/therese.eveilleau/pages/jeux_mat/textes/pan.htm&amp;h=56&amp;w=42&amp;sz=8&amp;tbnid=zAPa4FHD4loJ:&amp;tbnh=56&amp;tbnw=42&amp;start=7&amp;prev=/images%3Fq%3Dcible%26imgsz%3Dicon%26hl%3Dfr%26lr%3D%26ie%3DUTF-8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fr/imgres?imgurl=http://cigales.free.fr/iso_album/marteau.gif&amp;imgrefurl=http://cigales.free.fr/pageLibre00010024.html&amp;h=235&amp;w=207&amp;sz=8&amp;tbnid=N6f3PP5xivAJ:&amp;tbnh=103&amp;tbnw=91&amp;start=6&amp;prev=/images%3Fq%3Dmarteau%26imgsz%3Dsmall%257Cmedium%257Clarge%257Cxlarge%26hl%3Dfr%26lr%3D%26ie%3DUTF-8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fr/imgres?imgurl=http://lajoie.uqam.ca/percept/Bloc3/courbe-audibilite.jpg&amp;imgrefurl=http://lajoie.uqam.ca/percept/Bloc3/bloc3-audition11.html&amp;h=447&amp;w=673&amp;sz=61&amp;tbnid=gMENYSLL5zMJ:&amp;tbnh=90&amp;tbnw=135&amp;start=20&amp;prev=/images%3Fq%3Dcourbe%26imgsz%3Dsmall%257Cmedium%257Clarge%257Cxlarge%26hl%3Dfr%26lr%3D%26ie%3DUTF-8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perso.wanadoo.fr/therese.eveilleau/pages/jeux_mat/Images/cible.gif&amp;imgrefurl=http://perso.wanadoo.fr/therese.eveilleau/pages/jeux_mat/textes/pan.htm&amp;h=56&amp;w=42&amp;sz=8&amp;tbnid=zAPa4FHD4loJ:&amp;tbnh=56&amp;tbnw=42&amp;start=7&amp;prev=/images%3Fq%3Dcible%26imgsz%3Dicon%26hl%3Dfr%26lr%3D%26ie%3DUTF-8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u-bordeaux1.fr/suaps/tir%20arc.htm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pearl.fr/images/produits/S4011.jpg&amp;imgrefurl=http://www.pearl.fr/article-S4011.html&amp;h=250&amp;w=200&amp;sz=15&amp;tbnid=VqSi0NL5zXMJ:&amp;tbnh=105&amp;tbnw=84&amp;start=7&amp;prev=/images%3Fq%3D%2522m%25C3%25A8tre%2Bruban%2522%26imgsz%3Dsmall%257Cmedium%257Clarge%257Cxlarge%26hl%3Dfr%26lr%3D%26ie%3DUTF-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fr/imgres?imgurl=http://www.ecole-plus.com/dessin/ecole/poubelle.jpg&amp;imgrefurl=http://www.ecole-plus.com/dessin/ecole.htm&amp;h=283&amp;w=183&amp;sz=9&amp;tbnid=-RepzKkus-UJ:&amp;tbnh=109&amp;tbnw=71&amp;start=4&amp;prev=/images%3Fq%3Dpoubelle%26imgsz%3Dsmall%257Cmedium%257Clarge%257Cxlarge%26hl%3Dfr%26lr%3D%26ie%3DUTF-8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61920"/>
            <a:ext cx="81532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00"/>
                </a:solidFill>
                <a:latin typeface="Tahoma"/>
              </a:rPr>
              <a:t>Constitution d’un échantillon dans le cadre d’une étude sur la lianescence de </a:t>
            </a:r>
            <a:r>
              <a:rPr b="1" i="1" lang="fr-FR" sz="3600" spc="-1" strike="noStrike">
                <a:solidFill>
                  <a:srgbClr val="003300"/>
                </a:solidFill>
                <a:latin typeface="Tahoma"/>
              </a:rPr>
              <a:t>Tachigali melinonii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41720" y="50086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99"/>
                </a:solidFill>
                <a:latin typeface="Tahoma"/>
              </a:rPr>
              <a:t>FTH -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81080" cy="166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10000" y="685800"/>
            <a:ext cx="69840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53000" y="743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69228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1066680" cy="401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86640" y="838080"/>
            <a:ext cx="1208160" cy="31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5410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2148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s la direction de Gaëlle Jaouen et Meriem Fourn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91960" y="1041480"/>
            <a:ext cx="7542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ction des variables corrélées avec ACP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ation des couples optimaux par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(regroupement arboresc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irmation « à la main » des couples obt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3080" y="2102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Méthodes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240" y="147240"/>
            <a:ext cx="78832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081080"/>
          <a:ext cx="514044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1080"/>
                    <a:ext cx="51404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76960" y="1650960"/>
            <a:ext cx="2970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tillon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è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 ~ 150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plement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but 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hase juvé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00"/>
                </a:solidFill>
                <a:latin typeface="Times New Roman"/>
              </a:rPr>
              <a:t>1. Allométries hauteur-diamètr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00"/>
                </a:solidFill>
                <a:latin typeface="Times New Roman"/>
              </a:rPr>
              <a:t>1. Allométries hauteur-diamètr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7400" y="1700280"/>
            <a:ext cx="2662200" cy="26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tillon pl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« vieux »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 ~ 155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e de l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hase juvé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789200"/>
            <a:ext cx="5064120" cy="31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59200" y="1700280"/>
            <a:ext cx="3357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 entre 0,2 et 0,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rbres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autopor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 croît ave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82600" y="1351080"/>
            <a:ext cx="4446720" cy="42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8560" y="867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440000"/>
          <a:ext cx="4541760" cy="390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4541760" cy="39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476600" y="2019240"/>
            <a:ext cx="36608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chantillon plus « vieux »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F plus grand que pour notre échanti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ilieu plus dense et plus d’opportunit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nir probable de notre échantillon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25960" y="1768320"/>
            <a:ext cx="42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sultats cohérents avec des relations classiqu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F=f(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280" y="52894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terck et Bongers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62000" y="1219320"/>
            <a:ext cx="4686120" cy="4039920"/>
            <a:chOff x="162000" y="1219320"/>
            <a:chExt cx="4686120" cy="40399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62000" y="1219320"/>
              <a:ext cx="4163760" cy="4039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18" name=""/>
            <p:cNvGrpSpPr/>
            <p:nvPr/>
          </p:nvGrpSpPr>
          <p:grpSpPr>
            <a:xfrm>
              <a:off x="1022400" y="2111400"/>
              <a:ext cx="3825720" cy="1985400"/>
              <a:chOff x="1022400" y="2111400"/>
              <a:chExt cx="3825720" cy="1985400"/>
            </a:xfrm>
          </p:grpSpPr>
          <p:sp>
            <p:nvSpPr>
              <p:cNvPr id="119" name=""/>
              <p:cNvSpPr/>
              <p:nvPr/>
            </p:nvSpPr>
            <p:spPr>
              <a:xfrm>
                <a:off x="1022400" y="2111400"/>
                <a:ext cx="784080" cy="1306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589040" y="3330720"/>
                <a:ext cx="239760" cy="457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387440" y="3637080"/>
                <a:ext cx="3460680" cy="459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otre échantillon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30120" y="3465360"/>
            <a:ext cx="2644920" cy="2821320"/>
            <a:chOff x="330120" y="3465360"/>
            <a:chExt cx="2644920" cy="28213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30120" y="3465360"/>
              <a:ext cx="2644920" cy="28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 txBox="1"/>
            <p:nvPr/>
          </p:nvSpPr>
          <p:spPr>
            <a:xfrm>
              <a:off x="330120" y="3465360"/>
              <a:ext cx="2644920" cy="282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8960" y="45720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par ACP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19465" b="8536"/>
          <a:stretch/>
        </p:blipFill>
        <p:spPr>
          <a:xfrm>
            <a:off x="309600" y="1004760"/>
            <a:ext cx="2673360" cy="29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27480" y="2585880"/>
            <a:ext cx="369576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gt; Identification de deux principaux groupements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8400" y="1746360"/>
            <a:ext cx="449280" cy="9144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47800" y="4226040"/>
            <a:ext cx="881280" cy="5652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84440" y="1717560"/>
            <a:ext cx="1114200" cy="5652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120" y="4216320"/>
            <a:ext cx="449280" cy="9144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85960" y="5238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19465" b="8536"/>
          <a:stretch/>
        </p:blipFill>
        <p:spPr>
          <a:xfrm>
            <a:off x="290520" y="1352520"/>
            <a:ext cx="4280040" cy="4570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 flipV="1">
            <a:off x="1065240" y="2917440"/>
            <a:ext cx="3354480" cy="1763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92360" y="2301480"/>
            <a:ext cx="1979640" cy="2917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9552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ille crois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24160" y="17496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gueur crois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7680" y="2583000"/>
            <a:ext cx="33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aractérisation de la taille et de la vigueur des individus par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524400" y="1330200"/>
            <a:ext cx="4278240" cy="3562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3680" y="4567320"/>
            <a:ext cx="3444840" cy="166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36496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ation du 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&gt; Confirmation de la redondance des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65200" y="4751280"/>
            <a:ext cx="531720" cy="384120"/>
          </a:xfrm>
          <a:custGeom>
            <a:avLst/>
            <a:gdLst>
              <a:gd name="textAreaLeft" fmla="*/ 82800 w 531720"/>
              <a:gd name="textAreaRight" fmla="*/ 465480 w 53172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54240" y="4673520"/>
            <a:ext cx="270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ff"/>
                </a:solidFill>
                <a:latin typeface="Verdana"/>
              </a:rPr>
              <a:t>Élimination de troi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6840" y="39060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7480" y="393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2. Sélection des couples (1)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1346040"/>
            <a:ext cx="75438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roupement par distances minimales entre les points dans l’espace des 10 variables : 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1603440" y="3257640"/>
            <a:ext cx="6338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uplage d’individus avec une variabilité minimale sur l’ensemble des variables mesur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6040" y="3424320"/>
            <a:ext cx="531720" cy="384120"/>
          </a:xfrm>
          <a:custGeom>
            <a:avLst/>
            <a:gdLst>
              <a:gd name="textAreaLeft" fmla="*/ 82800 w 531720"/>
              <a:gd name="textAreaRight" fmla="*/ 465480 w 53172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8120" y="3238560"/>
            <a:ext cx="7139160" cy="2149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240" y="1594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Problématiqu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831960" y="1992240"/>
            <a:ext cx="396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ux stratégies « classiques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nes et épiph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res : prise de risque en favorisant la croissance en hau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880" y="952560"/>
            <a:ext cx="66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lles stratégies pour des jeunes plantes héliophiles en conditions défavorab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00160" y="4368960"/>
            <a:ext cx="4946040" cy="1937880"/>
            <a:chOff x="200160" y="4368960"/>
            <a:chExt cx="4946040" cy="1937880"/>
          </a:xfrm>
        </p:grpSpPr>
        <p:sp>
          <p:nvSpPr>
            <p:cNvPr id="56" name=""/>
            <p:cNvSpPr/>
            <p:nvPr/>
          </p:nvSpPr>
          <p:spPr>
            <a:xfrm>
              <a:off x="200160" y="5033880"/>
              <a:ext cx="526320" cy="308160"/>
            </a:xfrm>
            <a:custGeom>
              <a:avLst/>
              <a:gdLst>
                <a:gd name="textAreaLeft" fmla="*/ 82080 w 526320"/>
                <a:gd name="textAreaRight" fmla="*/ 460800 w 526320"/>
                <a:gd name="textAreaTop" fmla="*/ 77040 h 308160"/>
                <a:gd name="textAreaBottom" fmla="*/ 23112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3520" y="4368960"/>
              <a:ext cx="443268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Times New Roman"/>
                </a:rPr>
                <a:t>Une stratégie « mixte »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T. melinonii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emble s’appuyer sur ses congénères</a:t>
              </a:r>
              <a:r>
                <a:rPr b="0" lang="fr-FR" sz="24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30760" y="2023920"/>
            <a:ext cx="3233880" cy="288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43680" y="2050920"/>
            <a:ext cx="268596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840" y="393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2. Sélection des coupl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1000" y="4656240"/>
            <a:ext cx="6600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couples constitués pour 107 arbres inventor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ouples « mixtes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6240" y="1054080"/>
            <a:ext cx="4079520" cy="3603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338720" y="2509920"/>
            <a:ext cx="35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ndrogramme des indivi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0920" y="3484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701720"/>
            <a:ext cx="8051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uples constitué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 nombre suffisant (faire face aux incidents de parcou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 bonne qualité (similitude sur l‘ensemble des vari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 gamme de conditions de croissance (état actuel des arbres, environne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19778400">
            <a:off x="2584440" y="20448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200" y="88344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... une soirée pizza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0000" y="1751040"/>
            <a:ext cx="5362560" cy="4022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681800">
            <a:off x="299880" y="1184400"/>
            <a:ext cx="909720" cy="90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20326800">
            <a:off x="6924600" y="4903560"/>
            <a:ext cx="1233720" cy="9158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19778400">
            <a:off x="2665440" y="586692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04920" y="4737240"/>
            <a:ext cx="1000080" cy="742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 rot="1468800">
            <a:off x="6671880" y="36504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40040" y="1851120"/>
            <a:ext cx="4518000" cy="4089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76840" y="0"/>
            <a:ext cx="2109960" cy="26114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Bon courage Gaëlle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1240" y="1594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Problématiqu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731880" y="131112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othè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cette stratégie permettr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abandon de la fonction de sout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9360" y="1996920"/>
            <a:ext cx="272880" cy="776520"/>
          </a:xfrm>
          <a:custGeom>
            <a:avLst/>
            <a:gdLst>
              <a:gd name="textAreaLeft" fmla="*/ 36360 w 272880"/>
              <a:gd name="textAreaRight" fmla="*/ 236520 w 272880"/>
              <a:gd name="textAreaTop" fmla="*/ 135720 h 776520"/>
              <a:gd name="textAreaBottom" fmla="*/ 563040 h 7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6400" y="2532240"/>
            <a:ext cx="273240" cy="776160"/>
          </a:xfrm>
          <a:custGeom>
            <a:avLst/>
            <a:gdLst>
              <a:gd name="textAreaLeft" fmla="*/ 36360 w 273240"/>
              <a:gd name="textAreaRight" fmla="*/ 236880 w 273240"/>
              <a:gd name="textAreaTop" fmla="*/ 135720 h 776160"/>
              <a:gd name="textAreaBottom" fmla="*/ 562680 h 7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2120" y="3112920"/>
            <a:ext cx="272880" cy="776520"/>
          </a:xfrm>
          <a:custGeom>
            <a:avLst/>
            <a:gdLst>
              <a:gd name="textAreaLeft" fmla="*/ 36360 w 272880"/>
              <a:gd name="textAreaRight" fmla="*/ 236520 w 272880"/>
              <a:gd name="textAreaTop" fmla="*/ 135720 h 776520"/>
              <a:gd name="textAreaBottom" fmla="*/ 563040 h 7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880" y="236052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économie de mati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880" y="2897280"/>
            <a:ext cx="50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recouvrement de la vigu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1880" y="3471840"/>
            <a:ext cx="586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meilleure croissance en hau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011480"/>
            <a:ext cx="78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se de risq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ortante : flambement, effond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99896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s sont les conditions les plus favorables à ce comportement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48784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lles sont les réponses dues à l’utilisation d’un suppor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0840" y="2306160"/>
            <a:ext cx="63435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f(s) / stratég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9240" y="1930320"/>
            <a:ext cx="641520" cy="855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3800" y="278928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3322800"/>
            <a:ext cx="170496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Objectif de l’étude 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671120"/>
            <a:ext cx="784692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er l’hypothèse suivant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« la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disponibilité d’un suppor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odifie le mode de croissance de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T. Melinonii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et peut entraîner un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comportement lianescen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 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Stratégie 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96640" y="1646280"/>
            <a:ext cx="7846920" cy="36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er des couples d’individus « semblable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teurer un individu de chaque couple (l’autre est « témoin 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ser pendant un an le développement des arb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re sur l’effet des tute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Les objectifs du proje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7440" y="1701720"/>
            <a:ext cx="7542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écrire l’état d’un ensemble d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. Melinoni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juvén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er des couples d’individus « semblable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9320" y="1071720"/>
            <a:ext cx="1022400" cy="1363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Tir à l'ar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0200" y="12841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3800" y="-7092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Stratégie 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65960" y="1512720"/>
            <a:ext cx="800280" cy="1000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64960" y="717120"/>
            <a:ext cx="72756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x de deux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zones de recuei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Mesur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r les individus rencontrés un certain nombre de grandeurs considéré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me pertinentes pour l’é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éterminer l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aractéristiques globales de l’échantil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 termes de prise de risque dans la croissance en hau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re de l’analyse l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variables redond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stituer des cou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 similarité sur l’ensemble des variables reten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6720" y="3583080"/>
            <a:ext cx="511200" cy="78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6438960" y="487692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6472080" y="577800"/>
            <a:ext cx="7905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3080" y="2102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Méthodes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34440" y="1006200"/>
            <a:ext cx="7543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randeurs mesuré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mens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t de vigueu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t architectu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ronn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aractérisation de l’échantillon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métries H/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alculs de hauteurs critiques et facteurs de ris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9:11:34Z</dcterms:created>
  <dc:creator>Techno</dc:creator>
  <dc:description/>
  <dc:language>en-US</dc:language>
  <cp:lastModifiedBy>Eric Marcon</cp:lastModifiedBy>
  <dcterms:modified xsi:type="dcterms:W3CDTF">2004-10-01T17:56:35Z</dcterms:modified>
  <cp:revision>228</cp:revision>
  <dc:subject/>
  <dc:title>Biomécanique  d’un jeune peuplement  dans une trouée de chablis</dc:title>
</cp:coreProperties>
</file>