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7.png" ContentType="image/png"/>
  <Override PartName="/ppt/media/image15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C8C-4155-4B15-8EE8-03221130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578-12D5-4159-94F6-6FD07857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040-A562-4A2E-9D5B-181FC7DD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487-1F44-466E-81D1-96FCAD1D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BF7C-B85F-45D8-9B21-6C4933F5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7391-BC61-47DA-8F67-CA34A371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66C9-8D2E-46A2-94D5-84583F15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1AF3-41A2-40BA-8148-C5EC86B0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83D4-CB8E-4513-A4DC-03C9EF20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-349200"/>
            <a:ext cx="746748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9C4E-75DC-4BEE-A419-F5C7DC37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8D4E-43D8-4CA4-87CB-14D2DF68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F26-98B2-437D-86B7-861D9E73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FB7C-D0C6-4982-B01A-86E5C5AE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65BC-4FFC-44B7-8F4C-076F7681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0118-1784-4C62-8903-D77F6E90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8FD5-3563-4DD5-9BF8-A7B5935C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A2FE-0091-4EEA-BCF2-047639BF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E14-E8F5-440E-AC2C-30A768B6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9CE-0770-4189-93B1-45F28C3A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9206-E78E-412F-AE63-18D855B6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-349200"/>
            <a:ext cx="746748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869-A914-48E5-95F2-009FE2CE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08E-37BD-4872-847A-ED5ADEBC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E6B-655A-4996-BDB5-F2323DAC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3A8-6EE1-4FD1-AC1C-F3E154DE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C92D-E75F-4557-8D72-2835ED686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720D-42D6-4F68-A986-37F055EF8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42920" y="1125360"/>
            <a:ext cx="6265800" cy="4699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035760"/>
            <a:ext cx="82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tage effectué sous la direction de                                  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      Stéphane GUITTET ONF Caye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4292640"/>
            <a:ext cx="7561080" cy="1739520"/>
          </a:xfrm>
          <a:prstGeom prst="rect">
            <a:avLst/>
          </a:prstGeom>
          <a:solidFill>
            <a:srgbClr val="ffcc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Evaluation des dégâts d’exploitation sur le peuplement forestier résiduel en forêt aménagée de Guyane franç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(Parcelle Maripa 64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-3240"/>
            <a:ext cx="746748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Laëtitia BRECHE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Alexis Yeboa KOFFI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Beatriz SOENGAS LOPEZ</a:t>
            </a:r>
            <a:endParaRPr b="0" lang="en-US" sz="1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533520" y="228600"/>
            <a:ext cx="993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00"/>
                </a:solidFill>
                <a:latin typeface="Comic Sans MS"/>
              </a:rPr>
              <a:t>                           </a:t>
            </a:r>
            <a:r>
              <a:rPr b="1" lang="fr-FR" sz="2000" spc="-1" strike="noStrike">
                <a:solidFill>
                  <a:srgbClr val="003300"/>
                </a:solidFill>
                <a:latin typeface="Comic Sans MS"/>
              </a:rPr>
              <a:t>MATERIELS ET METHODES                                                      </a:t>
            </a:r>
            <a:r>
              <a:rPr b="1" lang="fr-FR" sz="2000" spc="-1" strike="noStrike">
                <a:solidFill>
                  <a:srgbClr val="0033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128000" cy="4673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5661000"/>
            <a:ext cx="80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Outil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: boussole, clisimètre, rubalise, compas, machette, topofil, mètre et produit anti-mous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119880"/>
            <a:ext cx="792468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00"/>
                </a:solidFill>
                <a:latin typeface="Comic Sans MS"/>
              </a:rPr>
              <a:t>MATERIELS ET METHODES                                        Calculs et statistiques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la signification des résultats est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 vérifiée par le test t de Student:                                                     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            t= (r*(n-2)^</a:t>
            </a:r>
            <a:r>
              <a:rPr b="0" lang="fr-FR" sz="28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/(1-r</a:t>
            </a:r>
            <a:r>
              <a:rPr b="0" lang="fr-FR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fr-FR" sz="2800" spc="-1" strike="noStrike" baseline="30000">
                <a:solidFill>
                  <a:srgbClr val="000000"/>
                </a:solidFill>
                <a:latin typeface="Comic Sans MS"/>
              </a:rPr>
              <a:t>1/2                                                       </a:t>
            </a:r>
            <a:r>
              <a:rPr b="0" lang="fr-FR" sz="28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 baseline="30000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 </a:t>
            </a:r>
            <a:r>
              <a:rPr b="0" lang="fr-FR" sz="28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la méthode du Chi-Deu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hi-Deux=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Σ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(valeur exp./valeur théo.)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le logiciel stat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28600" y="1752480"/>
            <a:ext cx="7619760" cy="4419360"/>
            <a:chOff x="228600" y="1752480"/>
            <a:chExt cx="7619760" cy="4419360"/>
          </a:xfrm>
        </p:grpSpPr>
        <p:grpSp>
          <p:nvGrpSpPr>
            <p:cNvPr id="149" name=""/>
            <p:cNvGrpSpPr/>
            <p:nvPr/>
          </p:nvGrpSpPr>
          <p:grpSpPr>
            <a:xfrm>
              <a:off x="234000" y="1757880"/>
              <a:ext cx="7607520" cy="4407120"/>
              <a:chOff x="234000" y="1757880"/>
              <a:chExt cx="7607520" cy="44071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234000" y="1757880"/>
                <a:ext cx="1900080" cy="704520"/>
                <a:chOff x="234000" y="1757880"/>
                <a:chExt cx="1900080" cy="7045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17520" y="1757880"/>
                  <a:ext cx="1732680" cy="70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000" y="1757880"/>
                  <a:ext cx="1900080" cy="70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134440" y="1757880"/>
                <a:ext cx="3804480" cy="704520"/>
                <a:chOff x="2134440" y="1757880"/>
                <a:chExt cx="3804480" cy="7045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217600" y="1757880"/>
                  <a:ext cx="3637440" cy="70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Zonage a prior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134440" y="1757880"/>
                  <a:ext cx="3804480" cy="70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5939640" y="1757880"/>
                <a:ext cx="1901880" cy="704520"/>
                <a:chOff x="5939640" y="1757880"/>
                <a:chExt cx="1901880" cy="7045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23160" y="1757880"/>
                  <a:ext cx="1734480" cy="70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939640" y="1757880"/>
                  <a:ext cx="1901880" cy="70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34000" y="2462760"/>
                <a:ext cx="1900080" cy="881280"/>
                <a:chOff x="234000" y="2462760"/>
                <a:chExt cx="1900080" cy="881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17520" y="2462760"/>
                  <a:ext cx="1732680" cy="88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erturbation constaté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34000" y="2462760"/>
                  <a:ext cx="1900080" cy="88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134440" y="2462760"/>
                <a:ext cx="1901880" cy="881280"/>
                <a:chOff x="2134440" y="2462760"/>
                <a:chExt cx="1901880" cy="881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217600" y="2462760"/>
                  <a:ext cx="1734840" cy="88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aturel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134440" y="2462760"/>
                  <a:ext cx="1901880" cy="88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4037040" y="2462760"/>
                <a:ext cx="1901880" cy="881280"/>
                <a:chOff x="4037040" y="2462760"/>
                <a:chExt cx="1901880" cy="881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120200" y="2462760"/>
                  <a:ext cx="1734840" cy="88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erturbé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037040" y="2462760"/>
                  <a:ext cx="1901880" cy="88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939640" y="2462760"/>
                <a:ext cx="1901880" cy="881280"/>
                <a:chOff x="5939640" y="2462760"/>
                <a:chExt cx="1901880" cy="881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023160" y="2462760"/>
                  <a:ext cx="1734480" cy="88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939640" y="2462760"/>
                  <a:ext cx="1901880" cy="88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000" y="3344760"/>
                <a:ext cx="1900080" cy="704520"/>
                <a:chOff x="234000" y="3344760"/>
                <a:chExt cx="1900080" cy="7045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17520" y="3344760"/>
                  <a:ext cx="1732680" cy="70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ucune (N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000" y="3344760"/>
                  <a:ext cx="1900080" cy="70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134440" y="3344760"/>
                <a:ext cx="1901880" cy="704520"/>
                <a:chOff x="2134440" y="3344760"/>
                <a:chExt cx="1901880" cy="7045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217600" y="3344760"/>
                  <a:ext cx="1734840" cy="70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134440" y="3344760"/>
                  <a:ext cx="1901880" cy="70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037040" y="3344760"/>
                <a:ext cx="1901880" cy="704520"/>
                <a:chOff x="4037040" y="3344760"/>
                <a:chExt cx="1901880" cy="7045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120200" y="3344760"/>
                  <a:ext cx="1734840" cy="70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037040" y="3344760"/>
                  <a:ext cx="1901880" cy="70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939640" y="3344760"/>
                <a:ext cx="1901880" cy="704520"/>
                <a:chOff x="5939640" y="3344760"/>
                <a:chExt cx="1901880" cy="7045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023160" y="3344760"/>
                  <a:ext cx="1734480" cy="70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939640" y="3344760"/>
                  <a:ext cx="1901880" cy="70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34000" y="4050000"/>
                <a:ext cx="1900080" cy="705240"/>
                <a:chOff x="234000" y="4050000"/>
                <a:chExt cx="1900080" cy="7052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17520" y="4050000"/>
                  <a:ext cx="1732680" cy="70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xploita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34000" y="4050000"/>
                  <a:ext cx="1900080" cy="70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134440" y="4050000"/>
                <a:ext cx="1901880" cy="705240"/>
                <a:chOff x="2134440" y="4050000"/>
                <a:chExt cx="1901880" cy="7052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217600" y="4050000"/>
                  <a:ext cx="1734840" cy="70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134440" y="4050000"/>
                  <a:ext cx="1901880" cy="70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4037040" y="4050000"/>
                <a:ext cx="1901880" cy="705240"/>
                <a:chOff x="4037040" y="4050000"/>
                <a:chExt cx="1901880" cy="7052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120200" y="4050000"/>
                  <a:ext cx="1734840" cy="70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037040" y="4050000"/>
                  <a:ext cx="1901880" cy="70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5939640" y="4050000"/>
                <a:ext cx="1901880" cy="705240"/>
                <a:chOff x="5939640" y="4050000"/>
                <a:chExt cx="1901880" cy="7052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023160" y="4050000"/>
                  <a:ext cx="1734480" cy="70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939640" y="4050000"/>
                  <a:ext cx="1901880" cy="70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234000" y="4755600"/>
                <a:ext cx="1900080" cy="704520"/>
                <a:chOff x="234000" y="4755600"/>
                <a:chExt cx="1900080" cy="7045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317520" y="4755600"/>
                  <a:ext cx="1732680" cy="70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Route forestiè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34000" y="4755600"/>
                  <a:ext cx="1900080" cy="70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134440" y="4755600"/>
                <a:ext cx="1901880" cy="704520"/>
                <a:chOff x="2134440" y="4755600"/>
                <a:chExt cx="1901880" cy="7045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217600" y="4755600"/>
                  <a:ext cx="1734840" cy="70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134440" y="4755600"/>
                  <a:ext cx="1901880" cy="70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037040" y="4755600"/>
                <a:ext cx="1901880" cy="704520"/>
                <a:chOff x="4037040" y="4755600"/>
                <a:chExt cx="1901880" cy="7045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120200" y="4755600"/>
                  <a:ext cx="1734840" cy="70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037040" y="4755600"/>
                  <a:ext cx="1901880" cy="70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939640" y="4755600"/>
                <a:ext cx="1901880" cy="704520"/>
                <a:chOff x="5939640" y="4755600"/>
                <a:chExt cx="1901880" cy="7045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023160" y="4755600"/>
                  <a:ext cx="1734480" cy="70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939640" y="4755600"/>
                  <a:ext cx="1901880" cy="70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234000" y="5460480"/>
                <a:ext cx="1900080" cy="704520"/>
                <a:chOff x="234000" y="5460480"/>
                <a:chExt cx="1900080" cy="7045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7520" y="5460480"/>
                  <a:ext cx="1732680" cy="70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34000" y="5460480"/>
                  <a:ext cx="1900080" cy="70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134440" y="5460480"/>
                <a:ext cx="1901880" cy="704520"/>
                <a:chOff x="2134440" y="5460480"/>
                <a:chExt cx="1901880" cy="7045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217600" y="5460480"/>
                  <a:ext cx="1734840" cy="70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134440" y="5460480"/>
                  <a:ext cx="1901880" cy="70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037040" y="5460480"/>
                <a:ext cx="1901880" cy="704520"/>
                <a:chOff x="4037040" y="5460480"/>
                <a:chExt cx="1901880" cy="7045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120200" y="5460480"/>
                  <a:ext cx="1734840" cy="70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7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37040" y="5460480"/>
                  <a:ext cx="1901880" cy="70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5939640" y="5460480"/>
                <a:ext cx="1901880" cy="704520"/>
                <a:chOff x="5939640" y="5460480"/>
                <a:chExt cx="1901880" cy="7045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023160" y="5460480"/>
                  <a:ext cx="1734480" cy="70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939640" y="5460480"/>
                  <a:ext cx="1901880" cy="70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228600" y="1752480"/>
              <a:ext cx="7619760" cy="4419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301120" y="42696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stribution des place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560" y="-2520"/>
            <a:ext cx="746748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00"/>
                </a:solidFill>
                <a:latin typeface="Comic Sans MS"/>
              </a:rPr>
              <a:t>RESULTATS</a:t>
            </a:r>
            <a:br>
              <a:rPr sz="2000"/>
            </a:br>
            <a:r>
              <a:rPr b="1" lang="fr-FR" sz="2000" spc="-1" strike="noStrike">
                <a:solidFill>
                  <a:srgbClr val="003300"/>
                </a:solidFill>
                <a:latin typeface="Comic Sans MS"/>
              </a:rPr>
              <a:t>Zones de perturbations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7272360" cy="50641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1840" y="5896080"/>
            <a:ext cx="76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Maximum de perturbation à une distance d’environ 50m des pistes second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240" y="348480"/>
            <a:ext cx="746748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00"/>
                </a:solidFill>
                <a:latin typeface="Comic Sans MS"/>
              </a:rPr>
              <a:t>RESULTATS</a:t>
            </a:r>
            <a:br>
              <a:rPr sz="2000"/>
            </a:br>
            <a:r>
              <a:rPr b="1" lang="fr-FR" sz="2000" spc="-1" strike="noStrike">
                <a:solidFill>
                  <a:srgbClr val="003300"/>
                </a:solidFill>
                <a:latin typeface="Comic Sans MS"/>
              </a:rPr>
              <a:t>Proportion des types de perturbation sur les placettes</a:t>
            </a:r>
            <a:r>
              <a:rPr b="1" lang="fr-FR" sz="20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01760" y="1347840"/>
          <a:ext cx="7115040" cy="40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1347840"/>
                    <a:ext cx="711504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376200" y="5680080"/>
            <a:ext cx="73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Principaux types de perturbation = trouées et pistes de débard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2160"/>
            <a:ext cx="746784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00"/>
                </a:solidFill>
                <a:latin typeface="Comic Sans MS"/>
              </a:rPr>
              <a:t>RESULTATS</a:t>
            </a:r>
            <a:br>
              <a:rPr sz="2000"/>
            </a:br>
            <a:r>
              <a:rPr b="1" lang="fr-FR" sz="2000" spc="-1" strike="noStrike">
                <a:solidFill>
                  <a:srgbClr val="003300"/>
                </a:solidFill>
                <a:latin typeface="Comic Sans MS"/>
              </a:rPr>
              <a:t> La dimension choisie pour les placettes est-elle à l’échelle des perturbations?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1597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précision est de 8% au seuil de 95%                                       Des simulations avec des placettes plus grandes de rayon 20, 30 m donnent des résultats simil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4328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2506680"/>
            <a:ext cx="71992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560" y="-47160"/>
            <a:ext cx="746748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00"/>
                </a:solidFill>
                <a:latin typeface="Comic Sans MS"/>
              </a:rPr>
              <a:t>RESULTATS</a:t>
            </a:r>
            <a:br>
              <a:rPr sz="2000"/>
            </a:br>
            <a:r>
              <a:rPr b="1" lang="fr-FR" sz="2000" spc="-1" strike="noStrike">
                <a:solidFill>
                  <a:srgbClr val="003300"/>
                </a:solidFill>
                <a:latin typeface="Comic Sans MS"/>
              </a:rPr>
              <a:t>La reconstitution du peuplement initial est-elle possible sans inventaire complet tige &gt; 10 cm?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70722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as de différence significative au seuil de 5% en N et P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90720" y="990720"/>
          <a:ext cx="6264000" cy="1530360"/>
        </p:xfrm>
        <a:graphic>
          <a:graphicData uri="http://schemas.openxmlformats.org/drawingml/2006/table">
            <a:tbl>
              <a:tblPr/>
              <a:tblGrid>
                <a:gridCol w="2087280"/>
                <a:gridCol w="2089080"/>
                <a:gridCol w="20876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mbre de placet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nsité (en arbres/h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67694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-307800"/>
            <a:ext cx="7467480" cy="13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FR" sz="2000" spc="-1" strike="noStrike">
                <a:solidFill>
                  <a:srgbClr val="003300"/>
                </a:solidFill>
                <a:latin typeface="Comic Sans MS"/>
              </a:rPr>
              <a:t>RESULTATS</a:t>
            </a:r>
            <a:r>
              <a:rPr b="1" lang="fr-FR" sz="24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2400"/>
            </a:br>
            <a:r>
              <a:rPr b="1" lang="fr-FR" sz="2000" spc="-1" strike="noStrike">
                <a:solidFill>
                  <a:srgbClr val="003300"/>
                </a:solidFill>
                <a:latin typeface="Comic Sans MS"/>
              </a:rPr>
              <a:t>Proportion du statut vital des tiges selon leurs classes de diamètre (sur P)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6553080" cy="462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76200" y="5751360"/>
            <a:ext cx="758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Toutes les classes de diamètre sont touchées : il n’y a pas d’abattage contrôl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00"/>
                </a:solidFill>
                <a:latin typeface="Arial Black"/>
              </a:rPr>
              <a:t>RESULTATS</a:t>
            </a:r>
            <a:br>
              <a:rPr sz="2000"/>
            </a:br>
            <a:r>
              <a:rPr b="1" lang="fr-FR" sz="2000" spc="-1" strike="noStrike">
                <a:solidFill>
                  <a:srgbClr val="003300"/>
                </a:solidFill>
                <a:latin typeface="Arial Black"/>
              </a:rPr>
              <a:t>Observation du type de dégâts et de leurs importances</a:t>
            </a:r>
            <a:r>
              <a:rPr b="1" lang="fr-FR" sz="2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60" y="6019920"/>
            <a:ext cx="820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espèces commerciales ne sont pas épargn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076640" y="1981080"/>
            <a:ext cx="369576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304920" y="1371600"/>
          <a:ext cx="8153280" cy="457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371600"/>
                    <a:ext cx="8153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0560" y="256320"/>
            <a:ext cx="746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00"/>
                </a:solidFill>
                <a:latin typeface="Arial Black"/>
              </a:rPr>
              <a:t>RESULTATS</a:t>
            </a:r>
            <a:br>
              <a:rPr sz="2400"/>
            </a:br>
            <a:r>
              <a:rPr b="1" lang="fr-FR" sz="2400" spc="-1" strike="noStrike">
                <a:solidFill>
                  <a:srgbClr val="003300"/>
                </a:solidFill>
                <a:latin typeface="Arial Black"/>
              </a:rPr>
              <a:t>Observation du type de dégâts et de leurs importance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447840" y="618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591192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espèces commerciales sont celles qui comptent le plus de m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1523880"/>
          <a:ext cx="739116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739116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76720" y="333360"/>
            <a:ext cx="280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557360"/>
            <a:ext cx="691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.   Contex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I. Matériels et méth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II. Résult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V.  Perspectives et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267080" y="3962520"/>
            <a:ext cx="1600200" cy="1904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685800"/>
            <a:ext cx="7467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EC : Angélique, Gonfolo, Grignon franc ne sont pas éparg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arbres d’avenir sont abîmés ou détruites:</a:t>
            </a:r>
            <a:r>
              <a:rPr b="0" lang="fr-FR" sz="2400" spc="-1" strike="noStrike">
                <a:solidFill>
                  <a:srgbClr val="ff3300"/>
                </a:solidFill>
                <a:latin typeface="Comic Sans MS"/>
              </a:rPr>
              <a:t>         les rotations sont comprom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2514600"/>
            <a:ext cx="7695000" cy="4342680"/>
            <a:chOff x="380880" y="2514600"/>
            <a:chExt cx="7695000" cy="4342680"/>
          </a:xfrm>
        </p:grpSpPr>
        <p:grpSp>
          <p:nvGrpSpPr>
            <p:cNvPr id="257" name=""/>
            <p:cNvGrpSpPr/>
            <p:nvPr/>
          </p:nvGrpSpPr>
          <p:grpSpPr>
            <a:xfrm>
              <a:off x="380880" y="2514600"/>
              <a:ext cx="1895400" cy="1599480"/>
              <a:chOff x="380880" y="2514600"/>
              <a:chExt cx="1895400" cy="1599480"/>
            </a:xfrm>
          </p:grpSpPr>
          <p:sp>
            <p:nvSpPr>
              <p:cNvPr id="258" name=""/>
              <p:cNvSpPr/>
              <p:nvPr/>
            </p:nvSpPr>
            <p:spPr>
              <a:xfrm>
                <a:off x="380880" y="2514600"/>
                <a:ext cx="1895400" cy="159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75560" y="2514600"/>
                <a:ext cx="1705320" cy="159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77000" y="2514600"/>
              <a:ext cx="1932480" cy="1599480"/>
              <a:chOff x="2277000" y="2514600"/>
              <a:chExt cx="1932480" cy="1599480"/>
            </a:xfrm>
          </p:grpSpPr>
          <p:sp>
            <p:nvSpPr>
              <p:cNvPr id="261" name=""/>
              <p:cNvSpPr/>
              <p:nvPr/>
            </p:nvSpPr>
            <p:spPr>
              <a:xfrm>
                <a:off x="2371680" y="2514600"/>
                <a:ext cx="1742400" cy="15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rbres exploitab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&gt;=55cm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77000" y="2514600"/>
                <a:ext cx="1932480" cy="159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4210200" y="2514600"/>
              <a:ext cx="1932480" cy="1599480"/>
              <a:chOff x="4210200" y="2514600"/>
              <a:chExt cx="1932480" cy="1599480"/>
            </a:xfrm>
          </p:grpSpPr>
          <p:sp>
            <p:nvSpPr>
              <p:cNvPr id="264" name=""/>
              <p:cNvSpPr/>
              <p:nvPr/>
            </p:nvSpPr>
            <p:spPr>
              <a:xfrm>
                <a:off x="4304880" y="2514600"/>
                <a:ext cx="1742400" cy="15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rbres d'aven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35 à 55 cm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10200" y="2514600"/>
                <a:ext cx="1932480" cy="159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143400" y="2514600"/>
              <a:ext cx="1932480" cy="1599480"/>
              <a:chOff x="6143400" y="2514600"/>
              <a:chExt cx="1932480" cy="1599480"/>
            </a:xfrm>
          </p:grpSpPr>
          <p:sp>
            <p:nvSpPr>
              <p:cNvPr id="267" name=""/>
              <p:cNvSpPr/>
              <p:nvPr/>
            </p:nvSpPr>
            <p:spPr>
              <a:xfrm>
                <a:off x="6238080" y="2514600"/>
                <a:ext cx="1743120" cy="15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égénér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ato sensu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(10 à 35cm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43400" y="2514600"/>
                <a:ext cx="1932480" cy="159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380880" y="4114440"/>
              <a:ext cx="1895400" cy="914400"/>
              <a:chOff x="380880" y="4114440"/>
              <a:chExt cx="1895400" cy="914400"/>
            </a:xfrm>
          </p:grpSpPr>
          <p:sp>
            <p:nvSpPr>
              <p:cNvPr id="270" name=""/>
              <p:cNvSpPr/>
              <p:nvPr/>
            </p:nvSpPr>
            <p:spPr>
              <a:xfrm>
                <a:off x="475560" y="4114440"/>
                <a:ext cx="170532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bîmé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80880" y="4114440"/>
                <a:ext cx="1895400" cy="914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277000" y="4114440"/>
              <a:ext cx="1932480" cy="914400"/>
              <a:chOff x="2277000" y="4114440"/>
              <a:chExt cx="1932480" cy="914400"/>
            </a:xfrm>
          </p:grpSpPr>
          <p:sp>
            <p:nvSpPr>
              <p:cNvPr id="273" name=""/>
              <p:cNvSpPr/>
              <p:nvPr/>
            </p:nvSpPr>
            <p:spPr>
              <a:xfrm>
                <a:off x="2371680" y="4114440"/>
                <a:ext cx="1742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277000" y="4114440"/>
                <a:ext cx="1932480" cy="914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210200" y="4114440"/>
              <a:ext cx="1932480" cy="914400"/>
              <a:chOff x="4210200" y="4114440"/>
              <a:chExt cx="1932480" cy="914400"/>
            </a:xfrm>
          </p:grpSpPr>
          <p:sp>
            <p:nvSpPr>
              <p:cNvPr id="276" name=""/>
              <p:cNvSpPr/>
              <p:nvPr/>
            </p:nvSpPr>
            <p:spPr>
              <a:xfrm>
                <a:off x="4304880" y="4114440"/>
                <a:ext cx="1742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8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10200" y="4114440"/>
                <a:ext cx="1932480" cy="914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6143400" y="4114440"/>
              <a:ext cx="1932480" cy="914400"/>
              <a:chOff x="6143400" y="4114440"/>
              <a:chExt cx="1932480" cy="914400"/>
            </a:xfrm>
          </p:grpSpPr>
          <p:sp>
            <p:nvSpPr>
              <p:cNvPr id="279" name=""/>
              <p:cNvSpPr/>
              <p:nvPr/>
            </p:nvSpPr>
            <p:spPr>
              <a:xfrm>
                <a:off x="6238080" y="4114440"/>
                <a:ext cx="174312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43400" y="4114440"/>
                <a:ext cx="1932480" cy="914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380880" y="5029200"/>
              <a:ext cx="1895400" cy="913680"/>
              <a:chOff x="380880" y="5029200"/>
              <a:chExt cx="1895400" cy="913680"/>
            </a:xfrm>
          </p:grpSpPr>
          <p:sp>
            <p:nvSpPr>
              <p:cNvPr id="282" name=""/>
              <p:cNvSpPr/>
              <p:nvPr/>
            </p:nvSpPr>
            <p:spPr>
              <a:xfrm>
                <a:off x="475560" y="5029200"/>
                <a:ext cx="1705320" cy="9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rt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80880" y="5029200"/>
                <a:ext cx="1895400" cy="91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2277000" y="5029200"/>
              <a:ext cx="1932480" cy="913680"/>
              <a:chOff x="2277000" y="5029200"/>
              <a:chExt cx="1932480" cy="913680"/>
            </a:xfrm>
          </p:grpSpPr>
          <p:sp>
            <p:nvSpPr>
              <p:cNvPr id="285" name=""/>
              <p:cNvSpPr/>
              <p:nvPr/>
            </p:nvSpPr>
            <p:spPr>
              <a:xfrm>
                <a:off x="2371680" y="5029200"/>
                <a:ext cx="1742400" cy="9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277000" y="5029200"/>
                <a:ext cx="1932480" cy="91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210200" y="5029200"/>
              <a:ext cx="1932480" cy="913680"/>
              <a:chOff x="4210200" y="5029200"/>
              <a:chExt cx="1932480" cy="913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304880" y="5029200"/>
                <a:ext cx="1742400" cy="9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10200" y="5029200"/>
                <a:ext cx="1932480" cy="91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143400" y="5029200"/>
              <a:ext cx="1932480" cy="913680"/>
              <a:chOff x="6143400" y="5029200"/>
              <a:chExt cx="1932480" cy="913680"/>
            </a:xfrm>
          </p:grpSpPr>
          <p:sp>
            <p:nvSpPr>
              <p:cNvPr id="291" name=""/>
              <p:cNvSpPr/>
              <p:nvPr/>
            </p:nvSpPr>
            <p:spPr>
              <a:xfrm>
                <a:off x="6238080" y="5029200"/>
                <a:ext cx="1743120" cy="9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143400" y="5029200"/>
                <a:ext cx="1932480" cy="91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380880" y="5943600"/>
              <a:ext cx="1895400" cy="913680"/>
              <a:chOff x="380880" y="5943600"/>
              <a:chExt cx="1895400" cy="913680"/>
            </a:xfrm>
          </p:grpSpPr>
          <p:sp>
            <p:nvSpPr>
              <p:cNvPr id="294" name=""/>
              <p:cNvSpPr/>
              <p:nvPr/>
            </p:nvSpPr>
            <p:spPr>
              <a:xfrm>
                <a:off x="475560" y="5943600"/>
                <a:ext cx="1705320" cy="9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i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80880" y="5943600"/>
                <a:ext cx="1895400" cy="91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2277000" y="5943600"/>
              <a:ext cx="1932480" cy="913680"/>
              <a:chOff x="2277000" y="5943600"/>
              <a:chExt cx="1932480" cy="913680"/>
            </a:xfrm>
          </p:grpSpPr>
          <p:sp>
            <p:nvSpPr>
              <p:cNvPr id="297" name=""/>
              <p:cNvSpPr/>
              <p:nvPr/>
            </p:nvSpPr>
            <p:spPr>
              <a:xfrm>
                <a:off x="2371680" y="5943600"/>
                <a:ext cx="1742400" cy="9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8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77000" y="5943600"/>
                <a:ext cx="1932480" cy="91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4210200" y="5943600"/>
              <a:ext cx="1932480" cy="913680"/>
              <a:chOff x="4210200" y="5943600"/>
              <a:chExt cx="1932480" cy="913680"/>
            </a:xfrm>
          </p:grpSpPr>
          <p:sp>
            <p:nvSpPr>
              <p:cNvPr id="300" name=""/>
              <p:cNvSpPr/>
              <p:nvPr/>
            </p:nvSpPr>
            <p:spPr>
              <a:xfrm>
                <a:off x="4304880" y="5943600"/>
                <a:ext cx="1742400" cy="9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4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210200" y="5943600"/>
                <a:ext cx="1932480" cy="91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6143400" y="5943600"/>
              <a:ext cx="1932480" cy="913680"/>
              <a:chOff x="6143400" y="5943600"/>
              <a:chExt cx="1932480" cy="913680"/>
            </a:xfrm>
          </p:grpSpPr>
          <p:sp>
            <p:nvSpPr>
              <p:cNvPr id="303" name=""/>
              <p:cNvSpPr/>
              <p:nvPr/>
            </p:nvSpPr>
            <p:spPr>
              <a:xfrm>
                <a:off x="6238080" y="5943600"/>
                <a:ext cx="1743120" cy="9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43400" y="5943600"/>
                <a:ext cx="1932480" cy="91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779640" cy="5040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3511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914400" y="6324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rbres étêtés et m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0" y="62485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clatement d’une grume d’angélique par mauvais abat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3024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00"/>
                </a:solidFill>
                <a:latin typeface="Comic Sans MS"/>
              </a:rPr>
              <a:t>Bilan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algré une faible intensité, l’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orestière cause de nombreux de dégâ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élèvement : 2,3 tiges /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ne méthodologie promett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560" y="1044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1" lang="fr-FR" sz="3200" spc="-1" strike="noStrike">
                <a:solidFill>
                  <a:srgbClr val="003300"/>
                </a:solidFill>
                <a:latin typeface="Comic Sans MS"/>
              </a:rPr>
              <a:t>PERSPECTIVE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7920000" cy="64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Pour améliorer les résulta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tilisation du Diagnostic Parcellaire Approfo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Homogénéiser le nombre de plac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éaliser l’étude dès la fin de l’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1752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3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3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3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066680" y="380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00"/>
                </a:solidFill>
                <a:latin typeface="Comic Sans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523880"/>
            <a:ext cx="73152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bondance de la ressource b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écessité d’élargir la gamme de tiges com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écessité d’abandon des pratiques d’exploitation traditionn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doption de l’EF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2200" cy="6383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917800" y="640080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ERCI A TOU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6668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00"/>
                </a:solidFill>
                <a:latin typeface="Comic Sans MS"/>
              </a:rPr>
              <a:t>INTRODUCTION</a:t>
            </a:r>
            <a:r>
              <a:rPr b="0" lang="fr-FR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3300"/>
                </a:solidFill>
                <a:latin typeface="Comic Sans MS"/>
              </a:rPr>
              <a:t>: </a:t>
            </a:r>
            <a:r>
              <a:rPr b="1" lang="fr-FR" sz="2800" spc="-1" strike="noStrike">
                <a:solidFill>
                  <a:srgbClr val="003300"/>
                </a:solidFill>
                <a:latin typeface="Comic Sans MS"/>
              </a:rPr>
              <a:t>contexte de l’étud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’exploitation forestière en Guy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xploitation à faible impact (EF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1464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1219320"/>
            <a:ext cx="761976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Hypothèses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s perturbations sont à 50 m autour des pis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l est possible de reconstituer le peuplement initial même sans DI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xploitation traditionnelle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versu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EF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24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00"/>
                </a:solidFill>
                <a:latin typeface="Arial"/>
              </a:rPr>
              <a:t>Objectif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6342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Un double objectif:                                         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tester une méthodologie d’évaluation des dégâts d’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ster les relations entre le niveau de dégâts et l’intensité d’exploi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79640" y="762120"/>
            <a:ext cx="5792760" cy="6095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>
            <a:off x="5257800" y="1844640"/>
            <a:ext cx="1690560" cy="150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59640" y="119700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celle Maripa 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228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Forêts aménagées de Guyane frança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119880"/>
            <a:ext cx="746748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00"/>
                </a:solidFill>
                <a:latin typeface="Comic Sans MS"/>
              </a:rPr>
              <a:t>MATERIELS ET METHODES                            Parcelle Maripa 64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52293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27640" y="2133720"/>
            <a:ext cx="3695760" cy="4114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2818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5791320"/>
            <a:ext cx="6095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chéma du dispositif de relevé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9080" y="4229280"/>
            <a:ext cx="571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50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57480" y="457200"/>
            <a:ext cx="5948280" cy="5143680"/>
            <a:chOff x="1257480" y="457200"/>
            <a:chExt cx="5948280" cy="5143680"/>
          </a:xfrm>
        </p:grpSpPr>
        <p:sp>
          <p:nvSpPr>
            <p:cNvPr id="107" name=""/>
            <p:cNvSpPr/>
            <p:nvPr/>
          </p:nvSpPr>
          <p:spPr>
            <a:xfrm>
              <a:off x="2286000" y="1028520"/>
              <a:ext cx="720" cy="331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47440" y="1028520"/>
              <a:ext cx="72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257480" y="457200"/>
              <a:ext cx="5948280" cy="5143680"/>
              <a:chOff x="1257480" y="457200"/>
              <a:chExt cx="5948280" cy="5143680"/>
            </a:xfrm>
          </p:grpSpPr>
          <p:sp>
            <p:nvSpPr>
              <p:cNvPr id="110" name=""/>
              <p:cNvSpPr/>
              <p:nvPr/>
            </p:nvSpPr>
            <p:spPr>
              <a:xfrm>
                <a:off x="2629080" y="2468160"/>
                <a:ext cx="457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25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14960" y="2286000"/>
                <a:ext cx="3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1257480" y="457200"/>
                <a:ext cx="5948280" cy="5143680"/>
                <a:chOff x="1257480" y="457200"/>
                <a:chExt cx="5948280" cy="51436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690800" y="1028520"/>
                  <a:ext cx="360" cy="457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690800" y="2857320"/>
                  <a:ext cx="251496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057400" y="1257120"/>
                  <a:ext cx="457200" cy="45720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057400" y="1942920"/>
                  <a:ext cx="45720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057400" y="2628720"/>
                  <a:ext cx="45720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314880" y="1142640"/>
                  <a:ext cx="457200" cy="45720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314880" y="1828800"/>
                  <a:ext cx="45720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314880" y="2514600"/>
                  <a:ext cx="45720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057400" y="3314520"/>
                  <a:ext cx="45720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462200" y="2971800"/>
                  <a:ext cx="45720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314880" y="3200400"/>
                  <a:ext cx="45720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462200" y="2171520"/>
                  <a:ext cx="45720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462200" y="1142640"/>
                  <a:ext cx="457200" cy="45720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462200" y="4114800"/>
                  <a:ext cx="457200" cy="45720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176880" y="2628720"/>
                  <a:ext cx="457200" cy="45720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376600" y="2628720"/>
                  <a:ext cx="457200" cy="45720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033880" y="4572360"/>
                  <a:ext cx="360" cy="571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148000" y="4800600"/>
                  <a:ext cx="4572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50m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286000" y="4114800"/>
                  <a:ext cx="12574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057400" y="2171520"/>
                  <a:ext cx="22824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57480" y="1942920"/>
                  <a:ext cx="10285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Comic Sans MS"/>
                    </a:rPr>
                    <a:t>rayon : 12 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915440" y="4000680"/>
                  <a:ext cx="194328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Placettes de zone no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perturbé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714680" y="457200"/>
                  <a:ext cx="125748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Placettes zone perturbé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804920" y="1028520"/>
                  <a:ext cx="914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Comic Sans MS"/>
                    </a:rPr>
                    <a:t>Layon : 1 k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8240" y="5143680"/>
                  <a:ext cx="457200" cy="45720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8" name=""/>
          <p:cNvSpPr/>
          <p:nvPr/>
        </p:nvSpPr>
        <p:spPr>
          <a:xfrm flipV="1">
            <a:off x="6948360" y="333360"/>
            <a:ext cx="0" cy="79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126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0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33480" y="-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22860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Fiche de ter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766584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5:02:54Z</dcterms:created>
  <dc:creator>roy</dc:creator>
  <dc:description/>
  <dc:language>en-US</dc:language>
  <cp:lastModifiedBy>Eric Marcon</cp:lastModifiedBy>
  <dcterms:modified xsi:type="dcterms:W3CDTF">2004-10-01T11:55:05Z</dcterms:modified>
  <cp:revision>126</cp:revision>
  <dc:subject/>
  <dc:title>Variabilité interspécifique de la qualité des feuilles vertes et sénescentes des arbres des forêts tropicales</dc:title>
</cp:coreProperties>
</file>