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9.png" ContentType="image/png"/>
  <Override PartName="/ppt/media/image17.jpeg" ContentType="image/jpeg"/>
  <Override PartName="/ppt/media/image11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27.jpeg" ContentType="image/jpeg"/>
  <Override PartName="/ppt/media/image21.wmf" ContentType="image/x-wmf"/>
  <Override PartName="/ppt/media/image6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57E-A1B3-4CDA-8817-FAD385B7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704-E248-4EFE-9250-065885B7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C7C-54F7-47FD-9531-E72EB3B5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720-4BF6-4C7F-B627-2566176E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4A07-C0CE-4E82-9CA2-3E83279B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39F-332A-493D-B87B-EFF2ED8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B7BC-B1AC-49C1-A425-C47635D3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C8E-8F7B-42D5-96BE-874E3327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1E7-1E46-4992-B483-D845088C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8F80-597D-49DD-B263-534F135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307-4AA0-4166-BC6F-BEE0C74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D60-B6D7-467F-ACF3-E530A0BF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E3AD-250C-46B4-8367-610DE6545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1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vers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: l’Ontogénie Perturbée???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OP)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33680" y="145584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98520" y="3960720"/>
            <a:ext cx="5614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dré p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is Baraloto (U. Floride/UM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vec l’inestimable travail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cent Morillon (ENSTIB Epin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lie Perreard (CNEARC Montpelli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gnacio Garcia Pereda (FIF-UPM Madri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98520" y="922320"/>
            <a:ext cx="8196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versité 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HS = % d’espèces hélioph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(S28) = indicateur du nombre d’espèce différente rencontrée pour 28 individus par cadr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2200" y="1760400"/>
            <a:ext cx="8575200" cy="2806560"/>
            <a:chOff x="322200" y="1760400"/>
            <a:chExt cx="8575200" cy="28065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322200" y="1760400"/>
              <a:ext cx="4203360" cy="28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694040" y="1776240"/>
              <a:ext cx="4203360" cy="27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"/>
          <p:cNvSpPr/>
          <p:nvPr/>
        </p:nvSpPr>
        <p:spPr>
          <a:xfrm>
            <a:off x="322200" y="84924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herche de l’effet maximum pour une perturbation intermédiaire chez les jeunes tiges et pour les plantu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3280"/>
            <a:ext cx="8974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nclusion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tules à 10%HS donc se situe au début de la courbe de Molino &amp; Saba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 variation de la perturbation ne semble pas influencer la diversi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une grande diversité existe sans perturb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25320" y="998640"/>
            <a:ext cx="23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versité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3040" y="5099040"/>
            <a:ext cx="724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égère corrélation posi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ême diversité pour les 2 st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130560" y="923760"/>
            <a:ext cx="5565600" cy="4023000"/>
            <a:chOff x="3130560" y="923760"/>
            <a:chExt cx="5565600" cy="40230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3130560" y="923760"/>
              <a:ext cx="5565600" cy="402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07160" y="1228680"/>
              <a:ext cx="8352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(S28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380360" y="2746440"/>
              <a:ext cx="303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73040" y="773280"/>
            <a:ext cx="819612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imilitude de composition florist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5 espèces majoritai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ventaire des jeunes ti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2 Annonaceae :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Anaxagorea dolichocarpa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t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Oxandra asbeck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 Melastomataceae 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Henriettella flavesc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 Lecythidaceae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 : Lecythis persist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 Euphorbiaceae 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: Sandwithia guyanen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Inventaire des plant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2 Annonaceae :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Anaxagorea dolichocarpa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t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Oxandra asbeck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2 Lecythidaceae :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Eschweilera sagotian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et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Eschweilera coriac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1 Clusiaceae :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Symphonia globulife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360" y="5175360"/>
            <a:ext cx="766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tude de la fréquence de 4 espèces et de leur importance  relative par cadr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04760" y="1000080"/>
            <a:ext cx="7058160" cy="414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53920" y="619200"/>
            <a:ext cx="743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rcentage de répartition par cadrat pour les 4 espè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9920" y="50990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lusion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espèces des plus abondantes au stade plantules sont ident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 autres espèces majoritaires au stade plantules sont différentes de celle au stade jeunes tiges (fréquence de cadrat et densité d’individu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rot="16200000">
            <a:off x="4237200" y="-4246560"/>
            <a:ext cx="667800" cy="914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 résultats  /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&amp; conclu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9000" y="1682640"/>
            <a:ext cx="79693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ensité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Variabilité due à la germination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a germination des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Eschweilera sagotia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représente 49% des germin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H1&amp;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L’expérience ne permet pas d’affirmer que la diversité augmente avec la perturb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iversité: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Évaluée pour un stade global de plantule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’indice de perturbation : % d’espèces héliophiles par cadra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1840" y="1130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a diversité entre les plantules et les jeunes tiges est similai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araison des valeurs aux stades plantules et jeunes tiges,  nouvel indice E(S2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2 des espèces les plus abondantes sont identiques, la présence et l’importance des autres varien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militude de composition floristique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 nombreux individus ne sont pas identifié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tocole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 pédologie, l’histoire et la topographi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théorie la plus cohérente serait celle de la limitation de recrutem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4237200" y="-4246560"/>
            <a:ext cx="667800" cy="914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 résultats  /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scus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&amp; conclus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1612800"/>
            <a:ext cx="4502880" cy="5244840"/>
            <a:chOff x="0" y="1612800"/>
            <a:chExt cx="4502880" cy="52448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0" y="2144520"/>
              <a:ext cx="3535200" cy="47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9800" y="1612800"/>
              <a:ext cx="448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r>
                <a:rPr b="0" lang="fr-FR" sz="2400" spc="-1" strike="noStrike" baseline="30000">
                  <a:solidFill>
                    <a:srgbClr val="ffffff"/>
                  </a:solidFill>
                  <a:latin typeface="Times New Roman"/>
                </a:rPr>
                <a:t>elle</a:t>
              </a: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 Laure Barrabé (IRD Cayenn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rot="16200000">
            <a:off x="4260960" y="-4143240"/>
            <a:ext cx="667800" cy="894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merciemen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347840" y="54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s précieux collaborateu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17840" y="1089000"/>
            <a:ext cx="3931200" cy="5768640"/>
            <a:chOff x="5217840" y="1089000"/>
            <a:chExt cx="3931200" cy="576864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5634000" y="1089000"/>
              <a:ext cx="2886120" cy="57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217840" y="1164960"/>
              <a:ext cx="393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scal Pétronelli (Cirad-Forê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495680" y="1303200"/>
            <a:ext cx="4648320" cy="5160960"/>
            <a:chOff x="4495680" y="1303200"/>
            <a:chExt cx="4648320" cy="516096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5483160" y="1303200"/>
              <a:ext cx="3441600" cy="51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495680" y="1303200"/>
              <a:ext cx="464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atrick Heuret (AMAP Montpellier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69920" y="1911240"/>
            <a:ext cx="5995800" cy="4800600"/>
            <a:chOff x="169920" y="1911240"/>
            <a:chExt cx="5995800" cy="4800600"/>
          </a:xfrm>
        </p:grpSpPr>
        <p:pic>
          <p:nvPicPr>
            <p:cNvPr id="146" name="" descr=""/>
            <p:cNvPicPr/>
            <p:nvPr/>
          </p:nvPicPr>
          <p:blipFill>
            <a:blip r:embed="rId4"/>
            <a:stretch/>
          </p:blipFill>
          <p:spPr>
            <a:xfrm>
              <a:off x="169920" y="2214720"/>
              <a:ext cx="5995800" cy="44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9920" y="1911240"/>
              <a:ext cx="37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. M-F. Prévost (IRD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004760" y="1392120"/>
            <a:ext cx="728676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0" y="-593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0" y="3405240"/>
            <a:ext cx="5178600" cy="3452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159520" y="2822400"/>
            <a:ext cx="3984480" cy="5313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60520" y="3125880"/>
            <a:ext cx="2049480" cy="5814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510000" y="2367000"/>
            <a:ext cx="18604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ne hypothèse à vali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77960" y="1531440"/>
            <a:ext cx="7740720" cy="5008680"/>
          </a:xfrm>
          <a:prstGeom prst="rect">
            <a:avLst/>
          </a:prstGeom>
          <a:blipFill rotWithShape="0">
            <a:blip r:embed="rId1">
              <a:alphaModFix amt="32000"/>
            </a:blip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Comment se maintient la diversité des arbres dans la forêt tropicale humide du site de Paracou ?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L’hypothèse de la perturbation intermédiaire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L’hypothèse de la limitation du recrutement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 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poth</a:t>
            </a:r>
            <a:r>
              <a:rPr b="0" lang="fr-FR" sz="4400" spc="-1" strike="noStrike">
                <a:solidFill>
                  <a:srgbClr val="ffffff"/>
                </a:solidFill>
                <a:latin typeface="Times New Roman"/>
              </a:rPr>
              <a:t>è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 de la perturbation intermediaire  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46240" y="2593800"/>
            <a:ext cx="4173480" cy="3644280"/>
            <a:chOff x="246240" y="2593800"/>
            <a:chExt cx="4173480" cy="3644280"/>
          </a:xfrm>
        </p:grpSpPr>
        <p:sp>
          <p:nvSpPr>
            <p:cNvPr id="48" name=""/>
            <p:cNvSpPr/>
            <p:nvPr/>
          </p:nvSpPr>
          <p:spPr>
            <a:xfrm>
              <a:off x="246240" y="5778360"/>
              <a:ext cx="417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nnell, Science 19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9" name="" descr="Joseph Connell"/>
            <p:cNvPicPr/>
            <p:nvPr/>
          </p:nvPicPr>
          <p:blipFill>
            <a:blip r:embed="rId1"/>
            <a:stretch/>
          </p:blipFill>
          <p:spPr>
            <a:xfrm>
              <a:off x="381240" y="2593800"/>
              <a:ext cx="2171160" cy="285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/>
          <p:nvPr/>
        </p:nvSpPr>
        <p:spPr>
          <a:xfrm rot="16200000">
            <a:off x="4260960" y="-4138920"/>
            <a:ext cx="667800" cy="894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pothè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/ protocole   /   résultats   /  discussion &amp; conclus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25640" y="1608120"/>
            <a:ext cx="5048280" cy="378612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3433680" y="1987560"/>
            <a:ext cx="5464080" cy="4874760"/>
            <a:chOff x="3433680" y="1987560"/>
            <a:chExt cx="5464080" cy="4874760"/>
          </a:xfrm>
        </p:grpSpPr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268880" y="1987560"/>
              <a:ext cx="424332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433680" y="5305320"/>
              <a:ext cx="5464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Un écosystème atteint une diversité maximale en espèces lorsqu’il est soumis à un régime de perturbations de fréquence et d’intensité moyennes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5320" y="923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ypothèse de la limitation du recrutemen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" descr="Aerial view of Barro Colorado"/>
          <p:cNvPicPr/>
          <p:nvPr/>
        </p:nvPicPr>
        <p:blipFill>
          <a:blip r:embed="rId1"/>
          <a:stretch/>
        </p:blipFill>
        <p:spPr>
          <a:xfrm>
            <a:off x="3433680" y="2973240"/>
            <a:ext cx="5251680" cy="23637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246240" y="2367000"/>
            <a:ext cx="4705200" cy="4177440"/>
            <a:chOff x="246240" y="2367000"/>
            <a:chExt cx="4705200" cy="417744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473040" y="2367000"/>
              <a:ext cx="2441520" cy="341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6240" y="6084720"/>
              <a:ext cx="47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bbell, Science, 199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038120" y="555480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Barro Colorado Island, Pan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4260960" y="-4138920"/>
            <a:ext cx="667800" cy="894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pothè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/  protocole   /   résultats   /   discussion  &amp; conclus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1640" y="84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ypothèse de la perturbation intermédiaire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9920" y="2746440"/>
            <a:ext cx="4554360" cy="3647520"/>
            <a:chOff x="169920" y="2746440"/>
            <a:chExt cx="4554360" cy="3647520"/>
          </a:xfrm>
        </p:grpSpPr>
        <p:sp>
          <p:nvSpPr>
            <p:cNvPr id="64" name=""/>
            <p:cNvSpPr/>
            <p:nvPr/>
          </p:nvSpPr>
          <p:spPr>
            <a:xfrm>
              <a:off x="169920" y="5934240"/>
              <a:ext cx="455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lino &amp; Sabatier, Science 200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01640" y="2746440"/>
              <a:ext cx="2747880" cy="295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24280" y="3728880"/>
            <a:ext cx="4419720" cy="3129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16200000">
            <a:off x="4260960" y="-4138920"/>
            <a:ext cx="667800" cy="894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pothè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/  protocole   /   résultats   /   discussion &amp; 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1640" y="84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st dans le temps de la perturbation intermédiaire 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3240" y="236700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ême cadre que l’étude antérie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52480" y="2517840"/>
            <a:ext cx="4781520" cy="3876120"/>
            <a:chOff x="852480" y="2517840"/>
            <a:chExt cx="4781520" cy="3876120"/>
          </a:xfrm>
        </p:grpSpPr>
        <p:sp>
          <p:nvSpPr>
            <p:cNvPr id="71" name=""/>
            <p:cNvSpPr/>
            <p:nvPr/>
          </p:nvSpPr>
          <p:spPr>
            <a:xfrm>
              <a:off x="928800" y="5934240"/>
              <a:ext cx="470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araloto et al, 2004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852480" y="2517840"/>
              <a:ext cx="3098880" cy="331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 rot="16200000">
            <a:off x="4260960" y="-4138920"/>
            <a:ext cx="667800" cy="8942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pothès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/  protocole   /   résultats   /   discussion &amp; co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40280" y="3019320"/>
            <a:ext cx="493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ypothèse1 (H1) : La di versité augmente avec la perturbation jusqu’à un certain niveau de perturb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ypothèse2 (H2) : La diversité descend au dessous de ce nivea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ypothèse3 (H3) : La diversité au stade plantule est plus élevée qu’au stade jeune ti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Hypothèse4 (H4) : Les espèces abondantes au stade plantule ne sont pas les mêmes qu’au stade jeune ti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 rot="16200000">
            <a:off x="4078800" y="-3958200"/>
            <a:ext cx="103356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protoc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résultats   /   discussion  &amp; conclusio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-8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9920" y="773280"/>
          <a:ext cx="4282920" cy="5919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773280"/>
                    <a:ext cx="4282920" cy="59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82960" y="3392640"/>
            <a:ext cx="115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799160" y="2062080"/>
            <a:ext cx="3745080" cy="4033800"/>
            <a:chOff x="4799160" y="2062080"/>
            <a:chExt cx="3745080" cy="4033800"/>
          </a:xfrm>
        </p:grpSpPr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4799160" y="2062080"/>
              <a:ext cx="3744360" cy="4033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83" name=""/>
            <p:cNvCxnSpPr/>
            <p:nvPr/>
          </p:nvCxnSpPr>
          <p:spPr>
            <a:xfrm>
              <a:off x="8176320" y="3561120"/>
              <a:ext cx="10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4" name=""/>
            <p:cNvSpPr/>
            <p:nvPr/>
          </p:nvSpPr>
          <p:spPr>
            <a:xfrm flipV="1">
              <a:off x="5527080" y="3561120"/>
              <a:ext cx="363240" cy="307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814880" y="2792880"/>
              <a:ext cx="51480" cy="345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600" y="261288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"/>
                </a:rPr>
                <a:t>2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11640" y="371412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1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306840" y="4176000"/>
              <a:ext cx="311760" cy="384840"/>
            </a:xfrm>
            <a:prstGeom prst="line">
              <a:avLst/>
            </a:prstGeom>
            <a:ln w="255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16720" y="4330800"/>
              <a:ext cx="7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99ff"/>
                  </a:solidFill>
                  <a:latin typeface="Arial"/>
                </a:rPr>
                <a:t>3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875120" y="107640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c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57360" y="6163920"/>
            <a:ext cx="63147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cation, avec l’a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échantillons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928800" y="1608120"/>
            <a:ext cx="4495680" cy="3371760"/>
          </a:xfrm>
          <a:prstGeom prst="rect">
            <a:avLst/>
          </a:prstGeom>
          <a:ln w="44280">
            <a:solidFill>
              <a:srgbClr val="5fa05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57400" y="1703520"/>
            <a:ext cx="4021200" cy="30146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grpSp>
        <p:nvGrpSpPr>
          <p:cNvPr id="94" name=""/>
          <p:cNvGrpSpPr/>
          <p:nvPr/>
        </p:nvGrpSpPr>
        <p:grpSpPr>
          <a:xfrm>
            <a:off x="3510000" y="1758960"/>
            <a:ext cx="5313240" cy="4096800"/>
            <a:chOff x="3510000" y="1758960"/>
            <a:chExt cx="5313240" cy="4096800"/>
          </a:xfrm>
        </p:grpSpPr>
        <p:pic>
          <p:nvPicPr>
            <p:cNvPr id="95" name="" descr=""/>
            <p:cNvPicPr/>
            <p:nvPr/>
          </p:nvPicPr>
          <p:blipFill>
            <a:blip r:embed="rId6"/>
            <a:stretch/>
          </p:blipFill>
          <p:spPr>
            <a:xfrm>
              <a:off x="3510000" y="2017800"/>
              <a:ext cx="5313240" cy="38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3510000" y="1758960"/>
              <a:ext cx="336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5320" y="923760"/>
            <a:ext cx="819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ntaire de plant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29 individus, 250 morpho espè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01640" y="19875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emple de plantul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a050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6240" y="911160"/>
            <a:ext cx="2503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nsité 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880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mulation des jeunes plantules sur plusieurs ann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e réduction de la densité s’effectue avec l’accroissement des ti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261680" y="-4141080"/>
            <a:ext cx="667800" cy="89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pothèses  /  protocole   / 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résulta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/   discussion &amp; conclu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446200" y="773280"/>
            <a:ext cx="6542280" cy="4173480"/>
            <a:chOff x="2446200" y="773280"/>
            <a:chExt cx="6542280" cy="41734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2446200" y="773280"/>
              <a:ext cx="6542280" cy="41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674800" y="1758960"/>
              <a:ext cx="1744920" cy="109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nsité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mbre de tiges / m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3T10:31:52Z</dcterms:created>
  <dc:creator>Christopher Baraloto</dc:creator>
  <dc:description/>
  <dc:language>en-US</dc:language>
  <cp:lastModifiedBy>Eric Marcon</cp:lastModifiedBy>
  <cp:lastPrinted>2002-04-05T15:33:13Z</cp:lastPrinted>
  <dcterms:modified xsi:type="dcterms:W3CDTF">2004-10-01T11:55:45Z</dcterms:modified>
  <cp:revision>158</cp:revision>
  <dc:subject/>
  <dc:title>Aucun titre de diapositive</dc:title>
</cp:coreProperties>
</file>