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5.png" ContentType="image/png"/>
  <Override PartName="/ppt/media/image4.wmf" ContentType="image/x-wmf"/>
  <Override PartName="/ppt/media/image27.jpeg" ContentType="image/jpeg"/>
  <Override PartName="/ppt/media/image6.wmf" ContentType="image/x-wmf"/>
  <Override PartName="/ppt/media/image12.jpeg" ContentType="image/jpeg"/>
  <Override PartName="/ppt/media/image13.png" ContentType="image/png"/>
  <Override PartName="/ppt/media/image8.jpeg" ContentType="image/jpeg"/>
  <Override PartName="/ppt/media/image10.jpeg" ContentType="image/jpeg"/>
  <Override PartName="/ppt/media/image30.png" ContentType="image/png"/>
  <Override PartName="/ppt/media/image7.wmf" ContentType="image/x-wmf"/>
  <Override PartName="/ppt/media/image11.jpeg" ContentType="image/jpeg"/>
  <Override PartName="/ppt/media/image9.jpeg" ContentType="image/jpeg"/>
  <Override PartName="/ppt/media/image31.jpeg" ContentType="image/jpeg"/>
  <Override PartName="/ppt/media/image29.jpeg" ContentType="image/jpeg"/>
  <Override PartName="/ppt/media/image3.wmf" ContentType="image/x-wmf"/>
  <Override PartName="/ppt/media/image15.jpeg" ContentType="image/jpeg"/>
  <Override PartName="/ppt/media/image2.wmf" ContentType="image/x-wmf"/>
  <Override PartName="/ppt/media/image1.png" ContentType="image/png"/>
  <Override PartName="/ppt/media/image14.jpeg" ContentType="image/jpeg"/>
  <Override PartName="/ppt/media/image5.wmf" ContentType="image/x-wmf"/>
  <Override PartName="/ppt/media/image16.jpeg" ContentType="image/jpeg"/>
  <Override PartName="/ppt/media/image17.jpeg" ContentType="image/jpeg"/>
  <Override PartName="/ppt/media/image26.png" ContentType="image/png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media/image23.png" ContentType="image/png"/>
  <Override PartName="/ppt/media/image2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0800" y="-2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0800" y="-2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0800" y="-2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0800" y="-2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0800" y="-2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0800" y="-2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0800" y="-2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0800" y="-2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0800" y="-2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0800" y="-2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0800" y="-2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7696080" y="0"/>
            <a:ext cx="144792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0800" y="-2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600" y="640080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Comportement lianescent de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T.melinon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6324480"/>
            <a:ext cx="8381880" cy="0"/>
          </a:xfrm>
          <a:prstGeom prst="line">
            <a:avLst/>
          </a:prstGeom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images.google.fr/imgres?imgurl=http://www.snopes.com/graphics/small/pizza.gif&amp;imgrefurl=http://www.snopes.com/daily/200401/20040102.asp&amp;h=30&amp;w=30&amp;sz=1&amp;tbnid=w4L6imAeaDYJ:&amp;tbnh=30&amp;tbnw=30&amp;start=10&amp;prev=/images%3Fq%3Dpizza%26imgsz%3Dicon%26hl%3Dfr%26lr%3D%26ie%3DUTF-8" TargetMode="External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hyperlink" Target="http://images.google.fr/imgres?imgurl=http://www.snopes.com/graphics/small/pizza.gif&amp;imgrefurl=http://www.snopes.com/daily/200401/20040102.asp&amp;h=30&amp;w=30&amp;sz=1&amp;tbnid=w4L6imAeaDYJ:&amp;tbnh=30&amp;tbnw=30&amp;start=10&amp;prev=/images%3Fq%3Dpizza%26imgsz%3Dicon%26hl%3Dfr%26lr%3D%26ie%3DUTF-8" TargetMode="External"/><Relationship Id="rId5" Type="http://schemas.openxmlformats.org/officeDocument/2006/relationships/image" Target="../media/image27.jpeg"/><Relationship Id="rId6" Type="http://schemas.openxmlformats.org/officeDocument/2006/relationships/hyperlink" Target="http://images.google.fr/imgres?imgurl=http://mc.clintock.com/about/ICON-images/Pizza.jpg&amp;imgrefurl=http://mc.clintock.com/about/archives/2003_03.php&amp;h=185&amp;w=250&amp;sz=31&amp;tbnid=67kQR5159EEJ:&amp;tbnh=78&amp;tbnw=105&amp;start=35&amp;prev=/images%3Fq%3Dpizza%26start%3D20%26imgsz%3Dsmall%257Cmedium%257Clarge%257Cxlarge%26hl%3Dfr%26lr%3D%26ie%3DUTF-8%26sa%3DN" TargetMode="External"/><Relationship Id="rId7" Type="http://schemas.openxmlformats.org/officeDocument/2006/relationships/image" Target="../media/image29.jpeg"/><Relationship Id="rId8" Type="http://schemas.openxmlformats.org/officeDocument/2006/relationships/hyperlink" Target="http://images.google.fr/imgres?imgurl=http://www.snopes.com/graphics/small/pizza.gif&amp;imgrefurl=http://www.snopes.com/daily/200401/20040102.asp&amp;h=30&amp;w=30&amp;sz=1&amp;tbnid=w4L6imAeaDYJ:&amp;tbnh=30&amp;tbnw=30&amp;start=10&amp;prev=/images%3Fq%3Dpizza%26imgsz%3Dicon%26hl%3Dfr%26lr%3D%26ie%3DUTF-8" TargetMode="External"/><Relationship Id="rId9" Type="http://schemas.openxmlformats.org/officeDocument/2006/relationships/image" Target="../media/image27.jpeg"/><Relationship Id="rId10" Type="http://schemas.openxmlformats.org/officeDocument/2006/relationships/image" Target="../media/image29.jpeg"/><Relationship Id="rId11" Type="http://schemas.openxmlformats.org/officeDocument/2006/relationships/image" Target="../media/image29.jpeg"/><Relationship Id="rId1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hyperlink" Target="http://images.google.fr/imgres?imgurl=http://www.ensic.u-nancy.fr/PROMEMA/SEMINAR/SEM97/PosterUn/Clipart/Pouce.jpg&amp;imgrefurl=http://www.ensic.u-nancy.fr/PROMEMA/SEMINAR/SEM97/PosterUn/Subject.htm&amp;h=247&amp;w=199&amp;sz=11&amp;tbnid=YxPVg1pJFr4J:&amp;tbnh=104&amp;tbnw=84&amp;start=3&amp;prev=/images%3Fq%3Dpouce%26imgsz%3Dsmall%257Cmedium%257Clarge%257Cxlarge%26hl%3Dfr%26lr%3D%26ie%3DUTF-8%26sa%3DG" TargetMode="External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fr/imgres?imgurl=http://perso.wanadoo.fr/therese.eveilleau/pages/jeux_mat/Images/cible.gif&amp;imgrefurl=http://perso.wanadoo.fr/therese.eveilleau/pages/jeux_mat/textes/pan.htm&amp;h=56&amp;w=42&amp;sz=8&amp;tbnid=zAPa4FHD4loJ:&amp;tbnh=56&amp;tbnw=42&amp;start=7&amp;prev=/images%3Fq%3Dcible%26imgsz%3Dicon%26hl%3Dfr%26lr%3D%26ie%3DUTF-8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images.google.fr/imgres?imgurl=http://cigales.free.fr/iso_album/marteau.gif&amp;imgrefurl=http://cigales.free.fr/pageLibre00010024.html&amp;h=235&amp;w=207&amp;sz=8&amp;tbnid=N6f3PP5xivAJ:&amp;tbnh=103&amp;tbnw=91&amp;start=6&amp;prev=/images%3Fq%3Dmarteau%26imgsz%3Dsmall%257Cmedium%257Clarge%257Cxlarge%26hl%3Dfr%26lr%3D%26ie%3DUTF-8" TargetMode="External"/><Relationship Id="rId4" Type="http://schemas.openxmlformats.org/officeDocument/2006/relationships/image" Target="../media/image11.jpeg"/><Relationship Id="rId5" Type="http://schemas.openxmlformats.org/officeDocument/2006/relationships/hyperlink" Target="http://images.google.fr/imgres?imgurl=http://lajoie.uqam.ca/percept/Bloc3/courbe-audibilite.jpg&amp;imgrefurl=http://lajoie.uqam.ca/percept/Bloc3/bloc3-audition11.html&amp;h=447&amp;w=673&amp;sz=61&amp;tbnid=gMENYSLL5zMJ:&amp;tbnh=90&amp;tbnw=135&amp;start=20&amp;prev=/images%3Fq%3Dcourbe%26imgsz%3Dsmall%257Cmedium%257Clarge%257Cxlarge%26hl%3Dfr%26lr%3D%26ie%3DUTF-8" TargetMode="External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fr/imgres?imgurl=http://perso.wanadoo.fr/therese.eveilleau/pages/jeux_mat/Images/cible.gif&amp;imgrefurl=http://perso.wanadoo.fr/therese.eveilleau/pages/jeux_mat/textes/pan.htm&amp;h=56&amp;w=42&amp;sz=8&amp;tbnid=zAPa4FHD4loJ:&amp;tbnh=56&amp;tbnw=42&amp;start=7&amp;prev=/images%3Fq%3Dcible%26imgsz%3Dicon%26hl%3Dfr%26lr%3D%26ie%3DUTF-8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www.u-bordeaux1.fr/suaps/tir%20arc.htm" TargetMode="External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fr/imgres?imgurl=http://www.pearl.fr/images/produits/S4011.jpg&amp;imgrefurl=http://www.pearl.fr/article-S4011.html&amp;h=250&amp;w=200&amp;sz=15&amp;tbnid=VqSi0NL5zXMJ:&amp;tbnh=105&amp;tbnw=84&amp;start=7&amp;prev=/images%3Fq%3D%2522m%25C3%25A8tre%2Bruban%2522%26imgsz%3Dsmall%257Cmedium%257Clarge%257Cxlarge%26hl%3Dfr%26lr%3D%26ie%3DUTF-8" TargetMode="External"/><Relationship Id="rId2" Type="http://schemas.openxmlformats.org/officeDocument/2006/relationships/image" Target="../media/image14.jpeg"/><Relationship Id="rId3" Type="http://schemas.openxmlformats.org/officeDocument/2006/relationships/hyperlink" Target="http://images.google.fr/imgres?imgurl=http://www.ecole-plus.com/dessin/ecole/poubelle.jpg&amp;imgrefurl=http://www.ecole-plus.com/dessin/ecole.htm&amp;h=283&amp;w=183&amp;sz=9&amp;tbnid=-RepzKkus-UJ:&amp;tbnh=109&amp;tbnw=71&amp;start=4&amp;prev=/images%3Fq%3Dpoubelle%26imgsz%3Dsmall%257Cmedium%257Clarge%257Cxlarge%26hl%3Dfr%26lr%3D%26ie%3DUTF-8" TargetMode="External"/><Relationship Id="rId4" Type="http://schemas.openxmlformats.org/officeDocument/2006/relationships/image" Target="../media/image15.jpeg"/><Relationship Id="rId5" Type="http://schemas.openxmlformats.org/officeDocument/2006/relationships/hyperlink" Target="http://images.google.fr/imgres?imgurl=http://www.imbuddy.net/buddyicons/l/l6646c3d4d1-IMBUDDY.gif&amp;imgrefurl=http://www.imbuddy.net/popular_icons.php&amp;h=49&amp;w=49&amp;sz=6&amp;tbnid=O4yJPhqyda8J:&amp;tbnh=49&amp;tbnw=49&amp;start=16&amp;prev=/images%3Fq%3Dcouple%26imgsz%3Dicon%26hl%3Dfr%26lr%3D%26ie%3DUTF-8" TargetMode="External"/><Relationship Id="rId6" Type="http://schemas.openxmlformats.org/officeDocument/2006/relationships/image" Target="../media/image16.jpeg"/><Relationship Id="rId7" Type="http://schemas.openxmlformats.org/officeDocument/2006/relationships/hyperlink" Target="http://images.google.fr/imgres?imgurl=http://www.alyon.org/generale/geographie/globe.gif&amp;imgrefurl=http://www.alyon.org/generale/geographie/&amp;h=329&amp;w=287&amp;sz=15&amp;tbnid=_EB9TIQXwREJ:&amp;tbnh=113&amp;tbnw=99&amp;start=1&amp;prev=/images%3Fq%3Dg%25C3%25A9ographie%26imgsz%3Dsmall%257Cmedium%257Clarge%257Cxlarge%26hl%3Dfr%26lr%3D%26ie%3DUTF-8" TargetMode="External"/><Relationship Id="rId8" Type="http://schemas.openxmlformats.org/officeDocument/2006/relationships/image" Target="../media/image17.jpeg"/><Relationship Id="rId9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2761920"/>
            <a:ext cx="8153280" cy="22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00"/>
                </a:solidFill>
                <a:latin typeface="Tahoma"/>
              </a:rPr>
              <a:t>Constitution d’un échantillon dans le cadre d’une étude sur la lianescence de </a:t>
            </a:r>
            <a:r>
              <a:rPr b="1" i="1" lang="fr-FR" sz="3600" spc="-1" strike="noStrike">
                <a:solidFill>
                  <a:srgbClr val="003300"/>
                </a:solidFill>
                <a:latin typeface="Tahoma"/>
              </a:rPr>
              <a:t>Tachigali melinonii</a:t>
            </a:r>
            <a:br>
              <a:rPr sz="3600"/>
            </a:br>
            <a:endParaRPr b="0" lang="en-US" sz="36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141720" y="5008680"/>
            <a:ext cx="2362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6699"/>
                </a:solidFill>
                <a:latin typeface="Tahoma"/>
              </a:rPr>
              <a:t>FTH - 2004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1981080" cy="1665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610000" y="685800"/>
            <a:ext cx="698400" cy="8380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3753000" y="74304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4572000" y="609480"/>
            <a:ext cx="692280" cy="7621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5257800" y="762120"/>
            <a:ext cx="1066680" cy="4014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6"/>
          <a:stretch/>
        </p:blipFill>
        <p:spPr>
          <a:xfrm>
            <a:off x="6686640" y="838080"/>
            <a:ext cx="1208160" cy="3193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57200" y="541008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5721480"/>
            <a:ext cx="8305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ous la direction de Gaëlle Jaouen et Meriem Fourn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/10/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3" dur="1" fill="hold"/>
                                  <p:tgtEl>
                                    <p:spTgt spid="4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66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1240" y="147240"/>
            <a:ext cx="788328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ahoma"/>
              </a:rPr>
              <a:t>Résultats – </a:t>
            </a:r>
            <a:r>
              <a:rPr b="1" lang="en-US" sz="2000" spc="-1" strike="noStrike">
                <a:solidFill>
                  <a:srgbClr val="003300"/>
                </a:solidFill>
                <a:latin typeface="Tahoma"/>
              </a:rPr>
              <a:t>description de l’échantillon</a:t>
            </a:r>
            <a:endParaRPr b="0" lang="en-US" sz="2000" spc="-1" strike="noStrike">
              <a:solidFill>
                <a:srgbClr val="003300"/>
              </a:solidFill>
              <a:latin typeface="Tahoma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0" y="1081080"/>
          <a:ext cx="5140440" cy="4711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81080"/>
                    <a:ext cx="5140440" cy="471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5376960" y="1650960"/>
            <a:ext cx="297000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Échantillon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ogène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636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H ~ 150.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uplement e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ébut d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phase juvén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893960" y="566640"/>
            <a:ext cx="559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3300"/>
                </a:solidFill>
                <a:latin typeface="Times New Roman"/>
              </a:rPr>
              <a:t>1. Allométries hauteur-diamètre (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/10/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1240" y="147240"/>
            <a:ext cx="788328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ahoma"/>
              </a:rPr>
              <a:t>Résultats – </a:t>
            </a:r>
            <a:r>
              <a:rPr b="1" lang="en-US" sz="2000" spc="-1" strike="noStrike">
                <a:solidFill>
                  <a:srgbClr val="003300"/>
                </a:solidFill>
                <a:latin typeface="Tahoma"/>
              </a:rPr>
              <a:t>description de l’échantillon</a:t>
            </a:r>
            <a:endParaRPr b="0" lang="en-US" sz="20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1893960" y="566640"/>
            <a:ext cx="559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3300"/>
                </a:solidFill>
                <a:latin typeface="Times New Roman"/>
              </a:rPr>
              <a:t>1. Allométries hauteur-diamètre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0" y="1496880"/>
          <a:ext cx="5310360" cy="4284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96880"/>
                    <a:ext cx="5310360" cy="42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5297400" y="1700280"/>
            <a:ext cx="2662200" cy="26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Échantillon plu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« vieux »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H ~ 115.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ite de la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phase juvén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/10/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-2160"/>
            <a:ext cx="746748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ahoma"/>
              </a:rPr>
              <a:t>Résultats – </a:t>
            </a:r>
            <a:r>
              <a:rPr b="1" lang="en-US" sz="2000" spc="-1" strike="noStrike">
                <a:solidFill>
                  <a:srgbClr val="003300"/>
                </a:solidFill>
                <a:latin typeface="Tahoma"/>
              </a:rPr>
              <a:t>description de l’échantillon</a:t>
            </a:r>
            <a:endParaRPr b="0" lang="en-US" sz="20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1893960" y="566640"/>
            <a:ext cx="559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Times New Roman"/>
              </a:rPr>
              <a:t>2. Facteur de risque (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759200" y="1700280"/>
            <a:ext cx="335772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F entre 0,2 et 0,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rbres</a:t>
            </a:r>
            <a:br>
              <a:rPr sz="2800"/>
            </a:b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   autoporta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F croît avec 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82600" y="1351080"/>
            <a:ext cx="4446720" cy="425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/10/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8560" y="86760"/>
            <a:ext cx="746748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ahoma"/>
              </a:rPr>
              <a:t>Résultats – </a:t>
            </a:r>
            <a:r>
              <a:rPr b="1" lang="en-US" sz="2000" spc="-1" strike="noStrike">
                <a:solidFill>
                  <a:srgbClr val="003300"/>
                </a:solidFill>
                <a:latin typeface="Tahoma"/>
              </a:rPr>
              <a:t>description de l’échantillon</a:t>
            </a:r>
            <a:endParaRPr b="0" lang="en-US" sz="20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98" name=""/>
          <p:cNvSpPr/>
          <p:nvPr/>
        </p:nvSpPr>
        <p:spPr>
          <a:xfrm>
            <a:off x="1893960" y="566640"/>
            <a:ext cx="559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Times New Roman"/>
              </a:rPr>
              <a:t>2. Facteur de risque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0" y="1440000"/>
          <a:ext cx="4541760" cy="3908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40000"/>
                    <a:ext cx="4541760" cy="390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4476600" y="2019240"/>
            <a:ext cx="366084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Échantillon plus « vieux »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RF plus grand que pour notre échantil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Milieu plus dense et plus d’opportunité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nir probable de notre échantillon 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/10/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-360" y="-2160"/>
            <a:ext cx="746748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ahoma"/>
              </a:rPr>
              <a:t>Résultats – </a:t>
            </a:r>
            <a:r>
              <a:rPr b="1" lang="en-US" sz="2000" spc="-1" strike="noStrike">
                <a:solidFill>
                  <a:srgbClr val="003300"/>
                </a:solidFill>
                <a:latin typeface="Tahoma"/>
              </a:rPr>
              <a:t>description de l’échantillon</a:t>
            </a:r>
            <a:endParaRPr b="0" lang="en-US" sz="20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103" name=""/>
          <p:cNvSpPr/>
          <p:nvPr/>
        </p:nvSpPr>
        <p:spPr>
          <a:xfrm>
            <a:off x="1893960" y="566640"/>
            <a:ext cx="559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Times New Roman"/>
              </a:rPr>
              <a:t>2. Facteur de risque (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125960" y="1768320"/>
            <a:ext cx="423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ésultats cohérents avec des relations classiqu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F=f(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57280" y="5289480"/>
            <a:ext cx="367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Sterck et Bongers, 199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162000" y="1219320"/>
            <a:ext cx="4686120" cy="4039920"/>
            <a:chOff x="162000" y="1219320"/>
            <a:chExt cx="4686120" cy="4039920"/>
          </a:xfrm>
        </p:grpSpPr>
        <p:pic>
          <p:nvPicPr>
            <p:cNvPr id="107" name="" descr=""/>
            <p:cNvPicPr/>
            <p:nvPr/>
          </p:nvPicPr>
          <p:blipFill>
            <a:blip r:embed="rId1"/>
            <a:stretch/>
          </p:blipFill>
          <p:spPr>
            <a:xfrm>
              <a:off x="162000" y="1219320"/>
              <a:ext cx="4163760" cy="40399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grpSp>
          <p:nvGrpSpPr>
            <p:cNvPr id="108" name=""/>
            <p:cNvGrpSpPr/>
            <p:nvPr/>
          </p:nvGrpSpPr>
          <p:grpSpPr>
            <a:xfrm>
              <a:off x="1022400" y="2111400"/>
              <a:ext cx="3825720" cy="1985400"/>
              <a:chOff x="1022400" y="2111400"/>
              <a:chExt cx="3825720" cy="1985400"/>
            </a:xfrm>
          </p:grpSpPr>
          <p:sp>
            <p:nvSpPr>
              <p:cNvPr id="109" name=""/>
              <p:cNvSpPr/>
              <p:nvPr/>
            </p:nvSpPr>
            <p:spPr>
              <a:xfrm>
                <a:off x="1022400" y="2111400"/>
                <a:ext cx="784080" cy="1306440"/>
              </a:xfrm>
              <a:prstGeom prst="ellipse">
                <a:avLst/>
              </a:prstGeom>
              <a:noFill/>
              <a:ln w="93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589040" y="3330720"/>
                <a:ext cx="239760" cy="457200"/>
              </a:xfrm>
              <a:prstGeom prst="line">
                <a:avLst/>
              </a:prstGeom>
              <a:ln w="93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1387440" y="3637080"/>
                <a:ext cx="3460680" cy="459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3300"/>
                    </a:solidFill>
                    <a:latin typeface="Times New Roman"/>
                  </a:rPr>
                  <a:t>notre échantillon ?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/10/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30120" y="3465360"/>
            <a:ext cx="2644920" cy="2821320"/>
            <a:chOff x="330120" y="3465360"/>
            <a:chExt cx="2644920" cy="2821320"/>
          </a:xfrm>
        </p:grpSpPr>
        <p:pic>
          <p:nvPicPr>
            <p:cNvPr id="113" name="" descr=""/>
            <p:cNvPicPr/>
            <p:nvPr/>
          </p:nvPicPr>
          <p:blipFill>
            <a:blip r:embed="rId1"/>
            <a:stretch/>
          </p:blipFill>
          <p:spPr>
            <a:xfrm>
              <a:off x="330120" y="3465360"/>
              <a:ext cx="2644920" cy="282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 txBox="1"/>
            <p:nvPr/>
          </p:nvSpPr>
          <p:spPr>
            <a:xfrm>
              <a:off x="330120" y="3465360"/>
              <a:ext cx="2644920" cy="2821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5f5f5f"/>
                </a:buClr>
                <a:buSzPct val="65000"/>
                <a:buFont typeface="Wingdings" charset="2"/>
                <a:buChar char="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0" y="-2160"/>
            <a:ext cx="74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ahoma"/>
              </a:rPr>
              <a:t>Résultats – </a:t>
            </a:r>
            <a:r>
              <a:rPr b="1" lang="en-US" sz="2000" spc="-1" strike="noStrike">
                <a:solidFill>
                  <a:srgbClr val="003300"/>
                </a:solidFill>
                <a:latin typeface="Tahoma"/>
              </a:rPr>
              <a:t>Constitution des coup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88960" y="457200"/>
            <a:ext cx="767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Times New Roman"/>
              </a:rPr>
              <a:t>1. Détection des variables corrélées par ACP (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rcRect l="0" t="0" r="19465" b="8536"/>
          <a:stretch/>
        </p:blipFill>
        <p:spPr>
          <a:xfrm>
            <a:off x="309600" y="1004760"/>
            <a:ext cx="2673360" cy="29606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3327480" y="2585880"/>
            <a:ext cx="3695760" cy="20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&gt; Identification de deux principaux groupements de vari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98400" y="1746360"/>
            <a:ext cx="449280" cy="914400"/>
          </a:xfrm>
          <a:prstGeom prst="ellipse">
            <a:avLst/>
          </a:prstGeom>
          <a:noFill/>
          <a:ln w="2556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747800" y="4226040"/>
            <a:ext cx="881280" cy="565200"/>
          </a:xfrm>
          <a:prstGeom prst="ellipse">
            <a:avLst/>
          </a:prstGeom>
          <a:noFill/>
          <a:ln w="2556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684440" y="1717560"/>
            <a:ext cx="1114200" cy="565200"/>
          </a:xfrm>
          <a:prstGeom prst="ellipse">
            <a:avLst/>
          </a:prstGeom>
          <a:noFill/>
          <a:ln w="2556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89120" y="4216320"/>
            <a:ext cx="449280" cy="914400"/>
          </a:xfrm>
          <a:prstGeom prst="ellipse">
            <a:avLst/>
          </a:prstGeom>
          <a:noFill/>
          <a:ln w="2556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/10/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-360" y="-2160"/>
            <a:ext cx="746748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ahoma"/>
              </a:rPr>
              <a:t>Résultats – </a:t>
            </a:r>
            <a:r>
              <a:rPr b="1" lang="en-US" sz="2000" spc="-1" strike="noStrike">
                <a:solidFill>
                  <a:srgbClr val="003300"/>
                </a:solidFill>
                <a:latin typeface="Tahoma"/>
              </a:rPr>
              <a:t>Constitution des couples</a:t>
            </a:r>
            <a:endParaRPr b="0" lang="en-US" sz="20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1785960" y="523800"/>
            <a:ext cx="615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Times New Roman"/>
              </a:rPr>
              <a:t>1. Détection des variables corrélées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0" r="19465" b="8536"/>
          <a:stretch/>
        </p:blipFill>
        <p:spPr>
          <a:xfrm>
            <a:off x="290520" y="1352520"/>
            <a:ext cx="4280040" cy="45705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 flipH="1" flipV="1">
            <a:off x="1065240" y="2917440"/>
            <a:ext cx="3354480" cy="1763640"/>
          </a:xfrm>
          <a:prstGeom prst="line">
            <a:avLst/>
          </a:prstGeom>
          <a:ln w="442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1692360" y="2301480"/>
            <a:ext cx="1979640" cy="2917800"/>
          </a:xfrm>
          <a:prstGeom prst="line">
            <a:avLst/>
          </a:prstGeom>
          <a:ln w="442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2495520"/>
            <a:ext cx="191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ille croissa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224160" y="1749600"/>
            <a:ext cx="220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igueur croissa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657680" y="2583000"/>
            <a:ext cx="338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caractérisation de la taille et de la vigueur des individus par proj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/10/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524400" y="1330200"/>
            <a:ext cx="4278240" cy="35625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463680" y="4567320"/>
            <a:ext cx="3444840" cy="166032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0" y="1371600"/>
            <a:ext cx="3649680" cy="25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tilisation du </a:t>
            </a:r>
            <a:r>
              <a:rPr b="0" i="1" lang="fr-FR" sz="2800" spc="-1" strike="noStrike">
                <a:solidFill>
                  <a:srgbClr val="000000"/>
                </a:solidFill>
                <a:latin typeface="Verdana"/>
              </a:rPr>
              <a:t>tree-cluster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&gt; Confirmation de la redondance des variab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565200" y="4751280"/>
            <a:ext cx="531720" cy="384120"/>
          </a:xfrm>
          <a:custGeom>
            <a:avLst/>
            <a:gdLst>
              <a:gd name="textAreaLeft" fmla="*/ 82800 w 531720"/>
              <a:gd name="textAreaRight" fmla="*/ 465480 w 531720"/>
              <a:gd name="textAreaTop" fmla="*/ 96120 h 384120"/>
              <a:gd name="textAreaBottom" fmla="*/ 288360 h 384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254240" y="4673520"/>
            <a:ext cx="270504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99ff"/>
                </a:solidFill>
                <a:latin typeface="Verdana"/>
              </a:rPr>
              <a:t>Élimination de trois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36840" y="390600"/>
            <a:ext cx="615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Times New Roman"/>
              </a:rPr>
              <a:t>1. Détection des variables corrélées (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-360" y="-2160"/>
            <a:ext cx="746748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ahoma"/>
              </a:rPr>
              <a:t>Résultats – </a:t>
            </a:r>
            <a:r>
              <a:rPr b="1" lang="en-US" sz="2000" spc="-1" strike="noStrike">
                <a:solidFill>
                  <a:srgbClr val="003300"/>
                </a:solidFill>
                <a:latin typeface="Tahoma"/>
              </a:rPr>
              <a:t>Constitution des couples</a:t>
            </a:r>
            <a:endParaRPr b="0" lang="en-US" sz="20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/10/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7480" y="393480"/>
            <a:ext cx="74674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ahoma"/>
              </a:rPr>
              <a:t>2. Sélection des couples (1)</a:t>
            </a:r>
            <a:endParaRPr b="0" lang="en-US" sz="32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28240" y="1346040"/>
            <a:ext cx="7543800" cy="16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groupement par distances minimales entre les points dans l’espace des 10 variables : </a:t>
            </a:r>
            <a:r>
              <a:rPr b="0" i="1" lang="fr-FR" sz="2800" spc="-1" strike="noStrike">
                <a:solidFill>
                  <a:srgbClr val="000000"/>
                </a:solidFill>
                <a:latin typeface="Verdana"/>
              </a:rPr>
              <a:t>tree-cluster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"/>
          <p:cNvSpPr/>
          <p:nvPr/>
        </p:nvSpPr>
        <p:spPr>
          <a:xfrm>
            <a:off x="1603440" y="3257640"/>
            <a:ext cx="633888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uplage d’individus avec une variabilité minimale sur l’ensemble des variables mesuré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16040" y="3424320"/>
            <a:ext cx="531720" cy="384120"/>
          </a:xfrm>
          <a:custGeom>
            <a:avLst/>
            <a:gdLst>
              <a:gd name="textAreaLeft" fmla="*/ 82800 w 531720"/>
              <a:gd name="textAreaRight" fmla="*/ 465480 w 531720"/>
              <a:gd name="textAreaTop" fmla="*/ 96120 h 384120"/>
              <a:gd name="textAreaBottom" fmla="*/ 288360 h 384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8120" y="3238560"/>
            <a:ext cx="7139160" cy="2149560"/>
          </a:xfrm>
          <a:prstGeom prst="rect">
            <a:avLst/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-2160"/>
            <a:ext cx="74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ahoma"/>
              </a:rPr>
              <a:t>Résultats – </a:t>
            </a:r>
            <a:r>
              <a:rPr b="1" lang="en-US" sz="2000" spc="-1" strike="noStrike">
                <a:solidFill>
                  <a:srgbClr val="003300"/>
                </a:solidFill>
                <a:latin typeface="Tahoma"/>
              </a:rPr>
              <a:t>Constitution des coup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/10/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-2160"/>
            <a:ext cx="74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ahoma"/>
              </a:rPr>
              <a:t>Résultats – </a:t>
            </a:r>
            <a:r>
              <a:rPr b="1" lang="en-US" sz="2000" spc="-1" strike="noStrike">
                <a:solidFill>
                  <a:srgbClr val="003300"/>
                </a:solidFill>
                <a:latin typeface="Tahoma"/>
              </a:rPr>
              <a:t>Constitution des coup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47840" y="39348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ahoma"/>
              </a:rPr>
              <a:t>2. Sélection des couples 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81000" y="4656240"/>
            <a:ext cx="66009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2 couples constitués pour 107 arbres inventorié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 couples « mixtes 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46240" y="1054080"/>
            <a:ext cx="4079520" cy="36036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338720" y="2509920"/>
            <a:ext cx="355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endrogramme des individ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/10/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71240" y="15948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Tahoma"/>
              </a:rPr>
              <a:t>Problématique</a:t>
            </a:r>
            <a:endParaRPr b="0" lang="en-US" sz="44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53" name=""/>
          <p:cNvSpPr/>
          <p:nvPr/>
        </p:nvSpPr>
        <p:spPr>
          <a:xfrm>
            <a:off x="831960" y="1992240"/>
            <a:ext cx="396216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deux stratégies « classiques 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anes et épiphy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bres : prise de risque en favorisant la croissance en haut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28880" y="952560"/>
            <a:ext cx="664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lles stratégies pour des jeunes plantes héliophiles en conditions défavorables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200160" y="4368960"/>
            <a:ext cx="4946040" cy="1937880"/>
            <a:chOff x="200160" y="4368960"/>
            <a:chExt cx="4946040" cy="1937880"/>
          </a:xfrm>
        </p:grpSpPr>
        <p:sp>
          <p:nvSpPr>
            <p:cNvPr id="56" name=""/>
            <p:cNvSpPr/>
            <p:nvPr/>
          </p:nvSpPr>
          <p:spPr>
            <a:xfrm>
              <a:off x="200160" y="5033880"/>
              <a:ext cx="526320" cy="308160"/>
            </a:xfrm>
            <a:custGeom>
              <a:avLst/>
              <a:gdLst>
                <a:gd name="textAreaLeft" fmla="*/ 82080 w 526320"/>
                <a:gd name="textAreaRight" fmla="*/ 460800 w 526320"/>
                <a:gd name="textAreaTop" fmla="*/ 77040 h 308160"/>
                <a:gd name="textAreaBottom" fmla="*/ 231120 h 308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13520" y="4368960"/>
              <a:ext cx="4432680" cy="193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ff3300"/>
                  </a:solidFill>
                  <a:latin typeface="Times New Roman"/>
                </a:rPr>
                <a:t>Une stratégie « mixte » ?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2400" spc="-1" strike="noStrike">
                  <a:solidFill>
                    <a:srgbClr val="000000"/>
                  </a:solidFill>
                  <a:latin typeface="Times New Roman"/>
                </a:rPr>
                <a:t>T. melinonii </a:t>
              </a: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semble s’appuyer sur ses congénères</a:t>
              </a:r>
              <a:r>
                <a:rPr b="0" lang="fr-FR" sz="2400" spc="-1" strike="noStrike">
                  <a:solidFill>
                    <a:srgbClr val="0000ff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768920" y="2023920"/>
            <a:ext cx="4035240" cy="27450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5143680" y="2050920"/>
            <a:ext cx="2685960" cy="4029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/10/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80800" y="66744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3300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7600" y="17017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Couples constitués 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En nombre suffisant (faire face aux incidents de parcour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De bonne qualité (similitude sur l‘ensemble des variabl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Verdana"/>
              </a:rPr>
              <a:t>Une gamme de conditions de croissance (état actuel des arbres, environnement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/10/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 rot="19778400">
            <a:off x="2584440" y="204480"/>
            <a:ext cx="771480" cy="77148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1200" y="883440"/>
            <a:ext cx="74678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3300"/>
                </a:solidFill>
                <a:latin typeface="Tahoma"/>
              </a:rPr>
              <a:t>... une soirée pizza!</a:t>
            </a:r>
            <a:endParaRPr b="0" lang="en-US" sz="4400" spc="-1" strike="noStrike">
              <a:solidFill>
                <a:srgbClr val="003300"/>
              </a:solidFill>
              <a:latin typeface="Tahom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1440000" y="1751040"/>
            <a:ext cx="5362560" cy="402264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 rot="1681800">
            <a:off x="299880" y="1184400"/>
            <a:ext cx="909720" cy="9093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 rot="20326800">
            <a:off x="6924600" y="4903560"/>
            <a:ext cx="1233720" cy="91584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 rot="19778400">
            <a:off x="2665440" y="5866920"/>
            <a:ext cx="771480" cy="7714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10"/>
          <a:stretch/>
        </p:blipFill>
        <p:spPr>
          <a:xfrm>
            <a:off x="304920" y="4737240"/>
            <a:ext cx="1000080" cy="7426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11"/>
          <a:stretch/>
        </p:blipFill>
        <p:spPr>
          <a:xfrm rot="1468800">
            <a:off x="6671880" y="365040"/>
            <a:ext cx="1257480" cy="933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/10/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940040" y="1851120"/>
            <a:ext cx="4518000" cy="40892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676840" y="0"/>
            <a:ext cx="2109960" cy="261144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80800" y="66744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3300"/>
                </a:solidFill>
                <a:latin typeface="Tahoma"/>
              </a:rPr>
              <a:t>Bon courage Gaëlle!</a:t>
            </a:r>
            <a:endParaRPr b="0" lang="en-US" sz="44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/10/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80800" y="66744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Tahoma"/>
              </a:rPr>
              <a:t>Plan</a:t>
            </a:r>
            <a:endParaRPr b="0" lang="en-US" sz="44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10840" y="2306160"/>
            <a:ext cx="6343560" cy="27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bjectif(s) / stratégi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éthod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ésulta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359240" y="1930320"/>
            <a:ext cx="641520" cy="8557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593800" y="2789280"/>
            <a:ext cx="866880" cy="9810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419640" y="3322800"/>
            <a:ext cx="1704960" cy="1136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/10/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7840" y="39744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Tahoma"/>
              </a:rPr>
              <a:t>Objectif de l’étude </a:t>
            </a:r>
            <a:endParaRPr b="0" lang="en-US" sz="44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-360" y="1671120"/>
            <a:ext cx="7846920" cy="36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ster l’hypothèse suivante 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« la </a:t>
            </a:r>
            <a:r>
              <a:rPr b="0" lang="en-US" sz="4000" spc="-1" strike="noStrike">
                <a:solidFill>
                  <a:srgbClr val="0000ff"/>
                </a:solidFill>
                <a:latin typeface="Verdana"/>
              </a:rPr>
              <a:t>disponibilité d’un support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modifie le mode de croissance de </a:t>
            </a:r>
            <a:r>
              <a:rPr b="0" i="1" lang="en-US" sz="4000" spc="-1" strike="noStrike">
                <a:solidFill>
                  <a:srgbClr val="000000"/>
                </a:solidFill>
                <a:latin typeface="Verdana"/>
              </a:rPr>
              <a:t>T. Melinonii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et peut entraîner un </a:t>
            </a:r>
            <a:r>
              <a:rPr b="0" lang="en-US" sz="4000" spc="-1" strike="noStrike">
                <a:solidFill>
                  <a:srgbClr val="0000ff"/>
                </a:solidFill>
                <a:latin typeface="Verdana"/>
              </a:rPr>
              <a:t>comportement lianescent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  »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/10/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7840" y="39744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Tahoma"/>
              </a:rPr>
              <a:t>Stratégie :</a:t>
            </a:r>
            <a:endParaRPr b="0" lang="en-US" sz="44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96640" y="1646280"/>
            <a:ext cx="7846920" cy="36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stituer des couples d’individus « semblables »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uteurer un individu de chaque couple (l’autre est « témoin »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alyser pendant un an le développement des arb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clure sur l’effet des tuteu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/10/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7840" y="39744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Tahoma"/>
              </a:rPr>
              <a:t>Les objectifs du projet</a:t>
            </a:r>
            <a:endParaRPr b="0" lang="en-US" sz="44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87440" y="1701720"/>
            <a:ext cx="7542000" cy="37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écrire l’état d’un ensemble de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T. Melinonii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juvéni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stituer des couples d’individus « semblables »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99320" y="1071720"/>
            <a:ext cx="1022400" cy="13636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Tir à l'arc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30200" y="1284120"/>
            <a:ext cx="990720" cy="99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/10/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23800" y="-70920"/>
            <a:ext cx="74678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Tahoma"/>
              </a:rPr>
              <a:t>Stratégie :</a:t>
            </a:r>
            <a:endParaRPr b="0" lang="en-US" sz="4400" spc="-1" strike="noStrike">
              <a:solidFill>
                <a:srgbClr val="003300"/>
              </a:solidFill>
              <a:latin typeface="Tahoma"/>
            </a:endParaRPr>
          </a:p>
        </p:txBody>
      </p:sp>
      <p:pic>
        <p:nvPicPr>
          <p:cNvPr id="7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65960" y="1512720"/>
            <a:ext cx="800280" cy="100044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64960" y="717120"/>
            <a:ext cx="7275600" cy="488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hoix de deux 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zones de recueil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de donné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Mesure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ur les individus rencontrés un certain nombre de grandeurs considérées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a priori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comme pertinentes pour l’étu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éterminer les 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caractéristiques globales de l’échantill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en termes de prise de risque dans la croissance en hauteu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clure de l’analyse les </a:t>
            </a: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variables redondant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Verdana"/>
              </a:rPr>
              <a:t>Constituer des couple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par similarité sur l’ensemble des variables retenu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6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246720" y="3583080"/>
            <a:ext cx="511200" cy="7840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438960" y="4876920"/>
            <a:ext cx="784080" cy="7840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472080" y="577800"/>
            <a:ext cx="790560" cy="90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/10/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33080" y="21024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Tahoma"/>
              </a:rPr>
              <a:t>Méthodes (1)</a:t>
            </a:r>
            <a:endParaRPr b="0" lang="en-US" sz="44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34440" y="1006200"/>
            <a:ext cx="7543800" cy="51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Grandeurs mesurées 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imensions (3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tat de vigueur (6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tat architectural (2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nvironnement (2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aractérisation de l’échantillon 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llométries H/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alculs de hauteurs critiques et facteurs de risq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/10/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0800" y="66744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Tahoma"/>
              </a:rPr>
              <a:t>Méthodes (2)</a:t>
            </a:r>
            <a:endParaRPr b="0" lang="en-US" sz="4400" spc="-1" strike="noStrike">
              <a:solidFill>
                <a:srgbClr val="003300"/>
              </a:solidFill>
              <a:latin typeface="Tahoma"/>
            </a:endParaRPr>
          </a:p>
        </p:txBody>
      </p:sp>
      <p:sp>
        <p:nvSpPr>
          <p:cNvPr id="82" name=""/>
          <p:cNvSpPr/>
          <p:nvPr/>
        </p:nvSpPr>
        <p:spPr>
          <a:xfrm>
            <a:off x="291960" y="1486080"/>
            <a:ext cx="754236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tection des variables corrélées avec ACP et </a:t>
            </a:r>
            <a:r>
              <a:rPr b="0" i="1" lang="fr-FR" sz="3200" spc="-1" strike="noStrike">
                <a:solidFill>
                  <a:srgbClr val="000000"/>
                </a:solidFill>
                <a:latin typeface="Verdana"/>
              </a:rPr>
              <a:t>clust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termination des couples optimaux par </a:t>
            </a:r>
            <a:r>
              <a:rPr b="0" i="1" lang="fr-FR" sz="3200" spc="-1" strike="noStrike">
                <a:solidFill>
                  <a:srgbClr val="000000"/>
                </a:solidFill>
                <a:latin typeface="Verdana"/>
              </a:rPr>
              <a:t>tree-clustering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(regroupement arborescen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nfirmation « à la main » des couples obten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/10/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6T19:11:34Z</dcterms:created>
  <dc:creator>Techno</dc:creator>
  <dc:description/>
  <dc:language>en-US</dc:language>
  <cp:lastModifiedBy>Eric Marcon</cp:lastModifiedBy>
  <dcterms:modified xsi:type="dcterms:W3CDTF">2004-10-01T11:57:27Z</dcterms:modified>
  <cp:revision>221</cp:revision>
  <dc:subject/>
  <dc:title>Biomécanique  d’un jeune peuplement  dans une trouée de chablis</dc:title>
</cp:coreProperties>
</file>