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wmf" ContentType="image/x-wmf"/>
  <Override PartName="/ppt/media/image30.jpeg" ContentType="image/jpeg"/>
  <Override PartName="/ppt/media/image7.wmf" ContentType="image/x-wmf"/>
  <Override PartName="/ppt/media/image20.jpeg" ContentType="image/jpeg"/>
  <Override PartName="/ppt/media/image11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9.wmf" ContentType="image/x-wmf"/>
  <Override PartName="/ppt/media/image12.jpeg" ContentType="image/jpeg"/>
  <Override PartName="/ppt/media/image13.jpeg" ContentType="image/jpeg"/>
  <Override PartName="/ppt/media/image31.jpeg" ContentType="image/jpeg"/>
  <Override PartName="/ppt/media/image8.wmf" ContentType="image/x-wmf"/>
  <Override PartName="/ppt/media/image4.jpeg" ContentType="image/jpeg"/>
  <Override PartName="/ppt/media/image32.jpeg" ContentType="image/jpeg"/>
  <Override PartName="/ppt/media/image6.wmf" ContentType="image/x-wmf"/>
  <Override PartName="/ppt/media/image19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25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1129-B79A-4D6B-968B-226A4901A91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a viré les données abérantes, dendrométriques et carot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ne carotte pas au niveau de la mesure dendrométrique d’inventaire (mais 50cm en dessous, pour ne pas influencer la croissance ultérieure au niveau de suivi) : il y a forcément un biais, et la mise en évidence de cette tendance est un résultat tout à fait positi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dèle satisfaisant, hypothèse valid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3 carottes de références pour cara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2 pour vir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 banc de mesure, mesure chaque cerne identifié. Courbe de croissance cumulée. Comparaison des croissance mesurée au croissance d’inventaire. Si pb de cernes nuls/double/manquant……faux cernes, on peut le mettre en évidence par l’écho ie le décalage entre les deux courb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sse continue tout au long de l’année due à l’absence de saison marquée Wetter et Wimmer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assin amazonien : 35 % des arbres des espèces présentent des cernes clairs, 22% des cernes difficiles à déterminer (Alvim 1964, in Fahn et al, 19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tres techniques : étude de rondelles préparées ; études de coupes minces colorées en microscopie optique : normale et lumière polarisée (Detienne, 1988), microscopie électronique (schweingruber, 1989), radiographie pour les arbres à croissance très lente (Worbes, 1995), étude isotopiques C14 (Worbes, 198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ousse continue tout au long de l’année due à l’absence de saison marquée Wetter et Wimmer 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Bassin amazonien : 35 % des arbres des espèces présentent des cernes clairs, 22% des cernes difficiles à déterminer (Alvim 1964, in Fahn et al, 198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oix de Carapa car : pas de faux cernes, pas de cernes nuls (biblio : Cécile Lero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04E9-5C54-49D9-B137-B53CE8D3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1C4C-6DAF-4739-8F9B-934FB6B1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A523-439F-4043-AAA6-3C0E385E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D08-0B01-4639-9645-1233618E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060-BC07-450F-B5F2-F50143B1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1AC-7ABF-45CD-88F6-80F9BB159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17A-4A60-4BC1-B11C-5207AD56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239-C062-4D91-9DA6-D8F3BC7F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D9F-AA01-4A0D-9D29-8310CB2C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608B-8B69-42F2-A538-E04BCC54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D83-D03B-4719-9DC2-A3DD6919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04B8-7D69-4CE3-8A23-B658413D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451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4516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451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744F-87A1-436B-AE96-86CF89EF7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9640" y="777960"/>
            <a:ext cx="813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26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404640"/>
            <a:ext cx="86421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0" y="-126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Arial"/>
              </a:rPr>
              <a:t>Etude des cernes de croissance des bois de Guyane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68360" y="4533480"/>
            <a:ext cx="36720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Jean-Baptiste But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jimasngar Ndimadj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Guillaume Rib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64000" y="4678200"/>
            <a:ext cx="367200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François Morn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Sébastien Davi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680" y="6303960"/>
            <a:ext cx="911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ule FTH 2005 – 30/09/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C4E7-6DF8-402A-8068-DE470F20FD5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280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2 : Analyse des carot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7900920" cy="223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7900920" cy="22305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4572000" y="1916280"/>
            <a:ext cx="4038480" cy="4537080"/>
            <a:chOff x="4572000" y="1916280"/>
            <a:chExt cx="4038480" cy="453708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4572000" y="1916280"/>
              <a:ext cx="4038480" cy="203040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</p:spPr>
        </p:pic>
        <p:pic>
          <p:nvPicPr>
            <p:cNvPr id="141" name="" descr=""/>
            <p:cNvPicPr/>
            <p:nvPr/>
          </p:nvPicPr>
          <p:blipFill>
            <a:blip r:embed="rId4"/>
            <a:stretch/>
          </p:blipFill>
          <p:spPr>
            <a:xfrm>
              <a:off x="4572000" y="4437000"/>
              <a:ext cx="4032360" cy="2016360"/>
            </a:xfrm>
            <a:prstGeom prst="rect">
              <a:avLst/>
            </a:prstGeom>
            <a:ln w="57240">
              <a:solidFill>
                <a:srgbClr val="ffffff"/>
              </a:solidFill>
              <a:miter/>
            </a:ln>
          </p:spPr>
        </p:pic>
      </p:grpSp>
      <p:grpSp>
        <p:nvGrpSpPr>
          <p:cNvPr id="142" name=""/>
          <p:cNvGrpSpPr/>
          <p:nvPr/>
        </p:nvGrpSpPr>
        <p:grpSpPr>
          <a:xfrm>
            <a:off x="324000" y="4078440"/>
            <a:ext cx="8559720" cy="2519280"/>
            <a:chOff x="324000" y="4078440"/>
            <a:chExt cx="8559720" cy="2519280"/>
          </a:xfrm>
        </p:grpSpPr>
        <p:grpSp>
          <p:nvGrpSpPr>
            <p:cNvPr id="143" name=""/>
            <p:cNvGrpSpPr/>
            <p:nvPr/>
          </p:nvGrpSpPr>
          <p:grpSpPr>
            <a:xfrm>
              <a:off x="324000" y="4078440"/>
              <a:ext cx="8559720" cy="2519280"/>
              <a:chOff x="324000" y="4078440"/>
              <a:chExt cx="8559720" cy="2519280"/>
            </a:xfrm>
          </p:grpSpPr>
          <p:sp>
            <p:nvSpPr>
              <p:cNvPr id="144" name=""/>
              <p:cNvSpPr/>
              <p:nvPr/>
            </p:nvSpPr>
            <p:spPr>
              <a:xfrm>
                <a:off x="324000" y="4078440"/>
                <a:ext cx="8559720" cy="251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84360" y="4407120"/>
                <a:ext cx="4248000" cy="158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0066"/>
                    </a:solidFill>
                    <a:latin typeface="Arial"/>
                  </a:rPr>
                  <a:t>Difficultés de l’étude des carottes 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2c666a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Lisibilité des carott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2c666a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Carottes rarement plein cœu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06920" y="4899240"/>
                <a:ext cx="3781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Approximation du ray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  </a:t>
                </a:r>
                <a:r>
                  <a:rPr b="1" lang="en-US" sz="1600" spc="-1" strike="noStrike">
                    <a:solidFill>
                      <a:srgbClr val="2c666a"/>
                    </a:solidFill>
                    <a:latin typeface="Arial"/>
                  </a:rPr>
                  <a:t>Erreur sur la largeur des cern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5400000">
              <a:off x="4111200" y="5043600"/>
              <a:ext cx="576360" cy="28764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453-8CA3-4859-9911-AEC250E26A5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tract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907920"/>
            <a:ext cx="9144000" cy="5545440"/>
            <a:chOff x="0" y="907920"/>
            <a:chExt cx="9144000" cy="554544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8642160" cy="55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0" y="587700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Cara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604E-9A37-4A85-9661-860388808DC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tract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907920"/>
            <a:ext cx="9144000" cy="5545440"/>
            <a:chOff x="0" y="907920"/>
            <a:chExt cx="9144000" cy="554544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8642160" cy="55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0" y="587700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Tachig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1997-0C0E-4BE0-9BE3-51EB9BF355D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p:transition spd="slow" advTm="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tract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907920"/>
            <a:ext cx="9144000" cy="5545440"/>
            <a:chOff x="0" y="907920"/>
            <a:chExt cx="9144000" cy="5545440"/>
          </a:xfrm>
        </p:grpSpPr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250920" y="907920"/>
              <a:ext cx="8642160" cy="554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0" y="5877000"/>
              <a:ext cx="91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iro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EDD-65F7-4B1D-93D0-AE0096A97A1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p:transition spd="slow" advTm="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tract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642160" cy="5545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0" y="5877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gél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A90E-D64B-4009-A701-7225CB8C78E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p:transition spd="slow" advTm="6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>
            <a:lum bright="54000"/>
          </a:blip>
          <a:srcRect l="0" t="8920" r="5588" b="8197"/>
          <a:stretch/>
        </p:blipFill>
        <p:spPr>
          <a:xfrm>
            <a:off x="0" y="863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B69B-DE21-49BF-BB42-61AFC73CED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>
            <a:lum bright="54000"/>
          </a:blip>
          <a:srcRect l="0" t="8920" r="5588" b="8197"/>
          <a:stretch/>
        </p:blipFill>
        <p:spPr>
          <a:xfrm>
            <a:off x="0" y="863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6327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2166840"/>
            <a:ext cx="785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Etude des corrélations entre 2 séries de données : données dendrométriques ONF vs largeurs de cernes mesurées (biais sur hauteurs de carottage et de mesu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71640" y="3500280"/>
            <a:ext cx="7777080" cy="28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égression par arbre non signifi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égression par périodes de mesure d’un même placeau im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66"/>
                </a:solidFill>
                <a:latin typeface="Arial"/>
              </a:rPr>
              <a:t>Régression sur l’ensemble des données d’une espè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10A9-5957-459F-B560-AF038F72C8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>
            <a:lum bright="54000"/>
          </a:blip>
          <a:srcRect l="0" t="8920" r="5588" b="8197"/>
          <a:stretch/>
        </p:blipFill>
        <p:spPr>
          <a:xfrm>
            <a:off x="0" y="863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280" y="1125000"/>
            <a:ext cx="8388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ude globale : comparaison par essence de la largeur moyenne d’un cerne aux données dendrométr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403280" y="2664000"/>
          <a:ext cx="5761080" cy="1773000"/>
        </p:xfrm>
        <a:graphic>
          <a:graphicData uri="http://schemas.openxmlformats.org/drawingml/2006/table">
            <a:tbl>
              <a:tblPr/>
              <a:tblGrid>
                <a:gridCol w="1381320"/>
                <a:gridCol w="2189160"/>
                <a:gridCol w="2190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roissement moyen (en cm/a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ur moyenne de cerne (en cm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chig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045440" y="2155680"/>
            <a:ext cx="302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paraison de moyen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708000" y="5229360"/>
            <a:ext cx="719280" cy="503280"/>
            <a:chOff x="3708000" y="5229360"/>
            <a:chExt cx="719280" cy="503280"/>
          </a:xfrm>
        </p:grpSpPr>
        <p:sp>
          <p:nvSpPr>
            <p:cNvPr id="176" name=""/>
            <p:cNvSpPr/>
            <p:nvPr/>
          </p:nvSpPr>
          <p:spPr>
            <a:xfrm flipH="1">
              <a:off x="3708000" y="5229360"/>
              <a:ext cx="360360" cy="503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6920" y="5229360"/>
              <a:ext cx="360360" cy="5032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971640" y="4824360"/>
            <a:ext cx="8031240" cy="1918800"/>
            <a:chOff x="971640" y="4824360"/>
            <a:chExt cx="8031240" cy="1918800"/>
          </a:xfrm>
        </p:grpSpPr>
        <p:sp>
          <p:nvSpPr>
            <p:cNvPr id="179" name=""/>
            <p:cNvSpPr/>
            <p:nvPr/>
          </p:nvSpPr>
          <p:spPr>
            <a:xfrm>
              <a:off x="971640" y="4824360"/>
              <a:ext cx="77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lan : On ne peut conclure à l’existence de cernes annuels.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71240" y="5832360"/>
              <a:ext cx="160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utre ryth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287240" y="5826240"/>
              <a:ext cx="4715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mprécision des mesures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arottes mal centrées, cassées, illisi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66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sures dendrométriqu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524-926C-4EDD-8A49-2C18D3C04A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ude précise sur Cara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2935440"/>
            <a:ext cx="345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égression de type II entre l’accroissement radial entre 2 mesures et la largueur des cernes  corresponda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2055960"/>
            <a:ext cx="33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n travaille sous l’hypothè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1 cerne = 1 anné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5157720"/>
            <a:ext cx="345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4235400" y="1998720"/>
            <a:ext cx="4513320" cy="4454280"/>
            <a:chOff x="4235400" y="1998720"/>
            <a:chExt cx="4513320" cy="4454280"/>
          </a:xfrm>
        </p:grpSpPr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4284720" y="1998720"/>
              <a:ext cx="4464000" cy="44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803560" y="6092640"/>
              <a:ext cx="164664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AccDendro (c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6200000">
              <a:off x="3717000" y="3691080"/>
              <a:ext cx="1374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LargCer (cm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539640" y="4581360"/>
            <a:ext cx="3095640" cy="10782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Droite de régression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LargCer = 1,2 . AccDend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R² = 67 %</a:t>
            </a:r>
            <a:r>
              <a:rPr b="1" lang="fr-FR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6E7A-7481-4B06-927D-C5125A13138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125360"/>
            <a:ext cx="821844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ude précise sur les carottes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987640" y="1609560"/>
          <a:ext cx="6337440" cy="477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1609560"/>
                    <a:ext cx="6337440" cy="47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77880" y="2338560"/>
            <a:ext cx="2454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hérence 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ur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Corr = 0.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Etude plus f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66"/>
                </a:solidFill>
                <a:latin typeface="Arial"/>
              </a:rPr>
              <a:t>à l’INRA N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1989000"/>
            <a:ext cx="5400720" cy="27648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araison mesures d'accroissement radial / largeurs de cer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rcRect l="21463" t="0" r="40556" b="45749"/>
          <a:stretch/>
        </p:blipFill>
        <p:spPr>
          <a:xfrm>
            <a:off x="-1405080" y="3573360"/>
            <a:ext cx="817560" cy="90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F6F-1190-4746-9525-751F43E14DD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5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1 -0.05579 C -0.02118 -0.04861 0.19895 0.02546 0.19895 0.03912 C 0.24948 0.06227 0.275 0.08032 0.30781 0.08403 C 0.35659 0.08611 0.39652 0.07454 0.39652 0.06111 C 0.39757 0.04629 0.35763 0.03379 0.30868 0.03171 C 0.28402 0.03171 0.26198 0.03379 0.24479 0.03773 C 0.22257 0.04514 0.20868 0.05671 0.20868 0.06829 C 0.20868 0.07454 0.21284 0.08102 0.22013 0.08727 C 0.23698 0.09884 0.26909 0.1081 0.30711 0.10903 C 0.35156 0.11018 0.3868 0.1 0.3868 0.08727 C 0.38784 0.07454 0.35208 0.06296 0.30781 0.06204 C 0.28576 0.06111 0.26545 0.06296 0.25034 0.06713 C 0.22968 0.07361 0.21823 0.08287 0.21823 0.09467 C 0.21823 0.1 0.22204 0.10579 0.22812 0.11111 C 0.24323 0.12176 0.27239 0.13009 0.30607 0.13102 C 0.346 0.13102 0.37795 0.12268 0.37795 0.11111 C 0.37795 0.1 0.34704 0.08935 0.30711 0.08819 C 0.2875 0.08819 0.26909 0.09051 0.25555 0.09352 C 0.23698 0.09884 0.22621 0.1081 0.22552 0.11759 C 0.22552 0.12268 0.22968 0.12801 0.23524 0.13217 C 0.24843 0.14282 0.27517 0.15 0.30486 0.15 C 0.34062 0.15116 0.37013 0.14375 0.37013 0.13333 C 0.37066 0.12268 0.34166 0.11342 0.30607 0.11227 C 0.28836 0.11227 0.27152 0.11342 0.25989 0.11759 C 0.24323 0.12176 0.2335 0.13009 0.2335 0.13866 C 0.2335 0.14375 0.23611 0.14815 0.24132 0.15231 C 0.25382 0.16134 0.27673 0.16805 0.30382 0.16875 C 0.33698 0.16875 0.36267 0.16273 0.36267 0.15324 C 0.36371 0.14375 0.33802 0.13518 0.30486 0.13426 C 0.28888 0.13426 0.27517 0.13518 0.26441 0.13866 C 0.24913 0.14282 0.24045 0.15 0.24045 0.15856 C 0.24045 0.16273 0.24323 0.16597 0.24774 0.16991 C 0.25833 0.17824 0.27951 0.18333 0.30382 0.18449 C 0.3335 0.18565 0.35659 0.17917 0.35659 0.16991 C 0.35659 0.16273 0.33454 0.15393 0.30486 0.15393 C 0.2901 0.15324 0.27673 0.15532 0.26684 0.15741 C 0.25382 0.16134 0.246 0.16805 0.246 0.175 C 0.246 0.17917 0.24843 0.18241 0.25277 0.18565 C 0.2625 0.19282 0.28229 0.19815 0.30347 0.1993 C 0.33003 0.20046 0.35156 0.19398 0.35156 0.1868 C 0.35156 0.17824 0.33003 0.17199 0.30382 0.17083 C 0.29184 0.17083 0.27951 0.17199 0.27066 0.175 C 0.25833 0.17824 0.25121 0.18333 0.25121 0.19097 C 0.25121 0.19398 0.25382 0.19722 0.25729 0.20046 C 0.27291 0.20185 0.33802 0.20254 0.346 0.20046 C 0.346 0.19398 0.32743 0.18773 0.30347 0.18773 C 0.2927 0.1868 0.28142 0.18773 0.27343 0.18981 C 0.2625 0.19398 0.25642 0.1993 0.25642 0.20463 C 0.26128 0.21042 0.28941 0.22292 0.30347 0.22454 C 0.32482 0.22454 0.34166 0.21921 0.34166 0.21389 C 0.34166 0.20764 0.32482 0.20139 0.30347 0.20139 C 0.2927 0.20139 0.28281 0.20231 0.27673 0.20463 C 0.26632 0.20671 0.26076 0.2118 0.26076 0.21713 C 0.25954 0.22199 0.28784 0.2118 0.30434 0.21296 E">
                                      <p:cBhvr>
                                        <p:cTn id="76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ématiqu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f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43280" y="1270080"/>
          <a:ext cx="3816360" cy="2320560"/>
        </p:xfrm>
        <a:graphic>
          <a:graphicData uri="http://schemas.openxmlformats.org/drawingml/2006/table">
            <a:tbl>
              <a:tblPr/>
              <a:tblGrid>
                <a:gridCol w="1584360"/>
                <a:gridCol w="1079640"/>
                <a:gridCol w="1152360"/>
              </a:tblGrid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ê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151c5"/>
                          </a:solidFill>
                          <a:latin typeface="Arial"/>
                        </a:rPr>
                        <a:t>Tempér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Tropic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issance disconti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151c5"/>
                          </a:solidFill>
                          <a:latin typeface="Arial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nes dans le bo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151c5"/>
                          </a:solidFill>
                          <a:latin typeface="Arial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35 % des espè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tion pos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151c5"/>
                          </a:solidFill>
                          <a:latin typeface="Arial"/>
                        </a:rPr>
                        <a:t>Ou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>
            <a:off x="3047760" y="3933720"/>
            <a:ext cx="544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 des cernes de 3 essences de Guy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7760" y="4545000"/>
            <a:ext cx="60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se en relation avec des données de croiss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50640" y="5157720"/>
            <a:ext cx="538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que non destructiv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ail sur des carottes et non des rond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378560" y="1211400"/>
            <a:ext cx="1008000" cy="2709000"/>
            <a:chOff x="7378560" y="1211400"/>
            <a:chExt cx="1008000" cy="2709000"/>
          </a:xfrm>
        </p:grpSpPr>
        <p:sp>
          <p:nvSpPr>
            <p:cNvPr id="62" name=""/>
            <p:cNvSpPr/>
            <p:nvPr/>
          </p:nvSpPr>
          <p:spPr>
            <a:xfrm>
              <a:off x="7378560" y="1211400"/>
              <a:ext cx="1008000" cy="24325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7883280" y="3692520"/>
              <a:ext cx="0" cy="227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729-2730-4A47-9B5A-C01CCCCDD5D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45680" y="1052640"/>
            <a:ext cx="86979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ation difficile des caro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ottes trop sombres, délitées, illis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limitation difficile des cernes dus à des changements de tei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x cernes et cernes nuls (chez Virola en particuli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ottes non rad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3860640"/>
            <a:ext cx="86868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conisations pour l’étude des cernes dans les bois tropicaux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otte au cœur (plusieurs/arbre au beso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c de mesure de largeur de c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i de croissance régulier et harmonisé entre parcel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D005-FE13-47E4-9090-4F6189A6512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412640"/>
            <a:ext cx="4759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évidence de cerne de croissance annuels chez Carapa et Virola à partir de carot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tude des cernes tropicaux de bois encore peu avancée (qui pourrait permettre de dater les arbres abattus ou sur pie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res techniques plus fines d’analyse qui peuvent être mises en œuvre chez Carapa et Vi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796000" y="1486080"/>
            <a:ext cx="295272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1DA-1456-461D-9BC4-7C499A3F697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70419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252000" cy="4506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0" y="-198360"/>
            <a:ext cx="4861080" cy="70563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4030560" y="-243000"/>
            <a:ext cx="5113440" cy="7101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rcRect l="21460" t="0" r="40564" b="45765"/>
          <a:stretch/>
        </p:blipFill>
        <p:spPr>
          <a:xfrm>
            <a:off x="2050920" y="404640"/>
            <a:ext cx="5353200" cy="57340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0" y="-316080"/>
            <a:ext cx="9325080" cy="717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3B8-8374-40CE-B6EC-60AF2CD7CB9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8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00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an de l’exposé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1738080"/>
            <a:ext cx="403884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0" y="909720"/>
            <a:ext cx="4105440" cy="54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30C-BB91-40AE-A221-05A7CC977A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450800"/>
            <a:ext cx="45464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e d’étud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sitif du Bafog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êt des Malg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ivi individuel de croissance par l’ONF depuis 50 a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placeaux d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nées échelonnées irrégulièrement depuis 1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5861160" y="2023920"/>
            <a:ext cx="2825640" cy="334980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4938840" y="1666800"/>
            <a:ext cx="2238120" cy="755640"/>
            <a:chOff x="4938840" y="1666800"/>
            <a:chExt cx="2238120" cy="755640"/>
          </a:xfrm>
        </p:grpSpPr>
        <p:sp>
          <p:nvSpPr>
            <p:cNvPr id="70" name=""/>
            <p:cNvSpPr/>
            <p:nvPr/>
          </p:nvSpPr>
          <p:spPr>
            <a:xfrm>
              <a:off x="6443640" y="2314440"/>
              <a:ext cx="111240" cy="1080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38840" y="1666800"/>
              <a:ext cx="22381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333399"/>
                  </a:solidFill>
                  <a:latin typeface="Arial"/>
                </a:rPr>
                <a:t>St-Laurent-du-Maro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56360" y="2027160"/>
              <a:ext cx="216000" cy="287280"/>
            </a:xfrm>
            <a:custGeom>
              <a:avLst/>
              <a:gdLst/>
              <a:ahLst/>
              <a:rect l="l" t="t" r="r" b="b"/>
              <a:pathLst>
                <a:path w="136" h="181">
                  <a:moveTo>
                    <a:pt x="0" y="0"/>
                  </a:moveTo>
                  <a:cubicBezTo>
                    <a:pt x="11" y="53"/>
                    <a:pt x="22" y="106"/>
                    <a:pt x="45" y="136"/>
                  </a:cubicBezTo>
                  <a:cubicBezTo>
                    <a:pt x="68" y="166"/>
                    <a:pt x="102" y="173"/>
                    <a:pt x="136" y="181"/>
                  </a:cubicBezTo>
                </a:path>
              </a:pathLst>
            </a:custGeom>
            <a:noFill/>
            <a:ln w="1908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335640" y="2314440"/>
            <a:ext cx="828360" cy="488880"/>
            <a:chOff x="6335640" y="2314440"/>
            <a:chExt cx="828360" cy="488880"/>
          </a:xfrm>
        </p:grpSpPr>
        <p:sp>
          <p:nvSpPr>
            <p:cNvPr id="74" name=""/>
            <p:cNvSpPr/>
            <p:nvPr/>
          </p:nvSpPr>
          <p:spPr>
            <a:xfrm>
              <a:off x="6516720" y="2314440"/>
              <a:ext cx="142920" cy="14292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35640" y="243504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3300"/>
                  </a:solidFill>
                  <a:latin typeface="Arial"/>
                </a:rPr>
                <a:t>Bafo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003640" y="1628640"/>
            <a:ext cx="3961080" cy="3745080"/>
            <a:chOff x="5003640" y="1628640"/>
            <a:chExt cx="3961080" cy="3745080"/>
          </a:xfrm>
        </p:grpSpPr>
        <p:sp>
          <p:nvSpPr>
            <p:cNvPr id="78" name=""/>
            <p:cNvSpPr/>
            <p:nvPr/>
          </p:nvSpPr>
          <p:spPr>
            <a:xfrm>
              <a:off x="5003640" y="1628640"/>
              <a:ext cx="3961080" cy="3745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5148360" y="1784160"/>
              <a:ext cx="3660480" cy="3373560"/>
              <a:chOff x="5148360" y="1784160"/>
              <a:chExt cx="3660480" cy="3373560"/>
            </a:xfrm>
          </p:grpSpPr>
          <p:pic>
            <p:nvPicPr>
              <p:cNvPr id="80" name="" descr=""/>
              <p:cNvPicPr/>
              <p:nvPr/>
            </p:nvPicPr>
            <p:blipFill>
              <a:blip r:embed="rId5"/>
              <a:srcRect l="17745" t="15199" r="10687" b="18166"/>
              <a:stretch/>
            </p:blipFill>
            <p:spPr>
              <a:xfrm>
                <a:off x="5148360" y="1878480"/>
                <a:ext cx="1664280" cy="171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" descr=""/>
              <p:cNvPicPr/>
              <p:nvPr/>
            </p:nvPicPr>
            <p:blipFill>
              <a:blip r:embed="rId6"/>
              <a:srcRect l="5646" t="6527" r="20769" b="29029"/>
              <a:stretch/>
            </p:blipFill>
            <p:spPr>
              <a:xfrm>
                <a:off x="7100280" y="3391920"/>
                <a:ext cx="1708560" cy="1653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7"/>
              <a:srcRect l="15728" t="18029" r="8671" b="15291"/>
              <a:stretch/>
            </p:blipFill>
            <p:spPr>
              <a:xfrm>
                <a:off x="5442840" y="3445200"/>
                <a:ext cx="1759680" cy="1712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" descr=""/>
              <p:cNvPicPr/>
              <p:nvPr/>
            </p:nvPicPr>
            <p:blipFill>
              <a:blip r:embed="rId8"/>
              <a:srcRect l="12575" t="9708" r="10496" b="13899"/>
              <a:stretch/>
            </p:blipFill>
            <p:spPr>
              <a:xfrm>
                <a:off x="6809400" y="1784160"/>
                <a:ext cx="1732680" cy="1685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8F3-1EF1-493A-A37D-9062CA3B51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1 : sélection des espèces étudi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2781360"/>
          <a:ext cx="3600360" cy="3128760"/>
        </p:xfrm>
        <a:graphic>
          <a:graphicData uri="http://schemas.openxmlformats.org/drawingml/2006/table">
            <a:tbl>
              <a:tblPr/>
              <a:tblGrid>
                <a:gridCol w="1725120"/>
                <a:gridCol w="1875240"/>
              </a:tblGrid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arema jupun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alea rose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lizia pedicellar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marouba ama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rapa proc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mphonia globulif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drobangia bolivia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chigali melinon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corynia guianen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pirira guianen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sma uncinat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yrsodium sprucean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upia glab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rola micheli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ga alb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chysia guianen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etia proce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uacapoua america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cropholis guyanen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ylopia niti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1189080" y="2247840"/>
            <a:ext cx="1262880" cy="337320"/>
          </a:xfrm>
          <a:prstGeom prst="rect">
            <a:avLst/>
          </a:prstGeom>
          <a:solidFill>
            <a:srgbClr val="fff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77f85"/>
                </a:solidFill>
                <a:latin typeface="Arial"/>
              </a:rPr>
              <a:t>20 espè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926880" y="3500280"/>
            <a:ext cx="1076760" cy="936720"/>
            <a:chOff x="3926880" y="3500280"/>
            <a:chExt cx="1076760" cy="936720"/>
          </a:xfrm>
        </p:grpSpPr>
        <p:sp>
          <p:nvSpPr>
            <p:cNvPr id="89" name=""/>
            <p:cNvSpPr/>
            <p:nvPr/>
          </p:nvSpPr>
          <p:spPr>
            <a:xfrm>
              <a:off x="3926880" y="350028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 carot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étudié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27320" y="4149720"/>
              <a:ext cx="976320" cy="287280"/>
            </a:xfrm>
            <a:prstGeom prst="rightArrow">
              <a:avLst>
                <a:gd name="adj1" fmla="val 50000"/>
                <a:gd name="adj2" fmla="val 84962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5205240" y="2228760"/>
            <a:ext cx="3780000" cy="3691080"/>
            <a:chOff x="5205240" y="2228760"/>
            <a:chExt cx="3780000" cy="3691080"/>
          </a:xfrm>
        </p:grpSpPr>
        <p:sp>
          <p:nvSpPr>
            <p:cNvPr id="92" name=""/>
            <p:cNvSpPr/>
            <p:nvPr/>
          </p:nvSpPr>
          <p:spPr>
            <a:xfrm>
              <a:off x="5706000" y="2852640"/>
              <a:ext cx="26877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espèces sélectionnées 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- Accroissement intéress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- carotta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- structures bien visibl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651640" y="4221000"/>
              <a:ext cx="2212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buSzPct val="10281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333399"/>
                  </a:solidFill>
                  <a:latin typeface="Arial"/>
                </a:rPr>
                <a:t>Carapa proc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51640" y="4200480"/>
              <a:ext cx="2212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ff9933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51640" y="4602240"/>
              <a:ext cx="28810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buSzPct val="10281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333399"/>
                  </a:solidFill>
                  <a:latin typeface="Arial"/>
                </a:rPr>
                <a:t>Tachigali melinon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51640" y="4940280"/>
              <a:ext cx="22129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buSzPct val="10281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800" spc="-1" strike="noStrike">
                  <a:solidFill>
                    <a:srgbClr val="333399"/>
                  </a:solidFill>
                  <a:latin typeface="Arial"/>
                </a:rPr>
                <a:t>Virola michel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91280" y="2781360"/>
              <a:ext cx="3600360" cy="3138480"/>
            </a:xfrm>
            <a:prstGeom prst="rect">
              <a:avLst/>
            </a:prstGeom>
            <a:noFill/>
            <a:ln w="28440">
              <a:solidFill>
                <a:srgbClr val="45a0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05240" y="5459400"/>
              <a:ext cx="378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Arial"/>
                </a:rPr>
                <a:t>( + Dicorynia guianensis et Qualea ros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15640" y="2228760"/>
              <a:ext cx="1149840" cy="337320"/>
            </a:xfrm>
            <a:prstGeom prst="rect">
              <a:avLst/>
            </a:prstGeom>
            <a:solidFill>
              <a:srgbClr val="fff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77f85"/>
                  </a:solidFill>
                  <a:latin typeface="Arial"/>
                </a:rPr>
                <a:t>3 espè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05C-2D86-4FD3-87D2-78615E0814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>
            <a:lum bright="80000"/>
          </a:blip>
          <a:stretch/>
        </p:blipFill>
        <p:spPr>
          <a:xfrm>
            <a:off x="0" y="851040"/>
            <a:ext cx="9123480" cy="568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59280" y="1557000"/>
            <a:ext cx="6084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2 : Carottage inten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espè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carottes / espè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quage sur le terrain : 3 – 28 – 13 – 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179280" y="895320"/>
            <a:ext cx="2808360" cy="331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79280" y="4280040"/>
            <a:ext cx="2808360" cy="221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6156000" y="4365720"/>
            <a:ext cx="647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804000" y="4437000"/>
            <a:ext cx="432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67280" y="4437000"/>
            <a:ext cx="14436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8360" y="443700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3080" y="4821120"/>
            <a:ext cx="13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 espè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219800" y="51292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° arb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30520" y="513540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° carr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77800" y="4821120"/>
            <a:ext cx="114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° plac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35BA-B1A9-49B9-AF47-8340100CEF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764388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2 : Préparation des carot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86400" y="2565360"/>
            <a:ext cx="3946320" cy="296064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19120" y="2349360"/>
            <a:ext cx="3621240" cy="3309840"/>
            <a:chOff x="519120" y="2349360"/>
            <a:chExt cx="3621240" cy="3309840"/>
          </a:xfrm>
        </p:grpSpPr>
        <p:sp>
          <p:nvSpPr>
            <p:cNvPr id="116" name=""/>
            <p:cNvSpPr/>
            <p:nvPr/>
          </p:nvSpPr>
          <p:spPr>
            <a:xfrm>
              <a:off x="519120" y="3645000"/>
              <a:ext cx="362124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éparation au scalpel longue et minutieuse, dans le plan orthogonal aux fibres et aux vaisseaux du bois, dans le respect du savoir-faire ancestral et de la tradition de l’INRA Na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9120" y="2349360"/>
              <a:ext cx="3621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servation des échantillons frais dans des boîtes au réfrigérateur pour éviter leur déshydra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22D6-D5B9-4893-BD24-4159DC1B13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2 : Analyse des carotte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23696" t="0" r="8622" b="0"/>
          <a:stretch/>
        </p:blipFill>
        <p:spPr>
          <a:xfrm>
            <a:off x="250920" y="2276640"/>
            <a:ext cx="3054240" cy="3384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708360" y="2276640"/>
            <a:ext cx="5040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tude glob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Pointage et comptage des cer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Estimation de la largeur moyenne d’un c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66"/>
                </a:solidFill>
                <a:latin typeface="Arial"/>
              </a:rPr>
              <a:t>Comparaison aux données dendrométriques : accroissement moyen ann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140360" y="5510160"/>
            <a:ext cx="3958560" cy="368280"/>
            <a:chOff x="4140360" y="5510160"/>
            <a:chExt cx="3958560" cy="368280"/>
          </a:xfrm>
        </p:grpSpPr>
        <p:sp>
          <p:nvSpPr>
            <p:cNvPr id="124" name=""/>
            <p:cNvSpPr/>
            <p:nvPr/>
          </p:nvSpPr>
          <p:spPr>
            <a:xfrm>
              <a:off x="4502880" y="5510160"/>
              <a:ext cx="359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rrespondance cerne/année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0360" y="570060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872320" y="2284560"/>
            <a:ext cx="2587320" cy="9169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sur Carapa proc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Tachigali melinon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Virola michel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EF9-0FD0-44D4-9005-411C1531BB7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 2 : Analyse des carottes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23696" t="0" r="8622" b="0"/>
          <a:stretch/>
        </p:blipFill>
        <p:spPr>
          <a:xfrm>
            <a:off x="250920" y="2276640"/>
            <a:ext cx="3054240" cy="3384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708360" y="2276640"/>
            <a:ext cx="5040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tude pré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ypothèse : 1 cerne = 1 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sure des largeurs des cernes correspondant aux périodes entre les mesures de l’ON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mparaison avec l’accroissement dendrométr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140360" y="5510160"/>
            <a:ext cx="4622400" cy="368280"/>
            <a:chOff x="4140360" y="5510160"/>
            <a:chExt cx="4622400" cy="368280"/>
          </a:xfrm>
        </p:grpSpPr>
        <p:sp>
          <p:nvSpPr>
            <p:cNvPr id="132" name=""/>
            <p:cNvSpPr/>
            <p:nvPr/>
          </p:nvSpPr>
          <p:spPr>
            <a:xfrm>
              <a:off x="4499280" y="5510160"/>
              <a:ext cx="426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alidation/réfutation de l’hypothèse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40360" y="570060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872320" y="2284560"/>
            <a:ext cx="2300040" cy="64260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66"/>
                </a:solidFill>
                <a:latin typeface="Arial"/>
              </a:rPr>
              <a:t>sur Carapa procer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odule FTH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D00C-564F-41CF-94F8-AB5161C82FF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0/09/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1T18:43:02Z</dcterms:created>
  <dc:creator>Guest</dc:creator>
  <dc:description/>
  <dc:language>en-US</dc:language>
  <cp:lastModifiedBy>Eric Marcon</cp:lastModifiedBy>
  <dcterms:modified xsi:type="dcterms:W3CDTF">2005-10-05T21:31:39Z</dcterms:modified>
  <cp:revision>63</cp:revision>
  <dc:subject/>
  <dc:title>Etude des cernes de croissance des bois de Guyane</dc:title>
</cp:coreProperties>
</file>