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17.jpeg" ContentType="image/jpeg"/>
  <Override PartName="/ppt/media/image9.jpeg" ContentType="image/jpeg"/>
  <Override PartName="/ppt/media/image7.wmf" ContentType="image/x-wmf"/>
  <Override PartName="/ppt/media/image20.jpeg" ContentType="image/jpeg"/>
  <Override PartName="/ppt/media/image12.jpeg" ContentType="image/jpeg"/>
  <Override PartName="/ppt/media/image10.wmf" ContentType="image/x-wmf"/>
  <Override PartName="/ppt/media/image19.jpeg" ContentType="image/jpeg"/>
  <Override PartName="/ppt/media/image1.jpeg" ContentType="image/jpeg"/>
  <Override PartName="/ppt/media/image18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2014-E7BE-46D2-8B5E-96D8B8A20E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3 aspects à soulign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- angélique: dichotomie sur le 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- Wapa: pas de tendance pour les faibles dH. Dendro&gt;inventaire pour les grands 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- réserve: arbres ne correpsondant pas au modèle tronc-coniq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ésultats qui font écho à ceux présentés diapo 15 montrant une moindre importance du site sur le wapa (</a:t>
            </a: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système racinaire)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tocole: différences entre le protocole nicolini  et le notre= évolution au cours de la semaine + difficultés pour le wa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DA809-86E3-4758-A0D3-222043CF53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9480" y="53640"/>
            <a:ext cx="7796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560" y="1600200"/>
            <a:ext cx="7859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560" y="3964320"/>
            <a:ext cx="7859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8BB6D-8D37-443A-9E43-ABDFDC23ED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9480" y="53640"/>
            <a:ext cx="7796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560" y="16002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6002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560" y="396432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96432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360C5-237D-4680-A95C-CE7E3DB7CA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9480" y="53640"/>
            <a:ext cx="7796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160020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4440" y="160020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1960" y="160020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560" y="396432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4440" y="396432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1960" y="3964320"/>
            <a:ext cx="253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C6930-95EC-49D5-87B7-A986D0A422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79480" y="53640"/>
            <a:ext cx="7796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50206-2ED0-4456-A5B6-F9A1BAE4C0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9480" y="53640"/>
            <a:ext cx="7796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9EDDF-27D0-4D24-8F49-3EC8067BDF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9480" y="53640"/>
            <a:ext cx="7796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560" y="160020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60020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9F554-E7F5-48AC-974B-80A255E92F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9480" y="53640"/>
            <a:ext cx="7796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F1FCE-E521-4804-B081-47D99DA020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79480" y="53640"/>
            <a:ext cx="779616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D629F-03C5-4005-9DB3-3DB98AA7D5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9480" y="53640"/>
            <a:ext cx="7796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560" y="16002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60020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560" y="396432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B4EB2-4917-4AF8-8546-2E194E5AEE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9480" y="53640"/>
            <a:ext cx="7796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560" y="1600200"/>
            <a:ext cx="383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6002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96432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38310-F2E5-4F3B-9DF7-D75916F43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9480" y="53640"/>
            <a:ext cx="7796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560" y="16002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600200"/>
            <a:ext cx="3835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560" y="3964320"/>
            <a:ext cx="7859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1D6E1-0C43-4505-9680-AFF5BF91B4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9480" y="53640"/>
            <a:ext cx="7796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714E-1316-4377-89BC-4A445FFB38D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6885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900000" y="981000"/>
            <a:ext cx="777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7.wmf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7.wmf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3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11334" r="0" b="3810"/>
          <a:stretch/>
        </p:blipFill>
        <p:spPr>
          <a:xfrm>
            <a:off x="826920" y="0"/>
            <a:ext cx="8317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898560" y="1960200"/>
            <a:ext cx="8137440" cy="2189160"/>
          </a:xfrm>
          <a:prstGeom prst="rect">
            <a:avLst/>
          </a:prstGeom>
          <a:solidFill>
            <a:srgbClr val="000000">
              <a:alpha val="50000"/>
            </a:srgbClr>
          </a:solidFill>
          <a:ln w="316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Variations de la croissance en diamètre de l’Angélique (</a:t>
            </a:r>
            <a:r>
              <a:rPr b="1" i="1" lang="fr-FR" sz="2800" spc="-1" strike="noStrike">
                <a:solidFill>
                  <a:srgbClr val="ffffff"/>
                </a:solidFill>
                <a:latin typeface="Arial"/>
              </a:rPr>
              <a:t>Dicorynia guianensis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t du Wapa (</a:t>
            </a:r>
            <a:r>
              <a:rPr b="1" i="1" lang="fr-FR" sz="2800" spc="-1" strike="noStrike">
                <a:solidFill>
                  <a:srgbClr val="ffffff"/>
                </a:solidFill>
                <a:latin typeface="Arial"/>
              </a:rPr>
              <a:t>Eperua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fr-FR" sz="2800" spc="-1" strike="noStrike">
                <a:solidFill>
                  <a:srgbClr val="ffffff"/>
                </a:solidFill>
                <a:latin typeface="Arial"/>
              </a:rPr>
              <a:t>falcata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n fonction du mili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54040" y="5626080"/>
            <a:ext cx="6934320" cy="11912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rcice FTH 200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cadré par : Bruno FER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éalisé par : Frédéric BLANC et Mario CHARRI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BE9A9-48B7-461D-A4FD-7F3EB7D037A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419040" y="0"/>
            <a:ext cx="8724960" cy="6121440"/>
          </a:xfrm>
          <a:custGeom>
            <a:avLst/>
            <a:gdLst/>
            <a:ahLst/>
            <a:rect l="l" t="t" r="r" b="b"/>
            <a:pathLst>
              <a:path w="5496" h="3856">
                <a:moveTo>
                  <a:pt x="440" y="360"/>
                </a:moveTo>
                <a:lnTo>
                  <a:pt x="456" y="320"/>
                </a:lnTo>
                <a:lnTo>
                  <a:pt x="472" y="288"/>
                </a:lnTo>
                <a:lnTo>
                  <a:pt x="464" y="256"/>
                </a:lnTo>
                <a:lnTo>
                  <a:pt x="448" y="232"/>
                </a:lnTo>
                <a:lnTo>
                  <a:pt x="416" y="224"/>
                </a:lnTo>
                <a:lnTo>
                  <a:pt x="408" y="216"/>
                </a:lnTo>
                <a:lnTo>
                  <a:pt x="432" y="152"/>
                </a:lnTo>
                <a:lnTo>
                  <a:pt x="456" y="112"/>
                </a:lnTo>
                <a:lnTo>
                  <a:pt x="504" y="88"/>
                </a:lnTo>
                <a:lnTo>
                  <a:pt x="544" y="64"/>
                </a:lnTo>
                <a:lnTo>
                  <a:pt x="608" y="48"/>
                </a:lnTo>
                <a:lnTo>
                  <a:pt x="664" y="32"/>
                </a:lnTo>
                <a:lnTo>
                  <a:pt x="696" y="32"/>
                </a:lnTo>
                <a:lnTo>
                  <a:pt x="960" y="0"/>
                </a:lnTo>
                <a:lnTo>
                  <a:pt x="1168" y="16"/>
                </a:lnTo>
                <a:lnTo>
                  <a:pt x="1368" y="56"/>
                </a:lnTo>
                <a:lnTo>
                  <a:pt x="1600" y="104"/>
                </a:lnTo>
                <a:lnTo>
                  <a:pt x="2040" y="216"/>
                </a:lnTo>
                <a:lnTo>
                  <a:pt x="2472" y="384"/>
                </a:lnTo>
                <a:lnTo>
                  <a:pt x="2896" y="592"/>
                </a:lnTo>
                <a:lnTo>
                  <a:pt x="3320" y="840"/>
                </a:lnTo>
                <a:lnTo>
                  <a:pt x="3736" y="1120"/>
                </a:lnTo>
                <a:lnTo>
                  <a:pt x="4152" y="1440"/>
                </a:lnTo>
                <a:lnTo>
                  <a:pt x="4560" y="1768"/>
                </a:lnTo>
                <a:lnTo>
                  <a:pt x="4968" y="2120"/>
                </a:lnTo>
                <a:lnTo>
                  <a:pt x="5152" y="2296"/>
                </a:lnTo>
                <a:lnTo>
                  <a:pt x="5312" y="2472"/>
                </a:lnTo>
                <a:lnTo>
                  <a:pt x="5376" y="2568"/>
                </a:lnTo>
                <a:lnTo>
                  <a:pt x="5424" y="2672"/>
                </a:lnTo>
                <a:lnTo>
                  <a:pt x="5464" y="2792"/>
                </a:lnTo>
                <a:lnTo>
                  <a:pt x="5496" y="2928"/>
                </a:lnTo>
                <a:lnTo>
                  <a:pt x="5496" y="3040"/>
                </a:lnTo>
                <a:lnTo>
                  <a:pt x="5464" y="3144"/>
                </a:lnTo>
                <a:lnTo>
                  <a:pt x="5416" y="3224"/>
                </a:lnTo>
                <a:lnTo>
                  <a:pt x="5360" y="3312"/>
                </a:lnTo>
                <a:lnTo>
                  <a:pt x="5352" y="3344"/>
                </a:lnTo>
                <a:lnTo>
                  <a:pt x="5360" y="3384"/>
                </a:lnTo>
                <a:lnTo>
                  <a:pt x="5352" y="3432"/>
                </a:lnTo>
                <a:lnTo>
                  <a:pt x="5320" y="3472"/>
                </a:lnTo>
                <a:lnTo>
                  <a:pt x="5304" y="3504"/>
                </a:lnTo>
                <a:lnTo>
                  <a:pt x="5288" y="3544"/>
                </a:lnTo>
                <a:lnTo>
                  <a:pt x="5280" y="3552"/>
                </a:lnTo>
                <a:lnTo>
                  <a:pt x="5280" y="3576"/>
                </a:lnTo>
                <a:lnTo>
                  <a:pt x="5264" y="3616"/>
                </a:lnTo>
                <a:lnTo>
                  <a:pt x="5256" y="3624"/>
                </a:lnTo>
                <a:lnTo>
                  <a:pt x="5256" y="3648"/>
                </a:lnTo>
                <a:lnTo>
                  <a:pt x="5248" y="3680"/>
                </a:lnTo>
                <a:lnTo>
                  <a:pt x="5232" y="3704"/>
                </a:lnTo>
                <a:lnTo>
                  <a:pt x="5160" y="3736"/>
                </a:lnTo>
                <a:lnTo>
                  <a:pt x="5080" y="3776"/>
                </a:lnTo>
                <a:lnTo>
                  <a:pt x="5024" y="3824"/>
                </a:lnTo>
                <a:lnTo>
                  <a:pt x="4984" y="3856"/>
                </a:lnTo>
                <a:lnTo>
                  <a:pt x="4984" y="3824"/>
                </a:lnTo>
                <a:lnTo>
                  <a:pt x="4984" y="3800"/>
                </a:lnTo>
                <a:lnTo>
                  <a:pt x="4984" y="3792"/>
                </a:lnTo>
                <a:lnTo>
                  <a:pt x="4920" y="3792"/>
                </a:lnTo>
                <a:lnTo>
                  <a:pt x="4872" y="3792"/>
                </a:lnTo>
                <a:lnTo>
                  <a:pt x="4840" y="3736"/>
                </a:lnTo>
                <a:lnTo>
                  <a:pt x="4848" y="3648"/>
                </a:lnTo>
                <a:lnTo>
                  <a:pt x="4864" y="3560"/>
                </a:lnTo>
                <a:lnTo>
                  <a:pt x="4864" y="3520"/>
                </a:lnTo>
                <a:lnTo>
                  <a:pt x="4848" y="3504"/>
                </a:lnTo>
                <a:lnTo>
                  <a:pt x="4512" y="3288"/>
                </a:lnTo>
                <a:lnTo>
                  <a:pt x="4200" y="3072"/>
                </a:lnTo>
                <a:lnTo>
                  <a:pt x="3896" y="2856"/>
                </a:lnTo>
                <a:lnTo>
                  <a:pt x="3592" y="2664"/>
                </a:lnTo>
                <a:lnTo>
                  <a:pt x="3016" y="2360"/>
                </a:lnTo>
                <a:lnTo>
                  <a:pt x="2704" y="2216"/>
                </a:lnTo>
                <a:lnTo>
                  <a:pt x="2384" y="2080"/>
                </a:lnTo>
                <a:lnTo>
                  <a:pt x="1696" y="1816"/>
                </a:lnTo>
                <a:lnTo>
                  <a:pt x="960" y="1576"/>
                </a:lnTo>
                <a:lnTo>
                  <a:pt x="624" y="1432"/>
                </a:lnTo>
                <a:lnTo>
                  <a:pt x="456" y="1344"/>
                </a:lnTo>
                <a:lnTo>
                  <a:pt x="304" y="1256"/>
                </a:lnTo>
                <a:lnTo>
                  <a:pt x="264" y="1240"/>
                </a:lnTo>
                <a:lnTo>
                  <a:pt x="224" y="1232"/>
                </a:lnTo>
                <a:lnTo>
                  <a:pt x="136" y="1232"/>
                </a:lnTo>
                <a:lnTo>
                  <a:pt x="56" y="1224"/>
                </a:lnTo>
                <a:lnTo>
                  <a:pt x="0" y="1200"/>
                </a:lnTo>
                <a:lnTo>
                  <a:pt x="16" y="1184"/>
                </a:lnTo>
                <a:lnTo>
                  <a:pt x="24" y="1176"/>
                </a:lnTo>
                <a:lnTo>
                  <a:pt x="40" y="1160"/>
                </a:lnTo>
                <a:lnTo>
                  <a:pt x="80" y="1144"/>
                </a:lnTo>
                <a:lnTo>
                  <a:pt x="112" y="1104"/>
                </a:lnTo>
                <a:lnTo>
                  <a:pt x="152" y="1056"/>
                </a:lnTo>
                <a:lnTo>
                  <a:pt x="168" y="1024"/>
                </a:lnTo>
                <a:lnTo>
                  <a:pt x="216" y="976"/>
                </a:lnTo>
                <a:lnTo>
                  <a:pt x="224" y="960"/>
                </a:lnTo>
                <a:lnTo>
                  <a:pt x="240" y="936"/>
                </a:lnTo>
                <a:lnTo>
                  <a:pt x="272" y="896"/>
                </a:lnTo>
                <a:lnTo>
                  <a:pt x="320" y="848"/>
                </a:lnTo>
                <a:lnTo>
                  <a:pt x="360" y="800"/>
                </a:lnTo>
                <a:lnTo>
                  <a:pt x="392" y="768"/>
                </a:lnTo>
                <a:lnTo>
                  <a:pt x="400" y="736"/>
                </a:lnTo>
                <a:lnTo>
                  <a:pt x="408" y="720"/>
                </a:lnTo>
                <a:lnTo>
                  <a:pt x="424" y="712"/>
                </a:lnTo>
                <a:lnTo>
                  <a:pt x="440" y="696"/>
                </a:lnTo>
                <a:lnTo>
                  <a:pt x="440" y="640"/>
                </a:lnTo>
                <a:lnTo>
                  <a:pt x="432" y="576"/>
                </a:lnTo>
                <a:lnTo>
                  <a:pt x="440" y="512"/>
                </a:lnTo>
                <a:lnTo>
                  <a:pt x="448" y="464"/>
                </a:lnTo>
                <a:lnTo>
                  <a:pt x="440" y="400"/>
                </a:lnTo>
                <a:lnTo>
                  <a:pt x="440" y="36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39560" y="492120"/>
            <a:ext cx="8394840" cy="5803920"/>
          </a:xfrm>
          <a:custGeom>
            <a:avLst/>
            <a:gdLst/>
            <a:ahLst/>
            <a:rect l="l" t="t" r="r" b="b"/>
            <a:pathLst>
              <a:path w="5288" h="3656">
                <a:moveTo>
                  <a:pt x="0" y="976"/>
                </a:moveTo>
                <a:lnTo>
                  <a:pt x="24" y="952"/>
                </a:lnTo>
                <a:lnTo>
                  <a:pt x="88" y="936"/>
                </a:lnTo>
                <a:lnTo>
                  <a:pt x="160" y="864"/>
                </a:lnTo>
                <a:lnTo>
                  <a:pt x="200" y="800"/>
                </a:lnTo>
                <a:lnTo>
                  <a:pt x="248" y="752"/>
                </a:lnTo>
                <a:lnTo>
                  <a:pt x="256" y="720"/>
                </a:lnTo>
                <a:lnTo>
                  <a:pt x="304" y="680"/>
                </a:lnTo>
                <a:lnTo>
                  <a:pt x="328" y="640"/>
                </a:lnTo>
                <a:lnTo>
                  <a:pt x="360" y="600"/>
                </a:lnTo>
                <a:lnTo>
                  <a:pt x="408" y="568"/>
                </a:lnTo>
                <a:lnTo>
                  <a:pt x="432" y="504"/>
                </a:lnTo>
                <a:lnTo>
                  <a:pt x="472" y="504"/>
                </a:lnTo>
                <a:lnTo>
                  <a:pt x="496" y="408"/>
                </a:lnTo>
                <a:lnTo>
                  <a:pt x="496" y="320"/>
                </a:lnTo>
                <a:lnTo>
                  <a:pt x="496" y="256"/>
                </a:lnTo>
                <a:lnTo>
                  <a:pt x="496" y="184"/>
                </a:lnTo>
                <a:lnTo>
                  <a:pt x="544" y="136"/>
                </a:lnTo>
                <a:lnTo>
                  <a:pt x="568" y="96"/>
                </a:lnTo>
                <a:lnTo>
                  <a:pt x="568" y="48"/>
                </a:lnTo>
                <a:lnTo>
                  <a:pt x="632" y="24"/>
                </a:lnTo>
                <a:lnTo>
                  <a:pt x="712" y="48"/>
                </a:lnTo>
                <a:lnTo>
                  <a:pt x="792" y="64"/>
                </a:lnTo>
                <a:lnTo>
                  <a:pt x="856" y="72"/>
                </a:lnTo>
                <a:lnTo>
                  <a:pt x="696" y="16"/>
                </a:lnTo>
                <a:lnTo>
                  <a:pt x="720" y="0"/>
                </a:lnTo>
                <a:lnTo>
                  <a:pt x="784" y="24"/>
                </a:lnTo>
                <a:lnTo>
                  <a:pt x="832" y="48"/>
                </a:lnTo>
                <a:lnTo>
                  <a:pt x="904" y="72"/>
                </a:lnTo>
                <a:lnTo>
                  <a:pt x="944" y="80"/>
                </a:lnTo>
                <a:lnTo>
                  <a:pt x="1016" y="120"/>
                </a:lnTo>
                <a:lnTo>
                  <a:pt x="1104" y="184"/>
                </a:lnTo>
                <a:lnTo>
                  <a:pt x="1224" y="232"/>
                </a:lnTo>
                <a:lnTo>
                  <a:pt x="1264" y="256"/>
                </a:lnTo>
                <a:lnTo>
                  <a:pt x="1336" y="288"/>
                </a:lnTo>
                <a:lnTo>
                  <a:pt x="1384" y="296"/>
                </a:lnTo>
                <a:lnTo>
                  <a:pt x="1472" y="360"/>
                </a:lnTo>
                <a:lnTo>
                  <a:pt x="1520" y="368"/>
                </a:lnTo>
                <a:lnTo>
                  <a:pt x="1632" y="392"/>
                </a:lnTo>
                <a:lnTo>
                  <a:pt x="1696" y="408"/>
                </a:lnTo>
                <a:lnTo>
                  <a:pt x="1720" y="408"/>
                </a:lnTo>
                <a:lnTo>
                  <a:pt x="1816" y="456"/>
                </a:lnTo>
                <a:lnTo>
                  <a:pt x="1880" y="456"/>
                </a:lnTo>
                <a:lnTo>
                  <a:pt x="1992" y="504"/>
                </a:lnTo>
                <a:lnTo>
                  <a:pt x="2040" y="480"/>
                </a:lnTo>
                <a:lnTo>
                  <a:pt x="2088" y="480"/>
                </a:lnTo>
                <a:lnTo>
                  <a:pt x="2176" y="528"/>
                </a:lnTo>
                <a:lnTo>
                  <a:pt x="2288" y="528"/>
                </a:lnTo>
                <a:lnTo>
                  <a:pt x="2312" y="568"/>
                </a:lnTo>
                <a:lnTo>
                  <a:pt x="2376" y="616"/>
                </a:lnTo>
                <a:lnTo>
                  <a:pt x="2472" y="616"/>
                </a:lnTo>
                <a:lnTo>
                  <a:pt x="2536" y="664"/>
                </a:lnTo>
                <a:lnTo>
                  <a:pt x="2632" y="680"/>
                </a:lnTo>
                <a:lnTo>
                  <a:pt x="2720" y="752"/>
                </a:lnTo>
                <a:lnTo>
                  <a:pt x="2744" y="800"/>
                </a:lnTo>
                <a:lnTo>
                  <a:pt x="2744" y="816"/>
                </a:lnTo>
                <a:lnTo>
                  <a:pt x="2808" y="816"/>
                </a:lnTo>
                <a:lnTo>
                  <a:pt x="2880" y="888"/>
                </a:lnTo>
                <a:lnTo>
                  <a:pt x="2944" y="936"/>
                </a:lnTo>
                <a:lnTo>
                  <a:pt x="3016" y="952"/>
                </a:lnTo>
                <a:lnTo>
                  <a:pt x="3040" y="1000"/>
                </a:lnTo>
                <a:lnTo>
                  <a:pt x="3128" y="1072"/>
                </a:lnTo>
                <a:lnTo>
                  <a:pt x="3192" y="1112"/>
                </a:lnTo>
                <a:lnTo>
                  <a:pt x="3264" y="1160"/>
                </a:lnTo>
                <a:lnTo>
                  <a:pt x="3264" y="1208"/>
                </a:lnTo>
                <a:lnTo>
                  <a:pt x="3240" y="1224"/>
                </a:lnTo>
                <a:lnTo>
                  <a:pt x="3352" y="1248"/>
                </a:lnTo>
                <a:lnTo>
                  <a:pt x="3376" y="1296"/>
                </a:lnTo>
                <a:lnTo>
                  <a:pt x="3448" y="1360"/>
                </a:lnTo>
                <a:lnTo>
                  <a:pt x="3488" y="1384"/>
                </a:lnTo>
                <a:lnTo>
                  <a:pt x="3512" y="1432"/>
                </a:lnTo>
                <a:lnTo>
                  <a:pt x="3560" y="1456"/>
                </a:lnTo>
                <a:lnTo>
                  <a:pt x="3648" y="1496"/>
                </a:lnTo>
                <a:lnTo>
                  <a:pt x="3720" y="1592"/>
                </a:lnTo>
                <a:lnTo>
                  <a:pt x="3784" y="1656"/>
                </a:lnTo>
                <a:lnTo>
                  <a:pt x="3840" y="1672"/>
                </a:lnTo>
                <a:lnTo>
                  <a:pt x="3816" y="1704"/>
                </a:lnTo>
                <a:lnTo>
                  <a:pt x="3776" y="1728"/>
                </a:lnTo>
                <a:lnTo>
                  <a:pt x="3720" y="1736"/>
                </a:lnTo>
                <a:lnTo>
                  <a:pt x="3768" y="1744"/>
                </a:lnTo>
                <a:lnTo>
                  <a:pt x="3760" y="1760"/>
                </a:lnTo>
                <a:lnTo>
                  <a:pt x="3856" y="1704"/>
                </a:lnTo>
                <a:lnTo>
                  <a:pt x="3872" y="1664"/>
                </a:lnTo>
                <a:lnTo>
                  <a:pt x="3896" y="1656"/>
                </a:lnTo>
                <a:lnTo>
                  <a:pt x="3984" y="1656"/>
                </a:lnTo>
                <a:lnTo>
                  <a:pt x="4032" y="1728"/>
                </a:lnTo>
                <a:lnTo>
                  <a:pt x="4048" y="1784"/>
                </a:lnTo>
                <a:lnTo>
                  <a:pt x="4016" y="1832"/>
                </a:lnTo>
                <a:lnTo>
                  <a:pt x="3968" y="1848"/>
                </a:lnTo>
                <a:lnTo>
                  <a:pt x="4016" y="1856"/>
                </a:lnTo>
                <a:lnTo>
                  <a:pt x="4064" y="1808"/>
                </a:lnTo>
                <a:lnTo>
                  <a:pt x="4104" y="1792"/>
                </a:lnTo>
                <a:lnTo>
                  <a:pt x="4144" y="1840"/>
                </a:lnTo>
                <a:lnTo>
                  <a:pt x="4168" y="1816"/>
                </a:lnTo>
                <a:lnTo>
                  <a:pt x="4216" y="1864"/>
                </a:lnTo>
                <a:lnTo>
                  <a:pt x="4240" y="1928"/>
                </a:lnTo>
                <a:lnTo>
                  <a:pt x="4264" y="1952"/>
                </a:lnTo>
                <a:lnTo>
                  <a:pt x="4328" y="2000"/>
                </a:lnTo>
                <a:lnTo>
                  <a:pt x="4376" y="2040"/>
                </a:lnTo>
                <a:lnTo>
                  <a:pt x="4416" y="2064"/>
                </a:lnTo>
                <a:lnTo>
                  <a:pt x="4536" y="2160"/>
                </a:lnTo>
                <a:lnTo>
                  <a:pt x="4552" y="2208"/>
                </a:lnTo>
                <a:lnTo>
                  <a:pt x="4560" y="2264"/>
                </a:lnTo>
                <a:lnTo>
                  <a:pt x="4576" y="2328"/>
                </a:lnTo>
                <a:lnTo>
                  <a:pt x="4592" y="2336"/>
                </a:lnTo>
                <a:lnTo>
                  <a:pt x="4608" y="2408"/>
                </a:lnTo>
                <a:lnTo>
                  <a:pt x="4632" y="2496"/>
                </a:lnTo>
                <a:lnTo>
                  <a:pt x="4648" y="2640"/>
                </a:lnTo>
                <a:lnTo>
                  <a:pt x="4640" y="2728"/>
                </a:lnTo>
                <a:lnTo>
                  <a:pt x="4576" y="2792"/>
                </a:lnTo>
                <a:lnTo>
                  <a:pt x="4480" y="2856"/>
                </a:lnTo>
                <a:lnTo>
                  <a:pt x="4592" y="2808"/>
                </a:lnTo>
                <a:lnTo>
                  <a:pt x="4648" y="2760"/>
                </a:lnTo>
                <a:lnTo>
                  <a:pt x="4688" y="2720"/>
                </a:lnTo>
                <a:lnTo>
                  <a:pt x="4704" y="2656"/>
                </a:lnTo>
                <a:lnTo>
                  <a:pt x="4688" y="2584"/>
                </a:lnTo>
                <a:lnTo>
                  <a:pt x="4680" y="2528"/>
                </a:lnTo>
                <a:lnTo>
                  <a:pt x="4688" y="2448"/>
                </a:lnTo>
                <a:lnTo>
                  <a:pt x="4696" y="2288"/>
                </a:lnTo>
                <a:lnTo>
                  <a:pt x="4696" y="2264"/>
                </a:lnTo>
                <a:lnTo>
                  <a:pt x="4720" y="2224"/>
                </a:lnTo>
                <a:lnTo>
                  <a:pt x="4848" y="2224"/>
                </a:lnTo>
                <a:lnTo>
                  <a:pt x="4944" y="2336"/>
                </a:lnTo>
                <a:lnTo>
                  <a:pt x="5008" y="2408"/>
                </a:lnTo>
                <a:lnTo>
                  <a:pt x="5032" y="2472"/>
                </a:lnTo>
                <a:lnTo>
                  <a:pt x="5032" y="2608"/>
                </a:lnTo>
                <a:lnTo>
                  <a:pt x="5080" y="2656"/>
                </a:lnTo>
                <a:lnTo>
                  <a:pt x="5056" y="2680"/>
                </a:lnTo>
                <a:lnTo>
                  <a:pt x="5104" y="2744"/>
                </a:lnTo>
                <a:lnTo>
                  <a:pt x="5168" y="2792"/>
                </a:lnTo>
                <a:lnTo>
                  <a:pt x="5120" y="2840"/>
                </a:lnTo>
                <a:lnTo>
                  <a:pt x="5120" y="2904"/>
                </a:lnTo>
                <a:lnTo>
                  <a:pt x="5168" y="3000"/>
                </a:lnTo>
                <a:lnTo>
                  <a:pt x="5240" y="3064"/>
                </a:lnTo>
                <a:lnTo>
                  <a:pt x="5264" y="3112"/>
                </a:lnTo>
                <a:lnTo>
                  <a:pt x="5288" y="3136"/>
                </a:lnTo>
                <a:lnTo>
                  <a:pt x="5248" y="3256"/>
                </a:lnTo>
                <a:lnTo>
                  <a:pt x="5224" y="3352"/>
                </a:lnTo>
                <a:lnTo>
                  <a:pt x="5224" y="3400"/>
                </a:lnTo>
                <a:lnTo>
                  <a:pt x="5216" y="3424"/>
                </a:lnTo>
                <a:lnTo>
                  <a:pt x="5184" y="3456"/>
                </a:lnTo>
                <a:lnTo>
                  <a:pt x="5136" y="3480"/>
                </a:lnTo>
                <a:lnTo>
                  <a:pt x="5056" y="3520"/>
                </a:lnTo>
                <a:lnTo>
                  <a:pt x="5000" y="3592"/>
                </a:lnTo>
                <a:lnTo>
                  <a:pt x="4984" y="3624"/>
                </a:lnTo>
                <a:lnTo>
                  <a:pt x="4984" y="3656"/>
                </a:lnTo>
                <a:lnTo>
                  <a:pt x="0" y="9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1009800" y="833400"/>
            <a:ext cx="6562080" cy="4433760"/>
            <a:chOff x="1009800" y="833400"/>
            <a:chExt cx="6562080" cy="4433760"/>
          </a:xfrm>
        </p:grpSpPr>
        <p:sp>
          <p:nvSpPr>
            <p:cNvPr id="543" name=""/>
            <p:cNvSpPr/>
            <p:nvPr/>
          </p:nvSpPr>
          <p:spPr>
            <a:xfrm>
              <a:off x="1009800" y="1238400"/>
              <a:ext cx="5633640" cy="2085840"/>
            </a:xfrm>
            <a:custGeom>
              <a:avLst/>
              <a:gdLst/>
              <a:ahLst/>
              <a:rect l="l" t="t" r="r" b="b"/>
              <a:pathLst>
                <a:path w="3549" h="1314">
                  <a:moveTo>
                    <a:pt x="0" y="285"/>
                  </a:moveTo>
                  <a:lnTo>
                    <a:pt x="45" y="279"/>
                  </a:lnTo>
                  <a:lnTo>
                    <a:pt x="105" y="225"/>
                  </a:lnTo>
                  <a:lnTo>
                    <a:pt x="69" y="152"/>
                  </a:lnTo>
                  <a:lnTo>
                    <a:pt x="93" y="104"/>
                  </a:lnTo>
                  <a:lnTo>
                    <a:pt x="149" y="92"/>
                  </a:lnTo>
                  <a:lnTo>
                    <a:pt x="241" y="120"/>
                  </a:lnTo>
                  <a:lnTo>
                    <a:pt x="329" y="156"/>
                  </a:lnTo>
                  <a:lnTo>
                    <a:pt x="421" y="176"/>
                  </a:lnTo>
                  <a:lnTo>
                    <a:pt x="497" y="192"/>
                  </a:lnTo>
                  <a:lnTo>
                    <a:pt x="597" y="183"/>
                  </a:lnTo>
                  <a:lnTo>
                    <a:pt x="669" y="200"/>
                  </a:lnTo>
                  <a:lnTo>
                    <a:pt x="729" y="264"/>
                  </a:lnTo>
                  <a:lnTo>
                    <a:pt x="753" y="276"/>
                  </a:lnTo>
                  <a:lnTo>
                    <a:pt x="777" y="292"/>
                  </a:lnTo>
                  <a:lnTo>
                    <a:pt x="793" y="316"/>
                  </a:lnTo>
                  <a:lnTo>
                    <a:pt x="845" y="336"/>
                  </a:lnTo>
                  <a:lnTo>
                    <a:pt x="913" y="296"/>
                  </a:lnTo>
                  <a:lnTo>
                    <a:pt x="949" y="268"/>
                  </a:lnTo>
                  <a:lnTo>
                    <a:pt x="1005" y="244"/>
                  </a:lnTo>
                  <a:lnTo>
                    <a:pt x="1045" y="144"/>
                  </a:lnTo>
                  <a:lnTo>
                    <a:pt x="1081" y="84"/>
                  </a:lnTo>
                  <a:lnTo>
                    <a:pt x="1125" y="56"/>
                  </a:lnTo>
                  <a:lnTo>
                    <a:pt x="1133" y="20"/>
                  </a:lnTo>
                  <a:lnTo>
                    <a:pt x="1205" y="20"/>
                  </a:lnTo>
                  <a:lnTo>
                    <a:pt x="1261" y="0"/>
                  </a:lnTo>
                  <a:lnTo>
                    <a:pt x="1305" y="8"/>
                  </a:lnTo>
                  <a:lnTo>
                    <a:pt x="1369" y="28"/>
                  </a:lnTo>
                  <a:lnTo>
                    <a:pt x="1409" y="36"/>
                  </a:lnTo>
                  <a:lnTo>
                    <a:pt x="1557" y="104"/>
                  </a:lnTo>
                  <a:lnTo>
                    <a:pt x="1572" y="120"/>
                  </a:lnTo>
                  <a:lnTo>
                    <a:pt x="1613" y="116"/>
                  </a:lnTo>
                  <a:lnTo>
                    <a:pt x="1669" y="136"/>
                  </a:lnTo>
                  <a:lnTo>
                    <a:pt x="1729" y="104"/>
                  </a:lnTo>
                  <a:lnTo>
                    <a:pt x="1793" y="140"/>
                  </a:lnTo>
                  <a:lnTo>
                    <a:pt x="1929" y="192"/>
                  </a:lnTo>
                  <a:lnTo>
                    <a:pt x="1945" y="216"/>
                  </a:lnTo>
                  <a:lnTo>
                    <a:pt x="2021" y="232"/>
                  </a:lnTo>
                  <a:lnTo>
                    <a:pt x="2133" y="280"/>
                  </a:lnTo>
                  <a:lnTo>
                    <a:pt x="2209" y="324"/>
                  </a:lnTo>
                  <a:lnTo>
                    <a:pt x="2257" y="340"/>
                  </a:lnTo>
                  <a:lnTo>
                    <a:pt x="2285" y="368"/>
                  </a:lnTo>
                  <a:lnTo>
                    <a:pt x="2345" y="420"/>
                  </a:lnTo>
                  <a:lnTo>
                    <a:pt x="2357" y="468"/>
                  </a:lnTo>
                  <a:lnTo>
                    <a:pt x="2337" y="544"/>
                  </a:lnTo>
                  <a:lnTo>
                    <a:pt x="2309" y="664"/>
                  </a:lnTo>
                  <a:lnTo>
                    <a:pt x="2317" y="700"/>
                  </a:lnTo>
                  <a:lnTo>
                    <a:pt x="2333" y="732"/>
                  </a:lnTo>
                  <a:lnTo>
                    <a:pt x="2377" y="768"/>
                  </a:lnTo>
                  <a:lnTo>
                    <a:pt x="2409" y="776"/>
                  </a:lnTo>
                  <a:lnTo>
                    <a:pt x="2441" y="784"/>
                  </a:lnTo>
                  <a:lnTo>
                    <a:pt x="2473" y="788"/>
                  </a:lnTo>
                  <a:lnTo>
                    <a:pt x="2529" y="820"/>
                  </a:lnTo>
                  <a:lnTo>
                    <a:pt x="2585" y="876"/>
                  </a:lnTo>
                  <a:lnTo>
                    <a:pt x="2645" y="892"/>
                  </a:lnTo>
                  <a:lnTo>
                    <a:pt x="2685" y="880"/>
                  </a:lnTo>
                  <a:lnTo>
                    <a:pt x="2749" y="836"/>
                  </a:lnTo>
                  <a:lnTo>
                    <a:pt x="2817" y="800"/>
                  </a:lnTo>
                  <a:lnTo>
                    <a:pt x="2857" y="788"/>
                  </a:lnTo>
                  <a:lnTo>
                    <a:pt x="2949" y="812"/>
                  </a:lnTo>
                  <a:lnTo>
                    <a:pt x="2993" y="864"/>
                  </a:lnTo>
                  <a:lnTo>
                    <a:pt x="3041" y="912"/>
                  </a:lnTo>
                  <a:lnTo>
                    <a:pt x="3113" y="960"/>
                  </a:lnTo>
                  <a:lnTo>
                    <a:pt x="3181" y="1016"/>
                  </a:lnTo>
                  <a:lnTo>
                    <a:pt x="3269" y="1088"/>
                  </a:lnTo>
                  <a:lnTo>
                    <a:pt x="3336" y="1197"/>
                  </a:lnTo>
                  <a:lnTo>
                    <a:pt x="3447" y="1275"/>
                  </a:lnTo>
                  <a:lnTo>
                    <a:pt x="3477" y="1311"/>
                  </a:lnTo>
                  <a:lnTo>
                    <a:pt x="3522" y="1314"/>
                  </a:lnTo>
                  <a:lnTo>
                    <a:pt x="3549" y="1302"/>
                  </a:lnTo>
                  <a:lnTo>
                    <a:pt x="3537" y="1218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000480" y="2962440"/>
              <a:ext cx="609120" cy="733320"/>
            </a:xfrm>
            <a:custGeom>
              <a:avLst/>
              <a:gdLst/>
              <a:ahLst/>
              <a:rect l="l" t="t" r="r" b="b"/>
              <a:pathLst>
                <a:path w="384" h="462">
                  <a:moveTo>
                    <a:pt x="120" y="0"/>
                  </a:moveTo>
                  <a:lnTo>
                    <a:pt x="117" y="81"/>
                  </a:lnTo>
                  <a:lnTo>
                    <a:pt x="36" y="147"/>
                  </a:lnTo>
                  <a:lnTo>
                    <a:pt x="36" y="195"/>
                  </a:lnTo>
                  <a:lnTo>
                    <a:pt x="0" y="267"/>
                  </a:lnTo>
                  <a:lnTo>
                    <a:pt x="6" y="315"/>
                  </a:lnTo>
                  <a:lnTo>
                    <a:pt x="48" y="360"/>
                  </a:lnTo>
                  <a:lnTo>
                    <a:pt x="123" y="432"/>
                  </a:lnTo>
                  <a:lnTo>
                    <a:pt x="183" y="438"/>
                  </a:lnTo>
                  <a:lnTo>
                    <a:pt x="219" y="462"/>
                  </a:lnTo>
                  <a:lnTo>
                    <a:pt x="291" y="429"/>
                  </a:lnTo>
                  <a:lnTo>
                    <a:pt x="339" y="405"/>
                  </a:lnTo>
                  <a:lnTo>
                    <a:pt x="375" y="360"/>
                  </a:lnTo>
                  <a:lnTo>
                    <a:pt x="384" y="303"/>
                  </a:lnTo>
                  <a:lnTo>
                    <a:pt x="378" y="252"/>
                  </a:lnTo>
                  <a:lnTo>
                    <a:pt x="369" y="228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314760" y="3681360"/>
              <a:ext cx="875880" cy="1585800"/>
            </a:xfrm>
            <a:custGeom>
              <a:avLst/>
              <a:gdLst/>
              <a:ahLst/>
              <a:rect l="l" t="t" r="r" b="b"/>
              <a:pathLst>
                <a:path w="552" h="999">
                  <a:moveTo>
                    <a:pt x="0" y="0"/>
                  </a:moveTo>
                  <a:lnTo>
                    <a:pt x="0" y="60"/>
                  </a:lnTo>
                  <a:lnTo>
                    <a:pt x="9" y="87"/>
                  </a:lnTo>
                  <a:lnTo>
                    <a:pt x="21" y="111"/>
                  </a:lnTo>
                  <a:lnTo>
                    <a:pt x="78" y="189"/>
                  </a:lnTo>
                  <a:lnTo>
                    <a:pt x="111" y="234"/>
                  </a:lnTo>
                  <a:lnTo>
                    <a:pt x="141" y="285"/>
                  </a:lnTo>
                  <a:lnTo>
                    <a:pt x="132" y="330"/>
                  </a:lnTo>
                  <a:lnTo>
                    <a:pt x="102" y="354"/>
                  </a:lnTo>
                  <a:lnTo>
                    <a:pt x="90" y="393"/>
                  </a:lnTo>
                  <a:lnTo>
                    <a:pt x="57" y="396"/>
                  </a:lnTo>
                  <a:lnTo>
                    <a:pt x="36" y="420"/>
                  </a:lnTo>
                  <a:lnTo>
                    <a:pt x="72" y="465"/>
                  </a:lnTo>
                  <a:lnTo>
                    <a:pt x="90" y="495"/>
                  </a:lnTo>
                  <a:lnTo>
                    <a:pt x="126" y="534"/>
                  </a:lnTo>
                  <a:lnTo>
                    <a:pt x="177" y="591"/>
                  </a:lnTo>
                  <a:lnTo>
                    <a:pt x="162" y="609"/>
                  </a:lnTo>
                  <a:lnTo>
                    <a:pt x="153" y="657"/>
                  </a:lnTo>
                  <a:lnTo>
                    <a:pt x="192" y="705"/>
                  </a:lnTo>
                  <a:lnTo>
                    <a:pt x="255" y="807"/>
                  </a:lnTo>
                  <a:lnTo>
                    <a:pt x="336" y="876"/>
                  </a:lnTo>
                  <a:lnTo>
                    <a:pt x="378" y="912"/>
                  </a:lnTo>
                  <a:lnTo>
                    <a:pt x="387" y="963"/>
                  </a:lnTo>
                  <a:lnTo>
                    <a:pt x="429" y="999"/>
                  </a:lnTo>
                  <a:lnTo>
                    <a:pt x="552" y="99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519600" y="3624120"/>
              <a:ext cx="1052280" cy="1000440"/>
            </a:xfrm>
            <a:custGeom>
              <a:avLst/>
              <a:gdLst/>
              <a:ahLst/>
              <a:rect l="l" t="t" r="r" b="b"/>
              <a:pathLst>
                <a:path w="663" h="630">
                  <a:moveTo>
                    <a:pt x="0" y="0"/>
                  </a:moveTo>
                  <a:lnTo>
                    <a:pt x="36" y="45"/>
                  </a:lnTo>
                  <a:lnTo>
                    <a:pt x="72" y="99"/>
                  </a:lnTo>
                  <a:lnTo>
                    <a:pt x="75" y="156"/>
                  </a:lnTo>
                  <a:lnTo>
                    <a:pt x="105" y="165"/>
                  </a:lnTo>
                  <a:lnTo>
                    <a:pt x="123" y="186"/>
                  </a:lnTo>
                  <a:lnTo>
                    <a:pt x="123" y="216"/>
                  </a:lnTo>
                  <a:lnTo>
                    <a:pt x="123" y="261"/>
                  </a:lnTo>
                  <a:lnTo>
                    <a:pt x="138" y="330"/>
                  </a:lnTo>
                  <a:lnTo>
                    <a:pt x="159" y="381"/>
                  </a:lnTo>
                  <a:lnTo>
                    <a:pt x="225" y="426"/>
                  </a:lnTo>
                  <a:lnTo>
                    <a:pt x="240" y="438"/>
                  </a:lnTo>
                  <a:lnTo>
                    <a:pt x="321" y="474"/>
                  </a:lnTo>
                  <a:lnTo>
                    <a:pt x="408" y="510"/>
                  </a:lnTo>
                  <a:lnTo>
                    <a:pt x="450" y="516"/>
                  </a:lnTo>
                  <a:lnTo>
                    <a:pt x="552" y="579"/>
                  </a:lnTo>
                  <a:lnTo>
                    <a:pt x="639" y="609"/>
                  </a:lnTo>
                  <a:lnTo>
                    <a:pt x="663" y="63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329000" y="2505240"/>
              <a:ext cx="618480" cy="276120"/>
            </a:xfrm>
            <a:custGeom>
              <a:avLst/>
              <a:gdLst/>
              <a:ahLst/>
              <a:rect l="l" t="t" r="r" b="b"/>
              <a:pathLst>
                <a:path w="390" h="174">
                  <a:moveTo>
                    <a:pt x="390" y="6"/>
                  </a:moveTo>
                  <a:lnTo>
                    <a:pt x="312" y="0"/>
                  </a:lnTo>
                  <a:lnTo>
                    <a:pt x="240" y="3"/>
                  </a:lnTo>
                  <a:lnTo>
                    <a:pt x="222" y="30"/>
                  </a:lnTo>
                  <a:lnTo>
                    <a:pt x="177" y="87"/>
                  </a:lnTo>
                  <a:lnTo>
                    <a:pt x="177" y="123"/>
                  </a:lnTo>
                  <a:lnTo>
                    <a:pt x="135" y="150"/>
                  </a:lnTo>
                  <a:lnTo>
                    <a:pt x="117" y="138"/>
                  </a:lnTo>
                  <a:lnTo>
                    <a:pt x="99" y="171"/>
                  </a:lnTo>
                  <a:lnTo>
                    <a:pt x="66" y="159"/>
                  </a:lnTo>
                  <a:lnTo>
                    <a:pt x="39" y="141"/>
                  </a:lnTo>
                  <a:lnTo>
                    <a:pt x="0" y="17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380960" y="833400"/>
              <a:ext cx="1347480" cy="585720"/>
            </a:xfrm>
            <a:custGeom>
              <a:avLst/>
              <a:gdLst/>
              <a:ahLst/>
              <a:rect l="l" t="t" r="r" b="b"/>
              <a:pathLst>
                <a:path w="849" h="369">
                  <a:moveTo>
                    <a:pt x="0" y="369"/>
                  </a:moveTo>
                  <a:lnTo>
                    <a:pt x="6" y="327"/>
                  </a:lnTo>
                  <a:lnTo>
                    <a:pt x="39" y="282"/>
                  </a:lnTo>
                  <a:lnTo>
                    <a:pt x="75" y="234"/>
                  </a:lnTo>
                  <a:lnTo>
                    <a:pt x="138" y="204"/>
                  </a:lnTo>
                  <a:lnTo>
                    <a:pt x="171" y="207"/>
                  </a:lnTo>
                  <a:lnTo>
                    <a:pt x="222" y="222"/>
                  </a:lnTo>
                  <a:lnTo>
                    <a:pt x="255" y="195"/>
                  </a:lnTo>
                  <a:lnTo>
                    <a:pt x="288" y="156"/>
                  </a:lnTo>
                  <a:lnTo>
                    <a:pt x="318" y="99"/>
                  </a:lnTo>
                  <a:lnTo>
                    <a:pt x="342" y="45"/>
                  </a:lnTo>
                  <a:lnTo>
                    <a:pt x="375" y="0"/>
                  </a:lnTo>
                  <a:lnTo>
                    <a:pt x="405" y="30"/>
                  </a:lnTo>
                  <a:lnTo>
                    <a:pt x="429" y="30"/>
                  </a:lnTo>
                  <a:lnTo>
                    <a:pt x="492" y="57"/>
                  </a:lnTo>
                  <a:lnTo>
                    <a:pt x="537" y="84"/>
                  </a:lnTo>
                  <a:lnTo>
                    <a:pt x="576" y="129"/>
                  </a:lnTo>
                  <a:lnTo>
                    <a:pt x="645" y="138"/>
                  </a:lnTo>
                  <a:lnTo>
                    <a:pt x="753" y="189"/>
                  </a:lnTo>
                  <a:lnTo>
                    <a:pt x="774" y="255"/>
                  </a:lnTo>
                  <a:lnTo>
                    <a:pt x="813" y="273"/>
                  </a:lnTo>
                  <a:lnTo>
                    <a:pt x="849" y="33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84240" y="1143000"/>
            <a:ext cx="8025840" cy="5473800"/>
            <a:chOff x="84240" y="1143000"/>
            <a:chExt cx="8025840" cy="5473800"/>
          </a:xfrm>
        </p:grpSpPr>
        <p:sp>
          <p:nvSpPr>
            <p:cNvPr id="550" name=""/>
            <p:cNvSpPr/>
            <p:nvPr/>
          </p:nvSpPr>
          <p:spPr>
            <a:xfrm>
              <a:off x="84240" y="2057400"/>
              <a:ext cx="367920" cy="431640"/>
            </a:xfrm>
            <a:custGeom>
              <a:avLst/>
              <a:gdLst/>
              <a:ahLst/>
              <a:rect l="l" t="t" r="r" b="b"/>
              <a:pathLst>
                <a:path w="232" h="272">
                  <a:moveTo>
                    <a:pt x="232" y="0"/>
                  </a:moveTo>
                  <a:lnTo>
                    <a:pt x="232" y="272"/>
                  </a:lnTo>
                  <a:lnTo>
                    <a:pt x="0" y="272"/>
                  </a:lnTo>
                  <a:lnTo>
                    <a:pt x="16" y="240"/>
                  </a:lnTo>
                  <a:lnTo>
                    <a:pt x="56" y="200"/>
                  </a:lnTo>
                  <a:lnTo>
                    <a:pt x="80" y="160"/>
                  </a:lnTo>
                  <a:lnTo>
                    <a:pt x="96" y="136"/>
                  </a:lnTo>
                  <a:lnTo>
                    <a:pt x="112" y="80"/>
                  </a:lnTo>
                  <a:lnTo>
                    <a:pt x="184" y="24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40f84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061640" y="1663560"/>
              <a:ext cx="279000" cy="368280"/>
            </a:xfrm>
            <a:custGeom>
              <a:avLst/>
              <a:gdLst/>
              <a:ahLst/>
              <a:rect l="l" t="t" r="r" b="b"/>
              <a:pathLst>
                <a:path w="176" h="232">
                  <a:moveTo>
                    <a:pt x="176" y="232"/>
                  </a:moveTo>
                  <a:lnTo>
                    <a:pt x="136" y="224"/>
                  </a:lnTo>
                  <a:lnTo>
                    <a:pt x="48" y="200"/>
                  </a:lnTo>
                  <a:lnTo>
                    <a:pt x="0" y="168"/>
                  </a:lnTo>
                  <a:lnTo>
                    <a:pt x="0" y="56"/>
                  </a:lnTo>
                  <a:lnTo>
                    <a:pt x="8" y="16"/>
                  </a:lnTo>
                  <a:lnTo>
                    <a:pt x="56" y="0"/>
                  </a:lnTo>
                  <a:lnTo>
                    <a:pt x="104" y="8"/>
                  </a:lnTo>
                  <a:lnTo>
                    <a:pt x="160" y="72"/>
                  </a:lnTo>
                  <a:lnTo>
                    <a:pt x="168" y="136"/>
                  </a:lnTo>
                  <a:lnTo>
                    <a:pt x="176" y="200"/>
                  </a:lnTo>
                  <a:lnTo>
                    <a:pt x="176" y="232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544400" y="1359000"/>
              <a:ext cx="367920" cy="203040"/>
            </a:xfrm>
            <a:custGeom>
              <a:avLst/>
              <a:gdLst/>
              <a:ahLst/>
              <a:rect l="l" t="t" r="r" b="b"/>
              <a:pathLst>
                <a:path w="232" h="128">
                  <a:moveTo>
                    <a:pt x="8" y="112"/>
                  </a:moveTo>
                  <a:lnTo>
                    <a:pt x="0" y="64"/>
                  </a:lnTo>
                  <a:lnTo>
                    <a:pt x="24" y="40"/>
                  </a:lnTo>
                  <a:lnTo>
                    <a:pt x="104" y="8"/>
                  </a:lnTo>
                  <a:lnTo>
                    <a:pt x="176" y="0"/>
                  </a:lnTo>
                  <a:lnTo>
                    <a:pt x="232" y="56"/>
                  </a:lnTo>
                  <a:lnTo>
                    <a:pt x="224" y="120"/>
                  </a:lnTo>
                  <a:lnTo>
                    <a:pt x="152" y="128"/>
                  </a:lnTo>
                  <a:lnTo>
                    <a:pt x="8" y="112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153880" y="1143000"/>
              <a:ext cx="228240" cy="660240"/>
            </a:xfrm>
            <a:custGeom>
              <a:avLst/>
              <a:gdLst/>
              <a:ahLst/>
              <a:rect l="l" t="t" r="r" b="b"/>
              <a:pathLst>
                <a:path w="144" h="416">
                  <a:moveTo>
                    <a:pt x="0" y="24"/>
                  </a:moveTo>
                  <a:lnTo>
                    <a:pt x="8" y="0"/>
                  </a:lnTo>
                  <a:lnTo>
                    <a:pt x="40" y="32"/>
                  </a:lnTo>
                  <a:lnTo>
                    <a:pt x="80" y="88"/>
                  </a:lnTo>
                  <a:lnTo>
                    <a:pt x="144" y="168"/>
                  </a:lnTo>
                  <a:lnTo>
                    <a:pt x="136" y="200"/>
                  </a:lnTo>
                  <a:lnTo>
                    <a:pt x="144" y="232"/>
                  </a:lnTo>
                  <a:lnTo>
                    <a:pt x="136" y="248"/>
                  </a:lnTo>
                  <a:lnTo>
                    <a:pt x="120" y="272"/>
                  </a:lnTo>
                  <a:lnTo>
                    <a:pt x="120" y="312"/>
                  </a:lnTo>
                  <a:lnTo>
                    <a:pt x="128" y="360"/>
                  </a:lnTo>
                  <a:lnTo>
                    <a:pt x="128" y="392"/>
                  </a:lnTo>
                  <a:lnTo>
                    <a:pt x="112" y="416"/>
                  </a:lnTo>
                  <a:lnTo>
                    <a:pt x="72" y="376"/>
                  </a:lnTo>
                  <a:lnTo>
                    <a:pt x="64" y="352"/>
                  </a:lnTo>
                  <a:lnTo>
                    <a:pt x="8" y="304"/>
                  </a:lnTo>
                  <a:lnTo>
                    <a:pt x="32" y="264"/>
                  </a:lnTo>
                  <a:lnTo>
                    <a:pt x="40" y="216"/>
                  </a:lnTo>
                  <a:lnTo>
                    <a:pt x="40" y="152"/>
                  </a:lnTo>
                  <a:lnTo>
                    <a:pt x="16" y="8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950840" y="1892160"/>
              <a:ext cx="279000" cy="304920"/>
            </a:xfrm>
            <a:custGeom>
              <a:avLst/>
              <a:gdLst/>
              <a:ahLst/>
              <a:rect l="l" t="t" r="r" b="b"/>
              <a:pathLst>
                <a:path w="176" h="192">
                  <a:moveTo>
                    <a:pt x="64" y="0"/>
                  </a:moveTo>
                  <a:lnTo>
                    <a:pt x="120" y="72"/>
                  </a:lnTo>
                  <a:lnTo>
                    <a:pt x="136" y="128"/>
                  </a:lnTo>
                  <a:lnTo>
                    <a:pt x="176" y="168"/>
                  </a:lnTo>
                  <a:lnTo>
                    <a:pt x="128" y="192"/>
                  </a:lnTo>
                  <a:lnTo>
                    <a:pt x="104" y="184"/>
                  </a:lnTo>
                  <a:lnTo>
                    <a:pt x="56" y="192"/>
                  </a:lnTo>
                  <a:lnTo>
                    <a:pt x="24" y="168"/>
                  </a:lnTo>
                  <a:lnTo>
                    <a:pt x="0" y="152"/>
                  </a:lnTo>
                  <a:lnTo>
                    <a:pt x="16" y="128"/>
                  </a:lnTo>
                  <a:lnTo>
                    <a:pt x="24" y="64"/>
                  </a:lnTo>
                  <a:lnTo>
                    <a:pt x="56" y="16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052360" y="1727280"/>
              <a:ext cx="279000" cy="380880"/>
            </a:xfrm>
            <a:custGeom>
              <a:avLst/>
              <a:gdLst/>
              <a:ahLst/>
              <a:rect l="l" t="t" r="r" b="b"/>
              <a:pathLst>
                <a:path w="176" h="240">
                  <a:moveTo>
                    <a:pt x="0" y="72"/>
                  </a:moveTo>
                  <a:lnTo>
                    <a:pt x="48" y="48"/>
                  </a:lnTo>
                  <a:lnTo>
                    <a:pt x="96" y="24"/>
                  </a:lnTo>
                  <a:lnTo>
                    <a:pt x="120" y="0"/>
                  </a:lnTo>
                  <a:lnTo>
                    <a:pt x="152" y="56"/>
                  </a:lnTo>
                  <a:lnTo>
                    <a:pt x="152" y="120"/>
                  </a:lnTo>
                  <a:lnTo>
                    <a:pt x="176" y="208"/>
                  </a:lnTo>
                  <a:lnTo>
                    <a:pt x="168" y="240"/>
                  </a:lnTo>
                  <a:lnTo>
                    <a:pt x="120" y="224"/>
                  </a:lnTo>
                  <a:lnTo>
                    <a:pt x="64" y="16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674800" y="1638360"/>
              <a:ext cx="393120" cy="266760"/>
            </a:xfrm>
            <a:custGeom>
              <a:avLst/>
              <a:gdLst/>
              <a:ahLst/>
              <a:rect l="l" t="t" r="r" b="b"/>
              <a:pathLst>
                <a:path w="248" h="168">
                  <a:moveTo>
                    <a:pt x="80" y="8"/>
                  </a:moveTo>
                  <a:lnTo>
                    <a:pt x="48" y="8"/>
                  </a:lnTo>
                  <a:lnTo>
                    <a:pt x="0" y="24"/>
                  </a:lnTo>
                  <a:lnTo>
                    <a:pt x="0" y="48"/>
                  </a:lnTo>
                  <a:lnTo>
                    <a:pt x="8" y="72"/>
                  </a:lnTo>
                  <a:lnTo>
                    <a:pt x="80" y="160"/>
                  </a:lnTo>
                  <a:lnTo>
                    <a:pt x="120" y="168"/>
                  </a:lnTo>
                  <a:lnTo>
                    <a:pt x="152" y="152"/>
                  </a:lnTo>
                  <a:lnTo>
                    <a:pt x="192" y="152"/>
                  </a:lnTo>
                  <a:lnTo>
                    <a:pt x="224" y="152"/>
                  </a:lnTo>
                  <a:lnTo>
                    <a:pt x="240" y="112"/>
                  </a:lnTo>
                  <a:lnTo>
                    <a:pt x="248" y="80"/>
                  </a:lnTo>
                  <a:lnTo>
                    <a:pt x="224" y="48"/>
                  </a:lnTo>
                  <a:lnTo>
                    <a:pt x="152" y="16"/>
                  </a:lnTo>
                  <a:lnTo>
                    <a:pt x="112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68280" y="1371600"/>
              <a:ext cx="380880" cy="30492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8" y="48"/>
                  </a:moveTo>
                  <a:lnTo>
                    <a:pt x="0" y="24"/>
                  </a:lnTo>
                  <a:lnTo>
                    <a:pt x="56" y="8"/>
                  </a:lnTo>
                  <a:lnTo>
                    <a:pt x="112" y="0"/>
                  </a:lnTo>
                  <a:lnTo>
                    <a:pt x="144" y="24"/>
                  </a:lnTo>
                  <a:lnTo>
                    <a:pt x="216" y="24"/>
                  </a:lnTo>
                  <a:lnTo>
                    <a:pt x="240" y="64"/>
                  </a:lnTo>
                  <a:lnTo>
                    <a:pt x="200" y="112"/>
                  </a:lnTo>
                  <a:lnTo>
                    <a:pt x="176" y="160"/>
                  </a:lnTo>
                  <a:lnTo>
                    <a:pt x="168" y="184"/>
                  </a:lnTo>
                  <a:lnTo>
                    <a:pt x="152" y="192"/>
                  </a:lnTo>
                  <a:lnTo>
                    <a:pt x="152" y="160"/>
                  </a:lnTo>
                  <a:lnTo>
                    <a:pt x="96" y="120"/>
                  </a:lnTo>
                  <a:lnTo>
                    <a:pt x="40" y="96"/>
                  </a:lnTo>
                  <a:lnTo>
                    <a:pt x="8" y="56"/>
                  </a:lnTo>
                  <a:lnTo>
                    <a:pt x="0" y="16"/>
                  </a:lnTo>
                  <a:lnTo>
                    <a:pt x="8" y="48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512880" y="1752480"/>
              <a:ext cx="406080" cy="330480"/>
            </a:xfrm>
            <a:custGeom>
              <a:avLst/>
              <a:gdLst/>
              <a:ahLst/>
              <a:rect l="l" t="t" r="r" b="b"/>
              <a:pathLst>
                <a:path w="256" h="208">
                  <a:moveTo>
                    <a:pt x="0" y="128"/>
                  </a:moveTo>
                  <a:lnTo>
                    <a:pt x="8" y="16"/>
                  </a:lnTo>
                  <a:lnTo>
                    <a:pt x="32" y="0"/>
                  </a:lnTo>
                  <a:lnTo>
                    <a:pt x="88" y="0"/>
                  </a:lnTo>
                  <a:lnTo>
                    <a:pt x="120" y="32"/>
                  </a:lnTo>
                  <a:lnTo>
                    <a:pt x="160" y="40"/>
                  </a:lnTo>
                  <a:lnTo>
                    <a:pt x="224" y="64"/>
                  </a:lnTo>
                  <a:lnTo>
                    <a:pt x="216" y="112"/>
                  </a:lnTo>
                  <a:lnTo>
                    <a:pt x="232" y="152"/>
                  </a:lnTo>
                  <a:lnTo>
                    <a:pt x="248" y="200"/>
                  </a:lnTo>
                  <a:lnTo>
                    <a:pt x="256" y="208"/>
                  </a:lnTo>
                  <a:lnTo>
                    <a:pt x="208" y="208"/>
                  </a:lnTo>
                  <a:lnTo>
                    <a:pt x="144" y="192"/>
                  </a:lnTo>
                  <a:lnTo>
                    <a:pt x="112" y="168"/>
                  </a:lnTo>
                  <a:lnTo>
                    <a:pt x="32" y="136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300200" y="1854360"/>
              <a:ext cx="228240" cy="406080"/>
            </a:xfrm>
            <a:custGeom>
              <a:avLst/>
              <a:gdLst/>
              <a:ahLst/>
              <a:rect l="l" t="t" r="r" b="b"/>
              <a:pathLst>
                <a:path w="144" h="256">
                  <a:moveTo>
                    <a:pt x="0" y="152"/>
                  </a:moveTo>
                  <a:lnTo>
                    <a:pt x="24" y="112"/>
                  </a:lnTo>
                  <a:lnTo>
                    <a:pt x="24" y="48"/>
                  </a:lnTo>
                  <a:lnTo>
                    <a:pt x="32" y="0"/>
                  </a:lnTo>
                  <a:lnTo>
                    <a:pt x="80" y="0"/>
                  </a:lnTo>
                  <a:lnTo>
                    <a:pt x="144" y="40"/>
                  </a:lnTo>
                  <a:lnTo>
                    <a:pt x="128" y="80"/>
                  </a:lnTo>
                  <a:lnTo>
                    <a:pt x="112" y="136"/>
                  </a:lnTo>
                  <a:lnTo>
                    <a:pt x="104" y="200"/>
                  </a:lnTo>
                  <a:lnTo>
                    <a:pt x="96" y="240"/>
                  </a:lnTo>
                  <a:lnTo>
                    <a:pt x="56" y="248"/>
                  </a:lnTo>
                  <a:lnTo>
                    <a:pt x="16" y="256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211280" y="2666880"/>
              <a:ext cx="291960" cy="482760"/>
            </a:xfrm>
            <a:custGeom>
              <a:avLst/>
              <a:gdLst/>
              <a:ahLst/>
              <a:rect l="l" t="t" r="r" b="b"/>
              <a:pathLst>
                <a:path w="184" h="304">
                  <a:moveTo>
                    <a:pt x="184" y="40"/>
                  </a:moveTo>
                  <a:lnTo>
                    <a:pt x="144" y="32"/>
                  </a:lnTo>
                  <a:lnTo>
                    <a:pt x="104" y="16"/>
                  </a:lnTo>
                  <a:lnTo>
                    <a:pt x="56" y="0"/>
                  </a:lnTo>
                  <a:lnTo>
                    <a:pt x="0" y="56"/>
                  </a:lnTo>
                  <a:lnTo>
                    <a:pt x="16" y="88"/>
                  </a:lnTo>
                  <a:lnTo>
                    <a:pt x="64" y="160"/>
                  </a:lnTo>
                  <a:lnTo>
                    <a:pt x="72" y="224"/>
                  </a:lnTo>
                  <a:lnTo>
                    <a:pt x="48" y="256"/>
                  </a:lnTo>
                  <a:lnTo>
                    <a:pt x="80" y="304"/>
                  </a:lnTo>
                  <a:lnTo>
                    <a:pt x="120" y="280"/>
                  </a:lnTo>
                  <a:lnTo>
                    <a:pt x="144" y="200"/>
                  </a:lnTo>
                  <a:lnTo>
                    <a:pt x="176" y="144"/>
                  </a:lnTo>
                  <a:lnTo>
                    <a:pt x="184" y="40"/>
                  </a:lnTo>
                  <a:lnTo>
                    <a:pt x="56" y="0"/>
                  </a:lnTo>
                  <a:lnTo>
                    <a:pt x="184" y="40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439880" y="3022560"/>
              <a:ext cx="393480" cy="216000"/>
            </a:xfrm>
            <a:custGeom>
              <a:avLst/>
              <a:gdLst/>
              <a:ahLst/>
              <a:rect l="l" t="t" r="r" b="b"/>
              <a:pathLst>
                <a:path w="248" h="136">
                  <a:moveTo>
                    <a:pt x="176" y="16"/>
                  </a:moveTo>
                  <a:lnTo>
                    <a:pt x="128" y="8"/>
                  </a:lnTo>
                  <a:lnTo>
                    <a:pt x="64" y="0"/>
                  </a:lnTo>
                  <a:lnTo>
                    <a:pt x="8" y="0"/>
                  </a:lnTo>
                  <a:lnTo>
                    <a:pt x="0" y="16"/>
                  </a:lnTo>
                  <a:lnTo>
                    <a:pt x="112" y="128"/>
                  </a:lnTo>
                  <a:lnTo>
                    <a:pt x="168" y="136"/>
                  </a:lnTo>
                  <a:lnTo>
                    <a:pt x="192" y="128"/>
                  </a:lnTo>
                  <a:lnTo>
                    <a:pt x="248" y="48"/>
                  </a:lnTo>
                  <a:lnTo>
                    <a:pt x="216" y="16"/>
                  </a:lnTo>
                  <a:lnTo>
                    <a:pt x="176" y="16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617720" y="2781360"/>
              <a:ext cx="304560" cy="266760"/>
            </a:xfrm>
            <a:custGeom>
              <a:avLst/>
              <a:gdLst/>
              <a:ahLst/>
              <a:rect l="l" t="t" r="r" b="b"/>
              <a:pathLst>
                <a:path w="192" h="168">
                  <a:moveTo>
                    <a:pt x="16" y="120"/>
                  </a:moveTo>
                  <a:lnTo>
                    <a:pt x="64" y="160"/>
                  </a:lnTo>
                  <a:lnTo>
                    <a:pt x="112" y="168"/>
                  </a:lnTo>
                  <a:lnTo>
                    <a:pt x="160" y="128"/>
                  </a:lnTo>
                  <a:lnTo>
                    <a:pt x="192" y="64"/>
                  </a:lnTo>
                  <a:lnTo>
                    <a:pt x="136" y="40"/>
                  </a:lnTo>
                  <a:lnTo>
                    <a:pt x="96" y="0"/>
                  </a:lnTo>
                  <a:lnTo>
                    <a:pt x="80" y="64"/>
                  </a:lnTo>
                  <a:lnTo>
                    <a:pt x="0" y="128"/>
                  </a:lnTo>
                  <a:lnTo>
                    <a:pt x="56" y="152"/>
                  </a:lnTo>
                  <a:lnTo>
                    <a:pt x="16" y="120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782960" y="3124080"/>
              <a:ext cx="304200" cy="30492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0" y="56"/>
                  </a:moveTo>
                  <a:lnTo>
                    <a:pt x="136" y="192"/>
                  </a:lnTo>
                  <a:lnTo>
                    <a:pt x="152" y="176"/>
                  </a:lnTo>
                  <a:lnTo>
                    <a:pt x="176" y="160"/>
                  </a:lnTo>
                  <a:lnTo>
                    <a:pt x="192" y="120"/>
                  </a:lnTo>
                  <a:lnTo>
                    <a:pt x="56" y="0"/>
                  </a:lnTo>
                  <a:lnTo>
                    <a:pt x="24" y="1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036760" y="3251160"/>
              <a:ext cx="558720" cy="457200"/>
            </a:xfrm>
            <a:custGeom>
              <a:avLst/>
              <a:gdLst/>
              <a:ahLst/>
              <a:rect l="l" t="t" r="r" b="b"/>
              <a:pathLst>
                <a:path w="352" h="288">
                  <a:moveTo>
                    <a:pt x="40" y="32"/>
                  </a:moveTo>
                  <a:lnTo>
                    <a:pt x="72" y="0"/>
                  </a:lnTo>
                  <a:lnTo>
                    <a:pt x="144" y="16"/>
                  </a:lnTo>
                  <a:lnTo>
                    <a:pt x="200" y="32"/>
                  </a:lnTo>
                  <a:lnTo>
                    <a:pt x="352" y="176"/>
                  </a:lnTo>
                  <a:lnTo>
                    <a:pt x="344" y="208"/>
                  </a:lnTo>
                  <a:lnTo>
                    <a:pt x="336" y="248"/>
                  </a:lnTo>
                  <a:lnTo>
                    <a:pt x="304" y="264"/>
                  </a:lnTo>
                  <a:lnTo>
                    <a:pt x="240" y="280"/>
                  </a:lnTo>
                  <a:lnTo>
                    <a:pt x="184" y="288"/>
                  </a:lnTo>
                  <a:lnTo>
                    <a:pt x="120" y="272"/>
                  </a:lnTo>
                  <a:lnTo>
                    <a:pt x="72" y="232"/>
                  </a:lnTo>
                  <a:lnTo>
                    <a:pt x="48" y="184"/>
                  </a:lnTo>
                  <a:lnTo>
                    <a:pt x="40" y="144"/>
                  </a:lnTo>
                  <a:lnTo>
                    <a:pt x="0" y="104"/>
                  </a:lnTo>
                  <a:lnTo>
                    <a:pt x="24" y="80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748120" y="4178160"/>
              <a:ext cx="291600" cy="279720"/>
            </a:xfrm>
            <a:custGeom>
              <a:avLst/>
              <a:gdLst/>
              <a:ahLst/>
              <a:rect l="l" t="t" r="r" b="b"/>
              <a:pathLst>
                <a:path w="184" h="176">
                  <a:moveTo>
                    <a:pt x="48" y="0"/>
                  </a:moveTo>
                  <a:lnTo>
                    <a:pt x="24" y="0"/>
                  </a:lnTo>
                  <a:lnTo>
                    <a:pt x="8" y="32"/>
                  </a:lnTo>
                  <a:lnTo>
                    <a:pt x="0" y="96"/>
                  </a:lnTo>
                  <a:lnTo>
                    <a:pt x="32" y="128"/>
                  </a:lnTo>
                  <a:lnTo>
                    <a:pt x="112" y="168"/>
                  </a:lnTo>
                  <a:lnTo>
                    <a:pt x="144" y="176"/>
                  </a:lnTo>
                  <a:lnTo>
                    <a:pt x="184" y="144"/>
                  </a:lnTo>
                  <a:lnTo>
                    <a:pt x="184" y="96"/>
                  </a:lnTo>
                  <a:lnTo>
                    <a:pt x="168" y="72"/>
                  </a:lnTo>
                  <a:lnTo>
                    <a:pt x="144" y="48"/>
                  </a:lnTo>
                  <a:lnTo>
                    <a:pt x="96" y="16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455800" y="4915080"/>
              <a:ext cx="622080" cy="583920"/>
            </a:xfrm>
            <a:custGeom>
              <a:avLst/>
              <a:gdLst/>
              <a:ahLst/>
              <a:rect l="l" t="t" r="r" b="b"/>
              <a:pathLst>
                <a:path w="392" h="368">
                  <a:moveTo>
                    <a:pt x="192" y="0"/>
                  </a:moveTo>
                  <a:lnTo>
                    <a:pt x="168" y="40"/>
                  </a:lnTo>
                  <a:lnTo>
                    <a:pt x="128" y="88"/>
                  </a:lnTo>
                  <a:lnTo>
                    <a:pt x="112" y="128"/>
                  </a:lnTo>
                  <a:lnTo>
                    <a:pt x="88" y="160"/>
                  </a:lnTo>
                  <a:lnTo>
                    <a:pt x="48" y="184"/>
                  </a:lnTo>
                  <a:lnTo>
                    <a:pt x="16" y="192"/>
                  </a:lnTo>
                  <a:lnTo>
                    <a:pt x="0" y="240"/>
                  </a:lnTo>
                  <a:lnTo>
                    <a:pt x="24" y="272"/>
                  </a:lnTo>
                  <a:lnTo>
                    <a:pt x="56" y="304"/>
                  </a:lnTo>
                  <a:lnTo>
                    <a:pt x="128" y="328"/>
                  </a:lnTo>
                  <a:lnTo>
                    <a:pt x="216" y="360"/>
                  </a:lnTo>
                  <a:lnTo>
                    <a:pt x="264" y="368"/>
                  </a:lnTo>
                  <a:lnTo>
                    <a:pt x="296" y="344"/>
                  </a:lnTo>
                  <a:lnTo>
                    <a:pt x="328" y="304"/>
                  </a:lnTo>
                  <a:lnTo>
                    <a:pt x="336" y="280"/>
                  </a:lnTo>
                  <a:lnTo>
                    <a:pt x="368" y="248"/>
                  </a:lnTo>
                  <a:lnTo>
                    <a:pt x="392" y="224"/>
                  </a:lnTo>
                  <a:lnTo>
                    <a:pt x="344" y="176"/>
                  </a:lnTo>
                  <a:lnTo>
                    <a:pt x="352" y="120"/>
                  </a:lnTo>
                  <a:lnTo>
                    <a:pt x="328" y="64"/>
                  </a:lnTo>
                  <a:lnTo>
                    <a:pt x="288" y="40"/>
                  </a:lnTo>
                  <a:lnTo>
                    <a:pt x="240" y="64"/>
                  </a:lnTo>
                  <a:lnTo>
                    <a:pt x="208" y="32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916320" y="5257800"/>
              <a:ext cx="330120" cy="431640"/>
            </a:xfrm>
            <a:custGeom>
              <a:avLst/>
              <a:gdLst/>
              <a:ahLst/>
              <a:rect l="l" t="t" r="r" b="b"/>
              <a:pathLst>
                <a:path w="208" h="272">
                  <a:moveTo>
                    <a:pt x="136" y="0"/>
                  </a:moveTo>
                  <a:lnTo>
                    <a:pt x="104" y="24"/>
                  </a:lnTo>
                  <a:lnTo>
                    <a:pt x="64" y="72"/>
                  </a:lnTo>
                  <a:lnTo>
                    <a:pt x="56" y="112"/>
                  </a:lnTo>
                  <a:lnTo>
                    <a:pt x="32" y="152"/>
                  </a:lnTo>
                  <a:lnTo>
                    <a:pt x="16" y="184"/>
                  </a:lnTo>
                  <a:lnTo>
                    <a:pt x="8" y="232"/>
                  </a:lnTo>
                  <a:lnTo>
                    <a:pt x="0" y="256"/>
                  </a:lnTo>
                  <a:lnTo>
                    <a:pt x="48" y="272"/>
                  </a:lnTo>
                  <a:lnTo>
                    <a:pt x="112" y="224"/>
                  </a:lnTo>
                  <a:lnTo>
                    <a:pt x="192" y="208"/>
                  </a:lnTo>
                  <a:lnTo>
                    <a:pt x="200" y="160"/>
                  </a:lnTo>
                  <a:lnTo>
                    <a:pt x="200" y="80"/>
                  </a:lnTo>
                  <a:lnTo>
                    <a:pt x="208" y="32"/>
                  </a:lnTo>
                  <a:lnTo>
                    <a:pt x="176" y="32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005240" y="5613480"/>
              <a:ext cx="495000" cy="291960"/>
            </a:xfrm>
            <a:custGeom>
              <a:avLst/>
              <a:gdLst/>
              <a:ahLst/>
              <a:rect l="l" t="t" r="r" b="b"/>
              <a:pathLst>
                <a:path w="312" h="184">
                  <a:moveTo>
                    <a:pt x="0" y="56"/>
                  </a:moveTo>
                  <a:lnTo>
                    <a:pt x="32" y="88"/>
                  </a:lnTo>
                  <a:lnTo>
                    <a:pt x="120" y="176"/>
                  </a:lnTo>
                  <a:lnTo>
                    <a:pt x="152" y="184"/>
                  </a:lnTo>
                  <a:lnTo>
                    <a:pt x="224" y="168"/>
                  </a:lnTo>
                  <a:lnTo>
                    <a:pt x="312" y="144"/>
                  </a:lnTo>
                  <a:lnTo>
                    <a:pt x="232" y="64"/>
                  </a:lnTo>
                  <a:lnTo>
                    <a:pt x="192" y="24"/>
                  </a:lnTo>
                  <a:lnTo>
                    <a:pt x="152" y="24"/>
                  </a:lnTo>
                  <a:lnTo>
                    <a:pt x="120" y="0"/>
                  </a:lnTo>
                  <a:lnTo>
                    <a:pt x="56" y="8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246800" y="5245200"/>
              <a:ext cx="456840" cy="444240"/>
            </a:xfrm>
            <a:custGeom>
              <a:avLst/>
              <a:gdLst/>
              <a:ahLst/>
              <a:rect l="l" t="t" r="r" b="b"/>
              <a:pathLst>
                <a:path w="288" h="280">
                  <a:moveTo>
                    <a:pt x="32" y="240"/>
                  </a:moveTo>
                  <a:lnTo>
                    <a:pt x="8" y="184"/>
                  </a:lnTo>
                  <a:lnTo>
                    <a:pt x="0" y="104"/>
                  </a:lnTo>
                  <a:lnTo>
                    <a:pt x="32" y="56"/>
                  </a:lnTo>
                  <a:lnTo>
                    <a:pt x="80" y="0"/>
                  </a:lnTo>
                  <a:lnTo>
                    <a:pt x="144" y="32"/>
                  </a:lnTo>
                  <a:lnTo>
                    <a:pt x="160" y="64"/>
                  </a:lnTo>
                  <a:lnTo>
                    <a:pt x="224" y="72"/>
                  </a:lnTo>
                  <a:lnTo>
                    <a:pt x="288" y="144"/>
                  </a:lnTo>
                  <a:lnTo>
                    <a:pt x="272" y="208"/>
                  </a:lnTo>
                  <a:lnTo>
                    <a:pt x="224" y="216"/>
                  </a:lnTo>
                  <a:lnTo>
                    <a:pt x="168" y="248"/>
                  </a:lnTo>
                  <a:lnTo>
                    <a:pt x="88" y="280"/>
                  </a:lnTo>
                  <a:lnTo>
                    <a:pt x="40" y="248"/>
                  </a:lnTo>
                  <a:lnTo>
                    <a:pt x="32" y="240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424640" y="5626080"/>
              <a:ext cx="367920" cy="343080"/>
            </a:xfrm>
            <a:custGeom>
              <a:avLst/>
              <a:gdLst/>
              <a:ahLst/>
              <a:rect l="l" t="t" r="r" b="b"/>
              <a:pathLst>
                <a:path w="232" h="216">
                  <a:moveTo>
                    <a:pt x="0" y="72"/>
                  </a:moveTo>
                  <a:lnTo>
                    <a:pt x="64" y="32"/>
                  </a:lnTo>
                  <a:lnTo>
                    <a:pt x="128" y="0"/>
                  </a:lnTo>
                  <a:lnTo>
                    <a:pt x="184" y="48"/>
                  </a:lnTo>
                  <a:lnTo>
                    <a:pt x="232" y="104"/>
                  </a:lnTo>
                  <a:lnTo>
                    <a:pt x="232" y="136"/>
                  </a:lnTo>
                  <a:lnTo>
                    <a:pt x="160" y="208"/>
                  </a:lnTo>
                  <a:lnTo>
                    <a:pt x="120" y="216"/>
                  </a:lnTo>
                  <a:lnTo>
                    <a:pt x="80" y="200"/>
                  </a:lnTo>
                  <a:lnTo>
                    <a:pt x="64" y="136"/>
                  </a:lnTo>
                  <a:lnTo>
                    <a:pt x="32" y="104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665840" y="5854680"/>
              <a:ext cx="444240" cy="216000"/>
            </a:xfrm>
            <a:custGeom>
              <a:avLst/>
              <a:gdLst/>
              <a:ahLst/>
              <a:rect l="l" t="t" r="r" b="b"/>
              <a:pathLst>
                <a:path w="280" h="136">
                  <a:moveTo>
                    <a:pt x="88" y="0"/>
                  </a:moveTo>
                  <a:lnTo>
                    <a:pt x="152" y="24"/>
                  </a:lnTo>
                  <a:lnTo>
                    <a:pt x="232" y="40"/>
                  </a:lnTo>
                  <a:lnTo>
                    <a:pt x="280" y="56"/>
                  </a:lnTo>
                  <a:lnTo>
                    <a:pt x="272" y="104"/>
                  </a:lnTo>
                  <a:lnTo>
                    <a:pt x="280" y="136"/>
                  </a:lnTo>
                  <a:lnTo>
                    <a:pt x="176" y="104"/>
                  </a:lnTo>
                  <a:lnTo>
                    <a:pt x="128" y="96"/>
                  </a:lnTo>
                  <a:lnTo>
                    <a:pt x="48" y="88"/>
                  </a:lnTo>
                  <a:lnTo>
                    <a:pt x="0" y="80"/>
                  </a:lnTo>
                  <a:lnTo>
                    <a:pt x="16" y="56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741800" y="6400800"/>
              <a:ext cx="342720" cy="216000"/>
            </a:xfrm>
            <a:custGeom>
              <a:avLst/>
              <a:gdLst/>
              <a:ahLst/>
              <a:rect l="l" t="t" r="r" b="b"/>
              <a:pathLst>
                <a:path w="216" h="136">
                  <a:moveTo>
                    <a:pt x="216" y="72"/>
                  </a:moveTo>
                  <a:lnTo>
                    <a:pt x="136" y="0"/>
                  </a:lnTo>
                  <a:lnTo>
                    <a:pt x="96" y="0"/>
                  </a:lnTo>
                  <a:lnTo>
                    <a:pt x="32" y="8"/>
                  </a:lnTo>
                  <a:lnTo>
                    <a:pt x="0" y="56"/>
                  </a:lnTo>
                  <a:lnTo>
                    <a:pt x="48" y="96"/>
                  </a:lnTo>
                  <a:lnTo>
                    <a:pt x="88" y="104"/>
                  </a:lnTo>
                  <a:lnTo>
                    <a:pt x="120" y="136"/>
                  </a:lnTo>
                  <a:lnTo>
                    <a:pt x="144" y="128"/>
                  </a:lnTo>
                  <a:lnTo>
                    <a:pt x="192" y="96"/>
                  </a:lnTo>
                  <a:lnTo>
                    <a:pt x="216" y="72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023840" y="1981080"/>
              <a:ext cx="329760" cy="406440"/>
            </a:xfrm>
            <a:custGeom>
              <a:avLst/>
              <a:gdLst/>
              <a:ahLst/>
              <a:rect l="l" t="t" r="r" b="b"/>
              <a:pathLst>
                <a:path w="208" h="256">
                  <a:moveTo>
                    <a:pt x="0" y="0"/>
                  </a:moveTo>
                  <a:lnTo>
                    <a:pt x="72" y="256"/>
                  </a:lnTo>
                  <a:lnTo>
                    <a:pt x="208" y="128"/>
                  </a:lnTo>
                  <a:lnTo>
                    <a:pt x="208" y="56"/>
                  </a:lnTo>
                  <a:lnTo>
                    <a:pt x="192" y="48"/>
                  </a:lnTo>
                  <a:lnTo>
                    <a:pt x="64" y="8"/>
                  </a:lnTo>
                  <a:lnTo>
                    <a:pt x="48" y="8"/>
                  </a:lnTo>
                  <a:lnTo>
                    <a:pt x="4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341000" y="1752480"/>
              <a:ext cx="698400" cy="444600"/>
            </a:xfrm>
            <a:custGeom>
              <a:avLst/>
              <a:gdLst/>
              <a:ahLst/>
              <a:rect l="l" t="t" r="r" b="b"/>
              <a:pathLst>
                <a:path w="440" h="280">
                  <a:moveTo>
                    <a:pt x="8" y="8"/>
                  </a:moveTo>
                  <a:lnTo>
                    <a:pt x="0" y="40"/>
                  </a:lnTo>
                  <a:lnTo>
                    <a:pt x="16" y="104"/>
                  </a:lnTo>
                  <a:lnTo>
                    <a:pt x="16" y="160"/>
                  </a:lnTo>
                  <a:lnTo>
                    <a:pt x="16" y="216"/>
                  </a:lnTo>
                  <a:lnTo>
                    <a:pt x="16" y="264"/>
                  </a:lnTo>
                  <a:lnTo>
                    <a:pt x="56" y="280"/>
                  </a:lnTo>
                  <a:lnTo>
                    <a:pt x="120" y="272"/>
                  </a:lnTo>
                  <a:lnTo>
                    <a:pt x="184" y="264"/>
                  </a:lnTo>
                  <a:lnTo>
                    <a:pt x="272" y="256"/>
                  </a:lnTo>
                  <a:lnTo>
                    <a:pt x="344" y="248"/>
                  </a:lnTo>
                  <a:lnTo>
                    <a:pt x="384" y="224"/>
                  </a:lnTo>
                  <a:lnTo>
                    <a:pt x="392" y="168"/>
                  </a:lnTo>
                  <a:lnTo>
                    <a:pt x="408" y="136"/>
                  </a:lnTo>
                  <a:lnTo>
                    <a:pt x="432" y="96"/>
                  </a:lnTo>
                  <a:lnTo>
                    <a:pt x="440" y="56"/>
                  </a:lnTo>
                  <a:lnTo>
                    <a:pt x="408" y="48"/>
                  </a:lnTo>
                  <a:lnTo>
                    <a:pt x="352" y="48"/>
                  </a:lnTo>
                  <a:lnTo>
                    <a:pt x="296" y="32"/>
                  </a:lnTo>
                  <a:lnTo>
                    <a:pt x="216" y="0"/>
                  </a:lnTo>
                  <a:lnTo>
                    <a:pt x="176" y="16"/>
                  </a:lnTo>
                  <a:lnTo>
                    <a:pt x="160" y="32"/>
                  </a:lnTo>
                  <a:lnTo>
                    <a:pt x="120" y="24"/>
                  </a:lnTo>
                  <a:lnTo>
                    <a:pt x="64" y="8"/>
                  </a:lnTo>
                  <a:lnTo>
                    <a:pt x="32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17320" y="2171880"/>
              <a:ext cx="444240" cy="342720"/>
            </a:xfrm>
            <a:custGeom>
              <a:avLst/>
              <a:gdLst/>
              <a:ahLst/>
              <a:rect l="l" t="t" r="r" b="b"/>
              <a:pathLst>
                <a:path w="280" h="216">
                  <a:moveTo>
                    <a:pt x="8" y="32"/>
                  </a:moveTo>
                  <a:lnTo>
                    <a:pt x="168" y="8"/>
                  </a:lnTo>
                  <a:lnTo>
                    <a:pt x="272" y="0"/>
                  </a:lnTo>
                  <a:lnTo>
                    <a:pt x="280" y="32"/>
                  </a:lnTo>
                  <a:lnTo>
                    <a:pt x="272" y="56"/>
                  </a:lnTo>
                  <a:lnTo>
                    <a:pt x="256" y="96"/>
                  </a:lnTo>
                  <a:lnTo>
                    <a:pt x="240" y="176"/>
                  </a:lnTo>
                  <a:lnTo>
                    <a:pt x="240" y="200"/>
                  </a:lnTo>
                  <a:lnTo>
                    <a:pt x="216" y="216"/>
                  </a:lnTo>
                  <a:lnTo>
                    <a:pt x="168" y="184"/>
                  </a:lnTo>
                  <a:lnTo>
                    <a:pt x="160" y="176"/>
                  </a:lnTo>
                  <a:lnTo>
                    <a:pt x="128" y="176"/>
                  </a:lnTo>
                  <a:lnTo>
                    <a:pt x="96" y="152"/>
                  </a:lnTo>
                  <a:lnTo>
                    <a:pt x="64" y="120"/>
                  </a:lnTo>
                  <a:lnTo>
                    <a:pt x="40" y="72"/>
                  </a:lnTo>
                  <a:lnTo>
                    <a:pt x="0" y="16"/>
                  </a:lnTo>
                  <a:lnTo>
                    <a:pt x="8" y="32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557000" y="1562040"/>
              <a:ext cx="431640" cy="254160"/>
            </a:xfrm>
            <a:custGeom>
              <a:avLst/>
              <a:gdLst/>
              <a:ahLst/>
              <a:rect l="l" t="t" r="r" b="b"/>
              <a:pathLst>
                <a:path w="272" h="160">
                  <a:moveTo>
                    <a:pt x="0" y="0"/>
                  </a:moveTo>
                  <a:lnTo>
                    <a:pt x="120" y="8"/>
                  </a:lnTo>
                  <a:lnTo>
                    <a:pt x="216" y="8"/>
                  </a:lnTo>
                  <a:lnTo>
                    <a:pt x="256" y="56"/>
                  </a:lnTo>
                  <a:lnTo>
                    <a:pt x="256" y="136"/>
                  </a:lnTo>
                  <a:lnTo>
                    <a:pt x="272" y="160"/>
                  </a:lnTo>
                  <a:lnTo>
                    <a:pt x="216" y="160"/>
                  </a:lnTo>
                  <a:lnTo>
                    <a:pt x="80" y="112"/>
                  </a:lnTo>
                  <a:lnTo>
                    <a:pt x="40" y="88"/>
                  </a:lnTo>
                  <a:lnTo>
                    <a:pt x="0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861920" y="1168560"/>
              <a:ext cx="342360" cy="457200"/>
            </a:xfrm>
            <a:custGeom>
              <a:avLst/>
              <a:gdLst/>
              <a:ahLst/>
              <a:rect l="l" t="t" r="r" b="b"/>
              <a:pathLst>
                <a:path w="216" h="288">
                  <a:moveTo>
                    <a:pt x="40" y="248"/>
                  </a:moveTo>
                  <a:lnTo>
                    <a:pt x="48" y="176"/>
                  </a:lnTo>
                  <a:lnTo>
                    <a:pt x="24" y="152"/>
                  </a:lnTo>
                  <a:lnTo>
                    <a:pt x="8" y="112"/>
                  </a:lnTo>
                  <a:lnTo>
                    <a:pt x="0" y="64"/>
                  </a:lnTo>
                  <a:lnTo>
                    <a:pt x="24" y="16"/>
                  </a:lnTo>
                  <a:lnTo>
                    <a:pt x="72" y="0"/>
                  </a:lnTo>
                  <a:lnTo>
                    <a:pt x="128" y="0"/>
                  </a:lnTo>
                  <a:lnTo>
                    <a:pt x="176" y="8"/>
                  </a:lnTo>
                  <a:lnTo>
                    <a:pt x="192" y="80"/>
                  </a:lnTo>
                  <a:lnTo>
                    <a:pt x="216" y="136"/>
                  </a:lnTo>
                  <a:lnTo>
                    <a:pt x="216" y="192"/>
                  </a:lnTo>
                  <a:lnTo>
                    <a:pt x="208" y="240"/>
                  </a:lnTo>
                  <a:lnTo>
                    <a:pt x="184" y="280"/>
                  </a:lnTo>
                  <a:lnTo>
                    <a:pt x="168" y="288"/>
                  </a:lnTo>
                  <a:lnTo>
                    <a:pt x="88" y="280"/>
                  </a:lnTo>
                  <a:lnTo>
                    <a:pt x="64" y="264"/>
                  </a:lnTo>
                  <a:lnTo>
                    <a:pt x="40" y="248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06520" y="1701720"/>
              <a:ext cx="545760" cy="393840"/>
            </a:xfrm>
            <a:custGeom>
              <a:avLst/>
              <a:gdLst/>
              <a:ahLst/>
              <a:rect l="l" t="t" r="r" b="b"/>
              <a:pathLst>
                <a:path w="344" h="248">
                  <a:moveTo>
                    <a:pt x="8" y="72"/>
                  </a:moveTo>
                  <a:lnTo>
                    <a:pt x="0" y="96"/>
                  </a:lnTo>
                  <a:lnTo>
                    <a:pt x="0" y="136"/>
                  </a:lnTo>
                  <a:lnTo>
                    <a:pt x="24" y="224"/>
                  </a:lnTo>
                  <a:lnTo>
                    <a:pt x="88" y="224"/>
                  </a:lnTo>
                  <a:lnTo>
                    <a:pt x="144" y="248"/>
                  </a:lnTo>
                  <a:lnTo>
                    <a:pt x="176" y="232"/>
                  </a:lnTo>
                  <a:lnTo>
                    <a:pt x="200" y="200"/>
                  </a:lnTo>
                  <a:lnTo>
                    <a:pt x="248" y="216"/>
                  </a:lnTo>
                  <a:lnTo>
                    <a:pt x="272" y="240"/>
                  </a:lnTo>
                  <a:lnTo>
                    <a:pt x="296" y="248"/>
                  </a:lnTo>
                  <a:lnTo>
                    <a:pt x="320" y="200"/>
                  </a:lnTo>
                  <a:lnTo>
                    <a:pt x="344" y="136"/>
                  </a:lnTo>
                  <a:lnTo>
                    <a:pt x="312" y="128"/>
                  </a:lnTo>
                  <a:lnTo>
                    <a:pt x="224" y="24"/>
                  </a:lnTo>
                  <a:lnTo>
                    <a:pt x="176" y="0"/>
                  </a:lnTo>
                  <a:lnTo>
                    <a:pt x="152" y="16"/>
                  </a:lnTo>
                  <a:lnTo>
                    <a:pt x="128" y="32"/>
                  </a:lnTo>
                  <a:lnTo>
                    <a:pt x="104" y="40"/>
                  </a:lnTo>
                  <a:lnTo>
                    <a:pt x="64" y="40"/>
                  </a:lnTo>
                  <a:lnTo>
                    <a:pt x="24" y="72"/>
                  </a:lnTo>
                  <a:lnTo>
                    <a:pt x="8" y="72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788920" y="1384200"/>
              <a:ext cx="507600" cy="343080"/>
            </a:xfrm>
            <a:custGeom>
              <a:avLst/>
              <a:gdLst/>
              <a:ahLst/>
              <a:rect l="l" t="t" r="r" b="b"/>
              <a:pathLst>
                <a:path w="320" h="216">
                  <a:moveTo>
                    <a:pt x="0" y="144"/>
                  </a:moveTo>
                  <a:lnTo>
                    <a:pt x="24" y="88"/>
                  </a:lnTo>
                  <a:lnTo>
                    <a:pt x="48" y="56"/>
                  </a:lnTo>
                  <a:lnTo>
                    <a:pt x="40" y="24"/>
                  </a:lnTo>
                  <a:lnTo>
                    <a:pt x="112" y="16"/>
                  </a:lnTo>
                  <a:lnTo>
                    <a:pt x="128" y="0"/>
                  </a:lnTo>
                  <a:lnTo>
                    <a:pt x="160" y="8"/>
                  </a:lnTo>
                  <a:lnTo>
                    <a:pt x="176" y="56"/>
                  </a:lnTo>
                  <a:lnTo>
                    <a:pt x="200" y="96"/>
                  </a:lnTo>
                  <a:lnTo>
                    <a:pt x="272" y="120"/>
                  </a:lnTo>
                  <a:lnTo>
                    <a:pt x="320" y="160"/>
                  </a:lnTo>
                  <a:lnTo>
                    <a:pt x="312" y="208"/>
                  </a:lnTo>
                  <a:lnTo>
                    <a:pt x="288" y="216"/>
                  </a:lnTo>
                  <a:lnTo>
                    <a:pt x="264" y="208"/>
                  </a:lnTo>
                  <a:lnTo>
                    <a:pt x="256" y="216"/>
                  </a:lnTo>
                  <a:lnTo>
                    <a:pt x="200" y="216"/>
                  </a:lnTo>
                  <a:lnTo>
                    <a:pt x="160" y="200"/>
                  </a:lnTo>
                  <a:lnTo>
                    <a:pt x="96" y="176"/>
                  </a:lnTo>
                  <a:lnTo>
                    <a:pt x="40" y="152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87320" y="1968480"/>
              <a:ext cx="330120" cy="304920"/>
            </a:xfrm>
            <a:custGeom>
              <a:avLst/>
              <a:gdLst/>
              <a:ahLst/>
              <a:rect l="l" t="t" r="r" b="b"/>
              <a:pathLst>
                <a:path w="208" h="192">
                  <a:moveTo>
                    <a:pt x="112" y="192"/>
                  </a:moveTo>
                  <a:lnTo>
                    <a:pt x="208" y="112"/>
                  </a:lnTo>
                  <a:lnTo>
                    <a:pt x="200" y="96"/>
                  </a:lnTo>
                  <a:lnTo>
                    <a:pt x="120" y="32"/>
                  </a:lnTo>
                  <a:lnTo>
                    <a:pt x="64" y="16"/>
                  </a:lnTo>
                  <a:lnTo>
                    <a:pt x="8" y="0"/>
                  </a:lnTo>
                  <a:lnTo>
                    <a:pt x="0" y="32"/>
                  </a:lnTo>
                  <a:lnTo>
                    <a:pt x="16" y="56"/>
                  </a:lnTo>
                  <a:lnTo>
                    <a:pt x="24" y="88"/>
                  </a:lnTo>
                  <a:lnTo>
                    <a:pt x="48" y="120"/>
                  </a:lnTo>
                  <a:lnTo>
                    <a:pt x="64" y="144"/>
                  </a:lnTo>
                  <a:lnTo>
                    <a:pt x="88" y="176"/>
                  </a:lnTo>
                  <a:lnTo>
                    <a:pt x="112" y="192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639960" y="1511280"/>
              <a:ext cx="443880" cy="330120"/>
            </a:xfrm>
            <a:custGeom>
              <a:avLst/>
              <a:gdLst/>
              <a:ahLst/>
              <a:rect l="l" t="t" r="r" b="b"/>
              <a:pathLst>
                <a:path w="280" h="208">
                  <a:moveTo>
                    <a:pt x="8" y="144"/>
                  </a:moveTo>
                  <a:lnTo>
                    <a:pt x="0" y="96"/>
                  </a:lnTo>
                  <a:lnTo>
                    <a:pt x="0" y="56"/>
                  </a:lnTo>
                  <a:lnTo>
                    <a:pt x="24" y="24"/>
                  </a:lnTo>
                  <a:lnTo>
                    <a:pt x="64" y="48"/>
                  </a:lnTo>
                  <a:lnTo>
                    <a:pt x="72" y="64"/>
                  </a:lnTo>
                  <a:lnTo>
                    <a:pt x="96" y="40"/>
                  </a:lnTo>
                  <a:lnTo>
                    <a:pt x="128" y="0"/>
                  </a:lnTo>
                  <a:lnTo>
                    <a:pt x="144" y="24"/>
                  </a:lnTo>
                  <a:lnTo>
                    <a:pt x="160" y="8"/>
                  </a:lnTo>
                  <a:lnTo>
                    <a:pt x="208" y="56"/>
                  </a:lnTo>
                  <a:lnTo>
                    <a:pt x="232" y="56"/>
                  </a:lnTo>
                  <a:lnTo>
                    <a:pt x="280" y="136"/>
                  </a:lnTo>
                  <a:lnTo>
                    <a:pt x="256" y="128"/>
                  </a:lnTo>
                  <a:lnTo>
                    <a:pt x="256" y="152"/>
                  </a:lnTo>
                  <a:lnTo>
                    <a:pt x="152" y="208"/>
                  </a:lnTo>
                  <a:lnTo>
                    <a:pt x="48" y="176"/>
                  </a:lnTo>
                  <a:lnTo>
                    <a:pt x="16" y="152"/>
                  </a:lnTo>
                  <a:lnTo>
                    <a:pt x="8" y="144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81160" y="1752480"/>
              <a:ext cx="406080" cy="368280"/>
            </a:xfrm>
            <a:custGeom>
              <a:avLst/>
              <a:gdLst/>
              <a:ahLst/>
              <a:rect l="l" t="t" r="r" b="b"/>
              <a:pathLst>
                <a:path w="256" h="232">
                  <a:moveTo>
                    <a:pt x="120" y="0"/>
                  </a:moveTo>
                  <a:lnTo>
                    <a:pt x="160" y="24"/>
                  </a:lnTo>
                  <a:lnTo>
                    <a:pt x="208" y="24"/>
                  </a:lnTo>
                  <a:lnTo>
                    <a:pt x="240" y="24"/>
                  </a:lnTo>
                  <a:lnTo>
                    <a:pt x="256" y="48"/>
                  </a:lnTo>
                  <a:lnTo>
                    <a:pt x="232" y="88"/>
                  </a:lnTo>
                  <a:lnTo>
                    <a:pt x="216" y="120"/>
                  </a:lnTo>
                  <a:lnTo>
                    <a:pt x="160" y="168"/>
                  </a:lnTo>
                  <a:lnTo>
                    <a:pt x="112" y="208"/>
                  </a:lnTo>
                  <a:lnTo>
                    <a:pt x="64" y="232"/>
                  </a:lnTo>
                  <a:lnTo>
                    <a:pt x="32" y="216"/>
                  </a:lnTo>
                  <a:lnTo>
                    <a:pt x="0" y="112"/>
                  </a:lnTo>
                  <a:lnTo>
                    <a:pt x="0" y="72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982680" y="2006640"/>
              <a:ext cx="329760" cy="266760"/>
            </a:xfrm>
            <a:custGeom>
              <a:avLst/>
              <a:gdLst/>
              <a:ahLst/>
              <a:rect l="l" t="t" r="r" b="b"/>
              <a:pathLst>
                <a:path w="208" h="168">
                  <a:moveTo>
                    <a:pt x="0" y="88"/>
                  </a:moveTo>
                  <a:lnTo>
                    <a:pt x="64" y="48"/>
                  </a:lnTo>
                  <a:lnTo>
                    <a:pt x="96" y="24"/>
                  </a:lnTo>
                  <a:lnTo>
                    <a:pt x="128" y="0"/>
                  </a:lnTo>
                  <a:lnTo>
                    <a:pt x="152" y="0"/>
                  </a:lnTo>
                  <a:lnTo>
                    <a:pt x="192" y="48"/>
                  </a:lnTo>
                  <a:lnTo>
                    <a:pt x="208" y="160"/>
                  </a:lnTo>
                  <a:lnTo>
                    <a:pt x="184" y="168"/>
                  </a:lnTo>
                  <a:lnTo>
                    <a:pt x="152" y="160"/>
                  </a:lnTo>
                  <a:lnTo>
                    <a:pt x="136" y="168"/>
                  </a:lnTo>
                  <a:lnTo>
                    <a:pt x="112" y="152"/>
                  </a:lnTo>
                  <a:lnTo>
                    <a:pt x="80" y="168"/>
                  </a:lnTo>
                  <a:lnTo>
                    <a:pt x="56" y="152"/>
                  </a:lnTo>
                  <a:lnTo>
                    <a:pt x="32" y="160"/>
                  </a:lnTo>
                  <a:lnTo>
                    <a:pt x="16" y="160"/>
                  </a:lnTo>
                  <a:lnTo>
                    <a:pt x="0" y="12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490640" y="2654280"/>
              <a:ext cx="266400" cy="355680"/>
            </a:xfrm>
            <a:custGeom>
              <a:avLst/>
              <a:gdLst/>
              <a:ahLst/>
              <a:rect l="l" t="t" r="r" b="b"/>
              <a:pathLst>
                <a:path w="168" h="224">
                  <a:moveTo>
                    <a:pt x="32" y="40"/>
                  </a:moveTo>
                  <a:lnTo>
                    <a:pt x="24" y="88"/>
                  </a:lnTo>
                  <a:lnTo>
                    <a:pt x="16" y="128"/>
                  </a:lnTo>
                  <a:lnTo>
                    <a:pt x="0" y="216"/>
                  </a:lnTo>
                  <a:lnTo>
                    <a:pt x="32" y="224"/>
                  </a:lnTo>
                  <a:lnTo>
                    <a:pt x="88" y="192"/>
                  </a:lnTo>
                  <a:lnTo>
                    <a:pt x="160" y="144"/>
                  </a:lnTo>
                  <a:lnTo>
                    <a:pt x="168" y="104"/>
                  </a:lnTo>
                  <a:lnTo>
                    <a:pt x="168" y="56"/>
                  </a:lnTo>
                  <a:lnTo>
                    <a:pt x="104" y="0"/>
                  </a:lnTo>
                  <a:lnTo>
                    <a:pt x="32" y="40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379840" y="3022560"/>
              <a:ext cx="634680" cy="469800"/>
            </a:xfrm>
            <a:custGeom>
              <a:avLst/>
              <a:gdLst/>
              <a:ahLst/>
              <a:rect l="l" t="t" r="r" b="b"/>
              <a:pathLst>
                <a:path w="400" h="296">
                  <a:moveTo>
                    <a:pt x="40" y="208"/>
                  </a:moveTo>
                  <a:lnTo>
                    <a:pt x="16" y="184"/>
                  </a:lnTo>
                  <a:lnTo>
                    <a:pt x="32" y="152"/>
                  </a:lnTo>
                  <a:lnTo>
                    <a:pt x="40" y="112"/>
                  </a:lnTo>
                  <a:lnTo>
                    <a:pt x="0" y="72"/>
                  </a:lnTo>
                  <a:lnTo>
                    <a:pt x="8" y="40"/>
                  </a:lnTo>
                  <a:lnTo>
                    <a:pt x="40" y="16"/>
                  </a:lnTo>
                  <a:lnTo>
                    <a:pt x="72" y="24"/>
                  </a:lnTo>
                  <a:lnTo>
                    <a:pt x="88" y="0"/>
                  </a:lnTo>
                  <a:lnTo>
                    <a:pt x="104" y="0"/>
                  </a:lnTo>
                  <a:lnTo>
                    <a:pt x="136" y="8"/>
                  </a:lnTo>
                  <a:lnTo>
                    <a:pt x="168" y="8"/>
                  </a:lnTo>
                  <a:lnTo>
                    <a:pt x="232" y="32"/>
                  </a:lnTo>
                  <a:lnTo>
                    <a:pt x="256" y="24"/>
                  </a:lnTo>
                  <a:lnTo>
                    <a:pt x="256" y="0"/>
                  </a:lnTo>
                  <a:lnTo>
                    <a:pt x="312" y="40"/>
                  </a:lnTo>
                  <a:lnTo>
                    <a:pt x="376" y="48"/>
                  </a:lnTo>
                  <a:lnTo>
                    <a:pt x="400" y="72"/>
                  </a:lnTo>
                  <a:lnTo>
                    <a:pt x="368" y="104"/>
                  </a:lnTo>
                  <a:lnTo>
                    <a:pt x="336" y="112"/>
                  </a:lnTo>
                  <a:lnTo>
                    <a:pt x="312" y="160"/>
                  </a:lnTo>
                  <a:lnTo>
                    <a:pt x="256" y="184"/>
                  </a:lnTo>
                  <a:lnTo>
                    <a:pt x="256" y="216"/>
                  </a:lnTo>
                  <a:lnTo>
                    <a:pt x="200" y="264"/>
                  </a:lnTo>
                  <a:lnTo>
                    <a:pt x="168" y="296"/>
                  </a:lnTo>
                  <a:lnTo>
                    <a:pt x="56" y="200"/>
                  </a:lnTo>
                  <a:lnTo>
                    <a:pt x="40" y="208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570280" y="3581280"/>
              <a:ext cx="659880" cy="406440"/>
            </a:xfrm>
            <a:custGeom>
              <a:avLst/>
              <a:gdLst/>
              <a:ahLst/>
              <a:rect l="l" t="t" r="r" b="b"/>
              <a:pathLst>
                <a:path w="416" h="256">
                  <a:moveTo>
                    <a:pt x="0" y="184"/>
                  </a:moveTo>
                  <a:lnTo>
                    <a:pt x="40" y="136"/>
                  </a:lnTo>
                  <a:lnTo>
                    <a:pt x="88" y="88"/>
                  </a:lnTo>
                  <a:lnTo>
                    <a:pt x="144" y="72"/>
                  </a:lnTo>
                  <a:lnTo>
                    <a:pt x="168" y="64"/>
                  </a:lnTo>
                  <a:lnTo>
                    <a:pt x="192" y="32"/>
                  </a:lnTo>
                  <a:lnTo>
                    <a:pt x="280" y="0"/>
                  </a:lnTo>
                  <a:lnTo>
                    <a:pt x="360" y="16"/>
                  </a:lnTo>
                  <a:lnTo>
                    <a:pt x="408" y="0"/>
                  </a:lnTo>
                  <a:lnTo>
                    <a:pt x="416" y="24"/>
                  </a:lnTo>
                  <a:lnTo>
                    <a:pt x="360" y="80"/>
                  </a:lnTo>
                  <a:lnTo>
                    <a:pt x="336" y="128"/>
                  </a:lnTo>
                  <a:lnTo>
                    <a:pt x="304" y="168"/>
                  </a:lnTo>
                  <a:lnTo>
                    <a:pt x="320" y="232"/>
                  </a:lnTo>
                  <a:lnTo>
                    <a:pt x="288" y="256"/>
                  </a:lnTo>
                  <a:lnTo>
                    <a:pt x="184" y="256"/>
                  </a:lnTo>
                  <a:lnTo>
                    <a:pt x="88" y="216"/>
                  </a:lnTo>
                  <a:lnTo>
                    <a:pt x="40" y="200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684400" y="3924360"/>
              <a:ext cx="507960" cy="393480"/>
            </a:xfrm>
            <a:custGeom>
              <a:avLst/>
              <a:gdLst/>
              <a:ahLst/>
              <a:rect l="l" t="t" r="r" b="b"/>
              <a:pathLst>
                <a:path w="320" h="248">
                  <a:moveTo>
                    <a:pt x="8" y="16"/>
                  </a:moveTo>
                  <a:lnTo>
                    <a:pt x="104" y="48"/>
                  </a:lnTo>
                  <a:lnTo>
                    <a:pt x="176" y="48"/>
                  </a:lnTo>
                  <a:lnTo>
                    <a:pt x="264" y="104"/>
                  </a:lnTo>
                  <a:lnTo>
                    <a:pt x="320" y="168"/>
                  </a:lnTo>
                  <a:lnTo>
                    <a:pt x="312" y="208"/>
                  </a:lnTo>
                  <a:lnTo>
                    <a:pt x="288" y="232"/>
                  </a:lnTo>
                  <a:lnTo>
                    <a:pt x="248" y="248"/>
                  </a:lnTo>
                  <a:lnTo>
                    <a:pt x="216" y="240"/>
                  </a:lnTo>
                  <a:lnTo>
                    <a:pt x="192" y="200"/>
                  </a:lnTo>
                  <a:lnTo>
                    <a:pt x="152" y="168"/>
                  </a:lnTo>
                  <a:lnTo>
                    <a:pt x="96" y="152"/>
                  </a:lnTo>
                  <a:lnTo>
                    <a:pt x="64" y="96"/>
                  </a:lnTo>
                  <a:lnTo>
                    <a:pt x="24" y="56"/>
                  </a:lnTo>
                  <a:lnTo>
                    <a:pt x="0" y="0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827400" y="4330800"/>
              <a:ext cx="469800" cy="253800"/>
            </a:xfrm>
            <a:custGeom>
              <a:avLst/>
              <a:gdLst/>
              <a:ahLst/>
              <a:rect l="l" t="t" r="r" b="b"/>
              <a:pathLst>
                <a:path w="296" h="160">
                  <a:moveTo>
                    <a:pt x="8" y="80"/>
                  </a:moveTo>
                  <a:lnTo>
                    <a:pt x="32" y="48"/>
                  </a:lnTo>
                  <a:lnTo>
                    <a:pt x="96" y="8"/>
                  </a:lnTo>
                  <a:lnTo>
                    <a:pt x="128" y="0"/>
                  </a:lnTo>
                  <a:lnTo>
                    <a:pt x="184" y="16"/>
                  </a:lnTo>
                  <a:lnTo>
                    <a:pt x="216" y="16"/>
                  </a:lnTo>
                  <a:lnTo>
                    <a:pt x="248" y="40"/>
                  </a:lnTo>
                  <a:lnTo>
                    <a:pt x="280" y="88"/>
                  </a:lnTo>
                  <a:lnTo>
                    <a:pt x="296" y="104"/>
                  </a:lnTo>
                  <a:lnTo>
                    <a:pt x="248" y="128"/>
                  </a:lnTo>
                  <a:lnTo>
                    <a:pt x="184" y="152"/>
                  </a:lnTo>
                  <a:lnTo>
                    <a:pt x="120" y="160"/>
                  </a:lnTo>
                  <a:lnTo>
                    <a:pt x="88" y="128"/>
                  </a:lnTo>
                  <a:lnTo>
                    <a:pt x="56" y="112"/>
                  </a:lnTo>
                  <a:lnTo>
                    <a:pt x="8" y="88"/>
                  </a:lnTo>
                  <a:lnTo>
                    <a:pt x="0" y="72"/>
                  </a:lnTo>
                  <a:lnTo>
                    <a:pt x="8" y="64"/>
                  </a:lnTo>
                  <a:lnTo>
                    <a:pt x="8" y="80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697360" y="4483080"/>
              <a:ext cx="482040" cy="520560"/>
            </a:xfrm>
            <a:custGeom>
              <a:avLst/>
              <a:gdLst/>
              <a:ahLst/>
              <a:rect l="l" t="t" r="r" b="b"/>
              <a:pathLst>
                <a:path w="304" h="328">
                  <a:moveTo>
                    <a:pt x="0" y="224"/>
                  </a:moveTo>
                  <a:lnTo>
                    <a:pt x="16" y="176"/>
                  </a:lnTo>
                  <a:lnTo>
                    <a:pt x="48" y="144"/>
                  </a:lnTo>
                  <a:lnTo>
                    <a:pt x="96" y="128"/>
                  </a:lnTo>
                  <a:lnTo>
                    <a:pt x="96" y="104"/>
                  </a:lnTo>
                  <a:lnTo>
                    <a:pt x="128" y="72"/>
                  </a:lnTo>
                  <a:lnTo>
                    <a:pt x="160" y="24"/>
                  </a:lnTo>
                  <a:lnTo>
                    <a:pt x="176" y="0"/>
                  </a:lnTo>
                  <a:lnTo>
                    <a:pt x="240" y="0"/>
                  </a:lnTo>
                  <a:lnTo>
                    <a:pt x="304" y="24"/>
                  </a:lnTo>
                  <a:lnTo>
                    <a:pt x="304" y="72"/>
                  </a:lnTo>
                  <a:lnTo>
                    <a:pt x="288" y="120"/>
                  </a:lnTo>
                  <a:lnTo>
                    <a:pt x="256" y="168"/>
                  </a:lnTo>
                  <a:lnTo>
                    <a:pt x="224" y="216"/>
                  </a:lnTo>
                  <a:lnTo>
                    <a:pt x="192" y="256"/>
                  </a:lnTo>
                  <a:lnTo>
                    <a:pt x="128" y="304"/>
                  </a:lnTo>
                  <a:lnTo>
                    <a:pt x="88" y="328"/>
                  </a:lnTo>
                  <a:lnTo>
                    <a:pt x="64" y="296"/>
                  </a:lnTo>
                  <a:lnTo>
                    <a:pt x="32" y="232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64120" y="4610160"/>
              <a:ext cx="443880" cy="685800"/>
            </a:xfrm>
            <a:custGeom>
              <a:avLst/>
              <a:gdLst/>
              <a:ahLst/>
              <a:rect l="l" t="t" r="r" b="b"/>
              <a:pathLst>
                <a:path w="280" h="432">
                  <a:moveTo>
                    <a:pt x="136" y="24"/>
                  </a:moveTo>
                  <a:lnTo>
                    <a:pt x="176" y="0"/>
                  </a:lnTo>
                  <a:lnTo>
                    <a:pt x="248" y="0"/>
                  </a:lnTo>
                  <a:lnTo>
                    <a:pt x="280" y="32"/>
                  </a:lnTo>
                  <a:lnTo>
                    <a:pt x="248" y="104"/>
                  </a:lnTo>
                  <a:lnTo>
                    <a:pt x="232" y="168"/>
                  </a:lnTo>
                  <a:lnTo>
                    <a:pt x="200" y="200"/>
                  </a:lnTo>
                  <a:lnTo>
                    <a:pt x="240" y="232"/>
                  </a:lnTo>
                  <a:lnTo>
                    <a:pt x="264" y="272"/>
                  </a:lnTo>
                  <a:lnTo>
                    <a:pt x="272" y="312"/>
                  </a:lnTo>
                  <a:lnTo>
                    <a:pt x="224" y="352"/>
                  </a:lnTo>
                  <a:lnTo>
                    <a:pt x="128" y="432"/>
                  </a:lnTo>
                  <a:lnTo>
                    <a:pt x="88" y="432"/>
                  </a:lnTo>
                  <a:lnTo>
                    <a:pt x="32" y="360"/>
                  </a:lnTo>
                  <a:lnTo>
                    <a:pt x="48" y="312"/>
                  </a:lnTo>
                  <a:lnTo>
                    <a:pt x="24" y="264"/>
                  </a:lnTo>
                  <a:lnTo>
                    <a:pt x="0" y="232"/>
                  </a:lnTo>
                  <a:lnTo>
                    <a:pt x="16" y="192"/>
                  </a:lnTo>
                  <a:lnTo>
                    <a:pt x="64" y="136"/>
                  </a:lnTo>
                  <a:lnTo>
                    <a:pt x="128" y="32"/>
                  </a:lnTo>
                  <a:lnTo>
                    <a:pt x="136" y="24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370200" y="4584600"/>
              <a:ext cx="342720" cy="279360"/>
            </a:xfrm>
            <a:custGeom>
              <a:avLst/>
              <a:gdLst/>
              <a:ahLst/>
              <a:rect l="l" t="t" r="r" b="b"/>
              <a:pathLst>
                <a:path w="216" h="176">
                  <a:moveTo>
                    <a:pt x="24" y="72"/>
                  </a:moveTo>
                  <a:lnTo>
                    <a:pt x="56" y="40"/>
                  </a:lnTo>
                  <a:lnTo>
                    <a:pt x="80" y="8"/>
                  </a:lnTo>
                  <a:lnTo>
                    <a:pt x="120" y="0"/>
                  </a:lnTo>
                  <a:lnTo>
                    <a:pt x="176" y="40"/>
                  </a:lnTo>
                  <a:lnTo>
                    <a:pt x="216" y="96"/>
                  </a:lnTo>
                  <a:lnTo>
                    <a:pt x="160" y="160"/>
                  </a:lnTo>
                  <a:lnTo>
                    <a:pt x="104" y="176"/>
                  </a:lnTo>
                  <a:lnTo>
                    <a:pt x="80" y="168"/>
                  </a:lnTo>
                  <a:lnTo>
                    <a:pt x="32" y="168"/>
                  </a:lnTo>
                  <a:lnTo>
                    <a:pt x="0" y="136"/>
                  </a:lnTo>
                  <a:lnTo>
                    <a:pt x="24" y="72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306840" y="4838760"/>
              <a:ext cx="456840" cy="660240"/>
            </a:xfrm>
            <a:custGeom>
              <a:avLst/>
              <a:gdLst/>
              <a:ahLst/>
              <a:rect l="l" t="t" r="r" b="b"/>
              <a:pathLst>
                <a:path w="288" h="416">
                  <a:moveTo>
                    <a:pt x="32" y="0"/>
                  </a:moveTo>
                  <a:lnTo>
                    <a:pt x="56" y="24"/>
                  </a:lnTo>
                  <a:lnTo>
                    <a:pt x="112" y="24"/>
                  </a:lnTo>
                  <a:lnTo>
                    <a:pt x="176" y="80"/>
                  </a:lnTo>
                  <a:lnTo>
                    <a:pt x="184" y="120"/>
                  </a:lnTo>
                  <a:lnTo>
                    <a:pt x="192" y="144"/>
                  </a:lnTo>
                  <a:lnTo>
                    <a:pt x="216" y="184"/>
                  </a:lnTo>
                  <a:lnTo>
                    <a:pt x="272" y="256"/>
                  </a:lnTo>
                  <a:lnTo>
                    <a:pt x="288" y="328"/>
                  </a:lnTo>
                  <a:lnTo>
                    <a:pt x="280" y="352"/>
                  </a:lnTo>
                  <a:lnTo>
                    <a:pt x="232" y="384"/>
                  </a:lnTo>
                  <a:lnTo>
                    <a:pt x="176" y="400"/>
                  </a:lnTo>
                  <a:lnTo>
                    <a:pt x="136" y="416"/>
                  </a:lnTo>
                  <a:lnTo>
                    <a:pt x="96" y="416"/>
                  </a:lnTo>
                  <a:lnTo>
                    <a:pt x="72" y="408"/>
                  </a:lnTo>
                  <a:lnTo>
                    <a:pt x="120" y="344"/>
                  </a:lnTo>
                  <a:lnTo>
                    <a:pt x="120" y="272"/>
                  </a:lnTo>
                  <a:lnTo>
                    <a:pt x="104" y="256"/>
                  </a:lnTo>
                  <a:lnTo>
                    <a:pt x="104" y="224"/>
                  </a:lnTo>
                  <a:lnTo>
                    <a:pt x="72" y="184"/>
                  </a:lnTo>
                  <a:lnTo>
                    <a:pt x="80" y="136"/>
                  </a:lnTo>
                  <a:lnTo>
                    <a:pt x="48" y="88"/>
                  </a:lnTo>
                  <a:lnTo>
                    <a:pt x="0" y="48"/>
                  </a:lnTo>
                  <a:lnTo>
                    <a:pt x="32" y="24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573600" y="4838760"/>
              <a:ext cx="393480" cy="533520"/>
            </a:xfrm>
            <a:custGeom>
              <a:avLst/>
              <a:gdLst/>
              <a:ahLst/>
              <a:rect l="l" t="t" r="r" b="b"/>
              <a:pathLst>
                <a:path w="248" h="336">
                  <a:moveTo>
                    <a:pt x="48" y="0"/>
                  </a:moveTo>
                  <a:lnTo>
                    <a:pt x="64" y="16"/>
                  </a:lnTo>
                  <a:lnTo>
                    <a:pt x="112" y="40"/>
                  </a:lnTo>
                  <a:lnTo>
                    <a:pt x="168" y="104"/>
                  </a:lnTo>
                  <a:lnTo>
                    <a:pt x="160" y="136"/>
                  </a:lnTo>
                  <a:lnTo>
                    <a:pt x="208" y="192"/>
                  </a:lnTo>
                  <a:lnTo>
                    <a:pt x="216" y="216"/>
                  </a:lnTo>
                  <a:lnTo>
                    <a:pt x="248" y="264"/>
                  </a:lnTo>
                  <a:lnTo>
                    <a:pt x="232" y="288"/>
                  </a:lnTo>
                  <a:lnTo>
                    <a:pt x="208" y="320"/>
                  </a:lnTo>
                  <a:lnTo>
                    <a:pt x="200" y="336"/>
                  </a:lnTo>
                  <a:lnTo>
                    <a:pt x="168" y="328"/>
                  </a:lnTo>
                  <a:lnTo>
                    <a:pt x="136" y="296"/>
                  </a:lnTo>
                  <a:lnTo>
                    <a:pt x="128" y="240"/>
                  </a:lnTo>
                  <a:lnTo>
                    <a:pt x="96" y="200"/>
                  </a:lnTo>
                  <a:lnTo>
                    <a:pt x="48" y="152"/>
                  </a:lnTo>
                  <a:lnTo>
                    <a:pt x="56" y="104"/>
                  </a:lnTo>
                  <a:lnTo>
                    <a:pt x="48" y="80"/>
                  </a:lnTo>
                  <a:lnTo>
                    <a:pt x="0" y="40"/>
                  </a:lnTo>
                  <a:lnTo>
                    <a:pt x="16" y="16"/>
                  </a:lnTo>
                  <a:lnTo>
                    <a:pt x="40" y="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80760" y="1968480"/>
              <a:ext cx="444240" cy="406440"/>
            </a:xfrm>
            <a:custGeom>
              <a:avLst/>
              <a:gdLst/>
              <a:ahLst/>
              <a:rect l="l" t="t" r="r" b="b"/>
              <a:pathLst>
                <a:path w="280" h="256">
                  <a:moveTo>
                    <a:pt x="216" y="8"/>
                  </a:moveTo>
                  <a:lnTo>
                    <a:pt x="144" y="8"/>
                  </a:lnTo>
                  <a:lnTo>
                    <a:pt x="72" y="0"/>
                  </a:lnTo>
                  <a:lnTo>
                    <a:pt x="48" y="24"/>
                  </a:lnTo>
                  <a:lnTo>
                    <a:pt x="24" y="48"/>
                  </a:lnTo>
                  <a:lnTo>
                    <a:pt x="0" y="96"/>
                  </a:lnTo>
                  <a:lnTo>
                    <a:pt x="40" y="192"/>
                  </a:lnTo>
                  <a:lnTo>
                    <a:pt x="128" y="240"/>
                  </a:lnTo>
                  <a:lnTo>
                    <a:pt x="184" y="232"/>
                  </a:lnTo>
                  <a:lnTo>
                    <a:pt x="216" y="240"/>
                  </a:lnTo>
                  <a:lnTo>
                    <a:pt x="248" y="248"/>
                  </a:lnTo>
                  <a:lnTo>
                    <a:pt x="264" y="248"/>
                  </a:lnTo>
                  <a:lnTo>
                    <a:pt x="280" y="256"/>
                  </a:lnTo>
                  <a:lnTo>
                    <a:pt x="216" y="8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099800" y="2197080"/>
              <a:ext cx="431640" cy="4572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160" y="0"/>
                  </a:moveTo>
                  <a:lnTo>
                    <a:pt x="24" y="120"/>
                  </a:lnTo>
                  <a:lnTo>
                    <a:pt x="8" y="152"/>
                  </a:lnTo>
                  <a:lnTo>
                    <a:pt x="0" y="208"/>
                  </a:lnTo>
                  <a:lnTo>
                    <a:pt x="16" y="208"/>
                  </a:lnTo>
                  <a:lnTo>
                    <a:pt x="32" y="224"/>
                  </a:lnTo>
                  <a:lnTo>
                    <a:pt x="88" y="288"/>
                  </a:lnTo>
                  <a:lnTo>
                    <a:pt x="112" y="280"/>
                  </a:lnTo>
                  <a:lnTo>
                    <a:pt x="272" y="136"/>
                  </a:lnTo>
                  <a:lnTo>
                    <a:pt x="272" y="120"/>
                  </a:lnTo>
                  <a:lnTo>
                    <a:pt x="200" y="32"/>
                  </a:lnTo>
                  <a:lnTo>
                    <a:pt x="192" y="8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252440" y="2425680"/>
              <a:ext cx="520200" cy="432000"/>
            </a:xfrm>
            <a:custGeom>
              <a:avLst/>
              <a:gdLst/>
              <a:ahLst/>
              <a:rect l="l" t="t" r="r" b="b"/>
              <a:pathLst>
                <a:path w="328" h="272">
                  <a:moveTo>
                    <a:pt x="176" y="0"/>
                  </a:moveTo>
                  <a:lnTo>
                    <a:pt x="240" y="48"/>
                  </a:lnTo>
                  <a:lnTo>
                    <a:pt x="288" y="48"/>
                  </a:lnTo>
                  <a:lnTo>
                    <a:pt x="328" y="88"/>
                  </a:lnTo>
                  <a:lnTo>
                    <a:pt x="312" y="120"/>
                  </a:lnTo>
                  <a:lnTo>
                    <a:pt x="296" y="136"/>
                  </a:lnTo>
                  <a:lnTo>
                    <a:pt x="264" y="152"/>
                  </a:lnTo>
                  <a:lnTo>
                    <a:pt x="184" y="200"/>
                  </a:lnTo>
                  <a:lnTo>
                    <a:pt x="152" y="208"/>
                  </a:lnTo>
                  <a:lnTo>
                    <a:pt x="128" y="224"/>
                  </a:lnTo>
                  <a:lnTo>
                    <a:pt x="56" y="272"/>
                  </a:lnTo>
                  <a:lnTo>
                    <a:pt x="40" y="264"/>
                  </a:lnTo>
                  <a:lnTo>
                    <a:pt x="16" y="224"/>
                  </a:lnTo>
                  <a:lnTo>
                    <a:pt x="0" y="208"/>
                  </a:lnTo>
                  <a:lnTo>
                    <a:pt x="16" y="144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167160" y="5130720"/>
              <a:ext cx="304560" cy="355680"/>
            </a:xfrm>
            <a:custGeom>
              <a:avLst/>
              <a:gdLst/>
              <a:ahLst/>
              <a:rect l="l" t="t" r="r" b="b"/>
              <a:pathLst>
                <a:path w="192" h="224">
                  <a:moveTo>
                    <a:pt x="0" y="120"/>
                  </a:moveTo>
                  <a:lnTo>
                    <a:pt x="8" y="104"/>
                  </a:lnTo>
                  <a:lnTo>
                    <a:pt x="136" y="0"/>
                  </a:lnTo>
                  <a:lnTo>
                    <a:pt x="160" y="24"/>
                  </a:lnTo>
                  <a:lnTo>
                    <a:pt x="184" y="72"/>
                  </a:lnTo>
                  <a:lnTo>
                    <a:pt x="192" y="120"/>
                  </a:lnTo>
                  <a:lnTo>
                    <a:pt x="192" y="160"/>
                  </a:lnTo>
                  <a:lnTo>
                    <a:pt x="152" y="216"/>
                  </a:lnTo>
                  <a:lnTo>
                    <a:pt x="112" y="224"/>
                  </a:lnTo>
                  <a:lnTo>
                    <a:pt x="8" y="136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439560" y="492120"/>
            <a:ext cx="8394840" cy="5803920"/>
          </a:xfrm>
          <a:custGeom>
            <a:avLst/>
            <a:gdLst/>
            <a:ahLst/>
            <a:rect l="l" t="t" r="r" b="b"/>
            <a:pathLst>
              <a:path w="5288" h="3656">
                <a:moveTo>
                  <a:pt x="0" y="976"/>
                </a:moveTo>
                <a:lnTo>
                  <a:pt x="24" y="952"/>
                </a:lnTo>
                <a:lnTo>
                  <a:pt x="88" y="936"/>
                </a:lnTo>
                <a:lnTo>
                  <a:pt x="160" y="864"/>
                </a:lnTo>
                <a:lnTo>
                  <a:pt x="200" y="800"/>
                </a:lnTo>
                <a:lnTo>
                  <a:pt x="248" y="752"/>
                </a:lnTo>
                <a:lnTo>
                  <a:pt x="256" y="720"/>
                </a:lnTo>
                <a:lnTo>
                  <a:pt x="304" y="680"/>
                </a:lnTo>
                <a:lnTo>
                  <a:pt x="328" y="640"/>
                </a:lnTo>
                <a:lnTo>
                  <a:pt x="360" y="600"/>
                </a:lnTo>
                <a:lnTo>
                  <a:pt x="408" y="568"/>
                </a:lnTo>
                <a:lnTo>
                  <a:pt x="432" y="504"/>
                </a:lnTo>
                <a:lnTo>
                  <a:pt x="472" y="504"/>
                </a:lnTo>
                <a:lnTo>
                  <a:pt x="496" y="408"/>
                </a:lnTo>
                <a:lnTo>
                  <a:pt x="496" y="320"/>
                </a:lnTo>
                <a:lnTo>
                  <a:pt x="496" y="256"/>
                </a:lnTo>
                <a:lnTo>
                  <a:pt x="496" y="184"/>
                </a:lnTo>
                <a:lnTo>
                  <a:pt x="544" y="136"/>
                </a:lnTo>
                <a:lnTo>
                  <a:pt x="568" y="96"/>
                </a:lnTo>
                <a:lnTo>
                  <a:pt x="568" y="48"/>
                </a:lnTo>
                <a:lnTo>
                  <a:pt x="632" y="24"/>
                </a:lnTo>
                <a:lnTo>
                  <a:pt x="712" y="48"/>
                </a:lnTo>
                <a:lnTo>
                  <a:pt x="792" y="64"/>
                </a:lnTo>
                <a:lnTo>
                  <a:pt x="856" y="72"/>
                </a:lnTo>
                <a:lnTo>
                  <a:pt x="696" y="16"/>
                </a:lnTo>
                <a:lnTo>
                  <a:pt x="720" y="0"/>
                </a:lnTo>
                <a:lnTo>
                  <a:pt x="784" y="24"/>
                </a:lnTo>
                <a:lnTo>
                  <a:pt x="832" y="48"/>
                </a:lnTo>
                <a:lnTo>
                  <a:pt x="904" y="72"/>
                </a:lnTo>
                <a:lnTo>
                  <a:pt x="944" y="80"/>
                </a:lnTo>
                <a:lnTo>
                  <a:pt x="1016" y="120"/>
                </a:lnTo>
                <a:lnTo>
                  <a:pt x="1104" y="184"/>
                </a:lnTo>
                <a:lnTo>
                  <a:pt x="1224" y="232"/>
                </a:lnTo>
                <a:lnTo>
                  <a:pt x="1264" y="256"/>
                </a:lnTo>
                <a:lnTo>
                  <a:pt x="1336" y="288"/>
                </a:lnTo>
                <a:lnTo>
                  <a:pt x="1384" y="296"/>
                </a:lnTo>
                <a:lnTo>
                  <a:pt x="1472" y="360"/>
                </a:lnTo>
                <a:lnTo>
                  <a:pt x="1520" y="368"/>
                </a:lnTo>
                <a:lnTo>
                  <a:pt x="1632" y="392"/>
                </a:lnTo>
                <a:lnTo>
                  <a:pt x="1696" y="408"/>
                </a:lnTo>
                <a:lnTo>
                  <a:pt x="1720" y="408"/>
                </a:lnTo>
                <a:lnTo>
                  <a:pt x="1816" y="456"/>
                </a:lnTo>
                <a:lnTo>
                  <a:pt x="1880" y="456"/>
                </a:lnTo>
                <a:lnTo>
                  <a:pt x="1992" y="504"/>
                </a:lnTo>
                <a:lnTo>
                  <a:pt x="2040" y="480"/>
                </a:lnTo>
                <a:lnTo>
                  <a:pt x="2088" y="480"/>
                </a:lnTo>
                <a:lnTo>
                  <a:pt x="2176" y="528"/>
                </a:lnTo>
                <a:lnTo>
                  <a:pt x="2288" y="528"/>
                </a:lnTo>
                <a:lnTo>
                  <a:pt x="2312" y="568"/>
                </a:lnTo>
                <a:lnTo>
                  <a:pt x="2376" y="616"/>
                </a:lnTo>
                <a:lnTo>
                  <a:pt x="2472" y="616"/>
                </a:lnTo>
                <a:lnTo>
                  <a:pt x="2536" y="664"/>
                </a:lnTo>
                <a:lnTo>
                  <a:pt x="2632" y="680"/>
                </a:lnTo>
                <a:lnTo>
                  <a:pt x="2720" y="752"/>
                </a:lnTo>
                <a:lnTo>
                  <a:pt x="2744" y="800"/>
                </a:lnTo>
                <a:lnTo>
                  <a:pt x="2744" y="816"/>
                </a:lnTo>
                <a:lnTo>
                  <a:pt x="2808" y="816"/>
                </a:lnTo>
                <a:lnTo>
                  <a:pt x="2880" y="888"/>
                </a:lnTo>
                <a:lnTo>
                  <a:pt x="2944" y="936"/>
                </a:lnTo>
                <a:lnTo>
                  <a:pt x="3016" y="952"/>
                </a:lnTo>
                <a:lnTo>
                  <a:pt x="3040" y="1000"/>
                </a:lnTo>
                <a:lnTo>
                  <a:pt x="3128" y="1072"/>
                </a:lnTo>
                <a:lnTo>
                  <a:pt x="3192" y="1112"/>
                </a:lnTo>
                <a:lnTo>
                  <a:pt x="3264" y="1160"/>
                </a:lnTo>
                <a:lnTo>
                  <a:pt x="3264" y="1208"/>
                </a:lnTo>
                <a:lnTo>
                  <a:pt x="3240" y="1224"/>
                </a:lnTo>
                <a:lnTo>
                  <a:pt x="3352" y="1248"/>
                </a:lnTo>
                <a:lnTo>
                  <a:pt x="3376" y="1296"/>
                </a:lnTo>
                <a:lnTo>
                  <a:pt x="3448" y="1360"/>
                </a:lnTo>
                <a:lnTo>
                  <a:pt x="3488" y="1384"/>
                </a:lnTo>
                <a:lnTo>
                  <a:pt x="3512" y="1432"/>
                </a:lnTo>
                <a:lnTo>
                  <a:pt x="3560" y="1456"/>
                </a:lnTo>
                <a:lnTo>
                  <a:pt x="3648" y="1496"/>
                </a:lnTo>
                <a:lnTo>
                  <a:pt x="3720" y="1592"/>
                </a:lnTo>
                <a:lnTo>
                  <a:pt x="3784" y="1656"/>
                </a:lnTo>
                <a:lnTo>
                  <a:pt x="3840" y="1672"/>
                </a:lnTo>
                <a:lnTo>
                  <a:pt x="3816" y="1704"/>
                </a:lnTo>
                <a:lnTo>
                  <a:pt x="3776" y="1728"/>
                </a:lnTo>
                <a:lnTo>
                  <a:pt x="3720" y="1736"/>
                </a:lnTo>
                <a:lnTo>
                  <a:pt x="3768" y="1744"/>
                </a:lnTo>
                <a:lnTo>
                  <a:pt x="3760" y="1760"/>
                </a:lnTo>
                <a:lnTo>
                  <a:pt x="3856" y="1704"/>
                </a:lnTo>
                <a:lnTo>
                  <a:pt x="3872" y="1664"/>
                </a:lnTo>
                <a:lnTo>
                  <a:pt x="3896" y="1656"/>
                </a:lnTo>
                <a:lnTo>
                  <a:pt x="3984" y="1656"/>
                </a:lnTo>
                <a:lnTo>
                  <a:pt x="4032" y="1728"/>
                </a:lnTo>
                <a:lnTo>
                  <a:pt x="4048" y="1784"/>
                </a:lnTo>
                <a:lnTo>
                  <a:pt x="4016" y="1832"/>
                </a:lnTo>
                <a:lnTo>
                  <a:pt x="3968" y="1848"/>
                </a:lnTo>
                <a:lnTo>
                  <a:pt x="4016" y="1856"/>
                </a:lnTo>
                <a:lnTo>
                  <a:pt x="4064" y="1808"/>
                </a:lnTo>
                <a:lnTo>
                  <a:pt x="4104" y="1792"/>
                </a:lnTo>
                <a:lnTo>
                  <a:pt x="4144" y="1840"/>
                </a:lnTo>
                <a:lnTo>
                  <a:pt x="4168" y="1816"/>
                </a:lnTo>
                <a:lnTo>
                  <a:pt x="4216" y="1864"/>
                </a:lnTo>
                <a:lnTo>
                  <a:pt x="4240" y="1928"/>
                </a:lnTo>
                <a:lnTo>
                  <a:pt x="4264" y="1952"/>
                </a:lnTo>
                <a:lnTo>
                  <a:pt x="4328" y="2000"/>
                </a:lnTo>
                <a:lnTo>
                  <a:pt x="4376" y="2040"/>
                </a:lnTo>
                <a:lnTo>
                  <a:pt x="4416" y="2064"/>
                </a:lnTo>
                <a:lnTo>
                  <a:pt x="4536" y="2160"/>
                </a:lnTo>
                <a:lnTo>
                  <a:pt x="4552" y="2208"/>
                </a:lnTo>
                <a:lnTo>
                  <a:pt x="4560" y="2264"/>
                </a:lnTo>
                <a:lnTo>
                  <a:pt x="4576" y="2328"/>
                </a:lnTo>
                <a:lnTo>
                  <a:pt x="4592" y="2336"/>
                </a:lnTo>
                <a:lnTo>
                  <a:pt x="4608" y="2408"/>
                </a:lnTo>
                <a:lnTo>
                  <a:pt x="4632" y="2496"/>
                </a:lnTo>
                <a:lnTo>
                  <a:pt x="4648" y="2640"/>
                </a:lnTo>
                <a:lnTo>
                  <a:pt x="4640" y="2728"/>
                </a:lnTo>
                <a:lnTo>
                  <a:pt x="4576" y="2792"/>
                </a:lnTo>
                <a:lnTo>
                  <a:pt x="4480" y="2856"/>
                </a:lnTo>
                <a:lnTo>
                  <a:pt x="4592" y="2808"/>
                </a:lnTo>
                <a:lnTo>
                  <a:pt x="4648" y="2760"/>
                </a:lnTo>
                <a:lnTo>
                  <a:pt x="4688" y="2720"/>
                </a:lnTo>
                <a:lnTo>
                  <a:pt x="4704" y="2656"/>
                </a:lnTo>
                <a:lnTo>
                  <a:pt x="4688" y="2584"/>
                </a:lnTo>
                <a:lnTo>
                  <a:pt x="4680" y="2528"/>
                </a:lnTo>
                <a:lnTo>
                  <a:pt x="4688" y="2448"/>
                </a:lnTo>
                <a:lnTo>
                  <a:pt x="4696" y="2288"/>
                </a:lnTo>
                <a:lnTo>
                  <a:pt x="4696" y="2264"/>
                </a:lnTo>
                <a:lnTo>
                  <a:pt x="4720" y="2224"/>
                </a:lnTo>
                <a:lnTo>
                  <a:pt x="4848" y="2224"/>
                </a:lnTo>
                <a:lnTo>
                  <a:pt x="4944" y="2336"/>
                </a:lnTo>
                <a:lnTo>
                  <a:pt x="5008" y="2408"/>
                </a:lnTo>
                <a:lnTo>
                  <a:pt x="5032" y="2472"/>
                </a:lnTo>
                <a:lnTo>
                  <a:pt x="5032" y="2608"/>
                </a:lnTo>
                <a:lnTo>
                  <a:pt x="5080" y="2656"/>
                </a:lnTo>
                <a:lnTo>
                  <a:pt x="5056" y="2680"/>
                </a:lnTo>
                <a:lnTo>
                  <a:pt x="5104" y="2744"/>
                </a:lnTo>
                <a:lnTo>
                  <a:pt x="5168" y="2792"/>
                </a:lnTo>
                <a:lnTo>
                  <a:pt x="5120" y="2840"/>
                </a:lnTo>
                <a:lnTo>
                  <a:pt x="5120" y="2904"/>
                </a:lnTo>
                <a:lnTo>
                  <a:pt x="5168" y="3000"/>
                </a:lnTo>
                <a:lnTo>
                  <a:pt x="5240" y="3064"/>
                </a:lnTo>
                <a:lnTo>
                  <a:pt x="5264" y="3112"/>
                </a:lnTo>
                <a:lnTo>
                  <a:pt x="5288" y="3136"/>
                </a:lnTo>
                <a:lnTo>
                  <a:pt x="5248" y="3256"/>
                </a:lnTo>
                <a:lnTo>
                  <a:pt x="5224" y="3352"/>
                </a:lnTo>
                <a:lnTo>
                  <a:pt x="5224" y="3400"/>
                </a:lnTo>
                <a:lnTo>
                  <a:pt x="5216" y="3424"/>
                </a:lnTo>
                <a:lnTo>
                  <a:pt x="5184" y="3456"/>
                </a:lnTo>
                <a:lnTo>
                  <a:pt x="5136" y="3480"/>
                </a:lnTo>
                <a:lnTo>
                  <a:pt x="5056" y="3520"/>
                </a:lnTo>
                <a:lnTo>
                  <a:pt x="5000" y="3592"/>
                </a:lnTo>
                <a:lnTo>
                  <a:pt x="4984" y="3624"/>
                </a:lnTo>
                <a:lnTo>
                  <a:pt x="4984" y="365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085240" y="6041880"/>
            <a:ext cx="520560" cy="736920"/>
          </a:xfrm>
          <a:custGeom>
            <a:avLst/>
            <a:gdLst/>
            <a:ahLst/>
            <a:rect l="l" t="t" r="r" b="b"/>
            <a:pathLst>
              <a:path w="328" h="464">
                <a:moveTo>
                  <a:pt x="328" y="0"/>
                </a:moveTo>
                <a:lnTo>
                  <a:pt x="256" y="48"/>
                </a:lnTo>
                <a:lnTo>
                  <a:pt x="240" y="64"/>
                </a:lnTo>
                <a:lnTo>
                  <a:pt x="216" y="96"/>
                </a:lnTo>
                <a:lnTo>
                  <a:pt x="184" y="144"/>
                </a:lnTo>
                <a:lnTo>
                  <a:pt x="184" y="192"/>
                </a:lnTo>
                <a:lnTo>
                  <a:pt x="184" y="240"/>
                </a:lnTo>
                <a:lnTo>
                  <a:pt x="152" y="280"/>
                </a:lnTo>
                <a:lnTo>
                  <a:pt x="120" y="320"/>
                </a:lnTo>
                <a:lnTo>
                  <a:pt x="64" y="368"/>
                </a:lnTo>
                <a:lnTo>
                  <a:pt x="24" y="416"/>
                </a:lnTo>
                <a:lnTo>
                  <a:pt x="0" y="464"/>
                </a:lnTo>
              </a:path>
            </a:pathLst>
          </a:custGeom>
          <a:noFill/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8084880" y="6778800"/>
            <a:ext cx="12600" cy="1440"/>
          </a:xfrm>
          <a:prstGeom prst="line">
            <a:avLst/>
          </a:prstGeom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748480" y="5038560"/>
            <a:ext cx="1854000" cy="1587600"/>
          </a:xfrm>
          <a:custGeom>
            <a:avLst/>
            <a:gdLst/>
            <a:ahLst/>
            <a:rect l="l" t="t" r="r" b="b"/>
            <a:pathLst>
              <a:path w="1168" h="1000">
                <a:moveTo>
                  <a:pt x="1168" y="0"/>
                </a:moveTo>
                <a:lnTo>
                  <a:pt x="1136" y="16"/>
                </a:lnTo>
                <a:lnTo>
                  <a:pt x="1112" y="32"/>
                </a:lnTo>
                <a:lnTo>
                  <a:pt x="1032" y="32"/>
                </a:lnTo>
                <a:lnTo>
                  <a:pt x="1016" y="16"/>
                </a:lnTo>
                <a:lnTo>
                  <a:pt x="1008" y="16"/>
                </a:lnTo>
                <a:lnTo>
                  <a:pt x="960" y="24"/>
                </a:lnTo>
                <a:lnTo>
                  <a:pt x="960" y="56"/>
                </a:lnTo>
                <a:lnTo>
                  <a:pt x="936" y="96"/>
                </a:lnTo>
                <a:lnTo>
                  <a:pt x="912" y="128"/>
                </a:lnTo>
                <a:lnTo>
                  <a:pt x="880" y="136"/>
                </a:lnTo>
                <a:lnTo>
                  <a:pt x="848" y="136"/>
                </a:lnTo>
                <a:lnTo>
                  <a:pt x="824" y="136"/>
                </a:lnTo>
                <a:lnTo>
                  <a:pt x="808" y="152"/>
                </a:lnTo>
                <a:lnTo>
                  <a:pt x="792" y="152"/>
                </a:lnTo>
                <a:lnTo>
                  <a:pt x="784" y="168"/>
                </a:lnTo>
                <a:lnTo>
                  <a:pt x="776" y="192"/>
                </a:lnTo>
                <a:lnTo>
                  <a:pt x="752" y="200"/>
                </a:lnTo>
                <a:lnTo>
                  <a:pt x="728" y="208"/>
                </a:lnTo>
                <a:lnTo>
                  <a:pt x="720" y="216"/>
                </a:lnTo>
                <a:lnTo>
                  <a:pt x="712" y="216"/>
                </a:lnTo>
                <a:lnTo>
                  <a:pt x="704" y="200"/>
                </a:lnTo>
                <a:lnTo>
                  <a:pt x="704" y="192"/>
                </a:lnTo>
                <a:lnTo>
                  <a:pt x="688" y="200"/>
                </a:lnTo>
                <a:lnTo>
                  <a:pt x="688" y="216"/>
                </a:lnTo>
                <a:lnTo>
                  <a:pt x="680" y="232"/>
                </a:lnTo>
                <a:lnTo>
                  <a:pt x="680" y="256"/>
                </a:lnTo>
                <a:lnTo>
                  <a:pt x="648" y="280"/>
                </a:lnTo>
                <a:lnTo>
                  <a:pt x="616" y="280"/>
                </a:lnTo>
                <a:lnTo>
                  <a:pt x="592" y="288"/>
                </a:lnTo>
                <a:lnTo>
                  <a:pt x="576" y="304"/>
                </a:lnTo>
                <a:lnTo>
                  <a:pt x="568" y="320"/>
                </a:lnTo>
                <a:lnTo>
                  <a:pt x="488" y="328"/>
                </a:lnTo>
                <a:lnTo>
                  <a:pt x="464" y="296"/>
                </a:lnTo>
                <a:lnTo>
                  <a:pt x="440" y="312"/>
                </a:lnTo>
                <a:lnTo>
                  <a:pt x="416" y="320"/>
                </a:lnTo>
                <a:lnTo>
                  <a:pt x="408" y="352"/>
                </a:lnTo>
                <a:lnTo>
                  <a:pt x="416" y="368"/>
                </a:lnTo>
                <a:lnTo>
                  <a:pt x="440" y="384"/>
                </a:lnTo>
                <a:lnTo>
                  <a:pt x="456" y="400"/>
                </a:lnTo>
                <a:lnTo>
                  <a:pt x="464" y="424"/>
                </a:lnTo>
                <a:lnTo>
                  <a:pt x="456" y="440"/>
                </a:lnTo>
                <a:lnTo>
                  <a:pt x="440" y="440"/>
                </a:lnTo>
                <a:lnTo>
                  <a:pt x="424" y="448"/>
                </a:lnTo>
                <a:lnTo>
                  <a:pt x="416" y="464"/>
                </a:lnTo>
                <a:lnTo>
                  <a:pt x="408" y="472"/>
                </a:lnTo>
                <a:lnTo>
                  <a:pt x="392" y="472"/>
                </a:lnTo>
                <a:lnTo>
                  <a:pt x="376" y="464"/>
                </a:lnTo>
                <a:lnTo>
                  <a:pt x="360" y="472"/>
                </a:lnTo>
                <a:lnTo>
                  <a:pt x="344" y="496"/>
                </a:lnTo>
                <a:lnTo>
                  <a:pt x="320" y="504"/>
                </a:lnTo>
                <a:lnTo>
                  <a:pt x="296" y="520"/>
                </a:lnTo>
                <a:lnTo>
                  <a:pt x="280" y="544"/>
                </a:lnTo>
                <a:lnTo>
                  <a:pt x="264" y="576"/>
                </a:lnTo>
                <a:lnTo>
                  <a:pt x="232" y="584"/>
                </a:lnTo>
                <a:lnTo>
                  <a:pt x="200" y="592"/>
                </a:lnTo>
                <a:lnTo>
                  <a:pt x="152" y="616"/>
                </a:lnTo>
                <a:lnTo>
                  <a:pt x="112" y="616"/>
                </a:lnTo>
                <a:lnTo>
                  <a:pt x="88" y="624"/>
                </a:lnTo>
                <a:lnTo>
                  <a:pt x="80" y="664"/>
                </a:lnTo>
                <a:lnTo>
                  <a:pt x="88" y="688"/>
                </a:lnTo>
                <a:lnTo>
                  <a:pt x="88" y="720"/>
                </a:lnTo>
                <a:lnTo>
                  <a:pt x="80" y="736"/>
                </a:lnTo>
                <a:lnTo>
                  <a:pt x="72" y="752"/>
                </a:lnTo>
                <a:lnTo>
                  <a:pt x="72" y="776"/>
                </a:lnTo>
                <a:lnTo>
                  <a:pt x="80" y="808"/>
                </a:lnTo>
                <a:lnTo>
                  <a:pt x="64" y="848"/>
                </a:lnTo>
                <a:lnTo>
                  <a:pt x="40" y="856"/>
                </a:lnTo>
                <a:lnTo>
                  <a:pt x="24" y="872"/>
                </a:lnTo>
                <a:lnTo>
                  <a:pt x="32" y="920"/>
                </a:lnTo>
                <a:lnTo>
                  <a:pt x="40" y="944"/>
                </a:lnTo>
                <a:lnTo>
                  <a:pt x="16" y="976"/>
                </a:lnTo>
                <a:lnTo>
                  <a:pt x="0" y="984"/>
                </a:lnTo>
                <a:lnTo>
                  <a:pt x="0" y="1000"/>
                </a:lnTo>
              </a:path>
            </a:pathLst>
          </a:custGeom>
          <a:noFill/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 flipV="1">
            <a:off x="5748120" y="6625800"/>
            <a:ext cx="12600" cy="12600"/>
          </a:xfrm>
          <a:prstGeom prst="line">
            <a:avLst/>
          </a:prstGeom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087880" y="3349800"/>
            <a:ext cx="1816200" cy="2273040"/>
          </a:xfrm>
          <a:custGeom>
            <a:avLst/>
            <a:gdLst/>
            <a:ahLst/>
            <a:rect l="l" t="t" r="r" b="b"/>
            <a:pathLst>
              <a:path w="1144" h="1432">
                <a:moveTo>
                  <a:pt x="1144" y="0"/>
                </a:moveTo>
                <a:lnTo>
                  <a:pt x="1128" y="40"/>
                </a:lnTo>
                <a:lnTo>
                  <a:pt x="1096" y="48"/>
                </a:lnTo>
                <a:lnTo>
                  <a:pt x="1064" y="56"/>
                </a:lnTo>
                <a:lnTo>
                  <a:pt x="1048" y="64"/>
                </a:lnTo>
                <a:lnTo>
                  <a:pt x="1032" y="88"/>
                </a:lnTo>
                <a:lnTo>
                  <a:pt x="1024" y="120"/>
                </a:lnTo>
                <a:lnTo>
                  <a:pt x="1024" y="168"/>
                </a:lnTo>
                <a:lnTo>
                  <a:pt x="992" y="232"/>
                </a:lnTo>
                <a:lnTo>
                  <a:pt x="984" y="256"/>
                </a:lnTo>
                <a:lnTo>
                  <a:pt x="952" y="272"/>
                </a:lnTo>
                <a:lnTo>
                  <a:pt x="960" y="296"/>
                </a:lnTo>
                <a:lnTo>
                  <a:pt x="960" y="336"/>
                </a:lnTo>
                <a:lnTo>
                  <a:pt x="968" y="360"/>
                </a:lnTo>
                <a:lnTo>
                  <a:pt x="960" y="400"/>
                </a:lnTo>
                <a:lnTo>
                  <a:pt x="952" y="440"/>
                </a:lnTo>
                <a:lnTo>
                  <a:pt x="952" y="440"/>
                </a:lnTo>
                <a:lnTo>
                  <a:pt x="936" y="432"/>
                </a:lnTo>
                <a:lnTo>
                  <a:pt x="928" y="416"/>
                </a:lnTo>
                <a:lnTo>
                  <a:pt x="904" y="432"/>
                </a:lnTo>
                <a:lnTo>
                  <a:pt x="880" y="440"/>
                </a:lnTo>
                <a:lnTo>
                  <a:pt x="856" y="456"/>
                </a:lnTo>
                <a:lnTo>
                  <a:pt x="840" y="480"/>
                </a:lnTo>
                <a:lnTo>
                  <a:pt x="816" y="480"/>
                </a:lnTo>
                <a:lnTo>
                  <a:pt x="816" y="464"/>
                </a:lnTo>
                <a:lnTo>
                  <a:pt x="816" y="456"/>
                </a:lnTo>
                <a:lnTo>
                  <a:pt x="784" y="472"/>
                </a:lnTo>
                <a:lnTo>
                  <a:pt x="776" y="488"/>
                </a:lnTo>
                <a:lnTo>
                  <a:pt x="768" y="504"/>
                </a:lnTo>
                <a:lnTo>
                  <a:pt x="752" y="504"/>
                </a:lnTo>
                <a:lnTo>
                  <a:pt x="736" y="504"/>
                </a:lnTo>
                <a:lnTo>
                  <a:pt x="720" y="536"/>
                </a:lnTo>
                <a:lnTo>
                  <a:pt x="696" y="568"/>
                </a:lnTo>
                <a:lnTo>
                  <a:pt x="680" y="592"/>
                </a:lnTo>
                <a:lnTo>
                  <a:pt x="640" y="608"/>
                </a:lnTo>
                <a:lnTo>
                  <a:pt x="624" y="632"/>
                </a:lnTo>
                <a:lnTo>
                  <a:pt x="608" y="656"/>
                </a:lnTo>
                <a:lnTo>
                  <a:pt x="592" y="672"/>
                </a:lnTo>
                <a:lnTo>
                  <a:pt x="584" y="688"/>
                </a:lnTo>
                <a:lnTo>
                  <a:pt x="592" y="704"/>
                </a:lnTo>
                <a:lnTo>
                  <a:pt x="600" y="712"/>
                </a:lnTo>
                <a:lnTo>
                  <a:pt x="608" y="728"/>
                </a:lnTo>
                <a:lnTo>
                  <a:pt x="600" y="744"/>
                </a:lnTo>
                <a:lnTo>
                  <a:pt x="584" y="760"/>
                </a:lnTo>
                <a:lnTo>
                  <a:pt x="568" y="792"/>
                </a:lnTo>
                <a:lnTo>
                  <a:pt x="552" y="808"/>
                </a:lnTo>
                <a:lnTo>
                  <a:pt x="536" y="832"/>
                </a:lnTo>
                <a:lnTo>
                  <a:pt x="528" y="848"/>
                </a:lnTo>
                <a:lnTo>
                  <a:pt x="496" y="880"/>
                </a:lnTo>
                <a:lnTo>
                  <a:pt x="448" y="896"/>
                </a:lnTo>
                <a:lnTo>
                  <a:pt x="432" y="928"/>
                </a:lnTo>
                <a:lnTo>
                  <a:pt x="440" y="936"/>
                </a:lnTo>
                <a:lnTo>
                  <a:pt x="448" y="944"/>
                </a:lnTo>
                <a:lnTo>
                  <a:pt x="464" y="960"/>
                </a:lnTo>
                <a:lnTo>
                  <a:pt x="472" y="968"/>
                </a:lnTo>
                <a:lnTo>
                  <a:pt x="480" y="984"/>
                </a:lnTo>
                <a:lnTo>
                  <a:pt x="464" y="1016"/>
                </a:lnTo>
                <a:lnTo>
                  <a:pt x="448" y="1032"/>
                </a:lnTo>
                <a:lnTo>
                  <a:pt x="440" y="1056"/>
                </a:lnTo>
                <a:lnTo>
                  <a:pt x="440" y="1080"/>
                </a:lnTo>
                <a:lnTo>
                  <a:pt x="424" y="1096"/>
                </a:lnTo>
                <a:lnTo>
                  <a:pt x="416" y="1112"/>
                </a:lnTo>
                <a:lnTo>
                  <a:pt x="392" y="1128"/>
                </a:lnTo>
                <a:lnTo>
                  <a:pt x="384" y="1160"/>
                </a:lnTo>
                <a:lnTo>
                  <a:pt x="392" y="1168"/>
                </a:lnTo>
                <a:lnTo>
                  <a:pt x="400" y="1176"/>
                </a:lnTo>
                <a:lnTo>
                  <a:pt x="384" y="1192"/>
                </a:lnTo>
                <a:lnTo>
                  <a:pt x="368" y="1192"/>
                </a:lnTo>
                <a:lnTo>
                  <a:pt x="360" y="1192"/>
                </a:lnTo>
                <a:lnTo>
                  <a:pt x="320" y="1208"/>
                </a:lnTo>
                <a:lnTo>
                  <a:pt x="304" y="1208"/>
                </a:lnTo>
                <a:lnTo>
                  <a:pt x="288" y="1224"/>
                </a:lnTo>
                <a:lnTo>
                  <a:pt x="296" y="1232"/>
                </a:lnTo>
                <a:lnTo>
                  <a:pt x="296" y="1248"/>
                </a:lnTo>
                <a:lnTo>
                  <a:pt x="264" y="1256"/>
                </a:lnTo>
                <a:lnTo>
                  <a:pt x="240" y="1256"/>
                </a:lnTo>
                <a:lnTo>
                  <a:pt x="208" y="1288"/>
                </a:lnTo>
                <a:lnTo>
                  <a:pt x="192" y="1320"/>
                </a:lnTo>
                <a:lnTo>
                  <a:pt x="176" y="1336"/>
                </a:lnTo>
                <a:lnTo>
                  <a:pt x="152" y="1352"/>
                </a:lnTo>
                <a:lnTo>
                  <a:pt x="128" y="1384"/>
                </a:lnTo>
                <a:lnTo>
                  <a:pt x="120" y="1408"/>
                </a:lnTo>
                <a:lnTo>
                  <a:pt x="112" y="1424"/>
                </a:lnTo>
                <a:lnTo>
                  <a:pt x="56" y="1432"/>
                </a:lnTo>
                <a:lnTo>
                  <a:pt x="24" y="1416"/>
                </a:lnTo>
                <a:lnTo>
                  <a:pt x="0" y="1392"/>
                </a:lnTo>
              </a:path>
            </a:pathLst>
          </a:custGeom>
          <a:noFill/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5087520" y="5559480"/>
            <a:ext cx="12600" cy="1440"/>
          </a:xfrm>
          <a:prstGeom prst="line">
            <a:avLst/>
          </a:prstGeom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944880" y="1533600"/>
            <a:ext cx="914400" cy="4788000"/>
          </a:xfrm>
          <a:custGeom>
            <a:avLst/>
            <a:gdLst/>
            <a:ahLst/>
            <a:rect l="l" t="t" r="r" b="b"/>
            <a:pathLst>
              <a:path w="576" h="3016">
                <a:moveTo>
                  <a:pt x="320" y="0"/>
                </a:moveTo>
                <a:lnTo>
                  <a:pt x="360" y="40"/>
                </a:lnTo>
                <a:lnTo>
                  <a:pt x="376" y="40"/>
                </a:lnTo>
                <a:lnTo>
                  <a:pt x="392" y="56"/>
                </a:lnTo>
                <a:lnTo>
                  <a:pt x="408" y="88"/>
                </a:lnTo>
                <a:lnTo>
                  <a:pt x="392" y="112"/>
                </a:lnTo>
                <a:lnTo>
                  <a:pt x="392" y="128"/>
                </a:lnTo>
                <a:lnTo>
                  <a:pt x="400" y="136"/>
                </a:lnTo>
                <a:lnTo>
                  <a:pt x="408" y="152"/>
                </a:lnTo>
                <a:lnTo>
                  <a:pt x="392" y="160"/>
                </a:lnTo>
                <a:lnTo>
                  <a:pt x="384" y="176"/>
                </a:lnTo>
                <a:lnTo>
                  <a:pt x="400" y="176"/>
                </a:lnTo>
                <a:lnTo>
                  <a:pt x="416" y="184"/>
                </a:lnTo>
                <a:lnTo>
                  <a:pt x="416" y="200"/>
                </a:lnTo>
                <a:lnTo>
                  <a:pt x="408" y="224"/>
                </a:lnTo>
                <a:lnTo>
                  <a:pt x="408" y="248"/>
                </a:lnTo>
                <a:lnTo>
                  <a:pt x="408" y="280"/>
                </a:lnTo>
                <a:lnTo>
                  <a:pt x="400" y="328"/>
                </a:lnTo>
                <a:lnTo>
                  <a:pt x="400" y="352"/>
                </a:lnTo>
                <a:lnTo>
                  <a:pt x="392" y="384"/>
                </a:lnTo>
                <a:lnTo>
                  <a:pt x="384" y="408"/>
                </a:lnTo>
                <a:lnTo>
                  <a:pt x="384" y="440"/>
                </a:lnTo>
                <a:lnTo>
                  <a:pt x="400" y="456"/>
                </a:lnTo>
                <a:lnTo>
                  <a:pt x="408" y="472"/>
                </a:lnTo>
                <a:lnTo>
                  <a:pt x="392" y="488"/>
                </a:lnTo>
                <a:lnTo>
                  <a:pt x="376" y="488"/>
                </a:lnTo>
                <a:lnTo>
                  <a:pt x="368" y="496"/>
                </a:lnTo>
                <a:lnTo>
                  <a:pt x="352" y="536"/>
                </a:lnTo>
                <a:lnTo>
                  <a:pt x="328" y="560"/>
                </a:lnTo>
                <a:lnTo>
                  <a:pt x="296" y="560"/>
                </a:lnTo>
                <a:lnTo>
                  <a:pt x="264" y="560"/>
                </a:lnTo>
                <a:lnTo>
                  <a:pt x="232" y="592"/>
                </a:lnTo>
                <a:lnTo>
                  <a:pt x="224" y="640"/>
                </a:lnTo>
                <a:lnTo>
                  <a:pt x="232" y="656"/>
                </a:lnTo>
                <a:lnTo>
                  <a:pt x="248" y="664"/>
                </a:lnTo>
                <a:lnTo>
                  <a:pt x="232" y="720"/>
                </a:lnTo>
                <a:lnTo>
                  <a:pt x="208" y="720"/>
                </a:lnTo>
                <a:lnTo>
                  <a:pt x="192" y="736"/>
                </a:lnTo>
                <a:lnTo>
                  <a:pt x="200" y="752"/>
                </a:lnTo>
                <a:lnTo>
                  <a:pt x="224" y="760"/>
                </a:lnTo>
                <a:lnTo>
                  <a:pt x="248" y="792"/>
                </a:lnTo>
                <a:lnTo>
                  <a:pt x="248" y="808"/>
                </a:lnTo>
                <a:lnTo>
                  <a:pt x="248" y="824"/>
                </a:lnTo>
                <a:lnTo>
                  <a:pt x="264" y="848"/>
                </a:lnTo>
                <a:lnTo>
                  <a:pt x="280" y="864"/>
                </a:lnTo>
                <a:lnTo>
                  <a:pt x="288" y="912"/>
                </a:lnTo>
                <a:lnTo>
                  <a:pt x="264" y="928"/>
                </a:lnTo>
                <a:lnTo>
                  <a:pt x="256" y="944"/>
                </a:lnTo>
                <a:lnTo>
                  <a:pt x="264" y="960"/>
                </a:lnTo>
                <a:lnTo>
                  <a:pt x="280" y="968"/>
                </a:lnTo>
                <a:lnTo>
                  <a:pt x="288" y="992"/>
                </a:lnTo>
                <a:lnTo>
                  <a:pt x="256" y="1000"/>
                </a:lnTo>
                <a:lnTo>
                  <a:pt x="240" y="1000"/>
                </a:lnTo>
                <a:lnTo>
                  <a:pt x="232" y="1016"/>
                </a:lnTo>
                <a:lnTo>
                  <a:pt x="264" y="1024"/>
                </a:lnTo>
                <a:lnTo>
                  <a:pt x="288" y="1032"/>
                </a:lnTo>
                <a:lnTo>
                  <a:pt x="312" y="1048"/>
                </a:lnTo>
                <a:lnTo>
                  <a:pt x="336" y="1096"/>
                </a:lnTo>
                <a:lnTo>
                  <a:pt x="336" y="1104"/>
                </a:lnTo>
                <a:lnTo>
                  <a:pt x="344" y="1136"/>
                </a:lnTo>
                <a:lnTo>
                  <a:pt x="376" y="1152"/>
                </a:lnTo>
                <a:lnTo>
                  <a:pt x="392" y="1136"/>
                </a:lnTo>
                <a:lnTo>
                  <a:pt x="416" y="1136"/>
                </a:lnTo>
                <a:lnTo>
                  <a:pt x="424" y="1144"/>
                </a:lnTo>
                <a:lnTo>
                  <a:pt x="424" y="1168"/>
                </a:lnTo>
                <a:lnTo>
                  <a:pt x="440" y="1184"/>
                </a:lnTo>
                <a:lnTo>
                  <a:pt x="448" y="1192"/>
                </a:lnTo>
                <a:lnTo>
                  <a:pt x="456" y="1208"/>
                </a:lnTo>
                <a:lnTo>
                  <a:pt x="464" y="1248"/>
                </a:lnTo>
                <a:lnTo>
                  <a:pt x="472" y="1288"/>
                </a:lnTo>
                <a:lnTo>
                  <a:pt x="464" y="1312"/>
                </a:lnTo>
                <a:lnTo>
                  <a:pt x="448" y="1320"/>
                </a:lnTo>
                <a:lnTo>
                  <a:pt x="432" y="1320"/>
                </a:lnTo>
                <a:lnTo>
                  <a:pt x="416" y="1320"/>
                </a:lnTo>
                <a:lnTo>
                  <a:pt x="384" y="1328"/>
                </a:lnTo>
                <a:lnTo>
                  <a:pt x="368" y="1336"/>
                </a:lnTo>
                <a:lnTo>
                  <a:pt x="360" y="1352"/>
                </a:lnTo>
                <a:lnTo>
                  <a:pt x="360" y="1392"/>
                </a:lnTo>
                <a:lnTo>
                  <a:pt x="360" y="1416"/>
                </a:lnTo>
                <a:lnTo>
                  <a:pt x="376" y="1440"/>
                </a:lnTo>
                <a:lnTo>
                  <a:pt x="400" y="1456"/>
                </a:lnTo>
                <a:lnTo>
                  <a:pt x="408" y="1488"/>
                </a:lnTo>
                <a:lnTo>
                  <a:pt x="416" y="1520"/>
                </a:lnTo>
                <a:lnTo>
                  <a:pt x="432" y="1528"/>
                </a:lnTo>
                <a:lnTo>
                  <a:pt x="448" y="1536"/>
                </a:lnTo>
                <a:lnTo>
                  <a:pt x="456" y="1584"/>
                </a:lnTo>
                <a:lnTo>
                  <a:pt x="464" y="1616"/>
                </a:lnTo>
                <a:lnTo>
                  <a:pt x="480" y="1640"/>
                </a:lnTo>
                <a:lnTo>
                  <a:pt x="496" y="1648"/>
                </a:lnTo>
                <a:lnTo>
                  <a:pt x="504" y="1656"/>
                </a:lnTo>
                <a:lnTo>
                  <a:pt x="520" y="1672"/>
                </a:lnTo>
                <a:lnTo>
                  <a:pt x="520" y="1688"/>
                </a:lnTo>
                <a:lnTo>
                  <a:pt x="520" y="1720"/>
                </a:lnTo>
                <a:lnTo>
                  <a:pt x="520" y="1752"/>
                </a:lnTo>
                <a:lnTo>
                  <a:pt x="528" y="1792"/>
                </a:lnTo>
                <a:lnTo>
                  <a:pt x="536" y="1832"/>
                </a:lnTo>
                <a:lnTo>
                  <a:pt x="552" y="1872"/>
                </a:lnTo>
                <a:lnTo>
                  <a:pt x="568" y="1888"/>
                </a:lnTo>
                <a:lnTo>
                  <a:pt x="576" y="1904"/>
                </a:lnTo>
                <a:lnTo>
                  <a:pt x="560" y="1928"/>
                </a:lnTo>
                <a:lnTo>
                  <a:pt x="536" y="1960"/>
                </a:lnTo>
                <a:lnTo>
                  <a:pt x="528" y="2016"/>
                </a:lnTo>
                <a:lnTo>
                  <a:pt x="552" y="2032"/>
                </a:lnTo>
                <a:lnTo>
                  <a:pt x="536" y="2048"/>
                </a:lnTo>
                <a:lnTo>
                  <a:pt x="528" y="2064"/>
                </a:lnTo>
                <a:lnTo>
                  <a:pt x="544" y="2096"/>
                </a:lnTo>
                <a:lnTo>
                  <a:pt x="560" y="2128"/>
                </a:lnTo>
                <a:lnTo>
                  <a:pt x="544" y="2144"/>
                </a:lnTo>
                <a:lnTo>
                  <a:pt x="536" y="2160"/>
                </a:lnTo>
                <a:lnTo>
                  <a:pt x="544" y="2176"/>
                </a:lnTo>
                <a:lnTo>
                  <a:pt x="552" y="2200"/>
                </a:lnTo>
                <a:lnTo>
                  <a:pt x="544" y="2224"/>
                </a:lnTo>
                <a:lnTo>
                  <a:pt x="528" y="2248"/>
                </a:lnTo>
                <a:lnTo>
                  <a:pt x="496" y="2248"/>
                </a:lnTo>
                <a:lnTo>
                  <a:pt x="480" y="2264"/>
                </a:lnTo>
                <a:lnTo>
                  <a:pt x="472" y="2288"/>
                </a:lnTo>
                <a:lnTo>
                  <a:pt x="472" y="2320"/>
                </a:lnTo>
                <a:lnTo>
                  <a:pt x="480" y="2360"/>
                </a:lnTo>
                <a:lnTo>
                  <a:pt x="472" y="2392"/>
                </a:lnTo>
                <a:lnTo>
                  <a:pt x="456" y="2400"/>
                </a:lnTo>
                <a:lnTo>
                  <a:pt x="424" y="2408"/>
                </a:lnTo>
                <a:lnTo>
                  <a:pt x="400" y="2424"/>
                </a:lnTo>
                <a:lnTo>
                  <a:pt x="384" y="2440"/>
                </a:lnTo>
                <a:lnTo>
                  <a:pt x="376" y="2464"/>
                </a:lnTo>
                <a:lnTo>
                  <a:pt x="344" y="2504"/>
                </a:lnTo>
                <a:lnTo>
                  <a:pt x="328" y="2536"/>
                </a:lnTo>
                <a:lnTo>
                  <a:pt x="304" y="2560"/>
                </a:lnTo>
                <a:lnTo>
                  <a:pt x="288" y="2568"/>
                </a:lnTo>
                <a:lnTo>
                  <a:pt x="280" y="2584"/>
                </a:lnTo>
                <a:lnTo>
                  <a:pt x="264" y="2592"/>
                </a:lnTo>
                <a:lnTo>
                  <a:pt x="256" y="2608"/>
                </a:lnTo>
                <a:lnTo>
                  <a:pt x="240" y="2640"/>
                </a:lnTo>
                <a:lnTo>
                  <a:pt x="232" y="2664"/>
                </a:lnTo>
                <a:lnTo>
                  <a:pt x="224" y="2688"/>
                </a:lnTo>
                <a:lnTo>
                  <a:pt x="192" y="2712"/>
                </a:lnTo>
                <a:lnTo>
                  <a:pt x="176" y="2720"/>
                </a:lnTo>
                <a:lnTo>
                  <a:pt x="168" y="2736"/>
                </a:lnTo>
                <a:lnTo>
                  <a:pt x="168" y="2760"/>
                </a:lnTo>
                <a:lnTo>
                  <a:pt x="144" y="2784"/>
                </a:lnTo>
                <a:lnTo>
                  <a:pt x="128" y="2808"/>
                </a:lnTo>
                <a:lnTo>
                  <a:pt x="104" y="2856"/>
                </a:lnTo>
                <a:lnTo>
                  <a:pt x="104" y="2864"/>
                </a:lnTo>
                <a:lnTo>
                  <a:pt x="112" y="2880"/>
                </a:lnTo>
                <a:lnTo>
                  <a:pt x="88" y="2904"/>
                </a:lnTo>
                <a:lnTo>
                  <a:pt x="80" y="2936"/>
                </a:lnTo>
                <a:lnTo>
                  <a:pt x="88" y="2944"/>
                </a:lnTo>
                <a:lnTo>
                  <a:pt x="64" y="2968"/>
                </a:lnTo>
                <a:lnTo>
                  <a:pt x="32" y="2976"/>
                </a:lnTo>
                <a:lnTo>
                  <a:pt x="8" y="2992"/>
                </a:lnTo>
                <a:lnTo>
                  <a:pt x="0" y="3000"/>
                </a:lnTo>
                <a:lnTo>
                  <a:pt x="0" y="3016"/>
                </a:lnTo>
              </a:path>
            </a:pathLst>
          </a:custGeom>
          <a:noFill/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3944520" y="6321600"/>
            <a:ext cx="12600" cy="25200"/>
          </a:xfrm>
          <a:prstGeom prst="line">
            <a:avLst/>
          </a:prstGeom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582560" y="568440"/>
            <a:ext cx="1816200" cy="4064040"/>
          </a:xfrm>
          <a:custGeom>
            <a:avLst/>
            <a:gdLst/>
            <a:ahLst/>
            <a:rect l="l" t="t" r="r" b="b"/>
            <a:pathLst>
              <a:path w="1144" h="2560">
                <a:moveTo>
                  <a:pt x="0" y="0"/>
                </a:moveTo>
                <a:lnTo>
                  <a:pt x="72" y="0"/>
                </a:lnTo>
                <a:lnTo>
                  <a:pt x="136" y="24"/>
                </a:lnTo>
                <a:lnTo>
                  <a:pt x="200" y="56"/>
                </a:lnTo>
                <a:lnTo>
                  <a:pt x="224" y="72"/>
                </a:lnTo>
                <a:lnTo>
                  <a:pt x="232" y="80"/>
                </a:lnTo>
                <a:lnTo>
                  <a:pt x="248" y="96"/>
                </a:lnTo>
                <a:lnTo>
                  <a:pt x="256" y="120"/>
                </a:lnTo>
                <a:lnTo>
                  <a:pt x="264" y="152"/>
                </a:lnTo>
                <a:lnTo>
                  <a:pt x="256" y="192"/>
                </a:lnTo>
                <a:lnTo>
                  <a:pt x="280" y="208"/>
                </a:lnTo>
                <a:lnTo>
                  <a:pt x="264" y="224"/>
                </a:lnTo>
                <a:lnTo>
                  <a:pt x="264" y="248"/>
                </a:lnTo>
                <a:lnTo>
                  <a:pt x="272" y="256"/>
                </a:lnTo>
                <a:lnTo>
                  <a:pt x="288" y="248"/>
                </a:lnTo>
                <a:lnTo>
                  <a:pt x="296" y="224"/>
                </a:lnTo>
                <a:lnTo>
                  <a:pt x="304" y="216"/>
                </a:lnTo>
                <a:lnTo>
                  <a:pt x="312" y="224"/>
                </a:lnTo>
                <a:lnTo>
                  <a:pt x="328" y="240"/>
                </a:lnTo>
                <a:lnTo>
                  <a:pt x="344" y="240"/>
                </a:lnTo>
                <a:lnTo>
                  <a:pt x="368" y="256"/>
                </a:lnTo>
                <a:lnTo>
                  <a:pt x="368" y="280"/>
                </a:lnTo>
                <a:lnTo>
                  <a:pt x="368" y="304"/>
                </a:lnTo>
                <a:lnTo>
                  <a:pt x="384" y="320"/>
                </a:lnTo>
                <a:lnTo>
                  <a:pt x="392" y="328"/>
                </a:lnTo>
                <a:lnTo>
                  <a:pt x="408" y="344"/>
                </a:lnTo>
                <a:lnTo>
                  <a:pt x="400" y="368"/>
                </a:lnTo>
                <a:lnTo>
                  <a:pt x="400" y="392"/>
                </a:lnTo>
                <a:lnTo>
                  <a:pt x="416" y="416"/>
                </a:lnTo>
                <a:lnTo>
                  <a:pt x="456" y="432"/>
                </a:lnTo>
                <a:lnTo>
                  <a:pt x="480" y="432"/>
                </a:lnTo>
                <a:lnTo>
                  <a:pt x="488" y="448"/>
                </a:lnTo>
                <a:lnTo>
                  <a:pt x="480" y="456"/>
                </a:lnTo>
                <a:lnTo>
                  <a:pt x="464" y="472"/>
                </a:lnTo>
                <a:lnTo>
                  <a:pt x="480" y="496"/>
                </a:lnTo>
                <a:lnTo>
                  <a:pt x="496" y="520"/>
                </a:lnTo>
                <a:lnTo>
                  <a:pt x="472" y="528"/>
                </a:lnTo>
                <a:lnTo>
                  <a:pt x="456" y="536"/>
                </a:lnTo>
                <a:lnTo>
                  <a:pt x="440" y="576"/>
                </a:lnTo>
                <a:lnTo>
                  <a:pt x="432" y="592"/>
                </a:lnTo>
                <a:lnTo>
                  <a:pt x="448" y="616"/>
                </a:lnTo>
                <a:lnTo>
                  <a:pt x="464" y="640"/>
                </a:lnTo>
                <a:lnTo>
                  <a:pt x="472" y="656"/>
                </a:lnTo>
                <a:lnTo>
                  <a:pt x="480" y="680"/>
                </a:lnTo>
                <a:lnTo>
                  <a:pt x="472" y="696"/>
                </a:lnTo>
                <a:lnTo>
                  <a:pt x="456" y="712"/>
                </a:lnTo>
                <a:lnTo>
                  <a:pt x="440" y="752"/>
                </a:lnTo>
                <a:lnTo>
                  <a:pt x="456" y="776"/>
                </a:lnTo>
                <a:lnTo>
                  <a:pt x="472" y="792"/>
                </a:lnTo>
                <a:lnTo>
                  <a:pt x="472" y="816"/>
                </a:lnTo>
                <a:lnTo>
                  <a:pt x="488" y="856"/>
                </a:lnTo>
                <a:lnTo>
                  <a:pt x="536" y="880"/>
                </a:lnTo>
                <a:lnTo>
                  <a:pt x="544" y="872"/>
                </a:lnTo>
                <a:lnTo>
                  <a:pt x="576" y="872"/>
                </a:lnTo>
                <a:lnTo>
                  <a:pt x="592" y="888"/>
                </a:lnTo>
                <a:lnTo>
                  <a:pt x="592" y="896"/>
                </a:lnTo>
                <a:lnTo>
                  <a:pt x="576" y="904"/>
                </a:lnTo>
                <a:lnTo>
                  <a:pt x="568" y="920"/>
                </a:lnTo>
                <a:lnTo>
                  <a:pt x="552" y="944"/>
                </a:lnTo>
                <a:lnTo>
                  <a:pt x="544" y="968"/>
                </a:lnTo>
                <a:lnTo>
                  <a:pt x="536" y="1000"/>
                </a:lnTo>
                <a:lnTo>
                  <a:pt x="512" y="1016"/>
                </a:lnTo>
                <a:lnTo>
                  <a:pt x="504" y="1008"/>
                </a:lnTo>
                <a:lnTo>
                  <a:pt x="496" y="1008"/>
                </a:lnTo>
                <a:lnTo>
                  <a:pt x="480" y="1008"/>
                </a:lnTo>
                <a:lnTo>
                  <a:pt x="480" y="1032"/>
                </a:lnTo>
                <a:lnTo>
                  <a:pt x="488" y="1040"/>
                </a:lnTo>
                <a:lnTo>
                  <a:pt x="504" y="1056"/>
                </a:lnTo>
                <a:lnTo>
                  <a:pt x="504" y="1056"/>
                </a:lnTo>
                <a:lnTo>
                  <a:pt x="504" y="1072"/>
                </a:lnTo>
                <a:lnTo>
                  <a:pt x="488" y="1064"/>
                </a:lnTo>
                <a:lnTo>
                  <a:pt x="480" y="1056"/>
                </a:lnTo>
                <a:lnTo>
                  <a:pt x="472" y="1064"/>
                </a:lnTo>
                <a:lnTo>
                  <a:pt x="464" y="1080"/>
                </a:lnTo>
                <a:lnTo>
                  <a:pt x="464" y="1096"/>
                </a:lnTo>
                <a:lnTo>
                  <a:pt x="464" y="1112"/>
                </a:lnTo>
                <a:lnTo>
                  <a:pt x="440" y="1136"/>
                </a:lnTo>
                <a:lnTo>
                  <a:pt x="392" y="1152"/>
                </a:lnTo>
                <a:lnTo>
                  <a:pt x="368" y="1144"/>
                </a:lnTo>
                <a:lnTo>
                  <a:pt x="352" y="1152"/>
                </a:lnTo>
                <a:lnTo>
                  <a:pt x="336" y="1176"/>
                </a:lnTo>
                <a:lnTo>
                  <a:pt x="320" y="1176"/>
                </a:lnTo>
                <a:lnTo>
                  <a:pt x="304" y="1184"/>
                </a:lnTo>
                <a:lnTo>
                  <a:pt x="288" y="1192"/>
                </a:lnTo>
                <a:lnTo>
                  <a:pt x="272" y="1208"/>
                </a:lnTo>
                <a:lnTo>
                  <a:pt x="256" y="1208"/>
                </a:lnTo>
                <a:lnTo>
                  <a:pt x="248" y="1216"/>
                </a:lnTo>
                <a:lnTo>
                  <a:pt x="264" y="1248"/>
                </a:lnTo>
                <a:lnTo>
                  <a:pt x="280" y="1240"/>
                </a:lnTo>
                <a:lnTo>
                  <a:pt x="296" y="1240"/>
                </a:lnTo>
                <a:lnTo>
                  <a:pt x="296" y="1256"/>
                </a:lnTo>
                <a:lnTo>
                  <a:pt x="288" y="1264"/>
                </a:lnTo>
                <a:lnTo>
                  <a:pt x="264" y="1264"/>
                </a:lnTo>
                <a:lnTo>
                  <a:pt x="256" y="1264"/>
                </a:lnTo>
                <a:lnTo>
                  <a:pt x="240" y="1296"/>
                </a:lnTo>
                <a:lnTo>
                  <a:pt x="248" y="1304"/>
                </a:lnTo>
                <a:lnTo>
                  <a:pt x="256" y="1312"/>
                </a:lnTo>
                <a:lnTo>
                  <a:pt x="248" y="1320"/>
                </a:lnTo>
                <a:lnTo>
                  <a:pt x="224" y="1328"/>
                </a:lnTo>
                <a:lnTo>
                  <a:pt x="216" y="1320"/>
                </a:lnTo>
                <a:lnTo>
                  <a:pt x="208" y="1312"/>
                </a:lnTo>
                <a:lnTo>
                  <a:pt x="176" y="1336"/>
                </a:lnTo>
                <a:lnTo>
                  <a:pt x="176" y="1376"/>
                </a:lnTo>
                <a:lnTo>
                  <a:pt x="192" y="1400"/>
                </a:lnTo>
                <a:lnTo>
                  <a:pt x="208" y="1400"/>
                </a:lnTo>
                <a:lnTo>
                  <a:pt x="224" y="1408"/>
                </a:lnTo>
                <a:lnTo>
                  <a:pt x="248" y="1424"/>
                </a:lnTo>
                <a:lnTo>
                  <a:pt x="256" y="1456"/>
                </a:lnTo>
                <a:lnTo>
                  <a:pt x="232" y="1472"/>
                </a:lnTo>
                <a:lnTo>
                  <a:pt x="208" y="1480"/>
                </a:lnTo>
                <a:lnTo>
                  <a:pt x="216" y="1496"/>
                </a:lnTo>
                <a:lnTo>
                  <a:pt x="240" y="1504"/>
                </a:lnTo>
                <a:lnTo>
                  <a:pt x="256" y="1504"/>
                </a:lnTo>
                <a:lnTo>
                  <a:pt x="264" y="1520"/>
                </a:lnTo>
                <a:lnTo>
                  <a:pt x="256" y="1528"/>
                </a:lnTo>
                <a:lnTo>
                  <a:pt x="248" y="1536"/>
                </a:lnTo>
                <a:lnTo>
                  <a:pt x="216" y="1560"/>
                </a:lnTo>
                <a:lnTo>
                  <a:pt x="216" y="1584"/>
                </a:lnTo>
                <a:lnTo>
                  <a:pt x="224" y="1584"/>
                </a:lnTo>
                <a:lnTo>
                  <a:pt x="240" y="1584"/>
                </a:lnTo>
                <a:lnTo>
                  <a:pt x="240" y="1592"/>
                </a:lnTo>
                <a:lnTo>
                  <a:pt x="232" y="1616"/>
                </a:lnTo>
                <a:lnTo>
                  <a:pt x="256" y="1624"/>
                </a:lnTo>
                <a:lnTo>
                  <a:pt x="288" y="1640"/>
                </a:lnTo>
                <a:lnTo>
                  <a:pt x="312" y="1648"/>
                </a:lnTo>
                <a:lnTo>
                  <a:pt x="336" y="1664"/>
                </a:lnTo>
                <a:lnTo>
                  <a:pt x="336" y="1680"/>
                </a:lnTo>
                <a:lnTo>
                  <a:pt x="336" y="1696"/>
                </a:lnTo>
                <a:lnTo>
                  <a:pt x="320" y="1712"/>
                </a:lnTo>
                <a:lnTo>
                  <a:pt x="320" y="1728"/>
                </a:lnTo>
                <a:lnTo>
                  <a:pt x="336" y="1752"/>
                </a:lnTo>
                <a:lnTo>
                  <a:pt x="352" y="1752"/>
                </a:lnTo>
                <a:lnTo>
                  <a:pt x="376" y="1760"/>
                </a:lnTo>
                <a:lnTo>
                  <a:pt x="376" y="1776"/>
                </a:lnTo>
                <a:lnTo>
                  <a:pt x="376" y="1792"/>
                </a:lnTo>
                <a:lnTo>
                  <a:pt x="400" y="1792"/>
                </a:lnTo>
                <a:lnTo>
                  <a:pt x="408" y="1808"/>
                </a:lnTo>
                <a:lnTo>
                  <a:pt x="400" y="1840"/>
                </a:lnTo>
                <a:lnTo>
                  <a:pt x="384" y="1840"/>
                </a:lnTo>
                <a:lnTo>
                  <a:pt x="376" y="1856"/>
                </a:lnTo>
                <a:lnTo>
                  <a:pt x="392" y="1864"/>
                </a:lnTo>
                <a:lnTo>
                  <a:pt x="432" y="1864"/>
                </a:lnTo>
                <a:lnTo>
                  <a:pt x="456" y="1872"/>
                </a:lnTo>
                <a:lnTo>
                  <a:pt x="480" y="1920"/>
                </a:lnTo>
                <a:lnTo>
                  <a:pt x="480" y="1936"/>
                </a:lnTo>
                <a:lnTo>
                  <a:pt x="480" y="1960"/>
                </a:lnTo>
                <a:lnTo>
                  <a:pt x="456" y="1960"/>
                </a:lnTo>
                <a:lnTo>
                  <a:pt x="440" y="1968"/>
                </a:lnTo>
                <a:lnTo>
                  <a:pt x="448" y="1976"/>
                </a:lnTo>
                <a:lnTo>
                  <a:pt x="464" y="1992"/>
                </a:lnTo>
                <a:lnTo>
                  <a:pt x="480" y="1992"/>
                </a:lnTo>
                <a:lnTo>
                  <a:pt x="504" y="1992"/>
                </a:lnTo>
                <a:lnTo>
                  <a:pt x="512" y="2008"/>
                </a:lnTo>
                <a:lnTo>
                  <a:pt x="528" y="2040"/>
                </a:lnTo>
                <a:lnTo>
                  <a:pt x="568" y="2072"/>
                </a:lnTo>
                <a:lnTo>
                  <a:pt x="608" y="2104"/>
                </a:lnTo>
                <a:lnTo>
                  <a:pt x="600" y="2128"/>
                </a:lnTo>
                <a:lnTo>
                  <a:pt x="576" y="2144"/>
                </a:lnTo>
                <a:lnTo>
                  <a:pt x="576" y="2152"/>
                </a:lnTo>
                <a:lnTo>
                  <a:pt x="576" y="2176"/>
                </a:lnTo>
                <a:lnTo>
                  <a:pt x="608" y="2208"/>
                </a:lnTo>
                <a:lnTo>
                  <a:pt x="616" y="2208"/>
                </a:lnTo>
                <a:lnTo>
                  <a:pt x="640" y="2240"/>
                </a:lnTo>
                <a:lnTo>
                  <a:pt x="640" y="2256"/>
                </a:lnTo>
                <a:lnTo>
                  <a:pt x="632" y="2280"/>
                </a:lnTo>
                <a:lnTo>
                  <a:pt x="648" y="2312"/>
                </a:lnTo>
                <a:lnTo>
                  <a:pt x="672" y="2336"/>
                </a:lnTo>
                <a:lnTo>
                  <a:pt x="696" y="2336"/>
                </a:lnTo>
                <a:lnTo>
                  <a:pt x="728" y="2352"/>
                </a:lnTo>
                <a:lnTo>
                  <a:pt x="736" y="2376"/>
                </a:lnTo>
                <a:lnTo>
                  <a:pt x="760" y="2400"/>
                </a:lnTo>
                <a:lnTo>
                  <a:pt x="848" y="2416"/>
                </a:lnTo>
                <a:lnTo>
                  <a:pt x="936" y="2432"/>
                </a:lnTo>
                <a:lnTo>
                  <a:pt x="976" y="2448"/>
                </a:lnTo>
                <a:lnTo>
                  <a:pt x="1000" y="2456"/>
                </a:lnTo>
                <a:lnTo>
                  <a:pt x="1072" y="2464"/>
                </a:lnTo>
                <a:lnTo>
                  <a:pt x="1088" y="2480"/>
                </a:lnTo>
                <a:lnTo>
                  <a:pt x="1096" y="2496"/>
                </a:lnTo>
                <a:lnTo>
                  <a:pt x="1112" y="2504"/>
                </a:lnTo>
                <a:lnTo>
                  <a:pt x="1136" y="2520"/>
                </a:lnTo>
                <a:lnTo>
                  <a:pt x="1128" y="2544"/>
                </a:lnTo>
                <a:lnTo>
                  <a:pt x="1128" y="2552"/>
                </a:lnTo>
                <a:lnTo>
                  <a:pt x="1144" y="2560"/>
                </a:lnTo>
              </a:path>
            </a:pathLst>
          </a:custGeom>
          <a:noFill/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3480" y="2028960"/>
            <a:ext cx="431640" cy="571320"/>
          </a:xfrm>
          <a:custGeom>
            <a:avLst/>
            <a:gdLst/>
            <a:ahLst/>
            <a:rect l="l" t="t" r="r" b="b"/>
            <a:pathLst>
              <a:path w="272" h="360">
                <a:moveTo>
                  <a:pt x="272" y="0"/>
                </a:moveTo>
                <a:lnTo>
                  <a:pt x="232" y="24"/>
                </a:lnTo>
                <a:lnTo>
                  <a:pt x="192" y="64"/>
                </a:lnTo>
                <a:lnTo>
                  <a:pt x="168" y="112"/>
                </a:lnTo>
                <a:lnTo>
                  <a:pt x="152" y="136"/>
                </a:lnTo>
                <a:lnTo>
                  <a:pt x="136" y="160"/>
                </a:lnTo>
                <a:lnTo>
                  <a:pt x="96" y="224"/>
                </a:lnTo>
                <a:lnTo>
                  <a:pt x="64" y="248"/>
                </a:lnTo>
                <a:lnTo>
                  <a:pt x="32" y="280"/>
                </a:lnTo>
                <a:lnTo>
                  <a:pt x="0" y="320"/>
                </a:lnTo>
                <a:lnTo>
                  <a:pt x="0" y="336"/>
                </a:lnTo>
                <a:lnTo>
                  <a:pt x="8" y="360"/>
                </a:lnTo>
              </a:path>
            </a:pathLst>
          </a:custGeom>
          <a:noFill/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45720" y="2600280"/>
            <a:ext cx="12600" cy="1800"/>
          </a:xfrm>
          <a:prstGeom prst="line">
            <a:avLst/>
          </a:prstGeom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rot="3600000">
            <a:off x="1981080" y="2999880"/>
            <a:ext cx="71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Brush Script MT"/>
              </a:rPr>
              <a:t>La M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rot="19320000">
            <a:off x="-41040" y="1766160"/>
            <a:ext cx="83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Brush Script MT"/>
              </a:rPr>
              <a:t>Le Maro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rot="18420000">
            <a:off x="3806280" y="5194440"/>
            <a:ext cx="1134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Brush Script MT"/>
              </a:rPr>
              <a:t>Le Sinna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rot="19500000">
            <a:off x="5793480" y="5802120"/>
            <a:ext cx="116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Brush Script MT"/>
              </a:rPr>
              <a:t>L’Approua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rot="18000000">
            <a:off x="8124120" y="6231960"/>
            <a:ext cx="8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Brush Script MT"/>
              </a:rPr>
              <a:t>L’Oyap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rot="19620000">
            <a:off x="4836240" y="5589360"/>
            <a:ext cx="79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Brush Script MT"/>
              </a:rPr>
              <a:t>La Com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552480" y="1189080"/>
            <a:ext cx="54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racoub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428360" y="1521000"/>
            <a:ext cx="66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na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862640" y="530280"/>
            <a:ext cx="34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29080" y="2219400"/>
            <a:ext cx="482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329080" y="2181240"/>
            <a:ext cx="46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our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430680" y="2865600"/>
            <a:ext cx="72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YE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081920" y="5025960"/>
            <a:ext cx="4442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082640" y="4987800"/>
            <a:ext cx="43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ég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25440" y="1143000"/>
            <a:ext cx="660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 Laurent du Mar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75600" y="326880"/>
            <a:ext cx="1047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wala-Yalima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042920" y="1400040"/>
            <a:ext cx="114480" cy="11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893960" y="752400"/>
            <a:ext cx="75960" cy="7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424160" y="511200"/>
            <a:ext cx="75960" cy="7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526000" y="2378160"/>
            <a:ext cx="114480" cy="11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646440" y="1400040"/>
            <a:ext cx="76320" cy="7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586400" y="1730520"/>
            <a:ext cx="7596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605640" y="3114720"/>
            <a:ext cx="114120" cy="11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151760" y="5197320"/>
            <a:ext cx="75960" cy="7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990720" y="3733920"/>
            <a:ext cx="435960" cy="761760"/>
            <a:chOff x="990720" y="3733920"/>
            <a:chExt cx="435960" cy="761760"/>
          </a:xfrm>
        </p:grpSpPr>
        <p:grpSp>
          <p:nvGrpSpPr>
            <p:cNvPr id="635" name=""/>
            <p:cNvGrpSpPr/>
            <p:nvPr/>
          </p:nvGrpSpPr>
          <p:grpSpPr>
            <a:xfrm>
              <a:off x="990720" y="3733920"/>
              <a:ext cx="126720" cy="761760"/>
              <a:chOff x="990720" y="3733920"/>
              <a:chExt cx="126720" cy="761760"/>
            </a:xfrm>
          </p:grpSpPr>
          <p:sp>
            <p:nvSpPr>
              <p:cNvPr id="636" name=""/>
              <p:cNvSpPr/>
              <p:nvPr/>
            </p:nvSpPr>
            <p:spPr>
              <a:xfrm>
                <a:off x="990720" y="3733920"/>
                <a:ext cx="126720" cy="164880"/>
              </a:xfrm>
              <a:custGeom>
                <a:avLst/>
                <a:gdLst/>
                <a:ahLst/>
                <a:rect l="l" t="t" r="r" b="b"/>
                <a:pathLst>
                  <a:path w="80" h="104">
                    <a:moveTo>
                      <a:pt x="40" y="0"/>
                    </a:moveTo>
                    <a:lnTo>
                      <a:pt x="80" y="104"/>
                    </a:lnTo>
                    <a:lnTo>
                      <a:pt x="40" y="104"/>
                    </a:lnTo>
                    <a:lnTo>
                      <a:pt x="0" y="104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1054080" y="3898800"/>
                <a:ext cx="1440" cy="596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"/>
            <p:cNvSpPr/>
            <p:nvPr/>
          </p:nvSpPr>
          <p:spPr>
            <a:xfrm>
              <a:off x="1206360" y="393696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32440" y="5867280"/>
            <a:ext cx="3333240" cy="279000"/>
            <a:chOff x="532440" y="5867280"/>
            <a:chExt cx="3333240" cy="279000"/>
          </a:xfrm>
        </p:grpSpPr>
        <p:grpSp>
          <p:nvGrpSpPr>
            <p:cNvPr id="640" name=""/>
            <p:cNvGrpSpPr/>
            <p:nvPr/>
          </p:nvGrpSpPr>
          <p:grpSpPr>
            <a:xfrm>
              <a:off x="571320" y="6095520"/>
              <a:ext cx="2934720" cy="50760"/>
              <a:chOff x="571320" y="6095520"/>
              <a:chExt cx="2934720" cy="50760"/>
            </a:xfrm>
          </p:grpSpPr>
          <p:sp>
            <p:nvSpPr>
              <p:cNvPr id="641" name=""/>
              <p:cNvSpPr/>
              <p:nvPr/>
            </p:nvSpPr>
            <p:spPr>
              <a:xfrm flipV="1">
                <a:off x="571320" y="6133680"/>
                <a:ext cx="293328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V="1">
                <a:off x="3504600" y="6095520"/>
                <a:ext cx="1440" cy="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>
                <a:off x="571320" y="6095520"/>
                <a:ext cx="1440" cy="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532440" y="5867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363480" y="5867280"/>
              <a:ext cx="50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0 k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1243080" y="1373040"/>
            <a:ext cx="114120" cy="101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135240" y="1373040"/>
            <a:ext cx="114480" cy="101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659480" y="1957320"/>
            <a:ext cx="114120" cy="101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672080" y="2859120"/>
            <a:ext cx="101520" cy="101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259680" y="4662360"/>
            <a:ext cx="114120" cy="101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986280" y="1982880"/>
            <a:ext cx="114120" cy="114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761000" y="2516040"/>
            <a:ext cx="114120" cy="101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 flipV="1">
            <a:off x="3169800" y="4952880"/>
            <a:ext cx="12600" cy="12960"/>
          </a:xfrm>
          <a:prstGeom prst="line">
            <a:avLst/>
          </a:prstGeom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54040" y="5413320"/>
            <a:ext cx="330120" cy="317520"/>
          </a:xfrm>
          <a:custGeom>
            <a:avLst/>
            <a:gdLst/>
            <a:ahLst/>
            <a:rect l="l" t="t" r="r" b="b"/>
            <a:pathLst>
              <a:path w="208" h="200">
                <a:moveTo>
                  <a:pt x="112" y="200"/>
                </a:moveTo>
                <a:lnTo>
                  <a:pt x="208" y="120"/>
                </a:lnTo>
                <a:lnTo>
                  <a:pt x="200" y="96"/>
                </a:lnTo>
                <a:lnTo>
                  <a:pt x="120" y="40"/>
                </a:lnTo>
                <a:lnTo>
                  <a:pt x="64" y="16"/>
                </a:lnTo>
                <a:lnTo>
                  <a:pt x="8" y="0"/>
                </a:lnTo>
                <a:lnTo>
                  <a:pt x="0" y="40"/>
                </a:lnTo>
                <a:lnTo>
                  <a:pt x="16" y="64"/>
                </a:lnTo>
                <a:lnTo>
                  <a:pt x="24" y="96"/>
                </a:lnTo>
                <a:lnTo>
                  <a:pt x="48" y="120"/>
                </a:lnTo>
                <a:lnTo>
                  <a:pt x="64" y="152"/>
                </a:lnTo>
                <a:lnTo>
                  <a:pt x="88" y="184"/>
                </a:lnTo>
                <a:lnTo>
                  <a:pt x="112" y="200"/>
                </a:lnTo>
                <a:close/>
              </a:path>
            </a:pathLst>
          </a:custGeom>
          <a:solidFill>
            <a:srgbClr val="40f84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04040" y="5489640"/>
            <a:ext cx="27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êt du domaine aménagé par l’ONF (199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143000" y="1219320"/>
            <a:ext cx="304920" cy="380880"/>
          </a:xfrm>
          <a:prstGeom prst="irregularSeal1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048120" y="1219320"/>
            <a:ext cx="304560" cy="380880"/>
          </a:xfrm>
          <a:prstGeom prst="irregularSeal1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572000" y="1773360"/>
            <a:ext cx="287280" cy="365040"/>
          </a:xfrm>
          <a:prstGeom prst="irregularSeal1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648320" y="2362320"/>
            <a:ext cx="304560" cy="380880"/>
          </a:xfrm>
          <a:prstGeom prst="irregularSeal1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990720" y="990720"/>
            <a:ext cx="253440" cy="342720"/>
            <a:chOff x="990720" y="990720"/>
            <a:chExt cx="253440" cy="342720"/>
          </a:xfrm>
        </p:grpSpPr>
        <p:sp>
          <p:nvSpPr>
            <p:cNvPr id="661" name=""/>
            <p:cNvSpPr/>
            <p:nvPr/>
          </p:nvSpPr>
          <p:spPr>
            <a:xfrm>
              <a:off x="1091880" y="1168560"/>
              <a:ext cx="152280" cy="164880"/>
            </a:xfrm>
            <a:custGeom>
              <a:avLst/>
              <a:gdLst/>
              <a:ahLst/>
              <a:rect l="l" t="t" r="r" b="b"/>
              <a:pathLst>
                <a:path w="96" h="104">
                  <a:moveTo>
                    <a:pt x="96" y="104"/>
                  </a:moveTo>
                  <a:lnTo>
                    <a:pt x="0" y="48"/>
                  </a:lnTo>
                  <a:lnTo>
                    <a:pt x="32" y="24"/>
                  </a:lnTo>
                  <a:lnTo>
                    <a:pt x="64" y="0"/>
                  </a:lnTo>
                  <a:lnTo>
                    <a:pt x="96" y="10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990720" y="990720"/>
              <a:ext cx="15192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4889520" y="1874880"/>
            <a:ext cx="520200" cy="127080"/>
            <a:chOff x="4889520" y="1874880"/>
            <a:chExt cx="520200" cy="127080"/>
          </a:xfrm>
        </p:grpSpPr>
        <p:sp>
          <p:nvSpPr>
            <p:cNvPr id="664" name=""/>
            <p:cNvSpPr/>
            <p:nvPr/>
          </p:nvSpPr>
          <p:spPr>
            <a:xfrm>
              <a:off x="4889520" y="1887480"/>
              <a:ext cx="177480" cy="114480"/>
            </a:xfrm>
            <a:custGeom>
              <a:avLst/>
              <a:gdLst/>
              <a:ahLst/>
              <a:rect l="l" t="t" r="r" b="b"/>
              <a:pathLst>
                <a:path w="112" h="72">
                  <a:moveTo>
                    <a:pt x="0" y="56"/>
                  </a:moveTo>
                  <a:lnTo>
                    <a:pt x="96" y="0"/>
                  </a:lnTo>
                  <a:lnTo>
                    <a:pt x="104" y="40"/>
                  </a:lnTo>
                  <a:lnTo>
                    <a:pt x="112" y="72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5054400" y="1874880"/>
              <a:ext cx="3553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5105520" y="1752480"/>
            <a:ext cx="834840" cy="547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Bauhaus 93"/>
              </a:rPr>
              <a:t>Paracou: Psb, P11, P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3103560" y="973080"/>
            <a:ext cx="114480" cy="343080"/>
            <a:chOff x="3103560" y="973080"/>
            <a:chExt cx="114480" cy="343080"/>
          </a:xfrm>
        </p:grpSpPr>
        <p:sp>
          <p:nvSpPr>
            <p:cNvPr id="668" name=""/>
            <p:cNvSpPr/>
            <p:nvPr/>
          </p:nvSpPr>
          <p:spPr>
            <a:xfrm>
              <a:off x="3103560" y="1150920"/>
              <a:ext cx="114480" cy="165240"/>
            </a:xfrm>
            <a:custGeom>
              <a:avLst/>
              <a:gdLst/>
              <a:ahLst/>
              <a:rect l="l" t="t" r="r" b="b"/>
              <a:pathLst>
                <a:path w="72" h="104">
                  <a:moveTo>
                    <a:pt x="48" y="104"/>
                  </a:moveTo>
                  <a:lnTo>
                    <a:pt x="0" y="8"/>
                  </a:lnTo>
                  <a:lnTo>
                    <a:pt x="32" y="0"/>
                  </a:lnTo>
                  <a:lnTo>
                    <a:pt x="72" y="0"/>
                  </a:lnTo>
                  <a:lnTo>
                    <a:pt x="48" y="10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141720" y="973080"/>
              <a:ext cx="12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2995560" y="798480"/>
            <a:ext cx="276480" cy="182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Bauhaus 93"/>
              </a:rPr>
              <a:t>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837000" y="874800"/>
            <a:ext cx="236880" cy="182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Bauhaus 93"/>
              </a:rPr>
              <a:t>B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4267080" y="2438280"/>
            <a:ext cx="393840" cy="127080"/>
            <a:chOff x="4267080" y="2438280"/>
            <a:chExt cx="393840" cy="127080"/>
          </a:xfrm>
        </p:grpSpPr>
        <p:sp>
          <p:nvSpPr>
            <p:cNvPr id="673" name=""/>
            <p:cNvSpPr/>
            <p:nvPr/>
          </p:nvSpPr>
          <p:spPr>
            <a:xfrm flipH="1">
              <a:off x="4495320" y="2438280"/>
              <a:ext cx="165240" cy="127080"/>
            </a:xfrm>
            <a:custGeom>
              <a:avLst/>
              <a:gdLst/>
              <a:ahLst/>
              <a:rect l="l" t="t" r="r" b="b"/>
              <a:pathLst>
                <a:path w="104" h="80">
                  <a:moveTo>
                    <a:pt x="0" y="48"/>
                  </a:moveTo>
                  <a:lnTo>
                    <a:pt x="104" y="0"/>
                  </a:lnTo>
                  <a:lnTo>
                    <a:pt x="104" y="40"/>
                  </a:lnTo>
                  <a:lnTo>
                    <a:pt x="104" y="8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 flipV="1">
              <a:off x="4267080" y="2489040"/>
              <a:ext cx="22860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4008960" y="2362320"/>
            <a:ext cx="272160" cy="182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Bauhaus 93"/>
              </a:rPr>
              <a:t>S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533520" y="4968720"/>
            <a:ext cx="2295720" cy="381240"/>
            <a:chOff x="533520" y="4968720"/>
            <a:chExt cx="2295720" cy="381240"/>
          </a:xfrm>
        </p:grpSpPr>
        <p:sp>
          <p:nvSpPr>
            <p:cNvPr id="677" name=""/>
            <p:cNvSpPr/>
            <p:nvPr/>
          </p:nvSpPr>
          <p:spPr>
            <a:xfrm>
              <a:off x="1001160" y="5040360"/>
              <a:ext cx="182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ation à réserve en eau fai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3520" y="4968720"/>
              <a:ext cx="304560" cy="38124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4343400" y="228600"/>
            <a:ext cx="457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39640" y="4653000"/>
            <a:ext cx="304920" cy="380880"/>
          </a:xfrm>
          <a:prstGeom prst="irregularSeal1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888120" y="4749840"/>
            <a:ext cx="2049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 à réserve en eau élev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192560" y="582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79280" y="3200400"/>
            <a:ext cx="3842640" cy="3219120"/>
            <a:chOff x="179280" y="3200400"/>
            <a:chExt cx="3842640" cy="3219120"/>
          </a:xfrm>
        </p:grpSpPr>
        <p:grpSp>
          <p:nvGrpSpPr>
            <p:cNvPr id="684" name=""/>
            <p:cNvGrpSpPr/>
            <p:nvPr/>
          </p:nvGrpSpPr>
          <p:grpSpPr>
            <a:xfrm>
              <a:off x="179280" y="3200400"/>
              <a:ext cx="3842640" cy="2952720"/>
              <a:chOff x="179280" y="3200400"/>
              <a:chExt cx="3842640" cy="2952720"/>
            </a:xfrm>
          </p:grpSpPr>
          <p:sp>
            <p:nvSpPr>
              <p:cNvPr id="685" name=""/>
              <p:cNvSpPr/>
              <p:nvPr/>
            </p:nvSpPr>
            <p:spPr>
              <a:xfrm>
                <a:off x="179280" y="3200400"/>
                <a:ext cx="3816360" cy="29527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6" name=""/>
              <p:cNvGrpSpPr/>
              <p:nvPr/>
            </p:nvGrpSpPr>
            <p:grpSpPr>
              <a:xfrm>
                <a:off x="468360" y="3357720"/>
                <a:ext cx="3553560" cy="2578320"/>
                <a:chOff x="468360" y="3357720"/>
                <a:chExt cx="3553560" cy="2578320"/>
              </a:xfrm>
            </p:grpSpPr>
            <p:grpSp>
              <p:nvGrpSpPr>
                <p:cNvPr id="687" name=""/>
                <p:cNvGrpSpPr/>
                <p:nvPr/>
              </p:nvGrpSpPr>
              <p:grpSpPr>
                <a:xfrm>
                  <a:off x="468360" y="3443400"/>
                  <a:ext cx="3553560" cy="2492640"/>
                  <a:chOff x="468360" y="3443400"/>
                  <a:chExt cx="3553560" cy="2492640"/>
                </a:xfrm>
              </p:grpSpPr>
              <p:grpSp>
                <p:nvGrpSpPr>
                  <p:cNvPr id="688" name=""/>
                  <p:cNvGrpSpPr/>
                  <p:nvPr/>
                </p:nvGrpSpPr>
                <p:grpSpPr>
                  <a:xfrm>
                    <a:off x="940320" y="4614840"/>
                    <a:ext cx="957960" cy="1321200"/>
                    <a:chOff x="940320" y="4614840"/>
                    <a:chExt cx="957960" cy="1321200"/>
                  </a:xfrm>
                </p:grpSpPr>
                <p:grpSp>
                  <p:nvGrpSpPr>
                    <p:cNvPr id="689" name=""/>
                    <p:cNvGrpSpPr/>
                    <p:nvPr/>
                  </p:nvGrpSpPr>
                  <p:grpSpPr>
                    <a:xfrm>
                      <a:off x="971280" y="4987440"/>
                      <a:ext cx="838440" cy="948600"/>
                      <a:chOff x="971280" y="4987440"/>
                      <a:chExt cx="838440" cy="948600"/>
                    </a:xfrm>
                  </p:grpSpPr>
                  <p:grpSp>
                    <p:nvGrpSpPr>
                      <p:cNvPr id="690" name=""/>
                      <p:cNvGrpSpPr/>
                      <p:nvPr/>
                    </p:nvGrpSpPr>
                    <p:grpSpPr>
                      <a:xfrm>
                        <a:off x="1015200" y="4987440"/>
                        <a:ext cx="685800" cy="372240"/>
                        <a:chOff x="1015200" y="4987440"/>
                        <a:chExt cx="685800" cy="372240"/>
                      </a:xfrm>
                    </p:grpSpPr>
                    <p:sp>
                      <p:nvSpPr>
                        <p:cNvPr id="691" name=""/>
                        <p:cNvSpPr/>
                        <p:nvPr/>
                      </p:nvSpPr>
                      <p:spPr>
                        <a:xfrm>
                          <a:off x="1022400" y="5010840"/>
                          <a:ext cx="671400" cy="21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headEnd len="med" type="triangle" w="med"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2" name=""/>
                        <p:cNvSpPr/>
                        <p:nvPr/>
                      </p:nvSpPr>
                      <p:spPr>
                        <a:xfrm flipV="1">
                          <a:off x="1015200" y="4987440"/>
                          <a:ext cx="0" cy="186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3" name=""/>
                        <p:cNvSpPr/>
                        <p:nvPr/>
                      </p:nvSpPr>
                      <p:spPr>
                        <a:xfrm flipV="1">
                          <a:off x="1701000" y="5173560"/>
                          <a:ext cx="0" cy="186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94" name=""/>
                      <p:cNvGrpSpPr/>
                      <p:nvPr/>
                    </p:nvGrpSpPr>
                    <p:grpSpPr>
                      <a:xfrm>
                        <a:off x="971280" y="5108040"/>
                        <a:ext cx="838440" cy="828000"/>
                        <a:chOff x="971280" y="5108040"/>
                        <a:chExt cx="838440" cy="828000"/>
                      </a:xfrm>
                    </p:grpSpPr>
                    <p:sp>
                      <p:nvSpPr>
                        <p:cNvPr id="695" name=""/>
                        <p:cNvSpPr/>
                        <p:nvPr/>
                      </p:nvSpPr>
                      <p:spPr>
                        <a:xfrm>
                          <a:off x="971280" y="5472720"/>
                          <a:ext cx="838440" cy="46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04" h="358">
                              <a:moveTo>
                                <a:pt x="704" y="130"/>
                              </a:moveTo>
                              <a:lnTo>
                                <a:pt x="704" y="358"/>
                              </a:lnTo>
                              <a:lnTo>
                                <a:pt x="675" y="355"/>
                              </a:lnTo>
                              <a:lnTo>
                                <a:pt x="660" y="322"/>
                              </a:lnTo>
                              <a:lnTo>
                                <a:pt x="533" y="174"/>
                              </a:lnTo>
                              <a:lnTo>
                                <a:pt x="287" y="56"/>
                              </a:lnTo>
                              <a:lnTo>
                                <a:pt x="142" y="91"/>
                              </a:lnTo>
                              <a:lnTo>
                                <a:pt x="0" y="44"/>
                              </a:lnTo>
                              <a:lnTo>
                                <a:pt x="0" y="0"/>
                              </a:lnTo>
                              <a:lnTo>
                                <a:pt x="669" y="62"/>
                              </a:lnTo>
                              <a:lnTo>
                                <a:pt x="704" y="130"/>
                              </a:lnTo>
                              <a:close/>
                            </a:path>
                          </a:pathLst>
                        </a:custGeom>
                        <a:blipFill rotWithShape="0">
                          <a:blip r:embed="rId1"/>
                          <a:srcRect/>
                          <a:tile tx="0" ty="0" sx="100000" sy="100000" algn="ctr"/>
                        </a:blip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6" name=""/>
                        <p:cNvSpPr/>
                        <p:nvPr/>
                      </p:nvSpPr>
                      <p:spPr>
                        <a:xfrm>
                          <a:off x="974520" y="5108040"/>
                          <a:ext cx="834840" cy="640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01" h="495">
                              <a:moveTo>
                                <a:pt x="698" y="412"/>
                              </a:moveTo>
                              <a:lnTo>
                                <a:pt x="693" y="412"/>
                              </a:lnTo>
                              <a:lnTo>
                                <a:pt x="675" y="409"/>
                              </a:lnTo>
                              <a:lnTo>
                                <a:pt x="663" y="367"/>
                              </a:lnTo>
                              <a:lnTo>
                                <a:pt x="559" y="495"/>
                              </a:lnTo>
                              <a:lnTo>
                                <a:pt x="420" y="465"/>
                              </a:lnTo>
                              <a:lnTo>
                                <a:pt x="314" y="406"/>
                              </a:lnTo>
                              <a:lnTo>
                                <a:pt x="264" y="382"/>
                              </a:lnTo>
                              <a:lnTo>
                                <a:pt x="145" y="379"/>
                              </a:lnTo>
                              <a:lnTo>
                                <a:pt x="51" y="308"/>
                              </a:lnTo>
                              <a:lnTo>
                                <a:pt x="0" y="285"/>
                              </a:lnTo>
                              <a:lnTo>
                                <a:pt x="0" y="0"/>
                              </a:lnTo>
                              <a:lnTo>
                                <a:pt x="133" y="24"/>
                              </a:lnTo>
                              <a:lnTo>
                                <a:pt x="261" y="42"/>
                              </a:lnTo>
                              <a:lnTo>
                                <a:pt x="320" y="77"/>
                              </a:lnTo>
                              <a:lnTo>
                                <a:pt x="417" y="116"/>
                              </a:lnTo>
                              <a:lnTo>
                                <a:pt x="559" y="163"/>
                              </a:lnTo>
                              <a:lnTo>
                                <a:pt x="633" y="219"/>
                              </a:lnTo>
                              <a:lnTo>
                                <a:pt x="657" y="249"/>
                              </a:lnTo>
                              <a:lnTo>
                                <a:pt x="672" y="285"/>
                              </a:lnTo>
                              <a:lnTo>
                                <a:pt x="701" y="299"/>
                              </a:lnTo>
                              <a:lnTo>
                                <a:pt x="698" y="41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69696"/>
                        </a:solid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7" name=""/>
                        <p:cNvSpPr/>
                        <p:nvPr/>
                      </p:nvSpPr>
                      <p:spPr>
                        <a:xfrm>
                          <a:off x="1161720" y="5398920"/>
                          <a:ext cx="271080" cy="32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8" h="252">
                              <a:moveTo>
                                <a:pt x="53" y="0"/>
                              </a:moveTo>
                              <a:lnTo>
                                <a:pt x="0" y="178"/>
                              </a:lnTo>
                              <a:lnTo>
                                <a:pt x="228" y="252"/>
                              </a:lnTo>
                              <a:lnTo>
                                <a:pt x="198" y="39"/>
                              </a:lnTo>
                              <a:lnTo>
                                <a:pt x="101" y="24"/>
                              </a:lnTo>
                              <a:lnTo>
                                <a:pt x="53" y="6"/>
                              </a:lnTo>
                              <a:lnTo>
                                <a:pt x="53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8" name=""/>
                        <p:cNvSpPr/>
                        <p:nvPr/>
                      </p:nvSpPr>
                      <p:spPr>
                        <a:xfrm>
                          <a:off x="1161720" y="5398920"/>
                          <a:ext cx="271080" cy="32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8" h="252">
                              <a:moveTo>
                                <a:pt x="53" y="0"/>
                              </a:moveTo>
                              <a:lnTo>
                                <a:pt x="0" y="178"/>
                              </a:lnTo>
                              <a:lnTo>
                                <a:pt x="228" y="252"/>
                              </a:lnTo>
                              <a:lnTo>
                                <a:pt x="198" y="39"/>
                              </a:lnTo>
                              <a:lnTo>
                                <a:pt x="101" y="24"/>
                              </a:lnTo>
                              <a:lnTo>
                                <a:pt x="53" y="6"/>
                              </a:lnTo>
                            </a:path>
                          </a:pathLst>
                        </a:custGeom>
                        <a:noFill/>
                        <a:ln w="468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9" name=""/>
                        <p:cNvSpPr/>
                        <p:nvPr/>
                      </p:nvSpPr>
                      <p:spPr>
                        <a:xfrm>
                          <a:off x="1165320" y="5402880"/>
                          <a:ext cx="271080" cy="32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8" h="252">
                              <a:moveTo>
                                <a:pt x="53" y="0"/>
                              </a:moveTo>
                              <a:lnTo>
                                <a:pt x="0" y="178"/>
                              </a:lnTo>
                              <a:lnTo>
                                <a:pt x="228" y="252"/>
                              </a:lnTo>
                              <a:lnTo>
                                <a:pt x="198" y="39"/>
                              </a:lnTo>
                              <a:lnTo>
                                <a:pt x="101" y="24"/>
                              </a:lnTo>
                              <a:lnTo>
                                <a:pt x="53" y="6"/>
                              </a:lnTo>
                            </a:path>
                          </a:pathLst>
                        </a:custGeom>
                        <a:noFill/>
                        <a:ln w="468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0" name=""/>
                        <p:cNvSpPr/>
                        <p:nvPr/>
                      </p:nvSpPr>
                      <p:spPr>
                        <a:xfrm>
                          <a:off x="1627200" y="5606280"/>
                          <a:ext cx="108000" cy="294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1" h="228">
                              <a:moveTo>
                                <a:pt x="47" y="0"/>
                              </a:moveTo>
                              <a:lnTo>
                                <a:pt x="0" y="145"/>
                              </a:lnTo>
                              <a:lnTo>
                                <a:pt x="91" y="228"/>
                              </a:lnTo>
                              <a:lnTo>
                                <a:pt x="91" y="9"/>
                              </a:lnTo>
                              <a:lnTo>
                                <a:pt x="4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468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1" name=""/>
                        <p:cNvSpPr/>
                        <p:nvPr/>
                      </p:nvSpPr>
                      <p:spPr>
                        <a:xfrm>
                          <a:off x="1630800" y="5610240"/>
                          <a:ext cx="108000" cy="294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1" h="228">
                              <a:moveTo>
                                <a:pt x="47" y="0"/>
                              </a:moveTo>
                              <a:lnTo>
                                <a:pt x="0" y="145"/>
                              </a:lnTo>
                              <a:lnTo>
                                <a:pt x="91" y="228"/>
                              </a:lnTo>
                              <a:lnTo>
                                <a:pt x="91" y="9"/>
                              </a:lnTo>
                              <a:lnTo>
                                <a:pt x="47" y="0"/>
                              </a:lnTo>
                              <a:close/>
                            </a:path>
                          </a:pathLst>
                        </a:custGeom>
                        <a:noFill/>
                        <a:ln w="4680">
                          <a:solidFill>
                            <a:srgbClr val="fffff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702" name=""/>
                        <p:cNvGrpSpPr/>
                        <p:nvPr/>
                      </p:nvGrpSpPr>
                      <p:grpSpPr>
                        <a:xfrm>
                          <a:off x="1221120" y="5373360"/>
                          <a:ext cx="517320" cy="282600"/>
                          <a:chOff x="1221120" y="5373360"/>
                          <a:chExt cx="517320" cy="282600"/>
                        </a:xfrm>
                      </p:grpSpPr>
                      <p:sp>
                        <p:nvSpPr>
                          <p:cNvPr id="703" name=""/>
                          <p:cNvSpPr/>
                          <p:nvPr/>
                        </p:nvSpPr>
                        <p:spPr>
                          <a:xfrm>
                            <a:off x="1221120" y="5373360"/>
                            <a:ext cx="98640" cy="91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3" h="71">
                                <a:moveTo>
                                  <a:pt x="63" y="6"/>
                                </a:moveTo>
                                <a:lnTo>
                                  <a:pt x="57" y="6"/>
                                </a:lnTo>
                                <a:lnTo>
                                  <a:pt x="42" y="3"/>
                                </a:lnTo>
                                <a:lnTo>
                                  <a:pt x="27" y="0"/>
                                </a:lnTo>
                                <a:lnTo>
                                  <a:pt x="18" y="3"/>
                                </a:lnTo>
                                <a:lnTo>
                                  <a:pt x="12" y="6"/>
                                </a:lnTo>
                                <a:lnTo>
                                  <a:pt x="3" y="14"/>
                                </a:lnTo>
                                <a:lnTo>
                                  <a:pt x="0" y="23"/>
                                </a:lnTo>
                                <a:lnTo>
                                  <a:pt x="3" y="35"/>
                                </a:lnTo>
                                <a:lnTo>
                                  <a:pt x="12" y="44"/>
                                </a:lnTo>
                                <a:lnTo>
                                  <a:pt x="15" y="50"/>
                                </a:lnTo>
                                <a:lnTo>
                                  <a:pt x="24" y="62"/>
                                </a:lnTo>
                                <a:lnTo>
                                  <a:pt x="39" y="68"/>
                                </a:lnTo>
                                <a:lnTo>
                                  <a:pt x="57" y="71"/>
                                </a:lnTo>
                                <a:lnTo>
                                  <a:pt x="74" y="62"/>
                                </a:lnTo>
                                <a:lnTo>
                                  <a:pt x="80" y="56"/>
                                </a:lnTo>
                                <a:lnTo>
                                  <a:pt x="83" y="41"/>
                                </a:lnTo>
                                <a:lnTo>
                                  <a:pt x="80" y="32"/>
                                </a:lnTo>
                                <a:lnTo>
                                  <a:pt x="80" y="29"/>
                                </a:lnTo>
                                <a:lnTo>
                                  <a:pt x="71" y="14"/>
                                </a:lnTo>
                                <a:lnTo>
                                  <a:pt x="63" y="6"/>
                                </a:lnTo>
                                <a:lnTo>
                                  <a:pt x="63" y="6"/>
                                </a:lnTo>
                                <a:close/>
                              </a:path>
                            </a:pathLst>
                          </a:custGeom>
                          <a:blipFill rotWithShape="0">
                            <a:blip r:embed="rId2"/>
                            <a:srcRect/>
                            <a:tile tx="0" ty="0" sx="100000" sy="100000" algn="ctr"/>
                          </a:blipFill>
                          <a:ln w="46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4640" bIns="446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04" name=""/>
                          <p:cNvSpPr/>
                          <p:nvPr/>
                        </p:nvSpPr>
                        <p:spPr>
                          <a:xfrm flipV="1">
                            <a:off x="1295640" y="5380560"/>
                            <a:ext cx="1080" cy="252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4280" bIns="-442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05" name=""/>
                          <p:cNvSpPr/>
                          <p:nvPr/>
                        </p:nvSpPr>
                        <p:spPr>
                          <a:xfrm>
                            <a:off x="1315800" y="5414400"/>
                            <a:ext cx="80640" cy="87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8" h="68">
                                <a:moveTo>
                                  <a:pt x="30" y="0"/>
                                </a:moveTo>
                                <a:lnTo>
                                  <a:pt x="18" y="3"/>
                                </a:lnTo>
                                <a:lnTo>
                                  <a:pt x="12" y="6"/>
                                </a:lnTo>
                                <a:lnTo>
                                  <a:pt x="6" y="12"/>
                                </a:lnTo>
                                <a:lnTo>
                                  <a:pt x="0" y="15"/>
                                </a:lnTo>
                                <a:lnTo>
                                  <a:pt x="0" y="27"/>
                                </a:lnTo>
                                <a:lnTo>
                                  <a:pt x="0" y="36"/>
                                </a:lnTo>
                                <a:lnTo>
                                  <a:pt x="0" y="39"/>
                                </a:lnTo>
                                <a:lnTo>
                                  <a:pt x="3" y="48"/>
                                </a:lnTo>
                                <a:lnTo>
                                  <a:pt x="3" y="56"/>
                                </a:lnTo>
                                <a:lnTo>
                                  <a:pt x="12" y="59"/>
                                </a:lnTo>
                                <a:lnTo>
                                  <a:pt x="30" y="62"/>
                                </a:lnTo>
                                <a:lnTo>
                                  <a:pt x="39" y="65"/>
                                </a:lnTo>
                                <a:lnTo>
                                  <a:pt x="42" y="68"/>
                                </a:lnTo>
                                <a:lnTo>
                                  <a:pt x="45" y="65"/>
                                </a:lnTo>
                                <a:lnTo>
                                  <a:pt x="51" y="62"/>
                                </a:lnTo>
                                <a:lnTo>
                                  <a:pt x="51" y="62"/>
                                </a:lnTo>
                                <a:lnTo>
                                  <a:pt x="56" y="65"/>
                                </a:lnTo>
                                <a:lnTo>
                                  <a:pt x="65" y="65"/>
                                </a:lnTo>
                                <a:lnTo>
                                  <a:pt x="65" y="62"/>
                                </a:lnTo>
                                <a:lnTo>
                                  <a:pt x="65" y="59"/>
                                </a:lnTo>
                                <a:lnTo>
                                  <a:pt x="68" y="50"/>
                                </a:lnTo>
                                <a:lnTo>
                                  <a:pt x="68" y="39"/>
                                </a:lnTo>
                                <a:lnTo>
                                  <a:pt x="65" y="33"/>
                                </a:lnTo>
                                <a:lnTo>
                                  <a:pt x="62" y="24"/>
                                </a:lnTo>
                                <a:lnTo>
                                  <a:pt x="48" y="9"/>
                                </a:lnTo>
                                <a:lnTo>
                                  <a:pt x="39" y="0"/>
                                </a:lnTo>
                                <a:lnTo>
                                  <a:pt x="30" y="0"/>
                                </a:lnTo>
                                <a:close/>
                              </a:path>
                            </a:pathLst>
                          </a:custGeom>
                          <a:blipFill rotWithShape="0">
                            <a:blip r:embed="rId3"/>
                            <a:srcRect/>
                            <a:tile tx="0" ty="0" sx="100000" sy="100000" algn="ctr"/>
                          </a:blipFill>
                          <a:ln w="46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1040" bIns="410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06" name=""/>
                          <p:cNvSpPr/>
                          <p:nvPr/>
                        </p:nvSpPr>
                        <p:spPr>
                          <a:xfrm>
                            <a:off x="1344600" y="5414400"/>
                            <a:ext cx="7200" cy="108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720" bIns="-457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07" name=""/>
                          <p:cNvSpPr/>
                          <p:nvPr/>
                        </p:nvSpPr>
                        <p:spPr>
                          <a:xfrm>
                            <a:off x="1679040" y="5586480"/>
                            <a:ext cx="59400" cy="69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0" h="54">
                                <a:moveTo>
                                  <a:pt x="35" y="3"/>
                                </a:moveTo>
                                <a:lnTo>
                                  <a:pt x="21" y="0"/>
                                </a:lnTo>
                                <a:lnTo>
                                  <a:pt x="9" y="0"/>
                                </a:lnTo>
                                <a:lnTo>
                                  <a:pt x="6" y="3"/>
                                </a:lnTo>
                                <a:lnTo>
                                  <a:pt x="0" y="12"/>
                                </a:lnTo>
                                <a:lnTo>
                                  <a:pt x="6" y="30"/>
                                </a:lnTo>
                                <a:lnTo>
                                  <a:pt x="15" y="39"/>
                                </a:lnTo>
                                <a:lnTo>
                                  <a:pt x="21" y="48"/>
                                </a:lnTo>
                                <a:lnTo>
                                  <a:pt x="27" y="54"/>
                                </a:lnTo>
                                <a:lnTo>
                                  <a:pt x="35" y="54"/>
                                </a:lnTo>
                                <a:lnTo>
                                  <a:pt x="44" y="48"/>
                                </a:lnTo>
                                <a:lnTo>
                                  <a:pt x="47" y="48"/>
                                </a:lnTo>
                                <a:lnTo>
                                  <a:pt x="50" y="45"/>
                                </a:lnTo>
                                <a:lnTo>
                                  <a:pt x="50" y="36"/>
                                </a:lnTo>
                                <a:lnTo>
                                  <a:pt x="50" y="30"/>
                                </a:lnTo>
                                <a:lnTo>
                                  <a:pt x="50" y="27"/>
                                </a:lnTo>
                                <a:lnTo>
                                  <a:pt x="47" y="18"/>
                                </a:lnTo>
                                <a:lnTo>
                                  <a:pt x="44" y="9"/>
                                </a:lnTo>
                                <a:lnTo>
                                  <a:pt x="44" y="6"/>
                                </a:lnTo>
                                <a:lnTo>
                                  <a:pt x="41" y="3"/>
                                </a:lnTo>
                                <a:lnTo>
                                  <a:pt x="35" y="3"/>
                                </a:lnTo>
                                <a:close/>
                              </a:path>
                            </a:pathLst>
                          </a:custGeom>
                          <a:blipFill rotWithShape="0">
                            <a:blip r:embed="rId4"/>
                            <a:srcRect/>
                            <a:tile tx="0" ty="0" sx="100000" sy="100000" algn="ctr"/>
                          </a:blipFill>
                          <a:ln w="46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2680" bIns="226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708" name=""/>
                          <p:cNvSpPr/>
                          <p:nvPr/>
                        </p:nvSpPr>
                        <p:spPr>
                          <a:xfrm flipV="1">
                            <a:off x="1717200" y="5590440"/>
                            <a:ext cx="3600" cy="3600"/>
                          </a:xfrm>
                          <a:prstGeom prst="line">
                            <a:avLst/>
                          </a:prstGeom>
                          <a:ln w="468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709" name=""/>
                        <p:cNvSpPr/>
                        <p:nvPr/>
                      </p:nvSpPr>
                      <p:spPr>
                        <a:xfrm>
                          <a:off x="1286280" y="5496120"/>
                          <a:ext cx="86040" cy="2134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0" rIns="0" tIns="0" bIns="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?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0" name=""/>
                        <p:cNvSpPr/>
                        <p:nvPr/>
                      </p:nvSpPr>
                      <p:spPr>
                        <a:xfrm>
                          <a:off x="1686600" y="5681160"/>
                          <a:ext cx="86040" cy="2134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0" rIns="0" tIns="0" bIns="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Comic Sans MS"/>
                            </a:rPr>
                            <a:t>?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711" name=""/>
                    <p:cNvSpPr/>
                    <p:nvPr/>
                  </p:nvSpPr>
                  <p:spPr>
                    <a:xfrm>
                      <a:off x="940320" y="4614840"/>
                      <a:ext cx="957960" cy="45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Organab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2" name=""/>
                  <p:cNvGrpSpPr/>
                  <p:nvPr/>
                </p:nvGrpSpPr>
                <p:grpSpPr>
                  <a:xfrm>
                    <a:off x="468360" y="3443400"/>
                    <a:ext cx="1856880" cy="1364760"/>
                    <a:chOff x="468360" y="3443400"/>
                    <a:chExt cx="1856880" cy="1364760"/>
                  </a:xfrm>
                </p:grpSpPr>
                <p:sp>
                  <p:nvSpPr>
                    <p:cNvPr id="713" name=""/>
                    <p:cNvSpPr/>
                    <p:nvPr/>
                  </p:nvSpPr>
                  <p:spPr>
                    <a:xfrm>
                      <a:off x="468360" y="4189320"/>
                      <a:ext cx="856440" cy="42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af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BAFO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14" name=""/>
                    <p:cNvGrpSpPr/>
                    <p:nvPr/>
                  </p:nvGrpSpPr>
                  <p:grpSpPr>
                    <a:xfrm>
                      <a:off x="596880" y="3443400"/>
                      <a:ext cx="1591560" cy="932400"/>
                      <a:chOff x="596880" y="3443400"/>
                      <a:chExt cx="1591560" cy="932400"/>
                    </a:xfrm>
                  </p:grpSpPr>
                  <p:sp>
                    <p:nvSpPr>
                      <p:cNvPr id="715" name=""/>
                      <p:cNvSpPr/>
                      <p:nvPr/>
                    </p:nvSpPr>
                    <p:spPr>
                      <a:xfrm>
                        <a:off x="610920" y="3474360"/>
                        <a:ext cx="1562760" cy="4971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med" type="triangle" w="med"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6" name=""/>
                      <p:cNvSpPr/>
                      <p:nvPr/>
                    </p:nvSpPr>
                    <p:spPr>
                      <a:xfrm>
                        <a:off x="2188440" y="3940560"/>
                        <a:ext cx="0" cy="4352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17" name=""/>
                      <p:cNvSpPr/>
                      <p:nvPr/>
                    </p:nvSpPr>
                    <p:spPr>
                      <a:xfrm>
                        <a:off x="596880" y="3443400"/>
                        <a:ext cx="0" cy="310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18" name=""/>
                    <p:cNvGrpSpPr/>
                    <p:nvPr/>
                  </p:nvGrpSpPr>
                  <p:grpSpPr>
                    <a:xfrm>
                      <a:off x="495720" y="3563640"/>
                      <a:ext cx="1829520" cy="1244520"/>
                      <a:chOff x="495720" y="3563640"/>
                      <a:chExt cx="1829520" cy="1244520"/>
                    </a:xfrm>
                  </p:grpSpPr>
                  <p:sp>
                    <p:nvSpPr>
                      <p:cNvPr id="719" name=""/>
                      <p:cNvSpPr/>
                      <p:nvPr/>
                    </p:nvSpPr>
                    <p:spPr>
                      <a:xfrm>
                        <a:off x="826200" y="4054320"/>
                        <a:ext cx="1495080" cy="753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57" h="582">
                            <a:moveTo>
                              <a:pt x="1257" y="396"/>
                            </a:moveTo>
                            <a:lnTo>
                              <a:pt x="1257" y="582"/>
                            </a:lnTo>
                            <a:lnTo>
                              <a:pt x="1192" y="577"/>
                            </a:lnTo>
                            <a:lnTo>
                              <a:pt x="1005" y="352"/>
                            </a:lnTo>
                            <a:lnTo>
                              <a:pt x="798" y="266"/>
                            </a:lnTo>
                            <a:lnTo>
                              <a:pt x="461" y="142"/>
                            </a:lnTo>
                            <a:lnTo>
                              <a:pt x="0" y="0"/>
                            </a:lnTo>
                            <a:lnTo>
                              <a:pt x="837" y="59"/>
                            </a:lnTo>
                            <a:lnTo>
                              <a:pt x="1257" y="396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5"/>
                        <a:srcRect/>
                        <a:tile tx="0" ty="0" sx="100000" sy="100000" algn="ctr"/>
                      </a:blip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0" name=""/>
                      <p:cNvSpPr/>
                      <p:nvPr/>
                    </p:nvSpPr>
                    <p:spPr>
                      <a:xfrm>
                        <a:off x="495720" y="3563640"/>
                        <a:ext cx="1829520" cy="1038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38" h="802">
                            <a:moveTo>
                              <a:pt x="1538" y="796"/>
                            </a:moveTo>
                            <a:lnTo>
                              <a:pt x="1485" y="799"/>
                            </a:lnTo>
                            <a:lnTo>
                              <a:pt x="1283" y="633"/>
                            </a:lnTo>
                            <a:lnTo>
                              <a:pt x="1085" y="458"/>
                            </a:lnTo>
                            <a:lnTo>
                              <a:pt x="742" y="432"/>
                            </a:lnTo>
                            <a:lnTo>
                              <a:pt x="266" y="396"/>
                            </a:lnTo>
                            <a:lnTo>
                              <a:pt x="26" y="343"/>
                            </a:lnTo>
                            <a:lnTo>
                              <a:pt x="0" y="346"/>
                            </a:lnTo>
                            <a:lnTo>
                              <a:pt x="0" y="0"/>
                            </a:lnTo>
                            <a:lnTo>
                              <a:pt x="20" y="0"/>
                            </a:lnTo>
                            <a:lnTo>
                              <a:pt x="207" y="38"/>
                            </a:lnTo>
                            <a:lnTo>
                              <a:pt x="689" y="160"/>
                            </a:lnTo>
                            <a:lnTo>
                              <a:pt x="1026" y="275"/>
                            </a:lnTo>
                            <a:lnTo>
                              <a:pt x="1283" y="376"/>
                            </a:lnTo>
                            <a:lnTo>
                              <a:pt x="1488" y="606"/>
                            </a:lnTo>
                            <a:lnTo>
                              <a:pt x="1538" y="618"/>
                            </a:lnTo>
                            <a:lnTo>
                              <a:pt x="1538" y="802"/>
                            </a:lnTo>
                            <a:lnTo>
                              <a:pt x="1538" y="796"/>
                            </a:lnTo>
                            <a:close/>
                          </a:path>
                        </a:pathLst>
                      </a:cu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721" name=""/>
                  <p:cNvGrpSpPr/>
                  <p:nvPr/>
                </p:nvGrpSpPr>
                <p:grpSpPr>
                  <a:xfrm>
                    <a:off x="2440080" y="4967280"/>
                    <a:ext cx="1258560" cy="951840"/>
                    <a:chOff x="2440080" y="4967280"/>
                    <a:chExt cx="1258560" cy="951840"/>
                  </a:xfrm>
                </p:grpSpPr>
                <p:grpSp>
                  <p:nvGrpSpPr>
                    <p:cNvPr id="722" name=""/>
                    <p:cNvGrpSpPr/>
                    <p:nvPr/>
                  </p:nvGrpSpPr>
                  <p:grpSpPr>
                    <a:xfrm>
                      <a:off x="2570760" y="5066640"/>
                      <a:ext cx="856440" cy="621720"/>
                      <a:chOff x="2570760" y="5066640"/>
                      <a:chExt cx="856440" cy="621720"/>
                    </a:xfrm>
                  </p:grpSpPr>
                  <p:sp>
                    <p:nvSpPr>
                      <p:cNvPr id="723" name=""/>
                      <p:cNvSpPr/>
                      <p:nvPr/>
                    </p:nvSpPr>
                    <p:spPr>
                      <a:xfrm>
                        <a:off x="2592000" y="5128920"/>
                        <a:ext cx="834840" cy="3261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headEnd len="med" type="triangle" w="med"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4" name=""/>
                      <p:cNvSpPr/>
                      <p:nvPr/>
                    </p:nvSpPr>
                    <p:spPr>
                      <a:xfrm>
                        <a:off x="2570760" y="5066640"/>
                        <a:ext cx="0" cy="311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5" name=""/>
                      <p:cNvSpPr/>
                      <p:nvPr/>
                    </p:nvSpPr>
                    <p:spPr>
                      <a:xfrm>
                        <a:off x="3427200" y="5377680"/>
                        <a:ext cx="0" cy="310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726" name=""/>
                    <p:cNvGrpSpPr/>
                    <p:nvPr/>
                  </p:nvGrpSpPr>
                  <p:grpSpPr>
                    <a:xfrm>
                      <a:off x="2440080" y="5202720"/>
                      <a:ext cx="1026720" cy="716400"/>
                      <a:chOff x="2440080" y="5202720"/>
                      <a:chExt cx="1026720" cy="716400"/>
                    </a:xfrm>
                  </p:grpSpPr>
                  <p:sp>
                    <p:nvSpPr>
                      <p:cNvPr id="727" name=""/>
                      <p:cNvSpPr/>
                      <p:nvPr/>
                    </p:nvSpPr>
                    <p:spPr>
                      <a:xfrm>
                        <a:off x="2447280" y="5390640"/>
                        <a:ext cx="1019520" cy="528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57" h="408">
                            <a:moveTo>
                              <a:pt x="0" y="0"/>
                            </a:moveTo>
                            <a:lnTo>
                              <a:pt x="88" y="6"/>
                            </a:lnTo>
                            <a:lnTo>
                              <a:pt x="857" y="281"/>
                            </a:lnTo>
                            <a:lnTo>
                              <a:pt x="854" y="408"/>
                            </a:lnTo>
                            <a:lnTo>
                              <a:pt x="499" y="408"/>
                            </a:lnTo>
                            <a:lnTo>
                              <a:pt x="325" y="346"/>
                            </a:lnTo>
                            <a:lnTo>
                              <a:pt x="227" y="198"/>
                            </a:lnTo>
                            <a:lnTo>
                              <a:pt x="198" y="177"/>
                            </a:lnTo>
                            <a:lnTo>
                              <a:pt x="50" y="157"/>
                            </a:lnTo>
                            <a:lnTo>
                              <a:pt x="0" y="154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6"/>
                        <a:srcRect/>
                        <a:tile tx="0" ty="0" sx="100000" sy="100000" algn="ctr"/>
                      </a:blip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28" name=""/>
                      <p:cNvSpPr/>
                      <p:nvPr/>
                    </p:nvSpPr>
                    <p:spPr>
                      <a:xfrm>
                        <a:off x="2440080" y="5202720"/>
                        <a:ext cx="1026720" cy="612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3" h="473">
                            <a:moveTo>
                              <a:pt x="0" y="0"/>
                            </a:moveTo>
                            <a:lnTo>
                              <a:pt x="80" y="3"/>
                            </a:lnTo>
                            <a:lnTo>
                              <a:pt x="195" y="53"/>
                            </a:lnTo>
                            <a:lnTo>
                              <a:pt x="328" y="195"/>
                            </a:lnTo>
                            <a:lnTo>
                              <a:pt x="488" y="251"/>
                            </a:lnTo>
                            <a:lnTo>
                              <a:pt x="807" y="311"/>
                            </a:lnTo>
                            <a:lnTo>
                              <a:pt x="863" y="319"/>
                            </a:lnTo>
                            <a:lnTo>
                              <a:pt x="863" y="450"/>
                            </a:lnTo>
                            <a:lnTo>
                              <a:pt x="508" y="473"/>
                            </a:lnTo>
                            <a:lnTo>
                              <a:pt x="331" y="387"/>
                            </a:lnTo>
                            <a:lnTo>
                              <a:pt x="195" y="340"/>
                            </a:lnTo>
                            <a:lnTo>
                              <a:pt x="56" y="160"/>
                            </a:lnTo>
                            <a:lnTo>
                              <a:pt x="6" y="154"/>
                            </a:lnTo>
                            <a:lnTo>
                              <a:pt x="6" y="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29" name=""/>
                    <p:cNvSpPr/>
                    <p:nvPr/>
                  </p:nvSpPr>
                  <p:spPr>
                    <a:xfrm>
                      <a:off x="2669400" y="4967280"/>
                      <a:ext cx="1029240" cy="608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16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Paracou, parc 1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0" name=""/>
                  <p:cNvSpPr/>
                  <p:nvPr/>
                </p:nvSpPr>
                <p:spPr>
                  <a:xfrm>
                    <a:off x="2961720" y="4149720"/>
                    <a:ext cx="1060200" cy="55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So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(Soft-haut)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31" name="" descr=""/>
                <p:cNvPicPr/>
                <p:nvPr/>
              </p:nvPicPr>
              <p:blipFill>
                <a:blip r:embed="rId7"/>
                <a:srcRect l="0" t="0" r="54790" b="3632"/>
                <a:stretch/>
              </p:blipFill>
              <p:spPr>
                <a:xfrm>
                  <a:off x="2963880" y="3357720"/>
                  <a:ext cx="887400" cy="1341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32" name=""/>
            <p:cNvSpPr/>
            <p:nvPr/>
          </p:nvSpPr>
          <p:spPr>
            <a:xfrm>
              <a:off x="293760" y="5792760"/>
              <a:ext cx="304560" cy="380880"/>
            </a:xfrm>
            <a:prstGeom prst="irregularSeal1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39720" y="5838840"/>
              <a:ext cx="2811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Times New Roman"/>
                </a:rPr>
                <a:t>Station à réserve en eau élevé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4500720" y="1916280"/>
            <a:ext cx="1059840" cy="1207800"/>
            <a:chOff x="4500720" y="1916280"/>
            <a:chExt cx="1059840" cy="1207800"/>
          </a:xfrm>
        </p:grpSpPr>
        <p:sp>
          <p:nvSpPr>
            <p:cNvPr id="735" name=""/>
            <p:cNvSpPr/>
            <p:nvPr/>
          </p:nvSpPr>
          <p:spPr>
            <a:xfrm>
              <a:off x="4572000" y="2743200"/>
              <a:ext cx="304920" cy="3808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4805280" y="2801880"/>
              <a:ext cx="393840" cy="127080"/>
              <a:chOff x="4805280" y="2801880"/>
              <a:chExt cx="393840" cy="127080"/>
            </a:xfrm>
          </p:grpSpPr>
          <p:sp>
            <p:nvSpPr>
              <p:cNvPr id="737" name=""/>
              <p:cNvSpPr/>
              <p:nvPr/>
            </p:nvSpPr>
            <p:spPr>
              <a:xfrm>
                <a:off x="4805280" y="2801880"/>
                <a:ext cx="165240" cy="127080"/>
              </a:xfrm>
              <a:custGeom>
                <a:avLst/>
                <a:gdLst/>
                <a:ahLst/>
                <a:rect l="l" t="t" r="r" b="b"/>
                <a:pathLst>
                  <a:path w="104" h="80">
                    <a:moveTo>
                      <a:pt x="0" y="48"/>
                    </a:moveTo>
                    <a:lnTo>
                      <a:pt x="104" y="0"/>
                    </a:lnTo>
                    <a:lnTo>
                      <a:pt x="104" y="40"/>
                    </a:lnTo>
                    <a:lnTo>
                      <a:pt x="104" y="8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4970520" y="2852640"/>
                <a:ext cx="22860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5185800" y="2725560"/>
              <a:ext cx="221760" cy="182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Bauhaus 93"/>
                </a:rPr>
                <a:t>P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500720" y="1916280"/>
              <a:ext cx="304560" cy="3808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716360" y="1989000"/>
              <a:ext cx="304920" cy="38124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788000" y="2421000"/>
              <a:ext cx="304560" cy="380880"/>
            </a:xfrm>
            <a:prstGeom prst="irregularSeal1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88400" y="2489040"/>
              <a:ext cx="272160" cy="182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Bauhaus 93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5003280" y="2637000"/>
              <a:ext cx="289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4103640" y="3213000"/>
            <a:ext cx="5040360" cy="3384720"/>
            <a:chOff x="4103640" y="3213000"/>
            <a:chExt cx="5040360" cy="3384720"/>
          </a:xfrm>
        </p:grpSpPr>
        <p:grpSp>
          <p:nvGrpSpPr>
            <p:cNvPr id="746" name=""/>
            <p:cNvGrpSpPr/>
            <p:nvPr/>
          </p:nvGrpSpPr>
          <p:grpSpPr>
            <a:xfrm>
              <a:off x="4103640" y="3213000"/>
              <a:ext cx="5040360" cy="3384720"/>
              <a:chOff x="4103640" y="3213000"/>
              <a:chExt cx="5040360" cy="3384720"/>
            </a:xfrm>
          </p:grpSpPr>
          <p:grpSp>
            <p:nvGrpSpPr>
              <p:cNvPr id="747" name=""/>
              <p:cNvGrpSpPr/>
              <p:nvPr/>
            </p:nvGrpSpPr>
            <p:grpSpPr>
              <a:xfrm>
                <a:off x="4103640" y="3213000"/>
                <a:ext cx="5040360" cy="3384720"/>
                <a:chOff x="4103640" y="3213000"/>
                <a:chExt cx="5040360" cy="338472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4103640" y="3213000"/>
                  <a:ext cx="5040360" cy="33847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9" name=""/>
                <p:cNvGrpSpPr/>
                <p:nvPr/>
              </p:nvGrpSpPr>
              <p:grpSpPr>
                <a:xfrm>
                  <a:off x="6838920" y="4941720"/>
                  <a:ext cx="2187720" cy="1316160"/>
                  <a:chOff x="6838920" y="4941720"/>
                  <a:chExt cx="2187720" cy="1316160"/>
                </a:xfrm>
              </p:grpSpPr>
              <p:grpSp>
                <p:nvGrpSpPr>
                  <p:cNvPr id="750" name=""/>
                  <p:cNvGrpSpPr/>
                  <p:nvPr/>
                </p:nvGrpSpPr>
                <p:grpSpPr>
                  <a:xfrm>
                    <a:off x="6942240" y="5425920"/>
                    <a:ext cx="1827000" cy="354240"/>
                    <a:chOff x="6942240" y="5425920"/>
                    <a:chExt cx="1827000" cy="354240"/>
                  </a:xfrm>
                </p:grpSpPr>
                <p:sp>
                  <p:nvSpPr>
                    <p:cNvPr id="751" name=""/>
                    <p:cNvSpPr/>
                    <p:nvPr/>
                  </p:nvSpPr>
                  <p:spPr>
                    <a:xfrm flipV="1">
                      <a:off x="6942240" y="5435280"/>
                      <a:ext cx="1440" cy="32364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"/>
                    <p:cNvSpPr/>
                    <p:nvPr/>
                  </p:nvSpPr>
                  <p:spPr>
                    <a:xfrm>
                      <a:off x="8767800" y="5425920"/>
                      <a:ext cx="1440" cy="25416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3" name=""/>
                    <p:cNvSpPr/>
                    <p:nvPr/>
                  </p:nvSpPr>
                  <p:spPr>
                    <a:xfrm>
                      <a:off x="6972480" y="5475240"/>
                      <a:ext cx="1790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"/>
                    <p:cNvSpPr/>
                    <p:nvPr/>
                  </p:nvSpPr>
                  <p:spPr>
                    <a:xfrm>
                      <a:off x="6946920" y="5475240"/>
                      <a:ext cx="0" cy="304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5" name=""/>
                    <p:cNvSpPr/>
                    <p:nvPr/>
                  </p:nvSpPr>
                  <p:spPr>
                    <a:xfrm>
                      <a:off x="8763120" y="5475240"/>
                      <a:ext cx="0" cy="304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6" name=""/>
                  <p:cNvGrpSpPr/>
                  <p:nvPr/>
                </p:nvGrpSpPr>
                <p:grpSpPr>
                  <a:xfrm>
                    <a:off x="6838920" y="5586480"/>
                    <a:ext cx="2187720" cy="671400"/>
                    <a:chOff x="6838920" y="5586480"/>
                    <a:chExt cx="2187720" cy="671400"/>
                  </a:xfrm>
                </p:grpSpPr>
                <p:sp>
                  <p:nvSpPr>
                    <p:cNvPr id="757" name=""/>
                    <p:cNvSpPr/>
                    <p:nvPr/>
                  </p:nvSpPr>
                  <p:spPr>
                    <a:xfrm>
                      <a:off x="8040600" y="5864040"/>
                      <a:ext cx="943200" cy="37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4" h="239">
                          <a:moveTo>
                            <a:pt x="594" y="94"/>
                          </a:moveTo>
                          <a:lnTo>
                            <a:pt x="594" y="239"/>
                          </a:lnTo>
                          <a:lnTo>
                            <a:pt x="337" y="145"/>
                          </a:lnTo>
                          <a:lnTo>
                            <a:pt x="281" y="124"/>
                          </a:lnTo>
                          <a:lnTo>
                            <a:pt x="92" y="100"/>
                          </a:lnTo>
                          <a:lnTo>
                            <a:pt x="0" y="44"/>
                          </a:lnTo>
                          <a:lnTo>
                            <a:pt x="343" y="0"/>
                          </a:lnTo>
                          <a:lnTo>
                            <a:pt x="594" y="94"/>
                          </a:lnTo>
                          <a:close/>
                        </a:path>
                      </a:pathLst>
                    </a:cu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"/>
                    <p:cNvSpPr/>
                    <p:nvPr/>
                  </p:nvSpPr>
                  <p:spPr>
                    <a:xfrm>
                      <a:off x="6848640" y="5586480"/>
                      <a:ext cx="2131920" cy="45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43" h="284">
                          <a:moveTo>
                            <a:pt x="1343" y="98"/>
                          </a:moveTo>
                          <a:lnTo>
                            <a:pt x="1343" y="284"/>
                          </a:lnTo>
                          <a:lnTo>
                            <a:pt x="1100" y="192"/>
                          </a:lnTo>
                          <a:lnTo>
                            <a:pt x="801" y="219"/>
                          </a:lnTo>
                          <a:lnTo>
                            <a:pt x="591" y="263"/>
                          </a:lnTo>
                          <a:lnTo>
                            <a:pt x="230" y="222"/>
                          </a:lnTo>
                          <a:lnTo>
                            <a:pt x="0" y="172"/>
                          </a:lnTo>
                          <a:lnTo>
                            <a:pt x="0" y="33"/>
                          </a:lnTo>
                          <a:lnTo>
                            <a:pt x="0" y="3"/>
                          </a:lnTo>
                          <a:lnTo>
                            <a:pt x="227" y="0"/>
                          </a:lnTo>
                          <a:lnTo>
                            <a:pt x="411" y="0"/>
                          </a:lnTo>
                          <a:lnTo>
                            <a:pt x="588" y="3"/>
                          </a:lnTo>
                          <a:lnTo>
                            <a:pt x="828" y="15"/>
                          </a:lnTo>
                          <a:lnTo>
                            <a:pt x="1094" y="3"/>
                          </a:lnTo>
                          <a:lnTo>
                            <a:pt x="1343" y="98"/>
                          </a:lnTo>
                          <a:close/>
                        </a:path>
                      </a:pathLst>
                    </a:cu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759" name=""/>
                    <p:cNvGrpSpPr/>
                    <p:nvPr/>
                  </p:nvGrpSpPr>
                  <p:grpSpPr>
                    <a:xfrm>
                      <a:off x="6838920" y="5629320"/>
                      <a:ext cx="2187720" cy="628560"/>
                      <a:chOff x="6838920" y="5629320"/>
                      <a:chExt cx="2187720" cy="628560"/>
                    </a:xfrm>
                  </p:grpSpPr>
                  <p:sp>
                    <p:nvSpPr>
                      <p:cNvPr id="760" name=""/>
                      <p:cNvSpPr/>
                      <p:nvPr/>
                    </p:nvSpPr>
                    <p:spPr>
                      <a:xfrm>
                        <a:off x="6838920" y="5629320"/>
                        <a:ext cx="1629000" cy="407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26" h="257">
                            <a:moveTo>
                              <a:pt x="3" y="14"/>
                            </a:moveTo>
                            <a:lnTo>
                              <a:pt x="3" y="8"/>
                            </a:lnTo>
                            <a:lnTo>
                              <a:pt x="3" y="6"/>
                            </a:lnTo>
                            <a:lnTo>
                              <a:pt x="6" y="3"/>
                            </a:lnTo>
                            <a:lnTo>
                              <a:pt x="17" y="0"/>
                            </a:lnTo>
                            <a:lnTo>
                              <a:pt x="32" y="3"/>
                            </a:lnTo>
                            <a:lnTo>
                              <a:pt x="38" y="3"/>
                            </a:lnTo>
                            <a:lnTo>
                              <a:pt x="47" y="3"/>
                            </a:lnTo>
                            <a:lnTo>
                              <a:pt x="62" y="3"/>
                            </a:lnTo>
                            <a:lnTo>
                              <a:pt x="68" y="3"/>
                            </a:lnTo>
                            <a:lnTo>
                              <a:pt x="71" y="3"/>
                            </a:lnTo>
                            <a:lnTo>
                              <a:pt x="80" y="3"/>
                            </a:lnTo>
                            <a:lnTo>
                              <a:pt x="97" y="6"/>
                            </a:lnTo>
                            <a:lnTo>
                              <a:pt x="106" y="8"/>
                            </a:lnTo>
                            <a:lnTo>
                              <a:pt x="109" y="8"/>
                            </a:lnTo>
                            <a:lnTo>
                              <a:pt x="121" y="20"/>
                            </a:lnTo>
                            <a:lnTo>
                              <a:pt x="130" y="47"/>
                            </a:lnTo>
                            <a:lnTo>
                              <a:pt x="133" y="74"/>
                            </a:lnTo>
                            <a:lnTo>
                              <a:pt x="133" y="85"/>
                            </a:lnTo>
                            <a:lnTo>
                              <a:pt x="136" y="85"/>
                            </a:lnTo>
                            <a:lnTo>
                              <a:pt x="139" y="77"/>
                            </a:lnTo>
                            <a:lnTo>
                              <a:pt x="142" y="65"/>
                            </a:lnTo>
                            <a:lnTo>
                              <a:pt x="142" y="59"/>
                            </a:lnTo>
                            <a:lnTo>
                              <a:pt x="145" y="53"/>
                            </a:lnTo>
                            <a:lnTo>
                              <a:pt x="151" y="44"/>
                            </a:lnTo>
                            <a:lnTo>
                              <a:pt x="156" y="44"/>
                            </a:lnTo>
                            <a:lnTo>
                              <a:pt x="165" y="41"/>
                            </a:lnTo>
                            <a:lnTo>
                              <a:pt x="180" y="44"/>
                            </a:lnTo>
                            <a:lnTo>
                              <a:pt x="186" y="50"/>
                            </a:lnTo>
                            <a:lnTo>
                              <a:pt x="192" y="56"/>
                            </a:lnTo>
                            <a:lnTo>
                              <a:pt x="201" y="68"/>
                            </a:lnTo>
                            <a:lnTo>
                              <a:pt x="204" y="77"/>
                            </a:lnTo>
                            <a:lnTo>
                              <a:pt x="207" y="82"/>
                            </a:lnTo>
                            <a:lnTo>
                              <a:pt x="207" y="91"/>
                            </a:lnTo>
                            <a:lnTo>
                              <a:pt x="210" y="100"/>
                            </a:lnTo>
                            <a:lnTo>
                              <a:pt x="213" y="103"/>
                            </a:lnTo>
                            <a:lnTo>
                              <a:pt x="216" y="103"/>
                            </a:lnTo>
                            <a:lnTo>
                              <a:pt x="222" y="103"/>
                            </a:lnTo>
                            <a:lnTo>
                              <a:pt x="225" y="103"/>
                            </a:lnTo>
                            <a:lnTo>
                              <a:pt x="230" y="106"/>
                            </a:lnTo>
                            <a:lnTo>
                              <a:pt x="239" y="109"/>
                            </a:lnTo>
                            <a:lnTo>
                              <a:pt x="242" y="112"/>
                            </a:lnTo>
                            <a:lnTo>
                              <a:pt x="248" y="115"/>
                            </a:lnTo>
                            <a:lnTo>
                              <a:pt x="260" y="118"/>
                            </a:lnTo>
                            <a:lnTo>
                              <a:pt x="266" y="121"/>
                            </a:lnTo>
                            <a:lnTo>
                              <a:pt x="263" y="121"/>
                            </a:lnTo>
                            <a:lnTo>
                              <a:pt x="263" y="124"/>
                            </a:lnTo>
                            <a:lnTo>
                              <a:pt x="263" y="121"/>
                            </a:lnTo>
                            <a:lnTo>
                              <a:pt x="269" y="112"/>
                            </a:lnTo>
                            <a:lnTo>
                              <a:pt x="275" y="94"/>
                            </a:lnTo>
                            <a:lnTo>
                              <a:pt x="275" y="88"/>
                            </a:lnTo>
                            <a:lnTo>
                              <a:pt x="278" y="85"/>
                            </a:lnTo>
                            <a:lnTo>
                              <a:pt x="278" y="80"/>
                            </a:lnTo>
                            <a:lnTo>
                              <a:pt x="281" y="71"/>
                            </a:lnTo>
                            <a:lnTo>
                              <a:pt x="284" y="68"/>
                            </a:lnTo>
                            <a:lnTo>
                              <a:pt x="293" y="59"/>
                            </a:lnTo>
                            <a:lnTo>
                              <a:pt x="295" y="53"/>
                            </a:lnTo>
                            <a:lnTo>
                              <a:pt x="301" y="50"/>
                            </a:lnTo>
                            <a:lnTo>
                              <a:pt x="316" y="53"/>
                            </a:lnTo>
                            <a:lnTo>
                              <a:pt x="328" y="56"/>
                            </a:lnTo>
                            <a:lnTo>
                              <a:pt x="331" y="56"/>
                            </a:lnTo>
                            <a:lnTo>
                              <a:pt x="337" y="59"/>
                            </a:lnTo>
                            <a:lnTo>
                              <a:pt x="343" y="65"/>
                            </a:lnTo>
                            <a:lnTo>
                              <a:pt x="349" y="77"/>
                            </a:lnTo>
                            <a:lnTo>
                              <a:pt x="361" y="100"/>
                            </a:lnTo>
                            <a:lnTo>
                              <a:pt x="364" y="109"/>
                            </a:lnTo>
                            <a:lnTo>
                              <a:pt x="366" y="118"/>
                            </a:lnTo>
                            <a:lnTo>
                              <a:pt x="375" y="133"/>
                            </a:lnTo>
                            <a:lnTo>
                              <a:pt x="378" y="142"/>
                            </a:lnTo>
                            <a:lnTo>
                              <a:pt x="378" y="148"/>
                            </a:lnTo>
                            <a:lnTo>
                              <a:pt x="381" y="153"/>
                            </a:lnTo>
                            <a:lnTo>
                              <a:pt x="384" y="159"/>
                            </a:lnTo>
                            <a:lnTo>
                              <a:pt x="378" y="165"/>
                            </a:lnTo>
                            <a:lnTo>
                              <a:pt x="378" y="165"/>
                            </a:lnTo>
                            <a:lnTo>
                              <a:pt x="381" y="165"/>
                            </a:lnTo>
                            <a:lnTo>
                              <a:pt x="384" y="168"/>
                            </a:lnTo>
                            <a:lnTo>
                              <a:pt x="387" y="165"/>
                            </a:lnTo>
                            <a:lnTo>
                              <a:pt x="390" y="156"/>
                            </a:lnTo>
                            <a:lnTo>
                              <a:pt x="393" y="139"/>
                            </a:lnTo>
                            <a:lnTo>
                              <a:pt x="393" y="133"/>
                            </a:lnTo>
                            <a:lnTo>
                              <a:pt x="396" y="130"/>
                            </a:lnTo>
                            <a:lnTo>
                              <a:pt x="396" y="118"/>
                            </a:lnTo>
                            <a:lnTo>
                              <a:pt x="399" y="109"/>
                            </a:lnTo>
                            <a:lnTo>
                              <a:pt x="402" y="106"/>
                            </a:lnTo>
                            <a:lnTo>
                              <a:pt x="408" y="103"/>
                            </a:lnTo>
                            <a:lnTo>
                              <a:pt x="420" y="100"/>
                            </a:lnTo>
                            <a:lnTo>
                              <a:pt x="429" y="100"/>
                            </a:lnTo>
                            <a:lnTo>
                              <a:pt x="435" y="100"/>
                            </a:lnTo>
                            <a:lnTo>
                              <a:pt x="452" y="94"/>
                            </a:lnTo>
                            <a:lnTo>
                              <a:pt x="470" y="88"/>
                            </a:lnTo>
                            <a:lnTo>
                              <a:pt x="476" y="88"/>
                            </a:lnTo>
                            <a:lnTo>
                              <a:pt x="485" y="88"/>
                            </a:lnTo>
                            <a:lnTo>
                              <a:pt x="500" y="94"/>
                            </a:lnTo>
                            <a:lnTo>
                              <a:pt x="508" y="100"/>
                            </a:lnTo>
                            <a:lnTo>
                              <a:pt x="511" y="103"/>
                            </a:lnTo>
                            <a:lnTo>
                              <a:pt x="511" y="109"/>
                            </a:lnTo>
                            <a:lnTo>
                              <a:pt x="511" y="112"/>
                            </a:lnTo>
                            <a:lnTo>
                              <a:pt x="511" y="115"/>
                            </a:lnTo>
                            <a:lnTo>
                              <a:pt x="514" y="118"/>
                            </a:lnTo>
                            <a:lnTo>
                              <a:pt x="514" y="118"/>
                            </a:lnTo>
                            <a:lnTo>
                              <a:pt x="517" y="118"/>
                            </a:lnTo>
                            <a:lnTo>
                              <a:pt x="517" y="109"/>
                            </a:lnTo>
                            <a:lnTo>
                              <a:pt x="520" y="85"/>
                            </a:lnTo>
                            <a:lnTo>
                              <a:pt x="526" y="68"/>
                            </a:lnTo>
                            <a:lnTo>
                              <a:pt x="541" y="56"/>
                            </a:lnTo>
                            <a:lnTo>
                              <a:pt x="574" y="41"/>
                            </a:lnTo>
                            <a:lnTo>
                              <a:pt x="600" y="41"/>
                            </a:lnTo>
                            <a:lnTo>
                              <a:pt x="609" y="41"/>
                            </a:lnTo>
                            <a:lnTo>
                              <a:pt x="612" y="41"/>
                            </a:lnTo>
                            <a:lnTo>
                              <a:pt x="621" y="35"/>
                            </a:lnTo>
                            <a:lnTo>
                              <a:pt x="627" y="32"/>
                            </a:lnTo>
                            <a:lnTo>
                              <a:pt x="633" y="32"/>
                            </a:lnTo>
                            <a:lnTo>
                              <a:pt x="639" y="29"/>
                            </a:lnTo>
                            <a:lnTo>
                              <a:pt x="653" y="26"/>
                            </a:lnTo>
                            <a:lnTo>
                              <a:pt x="680" y="32"/>
                            </a:lnTo>
                            <a:lnTo>
                              <a:pt x="698" y="44"/>
                            </a:lnTo>
                            <a:lnTo>
                              <a:pt x="704" y="47"/>
                            </a:lnTo>
                            <a:lnTo>
                              <a:pt x="710" y="50"/>
                            </a:lnTo>
                            <a:lnTo>
                              <a:pt x="724" y="56"/>
                            </a:lnTo>
                            <a:lnTo>
                              <a:pt x="736" y="65"/>
                            </a:lnTo>
                            <a:lnTo>
                              <a:pt x="745" y="74"/>
                            </a:lnTo>
                            <a:lnTo>
                              <a:pt x="745" y="82"/>
                            </a:lnTo>
                            <a:lnTo>
                              <a:pt x="748" y="103"/>
                            </a:lnTo>
                            <a:lnTo>
                              <a:pt x="751" y="127"/>
                            </a:lnTo>
                            <a:lnTo>
                              <a:pt x="751" y="139"/>
                            </a:lnTo>
                            <a:lnTo>
                              <a:pt x="754" y="136"/>
                            </a:lnTo>
                            <a:lnTo>
                              <a:pt x="760" y="127"/>
                            </a:lnTo>
                            <a:lnTo>
                              <a:pt x="769" y="118"/>
                            </a:lnTo>
                            <a:lnTo>
                              <a:pt x="772" y="115"/>
                            </a:lnTo>
                            <a:lnTo>
                              <a:pt x="775" y="115"/>
                            </a:lnTo>
                            <a:lnTo>
                              <a:pt x="778" y="118"/>
                            </a:lnTo>
                            <a:lnTo>
                              <a:pt x="784" y="124"/>
                            </a:lnTo>
                            <a:lnTo>
                              <a:pt x="789" y="124"/>
                            </a:lnTo>
                            <a:lnTo>
                              <a:pt x="795" y="127"/>
                            </a:lnTo>
                            <a:lnTo>
                              <a:pt x="798" y="133"/>
                            </a:lnTo>
                            <a:lnTo>
                              <a:pt x="804" y="139"/>
                            </a:lnTo>
                            <a:lnTo>
                              <a:pt x="816" y="156"/>
                            </a:lnTo>
                            <a:lnTo>
                              <a:pt x="822" y="165"/>
                            </a:lnTo>
                            <a:lnTo>
                              <a:pt x="834" y="174"/>
                            </a:lnTo>
                            <a:lnTo>
                              <a:pt x="843" y="183"/>
                            </a:lnTo>
                            <a:lnTo>
                              <a:pt x="849" y="180"/>
                            </a:lnTo>
                            <a:lnTo>
                              <a:pt x="858" y="174"/>
                            </a:lnTo>
                            <a:lnTo>
                              <a:pt x="869" y="168"/>
                            </a:lnTo>
                            <a:lnTo>
                              <a:pt x="878" y="171"/>
                            </a:lnTo>
                            <a:lnTo>
                              <a:pt x="890" y="171"/>
                            </a:lnTo>
                            <a:lnTo>
                              <a:pt x="905" y="171"/>
                            </a:lnTo>
                            <a:lnTo>
                              <a:pt x="914" y="177"/>
                            </a:lnTo>
                            <a:lnTo>
                              <a:pt x="917" y="177"/>
                            </a:lnTo>
                            <a:lnTo>
                              <a:pt x="928" y="168"/>
                            </a:lnTo>
                            <a:lnTo>
                              <a:pt x="934" y="162"/>
                            </a:lnTo>
                            <a:lnTo>
                              <a:pt x="940" y="159"/>
                            </a:lnTo>
                            <a:lnTo>
                              <a:pt x="943" y="156"/>
                            </a:lnTo>
                            <a:lnTo>
                              <a:pt x="952" y="156"/>
                            </a:lnTo>
                            <a:lnTo>
                              <a:pt x="961" y="156"/>
                            </a:lnTo>
                            <a:lnTo>
                              <a:pt x="967" y="162"/>
                            </a:lnTo>
                            <a:lnTo>
                              <a:pt x="970" y="168"/>
                            </a:lnTo>
                            <a:lnTo>
                              <a:pt x="976" y="162"/>
                            </a:lnTo>
                            <a:lnTo>
                              <a:pt x="985" y="156"/>
                            </a:lnTo>
                            <a:lnTo>
                              <a:pt x="994" y="156"/>
                            </a:lnTo>
                            <a:lnTo>
                              <a:pt x="1002" y="165"/>
                            </a:lnTo>
                            <a:lnTo>
                              <a:pt x="1008" y="165"/>
                            </a:lnTo>
                            <a:lnTo>
                              <a:pt x="1014" y="162"/>
                            </a:lnTo>
                            <a:lnTo>
                              <a:pt x="1023" y="165"/>
                            </a:lnTo>
                            <a:lnTo>
                              <a:pt x="1026" y="171"/>
                            </a:lnTo>
                            <a:lnTo>
                              <a:pt x="1026" y="177"/>
                            </a:lnTo>
                            <a:lnTo>
                              <a:pt x="1023" y="180"/>
                            </a:lnTo>
                            <a:lnTo>
                              <a:pt x="1014" y="189"/>
                            </a:lnTo>
                            <a:lnTo>
                              <a:pt x="1005" y="195"/>
                            </a:lnTo>
                            <a:lnTo>
                              <a:pt x="997" y="198"/>
                            </a:lnTo>
                            <a:lnTo>
                              <a:pt x="985" y="207"/>
                            </a:lnTo>
                            <a:lnTo>
                              <a:pt x="973" y="210"/>
                            </a:lnTo>
                            <a:lnTo>
                              <a:pt x="961" y="207"/>
                            </a:lnTo>
                            <a:lnTo>
                              <a:pt x="952" y="207"/>
                            </a:lnTo>
                            <a:lnTo>
                              <a:pt x="946" y="210"/>
                            </a:lnTo>
                            <a:lnTo>
                              <a:pt x="943" y="216"/>
                            </a:lnTo>
                            <a:lnTo>
                              <a:pt x="931" y="216"/>
                            </a:lnTo>
                            <a:lnTo>
                              <a:pt x="926" y="216"/>
                            </a:lnTo>
                            <a:lnTo>
                              <a:pt x="920" y="219"/>
                            </a:lnTo>
                            <a:lnTo>
                              <a:pt x="917" y="224"/>
                            </a:lnTo>
                            <a:lnTo>
                              <a:pt x="908" y="236"/>
                            </a:lnTo>
                            <a:lnTo>
                              <a:pt x="896" y="236"/>
                            </a:lnTo>
                            <a:lnTo>
                              <a:pt x="893" y="242"/>
                            </a:lnTo>
                            <a:lnTo>
                              <a:pt x="887" y="245"/>
                            </a:lnTo>
                            <a:lnTo>
                              <a:pt x="875" y="248"/>
                            </a:lnTo>
                            <a:lnTo>
                              <a:pt x="739" y="251"/>
                            </a:lnTo>
                            <a:lnTo>
                              <a:pt x="671" y="254"/>
                            </a:lnTo>
                            <a:lnTo>
                              <a:pt x="615" y="257"/>
                            </a:lnTo>
                            <a:lnTo>
                              <a:pt x="423" y="248"/>
                            </a:lnTo>
                            <a:lnTo>
                              <a:pt x="334" y="245"/>
                            </a:lnTo>
                            <a:lnTo>
                              <a:pt x="269" y="251"/>
                            </a:lnTo>
                            <a:lnTo>
                              <a:pt x="213" y="245"/>
                            </a:lnTo>
                            <a:lnTo>
                              <a:pt x="159" y="236"/>
                            </a:lnTo>
                            <a:lnTo>
                              <a:pt x="115" y="230"/>
                            </a:lnTo>
                            <a:lnTo>
                              <a:pt x="38" y="230"/>
                            </a:lnTo>
                            <a:lnTo>
                              <a:pt x="23" y="230"/>
                            </a:lnTo>
                            <a:lnTo>
                              <a:pt x="14" y="233"/>
                            </a:lnTo>
                            <a:lnTo>
                              <a:pt x="6" y="227"/>
                            </a:lnTo>
                            <a:lnTo>
                              <a:pt x="6" y="222"/>
                            </a:lnTo>
                            <a:lnTo>
                              <a:pt x="6" y="222"/>
                            </a:lnTo>
                            <a:lnTo>
                              <a:pt x="3" y="222"/>
                            </a:lnTo>
                            <a:lnTo>
                              <a:pt x="0" y="219"/>
                            </a:lnTo>
                            <a:lnTo>
                              <a:pt x="0" y="207"/>
                            </a:lnTo>
                            <a:lnTo>
                              <a:pt x="3" y="159"/>
                            </a:lnTo>
                            <a:lnTo>
                              <a:pt x="3" y="118"/>
                            </a:lnTo>
                            <a:lnTo>
                              <a:pt x="0" y="77"/>
                            </a:lnTo>
                            <a:lnTo>
                              <a:pt x="0" y="44"/>
                            </a:lnTo>
                            <a:lnTo>
                              <a:pt x="0" y="29"/>
                            </a:lnTo>
                            <a:lnTo>
                              <a:pt x="0" y="20"/>
                            </a:lnTo>
                            <a:lnTo>
                              <a:pt x="0" y="14"/>
                            </a:lnTo>
                            <a:lnTo>
                              <a:pt x="3" y="14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9"/>
                        <a:srcRect/>
                        <a:tile tx="0" ty="0" sx="100000" sy="100000" algn="ctr"/>
                      </a:blip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1" name=""/>
                      <p:cNvSpPr/>
                      <p:nvPr/>
                    </p:nvSpPr>
                    <p:spPr>
                      <a:xfrm flipH="1">
                        <a:off x="6843600" y="5646600"/>
                        <a:ext cx="4680" cy="5040"/>
                      </a:xfrm>
                      <a:prstGeom prst="line">
                        <a:avLst/>
                      </a:prstGeom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2" name=""/>
                      <p:cNvSpPr/>
                      <p:nvPr/>
                    </p:nvSpPr>
                    <p:spPr>
                      <a:xfrm>
                        <a:off x="8904240" y="6188040"/>
                        <a:ext cx="122400" cy="69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44">
                            <a:moveTo>
                              <a:pt x="45" y="32"/>
                            </a:moveTo>
                            <a:lnTo>
                              <a:pt x="39" y="29"/>
                            </a:lnTo>
                            <a:lnTo>
                              <a:pt x="24" y="26"/>
                            </a:lnTo>
                            <a:lnTo>
                              <a:pt x="6" y="20"/>
                            </a:lnTo>
                            <a:lnTo>
                              <a:pt x="0" y="17"/>
                            </a:lnTo>
                            <a:lnTo>
                              <a:pt x="9" y="9"/>
                            </a:lnTo>
                            <a:lnTo>
                              <a:pt x="18" y="3"/>
                            </a:lnTo>
                            <a:lnTo>
                              <a:pt x="27" y="3"/>
                            </a:lnTo>
                            <a:lnTo>
                              <a:pt x="33" y="0"/>
                            </a:lnTo>
                            <a:lnTo>
                              <a:pt x="45" y="0"/>
                            </a:lnTo>
                            <a:lnTo>
                              <a:pt x="56" y="0"/>
                            </a:lnTo>
                            <a:lnTo>
                              <a:pt x="65" y="6"/>
                            </a:lnTo>
                            <a:lnTo>
                              <a:pt x="71" y="17"/>
                            </a:lnTo>
                            <a:lnTo>
                              <a:pt x="77" y="41"/>
                            </a:lnTo>
                            <a:lnTo>
                              <a:pt x="77" y="44"/>
                            </a:lnTo>
                            <a:lnTo>
                              <a:pt x="71" y="44"/>
                            </a:lnTo>
                            <a:lnTo>
                              <a:pt x="65" y="41"/>
                            </a:lnTo>
                            <a:lnTo>
                              <a:pt x="53" y="35"/>
                            </a:lnTo>
                            <a:lnTo>
                              <a:pt x="45" y="32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0"/>
                        <a:srcRect/>
                        <a:tile tx="0" ty="0" sx="100000" sy="100000" algn="ctr"/>
                      </a:blip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3" name=""/>
                      <p:cNvSpPr/>
                      <p:nvPr/>
                    </p:nvSpPr>
                    <p:spPr>
                      <a:xfrm flipH="1">
                        <a:off x="8970840" y="6238800"/>
                        <a:ext cx="4680" cy="1800"/>
                      </a:xfrm>
                      <a:prstGeom prst="line">
                        <a:avLst/>
                      </a:prstGeom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764" name=""/>
                  <p:cNvSpPr/>
                  <p:nvPr/>
                </p:nvSpPr>
                <p:spPr>
                  <a:xfrm>
                    <a:off x="7178760" y="4941720"/>
                    <a:ext cx="1546200" cy="45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Pt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(Petit Saut)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5" name=""/>
                <p:cNvGrpSpPr/>
                <p:nvPr/>
              </p:nvGrpSpPr>
              <p:grpSpPr>
                <a:xfrm>
                  <a:off x="4319640" y="4797360"/>
                  <a:ext cx="2562120" cy="1422360"/>
                  <a:chOff x="4319640" y="4797360"/>
                  <a:chExt cx="2562120" cy="1422360"/>
                </a:xfrm>
              </p:grpSpPr>
              <p:sp>
                <p:nvSpPr>
                  <p:cNvPr id="766" name=""/>
                  <p:cNvSpPr/>
                  <p:nvPr/>
                </p:nvSpPr>
                <p:spPr>
                  <a:xfrm>
                    <a:off x="5618160" y="4797360"/>
                    <a:ext cx="1263600" cy="669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Psb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(Paracou, sables blancs)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67" name=""/>
                  <p:cNvGrpSpPr/>
                  <p:nvPr/>
                </p:nvGrpSpPr>
                <p:grpSpPr>
                  <a:xfrm>
                    <a:off x="4370400" y="5102280"/>
                    <a:ext cx="1209960" cy="304560"/>
                    <a:chOff x="4370400" y="5102280"/>
                    <a:chExt cx="1209960" cy="304560"/>
                  </a:xfrm>
                </p:grpSpPr>
                <p:sp>
                  <p:nvSpPr>
                    <p:cNvPr id="768" name=""/>
                    <p:cNvSpPr/>
                    <p:nvPr/>
                  </p:nvSpPr>
                  <p:spPr>
                    <a:xfrm>
                      <a:off x="4399200" y="5102280"/>
                      <a:ext cx="11620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"/>
                    <p:cNvSpPr/>
                    <p:nvPr/>
                  </p:nvSpPr>
                  <p:spPr>
                    <a:xfrm>
                      <a:off x="4370400" y="5102280"/>
                      <a:ext cx="0" cy="228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"/>
                    <p:cNvSpPr/>
                    <p:nvPr/>
                  </p:nvSpPr>
                  <p:spPr>
                    <a:xfrm>
                      <a:off x="5580360" y="5102280"/>
                      <a:ext cx="0" cy="304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1" name=""/>
                  <p:cNvGrpSpPr/>
                  <p:nvPr/>
                </p:nvGrpSpPr>
                <p:grpSpPr>
                  <a:xfrm>
                    <a:off x="4319640" y="5246640"/>
                    <a:ext cx="2381400" cy="973080"/>
                    <a:chOff x="4319640" y="5246640"/>
                    <a:chExt cx="2381400" cy="973080"/>
                  </a:xfrm>
                </p:grpSpPr>
                <p:sp>
                  <p:nvSpPr>
                    <p:cNvPr id="772" name=""/>
                    <p:cNvSpPr/>
                    <p:nvPr/>
                  </p:nvSpPr>
                  <p:spPr>
                    <a:xfrm>
                      <a:off x="4319640" y="5546520"/>
                      <a:ext cx="2376720" cy="67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7" h="424">
                          <a:moveTo>
                            <a:pt x="0" y="63"/>
                          </a:moveTo>
                          <a:lnTo>
                            <a:pt x="0" y="151"/>
                          </a:lnTo>
                          <a:lnTo>
                            <a:pt x="24" y="154"/>
                          </a:lnTo>
                          <a:lnTo>
                            <a:pt x="325" y="154"/>
                          </a:lnTo>
                          <a:lnTo>
                            <a:pt x="580" y="172"/>
                          </a:lnTo>
                          <a:lnTo>
                            <a:pt x="976" y="246"/>
                          </a:lnTo>
                          <a:lnTo>
                            <a:pt x="1497" y="424"/>
                          </a:lnTo>
                          <a:lnTo>
                            <a:pt x="1497" y="335"/>
                          </a:lnTo>
                          <a:lnTo>
                            <a:pt x="938" y="36"/>
                          </a:lnTo>
                          <a:lnTo>
                            <a:pt x="485" y="0"/>
                          </a:lnTo>
                          <a:lnTo>
                            <a:pt x="3" y="71"/>
                          </a:lnTo>
                          <a:lnTo>
                            <a:pt x="0" y="63"/>
                          </a:lnTo>
                          <a:close/>
                        </a:path>
                      </a:pathLst>
                    </a:custGeom>
                    <a:blipFill rotWithShape="0">
                      <a:blip r:embed="rId11"/>
                      <a:srcRect/>
                      <a:tile tx="0" ty="0" sx="100000" sy="100000" algn="ctr"/>
                    </a:blip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3" name=""/>
                    <p:cNvSpPr/>
                    <p:nvPr/>
                  </p:nvSpPr>
                  <p:spPr>
                    <a:xfrm>
                      <a:off x="4324320" y="5246640"/>
                      <a:ext cx="2376720" cy="88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97" h="556">
                          <a:moveTo>
                            <a:pt x="1497" y="367"/>
                          </a:moveTo>
                          <a:lnTo>
                            <a:pt x="1497" y="556"/>
                          </a:lnTo>
                          <a:lnTo>
                            <a:pt x="1233" y="447"/>
                          </a:lnTo>
                          <a:lnTo>
                            <a:pt x="973" y="266"/>
                          </a:lnTo>
                          <a:lnTo>
                            <a:pt x="825" y="305"/>
                          </a:lnTo>
                          <a:lnTo>
                            <a:pt x="580" y="272"/>
                          </a:lnTo>
                          <a:lnTo>
                            <a:pt x="24" y="290"/>
                          </a:lnTo>
                          <a:lnTo>
                            <a:pt x="0" y="293"/>
                          </a:lnTo>
                          <a:lnTo>
                            <a:pt x="0" y="0"/>
                          </a:lnTo>
                          <a:lnTo>
                            <a:pt x="405" y="12"/>
                          </a:lnTo>
                          <a:lnTo>
                            <a:pt x="574" y="33"/>
                          </a:lnTo>
                          <a:lnTo>
                            <a:pt x="660" y="59"/>
                          </a:lnTo>
                          <a:lnTo>
                            <a:pt x="825" y="112"/>
                          </a:lnTo>
                          <a:lnTo>
                            <a:pt x="967" y="157"/>
                          </a:lnTo>
                          <a:lnTo>
                            <a:pt x="1230" y="269"/>
                          </a:lnTo>
                          <a:lnTo>
                            <a:pt x="1491" y="370"/>
                          </a:lnTo>
                          <a:lnTo>
                            <a:pt x="1497" y="367"/>
                          </a:lnTo>
                          <a:close/>
                        </a:path>
                      </a:pathLst>
                    </a:cu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4" name=""/>
                    <p:cNvSpPr/>
                    <p:nvPr/>
                  </p:nvSpPr>
                  <p:spPr>
                    <a:xfrm>
                      <a:off x="4324320" y="5246640"/>
                      <a:ext cx="1451160" cy="40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4" h="255">
                          <a:moveTo>
                            <a:pt x="914" y="139"/>
                          </a:moveTo>
                          <a:lnTo>
                            <a:pt x="825" y="160"/>
                          </a:lnTo>
                          <a:lnTo>
                            <a:pt x="580" y="237"/>
                          </a:lnTo>
                          <a:lnTo>
                            <a:pt x="24" y="255"/>
                          </a:lnTo>
                          <a:lnTo>
                            <a:pt x="0" y="255"/>
                          </a:lnTo>
                          <a:lnTo>
                            <a:pt x="0" y="0"/>
                          </a:lnTo>
                          <a:lnTo>
                            <a:pt x="405" y="12"/>
                          </a:lnTo>
                          <a:lnTo>
                            <a:pt x="574" y="33"/>
                          </a:lnTo>
                          <a:lnTo>
                            <a:pt x="914" y="139"/>
                          </a:lnTo>
                          <a:close/>
                        </a:path>
                      </a:pathLst>
                    </a:custGeom>
                    <a:solidFill>
                      <a:srgbClr val="e6e6e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75" name=""/>
                <p:cNvGrpSpPr/>
                <p:nvPr/>
              </p:nvGrpSpPr>
              <p:grpSpPr>
                <a:xfrm>
                  <a:off x="6480000" y="3213000"/>
                  <a:ext cx="1989360" cy="1521000"/>
                  <a:chOff x="6480000" y="3213000"/>
                  <a:chExt cx="1989360" cy="1521000"/>
                </a:xfrm>
              </p:grpSpPr>
              <p:grpSp>
                <p:nvGrpSpPr>
                  <p:cNvPr id="776" name=""/>
                  <p:cNvGrpSpPr/>
                  <p:nvPr/>
                </p:nvGrpSpPr>
                <p:grpSpPr>
                  <a:xfrm>
                    <a:off x="6937200" y="3213000"/>
                    <a:ext cx="1143000" cy="1219320"/>
                    <a:chOff x="6937200" y="3213000"/>
                    <a:chExt cx="1143000" cy="1219320"/>
                  </a:xfrm>
                </p:grpSpPr>
                <p:sp>
                  <p:nvSpPr>
                    <p:cNvPr id="777" name=""/>
                    <p:cNvSpPr/>
                    <p:nvPr/>
                  </p:nvSpPr>
                  <p:spPr>
                    <a:xfrm>
                      <a:off x="6946920" y="3251160"/>
                      <a:ext cx="1123920" cy="657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"/>
                    <p:cNvSpPr/>
                    <p:nvPr/>
                  </p:nvSpPr>
                  <p:spPr>
                    <a:xfrm>
                      <a:off x="6937200" y="3213000"/>
                      <a:ext cx="0" cy="380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"/>
                    <p:cNvSpPr/>
                    <p:nvPr/>
                  </p:nvSpPr>
                  <p:spPr>
                    <a:xfrm>
                      <a:off x="8080200" y="3822480"/>
                      <a:ext cx="0" cy="6098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0" name=""/>
                  <p:cNvGrpSpPr/>
                  <p:nvPr/>
                </p:nvGrpSpPr>
                <p:grpSpPr>
                  <a:xfrm>
                    <a:off x="6634080" y="3484440"/>
                    <a:ext cx="1835280" cy="1249560"/>
                    <a:chOff x="6634080" y="3484440"/>
                    <a:chExt cx="1835280" cy="1249560"/>
                  </a:xfrm>
                </p:grpSpPr>
                <p:sp>
                  <p:nvSpPr>
                    <p:cNvPr id="781" name=""/>
                    <p:cNvSpPr/>
                    <p:nvPr/>
                  </p:nvSpPr>
                  <p:spPr>
                    <a:xfrm>
                      <a:off x="6634080" y="3568680"/>
                      <a:ext cx="1835280" cy="11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6" h="734">
                          <a:moveTo>
                            <a:pt x="0" y="0"/>
                          </a:moveTo>
                          <a:lnTo>
                            <a:pt x="0" y="290"/>
                          </a:lnTo>
                          <a:lnTo>
                            <a:pt x="378" y="299"/>
                          </a:lnTo>
                          <a:lnTo>
                            <a:pt x="920" y="701"/>
                          </a:lnTo>
                          <a:lnTo>
                            <a:pt x="1156" y="734"/>
                          </a:lnTo>
                          <a:lnTo>
                            <a:pt x="1156" y="574"/>
                          </a:lnTo>
                          <a:lnTo>
                            <a:pt x="1076" y="545"/>
                          </a:lnTo>
                          <a:lnTo>
                            <a:pt x="857" y="417"/>
                          </a:lnTo>
                          <a:lnTo>
                            <a:pt x="588" y="198"/>
                          </a:lnTo>
                          <a:lnTo>
                            <a:pt x="352" y="0"/>
                          </a:lnTo>
                          <a:lnTo>
                            <a:pt x="0" y="1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blipFill rotWithShape="0">
                      <a:blip r:embed="rId12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2" name=""/>
                    <p:cNvSpPr/>
                    <p:nvPr/>
                  </p:nvSpPr>
                  <p:spPr>
                    <a:xfrm>
                      <a:off x="6638760" y="3484440"/>
                      <a:ext cx="1830600" cy="11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3" h="710">
                          <a:moveTo>
                            <a:pt x="1153" y="609"/>
                          </a:moveTo>
                          <a:lnTo>
                            <a:pt x="1153" y="710"/>
                          </a:lnTo>
                          <a:lnTo>
                            <a:pt x="916" y="547"/>
                          </a:lnTo>
                          <a:lnTo>
                            <a:pt x="638" y="322"/>
                          </a:lnTo>
                          <a:lnTo>
                            <a:pt x="372" y="98"/>
                          </a:lnTo>
                          <a:lnTo>
                            <a:pt x="0" y="80"/>
                          </a:lnTo>
                          <a:lnTo>
                            <a:pt x="0" y="0"/>
                          </a:lnTo>
                          <a:lnTo>
                            <a:pt x="204" y="12"/>
                          </a:lnTo>
                          <a:lnTo>
                            <a:pt x="387" y="32"/>
                          </a:lnTo>
                          <a:lnTo>
                            <a:pt x="452" y="71"/>
                          </a:lnTo>
                          <a:lnTo>
                            <a:pt x="635" y="284"/>
                          </a:lnTo>
                          <a:lnTo>
                            <a:pt x="911" y="482"/>
                          </a:lnTo>
                          <a:lnTo>
                            <a:pt x="1106" y="577"/>
                          </a:lnTo>
                          <a:lnTo>
                            <a:pt x="1153" y="609"/>
                          </a:lnTo>
                          <a:close/>
                        </a:path>
                      </a:pathLst>
                    </a:cu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83" name=""/>
                  <p:cNvSpPr/>
                  <p:nvPr/>
                </p:nvSpPr>
                <p:spPr>
                  <a:xfrm>
                    <a:off x="6480000" y="4051080"/>
                    <a:ext cx="1143000" cy="608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1600" spc="-1" strike="noStrike">
                        <a:solidFill>
                          <a:srgbClr val="000000"/>
                        </a:solidFill>
                        <a:latin typeface="Comic Sans MS"/>
                      </a:rPr>
                      <a:t>P1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(Paracou,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1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fr-FR" sz="1200" spc="-1" strike="noStrike">
                        <a:solidFill>
                          <a:srgbClr val="000000"/>
                        </a:solidFill>
                        <a:latin typeface="Comic Sans MS"/>
                      </a:rPr>
                      <a:t>parc 11)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4" name=""/>
                <p:cNvSpPr/>
                <p:nvPr/>
              </p:nvSpPr>
              <p:spPr>
                <a:xfrm>
                  <a:off x="4299120" y="3213000"/>
                  <a:ext cx="106308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0000"/>
                      </a:solidFill>
                      <a:latin typeface="Comic Sans MS"/>
                    </a:rPr>
                    <a:t>So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Comic Sans MS"/>
                    </a:rPr>
                    <a:t>(Soft - bas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85" name="" descr=""/>
              <p:cNvPicPr/>
              <p:nvPr/>
            </p:nvPicPr>
            <p:blipFill>
              <a:blip r:embed="rId13"/>
              <a:srcRect l="45540" t="0" r="2543" b="6419"/>
              <a:stretch/>
            </p:blipFill>
            <p:spPr>
              <a:xfrm>
                <a:off x="4176720" y="3357360"/>
                <a:ext cx="1395360" cy="1656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86" name=""/>
            <p:cNvGrpSpPr/>
            <p:nvPr/>
          </p:nvGrpSpPr>
          <p:grpSpPr>
            <a:xfrm>
              <a:off x="4284720" y="6216480"/>
              <a:ext cx="3063960" cy="381240"/>
              <a:chOff x="4284720" y="6216480"/>
              <a:chExt cx="3063960" cy="381240"/>
            </a:xfrm>
          </p:grpSpPr>
          <p:sp>
            <p:nvSpPr>
              <p:cNvPr id="787" name=""/>
              <p:cNvSpPr/>
              <p:nvPr/>
            </p:nvSpPr>
            <p:spPr>
              <a:xfrm>
                <a:off x="4750920" y="6288120"/>
                <a:ext cx="2597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Station à réserve en eau faib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284720" y="6216480"/>
                <a:ext cx="304560" cy="38124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A230E-D686-4366-BE19-22515793CA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9" name="" descr=""/>
          <p:cNvPicPr/>
          <p:nvPr/>
        </p:nvPicPr>
        <p:blipFill>
          <a:blip r:embed="rId1"/>
          <a:srcRect l="8570" t="9106" r="3678" b="0"/>
          <a:stretch/>
        </p:blipFill>
        <p:spPr>
          <a:xfrm>
            <a:off x="826920" y="981000"/>
            <a:ext cx="8317080" cy="587700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879480" y="53640"/>
            <a:ext cx="7796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826560" y="1495440"/>
            <a:ext cx="831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aison des mesures d’accroissement (dendromètre Vs inventaire CIR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aison des croissances moyen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1997 à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élisation de l’accroiss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A169D-E137-443A-BE4D-FF87259484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indefinite"/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indefinite"/>
                                        <p:tgtEl>
                                          <p:spTgt spid="7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indefinite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879480" y="54000"/>
            <a:ext cx="77961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aison des mesures d’accroiss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2381400" cy="410400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/>
          <p:nvPr/>
        </p:nvSpPr>
        <p:spPr>
          <a:xfrm>
            <a:off x="2050920" y="1917720"/>
            <a:ext cx="0" cy="11509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125440" y="23493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1692360" y="3365640"/>
            <a:ext cx="1261440" cy="504360"/>
            <a:chOff x="1692360" y="3365640"/>
            <a:chExt cx="1261440" cy="504360"/>
          </a:xfrm>
        </p:grpSpPr>
        <p:sp>
          <p:nvSpPr>
            <p:cNvPr id="797" name=""/>
            <p:cNvSpPr/>
            <p:nvPr/>
          </p:nvSpPr>
          <p:spPr>
            <a:xfrm>
              <a:off x="1692360" y="3365640"/>
              <a:ext cx="1150920" cy="136080"/>
            </a:xfrm>
            <a:custGeom>
              <a:avLst/>
              <a:gdLst/>
              <a:ahLst/>
              <a:rect l="l" t="t" r="r" b="b"/>
              <a:pathLst>
                <a:path w="725" h="86">
                  <a:moveTo>
                    <a:pt x="0" y="86"/>
                  </a:moveTo>
                  <a:cubicBezTo>
                    <a:pt x="42" y="75"/>
                    <a:pt x="171" y="36"/>
                    <a:pt x="251" y="22"/>
                  </a:cubicBezTo>
                  <a:cubicBezTo>
                    <a:pt x="331" y="8"/>
                    <a:pt x="400" y="0"/>
                    <a:pt x="479" y="3"/>
                  </a:cubicBezTo>
                  <a:cubicBezTo>
                    <a:pt x="558" y="6"/>
                    <a:pt x="674" y="32"/>
                    <a:pt x="725" y="4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694160" y="3501720"/>
              <a:ext cx="125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inventai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1478520" y="1125360"/>
            <a:ext cx="1576800" cy="431640"/>
            <a:chOff x="1478520" y="1125360"/>
            <a:chExt cx="1576800" cy="431640"/>
          </a:xfrm>
        </p:grpSpPr>
        <p:sp>
          <p:nvSpPr>
            <p:cNvPr id="800" name=""/>
            <p:cNvSpPr/>
            <p:nvPr/>
          </p:nvSpPr>
          <p:spPr>
            <a:xfrm>
              <a:off x="1835280" y="1484280"/>
              <a:ext cx="792000" cy="72720"/>
            </a:xfrm>
            <a:custGeom>
              <a:avLst/>
              <a:gdLst/>
              <a:ahLst/>
              <a:rect l="l" t="t" r="r" b="b"/>
              <a:pathLst>
                <a:path w="725" h="86">
                  <a:moveTo>
                    <a:pt x="0" y="86"/>
                  </a:moveTo>
                  <a:cubicBezTo>
                    <a:pt x="42" y="75"/>
                    <a:pt x="171" y="36"/>
                    <a:pt x="251" y="22"/>
                  </a:cubicBezTo>
                  <a:cubicBezTo>
                    <a:pt x="331" y="8"/>
                    <a:pt x="400" y="0"/>
                    <a:pt x="479" y="3"/>
                  </a:cubicBezTo>
                  <a:cubicBezTo>
                    <a:pt x="558" y="6"/>
                    <a:pt x="674" y="32"/>
                    <a:pt x="725" y="4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478520" y="1125360"/>
              <a:ext cx="157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dendromèt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1095480" y="5392800"/>
            <a:ext cx="722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 de corrélation entre les deux me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sation des mesures dendrométr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386240" y="1900080"/>
            <a:ext cx="34117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4386240" y="4563720"/>
            <a:ext cx="1440" cy="4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4341960" y="1900080"/>
            <a:ext cx="2970000" cy="2707920"/>
            <a:chOff x="4341960" y="1900080"/>
            <a:chExt cx="2970000" cy="2707920"/>
          </a:xfrm>
        </p:grpSpPr>
        <p:grpSp>
          <p:nvGrpSpPr>
            <p:cNvPr id="806" name=""/>
            <p:cNvGrpSpPr/>
            <p:nvPr/>
          </p:nvGrpSpPr>
          <p:grpSpPr>
            <a:xfrm>
              <a:off x="4341960" y="1900080"/>
              <a:ext cx="2970000" cy="2707920"/>
              <a:chOff x="4341960" y="1900080"/>
              <a:chExt cx="2970000" cy="2707920"/>
            </a:xfrm>
          </p:grpSpPr>
          <p:sp>
            <p:nvSpPr>
              <p:cNvPr id="807" name=""/>
              <p:cNvSpPr/>
              <p:nvPr/>
            </p:nvSpPr>
            <p:spPr>
              <a:xfrm>
                <a:off x="4341960" y="4564080"/>
                <a:ext cx="140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341960" y="418464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341960" y="380520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341960" y="342576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341960" y="303840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341960" y="265896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341960" y="227952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341960" y="19000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V="1">
                <a:off x="6335640" y="456372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V="1">
                <a:off x="7310520" y="456372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4602240" y="2766960"/>
            <a:ext cx="2744640" cy="1481040"/>
            <a:chOff x="4602240" y="2766960"/>
            <a:chExt cx="2744640" cy="1481040"/>
          </a:xfrm>
        </p:grpSpPr>
        <p:sp>
          <p:nvSpPr>
            <p:cNvPr id="818" name=""/>
            <p:cNvSpPr/>
            <p:nvPr/>
          </p:nvSpPr>
          <p:spPr>
            <a:xfrm>
              <a:off x="5334120" y="3570120"/>
              <a:ext cx="44280" cy="46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334120" y="3697200"/>
              <a:ext cx="44280" cy="44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602240" y="3976560"/>
              <a:ext cx="46080" cy="44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578560" y="3354480"/>
              <a:ext cx="44280" cy="44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291360" y="3371760"/>
              <a:ext cx="81000" cy="81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046920" y="3525840"/>
              <a:ext cx="81000" cy="81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534000" y="2930400"/>
              <a:ext cx="82800" cy="81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16480" y="4165560"/>
              <a:ext cx="81000" cy="82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265880" y="2766960"/>
              <a:ext cx="81000" cy="81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4572000" y="2847960"/>
            <a:ext cx="1760400" cy="1660320"/>
            <a:chOff x="4572000" y="2847960"/>
            <a:chExt cx="1760400" cy="1660320"/>
          </a:xfrm>
        </p:grpSpPr>
        <p:sp>
          <p:nvSpPr>
            <p:cNvPr id="828" name=""/>
            <p:cNvSpPr/>
            <p:nvPr/>
          </p:nvSpPr>
          <p:spPr>
            <a:xfrm>
              <a:off x="5076720" y="371628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7" y="0"/>
                  </a:moveTo>
                  <a:lnTo>
                    <a:pt x="34" y="34"/>
                  </a:lnTo>
                  <a:lnTo>
                    <a:pt x="0" y="3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"/>
            <p:cNvGrpSpPr/>
            <p:nvPr/>
          </p:nvGrpSpPr>
          <p:grpSpPr>
            <a:xfrm>
              <a:off x="4572000" y="2847960"/>
              <a:ext cx="1760400" cy="1660320"/>
              <a:chOff x="4572000" y="2847960"/>
              <a:chExt cx="1760400" cy="1660320"/>
            </a:xfrm>
          </p:grpSpPr>
          <p:sp>
            <p:nvSpPr>
              <p:cNvPr id="830" name=""/>
              <p:cNvSpPr/>
              <p:nvPr/>
            </p:nvSpPr>
            <p:spPr>
              <a:xfrm>
                <a:off x="6035760" y="3092400"/>
                <a:ext cx="53640" cy="5400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17" y="0"/>
                    </a:moveTo>
                    <a:lnTo>
                      <a:pt x="34" y="34"/>
                    </a:lnTo>
                    <a:lnTo>
                      <a:pt x="0" y="3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548320" y="3435120"/>
                <a:ext cx="54000" cy="5400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17" y="0"/>
                    </a:moveTo>
                    <a:lnTo>
                      <a:pt x="34" y="34"/>
                    </a:lnTo>
                    <a:lnTo>
                      <a:pt x="0" y="3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060880" y="3435120"/>
                <a:ext cx="54000" cy="5400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17" y="0"/>
                    </a:moveTo>
                    <a:lnTo>
                      <a:pt x="34" y="34"/>
                    </a:lnTo>
                    <a:lnTo>
                      <a:pt x="0" y="3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790960" y="3371760"/>
                <a:ext cx="54000" cy="5400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17" y="0"/>
                    </a:moveTo>
                    <a:lnTo>
                      <a:pt x="34" y="34"/>
                    </a:lnTo>
                    <a:lnTo>
                      <a:pt x="0" y="3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303880" y="3298680"/>
                <a:ext cx="54000" cy="5400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17" y="0"/>
                    </a:moveTo>
                    <a:lnTo>
                      <a:pt x="34" y="34"/>
                    </a:lnTo>
                    <a:lnTo>
                      <a:pt x="0" y="3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303880" y="3651120"/>
                <a:ext cx="54000" cy="5400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17" y="0"/>
                    </a:moveTo>
                    <a:lnTo>
                      <a:pt x="34" y="34"/>
                    </a:lnTo>
                    <a:lnTo>
                      <a:pt x="0" y="3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790960" y="3614400"/>
                <a:ext cx="54000" cy="5400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17" y="0"/>
                    </a:moveTo>
                    <a:lnTo>
                      <a:pt x="34" y="34"/>
                    </a:lnTo>
                    <a:lnTo>
                      <a:pt x="0" y="3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816440" y="3425760"/>
                <a:ext cx="54000" cy="5400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17" y="0"/>
                    </a:moveTo>
                    <a:lnTo>
                      <a:pt x="34" y="34"/>
                    </a:lnTo>
                    <a:lnTo>
                      <a:pt x="0" y="3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278400" y="3227040"/>
                <a:ext cx="54000" cy="5400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17" y="0"/>
                    </a:moveTo>
                    <a:lnTo>
                      <a:pt x="34" y="34"/>
                    </a:lnTo>
                    <a:lnTo>
                      <a:pt x="0" y="3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060880" y="4128840"/>
                <a:ext cx="54000" cy="5400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17" y="0"/>
                    </a:moveTo>
                    <a:lnTo>
                      <a:pt x="34" y="34"/>
                    </a:lnTo>
                    <a:lnTo>
                      <a:pt x="0" y="3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060880" y="3732120"/>
                <a:ext cx="54000" cy="5400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17" y="0"/>
                    </a:moveTo>
                    <a:lnTo>
                      <a:pt x="34" y="34"/>
                    </a:lnTo>
                    <a:lnTo>
                      <a:pt x="0" y="3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816440" y="3984480"/>
                <a:ext cx="54000" cy="5400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17" y="0"/>
                    </a:moveTo>
                    <a:lnTo>
                      <a:pt x="34" y="34"/>
                    </a:lnTo>
                    <a:lnTo>
                      <a:pt x="0" y="3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572000" y="4182840"/>
                <a:ext cx="55440" cy="5544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17" y="0"/>
                    </a:moveTo>
                    <a:lnTo>
                      <a:pt x="35" y="35"/>
                    </a:lnTo>
                    <a:lnTo>
                      <a:pt x="0" y="35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572000" y="4047840"/>
                <a:ext cx="55440" cy="5400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17" y="0"/>
                    </a:moveTo>
                    <a:lnTo>
                      <a:pt x="35" y="34"/>
                    </a:lnTo>
                    <a:lnTo>
                      <a:pt x="0" y="3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816440" y="4454280"/>
                <a:ext cx="54000" cy="5400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17" y="0"/>
                    </a:moveTo>
                    <a:lnTo>
                      <a:pt x="34" y="34"/>
                    </a:lnTo>
                    <a:lnTo>
                      <a:pt x="0" y="3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303880" y="4020840"/>
                <a:ext cx="54000" cy="54000"/>
              </a:xfrm>
              <a:custGeom>
                <a:avLst/>
                <a:gdLst/>
                <a:ahLst/>
                <a:rect l="l" t="t" r="r" b="b"/>
                <a:pathLst>
                  <a:path w="34" h="34">
                    <a:moveTo>
                      <a:pt x="17" y="0"/>
                    </a:moveTo>
                    <a:lnTo>
                      <a:pt x="34" y="34"/>
                    </a:lnTo>
                    <a:lnTo>
                      <a:pt x="0" y="3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773680" y="284796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8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286240" y="3416040"/>
                <a:ext cx="9072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8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286240" y="335268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8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9" name=""/>
          <p:cNvGrpSpPr/>
          <p:nvPr/>
        </p:nvGrpSpPr>
        <p:grpSpPr>
          <a:xfrm>
            <a:off x="3745080" y="1224000"/>
            <a:ext cx="4107600" cy="3877560"/>
            <a:chOff x="3745080" y="1224000"/>
            <a:chExt cx="4107600" cy="3877560"/>
          </a:xfrm>
        </p:grpSpPr>
        <p:sp>
          <p:nvSpPr>
            <p:cNvPr id="850" name=""/>
            <p:cNvSpPr/>
            <p:nvPr/>
          </p:nvSpPr>
          <p:spPr>
            <a:xfrm>
              <a:off x="4386240" y="1900080"/>
              <a:ext cx="1440" cy="266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386240" y="4564080"/>
              <a:ext cx="3411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5361120" y="4563720"/>
              <a:ext cx="1440" cy="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629240" y="2279520"/>
              <a:ext cx="2681280" cy="2094120"/>
            </a:xfrm>
            <a:custGeom>
              <a:avLst/>
              <a:gdLst/>
              <a:ahLst/>
              <a:rect l="l" t="t" r="r" b="b"/>
              <a:pathLst>
                <a:path w="297" h="232">
                  <a:moveTo>
                    <a:pt x="81" y="169"/>
                  </a:moveTo>
                  <a:lnTo>
                    <a:pt x="81" y="169"/>
                  </a:lnTo>
                  <a:lnTo>
                    <a:pt x="0" y="232"/>
                  </a:lnTo>
                  <a:lnTo>
                    <a:pt x="108" y="148"/>
                  </a:lnTo>
                  <a:lnTo>
                    <a:pt x="189" y="84"/>
                  </a:lnTo>
                  <a:lnTo>
                    <a:pt x="162" y="106"/>
                  </a:lnTo>
                  <a:lnTo>
                    <a:pt x="216" y="63"/>
                  </a:lnTo>
                  <a:lnTo>
                    <a:pt x="81" y="169"/>
                  </a:lnTo>
                  <a:lnTo>
                    <a:pt x="297" y="0"/>
                  </a:lnTo>
                  <a:lnTo>
                    <a:pt x="162" y="106"/>
                  </a:lnTo>
                  <a:lnTo>
                    <a:pt x="108" y="148"/>
                  </a:lnTo>
                  <a:lnTo>
                    <a:pt x="54" y="190"/>
                  </a:lnTo>
                  <a:lnTo>
                    <a:pt x="135" y="127"/>
                  </a:lnTo>
                  <a:lnTo>
                    <a:pt x="81" y="169"/>
                  </a:lnTo>
                  <a:lnTo>
                    <a:pt x="81" y="169"/>
                  </a:lnTo>
                  <a:lnTo>
                    <a:pt x="135" y="127"/>
                  </a:lnTo>
                  <a:lnTo>
                    <a:pt x="27" y="211"/>
                  </a:lnTo>
                  <a:lnTo>
                    <a:pt x="189" y="84"/>
                  </a:lnTo>
                  <a:lnTo>
                    <a:pt x="54" y="190"/>
                  </a:lnTo>
                  <a:lnTo>
                    <a:pt x="54" y="190"/>
                  </a:lnTo>
                  <a:lnTo>
                    <a:pt x="54" y="190"/>
                  </a:lnTo>
                  <a:lnTo>
                    <a:pt x="27" y="211"/>
                  </a:lnTo>
                  <a:lnTo>
                    <a:pt x="0" y="232"/>
                  </a:lnTo>
                  <a:lnTo>
                    <a:pt x="0" y="232"/>
                  </a:lnTo>
                  <a:lnTo>
                    <a:pt x="27" y="211"/>
                  </a:lnTo>
                  <a:lnTo>
                    <a:pt x="81" y="169"/>
                  </a:lnTo>
                  <a:lnTo>
                    <a:pt x="135" y="127"/>
                  </a:lnTo>
                  <a:lnTo>
                    <a:pt x="81" y="169"/>
                  </a:lnTo>
                  <a:lnTo>
                    <a:pt x="81" y="169"/>
                  </a:lnTo>
                </a:path>
              </a:pathLst>
            </a:custGeom>
            <a:noFill/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142520" y="1224000"/>
              <a:ext cx="371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Arial"/>
                </a:rPr>
                <a:t>Comparaison des accroissements Inventaire et Dendro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502600" y="1405080"/>
              <a:ext cx="874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(1997 à 2003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069440" y="44816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,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988440" y="410364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0,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988440" y="372420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0,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988440" y="334476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0,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988440" y="295740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40,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988440" y="257796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0,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988440" y="21985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60,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988440" y="181944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70,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9520" y="46893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279760" y="46893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254280" y="46893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229160" y="46893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100840" y="4933800"/>
              <a:ext cx="209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ccroissement Inventaire (mm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 rot="16200000">
              <a:off x="2869920" y="3089520"/>
              <a:ext cx="19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Arial"/>
                </a:rPr>
                <a:t>Accroissement Dendro (mm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6210360" y="3678120"/>
            <a:ext cx="1542960" cy="866880"/>
            <a:chOff x="6210360" y="3678120"/>
            <a:chExt cx="1542960" cy="866880"/>
          </a:xfrm>
        </p:grpSpPr>
        <p:sp>
          <p:nvSpPr>
            <p:cNvPr id="871" name=""/>
            <p:cNvSpPr/>
            <p:nvPr/>
          </p:nvSpPr>
          <p:spPr>
            <a:xfrm>
              <a:off x="6210360" y="3678120"/>
              <a:ext cx="1542960" cy="866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291360" y="3768840"/>
              <a:ext cx="44280" cy="46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398280" y="370512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Angélique dH&lt;10 c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272280" y="3967200"/>
              <a:ext cx="82440" cy="824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398280" y="392256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Angélique dH&gt;10 c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291360" y="4192560"/>
              <a:ext cx="54000" cy="554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7" y="0"/>
                  </a:moveTo>
                  <a:lnTo>
                    <a:pt x="34" y="35"/>
                  </a:lnTo>
                  <a:lnTo>
                    <a:pt x="0" y="35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396120" y="4130640"/>
              <a:ext cx="1049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Wapa dH&lt;10 c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72280" y="4392720"/>
              <a:ext cx="9036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29" y="0"/>
                  </a:moveTo>
                  <a:lnTo>
                    <a:pt x="57" y="56"/>
                  </a:lnTo>
                  <a:lnTo>
                    <a:pt x="0" y="56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396120" y="4346640"/>
              <a:ext cx="1049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</a:rPr>
                <a:t>Wapa dH&gt;10 c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95EF4-A25F-43E1-AA36-18157774E6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1000" fill="hold"/>
                                        <p:tgtEl>
                                          <p:spTgt spid="7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" descr=""/>
          <p:cNvPicPr/>
          <p:nvPr/>
        </p:nvPicPr>
        <p:blipFill>
          <a:blip r:embed="rId1"/>
          <a:srcRect l="8570" t="9106" r="3678" b="0"/>
          <a:stretch/>
        </p:blipFill>
        <p:spPr>
          <a:xfrm>
            <a:off x="826920" y="981000"/>
            <a:ext cx="8317080" cy="5877000"/>
          </a:xfrm>
          <a:prstGeom prst="rect">
            <a:avLst/>
          </a:prstGeom>
          <a:ln w="0">
            <a:noFill/>
          </a:ln>
        </p:spPr>
      </p:pic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79480" y="53640"/>
            <a:ext cx="7796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26560" y="1495440"/>
            <a:ext cx="831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aison des mesures d’accroissement (dendromètre Vs inventaire CIR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aison des croissances moyen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1997 à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élisation de l’accroiss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94952-AAEC-486B-8A65-DD1C2C7987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indefinite"/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indefinite"/>
                                        <p:tgtEl>
                                          <p:spTgt spid="8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indefinite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3" name=""/>
          <p:cNvGraphicFramePr/>
          <p:nvPr/>
        </p:nvGraphicFramePr>
        <p:xfrm>
          <a:off x="826920" y="1708200"/>
          <a:ext cx="3857760" cy="316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708200"/>
                    <a:ext cx="3857760" cy="31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5" name=""/>
          <p:cNvGraphicFramePr/>
          <p:nvPr/>
        </p:nvGraphicFramePr>
        <p:xfrm>
          <a:off x="4829040" y="1716120"/>
          <a:ext cx="3857760" cy="3152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29040" y="1716120"/>
                    <a:ext cx="385776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7" name=""/>
          <p:cNvSpPr/>
          <p:nvPr/>
        </p:nvSpPr>
        <p:spPr>
          <a:xfrm>
            <a:off x="867600" y="5137200"/>
            <a:ext cx="6865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issance supérieure sur les sites à réserve en eau utile élev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Wapa moins sensibles à la sécheresse de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79480" y="53640"/>
            <a:ext cx="7796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ison des croissances moyennes (1997-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0BEC2-0C93-4AF8-ADD0-72AB4401DB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" descr=""/>
          <p:cNvPicPr/>
          <p:nvPr/>
        </p:nvPicPr>
        <p:blipFill>
          <a:blip r:embed="rId1"/>
          <a:srcRect l="8570" t="9106" r="3678" b="0"/>
          <a:stretch/>
        </p:blipFill>
        <p:spPr>
          <a:xfrm>
            <a:off x="826920" y="981000"/>
            <a:ext cx="8317080" cy="5877000"/>
          </a:xfrm>
          <a:prstGeom prst="rect">
            <a:avLst/>
          </a:prstGeom>
          <a:ln w="0">
            <a:noFill/>
          </a:ln>
        </p:spPr>
      </p:pic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879480" y="53640"/>
            <a:ext cx="7796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26560" y="1495440"/>
            <a:ext cx="831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aison des mesures d’accroissement (dendromètre Vs inventaire CIR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aison des croissances moyen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1997 à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élisation de l’accroiss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760D8-B470-4807-B360-1289D8F013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indefinite"/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indefinite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indefinite"/>
                                        <p:tgtEl>
                                          <p:spTgt spid="8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indefinite"/>
                                        <p:tgtEl>
                                          <p:spTgt spid="8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/>
          </p:nvPr>
        </p:nvSpPr>
        <p:spPr>
          <a:xfrm>
            <a:off x="900000" y="1196640"/>
            <a:ext cx="82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èle général de l’accroissement de l’Angél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Acc = f(</a:t>
            </a:r>
            <a:r>
              <a:rPr b="0" i="1" lang="fr-FR" sz="1800" spc="-1" strike="noStrike">
                <a:solidFill>
                  <a:srgbClr val="663300"/>
                </a:solidFill>
                <a:latin typeface="Arial"/>
              </a:rPr>
              <a:t>site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) x g(</a:t>
            </a:r>
            <a:r>
              <a:rPr b="0" i="1" lang="fr-FR" sz="1800" spc="-1" strike="noStrike">
                <a:solidFill>
                  <a:srgbClr val="33cc33"/>
                </a:solidFill>
                <a:latin typeface="Arial"/>
              </a:rPr>
              <a:t>dvt-concurrence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Ln(Acc)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fr-FR" sz="1600" spc="-1" strike="noStrike">
                <a:solidFill>
                  <a:srgbClr val="993300"/>
                </a:solidFill>
                <a:latin typeface="Arial"/>
              </a:rPr>
              <a:t>a.site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fr-FR" sz="1600" spc="-1" strike="noStrike">
                <a:solidFill>
                  <a:srgbClr val="33cc33"/>
                </a:solidFill>
                <a:latin typeface="Arial"/>
              </a:rPr>
              <a:t> b.stade_dvt</a:t>
            </a:r>
            <a:r>
              <a:rPr b="0" i="1" lang="fr-FR" sz="16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fr-FR" sz="1600" spc="-1" strike="noStrike">
                <a:solidFill>
                  <a:srgbClr val="33cc33"/>
                </a:solidFill>
                <a:latin typeface="Arial"/>
              </a:rPr>
              <a:t>c.diamètre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fr-FR" sz="1600" spc="-1" strike="noStrike">
                <a:solidFill>
                  <a:srgbClr val="33cc33"/>
                </a:solidFill>
                <a:latin typeface="Arial"/>
              </a:rPr>
              <a:t>d.mort_charp</a:t>
            </a:r>
            <a:r>
              <a:rPr b="0" i="1" lang="fr-FR" sz="16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fr-FR" sz="1600" spc="-1" strike="noStrike">
                <a:solidFill>
                  <a:srgbClr val="33cc33"/>
                </a:solidFill>
                <a:latin typeface="Arial"/>
              </a:rPr>
              <a:t>e.ech</a:t>
            </a:r>
            <a:r>
              <a:rPr b="0" i="1" lang="fr-FR" sz="16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fr-FR" sz="1600" spc="-1" strike="noStrike">
                <a:solidFill>
                  <a:srgbClr val="33cc33"/>
                </a:solidFill>
                <a:latin typeface="Arial"/>
              </a:rPr>
              <a:t>f.(mort_charp*e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574560" y="3571920"/>
            <a:ext cx="4213080" cy="3064320"/>
            <a:chOff x="574560" y="3571920"/>
            <a:chExt cx="4213080" cy="3064320"/>
          </a:xfrm>
        </p:grpSpPr>
        <p:sp>
          <p:nvSpPr>
            <p:cNvPr id="894" name=""/>
            <p:cNvSpPr/>
            <p:nvPr/>
          </p:nvSpPr>
          <p:spPr>
            <a:xfrm>
              <a:off x="979200" y="6208560"/>
              <a:ext cx="3805200" cy="18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977760" y="6210000"/>
              <a:ext cx="144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1739520" y="6210000"/>
              <a:ext cx="180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2501640" y="6210000"/>
              <a:ext cx="180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3263760" y="6210000"/>
              <a:ext cx="144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4025520" y="6210000"/>
              <a:ext cx="180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V="1">
              <a:off x="1358640" y="621000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2120760" y="621000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2882520" y="621000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3644640" y="621000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4406760" y="621000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979200" y="3571920"/>
              <a:ext cx="3805200" cy="14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952200" y="6305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712880" y="6305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474640" y="6305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236760" y="6305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998880" y="6305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792520" y="6453360"/>
              <a:ext cx="113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eurs ajusté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977760" y="3573360"/>
              <a:ext cx="1440" cy="26352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934920" y="6210360"/>
              <a:ext cx="42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934920" y="5668920"/>
              <a:ext cx="42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934920" y="5127480"/>
              <a:ext cx="42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934920" y="4586400"/>
              <a:ext cx="42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934920" y="4044960"/>
              <a:ext cx="42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955440" y="5938920"/>
              <a:ext cx="22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955440" y="5397480"/>
              <a:ext cx="22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955440" y="4856040"/>
              <a:ext cx="22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955440" y="4314960"/>
              <a:ext cx="22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955440" y="3773520"/>
              <a:ext cx="22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786200" y="3571920"/>
              <a:ext cx="1440" cy="26384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39520" y="61722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39520" y="563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39520" y="5089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39520" y="4548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39520" y="4006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rot="16200000">
              <a:off x="49680" y="4812840"/>
              <a:ext cx="123228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eurs mesuré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082600" y="5983200"/>
              <a:ext cx="349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253960" y="5025960"/>
              <a:ext cx="3492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414520" y="5919840"/>
              <a:ext cx="331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487240" y="4884840"/>
              <a:ext cx="3492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498400" y="4667400"/>
              <a:ext cx="349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519280" y="4875120"/>
              <a:ext cx="3492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543040" y="4950000"/>
              <a:ext cx="331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579400" y="5324400"/>
              <a:ext cx="3348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584080" y="5516640"/>
              <a:ext cx="3348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612880" y="4911840"/>
              <a:ext cx="3492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653920" y="4834080"/>
              <a:ext cx="3492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720880" y="4579920"/>
              <a:ext cx="349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754000" y="5234040"/>
              <a:ext cx="3492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782800" y="4902120"/>
              <a:ext cx="3492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825640" y="4500720"/>
              <a:ext cx="331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844720" y="4849920"/>
              <a:ext cx="3312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844720" y="4902120"/>
              <a:ext cx="3492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854080" y="5025960"/>
              <a:ext cx="3492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862000" y="4921200"/>
              <a:ext cx="3348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896920" y="5200560"/>
              <a:ext cx="3492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914560" y="4979880"/>
              <a:ext cx="331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914560" y="4892760"/>
              <a:ext cx="331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914560" y="4280040"/>
              <a:ext cx="331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919240" y="4940280"/>
              <a:ext cx="349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919240" y="4730760"/>
              <a:ext cx="349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966760" y="4611600"/>
              <a:ext cx="3492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974680" y="5048280"/>
              <a:ext cx="3348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990520" y="4394160"/>
              <a:ext cx="3492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030480" y="4264200"/>
              <a:ext cx="3492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047760" y="4403880"/>
              <a:ext cx="3348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054240" y="4622760"/>
              <a:ext cx="3492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074760" y="4772160"/>
              <a:ext cx="349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092400" y="4892760"/>
              <a:ext cx="349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117600" y="4645080"/>
              <a:ext cx="3348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124080" y="4513320"/>
              <a:ext cx="331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127320" y="4376880"/>
              <a:ext cx="3312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146040" y="4611600"/>
              <a:ext cx="3528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160440" y="5073480"/>
              <a:ext cx="3348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189240" y="4622760"/>
              <a:ext cx="3312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190680" y="4849920"/>
              <a:ext cx="3492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214440" y="4249800"/>
              <a:ext cx="349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287520" y="4164120"/>
              <a:ext cx="3492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287520" y="4060800"/>
              <a:ext cx="349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295440" y="4308480"/>
              <a:ext cx="3348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295440" y="4316400"/>
              <a:ext cx="349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304800" y="4338720"/>
              <a:ext cx="349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306600" y="4780080"/>
              <a:ext cx="3492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314520" y="4667400"/>
              <a:ext cx="349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315960" y="4718160"/>
              <a:ext cx="3492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321000" y="4649760"/>
              <a:ext cx="349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322440" y="4389480"/>
              <a:ext cx="349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354120" y="4411800"/>
              <a:ext cx="349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416040" y="5367240"/>
              <a:ext cx="3348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420720" y="4127400"/>
              <a:ext cx="3348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430440" y="4911840"/>
              <a:ext cx="3492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430440" y="4362480"/>
              <a:ext cx="3492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436560" y="3897360"/>
              <a:ext cx="3348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455640" y="4565520"/>
              <a:ext cx="3348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457440" y="4140360"/>
              <a:ext cx="331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474720" y="4645080"/>
              <a:ext cx="3492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522600" y="4400640"/>
              <a:ext cx="3492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527280" y="4111560"/>
              <a:ext cx="349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552480" y="4286160"/>
              <a:ext cx="3348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552480" y="4214880"/>
              <a:ext cx="3348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554280" y="4449600"/>
              <a:ext cx="349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560400" y="4802040"/>
              <a:ext cx="3348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562200" y="4341960"/>
              <a:ext cx="331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568320" y="4419720"/>
              <a:ext cx="3492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603240" y="4437000"/>
              <a:ext cx="3348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608280" y="4309920"/>
              <a:ext cx="331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665160" y="4508640"/>
              <a:ext cx="349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674880" y="4206960"/>
              <a:ext cx="349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674880" y="4070520"/>
              <a:ext cx="349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695400" y="4473720"/>
              <a:ext cx="349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697200" y="4280040"/>
              <a:ext cx="331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789000" y="4175280"/>
              <a:ext cx="3492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875040" y="4025880"/>
              <a:ext cx="3312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887640" y="4094280"/>
              <a:ext cx="3312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914640" y="4151160"/>
              <a:ext cx="349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944880" y="4156200"/>
              <a:ext cx="331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974760" y="3921120"/>
              <a:ext cx="3348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047840" y="3795840"/>
              <a:ext cx="3492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060440" y="3824280"/>
              <a:ext cx="3528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359240" y="4006800"/>
              <a:ext cx="331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447800" y="3984480"/>
              <a:ext cx="3492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4826160" y="3500280"/>
            <a:ext cx="4282920" cy="3040200"/>
            <a:chOff x="4826160" y="3500280"/>
            <a:chExt cx="4282920" cy="3040200"/>
          </a:xfrm>
        </p:grpSpPr>
        <p:sp>
          <p:nvSpPr>
            <p:cNvPr id="1016" name=""/>
            <p:cNvSpPr/>
            <p:nvPr/>
          </p:nvSpPr>
          <p:spPr>
            <a:xfrm>
              <a:off x="5291280" y="6114960"/>
              <a:ext cx="3814920" cy="14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5289840" y="6114600"/>
              <a:ext cx="144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5780160" y="6114600"/>
              <a:ext cx="180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6270840" y="6114600"/>
              <a:ext cx="144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V="1">
              <a:off x="6762960" y="6114600"/>
              <a:ext cx="144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7253280" y="6114600"/>
              <a:ext cx="180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7743960" y="6114600"/>
              <a:ext cx="144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8234640" y="6114600"/>
              <a:ext cx="144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8726760" y="6114600"/>
              <a:ext cx="144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V="1">
              <a:off x="5534280" y="611460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6026400" y="611460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>
              <a:off x="6516720" y="611460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7007400" y="611460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7498080" y="611460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7990200" y="611460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8480520" y="6114600"/>
              <a:ext cx="180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8971200" y="6114600"/>
              <a:ext cx="1440" cy="2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291280" y="3500280"/>
              <a:ext cx="3814920" cy="14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221800" y="621000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712480" y="621000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02800" y="621000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.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693480" y="621000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.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185600" y="621000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.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675920" y="621000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.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8166600" y="621000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.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657280" y="621000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.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102800" y="6357600"/>
              <a:ext cx="113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eurs ajusté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289840" y="3500280"/>
              <a:ext cx="1440" cy="261468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245200" y="6114960"/>
              <a:ext cx="446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245200" y="5714640"/>
              <a:ext cx="446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45200" y="5314680"/>
              <a:ext cx="446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45200" y="4914720"/>
              <a:ext cx="446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245200" y="4516200"/>
              <a:ext cx="446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245200" y="4116240"/>
              <a:ext cx="446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245200" y="3716280"/>
              <a:ext cx="446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267520" y="5914800"/>
              <a:ext cx="22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267520" y="5516280"/>
              <a:ext cx="22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267520" y="5116320"/>
              <a:ext cx="22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267520" y="4716360"/>
              <a:ext cx="22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267520" y="4314600"/>
              <a:ext cx="22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67520" y="3916080"/>
              <a:ext cx="22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67520" y="3516120"/>
              <a:ext cx="22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9107640" y="3501720"/>
              <a:ext cx="1440" cy="261144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030280" y="6078240"/>
              <a:ext cx="151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2.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030280" y="5678280"/>
              <a:ext cx="151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1.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030280" y="5278320"/>
              <a:ext cx="151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1.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030280" y="4878360"/>
              <a:ext cx="151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061600" y="447804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061600" y="407952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061600" y="3679560"/>
              <a:ext cx="122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rot="16200000">
              <a:off x="4671000" y="4950000"/>
              <a:ext cx="4928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ésid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735880" y="5367240"/>
              <a:ext cx="3636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958000" y="4132080"/>
              <a:ext cx="367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162840" y="5621040"/>
              <a:ext cx="3636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258240" y="4168440"/>
              <a:ext cx="3636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272280" y="3860640"/>
              <a:ext cx="3672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299280" y="4187520"/>
              <a:ext cx="367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328080" y="4324320"/>
              <a:ext cx="3636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375600" y="4916160"/>
              <a:ext cx="3636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382080" y="5202000"/>
              <a:ext cx="3636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418440" y="4340160"/>
              <a:ext cx="3636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472440" y="4268520"/>
              <a:ext cx="3636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559560" y="3963960"/>
              <a:ext cx="367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600960" y="4964040"/>
              <a:ext cx="3816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639120" y="4505040"/>
              <a:ext cx="3636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693120" y="3955680"/>
              <a:ext cx="3636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716880" y="4492440"/>
              <a:ext cx="3636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718320" y="4570200"/>
              <a:ext cx="3672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731280" y="4762440"/>
              <a:ext cx="3636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740640" y="4616280"/>
              <a:ext cx="3672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785280" y="5067000"/>
              <a:ext cx="3636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807240" y="4759200"/>
              <a:ext cx="367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807240" y="4628880"/>
              <a:ext cx="367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807240" y="3724200"/>
              <a:ext cx="3672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815160" y="4705200"/>
              <a:ext cx="3672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815160" y="4395600"/>
              <a:ext cx="3672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875640" y="4268520"/>
              <a:ext cx="3636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883560" y="4922640"/>
              <a:ext cx="3636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905880" y="3970080"/>
              <a:ext cx="3636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956640" y="3821040"/>
              <a:ext cx="3636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978960" y="4046400"/>
              <a:ext cx="3636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988320" y="4376520"/>
              <a:ext cx="3636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013880" y="4619520"/>
              <a:ext cx="3636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037640" y="4816440"/>
              <a:ext cx="3636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069320" y="4474800"/>
              <a:ext cx="3636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077240" y="4287600"/>
              <a:ext cx="3636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080480" y="4087440"/>
              <a:ext cx="3636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105680" y="4456080"/>
              <a:ext cx="3816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124760" y="5154480"/>
              <a:ext cx="3672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159680" y="4516200"/>
              <a:ext cx="3672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164720" y="4856040"/>
              <a:ext cx="3636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194600" y="3993840"/>
              <a:ext cx="3672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288200" y="3943080"/>
              <a:ext cx="3672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288200" y="3792240"/>
              <a:ext cx="3672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297920" y="4163760"/>
              <a:ext cx="3636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299360" y="4178160"/>
              <a:ext cx="3672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312320" y="4221000"/>
              <a:ext cx="3636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313760" y="4875120"/>
              <a:ext cx="3636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323120" y="4716360"/>
              <a:ext cx="367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326360" y="4792320"/>
              <a:ext cx="367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331400" y="4697280"/>
              <a:ext cx="3636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334280" y="4314600"/>
              <a:ext cx="367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375680" y="4379760"/>
              <a:ext cx="3636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453440" y="5856120"/>
              <a:ext cx="3672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459920" y="4028760"/>
              <a:ext cx="3636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472520" y="5198760"/>
              <a:ext cx="3636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472520" y="4386240"/>
              <a:ext cx="3636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480440" y="3705120"/>
              <a:ext cx="3636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504200" y="4711320"/>
              <a:ext cx="36720" cy="352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507440" y="4087440"/>
              <a:ext cx="3636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529760" y="4849560"/>
              <a:ext cx="3636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589880" y="4539960"/>
              <a:ext cx="3672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596360" y="4117680"/>
              <a:ext cx="3636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629840" y="4403520"/>
              <a:ext cx="3636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629840" y="4297320"/>
              <a:ext cx="3636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632720" y="4646520"/>
              <a:ext cx="367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639200" y="5171760"/>
              <a:ext cx="3636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642440" y="4495680"/>
              <a:ext cx="3636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651800" y="4617720"/>
              <a:ext cx="3672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694640" y="4679640"/>
              <a:ext cx="367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699680" y="4495680"/>
              <a:ext cx="3636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775640" y="4849560"/>
              <a:ext cx="367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7786800" y="4414680"/>
              <a:ext cx="3672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786800" y="4213080"/>
              <a:ext cx="3672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813800" y="4832280"/>
              <a:ext cx="3672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815600" y="4546440"/>
              <a:ext cx="3636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934400" y="4485960"/>
              <a:ext cx="3672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044200" y="4354200"/>
              <a:ext cx="3636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060040" y="4468680"/>
              <a:ext cx="3780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8096400" y="4584600"/>
              <a:ext cx="3636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8134560" y="4622760"/>
              <a:ext cx="3636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174160" y="4305240"/>
              <a:ext cx="3672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267760" y="4197240"/>
              <a:ext cx="36720" cy="331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285400" y="4254120"/>
              <a:ext cx="36360" cy="352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669520" y="4836960"/>
              <a:ext cx="36360" cy="3492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8785440" y="4897080"/>
              <a:ext cx="36360" cy="33480"/>
            </a:xfrm>
            <a:prstGeom prst="ellipse">
              <a:avLst/>
            </a:prstGeom>
            <a:solidFill>
              <a:srgbClr val="333399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4142520" y="2852640"/>
            <a:ext cx="9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²=0,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title"/>
          </p:nvPr>
        </p:nvSpPr>
        <p:spPr>
          <a:xfrm>
            <a:off x="879480" y="53640"/>
            <a:ext cx="7796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élisation de l’accroiss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E74B6-9877-41A8-90DE-8E8D0E76B4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"/>
          <p:cNvSpPr/>
          <p:nvPr/>
        </p:nvSpPr>
        <p:spPr>
          <a:xfrm>
            <a:off x="1311120" y="2513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2771640" y="1052640"/>
            <a:ext cx="6408720" cy="1873080"/>
          </a:xfrm>
          <a:prstGeom prst="wedgeRoundRectCallout">
            <a:avLst>
              <a:gd name="adj1" fmla="val -61097"/>
              <a:gd name="adj2" fmla="val 7322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uels facteurs expliquent le mieux la variance observé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facteur </a:t>
            </a:r>
            <a:r>
              <a:rPr b="0" lang="fr-FR" sz="1800" spc="-1" strike="noStrike">
                <a:solidFill>
                  <a:srgbClr val="993300"/>
                </a:solidFill>
                <a:latin typeface="Arial"/>
              </a:rPr>
              <a:t>sit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facteurs de </a:t>
            </a:r>
            <a:r>
              <a:rPr b="0" lang="fr-FR" sz="1800" spc="-1" strike="noStrike">
                <a:solidFill>
                  <a:srgbClr val="33cc33"/>
                </a:solidFill>
                <a:latin typeface="Arial"/>
              </a:rPr>
              <a:t>développement-concurrence</a:t>
            </a:r>
            <a:r>
              <a:rPr b="0" lang="fr-FR" sz="1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4788000" y="4005360"/>
            <a:ext cx="4356000" cy="2852640"/>
            <a:chOff x="4788000" y="4005360"/>
            <a:chExt cx="4356000" cy="2852640"/>
          </a:xfrm>
        </p:grpSpPr>
        <p:pic>
          <p:nvPicPr>
            <p:cNvPr id="1157" name="" descr=""/>
            <p:cNvPicPr/>
            <p:nvPr/>
          </p:nvPicPr>
          <p:blipFill>
            <a:blip r:embed="rId1"/>
            <a:stretch/>
          </p:blipFill>
          <p:spPr>
            <a:xfrm rot="5400000">
              <a:off x="7020000" y="4734000"/>
              <a:ext cx="2185920" cy="20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8" name=""/>
            <p:cNvSpPr/>
            <p:nvPr/>
          </p:nvSpPr>
          <p:spPr>
            <a:xfrm>
              <a:off x="4788000" y="4005360"/>
              <a:ext cx="2592360" cy="431640"/>
            </a:xfrm>
            <a:prstGeom prst="wedgeRoundRectCallout">
              <a:avLst>
                <a:gd name="adj1" fmla="val 48532"/>
                <a:gd name="adj2" fmla="val 258824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ssurément le </a:t>
              </a:r>
              <a:r>
                <a:rPr b="0" lang="en-US" sz="1800" spc="-1" strike="noStrike">
                  <a:solidFill>
                    <a:srgbClr val="993300"/>
                  </a:solidFill>
                  <a:latin typeface="Arial"/>
                </a:rPr>
                <a:t>si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!!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9" name=""/>
          <p:cNvGrpSpPr/>
          <p:nvPr/>
        </p:nvGrpSpPr>
        <p:grpSpPr>
          <a:xfrm>
            <a:off x="2627280" y="4869000"/>
            <a:ext cx="4249800" cy="1989000"/>
            <a:chOff x="2627280" y="4869000"/>
            <a:chExt cx="4249800" cy="1989000"/>
          </a:xfrm>
        </p:grpSpPr>
        <p:pic>
          <p:nvPicPr>
            <p:cNvPr id="1160" name="" descr=""/>
            <p:cNvPicPr/>
            <p:nvPr/>
          </p:nvPicPr>
          <p:blipFill>
            <a:blip r:embed="rId2"/>
            <a:stretch/>
          </p:blipFill>
          <p:spPr>
            <a:xfrm>
              <a:off x="2627280" y="4869000"/>
              <a:ext cx="1847880" cy="19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1" name=""/>
            <p:cNvSpPr/>
            <p:nvPr/>
          </p:nvSpPr>
          <p:spPr>
            <a:xfrm>
              <a:off x="4572000" y="5013360"/>
              <a:ext cx="2305080" cy="865080"/>
            </a:xfrm>
            <a:prstGeom prst="wedgeRoundRectCallout">
              <a:avLst>
                <a:gd name="adj1" fmla="val -57574"/>
                <a:gd name="adj2" fmla="val 8944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Plutôt les facteurs </a:t>
              </a:r>
              <a:r>
                <a:rPr b="0" lang="fr-FR" sz="1800" spc="-1" strike="noStrike">
                  <a:solidFill>
                    <a:srgbClr val="33cc33"/>
                  </a:solidFill>
                  <a:latin typeface="Arial"/>
                </a:rPr>
                <a:t>dvt-conncurrence!!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79480" y="-27360"/>
            <a:ext cx="7796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élisation de l’accroiss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3" name="" descr=""/>
          <p:cNvPicPr/>
          <p:nvPr/>
        </p:nvPicPr>
        <p:blipFill>
          <a:blip r:embed="rId3"/>
          <a:stretch/>
        </p:blipFill>
        <p:spPr>
          <a:xfrm>
            <a:off x="826920" y="2637000"/>
            <a:ext cx="2160720" cy="207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11929-DDDF-43BC-A321-457EB6AB6F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/>
          </p:nvPr>
        </p:nvSpPr>
        <p:spPr>
          <a:xfrm>
            <a:off x="900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èle géné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Ln(Acc)= </a:t>
            </a:r>
            <a:r>
              <a:rPr b="0" i="1" lang="fr-FR" sz="1600" spc="-1" strike="noStrike">
                <a:solidFill>
                  <a:srgbClr val="993300"/>
                </a:solidFill>
                <a:latin typeface="Arial"/>
              </a:rPr>
              <a:t>a</a:t>
            </a:r>
            <a:r>
              <a:rPr b="0" i="1" lang="fr-FR" sz="1600" spc="-1" strike="noStrike" baseline="-25000">
                <a:solidFill>
                  <a:srgbClr val="993300"/>
                </a:solidFill>
                <a:latin typeface="Arial"/>
              </a:rPr>
              <a:t>site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fr-FR" sz="1600" spc="-1" strike="noStrike">
                <a:solidFill>
                  <a:srgbClr val="99cc00"/>
                </a:solidFill>
                <a:latin typeface="Arial"/>
              </a:rPr>
              <a:t>b.stade_dvt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fr-FR" sz="1600" spc="-1" strike="noStrike">
                <a:solidFill>
                  <a:srgbClr val="99cc00"/>
                </a:solidFill>
                <a:latin typeface="Arial"/>
              </a:rPr>
              <a:t>c.diamètre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fr-FR" sz="1600" spc="-1" strike="noStrike">
                <a:solidFill>
                  <a:srgbClr val="99cc00"/>
                </a:solidFill>
                <a:latin typeface="Arial"/>
              </a:rPr>
              <a:t>d.mort_charp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fr-FR" sz="1600" spc="-1" strike="noStrike">
                <a:solidFill>
                  <a:srgbClr val="99cc00"/>
                </a:solidFill>
                <a:latin typeface="Arial"/>
              </a:rPr>
              <a:t>e.ech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fr-FR" sz="1600" spc="-1" strike="noStrike">
                <a:solidFill>
                  <a:srgbClr val="99cc00"/>
                </a:solidFill>
                <a:latin typeface="Arial"/>
              </a:rPr>
              <a:t>f.(mort_charp*e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R²=0,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èle partiel « Site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Ln(Acc)= </a:t>
            </a:r>
            <a:r>
              <a:rPr b="0" i="1" lang="fr-FR" sz="1600" spc="-1" strike="noStrike">
                <a:solidFill>
                  <a:srgbClr val="993300"/>
                </a:solidFill>
                <a:latin typeface="Arial"/>
              </a:rPr>
              <a:t>a</a:t>
            </a:r>
            <a:r>
              <a:rPr b="0" i="1" lang="fr-FR" sz="1600" spc="-1" strike="noStrike" baseline="-25000">
                <a:solidFill>
                  <a:srgbClr val="993300"/>
                </a:solidFill>
                <a:latin typeface="Arial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R²=0,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èle partiel « Dvt-concurrence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Ln(Acc)= </a:t>
            </a:r>
            <a:r>
              <a:rPr b="0" i="1" lang="fr-FR" sz="1600" spc="-1" strike="noStrike">
                <a:solidFill>
                  <a:srgbClr val="99cc00"/>
                </a:solidFill>
                <a:latin typeface="Arial"/>
              </a:rPr>
              <a:t>b.stade_dvt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fr-FR" sz="1600" spc="-1" strike="noStrike">
                <a:solidFill>
                  <a:srgbClr val="99cc00"/>
                </a:solidFill>
                <a:latin typeface="Arial"/>
              </a:rPr>
              <a:t>c.diamètre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fr-FR" sz="1600" spc="-1" strike="noStrike">
                <a:solidFill>
                  <a:srgbClr val="99cc00"/>
                </a:solidFill>
                <a:latin typeface="Arial"/>
              </a:rPr>
              <a:t>d.mort_charp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fr-FR" sz="1600" spc="-1" strike="noStrike">
                <a:solidFill>
                  <a:srgbClr val="99cc00"/>
                </a:solidFill>
                <a:latin typeface="Arial"/>
              </a:rPr>
              <a:t>e.ech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fr-FR" sz="1600" spc="-1" strike="noStrike">
                <a:solidFill>
                  <a:srgbClr val="99cc00"/>
                </a:solidFill>
                <a:latin typeface="Arial"/>
              </a:rPr>
              <a:t>f.(mort_charp*e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R²=0,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Indépendance des facteurs Site et Dvt-Con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5" name="" descr=""/>
          <p:cNvPicPr/>
          <p:nvPr/>
        </p:nvPicPr>
        <p:blipFill>
          <a:blip r:embed="rId1"/>
          <a:stretch/>
        </p:blipFill>
        <p:spPr>
          <a:xfrm>
            <a:off x="6732720" y="2852640"/>
            <a:ext cx="1400040" cy="1555920"/>
          </a:xfrm>
          <a:prstGeom prst="rect">
            <a:avLst/>
          </a:prstGeom>
          <a:ln w="0">
            <a:noFill/>
          </a:ln>
        </p:spPr>
      </p:pic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6804000" y="5300640"/>
            <a:ext cx="1312920" cy="1413000"/>
          </a:xfrm>
          <a:prstGeom prst="rect">
            <a:avLst/>
          </a:prstGeom>
          <a:ln w="0">
            <a:noFill/>
          </a:ln>
        </p:spPr>
      </p:pic>
      <p:sp>
        <p:nvSpPr>
          <p:cNvPr id="1167" name="PlaceHolder 2"/>
          <p:cNvSpPr>
            <a:spLocks noGrp="1"/>
          </p:cNvSpPr>
          <p:nvPr>
            <p:ph type="title"/>
          </p:nvPr>
        </p:nvSpPr>
        <p:spPr>
          <a:xfrm>
            <a:off x="879480" y="53640"/>
            <a:ext cx="7796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élisation de l’accroiss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7CB42-520A-4F64-8845-9134088D2A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8" name=""/>
          <p:cNvGraphicFramePr/>
          <p:nvPr/>
        </p:nvGraphicFramePr>
        <p:xfrm>
          <a:off x="1677960" y="1703520"/>
          <a:ext cx="6126120" cy="35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1703520"/>
                    <a:ext cx="6126120" cy="35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0" name=""/>
          <p:cNvGrpSpPr/>
          <p:nvPr/>
        </p:nvGrpSpPr>
        <p:grpSpPr>
          <a:xfrm>
            <a:off x="3492000" y="2708280"/>
            <a:ext cx="2016720" cy="2305080"/>
            <a:chOff x="3492000" y="2708280"/>
            <a:chExt cx="2016720" cy="2305080"/>
          </a:xfrm>
        </p:grpSpPr>
        <p:sp>
          <p:nvSpPr>
            <p:cNvPr id="1171" name=""/>
            <p:cNvSpPr/>
            <p:nvPr/>
          </p:nvSpPr>
          <p:spPr>
            <a:xfrm>
              <a:off x="3637080" y="2708280"/>
              <a:ext cx="187164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99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3300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993300"/>
                  </a:solidFill>
                  <a:latin typeface="Arial"/>
                </a:rPr>
                <a:t>Sit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cc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33cc33"/>
                  </a:solidFill>
                  <a:latin typeface="Arial"/>
                </a:rPr>
                <a:t>stade_dv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cc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cc33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33cc33"/>
                  </a:solidFill>
                  <a:latin typeface="Arial"/>
                </a:rPr>
                <a:t>diamèt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cc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cc33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33cc33"/>
                  </a:solidFill>
                  <a:latin typeface="Arial"/>
                </a:rPr>
                <a:t>mort_char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cc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cc33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33cc33"/>
                  </a:solidFill>
                  <a:latin typeface="Arial"/>
                </a:rPr>
                <a:t>éch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cc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33cc33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33cc33"/>
                  </a:solidFill>
                  <a:latin typeface="Arial"/>
                </a:rPr>
                <a:t>mort_charp*éch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3492000" y="3213000"/>
              <a:ext cx="287640" cy="93672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3492000" y="3429000"/>
              <a:ext cx="288000" cy="1152360"/>
              <a:chOff x="3492000" y="3429000"/>
              <a:chExt cx="288000" cy="1152360"/>
            </a:xfrm>
          </p:grpSpPr>
          <p:sp>
            <p:nvSpPr>
              <p:cNvPr id="1174" name=""/>
              <p:cNvSpPr/>
              <p:nvPr/>
            </p:nvSpPr>
            <p:spPr>
              <a:xfrm>
                <a:off x="3780000" y="3429000"/>
                <a:ext cx="0" cy="1079640"/>
              </a:xfrm>
              <a:prstGeom prst="line">
                <a:avLst/>
              </a:prstGeom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flipH="1">
                <a:off x="3492000" y="3933720"/>
                <a:ext cx="287640" cy="647640"/>
              </a:xfrm>
              <a:prstGeom prst="line">
                <a:avLst/>
              </a:prstGeom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6" name=""/>
          <p:cNvSpPr/>
          <p:nvPr/>
        </p:nvSpPr>
        <p:spPr>
          <a:xfrm>
            <a:off x="2484360" y="5084640"/>
            <a:ext cx="1871640" cy="172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993300"/>
                </a:solidFill>
                <a:latin typeface="Arial"/>
              </a:rPr>
              <a:t>Si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33cc33"/>
                </a:solidFill>
                <a:latin typeface="Arial"/>
              </a:rPr>
              <a:t>stade_dv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33cc33"/>
                </a:solidFill>
                <a:latin typeface="Arial"/>
              </a:rPr>
              <a:t>diamè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33cc33"/>
                </a:solidFill>
                <a:latin typeface="Arial"/>
              </a:rPr>
              <a:t>mort_cha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33cc33"/>
                </a:solidFill>
                <a:latin typeface="Arial"/>
              </a:rPr>
              <a:t>é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33cc33"/>
                </a:solidFill>
                <a:latin typeface="Arial"/>
              </a:rPr>
              <a:t>mort_charp*é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4140360" y="4941720"/>
            <a:ext cx="1871640" cy="172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993300"/>
                </a:solidFill>
                <a:latin typeface="Arial"/>
              </a:rPr>
              <a:t>Si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33cc33"/>
                </a:solidFill>
                <a:latin typeface="Arial"/>
              </a:rPr>
              <a:t>stade_dv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33cc33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33cc33"/>
                </a:solidFill>
                <a:latin typeface="Arial"/>
              </a:rPr>
              <a:t>Dawk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33cc33"/>
                </a:solidFill>
                <a:latin typeface="Arial"/>
              </a:rPr>
              <a:t>mort_cha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879480" y="54000"/>
            <a:ext cx="77961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élisation de l’accroiss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81C53-4F41-445F-B127-156EE1C78C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* Poursuite d'une étude commencée en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* Objectif : mieux connaître les effets du milieu sur la croissance diamétrique de 2 espèces "étalon" :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'angélique (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Dicorynia guianensi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Amsh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wapa (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Eperua falcat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Aubl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879480" y="53640"/>
            <a:ext cx="7796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x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78441-FBD7-4FA8-A12E-5F2CE64FFF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879480" y="53640"/>
            <a:ext cx="7796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ésultats précédents complété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 nuancé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Effet du site sur l’accroissement confirm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(Angélique plus sen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s atten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Importance des critères architectur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(amoindrit un peu l’effet s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451"/>
              </a:spcBef>
              <a:buClr>
                <a:srgbClr val="00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Protocole restant à stabili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63751-4CA9-416C-8F42-7BCDABB0B9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" descr=""/>
          <p:cNvPicPr/>
          <p:nvPr/>
        </p:nvPicPr>
        <p:blipFill>
          <a:blip r:embed="rId1"/>
          <a:srcRect l="0" t="11334" r="0" b="3810"/>
          <a:stretch/>
        </p:blipFill>
        <p:spPr>
          <a:xfrm>
            <a:off x="826920" y="0"/>
            <a:ext cx="8317080" cy="6858000"/>
          </a:xfrm>
          <a:prstGeom prst="rect">
            <a:avLst/>
          </a:prstGeom>
          <a:ln w="0">
            <a:noFill/>
          </a:ln>
        </p:spPr>
      </p:pic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1042920" y="2276280"/>
            <a:ext cx="7796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rci de votre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3" name="" descr=""/>
          <p:cNvPicPr/>
          <p:nvPr/>
        </p:nvPicPr>
        <p:blipFill>
          <a:blip r:embed="rId2"/>
          <a:stretch/>
        </p:blipFill>
        <p:spPr>
          <a:xfrm>
            <a:off x="900000" y="981000"/>
            <a:ext cx="4869000" cy="3651480"/>
          </a:xfrm>
          <a:prstGeom prst="rect">
            <a:avLst/>
          </a:prstGeom>
          <a:ln w="0">
            <a:noFill/>
          </a:ln>
        </p:spPr>
      </p:pic>
      <p:pic>
        <p:nvPicPr>
          <p:cNvPr id="1184" name="" descr=""/>
          <p:cNvPicPr/>
          <p:nvPr/>
        </p:nvPicPr>
        <p:blipFill>
          <a:blip r:embed="rId3"/>
          <a:stretch/>
        </p:blipFill>
        <p:spPr>
          <a:xfrm>
            <a:off x="5292720" y="981000"/>
            <a:ext cx="3728880" cy="4969080"/>
          </a:xfrm>
          <a:prstGeom prst="rect">
            <a:avLst/>
          </a:prstGeom>
          <a:ln w="0">
            <a:noFill/>
          </a:ln>
        </p:spPr>
      </p:pic>
      <p:pic>
        <p:nvPicPr>
          <p:cNvPr id="1185" name="" descr=""/>
          <p:cNvPicPr/>
          <p:nvPr/>
        </p:nvPicPr>
        <p:blipFill>
          <a:blip r:embed="rId4"/>
          <a:srcRect l="5411" t="0" r="16409" b="6914"/>
          <a:stretch/>
        </p:blipFill>
        <p:spPr>
          <a:xfrm>
            <a:off x="1042920" y="2924280"/>
            <a:ext cx="2952720" cy="3933720"/>
          </a:xfrm>
          <a:prstGeom prst="rect">
            <a:avLst/>
          </a:prstGeom>
          <a:ln w="0">
            <a:noFill/>
          </a:ln>
        </p:spPr>
      </p:pic>
      <p:pic>
        <p:nvPicPr>
          <p:cNvPr id="1186" name="" descr=""/>
          <p:cNvPicPr/>
          <p:nvPr/>
        </p:nvPicPr>
        <p:blipFill>
          <a:blip r:embed="rId5"/>
          <a:stretch/>
        </p:blipFill>
        <p:spPr>
          <a:xfrm>
            <a:off x="4572000" y="3141720"/>
            <a:ext cx="2808360" cy="3417840"/>
          </a:xfrm>
          <a:prstGeom prst="rect">
            <a:avLst/>
          </a:prstGeom>
          <a:ln w="0">
            <a:noFill/>
          </a:ln>
        </p:spPr>
      </p:pic>
      <p:sp>
        <p:nvSpPr>
          <p:cNvPr id="1187" name=""/>
          <p:cNvSpPr/>
          <p:nvPr/>
        </p:nvSpPr>
        <p:spPr>
          <a:xfrm>
            <a:off x="1115640" y="1341360"/>
            <a:ext cx="53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erci…à ceux qui nous ont accueillis et nour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1131480" y="3068640"/>
            <a:ext cx="24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qui nous ont aid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4000680" y="6518160"/>
            <a:ext cx="49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qui nous ont fait partager leur expé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4A734-4956-4291-8358-11BE2AFFED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879480" y="53640"/>
            <a:ext cx="7796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1192" name=""/>
          <p:cNvSpPr/>
          <p:nvPr/>
        </p:nvSpPr>
        <p:spPr>
          <a:xfrm>
            <a:off x="3637440" y="62064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t leur savoir faire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DD922-2485-4D3D-93D6-4397745924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19040" y="0"/>
            <a:ext cx="8724960" cy="6121440"/>
          </a:xfrm>
          <a:custGeom>
            <a:avLst/>
            <a:gdLst/>
            <a:ahLst/>
            <a:rect l="l" t="t" r="r" b="b"/>
            <a:pathLst>
              <a:path w="5496" h="3856">
                <a:moveTo>
                  <a:pt x="440" y="360"/>
                </a:moveTo>
                <a:lnTo>
                  <a:pt x="456" y="320"/>
                </a:lnTo>
                <a:lnTo>
                  <a:pt x="472" y="288"/>
                </a:lnTo>
                <a:lnTo>
                  <a:pt x="464" y="256"/>
                </a:lnTo>
                <a:lnTo>
                  <a:pt x="448" y="232"/>
                </a:lnTo>
                <a:lnTo>
                  <a:pt x="416" y="224"/>
                </a:lnTo>
                <a:lnTo>
                  <a:pt x="408" y="216"/>
                </a:lnTo>
                <a:lnTo>
                  <a:pt x="432" y="152"/>
                </a:lnTo>
                <a:lnTo>
                  <a:pt x="456" y="112"/>
                </a:lnTo>
                <a:lnTo>
                  <a:pt x="504" y="88"/>
                </a:lnTo>
                <a:lnTo>
                  <a:pt x="544" y="64"/>
                </a:lnTo>
                <a:lnTo>
                  <a:pt x="608" y="48"/>
                </a:lnTo>
                <a:lnTo>
                  <a:pt x="664" y="32"/>
                </a:lnTo>
                <a:lnTo>
                  <a:pt x="696" y="32"/>
                </a:lnTo>
                <a:lnTo>
                  <a:pt x="960" y="0"/>
                </a:lnTo>
                <a:lnTo>
                  <a:pt x="1168" y="16"/>
                </a:lnTo>
                <a:lnTo>
                  <a:pt x="1368" y="56"/>
                </a:lnTo>
                <a:lnTo>
                  <a:pt x="1600" y="104"/>
                </a:lnTo>
                <a:lnTo>
                  <a:pt x="2040" y="216"/>
                </a:lnTo>
                <a:lnTo>
                  <a:pt x="2472" y="384"/>
                </a:lnTo>
                <a:lnTo>
                  <a:pt x="2896" y="592"/>
                </a:lnTo>
                <a:lnTo>
                  <a:pt x="3320" y="840"/>
                </a:lnTo>
                <a:lnTo>
                  <a:pt x="3736" y="1120"/>
                </a:lnTo>
                <a:lnTo>
                  <a:pt x="4152" y="1440"/>
                </a:lnTo>
                <a:lnTo>
                  <a:pt x="4560" y="1768"/>
                </a:lnTo>
                <a:lnTo>
                  <a:pt x="4968" y="2120"/>
                </a:lnTo>
                <a:lnTo>
                  <a:pt x="5152" y="2296"/>
                </a:lnTo>
                <a:lnTo>
                  <a:pt x="5312" y="2472"/>
                </a:lnTo>
                <a:lnTo>
                  <a:pt x="5376" y="2568"/>
                </a:lnTo>
                <a:lnTo>
                  <a:pt x="5424" y="2672"/>
                </a:lnTo>
                <a:lnTo>
                  <a:pt x="5464" y="2792"/>
                </a:lnTo>
                <a:lnTo>
                  <a:pt x="5496" y="2928"/>
                </a:lnTo>
                <a:lnTo>
                  <a:pt x="5496" y="3040"/>
                </a:lnTo>
                <a:lnTo>
                  <a:pt x="5464" y="3144"/>
                </a:lnTo>
                <a:lnTo>
                  <a:pt x="5416" y="3224"/>
                </a:lnTo>
                <a:lnTo>
                  <a:pt x="5360" y="3312"/>
                </a:lnTo>
                <a:lnTo>
                  <a:pt x="5352" y="3344"/>
                </a:lnTo>
                <a:lnTo>
                  <a:pt x="5360" y="3384"/>
                </a:lnTo>
                <a:lnTo>
                  <a:pt x="5352" y="3432"/>
                </a:lnTo>
                <a:lnTo>
                  <a:pt x="5320" y="3472"/>
                </a:lnTo>
                <a:lnTo>
                  <a:pt x="5304" y="3504"/>
                </a:lnTo>
                <a:lnTo>
                  <a:pt x="5288" y="3544"/>
                </a:lnTo>
                <a:lnTo>
                  <a:pt x="5280" y="3552"/>
                </a:lnTo>
                <a:lnTo>
                  <a:pt x="5280" y="3576"/>
                </a:lnTo>
                <a:lnTo>
                  <a:pt x="5264" y="3616"/>
                </a:lnTo>
                <a:lnTo>
                  <a:pt x="5256" y="3624"/>
                </a:lnTo>
                <a:lnTo>
                  <a:pt x="5256" y="3648"/>
                </a:lnTo>
                <a:lnTo>
                  <a:pt x="5248" y="3680"/>
                </a:lnTo>
                <a:lnTo>
                  <a:pt x="5232" y="3704"/>
                </a:lnTo>
                <a:lnTo>
                  <a:pt x="5160" y="3736"/>
                </a:lnTo>
                <a:lnTo>
                  <a:pt x="5080" y="3776"/>
                </a:lnTo>
                <a:lnTo>
                  <a:pt x="5024" y="3824"/>
                </a:lnTo>
                <a:lnTo>
                  <a:pt x="4984" y="3856"/>
                </a:lnTo>
                <a:lnTo>
                  <a:pt x="4984" y="3824"/>
                </a:lnTo>
                <a:lnTo>
                  <a:pt x="4984" y="3800"/>
                </a:lnTo>
                <a:lnTo>
                  <a:pt x="4984" y="3792"/>
                </a:lnTo>
                <a:lnTo>
                  <a:pt x="4920" y="3792"/>
                </a:lnTo>
                <a:lnTo>
                  <a:pt x="4872" y="3792"/>
                </a:lnTo>
                <a:lnTo>
                  <a:pt x="4840" y="3736"/>
                </a:lnTo>
                <a:lnTo>
                  <a:pt x="4848" y="3648"/>
                </a:lnTo>
                <a:lnTo>
                  <a:pt x="4864" y="3560"/>
                </a:lnTo>
                <a:lnTo>
                  <a:pt x="4864" y="3520"/>
                </a:lnTo>
                <a:lnTo>
                  <a:pt x="4848" y="3504"/>
                </a:lnTo>
                <a:lnTo>
                  <a:pt x="4512" y="3288"/>
                </a:lnTo>
                <a:lnTo>
                  <a:pt x="4200" y="3072"/>
                </a:lnTo>
                <a:lnTo>
                  <a:pt x="3896" y="2856"/>
                </a:lnTo>
                <a:lnTo>
                  <a:pt x="3592" y="2664"/>
                </a:lnTo>
                <a:lnTo>
                  <a:pt x="3016" y="2360"/>
                </a:lnTo>
                <a:lnTo>
                  <a:pt x="2704" y="2216"/>
                </a:lnTo>
                <a:lnTo>
                  <a:pt x="2384" y="2080"/>
                </a:lnTo>
                <a:lnTo>
                  <a:pt x="1696" y="1816"/>
                </a:lnTo>
                <a:lnTo>
                  <a:pt x="960" y="1576"/>
                </a:lnTo>
                <a:lnTo>
                  <a:pt x="624" y="1432"/>
                </a:lnTo>
                <a:lnTo>
                  <a:pt x="456" y="1344"/>
                </a:lnTo>
                <a:lnTo>
                  <a:pt x="304" y="1256"/>
                </a:lnTo>
                <a:lnTo>
                  <a:pt x="264" y="1240"/>
                </a:lnTo>
                <a:lnTo>
                  <a:pt x="224" y="1232"/>
                </a:lnTo>
                <a:lnTo>
                  <a:pt x="136" y="1232"/>
                </a:lnTo>
                <a:lnTo>
                  <a:pt x="56" y="1224"/>
                </a:lnTo>
                <a:lnTo>
                  <a:pt x="0" y="1200"/>
                </a:lnTo>
                <a:lnTo>
                  <a:pt x="16" y="1184"/>
                </a:lnTo>
                <a:lnTo>
                  <a:pt x="24" y="1176"/>
                </a:lnTo>
                <a:lnTo>
                  <a:pt x="40" y="1160"/>
                </a:lnTo>
                <a:lnTo>
                  <a:pt x="80" y="1144"/>
                </a:lnTo>
                <a:lnTo>
                  <a:pt x="112" y="1104"/>
                </a:lnTo>
                <a:lnTo>
                  <a:pt x="152" y="1056"/>
                </a:lnTo>
                <a:lnTo>
                  <a:pt x="168" y="1024"/>
                </a:lnTo>
                <a:lnTo>
                  <a:pt x="216" y="976"/>
                </a:lnTo>
                <a:lnTo>
                  <a:pt x="224" y="960"/>
                </a:lnTo>
                <a:lnTo>
                  <a:pt x="240" y="936"/>
                </a:lnTo>
                <a:lnTo>
                  <a:pt x="272" y="896"/>
                </a:lnTo>
                <a:lnTo>
                  <a:pt x="320" y="848"/>
                </a:lnTo>
                <a:lnTo>
                  <a:pt x="360" y="800"/>
                </a:lnTo>
                <a:lnTo>
                  <a:pt x="392" y="768"/>
                </a:lnTo>
                <a:lnTo>
                  <a:pt x="400" y="736"/>
                </a:lnTo>
                <a:lnTo>
                  <a:pt x="408" y="720"/>
                </a:lnTo>
                <a:lnTo>
                  <a:pt x="424" y="712"/>
                </a:lnTo>
                <a:lnTo>
                  <a:pt x="440" y="696"/>
                </a:lnTo>
                <a:lnTo>
                  <a:pt x="440" y="640"/>
                </a:lnTo>
                <a:lnTo>
                  <a:pt x="432" y="576"/>
                </a:lnTo>
                <a:lnTo>
                  <a:pt x="440" y="512"/>
                </a:lnTo>
                <a:lnTo>
                  <a:pt x="448" y="464"/>
                </a:lnTo>
                <a:lnTo>
                  <a:pt x="440" y="400"/>
                </a:lnTo>
                <a:lnTo>
                  <a:pt x="440" y="36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9560" y="492120"/>
            <a:ext cx="8394840" cy="5803920"/>
          </a:xfrm>
          <a:custGeom>
            <a:avLst/>
            <a:gdLst/>
            <a:ahLst/>
            <a:rect l="l" t="t" r="r" b="b"/>
            <a:pathLst>
              <a:path w="5288" h="3656">
                <a:moveTo>
                  <a:pt x="0" y="976"/>
                </a:moveTo>
                <a:lnTo>
                  <a:pt x="24" y="952"/>
                </a:lnTo>
                <a:lnTo>
                  <a:pt x="88" y="936"/>
                </a:lnTo>
                <a:lnTo>
                  <a:pt x="160" y="864"/>
                </a:lnTo>
                <a:lnTo>
                  <a:pt x="200" y="800"/>
                </a:lnTo>
                <a:lnTo>
                  <a:pt x="248" y="752"/>
                </a:lnTo>
                <a:lnTo>
                  <a:pt x="256" y="720"/>
                </a:lnTo>
                <a:lnTo>
                  <a:pt x="304" y="680"/>
                </a:lnTo>
                <a:lnTo>
                  <a:pt x="328" y="640"/>
                </a:lnTo>
                <a:lnTo>
                  <a:pt x="360" y="600"/>
                </a:lnTo>
                <a:lnTo>
                  <a:pt x="408" y="568"/>
                </a:lnTo>
                <a:lnTo>
                  <a:pt x="432" y="504"/>
                </a:lnTo>
                <a:lnTo>
                  <a:pt x="472" y="504"/>
                </a:lnTo>
                <a:lnTo>
                  <a:pt x="496" y="408"/>
                </a:lnTo>
                <a:lnTo>
                  <a:pt x="496" y="320"/>
                </a:lnTo>
                <a:lnTo>
                  <a:pt x="496" y="256"/>
                </a:lnTo>
                <a:lnTo>
                  <a:pt x="496" y="184"/>
                </a:lnTo>
                <a:lnTo>
                  <a:pt x="544" y="136"/>
                </a:lnTo>
                <a:lnTo>
                  <a:pt x="568" y="96"/>
                </a:lnTo>
                <a:lnTo>
                  <a:pt x="568" y="48"/>
                </a:lnTo>
                <a:lnTo>
                  <a:pt x="632" y="24"/>
                </a:lnTo>
                <a:lnTo>
                  <a:pt x="712" y="48"/>
                </a:lnTo>
                <a:lnTo>
                  <a:pt x="792" y="64"/>
                </a:lnTo>
                <a:lnTo>
                  <a:pt x="856" y="72"/>
                </a:lnTo>
                <a:lnTo>
                  <a:pt x="696" y="16"/>
                </a:lnTo>
                <a:lnTo>
                  <a:pt x="720" y="0"/>
                </a:lnTo>
                <a:lnTo>
                  <a:pt x="784" y="24"/>
                </a:lnTo>
                <a:lnTo>
                  <a:pt x="832" y="48"/>
                </a:lnTo>
                <a:lnTo>
                  <a:pt x="904" y="72"/>
                </a:lnTo>
                <a:lnTo>
                  <a:pt x="944" y="80"/>
                </a:lnTo>
                <a:lnTo>
                  <a:pt x="1016" y="120"/>
                </a:lnTo>
                <a:lnTo>
                  <a:pt x="1104" y="184"/>
                </a:lnTo>
                <a:lnTo>
                  <a:pt x="1224" y="232"/>
                </a:lnTo>
                <a:lnTo>
                  <a:pt x="1264" y="256"/>
                </a:lnTo>
                <a:lnTo>
                  <a:pt x="1336" y="288"/>
                </a:lnTo>
                <a:lnTo>
                  <a:pt x="1384" y="296"/>
                </a:lnTo>
                <a:lnTo>
                  <a:pt x="1472" y="360"/>
                </a:lnTo>
                <a:lnTo>
                  <a:pt x="1520" y="368"/>
                </a:lnTo>
                <a:lnTo>
                  <a:pt x="1632" y="392"/>
                </a:lnTo>
                <a:lnTo>
                  <a:pt x="1696" y="408"/>
                </a:lnTo>
                <a:lnTo>
                  <a:pt x="1720" y="408"/>
                </a:lnTo>
                <a:lnTo>
                  <a:pt x="1816" y="456"/>
                </a:lnTo>
                <a:lnTo>
                  <a:pt x="1880" y="456"/>
                </a:lnTo>
                <a:lnTo>
                  <a:pt x="1992" y="504"/>
                </a:lnTo>
                <a:lnTo>
                  <a:pt x="2040" y="480"/>
                </a:lnTo>
                <a:lnTo>
                  <a:pt x="2088" y="480"/>
                </a:lnTo>
                <a:lnTo>
                  <a:pt x="2176" y="528"/>
                </a:lnTo>
                <a:lnTo>
                  <a:pt x="2288" y="528"/>
                </a:lnTo>
                <a:lnTo>
                  <a:pt x="2312" y="568"/>
                </a:lnTo>
                <a:lnTo>
                  <a:pt x="2376" y="616"/>
                </a:lnTo>
                <a:lnTo>
                  <a:pt x="2472" y="616"/>
                </a:lnTo>
                <a:lnTo>
                  <a:pt x="2536" y="664"/>
                </a:lnTo>
                <a:lnTo>
                  <a:pt x="2632" y="680"/>
                </a:lnTo>
                <a:lnTo>
                  <a:pt x="2720" y="752"/>
                </a:lnTo>
                <a:lnTo>
                  <a:pt x="2744" y="800"/>
                </a:lnTo>
                <a:lnTo>
                  <a:pt x="2744" y="816"/>
                </a:lnTo>
                <a:lnTo>
                  <a:pt x="2808" y="816"/>
                </a:lnTo>
                <a:lnTo>
                  <a:pt x="2880" y="888"/>
                </a:lnTo>
                <a:lnTo>
                  <a:pt x="2944" y="936"/>
                </a:lnTo>
                <a:lnTo>
                  <a:pt x="3016" y="952"/>
                </a:lnTo>
                <a:lnTo>
                  <a:pt x="3040" y="1000"/>
                </a:lnTo>
                <a:lnTo>
                  <a:pt x="3128" y="1072"/>
                </a:lnTo>
                <a:lnTo>
                  <a:pt x="3192" y="1112"/>
                </a:lnTo>
                <a:lnTo>
                  <a:pt x="3264" y="1160"/>
                </a:lnTo>
                <a:lnTo>
                  <a:pt x="3264" y="1208"/>
                </a:lnTo>
                <a:lnTo>
                  <a:pt x="3240" y="1224"/>
                </a:lnTo>
                <a:lnTo>
                  <a:pt x="3352" y="1248"/>
                </a:lnTo>
                <a:lnTo>
                  <a:pt x="3376" y="1296"/>
                </a:lnTo>
                <a:lnTo>
                  <a:pt x="3448" y="1360"/>
                </a:lnTo>
                <a:lnTo>
                  <a:pt x="3488" y="1384"/>
                </a:lnTo>
                <a:lnTo>
                  <a:pt x="3512" y="1432"/>
                </a:lnTo>
                <a:lnTo>
                  <a:pt x="3560" y="1456"/>
                </a:lnTo>
                <a:lnTo>
                  <a:pt x="3648" y="1496"/>
                </a:lnTo>
                <a:lnTo>
                  <a:pt x="3720" y="1592"/>
                </a:lnTo>
                <a:lnTo>
                  <a:pt x="3784" y="1656"/>
                </a:lnTo>
                <a:lnTo>
                  <a:pt x="3840" y="1672"/>
                </a:lnTo>
                <a:lnTo>
                  <a:pt x="3816" y="1704"/>
                </a:lnTo>
                <a:lnTo>
                  <a:pt x="3776" y="1728"/>
                </a:lnTo>
                <a:lnTo>
                  <a:pt x="3720" y="1736"/>
                </a:lnTo>
                <a:lnTo>
                  <a:pt x="3768" y="1744"/>
                </a:lnTo>
                <a:lnTo>
                  <a:pt x="3760" y="1760"/>
                </a:lnTo>
                <a:lnTo>
                  <a:pt x="3856" y="1704"/>
                </a:lnTo>
                <a:lnTo>
                  <a:pt x="3872" y="1664"/>
                </a:lnTo>
                <a:lnTo>
                  <a:pt x="3896" y="1656"/>
                </a:lnTo>
                <a:lnTo>
                  <a:pt x="3984" y="1656"/>
                </a:lnTo>
                <a:lnTo>
                  <a:pt x="4032" y="1728"/>
                </a:lnTo>
                <a:lnTo>
                  <a:pt x="4048" y="1784"/>
                </a:lnTo>
                <a:lnTo>
                  <a:pt x="4016" y="1832"/>
                </a:lnTo>
                <a:lnTo>
                  <a:pt x="3968" y="1848"/>
                </a:lnTo>
                <a:lnTo>
                  <a:pt x="4016" y="1856"/>
                </a:lnTo>
                <a:lnTo>
                  <a:pt x="4064" y="1808"/>
                </a:lnTo>
                <a:lnTo>
                  <a:pt x="4104" y="1792"/>
                </a:lnTo>
                <a:lnTo>
                  <a:pt x="4144" y="1840"/>
                </a:lnTo>
                <a:lnTo>
                  <a:pt x="4168" y="1816"/>
                </a:lnTo>
                <a:lnTo>
                  <a:pt x="4216" y="1864"/>
                </a:lnTo>
                <a:lnTo>
                  <a:pt x="4240" y="1928"/>
                </a:lnTo>
                <a:lnTo>
                  <a:pt x="4264" y="1952"/>
                </a:lnTo>
                <a:lnTo>
                  <a:pt x="4328" y="2000"/>
                </a:lnTo>
                <a:lnTo>
                  <a:pt x="4376" y="2040"/>
                </a:lnTo>
                <a:lnTo>
                  <a:pt x="4416" y="2064"/>
                </a:lnTo>
                <a:lnTo>
                  <a:pt x="4536" y="2160"/>
                </a:lnTo>
                <a:lnTo>
                  <a:pt x="4552" y="2208"/>
                </a:lnTo>
                <a:lnTo>
                  <a:pt x="4560" y="2264"/>
                </a:lnTo>
                <a:lnTo>
                  <a:pt x="4576" y="2328"/>
                </a:lnTo>
                <a:lnTo>
                  <a:pt x="4592" y="2336"/>
                </a:lnTo>
                <a:lnTo>
                  <a:pt x="4608" y="2408"/>
                </a:lnTo>
                <a:lnTo>
                  <a:pt x="4632" y="2496"/>
                </a:lnTo>
                <a:lnTo>
                  <a:pt x="4648" y="2640"/>
                </a:lnTo>
                <a:lnTo>
                  <a:pt x="4640" y="2728"/>
                </a:lnTo>
                <a:lnTo>
                  <a:pt x="4576" y="2792"/>
                </a:lnTo>
                <a:lnTo>
                  <a:pt x="4480" y="2856"/>
                </a:lnTo>
                <a:lnTo>
                  <a:pt x="4592" y="2808"/>
                </a:lnTo>
                <a:lnTo>
                  <a:pt x="4648" y="2760"/>
                </a:lnTo>
                <a:lnTo>
                  <a:pt x="4688" y="2720"/>
                </a:lnTo>
                <a:lnTo>
                  <a:pt x="4704" y="2656"/>
                </a:lnTo>
                <a:lnTo>
                  <a:pt x="4688" y="2584"/>
                </a:lnTo>
                <a:lnTo>
                  <a:pt x="4680" y="2528"/>
                </a:lnTo>
                <a:lnTo>
                  <a:pt x="4688" y="2448"/>
                </a:lnTo>
                <a:lnTo>
                  <a:pt x="4696" y="2288"/>
                </a:lnTo>
                <a:lnTo>
                  <a:pt x="4696" y="2264"/>
                </a:lnTo>
                <a:lnTo>
                  <a:pt x="4720" y="2224"/>
                </a:lnTo>
                <a:lnTo>
                  <a:pt x="4848" y="2224"/>
                </a:lnTo>
                <a:lnTo>
                  <a:pt x="4944" y="2336"/>
                </a:lnTo>
                <a:lnTo>
                  <a:pt x="5008" y="2408"/>
                </a:lnTo>
                <a:lnTo>
                  <a:pt x="5032" y="2472"/>
                </a:lnTo>
                <a:lnTo>
                  <a:pt x="5032" y="2608"/>
                </a:lnTo>
                <a:lnTo>
                  <a:pt x="5080" y="2656"/>
                </a:lnTo>
                <a:lnTo>
                  <a:pt x="5056" y="2680"/>
                </a:lnTo>
                <a:lnTo>
                  <a:pt x="5104" y="2744"/>
                </a:lnTo>
                <a:lnTo>
                  <a:pt x="5168" y="2792"/>
                </a:lnTo>
                <a:lnTo>
                  <a:pt x="5120" y="2840"/>
                </a:lnTo>
                <a:lnTo>
                  <a:pt x="5120" y="2904"/>
                </a:lnTo>
                <a:lnTo>
                  <a:pt x="5168" y="3000"/>
                </a:lnTo>
                <a:lnTo>
                  <a:pt x="5240" y="3064"/>
                </a:lnTo>
                <a:lnTo>
                  <a:pt x="5264" y="3112"/>
                </a:lnTo>
                <a:lnTo>
                  <a:pt x="5288" y="3136"/>
                </a:lnTo>
                <a:lnTo>
                  <a:pt x="5248" y="3256"/>
                </a:lnTo>
                <a:lnTo>
                  <a:pt x="5224" y="3352"/>
                </a:lnTo>
                <a:lnTo>
                  <a:pt x="5224" y="3400"/>
                </a:lnTo>
                <a:lnTo>
                  <a:pt x="5216" y="3424"/>
                </a:lnTo>
                <a:lnTo>
                  <a:pt x="5184" y="3456"/>
                </a:lnTo>
                <a:lnTo>
                  <a:pt x="5136" y="3480"/>
                </a:lnTo>
                <a:lnTo>
                  <a:pt x="5056" y="3520"/>
                </a:lnTo>
                <a:lnTo>
                  <a:pt x="5000" y="3592"/>
                </a:lnTo>
                <a:lnTo>
                  <a:pt x="4984" y="3624"/>
                </a:lnTo>
                <a:lnTo>
                  <a:pt x="4984" y="3656"/>
                </a:lnTo>
                <a:lnTo>
                  <a:pt x="0" y="9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009800" y="833400"/>
            <a:ext cx="6562080" cy="4433760"/>
            <a:chOff x="1009800" y="833400"/>
            <a:chExt cx="6562080" cy="4433760"/>
          </a:xfrm>
        </p:grpSpPr>
        <p:sp>
          <p:nvSpPr>
            <p:cNvPr id="56" name=""/>
            <p:cNvSpPr/>
            <p:nvPr/>
          </p:nvSpPr>
          <p:spPr>
            <a:xfrm>
              <a:off x="1009800" y="1238400"/>
              <a:ext cx="5633640" cy="2085840"/>
            </a:xfrm>
            <a:custGeom>
              <a:avLst/>
              <a:gdLst/>
              <a:ahLst/>
              <a:rect l="l" t="t" r="r" b="b"/>
              <a:pathLst>
                <a:path w="3549" h="1314">
                  <a:moveTo>
                    <a:pt x="0" y="285"/>
                  </a:moveTo>
                  <a:lnTo>
                    <a:pt x="45" y="279"/>
                  </a:lnTo>
                  <a:lnTo>
                    <a:pt x="105" y="225"/>
                  </a:lnTo>
                  <a:lnTo>
                    <a:pt x="69" y="152"/>
                  </a:lnTo>
                  <a:lnTo>
                    <a:pt x="93" y="104"/>
                  </a:lnTo>
                  <a:lnTo>
                    <a:pt x="149" y="92"/>
                  </a:lnTo>
                  <a:lnTo>
                    <a:pt x="241" y="120"/>
                  </a:lnTo>
                  <a:lnTo>
                    <a:pt x="329" y="156"/>
                  </a:lnTo>
                  <a:lnTo>
                    <a:pt x="421" y="176"/>
                  </a:lnTo>
                  <a:lnTo>
                    <a:pt x="497" y="192"/>
                  </a:lnTo>
                  <a:lnTo>
                    <a:pt x="597" y="183"/>
                  </a:lnTo>
                  <a:lnTo>
                    <a:pt x="669" y="200"/>
                  </a:lnTo>
                  <a:lnTo>
                    <a:pt x="729" y="264"/>
                  </a:lnTo>
                  <a:lnTo>
                    <a:pt x="753" y="276"/>
                  </a:lnTo>
                  <a:lnTo>
                    <a:pt x="777" y="292"/>
                  </a:lnTo>
                  <a:lnTo>
                    <a:pt x="793" y="316"/>
                  </a:lnTo>
                  <a:lnTo>
                    <a:pt x="845" y="336"/>
                  </a:lnTo>
                  <a:lnTo>
                    <a:pt x="913" y="296"/>
                  </a:lnTo>
                  <a:lnTo>
                    <a:pt x="949" y="268"/>
                  </a:lnTo>
                  <a:lnTo>
                    <a:pt x="1005" y="244"/>
                  </a:lnTo>
                  <a:lnTo>
                    <a:pt x="1045" y="144"/>
                  </a:lnTo>
                  <a:lnTo>
                    <a:pt x="1081" y="84"/>
                  </a:lnTo>
                  <a:lnTo>
                    <a:pt x="1125" y="56"/>
                  </a:lnTo>
                  <a:lnTo>
                    <a:pt x="1133" y="20"/>
                  </a:lnTo>
                  <a:lnTo>
                    <a:pt x="1205" y="20"/>
                  </a:lnTo>
                  <a:lnTo>
                    <a:pt x="1261" y="0"/>
                  </a:lnTo>
                  <a:lnTo>
                    <a:pt x="1305" y="8"/>
                  </a:lnTo>
                  <a:lnTo>
                    <a:pt x="1369" y="28"/>
                  </a:lnTo>
                  <a:lnTo>
                    <a:pt x="1409" y="36"/>
                  </a:lnTo>
                  <a:lnTo>
                    <a:pt x="1557" y="104"/>
                  </a:lnTo>
                  <a:lnTo>
                    <a:pt x="1572" y="120"/>
                  </a:lnTo>
                  <a:lnTo>
                    <a:pt x="1613" y="116"/>
                  </a:lnTo>
                  <a:lnTo>
                    <a:pt x="1669" y="136"/>
                  </a:lnTo>
                  <a:lnTo>
                    <a:pt x="1729" y="104"/>
                  </a:lnTo>
                  <a:lnTo>
                    <a:pt x="1793" y="140"/>
                  </a:lnTo>
                  <a:lnTo>
                    <a:pt x="1929" y="192"/>
                  </a:lnTo>
                  <a:lnTo>
                    <a:pt x="1945" y="216"/>
                  </a:lnTo>
                  <a:lnTo>
                    <a:pt x="2021" y="232"/>
                  </a:lnTo>
                  <a:lnTo>
                    <a:pt x="2133" y="280"/>
                  </a:lnTo>
                  <a:lnTo>
                    <a:pt x="2209" y="324"/>
                  </a:lnTo>
                  <a:lnTo>
                    <a:pt x="2257" y="340"/>
                  </a:lnTo>
                  <a:lnTo>
                    <a:pt x="2285" y="368"/>
                  </a:lnTo>
                  <a:lnTo>
                    <a:pt x="2345" y="420"/>
                  </a:lnTo>
                  <a:lnTo>
                    <a:pt x="2357" y="468"/>
                  </a:lnTo>
                  <a:lnTo>
                    <a:pt x="2337" y="544"/>
                  </a:lnTo>
                  <a:lnTo>
                    <a:pt x="2309" y="664"/>
                  </a:lnTo>
                  <a:lnTo>
                    <a:pt x="2317" y="700"/>
                  </a:lnTo>
                  <a:lnTo>
                    <a:pt x="2333" y="732"/>
                  </a:lnTo>
                  <a:lnTo>
                    <a:pt x="2377" y="768"/>
                  </a:lnTo>
                  <a:lnTo>
                    <a:pt x="2409" y="776"/>
                  </a:lnTo>
                  <a:lnTo>
                    <a:pt x="2441" y="784"/>
                  </a:lnTo>
                  <a:lnTo>
                    <a:pt x="2473" y="788"/>
                  </a:lnTo>
                  <a:lnTo>
                    <a:pt x="2529" y="820"/>
                  </a:lnTo>
                  <a:lnTo>
                    <a:pt x="2585" y="876"/>
                  </a:lnTo>
                  <a:lnTo>
                    <a:pt x="2645" y="892"/>
                  </a:lnTo>
                  <a:lnTo>
                    <a:pt x="2685" y="880"/>
                  </a:lnTo>
                  <a:lnTo>
                    <a:pt x="2749" y="836"/>
                  </a:lnTo>
                  <a:lnTo>
                    <a:pt x="2817" y="800"/>
                  </a:lnTo>
                  <a:lnTo>
                    <a:pt x="2857" y="788"/>
                  </a:lnTo>
                  <a:lnTo>
                    <a:pt x="2949" y="812"/>
                  </a:lnTo>
                  <a:lnTo>
                    <a:pt x="2993" y="864"/>
                  </a:lnTo>
                  <a:lnTo>
                    <a:pt x="3041" y="912"/>
                  </a:lnTo>
                  <a:lnTo>
                    <a:pt x="3113" y="960"/>
                  </a:lnTo>
                  <a:lnTo>
                    <a:pt x="3181" y="1016"/>
                  </a:lnTo>
                  <a:lnTo>
                    <a:pt x="3269" y="1088"/>
                  </a:lnTo>
                  <a:lnTo>
                    <a:pt x="3336" y="1197"/>
                  </a:lnTo>
                  <a:lnTo>
                    <a:pt x="3447" y="1275"/>
                  </a:lnTo>
                  <a:lnTo>
                    <a:pt x="3477" y="1311"/>
                  </a:lnTo>
                  <a:lnTo>
                    <a:pt x="3522" y="1314"/>
                  </a:lnTo>
                  <a:lnTo>
                    <a:pt x="3549" y="1302"/>
                  </a:lnTo>
                  <a:lnTo>
                    <a:pt x="3537" y="1218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00480" y="2962440"/>
              <a:ext cx="609120" cy="733320"/>
            </a:xfrm>
            <a:custGeom>
              <a:avLst/>
              <a:gdLst/>
              <a:ahLst/>
              <a:rect l="l" t="t" r="r" b="b"/>
              <a:pathLst>
                <a:path w="384" h="462">
                  <a:moveTo>
                    <a:pt x="120" y="0"/>
                  </a:moveTo>
                  <a:lnTo>
                    <a:pt x="117" y="81"/>
                  </a:lnTo>
                  <a:lnTo>
                    <a:pt x="36" y="147"/>
                  </a:lnTo>
                  <a:lnTo>
                    <a:pt x="36" y="195"/>
                  </a:lnTo>
                  <a:lnTo>
                    <a:pt x="0" y="267"/>
                  </a:lnTo>
                  <a:lnTo>
                    <a:pt x="6" y="315"/>
                  </a:lnTo>
                  <a:lnTo>
                    <a:pt x="48" y="360"/>
                  </a:lnTo>
                  <a:lnTo>
                    <a:pt x="123" y="432"/>
                  </a:lnTo>
                  <a:lnTo>
                    <a:pt x="183" y="438"/>
                  </a:lnTo>
                  <a:lnTo>
                    <a:pt x="219" y="462"/>
                  </a:lnTo>
                  <a:lnTo>
                    <a:pt x="291" y="429"/>
                  </a:lnTo>
                  <a:lnTo>
                    <a:pt x="339" y="405"/>
                  </a:lnTo>
                  <a:lnTo>
                    <a:pt x="375" y="360"/>
                  </a:lnTo>
                  <a:lnTo>
                    <a:pt x="384" y="303"/>
                  </a:lnTo>
                  <a:lnTo>
                    <a:pt x="378" y="252"/>
                  </a:lnTo>
                  <a:lnTo>
                    <a:pt x="369" y="228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14760" y="3681360"/>
              <a:ext cx="875880" cy="1585800"/>
            </a:xfrm>
            <a:custGeom>
              <a:avLst/>
              <a:gdLst/>
              <a:ahLst/>
              <a:rect l="l" t="t" r="r" b="b"/>
              <a:pathLst>
                <a:path w="552" h="999">
                  <a:moveTo>
                    <a:pt x="0" y="0"/>
                  </a:moveTo>
                  <a:lnTo>
                    <a:pt x="0" y="60"/>
                  </a:lnTo>
                  <a:lnTo>
                    <a:pt x="9" y="87"/>
                  </a:lnTo>
                  <a:lnTo>
                    <a:pt x="21" y="111"/>
                  </a:lnTo>
                  <a:lnTo>
                    <a:pt x="78" y="189"/>
                  </a:lnTo>
                  <a:lnTo>
                    <a:pt x="111" y="234"/>
                  </a:lnTo>
                  <a:lnTo>
                    <a:pt x="141" y="285"/>
                  </a:lnTo>
                  <a:lnTo>
                    <a:pt x="132" y="330"/>
                  </a:lnTo>
                  <a:lnTo>
                    <a:pt x="102" y="354"/>
                  </a:lnTo>
                  <a:lnTo>
                    <a:pt x="90" y="393"/>
                  </a:lnTo>
                  <a:lnTo>
                    <a:pt x="57" y="396"/>
                  </a:lnTo>
                  <a:lnTo>
                    <a:pt x="36" y="420"/>
                  </a:lnTo>
                  <a:lnTo>
                    <a:pt x="72" y="465"/>
                  </a:lnTo>
                  <a:lnTo>
                    <a:pt x="90" y="495"/>
                  </a:lnTo>
                  <a:lnTo>
                    <a:pt x="126" y="534"/>
                  </a:lnTo>
                  <a:lnTo>
                    <a:pt x="177" y="591"/>
                  </a:lnTo>
                  <a:lnTo>
                    <a:pt x="162" y="609"/>
                  </a:lnTo>
                  <a:lnTo>
                    <a:pt x="153" y="657"/>
                  </a:lnTo>
                  <a:lnTo>
                    <a:pt x="192" y="705"/>
                  </a:lnTo>
                  <a:lnTo>
                    <a:pt x="255" y="807"/>
                  </a:lnTo>
                  <a:lnTo>
                    <a:pt x="336" y="876"/>
                  </a:lnTo>
                  <a:lnTo>
                    <a:pt x="378" y="912"/>
                  </a:lnTo>
                  <a:lnTo>
                    <a:pt x="387" y="963"/>
                  </a:lnTo>
                  <a:lnTo>
                    <a:pt x="429" y="999"/>
                  </a:lnTo>
                  <a:lnTo>
                    <a:pt x="552" y="99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19600" y="3624120"/>
              <a:ext cx="1052280" cy="1000440"/>
            </a:xfrm>
            <a:custGeom>
              <a:avLst/>
              <a:gdLst/>
              <a:ahLst/>
              <a:rect l="l" t="t" r="r" b="b"/>
              <a:pathLst>
                <a:path w="663" h="630">
                  <a:moveTo>
                    <a:pt x="0" y="0"/>
                  </a:moveTo>
                  <a:lnTo>
                    <a:pt x="36" y="45"/>
                  </a:lnTo>
                  <a:lnTo>
                    <a:pt x="72" y="99"/>
                  </a:lnTo>
                  <a:lnTo>
                    <a:pt x="75" y="156"/>
                  </a:lnTo>
                  <a:lnTo>
                    <a:pt x="105" y="165"/>
                  </a:lnTo>
                  <a:lnTo>
                    <a:pt x="123" y="186"/>
                  </a:lnTo>
                  <a:lnTo>
                    <a:pt x="123" y="216"/>
                  </a:lnTo>
                  <a:lnTo>
                    <a:pt x="123" y="261"/>
                  </a:lnTo>
                  <a:lnTo>
                    <a:pt x="138" y="330"/>
                  </a:lnTo>
                  <a:lnTo>
                    <a:pt x="159" y="381"/>
                  </a:lnTo>
                  <a:lnTo>
                    <a:pt x="225" y="426"/>
                  </a:lnTo>
                  <a:lnTo>
                    <a:pt x="240" y="438"/>
                  </a:lnTo>
                  <a:lnTo>
                    <a:pt x="321" y="474"/>
                  </a:lnTo>
                  <a:lnTo>
                    <a:pt x="408" y="510"/>
                  </a:lnTo>
                  <a:lnTo>
                    <a:pt x="450" y="516"/>
                  </a:lnTo>
                  <a:lnTo>
                    <a:pt x="552" y="579"/>
                  </a:lnTo>
                  <a:lnTo>
                    <a:pt x="639" y="609"/>
                  </a:lnTo>
                  <a:lnTo>
                    <a:pt x="663" y="63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29000" y="2505240"/>
              <a:ext cx="618480" cy="276120"/>
            </a:xfrm>
            <a:custGeom>
              <a:avLst/>
              <a:gdLst/>
              <a:ahLst/>
              <a:rect l="l" t="t" r="r" b="b"/>
              <a:pathLst>
                <a:path w="390" h="174">
                  <a:moveTo>
                    <a:pt x="390" y="6"/>
                  </a:moveTo>
                  <a:lnTo>
                    <a:pt x="312" y="0"/>
                  </a:lnTo>
                  <a:lnTo>
                    <a:pt x="240" y="3"/>
                  </a:lnTo>
                  <a:lnTo>
                    <a:pt x="222" y="30"/>
                  </a:lnTo>
                  <a:lnTo>
                    <a:pt x="177" y="87"/>
                  </a:lnTo>
                  <a:lnTo>
                    <a:pt x="177" y="123"/>
                  </a:lnTo>
                  <a:lnTo>
                    <a:pt x="135" y="150"/>
                  </a:lnTo>
                  <a:lnTo>
                    <a:pt x="117" y="138"/>
                  </a:lnTo>
                  <a:lnTo>
                    <a:pt x="99" y="171"/>
                  </a:lnTo>
                  <a:lnTo>
                    <a:pt x="66" y="159"/>
                  </a:lnTo>
                  <a:lnTo>
                    <a:pt x="39" y="141"/>
                  </a:lnTo>
                  <a:lnTo>
                    <a:pt x="0" y="174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80960" y="833400"/>
              <a:ext cx="1347480" cy="585720"/>
            </a:xfrm>
            <a:custGeom>
              <a:avLst/>
              <a:gdLst/>
              <a:ahLst/>
              <a:rect l="l" t="t" r="r" b="b"/>
              <a:pathLst>
                <a:path w="849" h="369">
                  <a:moveTo>
                    <a:pt x="0" y="369"/>
                  </a:moveTo>
                  <a:lnTo>
                    <a:pt x="6" y="327"/>
                  </a:lnTo>
                  <a:lnTo>
                    <a:pt x="39" y="282"/>
                  </a:lnTo>
                  <a:lnTo>
                    <a:pt x="75" y="234"/>
                  </a:lnTo>
                  <a:lnTo>
                    <a:pt x="138" y="204"/>
                  </a:lnTo>
                  <a:lnTo>
                    <a:pt x="171" y="207"/>
                  </a:lnTo>
                  <a:lnTo>
                    <a:pt x="222" y="222"/>
                  </a:lnTo>
                  <a:lnTo>
                    <a:pt x="255" y="195"/>
                  </a:lnTo>
                  <a:lnTo>
                    <a:pt x="288" y="156"/>
                  </a:lnTo>
                  <a:lnTo>
                    <a:pt x="318" y="99"/>
                  </a:lnTo>
                  <a:lnTo>
                    <a:pt x="342" y="45"/>
                  </a:lnTo>
                  <a:lnTo>
                    <a:pt x="375" y="0"/>
                  </a:lnTo>
                  <a:lnTo>
                    <a:pt x="405" y="30"/>
                  </a:lnTo>
                  <a:lnTo>
                    <a:pt x="429" y="30"/>
                  </a:lnTo>
                  <a:lnTo>
                    <a:pt x="492" y="57"/>
                  </a:lnTo>
                  <a:lnTo>
                    <a:pt x="537" y="84"/>
                  </a:lnTo>
                  <a:lnTo>
                    <a:pt x="576" y="129"/>
                  </a:lnTo>
                  <a:lnTo>
                    <a:pt x="645" y="138"/>
                  </a:lnTo>
                  <a:lnTo>
                    <a:pt x="753" y="189"/>
                  </a:lnTo>
                  <a:lnTo>
                    <a:pt x="774" y="255"/>
                  </a:lnTo>
                  <a:lnTo>
                    <a:pt x="813" y="273"/>
                  </a:lnTo>
                  <a:lnTo>
                    <a:pt x="849" y="333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84240" y="1143000"/>
            <a:ext cx="8025840" cy="5473800"/>
            <a:chOff x="84240" y="1143000"/>
            <a:chExt cx="8025840" cy="5473800"/>
          </a:xfrm>
        </p:grpSpPr>
        <p:sp>
          <p:nvSpPr>
            <p:cNvPr id="63" name=""/>
            <p:cNvSpPr/>
            <p:nvPr/>
          </p:nvSpPr>
          <p:spPr>
            <a:xfrm>
              <a:off x="84240" y="2057400"/>
              <a:ext cx="367920" cy="431640"/>
            </a:xfrm>
            <a:custGeom>
              <a:avLst/>
              <a:gdLst/>
              <a:ahLst/>
              <a:rect l="l" t="t" r="r" b="b"/>
              <a:pathLst>
                <a:path w="232" h="272">
                  <a:moveTo>
                    <a:pt x="232" y="0"/>
                  </a:moveTo>
                  <a:lnTo>
                    <a:pt x="232" y="272"/>
                  </a:lnTo>
                  <a:lnTo>
                    <a:pt x="0" y="272"/>
                  </a:lnTo>
                  <a:lnTo>
                    <a:pt x="16" y="240"/>
                  </a:lnTo>
                  <a:lnTo>
                    <a:pt x="56" y="200"/>
                  </a:lnTo>
                  <a:lnTo>
                    <a:pt x="80" y="160"/>
                  </a:lnTo>
                  <a:lnTo>
                    <a:pt x="96" y="136"/>
                  </a:lnTo>
                  <a:lnTo>
                    <a:pt x="112" y="80"/>
                  </a:lnTo>
                  <a:lnTo>
                    <a:pt x="184" y="24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40f84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61640" y="1663560"/>
              <a:ext cx="279000" cy="368280"/>
            </a:xfrm>
            <a:custGeom>
              <a:avLst/>
              <a:gdLst/>
              <a:ahLst/>
              <a:rect l="l" t="t" r="r" b="b"/>
              <a:pathLst>
                <a:path w="176" h="232">
                  <a:moveTo>
                    <a:pt x="176" y="232"/>
                  </a:moveTo>
                  <a:lnTo>
                    <a:pt x="136" y="224"/>
                  </a:lnTo>
                  <a:lnTo>
                    <a:pt x="48" y="200"/>
                  </a:lnTo>
                  <a:lnTo>
                    <a:pt x="0" y="168"/>
                  </a:lnTo>
                  <a:lnTo>
                    <a:pt x="0" y="56"/>
                  </a:lnTo>
                  <a:lnTo>
                    <a:pt x="8" y="16"/>
                  </a:lnTo>
                  <a:lnTo>
                    <a:pt x="56" y="0"/>
                  </a:lnTo>
                  <a:lnTo>
                    <a:pt x="104" y="8"/>
                  </a:lnTo>
                  <a:lnTo>
                    <a:pt x="160" y="72"/>
                  </a:lnTo>
                  <a:lnTo>
                    <a:pt x="168" y="136"/>
                  </a:lnTo>
                  <a:lnTo>
                    <a:pt x="176" y="200"/>
                  </a:lnTo>
                  <a:lnTo>
                    <a:pt x="176" y="232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44400" y="1359000"/>
              <a:ext cx="367920" cy="203040"/>
            </a:xfrm>
            <a:custGeom>
              <a:avLst/>
              <a:gdLst/>
              <a:ahLst/>
              <a:rect l="l" t="t" r="r" b="b"/>
              <a:pathLst>
                <a:path w="232" h="128">
                  <a:moveTo>
                    <a:pt x="8" y="112"/>
                  </a:moveTo>
                  <a:lnTo>
                    <a:pt x="0" y="64"/>
                  </a:lnTo>
                  <a:lnTo>
                    <a:pt x="24" y="40"/>
                  </a:lnTo>
                  <a:lnTo>
                    <a:pt x="104" y="8"/>
                  </a:lnTo>
                  <a:lnTo>
                    <a:pt x="176" y="0"/>
                  </a:lnTo>
                  <a:lnTo>
                    <a:pt x="232" y="56"/>
                  </a:lnTo>
                  <a:lnTo>
                    <a:pt x="224" y="120"/>
                  </a:lnTo>
                  <a:lnTo>
                    <a:pt x="152" y="128"/>
                  </a:lnTo>
                  <a:lnTo>
                    <a:pt x="8" y="112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53880" y="1143000"/>
              <a:ext cx="228240" cy="660240"/>
            </a:xfrm>
            <a:custGeom>
              <a:avLst/>
              <a:gdLst/>
              <a:ahLst/>
              <a:rect l="l" t="t" r="r" b="b"/>
              <a:pathLst>
                <a:path w="144" h="416">
                  <a:moveTo>
                    <a:pt x="0" y="24"/>
                  </a:moveTo>
                  <a:lnTo>
                    <a:pt x="8" y="0"/>
                  </a:lnTo>
                  <a:lnTo>
                    <a:pt x="40" y="32"/>
                  </a:lnTo>
                  <a:lnTo>
                    <a:pt x="80" y="88"/>
                  </a:lnTo>
                  <a:lnTo>
                    <a:pt x="144" y="168"/>
                  </a:lnTo>
                  <a:lnTo>
                    <a:pt x="136" y="200"/>
                  </a:lnTo>
                  <a:lnTo>
                    <a:pt x="144" y="232"/>
                  </a:lnTo>
                  <a:lnTo>
                    <a:pt x="136" y="248"/>
                  </a:lnTo>
                  <a:lnTo>
                    <a:pt x="120" y="272"/>
                  </a:lnTo>
                  <a:lnTo>
                    <a:pt x="120" y="312"/>
                  </a:lnTo>
                  <a:lnTo>
                    <a:pt x="128" y="360"/>
                  </a:lnTo>
                  <a:lnTo>
                    <a:pt x="128" y="392"/>
                  </a:lnTo>
                  <a:lnTo>
                    <a:pt x="112" y="416"/>
                  </a:lnTo>
                  <a:lnTo>
                    <a:pt x="72" y="376"/>
                  </a:lnTo>
                  <a:lnTo>
                    <a:pt x="64" y="352"/>
                  </a:lnTo>
                  <a:lnTo>
                    <a:pt x="8" y="304"/>
                  </a:lnTo>
                  <a:lnTo>
                    <a:pt x="32" y="264"/>
                  </a:lnTo>
                  <a:lnTo>
                    <a:pt x="40" y="216"/>
                  </a:lnTo>
                  <a:lnTo>
                    <a:pt x="40" y="152"/>
                  </a:lnTo>
                  <a:lnTo>
                    <a:pt x="16" y="88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50840" y="1892160"/>
              <a:ext cx="279000" cy="304920"/>
            </a:xfrm>
            <a:custGeom>
              <a:avLst/>
              <a:gdLst/>
              <a:ahLst/>
              <a:rect l="l" t="t" r="r" b="b"/>
              <a:pathLst>
                <a:path w="176" h="192">
                  <a:moveTo>
                    <a:pt x="64" y="0"/>
                  </a:moveTo>
                  <a:lnTo>
                    <a:pt x="120" y="72"/>
                  </a:lnTo>
                  <a:lnTo>
                    <a:pt x="136" y="128"/>
                  </a:lnTo>
                  <a:lnTo>
                    <a:pt x="176" y="168"/>
                  </a:lnTo>
                  <a:lnTo>
                    <a:pt x="128" y="192"/>
                  </a:lnTo>
                  <a:lnTo>
                    <a:pt x="104" y="184"/>
                  </a:lnTo>
                  <a:lnTo>
                    <a:pt x="56" y="192"/>
                  </a:lnTo>
                  <a:lnTo>
                    <a:pt x="24" y="168"/>
                  </a:lnTo>
                  <a:lnTo>
                    <a:pt x="0" y="152"/>
                  </a:lnTo>
                  <a:lnTo>
                    <a:pt x="16" y="128"/>
                  </a:lnTo>
                  <a:lnTo>
                    <a:pt x="24" y="64"/>
                  </a:lnTo>
                  <a:lnTo>
                    <a:pt x="56" y="16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52360" y="1727280"/>
              <a:ext cx="279000" cy="380880"/>
            </a:xfrm>
            <a:custGeom>
              <a:avLst/>
              <a:gdLst/>
              <a:ahLst/>
              <a:rect l="l" t="t" r="r" b="b"/>
              <a:pathLst>
                <a:path w="176" h="240">
                  <a:moveTo>
                    <a:pt x="0" y="72"/>
                  </a:moveTo>
                  <a:lnTo>
                    <a:pt x="48" y="48"/>
                  </a:lnTo>
                  <a:lnTo>
                    <a:pt x="96" y="24"/>
                  </a:lnTo>
                  <a:lnTo>
                    <a:pt x="120" y="0"/>
                  </a:lnTo>
                  <a:lnTo>
                    <a:pt x="152" y="56"/>
                  </a:lnTo>
                  <a:lnTo>
                    <a:pt x="152" y="120"/>
                  </a:lnTo>
                  <a:lnTo>
                    <a:pt x="176" y="208"/>
                  </a:lnTo>
                  <a:lnTo>
                    <a:pt x="168" y="240"/>
                  </a:lnTo>
                  <a:lnTo>
                    <a:pt x="120" y="224"/>
                  </a:lnTo>
                  <a:lnTo>
                    <a:pt x="64" y="160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74800" y="1638360"/>
              <a:ext cx="393120" cy="266760"/>
            </a:xfrm>
            <a:custGeom>
              <a:avLst/>
              <a:gdLst/>
              <a:ahLst/>
              <a:rect l="l" t="t" r="r" b="b"/>
              <a:pathLst>
                <a:path w="248" h="168">
                  <a:moveTo>
                    <a:pt x="80" y="8"/>
                  </a:moveTo>
                  <a:lnTo>
                    <a:pt x="48" y="8"/>
                  </a:lnTo>
                  <a:lnTo>
                    <a:pt x="0" y="24"/>
                  </a:lnTo>
                  <a:lnTo>
                    <a:pt x="0" y="48"/>
                  </a:lnTo>
                  <a:lnTo>
                    <a:pt x="8" y="72"/>
                  </a:lnTo>
                  <a:lnTo>
                    <a:pt x="80" y="160"/>
                  </a:lnTo>
                  <a:lnTo>
                    <a:pt x="120" y="168"/>
                  </a:lnTo>
                  <a:lnTo>
                    <a:pt x="152" y="152"/>
                  </a:lnTo>
                  <a:lnTo>
                    <a:pt x="192" y="152"/>
                  </a:lnTo>
                  <a:lnTo>
                    <a:pt x="224" y="152"/>
                  </a:lnTo>
                  <a:lnTo>
                    <a:pt x="240" y="112"/>
                  </a:lnTo>
                  <a:lnTo>
                    <a:pt x="248" y="80"/>
                  </a:lnTo>
                  <a:lnTo>
                    <a:pt x="224" y="48"/>
                  </a:lnTo>
                  <a:lnTo>
                    <a:pt x="152" y="16"/>
                  </a:lnTo>
                  <a:lnTo>
                    <a:pt x="112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68280" y="1371600"/>
              <a:ext cx="380880" cy="30492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8" y="48"/>
                  </a:moveTo>
                  <a:lnTo>
                    <a:pt x="0" y="24"/>
                  </a:lnTo>
                  <a:lnTo>
                    <a:pt x="56" y="8"/>
                  </a:lnTo>
                  <a:lnTo>
                    <a:pt x="112" y="0"/>
                  </a:lnTo>
                  <a:lnTo>
                    <a:pt x="144" y="24"/>
                  </a:lnTo>
                  <a:lnTo>
                    <a:pt x="216" y="24"/>
                  </a:lnTo>
                  <a:lnTo>
                    <a:pt x="240" y="64"/>
                  </a:lnTo>
                  <a:lnTo>
                    <a:pt x="200" y="112"/>
                  </a:lnTo>
                  <a:lnTo>
                    <a:pt x="176" y="160"/>
                  </a:lnTo>
                  <a:lnTo>
                    <a:pt x="168" y="184"/>
                  </a:lnTo>
                  <a:lnTo>
                    <a:pt x="152" y="192"/>
                  </a:lnTo>
                  <a:lnTo>
                    <a:pt x="152" y="160"/>
                  </a:lnTo>
                  <a:lnTo>
                    <a:pt x="96" y="120"/>
                  </a:lnTo>
                  <a:lnTo>
                    <a:pt x="40" y="96"/>
                  </a:lnTo>
                  <a:lnTo>
                    <a:pt x="8" y="56"/>
                  </a:lnTo>
                  <a:lnTo>
                    <a:pt x="0" y="16"/>
                  </a:lnTo>
                  <a:lnTo>
                    <a:pt x="8" y="48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512880" y="1752480"/>
              <a:ext cx="406080" cy="330480"/>
            </a:xfrm>
            <a:custGeom>
              <a:avLst/>
              <a:gdLst/>
              <a:ahLst/>
              <a:rect l="l" t="t" r="r" b="b"/>
              <a:pathLst>
                <a:path w="256" h="208">
                  <a:moveTo>
                    <a:pt x="0" y="128"/>
                  </a:moveTo>
                  <a:lnTo>
                    <a:pt x="8" y="16"/>
                  </a:lnTo>
                  <a:lnTo>
                    <a:pt x="32" y="0"/>
                  </a:lnTo>
                  <a:lnTo>
                    <a:pt x="88" y="0"/>
                  </a:lnTo>
                  <a:lnTo>
                    <a:pt x="120" y="32"/>
                  </a:lnTo>
                  <a:lnTo>
                    <a:pt x="160" y="40"/>
                  </a:lnTo>
                  <a:lnTo>
                    <a:pt x="224" y="64"/>
                  </a:lnTo>
                  <a:lnTo>
                    <a:pt x="216" y="112"/>
                  </a:lnTo>
                  <a:lnTo>
                    <a:pt x="232" y="152"/>
                  </a:lnTo>
                  <a:lnTo>
                    <a:pt x="248" y="200"/>
                  </a:lnTo>
                  <a:lnTo>
                    <a:pt x="256" y="208"/>
                  </a:lnTo>
                  <a:lnTo>
                    <a:pt x="208" y="208"/>
                  </a:lnTo>
                  <a:lnTo>
                    <a:pt x="144" y="192"/>
                  </a:lnTo>
                  <a:lnTo>
                    <a:pt x="112" y="168"/>
                  </a:lnTo>
                  <a:lnTo>
                    <a:pt x="32" y="136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300200" y="1854360"/>
              <a:ext cx="228240" cy="406080"/>
            </a:xfrm>
            <a:custGeom>
              <a:avLst/>
              <a:gdLst/>
              <a:ahLst/>
              <a:rect l="l" t="t" r="r" b="b"/>
              <a:pathLst>
                <a:path w="144" h="256">
                  <a:moveTo>
                    <a:pt x="0" y="152"/>
                  </a:moveTo>
                  <a:lnTo>
                    <a:pt x="24" y="112"/>
                  </a:lnTo>
                  <a:lnTo>
                    <a:pt x="24" y="48"/>
                  </a:lnTo>
                  <a:lnTo>
                    <a:pt x="32" y="0"/>
                  </a:lnTo>
                  <a:lnTo>
                    <a:pt x="80" y="0"/>
                  </a:lnTo>
                  <a:lnTo>
                    <a:pt x="144" y="40"/>
                  </a:lnTo>
                  <a:lnTo>
                    <a:pt x="128" y="80"/>
                  </a:lnTo>
                  <a:lnTo>
                    <a:pt x="112" y="136"/>
                  </a:lnTo>
                  <a:lnTo>
                    <a:pt x="104" y="200"/>
                  </a:lnTo>
                  <a:lnTo>
                    <a:pt x="96" y="240"/>
                  </a:lnTo>
                  <a:lnTo>
                    <a:pt x="56" y="248"/>
                  </a:lnTo>
                  <a:lnTo>
                    <a:pt x="16" y="256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1280" y="2666880"/>
              <a:ext cx="291960" cy="482760"/>
            </a:xfrm>
            <a:custGeom>
              <a:avLst/>
              <a:gdLst/>
              <a:ahLst/>
              <a:rect l="l" t="t" r="r" b="b"/>
              <a:pathLst>
                <a:path w="184" h="304">
                  <a:moveTo>
                    <a:pt x="184" y="40"/>
                  </a:moveTo>
                  <a:lnTo>
                    <a:pt x="144" y="32"/>
                  </a:lnTo>
                  <a:lnTo>
                    <a:pt x="104" y="16"/>
                  </a:lnTo>
                  <a:lnTo>
                    <a:pt x="56" y="0"/>
                  </a:lnTo>
                  <a:lnTo>
                    <a:pt x="0" y="56"/>
                  </a:lnTo>
                  <a:lnTo>
                    <a:pt x="16" y="88"/>
                  </a:lnTo>
                  <a:lnTo>
                    <a:pt x="64" y="160"/>
                  </a:lnTo>
                  <a:lnTo>
                    <a:pt x="72" y="224"/>
                  </a:lnTo>
                  <a:lnTo>
                    <a:pt x="48" y="256"/>
                  </a:lnTo>
                  <a:lnTo>
                    <a:pt x="80" y="304"/>
                  </a:lnTo>
                  <a:lnTo>
                    <a:pt x="120" y="280"/>
                  </a:lnTo>
                  <a:lnTo>
                    <a:pt x="144" y="200"/>
                  </a:lnTo>
                  <a:lnTo>
                    <a:pt x="176" y="144"/>
                  </a:lnTo>
                  <a:lnTo>
                    <a:pt x="184" y="40"/>
                  </a:lnTo>
                  <a:lnTo>
                    <a:pt x="56" y="0"/>
                  </a:lnTo>
                  <a:lnTo>
                    <a:pt x="184" y="40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39880" y="3022560"/>
              <a:ext cx="393480" cy="216000"/>
            </a:xfrm>
            <a:custGeom>
              <a:avLst/>
              <a:gdLst/>
              <a:ahLst/>
              <a:rect l="l" t="t" r="r" b="b"/>
              <a:pathLst>
                <a:path w="248" h="136">
                  <a:moveTo>
                    <a:pt x="176" y="16"/>
                  </a:moveTo>
                  <a:lnTo>
                    <a:pt x="128" y="8"/>
                  </a:lnTo>
                  <a:lnTo>
                    <a:pt x="64" y="0"/>
                  </a:lnTo>
                  <a:lnTo>
                    <a:pt x="8" y="0"/>
                  </a:lnTo>
                  <a:lnTo>
                    <a:pt x="0" y="16"/>
                  </a:lnTo>
                  <a:lnTo>
                    <a:pt x="112" y="128"/>
                  </a:lnTo>
                  <a:lnTo>
                    <a:pt x="168" y="136"/>
                  </a:lnTo>
                  <a:lnTo>
                    <a:pt x="192" y="128"/>
                  </a:lnTo>
                  <a:lnTo>
                    <a:pt x="248" y="48"/>
                  </a:lnTo>
                  <a:lnTo>
                    <a:pt x="216" y="16"/>
                  </a:lnTo>
                  <a:lnTo>
                    <a:pt x="176" y="16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17720" y="2781360"/>
              <a:ext cx="304560" cy="266760"/>
            </a:xfrm>
            <a:custGeom>
              <a:avLst/>
              <a:gdLst/>
              <a:ahLst/>
              <a:rect l="l" t="t" r="r" b="b"/>
              <a:pathLst>
                <a:path w="192" h="168">
                  <a:moveTo>
                    <a:pt x="16" y="120"/>
                  </a:moveTo>
                  <a:lnTo>
                    <a:pt x="64" y="160"/>
                  </a:lnTo>
                  <a:lnTo>
                    <a:pt x="112" y="168"/>
                  </a:lnTo>
                  <a:lnTo>
                    <a:pt x="160" y="128"/>
                  </a:lnTo>
                  <a:lnTo>
                    <a:pt x="192" y="64"/>
                  </a:lnTo>
                  <a:lnTo>
                    <a:pt x="136" y="40"/>
                  </a:lnTo>
                  <a:lnTo>
                    <a:pt x="96" y="0"/>
                  </a:lnTo>
                  <a:lnTo>
                    <a:pt x="80" y="64"/>
                  </a:lnTo>
                  <a:lnTo>
                    <a:pt x="0" y="128"/>
                  </a:lnTo>
                  <a:lnTo>
                    <a:pt x="56" y="152"/>
                  </a:lnTo>
                  <a:lnTo>
                    <a:pt x="16" y="120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82960" y="3124080"/>
              <a:ext cx="304200" cy="30492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0" y="56"/>
                  </a:moveTo>
                  <a:lnTo>
                    <a:pt x="136" y="192"/>
                  </a:lnTo>
                  <a:lnTo>
                    <a:pt x="152" y="176"/>
                  </a:lnTo>
                  <a:lnTo>
                    <a:pt x="176" y="160"/>
                  </a:lnTo>
                  <a:lnTo>
                    <a:pt x="192" y="120"/>
                  </a:lnTo>
                  <a:lnTo>
                    <a:pt x="56" y="0"/>
                  </a:lnTo>
                  <a:lnTo>
                    <a:pt x="24" y="1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036760" y="3251160"/>
              <a:ext cx="558720" cy="457200"/>
            </a:xfrm>
            <a:custGeom>
              <a:avLst/>
              <a:gdLst/>
              <a:ahLst/>
              <a:rect l="l" t="t" r="r" b="b"/>
              <a:pathLst>
                <a:path w="352" h="288">
                  <a:moveTo>
                    <a:pt x="40" y="32"/>
                  </a:moveTo>
                  <a:lnTo>
                    <a:pt x="72" y="0"/>
                  </a:lnTo>
                  <a:lnTo>
                    <a:pt x="144" y="16"/>
                  </a:lnTo>
                  <a:lnTo>
                    <a:pt x="200" y="32"/>
                  </a:lnTo>
                  <a:lnTo>
                    <a:pt x="352" y="176"/>
                  </a:lnTo>
                  <a:lnTo>
                    <a:pt x="344" y="208"/>
                  </a:lnTo>
                  <a:lnTo>
                    <a:pt x="336" y="248"/>
                  </a:lnTo>
                  <a:lnTo>
                    <a:pt x="304" y="264"/>
                  </a:lnTo>
                  <a:lnTo>
                    <a:pt x="240" y="280"/>
                  </a:lnTo>
                  <a:lnTo>
                    <a:pt x="184" y="288"/>
                  </a:lnTo>
                  <a:lnTo>
                    <a:pt x="120" y="272"/>
                  </a:lnTo>
                  <a:lnTo>
                    <a:pt x="72" y="232"/>
                  </a:lnTo>
                  <a:lnTo>
                    <a:pt x="48" y="184"/>
                  </a:lnTo>
                  <a:lnTo>
                    <a:pt x="40" y="144"/>
                  </a:lnTo>
                  <a:lnTo>
                    <a:pt x="0" y="104"/>
                  </a:lnTo>
                  <a:lnTo>
                    <a:pt x="24" y="80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48120" y="4178160"/>
              <a:ext cx="291600" cy="279720"/>
            </a:xfrm>
            <a:custGeom>
              <a:avLst/>
              <a:gdLst/>
              <a:ahLst/>
              <a:rect l="l" t="t" r="r" b="b"/>
              <a:pathLst>
                <a:path w="184" h="176">
                  <a:moveTo>
                    <a:pt x="48" y="0"/>
                  </a:moveTo>
                  <a:lnTo>
                    <a:pt x="24" y="0"/>
                  </a:lnTo>
                  <a:lnTo>
                    <a:pt x="8" y="32"/>
                  </a:lnTo>
                  <a:lnTo>
                    <a:pt x="0" y="96"/>
                  </a:lnTo>
                  <a:lnTo>
                    <a:pt x="32" y="128"/>
                  </a:lnTo>
                  <a:lnTo>
                    <a:pt x="112" y="168"/>
                  </a:lnTo>
                  <a:lnTo>
                    <a:pt x="144" y="176"/>
                  </a:lnTo>
                  <a:lnTo>
                    <a:pt x="184" y="144"/>
                  </a:lnTo>
                  <a:lnTo>
                    <a:pt x="184" y="96"/>
                  </a:lnTo>
                  <a:lnTo>
                    <a:pt x="168" y="72"/>
                  </a:lnTo>
                  <a:lnTo>
                    <a:pt x="144" y="48"/>
                  </a:lnTo>
                  <a:lnTo>
                    <a:pt x="96" y="16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55800" y="4915080"/>
              <a:ext cx="622080" cy="583920"/>
            </a:xfrm>
            <a:custGeom>
              <a:avLst/>
              <a:gdLst/>
              <a:ahLst/>
              <a:rect l="l" t="t" r="r" b="b"/>
              <a:pathLst>
                <a:path w="392" h="368">
                  <a:moveTo>
                    <a:pt x="192" y="0"/>
                  </a:moveTo>
                  <a:lnTo>
                    <a:pt x="168" y="40"/>
                  </a:lnTo>
                  <a:lnTo>
                    <a:pt x="128" y="88"/>
                  </a:lnTo>
                  <a:lnTo>
                    <a:pt x="112" y="128"/>
                  </a:lnTo>
                  <a:lnTo>
                    <a:pt x="88" y="160"/>
                  </a:lnTo>
                  <a:lnTo>
                    <a:pt x="48" y="184"/>
                  </a:lnTo>
                  <a:lnTo>
                    <a:pt x="16" y="192"/>
                  </a:lnTo>
                  <a:lnTo>
                    <a:pt x="0" y="240"/>
                  </a:lnTo>
                  <a:lnTo>
                    <a:pt x="24" y="272"/>
                  </a:lnTo>
                  <a:lnTo>
                    <a:pt x="56" y="304"/>
                  </a:lnTo>
                  <a:lnTo>
                    <a:pt x="128" y="328"/>
                  </a:lnTo>
                  <a:lnTo>
                    <a:pt x="216" y="360"/>
                  </a:lnTo>
                  <a:lnTo>
                    <a:pt x="264" y="368"/>
                  </a:lnTo>
                  <a:lnTo>
                    <a:pt x="296" y="344"/>
                  </a:lnTo>
                  <a:lnTo>
                    <a:pt x="328" y="304"/>
                  </a:lnTo>
                  <a:lnTo>
                    <a:pt x="336" y="280"/>
                  </a:lnTo>
                  <a:lnTo>
                    <a:pt x="368" y="248"/>
                  </a:lnTo>
                  <a:lnTo>
                    <a:pt x="392" y="224"/>
                  </a:lnTo>
                  <a:lnTo>
                    <a:pt x="344" y="176"/>
                  </a:lnTo>
                  <a:lnTo>
                    <a:pt x="352" y="120"/>
                  </a:lnTo>
                  <a:lnTo>
                    <a:pt x="328" y="64"/>
                  </a:lnTo>
                  <a:lnTo>
                    <a:pt x="288" y="40"/>
                  </a:lnTo>
                  <a:lnTo>
                    <a:pt x="240" y="64"/>
                  </a:lnTo>
                  <a:lnTo>
                    <a:pt x="208" y="32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16320" y="5257800"/>
              <a:ext cx="330120" cy="431640"/>
            </a:xfrm>
            <a:custGeom>
              <a:avLst/>
              <a:gdLst/>
              <a:ahLst/>
              <a:rect l="l" t="t" r="r" b="b"/>
              <a:pathLst>
                <a:path w="208" h="272">
                  <a:moveTo>
                    <a:pt x="136" y="0"/>
                  </a:moveTo>
                  <a:lnTo>
                    <a:pt x="104" y="24"/>
                  </a:lnTo>
                  <a:lnTo>
                    <a:pt x="64" y="72"/>
                  </a:lnTo>
                  <a:lnTo>
                    <a:pt x="56" y="112"/>
                  </a:lnTo>
                  <a:lnTo>
                    <a:pt x="32" y="152"/>
                  </a:lnTo>
                  <a:lnTo>
                    <a:pt x="16" y="184"/>
                  </a:lnTo>
                  <a:lnTo>
                    <a:pt x="8" y="232"/>
                  </a:lnTo>
                  <a:lnTo>
                    <a:pt x="0" y="256"/>
                  </a:lnTo>
                  <a:lnTo>
                    <a:pt x="48" y="272"/>
                  </a:lnTo>
                  <a:lnTo>
                    <a:pt x="112" y="224"/>
                  </a:lnTo>
                  <a:lnTo>
                    <a:pt x="192" y="208"/>
                  </a:lnTo>
                  <a:lnTo>
                    <a:pt x="200" y="160"/>
                  </a:lnTo>
                  <a:lnTo>
                    <a:pt x="200" y="80"/>
                  </a:lnTo>
                  <a:lnTo>
                    <a:pt x="208" y="32"/>
                  </a:lnTo>
                  <a:lnTo>
                    <a:pt x="176" y="32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005240" y="5613480"/>
              <a:ext cx="495000" cy="291960"/>
            </a:xfrm>
            <a:custGeom>
              <a:avLst/>
              <a:gdLst/>
              <a:ahLst/>
              <a:rect l="l" t="t" r="r" b="b"/>
              <a:pathLst>
                <a:path w="312" h="184">
                  <a:moveTo>
                    <a:pt x="0" y="56"/>
                  </a:moveTo>
                  <a:lnTo>
                    <a:pt x="32" y="88"/>
                  </a:lnTo>
                  <a:lnTo>
                    <a:pt x="120" y="176"/>
                  </a:lnTo>
                  <a:lnTo>
                    <a:pt x="152" y="184"/>
                  </a:lnTo>
                  <a:lnTo>
                    <a:pt x="224" y="168"/>
                  </a:lnTo>
                  <a:lnTo>
                    <a:pt x="312" y="144"/>
                  </a:lnTo>
                  <a:lnTo>
                    <a:pt x="232" y="64"/>
                  </a:lnTo>
                  <a:lnTo>
                    <a:pt x="192" y="24"/>
                  </a:lnTo>
                  <a:lnTo>
                    <a:pt x="152" y="24"/>
                  </a:lnTo>
                  <a:lnTo>
                    <a:pt x="120" y="0"/>
                  </a:lnTo>
                  <a:lnTo>
                    <a:pt x="56" y="8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246800" y="5245200"/>
              <a:ext cx="456840" cy="444240"/>
            </a:xfrm>
            <a:custGeom>
              <a:avLst/>
              <a:gdLst/>
              <a:ahLst/>
              <a:rect l="l" t="t" r="r" b="b"/>
              <a:pathLst>
                <a:path w="288" h="280">
                  <a:moveTo>
                    <a:pt x="32" y="240"/>
                  </a:moveTo>
                  <a:lnTo>
                    <a:pt x="8" y="184"/>
                  </a:lnTo>
                  <a:lnTo>
                    <a:pt x="0" y="104"/>
                  </a:lnTo>
                  <a:lnTo>
                    <a:pt x="32" y="56"/>
                  </a:lnTo>
                  <a:lnTo>
                    <a:pt x="80" y="0"/>
                  </a:lnTo>
                  <a:lnTo>
                    <a:pt x="144" y="32"/>
                  </a:lnTo>
                  <a:lnTo>
                    <a:pt x="160" y="64"/>
                  </a:lnTo>
                  <a:lnTo>
                    <a:pt x="224" y="72"/>
                  </a:lnTo>
                  <a:lnTo>
                    <a:pt x="288" y="144"/>
                  </a:lnTo>
                  <a:lnTo>
                    <a:pt x="272" y="208"/>
                  </a:lnTo>
                  <a:lnTo>
                    <a:pt x="224" y="216"/>
                  </a:lnTo>
                  <a:lnTo>
                    <a:pt x="168" y="248"/>
                  </a:lnTo>
                  <a:lnTo>
                    <a:pt x="88" y="280"/>
                  </a:lnTo>
                  <a:lnTo>
                    <a:pt x="40" y="248"/>
                  </a:lnTo>
                  <a:lnTo>
                    <a:pt x="32" y="240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24640" y="5626080"/>
              <a:ext cx="367920" cy="343080"/>
            </a:xfrm>
            <a:custGeom>
              <a:avLst/>
              <a:gdLst/>
              <a:ahLst/>
              <a:rect l="l" t="t" r="r" b="b"/>
              <a:pathLst>
                <a:path w="232" h="216">
                  <a:moveTo>
                    <a:pt x="0" y="72"/>
                  </a:moveTo>
                  <a:lnTo>
                    <a:pt x="64" y="32"/>
                  </a:lnTo>
                  <a:lnTo>
                    <a:pt x="128" y="0"/>
                  </a:lnTo>
                  <a:lnTo>
                    <a:pt x="184" y="48"/>
                  </a:lnTo>
                  <a:lnTo>
                    <a:pt x="232" y="104"/>
                  </a:lnTo>
                  <a:lnTo>
                    <a:pt x="232" y="136"/>
                  </a:lnTo>
                  <a:lnTo>
                    <a:pt x="160" y="208"/>
                  </a:lnTo>
                  <a:lnTo>
                    <a:pt x="120" y="216"/>
                  </a:lnTo>
                  <a:lnTo>
                    <a:pt x="80" y="200"/>
                  </a:lnTo>
                  <a:lnTo>
                    <a:pt x="64" y="136"/>
                  </a:lnTo>
                  <a:lnTo>
                    <a:pt x="32" y="104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665840" y="5854680"/>
              <a:ext cx="444240" cy="216000"/>
            </a:xfrm>
            <a:custGeom>
              <a:avLst/>
              <a:gdLst/>
              <a:ahLst/>
              <a:rect l="l" t="t" r="r" b="b"/>
              <a:pathLst>
                <a:path w="280" h="136">
                  <a:moveTo>
                    <a:pt x="88" y="0"/>
                  </a:moveTo>
                  <a:lnTo>
                    <a:pt x="152" y="24"/>
                  </a:lnTo>
                  <a:lnTo>
                    <a:pt x="232" y="40"/>
                  </a:lnTo>
                  <a:lnTo>
                    <a:pt x="280" y="56"/>
                  </a:lnTo>
                  <a:lnTo>
                    <a:pt x="272" y="104"/>
                  </a:lnTo>
                  <a:lnTo>
                    <a:pt x="280" y="136"/>
                  </a:lnTo>
                  <a:lnTo>
                    <a:pt x="176" y="104"/>
                  </a:lnTo>
                  <a:lnTo>
                    <a:pt x="128" y="96"/>
                  </a:lnTo>
                  <a:lnTo>
                    <a:pt x="48" y="88"/>
                  </a:lnTo>
                  <a:lnTo>
                    <a:pt x="0" y="80"/>
                  </a:lnTo>
                  <a:lnTo>
                    <a:pt x="16" y="56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41800" y="6400800"/>
              <a:ext cx="342720" cy="216000"/>
            </a:xfrm>
            <a:custGeom>
              <a:avLst/>
              <a:gdLst/>
              <a:ahLst/>
              <a:rect l="l" t="t" r="r" b="b"/>
              <a:pathLst>
                <a:path w="216" h="136">
                  <a:moveTo>
                    <a:pt x="216" y="72"/>
                  </a:moveTo>
                  <a:lnTo>
                    <a:pt x="136" y="0"/>
                  </a:lnTo>
                  <a:lnTo>
                    <a:pt x="96" y="0"/>
                  </a:lnTo>
                  <a:lnTo>
                    <a:pt x="32" y="8"/>
                  </a:lnTo>
                  <a:lnTo>
                    <a:pt x="0" y="56"/>
                  </a:lnTo>
                  <a:lnTo>
                    <a:pt x="48" y="96"/>
                  </a:lnTo>
                  <a:lnTo>
                    <a:pt x="88" y="104"/>
                  </a:lnTo>
                  <a:lnTo>
                    <a:pt x="120" y="136"/>
                  </a:lnTo>
                  <a:lnTo>
                    <a:pt x="144" y="128"/>
                  </a:lnTo>
                  <a:lnTo>
                    <a:pt x="192" y="96"/>
                  </a:lnTo>
                  <a:lnTo>
                    <a:pt x="216" y="72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023840" y="1981080"/>
              <a:ext cx="329760" cy="406440"/>
            </a:xfrm>
            <a:custGeom>
              <a:avLst/>
              <a:gdLst/>
              <a:ahLst/>
              <a:rect l="l" t="t" r="r" b="b"/>
              <a:pathLst>
                <a:path w="208" h="256">
                  <a:moveTo>
                    <a:pt x="0" y="0"/>
                  </a:moveTo>
                  <a:lnTo>
                    <a:pt x="72" y="256"/>
                  </a:lnTo>
                  <a:lnTo>
                    <a:pt x="208" y="128"/>
                  </a:lnTo>
                  <a:lnTo>
                    <a:pt x="208" y="56"/>
                  </a:lnTo>
                  <a:lnTo>
                    <a:pt x="192" y="48"/>
                  </a:lnTo>
                  <a:lnTo>
                    <a:pt x="64" y="8"/>
                  </a:lnTo>
                  <a:lnTo>
                    <a:pt x="48" y="8"/>
                  </a:lnTo>
                  <a:lnTo>
                    <a:pt x="4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41000" y="1752480"/>
              <a:ext cx="698400" cy="444600"/>
            </a:xfrm>
            <a:custGeom>
              <a:avLst/>
              <a:gdLst/>
              <a:ahLst/>
              <a:rect l="l" t="t" r="r" b="b"/>
              <a:pathLst>
                <a:path w="440" h="280">
                  <a:moveTo>
                    <a:pt x="8" y="8"/>
                  </a:moveTo>
                  <a:lnTo>
                    <a:pt x="0" y="40"/>
                  </a:lnTo>
                  <a:lnTo>
                    <a:pt x="16" y="104"/>
                  </a:lnTo>
                  <a:lnTo>
                    <a:pt x="16" y="160"/>
                  </a:lnTo>
                  <a:lnTo>
                    <a:pt x="16" y="216"/>
                  </a:lnTo>
                  <a:lnTo>
                    <a:pt x="16" y="264"/>
                  </a:lnTo>
                  <a:lnTo>
                    <a:pt x="56" y="280"/>
                  </a:lnTo>
                  <a:lnTo>
                    <a:pt x="120" y="272"/>
                  </a:lnTo>
                  <a:lnTo>
                    <a:pt x="184" y="264"/>
                  </a:lnTo>
                  <a:lnTo>
                    <a:pt x="272" y="256"/>
                  </a:lnTo>
                  <a:lnTo>
                    <a:pt x="344" y="248"/>
                  </a:lnTo>
                  <a:lnTo>
                    <a:pt x="384" y="224"/>
                  </a:lnTo>
                  <a:lnTo>
                    <a:pt x="392" y="168"/>
                  </a:lnTo>
                  <a:lnTo>
                    <a:pt x="408" y="136"/>
                  </a:lnTo>
                  <a:lnTo>
                    <a:pt x="432" y="96"/>
                  </a:lnTo>
                  <a:lnTo>
                    <a:pt x="440" y="56"/>
                  </a:lnTo>
                  <a:lnTo>
                    <a:pt x="408" y="48"/>
                  </a:lnTo>
                  <a:lnTo>
                    <a:pt x="352" y="48"/>
                  </a:lnTo>
                  <a:lnTo>
                    <a:pt x="296" y="32"/>
                  </a:lnTo>
                  <a:lnTo>
                    <a:pt x="216" y="0"/>
                  </a:lnTo>
                  <a:lnTo>
                    <a:pt x="176" y="16"/>
                  </a:lnTo>
                  <a:lnTo>
                    <a:pt x="160" y="32"/>
                  </a:lnTo>
                  <a:lnTo>
                    <a:pt x="120" y="24"/>
                  </a:lnTo>
                  <a:lnTo>
                    <a:pt x="64" y="8"/>
                  </a:lnTo>
                  <a:lnTo>
                    <a:pt x="32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17320" y="2171880"/>
              <a:ext cx="444240" cy="342720"/>
            </a:xfrm>
            <a:custGeom>
              <a:avLst/>
              <a:gdLst/>
              <a:ahLst/>
              <a:rect l="l" t="t" r="r" b="b"/>
              <a:pathLst>
                <a:path w="280" h="216">
                  <a:moveTo>
                    <a:pt x="8" y="32"/>
                  </a:moveTo>
                  <a:lnTo>
                    <a:pt x="168" y="8"/>
                  </a:lnTo>
                  <a:lnTo>
                    <a:pt x="272" y="0"/>
                  </a:lnTo>
                  <a:lnTo>
                    <a:pt x="280" y="32"/>
                  </a:lnTo>
                  <a:lnTo>
                    <a:pt x="272" y="56"/>
                  </a:lnTo>
                  <a:lnTo>
                    <a:pt x="256" y="96"/>
                  </a:lnTo>
                  <a:lnTo>
                    <a:pt x="240" y="176"/>
                  </a:lnTo>
                  <a:lnTo>
                    <a:pt x="240" y="200"/>
                  </a:lnTo>
                  <a:lnTo>
                    <a:pt x="216" y="216"/>
                  </a:lnTo>
                  <a:lnTo>
                    <a:pt x="168" y="184"/>
                  </a:lnTo>
                  <a:lnTo>
                    <a:pt x="160" y="176"/>
                  </a:lnTo>
                  <a:lnTo>
                    <a:pt x="128" y="176"/>
                  </a:lnTo>
                  <a:lnTo>
                    <a:pt x="96" y="152"/>
                  </a:lnTo>
                  <a:lnTo>
                    <a:pt x="64" y="120"/>
                  </a:lnTo>
                  <a:lnTo>
                    <a:pt x="40" y="72"/>
                  </a:lnTo>
                  <a:lnTo>
                    <a:pt x="0" y="16"/>
                  </a:lnTo>
                  <a:lnTo>
                    <a:pt x="8" y="32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57000" y="1562040"/>
              <a:ext cx="431640" cy="254160"/>
            </a:xfrm>
            <a:custGeom>
              <a:avLst/>
              <a:gdLst/>
              <a:ahLst/>
              <a:rect l="l" t="t" r="r" b="b"/>
              <a:pathLst>
                <a:path w="272" h="160">
                  <a:moveTo>
                    <a:pt x="0" y="0"/>
                  </a:moveTo>
                  <a:lnTo>
                    <a:pt x="120" y="8"/>
                  </a:lnTo>
                  <a:lnTo>
                    <a:pt x="216" y="8"/>
                  </a:lnTo>
                  <a:lnTo>
                    <a:pt x="256" y="56"/>
                  </a:lnTo>
                  <a:lnTo>
                    <a:pt x="256" y="136"/>
                  </a:lnTo>
                  <a:lnTo>
                    <a:pt x="272" y="160"/>
                  </a:lnTo>
                  <a:lnTo>
                    <a:pt x="216" y="160"/>
                  </a:lnTo>
                  <a:lnTo>
                    <a:pt x="80" y="112"/>
                  </a:lnTo>
                  <a:lnTo>
                    <a:pt x="40" y="88"/>
                  </a:lnTo>
                  <a:lnTo>
                    <a:pt x="0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61920" y="1168560"/>
              <a:ext cx="342360" cy="457200"/>
            </a:xfrm>
            <a:custGeom>
              <a:avLst/>
              <a:gdLst/>
              <a:ahLst/>
              <a:rect l="l" t="t" r="r" b="b"/>
              <a:pathLst>
                <a:path w="216" h="288">
                  <a:moveTo>
                    <a:pt x="40" y="248"/>
                  </a:moveTo>
                  <a:lnTo>
                    <a:pt x="48" y="176"/>
                  </a:lnTo>
                  <a:lnTo>
                    <a:pt x="24" y="152"/>
                  </a:lnTo>
                  <a:lnTo>
                    <a:pt x="8" y="112"/>
                  </a:lnTo>
                  <a:lnTo>
                    <a:pt x="0" y="64"/>
                  </a:lnTo>
                  <a:lnTo>
                    <a:pt x="24" y="16"/>
                  </a:lnTo>
                  <a:lnTo>
                    <a:pt x="72" y="0"/>
                  </a:lnTo>
                  <a:lnTo>
                    <a:pt x="128" y="0"/>
                  </a:lnTo>
                  <a:lnTo>
                    <a:pt x="176" y="8"/>
                  </a:lnTo>
                  <a:lnTo>
                    <a:pt x="192" y="80"/>
                  </a:lnTo>
                  <a:lnTo>
                    <a:pt x="216" y="136"/>
                  </a:lnTo>
                  <a:lnTo>
                    <a:pt x="216" y="192"/>
                  </a:lnTo>
                  <a:lnTo>
                    <a:pt x="208" y="240"/>
                  </a:lnTo>
                  <a:lnTo>
                    <a:pt x="184" y="280"/>
                  </a:lnTo>
                  <a:lnTo>
                    <a:pt x="168" y="288"/>
                  </a:lnTo>
                  <a:lnTo>
                    <a:pt x="88" y="280"/>
                  </a:lnTo>
                  <a:lnTo>
                    <a:pt x="64" y="264"/>
                  </a:lnTo>
                  <a:lnTo>
                    <a:pt x="40" y="248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306520" y="1701720"/>
              <a:ext cx="545760" cy="393840"/>
            </a:xfrm>
            <a:custGeom>
              <a:avLst/>
              <a:gdLst/>
              <a:ahLst/>
              <a:rect l="l" t="t" r="r" b="b"/>
              <a:pathLst>
                <a:path w="344" h="248">
                  <a:moveTo>
                    <a:pt x="8" y="72"/>
                  </a:moveTo>
                  <a:lnTo>
                    <a:pt x="0" y="96"/>
                  </a:lnTo>
                  <a:lnTo>
                    <a:pt x="0" y="136"/>
                  </a:lnTo>
                  <a:lnTo>
                    <a:pt x="24" y="224"/>
                  </a:lnTo>
                  <a:lnTo>
                    <a:pt x="88" y="224"/>
                  </a:lnTo>
                  <a:lnTo>
                    <a:pt x="144" y="248"/>
                  </a:lnTo>
                  <a:lnTo>
                    <a:pt x="176" y="232"/>
                  </a:lnTo>
                  <a:lnTo>
                    <a:pt x="200" y="200"/>
                  </a:lnTo>
                  <a:lnTo>
                    <a:pt x="248" y="216"/>
                  </a:lnTo>
                  <a:lnTo>
                    <a:pt x="272" y="240"/>
                  </a:lnTo>
                  <a:lnTo>
                    <a:pt x="296" y="248"/>
                  </a:lnTo>
                  <a:lnTo>
                    <a:pt x="320" y="200"/>
                  </a:lnTo>
                  <a:lnTo>
                    <a:pt x="344" y="136"/>
                  </a:lnTo>
                  <a:lnTo>
                    <a:pt x="312" y="128"/>
                  </a:lnTo>
                  <a:lnTo>
                    <a:pt x="224" y="24"/>
                  </a:lnTo>
                  <a:lnTo>
                    <a:pt x="176" y="0"/>
                  </a:lnTo>
                  <a:lnTo>
                    <a:pt x="152" y="16"/>
                  </a:lnTo>
                  <a:lnTo>
                    <a:pt x="128" y="32"/>
                  </a:lnTo>
                  <a:lnTo>
                    <a:pt x="104" y="40"/>
                  </a:lnTo>
                  <a:lnTo>
                    <a:pt x="64" y="40"/>
                  </a:lnTo>
                  <a:lnTo>
                    <a:pt x="24" y="72"/>
                  </a:lnTo>
                  <a:lnTo>
                    <a:pt x="8" y="72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88920" y="1384200"/>
              <a:ext cx="507600" cy="343080"/>
            </a:xfrm>
            <a:custGeom>
              <a:avLst/>
              <a:gdLst/>
              <a:ahLst/>
              <a:rect l="l" t="t" r="r" b="b"/>
              <a:pathLst>
                <a:path w="320" h="216">
                  <a:moveTo>
                    <a:pt x="0" y="144"/>
                  </a:moveTo>
                  <a:lnTo>
                    <a:pt x="24" y="88"/>
                  </a:lnTo>
                  <a:lnTo>
                    <a:pt x="48" y="56"/>
                  </a:lnTo>
                  <a:lnTo>
                    <a:pt x="40" y="24"/>
                  </a:lnTo>
                  <a:lnTo>
                    <a:pt x="112" y="16"/>
                  </a:lnTo>
                  <a:lnTo>
                    <a:pt x="128" y="0"/>
                  </a:lnTo>
                  <a:lnTo>
                    <a:pt x="160" y="8"/>
                  </a:lnTo>
                  <a:lnTo>
                    <a:pt x="176" y="56"/>
                  </a:lnTo>
                  <a:lnTo>
                    <a:pt x="200" y="96"/>
                  </a:lnTo>
                  <a:lnTo>
                    <a:pt x="272" y="120"/>
                  </a:lnTo>
                  <a:lnTo>
                    <a:pt x="320" y="160"/>
                  </a:lnTo>
                  <a:lnTo>
                    <a:pt x="312" y="208"/>
                  </a:lnTo>
                  <a:lnTo>
                    <a:pt x="288" y="216"/>
                  </a:lnTo>
                  <a:lnTo>
                    <a:pt x="264" y="208"/>
                  </a:lnTo>
                  <a:lnTo>
                    <a:pt x="256" y="216"/>
                  </a:lnTo>
                  <a:lnTo>
                    <a:pt x="200" y="216"/>
                  </a:lnTo>
                  <a:lnTo>
                    <a:pt x="160" y="200"/>
                  </a:lnTo>
                  <a:lnTo>
                    <a:pt x="96" y="176"/>
                  </a:lnTo>
                  <a:lnTo>
                    <a:pt x="40" y="152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87320" y="1968480"/>
              <a:ext cx="330120" cy="304920"/>
            </a:xfrm>
            <a:custGeom>
              <a:avLst/>
              <a:gdLst/>
              <a:ahLst/>
              <a:rect l="l" t="t" r="r" b="b"/>
              <a:pathLst>
                <a:path w="208" h="192">
                  <a:moveTo>
                    <a:pt x="112" y="192"/>
                  </a:moveTo>
                  <a:lnTo>
                    <a:pt x="208" y="112"/>
                  </a:lnTo>
                  <a:lnTo>
                    <a:pt x="200" y="96"/>
                  </a:lnTo>
                  <a:lnTo>
                    <a:pt x="120" y="32"/>
                  </a:lnTo>
                  <a:lnTo>
                    <a:pt x="64" y="16"/>
                  </a:lnTo>
                  <a:lnTo>
                    <a:pt x="8" y="0"/>
                  </a:lnTo>
                  <a:lnTo>
                    <a:pt x="0" y="32"/>
                  </a:lnTo>
                  <a:lnTo>
                    <a:pt x="16" y="56"/>
                  </a:lnTo>
                  <a:lnTo>
                    <a:pt x="24" y="88"/>
                  </a:lnTo>
                  <a:lnTo>
                    <a:pt x="48" y="120"/>
                  </a:lnTo>
                  <a:lnTo>
                    <a:pt x="64" y="144"/>
                  </a:lnTo>
                  <a:lnTo>
                    <a:pt x="88" y="176"/>
                  </a:lnTo>
                  <a:lnTo>
                    <a:pt x="112" y="192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39960" y="1511280"/>
              <a:ext cx="443880" cy="330120"/>
            </a:xfrm>
            <a:custGeom>
              <a:avLst/>
              <a:gdLst/>
              <a:ahLst/>
              <a:rect l="l" t="t" r="r" b="b"/>
              <a:pathLst>
                <a:path w="280" h="208">
                  <a:moveTo>
                    <a:pt x="8" y="144"/>
                  </a:moveTo>
                  <a:lnTo>
                    <a:pt x="0" y="96"/>
                  </a:lnTo>
                  <a:lnTo>
                    <a:pt x="0" y="56"/>
                  </a:lnTo>
                  <a:lnTo>
                    <a:pt x="24" y="24"/>
                  </a:lnTo>
                  <a:lnTo>
                    <a:pt x="64" y="48"/>
                  </a:lnTo>
                  <a:lnTo>
                    <a:pt x="72" y="64"/>
                  </a:lnTo>
                  <a:lnTo>
                    <a:pt x="96" y="40"/>
                  </a:lnTo>
                  <a:lnTo>
                    <a:pt x="128" y="0"/>
                  </a:lnTo>
                  <a:lnTo>
                    <a:pt x="144" y="24"/>
                  </a:lnTo>
                  <a:lnTo>
                    <a:pt x="160" y="8"/>
                  </a:lnTo>
                  <a:lnTo>
                    <a:pt x="208" y="56"/>
                  </a:lnTo>
                  <a:lnTo>
                    <a:pt x="232" y="56"/>
                  </a:lnTo>
                  <a:lnTo>
                    <a:pt x="280" y="136"/>
                  </a:lnTo>
                  <a:lnTo>
                    <a:pt x="256" y="128"/>
                  </a:lnTo>
                  <a:lnTo>
                    <a:pt x="256" y="152"/>
                  </a:lnTo>
                  <a:lnTo>
                    <a:pt x="152" y="208"/>
                  </a:lnTo>
                  <a:lnTo>
                    <a:pt x="48" y="176"/>
                  </a:lnTo>
                  <a:lnTo>
                    <a:pt x="16" y="152"/>
                  </a:lnTo>
                  <a:lnTo>
                    <a:pt x="8" y="144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81160" y="1752480"/>
              <a:ext cx="406080" cy="368280"/>
            </a:xfrm>
            <a:custGeom>
              <a:avLst/>
              <a:gdLst/>
              <a:ahLst/>
              <a:rect l="l" t="t" r="r" b="b"/>
              <a:pathLst>
                <a:path w="256" h="232">
                  <a:moveTo>
                    <a:pt x="120" y="0"/>
                  </a:moveTo>
                  <a:lnTo>
                    <a:pt x="160" y="24"/>
                  </a:lnTo>
                  <a:lnTo>
                    <a:pt x="208" y="24"/>
                  </a:lnTo>
                  <a:lnTo>
                    <a:pt x="240" y="24"/>
                  </a:lnTo>
                  <a:lnTo>
                    <a:pt x="256" y="48"/>
                  </a:lnTo>
                  <a:lnTo>
                    <a:pt x="232" y="88"/>
                  </a:lnTo>
                  <a:lnTo>
                    <a:pt x="216" y="120"/>
                  </a:lnTo>
                  <a:lnTo>
                    <a:pt x="160" y="168"/>
                  </a:lnTo>
                  <a:lnTo>
                    <a:pt x="112" y="208"/>
                  </a:lnTo>
                  <a:lnTo>
                    <a:pt x="64" y="232"/>
                  </a:lnTo>
                  <a:lnTo>
                    <a:pt x="32" y="216"/>
                  </a:lnTo>
                  <a:lnTo>
                    <a:pt x="0" y="112"/>
                  </a:lnTo>
                  <a:lnTo>
                    <a:pt x="0" y="72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82680" y="2006640"/>
              <a:ext cx="329760" cy="266760"/>
            </a:xfrm>
            <a:custGeom>
              <a:avLst/>
              <a:gdLst/>
              <a:ahLst/>
              <a:rect l="l" t="t" r="r" b="b"/>
              <a:pathLst>
                <a:path w="208" h="168">
                  <a:moveTo>
                    <a:pt x="0" y="88"/>
                  </a:moveTo>
                  <a:lnTo>
                    <a:pt x="64" y="48"/>
                  </a:lnTo>
                  <a:lnTo>
                    <a:pt x="96" y="24"/>
                  </a:lnTo>
                  <a:lnTo>
                    <a:pt x="128" y="0"/>
                  </a:lnTo>
                  <a:lnTo>
                    <a:pt x="152" y="0"/>
                  </a:lnTo>
                  <a:lnTo>
                    <a:pt x="192" y="48"/>
                  </a:lnTo>
                  <a:lnTo>
                    <a:pt x="208" y="160"/>
                  </a:lnTo>
                  <a:lnTo>
                    <a:pt x="184" y="168"/>
                  </a:lnTo>
                  <a:lnTo>
                    <a:pt x="152" y="160"/>
                  </a:lnTo>
                  <a:lnTo>
                    <a:pt x="136" y="168"/>
                  </a:lnTo>
                  <a:lnTo>
                    <a:pt x="112" y="152"/>
                  </a:lnTo>
                  <a:lnTo>
                    <a:pt x="80" y="168"/>
                  </a:lnTo>
                  <a:lnTo>
                    <a:pt x="56" y="152"/>
                  </a:lnTo>
                  <a:lnTo>
                    <a:pt x="32" y="160"/>
                  </a:lnTo>
                  <a:lnTo>
                    <a:pt x="16" y="160"/>
                  </a:lnTo>
                  <a:lnTo>
                    <a:pt x="0" y="128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90640" y="2654280"/>
              <a:ext cx="266400" cy="355680"/>
            </a:xfrm>
            <a:custGeom>
              <a:avLst/>
              <a:gdLst/>
              <a:ahLst/>
              <a:rect l="l" t="t" r="r" b="b"/>
              <a:pathLst>
                <a:path w="168" h="224">
                  <a:moveTo>
                    <a:pt x="32" y="40"/>
                  </a:moveTo>
                  <a:lnTo>
                    <a:pt x="24" y="88"/>
                  </a:lnTo>
                  <a:lnTo>
                    <a:pt x="16" y="128"/>
                  </a:lnTo>
                  <a:lnTo>
                    <a:pt x="0" y="216"/>
                  </a:lnTo>
                  <a:lnTo>
                    <a:pt x="32" y="224"/>
                  </a:lnTo>
                  <a:lnTo>
                    <a:pt x="88" y="192"/>
                  </a:lnTo>
                  <a:lnTo>
                    <a:pt x="160" y="144"/>
                  </a:lnTo>
                  <a:lnTo>
                    <a:pt x="168" y="104"/>
                  </a:lnTo>
                  <a:lnTo>
                    <a:pt x="168" y="56"/>
                  </a:lnTo>
                  <a:lnTo>
                    <a:pt x="104" y="0"/>
                  </a:lnTo>
                  <a:lnTo>
                    <a:pt x="32" y="40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79840" y="3022560"/>
              <a:ext cx="634680" cy="469800"/>
            </a:xfrm>
            <a:custGeom>
              <a:avLst/>
              <a:gdLst/>
              <a:ahLst/>
              <a:rect l="l" t="t" r="r" b="b"/>
              <a:pathLst>
                <a:path w="400" h="296">
                  <a:moveTo>
                    <a:pt x="40" y="208"/>
                  </a:moveTo>
                  <a:lnTo>
                    <a:pt x="16" y="184"/>
                  </a:lnTo>
                  <a:lnTo>
                    <a:pt x="32" y="152"/>
                  </a:lnTo>
                  <a:lnTo>
                    <a:pt x="40" y="112"/>
                  </a:lnTo>
                  <a:lnTo>
                    <a:pt x="0" y="72"/>
                  </a:lnTo>
                  <a:lnTo>
                    <a:pt x="8" y="40"/>
                  </a:lnTo>
                  <a:lnTo>
                    <a:pt x="40" y="16"/>
                  </a:lnTo>
                  <a:lnTo>
                    <a:pt x="72" y="24"/>
                  </a:lnTo>
                  <a:lnTo>
                    <a:pt x="88" y="0"/>
                  </a:lnTo>
                  <a:lnTo>
                    <a:pt x="104" y="0"/>
                  </a:lnTo>
                  <a:lnTo>
                    <a:pt x="136" y="8"/>
                  </a:lnTo>
                  <a:lnTo>
                    <a:pt x="168" y="8"/>
                  </a:lnTo>
                  <a:lnTo>
                    <a:pt x="232" y="32"/>
                  </a:lnTo>
                  <a:lnTo>
                    <a:pt x="256" y="24"/>
                  </a:lnTo>
                  <a:lnTo>
                    <a:pt x="256" y="0"/>
                  </a:lnTo>
                  <a:lnTo>
                    <a:pt x="312" y="40"/>
                  </a:lnTo>
                  <a:lnTo>
                    <a:pt x="376" y="48"/>
                  </a:lnTo>
                  <a:lnTo>
                    <a:pt x="400" y="72"/>
                  </a:lnTo>
                  <a:lnTo>
                    <a:pt x="368" y="104"/>
                  </a:lnTo>
                  <a:lnTo>
                    <a:pt x="336" y="112"/>
                  </a:lnTo>
                  <a:lnTo>
                    <a:pt x="312" y="160"/>
                  </a:lnTo>
                  <a:lnTo>
                    <a:pt x="256" y="184"/>
                  </a:lnTo>
                  <a:lnTo>
                    <a:pt x="256" y="216"/>
                  </a:lnTo>
                  <a:lnTo>
                    <a:pt x="200" y="264"/>
                  </a:lnTo>
                  <a:lnTo>
                    <a:pt x="168" y="296"/>
                  </a:lnTo>
                  <a:lnTo>
                    <a:pt x="56" y="200"/>
                  </a:lnTo>
                  <a:lnTo>
                    <a:pt x="40" y="208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0280" y="3581280"/>
              <a:ext cx="659880" cy="406440"/>
            </a:xfrm>
            <a:custGeom>
              <a:avLst/>
              <a:gdLst/>
              <a:ahLst/>
              <a:rect l="l" t="t" r="r" b="b"/>
              <a:pathLst>
                <a:path w="416" h="256">
                  <a:moveTo>
                    <a:pt x="0" y="184"/>
                  </a:moveTo>
                  <a:lnTo>
                    <a:pt x="40" y="136"/>
                  </a:lnTo>
                  <a:lnTo>
                    <a:pt x="88" y="88"/>
                  </a:lnTo>
                  <a:lnTo>
                    <a:pt x="144" y="72"/>
                  </a:lnTo>
                  <a:lnTo>
                    <a:pt x="168" y="64"/>
                  </a:lnTo>
                  <a:lnTo>
                    <a:pt x="192" y="32"/>
                  </a:lnTo>
                  <a:lnTo>
                    <a:pt x="280" y="0"/>
                  </a:lnTo>
                  <a:lnTo>
                    <a:pt x="360" y="16"/>
                  </a:lnTo>
                  <a:lnTo>
                    <a:pt x="408" y="0"/>
                  </a:lnTo>
                  <a:lnTo>
                    <a:pt x="416" y="24"/>
                  </a:lnTo>
                  <a:lnTo>
                    <a:pt x="360" y="80"/>
                  </a:lnTo>
                  <a:lnTo>
                    <a:pt x="336" y="128"/>
                  </a:lnTo>
                  <a:lnTo>
                    <a:pt x="304" y="168"/>
                  </a:lnTo>
                  <a:lnTo>
                    <a:pt x="320" y="232"/>
                  </a:lnTo>
                  <a:lnTo>
                    <a:pt x="288" y="256"/>
                  </a:lnTo>
                  <a:lnTo>
                    <a:pt x="184" y="256"/>
                  </a:lnTo>
                  <a:lnTo>
                    <a:pt x="88" y="216"/>
                  </a:lnTo>
                  <a:lnTo>
                    <a:pt x="40" y="200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84400" y="3924360"/>
              <a:ext cx="507960" cy="393480"/>
            </a:xfrm>
            <a:custGeom>
              <a:avLst/>
              <a:gdLst/>
              <a:ahLst/>
              <a:rect l="l" t="t" r="r" b="b"/>
              <a:pathLst>
                <a:path w="320" h="248">
                  <a:moveTo>
                    <a:pt x="8" y="16"/>
                  </a:moveTo>
                  <a:lnTo>
                    <a:pt x="104" y="48"/>
                  </a:lnTo>
                  <a:lnTo>
                    <a:pt x="176" y="48"/>
                  </a:lnTo>
                  <a:lnTo>
                    <a:pt x="264" y="104"/>
                  </a:lnTo>
                  <a:lnTo>
                    <a:pt x="320" y="168"/>
                  </a:lnTo>
                  <a:lnTo>
                    <a:pt x="312" y="208"/>
                  </a:lnTo>
                  <a:lnTo>
                    <a:pt x="288" y="232"/>
                  </a:lnTo>
                  <a:lnTo>
                    <a:pt x="248" y="248"/>
                  </a:lnTo>
                  <a:lnTo>
                    <a:pt x="216" y="240"/>
                  </a:lnTo>
                  <a:lnTo>
                    <a:pt x="192" y="200"/>
                  </a:lnTo>
                  <a:lnTo>
                    <a:pt x="152" y="168"/>
                  </a:lnTo>
                  <a:lnTo>
                    <a:pt x="96" y="152"/>
                  </a:lnTo>
                  <a:lnTo>
                    <a:pt x="64" y="96"/>
                  </a:lnTo>
                  <a:lnTo>
                    <a:pt x="24" y="56"/>
                  </a:lnTo>
                  <a:lnTo>
                    <a:pt x="0" y="0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27400" y="4330800"/>
              <a:ext cx="469800" cy="253800"/>
            </a:xfrm>
            <a:custGeom>
              <a:avLst/>
              <a:gdLst/>
              <a:ahLst/>
              <a:rect l="l" t="t" r="r" b="b"/>
              <a:pathLst>
                <a:path w="296" h="160">
                  <a:moveTo>
                    <a:pt x="8" y="80"/>
                  </a:moveTo>
                  <a:lnTo>
                    <a:pt x="32" y="48"/>
                  </a:lnTo>
                  <a:lnTo>
                    <a:pt x="96" y="8"/>
                  </a:lnTo>
                  <a:lnTo>
                    <a:pt x="128" y="0"/>
                  </a:lnTo>
                  <a:lnTo>
                    <a:pt x="184" y="16"/>
                  </a:lnTo>
                  <a:lnTo>
                    <a:pt x="216" y="16"/>
                  </a:lnTo>
                  <a:lnTo>
                    <a:pt x="248" y="40"/>
                  </a:lnTo>
                  <a:lnTo>
                    <a:pt x="280" y="88"/>
                  </a:lnTo>
                  <a:lnTo>
                    <a:pt x="296" y="104"/>
                  </a:lnTo>
                  <a:lnTo>
                    <a:pt x="248" y="128"/>
                  </a:lnTo>
                  <a:lnTo>
                    <a:pt x="184" y="152"/>
                  </a:lnTo>
                  <a:lnTo>
                    <a:pt x="120" y="160"/>
                  </a:lnTo>
                  <a:lnTo>
                    <a:pt x="88" y="128"/>
                  </a:lnTo>
                  <a:lnTo>
                    <a:pt x="56" y="112"/>
                  </a:lnTo>
                  <a:lnTo>
                    <a:pt x="8" y="88"/>
                  </a:lnTo>
                  <a:lnTo>
                    <a:pt x="0" y="72"/>
                  </a:lnTo>
                  <a:lnTo>
                    <a:pt x="8" y="64"/>
                  </a:lnTo>
                  <a:lnTo>
                    <a:pt x="8" y="80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97360" y="4483080"/>
              <a:ext cx="482040" cy="520560"/>
            </a:xfrm>
            <a:custGeom>
              <a:avLst/>
              <a:gdLst/>
              <a:ahLst/>
              <a:rect l="l" t="t" r="r" b="b"/>
              <a:pathLst>
                <a:path w="304" h="328">
                  <a:moveTo>
                    <a:pt x="0" y="224"/>
                  </a:moveTo>
                  <a:lnTo>
                    <a:pt x="16" y="176"/>
                  </a:lnTo>
                  <a:lnTo>
                    <a:pt x="48" y="144"/>
                  </a:lnTo>
                  <a:lnTo>
                    <a:pt x="96" y="128"/>
                  </a:lnTo>
                  <a:lnTo>
                    <a:pt x="96" y="104"/>
                  </a:lnTo>
                  <a:lnTo>
                    <a:pt x="128" y="72"/>
                  </a:lnTo>
                  <a:lnTo>
                    <a:pt x="160" y="24"/>
                  </a:lnTo>
                  <a:lnTo>
                    <a:pt x="176" y="0"/>
                  </a:lnTo>
                  <a:lnTo>
                    <a:pt x="240" y="0"/>
                  </a:lnTo>
                  <a:lnTo>
                    <a:pt x="304" y="24"/>
                  </a:lnTo>
                  <a:lnTo>
                    <a:pt x="304" y="72"/>
                  </a:lnTo>
                  <a:lnTo>
                    <a:pt x="288" y="120"/>
                  </a:lnTo>
                  <a:lnTo>
                    <a:pt x="256" y="168"/>
                  </a:lnTo>
                  <a:lnTo>
                    <a:pt x="224" y="216"/>
                  </a:lnTo>
                  <a:lnTo>
                    <a:pt x="192" y="256"/>
                  </a:lnTo>
                  <a:lnTo>
                    <a:pt x="128" y="304"/>
                  </a:lnTo>
                  <a:lnTo>
                    <a:pt x="88" y="328"/>
                  </a:lnTo>
                  <a:lnTo>
                    <a:pt x="64" y="296"/>
                  </a:lnTo>
                  <a:lnTo>
                    <a:pt x="32" y="232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64120" y="4610160"/>
              <a:ext cx="443880" cy="685800"/>
            </a:xfrm>
            <a:custGeom>
              <a:avLst/>
              <a:gdLst/>
              <a:ahLst/>
              <a:rect l="l" t="t" r="r" b="b"/>
              <a:pathLst>
                <a:path w="280" h="432">
                  <a:moveTo>
                    <a:pt x="136" y="24"/>
                  </a:moveTo>
                  <a:lnTo>
                    <a:pt x="176" y="0"/>
                  </a:lnTo>
                  <a:lnTo>
                    <a:pt x="248" y="0"/>
                  </a:lnTo>
                  <a:lnTo>
                    <a:pt x="280" y="32"/>
                  </a:lnTo>
                  <a:lnTo>
                    <a:pt x="248" y="104"/>
                  </a:lnTo>
                  <a:lnTo>
                    <a:pt x="232" y="168"/>
                  </a:lnTo>
                  <a:lnTo>
                    <a:pt x="200" y="200"/>
                  </a:lnTo>
                  <a:lnTo>
                    <a:pt x="240" y="232"/>
                  </a:lnTo>
                  <a:lnTo>
                    <a:pt x="264" y="272"/>
                  </a:lnTo>
                  <a:lnTo>
                    <a:pt x="272" y="312"/>
                  </a:lnTo>
                  <a:lnTo>
                    <a:pt x="224" y="352"/>
                  </a:lnTo>
                  <a:lnTo>
                    <a:pt x="128" y="432"/>
                  </a:lnTo>
                  <a:lnTo>
                    <a:pt x="88" y="432"/>
                  </a:lnTo>
                  <a:lnTo>
                    <a:pt x="32" y="360"/>
                  </a:lnTo>
                  <a:lnTo>
                    <a:pt x="48" y="312"/>
                  </a:lnTo>
                  <a:lnTo>
                    <a:pt x="24" y="264"/>
                  </a:lnTo>
                  <a:lnTo>
                    <a:pt x="0" y="232"/>
                  </a:lnTo>
                  <a:lnTo>
                    <a:pt x="16" y="192"/>
                  </a:lnTo>
                  <a:lnTo>
                    <a:pt x="64" y="136"/>
                  </a:lnTo>
                  <a:lnTo>
                    <a:pt x="128" y="32"/>
                  </a:lnTo>
                  <a:lnTo>
                    <a:pt x="136" y="24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70200" y="4584600"/>
              <a:ext cx="342720" cy="279360"/>
            </a:xfrm>
            <a:custGeom>
              <a:avLst/>
              <a:gdLst/>
              <a:ahLst/>
              <a:rect l="l" t="t" r="r" b="b"/>
              <a:pathLst>
                <a:path w="216" h="176">
                  <a:moveTo>
                    <a:pt x="24" y="72"/>
                  </a:moveTo>
                  <a:lnTo>
                    <a:pt x="56" y="40"/>
                  </a:lnTo>
                  <a:lnTo>
                    <a:pt x="80" y="8"/>
                  </a:lnTo>
                  <a:lnTo>
                    <a:pt x="120" y="0"/>
                  </a:lnTo>
                  <a:lnTo>
                    <a:pt x="176" y="40"/>
                  </a:lnTo>
                  <a:lnTo>
                    <a:pt x="216" y="96"/>
                  </a:lnTo>
                  <a:lnTo>
                    <a:pt x="160" y="160"/>
                  </a:lnTo>
                  <a:lnTo>
                    <a:pt x="104" y="176"/>
                  </a:lnTo>
                  <a:lnTo>
                    <a:pt x="80" y="168"/>
                  </a:lnTo>
                  <a:lnTo>
                    <a:pt x="32" y="168"/>
                  </a:lnTo>
                  <a:lnTo>
                    <a:pt x="0" y="136"/>
                  </a:lnTo>
                  <a:lnTo>
                    <a:pt x="24" y="72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06840" y="4838760"/>
              <a:ext cx="456840" cy="660240"/>
            </a:xfrm>
            <a:custGeom>
              <a:avLst/>
              <a:gdLst/>
              <a:ahLst/>
              <a:rect l="l" t="t" r="r" b="b"/>
              <a:pathLst>
                <a:path w="288" h="416">
                  <a:moveTo>
                    <a:pt x="32" y="0"/>
                  </a:moveTo>
                  <a:lnTo>
                    <a:pt x="56" y="24"/>
                  </a:lnTo>
                  <a:lnTo>
                    <a:pt x="112" y="24"/>
                  </a:lnTo>
                  <a:lnTo>
                    <a:pt x="176" y="80"/>
                  </a:lnTo>
                  <a:lnTo>
                    <a:pt x="184" y="120"/>
                  </a:lnTo>
                  <a:lnTo>
                    <a:pt x="192" y="144"/>
                  </a:lnTo>
                  <a:lnTo>
                    <a:pt x="216" y="184"/>
                  </a:lnTo>
                  <a:lnTo>
                    <a:pt x="272" y="256"/>
                  </a:lnTo>
                  <a:lnTo>
                    <a:pt x="288" y="328"/>
                  </a:lnTo>
                  <a:lnTo>
                    <a:pt x="280" y="352"/>
                  </a:lnTo>
                  <a:lnTo>
                    <a:pt x="232" y="384"/>
                  </a:lnTo>
                  <a:lnTo>
                    <a:pt x="176" y="400"/>
                  </a:lnTo>
                  <a:lnTo>
                    <a:pt x="136" y="416"/>
                  </a:lnTo>
                  <a:lnTo>
                    <a:pt x="96" y="416"/>
                  </a:lnTo>
                  <a:lnTo>
                    <a:pt x="72" y="408"/>
                  </a:lnTo>
                  <a:lnTo>
                    <a:pt x="120" y="344"/>
                  </a:lnTo>
                  <a:lnTo>
                    <a:pt x="120" y="272"/>
                  </a:lnTo>
                  <a:lnTo>
                    <a:pt x="104" y="256"/>
                  </a:lnTo>
                  <a:lnTo>
                    <a:pt x="104" y="224"/>
                  </a:lnTo>
                  <a:lnTo>
                    <a:pt x="72" y="184"/>
                  </a:lnTo>
                  <a:lnTo>
                    <a:pt x="80" y="136"/>
                  </a:lnTo>
                  <a:lnTo>
                    <a:pt x="48" y="88"/>
                  </a:lnTo>
                  <a:lnTo>
                    <a:pt x="0" y="48"/>
                  </a:lnTo>
                  <a:lnTo>
                    <a:pt x="32" y="24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73600" y="4838760"/>
              <a:ext cx="393480" cy="533520"/>
            </a:xfrm>
            <a:custGeom>
              <a:avLst/>
              <a:gdLst/>
              <a:ahLst/>
              <a:rect l="l" t="t" r="r" b="b"/>
              <a:pathLst>
                <a:path w="248" h="336">
                  <a:moveTo>
                    <a:pt x="48" y="0"/>
                  </a:moveTo>
                  <a:lnTo>
                    <a:pt x="64" y="16"/>
                  </a:lnTo>
                  <a:lnTo>
                    <a:pt x="112" y="40"/>
                  </a:lnTo>
                  <a:lnTo>
                    <a:pt x="168" y="104"/>
                  </a:lnTo>
                  <a:lnTo>
                    <a:pt x="160" y="136"/>
                  </a:lnTo>
                  <a:lnTo>
                    <a:pt x="208" y="192"/>
                  </a:lnTo>
                  <a:lnTo>
                    <a:pt x="216" y="216"/>
                  </a:lnTo>
                  <a:lnTo>
                    <a:pt x="248" y="264"/>
                  </a:lnTo>
                  <a:lnTo>
                    <a:pt x="232" y="288"/>
                  </a:lnTo>
                  <a:lnTo>
                    <a:pt x="208" y="320"/>
                  </a:lnTo>
                  <a:lnTo>
                    <a:pt x="200" y="336"/>
                  </a:lnTo>
                  <a:lnTo>
                    <a:pt x="168" y="328"/>
                  </a:lnTo>
                  <a:lnTo>
                    <a:pt x="136" y="296"/>
                  </a:lnTo>
                  <a:lnTo>
                    <a:pt x="128" y="240"/>
                  </a:lnTo>
                  <a:lnTo>
                    <a:pt x="96" y="200"/>
                  </a:lnTo>
                  <a:lnTo>
                    <a:pt x="48" y="152"/>
                  </a:lnTo>
                  <a:lnTo>
                    <a:pt x="56" y="104"/>
                  </a:lnTo>
                  <a:lnTo>
                    <a:pt x="48" y="80"/>
                  </a:lnTo>
                  <a:lnTo>
                    <a:pt x="0" y="40"/>
                  </a:lnTo>
                  <a:lnTo>
                    <a:pt x="16" y="16"/>
                  </a:lnTo>
                  <a:lnTo>
                    <a:pt x="40" y="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60" y="1968480"/>
              <a:ext cx="444240" cy="406440"/>
            </a:xfrm>
            <a:custGeom>
              <a:avLst/>
              <a:gdLst/>
              <a:ahLst/>
              <a:rect l="l" t="t" r="r" b="b"/>
              <a:pathLst>
                <a:path w="280" h="256">
                  <a:moveTo>
                    <a:pt x="216" y="8"/>
                  </a:moveTo>
                  <a:lnTo>
                    <a:pt x="144" y="8"/>
                  </a:lnTo>
                  <a:lnTo>
                    <a:pt x="72" y="0"/>
                  </a:lnTo>
                  <a:lnTo>
                    <a:pt x="48" y="24"/>
                  </a:lnTo>
                  <a:lnTo>
                    <a:pt x="24" y="48"/>
                  </a:lnTo>
                  <a:lnTo>
                    <a:pt x="0" y="96"/>
                  </a:lnTo>
                  <a:lnTo>
                    <a:pt x="40" y="192"/>
                  </a:lnTo>
                  <a:lnTo>
                    <a:pt x="128" y="240"/>
                  </a:lnTo>
                  <a:lnTo>
                    <a:pt x="184" y="232"/>
                  </a:lnTo>
                  <a:lnTo>
                    <a:pt x="216" y="240"/>
                  </a:lnTo>
                  <a:lnTo>
                    <a:pt x="248" y="248"/>
                  </a:lnTo>
                  <a:lnTo>
                    <a:pt x="264" y="248"/>
                  </a:lnTo>
                  <a:lnTo>
                    <a:pt x="280" y="256"/>
                  </a:lnTo>
                  <a:lnTo>
                    <a:pt x="216" y="8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99800" y="2197080"/>
              <a:ext cx="431640" cy="4572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160" y="0"/>
                  </a:moveTo>
                  <a:lnTo>
                    <a:pt x="24" y="120"/>
                  </a:lnTo>
                  <a:lnTo>
                    <a:pt x="8" y="152"/>
                  </a:lnTo>
                  <a:lnTo>
                    <a:pt x="0" y="208"/>
                  </a:lnTo>
                  <a:lnTo>
                    <a:pt x="16" y="208"/>
                  </a:lnTo>
                  <a:lnTo>
                    <a:pt x="32" y="224"/>
                  </a:lnTo>
                  <a:lnTo>
                    <a:pt x="88" y="288"/>
                  </a:lnTo>
                  <a:lnTo>
                    <a:pt x="112" y="280"/>
                  </a:lnTo>
                  <a:lnTo>
                    <a:pt x="272" y="136"/>
                  </a:lnTo>
                  <a:lnTo>
                    <a:pt x="272" y="120"/>
                  </a:lnTo>
                  <a:lnTo>
                    <a:pt x="200" y="32"/>
                  </a:lnTo>
                  <a:lnTo>
                    <a:pt x="192" y="8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52440" y="2425680"/>
              <a:ext cx="520200" cy="432000"/>
            </a:xfrm>
            <a:custGeom>
              <a:avLst/>
              <a:gdLst/>
              <a:ahLst/>
              <a:rect l="l" t="t" r="r" b="b"/>
              <a:pathLst>
                <a:path w="328" h="272">
                  <a:moveTo>
                    <a:pt x="176" y="0"/>
                  </a:moveTo>
                  <a:lnTo>
                    <a:pt x="240" y="48"/>
                  </a:lnTo>
                  <a:lnTo>
                    <a:pt x="288" y="48"/>
                  </a:lnTo>
                  <a:lnTo>
                    <a:pt x="328" y="88"/>
                  </a:lnTo>
                  <a:lnTo>
                    <a:pt x="312" y="120"/>
                  </a:lnTo>
                  <a:lnTo>
                    <a:pt x="296" y="136"/>
                  </a:lnTo>
                  <a:lnTo>
                    <a:pt x="264" y="152"/>
                  </a:lnTo>
                  <a:lnTo>
                    <a:pt x="184" y="200"/>
                  </a:lnTo>
                  <a:lnTo>
                    <a:pt x="152" y="208"/>
                  </a:lnTo>
                  <a:lnTo>
                    <a:pt x="128" y="224"/>
                  </a:lnTo>
                  <a:lnTo>
                    <a:pt x="56" y="272"/>
                  </a:lnTo>
                  <a:lnTo>
                    <a:pt x="40" y="264"/>
                  </a:lnTo>
                  <a:lnTo>
                    <a:pt x="16" y="224"/>
                  </a:lnTo>
                  <a:lnTo>
                    <a:pt x="0" y="208"/>
                  </a:lnTo>
                  <a:lnTo>
                    <a:pt x="16" y="144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67160" y="5130720"/>
              <a:ext cx="304560" cy="355680"/>
            </a:xfrm>
            <a:custGeom>
              <a:avLst/>
              <a:gdLst/>
              <a:ahLst/>
              <a:rect l="l" t="t" r="r" b="b"/>
              <a:pathLst>
                <a:path w="192" h="224">
                  <a:moveTo>
                    <a:pt x="0" y="120"/>
                  </a:moveTo>
                  <a:lnTo>
                    <a:pt x="8" y="104"/>
                  </a:lnTo>
                  <a:lnTo>
                    <a:pt x="136" y="0"/>
                  </a:lnTo>
                  <a:lnTo>
                    <a:pt x="160" y="24"/>
                  </a:lnTo>
                  <a:lnTo>
                    <a:pt x="184" y="72"/>
                  </a:lnTo>
                  <a:lnTo>
                    <a:pt x="192" y="120"/>
                  </a:lnTo>
                  <a:lnTo>
                    <a:pt x="192" y="160"/>
                  </a:lnTo>
                  <a:lnTo>
                    <a:pt x="152" y="216"/>
                  </a:lnTo>
                  <a:lnTo>
                    <a:pt x="112" y="224"/>
                  </a:lnTo>
                  <a:lnTo>
                    <a:pt x="8" y="136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40f84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439560" y="492120"/>
            <a:ext cx="8394840" cy="5803920"/>
          </a:xfrm>
          <a:custGeom>
            <a:avLst/>
            <a:gdLst/>
            <a:ahLst/>
            <a:rect l="l" t="t" r="r" b="b"/>
            <a:pathLst>
              <a:path w="5288" h="3656">
                <a:moveTo>
                  <a:pt x="0" y="976"/>
                </a:moveTo>
                <a:lnTo>
                  <a:pt x="24" y="952"/>
                </a:lnTo>
                <a:lnTo>
                  <a:pt x="88" y="936"/>
                </a:lnTo>
                <a:lnTo>
                  <a:pt x="160" y="864"/>
                </a:lnTo>
                <a:lnTo>
                  <a:pt x="200" y="800"/>
                </a:lnTo>
                <a:lnTo>
                  <a:pt x="248" y="752"/>
                </a:lnTo>
                <a:lnTo>
                  <a:pt x="256" y="720"/>
                </a:lnTo>
                <a:lnTo>
                  <a:pt x="304" y="680"/>
                </a:lnTo>
                <a:lnTo>
                  <a:pt x="328" y="640"/>
                </a:lnTo>
                <a:lnTo>
                  <a:pt x="360" y="600"/>
                </a:lnTo>
                <a:lnTo>
                  <a:pt x="408" y="568"/>
                </a:lnTo>
                <a:lnTo>
                  <a:pt x="432" y="504"/>
                </a:lnTo>
                <a:lnTo>
                  <a:pt x="472" y="504"/>
                </a:lnTo>
                <a:lnTo>
                  <a:pt x="496" y="408"/>
                </a:lnTo>
                <a:lnTo>
                  <a:pt x="496" y="320"/>
                </a:lnTo>
                <a:lnTo>
                  <a:pt x="496" y="256"/>
                </a:lnTo>
                <a:lnTo>
                  <a:pt x="496" y="184"/>
                </a:lnTo>
                <a:lnTo>
                  <a:pt x="544" y="136"/>
                </a:lnTo>
                <a:lnTo>
                  <a:pt x="568" y="96"/>
                </a:lnTo>
                <a:lnTo>
                  <a:pt x="568" y="48"/>
                </a:lnTo>
                <a:lnTo>
                  <a:pt x="632" y="24"/>
                </a:lnTo>
                <a:lnTo>
                  <a:pt x="712" y="48"/>
                </a:lnTo>
                <a:lnTo>
                  <a:pt x="792" y="64"/>
                </a:lnTo>
                <a:lnTo>
                  <a:pt x="856" y="72"/>
                </a:lnTo>
                <a:lnTo>
                  <a:pt x="696" y="16"/>
                </a:lnTo>
                <a:lnTo>
                  <a:pt x="720" y="0"/>
                </a:lnTo>
                <a:lnTo>
                  <a:pt x="784" y="24"/>
                </a:lnTo>
                <a:lnTo>
                  <a:pt x="832" y="48"/>
                </a:lnTo>
                <a:lnTo>
                  <a:pt x="904" y="72"/>
                </a:lnTo>
                <a:lnTo>
                  <a:pt x="944" y="80"/>
                </a:lnTo>
                <a:lnTo>
                  <a:pt x="1016" y="120"/>
                </a:lnTo>
                <a:lnTo>
                  <a:pt x="1104" y="184"/>
                </a:lnTo>
                <a:lnTo>
                  <a:pt x="1224" y="232"/>
                </a:lnTo>
                <a:lnTo>
                  <a:pt x="1264" y="256"/>
                </a:lnTo>
                <a:lnTo>
                  <a:pt x="1336" y="288"/>
                </a:lnTo>
                <a:lnTo>
                  <a:pt x="1384" y="296"/>
                </a:lnTo>
                <a:lnTo>
                  <a:pt x="1472" y="360"/>
                </a:lnTo>
                <a:lnTo>
                  <a:pt x="1520" y="368"/>
                </a:lnTo>
                <a:lnTo>
                  <a:pt x="1632" y="392"/>
                </a:lnTo>
                <a:lnTo>
                  <a:pt x="1696" y="408"/>
                </a:lnTo>
                <a:lnTo>
                  <a:pt x="1720" y="408"/>
                </a:lnTo>
                <a:lnTo>
                  <a:pt x="1816" y="456"/>
                </a:lnTo>
                <a:lnTo>
                  <a:pt x="1880" y="456"/>
                </a:lnTo>
                <a:lnTo>
                  <a:pt x="1992" y="504"/>
                </a:lnTo>
                <a:lnTo>
                  <a:pt x="2040" y="480"/>
                </a:lnTo>
                <a:lnTo>
                  <a:pt x="2088" y="480"/>
                </a:lnTo>
                <a:lnTo>
                  <a:pt x="2176" y="528"/>
                </a:lnTo>
                <a:lnTo>
                  <a:pt x="2288" y="528"/>
                </a:lnTo>
                <a:lnTo>
                  <a:pt x="2312" y="568"/>
                </a:lnTo>
                <a:lnTo>
                  <a:pt x="2376" y="616"/>
                </a:lnTo>
                <a:lnTo>
                  <a:pt x="2472" y="616"/>
                </a:lnTo>
                <a:lnTo>
                  <a:pt x="2536" y="664"/>
                </a:lnTo>
                <a:lnTo>
                  <a:pt x="2632" y="680"/>
                </a:lnTo>
                <a:lnTo>
                  <a:pt x="2720" y="752"/>
                </a:lnTo>
                <a:lnTo>
                  <a:pt x="2744" y="800"/>
                </a:lnTo>
                <a:lnTo>
                  <a:pt x="2744" y="816"/>
                </a:lnTo>
                <a:lnTo>
                  <a:pt x="2808" y="816"/>
                </a:lnTo>
                <a:lnTo>
                  <a:pt x="2880" y="888"/>
                </a:lnTo>
                <a:lnTo>
                  <a:pt x="2944" y="936"/>
                </a:lnTo>
                <a:lnTo>
                  <a:pt x="3016" y="952"/>
                </a:lnTo>
                <a:lnTo>
                  <a:pt x="3040" y="1000"/>
                </a:lnTo>
                <a:lnTo>
                  <a:pt x="3128" y="1072"/>
                </a:lnTo>
                <a:lnTo>
                  <a:pt x="3192" y="1112"/>
                </a:lnTo>
                <a:lnTo>
                  <a:pt x="3264" y="1160"/>
                </a:lnTo>
                <a:lnTo>
                  <a:pt x="3264" y="1208"/>
                </a:lnTo>
                <a:lnTo>
                  <a:pt x="3240" y="1224"/>
                </a:lnTo>
                <a:lnTo>
                  <a:pt x="3352" y="1248"/>
                </a:lnTo>
                <a:lnTo>
                  <a:pt x="3376" y="1296"/>
                </a:lnTo>
                <a:lnTo>
                  <a:pt x="3448" y="1360"/>
                </a:lnTo>
                <a:lnTo>
                  <a:pt x="3488" y="1384"/>
                </a:lnTo>
                <a:lnTo>
                  <a:pt x="3512" y="1432"/>
                </a:lnTo>
                <a:lnTo>
                  <a:pt x="3560" y="1456"/>
                </a:lnTo>
                <a:lnTo>
                  <a:pt x="3648" y="1496"/>
                </a:lnTo>
                <a:lnTo>
                  <a:pt x="3720" y="1592"/>
                </a:lnTo>
                <a:lnTo>
                  <a:pt x="3784" y="1656"/>
                </a:lnTo>
                <a:lnTo>
                  <a:pt x="3840" y="1672"/>
                </a:lnTo>
                <a:lnTo>
                  <a:pt x="3816" y="1704"/>
                </a:lnTo>
                <a:lnTo>
                  <a:pt x="3776" y="1728"/>
                </a:lnTo>
                <a:lnTo>
                  <a:pt x="3720" y="1736"/>
                </a:lnTo>
                <a:lnTo>
                  <a:pt x="3768" y="1744"/>
                </a:lnTo>
                <a:lnTo>
                  <a:pt x="3760" y="1760"/>
                </a:lnTo>
                <a:lnTo>
                  <a:pt x="3856" y="1704"/>
                </a:lnTo>
                <a:lnTo>
                  <a:pt x="3872" y="1664"/>
                </a:lnTo>
                <a:lnTo>
                  <a:pt x="3896" y="1656"/>
                </a:lnTo>
                <a:lnTo>
                  <a:pt x="3984" y="1656"/>
                </a:lnTo>
                <a:lnTo>
                  <a:pt x="4032" y="1728"/>
                </a:lnTo>
                <a:lnTo>
                  <a:pt x="4048" y="1784"/>
                </a:lnTo>
                <a:lnTo>
                  <a:pt x="4016" y="1832"/>
                </a:lnTo>
                <a:lnTo>
                  <a:pt x="3968" y="1848"/>
                </a:lnTo>
                <a:lnTo>
                  <a:pt x="4016" y="1856"/>
                </a:lnTo>
                <a:lnTo>
                  <a:pt x="4064" y="1808"/>
                </a:lnTo>
                <a:lnTo>
                  <a:pt x="4104" y="1792"/>
                </a:lnTo>
                <a:lnTo>
                  <a:pt x="4144" y="1840"/>
                </a:lnTo>
                <a:lnTo>
                  <a:pt x="4168" y="1816"/>
                </a:lnTo>
                <a:lnTo>
                  <a:pt x="4216" y="1864"/>
                </a:lnTo>
                <a:lnTo>
                  <a:pt x="4240" y="1928"/>
                </a:lnTo>
                <a:lnTo>
                  <a:pt x="4264" y="1952"/>
                </a:lnTo>
                <a:lnTo>
                  <a:pt x="4328" y="2000"/>
                </a:lnTo>
                <a:lnTo>
                  <a:pt x="4376" y="2040"/>
                </a:lnTo>
                <a:lnTo>
                  <a:pt x="4416" y="2064"/>
                </a:lnTo>
                <a:lnTo>
                  <a:pt x="4536" y="2160"/>
                </a:lnTo>
                <a:lnTo>
                  <a:pt x="4552" y="2208"/>
                </a:lnTo>
                <a:lnTo>
                  <a:pt x="4560" y="2264"/>
                </a:lnTo>
                <a:lnTo>
                  <a:pt x="4576" y="2328"/>
                </a:lnTo>
                <a:lnTo>
                  <a:pt x="4592" y="2336"/>
                </a:lnTo>
                <a:lnTo>
                  <a:pt x="4608" y="2408"/>
                </a:lnTo>
                <a:lnTo>
                  <a:pt x="4632" y="2496"/>
                </a:lnTo>
                <a:lnTo>
                  <a:pt x="4648" y="2640"/>
                </a:lnTo>
                <a:lnTo>
                  <a:pt x="4640" y="2728"/>
                </a:lnTo>
                <a:lnTo>
                  <a:pt x="4576" y="2792"/>
                </a:lnTo>
                <a:lnTo>
                  <a:pt x="4480" y="2856"/>
                </a:lnTo>
                <a:lnTo>
                  <a:pt x="4592" y="2808"/>
                </a:lnTo>
                <a:lnTo>
                  <a:pt x="4648" y="2760"/>
                </a:lnTo>
                <a:lnTo>
                  <a:pt x="4688" y="2720"/>
                </a:lnTo>
                <a:lnTo>
                  <a:pt x="4704" y="2656"/>
                </a:lnTo>
                <a:lnTo>
                  <a:pt x="4688" y="2584"/>
                </a:lnTo>
                <a:lnTo>
                  <a:pt x="4680" y="2528"/>
                </a:lnTo>
                <a:lnTo>
                  <a:pt x="4688" y="2448"/>
                </a:lnTo>
                <a:lnTo>
                  <a:pt x="4696" y="2288"/>
                </a:lnTo>
                <a:lnTo>
                  <a:pt x="4696" y="2264"/>
                </a:lnTo>
                <a:lnTo>
                  <a:pt x="4720" y="2224"/>
                </a:lnTo>
                <a:lnTo>
                  <a:pt x="4848" y="2224"/>
                </a:lnTo>
                <a:lnTo>
                  <a:pt x="4944" y="2336"/>
                </a:lnTo>
                <a:lnTo>
                  <a:pt x="5008" y="2408"/>
                </a:lnTo>
                <a:lnTo>
                  <a:pt x="5032" y="2472"/>
                </a:lnTo>
                <a:lnTo>
                  <a:pt x="5032" y="2608"/>
                </a:lnTo>
                <a:lnTo>
                  <a:pt x="5080" y="2656"/>
                </a:lnTo>
                <a:lnTo>
                  <a:pt x="5056" y="2680"/>
                </a:lnTo>
                <a:lnTo>
                  <a:pt x="5104" y="2744"/>
                </a:lnTo>
                <a:lnTo>
                  <a:pt x="5168" y="2792"/>
                </a:lnTo>
                <a:lnTo>
                  <a:pt x="5120" y="2840"/>
                </a:lnTo>
                <a:lnTo>
                  <a:pt x="5120" y="2904"/>
                </a:lnTo>
                <a:lnTo>
                  <a:pt x="5168" y="3000"/>
                </a:lnTo>
                <a:lnTo>
                  <a:pt x="5240" y="3064"/>
                </a:lnTo>
                <a:lnTo>
                  <a:pt x="5264" y="3112"/>
                </a:lnTo>
                <a:lnTo>
                  <a:pt x="5288" y="3136"/>
                </a:lnTo>
                <a:lnTo>
                  <a:pt x="5248" y="3256"/>
                </a:lnTo>
                <a:lnTo>
                  <a:pt x="5224" y="3352"/>
                </a:lnTo>
                <a:lnTo>
                  <a:pt x="5224" y="3400"/>
                </a:lnTo>
                <a:lnTo>
                  <a:pt x="5216" y="3424"/>
                </a:lnTo>
                <a:lnTo>
                  <a:pt x="5184" y="3456"/>
                </a:lnTo>
                <a:lnTo>
                  <a:pt x="5136" y="3480"/>
                </a:lnTo>
                <a:lnTo>
                  <a:pt x="5056" y="3520"/>
                </a:lnTo>
                <a:lnTo>
                  <a:pt x="5000" y="3592"/>
                </a:lnTo>
                <a:lnTo>
                  <a:pt x="4984" y="3624"/>
                </a:lnTo>
                <a:lnTo>
                  <a:pt x="4984" y="365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85240" y="6041880"/>
            <a:ext cx="520560" cy="736920"/>
          </a:xfrm>
          <a:custGeom>
            <a:avLst/>
            <a:gdLst/>
            <a:ahLst/>
            <a:rect l="l" t="t" r="r" b="b"/>
            <a:pathLst>
              <a:path w="328" h="464">
                <a:moveTo>
                  <a:pt x="328" y="0"/>
                </a:moveTo>
                <a:lnTo>
                  <a:pt x="256" y="48"/>
                </a:lnTo>
                <a:lnTo>
                  <a:pt x="240" y="64"/>
                </a:lnTo>
                <a:lnTo>
                  <a:pt x="216" y="96"/>
                </a:lnTo>
                <a:lnTo>
                  <a:pt x="184" y="144"/>
                </a:lnTo>
                <a:lnTo>
                  <a:pt x="184" y="192"/>
                </a:lnTo>
                <a:lnTo>
                  <a:pt x="184" y="240"/>
                </a:lnTo>
                <a:lnTo>
                  <a:pt x="152" y="280"/>
                </a:lnTo>
                <a:lnTo>
                  <a:pt x="120" y="320"/>
                </a:lnTo>
                <a:lnTo>
                  <a:pt x="64" y="368"/>
                </a:lnTo>
                <a:lnTo>
                  <a:pt x="24" y="416"/>
                </a:lnTo>
                <a:lnTo>
                  <a:pt x="0" y="464"/>
                </a:lnTo>
              </a:path>
            </a:pathLst>
          </a:custGeom>
          <a:noFill/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8084880" y="6778800"/>
            <a:ext cx="12600" cy="1440"/>
          </a:xfrm>
          <a:prstGeom prst="line">
            <a:avLst/>
          </a:prstGeom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48480" y="5038560"/>
            <a:ext cx="1854000" cy="1587600"/>
          </a:xfrm>
          <a:custGeom>
            <a:avLst/>
            <a:gdLst/>
            <a:ahLst/>
            <a:rect l="l" t="t" r="r" b="b"/>
            <a:pathLst>
              <a:path w="1168" h="1000">
                <a:moveTo>
                  <a:pt x="1168" y="0"/>
                </a:moveTo>
                <a:lnTo>
                  <a:pt x="1136" y="16"/>
                </a:lnTo>
                <a:lnTo>
                  <a:pt x="1112" y="32"/>
                </a:lnTo>
                <a:lnTo>
                  <a:pt x="1032" y="32"/>
                </a:lnTo>
                <a:lnTo>
                  <a:pt x="1016" y="16"/>
                </a:lnTo>
                <a:lnTo>
                  <a:pt x="1008" y="16"/>
                </a:lnTo>
                <a:lnTo>
                  <a:pt x="960" y="24"/>
                </a:lnTo>
                <a:lnTo>
                  <a:pt x="960" y="56"/>
                </a:lnTo>
                <a:lnTo>
                  <a:pt x="936" y="96"/>
                </a:lnTo>
                <a:lnTo>
                  <a:pt x="912" y="128"/>
                </a:lnTo>
                <a:lnTo>
                  <a:pt x="880" y="136"/>
                </a:lnTo>
                <a:lnTo>
                  <a:pt x="848" y="136"/>
                </a:lnTo>
                <a:lnTo>
                  <a:pt x="824" y="136"/>
                </a:lnTo>
                <a:lnTo>
                  <a:pt x="808" y="152"/>
                </a:lnTo>
                <a:lnTo>
                  <a:pt x="792" y="152"/>
                </a:lnTo>
                <a:lnTo>
                  <a:pt x="784" y="168"/>
                </a:lnTo>
                <a:lnTo>
                  <a:pt x="776" y="192"/>
                </a:lnTo>
                <a:lnTo>
                  <a:pt x="752" y="200"/>
                </a:lnTo>
                <a:lnTo>
                  <a:pt x="728" y="208"/>
                </a:lnTo>
                <a:lnTo>
                  <a:pt x="720" y="216"/>
                </a:lnTo>
                <a:lnTo>
                  <a:pt x="712" y="216"/>
                </a:lnTo>
                <a:lnTo>
                  <a:pt x="704" y="200"/>
                </a:lnTo>
                <a:lnTo>
                  <a:pt x="704" y="192"/>
                </a:lnTo>
                <a:lnTo>
                  <a:pt x="688" y="200"/>
                </a:lnTo>
                <a:lnTo>
                  <a:pt x="688" y="216"/>
                </a:lnTo>
                <a:lnTo>
                  <a:pt x="680" y="232"/>
                </a:lnTo>
                <a:lnTo>
                  <a:pt x="680" y="256"/>
                </a:lnTo>
                <a:lnTo>
                  <a:pt x="648" y="280"/>
                </a:lnTo>
                <a:lnTo>
                  <a:pt x="616" y="280"/>
                </a:lnTo>
                <a:lnTo>
                  <a:pt x="592" y="288"/>
                </a:lnTo>
                <a:lnTo>
                  <a:pt x="576" y="304"/>
                </a:lnTo>
                <a:lnTo>
                  <a:pt x="568" y="320"/>
                </a:lnTo>
                <a:lnTo>
                  <a:pt x="488" y="328"/>
                </a:lnTo>
                <a:lnTo>
                  <a:pt x="464" y="296"/>
                </a:lnTo>
                <a:lnTo>
                  <a:pt x="440" y="312"/>
                </a:lnTo>
                <a:lnTo>
                  <a:pt x="416" y="320"/>
                </a:lnTo>
                <a:lnTo>
                  <a:pt x="408" y="352"/>
                </a:lnTo>
                <a:lnTo>
                  <a:pt x="416" y="368"/>
                </a:lnTo>
                <a:lnTo>
                  <a:pt x="440" y="384"/>
                </a:lnTo>
                <a:lnTo>
                  <a:pt x="456" y="400"/>
                </a:lnTo>
                <a:lnTo>
                  <a:pt x="464" y="424"/>
                </a:lnTo>
                <a:lnTo>
                  <a:pt x="456" y="440"/>
                </a:lnTo>
                <a:lnTo>
                  <a:pt x="440" y="440"/>
                </a:lnTo>
                <a:lnTo>
                  <a:pt x="424" y="448"/>
                </a:lnTo>
                <a:lnTo>
                  <a:pt x="416" y="464"/>
                </a:lnTo>
                <a:lnTo>
                  <a:pt x="408" y="472"/>
                </a:lnTo>
                <a:lnTo>
                  <a:pt x="392" y="472"/>
                </a:lnTo>
                <a:lnTo>
                  <a:pt x="376" y="464"/>
                </a:lnTo>
                <a:lnTo>
                  <a:pt x="360" y="472"/>
                </a:lnTo>
                <a:lnTo>
                  <a:pt x="344" y="496"/>
                </a:lnTo>
                <a:lnTo>
                  <a:pt x="320" y="504"/>
                </a:lnTo>
                <a:lnTo>
                  <a:pt x="296" y="520"/>
                </a:lnTo>
                <a:lnTo>
                  <a:pt x="280" y="544"/>
                </a:lnTo>
                <a:lnTo>
                  <a:pt x="264" y="576"/>
                </a:lnTo>
                <a:lnTo>
                  <a:pt x="232" y="584"/>
                </a:lnTo>
                <a:lnTo>
                  <a:pt x="200" y="592"/>
                </a:lnTo>
                <a:lnTo>
                  <a:pt x="152" y="616"/>
                </a:lnTo>
                <a:lnTo>
                  <a:pt x="112" y="616"/>
                </a:lnTo>
                <a:lnTo>
                  <a:pt x="88" y="624"/>
                </a:lnTo>
                <a:lnTo>
                  <a:pt x="80" y="664"/>
                </a:lnTo>
                <a:lnTo>
                  <a:pt x="88" y="688"/>
                </a:lnTo>
                <a:lnTo>
                  <a:pt x="88" y="720"/>
                </a:lnTo>
                <a:lnTo>
                  <a:pt x="80" y="736"/>
                </a:lnTo>
                <a:lnTo>
                  <a:pt x="72" y="752"/>
                </a:lnTo>
                <a:lnTo>
                  <a:pt x="72" y="776"/>
                </a:lnTo>
                <a:lnTo>
                  <a:pt x="80" y="808"/>
                </a:lnTo>
                <a:lnTo>
                  <a:pt x="64" y="848"/>
                </a:lnTo>
                <a:lnTo>
                  <a:pt x="40" y="856"/>
                </a:lnTo>
                <a:lnTo>
                  <a:pt x="24" y="872"/>
                </a:lnTo>
                <a:lnTo>
                  <a:pt x="32" y="920"/>
                </a:lnTo>
                <a:lnTo>
                  <a:pt x="40" y="944"/>
                </a:lnTo>
                <a:lnTo>
                  <a:pt x="16" y="976"/>
                </a:lnTo>
                <a:lnTo>
                  <a:pt x="0" y="984"/>
                </a:lnTo>
                <a:lnTo>
                  <a:pt x="0" y="1000"/>
                </a:lnTo>
              </a:path>
            </a:pathLst>
          </a:custGeom>
          <a:noFill/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5748120" y="6625800"/>
            <a:ext cx="12600" cy="12600"/>
          </a:xfrm>
          <a:prstGeom prst="line">
            <a:avLst/>
          </a:prstGeom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087880" y="3349800"/>
            <a:ext cx="1816200" cy="2273040"/>
          </a:xfrm>
          <a:custGeom>
            <a:avLst/>
            <a:gdLst/>
            <a:ahLst/>
            <a:rect l="l" t="t" r="r" b="b"/>
            <a:pathLst>
              <a:path w="1144" h="1432">
                <a:moveTo>
                  <a:pt x="1144" y="0"/>
                </a:moveTo>
                <a:lnTo>
                  <a:pt x="1128" y="40"/>
                </a:lnTo>
                <a:lnTo>
                  <a:pt x="1096" y="48"/>
                </a:lnTo>
                <a:lnTo>
                  <a:pt x="1064" y="56"/>
                </a:lnTo>
                <a:lnTo>
                  <a:pt x="1048" y="64"/>
                </a:lnTo>
                <a:lnTo>
                  <a:pt x="1032" y="88"/>
                </a:lnTo>
                <a:lnTo>
                  <a:pt x="1024" y="120"/>
                </a:lnTo>
                <a:lnTo>
                  <a:pt x="1024" y="168"/>
                </a:lnTo>
                <a:lnTo>
                  <a:pt x="992" y="232"/>
                </a:lnTo>
                <a:lnTo>
                  <a:pt x="984" y="256"/>
                </a:lnTo>
                <a:lnTo>
                  <a:pt x="952" y="272"/>
                </a:lnTo>
                <a:lnTo>
                  <a:pt x="960" y="296"/>
                </a:lnTo>
                <a:lnTo>
                  <a:pt x="960" y="336"/>
                </a:lnTo>
                <a:lnTo>
                  <a:pt x="968" y="360"/>
                </a:lnTo>
                <a:lnTo>
                  <a:pt x="960" y="400"/>
                </a:lnTo>
                <a:lnTo>
                  <a:pt x="952" y="440"/>
                </a:lnTo>
                <a:lnTo>
                  <a:pt x="952" y="440"/>
                </a:lnTo>
                <a:lnTo>
                  <a:pt x="936" y="432"/>
                </a:lnTo>
                <a:lnTo>
                  <a:pt x="928" y="416"/>
                </a:lnTo>
                <a:lnTo>
                  <a:pt x="904" y="432"/>
                </a:lnTo>
                <a:lnTo>
                  <a:pt x="880" y="440"/>
                </a:lnTo>
                <a:lnTo>
                  <a:pt x="856" y="456"/>
                </a:lnTo>
                <a:lnTo>
                  <a:pt x="840" y="480"/>
                </a:lnTo>
                <a:lnTo>
                  <a:pt x="816" y="480"/>
                </a:lnTo>
                <a:lnTo>
                  <a:pt x="816" y="464"/>
                </a:lnTo>
                <a:lnTo>
                  <a:pt x="816" y="456"/>
                </a:lnTo>
                <a:lnTo>
                  <a:pt x="784" y="472"/>
                </a:lnTo>
                <a:lnTo>
                  <a:pt x="776" y="488"/>
                </a:lnTo>
                <a:lnTo>
                  <a:pt x="768" y="504"/>
                </a:lnTo>
                <a:lnTo>
                  <a:pt x="752" y="504"/>
                </a:lnTo>
                <a:lnTo>
                  <a:pt x="736" y="504"/>
                </a:lnTo>
                <a:lnTo>
                  <a:pt x="720" y="536"/>
                </a:lnTo>
                <a:lnTo>
                  <a:pt x="696" y="568"/>
                </a:lnTo>
                <a:lnTo>
                  <a:pt x="680" y="592"/>
                </a:lnTo>
                <a:lnTo>
                  <a:pt x="640" y="608"/>
                </a:lnTo>
                <a:lnTo>
                  <a:pt x="624" y="632"/>
                </a:lnTo>
                <a:lnTo>
                  <a:pt x="608" y="656"/>
                </a:lnTo>
                <a:lnTo>
                  <a:pt x="592" y="672"/>
                </a:lnTo>
                <a:lnTo>
                  <a:pt x="584" y="688"/>
                </a:lnTo>
                <a:lnTo>
                  <a:pt x="592" y="704"/>
                </a:lnTo>
                <a:lnTo>
                  <a:pt x="600" y="712"/>
                </a:lnTo>
                <a:lnTo>
                  <a:pt x="608" y="728"/>
                </a:lnTo>
                <a:lnTo>
                  <a:pt x="600" y="744"/>
                </a:lnTo>
                <a:lnTo>
                  <a:pt x="584" y="760"/>
                </a:lnTo>
                <a:lnTo>
                  <a:pt x="568" y="792"/>
                </a:lnTo>
                <a:lnTo>
                  <a:pt x="552" y="808"/>
                </a:lnTo>
                <a:lnTo>
                  <a:pt x="536" y="832"/>
                </a:lnTo>
                <a:lnTo>
                  <a:pt x="528" y="848"/>
                </a:lnTo>
                <a:lnTo>
                  <a:pt x="496" y="880"/>
                </a:lnTo>
                <a:lnTo>
                  <a:pt x="448" y="896"/>
                </a:lnTo>
                <a:lnTo>
                  <a:pt x="432" y="928"/>
                </a:lnTo>
                <a:lnTo>
                  <a:pt x="440" y="936"/>
                </a:lnTo>
                <a:lnTo>
                  <a:pt x="448" y="944"/>
                </a:lnTo>
                <a:lnTo>
                  <a:pt x="464" y="960"/>
                </a:lnTo>
                <a:lnTo>
                  <a:pt x="472" y="968"/>
                </a:lnTo>
                <a:lnTo>
                  <a:pt x="480" y="984"/>
                </a:lnTo>
                <a:lnTo>
                  <a:pt x="464" y="1016"/>
                </a:lnTo>
                <a:lnTo>
                  <a:pt x="448" y="1032"/>
                </a:lnTo>
                <a:lnTo>
                  <a:pt x="440" y="1056"/>
                </a:lnTo>
                <a:lnTo>
                  <a:pt x="440" y="1080"/>
                </a:lnTo>
                <a:lnTo>
                  <a:pt x="424" y="1096"/>
                </a:lnTo>
                <a:lnTo>
                  <a:pt x="416" y="1112"/>
                </a:lnTo>
                <a:lnTo>
                  <a:pt x="392" y="1128"/>
                </a:lnTo>
                <a:lnTo>
                  <a:pt x="384" y="1160"/>
                </a:lnTo>
                <a:lnTo>
                  <a:pt x="392" y="1168"/>
                </a:lnTo>
                <a:lnTo>
                  <a:pt x="400" y="1176"/>
                </a:lnTo>
                <a:lnTo>
                  <a:pt x="384" y="1192"/>
                </a:lnTo>
                <a:lnTo>
                  <a:pt x="368" y="1192"/>
                </a:lnTo>
                <a:lnTo>
                  <a:pt x="360" y="1192"/>
                </a:lnTo>
                <a:lnTo>
                  <a:pt x="320" y="1208"/>
                </a:lnTo>
                <a:lnTo>
                  <a:pt x="304" y="1208"/>
                </a:lnTo>
                <a:lnTo>
                  <a:pt x="288" y="1224"/>
                </a:lnTo>
                <a:lnTo>
                  <a:pt x="296" y="1232"/>
                </a:lnTo>
                <a:lnTo>
                  <a:pt x="296" y="1248"/>
                </a:lnTo>
                <a:lnTo>
                  <a:pt x="264" y="1256"/>
                </a:lnTo>
                <a:lnTo>
                  <a:pt x="240" y="1256"/>
                </a:lnTo>
                <a:lnTo>
                  <a:pt x="208" y="1288"/>
                </a:lnTo>
                <a:lnTo>
                  <a:pt x="192" y="1320"/>
                </a:lnTo>
                <a:lnTo>
                  <a:pt x="176" y="1336"/>
                </a:lnTo>
                <a:lnTo>
                  <a:pt x="152" y="1352"/>
                </a:lnTo>
                <a:lnTo>
                  <a:pt x="128" y="1384"/>
                </a:lnTo>
                <a:lnTo>
                  <a:pt x="120" y="1408"/>
                </a:lnTo>
                <a:lnTo>
                  <a:pt x="112" y="1424"/>
                </a:lnTo>
                <a:lnTo>
                  <a:pt x="56" y="1432"/>
                </a:lnTo>
                <a:lnTo>
                  <a:pt x="24" y="1416"/>
                </a:lnTo>
                <a:lnTo>
                  <a:pt x="0" y="1392"/>
                </a:lnTo>
              </a:path>
            </a:pathLst>
          </a:custGeom>
          <a:noFill/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087520" y="5559480"/>
            <a:ext cx="12600" cy="1440"/>
          </a:xfrm>
          <a:prstGeom prst="line">
            <a:avLst/>
          </a:prstGeom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44880" y="1533600"/>
            <a:ext cx="914400" cy="4788000"/>
          </a:xfrm>
          <a:custGeom>
            <a:avLst/>
            <a:gdLst/>
            <a:ahLst/>
            <a:rect l="l" t="t" r="r" b="b"/>
            <a:pathLst>
              <a:path w="576" h="3016">
                <a:moveTo>
                  <a:pt x="320" y="0"/>
                </a:moveTo>
                <a:lnTo>
                  <a:pt x="360" y="40"/>
                </a:lnTo>
                <a:lnTo>
                  <a:pt x="376" y="40"/>
                </a:lnTo>
                <a:lnTo>
                  <a:pt x="392" y="56"/>
                </a:lnTo>
                <a:lnTo>
                  <a:pt x="408" y="88"/>
                </a:lnTo>
                <a:lnTo>
                  <a:pt x="392" y="112"/>
                </a:lnTo>
                <a:lnTo>
                  <a:pt x="392" y="128"/>
                </a:lnTo>
                <a:lnTo>
                  <a:pt x="400" y="136"/>
                </a:lnTo>
                <a:lnTo>
                  <a:pt x="408" y="152"/>
                </a:lnTo>
                <a:lnTo>
                  <a:pt x="392" y="160"/>
                </a:lnTo>
                <a:lnTo>
                  <a:pt x="384" y="176"/>
                </a:lnTo>
                <a:lnTo>
                  <a:pt x="400" y="176"/>
                </a:lnTo>
                <a:lnTo>
                  <a:pt x="416" y="184"/>
                </a:lnTo>
                <a:lnTo>
                  <a:pt x="416" y="200"/>
                </a:lnTo>
                <a:lnTo>
                  <a:pt x="408" y="224"/>
                </a:lnTo>
                <a:lnTo>
                  <a:pt x="408" y="248"/>
                </a:lnTo>
                <a:lnTo>
                  <a:pt x="408" y="280"/>
                </a:lnTo>
                <a:lnTo>
                  <a:pt x="400" y="328"/>
                </a:lnTo>
                <a:lnTo>
                  <a:pt x="400" y="352"/>
                </a:lnTo>
                <a:lnTo>
                  <a:pt x="392" y="384"/>
                </a:lnTo>
                <a:lnTo>
                  <a:pt x="384" y="408"/>
                </a:lnTo>
                <a:lnTo>
                  <a:pt x="384" y="440"/>
                </a:lnTo>
                <a:lnTo>
                  <a:pt x="400" y="456"/>
                </a:lnTo>
                <a:lnTo>
                  <a:pt x="408" y="472"/>
                </a:lnTo>
                <a:lnTo>
                  <a:pt x="392" y="488"/>
                </a:lnTo>
                <a:lnTo>
                  <a:pt x="376" y="488"/>
                </a:lnTo>
                <a:lnTo>
                  <a:pt x="368" y="496"/>
                </a:lnTo>
                <a:lnTo>
                  <a:pt x="352" y="536"/>
                </a:lnTo>
                <a:lnTo>
                  <a:pt x="328" y="560"/>
                </a:lnTo>
                <a:lnTo>
                  <a:pt x="296" y="560"/>
                </a:lnTo>
                <a:lnTo>
                  <a:pt x="264" y="560"/>
                </a:lnTo>
                <a:lnTo>
                  <a:pt x="232" y="592"/>
                </a:lnTo>
                <a:lnTo>
                  <a:pt x="224" y="640"/>
                </a:lnTo>
                <a:lnTo>
                  <a:pt x="232" y="656"/>
                </a:lnTo>
                <a:lnTo>
                  <a:pt x="248" y="664"/>
                </a:lnTo>
                <a:lnTo>
                  <a:pt x="232" y="720"/>
                </a:lnTo>
                <a:lnTo>
                  <a:pt x="208" y="720"/>
                </a:lnTo>
                <a:lnTo>
                  <a:pt x="192" y="736"/>
                </a:lnTo>
                <a:lnTo>
                  <a:pt x="200" y="752"/>
                </a:lnTo>
                <a:lnTo>
                  <a:pt x="224" y="760"/>
                </a:lnTo>
                <a:lnTo>
                  <a:pt x="248" y="792"/>
                </a:lnTo>
                <a:lnTo>
                  <a:pt x="248" y="808"/>
                </a:lnTo>
                <a:lnTo>
                  <a:pt x="248" y="824"/>
                </a:lnTo>
                <a:lnTo>
                  <a:pt x="264" y="848"/>
                </a:lnTo>
                <a:lnTo>
                  <a:pt x="280" y="864"/>
                </a:lnTo>
                <a:lnTo>
                  <a:pt x="288" y="912"/>
                </a:lnTo>
                <a:lnTo>
                  <a:pt x="264" y="928"/>
                </a:lnTo>
                <a:lnTo>
                  <a:pt x="256" y="944"/>
                </a:lnTo>
                <a:lnTo>
                  <a:pt x="264" y="960"/>
                </a:lnTo>
                <a:lnTo>
                  <a:pt x="280" y="968"/>
                </a:lnTo>
                <a:lnTo>
                  <a:pt x="288" y="992"/>
                </a:lnTo>
                <a:lnTo>
                  <a:pt x="256" y="1000"/>
                </a:lnTo>
                <a:lnTo>
                  <a:pt x="240" y="1000"/>
                </a:lnTo>
                <a:lnTo>
                  <a:pt x="232" y="1016"/>
                </a:lnTo>
                <a:lnTo>
                  <a:pt x="264" y="1024"/>
                </a:lnTo>
                <a:lnTo>
                  <a:pt x="288" y="1032"/>
                </a:lnTo>
                <a:lnTo>
                  <a:pt x="312" y="1048"/>
                </a:lnTo>
                <a:lnTo>
                  <a:pt x="336" y="1096"/>
                </a:lnTo>
                <a:lnTo>
                  <a:pt x="336" y="1104"/>
                </a:lnTo>
                <a:lnTo>
                  <a:pt x="344" y="1136"/>
                </a:lnTo>
                <a:lnTo>
                  <a:pt x="376" y="1152"/>
                </a:lnTo>
                <a:lnTo>
                  <a:pt x="392" y="1136"/>
                </a:lnTo>
                <a:lnTo>
                  <a:pt x="416" y="1136"/>
                </a:lnTo>
                <a:lnTo>
                  <a:pt x="424" y="1144"/>
                </a:lnTo>
                <a:lnTo>
                  <a:pt x="424" y="1168"/>
                </a:lnTo>
                <a:lnTo>
                  <a:pt x="440" y="1184"/>
                </a:lnTo>
                <a:lnTo>
                  <a:pt x="448" y="1192"/>
                </a:lnTo>
                <a:lnTo>
                  <a:pt x="456" y="1208"/>
                </a:lnTo>
                <a:lnTo>
                  <a:pt x="464" y="1248"/>
                </a:lnTo>
                <a:lnTo>
                  <a:pt x="472" y="1288"/>
                </a:lnTo>
                <a:lnTo>
                  <a:pt x="464" y="1312"/>
                </a:lnTo>
                <a:lnTo>
                  <a:pt x="448" y="1320"/>
                </a:lnTo>
                <a:lnTo>
                  <a:pt x="432" y="1320"/>
                </a:lnTo>
                <a:lnTo>
                  <a:pt x="416" y="1320"/>
                </a:lnTo>
                <a:lnTo>
                  <a:pt x="384" y="1328"/>
                </a:lnTo>
                <a:lnTo>
                  <a:pt x="368" y="1336"/>
                </a:lnTo>
                <a:lnTo>
                  <a:pt x="360" y="1352"/>
                </a:lnTo>
                <a:lnTo>
                  <a:pt x="360" y="1392"/>
                </a:lnTo>
                <a:lnTo>
                  <a:pt x="360" y="1416"/>
                </a:lnTo>
                <a:lnTo>
                  <a:pt x="376" y="1440"/>
                </a:lnTo>
                <a:lnTo>
                  <a:pt x="400" y="1456"/>
                </a:lnTo>
                <a:lnTo>
                  <a:pt x="408" y="1488"/>
                </a:lnTo>
                <a:lnTo>
                  <a:pt x="416" y="1520"/>
                </a:lnTo>
                <a:lnTo>
                  <a:pt x="432" y="1528"/>
                </a:lnTo>
                <a:lnTo>
                  <a:pt x="448" y="1536"/>
                </a:lnTo>
                <a:lnTo>
                  <a:pt x="456" y="1584"/>
                </a:lnTo>
                <a:lnTo>
                  <a:pt x="464" y="1616"/>
                </a:lnTo>
                <a:lnTo>
                  <a:pt x="480" y="1640"/>
                </a:lnTo>
                <a:lnTo>
                  <a:pt x="496" y="1648"/>
                </a:lnTo>
                <a:lnTo>
                  <a:pt x="504" y="1656"/>
                </a:lnTo>
                <a:lnTo>
                  <a:pt x="520" y="1672"/>
                </a:lnTo>
                <a:lnTo>
                  <a:pt x="520" y="1688"/>
                </a:lnTo>
                <a:lnTo>
                  <a:pt x="520" y="1720"/>
                </a:lnTo>
                <a:lnTo>
                  <a:pt x="520" y="1752"/>
                </a:lnTo>
                <a:lnTo>
                  <a:pt x="528" y="1792"/>
                </a:lnTo>
                <a:lnTo>
                  <a:pt x="536" y="1832"/>
                </a:lnTo>
                <a:lnTo>
                  <a:pt x="552" y="1872"/>
                </a:lnTo>
                <a:lnTo>
                  <a:pt x="568" y="1888"/>
                </a:lnTo>
                <a:lnTo>
                  <a:pt x="576" y="1904"/>
                </a:lnTo>
                <a:lnTo>
                  <a:pt x="560" y="1928"/>
                </a:lnTo>
                <a:lnTo>
                  <a:pt x="536" y="1960"/>
                </a:lnTo>
                <a:lnTo>
                  <a:pt x="528" y="2016"/>
                </a:lnTo>
                <a:lnTo>
                  <a:pt x="552" y="2032"/>
                </a:lnTo>
                <a:lnTo>
                  <a:pt x="536" y="2048"/>
                </a:lnTo>
                <a:lnTo>
                  <a:pt x="528" y="2064"/>
                </a:lnTo>
                <a:lnTo>
                  <a:pt x="544" y="2096"/>
                </a:lnTo>
                <a:lnTo>
                  <a:pt x="560" y="2128"/>
                </a:lnTo>
                <a:lnTo>
                  <a:pt x="544" y="2144"/>
                </a:lnTo>
                <a:lnTo>
                  <a:pt x="536" y="2160"/>
                </a:lnTo>
                <a:lnTo>
                  <a:pt x="544" y="2176"/>
                </a:lnTo>
                <a:lnTo>
                  <a:pt x="552" y="2200"/>
                </a:lnTo>
                <a:lnTo>
                  <a:pt x="544" y="2224"/>
                </a:lnTo>
                <a:lnTo>
                  <a:pt x="528" y="2248"/>
                </a:lnTo>
                <a:lnTo>
                  <a:pt x="496" y="2248"/>
                </a:lnTo>
                <a:lnTo>
                  <a:pt x="480" y="2264"/>
                </a:lnTo>
                <a:lnTo>
                  <a:pt x="472" y="2288"/>
                </a:lnTo>
                <a:lnTo>
                  <a:pt x="472" y="2320"/>
                </a:lnTo>
                <a:lnTo>
                  <a:pt x="480" y="2360"/>
                </a:lnTo>
                <a:lnTo>
                  <a:pt x="472" y="2392"/>
                </a:lnTo>
                <a:lnTo>
                  <a:pt x="456" y="2400"/>
                </a:lnTo>
                <a:lnTo>
                  <a:pt x="424" y="2408"/>
                </a:lnTo>
                <a:lnTo>
                  <a:pt x="400" y="2424"/>
                </a:lnTo>
                <a:lnTo>
                  <a:pt x="384" y="2440"/>
                </a:lnTo>
                <a:lnTo>
                  <a:pt x="376" y="2464"/>
                </a:lnTo>
                <a:lnTo>
                  <a:pt x="344" y="2504"/>
                </a:lnTo>
                <a:lnTo>
                  <a:pt x="328" y="2536"/>
                </a:lnTo>
                <a:lnTo>
                  <a:pt x="304" y="2560"/>
                </a:lnTo>
                <a:lnTo>
                  <a:pt x="288" y="2568"/>
                </a:lnTo>
                <a:lnTo>
                  <a:pt x="280" y="2584"/>
                </a:lnTo>
                <a:lnTo>
                  <a:pt x="264" y="2592"/>
                </a:lnTo>
                <a:lnTo>
                  <a:pt x="256" y="2608"/>
                </a:lnTo>
                <a:lnTo>
                  <a:pt x="240" y="2640"/>
                </a:lnTo>
                <a:lnTo>
                  <a:pt x="232" y="2664"/>
                </a:lnTo>
                <a:lnTo>
                  <a:pt x="224" y="2688"/>
                </a:lnTo>
                <a:lnTo>
                  <a:pt x="192" y="2712"/>
                </a:lnTo>
                <a:lnTo>
                  <a:pt x="176" y="2720"/>
                </a:lnTo>
                <a:lnTo>
                  <a:pt x="168" y="2736"/>
                </a:lnTo>
                <a:lnTo>
                  <a:pt x="168" y="2760"/>
                </a:lnTo>
                <a:lnTo>
                  <a:pt x="144" y="2784"/>
                </a:lnTo>
                <a:lnTo>
                  <a:pt x="128" y="2808"/>
                </a:lnTo>
                <a:lnTo>
                  <a:pt x="104" y="2856"/>
                </a:lnTo>
                <a:lnTo>
                  <a:pt x="104" y="2864"/>
                </a:lnTo>
                <a:lnTo>
                  <a:pt x="112" y="2880"/>
                </a:lnTo>
                <a:lnTo>
                  <a:pt x="88" y="2904"/>
                </a:lnTo>
                <a:lnTo>
                  <a:pt x="80" y="2936"/>
                </a:lnTo>
                <a:lnTo>
                  <a:pt x="88" y="2944"/>
                </a:lnTo>
                <a:lnTo>
                  <a:pt x="64" y="2968"/>
                </a:lnTo>
                <a:lnTo>
                  <a:pt x="32" y="2976"/>
                </a:lnTo>
                <a:lnTo>
                  <a:pt x="8" y="2992"/>
                </a:lnTo>
                <a:lnTo>
                  <a:pt x="0" y="3000"/>
                </a:lnTo>
                <a:lnTo>
                  <a:pt x="0" y="3016"/>
                </a:lnTo>
              </a:path>
            </a:pathLst>
          </a:custGeom>
          <a:noFill/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944520" y="6321600"/>
            <a:ext cx="12600" cy="25200"/>
          </a:xfrm>
          <a:prstGeom prst="line">
            <a:avLst/>
          </a:prstGeom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82560" y="568440"/>
            <a:ext cx="1816200" cy="4064040"/>
          </a:xfrm>
          <a:custGeom>
            <a:avLst/>
            <a:gdLst/>
            <a:ahLst/>
            <a:rect l="l" t="t" r="r" b="b"/>
            <a:pathLst>
              <a:path w="1144" h="2560">
                <a:moveTo>
                  <a:pt x="0" y="0"/>
                </a:moveTo>
                <a:lnTo>
                  <a:pt x="72" y="0"/>
                </a:lnTo>
                <a:lnTo>
                  <a:pt x="136" y="24"/>
                </a:lnTo>
                <a:lnTo>
                  <a:pt x="200" y="56"/>
                </a:lnTo>
                <a:lnTo>
                  <a:pt x="224" y="72"/>
                </a:lnTo>
                <a:lnTo>
                  <a:pt x="232" y="80"/>
                </a:lnTo>
                <a:lnTo>
                  <a:pt x="248" y="96"/>
                </a:lnTo>
                <a:lnTo>
                  <a:pt x="256" y="120"/>
                </a:lnTo>
                <a:lnTo>
                  <a:pt x="264" y="152"/>
                </a:lnTo>
                <a:lnTo>
                  <a:pt x="256" y="192"/>
                </a:lnTo>
                <a:lnTo>
                  <a:pt x="280" y="208"/>
                </a:lnTo>
                <a:lnTo>
                  <a:pt x="264" y="224"/>
                </a:lnTo>
                <a:lnTo>
                  <a:pt x="264" y="248"/>
                </a:lnTo>
                <a:lnTo>
                  <a:pt x="272" y="256"/>
                </a:lnTo>
                <a:lnTo>
                  <a:pt x="288" y="248"/>
                </a:lnTo>
                <a:lnTo>
                  <a:pt x="296" y="224"/>
                </a:lnTo>
                <a:lnTo>
                  <a:pt x="304" y="216"/>
                </a:lnTo>
                <a:lnTo>
                  <a:pt x="312" y="224"/>
                </a:lnTo>
                <a:lnTo>
                  <a:pt x="328" y="240"/>
                </a:lnTo>
                <a:lnTo>
                  <a:pt x="344" y="240"/>
                </a:lnTo>
                <a:lnTo>
                  <a:pt x="368" y="256"/>
                </a:lnTo>
                <a:lnTo>
                  <a:pt x="368" y="280"/>
                </a:lnTo>
                <a:lnTo>
                  <a:pt x="368" y="304"/>
                </a:lnTo>
                <a:lnTo>
                  <a:pt x="384" y="320"/>
                </a:lnTo>
                <a:lnTo>
                  <a:pt x="392" y="328"/>
                </a:lnTo>
                <a:lnTo>
                  <a:pt x="408" y="344"/>
                </a:lnTo>
                <a:lnTo>
                  <a:pt x="400" y="368"/>
                </a:lnTo>
                <a:lnTo>
                  <a:pt x="400" y="392"/>
                </a:lnTo>
                <a:lnTo>
                  <a:pt x="416" y="416"/>
                </a:lnTo>
                <a:lnTo>
                  <a:pt x="456" y="432"/>
                </a:lnTo>
                <a:lnTo>
                  <a:pt x="480" y="432"/>
                </a:lnTo>
                <a:lnTo>
                  <a:pt x="488" y="448"/>
                </a:lnTo>
                <a:lnTo>
                  <a:pt x="480" y="456"/>
                </a:lnTo>
                <a:lnTo>
                  <a:pt x="464" y="472"/>
                </a:lnTo>
                <a:lnTo>
                  <a:pt x="480" y="496"/>
                </a:lnTo>
                <a:lnTo>
                  <a:pt x="496" y="520"/>
                </a:lnTo>
                <a:lnTo>
                  <a:pt x="472" y="528"/>
                </a:lnTo>
                <a:lnTo>
                  <a:pt x="456" y="536"/>
                </a:lnTo>
                <a:lnTo>
                  <a:pt x="440" y="576"/>
                </a:lnTo>
                <a:lnTo>
                  <a:pt x="432" y="592"/>
                </a:lnTo>
                <a:lnTo>
                  <a:pt x="448" y="616"/>
                </a:lnTo>
                <a:lnTo>
                  <a:pt x="464" y="640"/>
                </a:lnTo>
                <a:lnTo>
                  <a:pt x="472" y="656"/>
                </a:lnTo>
                <a:lnTo>
                  <a:pt x="480" y="680"/>
                </a:lnTo>
                <a:lnTo>
                  <a:pt x="472" y="696"/>
                </a:lnTo>
                <a:lnTo>
                  <a:pt x="456" y="712"/>
                </a:lnTo>
                <a:lnTo>
                  <a:pt x="440" y="752"/>
                </a:lnTo>
                <a:lnTo>
                  <a:pt x="456" y="776"/>
                </a:lnTo>
                <a:lnTo>
                  <a:pt x="472" y="792"/>
                </a:lnTo>
                <a:lnTo>
                  <a:pt x="472" y="816"/>
                </a:lnTo>
                <a:lnTo>
                  <a:pt x="488" y="856"/>
                </a:lnTo>
                <a:lnTo>
                  <a:pt x="536" y="880"/>
                </a:lnTo>
                <a:lnTo>
                  <a:pt x="544" y="872"/>
                </a:lnTo>
                <a:lnTo>
                  <a:pt x="576" y="872"/>
                </a:lnTo>
                <a:lnTo>
                  <a:pt x="592" y="888"/>
                </a:lnTo>
                <a:lnTo>
                  <a:pt x="592" y="896"/>
                </a:lnTo>
                <a:lnTo>
                  <a:pt x="576" y="904"/>
                </a:lnTo>
                <a:lnTo>
                  <a:pt x="568" y="920"/>
                </a:lnTo>
                <a:lnTo>
                  <a:pt x="552" y="944"/>
                </a:lnTo>
                <a:lnTo>
                  <a:pt x="544" y="968"/>
                </a:lnTo>
                <a:lnTo>
                  <a:pt x="536" y="1000"/>
                </a:lnTo>
                <a:lnTo>
                  <a:pt x="512" y="1016"/>
                </a:lnTo>
                <a:lnTo>
                  <a:pt x="504" y="1008"/>
                </a:lnTo>
                <a:lnTo>
                  <a:pt x="496" y="1008"/>
                </a:lnTo>
                <a:lnTo>
                  <a:pt x="480" y="1008"/>
                </a:lnTo>
                <a:lnTo>
                  <a:pt x="480" y="1032"/>
                </a:lnTo>
                <a:lnTo>
                  <a:pt x="488" y="1040"/>
                </a:lnTo>
                <a:lnTo>
                  <a:pt x="504" y="1056"/>
                </a:lnTo>
                <a:lnTo>
                  <a:pt x="504" y="1056"/>
                </a:lnTo>
                <a:lnTo>
                  <a:pt x="504" y="1072"/>
                </a:lnTo>
                <a:lnTo>
                  <a:pt x="488" y="1064"/>
                </a:lnTo>
                <a:lnTo>
                  <a:pt x="480" y="1056"/>
                </a:lnTo>
                <a:lnTo>
                  <a:pt x="472" y="1064"/>
                </a:lnTo>
                <a:lnTo>
                  <a:pt x="464" y="1080"/>
                </a:lnTo>
                <a:lnTo>
                  <a:pt x="464" y="1096"/>
                </a:lnTo>
                <a:lnTo>
                  <a:pt x="464" y="1112"/>
                </a:lnTo>
                <a:lnTo>
                  <a:pt x="440" y="1136"/>
                </a:lnTo>
                <a:lnTo>
                  <a:pt x="392" y="1152"/>
                </a:lnTo>
                <a:lnTo>
                  <a:pt x="368" y="1144"/>
                </a:lnTo>
                <a:lnTo>
                  <a:pt x="352" y="1152"/>
                </a:lnTo>
                <a:lnTo>
                  <a:pt x="336" y="1176"/>
                </a:lnTo>
                <a:lnTo>
                  <a:pt x="320" y="1176"/>
                </a:lnTo>
                <a:lnTo>
                  <a:pt x="304" y="1184"/>
                </a:lnTo>
                <a:lnTo>
                  <a:pt x="288" y="1192"/>
                </a:lnTo>
                <a:lnTo>
                  <a:pt x="272" y="1208"/>
                </a:lnTo>
                <a:lnTo>
                  <a:pt x="256" y="1208"/>
                </a:lnTo>
                <a:lnTo>
                  <a:pt x="248" y="1216"/>
                </a:lnTo>
                <a:lnTo>
                  <a:pt x="264" y="1248"/>
                </a:lnTo>
                <a:lnTo>
                  <a:pt x="280" y="1240"/>
                </a:lnTo>
                <a:lnTo>
                  <a:pt x="296" y="1240"/>
                </a:lnTo>
                <a:lnTo>
                  <a:pt x="296" y="1256"/>
                </a:lnTo>
                <a:lnTo>
                  <a:pt x="288" y="1264"/>
                </a:lnTo>
                <a:lnTo>
                  <a:pt x="264" y="1264"/>
                </a:lnTo>
                <a:lnTo>
                  <a:pt x="256" y="1264"/>
                </a:lnTo>
                <a:lnTo>
                  <a:pt x="240" y="1296"/>
                </a:lnTo>
                <a:lnTo>
                  <a:pt x="248" y="1304"/>
                </a:lnTo>
                <a:lnTo>
                  <a:pt x="256" y="1312"/>
                </a:lnTo>
                <a:lnTo>
                  <a:pt x="248" y="1320"/>
                </a:lnTo>
                <a:lnTo>
                  <a:pt x="224" y="1328"/>
                </a:lnTo>
                <a:lnTo>
                  <a:pt x="216" y="1320"/>
                </a:lnTo>
                <a:lnTo>
                  <a:pt x="208" y="1312"/>
                </a:lnTo>
                <a:lnTo>
                  <a:pt x="176" y="1336"/>
                </a:lnTo>
                <a:lnTo>
                  <a:pt x="176" y="1376"/>
                </a:lnTo>
                <a:lnTo>
                  <a:pt x="192" y="1400"/>
                </a:lnTo>
                <a:lnTo>
                  <a:pt x="208" y="1400"/>
                </a:lnTo>
                <a:lnTo>
                  <a:pt x="224" y="1408"/>
                </a:lnTo>
                <a:lnTo>
                  <a:pt x="248" y="1424"/>
                </a:lnTo>
                <a:lnTo>
                  <a:pt x="256" y="1456"/>
                </a:lnTo>
                <a:lnTo>
                  <a:pt x="232" y="1472"/>
                </a:lnTo>
                <a:lnTo>
                  <a:pt x="208" y="1480"/>
                </a:lnTo>
                <a:lnTo>
                  <a:pt x="216" y="1496"/>
                </a:lnTo>
                <a:lnTo>
                  <a:pt x="240" y="1504"/>
                </a:lnTo>
                <a:lnTo>
                  <a:pt x="256" y="1504"/>
                </a:lnTo>
                <a:lnTo>
                  <a:pt x="264" y="1520"/>
                </a:lnTo>
                <a:lnTo>
                  <a:pt x="256" y="1528"/>
                </a:lnTo>
                <a:lnTo>
                  <a:pt x="248" y="1536"/>
                </a:lnTo>
                <a:lnTo>
                  <a:pt x="216" y="1560"/>
                </a:lnTo>
                <a:lnTo>
                  <a:pt x="216" y="1584"/>
                </a:lnTo>
                <a:lnTo>
                  <a:pt x="224" y="1584"/>
                </a:lnTo>
                <a:lnTo>
                  <a:pt x="240" y="1584"/>
                </a:lnTo>
                <a:lnTo>
                  <a:pt x="240" y="1592"/>
                </a:lnTo>
                <a:lnTo>
                  <a:pt x="232" y="1616"/>
                </a:lnTo>
                <a:lnTo>
                  <a:pt x="256" y="1624"/>
                </a:lnTo>
                <a:lnTo>
                  <a:pt x="288" y="1640"/>
                </a:lnTo>
                <a:lnTo>
                  <a:pt x="312" y="1648"/>
                </a:lnTo>
                <a:lnTo>
                  <a:pt x="336" y="1664"/>
                </a:lnTo>
                <a:lnTo>
                  <a:pt x="336" y="1680"/>
                </a:lnTo>
                <a:lnTo>
                  <a:pt x="336" y="1696"/>
                </a:lnTo>
                <a:lnTo>
                  <a:pt x="320" y="1712"/>
                </a:lnTo>
                <a:lnTo>
                  <a:pt x="320" y="1728"/>
                </a:lnTo>
                <a:lnTo>
                  <a:pt x="336" y="1752"/>
                </a:lnTo>
                <a:lnTo>
                  <a:pt x="352" y="1752"/>
                </a:lnTo>
                <a:lnTo>
                  <a:pt x="376" y="1760"/>
                </a:lnTo>
                <a:lnTo>
                  <a:pt x="376" y="1776"/>
                </a:lnTo>
                <a:lnTo>
                  <a:pt x="376" y="1792"/>
                </a:lnTo>
                <a:lnTo>
                  <a:pt x="400" y="1792"/>
                </a:lnTo>
                <a:lnTo>
                  <a:pt x="408" y="1808"/>
                </a:lnTo>
                <a:lnTo>
                  <a:pt x="400" y="1840"/>
                </a:lnTo>
                <a:lnTo>
                  <a:pt x="384" y="1840"/>
                </a:lnTo>
                <a:lnTo>
                  <a:pt x="376" y="1856"/>
                </a:lnTo>
                <a:lnTo>
                  <a:pt x="392" y="1864"/>
                </a:lnTo>
                <a:lnTo>
                  <a:pt x="432" y="1864"/>
                </a:lnTo>
                <a:lnTo>
                  <a:pt x="456" y="1872"/>
                </a:lnTo>
                <a:lnTo>
                  <a:pt x="480" y="1920"/>
                </a:lnTo>
                <a:lnTo>
                  <a:pt x="480" y="1936"/>
                </a:lnTo>
                <a:lnTo>
                  <a:pt x="480" y="1960"/>
                </a:lnTo>
                <a:lnTo>
                  <a:pt x="456" y="1960"/>
                </a:lnTo>
                <a:lnTo>
                  <a:pt x="440" y="1968"/>
                </a:lnTo>
                <a:lnTo>
                  <a:pt x="448" y="1976"/>
                </a:lnTo>
                <a:lnTo>
                  <a:pt x="464" y="1992"/>
                </a:lnTo>
                <a:lnTo>
                  <a:pt x="480" y="1992"/>
                </a:lnTo>
                <a:lnTo>
                  <a:pt x="504" y="1992"/>
                </a:lnTo>
                <a:lnTo>
                  <a:pt x="512" y="2008"/>
                </a:lnTo>
                <a:lnTo>
                  <a:pt x="528" y="2040"/>
                </a:lnTo>
                <a:lnTo>
                  <a:pt x="568" y="2072"/>
                </a:lnTo>
                <a:lnTo>
                  <a:pt x="608" y="2104"/>
                </a:lnTo>
                <a:lnTo>
                  <a:pt x="600" y="2128"/>
                </a:lnTo>
                <a:lnTo>
                  <a:pt x="576" y="2144"/>
                </a:lnTo>
                <a:lnTo>
                  <a:pt x="576" y="2152"/>
                </a:lnTo>
                <a:lnTo>
                  <a:pt x="576" y="2176"/>
                </a:lnTo>
                <a:lnTo>
                  <a:pt x="608" y="2208"/>
                </a:lnTo>
                <a:lnTo>
                  <a:pt x="616" y="2208"/>
                </a:lnTo>
                <a:lnTo>
                  <a:pt x="640" y="2240"/>
                </a:lnTo>
                <a:lnTo>
                  <a:pt x="640" y="2256"/>
                </a:lnTo>
                <a:lnTo>
                  <a:pt x="632" y="2280"/>
                </a:lnTo>
                <a:lnTo>
                  <a:pt x="648" y="2312"/>
                </a:lnTo>
                <a:lnTo>
                  <a:pt x="672" y="2336"/>
                </a:lnTo>
                <a:lnTo>
                  <a:pt x="696" y="2336"/>
                </a:lnTo>
                <a:lnTo>
                  <a:pt x="728" y="2352"/>
                </a:lnTo>
                <a:lnTo>
                  <a:pt x="736" y="2376"/>
                </a:lnTo>
                <a:lnTo>
                  <a:pt x="760" y="2400"/>
                </a:lnTo>
                <a:lnTo>
                  <a:pt x="848" y="2416"/>
                </a:lnTo>
                <a:lnTo>
                  <a:pt x="936" y="2432"/>
                </a:lnTo>
                <a:lnTo>
                  <a:pt x="976" y="2448"/>
                </a:lnTo>
                <a:lnTo>
                  <a:pt x="1000" y="2456"/>
                </a:lnTo>
                <a:lnTo>
                  <a:pt x="1072" y="2464"/>
                </a:lnTo>
                <a:lnTo>
                  <a:pt x="1088" y="2480"/>
                </a:lnTo>
                <a:lnTo>
                  <a:pt x="1096" y="2496"/>
                </a:lnTo>
                <a:lnTo>
                  <a:pt x="1112" y="2504"/>
                </a:lnTo>
                <a:lnTo>
                  <a:pt x="1136" y="2520"/>
                </a:lnTo>
                <a:lnTo>
                  <a:pt x="1128" y="2544"/>
                </a:lnTo>
                <a:lnTo>
                  <a:pt x="1128" y="2552"/>
                </a:lnTo>
                <a:lnTo>
                  <a:pt x="1144" y="2560"/>
                </a:lnTo>
              </a:path>
            </a:pathLst>
          </a:custGeom>
          <a:noFill/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480" y="2028960"/>
            <a:ext cx="431640" cy="571320"/>
          </a:xfrm>
          <a:custGeom>
            <a:avLst/>
            <a:gdLst/>
            <a:ahLst/>
            <a:rect l="l" t="t" r="r" b="b"/>
            <a:pathLst>
              <a:path w="272" h="360">
                <a:moveTo>
                  <a:pt x="272" y="0"/>
                </a:moveTo>
                <a:lnTo>
                  <a:pt x="232" y="24"/>
                </a:lnTo>
                <a:lnTo>
                  <a:pt x="192" y="64"/>
                </a:lnTo>
                <a:lnTo>
                  <a:pt x="168" y="112"/>
                </a:lnTo>
                <a:lnTo>
                  <a:pt x="152" y="136"/>
                </a:lnTo>
                <a:lnTo>
                  <a:pt x="136" y="160"/>
                </a:lnTo>
                <a:lnTo>
                  <a:pt x="96" y="224"/>
                </a:lnTo>
                <a:lnTo>
                  <a:pt x="64" y="248"/>
                </a:lnTo>
                <a:lnTo>
                  <a:pt x="32" y="280"/>
                </a:lnTo>
                <a:lnTo>
                  <a:pt x="0" y="320"/>
                </a:lnTo>
                <a:lnTo>
                  <a:pt x="0" y="336"/>
                </a:lnTo>
                <a:lnTo>
                  <a:pt x="8" y="360"/>
                </a:lnTo>
              </a:path>
            </a:pathLst>
          </a:custGeom>
          <a:noFill/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5720" y="2600280"/>
            <a:ext cx="12600" cy="1800"/>
          </a:xfrm>
          <a:prstGeom prst="line">
            <a:avLst/>
          </a:prstGeom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3600000">
            <a:off x="1981080" y="2999880"/>
            <a:ext cx="71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Brush Script MT"/>
              </a:rPr>
              <a:t>La M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9320000">
            <a:off x="-41040" y="1766160"/>
            <a:ext cx="83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Brush Script MT"/>
              </a:rPr>
              <a:t>Le Maro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8420000">
            <a:off x="3806280" y="5194440"/>
            <a:ext cx="1134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Brush Script MT"/>
              </a:rPr>
              <a:t>Le Sinna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9500000">
            <a:off x="5793480" y="5802120"/>
            <a:ext cx="116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Brush Script MT"/>
              </a:rPr>
              <a:t>L’Approua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8000000">
            <a:off x="8124120" y="6231960"/>
            <a:ext cx="8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Brush Script MT"/>
              </a:rPr>
              <a:t>L’Oyap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9620000">
            <a:off x="4836240" y="5589360"/>
            <a:ext cx="79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Brush Script MT"/>
              </a:rPr>
              <a:t>La Com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52480" y="1189080"/>
            <a:ext cx="54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racoub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28360" y="1521000"/>
            <a:ext cx="66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na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62640" y="530280"/>
            <a:ext cx="34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29080" y="2219400"/>
            <a:ext cx="482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29080" y="2181240"/>
            <a:ext cx="46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our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30680" y="2865600"/>
            <a:ext cx="72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YE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81920" y="5025960"/>
            <a:ext cx="4442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82640" y="4987800"/>
            <a:ext cx="43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ég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5440" y="1143000"/>
            <a:ext cx="660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 Laurent du Mar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75600" y="326880"/>
            <a:ext cx="1047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wala-Yalima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2920" y="1400040"/>
            <a:ext cx="114480" cy="114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93960" y="752400"/>
            <a:ext cx="75960" cy="7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24160" y="511200"/>
            <a:ext cx="75960" cy="7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26000" y="2378160"/>
            <a:ext cx="114480" cy="11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46440" y="1400040"/>
            <a:ext cx="76320" cy="7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86400" y="1730520"/>
            <a:ext cx="7596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605640" y="3114720"/>
            <a:ext cx="114120" cy="11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151760" y="5197320"/>
            <a:ext cx="75960" cy="7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990720" y="3733920"/>
            <a:ext cx="435960" cy="761760"/>
            <a:chOff x="990720" y="3733920"/>
            <a:chExt cx="435960" cy="761760"/>
          </a:xfrm>
        </p:grpSpPr>
        <p:grpSp>
          <p:nvGrpSpPr>
            <p:cNvPr id="148" name=""/>
            <p:cNvGrpSpPr/>
            <p:nvPr/>
          </p:nvGrpSpPr>
          <p:grpSpPr>
            <a:xfrm>
              <a:off x="990720" y="3733920"/>
              <a:ext cx="126720" cy="761760"/>
              <a:chOff x="990720" y="3733920"/>
              <a:chExt cx="126720" cy="761760"/>
            </a:xfrm>
          </p:grpSpPr>
          <p:sp>
            <p:nvSpPr>
              <p:cNvPr id="149" name=""/>
              <p:cNvSpPr/>
              <p:nvPr/>
            </p:nvSpPr>
            <p:spPr>
              <a:xfrm>
                <a:off x="990720" y="3733920"/>
                <a:ext cx="126720" cy="164880"/>
              </a:xfrm>
              <a:custGeom>
                <a:avLst/>
                <a:gdLst/>
                <a:ahLst/>
                <a:rect l="l" t="t" r="r" b="b"/>
                <a:pathLst>
                  <a:path w="80" h="104">
                    <a:moveTo>
                      <a:pt x="40" y="0"/>
                    </a:moveTo>
                    <a:lnTo>
                      <a:pt x="80" y="104"/>
                    </a:lnTo>
                    <a:lnTo>
                      <a:pt x="40" y="104"/>
                    </a:lnTo>
                    <a:lnTo>
                      <a:pt x="0" y="104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1054080" y="3898800"/>
                <a:ext cx="1440" cy="596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1206360" y="393696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32440" y="5867280"/>
            <a:ext cx="3333240" cy="279000"/>
            <a:chOff x="532440" y="5867280"/>
            <a:chExt cx="3333240" cy="279000"/>
          </a:xfrm>
        </p:grpSpPr>
        <p:grpSp>
          <p:nvGrpSpPr>
            <p:cNvPr id="153" name=""/>
            <p:cNvGrpSpPr/>
            <p:nvPr/>
          </p:nvGrpSpPr>
          <p:grpSpPr>
            <a:xfrm>
              <a:off x="571320" y="6095520"/>
              <a:ext cx="2934720" cy="50760"/>
              <a:chOff x="571320" y="6095520"/>
              <a:chExt cx="2934720" cy="50760"/>
            </a:xfrm>
          </p:grpSpPr>
          <p:sp>
            <p:nvSpPr>
              <p:cNvPr id="154" name=""/>
              <p:cNvSpPr/>
              <p:nvPr/>
            </p:nvSpPr>
            <p:spPr>
              <a:xfrm flipV="1">
                <a:off x="571320" y="6133680"/>
                <a:ext cx="2933280" cy="1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3504600" y="6095520"/>
                <a:ext cx="1440" cy="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571320" y="6095520"/>
                <a:ext cx="1440" cy="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532440" y="5867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63480" y="5867280"/>
              <a:ext cx="50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0 k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243080" y="1373040"/>
            <a:ext cx="114120" cy="101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35240" y="1373040"/>
            <a:ext cx="114480" cy="101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59480" y="1957320"/>
            <a:ext cx="114120" cy="101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72080" y="2859120"/>
            <a:ext cx="101520" cy="101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59680" y="4662360"/>
            <a:ext cx="114120" cy="101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86280" y="1982880"/>
            <a:ext cx="114120" cy="114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61000" y="2516040"/>
            <a:ext cx="114120" cy="101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3169800" y="4952880"/>
            <a:ext cx="12600" cy="12960"/>
          </a:xfrm>
          <a:prstGeom prst="line">
            <a:avLst/>
          </a:prstGeom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4040" y="5413320"/>
            <a:ext cx="330120" cy="317520"/>
          </a:xfrm>
          <a:custGeom>
            <a:avLst/>
            <a:gdLst/>
            <a:ahLst/>
            <a:rect l="l" t="t" r="r" b="b"/>
            <a:pathLst>
              <a:path w="208" h="200">
                <a:moveTo>
                  <a:pt x="112" y="200"/>
                </a:moveTo>
                <a:lnTo>
                  <a:pt x="208" y="120"/>
                </a:lnTo>
                <a:lnTo>
                  <a:pt x="200" y="96"/>
                </a:lnTo>
                <a:lnTo>
                  <a:pt x="120" y="40"/>
                </a:lnTo>
                <a:lnTo>
                  <a:pt x="64" y="16"/>
                </a:lnTo>
                <a:lnTo>
                  <a:pt x="8" y="0"/>
                </a:lnTo>
                <a:lnTo>
                  <a:pt x="0" y="40"/>
                </a:lnTo>
                <a:lnTo>
                  <a:pt x="16" y="64"/>
                </a:lnTo>
                <a:lnTo>
                  <a:pt x="24" y="96"/>
                </a:lnTo>
                <a:lnTo>
                  <a:pt x="48" y="120"/>
                </a:lnTo>
                <a:lnTo>
                  <a:pt x="64" y="152"/>
                </a:lnTo>
                <a:lnTo>
                  <a:pt x="88" y="184"/>
                </a:lnTo>
                <a:lnTo>
                  <a:pt x="112" y="200"/>
                </a:lnTo>
                <a:close/>
              </a:path>
            </a:pathLst>
          </a:custGeom>
          <a:solidFill>
            <a:srgbClr val="40f84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04040" y="5489640"/>
            <a:ext cx="27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êt du domaine aménagé par l’ONF (199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33520" y="798480"/>
            <a:ext cx="6827040" cy="4551480"/>
            <a:chOff x="533520" y="798480"/>
            <a:chExt cx="6827040" cy="4551480"/>
          </a:xfrm>
        </p:grpSpPr>
        <p:grpSp>
          <p:nvGrpSpPr>
            <p:cNvPr id="170" name=""/>
            <p:cNvGrpSpPr/>
            <p:nvPr/>
          </p:nvGrpSpPr>
          <p:grpSpPr>
            <a:xfrm>
              <a:off x="833400" y="798480"/>
              <a:ext cx="6527160" cy="4116600"/>
              <a:chOff x="833400" y="798480"/>
              <a:chExt cx="6527160" cy="411660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1143000" y="1219320"/>
                <a:ext cx="5638680" cy="3695760"/>
                <a:chOff x="1143000" y="1219320"/>
                <a:chExt cx="5638680" cy="369576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143000" y="1219320"/>
                  <a:ext cx="304920" cy="38088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048120" y="1219320"/>
                  <a:ext cx="304560" cy="38088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572000" y="1828800"/>
                  <a:ext cx="304920" cy="38088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648320" y="2362320"/>
                  <a:ext cx="304560" cy="38088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572000" y="2743200"/>
                  <a:ext cx="304920" cy="38088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172200" y="4533840"/>
                  <a:ext cx="304920" cy="38124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477120" y="4495680"/>
                  <a:ext cx="304560" cy="381240"/>
                </a:xfrm>
                <a:prstGeom prst="irregularSeal1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833400" y="798480"/>
                <a:ext cx="6527160" cy="3926160"/>
                <a:chOff x="833400" y="798480"/>
                <a:chExt cx="6527160" cy="3926160"/>
              </a:xfrm>
            </p:grpSpPr>
            <p:grpSp>
              <p:nvGrpSpPr>
                <p:cNvPr id="180" name=""/>
                <p:cNvGrpSpPr/>
                <p:nvPr/>
              </p:nvGrpSpPr>
              <p:grpSpPr>
                <a:xfrm>
                  <a:off x="990720" y="990720"/>
                  <a:ext cx="253440" cy="342720"/>
                  <a:chOff x="990720" y="990720"/>
                  <a:chExt cx="253440" cy="3427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1091880" y="1168560"/>
                    <a:ext cx="152280" cy="16488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04">
                        <a:moveTo>
                          <a:pt x="96" y="104"/>
                        </a:moveTo>
                        <a:lnTo>
                          <a:pt x="0" y="48"/>
                        </a:lnTo>
                        <a:lnTo>
                          <a:pt x="32" y="24"/>
                        </a:lnTo>
                        <a:lnTo>
                          <a:pt x="64" y="0"/>
                        </a:lnTo>
                        <a:lnTo>
                          <a:pt x="96" y="10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990720" y="990720"/>
                    <a:ext cx="151920" cy="216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6400800" y="4343400"/>
                  <a:ext cx="190440" cy="279360"/>
                  <a:chOff x="6400800" y="4343400"/>
                  <a:chExt cx="190440" cy="279360"/>
                </a:xfrm>
              </p:grpSpPr>
              <p:sp>
                <p:nvSpPr>
                  <p:cNvPr id="184" name=""/>
                  <p:cNvSpPr/>
                  <p:nvPr/>
                </p:nvSpPr>
                <p:spPr>
                  <a:xfrm>
                    <a:off x="6400800" y="4457880"/>
                    <a:ext cx="152280" cy="16488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04">
                        <a:moveTo>
                          <a:pt x="0" y="104"/>
                        </a:moveTo>
                        <a:lnTo>
                          <a:pt x="32" y="0"/>
                        </a:lnTo>
                        <a:lnTo>
                          <a:pt x="64" y="16"/>
                        </a:lnTo>
                        <a:lnTo>
                          <a:pt x="96" y="4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V="1">
                    <a:off x="6502320" y="4343400"/>
                    <a:ext cx="88920" cy="139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4805280" y="2801880"/>
                  <a:ext cx="393840" cy="127080"/>
                  <a:chOff x="4805280" y="2801880"/>
                  <a:chExt cx="393840" cy="12708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4805280" y="2801880"/>
                    <a:ext cx="1652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80">
                        <a:moveTo>
                          <a:pt x="0" y="48"/>
                        </a:moveTo>
                        <a:lnTo>
                          <a:pt x="104" y="0"/>
                        </a:lnTo>
                        <a:lnTo>
                          <a:pt x="104" y="40"/>
                        </a:lnTo>
                        <a:lnTo>
                          <a:pt x="104" y="80"/>
                        </a:lnTo>
                        <a:lnTo>
                          <a:pt x="0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V="1">
                    <a:off x="4970520" y="2852640"/>
                    <a:ext cx="228600" cy="12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9" name=""/>
                <p:cNvSpPr/>
                <p:nvPr/>
              </p:nvSpPr>
              <p:spPr>
                <a:xfrm>
                  <a:off x="5168520" y="2725560"/>
                  <a:ext cx="221760" cy="18288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Bauhaus 93"/>
                    </a:rPr>
                    <a:t>Pt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4889520" y="1874880"/>
                  <a:ext cx="520200" cy="127080"/>
                  <a:chOff x="4889520" y="1874880"/>
                  <a:chExt cx="520200" cy="12708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4889520" y="1887480"/>
                    <a:ext cx="17748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72">
                        <a:moveTo>
                          <a:pt x="0" y="56"/>
                        </a:moveTo>
                        <a:lnTo>
                          <a:pt x="96" y="0"/>
                        </a:lnTo>
                        <a:lnTo>
                          <a:pt x="104" y="40"/>
                        </a:lnTo>
                        <a:lnTo>
                          <a:pt x="112" y="72"/>
                        </a:lnTo>
                        <a:lnTo>
                          <a:pt x="0" y="5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flipV="1">
                    <a:off x="5054400" y="1874880"/>
                    <a:ext cx="355320" cy="76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3" name=""/>
                <p:cNvSpPr/>
                <p:nvPr/>
              </p:nvSpPr>
              <p:spPr>
                <a:xfrm>
                  <a:off x="5105520" y="1752480"/>
                  <a:ext cx="838080" cy="54792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Bauhaus 93"/>
                    </a:rPr>
                    <a:t>Paracou</a:t>
                  </a:r>
                  <a:br>
                    <a:rPr sz="1200"/>
                  </a:br>
                  <a:r>
                    <a:rPr b="0" lang="fr-FR" sz="1200" spc="-1" strike="noStrike">
                      <a:solidFill>
                        <a:srgbClr val="000000"/>
                      </a:solidFill>
                      <a:latin typeface="Bauhaus 93"/>
                    </a:rPr>
                    <a:t> (3 placettes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538320" y="4151160"/>
                  <a:ext cx="252360" cy="18288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Bauhaus 93"/>
                    </a:rPr>
                    <a:t>Co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3103560" y="973080"/>
                  <a:ext cx="114480" cy="343080"/>
                  <a:chOff x="3103560" y="973080"/>
                  <a:chExt cx="114480" cy="34308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3103560" y="1150920"/>
                    <a:ext cx="11448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04">
                        <a:moveTo>
                          <a:pt x="48" y="104"/>
                        </a:moveTo>
                        <a:lnTo>
                          <a:pt x="0" y="8"/>
                        </a:lnTo>
                        <a:lnTo>
                          <a:pt x="32" y="0"/>
                        </a:lnTo>
                        <a:lnTo>
                          <a:pt x="72" y="0"/>
                        </a:lnTo>
                        <a:lnTo>
                          <a:pt x="48" y="10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3141720" y="973080"/>
                    <a:ext cx="12600" cy="177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2986920" y="798480"/>
                  <a:ext cx="276480" cy="18288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Bauhaus 93"/>
                    </a:rPr>
                    <a:t>Or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833400" y="874800"/>
                  <a:ext cx="236880" cy="18288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Bauhaus 93"/>
                    </a:rPr>
                    <a:t>Ba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6770160" y="4545720"/>
                  <a:ext cx="366120" cy="177480"/>
                  <a:chOff x="6770160" y="4545720"/>
                  <a:chExt cx="366120" cy="1774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1129200">
                    <a:off x="6786000" y="4570920"/>
                    <a:ext cx="17784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80">
                        <a:moveTo>
                          <a:pt x="0" y="72"/>
                        </a:moveTo>
                        <a:lnTo>
                          <a:pt x="88" y="0"/>
                        </a:lnTo>
                        <a:lnTo>
                          <a:pt x="96" y="40"/>
                        </a:lnTo>
                        <a:lnTo>
                          <a:pt x="112" y="80"/>
                        </a:lnTo>
                        <a:lnTo>
                          <a:pt x="0" y="7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6935040" y="4654080"/>
                    <a:ext cx="20124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7076520" y="4541760"/>
                  <a:ext cx="284040" cy="18288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Bauhaus 93"/>
                    </a:rPr>
                    <a:t>Cou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4" name=""/>
                <p:cNvGrpSpPr/>
                <p:nvPr/>
              </p:nvGrpSpPr>
              <p:grpSpPr>
                <a:xfrm>
                  <a:off x="4267080" y="2438280"/>
                  <a:ext cx="393840" cy="127080"/>
                  <a:chOff x="4267080" y="2438280"/>
                  <a:chExt cx="393840" cy="12708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 flipH="1">
                    <a:off x="4495320" y="2438280"/>
                    <a:ext cx="1652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80">
                        <a:moveTo>
                          <a:pt x="0" y="48"/>
                        </a:moveTo>
                        <a:lnTo>
                          <a:pt x="104" y="0"/>
                        </a:lnTo>
                        <a:lnTo>
                          <a:pt x="104" y="40"/>
                        </a:lnTo>
                        <a:lnTo>
                          <a:pt x="104" y="80"/>
                        </a:lnTo>
                        <a:lnTo>
                          <a:pt x="0" y="4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flipH="1" flipV="1">
                    <a:off x="4267080" y="2489040"/>
                    <a:ext cx="228600" cy="12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7" name=""/>
                <p:cNvSpPr/>
                <p:nvPr/>
              </p:nvSpPr>
              <p:spPr>
                <a:xfrm>
                  <a:off x="3691800" y="2362320"/>
                  <a:ext cx="623880" cy="18288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Bauhaus 93"/>
                    </a:rPr>
                    <a:t>Soh, Sob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533520" y="4968720"/>
              <a:ext cx="2516760" cy="381240"/>
              <a:chOff x="533520" y="4968720"/>
              <a:chExt cx="2516760" cy="381240"/>
            </a:xfrm>
          </p:grpSpPr>
          <p:sp>
            <p:nvSpPr>
              <p:cNvPr id="209" name=""/>
              <p:cNvSpPr/>
              <p:nvPr/>
            </p:nvSpPr>
            <p:spPr>
              <a:xfrm>
                <a:off x="1001160" y="5040360"/>
                <a:ext cx="2049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lacettes de suivi de la croissan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33520" y="4968720"/>
                <a:ext cx="304560" cy="381240"/>
              </a:xfrm>
              <a:prstGeom prst="irregularSeal1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1" name=""/>
          <p:cNvSpPr/>
          <p:nvPr/>
        </p:nvSpPr>
        <p:spPr>
          <a:xfrm>
            <a:off x="4343400" y="228600"/>
            <a:ext cx="457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E60C3-0151-4FF1-BF79-E81CD38861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9480" y="53640"/>
            <a:ext cx="7796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831920" y="1600200"/>
            <a:ext cx="38545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irconférence</a:t>
            </a:r>
            <a:br>
              <a:rPr sz="20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s ar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71640" y="1413000"/>
            <a:ext cx="78483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acteurs « développement*compétition 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148360" y="3860640"/>
            <a:ext cx="3671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0 arbres équipés de rubans métalliques mesurant la circonfér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placettes réparties dans le domaine forestier aménagé par l'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5411" t="0" r="16409" b="6914"/>
          <a:stretch/>
        </p:blipFill>
        <p:spPr>
          <a:xfrm>
            <a:off x="1476360" y="2349360"/>
            <a:ext cx="2614680" cy="414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D1CF5-BBBB-431D-8E1E-7A41090DA8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70040" y="2637000"/>
            <a:ext cx="83739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acteurs 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« développement*compétition 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00000" y="3500280"/>
            <a:ext cx="74739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indice de Dawk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9480" y="53640"/>
            <a:ext cx="7796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427640" y="1052640"/>
            <a:ext cx="4133880" cy="5564160"/>
            <a:chOff x="4427640" y="1052640"/>
            <a:chExt cx="4133880" cy="5564160"/>
          </a:xfrm>
        </p:grpSpPr>
        <p:sp>
          <p:nvSpPr>
            <p:cNvPr id="221" name=""/>
            <p:cNvSpPr/>
            <p:nvPr/>
          </p:nvSpPr>
          <p:spPr>
            <a:xfrm>
              <a:off x="7145280" y="1060560"/>
              <a:ext cx="576360" cy="455400"/>
            </a:xfrm>
            <a:custGeom>
              <a:avLst/>
              <a:gdLst/>
              <a:ahLst/>
              <a:rect l="l" t="t" r="r" b="b"/>
              <a:pathLst>
                <a:path w="363" h="287">
                  <a:moveTo>
                    <a:pt x="183" y="280"/>
                  </a:moveTo>
                  <a:cubicBezTo>
                    <a:pt x="170" y="276"/>
                    <a:pt x="160" y="267"/>
                    <a:pt x="147" y="264"/>
                  </a:cubicBezTo>
                  <a:cubicBezTo>
                    <a:pt x="126" y="260"/>
                    <a:pt x="107" y="259"/>
                    <a:pt x="87" y="252"/>
                  </a:cubicBezTo>
                  <a:cubicBezTo>
                    <a:pt x="79" y="244"/>
                    <a:pt x="71" y="236"/>
                    <a:pt x="63" y="228"/>
                  </a:cubicBezTo>
                  <a:cubicBezTo>
                    <a:pt x="56" y="221"/>
                    <a:pt x="39" y="212"/>
                    <a:pt x="39" y="212"/>
                  </a:cubicBezTo>
                  <a:cubicBezTo>
                    <a:pt x="27" y="187"/>
                    <a:pt x="34" y="201"/>
                    <a:pt x="15" y="172"/>
                  </a:cubicBezTo>
                  <a:cubicBezTo>
                    <a:pt x="10" y="165"/>
                    <a:pt x="10" y="156"/>
                    <a:pt x="7" y="148"/>
                  </a:cubicBezTo>
                  <a:cubicBezTo>
                    <a:pt x="6" y="144"/>
                    <a:pt x="3" y="136"/>
                    <a:pt x="3" y="136"/>
                  </a:cubicBezTo>
                  <a:cubicBezTo>
                    <a:pt x="11" y="104"/>
                    <a:pt x="0" y="136"/>
                    <a:pt x="23" y="104"/>
                  </a:cubicBezTo>
                  <a:cubicBezTo>
                    <a:pt x="36" y="85"/>
                    <a:pt x="35" y="54"/>
                    <a:pt x="55" y="40"/>
                  </a:cubicBezTo>
                  <a:cubicBezTo>
                    <a:pt x="66" y="32"/>
                    <a:pt x="83" y="31"/>
                    <a:pt x="95" y="24"/>
                  </a:cubicBezTo>
                  <a:cubicBezTo>
                    <a:pt x="103" y="19"/>
                    <a:pt x="119" y="8"/>
                    <a:pt x="119" y="8"/>
                  </a:cubicBezTo>
                  <a:cubicBezTo>
                    <a:pt x="145" y="12"/>
                    <a:pt x="141" y="14"/>
                    <a:pt x="167" y="8"/>
                  </a:cubicBezTo>
                  <a:cubicBezTo>
                    <a:pt x="175" y="6"/>
                    <a:pt x="191" y="0"/>
                    <a:pt x="191" y="0"/>
                  </a:cubicBezTo>
                  <a:cubicBezTo>
                    <a:pt x="222" y="2"/>
                    <a:pt x="254" y="2"/>
                    <a:pt x="283" y="12"/>
                  </a:cubicBezTo>
                  <a:cubicBezTo>
                    <a:pt x="297" y="26"/>
                    <a:pt x="316" y="38"/>
                    <a:pt x="335" y="44"/>
                  </a:cubicBezTo>
                  <a:cubicBezTo>
                    <a:pt x="352" y="69"/>
                    <a:pt x="346" y="99"/>
                    <a:pt x="363" y="124"/>
                  </a:cubicBezTo>
                  <a:cubicBezTo>
                    <a:pt x="360" y="166"/>
                    <a:pt x="361" y="207"/>
                    <a:pt x="323" y="232"/>
                  </a:cubicBezTo>
                  <a:cubicBezTo>
                    <a:pt x="313" y="263"/>
                    <a:pt x="260" y="262"/>
                    <a:pt x="235" y="264"/>
                  </a:cubicBezTo>
                  <a:cubicBezTo>
                    <a:pt x="216" y="270"/>
                    <a:pt x="204" y="287"/>
                    <a:pt x="183" y="280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249760" y="1052640"/>
              <a:ext cx="311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219640" y="1052640"/>
              <a:ext cx="6480" cy="360360"/>
            </a:xfrm>
            <a:custGeom>
              <a:avLst/>
              <a:gdLst/>
              <a:ahLst/>
              <a:rect l="l" t="t" r="r" b="b"/>
              <a:pathLst>
                <a:path w="4" h="452">
                  <a:moveTo>
                    <a:pt x="4" y="0"/>
                  </a:moveTo>
                  <a:lnTo>
                    <a:pt x="0" y="452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67640" y="1052640"/>
              <a:ext cx="431640" cy="360360"/>
            </a:xfrm>
            <a:custGeom>
              <a:avLst/>
              <a:gdLst/>
              <a:ahLst/>
              <a:rect l="l" t="t" r="r" b="b"/>
              <a:pathLst>
                <a:path w="4" h="452">
                  <a:moveTo>
                    <a:pt x="4" y="0"/>
                  </a:moveTo>
                  <a:lnTo>
                    <a:pt x="0" y="452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" descr=""/>
            <p:cNvPicPr/>
            <p:nvPr/>
          </p:nvPicPr>
          <p:blipFill>
            <a:blip r:embed="rId1">
              <a:lum bright="12000"/>
            </a:blip>
            <a:stretch/>
          </p:blipFill>
          <p:spPr>
            <a:xfrm>
              <a:off x="4427640" y="1052640"/>
              <a:ext cx="4093920" cy="556416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226" name=""/>
            <p:cNvSpPr/>
            <p:nvPr/>
          </p:nvSpPr>
          <p:spPr>
            <a:xfrm>
              <a:off x="5011560" y="2565360"/>
              <a:ext cx="389160" cy="374760"/>
            </a:xfrm>
            <a:custGeom>
              <a:avLst/>
              <a:gdLst/>
              <a:ahLst/>
              <a:rect l="l" t="t" r="r" b="b"/>
              <a:pathLst>
                <a:path w="245" h="236">
                  <a:moveTo>
                    <a:pt x="91" y="236"/>
                  </a:moveTo>
                  <a:cubicBezTo>
                    <a:pt x="78" y="217"/>
                    <a:pt x="69" y="215"/>
                    <a:pt x="47" y="208"/>
                  </a:cubicBezTo>
                  <a:cubicBezTo>
                    <a:pt x="43" y="207"/>
                    <a:pt x="35" y="204"/>
                    <a:pt x="35" y="204"/>
                  </a:cubicBezTo>
                  <a:cubicBezTo>
                    <a:pt x="27" y="196"/>
                    <a:pt x="19" y="190"/>
                    <a:pt x="15" y="180"/>
                  </a:cubicBezTo>
                  <a:cubicBezTo>
                    <a:pt x="12" y="172"/>
                    <a:pt x="7" y="156"/>
                    <a:pt x="7" y="156"/>
                  </a:cubicBezTo>
                  <a:cubicBezTo>
                    <a:pt x="3" y="128"/>
                    <a:pt x="0" y="86"/>
                    <a:pt x="27" y="68"/>
                  </a:cubicBezTo>
                  <a:cubicBezTo>
                    <a:pt x="31" y="56"/>
                    <a:pt x="37" y="37"/>
                    <a:pt x="43" y="28"/>
                  </a:cubicBezTo>
                  <a:cubicBezTo>
                    <a:pt x="51" y="16"/>
                    <a:pt x="92" y="5"/>
                    <a:pt x="107" y="0"/>
                  </a:cubicBezTo>
                  <a:cubicBezTo>
                    <a:pt x="149" y="3"/>
                    <a:pt x="191" y="4"/>
                    <a:pt x="227" y="28"/>
                  </a:cubicBezTo>
                  <a:cubicBezTo>
                    <a:pt x="232" y="66"/>
                    <a:pt x="245" y="114"/>
                    <a:pt x="215" y="144"/>
                  </a:cubicBezTo>
                  <a:cubicBezTo>
                    <a:pt x="196" y="201"/>
                    <a:pt x="153" y="236"/>
                    <a:pt x="91" y="236"/>
                  </a:cubicBez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84880" y="2063880"/>
              <a:ext cx="6120" cy="717480"/>
            </a:xfrm>
            <a:custGeom>
              <a:avLst/>
              <a:gdLst/>
              <a:ahLst/>
              <a:rect l="l" t="t" r="r" b="b"/>
              <a:pathLst>
                <a:path w="4" h="452">
                  <a:moveTo>
                    <a:pt x="4" y="0"/>
                  </a:moveTo>
                  <a:lnTo>
                    <a:pt x="0" y="452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03640" y="2060640"/>
              <a:ext cx="6480" cy="717480"/>
            </a:xfrm>
            <a:custGeom>
              <a:avLst/>
              <a:gdLst/>
              <a:ahLst/>
              <a:rect l="l" t="t" r="r" b="b"/>
              <a:pathLst>
                <a:path w="4" h="452">
                  <a:moveTo>
                    <a:pt x="4" y="0"/>
                  </a:moveTo>
                  <a:lnTo>
                    <a:pt x="0" y="452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48280" y="1460520"/>
              <a:ext cx="361800" cy="325440"/>
            </a:xfrm>
            <a:custGeom>
              <a:avLst/>
              <a:gdLst/>
              <a:ahLst/>
              <a:rect l="l" t="t" r="r" b="b"/>
              <a:pathLst>
                <a:path w="228" h="205">
                  <a:moveTo>
                    <a:pt x="104" y="200"/>
                  </a:moveTo>
                  <a:cubicBezTo>
                    <a:pt x="58" y="195"/>
                    <a:pt x="77" y="195"/>
                    <a:pt x="48" y="176"/>
                  </a:cubicBezTo>
                  <a:cubicBezTo>
                    <a:pt x="38" y="161"/>
                    <a:pt x="28" y="162"/>
                    <a:pt x="16" y="148"/>
                  </a:cubicBezTo>
                  <a:cubicBezTo>
                    <a:pt x="8" y="138"/>
                    <a:pt x="0" y="112"/>
                    <a:pt x="0" y="112"/>
                  </a:cubicBezTo>
                  <a:cubicBezTo>
                    <a:pt x="5" y="76"/>
                    <a:pt x="15" y="52"/>
                    <a:pt x="52" y="40"/>
                  </a:cubicBezTo>
                  <a:cubicBezTo>
                    <a:pt x="73" y="24"/>
                    <a:pt x="95" y="8"/>
                    <a:pt x="120" y="0"/>
                  </a:cubicBezTo>
                  <a:cubicBezTo>
                    <a:pt x="141" y="3"/>
                    <a:pt x="151" y="5"/>
                    <a:pt x="168" y="16"/>
                  </a:cubicBezTo>
                  <a:cubicBezTo>
                    <a:pt x="187" y="44"/>
                    <a:pt x="176" y="35"/>
                    <a:pt x="196" y="48"/>
                  </a:cubicBezTo>
                  <a:cubicBezTo>
                    <a:pt x="219" y="82"/>
                    <a:pt x="228" y="149"/>
                    <a:pt x="184" y="164"/>
                  </a:cubicBezTo>
                  <a:cubicBezTo>
                    <a:pt x="162" y="186"/>
                    <a:pt x="130" y="194"/>
                    <a:pt x="100" y="204"/>
                  </a:cubicBezTo>
                  <a:cubicBezTo>
                    <a:pt x="98" y="205"/>
                    <a:pt x="103" y="201"/>
                    <a:pt x="104" y="200"/>
                  </a:cubicBez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45280" y="1060560"/>
              <a:ext cx="576360" cy="455400"/>
            </a:xfrm>
            <a:custGeom>
              <a:avLst/>
              <a:gdLst/>
              <a:ahLst/>
              <a:rect l="l" t="t" r="r" b="b"/>
              <a:pathLst>
                <a:path w="363" h="287">
                  <a:moveTo>
                    <a:pt x="183" y="280"/>
                  </a:moveTo>
                  <a:cubicBezTo>
                    <a:pt x="170" y="276"/>
                    <a:pt x="160" y="267"/>
                    <a:pt x="147" y="264"/>
                  </a:cubicBezTo>
                  <a:cubicBezTo>
                    <a:pt x="126" y="260"/>
                    <a:pt x="107" y="259"/>
                    <a:pt x="87" y="252"/>
                  </a:cubicBezTo>
                  <a:cubicBezTo>
                    <a:pt x="79" y="244"/>
                    <a:pt x="71" y="236"/>
                    <a:pt x="63" y="228"/>
                  </a:cubicBezTo>
                  <a:cubicBezTo>
                    <a:pt x="56" y="221"/>
                    <a:pt x="39" y="212"/>
                    <a:pt x="39" y="212"/>
                  </a:cubicBezTo>
                  <a:cubicBezTo>
                    <a:pt x="27" y="187"/>
                    <a:pt x="34" y="201"/>
                    <a:pt x="15" y="172"/>
                  </a:cubicBezTo>
                  <a:cubicBezTo>
                    <a:pt x="10" y="165"/>
                    <a:pt x="10" y="156"/>
                    <a:pt x="7" y="148"/>
                  </a:cubicBezTo>
                  <a:cubicBezTo>
                    <a:pt x="6" y="144"/>
                    <a:pt x="3" y="136"/>
                    <a:pt x="3" y="136"/>
                  </a:cubicBezTo>
                  <a:cubicBezTo>
                    <a:pt x="11" y="104"/>
                    <a:pt x="0" y="136"/>
                    <a:pt x="23" y="104"/>
                  </a:cubicBezTo>
                  <a:cubicBezTo>
                    <a:pt x="36" y="85"/>
                    <a:pt x="35" y="54"/>
                    <a:pt x="55" y="40"/>
                  </a:cubicBezTo>
                  <a:cubicBezTo>
                    <a:pt x="66" y="32"/>
                    <a:pt x="83" y="31"/>
                    <a:pt x="95" y="24"/>
                  </a:cubicBezTo>
                  <a:cubicBezTo>
                    <a:pt x="103" y="19"/>
                    <a:pt x="119" y="8"/>
                    <a:pt x="119" y="8"/>
                  </a:cubicBezTo>
                  <a:cubicBezTo>
                    <a:pt x="145" y="12"/>
                    <a:pt x="141" y="14"/>
                    <a:pt x="167" y="8"/>
                  </a:cubicBezTo>
                  <a:cubicBezTo>
                    <a:pt x="175" y="6"/>
                    <a:pt x="191" y="0"/>
                    <a:pt x="191" y="0"/>
                  </a:cubicBezTo>
                  <a:cubicBezTo>
                    <a:pt x="222" y="2"/>
                    <a:pt x="254" y="2"/>
                    <a:pt x="283" y="12"/>
                  </a:cubicBezTo>
                  <a:cubicBezTo>
                    <a:pt x="297" y="26"/>
                    <a:pt x="316" y="38"/>
                    <a:pt x="335" y="44"/>
                  </a:cubicBezTo>
                  <a:cubicBezTo>
                    <a:pt x="352" y="69"/>
                    <a:pt x="346" y="99"/>
                    <a:pt x="363" y="124"/>
                  </a:cubicBezTo>
                  <a:cubicBezTo>
                    <a:pt x="360" y="166"/>
                    <a:pt x="361" y="207"/>
                    <a:pt x="323" y="232"/>
                  </a:cubicBezTo>
                  <a:cubicBezTo>
                    <a:pt x="313" y="263"/>
                    <a:pt x="260" y="262"/>
                    <a:pt x="235" y="264"/>
                  </a:cubicBezTo>
                  <a:cubicBezTo>
                    <a:pt x="216" y="270"/>
                    <a:pt x="204" y="287"/>
                    <a:pt x="183" y="280"/>
                  </a:cubicBez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740720" y="2276640"/>
              <a:ext cx="388800" cy="374400"/>
            </a:xfrm>
            <a:custGeom>
              <a:avLst/>
              <a:gdLst/>
              <a:ahLst/>
              <a:rect l="l" t="t" r="r" b="b"/>
              <a:pathLst>
                <a:path w="245" h="236">
                  <a:moveTo>
                    <a:pt x="91" y="236"/>
                  </a:moveTo>
                  <a:cubicBezTo>
                    <a:pt x="78" y="217"/>
                    <a:pt x="69" y="215"/>
                    <a:pt x="47" y="208"/>
                  </a:cubicBezTo>
                  <a:cubicBezTo>
                    <a:pt x="43" y="207"/>
                    <a:pt x="35" y="204"/>
                    <a:pt x="35" y="204"/>
                  </a:cubicBezTo>
                  <a:cubicBezTo>
                    <a:pt x="27" y="196"/>
                    <a:pt x="19" y="190"/>
                    <a:pt x="15" y="180"/>
                  </a:cubicBezTo>
                  <a:cubicBezTo>
                    <a:pt x="12" y="172"/>
                    <a:pt x="7" y="156"/>
                    <a:pt x="7" y="156"/>
                  </a:cubicBezTo>
                  <a:cubicBezTo>
                    <a:pt x="3" y="128"/>
                    <a:pt x="0" y="86"/>
                    <a:pt x="27" y="68"/>
                  </a:cubicBezTo>
                  <a:cubicBezTo>
                    <a:pt x="31" y="56"/>
                    <a:pt x="37" y="37"/>
                    <a:pt x="43" y="28"/>
                  </a:cubicBezTo>
                  <a:cubicBezTo>
                    <a:pt x="51" y="16"/>
                    <a:pt x="92" y="5"/>
                    <a:pt x="107" y="0"/>
                  </a:cubicBezTo>
                  <a:cubicBezTo>
                    <a:pt x="149" y="3"/>
                    <a:pt x="191" y="4"/>
                    <a:pt x="227" y="28"/>
                  </a:cubicBezTo>
                  <a:cubicBezTo>
                    <a:pt x="232" y="66"/>
                    <a:pt x="245" y="114"/>
                    <a:pt x="215" y="144"/>
                  </a:cubicBezTo>
                  <a:cubicBezTo>
                    <a:pt x="196" y="201"/>
                    <a:pt x="153" y="236"/>
                    <a:pt x="91" y="236"/>
                  </a:cubicBez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56360" y="2205000"/>
              <a:ext cx="576360" cy="360360"/>
            </a:xfrm>
            <a:custGeom>
              <a:avLst/>
              <a:gdLst/>
              <a:ahLst/>
              <a:rect l="l" t="t" r="r" b="b"/>
              <a:pathLst>
                <a:path w="363" h="287">
                  <a:moveTo>
                    <a:pt x="183" y="280"/>
                  </a:moveTo>
                  <a:cubicBezTo>
                    <a:pt x="170" y="276"/>
                    <a:pt x="160" y="267"/>
                    <a:pt x="147" y="264"/>
                  </a:cubicBezTo>
                  <a:cubicBezTo>
                    <a:pt x="126" y="260"/>
                    <a:pt x="107" y="259"/>
                    <a:pt x="87" y="252"/>
                  </a:cubicBezTo>
                  <a:cubicBezTo>
                    <a:pt x="79" y="244"/>
                    <a:pt x="71" y="236"/>
                    <a:pt x="63" y="228"/>
                  </a:cubicBezTo>
                  <a:cubicBezTo>
                    <a:pt x="56" y="221"/>
                    <a:pt x="39" y="212"/>
                    <a:pt x="39" y="212"/>
                  </a:cubicBezTo>
                  <a:cubicBezTo>
                    <a:pt x="27" y="187"/>
                    <a:pt x="34" y="201"/>
                    <a:pt x="15" y="172"/>
                  </a:cubicBezTo>
                  <a:cubicBezTo>
                    <a:pt x="10" y="165"/>
                    <a:pt x="10" y="156"/>
                    <a:pt x="7" y="148"/>
                  </a:cubicBezTo>
                  <a:cubicBezTo>
                    <a:pt x="6" y="144"/>
                    <a:pt x="3" y="136"/>
                    <a:pt x="3" y="136"/>
                  </a:cubicBezTo>
                  <a:cubicBezTo>
                    <a:pt x="11" y="104"/>
                    <a:pt x="0" y="136"/>
                    <a:pt x="23" y="104"/>
                  </a:cubicBezTo>
                  <a:cubicBezTo>
                    <a:pt x="36" y="85"/>
                    <a:pt x="35" y="54"/>
                    <a:pt x="55" y="40"/>
                  </a:cubicBezTo>
                  <a:cubicBezTo>
                    <a:pt x="66" y="32"/>
                    <a:pt x="83" y="31"/>
                    <a:pt x="95" y="24"/>
                  </a:cubicBezTo>
                  <a:cubicBezTo>
                    <a:pt x="103" y="19"/>
                    <a:pt x="119" y="8"/>
                    <a:pt x="119" y="8"/>
                  </a:cubicBezTo>
                  <a:cubicBezTo>
                    <a:pt x="145" y="12"/>
                    <a:pt x="141" y="14"/>
                    <a:pt x="167" y="8"/>
                  </a:cubicBezTo>
                  <a:cubicBezTo>
                    <a:pt x="175" y="6"/>
                    <a:pt x="191" y="0"/>
                    <a:pt x="191" y="0"/>
                  </a:cubicBezTo>
                  <a:cubicBezTo>
                    <a:pt x="222" y="2"/>
                    <a:pt x="254" y="2"/>
                    <a:pt x="283" y="12"/>
                  </a:cubicBezTo>
                  <a:cubicBezTo>
                    <a:pt x="297" y="26"/>
                    <a:pt x="316" y="38"/>
                    <a:pt x="335" y="44"/>
                  </a:cubicBezTo>
                  <a:cubicBezTo>
                    <a:pt x="352" y="69"/>
                    <a:pt x="346" y="99"/>
                    <a:pt x="363" y="124"/>
                  </a:cubicBezTo>
                  <a:cubicBezTo>
                    <a:pt x="360" y="166"/>
                    <a:pt x="361" y="207"/>
                    <a:pt x="323" y="232"/>
                  </a:cubicBezTo>
                  <a:cubicBezTo>
                    <a:pt x="313" y="263"/>
                    <a:pt x="260" y="262"/>
                    <a:pt x="235" y="264"/>
                  </a:cubicBezTo>
                  <a:cubicBezTo>
                    <a:pt x="216" y="270"/>
                    <a:pt x="204" y="287"/>
                    <a:pt x="183" y="280"/>
                  </a:cubicBez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32360" y="3645000"/>
              <a:ext cx="503280" cy="431640"/>
            </a:xfrm>
            <a:custGeom>
              <a:avLst/>
              <a:gdLst/>
              <a:ahLst/>
              <a:rect l="l" t="t" r="r" b="b"/>
              <a:pathLst>
                <a:path w="245" h="236">
                  <a:moveTo>
                    <a:pt x="91" y="236"/>
                  </a:moveTo>
                  <a:cubicBezTo>
                    <a:pt x="78" y="217"/>
                    <a:pt x="69" y="215"/>
                    <a:pt x="47" y="208"/>
                  </a:cubicBezTo>
                  <a:cubicBezTo>
                    <a:pt x="43" y="207"/>
                    <a:pt x="35" y="204"/>
                    <a:pt x="35" y="204"/>
                  </a:cubicBezTo>
                  <a:cubicBezTo>
                    <a:pt x="27" y="196"/>
                    <a:pt x="19" y="190"/>
                    <a:pt x="15" y="180"/>
                  </a:cubicBezTo>
                  <a:cubicBezTo>
                    <a:pt x="12" y="172"/>
                    <a:pt x="7" y="156"/>
                    <a:pt x="7" y="156"/>
                  </a:cubicBezTo>
                  <a:cubicBezTo>
                    <a:pt x="3" y="128"/>
                    <a:pt x="0" y="86"/>
                    <a:pt x="27" y="68"/>
                  </a:cubicBezTo>
                  <a:cubicBezTo>
                    <a:pt x="31" y="56"/>
                    <a:pt x="37" y="37"/>
                    <a:pt x="43" y="28"/>
                  </a:cubicBezTo>
                  <a:cubicBezTo>
                    <a:pt x="51" y="16"/>
                    <a:pt x="92" y="5"/>
                    <a:pt x="107" y="0"/>
                  </a:cubicBezTo>
                  <a:cubicBezTo>
                    <a:pt x="149" y="3"/>
                    <a:pt x="191" y="4"/>
                    <a:pt x="227" y="28"/>
                  </a:cubicBezTo>
                  <a:cubicBezTo>
                    <a:pt x="232" y="66"/>
                    <a:pt x="245" y="114"/>
                    <a:pt x="215" y="144"/>
                  </a:cubicBezTo>
                  <a:cubicBezTo>
                    <a:pt x="196" y="201"/>
                    <a:pt x="153" y="236"/>
                    <a:pt x="91" y="236"/>
                  </a:cubicBez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524720" y="3573360"/>
              <a:ext cx="503280" cy="374760"/>
            </a:xfrm>
            <a:custGeom>
              <a:avLst/>
              <a:gdLst/>
              <a:ahLst/>
              <a:rect l="l" t="t" r="r" b="b"/>
              <a:pathLst>
                <a:path w="245" h="236">
                  <a:moveTo>
                    <a:pt x="91" y="236"/>
                  </a:moveTo>
                  <a:cubicBezTo>
                    <a:pt x="78" y="217"/>
                    <a:pt x="69" y="215"/>
                    <a:pt x="47" y="208"/>
                  </a:cubicBezTo>
                  <a:cubicBezTo>
                    <a:pt x="43" y="207"/>
                    <a:pt x="35" y="204"/>
                    <a:pt x="35" y="204"/>
                  </a:cubicBezTo>
                  <a:cubicBezTo>
                    <a:pt x="27" y="196"/>
                    <a:pt x="19" y="190"/>
                    <a:pt x="15" y="180"/>
                  </a:cubicBezTo>
                  <a:cubicBezTo>
                    <a:pt x="12" y="172"/>
                    <a:pt x="7" y="156"/>
                    <a:pt x="7" y="156"/>
                  </a:cubicBezTo>
                  <a:cubicBezTo>
                    <a:pt x="3" y="128"/>
                    <a:pt x="0" y="86"/>
                    <a:pt x="27" y="68"/>
                  </a:cubicBezTo>
                  <a:cubicBezTo>
                    <a:pt x="31" y="56"/>
                    <a:pt x="37" y="37"/>
                    <a:pt x="43" y="28"/>
                  </a:cubicBezTo>
                  <a:cubicBezTo>
                    <a:pt x="51" y="16"/>
                    <a:pt x="92" y="5"/>
                    <a:pt x="107" y="0"/>
                  </a:cubicBezTo>
                  <a:cubicBezTo>
                    <a:pt x="149" y="3"/>
                    <a:pt x="191" y="4"/>
                    <a:pt x="227" y="28"/>
                  </a:cubicBezTo>
                  <a:cubicBezTo>
                    <a:pt x="232" y="66"/>
                    <a:pt x="245" y="114"/>
                    <a:pt x="215" y="144"/>
                  </a:cubicBezTo>
                  <a:cubicBezTo>
                    <a:pt x="196" y="201"/>
                    <a:pt x="153" y="236"/>
                    <a:pt x="91" y="236"/>
                  </a:cubicBez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32360" y="4869000"/>
              <a:ext cx="431640" cy="374400"/>
            </a:xfrm>
            <a:custGeom>
              <a:avLst/>
              <a:gdLst/>
              <a:ahLst/>
              <a:rect l="l" t="t" r="r" b="b"/>
              <a:pathLst>
                <a:path w="245" h="236">
                  <a:moveTo>
                    <a:pt x="91" y="236"/>
                  </a:moveTo>
                  <a:cubicBezTo>
                    <a:pt x="78" y="217"/>
                    <a:pt x="69" y="215"/>
                    <a:pt x="47" y="208"/>
                  </a:cubicBezTo>
                  <a:cubicBezTo>
                    <a:pt x="43" y="207"/>
                    <a:pt x="35" y="204"/>
                    <a:pt x="35" y="204"/>
                  </a:cubicBezTo>
                  <a:cubicBezTo>
                    <a:pt x="27" y="196"/>
                    <a:pt x="19" y="190"/>
                    <a:pt x="15" y="180"/>
                  </a:cubicBezTo>
                  <a:cubicBezTo>
                    <a:pt x="12" y="172"/>
                    <a:pt x="7" y="156"/>
                    <a:pt x="7" y="156"/>
                  </a:cubicBezTo>
                  <a:cubicBezTo>
                    <a:pt x="3" y="128"/>
                    <a:pt x="0" y="86"/>
                    <a:pt x="27" y="68"/>
                  </a:cubicBezTo>
                  <a:cubicBezTo>
                    <a:pt x="31" y="56"/>
                    <a:pt x="37" y="37"/>
                    <a:pt x="43" y="28"/>
                  </a:cubicBezTo>
                  <a:cubicBezTo>
                    <a:pt x="51" y="16"/>
                    <a:pt x="92" y="5"/>
                    <a:pt x="107" y="0"/>
                  </a:cubicBezTo>
                  <a:cubicBezTo>
                    <a:pt x="149" y="3"/>
                    <a:pt x="191" y="4"/>
                    <a:pt x="227" y="28"/>
                  </a:cubicBezTo>
                  <a:cubicBezTo>
                    <a:pt x="232" y="66"/>
                    <a:pt x="245" y="114"/>
                    <a:pt x="215" y="144"/>
                  </a:cubicBezTo>
                  <a:cubicBezTo>
                    <a:pt x="196" y="201"/>
                    <a:pt x="153" y="236"/>
                    <a:pt x="91" y="236"/>
                  </a:cubicBez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27640" y="4869000"/>
              <a:ext cx="432000" cy="374400"/>
            </a:xfrm>
            <a:custGeom>
              <a:avLst/>
              <a:gdLst/>
              <a:ahLst/>
              <a:rect l="l" t="t" r="r" b="b"/>
              <a:pathLst>
                <a:path w="245" h="236">
                  <a:moveTo>
                    <a:pt x="91" y="236"/>
                  </a:moveTo>
                  <a:cubicBezTo>
                    <a:pt x="78" y="217"/>
                    <a:pt x="69" y="215"/>
                    <a:pt x="47" y="208"/>
                  </a:cubicBezTo>
                  <a:cubicBezTo>
                    <a:pt x="43" y="207"/>
                    <a:pt x="35" y="204"/>
                    <a:pt x="35" y="204"/>
                  </a:cubicBezTo>
                  <a:cubicBezTo>
                    <a:pt x="27" y="196"/>
                    <a:pt x="19" y="190"/>
                    <a:pt x="15" y="180"/>
                  </a:cubicBezTo>
                  <a:cubicBezTo>
                    <a:pt x="12" y="172"/>
                    <a:pt x="7" y="156"/>
                    <a:pt x="7" y="156"/>
                  </a:cubicBezTo>
                  <a:cubicBezTo>
                    <a:pt x="3" y="128"/>
                    <a:pt x="0" y="86"/>
                    <a:pt x="27" y="68"/>
                  </a:cubicBezTo>
                  <a:cubicBezTo>
                    <a:pt x="31" y="56"/>
                    <a:pt x="37" y="37"/>
                    <a:pt x="43" y="28"/>
                  </a:cubicBezTo>
                  <a:cubicBezTo>
                    <a:pt x="51" y="16"/>
                    <a:pt x="92" y="5"/>
                    <a:pt x="107" y="0"/>
                  </a:cubicBezTo>
                  <a:cubicBezTo>
                    <a:pt x="149" y="3"/>
                    <a:pt x="191" y="4"/>
                    <a:pt x="227" y="28"/>
                  </a:cubicBezTo>
                  <a:cubicBezTo>
                    <a:pt x="232" y="66"/>
                    <a:pt x="245" y="114"/>
                    <a:pt x="215" y="144"/>
                  </a:cubicBezTo>
                  <a:cubicBezTo>
                    <a:pt x="196" y="201"/>
                    <a:pt x="153" y="236"/>
                    <a:pt x="91" y="236"/>
                  </a:cubicBez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40720" y="5084640"/>
              <a:ext cx="288720" cy="230400"/>
            </a:xfrm>
            <a:custGeom>
              <a:avLst/>
              <a:gdLst/>
              <a:ahLst/>
              <a:rect l="l" t="t" r="r" b="b"/>
              <a:pathLst>
                <a:path w="245" h="236">
                  <a:moveTo>
                    <a:pt x="91" y="236"/>
                  </a:moveTo>
                  <a:cubicBezTo>
                    <a:pt x="78" y="217"/>
                    <a:pt x="69" y="215"/>
                    <a:pt x="47" y="208"/>
                  </a:cubicBezTo>
                  <a:cubicBezTo>
                    <a:pt x="43" y="207"/>
                    <a:pt x="35" y="204"/>
                    <a:pt x="35" y="204"/>
                  </a:cubicBezTo>
                  <a:cubicBezTo>
                    <a:pt x="27" y="196"/>
                    <a:pt x="19" y="190"/>
                    <a:pt x="15" y="180"/>
                  </a:cubicBezTo>
                  <a:cubicBezTo>
                    <a:pt x="12" y="172"/>
                    <a:pt x="7" y="156"/>
                    <a:pt x="7" y="156"/>
                  </a:cubicBezTo>
                  <a:cubicBezTo>
                    <a:pt x="3" y="128"/>
                    <a:pt x="0" y="86"/>
                    <a:pt x="27" y="68"/>
                  </a:cubicBezTo>
                  <a:cubicBezTo>
                    <a:pt x="31" y="56"/>
                    <a:pt x="37" y="37"/>
                    <a:pt x="43" y="28"/>
                  </a:cubicBezTo>
                  <a:cubicBezTo>
                    <a:pt x="51" y="16"/>
                    <a:pt x="92" y="5"/>
                    <a:pt x="107" y="0"/>
                  </a:cubicBezTo>
                  <a:cubicBezTo>
                    <a:pt x="149" y="3"/>
                    <a:pt x="191" y="4"/>
                    <a:pt x="227" y="28"/>
                  </a:cubicBezTo>
                  <a:cubicBezTo>
                    <a:pt x="232" y="66"/>
                    <a:pt x="245" y="114"/>
                    <a:pt x="215" y="144"/>
                  </a:cubicBezTo>
                  <a:cubicBezTo>
                    <a:pt x="196" y="201"/>
                    <a:pt x="153" y="236"/>
                    <a:pt x="91" y="236"/>
                  </a:cubicBez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56360" y="3860640"/>
              <a:ext cx="360360" cy="289080"/>
            </a:xfrm>
            <a:custGeom>
              <a:avLst/>
              <a:gdLst/>
              <a:ahLst/>
              <a:rect l="l" t="t" r="r" b="b"/>
              <a:pathLst>
                <a:path w="245" h="236">
                  <a:moveTo>
                    <a:pt x="91" y="236"/>
                  </a:moveTo>
                  <a:cubicBezTo>
                    <a:pt x="78" y="217"/>
                    <a:pt x="69" y="215"/>
                    <a:pt x="47" y="208"/>
                  </a:cubicBezTo>
                  <a:cubicBezTo>
                    <a:pt x="43" y="207"/>
                    <a:pt x="35" y="204"/>
                    <a:pt x="35" y="204"/>
                  </a:cubicBezTo>
                  <a:cubicBezTo>
                    <a:pt x="27" y="196"/>
                    <a:pt x="19" y="190"/>
                    <a:pt x="15" y="180"/>
                  </a:cubicBezTo>
                  <a:cubicBezTo>
                    <a:pt x="12" y="172"/>
                    <a:pt x="7" y="156"/>
                    <a:pt x="7" y="156"/>
                  </a:cubicBezTo>
                  <a:cubicBezTo>
                    <a:pt x="3" y="128"/>
                    <a:pt x="0" y="86"/>
                    <a:pt x="27" y="68"/>
                  </a:cubicBezTo>
                  <a:cubicBezTo>
                    <a:pt x="31" y="56"/>
                    <a:pt x="37" y="37"/>
                    <a:pt x="43" y="28"/>
                  </a:cubicBezTo>
                  <a:cubicBezTo>
                    <a:pt x="51" y="16"/>
                    <a:pt x="92" y="5"/>
                    <a:pt x="107" y="0"/>
                  </a:cubicBezTo>
                  <a:cubicBezTo>
                    <a:pt x="149" y="3"/>
                    <a:pt x="191" y="4"/>
                    <a:pt x="227" y="28"/>
                  </a:cubicBezTo>
                  <a:cubicBezTo>
                    <a:pt x="232" y="66"/>
                    <a:pt x="245" y="114"/>
                    <a:pt x="215" y="144"/>
                  </a:cubicBezTo>
                  <a:cubicBezTo>
                    <a:pt x="196" y="201"/>
                    <a:pt x="153" y="236"/>
                    <a:pt x="91" y="236"/>
                  </a:cubicBez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300720" y="6021360"/>
              <a:ext cx="360360" cy="301680"/>
            </a:xfrm>
            <a:custGeom>
              <a:avLst/>
              <a:gdLst/>
              <a:ahLst/>
              <a:rect l="l" t="t" r="r" b="b"/>
              <a:pathLst>
                <a:path w="245" h="236">
                  <a:moveTo>
                    <a:pt x="91" y="236"/>
                  </a:moveTo>
                  <a:cubicBezTo>
                    <a:pt x="78" y="217"/>
                    <a:pt x="69" y="215"/>
                    <a:pt x="47" y="208"/>
                  </a:cubicBezTo>
                  <a:cubicBezTo>
                    <a:pt x="43" y="207"/>
                    <a:pt x="35" y="204"/>
                    <a:pt x="35" y="204"/>
                  </a:cubicBezTo>
                  <a:cubicBezTo>
                    <a:pt x="27" y="196"/>
                    <a:pt x="19" y="190"/>
                    <a:pt x="15" y="180"/>
                  </a:cubicBezTo>
                  <a:cubicBezTo>
                    <a:pt x="12" y="172"/>
                    <a:pt x="7" y="156"/>
                    <a:pt x="7" y="156"/>
                  </a:cubicBezTo>
                  <a:cubicBezTo>
                    <a:pt x="3" y="128"/>
                    <a:pt x="0" y="86"/>
                    <a:pt x="27" y="68"/>
                  </a:cubicBezTo>
                  <a:cubicBezTo>
                    <a:pt x="31" y="56"/>
                    <a:pt x="37" y="37"/>
                    <a:pt x="43" y="28"/>
                  </a:cubicBezTo>
                  <a:cubicBezTo>
                    <a:pt x="51" y="16"/>
                    <a:pt x="92" y="5"/>
                    <a:pt x="107" y="0"/>
                  </a:cubicBezTo>
                  <a:cubicBezTo>
                    <a:pt x="149" y="3"/>
                    <a:pt x="191" y="4"/>
                    <a:pt x="227" y="28"/>
                  </a:cubicBezTo>
                  <a:cubicBezTo>
                    <a:pt x="232" y="66"/>
                    <a:pt x="245" y="114"/>
                    <a:pt x="215" y="144"/>
                  </a:cubicBezTo>
                  <a:cubicBezTo>
                    <a:pt x="196" y="201"/>
                    <a:pt x="153" y="236"/>
                    <a:pt x="91" y="236"/>
                  </a:cubicBez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32360" y="6021360"/>
              <a:ext cx="431640" cy="374760"/>
            </a:xfrm>
            <a:custGeom>
              <a:avLst/>
              <a:gdLst/>
              <a:ahLst/>
              <a:rect l="l" t="t" r="r" b="b"/>
              <a:pathLst>
                <a:path w="245" h="236">
                  <a:moveTo>
                    <a:pt x="91" y="236"/>
                  </a:moveTo>
                  <a:cubicBezTo>
                    <a:pt x="78" y="217"/>
                    <a:pt x="69" y="215"/>
                    <a:pt x="47" y="208"/>
                  </a:cubicBezTo>
                  <a:cubicBezTo>
                    <a:pt x="43" y="207"/>
                    <a:pt x="35" y="204"/>
                    <a:pt x="35" y="204"/>
                  </a:cubicBezTo>
                  <a:cubicBezTo>
                    <a:pt x="27" y="196"/>
                    <a:pt x="19" y="190"/>
                    <a:pt x="15" y="180"/>
                  </a:cubicBezTo>
                  <a:cubicBezTo>
                    <a:pt x="12" y="172"/>
                    <a:pt x="7" y="156"/>
                    <a:pt x="7" y="156"/>
                  </a:cubicBezTo>
                  <a:cubicBezTo>
                    <a:pt x="3" y="128"/>
                    <a:pt x="0" y="86"/>
                    <a:pt x="27" y="68"/>
                  </a:cubicBezTo>
                  <a:cubicBezTo>
                    <a:pt x="31" y="56"/>
                    <a:pt x="37" y="37"/>
                    <a:pt x="43" y="28"/>
                  </a:cubicBezTo>
                  <a:cubicBezTo>
                    <a:pt x="51" y="16"/>
                    <a:pt x="92" y="5"/>
                    <a:pt x="107" y="0"/>
                  </a:cubicBezTo>
                  <a:cubicBezTo>
                    <a:pt x="149" y="3"/>
                    <a:pt x="191" y="4"/>
                    <a:pt x="227" y="28"/>
                  </a:cubicBezTo>
                  <a:cubicBezTo>
                    <a:pt x="232" y="66"/>
                    <a:pt x="245" y="114"/>
                    <a:pt x="215" y="144"/>
                  </a:cubicBezTo>
                  <a:cubicBezTo>
                    <a:pt x="196" y="201"/>
                    <a:pt x="153" y="236"/>
                    <a:pt x="91" y="236"/>
                  </a:cubicBez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231760" y="5445000"/>
              <a:ext cx="311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49760" y="4292640"/>
              <a:ext cx="311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49760" y="3141720"/>
              <a:ext cx="311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249760" y="2060640"/>
              <a:ext cx="311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64000" y="1125360"/>
              <a:ext cx="648000" cy="574920"/>
            </a:xfrm>
            <a:custGeom>
              <a:avLst/>
              <a:gdLst/>
              <a:ahLst/>
              <a:rect l="l" t="t" r="r" b="b"/>
              <a:pathLst>
                <a:path w="4" h="452">
                  <a:moveTo>
                    <a:pt x="4" y="0"/>
                  </a:moveTo>
                  <a:lnTo>
                    <a:pt x="0" y="452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4500720" y="1125360"/>
              <a:ext cx="576000" cy="574920"/>
            </a:xfrm>
            <a:custGeom>
              <a:avLst/>
              <a:gdLst/>
              <a:ahLst/>
              <a:rect l="l" t="t" r="r" b="b"/>
              <a:pathLst>
                <a:path w="4" h="452">
                  <a:moveTo>
                    <a:pt x="4" y="0"/>
                  </a:moveTo>
                  <a:lnTo>
                    <a:pt x="0" y="452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076720" y="3284640"/>
              <a:ext cx="6480" cy="360360"/>
            </a:xfrm>
            <a:custGeom>
              <a:avLst/>
              <a:gdLst/>
              <a:ahLst/>
              <a:rect l="l" t="t" r="r" b="b"/>
              <a:pathLst>
                <a:path w="4" h="452">
                  <a:moveTo>
                    <a:pt x="4" y="0"/>
                  </a:moveTo>
                  <a:lnTo>
                    <a:pt x="0" y="452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35640" y="3284640"/>
              <a:ext cx="6480" cy="431640"/>
            </a:xfrm>
            <a:custGeom>
              <a:avLst/>
              <a:gdLst/>
              <a:ahLst/>
              <a:rect l="l" t="t" r="r" b="b"/>
              <a:pathLst>
                <a:path w="4" h="452">
                  <a:moveTo>
                    <a:pt x="4" y="0"/>
                  </a:moveTo>
                  <a:lnTo>
                    <a:pt x="0" y="452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00720" y="3500280"/>
              <a:ext cx="6480" cy="360360"/>
            </a:xfrm>
            <a:custGeom>
              <a:avLst/>
              <a:gdLst/>
              <a:ahLst/>
              <a:rect l="l" t="t" r="r" b="b"/>
              <a:pathLst>
                <a:path w="4" h="452">
                  <a:moveTo>
                    <a:pt x="4" y="0"/>
                  </a:moveTo>
                  <a:lnTo>
                    <a:pt x="0" y="452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43640" y="3429000"/>
              <a:ext cx="6480" cy="431640"/>
            </a:xfrm>
            <a:custGeom>
              <a:avLst/>
              <a:gdLst/>
              <a:ahLst/>
              <a:rect l="l" t="t" r="r" b="b"/>
              <a:pathLst>
                <a:path w="4" h="452">
                  <a:moveTo>
                    <a:pt x="4" y="0"/>
                  </a:moveTo>
                  <a:lnTo>
                    <a:pt x="0" y="452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88000" y="4438800"/>
              <a:ext cx="719280" cy="502920"/>
            </a:xfrm>
            <a:custGeom>
              <a:avLst/>
              <a:gdLst/>
              <a:ahLst/>
              <a:rect l="l" t="t" r="r" b="b"/>
              <a:pathLst>
                <a:path w="4" h="452">
                  <a:moveTo>
                    <a:pt x="4" y="0"/>
                  </a:moveTo>
                  <a:lnTo>
                    <a:pt x="0" y="452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35640" y="4365720"/>
              <a:ext cx="718920" cy="503280"/>
            </a:xfrm>
            <a:custGeom>
              <a:avLst/>
              <a:gdLst/>
              <a:ahLst/>
              <a:rect l="l" t="t" r="r" b="b"/>
              <a:pathLst>
                <a:path w="4" h="452">
                  <a:moveTo>
                    <a:pt x="4" y="0"/>
                  </a:moveTo>
                  <a:lnTo>
                    <a:pt x="0" y="452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524000" y="3284640"/>
              <a:ext cx="71640" cy="287280"/>
            </a:xfrm>
            <a:custGeom>
              <a:avLst/>
              <a:gdLst/>
              <a:ahLst/>
              <a:rect l="l" t="t" r="r" b="b"/>
              <a:pathLst>
                <a:path w="4" h="452">
                  <a:moveTo>
                    <a:pt x="4" y="0"/>
                  </a:moveTo>
                  <a:lnTo>
                    <a:pt x="0" y="452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01080" y="5013360"/>
              <a:ext cx="358560" cy="144360"/>
            </a:xfrm>
            <a:custGeom>
              <a:avLst/>
              <a:gdLst/>
              <a:ahLst/>
              <a:rect l="l" t="t" r="r" b="b"/>
              <a:pathLst>
                <a:path w="4" h="452">
                  <a:moveTo>
                    <a:pt x="4" y="0"/>
                  </a:moveTo>
                  <a:lnTo>
                    <a:pt x="0" y="452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96360" y="1052640"/>
              <a:ext cx="502920" cy="431640"/>
            </a:xfrm>
            <a:custGeom>
              <a:avLst/>
              <a:gdLst/>
              <a:ahLst/>
              <a:rect l="l" t="t" r="r" b="b"/>
              <a:pathLst>
                <a:path w="4" h="452">
                  <a:moveTo>
                    <a:pt x="4" y="0"/>
                  </a:moveTo>
                  <a:lnTo>
                    <a:pt x="0" y="452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8178480" y="1052640"/>
            <a:ext cx="311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0F403-48B5-4329-9B0D-D93557A61C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2438280" y="2997360"/>
            <a:ext cx="4797360" cy="1158840"/>
            <a:chOff x="2438280" y="2997360"/>
            <a:chExt cx="4797360" cy="1158840"/>
          </a:xfrm>
        </p:grpSpPr>
        <p:sp>
          <p:nvSpPr>
            <p:cNvPr id="258" name=""/>
            <p:cNvSpPr/>
            <p:nvPr/>
          </p:nvSpPr>
          <p:spPr>
            <a:xfrm>
              <a:off x="2438280" y="3575160"/>
              <a:ext cx="609480" cy="581040"/>
            </a:xfrm>
            <a:custGeom>
              <a:avLst/>
              <a:gdLst/>
              <a:ahLst/>
              <a:rect l="l" t="t" r="r" b="b"/>
              <a:pathLst>
                <a:path w="384" h="366">
                  <a:moveTo>
                    <a:pt x="372" y="264"/>
                  </a:moveTo>
                  <a:cubicBezTo>
                    <a:pt x="356" y="292"/>
                    <a:pt x="347" y="325"/>
                    <a:pt x="324" y="348"/>
                  </a:cubicBezTo>
                  <a:cubicBezTo>
                    <a:pt x="314" y="358"/>
                    <a:pt x="296" y="351"/>
                    <a:pt x="282" y="354"/>
                  </a:cubicBezTo>
                  <a:cubicBezTo>
                    <a:pt x="270" y="357"/>
                    <a:pt x="246" y="366"/>
                    <a:pt x="246" y="366"/>
                  </a:cubicBezTo>
                  <a:cubicBezTo>
                    <a:pt x="207" y="362"/>
                    <a:pt x="176" y="354"/>
                    <a:pt x="138" y="348"/>
                  </a:cubicBezTo>
                  <a:cubicBezTo>
                    <a:pt x="121" y="323"/>
                    <a:pt x="105" y="285"/>
                    <a:pt x="78" y="276"/>
                  </a:cubicBezTo>
                  <a:cubicBezTo>
                    <a:pt x="74" y="270"/>
                    <a:pt x="67" y="265"/>
                    <a:pt x="66" y="258"/>
                  </a:cubicBezTo>
                  <a:cubicBezTo>
                    <a:pt x="61" y="232"/>
                    <a:pt x="69" y="205"/>
                    <a:pt x="60" y="180"/>
                  </a:cubicBezTo>
                  <a:cubicBezTo>
                    <a:pt x="56" y="168"/>
                    <a:pt x="39" y="166"/>
                    <a:pt x="30" y="156"/>
                  </a:cubicBezTo>
                  <a:cubicBezTo>
                    <a:pt x="8" y="132"/>
                    <a:pt x="8" y="126"/>
                    <a:pt x="0" y="102"/>
                  </a:cubicBezTo>
                  <a:cubicBezTo>
                    <a:pt x="18" y="84"/>
                    <a:pt x="33" y="80"/>
                    <a:pt x="54" y="66"/>
                  </a:cubicBezTo>
                  <a:cubicBezTo>
                    <a:pt x="56" y="52"/>
                    <a:pt x="54" y="37"/>
                    <a:pt x="60" y="24"/>
                  </a:cubicBezTo>
                  <a:cubicBezTo>
                    <a:pt x="63" y="19"/>
                    <a:pt x="126" y="1"/>
                    <a:pt x="132" y="0"/>
                  </a:cubicBezTo>
                  <a:cubicBezTo>
                    <a:pt x="153" y="2"/>
                    <a:pt x="210" y="2"/>
                    <a:pt x="234" y="18"/>
                  </a:cubicBezTo>
                  <a:cubicBezTo>
                    <a:pt x="240" y="22"/>
                    <a:pt x="245" y="28"/>
                    <a:pt x="252" y="30"/>
                  </a:cubicBezTo>
                  <a:cubicBezTo>
                    <a:pt x="303" y="45"/>
                    <a:pt x="340" y="43"/>
                    <a:pt x="384" y="72"/>
                  </a:cubicBezTo>
                  <a:cubicBezTo>
                    <a:pt x="375" y="118"/>
                    <a:pt x="372" y="132"/>
                    <a:pt x="384" y="180"/>
                  </a:cubicBezTo>
                  <a:cubicBezTo>
                    <a:pt x="378" y="218"/>
                    <a:pt x="365" y="227"/>
                    <a:pt x="372" y="264"/>
                  </a:cubicBez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54160" y="3213000"/>
              <a:ext cx="609480" cy="581040"/>
            </a:xfrm>
            <a:custGeom>
              <a:avLst/>
              <a:gdLst/>
              <a:ahLst/>
              <a:rect l="l" t="t" r="r" b="b"/>
              <a:pathLst>
                <a:path w="384" h="366">
                  <a:moveTo>
                    <a:pt x="372" y="264"/>
                  </a:moveTo>
                  <a:cubicBezTo>
                    <a:pt x="356" y="292"/>
                    <a:pt x="347" y="325"/>
                    <a:pt x="324" y="348"/>
                  </a:cubicBezTo>
                  <a:cubicBezTo>
                    <a:pt x="314" y="358"/>
                    <a:pt x="296" y="351"/>
                    <a:pt x="282" y="354"/>
                  </a:cubicBezTo>
                  <a:cubicBezTo>
                    <a:pt x="270" y="357"/>
                    <a:pt x="246" y="366"/>
                    <a:pt x="246" y="366"/>
                  </a:cubicBezTo>
                  <a:cubicBezTo>
                    <a:pt x="207" y="362"/>
                    <a:pt x="176" y="354"/>
                    <a:pt x="138" y="348"/>
                  </a:cubicBezTo>
                  <a:cubicBezTo>
                    <a:pt x="121" y="323"/>
                    <a:pt x="105" y="285"/>
                    <a:pt x="78" y="276"/>
                  </a:cubicBezTo>
                  <a:cubicBezTo>
                    <a:pt x="74" y="270"/>
                    <a:pt x="67" y="265"/>
                    <a:pt x="66" y="258"/>
                  </a:cubicBezTo>
                  <a:cubicBezTo>
                    <a:pt x="61" y="232"/>
                    <a:pt x="69" y="205"/>
                    <a:pt x="60" y="180"/>
                  </a:cubicBezTo>
                  <a:cubicBezTo>
                    <a:pt x="56" y="168"/>
                    <a:pt x="39" y="166"/>
                    <a:pt x="30" y="156"/>
                  </a:cubicBezTo>
                  <a:cubicBezTo>
                    <a:pt x="8" y="132"/>
                    <a:pt x="8" y="126"/>
                    <a:pt x="0" y="102"/>
                  </a:cubicBezTo>
                  <a:cubicBezTo>
                    <a:pt x="18" y="84"/>
                    <a:pt x="33" y="80"/>
                    <a:pt x="54" y="66"/>
                  </a:cubicBezTo>
                  <a:cubicBezTo>
                    <a:pt x="56" y="52"/>
                    <a:pt x="54" y="37"/>
                    <a:pt x="60" y="24"/>
                  </a:cubicBezTo>
                  <a:cubicBezTo>
                    <a:pt x="63" y="19"/>
                    <a:pt x="126" y="1"/>
                    <a:pt x="132" y="0"/>
                  </a:cubicBezTo>
                  <a:cubicBezTo>
                    <a:pt x="153" y="2"/>
                    <a:pt x="210" y="2"/>
                    <a:pt x="234" y="18"/>
                  </a:cubicBezTo>
                  <a:cubicBezTo>
                    <a:pt x="240" y="22"/>
                    <a:pt x="245" y="28"/>
                    <a:pt x="252" y="30"/>
                  </a:cubicBezTo>
                  <a:cubicBezTo>
                    <a:pt x="303" y="45"/>
                    <a:pt x="340" y="43"/>
                    <a:pt x="384" y="72"/>
                  </a:cubicBezTo>
                  <a:cubicBezTo>
                    <a:pt x="375" y="118"/>
                    <a:pt x="372" y="132"/>
                    <a:pt x="384" y="180"/>
                  </a:cubicBezTo>
                  <a:cubicBezTo>
                    <a:pt x="378" y="218"/>
                    <a:pt x="365" y="227"/>
                    <a:pt x="372" y="264"/>
                  </a:cubicBez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05080" y="2997360"/>
              <a:ext cx="609480" cy="581040"/>
            </a:xfrm>
            <a:custGeom>
              <a:avLst/>
              <a:gdLst/>
              <a:ahLst/>
              <a:rect l="l" t="t" r="r" b="b"/>
              <a:pathLst>
                <a:path w="384" h="366">
                  <a:moveTo>
                    <a:pt x="372" y="264"/>
                  </a:moveTo>
                  <a:cubicBezTo>
                    <a:pt x="356" y="292"/>
                    <a:pt x="347" y="325"/>
                    <a:pt x="324" y="348"/>
                  </a:cubicBezTo>
                  <a:cubicBezTo>
                    <a:pt x="314" y="358"/>
                    <a:pt x="296" y="351"/>
                    <a:pt x="282" y="354"/>
                  </a:cubicBezTo>
                  <a:cubicBezTo>
                    <a:pt x="270" y="357"/>
                    <a:pt x="246" y="366"/>
                    <a:pt x="246" y="366"/>
                  </a:cubicBezTo>
                  <a:cubicBezTo>
                    <a:pt x="207" y="362"/>
                    <a:pt x="176" y="354"/>
                    <a:pt x="138" y="348"/>
                  </a:cubicBezTo>
                  <a:cubicBezTo>
                    <a:pt x="121" y="323"/>
                    <a:pt x="105" y="285"/>
                    <a:pt x="78" y="276"/>
                  </a:cubicBezTo>
                  <a:cubicBezTo>
                    <a:pt x="74" y="270"/>
                    <a:pt x="67" y="265"/>
                    <a:pt x="66" y="258"/>
                  </a:cubicBezTo>
                  <a:cubicBezTo>
                    <a:pt x="61" y="232"/>
                    <a:pt x="69" y="205"/>
                    <a:pt x="60" y="180"/>
                  </a:cubicBezTo>
                  <a:cubicBezTo>
                    <a:pt x="56" y="168"/>
                    <a:pt x="39" y="166"/>
                    <a:pt x="30" y="156"/>
                  </a:cubicBezTo>
                  <a:cubicBezTo>
                    <a:pt x="8" y="132"/>
                    <a:pt x="8" y="126"/>
                    <a:pt x="0" y="102"/>
                  </a:cubicBezTo>
                  <a:cubicBezTo>
                    <a:pt x="18" y="84"/>
                    <a:pt x="33" y="80"/>
                    <a:pt x="54" y="66"/>
                  </a:cubicBezTo>
                  <a:cubicBezTo>
                    <a:pt x="56" y="52"/>
                    <a:pt x="54" y="37"/>
                    <a:pt x="60" y="24"/>
                  </a:cubicBezTo>
                  <a:cubicBezTo>
                    <a:pt x="63" y="19"/>
                    <a:pt x="126" y="1"/>
                    <a:pt x="132" y="0"/>
                  </a:cubicBezTo>
                  <a:cubicBezTo>
                    <a:pt x="153" y="2"/>
                    <a:pt x="210" y="2"/>
                    <a:pt x="234" y="18"/>
                  </a:cubicBezTo>
                  <a:cubicBezTo>
                    <a:pt x="240" y="22"/>
                    <a:pt x="245" y="28"/>
                    <a:pt x="252" y="30"/>
                  </a:cubicBezTo>
                  <a:cubicBezTo>
                    <a:pt x="303" y="45"/>
                    <a:pt x="340" y="43"/>
                    <a:pt x="384" y="72"/>
                  </a:cubicBezTo>
                  <a:cubicBezTo>
                    <a:pt x="375" y="118"/>
                    <a:pt x="372" y="132"/>
                    <a:pt x="384" y="180"/>
                  </a:cubicBezTo>
                  <a:cubicBezTo>
                    <a:pt x="378" y="218"/>
                    <a:pt x="365" y="227"/>
                    <a:pt x="372" y="264"/>
                  </a:cubicBez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81440" y="3357720"/>
              <a:ext cx="609480" cy="581040"/>
            </a:xfrm>
            <a:custGeom>
              <a:avLst/>
              <a:gdLst/>
              <a:ahLst/>
              <a:rect l="l" t="t" r="r" b="b"/>
              <a:pathLst>
                <a:path w="384" h="366">
                  <a:moveTo>
                    <a:pt x="372" y="264"/>
                  </a:moveTo>
                  <a:cubicBezTo>
                    <a:pt x="356" y="292"/>
                    <a:pt x="347" y="325"/>
                    <a:pt x="324" y="348"/>
                  </a:cubicBezTo>
                  <a:cubicBezTo>
                    <a:pt x="314" y="358"/>
                    <a:pt x="296" y="351"/>
                    <a:pt x="282" y="354"/>
                  </a:cubicBezTo>
                  <a:cubicBezTo>
                    <a:pt x="270" y="357"/>
                    <a:pt x="246" y="366"/>
                    <a:pt x="246" y="366"/>
                  </a:cubicBezTo>
                  <a:cubicBezTo>
                    <a:pt x="207" y="362"/>
                    <a:pt x="176" y="354"/>
                    <a:pt x="138" y="348"/>
                  </a:cubicBezTo>
                  <a:cubicBezTo>
                    <a:pt x="121" y="323"/>
                    <a:pt x="105" y="285"/>
                    <a:pt x="78" y="276"/>
                  </a:cubicBezTo>
                  <a:cubicBezTo>
                    <a:pt x="74" y="270"/>
                    <a:pt x="67" y="265"/>
                    <a:pt x="66" y="258"/>
                  </a:cubicBezTo>
                  <a:cubicBezTo>
                    <a:pt x="61" y="232"/>
                    <a:pt x="69" y="205"/>
                    <a:pt x="60" y="180"/>
                  </a:cubicBezTo>
                  <a:cubicBezTo>
                    <a:pt x="56" y="168"/>
                    <a:pt x="39" y="166"/>
                    <a:pt x="30" y="156"/>
                  </a:cubicBezTo>
                  <a:cubicBezTo>
                    <a:pt x="8" y="132"/>
                    <a:pt x="8" y="126"/>
                    <a:pt x="0" y="102"/>
                  </a:cubicBezTo>
                  <a:cubicBezTo>
                    <a:pt x="18" y="84"/>
                    <a:pt x="33" y="80"/>
                    <a:pt x="54" y="66"/>
                  </a:cubicBezTo>
                  <a:cubicBezTo>
                    <a:pt x="56" y="52"/>
                    <a:pt x="54" y="37"/>
                    <a:pt x="60" y="24"/>
                  </a:cubicBezTo>
                  <a:cubicBezTo>
                    <a:pt x="63" y="19"/>
                    <a:pt x="126" y="1"/>
                    <a:pt x="132" y="0"/>
                  </a:cubicBezTo>
                  <a:cubicBezTo>
                    <a:pt x="153" y="2"/>
                    <a:pt x="210" y="2"/>
                    <a:pt x="234" y="18"/>
                  </a:cubicBezTo>
                  <a:cubicBezTo>
                    <a:pt x="240" y="22"/>
                    <a:pt x="245" y="28"/>
                    <a:pt x="252" y="30"/>
                  </a:cubicBezTo>
                  <a:cubicBezTo>
                    <a:pt x="303" y="45"/>
                    <a:pt x="340" y="43"/>
                    <a:pt x="384" y="72"/>
                  </a:cubicBezTo>
                  <a:cubicBezTo>
                    <a:pt x="375" y="118"/>
                    <a:pt x="372" y="132"/>
                    <a:pt x="384" y="180"/>
                  </a:cubicBezTo>
                  <a:cubicBezTo>
                    <a:pt x="378" y="218"/>
                    <a:pt x="365" y="227"/>
                    <a:pt x="372" y="264"/>
                  </a:cubicBez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5800" y="2997360"/>
              <a:ext cx="609840" cy="581040"/>
            </a:xfrm>
            <a:custGeom>
              <a:avLst/>
              <a:gdLst/>
              <a:ahLst/>
              <a:rect l="l" t="t" r="r" b="b"/>
              <a:pathLst>
                <a:path w="384" h="366">
                  <a:moveTo>
                    <a:pt x="372" y="264"/>
                  </a:moveTo>
                  <a:cubicBezTo>
                    <a:pt x="356" y="292"/>
                    <a:pt x="347" y="325"/>
                    <a:pt x="324" y="348"/>
                  </a:cubicBezTo>
                  <a:cubicBezTo>
                    <a:pt x="314" y="358"/>
                    <a:pt x="296" y="351"/>
                    <a:pt x="282" y="354"/>
                  </a:cubicBezTo>
                  <a:cubicBezTo>
                    <a:pt x="270" y="357"/>
                    <a:pt x="246" y="366"/>
                    <a:pt x="246" y="366"/>
                  </a:cubicBezTo>
                  <a:cubicBezTo>
                    <a:pt x="207" y="362"/>
                    <a:pt x="176" y="354"/>
                    <a:pt x="138" y="348"/>
                  </a:cubicBezTo>
                  <a:cubicBezTo>
                    <a:pt x="121" y="323"/>
                    <a:pt x="105" y="285"/>
                    <a:pt x="78" y="276"/>
                  </a:cubicBezTo>
                  <a:cubicBezTo>
                    <a:pt x="74" y="270"/>
                    <a:pt x="67" y="265"/>
                    <a:pt x="66" y="258"/>
                  </a:cubicBezTo>
                  <a:cubicBezTo>
                    <a:pt x="61" y="232"/>
                    <a:pt x="69" y="205"/>
                    <a:pt x="60" y="180"/>
                  </a:cubicBezTo>
                  <a:cubicBezTo>
                    <a:pt x="56" y="168"/>
                    <a:pt x="39" y="166"/>
                    <a:pt x="30" y="156"/>
                  </a:cubicBezTo>
                  <a:cubicBezTo>
                    <a:pt x="8" y="132"/>
                    <a:pt x="8" y="126"/>
                    <a:pt x="0" y="102"/>
                  </a:cubicBezTo>
                  <a:cubicBezTo>
                    <a:pt x="18" y="84"/>
                    <a:pt x="33" y="80"/>
                    <a:pt x="54" y="66"/>
                  </a:cubicBezTo>
                  <a:cubicBezTo>
                    <a:pt x="56" y="52"/>
                    <a:pt x="54" y="37"/>
                    <a:pt x="60" y="24"/>
                  </a:cubicBezTo>
                  <a:cubicBezTo>
                    <a:pt x="63" y="19"/>
                    <a:pt x="126" y="1"/>
                    <a:pt x="132" y="0"/>
                  </a:cubicBezTo>
                  <a:cubicBezTo>
                    <a:pt x="153" y="2"/>
                    <a:pt x="210" y="2"/>
                    <a:pt x="234" y="18"/>
                  </a:cubicBezTo>
                  <a:cubicBezTo>
                    <a:pt x="240" y="22"/>
                    <a:pt x="245" y="28"/>
                    <a:pt x="252" y="30"/>
                  </a:cubicBezTo>
                  <a:cubicBezTo>
                    <a:pt x="303" y="45"/>
                    <a:pt x="340" y="43"/>
                    <a:pt x="384" y="72"/>
                  </a:cubicBezTo>
                  <a:cubicBezTo>
                    <a:pt x="375" y="118"/>
                    <a:pt x="372" y="132"/>
                    <a:pt x="384" y="180"/>
                  </a:cubicBezTo>
                  <a:cubicBezTo>
                    <a:pt x="378" y="218"/>
                    <a:pt x="365" y="227"/>
                    <a:pt x="372" y="264"/>
                  </a:cubicBez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914400" y="105264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acteurs développement*compé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315440" y="3207960"/>
            <a:ext cx="6280920" cy="941760"/>
            <a:chOff x="1315440" y="3207960"/>
            <a:chExt cx="6280920" cy="941760"/>
          </a:xfrm>
        </p:grpSpPr>
        <p:grpSp>
          <p:nvGrpSpPr>
            <p:cNvPr id="265" name=""/>
            <p:cNvGrpSpPr/>
            <p:nvPr/>
          </p:nvGrpSpPr>
          <p:grpSpPr>
            <a:xfrm>
              <a:off x="6913800" y="3646080"/>
              <a:ext cx="360360" cy="216360"/>
              <a:chOff x="6913800" y="3646080"/>
              <a:chExt cx="360360" cy="216360"/>
            </a:xfrm>
          </p:grpSpPr>
          <p:sp>
            <p:nvSpPr>
              <p:cNvPr id="266" name=""/>
              <p:cNvSpPr/>
              <p:nvPr/>
            </p:nvSpPr>
            <p:spPr>
              <a:xfrm>
                <a:off x="6913800" y="3718080"/>
                <a:ext cx="36036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7129440" y="3646080"/>
                <a:ext cx="144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15440" y="3207960"/>
              <a:ext cx="6280920" cy="941760"/>
              <a:chOff x="1315440" y="3207960"/>
              <a:chExt cx="6280920" cy="94176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2738160" y="3207960"/>
                <a:ext cx="4858200" cy="941760"/>
                <a:chOff x="2738160" y="3207960"/>
                <a:chExt cx="4858200" cy="94176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6630840" y="3342240"/>
                  <a:ext cx="351000" cy="165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V="1">
                  <a:off x="6838560" y="3285360"/>
                  <a:ext cx="15156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313080" y="3497040"/>
                  <a:ext cx="289080" cy="14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 flipV="1">
                  <a:off x="3312720" y="3352680"/>
                  <a:ext cx="14436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241440" y="3568680"/>
                  <a:ext cx="215640" cy="73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809800" y="3857400"/>
                  <a:ext cx="289080" cy="14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 flipV="1">
                  <a:off x="2809440" y="3713040"/>
                  <a:ext cx="14436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>
                  <a:off x="2738160" y="3929040"/>
                  <a:ext cx="215640" cy="73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897440" y="3568680"/>
                  <a:ext cx="28908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H="1" flipV="1">
                  <a:off x="4897080" y="3423960"/>
                  <a:ext cx="144360" cy="216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4825800" y="3639960"/>
                  <a:ext cx="215640" cy="73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465800" y="3352680"/>
                  <a:ext cx="288720" cy="14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H="1" flipV="1">
                  <a:off x="4465440" y="3207960"/>
                  <a:ext cx="144360" cy="21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4394160" y="3423960"/>
                  <a:ext cx="216000" cy="73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986520" y="3568680"/>
                  <a:ext cx="609840" cy="581040"/>
                </a:xfrm>
                <a:custGeom>
                  <a:avLst/>
                  <a:gdLst/>
                  <a:ahLst/>
                  <a:rect l="l" t="t" r="r" b="b"/>
                  <a:pathLst>
                    <a:path w="384" h="366">
                      <a:moveTo>
                        <a:pt x="372" y="264"/>
                      </a:moveTo>
                      <a:cubicBezTo>
                        <a:pt x="356" y="292"/>
                        <a:pt x="347" y="325"/>
                        <a:pt x="324" y="348"/>
                      </a:cubicBezTo>
                      <a:cubicBezTo>
                        <a:pt x="314" y="358"/>
                        <a:pt x="296" y="351"/>
                        <a:pt x="282" y="354"/>
                      </a:cubicBezTo>
                      <a:cubicBezTo>
                        <a:pt x="270" y="357"/>
                        <a:pt x="246" y="366"/>
                        <a:pt x="246" y="366"/>
                      </a:cubicBezTo>
                      <a:cubicBezTo>
                        <a:pt x="207" y="362"/>
                        <a:pt x="176" y="354"/>
                        <a:pt x="138" y="348"/>
                      </a:cubicBezTo>
                      <a:cubicBezTo>
                        <a:pt x="121" y="323"/>
                        <a:pt x="105" y="285"/>
                        <a:pt x="78" y="276"/>
                      </a:cubicBezTo>
                      <a:cubicBezTo>
                        <a:pt x="74" y="270"/>
                        <a:pt x="67" y="265"/>
                        <a:pt x="66" y="258"/>
                      </a:cubicBezTo>
                      <a:cubicBezTo>
                        <a:pt x="61" y="232"/>
                        <a:pt x="69" y="205"/>
                        <a:pt x="60" y="180"/>
                      </a:cubicBezTo>
                      <a:cubicBezTo>
                        <a:pt x="56" y="168"/>
                        <a:pt x="39" y="166"/>
                        <a:pt x="30" y="156"/>
                      </a:cubicBezTo>
                      <a:cubicBezTo>
                        <a:pt x="8" y="132"/>
                        <a:pt x="8" y="126"/>
                        <a:pt x="0" y="102"/>
                      </a:cubicBezTo>
                      <a:cubicBezTo>
                        <a:pt x="18" y="84"/>
                        <a:pt x="33" y="80"/>
                        <a:pt x="54" y="66"/>
                      </a:cubicBezTo>
                      <a:cubicBezTo>
                        <a:pt x="56" y="52"/>
                        <a:pt x="54" y="37"/>
                        <a:pt x="60" y="24"/>
                      </a:cubicBezTo>
                      <a:cubicBezTo>
                        <a:pt x="63" y="19"/>
                        <a:pt x="126" y="1"/>
                        <a:pt x="132" y="0"/>
                      </a:cubicBezTo>
                      <a:cubicBezTo>
                        <a:pt x="153" y="2"/>
                        <a:pt x="210" y="2"/>
                        <a:pt x="234" y="18"/>
                      </a:cubicBezTo>
                      <a:cubicBezTo>
                        <a:pt x="240" y="22"/>
                        <a:pt x="245" y="28"/>
                        <a:pt x="252" y="30"/>
                      </a:cubicBezTo>
                      <a:cubicBezTo>
                        <a:pt x="303" y="45"/>
                        <a:pt x="340" y="43"/>
                        <a:pt x="384" y="72"/>
                      </a:cubicBezTo>
                      <a:cubicBezTo>
                        <a:pt x="375" y="118"/>
                        <a:pt x="372" y="132"/>
                        <a:pt x="384" y="180"/>
                      </a:cubicBezTo>
                      <a:cubicBezTo>
                        <a:pt x="378" y="218"/>
                        <a:pt x="365" y="227"/>
                        <a:pt x="372" y="264"/>
                      </a:cubicBezTo>
                      <a:close/>
                    </a:path>
                  </a:pathLst>
                </a:custGeom>
                <a:solidFill>
                  <a:srgbClr val="00ff00">
                    <a:alpha val="34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"/>
              <p:cNvSpPr/>
              <p:nvPr/>
            </p:nvSpPr>
            <p:spPr>
              <a:xfrm>
                <a:off x="1315440" y="3711600"/>
                <a:ext cx="1067760" cy="368280"/>
              </a:xfrm>
              <a:prstGeom prst="rect">
                <a:avLst/>
              </a:prstGeom>
              <a:noFill/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rameau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6" name=""/>
          <p:cNvGrpSpPr/>
          <p:nvPr/>
        </p:nvGrpSpPr>
        <p:grpSpPr>
          <a:xfrm>
            <a:off x="2683800" y="3357720"/>
            <a:ext cx="4228920" cy="1231560"/>
            <a:chOff x="2683800" y="3357720"/>
            <a:chExt cx="4228920" cy="1231560"/>
          </a:xfrm>
        </p:grpSpPr>
        <p:grpSp>
          <p:nvGrpSpPr>
            <p:cNvPr id="287" name=""/>
            <p:cNvGrpSpPr/>
            <p:nvPr/>
          </p:nvGrpSpPr>
          <p:grpSpPr>
            <a:xfrm>
              <a:off x="3097080" y="3357720"/>
              <a:ext cx="3815640" cy="865080"/>
              <a:chOff x="3097080" y="3357720"/>
              <a:chExt cx="3815640" cy="865080"/>
            </a:xfrm>
          </p:grpSpPr>
          <p:sp>
            <p:nvSpPr>
              <p:cNvPr id="288" name=""/>
              <p:cNvSpPr/>
              <p:nvPr/>
            </p:nvSpPr>
            <p:spPr>
              <a:xfrm flipV="1">
                <a:off x="5978160" y="3717720"/>
                <a:ext cx="934560" cy="43164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9" name=""/>
              <p:cNvGrpSpPr/>
              <p:nvPr/>
            </p:nvGrpSpPr>
            <p:grpSpPr>
              <a:xfrm>
                <a:off x="3097080" y="3357720"/>
                <a:ext cx="3815640" cy="865080"/>
                <a:chOff x="3097080" y="3357720"/>
                <a:chExt cx="3815640" cy="865080"/>
              </a:xfrm>
            </p:grpSpPr>
            <p:sp>
              <p:nvSpPr>
                <p:cNvPr id="290" name=""/>
                <p:cNvSpPr/>
                <p:nvPr/>
              </p:nvSpPr>
              <p:spPr>
                <a:xfrm flipV="1">
                  <a:off x="5978160" y="3717720"/>
                  <a:ext cx="934560" cy="36036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 flipV="1">
                  <a:off x="3097080" y="4005360"/>
                  <a:ext cx="1008000" cy="2174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 flipV="1">
                  <a:off x="3097080" y="4005000"/>
                  <a:ext cx="1080720" cy="14436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V="1">
                  <a:off x="4393800" y="3501720"/>
                  <a:ext cx="358560" cy="6476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V="1">
                  <a:off x="4320720" y="3501720"/>
                  <a:ext cx="431640" cy="6476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H="1" flipV="1">
                  <a:off x="3601800" y="3646440"/>
                  <a:ext cx="718560" cy="50292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H="1" flipV="1">
                  <a:off x="3601440" y="3646440"/>
                  <a:ext cx="575640" cy="50292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 flipV="1">
                  <a:off x="5185800" y="3717720"/>
                  <a:ext cx="575640" cy="36036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186160" y="3718080"/>
                  <a:ext cx="718560" cy="36036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V="1">
                  <a:off x="5905080" y="3357720"/>
                  <a:ext cx="720360" cy="72072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H="1">
                  <a:off x="5978160" y="3357720"/>
                  <a:ext cx="647280" cy="72072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1" name=""/>
            <p:cNvSpPr/>
            <p:nvPr/>
          </p:nvSpPr>
          <p:spPr>
            <a:xfrm>
              <a:off x="2683800" y="4221000"/>
              <a:ext cx="1118160" cy="368280"/>
            </a:xfrm>
            <a:prstGeom prst="rect">
              <a:avLst/>
            </a:prstGeom>
            <a:noFill/>
            <a:ln w="316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branch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045240" y="4078080"/>
            <a:ext cx="2933280" cy="1014480"/>
            <a:chOff x="3045240" y="4078080"/>
            <a:chExt cx="2933280" cy="1014480"/>
          </a:xfrm>
        </p:grpSpPr>
        <p:sp>
          <p:nvSpPr>
            <p:cNvPr id="303" name=""/>
            <p:cNvSpPr/>
            <p:nvPr/>
          </p:nvSpPr>
          <p:spPr>
            <a:xfrm flipH="1" flipV="1">
              <a:off x="4105440" y="4222440"/>
              <a:ext cx="792000" cy="7189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4394160" y="4078080"/>
              <a:ext cx="1584360" cy="863280"/>
              <a:chOff x="4394160" y="4078080"/>
              <a:chExt cx="1584360" cy="863280"/>
            </a:xfrm>
          </p:grpSpPr>
          <p:sp>
            <p:nvSpPr>
              <p:cNvPr id="305" name=""/>
              <p:cNvSpPr/>
              <p:nvPr/>
            </p:nvSpPr>
            <p:spPr>
              <a:xfrm flipV="1">
                <a:off x="5186520" y="4149360"/>
                <a:ext cx="792000" cy="79200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394160" y="4149360"/>
                <a:ext cx="647640" cy="64764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5041800" y="4078080"/>
                <a:ext cx="720720" cy="71892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3045240" y="4724280"/>
              <a:ext cx="1561320" cy="368280"/>
            </a:xfrm>
            <a:prstGeom prst="rect">
              <a:avLst/>
            </a:prstGeom>
            <a:noFill/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charpentiè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123080" y="4941720"/>
            <a:ext cx="1063440" cy="1440000"/>
            <a:chOff x="4123080" y="4941720"/>
            <a:chExt cx="1063440" cy="1440000"/>
          </a:xfrm>
        </p:grpSpPr>
        <p:sp>
          <p:nvSpPr>
            <p:cNvPr id="310" name=""/>
            <p:cNvSpPr/>
            <p:nvPr/>
          </p:nvSpPr>
          <p:spPr>
            <a:xfrm>
              <a:off x="4897440" y="4941720"/>
              <a:ext cx="0" cy="144000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186520" y="4941720"/>
              <a:ext cx="0" cy="144000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123080" y="5518080"/>
              <a:ext cx="688320" cy="368280"/>
            </a:xfrm>
            <a:prstGeom prst="rect">
              <a:avLst/>
            </a:prstGeom>
            <a:noFill/>
            <a:ln w="316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tron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4465800" y="3789000"/>
            <a:ext cx="2405880" cy="936720"/>
            <a:chOff x="4465800" y="3789000"/>
            <a:chExt cx="2405880" cy="936720"/>
          </a:xfrm>
        </p:grpSpPr>
        <p:sp>
          <p:nvSpPr>
            <p:cNvPr id="314" name=""/>
            <p:cNvSpPr/>
            <p:nvPr/>
          </p:nvSpPr>
          <p:spPr>
            <a:xfrm flipV="1">
              <a:off x="4465800" y="3789000"/>
              <a:ext cx="287280" cy="28908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4465800" y="3789360"/>
              <a:ext cx="2405880" cy="936360"/>
              <a:chOff x="4465800" y="3789360"/>
              <a:chExt cx="2405880" cy="93636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4465800" y="3789360"/>
                <a:ext cx="1152360" cy="936360"/>
                <a:chOff x="4465800" y="3789360"/>
                <a:chExt cx="1152360" cy="936360"/>
              </a:xfrm>
            </p:grpSpPr>
            <p:sp>
              <p:nvSpPr>
                <p:cNvPr id="317" name=""/>
                <p:cNvSpPr/>
                <p:nvPr/>
              </p:nvSpPr>
              <p:spPr>
                <a:xfrm flipV="1">
                  <a:off x="4681440" y="3789360"/>
                  <a:ext cx="647640" cy="64944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V="1">
                  <a:off x="4753080" y="3862080"/>
                  <a:ext cx="649080" cy="64764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V="1">
                  <a:off x="4826160" y="3933720"/>
                  <a:ext cx="647640" cy="64764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V="1">
                  <a:off x="4897440" y="4005000"/>
                  <a:ext cx="647640" cy="64764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V="1">
                  <a:off x="4970520" y="4078080"/>
                  <a:ext cx="647640" cy="64764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V="1">
                  <a:off x="4610160" y="3933720"/>
                  <a:ext cx="431640" cy="43164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V="1">
                  <a:off x="4537080" y="3933720"/>
                  <a:ext cx="360360" cy="360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V="1">
                  <a:off x="4465800" y="3862080"/>
                  <a:ext cx="360360" cy="36036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"/>
              <p:cNvSpPr/>
              <p:nvPr/>
            </p:nvSpPr>
            <p:spPr>
              <a:xfrm>
                <a:off x="5980680" y="4149720"/>
                <a:ext cx="891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0000ff"/>
                    </a:solidFill>
                    <a:uFillTx/>
                    <a:latin typeface="Arial"/>
                  </a:rPr>
                  <a:t>fenêt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6" name=""/>
          <p:cNvGrpSpPr/>
          <p:nvPr/>
        </p:nvGrpSpPr>
        <p:grpSpPr>
          <a:xfrm>
            <a:off x="3673080" y="2492280"/>
            <a:ext cx="3600360" cy="1513080"/>
            <a:chOff x="3673080" y="2492280"/>
            <a:chExt cx="3600360" cy="1513080"/>
          </a:xfrm>
        </p:grpSpPr>
        <p:sp>
          <p:nvSpPr>
            <p:cNvPr id="327" name=""/>
            <p:cNvSpPr/>
            <p:nvPr/>
          </p:nvSpPr>
          <p:spPr>
            <a:xfrm flipV="1">
              <a:off x="5905080" y="2492280"/>
              <a:ext cx="1368360" cy="1511280"/>
            </a:xfrm>
            <a:prstGeom prst="line">
              <a:avLst/>
            </a:prstGeom>
            <a:ln w="284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 flipV="1">
              <a:off x="3673080" y="2781360"/>
              <a:ext cx="2231640" cy="1224000"/>
            </a:xfrm>
            <a:prstGeom prst="line">
              <a:avLst/>
            </a:prstGeom>
            <a:ln w="28440">
              <a:solidFill>
                <a:srgbClr val="3333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15960" y="2781360"/>
              <a:ext cx="13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ff"/>
                  </a:solidFill>
                  <a:uFillTx/>
                  <a:latin typeface="Arial"/>
                </a:rPr>
                <a:t>échancr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770040" y="1628640"/>
            <a:ext cx="8373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L’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79480" y="53640"/>
            <a:ext cx="7796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111640" y="4941720"/>
            <a:ext cx="40323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Stade de développ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70040" y="1916280"/>
            <a:ext cx="8373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rta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187280" y="2205000"/>
            <a:ext cx="8374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Comic Sans MS"/>
              </a:rPr>
              <a:t>transpa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233360" y="2924280"/>
            <a:ext cx="2501640" cy="865080"/>
            <a:chOff x="1233360" y="2924280"/>
            <a:chExt cx="2501640" cy="865080"/>
          </a:xfrm>
        </p:grpSpPr>
        <p:sp>
          <p:nvSpPr>
            <p:cNvPr id="336" name=""/>
            <p:cNvSpPr/>
            <p:nvPr/>
          </p:nvSpPr>
          <p:spPr>
            <a:xfrm>
              <a:off x="1233360" y="2924280"/>
              <a:ext cx="2501640" cy="368280"/>
            </a:xfrm>
            <a:prstGeom prst="rect">
              <a:avLst/>
            </a:prstGeom>
            <a:noFill/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ff"/>
                  </a:solidFill>
                  <a:uFillTx/>
                  <a:latin typeface="Arial"/>
                </a:rPr>
                <a:t>Transparence cimet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2124000" y="3213000"/>
              <a:ext cx="1008000" cy="576360"/>
              <a:chOff x="2124000" y="3213000"/>
              <a:chExt cx="1008000" cy="576360"/>
            </a:xfrm>
          </p:grpSpPr>
          <p:sp>
            <p:nvSpPr>
              <p:cNvPr id="338" name=""/>
              <p:cNvSpPr/>
              <p:nvPr/>
            </p:nvSpPr>
            <p:spPr>
              <a:xfrm>
                <a:off x="2124000" y="3213000"/>
                <a:ext cx="503280" cy="576360"/>
              </a:xfrm>
              <a:prstGeom prst="line">
                <a:avLst/>
              </a:prstGeom>
              <a:ln w="936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124000" y="3213000"/>
                <a:ext cx="1008000" cy="144720"/>
              </a:xfrm>
              <a:prstGeom prst="line">
                <a:avLst/>
              </a:prstGeom>
              <a:ln w="9360">
                <a:solidFill>
                  <a:srgbClr val="00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2624D-45B2-4B5F-8C14-9BCE6F8FF9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rcRect l="0" t="11334" r="0" b="3810"/>
          <a:stretch/>
        </p:blipFill>
        <p:spPr>
          <a:xfrm>
            <a:off x="826920" y="0"/>
            <a:ext cx="8317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41" name=""/>
          <p:cNvGrpSpPr/>
          <p:nvPr/>
        </p:nvGrpSpPr>
        <p:grpSpPr>
          <a:xfrm>
            <a:off x="108000" y="4149720"/>
            <a:ext cx="3168720" cy="2664000"/>
            <a:chOff x="108000" y="4149720"/>
            <a:chExt cx="3168720" cy="2664000"/>
          </a:xfrm>
        </p:grpSpPr>
        <p:sp>
          <p:nvSpPr>
            <p:cNvPr id="342" name=""/>
            <p:cNvSpPr/>
            <p:nvPr/>
          </p:nvSpPr>
          <p:spPr>
            <a:xfrm>
              <a:off x="108000" y="4149720"/>
              <a:ext cx="3168720" cy="266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199080" y="4573440"/>
              <a:ext cx="2703960" cy="708120"/>
              <a:chOff x="199080" y="4573440"/>
              <a:chExt cx="2703960" cy="708120"/>
            </a:xfrm>
          </p:grpSpPr>
          <p:sp>
            <p:nvSpPr>
              <p:cNvPr id="344" name=""/>
              <p:cNvSpPr/>
              <p:nvPr/>
            </p:nvSpPr>
            <p:spPr>
              <a:xfrm>
                <a:off x="199080" y="4926600"/>
                <a:ext cx="343440" cy="354960"/>
              </a:xfrm>
              <a:custGeom>
                <a:avLst/>
                <a:gdLst/>
                <a:ahLst/>
                <a:rect l="l" t="t" r="r" b="b"/>
                <a:pathLst>
                  <a:path w="384" h="366">
                    <a:moveTo>
                      <a:pt x="372" y="264"/>
                    </a:moveTo>
                    <a:cubicBezTo>
                      <a:pt x="356" y="292"/>
                      <a:pt x="347" y="325"/>
                      <a:pt x="324" y="348"/>
                    </a:cubicBezTo>
                    <a:cubicBezTo>
                      <a:pt x="314" y="358"/>
                      <a:pt x="296" y="351"/>
                      <a:pt x="282" y="354"/>
                    </a:cubicBezTo>
                    <a:cubicBezTo>
                      <a:pt x="270" y="357"/>
                      <a:pt x="246" y="366"/>
                      <a:pt x="246" y="366"/>
                    </a:cubicBezTo>
                    <a:cubicBezTo>
                      <a:pt x="207" y="362"/>
                      <a:pt x="176" y="354"/>
                      <a:pt x="138" y="348"/>
                    </a:cubicBezTo>
                    <a:cubicBezTo>
                      <a:pt x="121" y="323"/>
                      <a:pt x="105" y="285"/>
                      <a:pt x="78" y="276"/>
                    </a:cubicBezTo>
                    <a:cubicBezTo>
                      <a:pt x="74" y="270"/>
                      <a:pt x="67" y="265"/>
                      <a:pt x="66" y="258"/>
                    </a:cubicBezTo>
                    <a:cubicBezTo>
                      <a:pt x="61" y="232"/>
                      <a:pt x="69" y="205"/>
                      <a:pt x="60" y="180"/>
                    </a:cubicBezTo>
                    <a:cubicBezTo>
                      <a:pt x="56" y="168"/>
                      <a:pt x="39" y="166"/>
                      <a:pt x="30" y="156"/>
                    </a:cubicBezTo>
                    <a:cubicBezTo>
                      <a:pt x="8" y="132"/>
                      <a:pt x="8" y="126"/>
                      <a:pt x="0" y="102"/>
                    </a:cubicBezTo>
                    <a:cubicBezTo>
                      <a:pt x="18" y="84"/>
                      <a:pt x="33" y="80"/>
                      <a:pt x="54" y="66"/>
                    </a:cubicBezTo>
                    <a:cubicBezTo>
                      <a:pt x="56" y="52"/>
                      <a:pt x="54" y="37"/>
                      <a:pt x="60" y="24"/>
                    </a:cubicBezTo>
                    <a:cubicBezTo>
                      <a:pt x="63" y="19"/>
                      <a:pt x="126" y="1"/>
                      <a:pt x="132" y="0"/>
                    </a:cubicBezTo>
                    <a:cubicBezTo>
                      <a:pt x="153" y="2"/>
                      <a:pt x="210" y="2"/>
                      <a:pt x="234" y="18"/>
                    </a:cubicBezTo>
                    <a:cubicBezTo>
                      <a:pt x="240" y="22"/>
                      <a:pt x="245" y="28"/>
                      <a:pt x="252" y="30"/>
                    </a:cubicBezTo>
                    <a:cubicBezTo>
                      <a:pt x="303" y="45"/>
                      <a:pt x="340" y="43"/>
                      <a:pt x="384" y="72"/>
                    </a:cubicBezTo>
                    <a:cubicBezTo>
                      <a:pt x="375" y="118"/>
                      <a:pt x="372" y="132"/>
                      <a:pt x="384" y="180"/>
                    </a:cubicBezTo>
                    <a:cubicBezTo>
                      <a:pt x="378" y="218"/>
                      <a:pt x="365" y="227"/>
                      <a:pt x="372" y="264"/>
                    </a:cubicBezTo>
                    <a:close/>
                  </a:path>
                </a:pathLst>
              </a:custGeom>
              <a:solidFill>
                <a:srgbClr val="00ff00">
                  <a:alpha val="34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89600" y="4705200"/>
                <a:ext cx="343440" cy="354960"/>
              </a:xfrm>
              <a:custGeom>
                <a:avLst/>
                <a:gdLst/>
                <a:ahLst/>
                <a:rect l="l" t="t" r="r" b="b"/>
                <a:pathLst>
                  <a:path w="384" h="366">
                    <a:moveTo>
                      <a:pt x="372" y="264"/>
                    </a:moveTo>
                    <a:cubicBezTo>
                      <a:pt x="356" y="292"/>
                      <a:pt x="347" y="325"/>
                      <a:pt x="324" y="348"/>
                    </a:cubicBezTo>
                    <a:cubicBezTo>
                      <a:pt x="314" y="358"/>
                      <a:pt x="296" y="351"/>
                      <a:pt x="282" y="354"/>
                    </a:cubicBezTo>
                    <a:cubicBezTo>
                      <a:pt x="270" y="357"/>
                      <a:pt x="246" y="366"/>
                      <a:pt x="246" y="366"/>
                    </a:cubicBezTo>
                    <a:cubicBezTo>
                      <a:pt x="207" y="362"/>
                      <a:pt x="176" y="354"/>
                      <a:pt x="138" y="348"/>
                    </a:cubicBezTo>
                    <a:cubicBezTo>
                      <a:pt x="121" y="323"/>
                      <a:pt x="105" y="285"/>
                      <a:pt x="78" y="276"/>
                    </a:cubicBezTo>
                    <a:cubicBezTo>
                      <a:pt x="74" y="270"/>
                      <a:pt x="67" y="265"/>
                      <a:pt x="66" y="258"/>
                    </a:cubicBezTo>
                    <a:cubicBezTo>
                      <a:pt x="61" y="232"/>
                      <a:pt x="69" y="205"/>
                      <a:pt x="60" y="180"/>
                    </a:cubicBezTo>
                    <a:cubicBezTo>
                      <a:pt x="56" y="168"/>
                      <a:pt x="39" y="166"/>
                      <a:pt x="30" y="156"/>
                    </a:cubicBezTo>
                    <a:cubicBezTo>
                      <a:pt x="8" y="132"/>
                      <a:pt x="8" y="126"/>
                      <a:pt x="0" y="102"/>
                    </a:cubicBezTo>
                    <a:cubicBezTo>
                      <a:pt x="18" y="84"/>
                      <a:pt x="33" y="80"/>
                      <a:pt x="54" y="66"/>
                    </a:cubicBezTo>
                    <a:cubicBezTo>
                      <a:pt x="56" y="52"/>
                      <a:pt x="54" y="37"/>
                      <a:pt x="60" y="24"/>
                    </a:cubicBezTo>
                    <a:cubicBezTo>
                      <a:pt x="63" y="19"/>
                      <a:pt x="126" y="1"/>
                      <a:pt x="132" y="0"/>
                    </a:cubicBezTo>
                    <a:cubicBezTo>
                      <a:pt x="153" y="2"/>
                      <a:pt x="210" y="2"/>
                      <a:pt x="234" y="18"/>
                    </a:cubicBezTo>
                    <a:cubicBezTo>
                      <a:pt x="240" y="22"/>
                      <a:pt x="245" y="28"/>
                      <a:pt x="252" y="30"/>
                    </a:cubicBezTo>
                    <a:cubicBezTo>
                      <a:pt x="303" y="45"/>
                      <a:pt x="340" y="43"/>
                      <a:pt x="384" y="72"/>
                    </a:cubicBezTo>
                    <a:cubicBezTo>
                      <a:pt x="375" y="118"/>
                      <a:pt x="372" y="132"/>
                      <a:pt x="384" y="180"/>
                    </a:cubicBezTo>
                    <a:cubicBezTo>
                      <a:pt x="378" y="218"/>
                      <a:pt x="365" y="227"/>
                      <a:pt x="372" y="264"/>
                    </a:cubicBezTo>
                    <a:close/>
                  </a:path>
                </a:pathLst>
              </a:custGeom>
              <a:solidFill>
                <a:srgbClr val="00ff00">
                  <a:alpha val="34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138680" y="4573440"/>
                <a:ext cx="343440" cy="354960"/>
              </a:xfrm>
              <a:custGeom>
                <a:avLst/>
                <a:gdLst/>
                <a:ahLst/>
                <a:rect l="l" t="t" r="r" b="b"/>
                <a:pathLst>
                  <a:path w="384" h="366">
                    <a:moveTo>
                      <a:pt x="372" y="264"/>
                    </a:moveTo>
                    <a:cubicBezTo>
                      <a:pt x="356" y="292"/>
                      <a:pt x="347" y="325"/>
                      <a:pt x="324" y="348"/>
                    </a:cubicBezTo>
                    <a:cubicBezTo>
                      <a:pt x="314" y="358"/>
                      <a:pt x="296" y="351"/>
                      <a:pt x="282" y="354"/>
                    </a:cubicBezTo>
                    <a:cubicBezTo>
                      <a:pt x="270" y="357"/>
                      <a:pt x="246" y="366"/>
                      <a:pt x="246" y="366"/>
                    </a:cubicBezTo>
                    <a:cubicBezTo>
                      <a:pt x="207" y="362"/>
                      <a:pt x="176" y="354"/>
                      <a:pt x="138" y="348"/>
                    </a:cubicBezTo>
                    <a:cubicBezTo>
                      <a:pt x="121" y="323"/>
                      <a:pt x="105" y="285"/>
                      <a:pt x="78" y="276"/>
                    </a:cubicBezTo>
                    <a:cubicBezTo>
                      <a:pt x="74" y="270"/>
                      <a:pt x="67" y="265"/>
                      <a:pt x="66" y="258"/>
                    </a:cubicBezTo>
                    <a:cubicBezTo>
                      <a:pt x="61" y="232"/>
                      <a:pt x="69" y="205"/>
                      <a:pt x="60" y="180"/>
                    </a:cubicBezTo>
                    <a:cubicBezTo>
                      <a:pt x="56" y="168"/>
                      <a:pt x="39" y="166"/>
                      <a:pt x="30" y="156"/>
                    </a:cubicBezTo>
                    <a:cubicBezTo>
                      <a:pt x="8" y="132"/>
                      <a:pt x="8" y="126"/>
                      <a:pt x="0" y="102"/>
                    </a:cubicBezTo>
                    <a:cubicBezTo>
                      <a:pt x="18" y="84"/>
                      <a:pt x="33" y="80"/>
                      <a:pt x="54" y="66"/>
                    </a:cubicBezTo>
                    <a:cubicBezTo>
                      <a:pt x="56" y="52"/>
                      <a:pt x="54" y="37"/>
                      <a:pt x="60" y="24"/>
                    </a:cubicBezTo>
                    <a:cubicBezTo>
                      <a:pt x="63" y="19"/>
                      <a:pt x="126" y="1"/>
                      <a:pt x="132" y="0"/>
                    </a:cubicBezTo>
                    <a:cubicBezTo>
                      <a:pt x="153" y="2"/>
                      <a:pt x="210" y="2"/>
                      <a:pt x="234" y="18"/>
                    </a:cubicBezTo>
                    <a:cubicBezTo>
                      <a:pt x="240" y="22"/>
                      <a:pt x="245" y="28"/>
                      <a:pt x="252" y="30"/>
                    </a:cubicBezTo>
                    <a:cubicBezTo>
                      <a:pt x="303" y="45"/>
                      <a:pt x="340" y="43"/>
                      <a:pt x="384" y="72"/>
                    </a:cubicBezTo>
                    <a:cubicBezTo>
                      <a:pt x="375" y="118"/>
                      <a:pt x="372" y="132"/>
                      <a:pt x="384" y="180"/>
                    </a:cubicBezTo>
                    <a:cubicBezTo>
                      <a:pt x="378" y="218"/>
                      <a:pt x="365" y="227"/>
                      <a:pt x="372" y="264"/>
                    </a:cubicBezTo>
                    <a:close/>
                  </a:path>
                </a:pathLst>
              </a:custGeom>
              <a:solidFill>
                <a:srgbClr val="00ff00">
                  <a:alpha val="34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463400" y="4793760"/>
                <a:ext cx="343440" cy="354960"/>
              </a:xfrm>
              <a:custGeom>
                <a:avLst/>
                <a:gdLst/>
                <a:ahLst/>
                <a:rect l="l" t="t" r="r" b="b"/>
                <a:pathLst>
                  <a:path w="384" h="366">
                    <a:moveTo>
                      <a:pt x="372" y="264"/>
                    </a:moveTo>
                    <a:cubicBezTo>
                      <a:pt x="356" y="292"/>
                      <a:pt x="347" y="325"/>
                      <a:pt x="324" y="348"/>
                    </a:cubicBezTo>
                    <a:cubicBezTo>
                      <a:pt x="314" y="358"/>
                      <a:pt x="296" y="351"/>
                      <a:pt x="282" y="354"/>
                    </a:cubicBezTo>
                    <a:cubicBezTo>
                      <a:pt x="270" y="357"/>
                      <a:pt x="246" y="366"/>
                      <a:pt x="246" y="366"/>
                    </a:cubicBezTo>
                    <a:cubicBezTo>
                      <a:pt x="207" y="362"/>
                      <a:pt x="176" y="354"/>
                      <a:pt x="138" y="348"/>
                    </a:cubicBezTo>
                    <a:cubicBezTo>
                      <a:pt x="121" y="323"/>
                      <a:pt x="105" y="285"/>
                      <a:pt x="78" y="276"/>
                    </a:cubicBezTo>
                    <a:cubicBezTo>
                      <a:pt x="74" y="270"/>
                      <a:pt x="67" y="265"/>
                      <a:pt x="66" y="258"/>
                    </a:cubicBezTo>
                    <a:cubicBezTo>
                      <a:pt x="61" y="232"/>
                      <a:pt x="69" y="205"/>
                      <a:pt x="60" y="180"/>
                    </a:cubicBezTo>
                    <a:cubicBezTo>
                      <a:pt x="56" y="168"/>
                      <a:pt x="39" y="166"/>
                      <a:pt x="30" y="156"/>
                    </a:cubicBezTo>
                    <a:cubicBezTo>
                      <a:pt x="8" y="132"/>
                      <a:pt x="8" y="126"/>
                      <a:pt x="0" y="102"/>
                    </a:cubicBezTo>
                    <a:cubicBezTo>
                      <a:pt x="18" y="84"/>
                      <a:pt x="33" y="80"/>
                      <a:pt x="54" y="66"/>
                    </a:cubicBezTo>
                    <a:cubicBezTo>
                      <a:pt x="56" y="52"/>
                      <a:pt x="54" y="37"/>
                      <a:pt x="60" y="24"/>
                    </a:cubicBezTo>
                    <a:cubicBezTo>
                      <a:pt x="63" y="19"/>
                      <a:pt x="126" y="1"/>
                      <a:pt x="132" y="0"/>
                    </a:cubicBezTo>
                    <a:cubicBezTo>
                      <a:pt x="153" y="2"/>
                      <a:pt x="210" y="2"/>
                      <a:pt x="234" y="18"/>
                    </a:cubicBezTo>
                    <a:cubicBezTo>
                      <a:pt x="240" y="22"/>
                      <a:pt x="245" y="28"/>
                      <a:pt x="252" y="30"/>
                    </a:cubicBezTo>
                    <a:cubicBezTo>
                      <a:pt x="303" y="45"/>
                      <a:pt x="340" y="43"/>
                      <a:pt x="384" y="72"/>
                    </a:cubicBezTo>
                    <a:cubicBezTo>
                      <a:pt x="375" y="118"/>
                      <a:pt x="372" y="132"/>
                      <a:pt x="384" y="180"/>
                    </a:cubicBezTo>
                    <a:cubicBezTo>
                      <a:pt x="378" y="218"/>
                      <a:pt x="365" y="227"/>
                      <a:pt x="372" y="264"/>
                    </a:cubicBezTo>
                    <a:close/>
                  </a:path>
                </a:pathLst>
              </a:custGeom>
              <a:solidFill>
                <a:srgbClr val="00ff00">
                  <a:alpha val="34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559600" y="4573440"/>
                <a:ext cx="343440" cy="354960"/>
              </a:xfrm>
              <a:custGeom>
                <a:avLst/>
                <a:gdLst/>
                <a:ahLst/>
                <a:rect l="l" t="t" r="r" b="b"/>
                <a:pathLst>
                  <a:path w="384" h="366">
                    <a:moveTo>
                      <a:pt x="372" y="264"/>
                    </a:moveTo>
                    <a:cubicBezTo>
                      <a:pt x="356" y="292"/>
                      <a:pt x="347" y="325"/>
                      <a:pt x="324" y="348"/>
                    </a:cubicBezTo>
                    <a:cubicBezTo>
                      <a:pt x="314" y="358"/>
                      <a:pt x="296" y="351"/>
                      <a:pt x="282" y="354"/>
                    </a:cubicBezTo>
                    <a:cubicBezTo>
                      <a:pt x="270" y="357"/>
                      <a:pt x="246" y="366"/>
                      <a:pt x="246" y="366"/>
                    </a:cubicBezTo>
                    <a:cubicBezTo>
                      <a:pt x="207" y="362"/>
                      <a:pt x="176" y="354"/>
                      <a:pt x="138" y="348"/>
                    </a:cubicBezTo>
                    <a:cubicBezTo>
                      <a:pt x="121" y="323"/>
                      <a:pt x="105" y="285"/>
                      <a:pt x="78" y="276"/>
                    </a:cubicBezTo>
                    <a:cubicBezTo>
                      <a:pt x="74" y="270"/>
                      <a:pt x="67" y="265"/>
                      <a:pt x="66" y="258"/>
                    </a:cubicBezTo>
                    <a:cubicBezTo>
                      <a:pt x="61" y="232"/>
                      <a:pt x="69" y="205"/>
                      <a:pt x="60" y="180"/>
                    </a:cubicBezTo>
                    <a:cubicBezTo>
                      <a:pt x="56" y="168"/>
                      <a:pt x="39" y="166"/>
                      <a:pt x="30" y="156"/>
                    </a:cubicBezTo>
                    <a:cubicBezTo>
                      <a:pt x="8" y="132"/>
                      <a:pt x="8" y="126"/>
                      <a:pt x="0" y="102"/>
                    </a:cubicBezTo>
                    <a:cubicBezTo>
                      <a:pt x="18" y="84"/>
                      <a:pt x="33" y="80"/>
                      <a:pt x="54" y="66"/>
                    </a:cubicBezTo>
                    <a:cubicBezTo>
                      <a:pt x="56" y="52"/>
                      <a:pt x="54" y="37"/>
                      <a:pt x="60" y="24"/>
                    </a:cubicBezTo>
                    <a:cubicBezTo>
                      <a:pt x="63" y="19"/>
                      <a:pt x="126" y="1"/>
                      <a:pt x="132" y="0"/>
                    </a:cubicBezTo>
                    <a:cubicBezTo>
                      <a:pt x="153" y="2"/>
                      <a:pt x="210" y="2"/>
                      <a:pt x="234" y="18"/>
                    </a:cubicBezTo>
                    <a:cubicBezTo>
                      <a:pt x="240" y="22"/>
                      <a:pt x="245" y="28"/>
                      <a:pt x="252" y="30"/>
                    </a:cubicBezTo>
                    <a:cubicBezTo>
                      <a:pt x="303" y="45"/>
                      <a:pt x="340" y="43"/>
                      <a:pt x="384" y="72"/>
                    </a:cubicBezTo>
                    <a:cubicBezTo>
                      <a:pt x="375" y="118"/>
                      <a:pt x="372" y="132"/>
                      <a:pt x="384" y="180"/>
                    </a:cubicBezTo>
                    <a:cubicBezTo>
                      <a:pt x="378" y="218"/>
                      <a:pt x="365" y="227"/>
                      <a:pt x="372" y="264"/>
                    </a:cubicBezTo>
                    <a:close/>
                  </a:path>
                </a:pathLst>
              </a:custGeom>
              <a:solidFill>
                <a:srgbClr val="00ff00">
                  <a:alpha val="34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2721240" y="4970160"/>
              <a:ext cx="203400" cy="131760"/>
              <a:chOff x="2721240" y="4970160"/>
              <a:chExt cx="203400" cy="131760"/>
            </a:xfrm>
          </p:grpSpPr>
          <p:sp>
            <p:nvSpPr>
              <p:cNvPr id="350" name=""/>
              <p:cNvSpPr/>
              <p:nvPr/>
            </p:nvSpPr>
            <p:spPr>
              <a:xfrm>
                <a:off x="2721240" y="5014080"/>
                <a:ext cx="203400" cy="8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2842920" y="4970160"/>
                <a:ext cx="8172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366840" y="4702320"/>
              <a:ext cx="2739960" cy="575640"/>
              <a:chOff x="366840" y="4702320"/>
              <a:chExt cx="2739960" cy="575640"/>
            </a:xfrm>
          </p:grpSpPr>
          <p:sp>
            <p:nvSpPr>
              <p:cNvPr id="353" name=""/>
              <p:cNvSpPr/>
              <p:nvPr/>
            </p:nvSpPr>
            <p:spPr>
              <a:xfrm>
                <a:off x="2562480" y="4784760"/>
                <a:ext cx="197280" cy="9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2679120" y="4749120"/>
                <a:ext cx="85680" cy="8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91200" y="4878720"/>
                <a:ext cx="16272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 flipV="1">
                <a:off x="691200" y="4790160"/>
                <a:ext cx="81360" cy="13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650520" y="4922640"/>
                <a:ext cx="12132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07160" y="5099400"/>
                <a:ext cx="16272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 flipV="1">
                <a:off x="407160" y="5010840"/>
                <a:ext cx="81360" cy="13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366840" y="5143320"/>
                <a:ext cx="12132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584720" y="4922640"/>
                <a:ext cx="162720" cy="8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 flipV="1">
                <a:off x="1584720" y="4833720"/>
                <a:ext cx="81360" cy="13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1544040" y="4966200"/>
                <a:ext cx="12132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341360" y="4790520"/>
                <a:ext cx="162720" cy="8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1341360" y="4702320"/>
                <a:ext cx="81360" cy="13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1300680" y="4834080"/>
                <a:ext cx="12168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763000" y="4922640"/>
                <a:ext cx="343800" cy="355320"/>
              </a:xfrm>
              <a:custGeom>
                <a:avLst/>
                <a:gdLst/>
                <a:ahLst/>
                <a:rect l="l" t="t" r="r" b="b"/>
                <a:pathLst>
                  <a:path w="384" h="366">
                    <a:moveTo>
                      <a:pt x="372" y="264"/>
                    </a:moveTo>
                    <a:cubicBezTo>
                      <a:pt x="356" y="292"/>
                      <a:pt x="347" y="325"/>
                      <a:pt x="324" y="348"/>
                    </a:cubicBezTo>
                    <a:cubicBezTo>
                      <a:pt x="314" y="358"/>
                      <a:pt x="296" y="351"/>
                      <a:pt x="282" y="354"/>
                    </a:cubicBezTo>
                    <a:cubicBezTo>
                      <a:pt x="270" y="357"/>
                      <a:pt x="246" y="366"/>
                      <a:pt x="246" y="366"/>
                    </a:cubicBezTo>
                    <a:cubicBezTo>
                      <a:pt x="207" y="362"/>
                      <a:pt x="176" y="354"/>
                      <a:pt x="138" y="348"/>
                    </a:cubicBezTo>
                    <a:cubicBezTo>
                      <a:pt x="121" y="323"/>
                      <a:pt x="105" y="285"/>
                      <a:pt x="78" y="276"/>
                    </a:cubicBezTo>
                    <a:cubicBezTo>
                      <a:pt x="74" y="270"/>
                      <a:pt x="67" y="265"/>
                      <a:pt x="66" y="258"/>
                    </a:cubicBezTo>
                    <a:cubicBezTo>
                      <a:pt x="61" y="232"/>
                      <a:pt x="69" y="205"/>
                      <a:pt x="60" y="180"/>
                    </a:cubicBezTo>
                    <a:cubicBezTo>
                      <a:pt x="56" y="168"/>
                      <a:pt x="39" y="166"/>
                      <a:pt x="30" y="156"/>
                    </a:cubicBezTo>
                    <a:cubicBezTo>
                      <a:pt x="8" y="132"/>
                      <a:pt x="8" y="126"/>
                      <a:pt x="0" y="102"/>
                    </a:cubicBezTo>
                    <a:cubicBezTo>
                      <a:pt x="18" y="84"/>
                      <a:pt x="33" y="80"/>
                      <a:pt x="54" y="66"/>
                    </a:cubicBezTo>
                    <a:cubicBezTo>
                      <a:pt x="56" y="52"/>
                      <a:pt x="54" y="37"/>
                      <a:pt x="60" y="24"/>
                    </a:cubicBezTo>
                    <a:cubicBezTo>
                      <a:pt x="63" y="19"/>
                      <a:pt x="126" y="1"/>
                      <a:pt x="132" y="0"/>
                    </a:cubicBezTo>
                    <a:cubicBezTo>
                      <a:pt x="153" y="2"/>
                      <a:pt x="210" y="2"/>
                      <a:pt x="234" y="18"/>
                    </a:cubicBezTo>
                    <a:cubicBezTo>
                      <a:pt x="240" y="22"/>
                      <a:pt x="245" y="28"/>
                      <a:pt x="252" y="30"/>
                    </a:cubicBezTo>
                    <a:cubicBezTo>
                      <a:pt x="303" y="45"/>
                      <a:pt x="340" y="43"/>
                      <a:pt x="384" y="72"/>
                    </a:cubicBezTo>
                    <a:cubicBezTo>
                      <a:pt x="375" y="118"/>
                      <a:pt x="372" y="132"/>
                      <a:pt x="384" y="180"/>
                    </a:cubicBezTo>
                    <a:cubicBezTo>
                      <a:pt x="378" y="218"/>
                      <a:pt x="365" y="227"/>
                      <a:pt x="372" y="264"/>
                    </a:cubicBezTo>
                    <a:close/>
                  </a:path>
                </a:pathLst>
              </a:custGeom>
              <a:solidFill>
                <a:srgbClr val="00ff00">
                  <a:alpha val="34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570240" y="4794120"/>
              <a:ext cx="2152080" cy="528480"/>
              <a:chOff x="570240" y="4794120"/>
              <a:chExt cx="2152080" cy="528480"/>
            </a:xfrm>
          </p:grpSpPr>
          <p:sp>
            <p:nvSpPr>
              <p:cNvPr id="369" name=""/>
              <p:cNvSpPr/>
              <p:nvPr/>
            </p:nvSpPr>
            <p:spPr>
              <a:xfrm flipV="1">
                <a:off x="2195280" y="5014080"/>
                <a:ext cx="527040" cy="26388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0" name=""/>
              <p:cNvGrpSpPr/>
              <p:nvPr/>
            </p:nvGrpSpPr>
            <p:grpSpPr>
              <a:xfrm>
                <a:off x="570240" y="4794120"/>
                <a:ext cx="2152080" cy="528480"/>
                <a:chOff x="570240" y="4794120"/>
                <a:chExt cx="2152080" cy="528480"/>
              </a:xfrm>
            </p:grpSpPr>
            <p:sp>
              <p:nvSpPr>
                <p:cNvPr id="371" name=""/>
                <p:cNvSpPr/>
                <p:nvPr/>
              </p:nvSpPr>
              <p:spPr>
                <a:xfrm flipV="1">
                  <a:off x="2195280" y="5014440"/>
                  <a:ext cx="527040" cy="22032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H="1" flipV="1">
                  <a:off x="570240" y="5189760"/>
                  <a:ext cx="568440" cy="1328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H="1" flipV="1">
                  <a:off x="570240" y="5189760"/>
                  <a:ext cx="609480" cy="8820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V="1">
                  <a:off x="1301760" y="4882320"/>
                  <a:ext cx="202320" cy="39600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V="1">
                  <a:off x="1260720" y="4882320"/>
                  <a:ext cx="243360" cy="39600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H="1" flipV="1">
                  <a:off x="855360" y="4970880"/>
                  <a:ext cx="405360" cy="3074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H="1" flipV="1">
                  <a:off x="855360" y="4970880"/>
                  <a:ext cx="324720" cy="3074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 flipV="1">
                  <a:off x="1748520" y="5014440"/>
                  <a:ext cx="324720" cy="22032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748520" y="5014440"/>
                  <a:ext cx="405360" cy="22032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V="1">
                  <a:off x="2153880" y="4794120"/>
                  <a:ext cx="406080" cy="4406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H="1">
                  <a:off x="2195280" y="4794120"/>
                  <a:ext cx="365040" cy="4406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2" name=""/>
            <p:cNvSpPr/>
            <p:nvPr/>
          </p:nvSpPr>
          <p:spPr>
            <a:xfrm flipH="1" flipV="1">
              <a:off x="1139400" y="5321880"/>
              <a:ext cx="446400" cy="43920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1301760" y="5233680"/>
              <a:ext cx="893160" cy="527040"/>
              <a:chOff x="1301760" y="5233680"/>
              <a:chExt cx="893160" cy="527040"/>
            </a:xfrm>
          </p:grpSpPr>
          <p:sp>
            <p:nvSpPr>
              <p:cNvPr id="384" name=""/>
              <p:cNvSpPr/>
              <p:nvPr/>
            </p:nvSpPr>
            <p:spPr>
              <a:xfrm flipV="1">
                <a:off x="1748520" y="5276880"/>
                <a:ext cx="446400" cy="48384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301760" y="5276880"/>
                <a:ext cx="365040" cy="39564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1666800" y="5233680"/>
                <a:ext cx="406080" cy="43920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1584720" y="5761440"/>
              <a:ext cx="0" cy="879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48520" y="5761440"/>
              <a:ext cx="0" cy="879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894960" y="4265280"/>
              <a:ext cx="2028960" cy="924120"/>
              <a:chOff x="894960" y="4265280"/>
              <a:chExt cx="2028960" cy="924120"/>
            </a:xfrm>
          </p:grpSpPr>
          <p:sp>
            <p:nvSpPr>
              <p:cNvPr id="390" name=""/>
              <p:cNvSpPr/>
              <p:nvPr/>
            </p:nvSpPr>
            <p:spPr>
              <a:xfrm flipV="1">
                <a:off x="2152800" y="4265280"/>
                <a:ext cx="771120" cy="923400"/>
              </a:xfrm>
              <a:prstGeom prst="line">
                <a:avLst/>
              </a:prstGeom>
              <a:ln w="28440">
                <a:solidFill>
                  <a:srgbClr val="33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flipV="1">
                <a:off x="894960" y="4441680"/>
                <a:ext cx="1257840" cy="747720"/>
              </a:xfrm>
              <a:prstGeom prst="line">
                <a:avLst/>
              </a:prstGeom>
              <a:ln w="28440">
                <a:solidFill>
                  <a:srgbClr val="33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685880" y="4460760"/>
                <a:ext cx="183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3" name=""/>
          <p:cNvSpPr/>
          <p:nvPr/>
        </p:nvSpPr>
        <p:spPr>
          <a:xfrm>
            <a:off x="1910520" y="551664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Comic Sans MS"/>
              </a:rPr>
              <a:t>charpentiè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261800" y="424512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échancr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17960" y="5805360"/>
            <a:ext cx="87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Comic Sans MS"/>
              </a:rPr>
              <a:t>fenê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1187280" y="5373360"/>
            <a:ext cx="432000" cy="3603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6918A-9A61-4027-B4FC-E676AB16AD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971640" y="1341360"/>
            <a:ext cx="83739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es facteurs « site 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68360" y="2781360"/>
            <a:ext cx="83739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e facteur climatique</a:t>
            </a:r>
            <a:br>
              <a:rPr sz="1800"/>
            </a:br>
            <a:br>
              <a:rPr sz="18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e facteur édaphiqu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(élément princip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79480" y="53640"/>
            <a:ext cx="779616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9F4FB-10DF-4620-A423-EE2717CF05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533520" y="4800600"/>
            <a:ext cx="2743200" cy="1676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29000" y="4800600"/>
            <a:ext cx="2666880" cy="1676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648320" y="1066680"/>
            <a:ext cx="2209680" cy="358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33520" y="1066680"/>
            <a:ext cx="3987720" cy="3581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7315200" y="990720"/>
            <a:ext cx="909360" cy="1662120"/>
            <a:chOff x="7315200" y="990720"/>
            <a:chExt cx="909360" cy="1662120"/>
          </a:xfrm>
        </p:grpSpPr>
        <p:grpSp>
          <p:nvGrpSpPr>
            <p:cNvPr id="405" name=""/>
            <p:cNvGrpSpPr/>
            <p:nvPr/>
          </p:nvGrpSpPr>
          <p:grpSpPr>
            <a:xfrm>
              <a:off x="7315200" y="1219320"/>
              <a:ext cx="866880" cy="1433520"/>
              <a:chOff x="7315200" y="1219320"/>
              <a:chExt cx="866880" cy="1433520"/>
            </a:xfrm>
          </p:grpSpPr>
          <p:sp>
            <p:nvSpPr>
              <p:cNvPr id="406" name=""/>
              <p:cNvSpPr/>
              <p:nvPr/>
            </p:nvSpPr>
            <p:spPr>
              <a:xfrm>
                <a:off x="7315200" y="1325520"/>
                <a:ext cx="7300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326360" y="1325520"/>
                <a:ext cx="67752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326360" y="1325520"/>
                <a:ext cx="741240" cy="35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326360" y="1325520"/>
                <a:ext cx="614160" cy="129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326360" y="1325520"/>
                <a:ext cx="634680" cy="9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721640" y="1219320"/>
                <a:ext cx="409320" cy="1433520"/>
              </a:xfrm>
              <a:custGeom>
                <a:avLst/>
                <a:gdLst/>
                <a:ahLst/>
                <a:rect l="l" t="t" r="r" b="b"/>
                <a:pathLst>
                  <a:path w="116" h="405">
                    <a:moveTo>
                      <a:pt x="74" y="9"/>
                    </a:moveTo>
                    <a:lnTo>
                      <a:pt x="74" y="18"/>
                    </a:lnTo>
                    <a:lnTo>
                      <a:pt x="77" y="30"/>
                    </a:lnTo>
                    <a:lnTo>
                      <a:pt x="74" y="77"/>
                    </a:lnTo>
                    <a:lnTo>
                      <a:pt x="74" y="121"/>
                    </a:lnTo>
                    <a:lnTo>
                      <a:pt x="71" y="166"/>
                    </a:lnTo>
                    <a:lnTo>
                      <a:pt x="65" y="219"/>
                    </a:lnTo>
                    <a:lnTo>
                      <a:pt x="57" y="252"/>
                    </a:lnTo>
                    <a:lnTo>
                      <a:pt x="48" y="281"/>
                    </a:lnTo>
                    <a:lnTo>
                      <a:pt x="36" y="311"/>
                    </a:lnTo>
                    <a:lnTo>
                      <a:pt x="18" y="343"/>
                    </a:lnTo>
                    <a:lnTo>
                      <a:pt x="6" y="349"/>
                    </a:lnTo>
                    <a:lnTo>
                      <a:pt x="0" y="352"/>
                    </a:lnTo>
                    <a:lnTo>
                      <a:pt x="3" y="358"/>
                    </a:lnTo>
                    <a:lnTo>
                      <a:pt x="6" y="358"/>
                    </a:lnTo>
                    <a:lnTo>
                      <a:pt x="12" y="361"/>
                    </a:lnTo>
                    <a:lnTo>
                      <a:pt x="27" y="373"/>
                    </a:lnTo>
                    <a:lnTo>
                      <a:pt x="36" y="388"/>
                    </a:lnTo>
                    <a:lnTo>
                      <a:pt x="45" y="402"/>
                    </a:lnTo>
                    <a:lnTo>
                      <a:pt x="62" y="405"/>
                    </a:lnTo>
                    <a:lnTo>
                      <a:pt x="68" y="394"/>
                    </a:lnTo>
                    <a:lnTo>
                      <a:pt x="71" y="379"/>
                    </a:lnTo>
                    <a:lnTo>
                      <a:pt x="71" y="361"/>
                    </a:lnTo>
                    <a:lnTo>
                      <a:pt x="74" y="343"/>
                    </a:lnTo>
                    <a:lnTo>
                      <a:pt x="80" y="320"/>
                    </a:lnTo>
                    <a:lnTo>
                      <a:pt x="95" y="299"/>
                    </a:lnTo>
                    <a:lnTo>
                      <a:pt x="113" y="255"/>
                    </a:lnTo>
                    <a:lnTo>
                      <a:pt x="116" y="184"/>
                    </a:lnTo>
                    <a:lnTo>
                      <a:pt x="110" y="151"/>
                    </a:lnTo>
                    <a:lnTo>
                      <a:pt x="107" y="115"/>
                    </a:lnTo>
                    <a:lnTo>
                      <a:pt x="110" y="77"/>
                    </a:lnTo>
                    <a:lnTo>
                      <a:pt x="110" y="44"/>
                    </a:lnTo>
                    <a:lnTo>
                      <a:pt x="107" y="24"/>
                    </a:lnTo>
                    <a:lnTo>
                      <a:pt x="101" y="9"/>
                    </a:lnTo>
                    <a:lnTo>
                      <a:pt x="86" y="0"/>
                    </a:lnTo>
                    <a:lnTo>
                      <a:pt x="80" y="0"/>
                    </a:lnTo>
                    <a:lnTo>
                      <a:pt x="74" y="6"/>
                    </a:lnTo>
                    <a:lnTo>
                      <a:pt x="74" y="9"/>
                    </a:lnTo>
                    <a:close/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048160" y="1236600"/>
                <a:ext cx="8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007480" y="1552680"/>
                <a:ext cx="17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999200" y="1866960"/>
                <a:ext cx="17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929360" y="2149560"/>
                <a:ext cx="17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779960" y="2359080"/>
                <a:ext cx="17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4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"/>
            <p:cNvSpPr/>
            <p:nvPr/>
          </p:nvSpPr>
          <p:spPr>
            <a:xfrm>
              <a:off x="7355160" y="990720"/>
              <a:ext cx="86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Pentes (%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838080" y="2743200"/>
            <a:ext cx="1117800" cy="1620720"/>
            <a:chOff x="838080" y="2743200"/>
            <a:chExt cx="1117800" cy="1620720"/>
          </a:xfrm>
        </p:grpSpPr>
        <p:grpSp>
          <p:nvGrpSpPr>
            <p:cNvPr id="419" name=""/>
            <p:cNvGrpSpPr/>
            <p:nvPr/>
          </p:nvGrpSpPr>
          <p:grpSpPr>
            <a:xfrm>
              <a:off x="838080" y="3200040"/>
              <a:ext cx="1117800" cy="1163880"/>
              <a:chOff x="838080" y="3200040"/>
              <a:chExt cx="1117800" cy="1163880"/>
            </a:xfrm>
          </p:grpSpPr>
          <p:grpSp>
            <p:nvGrpSpPr>
              <p:cNvPr id="420" name=""/>
              <p:cNvGrpSpPr/>
              <p:nvPr/>
            </p:nvGrpSpPr>
            <p:grpSpPr>
              <a:xfrm>
                <a:off x="896760" y="3200040"/>
                <a:ext cx="914400" cy="457200"/>
                <a:chOff x="896760" y="3200040"/>
                <a:chExt cx="914400" cy="45720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906480" y="3228840"/>
                  <a:ext cx="895320" cy="26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V="1">
                  <a:off x="896760" y="32000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1811160" y="34286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838080" y="3348000"/>
                <a:ext cx="1117800" cy="1015920"/>
                <a:chOff x="838080" y="3348000"/>
                <a:chExt cx="1117800" cy="101592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838080" y="3795480"/>
                  <a:ext cx="1117800" cy="568440"/>
                </a:xfrm>
                <a:custGeom>
                  <a:avLst/>
                  <a:gdLst/>
                  <a:ahLst/>
                  <a:rect l="l" t="t" r="r" b="b"/>
                  <a:pathLst>
                    <a:path w="704" h="358">
                      <a:moveTo>
                        <a:pt x="704" y="130"/>
                      </a:moveTo>
                      <a:lnTo>
                        <a:pt x="704" y="358"/>
                      </a:lnTo>
                      <a:lnTo>
                        <a:pt x="675" y="355"/>
                      </a:lnTo>
                      <a:lnTo>
                        <a:pt x="660" y="322"/>
                      </a:lnTo>
                      <a:lnTo>
                        <a:pt x="533" y="174"/>
                      </a:lnTo>
                      <a:lnTo>
                        <a:pt x="287" y="56"/>
                      </a:lnTo>
                      <a:lnTo>
                        <a:pt x="142" y="91"/>
                      </a:lnTo>
                      <a:lnTo>
                        <a:pt x="0" y="44"/>
                      </a:lnTo>
                      <a:lnTo>
                        <a:pt x="0" y="0"/>
                      </a:lnTo>
                      <a:lnTo>
                        <a:pt x="669" y="62"/>
                      </a:lnTo>
                      <a:lnTo>
                        <a:pt x="704" y="130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842760" y="3348000"/>
                  <a:ext cx="1113120" cy="785880"/>
                </a:xfrm>
                <a:custGeom>
                  <a:avLst/>
                  <a:gdLst/>
                  <a:ahLst/>
                  <a:rect l="l" t="t" r="r" b="b"/>
                  <a:pathLst>
                    <a:path w="701" h="495">
                      <a:moveTo>
                        <a:pt x="698" y="412"/>
                      </a:moveTo>
                      <a:lnTo>
                        <a:pt x="693" y="412"/>
                      </a:lnTo>
                      <a:lnTo>
                        <a:pt x="675" y="409"/>
                      </a:lnTo>
                      <a:lnTo>
                        <a:pt x="663" y="367"/>
                      </a:lnTo>
                      <a:lnTo>
                        <a:pt x="559" y="495"/>
                      </a:lnTo>
                      <a:lnTo>
                        <a:pt x="420" y="465"/>
                      </a:lnTo>
                      <a:lnTo>
                        <a:pt x="314" y="406"/>
                      </a:lnTo>
                      <a:lnTo>
                        <a:pt x="264" y="382"/>
                      </a:lnTo>
                      <a:lnTo>
                        <a:pt x="145" y="379"/>
                      </a:lnTo>
                      <a:lnTo>
                        <a:pt x="51" y="308"/>
                      </a:lnTo>
                      <a:lnTo>
                        <a:pt x="0" y="285"/>
                      </a:lnTo>
                      <a:lnTo>
                        <a:pt x="0" y="0"/>
                      </a:lnTo>
                      <a:lnTo>
                        <a:pt x="133" y="24"/>
                      </a:lnTo>
                      <a:lnTo>
                        <a:pt x="261" y="42"/>
                      </a:lnTo>
                      <a:lnTo>
                        <a:pt x="320" y="77"/>
                      </a:lnTo>
                      <a:lnTo>
                        <a:pt x="417" y="116"/>
                      </a:lnTo>
                      <a:lnTo>
                        <a:pt x="559" y="163"/>
                      </a:lnTo>
                      <a:lnTo>
                        <a:pt x="633" y="219"/>
                      </a:lnTo>
                      <a:lnTo>
                        <a:pt x="657" y="249"/>
                      </a:lnTo>
                      <a:lnTo>
                        <a:pt x="672" y="285"/>
                      </a:lnTo>
                      <a:lnTo>
                        <a:pt x="701" y="299"/>
                      </a:lnTo>
                      <a:lnTo>
                        <a:pt x="698" y="412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092240" y="3705120"/>
                  <a:ext cx="361800" cy="399960"/>
                </a:xfrm>
                <a:custGeom>
                  <a:avLst/>
                  <a:gdLst/>
                  <a:ahLst/>
                  <a:rect l="l" t="t" r="r" b="b"/>
                  <a:pathLst>
                    <a:path w="228" h="252">
                      <a:moveTo>
                        <a:pt x="53" y="0"/>
                      </a:moveTo>
                      <a:lnTo>
                        <a:pt x="0" y="178"/>
                      </a:lnTo>
                      <a:lnTo>
                        <a:pt x="228" y="252"/>
                      </a:lnTo>
                      <a:lnTo>
                        <a:pt x="198" y="39"/>
                      </a:lnTo>
                      <a:lnTo>
                        <a:pt x="101" y="24"/>
                      </a:lnTo>
                      <a:lnTo>
                        <a:pt x="53" y="6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092240" y="3705120"/>
                  <a:ext cx="361800" cy="399960"/>
                </a:xfrm>
                <a:custGeom>
                  <a:avLst/>
                  <a:gdLst/>
                  <a:ahLst/>
                  <a:rect l="l" t="t" r="r" b="b"/>
                  <a:pathLst>
                    <a:path w="228" h="252">
                      <a:moveTo>
                        <a:pt x="53" y="0"/>
                      </a:moveTo>
                      <a:lnTo>
                        <a:pt x="0" y="178"/>
                      </a:lnTo>
                      <a:lnTo>
                        <a:pt x="228" y="252"/>
                      </a:lnTo>
                      <a:lnTo>
                        <a:pt x="198" y="39"/>
                      </a:lnTo>
                      <a:lnTo>
                        <a:pt x="101" y="24"/>
                      </a:lnTo>
                      <a:lnTo>
                        <a:pt x="53" y="6"/>
                      </a:lnTo>
                    </a:path>
                  </a:pathLst>
                </a:custGeom>
                <a:noFill/>
                <a:ln w="46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1096920" y="3709800"/>
                  <a:ext cx="361800" cy="399960"/>
                </a:xfrm>
                <a:custGeom>
                  <a:avLst/>
                  <a:gdLst/>
                  <a:ahLst/>
                  <a:rect l="l" t="t" r="r" b="b"/>
                  <a:pathLst>
                    <a:path w="228" h="252">
                      <a:moveTo>
                        <a:pt x="53" y="0"/>
                      </a:moveTo>
                      <a:lnTo>
                        <a:pt x="0" y="178"/>
                      </a:lnTo>
                      <a:lnTo>
                        <a:pt x="228" y="252"/>
                      </a:lnTo>
                      <a:lnTo>
                        <a:pt x="198" y="39"/>
                      </a:lnTo>
                      <a:lnTo>
                        <a:pt x="101" y="24"/>
                      </a:lnTo>
                      <a:lnTo>
                        <a:pt x="53" y="6"/>
                      </a:lnTo>
                    </a:path>
                  </a:pathLst>
                </a:custGeom>
                <a:noFill/>
                <a:ln w="46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1712880" y="3959280"/>
                  <a:ext cx="144360" cy="361800"/>
                </a:xfrm>
                <a:custGeom>
                  <a:avLst/>
                  <a:gdLst/>
                  <a:ahLst/>
                  <a:rect l="l" t="t" r="r" b="b"/>
                  <a:pathLst>
                    <a:path w="91" h="228">
                      <a:moveTo>
                        <a:pt x="47" y="0"/>
                      </a:moveTo>
                      <a:lnTo>
                        <a:pt x="0" y="145"/>
                      </a:lnTo>
                      <a:lnTo>
                        <a:pt x="91" y="228"/>
                      </a:lnTo>
                      <a:lnTo>
                        <a:pt x="91" y="9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46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1717560" y="3963960"/>
                  <a:ext cx="144360" cy="361800"/>
                </a:xfrm>
                <a:custGeom>
                  <a:avLst/>
                  <a:gdLst/>
                  <a:ahLst/>
                  <a:rect l="l" t="t" r="r" b="b"/>
                  <a:pathLst>
                    <a:path w="91" h="228">
                      <a:moveTo>
                        <a:pt x="47" y="0"/>
                      </a:moveTo>
                      <a:lnTo>
                        <a:pt x="0" y="145"/>
                      </a:lnTo>
                      <a:lnTo>
                        <a:pt x="91" y="228"/>
                      </a:lnTo>
                      <a:lnTo>
                        <a:pt x="91" y="9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noFill/>
                <a:ln w="46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2" name=""/>
                <p:cNvGrpSpPr/>
                <p:nvPr/>
              </p:nvGrpSpPr>
              <p:grpSpPr>
                <a:xfrm>
                  <a:off x="1171440" y="3673440"/>
                  <a:ext cx="690480" cy="347040"/>
                  <a:chOff x="1171440" y="3673440"/>
                  <a:chExt cx="690480" cy="34704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1171440" y="3673440"/>
                    <a:ext cx="131760" cy="11232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71">
                        <a:moveTo>
                          <a:pt x="63" y="6"/>
                        </a:moveTo>
                        <a:lnTo>
                          <a:pt x="57" y="6"/>
                        </a:lnTo>
                        <a:lnTo>
                          <a:pt x="42" y="3"/>
                        </a:lnTo>
                        <a:lnTo>
                          <a:pt x="27" y="0"/>
                        </a:lnTo>
                        <a:lnTo>
                          <a:pt x="18" y="3"/>
                        </a:lnTo>
                        <a:lnTo>
                          <a:pt x="12" y="6"/>
                        </a:lnTo>
                        <a:lnTo>
                          <a:pt x="3" y="14"/>
                        </a:lnTo>
                        <a:lnTo>
                          <a:pt x="0" y="23"/>
                        </a:lnTo>
                        <a:lnTo>
                          <a:pt x="3" y="35"/>
                        </a:lnTo>
                        <a:lnTo>
                          <a:pt x="12" y="44"/>
                        </a:lnTo>
                        <a:lnTo>
                          <a:pt x="15" y="50"/>
                        </a:lnTo>
                        <a:lnTo>
                          <a:pt x="24" y="62"/>
                        </a:lnTo>
                        <a:lnTo>
                          <a:pt x="39" y="68"/>
                        </a:lnTo>
                        <a:lnTo>
                          <a:pt x="57" y="71"/>
                        </a:lnTo>
                        <a:lnTo>
                          <a:pt x="74" y="62"/>
                        </a:lnTo>
                        <a:lnTo>
                          <a:pt x="80" y="56"/>
                        </a:lnTo>
                        <a:lnTo>
                          <a:pt x="83" y="41"/>
                        </a:lnTo>
                        <a:lnTo>
                          <a:pt x="80" y="32"/>
                        </a:lnTo>
                        <a:lnTo>
                          <a:pt x="80" y="29"/>
                        </a:lnTo>
                        <a:lnTo>
                          <a:pt x="71" y="14"/>
                        </a:lnTo>
                        <a:lnTo>
                          <a:pt x="63" y="6"/>
                        </a:lnTo>
                        <a:lnTo>
                          <a:pt x="63" y="6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flipV="1">
                    <a:off x="1271160" y="3682440"/>
                    <a:ext cx="1800" cy="28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1298160" y="3723840"/>
                    <a:ext cx="1080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68">
                        <a:moveTo>
                          <a:pt x="30" y="0"/>
                        </a:moveTo>
                        <a:lnTo>
                          <a:pt x="18" y="3"/>
                        </a:lnTo>
                        <a:lnTo>
                          <a:pt x="12" y="6"/>
                        </a:lnTo>
                        <a:lnTo>
                          <a:pt x="6" y="12"/>
                        </a:lnTo>
                        <a:lnTo>
                          <a:pt x="0" y="15"/>
                        </a:lnTo>
                        <a:lnTo>
                          <a:pt x="0" y="27"/>
                        </a:lnTo>
                        <a:lnTo>
                          <a:pt x="0" y="36"/>
                        </a:lnTo>
                        <a:lnTo>
                          <a:pt x="0" y="39"/>
                        </a:lnTo>
                        <a:lnTo>
                          <a:pt x="3" y="48"/>
                        </a:lnTo>
                        <a:lnTo>
                          <a:pt x="3" y="56"/>
                        </a:lnTo>
                        <a:lnTo>
                          <a:pt x="12" y="59"/>
                        </a:lnTo>
                        <a:lnTo>
                          <a:pt x="30" y="62"/>
                        </a:lnTo>
                        <a:lnTo>
                          <a:pt x="39" y="65"/>
                        </a:lnTo>
                        <a:lnTo>
                          <a:pt x="42" y="68"/>
                        </a:lnTo>
                        <a:lnTo>
                          <a:pt x="45" y="65"/>
                        </a:lnTo>
                        <a:lnTo>
                          <a:pt x="51" y="62"/>
                        </a:lnTo>
                        <a:lnTo>
                          <a:pt x="51" y="62"/>
                        </a:lnTo>
                        <a:lnTo>
                          <a:pt x="56" y="65"/>
                        </a:lnTo>
                        <a:lnTo>
                          <a:pt x="65" y="65"/>
                        </a:lnTo>
                        <a:lnTo>
                          <a:pt x="65" y="62"/>
                        </a:lnTo>
                        <a:lnTo>
                          <a:pt x="65" y="59"/>
                        </a:lnTo>
                        <a:lnTo>
                          <a:pt x="68" y="50"/>
                        </a:lnTo>
                        <a:lnTo>
                          <a:pt x="68" y="39"/>
                        </a:lnTo>
                        <a:lnTo>
                          <a:pt x="65" y="33"/>
                        </a:lnTo>
                        <a:lnTo>
                          <a:pt x="62" y="24"/>
                        </a:lnTo>
                        <a:lnTo>
                          <a:pt x="48" y="9"/>
                        </a:lnTo>
                        <a:lnTo>
                          <a:pt x="39" y="0"/>
                        </a:lnTo>
                        <a:lnTo>
                          <a:pt x="30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1336320" y="3723840"/>
                    <a:ext cx="9720" cy="1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1782360" y="3935160"/>
                    <a:ext cx="7956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4">
                        <a:moveTo>
                          <a:pt x="35" y="3"/>
                        </a:moveTo>
                        <a:lnTo>
                          <a:pt x="21" y="0"/>
                        </a:lnTo>
                        <a:lnTo>
                          <a:pt x="9" y="0"/>
                        </a:lnTo>
                        <a:lnTo>
                          <a:pt x="6" y="3"/>
                        </a:lnTo>
                        <a:lnTo>
                          <a:pt x="0" y="12"/>
                        </a:lnTo>
                        <a:lnTo>
                          <a:pt x="6" y="30"/>
                        </a:lnTo>
                        <a:lnTo>
                          <a:pt x="15" y="39"/>
                        </a:lnTo>
                        <a:lnTo>
                          <a:pt x="21" y="48"/>
                        </a:lnTo>
                        <a:lnTo>
                          <a:pt x="27" y="54"/>
                        </a:lnTo>
                        <a:lnTo>
                          <a:pt x="35" y="54"/>
                        </a:lnTo>
                        <a:lnTo>
                          <a:pt x="44" y="48"/>
                        </a:lnTo>
                        <a:lnTo>
                          <a:pt x="47" y="48"/>
                        </a:lnTo>
                        <a:lnTo>
                          <a:pt x="50" y="45"/>
                        </a:lnTo>
                        <a:lnTo>
                          <a:pt x="50" y="36"/>
                        </a:lnTo>
                        <a:lnTo>
                          <a:pt x="50" y="30"/>
                        </a:lnTo>
                        <a:lnTo>
                          <a:pt x="50" y="27"/>
                        </a:lnTo>
                        <a:lnTo>
                          <a:pt x="47" y="18"/>
                        </a:lnTo>
                        <a:lnTo>
                          <a:pt x="44" y="9"/>
                        </a:lnTo>
                        <a:lnTo>
                          <a:pt x="44" y="6"/>
                        </a:lnTo>
                        <a:lnTo>
                          <a:pt x="41" y="3"/>
                        </a:lnTo>
                        <a:lnTo>
                          <a:pt x="35" y="3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flipV="1">
                    <a:off x="1833120" y="3939840"/>
                    <a:ext cx="5040" cy="432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9" name=""/>
                <p:cNvSpPr/>
                <p:nvPr/>
              </p:nvSpPr>
              <p:spPr>
                <a:xfrm>
                  <a:off x="1254600" y="3824280"/>
                  <a:ext cx="860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1789560" y="4049640"/>
                  <a:ext cx="860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?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1" name=""/>
            <p:cNvSpPr/>
            <p:nvPr/>
          </p:nvSpPr>
          <p:spPr>
            <a:xfrm>
              <a:off x="956160" y="2743200"/>
              <a:ext cx="957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Comic Sans MS"/>
                </a:rPr>
                <a:t>Or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(Organab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3657600" y="4952880"/>
            <a:ext cx="2187720" cy="1316160"/>
            <a:chOff x="3657600" y="4952880"/>
            <a:chExt cx="2187720" cy="1316160"/>
          </a:xfrm>
        </p:grpSpPr>
        <p:grpSp>
          <p:nvGrpSpPr>
            <p:cNvPr id="443" name=""/>
            <p:cNvGrpSpPr/>
            <p:nvPr/>
          </p:nvGrpSpPr>
          <p:grpSpPr>
            <a:xfrm>
              <a:off x="3760920" y="5437080"/>
              <a:ext cx="1827000" cy="354240"/>
              <a:chOff x="3760920" y="5437080"/>
              <a:chExt cx="1827000" cy="354240"/>
            </a:xfrm>
          </p:grpSpPr>
          <p:sp>
            <p:nvSpPr>
              <p:cNvPr id="444" name=""/>
              <p:cNvSpPr/>
              <p:nvPr/>
            </p:nvSpPr>
            <p:spPr>
              <a:xfrm flipV="1">
                <a:off x="3760920" y="5446440"/>
                <a:ext cx="1440" cy="3236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586480" y="5437080"/>
                <a:ext cx="1440" cy="254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791160" y="5486400"/>
                <a:ext cx="179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76560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58180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3657600" y="5597640"/>
              <a:ext cx="2187720" cy="671400"/>
              <a:chOff x="3657600" y="5597640"/>
              <a:chExt cx="2187720" cy="671400"/>
            </a:xfrm>
          </p:grpSpPr>
          <p:sp>
            <p:nvSpPr>
              <p:cNvPr id="450" name=""/>
              <p:cNvSpPr/>
              <p:nvPr/>
            </p:nvSpPr>
            <p:spPr>
              <a:xfrm>
                <a:off x="4859280" y="5875200"/>
                <a:ext cx="943200" cy="379440"/>
              </a:xfrm>
              <a:custGeom>
                <a:avLst/>
                <a:gdLst/>
                <a:ahLst/>
                <a:rect l="l" t="t" r="r" b="b"/>
                <a:pathLst>
                  <a:path w="594" h="239">
                    <a:moveTo>
                      <a:pt x="594" y="94"/>
                    </a:moveTo>
                    <a:lnTo>
                      <a:pt x="594" y="239"/>
                    </a:lnTo>
                    <a:lnTo>
                      <a:pt x="337" y="145"/>
                    </a:lnTo>
                    <a:lnTo>
                      <a:pt x="281" y="124"/>
                    </a:lnTo>
                    <a:lnTo>
                      <a:pt x="92" y="100"/>
                    </a:lnTo>
                    <a:lnTo>
                      <a:pt x="0" y="44"/>
                    </a:lnTo>
                    <a:lnTo>
                      <a:pt x="343" y="0"/>
                    </a:lnTo>
                    <a:lnTo>
                      <a:pt x="594" y="94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667320" y="5597640"/>
                <a:ext cx="2131920" cy="450720"/>
              </a:xfrm>
              <a:custGeom>
                <a:avLst/>
                <a:gdLst/>
                <a:ahLst/>
                <a:rect l="l" t="t" r="r" b="b"/>
                <a:pathLst>
                  <a:path w="1343" h="284">
                    <a:moveTo>
                      <a:pt x="1343" y="98"/>
                    </a:moveTo>
                    <a:lnTo>
                      <a:pt x="1343" y="284"/>
                    </a:lnTo>
                    <a:lnTo>
                      <a:pt x="1100" y="192"/>
                    </a:lnTo>
                    <a:lnTo>
                      <a:pt x="801" y="219"/>
                    </a:lnTo>
                    <a:lnTo>
                      <a:pt x="591" y="263"/>
                    </a:lnTo>
                    <a:lnTo>
                      <a:pt x="230" y="222"/>
                    </a:lnTo>
                    <a:lnTo>
                      <a:pt x="0" y="172"/>
                    </a:lnTo>
                    <a:lnTo>
                      <a:pt x="0" y="33"/>
                    </a:lnTo>
                    <a:lnTo>
                      <a:pt x="0" y="3"/>
                    </a:lnTo>
                    <a:lnTo>
                      <a:pt x="227" y="0"/>
                    </a:lnTo>
                    <a:lnTo>
                      <a:pt x="411" y="0"/>
                    </a:lnTo>
                    <a:lnTo>
                      <a:pt x="588" y="3"/>
                    </a:lnTo>
                    <a:lnTo>
                      <a:pt x="828" y="15"/>
                    </a:lnTo>
                    <a:lnTo>
                      <a:pt x="1094" y="3"/>
                    </a:lnTo>
                    <a:lnTo>
                      <a:pt x="1343" y="98"/>
                    </a:lnTo>
                    <a:close/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3657600" y="5640480"/>
                <a:ext cx="2187720" cy="628560"/>
                <a:chOff x="3657600" y="5640480"/>
                <a:chExt cx="2187720" cy="62856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3657600" y="5640480"/>
                  <a:ext cx="1629000" cy="407880"/>
                </a:xfrm>
                <a:custGeom>
                  <a:avLst/>
                  <a:gdLst/>
                  <a:ahLst/>
                  <a:rect l="l" t="t" r="r" b="b"/>
                  <a:pathLst>
                    <a:path w="1026" h="257">
                      <a:moveTo>
                        <a:pt x="3" y="14"/>
                      </a:moveTo>
                      <a:lnTo>
                        <a:pt x="3" y="8"/>
                      </a:lnTo>
                      <a:lnTo>
                        <a:pt x="3" y="6"/>
                      </a:lnTo>
                      <a:lnTo>
                        <a:pt x="6" y="3"/>
                      </a:lnTo>
                      <a:lnTo>
                        <a:pt x="17" y="0"/>
                      </a:lnTo>
                      <a:lnTo>
                        <a:pt x="32" y="3"/>
                      </a:lnTo>
                      <a:lnTo>
                        <a:pt x="38" y="3"/>
                      </a:lnTo>
                      <a:lnTo>
                        <a:pt x="47" y="3"/>
                      </a:lnTo>
                      <a:lnTo>
                        <a:pt x="62" y="3"/>
                      </a:lnTo>
                      <a:lnTo>
                        <a:pt x="68" y="3"/>
                      </a:lnTo>
                      <a:lnTo>
                        <a:pt x="71" y="3"/>
                      </a:lnTo>
                      <a:lnTo>
                        <a:pt x="80" y="3"/>
                      </a:lnTo>
                      <a:lnTo>
                        <a:pt x="97" y="6"/>
                      </a:lnTo>
                      <a:lnTo>
                        <a:pt x="106" y="8"/>
                      </a:lnTo>
                      <a:lnTo>
                        <a:pt x="109" y="8"/>
                      </a:lnTo>
                      <a:lnTo>
                        <a:pt x="121" y="20"/>
                      </a:lnTo>
                      <a:lnTo>
                        <a:pt x="130" y="47"/>
                      </a:lnTo>
                      <a:lnTo>
                        <a:pt x="133" y="74"/>
                      </a:lnTo>
                      <a:lnTo>
                        <a:pt x="133" y="85"/>
                      </a:lnTo>
                      <a:lnTo>
                        <a:pt x="136" y="85"/>
                      </a:lnTo>
                      <a:lnTo>
                        <a:pt x="139" y="77"/>
                      </a:lnTo>
                      <a:lnTo>
                        <a:pt x="142" y="65"/>
                      </a:lnTo>
                      <a:lnTo>
                        <a:pt x="142" y="59"/>
                      </a:lnTo>
                      <a:lnTo>
                        <a:pt x="145" y="53"/>
                      </a:lnTo>
                      <a:lnTo>
                        <a:pt x="151" y="44"/>
                      </a:lnTo>
                      <a:lnTo>
                        <a:pt x="156" y="44"/>
                      </a:lnTo>
                      <a:lnTo>
                        <a:pt x="165" y="41"/>
                      </a:lnTo>
                      <a:lnTo>
                        <a:pt x="180" y="44"/>
                      </a:lnTo>
                      <a:lnTo>
                        <a:pt x="186" y="50"/>
                      </a:lnTo>
                      <a:lnTo>
                        <a:pt x="192" y="56"/>
                      </a:lnTo>
                      <a:lnTo>
                        <a:pt x="201" y="68"/>
                      </a:lnTo>
                      <a:lnTo>
                        <a:pt x="204" y="77"/>
                      </a:lnTo>
                      <a:lnTo>
                        <a:pt x="207" y="82"/>
                      </a:lnTo>
                      <a:lnTo>
                        <a:pt x="207" y="91"/>
                      </a:lnTo>
                      <a:lnTo>
                        <a:pt x="210" y="100"/>
                      </a:lnTo>
                      <a:lnTo>
                        <a:pt x="213" y="103"/>
                      </a:lnTo>
                      <a:lnTo>
                        <a:pt x="216" y="103"/>
                      </a:lnTo>
                      <a:lnTo>
                        <a:pt x="222" y="103"/>
                      </a:lnTo>
                      <a:lnTo>
                        <a:pt x="225" y="103"/>
                      </a:lnTo>
                      <a:lnTo>
                        <a:pt x="230" y="106"/>
                      </a:lnTo>
                      <a:lnTo>
                        <a:pt x="239" y="109"/>
                      </a:lnTo>
                      <a:lnTo>
                        <a:pt x="242" y="112"/>
                      </a:lnTo>
                      <a:lnTo>
                        <a:pt x="248" y="115"/>
                      </a:lnTo>
                      <a:lnTo>
                        <a:pt x="260" y="118"/>
                      </a:lnTo>
                      <a:lnTo>
                        <a:pt x="266" y="121"/>
                      </a:lnTo>
                      <a:lnTo>
                        <a:pt x="263" y="121"/>
                      </a:lnTo>
                      <a:lnTo>
                        <a:pt x="263" y="124"/>
                      </a:lnTo>
                      <a:lnTo>
                        <a:pt x="263" y="121"/>
                      </a:lnTo>
                      <a:lnTo>
                        <a:pt x="269" y="112"/>
                      </a:lnTo>
                      <a:lnTo>
                        <a:pt x="275" y="94"/>
                      </a:lnTo>
                      <a:lnTo>
                        <a:pt x="275" y="88"/>
                      </a:lnTo>
                      <a:lnTo>
                        <a:pt x="278" y="85"/>
                      </a:lnTo>
                      <a:lnTo>
                        <a:pt x="278" y="80"/>
                      </a:lnTo>
                      <a:lnTo>
                        <a:pt x="281" y="71"/>
                      </a:lnTo>
                      <a:lnTo>
                        <a:pt x="284" y="68"/>
                      </a:lnTo>
                      <a:lnTo>
                        <a:pt x="293" y="59"/>
                      </a:lnTo>
                      <a:lnTo>
                        <a:pt x="295" y="53"/>
                      </a:lnTo>
                      <a:lnTo>
                        <a:pt x="301" y="50"/>
                      </a:lnTo>
                      <a:lnTo>
                        <a:pt x="316" y="53"/>
                      </a:lnTo>
                      <a:lnTo>
                        <a:pt x="328" y="56"/>
                      </a:lnTo>
                      <a:lnTo>
                        <a:pt x="331" y="56"/>
                      </a:lnTo>
                      <a:lnTo>
                        <a:pt x="337" y="59"/>
                      </a:lnTo>
                      <a:lnTo>
                        <a:pt x="343" y="65"/>
                      </a:lnTo>
                      <a:lnTo>
                        <a:pt x="349" y="77"/>
                      </a:lnTo>
                      <a:lnTo>
                        <a:pt x="361" y="100"/>
                      </a:lnTo>
                      <a:lnTo>
                        <a:pt x="364" y="109"/>
                      </a:lnTo>
                      <a:lnTo>
                        <a:pt x="366" y="118"/>
                      </a:lnTo>
                      <a:lnTo>
                        <a:pt x="375" y="133"/>
                      </a:lnTo>
                      <a:lnTo>
                        <a:pt x="378" y="142"/>
                      </a:lnTo>
                      <a:lnTo>
                        <a:pt x="378" y="148"/>
                      </a:lnTo>
                      <a:lnTo>
                        <a:pt x="381" y="153"/>
                      </a:lnTo>
                      <a:lnTo>
                        <a:pt x="384" y="159"/>
                      </a:lnTo>
                      <a:lnTo>
                        <a:pt x="378" y="165"/>
                      </a:lnTo>
                      <a:lnTo>
                        <a:pt x="378" y="165"/>
                      </a:lnTo>
                      <a:lnTo>
                        <a:pt x="381" y="165"/>
                      </a:lnTo>
                      <a:lnTo>
                        <a:pt x="384" y="168"/>
                      </a:lnTo>
                      <a:lnTo>
                        <a:pt x="387" y="165"/>
                      </a:lnTo>
                      <a:lnTo>
                        <a:pt x="390" y="156"/>
                      </a:lnTo>
                      <a:lnTo>
                        <a:pt x="393" y="139"/>
                      </a:lnTo>
                      <a:lnTo>
                        <a:pt x="393" y="133"/>
                      </a:lnTo>
                      <a:lnTo>
                        <a:pt x="396" y="130"/>
                      </a:lnTo>
                      <a:lnTo>
                        <a:pt x="396" y="118"/>
                      </a:lnTo>
                      <a:lnTo>
                        <a:pt x="399" y="109"/>
                      </a:lnTo>
                      <a:lnTo>
                        <a:pt x="402" y="106"/>
                      </a:lnTo>
                      <a:lnTo>
                        <a:pt x="408" y="103"/>
                      </a:lnTo>
                      <a:lnTo>
                        <a:pt x="420" y="100"/>
                      </a:lnTo>
                      <a:lnTo>
                        <a:pt x="429" y="100"/>
                      </a:lnTo>
                      <a:lnTo>
                        <a:pt x="435" y="100"/>
                      </a:lnTo>
                      <a:lnTo>
                        <a:pt x="452" y="94"/>
                      </a:lnTo>
                      <a:lnTo>
                        <a:pt x="470" y="88"/>
                      </a:lnTo>
                      <a:lnTo>
                        <a:pt x="476" y="88"/>
                      </a:lnTo>
                      <a:lnTo>
                        <a:pt x="485" y="88"/>
                      </a:lnTo>
                      <a:lnTo>
                        <a:pt x="500" y="94"/>
                      </a:lnTo>
                      <a:lnTo>
                        <a:pt x="508" y="100"/>
                      </a:lnTo>
                      <a:lnTo>
                        <a:pt x="511" y="103"/>
                      </a:lnTo>
                      <a:lnTo>
                        <a:pt x="511" y="109"/>
                      </a:lnTo>
                      <a:lnTo>
                        <a:pt x="511" y="112"/>
                      </a:lnTo>
                      <a:lnTo>
                        <a:pt x="511" y="115"/>
                      </a:lnTo>
                      <a:lnTo>
                        <a:pt x="514" y="118"/>
                      </a:lnTo>
                      <a:lnTo>
                        <a:pt x="514" y="118"/>
                      </a:lnTo>
                      <a:lnTo>
                        <a:pt x="517" y="118"/>
                      </a:lnTo>
                      <a:lnTo>
                        <a:pt x="517" y="109"/>
                      </a:lnTo>
                      <a:lnTo>
                        <a:pt x="520" y="85"/>
                      </a:lnTo>
                      <a:lnTo>
                        <a:pt x="526" y="68"/>
                      </a:lnTo>
                      <a:lnTo>
                        <a:pt x="541" y="56"/>
                      </a:lnTo>
                      <a:lnTo>
                        <a:pt x="574" y="41"/>
                      </a:lnTo>
                      <a:lnTo>
                        <a:pt x="600" y="41"/>
                      </a:lnTo>
                      <a:lnTo>
                        <a:pt x="609" y="41"/>
                      </a:lnTo>
                      <a:lnTo>
                        <a:pt x="612" y="41"/>
                      </a:lnTo>
                      <a:lnTo>
                        <a:pt x="621" y="35"/>
                      </a:lnTo>
                      <a:lnTo>
                        <a:pt x="627" y="32"/>
                      </a:lnTo>
                      <a:lnTo>
                        <a:pt x="633" y="32"/>
                      </a:lnTo>
                      <a:lnTo>
                        <a:pt x="639" y="29"/>
                      </a:lnTo>
                      <a:lnTo>
                        <a:pt x="653" y="26"/>
                      </a:lnTo>
                      <a:lnTo>
                        <a:pt x="680" y="32"/>
                      </a:lnTo>
                      <a:lnTo>
                        <a:pt x="698" y="44"/>
                      </a:lnTo>
                      <a:lnTo>
                        <a:pt x="704" y="47"/>
                      </a:lnTo>
                      <a:lnTo>
                        <a:pt x="710" y="50"/>
                      </a:lnTo>
                      <a:lnTo>
                        <a:pt x="724" y="56"/>
                      </a:lnTo>
                      <a:lnTo>
                        <a:pt x="736" y="65"/>
                      </a:lnTo>
                      <a:lnTo>
                        <a:pt x="745" y="74"/>
                      </a:lnTo>
                      <a:lnTo>
                        <a:pt x="745" y="82"/>
                      </a:lnTo>
                      <a:lnTo>
                        <a:pt x="748" y="103"/>
                      </a:lnTo>
                      <a:lnTo>
                        <a:pt x="751" y="127"/>
                      </a:lnTo>
                      <a:lnTo>
                        <a:pt x="751" y="139"/>
                      </a:lnTo>
                      <a:lnTo>
                        <a:pt x="754" y="136"/>
                      </a:lnTo>
                      <a:lnTo>
                        <a:pt x="760" y="127"/>
                      </a:lnTo>
                      <a:lnTo>
                        <a:pt x="769" y="118"/>
                      </a:lnTo>
                      <a:lnTo>
                        <a:pt x="772" y="115"/>
                      </a:lnTo>
                      <a:lnTo>
                        <a:pt x="775" y="115"/>
                      </a:lnTo>
                      <a:lnTo>
                        <a:pt x="778" y="118"/>
                      </a:lnTo>
                      <a:lnTo>
                        <a:pt x="784" y="124"/>
                      </a:lnTo>
                      <a:lnTo>
                        <a:pt x="789" y="124"/>
                      </a:lnTo>
                      <a:lnTo>
                        <a:pt x="795" y="127"/>
                      </a:lnTo>
                      <a:lnTo>
                        <a:pt x="798" y="133"/>
                      </a:lnTo>
                      <a:lnTo>
                        <a:pt x="804" y="139"/>
                      </a:lnTo>
                      <a:lnTo>
                        <a:pt x="816" y="156"/>
                      </a:lnTo>
                      <a:lnTo>
                        <a:pt x="822" y="165"/>
                      </a:lnTo>
                      <a:lnTo>
                        <a:pt x="834" y="174"/>
                      </a:lnTo>
                      <a:lnTo>
                        <a:pt x="843" y="183"/>
                      </a:lnTo>
                      <a:lnTo>
                        <a:pt x="849" y="180"/>
                      </a:lnTo>
                      <a:lnTo>
                        <a:pt x="858" y="174"/>
                      </a:lnTo>
                      <a:lnTo>
                        <a:pt x="869" y="168"/>
                      </a:lnTo>
                      <a:lnTo>
                        <a:pt x="878" y="171"/>
                      </a:lnTo>
                      <a:lnTo>
                        <a:pt x="890" y="171"/>
                      </a:lnTo>
                      <a:lnTo>
                        <a:pt x="905" y="171"/>
                      </a:lnTo>
                      <a:lnTo>
                        <a:pt x="914" y="177"/>
                      </a:lnTo>
                      <a:lnTo>
                        <a:pt x="917" y="177"/>
                      </a:lnTo>
                      <a:lnTo>
                        <a:pt x="928" y="168"/>
                      </a:lnTo>
                      <a:lnTo>
                        <a:pt x="934" y="162"/>
                      </a:lnTo>
                      <a:lnTo>
                        <a:pt x="940" y="159"/>
                      </a:lnTo>
                      <a:lnTo>
                        <a:pt x="943" y="156"/>
                      </a:lnTo>
                      <a:lnTo>
                        <a:pt x="952" y="156"/>
                      </a:lnTo>
                      <a:lnTo>
                        <a:pt x="961" y="156"/>
                      </a:lnTo>
                      <a:lnTo>
                        <a:pt x="967" y="162"/>
                      </a:lnTo>
                      <a:lnTo>
                        <a:pt x="970" y="168"/>
                      </a:lnTo>
                      <a:lnTo>
                        <a:pt x="976" y="162"/>
                      </a:lnTo>
                      <a:lnTo>
                        <a:pt x="985" y="156"/>
                      </a:lnTo>
                      <a:lnTo>
                        <a:pt x="994" y="156"/>
                      </a:lnTo>
                      <a:lnTo>
                        <a:pt x="1002" y="165"/>
                      </a:lnTo>
                      <a:lnTo>
                        <a:pt x="1008" y="165"/>
                      </a:lnTo>
                      <a:lnTo>
                        <a:pt x="1014" y="162"/>
                      </a:lnTo>
                      <a:lnTo>
                        <a:pt x="1023" y="165"/>
                      </a:lnTo>
                      <a:lnTo>
                        <a:pt x="1026" y="171"/>
                      </a:lnTo>
                      <a:lnTo>
                        <a:pt x="1026" y="177"/>
                      </a:lnTo>
                      <a:lnTo>
                        <a:pt x="1023" y="180"/>
                      </a:lnTo>
                      <a:lnTo>
                        <a:pt x="1014" y="189"/>
                      </a:lnTo>
                      <a:lnTo>
                        <a:pt x="1005" y="195"/>
                      </a:lnTo>
                      <a:lnTo>
                        <a:pt x="997" y="198"/>
                      </a:lnTo>
                      <a:lnTo>
                        <a:pt x="985" y="207"/>
                      </a:lnTo>
                      <a:lnTo>
                        <a:pt x="973" y="210"/>
                      </a:lnTo>
                      <a:lnTo>
                        <a:pt x="961" y="207"/>
                      </a:lnTo>
                      <a:lnTo>
                        <a:pt x="952" y="207"/>
                      </a:lnTo>
                      <a:lnTo>
                        <a:pt x="946" y="210"/>
                      </a:lnTo>
                      <a:lnTo>
                        <a:pt x="943" y="216"/>
                      </a:lnTo>
                      <a:lnTo>
                        <a:pt x="931" y="216"/>
                      </a:lnTo>
                      <a:lnTo>
                        <a:pt x="926" y="216"/>
                      </a:lnTo>
                      <a:lnTo>
                        <a:pt x="920" y="219"/>
                      </a:lnTo>
                      <a:lnTo>
                        <a:pt x="917" y="224"/>
                      </a:lnTo>
                      <a:lnTo>
                        <a:pt x="908" y="236"/>
                      </a:lnTo>
                      <a:lnTo>
                        <a:pt x="896" y="236"/>
                      </a:lnTo>
                      <a:lnTo>
                        <a:pt x="893" y="242"/>
                      </a:lnTo>
                      <a:lnTo>
                        <a:pt x="887" y="245"/>
                      </a:lnTo>
                      <a:lnTo>
                        <a:pt x="875" y="248"/>
                      </a:lnTo>
                      <a:lnTo>
                        <a:pt x="739" y="251"/>
                      </a:lnTo>
                      <a:lnTo>
                        <a:pt x="671" y="254"/>
                      </a:lnTo>
                      <a:lnTo>
                        <a:pt x="615" y="257"/>
                      </a:lnTo>
                      <a:lnTo>
                        <a:pt x="423" y="248"/>
                      </a:lnTo>
                      <a:lnTo>
                        <a:pt x="334" y="245"/>
                      </a:lnTo>
                      <a:lnTo>
                        <a:pt x="269" y="251"/>
                      </a:lnTo>
                      <a:lnTo>
                        <a:pt x="213" y="245"/>
                      </a:lnTo>
                      <a:lnTo>
                        <a:pt x="159" y="236"/>
                      </a:lnTo>
                      <a:lnTo>
                        <a:pt x="115" y="230"/>
                      </a:lnTo>
                      <a:lnTo>
                        <a:pt x="38" y="230"/>
                      </a:lnTo>
                      <a:lnTo>
                        <a:pt x="23" y="230"/>
                      </a:lnTo>
                      <a:lnTo>
                        <a:pt x="14" y="233"/>
                      </a:lnTo>
                      <a:lnTo>
                        <a:pt x="6" y="227"/>
                      </a:lnTo>
                      <a:lnTo>
                        <a:pt x="6" y="222"/>
                      </a:lnTo>
                      <a:lnTo>
                        <a:pt x="6" y="222"/>
                      </a:lnTo>
                      <a:lnTo>
                        <a:pt x="3" y="222"/>
                      </a:lnTo>
                      <a:lnTo>
                        <a:pt x="0" y="219"/>
                      </a:lnTo>
                      <a:lnTo>
                        <a:pt x="0" y="207"/>
                      </a:lnTo>
                      <a:lnTo>
                        <a:pt x="3" y="159"/>
                      </a:lnTo>
                      <a:lnTo>
                        <a:pt x="3" y="118"/>
                      </a:lnTo>
                      <a:lnTo>
                        <a:pt x="0" y="77"/>
                      </a:lnTo>
                      <a:lnTo>
                        <a:pt x="0" y="44"/>
                      </a:lnTo>
                      <a:lnTo>
                        <a:pt x="0" y="29"/>
                      </a:lnTo>
                      <a:lnTo>
                        <a:pt x="0" y="20"/>
                      </a:lnTo>
                      <a:lnTo>
                        <a:pt x="0" y="14"/>
                      </a:lnTo>
                      <a:lnTo>
                        <a:pt x="3" y="14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H="1">
                  <a:off x="3662280" y="5657760"/>
                  <a:ext cx="4680" cy="50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5722920" y="6199200"/>
                  <a:ext cx="122400" cy="69840"/>
                </a:xfrm>
                <a:custGeom>
                  <a:avLst/>
                  <a:gdLst/>
                  <a:ahLst/>
                  <a:rect l="l" t="t" r="r" b="b"/>
                  <a:pathLst>
                    <a:path w="77" h="44">
                      <a:moveTo>
                        <a:pt x="45" y="32"/>
                      </a:moveTo>
                      <a:lnTo>
                        <a:pt x="39" y="29"/>
                      </a:lnTo>
                      <a:lnTo>
                        <a:pt x="24" y="26"/>
                      </a:lnTo>
                      <a:lnTo>
                        <a:pt x="6" y="20"/>
                      </a:lnTo>
                      <a:lnTo>
                        <a:pt x="0" y="17"/>
                      </a:lnTo>
                      <a:lnTo>
                        <a:pt x="9" y="9"/>
                      </a:lnTo>
                      <a:lnTo>
                        <a:pt x="18" y="3"/>
                      </a:lnTo>
                      <a:lnTo>
                        <a:pt x="27" y="3"/>
                      </a:lnTo>
                      <a:lnTo>
                        <a:pt x="33" y="0"/>
                      </a:lnTo>
                      <a:lnTo>
                        <a:pt x="45" y="0"/>
                      </a:lnTo>
                      <a:lnTo>
                        <a:pt x="56" y="0"/>
                      </a:lnTo>
                      <a:lnTo>
                        <a:pt x="65" y="6"/>
                      </a:lnTo>
                      <a:lnTo>
                        <a:pt x="71" y="17"/>
                      </a:lnTo>
                      <a:lnTo>
                        <a:pt x="77" y="41"/>
                      </a:lnTo>
                      <a:lnTo>
                        <a:pt x="77" y="44"/>
                      </a:lnTo>
                      <a:lnTo>
                        <a:pt x="71" y="44"/>
                      </a:lnTo>
                      <a:lnTo>
                        <a:pt x="65" y="41"/>
                      </a:lnTo>
                      <a:lnTo>
                        <a:pt x="53" y="35"/>
                      </a:lnTo>
                      <a:lnTo>
                        <a:pt x="45" y="32"/>
                      </a:lnTo>
                      <a:close/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H="1">
                  <a:off x="5789520" y="6249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7" name=""/>
            <p:cNvSpPr/>
            <p:nvPr/>
          </p:nvSpPr>
          <p:spPr>
            <a:xfrm>
              <a:off x="3997440" y="4952880"/>
              <a:ext cx="15462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Comic Sans MS"/>
                </a:rPr>
                <a:t>P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(Petit Sau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685800" y="4952880"/>
            <a:ext cx="2562120" cy="1422360"/>
            <a:chOff x="685800" y="4952880"/>
            <a:chExt cx="2562120" cy="1422360"/>
          </a:xfrm>
        </p:grpSpPr>
        <p:sp>
          <p:nvSpPr>
            <p:cNvPr id="459" name=""/>
            <p:cNvSpPr/>
            <p:nvPr/>
          </p:nvSpPr>
          <p:spPr>
            <a:xfrm>
              <a:off x="1984320" y="4952880"/>
              <a:ext cx="126360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Comic Sans MS"/>
                </a:rPr>
                <a:t>Ps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(Paracou, sables blanc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736560" y="5257800"/>
              <a:ext cx="1209960" cy="304560"/>
              <a:chOff x="736560" y="5257800"/>
              <a:chExt cx="1209960" cy="304560"/>
            </a:xfrm>
          </p:grpSpPr>
          <p:sp>
            <p:nvSpPr>
              <p:cNvPr id="461" name=""/>
              <p:cNvSpPr/>
              <p:nvPr/>
            </p:nvSpPr>
            <p:spPr>
              <a:xfrm>
                <a:off x="765360" y="5257800"/>
                <a:ext cx="116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36560" y="52578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946520" y="52578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685800" y="5402160"/>
              <a:ext cx="2381400" cy="973080"/>
              <a:chOff x="685800" y="5402160"/>
              <a:chExt cx="2381400" cy="973080"/>
            </a:xfrm>
          </p:grpSpPr>
          <p:sp>
            <p:nvSpPr>
              <p:cNvPr id="465" name=""/>
              <p:cNvSpPr/>
              <p:nvPr/>
            </p:nvSpPr>
            <p:spPr>
              <a:xfrm>
                <a:off x="685800" y="5702040"/>
                <a:ext cx="2376720" cy="673200"/>
              </a:xfrm>
              <a:custGeom>
                <a:avLst/>
                <a:gdLst/>
                <a:ahLst/>
                <a:rect l="l" t="t" r="r" b="b"/>
                <a:pathLst>
                  <a:path w="1497" h="424">
                    <a:moveTo>
                      <a:pt x="0" y="63"/>
                    </a:moveTo>
                    <a:lnTo>
                      <a:pt x="0" y="151"/>
                    </a:lnTo>
                    <a:lnTo>
                      <a:pt x="24" y="154"/>
                    </a:lnTo>
                    <a:lnTo>
                      <a:pt x="325" y="154"/>
                    </a:lnTo>
                    <a:lnTo>
                      <a:pt x="580" y="172"/>
                    </a:lnTo>
                    <a:lnTo>
                      <a:pt x="976" y="246"/>
                    </a:lnTo>
                    <a:lnTo>
                      <a:pt x="1497" y="424"/>
                    </a:lnTo>
                    <a:lnTo>
                      <a:pt x="1497" y="335"/>
                    </a:lnTo>
                    <a:lnTo>
                      <a:pt x="938" y="36"/>
                    </a:lnTo>
                    <a:lnTo>
                      <a:pt x="485" y="0"/>
                    </a:lnTo>
                    <a:lnTo>
                      <a:pt x="3" y="71"/>
                    </a:lnTo>
                    <a:lnTo>
                      <a:pt x="0" y="63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90480" y="5402160"/>
                <a:ext cx="2376720" cy="882720"/>
              </a:xfrm>
              <a:custGeom>
                <a:avLst/>
                <a:gdLst/>
                <a:ahLst/>
                <a:rect l="l" t="t" r="r" b="b"/>
                <a:pathLst>
                  <a:path w="1497" h="556">
                    <a:moveTo>
                      <a:pt x="1497" y="367"/>
                    </a:moveTo>
                    <a:lnTo>
                      <a:pt x="1497" y="556"/>
                    </a:lnTo>
                    <a:lnTo>
                      <a:pt x="1233" y="447"/>
                    </a:lnTo>
                    <a:lnTo>
                      <a:pt x="973" y="266"/>
                    </a:lnTo>
                    <a:lnTo>
                      <a:pt x="825" y="305"/>
                    </a:lnTo>
                    <a:lnTo>
                      <a:pt x="580" y="272"/>
                    </a:lnTo>
                    <a:lnTo>
                      <a:pt x="24" y="290"/>
                    </a:lnTo>
                    <a:lnTo>
                      <a:pt x="0" y="293"/>
                    </a:lnTo>
                    <a:lnTo>
                      <a:pt x="0" y="0"/>
                    </a:lnTo>
                    <a:lnTo>
                      <a:pt x="405" y="12"/>
                    </a:lnTo>
                    <a:lnTo>
                      <a:pt x="574" y="33"/>
                    </a:lnTo>
                    <a:lnTo>
                      <a:pt x="660" y="59"/>
                    </a:lnTo>
                    <a:lnTo>
                      <a:pt x="825" y="112"/>
                    </a:lnTo>
                    <a:lnTo>
                      <a:pt x="967" y="157"/>
                    </a:lnTo>
                    <a:lnTo>
                      <a:pt x="1230" y="269"/>
                    </a:lnTo>
                    <a:lnTo>
                      <a:pt x="1491" y="370"/>
                    </a:lnTo>
                    <a:lnTo>
                      <a:pt x="1497" y="367"/>
                    </a:lnTo>
                    <a:close/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90480" y="5402160"/>
                <a:ext cx="1451160" cy="404640"/>
              </a:xfrm>
              <a:custGeom>
                <a:avLst/>
                <a:gdLst/>
                <a:ahLst/>
                <a:rect l="l" t="t" r="r" b="b"/>
                <a:pathLst>
                  <a:path w="914" h="255">
                    <a:moveTo>
                      <a:pt x="914" y="139"/>
                    </a:moveTo>
                    <a:lnTo>
                      <a:pt x="825" y="160"/>
                    </a:lnTo>
                    <a:lnTo>
                      <a:pt x="580" y="237"/>
                    </a:lnTo>
                    <a:lnTo>
                      <a:pt x="24" y="255"/>
                    </a:lnTo>
                    <a:lnTo>
                      <a:pt x="0" y="255"/>
                    </a:lnTo>
                    <a:lnTo>
                      <a:pt x="0" y="0"/>
                    </a:lnTo>
                    <a:lnTo>
                      <a:pt x="405" y="12"/>
                    </a:lnTo>
                    <a:lnTo>
                      <a:pt x="574" y="33"/>
                    </a:lnTo>
                    <a:lnTo>
                      <a:pt x="914" y="139"/>
                    </a:lnTo>
                    <a:close/>
                  </a:path>
                </a:pathLst>
              </a:custGeom>
              <a:solidFill>
                <a:srgbClr val="e6e6e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8" name=""/>
          <p:cNvGrpSpPr/>
          <p:nvPr/>
        </p:nvGrpSpPr>
        <p:grpSpPr>
          <a:xfrm>
            <a:off x="722160" y="1219320"/>
            <a:ext cx="2478240" cy="1673280"/>
            <a:chOff x="722160" y="1219320"/>
            <a:chExt cx="2478240" cy="1673280"/>
          </a:xfrm>
        </p:grpSpPr>
        <p:sp>
          <p:nvSpPr>
            <p:cNvPr id="469" name=""/>
            <p:cNvSpPr/>
            <p:nvPr/>
          </p:nvSpPr>
          <p:spPr>
            <a:xfrm>
              <a:off x="722160" y="2133720"/>
              <a:ext cx="11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Comic Sans MS"/>
                </a:rPr>
                <a:t>Baf</a:t>
              </a: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(BAFOG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893880" y="1219320"/>
              <a:ext cx="2124000" cy="1143000"/>
              <a:chOff x="893880" y="1219320"/>
              <a:chExt cx="2124000" cy="1143000"/>
            </a:xfrm>
          </p:grpSpPr>
          <p:sp>
            <p:nvSpPr>
              <p:cNvPr id="471" name=""/>
              <p:cNvSpPr/>
              <p:nvPr/>
            </p:nvSpPr>
            <p:spPr>
              <a:xfrm>
                <a:off x="912960" y="1257480"/>
                <a:ext cx="20858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017880" y="182880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93880" y="12193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758880" y="1366920"/>
              <a:ext cx="2441520" cy="1525680"/>
              <a:chOff x="758880" y="1366920"/>
              <a:chExt cx="2441520" cy="1525680"/>
            </a:xfrm>
          </p:grpSpPr>
          <p:sp>
            <p:nvSpPr>
              <p:cNvPr id="475" name=""/>
              <p:cNvSpPr/>
              <p:nvPr/>
            </p:nvSpPr>
            <p:spPr>
              <a:xfrm>
                <a:off x="1200240" y="1968480"/>
                <a:ext cx="1995480" cy="924120"/>
              </a:xfrm>
              <a:custGeom>
                <a:avLst/>
                <a:gdLst/>
                <a:ahLst/>
                <a:rect l="l" t="t" r="r" b="b"/>
                <a:pathLst>
                  <a:path w="1257" h="582">
                    <a:moveTo>
                      <a:pt x="1257" y="396"/>
                    </a:moveTo>
                    <a:lnTo>
                      <a:pt x="1257" y="582"/>
                    </a:lnTo>
                    <a:lnTo>
                      <a:pt x="1192" y="577"/>
                    </a:lnTo>
                    <a:lnTo>
                      <a:pt x="1005" y="352"/>
                    </a:lnTo>
                    <a:lnTo>
                      <a:pt x="798" y="266"/>
                    </a:lnTo>
                    <a:lnTo>
                      <a:pt x="461" y="142"/>
                    </a:lnTo>
                    <a:lnTo>
                      <a:pt x="0" y="0"/>
                    </a:lnTo>
                    <a:lnTo>
                      <a:pt x="837" y="59"/>
                    </a:lnTo>
                    <a:lnTo>
                      <a:pt x="1257" y="396"/>
                    </a:lnTo>
                    <a:close/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58880" y="1366920"/>
                <a:ext cx="2441520" cy="1272960"/>
              </a:xfrm>
              <a:custGeom>
                <a:avLst/>
                <a:gdLst/>
                <a:ahLst/>
                <a:rect l="l" t="t" r="r" b="b"/>
                <a:pathLst>
                  <a:path w="1538" h="802">
                    <a:moveTo>
                      <a:pt x="1538" y="796"/>
                    </a:moveTo>
                    <a:lnTo>
                      <a:pt x="1485" y="799"/>
                    </a:lnTo>
                    <a:lnTo>
                      <a:pt x="1283" y="633"/>
                    </a:lnTo>
                    <a:lnTo>
                      <a:pt x="1085" y="458"/>
                    </a:lnTo>
                    <a:lnTo>
                      <a:pt x="742" y="432"/>
                    </a:lnTo>
                    <a:lnTo>
                      <a:pt x="266" y="396"/>
                    </a:lnTo>
                    <a:lnTo>
                      <a:pt x="26" y="343"/>
                    </a:lnTo>
                    <a:lnTo>
                      <a:pt x="0" y="346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7" y="38"/>
                    </a:lnTo>
                    <a:lnTo>
                      <a:pt x="689" y="160"/>
                    </a:lnTo>
                    <a:lnTo>
                      <a:pt x="1026" y="275"/>
                    </a:lnTo>
                    <a:lnTo>
                      <a:pt x="1283" y="376"/>
                    </a:lnTo>
                    <a:lnTo>
                      <a:pt x="1488" y="606"/>
                    </a:lnTo>
                    <a:lnTo>
                      <a:pt x="1538" y="618"/>
                    </a:lnTo>
                    <a:lnTo>
                      <a:pt x="1538" y="802"/>
                    </a:lnTo>
                    <a:lnTo>
                      <a:pt x="1538" y="796"/>
                    </a:lnTo>
                    <a:close/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7" name=""/>
          <p:cNvGrpSpPr/>
          <p:nvPr/>
        </p:nvGrpSpPr>
        <p:grpSpPr>
          <a:xfrm>
            <a:off x="4648320" y="3048120"/>
            <a:ext cx="1988640" cy="1519920"/>
            <a:chOff x="4648320" y="3048120"/>
            <a:chExt cx="1988640" cy="1519920"/>
          </a:xfrm>
        </p:grpSpPr>
        <p:grpSp>
          <p:nvGrpSpPr>
            <p:cNvPr id="478" name=""/>
            <p:cNvGrpSpPr/>
            <p:nvPr/>
          </p:nvGrpSpPr>
          <p:grpSpPr>
            <a:xfrm>
              <a:off x="5105160" y="3048120"/>
              <a:ext cx="1142640" cy="1218600"/>
              <a:chOff x="5105160" y="3048120"/>
              <a:chExt cx="1142640" cy="1218600"/>
            </a:xfrm>
          </p:grpSpPr>
          <p:sp>
            <p:nvSpPr>
              <p:cNvPr id="479" name=""/>
              <p:cNvSpPr/>
              <p:nvPr/>
            </p:nvSpPr>
            <p:spPr>
              <a:xfrm>
                <a:off x="5114520" y="3085920"/>
                <a:ext cx="1123560" cy="65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105160" y="3048120"/>
                <a:ext cx="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247800" y="365724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4802040" y="3319200"/>
              <a:ext cx="1834920" cy="1248840"/>
              <a:chOff x="4802040" y="3319200"/>
              <a:chExt cx="1834920" cy="1248840"/>
            </a:xfrm>
          </p:grpSpPr>
          <p:sp>
            <p:nvSpPr>
              <p:cNvPr id="483" name=""/>
              <p:cNvSpPr/>
              <p:nvPr/>
            </p:nvSpPr>
            <p:spPr>
              <a:xfrm>
                <a:off x="4802040" y="3403080"/>
                <a:ext cx="1834920" cy="1164960"/>
              </a:xfrm>
              <a:custGeom>
                <a:avLst/>
                <a:gdLst/>
                <a:ahLst/>
                <a:rect l="l" t="t" r="r" b="b"/>
                <a:pathLst>
                  <a:path w="1156" h="734">
                    <a:moveTo>
                      <a:pt x="0" y="0"/>
                    </a:moveTo>
                    <a:lnTo>
                      <a:pt x="0" y="290"/>
                    </a:lnTo>
                    <a:lnTo>
                      <a:pt x="378" y="299"/>
                    </a:lnTo>
                    <a:lnTo>
                      <a:pt x="920" y="701"/>
                    </a:lnTo>
                    <a:lnTo>
                      <a:pt x="1156" y="734"/>
                    </a:lnTo>
                    <a:lnTo>
                      <a:pt x="1156" y="574"/>
                    </a:lnTo>
                    <a:lnTo>
                      <a:pt x="1076" y="545"/>
                    </a:lnTo>
                    <a:lnTo>
                      <a:pt x="857" y="417"/>
                    </a:lnTo>
                    <a:lnTo>
                      <a:pt x="588" y="198"/>
                    </a:lnTo>
                    <a:lnTo>
                      <a:pt x="352" y="0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806360" y="3319200"/>
                <a:ext cx="1830240" cy="1126800"/>
              </a:xfrm>
              <a:custGeom>
                <a:avLst/>
                <a:gdLst/>
                <a:ahLst/>
                <a:rect l="l" t="t" r="r" b="b"/>
                <a:pathLst>
                  <a:path w="1153" h="710">
                    <a:moveTo>
                      <a:pt x="1153" y="609"/>
                    </a:moveTo>
                    <a:lnTo>
                      <a:pt x="1153" y="710"/>
                    </a:lnTo>
                    <a:lnTo>
                      <a:pt x="916" y="547"/>
                    </a:lnTo>
                    <a:lnTo>
                      <a:pt x="638" y="322"/>
                    </a:lnTo>
                    <a:lnTo>
                      <a:pt x="372" y="98"/>
                    </a:lnTo>
                    <a:lnTo>
                      <a:pt x="0" y="80"/>
                    </a:lnTo>
                    <a:lnTo>
                      <a:pt x="0" y="0"/>
                    </a:lnTo>
                    <a:lnTo>
                      <a:pt x="204" y="12"/>
                    </a:lnTo>
                    <a:lnTo>
                      <a:pt x="387" y="32"/>
                    </a:lnTo>
                    <a:lnTo>
                      <a:pt x="452" y="71"/>
                    </a:lnTo>
                    <a:lnTo>
                      <a:pt x="635" y="284"/>
                    </a:lnTo>
                    <a:lnTo>
                      <a:pt x="911" y="482"/>
                    </a:lnTo>
                    <a:lnTo>
                      <a:pt x="1106" y="577"/>
                    </a:lnTo>
                    <a:lnTo>
                      <a:pt x="1153" y="609"/>
                    </a:lnTo>
                    <a:close/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4648320" y="3885840"/>
              <a:ext cx="114264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Comic Sans MS"/>
                </a:rPr>
                <a:t>P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(Paracou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parc 1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2511360" y="3276720"/>
            <a:ext cx="1679760" cy="1166760"/>
            <a:chOff x="2511360" y="3276720"/>
            <a:chExt cx="1679760" cy="1166760"/>
          </a:xfrm>
        </p:grpSpPr>
        <p:grpSp>
          <p:nvGrpSpPr>
            <p:cNvPr id="487" name=""/>
            <p:cNvGrpSpPr/>
            <p:nvPr/>
          </p:nvGrpSpPr>
          <p:grpSpPr>
            <a:xfrm>
              <a:off x="2685960" y="3398760"/>
              <a:ext cx="1143000" cy="762120"/>
              <a:chOff x="2685960" y="3398760"/>
              <a:chExt cx="1143000" cy="762120"/>
            </a:xfrm>
          </p:grpSpPr>
          <p:sp>
            <p:nvSpPr>
              <p:cNvPr id="488" name=""/>
              <p:cNvSpPr/>
              <p:nvPr/>
            </p:nvSpPr>
            <p:spPr>
              <a:xfrm>
                <a:off x="2714760" y="3475080"/>
                <a:ext cx="1114200" cy="39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685960" y="339876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828960" y="37800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2511360" y="3565440"/>
              <a:ext cx="1370160" cy="878040"/>
              <a:chOff x="2511360" y="3565440"/>
              <a:chExt cx="1370160" cy="878040"/>
            </a:xfrm>
          </p:grpSpPr>
          <p:sp>
            <p:nvSpPr>
              <p:cNvPr id="492" name=""/>
              <p:cNvSpPr/>
              <p:nvPr/>
            </p:nvSpPr>
            <p:spPr>
              <a:xfrm>
                <a:off x="2521080" y="3795840"/>
                <a:ext cx="1360440" cy="647640"/>
              </a:xfrm>
              <a:custGeom>
                <a:avLst/>
                <a:gdLst/>
                <a:ahLst/>
                <a:rect l="l" t="t" r="r" b="b"/>
                <a:pathLst>
                  <a:path w="857" h="408">
                    <a:moveTo>
                      <a:pt x="0" y="0"/>
                    </a:moveTo>
                    <a:lnTo>
                      <a:pt x="88" y="6"/>
                    </a:lnTo>
                    <a:lnTo>
                      <a:pt x="857" y="281"/>
                    </a:lnTo>
                    <a:lnTo>
                      <a:pt x="854" y="408"/>
                    </a:lnTo>
                    <a:lnTo>
                      <a:pt x="499" y="408"/>
                    </a:lnTo>
                    <a:lnTo>
                      <a:pt x="325" y="346"/>
                    </a:lnTo>
                    <a:lnTo>
                      <a:pt x="227" y="198"/>
                    </a:lnTo>
                    <a:lnTo>
                      <a:pt x="198" y="177"/>
                    </a:lnTo>
                    <a:lnTo>
                      <a:pt x="50" y="157"/>
                    </a:lnTo>
                    <a:lnTo>
                      <a:pt x="0" y="154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511360" y="3565440"/>
                <a:ext cx="1370160" cy="750960"/>
              </a:xfrm>
              <a:custGeom>
                <a:avLst/>
                <a:gdLst/>
                <a:ahLst/>
                <a:rect l="l" t="t" r="r" b="b"/>
                <a:pathLst>
                  <a:path w="863" h="473">
                    <a:moveTo>
                      <a:pt x="0" y="0"/>
                    </a:moveTo>
                    <a:lnTo>
                      <a:pt x="80" y="3"/>
                    </a:lnTo>
                    <a:lnTo>
                      <a:pt x="195" y="53"/>
                    </a:lnTo>
                    <a:lnTo>
                      <a:pt x="328" y="195"/>
                    </a:lnTo>
                    <a:lnTo>
                      <a:pt x="488" y="251"/>
                    </a:lnTo>
                    <a:lnTo>
                      <a:pt x="807" y="311"/>
                    </a:lnTo>
                    <a:lnTo>
                      <a:pt x="863" y="319"/>
                    </a:lnTo>
                    <a:lnTo>
                      <a:pt x="863" y="450"/>
                    </a:lnTo>
                    <a:lnTo>
                      <a:pt x="508" y="473"/>
                    </a:lnTo>
                    <a:lnTo>
                      <a:pt x="331" y="387"/>
                    </a:lnTo>
                    <a:lnTo>
                      <a:pt x="195" y="340"/>
                    </a:lnTo>
                    <a:lnTo>
                      <a:pt x="56" y="160"/>
                    </a:lnTo>
                    <a:lnTo>
                      <a:pt x="6" y="154"/>
                    </a:lnTo>
                    <a:lnTo>
                      <a:pt x="6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2819520" y="3276720"/>
              <a:ext cx="137160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Comic Sans MS"/>
                </a:rPr>
                <a:t>P16</a:t>
              </a: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(Paracou, parc 16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733920" y="1905120"/>
            <a:ext cx="2593800" cy="1676160"/>
            <a:chOff x="3733920" y="1905120"/>
            <a:chExt cx="2593800" cy="1676160"/>
          </a:xfrm>
        </p:grpSpPr>
        <p:sp>
          <p:nvSpPr>
            <p:cNvPr id="496" name=""/>
            <p:cNvSpPr/>
            <p:nvPr/>
          </p:nvSpPr>
          <p:spPr>
            <a:xfrm>
              <a:off x="3736800" y="2101680"/>
              <a:ext cx="2590920" cy="1479600"/>
            </a:xfrm>
            <a:custGeom>
              <a:avLst/>
              <a:gdLst/>
              <a:ahLst/>
              <a:rect l="l" t="t" r="r" b="b"/>
              <a:pathLst>
                <a:path w="1632" h="932">
                  <a:moveTo>
                    <a:pt x="68" y="284"/>
                  </a:moveTo>
                  <a:cubicBezTo>
                    <a:pt x="134" y="200"/>
                    <a:pt x="269" y="115"/>
                    <a:pt x="348" y="72"/>
                  </a:cubicBezTo>
                  <a:cubicBezTo>
                    <a:pt x="427" y="29"/>
                    <a:pt x="428" y="0"/>
                    <a:pt x="540" y="24"/>
                  </a:cubicBezTo>
                  <a:cubicBezTo>
                    <a:pt x="652" y="48"/>
                    <a:pt x="886" y="156"/>
                    <a:pt x="1020" y="216"/>
                  </a:cubicBezTo>
                  <a:cubicBezTo>
                    <a:pt x="1154" y="276"/>
                    <a:pt x="1264" y="328"/>
                    <a:pt x="1344" y="384"/>
                  </a:cubicBezTo>
                  <a:cubicBezTo>
                    <a:pt x="1424" y="440"/>
                    <a:pt x="1458" y="508"/>
                    <a:pt x="1500" y="552"/>
                  </a:cubicBezTo>
                  <a:cubicBezTo>
                    <a:pt x="1542" y="596"/>
                    <a:pt x="1577" y="597"/>
                    <a:pt x="1596" y="648"/>
                  </a:cubicBezTo>
                  <a:cubicBezTo>
                    <a:pt x="1615" y="699"/>
                    <a:pt x="1610" y="815"/>
                    <a:pt x="1612" y="856"/>
                  </a:cubicBezTo>
                  <a:cubicBezTo>
                    <a:pt x="1614" y="897"/>
                    <a:pt x="1611" y="886"/>
                    <a:pt x="1611" y="897"/>
                  </a:cubicBezTo>
                  <a:cubicBezTo>
                    <a:pt x="1611" y="908"/>
                    <a:pt x="1632" y="932"/>
                    <a:pt x="1614" y="921"/>
                  </a:cubicBezTo>
                  <a:cubicBezTo>
                    <a:pt x="1596" y="910"/>
                    <a:pt x="1598" y="900"/>
                    <a:pt x="1504" y="830"/>
                  </a:cubicBezTo>
                  <a:cubicBezTo>
                    <a:pt x="1410" y="760"/>
                    <a:pt x="1210" y="570"/>
                    <a:pt x="1048" y="500"/>
                  </a:cubicBezTo>
                  <a:cubicBezTo>
                    <a:pt x="886" y="430"/>
                    <a:pt x="672" y="402"/>
                    <a:pt x="532" y="410"/>
                  </a:cubicBezTo>
                  <a:cubicBezTo>
                    <a:pt x="392" y="418"/>
                    <a:pt x="291" y="509"/>
                    <a:pt x="208" y="548"/>
                  </a:cubicBezTo>
                  <a:cubicBezTo>
                    <a:pt x="125" y="587"/>
                    <a:pt x="68" y="629"/>
                    <a:pt x="34" y="644"/>
                  </a:cubicBezTo>
                  <a:cubicBezTo>
                    <a:pt x="0" y="659"/>
                    <a:pt x="5" y="675"/>
                    <a:pt x="3" y="639"/>
                  </a:cubicBezTo>
                  <a:cubicBezTo>
                    <a:pt x="1" y="603"/>
                    <a:pt x="9" y="487"/>
                    <a:pt x="20" y="428"/>
                  </a:cubicBezTo>
                  <a:cubicBezTo>
                    <a:pt x="31" y="369"/>
                    <a:pt x="58" y="314"/>
                    <a:pt x="68" y="284"/>
                  </a:cubicBez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733920" y="1905120"/>
              <a:ext cx="2573280" cy="1454040"/>
            </a:xfrm>
            <a:custGeom>
              <a:avLst/>
              <a:gdLst/>
              <a:ahLst/>
              <a:rect l="l" t="t" r="r" b="b"/>
              <a:pathLst>
                <a:path w="1621" h="916">
                  <a:moveTo>
                    <a:pt x="5" y="4"/>
                  </a:moveTo>
                  <a:cubicBezTo>
                    <a:pt x="25" y="0"/>
                    <a:pt x="61" y="5"/>
                    <a:pt x="110" y="7"/>
                  </a:cubicBezTo>
                  <a:cubicBezTo>
                    <a:pt x="159" y="9"/>
                    <a:pt x="250" y="13"/>
                    <a:pt x="299" y="16"/>
                  </a:cubicBezTo>
                  <a:cubicBezTo>
                    <a:pt x="348" y="19"/>
                    <a:pt x="373" y="21"/>
                    <a:pt x="403" y="24"/>
                  </a:cubicBezTo>
                  <a:cubicBezTo>
                    <a:pt x="433" y="27"/>
                    <a:pt x="450" y="32"/>
                    <a:pt x="479" y="37"/>
                  </a:cubicBezTo>
                  <a:cubicBezTo>
                    <a:pt x="508" y="42"/>
                    <a:pt x="537" y="42"/>
                    <a:pt x="580" y="55"/>
                  </a:cubicBezTo>
                  <a:cubicBezTo>
                    <a:pt x="623" y="68"/>
                    <a:pt x="696" y="100"/>
                    <a:pt x="737" y="117"/>
                  </a:cubicBezTo>
                  <a:cubicBezTo>
                    <a:pt x="778" y="134"/>
                    <a:pt x="792" y="138"/>
                    <a:pt x="824" y="154"/>
                  </a:cubicBezTo>
                  <a:cubicBezTo>
                    <a:pt x="856" y="170"/>
                    <a:pt x="886" y="189"/>
                    <a:pt x="929" y="211"/>
                  </a:cubicBezTo>
                  <a:cubicBezTo>
                    <a:pt x="972" y="233"/>
                    <a:pt x="1018" y="254"/>
                    <a:pt x="1079" y="286"/>
                  </a:cubicBezTo>
                  <a:cubicBezTo>
                    <a:pt x="1140" y="318"/>
                    <a:pt x="1233" y="366"/>
                    <a:pt x="1298" y="403"/>
                  </a:cubicBezTo>
                  <a:cubicBezTo>
                    <a:pt x="1363" y="440"/>
                    <a:pt x="1418" y="467"/>
                    <a:pt x="1466" y="508"/>
                  </a:cubicBezTo>
                  <a:cubicBezTo>
                    <a:pt x="1514" y="549"/>
                    <a:pt x="1561" y="619"/>
                    <a:pt x="1586" y="649"/>
                  </a:cubicBezTo>
                  <a:cubicBezTo>
                    <a:pt x="1611" y="679"/>
                    <a:pt x="1611" y="673"/>
                    <a:pt x="1616" y="690"/>
                  </a:cubicBezTo>
                  <a:cubicBezTo>
                    <a:pt x="1621" y="707"/>
                    <a:pt x="1618" y="719"/>
                    <a:pt x="1618" y="752"/>
                  </a:cubicBezTo>
                  <a:cubicBezTo>
                    <a:pt x="1618" y="785"/>
                    <a:pt x="1617" y="860"/>
                    <a:pt x="1616" y="886"/>
                  </a:cubicBezTo>
                  <a:cubicBezTo>
                    <a:pt x="1615" y="912"/>
                    <a:pt x="1620" y="916"/>
                    <a:pt x="1614" y="906"/>
                  </a:cubicBezTo>
                  <a:cubicBezTo>
                    <a:pt x="1608" y="896"/>
                    <a:pt x="1596" y="866"/>
                    <a:pt x="1578" y="828"/>
                  </a:cubicBezTo>
                  <a:cubicBezTo>
                    <a:pt x="1560" y="790"/>
                    <a:pt x="1532" y="719"/>
                    <a:pt x="1504" y="680"/>
                  </a:cubicBezTo>
                  <a:cubicBezTo>
                    <a:pt x="1476" y="641"/>
                    <a:pt x="1460" y="632"/>
                    <a:pt x="1412" y="594"/>
                  </a:cubicBezTo>
                  <a:cubicBezTo>
                    <a:pt x="1364" y="556"/>
                    <a:pt x="1289" y="491"/>
                    <a:pt x="1216" y="450"/>
                  </a:cubicBezTo>
                  <a:cubicBezTo>
                    <a:pt x="1143" y="409"/>
                    <a:pt x="1048" y="378"/>
                    <a:pt x="976" y="350"/>
                  </a:cubicBezTo>
                  <a:cubicBezTo>
                    <a:pt x="904" y="322"/>
                    <a:pt x="832" y="304"/>
                    <a:pt x="784" y="284"/>
                  </a:cubicBezTo>
                  <a:cubicBezTo>
                    <a:pt x="736" y="264"/>
                    <a:pt x="720" y="243"/>
                    <a:pt x="688" y="228"/>
                  </a:cubicBezTo>
                  <a:cubicBezTo>
                    <a:pt x="656" y="213"/>
                    <a:pt x="626" y="201"/>
                    <a:pt x="594" y="194"/>
                  </a:cubicBezTo>
                  <a:cubicBezTo>
                    <a:pt x="562" y="187"/>
                    <a:pt x="523" y="178"/>
                    <a:pt x="498" y="188"/>
                  </a:cubicBezTo>
                  <a:cubicBezTo>
                    <a:pt x="473" y="198"/>
                    <a:pt x="461" y="228"/>
                    <a:pt x="444" y="256"/>
                  </a:cubicBezTo>
                  <a:cubicBezTo>
                    <a:pt x="427" y="284"/>
                    <a:pt x="420" y="329"/>
                    <a:pt x="396" y="354"/>
                  </a:cubicBezTo>
                  <a:cubicBezTo>
                    <a:pt x="372" y="379"/>
                    <a:pt x="329" y="386"/>
                    <a:pt x="298" y="406"/>
                  </a:cubicBezTo>
                  <a:cubicBezTo>
                    <a:pt x="267" y="426"/>
                    <a:pt x="240" y="443"/>
                    <a:pt x="208" y="474"/>
                  </a:cubicBezTo>
                  <a:cubicBezTo>
                    <a:pt x="176" y="505"/>
                    <a:pt x="138" y="553"/>
                    <a:pt x="106" y="594"/>
                  </a:cubicBezTo>
                  <a:cubicBezTo>
                    <a:pt x="74" y="635"/>
                    <a:pt x="32" y="713"/>
                    <a:pt x="16" y="718"/>
                  </a:cubicBezTo>
                  <a:cubicBezTo>
                    <a:pt x="0" y="723"/>
                    <a:pt x="9" y="720"/>
                    <a:pt x="8" y="626"/>
                  </a:cubicBezTo>
                  <a:cubicBezTo>
                    <a:pt x="7" y="532"/>
                    <a:pt x="8" y="248"/>
                    <a:pt x="8" y="151"/>
                  </a:cubicBezTo>
                  <a:cubicBezTo>
                    <a:pt x="8" y="54"/>
                    <a:pt x="5" y="67"/>
                    <a:pt x="5" y="43"/>
                  </a:cubicBezTo>
                  <a:cubicBezTo>
                    <a:pt x="5" y="19"/>
                    <a:pt x="5" y="12"/>
                    <a:pt x="5" y="4"/>
                  </a:cubicBez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3743280" y="1619280"/>
            <a:ext cx="2552760" cy="1365120"/>
            <a:chOff x="3743280" y="1619280"/>
            <a:chExt cx="2552760" cy="1365120"/>
          </a:xfrm>
        </p:grpSpPr>
        <p:sp>
          <p:nvSpPr>
            <p:cNvPr id="499" name=""/>
            <p:cNvSpPr/>
            <p:nvPr/>
          </p:nvSpPr>
          <p:spPr>
            <a:xfrm flipV="1">
              <a:off x="4524480" y="1666800"/>
              <a:ext cx="1440" cy="324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6288120" y="2486160"/>
              <a:ext cx="1440" cy="498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3753000" y="1619280"/>
              <a:ext cx="1440" cy="324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533840" y="1743120"/>
              <a:ext cx="1762200" cy="89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743280" y="1752480"/>
              <a:ext cx="80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3372840" y="1143000"/>
            <a:ext cx="1060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So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(Soft-ha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853160" y="1355760"/>
            <a:ext cx="1063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(Soft - b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6911280" y="2728800"/>
            <a:ext cx="1613160" cy="1910520"/>
            <a:chOff x="6911280" y="2728800"/>
            <a:chExt cx="1613160" cy="1910520"/>
          </a:xfrm>
        </p:grpSpPr>
        <p:sp>
          <p:nvSpPr>
            <p:cNvPr id="507" name=""/>
            <p:cNvSpPr/>
            <p:nvPr/>
          </p:nvSpPr>
          <p:spPr>
            <a:xfrm>
              <a:off x="7457760" y="4056120"/>
              <a:ext cx="10666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Profondeur du so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6911280" y="2728800"/>
              <a:ext cx="1375920" cy="1045440"/>
              <a:chOff x="6911280" y="2728800"/>
              <a:chExt cx="1375920" cy="1045440"/>
            </a:xfrm>
          </p:grpSpPr>
          <p:sp>
            <p:nvSpPr>
              <p:cNvPr id="509" name=""/>
              <p:cNvSpPr/>
              <p:nvPr/>
            </p:nvSpPr>
            <p:spPr>
              <a:xfrm>
                <a:off x="7916040" y="2728800"/>
                <a:ext cx="37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50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331400" y="272880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155360" y="293544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911280" y="3560760"/>
                <a:ext cx="37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10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3" name=""/>
              <p:cNvGrpSpPr/>
              <p:nvPr/>
            </p:nvGrpSpPr>
            <p:grpSpPr>
              <a:xfrm>
                <a:off x="7381800" y="2935440"/>
                <a:ext cx="685440" cy="75960"/>
                <a:chOff x="7381800" y="2935440"/>
                <a:chExt cx="685440" cy="7596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7381800" y="3011400"/>
                  <a:ext cx="685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7381800" y="293544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8067240" y="293544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7305120" y="3011400"/>
                <a:ext cx="75960" cy="685800"/>
                <a:chOff x="7305120" y="3011400"/>
                <a:chExt cx="75960" cy="68580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7381080" y="3011400"/>
                  <a:ext cx="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H="1">
                  <a:off x="7305120" y="3011400"/>
                  <a:ext cx="75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flipH="1">
                  <a:off x="7305120" y="3697200"/>
                  <a:ext cx="75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1" name=""/>
            <p:cNvGrpSpPr/>
            <p:nvPr/>
          </p:nvGrpSpPr>
          <p:grpSpPr>
            <a:xfrm>
              <a:off x="6959160" y="3948120"/>
              <a:ext cx="421560" cy="691200"/>
              <a:chOff x="6959160" y="3948120"/>
              <a:chExt cx="421560" cy="691200"/>
            </a:xfrm>
          </p:grpSpPr>
          <p:sp>
            <p:nvSpPr>
              <p:cNvPr id="522" name=""/>
              <p:cNvSpPr/>
              <p:nvPr/>
            </p:nvSpPr>
            <p:spPr>
              <a:xfrm>
                <a:off x="6959160" y="4425840"/>
                <a:ext cx="31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2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155000" y="3948120"/>
                <a:ext cx="102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4" name=""/>
              <p:cNvGrpSpPr/>
              <p:nvPr/>
            </p:nvGrpSpPr>
            <p:grpSpPr>
              <a:xfrm>
                <a:off x="7304760" y="4024080"/>
                <a:ext cx="75960" cy="505080"/>
                <a:chOff x="7304760" y="4024080"/>
                <a:chExt cx="75960" cy="50508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7380720" y="4024080"/>
                  <a:ext cx="0" cy="50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flipH="1">
                  <a:off x="7304760" y="4024080"/>
                  <a:ext cx="75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flipH="1">
                  <a:off x="7304760" y="4529160"/>
                  <a:ext cx="75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8" name=""/>
            <p:cNvSpPr/>
            <p:nvPr/>
          </p:nvSpPr>
          <p:spPr>
            <a:xfrm>
              <a:off x="7428960" y="3201840"/>
              <a:ext cx="1075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Topograph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6324480" y="4800600"/>
            <a:ext cx="2666880" cy="1828800"/>
            <a:chOff x="6324480" y="4800600"/>
            <a:chExt cx="2666880" cy="1828800"/>
          </a:xfrm>
        </p:grpSpPr>
        <p:sp>
          <p:nvSpPr>
            <p:cNvPr id="530" name=""/>
            <p:cNvSpPr/>
            <p:nvPr/>
          </p:nvSpPr>
          <p:spPr>
            <a:xfrm>
              <a:off x="6476760" y="5791320"/>
              <a:ext cx="231840" cy="25704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910560" y="5791320"/>
              <a:ext cx="68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uiras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476760" y="5410440"/>
              <a:ext cx="239760" cy="245880"/>
            </a:xfrm>
            <a:prstGeom prst="rect">
              <a:avLst/>
            </a:prstGeom>
            <a:solidFill>
              <a:srgbClr val="80808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857640" y="5334120"/>
              <a:ext cx="18288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horizons à structure microagrégé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476760" y="6172200"/>
              <a:ext cx="239760" cy="24624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913440" y="6096240"/>
              <a:ext cx="20779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horizons d’altération, structure massiv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476760" y="4953240"/>
              <a:ext cx="239760" cy="245880"/>
            </a:xfrm>
            <a:prstGeom prst="rect">
              <a:avLst/>
            </a:prstGeom>
            <a:solidFill>
              <a:srgbClr val="e6e6e6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857640" y="4876920"/>
              <a:ext cx="19051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able blanc, à structure particulai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324480" y="4800600"/>
              <a:ext cx="2514600" cy="1828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879480" y="54000"/>
            <a:ext cx="77961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phologie schématiques des conditions péd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C4C64-3B7B-475E-9BF0-3265601A70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4T19:13:08Z</dcterms:created>
  <dc:creator>Guest</dc:creator>
  <dc:description/>
  <dc:language>en-US</dc:language>
  <cp:lastModifiedBy>Eric Marcon</cp:lastModifiedBy>
  <dcterms:modified xsi:type="dcterms:W3CDTF">2005-10-05T21:32:00Z</dcterms:modified>
  <cp:revision>16</cp:revision>
  <dc:subject/>
  <dc:title>Diapositive 1</dc:title>
</cp:coreProperties>
</file>