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1.jpeg" ContentType="image/jpeg"/>
  <Override PartName="/ppt/media/image13.wmf" ContentType="image/x-wmf"/>
  <Override PartName="/ppt/media/image5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A3B5-5C40-4138-A343-4393CE75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04F4-EE00-41A0-9EDA-EDDD359E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622A-D579-4DFC-ABC9-484D7808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A57E-6EDF-4982-B5C3-D2603780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3D50-9630-49BF-8AFB-B42A37DA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BEB8-729C-49F5-A910-FA3EF35B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5C05-80C1-4B20-AC2B-6E93F0E0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CF4F-4084-41FA-87C0-4E094707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03320"/>
            <a:ext cx="822960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3B65-3DE2-445F-BD74-C3D45F1B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4082-7689-417A-9777-8513312E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869A-C308-45BE-ACEF-164D1AC5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5E34-996D-48C6-85F6-C65E28D2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46440"/>
            <a:ext cx="21337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993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33"/>
                </a:solidFill>
                <a:latin typeface="Arial"/>
              </a:rPr>
              <a:t>Septembre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46440"/>
            <a:ext cx="28958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993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Projet FTH Vigu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212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ABFE-1553-44BD-B5E4-10DBA07F9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/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9800" y="901440"/>
            <a:ext cx="8204400" cy="126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92000" y="1019160"/>
            <a:ext cx="736128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iagnostic de l’état de croissanc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s arbres dans une futaie hétérogèn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 forêt tropicale humide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’angélique dans tous ses état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55880" y="3963960"/>
            <a:ext cx="53499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Palatino Linotype"/>
                <a:ea typeface="Arial Unicode MS"/>
              </a:rPr>
              <a:t>Monique Cima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Palatino Linotype"/>
                <a:ea typeface="Arial Unicode MS"/>
              </a:rPr>
              <a:t>Judith Détourb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Palatino Linotype"/>
                <a:ea typeface="Arial Unicode MS"/>
              </a:rPr>
              <a:t>Matthieu Forcet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Palatino Linotype"/>
                <a:ea typeface="Arial Unicode MS"/>
              </a:rPr>
              <a:t>Nivo Razafimamonj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Palatino Linotype"/>
                <a:ea typeface="Arial Unicode MS"/>
              </a:rPr>
              <a:t>Encadrants : Eric Nicolini (Cirad am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Palatino Linotype"/>
                <a:ea typeface="Arial Unicode MS"/>
              </a:rPr>
              <a:t>et Lilian Blanc (Cirad forê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FTH Vigueu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2C93-CC1E-4FC5-A977-31B09713D44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Statut social</a:t>
            </a: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2212920"/>
            <a:ext cx="586116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au dessus de la canopée (émerge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au niveau de la canop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sous la canopée (surcim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232680" y="1692360"/>
            <a:ext cx="644400" cy="285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448240" y="1117440"/>
            <a:ext cx="3349800" cy="508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FTH Vigue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EA8F-248B-4661-99F1-26BC3BA9D05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Critères globaux</a:t>
            </a: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334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on tron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0 droit, 1 incl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étr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0 symétrique, 1 en drap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umatis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0 sans traumatisme, 1 avec traumatisme (cassure, trou, blessure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a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0 sans liane, 1 avec li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FTH Vigue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A0B3-C5D4-406D-BDE5-1474AE1F21D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29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Critères mortalité</a:t>
            </a: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018880" y="1069920"/>
            <a:ext cx="4038840" cy="4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nc : 0 vivant, 1 m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29760" y="1455840"/>
            <a:ext cx="2716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tout est en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il y a un man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 il en manque la moiti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 mortalité to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08080" y="1531800"/>
            <a:ext cx="25480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pentiè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e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178000" y="2922480"/>
            <a:ext cx="4936680" cy="3781080"/>
            <a:chOff x="2178000" y="2922480"/>
            <a:chExt cx="4936680" cy="378108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2178000" y="2922480"/>
              <a:ext cx="4936680" cy="37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2274120" y="4267800"/>
              <a:ext cx="73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T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C =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B =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R =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559400" y="1650960"/>
            <a:ext cx="203040" cy="1104840"/>
          </a:xfrm>
          <a:custGeom>
            <a:avLst/>
            <a:gdLst>
              <a:gd name="textAreaLeft" fmla="*/ 0 w 203040"/>
              <a:gd name="textAreaRight" fmla="*/ 73440 w 203040"/>
              <a:gd name="textAreaTop" fmla="*/ 28800 h 1104840"/>
              <a:gd name="textAreaBottom" fmla="*/ 1076040 h 11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21360" y="1584360"/>
            <a:ext cx="140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FTH Vigue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D4D5-ED06-4645-B5CE-C4783BFAEAA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Critères transparence</a:t>
            </a: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chancr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nê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met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arence glob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89320" y="1003320"/>
            <a:ext cx="266760" cy="1295280"/>
          </a:xfrm>
          <a:custGeom>
            <a:avLst/>
            <a:gdLst>
              <a:gd name="textAreaLeft" fmla="*/ 0 w 266760"/>
              <a:gd name="textAreaRight" fmla="*/ 96120 w 2667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5280" y="1090440"/>
            <a:ext cx="2040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opa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  la moitié des feuil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  absence de feuil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993600" y="2278080"/>
            <a:ext cx="3342960" cy="4379400"/>
            <a:chOff x="993600" y="2278080"/>
            <a:chExt cx="3342960" cy="437940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993600" y="2278080"/>
              <a:ext cx="3342960" cy="43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317040" y="5177160"/>
              <a:ext cx="747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E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F =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C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G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689360" y="2303640"/>
            <a:ext cx="3328920" cy="4316040"/>
            <a:chOff x="4689360" y="2303640"/>
            <a:chExt cx="3328920" cy="431604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4689360" y="2303640"/>
              <a:ext cx="3328920" cy="43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699440" y="5173200"/>
              <a:ext cx="747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E =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F =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C =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G =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H="1">
            <a:off x="3902040" y="1173240"/>
            <a:ext cx="14400" cy="96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FTH Vigue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48F9-6474-4A65-9E60-DA3202CF11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Diagnostic final</a:t>
            </a: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376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 d’archite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m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 notes obtenues (0 à 30) pour chaque critère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 lab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nostic glob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rt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état global de l’arbre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r le terr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193760" y="3981600"/>
            <a:ext cx="6584760" cy="1847520"/>
            <a:chOff x="1193760" y="3981600"/>
            <a:chExt cx="6584760" cy="1847520"/>
          </a:xfrm>
        </p:grpSpPr>
        <p:sp>
          <p:nvSpPr>
            <p:cNvPr id="116" name=""/>
            <p:cNvSpPr/>
            <p:nvPr/>
          </p:nvSpPr>
          <p:spPr>
            <a:xfrm>
              <a:off x="1959120" y="4124160"/>
              <a:ext cx="581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0000"/>
                  </a:solidFill>
                  <a:latin typeface="Arial"/>
                </a:rPr>
                <a:t>0          1          2          3          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95800" y="4006800"/>
              <a:ext cx="1892160" cy="863640"/>
            </a:xfrm>
            <a:prstGeom prst="wedgeRoundRectCallout">
              <a:avLst>
                <a:gd name="adj1" fmla="val -34060"/>
                <a:gd name="adj2" fmla="val 87685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73760" y="3981600"/>
              <a:ext cx="1892160" cy="863280"/>
            </a:xfrm>
            <a:prstGeom prst="wedgeRoundRectCallout">
              <a:avLst>
                <a:gd name="adj1" fmla="val -34898"/>
                <a:gd name="adj2" fmla="val 85847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93760" y="5186520"/>
              <a:ext cx="633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bre d’avenir       arbre du présent            arbre du pass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FTH Vigue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8948-8C28-44CC-AEA6-966B6AE89EC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alphaModFix amt="28000"/>
          </a:blip>
          <a:stretch/>
        </p:blipFill>
        <p:spPr>
          <a:xfrm>
            <a:off x="0" y="-1440"/>
            <a:ext cx="9144000" cy="6829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99">
              <a:alpha val="2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Comic Sans MS"/>
                <a:ea typeface="Courier New"/>
              </a:rPr>
              <a:t>Reproductibilité de la méthode de notation architecturale</a:t>
            </a: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FTH Vigue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438D-E831-4A8E-A655-3A09362E816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Reproductibilité de la méthode (1/3)</a:t>
            </a: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69720" y="2119320"/>
            <a:ext cx="8533080" cy="3765600"/>
            <a:chOff x="369720" y="2119320"/>
            <a:chExt cx="8533080" cy="3765600"/>
          </a:xfrm>
        </p:grpSpPr>
        <p:sp>
          <p:nvSpPr>
            <p:cNvPr id="124" name=""/>
            <p:cNvSpPr/>
            <p:nvPr/>
          </p:nvSpPr>
          <p:spPr>
            <a:xfrm>
              <a:off x="369720" y="2119320"/>
              <a:ext cx="8533080" cy="376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58760" y="4700520"/>
              <a:ext cx="6740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58760" y="4224240"/>
              <a:ext cx="6740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58760" y="3759120"/>
              <a:ext cx="6740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58760" y="3292560"/>
              <a:ext cx="6740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58760" y="2817720"/>
              <a:ext cx="6740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58760" y="2352600"/>
              <a:ext cx="6740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58760" y="2352600"/>
              <a:ext cx="1800" cy="28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516564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08000" y="470052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08000" y="422424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08000" y="375912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08000" y="329256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08000" y="281772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08000" y="23526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58760" y="5165640"/>
              <a:ext cx="6740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1058760" y="51652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384280" y="51652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700440" y="51652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5025960" y="51652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6342120" y="51652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667640" y="51652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9080" y="2544840"/>
              <a:ext cx="6610320" cy="2620800"/>
            </a:xfrm>
            <a:custGeom>
              <a:avLst/>
              <a:gdLst/>
              <a:ahLst/>
              <a:rect l="l" t="t" r="r" b="b"/>
              <a:pathLst>
                <a:path w="653" h="259">
                  <a:moveTo>
                    <a:pt x="0" y="231"/>
                  </a:moveTo>
                  <a:lnTo>
                    <a:pt x="13" y="171"/>
                  </a:lnTo>
                  <a:lnTo>
                    <a:pt x="26" y="176"/>
                  </a:lnTo>
                  <a:lnTo>
                    <a:pt x="39" y="152"/>
                  </a:lnTo>
                  <a:lnTo>
                    <a:pt x="52" y="213"/>
                  </a:lnTo>
                  <a:lnTo>
                    <a:pt x="65" y="125"/>
                  </a:lnTo>
                  <a:lnTo>
                    <a:pt x="78" y="139"/>
                  </a:lnTo>
                  <a:lnTo>
                    <a:pt x="91" y="259"/>
                  </a:lnTo>
                  <a:lnTo>
                    <a:pt x="105" y="217"/>
                  </a:lnTo>
                  <a:lnTo>
                    <a:pt x="118" y="199"/>
                  </a:lnTo>
                  <a:lnTo>
                    <a:pt x="131" y="203"/>
                  </a:lnTo>
                  <a:lnTo>
                    <a:pt x="144" y="46"/>
                  </a:lnTo>
                  <a:lnTo>
                    <a:pt x="157" y="101"/>
                  </a:lnTo>
                  <a:lnTo>
                    <a:pt x="170" y="166"/>
                  </a:lnTo>
                  <a:lnTo>
                    <a:pt x="183" y="194"/>
                  </a:lnTo>
                  <a:lnTo>
                    <a:pt x="196" y="250"/>
                  </a:lnTo>
                  <a:lnTo>
                    <a:pt x="209" y="125"/>
                  </a:lnTo>
                  <a:lnTo>
                    <a:pt x="222" y="166"/>
                  </a:lnTo>
                  <a:lnTo>
                    <a:pt x="235" y="250"/>
                  </a:lnTo>
                  <a:lnTo>
                    <a:pt x="248" y="208"/>
                  </a:lnTo>
                  <a:lnTo>
                    <a:pt x="261" y="222"/>
                  </a:lnTo>
                  <a:lnTo>
                    <a:pt x="274" y="231"/>
                  </a:lnTo>
                  <a:lnTo>
                    <a:pt x="287" y="231"/>
                  </a:lnTo>
                  <a:lnTo>
                    <a:pt x="300" y="231"/>
                  </a:lnTo>
                  <a:lnTo>
                    <a:pt x="313" y="240"/>
                  </a:lnTo>
                  <a:lnTo>
                    <a:pt x="320" y="222"/>
                  </a:lnTo>
                  <a:lnTo>
                    <a:pt x="340" y="162"/>
                  </a:lnTo>
                  <a:lnTo>
                    <a:pt x="353" y="0"/>
                  </a:lnTo>
                  <a:lnTo>
                    <a:pt x="366" y="125"/>
                  </a:lnTo>
                  <a:lnTo>
                    <a:pt x="379" y="143"/>
                  </a:lnTo>
                  <a:lnTo>
                    <a:pt x="392" y="166"/>
                  </a:lnTo>
                  <a:lnTo>
                    <a:pt x="405" y="152"/>
                  </a:lnTo>
                  <a:lnTo>
                    <a:pt x="414" y="203"/>
                  </a:lnTo>
                  <a:lnTo>
                    <a:pt x="426" y="185"/>
                  </a:lnTo>
                  <a:lnTo>
                    <a:pt x="438" y="60"/>
                  </a:lnTo>
                  <a:lnTo>
                    <a:pt x="457" y="92"/>
                  </a:lnTo>
                  <a:lnTo>
                    <a:pt x="470" y="129"/>
                  </a:lnTo>
                  <a:lnTo>
                    <a:pt x="483" y="166"/>
                  </a:lnTo>
                  <a:lnTo>
                    <a:pt x="496" y="213"/>
                  </a:lnTo>
                  <a:lnTo>
                    <a:pt x="509" y="115"/>
                  </a:lnTo>
                  <a:lnTo>
                    <a:pt x="520" y="120"/>
                  </a:lnTo>
                  <a:lnTo>
                    <a:pt x="532" y="250"/>
                  </a:lnTo>
                  <a:lnTo>
                    <a:pt x="543" y="139"/>
                  </a:lnTo>
                  <a:lnTo>
                    <a:pt x="555" y="101"/>
                  </a:lnTo>
                  <a:lnTo>
                    <a:pt x="575" y="171"/>
                  </a:lnTo>
                  <a:lnTo>
                    <a:pt x="588" y="231"/>
                  </a:lnTo>
                  <a:lnTo>
                    <a:pt x="601" y="157"/>
                  </a:lnTo>
                  <a:lnTo>
                    <a:pt x="614" y="106"/>
                  </a:lnTo>
                  <a:lnTo>
                    <a:pt x="627" y="240"/>
                  </a:lnTo>
                  <a:lnTo>
                    <a:pt x="640" y="190"/>
                  </a:lnTo>
                  <a:lnTo>
                    <a:pt x="653" y="227"/>
                  </a:ln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89080" y="2494080"/>
              <a:ext cx="6610320" cy="2530440"/>
            </a:xfrm>
            <a:custGeom>
              <a:avLst/>
              <a:gdLst/>
              <a:ahLst/>
              <a:rect l="l" t="t" r="r" b="b"/>
              <a:pathLst>
                <a:path w="653" h="250">
                  <a:moveTo>
                    <a:pt x="0" y="213"/>
                  </a:moveTo>
                  <a:lnTo>
                    <a:pt x="13" y="157"/>
                  </a:lnTo>
                  <a:lnTo>
                    <a:pt x="26" y="171"/>
                  </a:lnTo>
                  <a:lnTo>
                    <a:pt x="39" y="162"/>
                  </a:lnTo>
                  <a:lnTo>
                    <a:pt x="52" y="190"/>
                  </a:lnTo>
                  <a:lnTo>
                    <a:pt x="65" y="106"/>
                  </a:lnTo>
                  <a:lnTo>
                    <a:pt x="78" y="153"/>
                  </a:lnTo>
                  <a:lnTo>
                    <a:pt x="91" y="245"/>
                  </a:lnTo>
                  <a:lnTo>
                    <a:pt x="105" y="208"/>
                  </a:lnTo>
                  <a:lnTo>
                    <a:pt x="118" y="153"/>
                  </a:lnTo>
                  <a:lnTo>
                    <a:pt x="131" y="208"/>
                  </a:lnTo>
                  <a:lnTo>
                    <a:pt x="144" y="97"/>
                  </a:lnTo>
                  <a:lnTo>
                    <a:pt x="157" y="134"/>
                  </a:lnTo>
                  <a:lnTo>
                    <a:pt x="170" y="144"/>
                  </a:lnTo>
                  <a:lnTo>
                    <a:pt x="183" y="171"/>
                  </a:lnTo>
                  <a:lnTo>
                    <a:pt x="196" y="250"/>
                  </a:lnTo>
                  <a:lnTo>
                    <a:pt x="209" y="134"/>
                  </a:lnTo>
                  <a:lnTo>
                    <a:pt x="222" y="162"/>
                  </a:lnTo>
                  <a:lnTo>
                    <a:pt x="235" y="222"/>
                  </a:lnTo>
                  <a:lnTo>
                    <a:pt x="248" y="199"/>
                  </a:lnTo>
                  <a:lnTo>
                    <a:pt x="261" y="185"/>
                  </a:lnTo>
                  <a:lnTo>
                    <a:pt x="274" y="236"/>
                  </a:lnTo>
                  <a:lnTo>
                    <a:pt x="287" y="245"/>
                  </a:lnTo>
                  <a:lnTo>
                    <a:pt x="300" y="227"/>
                  </a:lnTo>
                  <a:lnTo>
                    <a:pt x="313" y="245"/>
                  </a:lnTo>
                  <a:lnTo>
                    <a:pt x="320" y="213"/>
                  </a:lnTo>
                  <a:lnTo>
                    <a:pt x="340" y="134"/>
                  </a:lnTo>
                  <a:lnTo>
                    <a:pt x="353" y="0"/>
                  </a:lnTo>
                  <a:lnTo>
                    <a:pt x="366" y="139"/>
                  </a:lnTo>
                  <a:lnTo>
                    <a:pt x="379" y="222"/>
                  </a:lnTo>
                  <a:lnTo>
                    <a:pt x="392" y="130"/>
                  </a:lnTo>
                  <a:lnTo>
                    <a:pt x="405" y="120"/>
                  </a:lnTo>
                  <a:lnTo>
                    <a:pt x="414" y="227"/>
                  </a:lnTo>
                  <a:lnTo>
                    <a:pt x="426" y="148"/>
                  </a:lnTo>
                  <a:lnTo>
                    <a:pt x="438" y="32"/>
                  </a:lnTo>
                  <a:lnTo>
                    <a:pt x="457" y="181"/>
                  </a:lnTo>
                  <a:lnTo>
                    <a:pt x="470" y="111"/>
                  </a:lnTo>
                  <a:lnTo>
                    <a:pt x="483" y="181"/>
                  </a:lnTo>
                  <a:lnTo>
                    <a:pt x="496" y="199"/>
                  </a:lnTo>
                  <a:lnTo>
                    <a:pt x="509" y="106"/>
                  </a:lnTo>
                  <a:lnTo>
                    <a:pt x="520" y="134"/>
                  </a:lnTo>
                  <a:lnTo>
                    <a:pt x="532" y="227"/>
                  </a:lnTo>
                  <a:lnTo>
                    <a:pt x="543" y="120"/>
                  </a:lnTo>
                  <a:lnTo>
                    <a:pt x="555" y="93"/>
                  </a:lnTo>
                  <a:lnTo>
                    <a:pt x="575" y="167"/>
                  </a:lnTo>
                  <a:lnTo>
                    <a:pt x="588" y="208"/>
                  </a:lnTo>
                  <a:lnTo>
                    <a:pt x="601" y="162"/>
                  </a:lnTo>
                  <a:lnTo>
                    <a:pt x="614" y="134"/>
                  </a:lnTo>
                  <a:lnTo>
                    <a:pt x="627" y="185"/>
                  </a:lnTo>
                  <a:lnTo>
                    <a:pt x="640" y="181"/>
                  </a:lnTo>
                  <a:lnTo>
                    <a:pt x="653" y="222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89080" y="2817720"/>
              <a:ext cx="6610320" cy="2347920"/>
            </a:xfrm>
            <a:custGeom>
              <a:avLst/>
              <a:gdLst/>
              <a:ahLst/>
              <a:rect l="l" t="t" r="r" b="b"/>
              <a:pathLst>
                <a:path w="653" h="232">
                  <a:moveTo>
                    <a:pt x="0" y="176"/>
                  </a:moveTo>
                  <a:lnTo>
                    <a:pt x="13" y="65"/>
                  </a:lnTo>
                  <a:lnTo>
                    <a:pt x="26" y="102"/>
                  </a:lnTo>
                  <a:lnTo>
                    <a:pt x="39" y="130"/>
                  </a:lnTo>
                  <a:lnTo>
                    <a:pt x="52" y="176"/>
                  </a:lnTo>
                  <a:lnTo>
                    <a:pt x="65" y="56"/>
                  </a:lnTo>
                  <a:lnTo>
                    <a:pt x="78" y="74"/>
                  </a:lnTo>
                  <a:lnTo>
                    <a:pt x="91" y="223"/>
                  </a:lnTo>
                  <a:lnTo>
                    <a:pt x="105" y="176"/>
                  </a:lnTo>
                  <a:lnTo>
                    <a:pt x="118" y="121"/>
                  </a:lnTo>
                  <a:lnTo>
                    <a:pt x="131" y="149"/>
                  </a:lnTo>
                  <a:lnTo>
                    <a:pt x="144" y="74"/>
                  </a:lnTo>
                  <a:lnTo>
                    <a:pt x="157" y="37"/>
                  </a:lnTo>
                  <a:lnTo>
                    <a:pt x="170" y="65"/>
                  </a:lnTo>
                  <a:lnTo>
                    <a:pt x="183" y="186"/>
                  </a:lnTo>
                  <a:lnTo>
                    <a:pt x="196" y="223"/>
                  </a:lnTo>
                  <a:lnTo>
                    <a:pt x="209" y="84"/>
                  </a:lnTo>
                  <a:lnTo>
                    <a:pt x="222" y="112"/>
                  </a:lnTo>
                  <a:lnTo>
                    <a:pt x="235" y="186"/>
                  </a:lnTo>
                  <a:lnTo>
                    <a:pt x="248" y="167"/>
                  </a:lnTo>
                  <a:lnTo>
                    <a:pt x="261" y="176"/>
                  </a:lnTo>
                  <a:lnTo>
                    <a:pt x="274" y="232"/>
                  </a:lnTo>
                  <a:lnTo>
                    <a:pt x="287" y="186"/>
                  </a:lnTo>
                  <a:lnTo>
                    <a:pt x="300" y="186"/>
                  </a:lnTo>
                  <a:lnTo>
                    <a:pt x="313" y="204"/>
                  </a:lnTo>
                  <a:lnTo>
                    <a:pt x="320" y="186"/>
                  </a:lnTo>
                  <a:lnTo>
                    <a:pt x="340" y="102"/>
                  </a:lnTo>
                  <a:lnTo>
                    <a:pt x="353" y="0"/>
                  </a:lnTo>
                  <a:lnTo>
                    <a:pt x="366" y="158"/>
                  </a:lnTo>
                  <a:lnTo>
                    <a:pt x="379" y="176"/>
                  </a:lnTo>
                  <a:lnTo>
                    <a:pt x="392" y="158"/>
                  </a:lnTo>
                  <a:lnTo>
                    <a:pt x="405" y="121"/>
                  </a:lnTo>
                  <a:lnTo>
                    <a:pt x="414" y="176"/>
                  </a:lnTo>
                  <a:lnTo>
                    <a:pt x="426" y="158"/>
                  </a:lnTo>
                  <a:lnTo>
                    <a:pt x="438" y="10"/>
                  </a:lnTo>
                  <a:lnTo>
                    <a:pt x="457" y="0"/>
                  </a:lnTo>
                  <a:lnTo>
                    <a:pt x="470" y="139"/>
                  </a:lnTo>
                  <a:lnTo>
                    <a:pt x="483" y="186"/>
                  </a:lnTo>
                  <a:lnTo>
                    <a:pt x="496" y="204"/>
                  </a:lnTo>
                  <a:lnTo>
                    <a:pt x="509" y="74"/>
                  </a:lnTo>
                  <a:lnTo>
                    <a:pt x="520" y="167"/>
                  </a:lnTo>
                  <a:lnTo>
                    <a:pt x="532" y="213"/>
                  </a:lnTo>
                  <a:lnTo>
                    <a:pt x="543" y="158"/>
                  </a:lnTo>
                  <a:lnTo>
                    <a:pt x="555" y="74"/>
                  </a:lnTo>
                  <a:lnTo>
                    <a:pt x="575" y="102"/>
                  </a:lnTo>
                  <a:lnTo>
                    <a:pt x="588" y="204"/>
                  </a:lnTo>
                  <a:lnTo>
                    <a:pt x="601" y="121"/>
                  </a:lnTo>
                  <a:lnTo>
                    <a:pt x="614" y="112"/>
                  </a:lnTo>
                  <a:lnTo>
                    <a:pt x="627" y="186"/>
                  </a:lnTo>
                  <a:lnTo>
                    <a:pt x="640" y="167"/>
                  </a:lnTo>
                  <a:lnTo>
                    <a:pt x="653" y="204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49480" y="484200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5"/>
                  </a:lnTo>
                  <a:lnTo>
                    <a:pt x="25" y="51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81240" y="423396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13000" y="428472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44760" y="404172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74720" y="4659480"/>
              <a:ext cx="81000" cy="8064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6"/>
                  </a:lnTo>
                  <a:lnTo>
                    <a:pt x="26" y="51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06480" y="376884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6"/>
                  </a:lnTo>
                  <a:lnTo>
                    <a:pt x="26" y="51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38240" y="390996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6"/>
                  </a:lnTo>
                  <a:lnTo>
                    <a:pt x="26" y="51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70000" y="5124600"/>
              <a:ext cx="81000" cy="8064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6"/>
                  </a:lnTo>
                  <a:lnTo>
                    <a:pt x="26" y="51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11480" y="470052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5"/>
                  </a:lnTo>
                  <a:lnTo>
                    <a:pt x="26" y="51"/>
                  </a:lnTo>
                  <a:lnTo>
                    <a:pt x="0" y="2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43240" y="451800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5"/>
                  </a:lnTo>
                  <a:lnTo>
                    <a:pt x="26" y="51"/>
                  </a:lnTo>
                  <a:lnTo>
                    <a:pt x="0" y="2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75000" y="455760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6"/>
                  </a:lnTo>
                  <a:lnTo>
                    <a:pt x="26" y="51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06760" y="296856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6"/>
                  </a:lnTo>
                  <a:lnTo>
                    <a:pt x="26" y="51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38520" y="352584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70280" y="418464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5"/>
                  </a:lnTo>
                  <a:lnTo>
                    <a:pt x="25" y="51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02040" y="446724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33800" y="503388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65560" y="376884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95520" y="418464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5"/>
                  </a:lnTo>
                  <a:lnTo>
                    <a:pt x="26" y="51"/>
                  </a:lnTo>
                  <a:lnTo>
                    <a:pt x="0" y="2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27280" y="503388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6"/>
                  </a:lnTo>
                  <a:lnTo>
                    <a:pt x="26" y="51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59040" y="460836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6"/>
                  </a:lnTo>
                  <a:lnTo>
                    <a:pt x="26" y="51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90800" y="475128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5"/>
                  </a:lnTo>
                  <a:lnTo>
                    <a:pt x="26" y="51"/>
                  </a:lnTo>
                  <a:lnTo>
                    <a:pt x="0" y="2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22560" y="484200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5"/>
                  </a:lnTo>
                  <a:lnTo>
                    <a:pt x="26" y="51"/>
                  </a:lnTo>
                  <a:lnTo>
                    <a:pt x="0" y="2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54320" y="484200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5"/>
                  </a:lnTo>
                  <a:lnTo>
                    <a:pt x="25" y="51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86080" y="484200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5"/>
                  </a:lnTo>
                  <a:lnTo>
                    <a:pt x="25" y="51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17840" y="493236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87680" y="475128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5"/>
                  </a:lnTo>
                  <a:lnTo>
                    <a:pt x="26" y="51"/>
                  </a:lnTo>
                  <a:lnTo>
                    <a:pt x="0" y="2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91080" y="414324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22840" y="250344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54600" y="376884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86360" y="395136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5"/>
                  </a:lnTo>
                  <a:lnTo>
                    <a:pt x="25" y="51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16680" y="4184640"/>
              <a:ext cx="8064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5"/>
                  </a:lnTo>
                  <a:lnTo>
                    <a:pt x="26" y="51"/>
                  </a:lnTo>
                  <a:lnTo>
                    <a:pt x="0" y="2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48440" y="4041720"/>
              <a:ext cx="8064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6"/>
                  </a:lnTo>
                  <a:lnTo>
                    <a:pt x="26" y="51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40240" y="455760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60840" y="437688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5"/>
                  </a:lnTo>
                  <a:lnTo>
                    <a:pt x="26" y="51"/>
                  </a:lnTo>
                  <a:lnTo>
                    <a:pt x="0" y="2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83240" y="311148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5"/>
                  </a:lnTo>
                  <a:lnTo>
                    <a:pt x="25" y="51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75480" y="3435480"/>
              <a:ext cx="8064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5"/>
                  </a:lnTo>
                  <a:lnTo>
                    <a:pt x="25" y="51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07240" y="3809880"/>
              <a:ext cx="8064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5"/>
                  </a:lnTo>
                  <a:lnTo>
                    <a:pt x="25" y="51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39000" y="4184640"/>
              <a:ext cx="8064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5"/>
                  </a:lnTo>
                  <a:lnTo>
                    <a:pt x="25" y="51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70760" y="4659480"/>
              <a:ext cx="80640" cy="8064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00720" y="366696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6"/>
                  </a:lnTo>
                  <a:lnTo>
                    <a:pt x="26" y="51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13400" y="3718080"/>
              <a:ext cx="81000" cy="8064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34000" y="503388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6"/>
                  </a:lnTo>
                  <a:lnTo>
                    <a:pt x="26" y="51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45240" y="390996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6"/>
                  </a:lnTo>
                  <a:lnTo>
                    <a:pt x="26" y="51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67640" y="352584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69240" y="423396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6"/>
                  </a:lnTo>
                  <a:lnTo>
                    <a:pt x="26" y="51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01000" y="484200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5"/>
                  </a:lnTo>
                  <a:lnTo>
                    <a:pt x="26" y="51"/>
                  </a:lnTo>
                  <a:lnTo>
                    <a:pt x="0" y="2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32760" y="409248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6"/>
                  </a:lnTo>
                  <a:lnTo>
                    <a:pt x="26" y="51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64520" y="357660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5"/>
                  </a:lnTo>
                  <a:lnTo>
                    <a:pt x="25" y="51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96280" y="493236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28040" y="442764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5"/>
                  </a:lnTo>
                  <a:lnTo>
                    <a:pt x="25" y="51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59800" y="480060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49480" y="4608360"/>
              <a:ext cx="71280" cy="71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81240" y="4041720"/>
              <a:ext cx="69840" cy="71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13000" y="4184640"/>
              <a:ext cx="69840" cy="69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44760" y="4092480"/>
              <a:ext cx="69840" cy="71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74720" y="4376880"/>
              <a:ext cx="71640" cy="69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06480" y="3525840"/>
              <a:ext cx="71640" cy="71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38240" y="4002120"/>
              <a:ext cx="71640" cy="69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70000" y="4932360"/>
              <a:ext cx="71640" cy="71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11480" y="4557600"/>
              <a:ext cx="71280" cy="71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43240" y="4002120"/>
              <a:ext cx="71280" cy="69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5000" y="4557600"/>
              <a:ext cx="71280" cy="71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06760" y="3435480"/>
              <a:ext cx="71280" cy="69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38520" y="3809880"/>
              <a:ext cx="71280" cy="69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70280" y="3909960"/>
              <a:ext cx="71280" cy="71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02040" y="4184640"/>
              <a:ext cx="69840" cy="69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33800" y="4983120"/>
              <a:ext cx="69840" cy="71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65560" y="3809880"/>
              <a:ext cx="69840" cy="69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95520" y="4092480"/>
              <a:ext cx="71640" cy="71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27280" y="4700520"/>
              <a:ext cx="71640" cy="69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9040" y="4467240"/>
              <a:ext cx="71640" cy="71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90800" y="4325760"/>
              <a:ext cx="71640" cy="70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22560" y="4842000"/>
              <a:ext cx="71640" cy="71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054320" y="4932360"/>
              <a:ext cx="71640" cy="71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86080" y="4751280"/>
              <a:ext cx="69840" cy="69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317840" y="4932360"/>
              <a:ext cx="69840" cy="71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87680" y="4608360"/>
              <a:ext cx="71640" cy="71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91080" y="3809880"/>
              <a:ext cx="69840" cy="69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22840" y="2452680"/>
              <a:ext cx="69840" cy="71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54600" y="3859200"/>
              <a:ext cx="69840" cy="71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86360" y="4700520"/>
              <a:ext cx="69840" cy="69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16680" y="3768840"/>
              <a:ext cx="71280" cy="71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48440" y="3666960"/>
              <a:ext cx="71280" cy="71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40240" y="4751280"/>
              <a:ext cx="69840" cy="69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60840" y="3951360"/>
              <a:ext cx="71640" cy="69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83240" y="2776680"/>
              <a:ext cx="69840" cy="71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75480" y="4284720"/>
              <a:ext cx="71280" cy="71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07240" y="3576600"/>
              <a:ext cx="69840" cy="71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39000" y="4284720"/>
              <a:ext cx="69840" cy="71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70760" y="4467240"/>
              <a:ext cx="69840" cy="71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00720" y="3525840"/>
              <a:ext cx="71640" cy="71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13400" y="3809880"/>
              <a:ext cx="69840" cy="69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34000" y="4751280"/>
              <a:ext cx="71640" cy="69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45240" y="3666960"/>
              <a:ext cx="71640" cy="71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67640" y="3394080"/>
              <a:ext cx="69840" cy="71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969240" y="4143240"/>
              <a:ext cx="71280" cy="71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01000" y="4557600"/>
              <a:ext cx="71280" cy="71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32760" y="4092480"/>
              <a:ext cx="71280" cy="71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64520" y="3809880"/>
              <a:ext cx="71280" cy="69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96280" y="4325760"/>
              <a:ext cx="71280" cy="70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28040" y="4284720"/>
              <a:ext cx="69840" cy="71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759800" y="4700520"/>
              <a:ext cx="69840" cy="69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49480" y="455760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81240" y="343548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13000" y="380988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44760" y="409248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74720" y="455760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06480" y="334332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38240" y="352584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070000" y="503388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11480" y="455760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43240" y="400212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75000" y="428472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06760" y="352584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38520" y="315108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70280" y="343548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02040" y="4659480"/>
              <a:ext cx="81000" cy="8064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133800" y="503388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65560" y="362736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95520" y="390996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27280" y="4659480"/>
              <a:ext cx="81000" cy="8064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9040" y="446724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90800" y="455760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22560" y="5124600"/>
              <a:ext cx="81000" cy="8064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54320" y="4659480"/>
              <a:ext cx="81000" cy="8064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86080" y="4659480"/>
              <a:ext cx="81000" cy="8064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17840" y="484200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87680" y="4659480"/>
              <a:ext cx="81000" cy="8064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91080" y="380988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22840" y="277668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54600" y="437688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86360" y="455760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16680" y="4376880"/>
              <a:ext cx="8064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48440" y="4002120"/>
              <a:ext cx="8064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40240" y="455760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60840" y="437688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83240" y="287820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75480" y="2776680"/>
              <a:ext cx="8064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07240" y="4184640"/>
              <a:ext cx="8064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39000" y="4659480"/>
              <a:ext cx="80640" cy="8064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70760" y="4842000"/>
              <a:ext cx="8064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00720" y="352584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13400" y="446724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34000" y="493236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45240" y="437688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67640" y="352584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69240" y="380988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101000" y="484200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32760" y="400212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364520" y="390996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96280" y="4659480"/>
              <a:ext cx="81000" cy="8064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8040" y="446724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759800" y="484200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35200" y="50752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35200" y="4608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44840" y="413388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4840" y="366696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44840" y="32018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44840" y="272556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4840" y="22604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17720" y="53071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92480" y="53071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608640" y="53071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35600" y="53071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251760" y="53071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577280" y="53071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80800" y="5648400"/>
              <a:ext cx="5055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dentifiants des arbres suivant la chronologie d'observ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-331200" y="3535560"/>
              <a:ext cx="1616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te architectur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032680" y="3394080"/>
              <a:ext cx="819360" cy="72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093160" y="3535200"/>
              <a:ext cx="284040" cy="1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94680" y="349560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5"/>
                  </a:lnTo>
                  <a:lnTo>
                    <a:pt x="25" y="51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417520" y="3435480"/>
              <a:ext cx="39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bs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093160" y="3778200"/>
              <a:ext cx="28404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194680" y="3738600"/>
              <a:ext cx="69840" cy="71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417520" y="3678120"/>
              <a:ext cx="39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bs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86680" y="3989520"/>
              <a:ext cx="284040" cy="14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188200" y="394956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51"/>
                  </a:lnTo>
                  <a:lnTo>
                    <a:pt x="0" y="5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411400" y="3889440"/>
              <a:ext cx="39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bs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82520" y="1306440"/>
            <a:ext cx="86994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 architecturales de 51 arbres établies par 3 observ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FTH Vigue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74F2-37CD-47FB-BBC9-53092015F99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893880" y="4492800"/>
            <a:ext cx="6846840" cy="1830240"/>
          </a:xfrm>
          <a:prstGeom prst="rect">
            <a:avLst/>
          </a:prstGeom>
          <a:solidFill>
            <a:srgbClr val="ffffff">
              <a:alpha val="43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Reproductibilité de la méthode (2/3)</a:t>
            </a: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73280" y="1028880"/>
            <a:ext cx="64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érence de notation entre les 3 observa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14480" y="1546200"/>
            <a:ext cx="8889840" cy="2414520"/>
            <a:chOff x="114480" y="1546200"/>
            <a:chExt cx="8889840" cy="241452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rcRect l="0" t="58459" r="53291" b="2307"/>
            <a:stretch/>
          </p:blipFill>
          <p:spPr>
            <a:xfrm>
              <a:off x="3056040" y="1546200"/>
              <a:ext cx="2879640" cy="241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2"/>
            <a:srcRect l="0" t="8456" r="52081" b="52249"/>
            <a:stretch/>
          </p:blipFill>
          <p:spPr>
            <a:xfrm>
              <a:off x="114480" y="1546200"/>
              <a:ext cx="2943360" cy="24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3"/>
            <a:srcRect l="49190" t="7970" r="0" b="52181"/>
            <a:stretch/>
          </p:blipFill>
          <p:spPr>
            <a:xfrm>
              <a:off x="5923080" y="1548000"/>
              <a:ext cx="3081240" cy="241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5" name=""/>
          <p:cNvSpPr/>
          <p:nvPr/>
        </p:nvSpPr>
        <p:spPr>
          <a:xfrm>
            <a:off x="428760" y="39546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ateurs 1 e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570720" y="397836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ateurs 2 e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29080" y="397980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ateurs 1 e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149480" y="5095800"/>
          <a:ext cx="6189480" cy="1095120"/>
        </p:xfrm>
        <a:graphic>
          <a:graphicData uri="http://schemas.openxmlformats.org/drawingml/2006/table">
            <a:tbl>
              <a:tblPr/>
              <a:tblGrid>
                <a:gridCol w="2693880"/>
                <a:gridCol w="960480"/>
                <a:gridCol w="928800"/>
                <a:gridCol w="860400"/>
                <a:gridCol w="7459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es d’observat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0,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9" name=""/>
          <p:cNvGrpSpPr/>
          <p:nvPr/>
        </p:nvGrpSpPr>
        <p:grpSpPr>
          <a:xfrm>
            <a:off x="3857760" y="4862520"/>
            <a:ext cx="3477240" cy="193680"/>
            <a:chOff x="3857760" y="4862520"/>
            <a:chExt cx="3477240" cy="193680"/>
          </a:xfrm>
        </p:grpSpPr>
        <p:sp>
          <p:nvSpPr>
            <p:cNvPr id="340" name=""/>
            <p:cNvSpPr/>
            <p:nvPr/>
          </p:nvSpPr>
          <p:spPr>
            <a:xfrm rot="5400000">
              <a:off x="6000120" y="3685680"/>
              <a:ext cx="151200" cy="2518200"/>
            </a:xfrm>
            <a:custGeom>
              <a:avLst/>
              <a:gdLst>
                <a:gd name="textAreaLeft" fmla="*/ 96480 w 151200"/>
                <a:gd name="textAreaRight" fmla="*/ 151200 w 151200"/>
                <a:gd name="textAreaTop" fmla="*/ 65520 h 2518200"/>
                <a:gd name="textAreaBottom" fmla="*/ 2452680 h 251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4222800" y="4497480"/>
              <a:ext cx="193680" cy="923760"/>
            </a:xfrm>
            <a:custGeom>
              <a:avLst/>
              <a:gdLst>
                <a:gd name="textAreaLeft" fmla="*/ 123840 w 193680"/>
                <a:gd name="textAreaRight" fmla="*/ 194040 w 193680"/>
                <a:gd name="textAreaTop" fmla="*/ 23760 h 923760"/>
                <a:gd name="textAreaBottom" fmla="*/ 900000 h 9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3728880" y="4527720"/>
            <a:ext cx="119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d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484960" y="452772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ilcox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93800" y="2293920"/>
            <a:ext cx="2039760" cy="0"/>
          </a:xfrm>
          <a:prstGeom prst="line">
            <a:avLst/>
          </a:prstGeom>
          <a:ln w="3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95240" y="2581200"/>
            <a:ext cx="2040120" cy="0"/>
          </a:xfrm>
          <a:prstGeom prst="line">
            <a:avLst/>
          </a:prstGeom>
          <a:ln w="3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97040" y="2025720"/>
            <a:ext cx="2039760" cy="0"/>
          </a:xfrm>
          <a:prstGeom prst="line">
            <a:avLst/>
          </a:prstGeom>
          <a:ln w="3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738600" y="2295360"/>
            <a:ext cx="2039760" cy="0"/>
          </a:xfrm>
          <a:prstGeom prst="line">
            <a:avLst/>
          </a:prstGeom>
          <a:ln w="3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740040" y="2583000"/>
            <a:ext cx="2040120" cy="0"/>
          </a:xfrm>
          <a:prstGeom prst="line">
            <a:avLst/>
          </a:prstGeom>
          <a:ln w="3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741840" y="2027160"/>
            <a:ext cx="2039760" cy="0"/>
          </a:xfrm>
          <a:prstGeom prst="line">
            <a:avLst/>
          </a:prstGeom>
          <a:ln w="3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30840" y="2316240"/>
            <a:ext cx="2040120" cy="0"/>
          </a:xfrm>
          <a:prstGeom prst="line">
            <a:avLst/>
          </a:prstGeom>
          <a:ln w="3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632640" y="2603520"/>
            <a:ext cx="2039760" cy="0"/>
          </a:xfrm>
          <a:prstGeom prst="line">
            <a:avLst/>
          </a:prstGeom>
          <a:ln w="3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634080" y="2048040"/>
            <a:ext cx="2040120" cy="0"/>
          </a:xfrm>
          <a:prstGeom prst="line">
            <a:avLst/>
          </a:prstGeom>
          <a:ln w="3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FTH Vigue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53EA-3677-4EEB-B21C-D042E63F688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Reproductibilité de la méthode (3/3)</a:t>
            </a: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23440" y="5346720"/>
            <a:ext cx="824256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ins de 20 % d’écart entre les observateurs pour 80 % des arbres observ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erreur est acce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930240" y="1197000"/>
            <a:ext cx="7168680" cy="3848040"/>
            <a:chOff x="930240" y="1197000"/>
            <a:chExt cx="7168680" cy="3848040"/>
          </a:xfrm>
        </p:grpSpPr>
        <p:grpSp>
          <p:nvGrpSpPr>
            <p:cNvPr id="356" name=""/>
            <p:cNvGrpSpPr/>
            <p:nvPr/>
          </p:nvGrpSpPr>
          <p:grpSpPr>
            <a:xfrm>
              <a:off x="930240" y="1197000"/>
              <a:ext cx="7168680" cy="3848040"/>
              <a:chOff x="930240" y="1197000"/>
              <a:chExt cx="7168680" cy="3848040"/>
            </a:xfrm>
          </p:grpSpPr>
          <p:sp>
            <p:nvSpPr>
              <p:cNvPr id="357" name=""/>
              <p:cNvSpPr/>
              <p:nvPr/>
            </p:nvSpPr>
            <p:spPr>
              <a:xfrm>
                <a:off x="930240" y="1197000"/>
                <a:ext cx="7168680" cy="384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747800" y="3890880"/>
                <a:ext cx="553356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747800" y="3612960"/>
                <a:ext cx="553356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747800" y="3349440"/>
                <a:ext cx="553356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747800" y="3084480"/>
                <a:ext cx="553356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747800" y="2808360"/>
                <a:ext cx="553356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747800" y="2543040"/>
                <a:ext cx="553356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747800" y="2266920"/>
                <a:ext cx="553356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747800" y="2001960"/>
                <a:ext cx="553356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795320" y="3612960"/>
                <a:ext cx="83880" cy="5414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144520" y="2411280"/>
                <a:ext cx="83880" cy="17431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493720" y="2676600"/>
                <a:ext cx="71280" cy="14778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830320" y="2266920"/>
                <a:ext cx="83880" cy="18874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179520" y="3612960"/>
                <a:ext cx="83880" cy="5414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528720" y="3890880"/>
                <a:ext cx="83880" cy="263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876480" y="4022640"/>
                <a:ext cx="72720" cy="131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214520" y="4022640"/>
                <a:ext cx="83880" cy="131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62280" y="4022640"/>
                <a:ext cx="83880" cy="131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879560" y="3481200"/>
                <a:ext cx="72720" cy="6732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228760" y="2808360"/>
                <a:ext cx="72720" cy="13460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565360" y="2808360"/>
                <a:ext cx="83520" cy="13460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914560" y="2940120"/>
                <a:ext cx="72720" cy="12142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263760" y="3349440"/>
                <a:ext cx="70920" cy="80496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612960" y="3481200"/>
                <a:ext cx="71280" cy="6732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949560" y="3746520"/>
                <a:ext cx="83880" cy="4078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298760" y="3890880"/>
                <a:ext cx="71280" cy="26352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646520" y="4022640"/>
                <a:ext cx="72720" cy="13176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952640" y="3349440"/>
                <a:ext cx="83520" cy="804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301840" y="2676600"/>
                <a:ext cx="83520" cy="14778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649240" y="2676600"/>
                <a:ext cx="72720" cy="14778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87640" y="3084480"/>
                <a:ext cx="83520" cy="10699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335040" y="3612960"/>
                <a:ext cx="83880" cy="54144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684600" y="3612960"/>
                <a:ext cx="83520" cy="54144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033800" y="3481200"/>
                <a:ext cx="70920" cy="6732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370400" y="4022640"/>
                <a:ext cx="83520" cy="1317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00760" y="4022640"/>
                <a:ext cx="70920" cy="1317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747800" y="2001960"/>
                <a:ext cx="1080" cy="215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687320" y="4154400"/>
                <a:ext cx="60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687320" y="3890880"/>
                <a:ext cx="60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687320" y="3612960"/>
                <a:ext cx="60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687320" y="3349440"/>
                <a:ext cx="60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687320" y="3084480"/>
                <a:ext cx="60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687320" y="2808360"/>
                <a:ext cx="60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687320" y="2543040"/>
                <a:ext cx="60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687320" y="2266920"/>
                <a:ext cx="60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687320" y="2001960"/>
                <a:ext cx="60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747800" y="4154400"/>
                <a:ext cx="55335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1747800" y="4154400"/>
                <a:ext cx="1080" cy="6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2097000" y="4154400"/>
                <a:ext cx="1080" cy="6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2446200" y="4154400"/>
                <a:ext cx="1080" cy="6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2782800" y="4154400"/>
                <a:ext cx="1080" cy="6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3132000" y="4154400"/>
                <a:ext cx="1080" cy="6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3479760" y="4154400"/>
                <a:ext cx="1080" cy="6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3828960" y="4154400"/>
                <a:ext cx="1080" cy="6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4165560" y="4154400"/>
                <a:ext cx="1080" cy="6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4514760" y="4154400"/>
                <a:ext cx="1080" cy="6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4863960" y="4154400"/>
                <a:ext cx="1080" cy="6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5211720" y="4154400"/>
                <a:ext cx="1080" cy="6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5549760" y="4154400"/>
                <a:ext cx="1080" cy="6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5897520" y="4154400"/>
                <a:ext cx="1080" cy="6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6246720" y="4154400"/>
                <a:ext cx="1080" cy="6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6595920" y="4154400"/>
                <a:ext cx="1080" cy="6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6932520" y="4154400"/>
                <a:ext cx="1080" cy="6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7281720" y="4154400"/>
                <a:ext cx="1080" cy="6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384640" y="1328760"/>
                <a:ext cx="4158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istribution des écarts d'observati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507320" y="4059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507320" y="37940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507320" y="35179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07320" y="3252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507320" y="2987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410120" y="271152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410120" y="244800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410120" y="217008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410120" y="190656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867680" y="43228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216880" y="43228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564640" y="43228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865960" y="432288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202200" y="432288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551760" y="432288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899160" y="432288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248360" y="432288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584960" y="432288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934160" y="432288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283720" y="432288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632920" y="432288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969520" y="432288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318720" y="432288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666120" y="432288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015680" y="432288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47760" y="4635360"/>
                <a:ext cx="2907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cart relatif entre notations (en %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16200000">
                <a:off x="851040" y="2977560"/>
                <a:ext cx="704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ffectif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270480" y="2027160"/>
                <a:ext cx="698040" cy="828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330960" y="2122560"/>
                <a:ext cx="107280" cy="1080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495840" y="2074680"/>
                <a:ext cx="448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 et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330960" y="2398680"/>
                <a:ext cx="107280" cy="1094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495840" y="2351160"/>
                <a:ext cx="448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 et 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330960" y="2676600"/>
                <a:ext cx="107280" cy="1080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495840" y="2627280"/>
                <a:ext cx="448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 et 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6629400" y="3932280"/>
              <a:ext cx="42660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FTH Vigue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CCED-6097-410E-972F-F61E4493384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304720"/>
            <a:ext cx="7772400" cy="1469880"/>
          </a:xfrm>
          <a:prstGeom prst="rect">
            <a:avLst/>
          </a:prstGeom>
          <a:solidFill>
            <a:srgbClr val="ffff99">
              <a:alpha val="2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Comic Sans MS"/>
                <a:ea typeface="Courier New"/>
              </a:rPr>
              <a:t>Relation entre la note architecturale et la croissance en épaisseur</a:t>
            </a: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FTH Vigue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3CE3-03DD-4CAD-A3FA-E26302411B4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SOMMAIRE</a:t>
            </a: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e en œuvre sur le ter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la notation architectu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tibilité de la méth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 entre la note architecturale et la croissance en épaiss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élioration de la méthode et persp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FTH Vigue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779D-4705-4338-8B1C-5B9ED4B3C9C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457200" y="126684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clusion de quelques arbres de l’analys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urcimés (statut 2 = arbres sous la canopé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rbres sans croissance en épaisseur quel que soit leur ét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eu visi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éfoli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nciennement décapit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résentant des rej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65 arbres re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244080" y="274680"/>
            <a:ext cx="844236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Jeu de données</a:t>
            </a: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FTH Vigue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C077-45FB-4121-9711-EE1ED66B41F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Note architecturale et croissance en épaisseur</a:t>
            </a:r>
            <a:endParaRPr b="1" lang="en-US" sz="28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6720" y="1089000"/>
            <a:ext cx="83520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entre la note architecturale et le taux de croissance relative en épaisseur pour la période 2003-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996840" y="2254320"/>
            <a:ext cx="7132680" cy="3770280"/>
            <a:chOff x="996840" y="2254320"/>
            <a:chExt cx="7132680" cy="3770280"/>
          </a:xfrm>
        </p:grpSpPr>
        <p:sp>
          <p:nvSpPr>
            <p:cNvPr id="464" name=""/>
            <p:cNvSpPr/>
            <p:nvPr/>
          </p:nvSpPr>
          <p:spPr>
            <a:xfrm>
              <a:off x="996840" y="2254320"/>
              <a:ext cx="7132680" cy="377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9040" y="4592520"/>
              <a:ext cx="6229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89040" y="4084560"/>
              <a:ext cx="6229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589040" y="3576600"/>
              <a:ext cx="6229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89040" y="3070080"/>
              <a:ext cx="6229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89040" y="2562120"/>
              <a:ext cx="6229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630520" y="2562120"/>
              <a:ext cx="1440" cy="254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90920" y="5102280"/>
              <a:ext cx="39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590920" y="4592520"/>
              <a:ext cx="39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90920" y="4084560"/>
              <a:ext cx="39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590920" y="3576600"/>
              <a:ext cx="39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3070080"/>
              <a:ext cx="39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590920" y="2562120"/>
              <a:ext cx="39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89040" y="5102280"/>
              <a:ext cx="6229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1589040" y="5102280"/>
              <a:ext cx="324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2630520" y="5102280"/>
              <a:ext cx="144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3668760" y="5102280"/>
              <a:ext cx="324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4711680" y="5102280"/>
              <a:ext cx="324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5738760" y="5102280"/>
              <a:ext cx="180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6780240" y="5102280"/>
              <a:ext cx="144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7818480" y="5102280"/>
              <a:ext cx="324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27640" y="4440240"/>
              <a:ext cx="7596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5" y="0"/>
                  </a:moveTo>
                  <a:lnTo>
                    <a:pt x="48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27640" y="4440240"/>
              <a:ext cx="7596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5" y="0"/>
                  </a:moveTo>
                  <a:lnTo>
                    <a:pt x="48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81320" y="3838680"/>
              <a:ext cx="7632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181320" y="3838680"/>
              <a:ext cx="7632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81280" y="43466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3" y="0"/>
                  </a:moveTo>
                  <a:lnTo>
                    <a:pt x="48" y="29"/>
                  </a:lnTo>
                  <a:lnTo>
                    <a:pt x="23" y="59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581280" y="43466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3" y="0"/>
                  </a:moveTo>
                  <a:lnTo>
                    <a:pt x="48" y="29"/>
                  </a:lnTo>
                  <a:lnTo>
                    <a:pt x="23" y="59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46480" y="3686040"/>
              <a:ext cx="76320" cy="9072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5" y="0"/>
                  </a:moveTo>
                  <a:lnTo>
                    <a:pt x="48" y="28"/>
                  </a:lnTo>
                  <a:lnTo>
                    <a:pt x="25" y="57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246480" y="3686040"/>
              <a:ext cx="76320" cy="9072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5" y="0"/>
                  </a:moveTo>
                  <a:lnTo>
                    <a:pt x="48" y="28"/>
                  </a:lnTo>
                  <a:lnTo>
                    <a:pt x="25" y="57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738760" y="4548240"/>
              <a:ext cx="77760" cy="90360"/>
            </a:xfrm>
            <a:custGeom>
              <a:avLst/>
              <a:gdLst/>
              <a:ahLst/>
              <a:rect l="l" t="t" r="r" b="b"/>
              <a:pathLst>
                <a:path w="49" h="57">
                  <a:moveTo>
                    <a:pt x="24" y="0"/>
                  </a:moveTo>
                  <a:lnTo>
                    <a:pt x="49" y="28"/>
                  </a:lnTo>
                  <a:lnTo>
                    <a:pt x="24" y="57"/>
                  </a:lnTo>
                  <a:lnTo>
                    <a:pt x="0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38760" y="4548240"/>
              <a:ext cx="77760" cy="90360"/>
            </a:xfrm>
            <a:custGeom>
              <a:avLst/>
              <a:gdLst/>
              <a:ahLst/>
              <a:rect l="l" t="t" r="r" b="b"/>
              <a:pathLst>
                <a:path w="49" h="57">
                  <a:moveTo>
                    <a:pt x="24" y="0"/>
                  </a:moveTo>
                  <a:lnTo>
                    <a:pt x="49" y="28"/>
                  </a:lnTo>
                  <a:lnTo>
                    <a:pt x="24" y="57"/>
                  </a:lnTo>
                  <a:lnTo>
                    <a:pt x="0" y="28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181320" y="3424320"/>
              <a:ext cx="7632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181320" y="3424320"/>
              <a:ext cx="7632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945040" y="439272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3" y="0"/>
                  </a:moveTo>
                  <a:lnTo>
                    <a:pt x="48" y="30"/>
                  </a:lnTo>
                  <a:lnTo>
                    <a:pt x="23" y="59"/>
                  </a:lnTo>
                  <a:lnTo>
                    <a:pt x="0" y="3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945040" y="439272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3" y="0"/>
                  </a:moveTo>
                  <a:lnTo>
                    <a:pt x="48" y="30"/>
                  </a:lnTo>
                  <a:lnTo>
                    <a:pt x="23" y="59"/>
                  </a:lnTo>
                  <a:lnTo>
                    <a:pt x="0" y="30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22840" y="43466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5" y="0"/>
                  </a:moveTo>
                  <a:lnTo>
                    <a:pt x="48" y="29"/>
                  </a:lnTo>
                  <a:lnTo>
                    <a:pt x="25" y="59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22840" y="43466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5" y="0"/>
                  </a:moveTo>
                  <a:lnTo>
                    <a:pt x="48" y="29"/>
                  </a:lnTo>
                  <a:lnTo>
                    <a:pt x="25" y="59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760920" y="3530520"/>
              <a:ext cx="75960" cy="9072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5" y="0"/>
                  </a:moveTo>
                  <a:lnTo>
                    <a:pt x="48" y="29"/>
                  </a:lnTo>
                  <a:lnTo>
                    <a:pt x="25" y="57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760920" y="3530520"/>
              <a:ext cx="75960" cy="9072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5" y="0"/>
                  </a:moveTo>
                  <a:lnTo>
                    <a:pt x="48" y="29"/>
                  </a:lnTo>
                  <a:lnTo>
                    <a:pt x="25" y="57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97640" y="4145040"/>
              <a:ext cx="75960" cy="9504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5" y="0"/>
                  </a:moveTo>
                  <a:lnTo>
                    <a:pt x="48" y="29"/>
                  </a:lnTo>
                  <a:lnTo>
                    <a:pt x="25" y="60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597640" y="4145040"/>
              <a:ext cx="75960" cy="9504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5" y="0"/>
                  </a:moveTo>
                  <a:lnTo>
                    <a:pt x="48" y="29"/>
                  </a:lnTo>
                  <a:lnTo>
                    <a:pt x="25" y="60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925720" y="3686040"/>
              <a:ext cx="76320" cy="9072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925720" y="3686040"/>
              <a:ext cx="76320" cy="9072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20960" y="4038480"/>
              <a:ext cx="7956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25" y="0"/>
                  </a:moveTo>
                  <a:lnTo>
                    <a:pt x="50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720960" y="4038480"/>
              <a:ext cx="7956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25" y="0"/>
                  </a:moveTo>
                  <a:lnTo>
                    <a:pt x="50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84600" y="357660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3" y="0"/>
                  </a:moveTo>
                  <a:lnTo>
                    <a:pt x="48" y="28"/>
                  </a:lnTo>
                  <a:lnTo>
                    <a:pt x="23" y="59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684600" y="357660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3" y="0"/>
                  </a:moveTo>
                  <a:lnTo>
                    <a:pt x="48" y="28"/>
                  </a:lnTo>
                  <a:lnTo>
                    <a:pt x="23" y="59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52840" y="333216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5" y="0"/>
                  </a:moveTo>
                  <a:lnTo>
                    <a:pt x="48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552840" y="333216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5" y="0"/>
                  </a:moveTo>
                  <a:lnTo>
                    <a:pt x="48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78360" y="449892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3" y="0"/>
                  </a:moveTo>
                  <a:lnTo>
                    <a:pt x="48" y="31"/>
                  </a:lnTo>
                  <a:lnTo>
                    <a:pt x="23" y="59"/>
                  </a:lnTo>
                  <a:lnTo>
                    <a:pt x="0" y="3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878360" y="449892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3" y="0"/>
                  </a:moveTo>
                  <a:lnTo>
                    <a:pt x="48" y="31"/>
                  </a:lnTo>
                  <a:lnTo>
                    <a:pt x="23" y="59"/>
                  </a:lnTo>
                  <a:lnTo>
                    <a:pt x="0" y="31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248000" y="4191120"/>
              <a:ext cx="76320" cy="9504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3" y="0"/>
                  </a:moveTo>
                  <a:lnTo>
                    <a:pt x="48" y="31"/>
                  </a:lnTo>
                  <a:lnTo>
                    <a:pt x="23" y="60"/>
                  </a:lnTo>
                  <a:lnTo>
                    <a:pt x="0" y="3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248000" y="4191120"/>
              <a:ext cx="76320" cy="9504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3" y="0"/>
                  </a:moveTo>
                  <a:lnTo>
                    <a:pt x="48" y="31"/>
                  </a:lnTo>
                  <a:lnTo>
                    <a:pt x="23" y="60"/>
                  </a:lnTo>
                  <a:lnTo>
                    <a:pt x="0" y="31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387680" y="4191120"/>
              <a:ext cx="79560" cy="95040"/>
            </a:xfrm>
            <a:custGeom>
              <a:avLst/>
              <a:gdLst/>
              <a:ahLst/>
              <a:rect l="l" t="t" r="r" b="b"/>
              <a:pathLst>
                <a:path w="50" h="60">
                  <a:moveTo>
                    <a:pt x="25" y="0"/>
                  </a:moveTo>
                  <a:lnTo>
                    <a:pt x="50" y="31"/>
                  </a:lnTo>
                  <a:lnTo>
                    <a:pt x="25" y="60"/>
                  </a:lnTo>
                  <a:lnTo>
                    <a:pt x="0" y="3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387680" y="4191120"/>
              <a:ext cx="79560" cy="95040"/>
            </a:xfrm>
            <a:custGeom>
              <a:avLst/>
              <a:gdLst/>
              <a:ahLst/>
              <a:rect l="l" t="t" r="r" b="b"/>
              <a:pathLst>
                <a:path w="50" h="60">
                  <a:moveTo>
                    <a:pt x="25" y="0"/>
                  </a:moveTo>
                  <a:lnTo>
                    <a:pt x="50" y="31"/>
                  </a:lnTo>
                  <a:lnTo>
                    <a:pt x="25" y="60"/>
                  </a:lnTo>
                  <a:lnTo>
                    <a:pt x="0" y="31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413160" y="399240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3" y="0"/>
                  </a:moveTo>
                  <a:lnTo>
                    <a:pt x="48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13160" y="399240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3" y="0"/>
                  </a:moveTo>
                  <a:lnTo>
                    <a:pt x="48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170160" y="3686040"/>
              <a:ext cx="76320" cy="9072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170160" y="3686040"/>
              <a:ext cx="76320" cy="9072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048360" y="474804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3" y="0"/>
                  </a:moveTo>
                  <a:lnTo>
                    <a:pt x="48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48360" y="474804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3" y="0"/>
                  </a:moveTo>
                  <a:lnTo>
                    <a:pt x="48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38320" y="4145040"/>
              <a:ext cx="76320" cy="9504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3" y="0"/>
                  </a:moveTo>
                  <a:lnTo>
                    <a:pt x="48" y="29"/>
                  </a:lnTo>
                  <a:lnTo>
                    <a:pt x="23" y="60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38320" y="4145040"/>
              <a:ext cx="76320" cy="9504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3" y="0"/>
                  </a:moveTo>
                  <a:lnTo>
                    <a:pt x="48" y="29"/>
                  </a:lnTo>
                  <a:lnTo>
                    <a:pt x="23" y="60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97200" y="3530520"/>
              <a:ext cx="76320" cy="9072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9"/>
                  </a:lnTo>
                  <a:lnTo>
                    <a:pt x="23" y="57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97200" y="3530520"/>
              <a:ext cx="76320" cy="9072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9"/>
                  </a:lnTo>
                  <a:lnTo>
                    <a:pt x="23" y="57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949480" y="357660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5" y="0"/>
                  </a:moveTo>
                  <a:lnTo>
                    <a:pt x="48" y="28"/>
                  </a:lnTo>
                  <a:lnTo>
                    <a:pt x="25" y="59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49480" y="357660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5" y="0"/>
                  </a:moveTo>
                  <a:lnTo>
                    <a:pt x="48" y="28"/>
                  </a:lnTo>
                  <a:lnTo>
                    <a:pt x="25" y="59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059440" y="3882960"/>
              <a:ext cx="75960" cy="954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5" y="0"/>
                  </a:moveTo>
                  <a:lnTo>
                    <a:pt x="48" y="29"/>
                  </a:lnTo>
                  <a:lnTo>
                    <a:pt x="25" y="60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59440" y="3882960"/>
              <a:ext cx="75960" cy="954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5" y="0"/>
                  </a:moveTo>
                  <a:lnTo>
                    <a:pt x="48" y="29"/>
                  </a:lnTo>
                  <a:lnTo>
                    <a:pt x="25" y="60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41680" y="4548240"/>
              <a:ext cx="7632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5" y="0"/>
                  </a:moveTo>
                  <a:lnTo>
                    <a:pt x="48" y="28"/>
                  </a:lnTo>
                  <a:lnTo>
                    <a:pt x="25" y="57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41680" y="4548240"/>
              <a:ext cx="7632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5" y="0"/>
                  </a:moveTo>
                  <a:lnTo>
                    <a:pt x="48" y="28"/>
                  </a:lnTo>
                  <a:lnTo>
                    <a:pt x="25" y="57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43520" y="4240080"/>
              <a:ext cx="75960" cy="9072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4" y="0"/>
                  </a:moveTo>
                  <a:lnTo>
                    <a:pt x="48" y="29"/>
                  </a:lnTo>
                  <a:lnTo>
                    <a:pt x="24" y="57"/>
                  </a:lnTo>
                  <a:lnTo>
                    <a:pt x="0" y="2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43520" y="4240080"/>
              <a:ext cx="75960" cy="9072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4" y="0"/>
                  </a:moveTo>
                  <a:lnTo>
                    <a:pt x="48" y="29"/>
                  </a:lnTo>
                  <a:lnTo>
                    <a:pt x="24" y="57"/>
                  </a:lnTo>
                  <a:lnTo>
                    <a:pt x="0" y="29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813120" y="4548240"/>
              <a:ext cx="7632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813120" y="4548240"/>
              <a:ext cx="7632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962440" y="3792600"/>
              <a:ext cx="79200" cy="9036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25" y="0"/>
                  </a:moveTo>
                  <a:lnTo>
                    <a:pt x="50" y="29"/>
                  </a:lnTo>
                  <a:lnTo>
                    <a:pt x="25" y="57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962440" y="3792600"/>
              <a:ext cx="79200" cy="9036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25" y="0"/>
                  </a:moveTo>
                  <a:lnTo>
                    <a:pt x="50" y="29"/>
                  </a:lnTo>
                  <a:lnTo>
                    <a:pt x="25" y="57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672080" y="4145040"/>
              <a:ext cx="79200" cy="95040"/>
            </a:xfrm>
            <a:custGeom>
              <a:avLst/>
              <a:gdLst/>
              <a:ahLst/>
              <a:rect l="l" t="t" r="r" b="b"/>
              <a:pathLst>
                <a:path w="50" h="60">
                  <a:moveTo>
                    <a:pt x="25" y="0"/>
                  </a:moveTo>
                  <a:lnTo>
                    <a:pt x="50" y="29"/>
                  </a:lnTo>
                  <a:lnTo>
                    <a:pt x="25" y="60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672080" y="4145040"/>
              <a:ext cx="79200" cy="95040"/>
            </a:xfrm>
            <a:custGeom>
              <a:avLst/>
              <a:gdLst/>
              <a:ahLst/>
              <a:rect l="l" t="t" r="r" b="b"/>
              <a:pathLst>
                <a:path w="50" h="60">
                  <a:moveTo>
                    <a:pt x="25" y="0"/>
                  </a:moveTo>
                  <a:lnTo>
                    <a:pt x="50" y="29"/>
                  </a:lnTo>
                  <a:lnTo>
                    <a:pt x="25" y="60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900600" y="4191120"/>
              <a:ext cx="75960" cy="9504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5" y="0"/>
                  </a:moveTo>
                  <a:lnTo>
                    <a:pt x="48" y="31"/>
                  </a:lnTo>
                  <a:lnTo>
                    <a:pt x="25" y="60"/>
                  </a:lnTo>
                  <a:lnTo>
                    <a:pt x="0" y="3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900600" y="4191120"/>
              <a:ext cx="75960" cy="9504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5" y="0"/>
                  </a:moveTo>
                  <a:lnTo>
                    <a:pt x="48" y="31"/>
                  </a:lnTo>
                  <a:lnTo>
                    <a:pt x="25" y="60"/>
                  </a:lnTo>
                  <a:lnTo>
                    <a:pt x="0" y="31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738760" y="4392720"/>
              <a:ext cx="77760" cy="93600"/>
            </a:xfrm>
            <a:custGeom>
              <a:avLst/>
              <a:gdLst/>
              <a:ahLst/>
              <a:rect l="l" t="t" r="r" b="b"/>
              <a:pathLst>
                <a:path w="49" h="59">
                  <a:moveTo>
                    <a:pt x="24" y="0"/>
                  </a:moveTo>
                  <a:lnTo>
                    <a:pt x="49" y="30"/>
                  </a:lnTo>
                  <a:lnTo>
                    <a:pt x="24" y="59"/>
                  </a:lnTo>
                  <a:lnTo>
                    <a:pt x="0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738760" y="4392720"/>
              <a:ext cx="77760" cy="93600"/>
            </a:xfrm>
            <a:custGeom>
              <a:avLst/>
              <a:gdLst/>
              <a:ahLst/>
              <a:rect l="l" t="t" r="r" b="b"/>
              <a:pathLst>
                <a:path w="49" h="59">
                  <a:moveTo>
                    <a:pt x="24" y="0"/>
                  </a:moveTo>
                  <a:lnTo>
                    <a:pt x="49" y="30"/>
                  </a:lnTo>
                  <a:lnTo>
                    <a:pt x="24" y="59"/>
                  </a:lnTo>
                  <a:lnTo>
                    <a:pt x="0" y="30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54680" y="4592520"/>
              <a:ext cx="7596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5" y="0"/>
                  </a:moveTo>
                  <a:lnTo>
                    <a:pt x="48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954680" y="4592520"/>
              <a:ext cx="7596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5" y="0"/>
                  </a:moveTo>
                  <a:lnTo>
                    <a:pt x="48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30560" y="333216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5" y="0"/>
                  </a:moveTo>
                  <a:lnTo>
                    <a:pt x="48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30560" y="333216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5" y="0"/>
                  </a:moveTo>
                  <a:lnTo>
                    <a:pt x="48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232000" y="2870280"/>
              <a:ext cx="7632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232000" y="2870280"/>
              <a:ext cx="7632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88000" y="4038480"/>
              <a:ext cx="7920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25" y="0"/>
                  </a:moveTo>
                  <a:lnTo>
                    <a:pt x="50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788000" y="4038480"/>
              <a:ext cx="7920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25" y="0"/>
                  </a:moveTo>
                  <a:lnTo>
                    <a:pt x="50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11720" y="4592520"/>
              <a:ext cx="77760" cy="9216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24" y="0"/>
                  </a:moveTo>
                  <a:lnTo>
                    <a:pt x="49" y="29"/>
                  </a:lnTo>
                  <a:lnTo>
                    <a:pt x="24" y="58"/>
                  </a:lnTo>
                  <a:lnTo>
                    <a:pt x="0" y="2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11720" y="4592520"/>
              <a:ext cx="77760" cy="9216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24" y="0"/>
                  </a:moveTo>
                  <a:lnTo>
                    <a:pt x="49" y="29"/>
                  </a:lnTo>
                  <a:lnTo>
                    <a:pt x="24" y="58"/>
                  </a:lnTo>
                  <a:lnTo>
                    <a:pt x="0" y="29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516560" y="3792600"/>
              <a:ext cx="79200" cy="9036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25" y="0"/>
                  </a:moveTo>
                  <a:lnTo>
                    <a:pt x="50" y="29"/>
                  </a:lnTo>
                  <a:lnTo>
                    <a:pt x="25" y="57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516560" y="3792600"/>
              <a:ext cx="79200" cy="9036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25" y="0"/>
                  </a:moveTo>
                  <a:lnTo>
                    <a:pt x="50" y="29"/>
                  </a:lnTo>
                  <a:lnTo>
                    <a:pt x="25" y="57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29160" y="3838680"/>
              <a:ext cx="79200" cy="9036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25" y="0"/>
                  </a:moveTo>
                  <a:lnTo>
                    <a:pt x="50" y="28"/>
                  </a:lnTo>
                  <a:lnTo>
                    <a:pt x="25" y="57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629160" y="3838680"/>
              <a:ext cx="79200" cy="9036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25" y="0"/>
                  </a:moveTo>
                  <a:lnTo>
                    <a:pt x="50" y="28"/>
                  </a:lnTo>
                  <a:lnTo>
                    <a:pt x="25" y="57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262480" y="46544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5" y="0"/>
                  </a:moveTo>
                  <a:lnTo>
                    <a:pt x="48" y="29"/>
                  </a:lnTo>
                  <a:lnTo>
                    <a:pt x="25" y="59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262480" y="46544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5" y="0"/>
                  </a:moveTo>
                  <a:lnTo>
                    <a:pt x="48" y="29"/>
                  </a:lnTo>
                  <a:lnTo>
                    <a:pt x="25" y="59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13120" y="399240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3" y="0"/>
                  </a:moveTo>
                  <a:lnTo>
                    <a:pt x="48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13120" y="399240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3" y="0"/>
                  </a:moveTo>
                  <a:lnTo>
                    <a:pt x="48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48400" y="43466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5" y="0"/>
                  </a:moveTo>
                  <a:lnTo>
                    <a:pt x="48" y="29"/>
                  </a:lnTo>
                  <a:lnTo>
                    <a:pt x="25" y="59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548400" y="43466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5" y="0"/>
                  </a:moveTo>
                  <a:lnTo>
                    <a:pt x="48" y="29"/>
                  </a:lnTo>
                  <a:lnTo>
                    <a:pt x="25" y="59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637240" y="444024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3" y="0"/>
                  </a:moveTo>
                  <a:lnTo>
                    <a:pt x="48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637240" y="444024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3" y="0"/>
                  </a:moveTo>
                  <a:lnTo>
                    <a:pt x="48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145040" y="4392720"/>
              <a:ext cx="79200" cy="936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25" y="0"/>
                  </a:moveTo>
                  <a:lnTo>
                    <a:pt x="50" y="30"/>
                  </a:lnTo>
                  <a:lnTo>
                    <a:pt x="25" y="59"/>
                  </a:lnTo>
                  <a:lnTo>
                    <a:pt x="0" y="3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45040" y="4392720"/>
              <a:ext cx="79200" cy="936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25" y="0"/>
                  </a:moveTo>
                  <a:lnTo>
                    <a:pt x="50" y="30"/>
                  </a:lnTo>
                  <a:lnTo>
                    <a:pt x="25" y="59"/>
                  </a:lnTo>
                  <a:lnTo>
                    <a:pt x="0" y="30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42120" y="4300560"/>
              <a:ext cx="7920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25" y="0"/>
                  </a:moveTo>
                  <a:lnTo>
                    <a:pt x="50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442120" y="4300560"/>
              <a:ext cx="7920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25" y="0"/>
                  </a:moveTo>
                  <a:lnTo>
                    <a:pt x="50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76560" y="3639960"/>
              <a:ext cx="79560" cy="9072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25" y="0"/>
                  </a:moveTo>
                  <a:lnTo>
                    <a:pt x="50" y="29"/>
                  </a:lnTo>
                  <a:lnTo>
                    <a:pt x="25" y="57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976560" y="3639960"/>
              <a:ext cx="79560" cy="9072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25" y="0"/>
                  </a:moveTo>
                  <a:lnTo>
                    <a:pt x="50" y="29"/>
                  </a:lnTo>
                  <a:lnTo>
                    <a:pt x="25" y="57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733840" y="3838680"/>
              <a:ext cx="7596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733840" y="3838680"/>
              <a:ext cx="7596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203960" y="46544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5" y="0"/>
                  </a:moveTo>
                  <a:lnTo>
                    <a:pt x="48" y="29"/>
                  </a:lnTo>
                  <a:lnTo>
                    <a:pt x="25" y="59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203960" y="46544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5" y="0"/>
                  </a:moveTo>
                  <a:lnTo>
                    <a:pt x="48" y="29"/>
                  </a:lnTo>
                  <a:lnTo>
                    <a:pt x="25" y="59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867200" y="459252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3" y="0"/>
                  </a:moveTo>
                  <a:lnTo>
                    <a:pt x="48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67200" y="459252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3" y="0"/>
                  </a:moveTo>
                  <a:lnTo>
                    <a:pt x="48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862360" y="4346640"/>
              <a:ext cx="7596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3" y="0"/>
                  </a:moveTo>
                  <a:lnTo>
                    <a:pt x="48" y="29"/>
                  </a:lnTo>
                  <a:lnTo>
                    <a:pt x="23" y="59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62360" y="4346640"/>
              <a:ext cx="7596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3" y="0"/>
                  </a:moveTo>
                  <a:lnTo>
                    <a:pt x="48" y="29"/>
                  </a:lnTo>
                  <a:lnTo>
                    <a:pt x="23" y="59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900600" y="3838680"/>
              <a:ext cx="7596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5" y="0"/>
                  </a:moveTo>
                  <a:lnTo>
                    <a:pt x="48" y="28"/>
                  </a:lnTo>
                  <a:lnTo>
                    <a:pt x="25" y="57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900600" y="3838680"/>
              <a:ext cx="7596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5" y="0"/>
                  </a:moveTo>
                  <a:lnTo>
                    <a:pt x="48" y="28"/>
                  </a:lnTo>
                  <a:lnTo>
                    <a:pt x="25" y="57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489480" y="3576600"/>
              <a:ext cx="7596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5" y="0"/>
                  </a:moveTo>
                  <a:lnTo>
                    <a:pt x="48" y="28"/>
                  </a:lnTo>
                  <a:lnTo>
                    <a:pt x="25" y="59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489480" y="3576600"/>
              <a:ext cx="7596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5" y="0"/>
                  </a:moveTo>
                  <a:lnTo>
                    <a:pt x="48" y="28"/>
                  </a:lnTo>
                  <a:lnTo>
                    <a:pt x="25" y="59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11760" y="4748040"/>
              <a:ext cx="7920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25" y="0"/>
                  </a:moveTo>
                  <a:lnTo>
                    <a:pt x="50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811760" y="4748040"/>
              <a:ext cx="7920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25" y="0"/>
                  </a:moveTo>
                  <a:lnTo>
                    <a:pt x="50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565440" y="3378240"/>
              <a:ext cx="79560" cy="9036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25" y="0"/>
                  </a:moveTo>
                  <a:lnTo>
                    <a:pt x="50" y="29"/>
                  </a:lnTo>
                  <a:lnTo>
                    <a:pt x="25" y="57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565440" y="3378240"/>
              <a:ext cx="79560" cy="9036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25" y="0"/>
                  </a:moveTo>
                  <a:lnTo>
                    <a:pt x="50" y="29"/>
                  </a:lnTo>
                  <a:lnTo>
                    <a:pt x="25" y="57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720960" y="3730680"/>
              <a:ext cx="7956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25" y="0"/>
                  </a:moveTo>
                  <a:lnTo>
                    <a:pt x="50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720960" y="3730680"/>
              <a:ext cx="7956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25" y="0"/>
                  </a:moveTo>
                  <a:lnTo>
                    <a:pt x="50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618000" y="3639960"/>
              <a:ext cx="79200" cy="9072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25" y="0"/>
                  </a:moveTo>
                  <a:lnTo>
                    <a:pt x="50" y="29"/>
                  </a:lnTo>
                  <a:lnTo>
                    <a:pt x="25" y="57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618000" y="3639960"/>
              <a:ext cx="79200" cy="9072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25" y="0"/>
                  </a:moveTo>
                  <a:lnTo>
                    <a:pt x="50" y="29"/>
                  </a:lnTo>
                  <a:lnTo>
                    <a:pt x="25" y="57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324320" y="43466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5" y="0"/>
                  </a:moveTo>
                  <a:lnTo>
                    <a:pt x="48" y="29"/>
                  </a:lnTo>
                  <a:lnTo>
                    <a:pt x="25" y="59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324320" y="43466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5" y="0"/>
                  </a:moveTo>
                  <a:lnTo>
                    <a:pt x="48" y="29"/>
                  </a:lnTo>
                  <a:lnTo>
                    <a:pt x="25" y="59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869160" y="4440240"/>
              <a:ext cx="77760" cy="9216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25" y="0"/>
                  </a:moveTo>
                  <a:lnTo>
                    <a:pt x="49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69160" y="4440240"/>
              <a:ext cx="77760" cy="9216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25" y="0"/>
                  </a:moveTo>
                  <a:lnTo>
                    <a:pt x="49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595760" y="403848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3" y="0"/>
                  </a:moveTo>
                  <a:lnTo>
                    <a:pt x="48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95760" y="403848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3" y="0"/>
                  </a:moveTo>
                  <a:lnTo>
                    <a:pt x="48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503600" y="3730680"/>
              <a:ext cx="7956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25" y="0"/>
                  </a:moveTo>
                  <a:lnTo>
                    <a:pt x="50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03600" y="3730680"/>
              <a:ext cx="7956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25" y="0"/>
                  </a:moveTo>
                  <a:lnTo>
                    <a:pt x="50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181320" y="3792600"/>
              <a:ext cx="7632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9"/>
                  </a:lnTo>
                  <a:lnTo>
                    <a:pt x="23" y="57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181320" y="3792600"/>
              <a:ext cx="7632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9"/>
                  </a:lnTo>
                  <a:lnTo>
                    <a:pt x="23" y="57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629160" y="3992400"/>
              <a:ext cx="7920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25" y="0"/>
                  </a:moveTo>
                  <a:lnTo>
                    <a:pt x="50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629160" y="3992400"/>
              <a:ext cx="7920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25" y="0"/>
                  </a:moveTo>
                  <a:lnTo>
                    <a:pt x="50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363920" y="357660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3" y="0"/>
                  </a:moveTo>
                  <a:lnTo>
                    <a:pt x="48" y="28"/>
                  </a:lnTo>
                  <a:lnTo>
                    <a:pt x="23" y="59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363920" y="357660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3" y="0"/>
                  </a:moveTo>
                  <a:lnTo>
                    <a:pt x="48" y="28"/>
                  </a:lnTo>
                  <a:lnTo>
                    <a:pt x="23" y="59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76920" y="4548240"/>
              <a:ext cx="7632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5" y="0"/>
                  </a:moveTo>
                  <a:lnTo>
                    <a:pt x="48" y="28"/>
                  </a:lnTo>
                  <a:lnTo>
                    <a:pt x="25" y="57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676920" y="4548240"/>
              <a:ext cx="7632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5" y="0"/>
                  </a:moveTo>
                  <a:lnTo>
                    <a:pt x="48" y="28"/>
                  </a:lnTo>
                  <a:lnTo>
                    <a:pt x="25" y="57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983280" y="490068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5" y="0"/>
                  </a:moveTo>
                  <a:lnTo>
                    <a:pt x="48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983280" y="490068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5" y="0"/>
                  </a:moveTo>
                  <a:lnTo>
                    <a:pt x="48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243920" y="4748040"/>
              <a:ext cx="7596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3" y="0"/>
                  </a:moveTo>
                  <a:lnTo>
                    <a:pt x="48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243920" y="4748040"/>
              <a:ext cx="7596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3" y="0"/>
                  </a:moveTo>
                  <a:lnTo>
                    <a:pt x="48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71600" y="3560760"/>
              <a:ext cx="5008680" cy="1309680"/>
            </a:xfrm>
            <a:prstGeom prst="line">
              <a:avLst/>
            </a:prstGeom>
            <a:ln w="237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451240" y="50036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451240" y="44956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374920" y="39877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374920" y="34783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374920" y="29732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374920" y="24638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436760" y="525132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491480" y="52513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,0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02720" y="52513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,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545640" y="52513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,0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83880" y="52513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,0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610960" y="52513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,0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52440" y="52513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,0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695360" y="52513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,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039200" y="5570640"/>
              <a:ext cx="214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aux de croissance rel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16200000">
              <a:off x="536040" y="3762000"/>
              <a:ext cx="1491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Note architectura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996840" y="2254320"/>
              <a:ext cx="7132680" cy="377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89040" y="4592520"/>
              <a:ext cx="6229440" cy="324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89040" y="4084560"/>
              <a:ext cx="6229440" cy="324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589040" y="3576600"/>
              <a:ext cx="6229440" cy="324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589040" y="3070080"/>
              <a:ext cx="6229440" cy="180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589040" y="2562120"/>
              <a:ext cx="6229440" cy="324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630520" y="2562120"/>
              <a:ext cx="1440" cy="254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590920" y="5102280"/>
              <a:ext cx="39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590920" y="4592520"/>
              <a:ext cx="39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590920" y="4084560"/>
              <a:ext cx="39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76600"/>
              <a:ext cx="39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90920" y="3070080"/>
              <a:ext cx="39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590920" y="2562120"/>
              <a:ext cx="39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589040" y="5102280"/>
              <a:ext cx="6229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1589040" y="5102280"/>
              <a:ext cx="324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2630520" y="5102280"/>
              <a:ext cx="144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3668760" y="5102280"/>
              <a:ext cx="324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4711680" y="5102280"/>
              <a:ext cx="324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5738760" y="5102280"/>
              <a:ext cx="180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6780240" y="5102280"/>
              <a:ext cx="144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7818480" y="5102280"/>
              <a:ext cx="324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427640" y="4440240"/>
              <a:ext cx="7596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5" y="0"/>
                  </a:moveTo>
                  <a:lnTo>
                    <a:pt x="48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27640" y="4440240"/>
              <a:ext cx="7596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5" y="0"/>
                  </a:moveTo>
                  <a:lnTo>
                    <a:pt x="48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181320" y="3838680"/>
              <a:ext cx="7632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81320" y="3838680"/>
              <a:ext cx="7632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81280" y="43466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3" y="0"/>
                  </a:moveTo>
                  <a:lnTo>
                    <a:pt x="48" y="29"/>
                  </a:lnTo>
                  <a:lnTo>
                    <a:pt x="23" y="59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581280" y="43466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3" y="0"/>
                  </a:moveTo>
                  <a:lnTo>
                    <a:pt x="48" y="29"/>
                  </a:lnTo>
                  <a:lnTo>
                    <a:pt x="23" y="59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46480" y="3686040"/>
              <a:ext cx="76320" cy="9072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5" y="0"/>
                  </a:moveTo>
                  <a:lnTo>
                    <a:pt x="48" y="28"/>
                  </a:lnTo>
                  <a:lnTo>
                    <a:pt x="25" y="57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46480" y="3686040"/>
              <a:ext cx="76320" cy="9072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5" y="0"/>
                  </a:moveTo>
                  <a:lnTo>
                    <a:pt x="48" y="28"/>
                  </a:lnTo>
                  <a:lnTo>
                    <a:pt x="25" y="57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738760" y="4548240"/>
              <a:ext cx="77760" cy="90360"/>
            </a:xfrm>
            <a:custGeom>
              <a:avLst/>
              <a:gdLst/>
              <a:ahLst/>
              <a:rect l="l" t="t" r="r" b="b"/>
              <a:pathLst>
                <a:path w="49" h="57">
                  <a:moveTo>
                    <a:pt x="24" y="0"/>
                  </a:moveTo>
                  <a:lnTo>
                    <a:pt x="49" y="28"/>
                  </a:lnTo>
                  <a:lnTo>
                    <a:pt x="24" y="57"/>
                  </a:lnTo>
                  <a:lnTo>
                    <a:pt x="0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738760" y="4548240"/>
              <a:ext cx="77760" cy="90360"/>
            </a:xfrm>
            <a:custGeom>
              <a:avLst/>
              <a:gdLst/>
              <a:ahLst/>
              <a:rect l="l" t="t" r="r" b="b"/>
              <a:pathLst>
                <a:path w="49" h="57">
                  <a:moveTo>
                    <a:pt x="24" y="0"/>
                  </a:moveTo>
                  <a:lnTo>
                    <a:pt x="49" y="28"/>
                  </a:lnTo>
                  <a:lnTo>
                    <a:pt x="24" y="57"/>
                  </a:lnTo>
                  <a:lnTo>
                    <a:pt x="0" y="28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181320" y="3424320"/>
              <a:ext cx="7632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181320" y="3424320"/>
              <a:ext cx="7632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945040" y="439272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3" y="0"/>
                  </a:moveTo>
                  <a:lnTo>
                    <a:pt x="48" y="30"/>
                  </a:lnTo>
                  <a:lnTo>
                    <a:pt x="23" y="59"/>
                  </a:lnTo>
                  <a:lnTo>
                    <a:pt x="0" y="3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945040" y="439272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3" y="0"/>
                  </a:moveTo>
                  <a:lnTo>
                    <a:pt x="48" y="30"/>
                  </a:lnTo>
                  <a:lnTo>
                    <a:pt x="23" y="59"/>
                  </a:lnTo>
                  <a:lnTo>
                    <a:pt x="0" y="30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622840" y="43466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5" y="0"/>
                  </a:moveTo>
                  <a:lnTo>
                    <a:pt x="48" y="29"/>
                  </a:lnTo>
                  <a:lnTo>
                    <a:pt x="25" y="59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622840" y="43466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5" y="0"/>
                  </a:moveTo>
                  <a:lnTo>
                    <a:pt x="48" y="29"/>
                  </a:lnTo>
                  <a:lnTo>
                    <a:pt x="25" y="59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760920" y="3530520"/>
              <a:ext cx="75960" cy="9072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5" y="0"/>
                  </a:moveTo>
                  <a:lnTo>
                    <a:pt x="48" y="29"/>
                  </a:lnTo>
                  <a:lnTo>
                    <a:pt x="25" y="57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760920" y="3530520"/>
              <a:ext cx="75960" cy="9072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5" y="0"/>
                  </a:moveTo>
                  <a:lnTo>
                    <a:pt x="48" y="29"/>
                  </a:lnTo>
                  <a:lnTo>
                    <a:pt x="25" y="57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597640" y="4145040"/>
              <a:ext cx="75960" cy="9504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5" y="0"/>
                  </a:moveTo>
                  <a:lnTo>
                    <a:pt x="48" y="29"/>
                  </a:lnTo>
                  <a:lnTo>
                    <a:pt x="25" y="60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597640" y="4145040"/>
              <a:ext cx="75960" cy="9504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5" y="0"/>
                  </a:moveTo>
                  <a:lnTo>
                    <a:pt x="48" y="29"/>
                  </a:lnTo>
                  <a:lnTo>
                    <a:pt x="25" y="60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925720" y="3686040"/>
              <a:ext cx="76320" cy="9072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925720" y="3686040"/>
              <a:ext cx="76320" cy="9072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720960" y="4038480"/>
              <a:ext cx="7956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25" y="0"/>
                  </a:moveTo>
                  <a:lnTo>
                    <a:pt x="50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720960" y="4038480"/>
              <a:ext cx="7956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25" y="0"/>
                  </a:moveTo>
                  <a:lnTo>
                    <a:pt x="50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684600" y="357660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3" y="0"/>
                  </a:moveTo>
                  <a:lnTo>
                    <a:pt x="48" y="28"/>
                  </a:lnTo>
                  <a:lnTo>
                    <a:pt x="23" y="59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684600" y="357660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3" y="0"/>
                  </a:moveTo>
                  <a:lnTo>
                    <a:pt x="48" y="28"/>
                  </a:lnTo>
                  <a:lnTo>
                    <a:pt x="23" y="59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552840" y="333216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5" y="0"/>
                  </a:moveTo>
                  <a:lnTo>
                    <a:pt x="48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552840" y="333216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5" y="0"/>
                  </a:moveTo>
                  <a:lnTo>
                    <a:pt x="48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878360" y="449892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3" y="0"/>
                  </a:moveTo>
                  <a:lnTo>
                    <a:pt x="48" y="31"/>
                  </a:lnTo>
                  <a:lnTo>
                    <a:pt x="23" y="59"/>
                  </a:lnTo>
                  <a:lnTo>
                    <a:pt x="0" y="3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878360" y="449892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3" y="0"/>
                  </a:moveTo>
                  <a:lnTo>
                    <a:pt x="48" y="31"/>
                  </a:lnTo>
                  <a:lnTo>
                    <a:pt x="23" y="59"/>
                  </a:lnTo>
                  <a:lnTo>
                    <a:pt x="0" y="31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48000" y="4191120"/>
              <a:ext cx="76320" cy="9504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3" y="0"/>
                  </a:moveTo>
                  <a:lnTo>
                    <a:pt x="48" y="31"/>
                  </a:lnTo>
                  <a:lnTo>
                    <a:pt x="23" y="60"/>
                  </a:lnTo>
                  <a:lnTo>
                    <a:pt x="0" y="3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248000" y="4191120"/>
              <a:ext cx="76320" cy="9504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3" y="0"/>
                  </a:moveTo>
                  <a:lnTo>
                    <a:pt x="48" y="31"/>
                  </a:lnTo>
                  <a:lnTo>
                    <a:pt x="23" y="60"/>
                  </a:lnTo>
                  <a:lnTo>
                    <a:pt x="0" y="31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87680" y="4191120"/>
              <a:ext cx="79560" cy="95040"/>
            </a:xfrm>
            <a:custGeom>
              <a:avLst/>
              <a:gdLst/>
              <a:ahLst/>
              <a:rect l="l" t="t" r="r" b="b"/>
              <a:pathLst>
                <a:path w="50" h="60">
                  <a:moveTo>
                    <a:pt x="25" y="0"/>
                  </a:moveTo>
                  <a:lnTo>
                    <a:pt x="50" y="31"/>
                  </a:lnTo>
                  <a:lnTo>
                    <a:pt x="25" y="60"/>
                  </a:lnTo>
                  <a:lnTo>
                    <a:pt x="0" y="3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87680" y="4191120"/>
              <a:ext cx="79560" cy="95040"/>
            </a:xfrm>
            <a:custGeom>
              <a:avLst/>
              <a:gdLst/>
              <a:ahLst/>
              <a:rect l="l" t="t" r="r" b="b"/>
              <a:pathLst>
                <a:path w="50" h="60">
                  <a:moveTo>
                    <a:pt x="25" y="0"/>
                  </a:moveTo>
                  <a:lnTo>
                    <a:pt x="50" y="31"/>
                  </a:lnTo>
                  <a:lnTo>
                    <a:pt x="25" y="60"/>
                  </a:lnTo>
                  <a:lnTo>
                    <a:pt x="0" y="31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413160" y="399240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3" y="0"/>
                  </a:moveTo>
                  <a:lnTo>
                    <a:pt x="48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413160" y="399240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3" y="0"/>
                  </a:moveTo>
                  <a:lnTo>
                    <a:pt x="48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170160" y="3686040"/>
              <a:ext cx="76320" cy="9072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170160" y="3686040"/>
              <a:ext cx="76320" cy="9072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048360" y="474804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3" y="0"/>
                  </a:moveTo>
                  <a:lnTo>
                    <a:pt x="48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48360" y="474804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3" y="0"/>
                  </a:moveTo>
                  <a:lnTo>
                    <a:pt x="48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938320" y="4145040"/>
              <a:ext cx="76320" cy="9504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3" y="0"/>
                  </a:moveTo>
                  <a:lnTo>
                    <a:pt x="48" y="29"/>
                  </a:lnTo>
                  <a:lnTo>
                    <a:pt x="23" y="60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38320" y="4145040"/>
              <a:ext cx="76320" cy="9504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3" y="0"/>
                  </a:moveTo>
                  <a:lnTo>
                    <a:pt x="48" y="29"/>
                  </a:lnTo>
                  <a:lnTo>
                    <a:pt x="23" y="60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697200" y="3530520"/>
              <a:ext cx="76320" cy="9072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9"/>
                  </a:lnTo>
                  <a:lnTo>
                    <a:pt x="23" y="57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97200" y="3530520"/>
              <a:ext cx="76320" cy="9072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9"/>
                  </a:lnTo>
                  <a:lnTo>
                    <a:pt x="23" y="57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949480" y="357660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5" y="0"/>
                  </a:moveTo>
                  <a:lnTo>
                    <a:pt x="48" y="28"/>
                  </a:lnTo>
                  <a:lnTo>
                    <a:pt x="25" y="59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949480" y="357660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5" y="0"/>
                  </a:moveTo>
                  <a:lnTo>
                    <a:pt x="48" y="28"/>
                  </a:lnTo>
                  <a:lnTo>
                    <a:pt x="25" y="59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059440" y="3882960"/>
              <a:ext cx="75960" cy="954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5" y="0"/>
                  </a:moveTo>
                  <a:lnTo>
                    <a:pt x="48" y="29"/>
                  </a:lnTo>
                  <a:lnTo>
                    <a:pt x="25" y="60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059440" y="3882960"/>
              <a:ext cx="75960" cy="954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5" y="0"/>
                  </a:moveTo>
                  <a:lnTo>
                    <a:pt x="48" y="29"/>
                  </a:lnTo>
                  <a:lnTo>
                    <a:pt x="25" y="60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541680" y="4548240"/>
              <a:ext cx="7632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5" y="0"/>
                  </a:moveTo>
                  <a:lnTo>
                    <a:pt x="48" y="28"/>
                  </a:lnTo>
                  <a:lnTo>
                    <a:pt x="25" y="57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541680" y="4548240"/>
              <a:ext cx="7632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5" y="0"/>
                  </a:moveTo>
                  <a:lnTo>
                    <a:pt x="48" y="28"/>
                  </a:lnTo>
                  <a:lnTo>
                    <a:pt x="25" y="57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043520" y="4240080"/>
              <a:ext cx="75960" cy="9072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4" y="0"/>
                  </a:moveTo>
                  <a:lnTo>
                    <a:pt x="48" y="29"/>
                  </a:lnTo>
                  <a:lnTo>
                    <a:pt x="24" y="57"/>
                  </a:lnTo>
                  <a:lnTo>
                    <a:pt x="0" y="2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043520" y="4240080"/>
              <a:ext cx="75960" cy="9072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4" y="0"/>
                  </a:moveTo>
                  <a:lnTo>
                    <a:pt x="48" y="29"/>
                  </a:lnTo>
                  <a:lnTo>
                    <a:pt x="24" y="57"/>
                  </a:lnTo>
                  <a:lnTo>
                    <a:pt x="0" y="29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813120" y="4548240"/>
              <a:ext cx="7632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813120" y="4548240"/>
              <a:ext cx="7632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62440" y="3792600"/>
              <a:ext cx="79200" cy="9036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25" y="0"/>
                  </a:moveTo>
                  <a:lnTo>
                    <a:pt x="50" y="29"/>
                  </a:lnTo>
                  <a:lnTo>
                    <a:pt x="25" y="57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962440" y="3792600"/>
              <a:ext cx="79200" cy="9036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25" y="0"/>
                  </a:moveTo>
                  <a:lnTo>
                    <a:pt x="50" y="29"/>
                  </a:lnTo>
                  <a:lnTo>
                    <a:pt x="25" y="57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72080" y="4145040"/>
              <a:ext cx="79200" cy="95040"/>
            </a:xfrm>
            <a:custGeom>
              <a:avLst/>
              <a:gdLst/>
              <a:ahLst/>
              <a:rect l="l" t="t" r="r" b="b"/>
              <a:pathLst>
                <a:path w="50" h="60">
                  <a:moveTo>
                    <a:pt x="25" y="0"/>
                  </a:moveTo>
                  <a:lnTo>
                    <a:pt x="50" y="29"/>
                  </a:lnTo>
                  <a:lnTo>
                    <a:pt x="25" y="60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672080" y="4145040"/>
              <a:ext cx="79200" cy="95040"/>
            </a:xfrm>
            <a:custGeom>
              <a:avLst/>
              <a:gdLst/>
              <a:ahLst/>
              <a:rect l="l" t="t" r="r" b="b"/>
              <a:pathLst>
                <a:path w="50" h="60">
                  <a:moveTo>
                    <a:pt x="25" y="0"/>
                  </a:moveTo>
                  <a:lnTo>
                    <a:pt x="50" y="29"/>
                  </a:lnTo>
                  <a:lnTo>
                    <a:pt x="25" y="60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900600" y="4191120"/>
              <a:ext cx="75960" cy="9504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5" y="0"/>
                  </a:moveTo>
                  <a:lnTo>
                    <a:pt x="48" y="31"/>
                  </a:lnTo>
                  <a:lnTo>
                    <a:pt x="25" y="60"/>
                  </a:lnTo>
                  <a:lnTo>
                    <a:pt x="0" y="3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900600" y="4191120"/>
              <a:ext cx="75960" cy="9504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5" y="0"/>
                  </a:moveTo>
                  <a:lnTo>
                    <a:pt x="48" y="31"/>
                  </a:lnTo>
                  <a:lnTo>
                    <a:pt x="25" y="60"/>
                  </a:lnTo>
                  <a:lnTo>
                    <a:pt x="0" y="31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738760" y="4392720"/>
              <a:ext cx="77760" cy="93600"/>
            </a:xfrm>
            <a:custGeom>
              <a:avLst/>
              <a:gdLst/>
              <a:ahLst/>
              <a:rect l="l" t="t" r="r" b="b"/>
              <a:pathLst>
                <a:path w="49" h="59">
                  <a:moveTo>
                    <a:pt x="24" y="0"/>
                  </a:moveTo>
                  <a:lnTo>
                    <a:pt x="49" y="30"/>
                  </a:lnTo>
                  <a:lnTo>
                    <a:pt x="24" y="59"/>
                  </a:lnTo>
                  <a:lnTo>
                    <a:pt x="0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738760" y="4392720"/>
              <a:ext cx="77760" cy="93600"/>
            </a:xfrm>
            <a:custGeom>
              <a:avLst/>
              <a:gdLst/>
              <a:ahLst/>
              <a:rect l="l" t="t" r="r" b="b"/>
              <a:pathLst>
                <a:path w="49" h="59">
                  <a:moveTo>
                    <a:pt x="24" y="0"/>
                  </a:moveTo>
                  <a:lnTo>
                    <a:pt x="49" y="30"/>
                  </a:lnTo>
                  <a:lnTo>
                    <a:pt x="24" y="59"/>
                  </a:lnTo>
                  <a:lnTo>
                    <a:pt x="0" y="30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954680" y="4592520"/>
              <a:ext cx="7596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5" y="0"/>
                  </a:moveTo>
                  <a:lnTo>
                    <a:pt x="48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954680" y="4592520"/>
              <a:ext cx="7596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5" y="0"/>
                  </a:moveTo>
                  <a:lnTo>
                    <a:pt x="48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130560" y="333216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5" y="0"/>
                  </a:moveTo>
                  <a:lnTo>
                    <a:pt x="48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130560" y="333216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5" y="0"/>
                  </a:moveTo>
                  <a:lnTo>
                    <a:pt x="48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232000" y="2870280"/>
              <a:ext cx="7632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232000" y="2870280"/>
              <a:ext cx="7632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88000" y="4038480"/>
              <a:ext cx="7920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25" y="0"/>
                  </a:moveTo>
                  <a:lnTo>
                    <a:pt x="50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88000" y="4038480"/>
              <a:ext cx="7920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25" y="0"/>
                  </a:moveTo>
                  <a:lnTo>
                    <a:pt x="50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211720" y="4592520"/>
              <a:ext cx="77760" cy="9216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24" y="0"/>
                  </a:moveTo>
                  <a:lnTo>
                    <a:pt x="49" y="29"/>
                  </a:lnTo>
                  <a:lnTo>
                    <a:pt x="24" y="58"/>
                  </a:lnTo>
                  <a:lnTo>
                    <a:pt x="0" y="2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211720" y="4592520"/>
              <a:ext cx="77760" cy="9216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24" y="0"/>
                  </a:moveTo>
                  <a:lnTo>
                    <a:pt x="49" y="29"/>
                  </a:lnTo>
                  <a:lnTo>
                    <a:pt x="24" y="58"/>
                  </a:lnTo>
                  <a:lnTo>
                    <a:pt x="0" y="29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516560" y="3792600"/>
              <a:ext cx="79200" cy="9036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25" y="0"/>
                  </a:moveTo>
                  <a:lnTo>
                    <a:pt x="50" y="29"/>
                  </a:lnTo>
                  <a:lnTo>
                    <a:pt x="25" y="57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516560" y="3792600"/>
              <a:ext cx="79200" cy="9036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25" y="0"/>
                  </a:moveTo>
                  <a:lnTo>
                    <a:pt x="50" y="29"/>
                  </a:lnTo>
                  <a:lnTo>
                    <a:pt x="25" y="57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629160" y="3838680"/>
              <a:ext cx="79200" cy="9036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25" y="0"/>
                  </a:moveTo>
                  <a:lnTo>
                    <a:pt x="50" y="28"/>
                  </a:lnTo>
                  <a:lnTo>
                    <a:pt x="25" y="57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629160" y="3838680"/>
              <a:ext cx="79200" cy="9036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25" y="0"/>
                  </a:moveTo>
                  <a:lnTo>
                    <a:pt x="50" y="28"/>
                  </a:lnTo>
                  <a:lnTo>
                    <a:pt x="25" y="57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2480" y="46544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5" y="0"/>
                  </a:moveTo>
                  <a:lnTo>
                    <a:pt x="48" y="29"/>
                  </a:lnTo>
                  <a:lnTo>
                    <a:pt x="25" y="59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262480" y="46544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5" y="0"/>
                  </a:moveTo>
                  <a:lnTo>
                    <a:pt x="48" y="29"/>
                  </a:lnTo>
                  <a:lnTo>
                    <a:pt x="25" y="59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13120" y="399240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3" y="0"/>
                  </a:moveTo>
                  <a:lnTo>
                    <a:pt x="48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13120" y="399240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3" y="0"/>
                  </a:moveTo>
                  <a:lnTo>
                    <a:pt x="48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48400" y="43466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5" y="0"/>
                  </a:moveTo>
                  <a:lnTo>
                    <a:pt x="48" y="29"/>
                  </a:lnTo>
                  <a:lnTo>
                    <a:pt x="25" y="59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548400" y="43466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5" y="0"/>
                  </a:moveTo>
                  <a:lnTo>
                    <a:pt x="48" y="29"/>
                  </a:lnTo>
                  <a:lnTo>
                    <a:pt x="25" y="59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637240" y="444024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3" y="0"/>
                  </a:moveTo>
                  <a:lnTo>
                    <a:pt x="48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637240" y="444024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3" y="0"/>
                  </a:moveTo>
                  <a:lnTo>
                    <a:pt x="48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145040" y="4392720"/>
              <a:ext cx="79200" cy="936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25" y="0"/>
                  </a:moveTo>
                  <a:lnTo>
                    <a:pt x="50" y="30"/>
                  </a:lnTo>
                  <a:lnTo>
                    <a:pt x="25" y="59"/>
                  </a:lnTo>
                  <a:lnTo>
                    <a:pt x="0" y="3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145040" y="4392720"/>
              <a:ext cx="79200" cy="936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25" y="0"/>
                  </a:moveTo>
                  <a:lnTo>
                    <a:pt x="50" y="30"/>
                  </a:lnTo>
                  <a:lnTo>
                    <a:pt x="25" y="59"/>
                  </a:lnTo>
                  <a:lnTo>
                    <a:pt x="0" y="30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442120" y="4300560"/>
              <a:ext cx="7920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25" y="0"/>
                  </a:moveTo>
                  <a:lnTo>
                    <a:pt x="50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442120" y="4300560"/>
              <a:ext cx="7920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25" y="0"/>
                  </a:moveTo>
                  <a:lnTo>
                    <a:pt x="50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976560" y="3639960"/>
              <a:ext cx="79560" cy="9072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25" y="0"/>
                  </a:moveTo>
                  <a:lnTo>
                    <a:pt x="50" y="29"/>
                  </a:lnTo>
                  <a:lnTo>
                    <a:pt x="25" y="57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976560" y="3639960"/>
              <a:ext cx="79560" cy="9072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25" y="0"/>
                  </a:moveTo>
                  <a:lnTo>
                    <a:pt x="50" y="29"/>
                  </a:lnTo>
                  <a:lnTo>
                    <a:pt x="25" y="57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733840" y="3838680"/>
              <a:ext cx="7596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733840" y="3838680"/>
              <a:ext cx="7596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03960" y="46544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5" y="0"/>
                  </a:moveTo>
                  <a:lnTo>
                    <a:pt x="48" y="29"/>
                  </a:lnTo>
                  <a:lnTo>
                    <a:pt x="25" y="59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03960" y="46544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5" y="0"/>
                  </a:moveTo>
                  <a:lnTo>
                    <a:pt x="48" y="29"/>
                  </a:lnTo>
                  <a:lnTo>
                    <a:pt x="25" y="59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867200" y="459252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3" y="0"/>
                  </a:moveTo>
                  <a:lnTo>
                    <a:pt x="48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867200" y="459252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3" y="0"/>
                  </a:moveTo>
                  <a:lnTo>
                    <a:pt x="48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2360" y="4346640"/>
              <a:ext cx="7596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3" y="0"/>
                  </a:moveTo>
                  <a:lnTo>
                    <a:pt x="48" y="29"/>
                  </a:lnTo>
                  <a:lnTo>
                    <a:pt x="23" y="59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62360" y="4346640"/>
              <a:ext cx="7596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3" y="0"/>
                  </a:moveTo>
                  <a:lnTo>
                    <a:pt x="48" y="29"/>
                  </a:lnTo>
                  <a:lnTo>
                    <a:pt x="23" y="59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00600" y="3838680"/>
              <a:ext cx="7596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5" y="0"/>
                  </a:moveTo>
                  <a:lnTo>
                    <a:pt x="48" y="28"/>
                  </a:lnTo>
                  <a:lnTo>
                    <a:pt x="25" y="57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900600" y="3838680"/>
              <a:ext cx="7596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5" y="0"/>
                  </a:moveTo>
                  <a:lnTo>
                    <a:pt x="48" y="28"/>
                  </a:lnTo>
                  <a:lnTo>
                    <a:pt x="25" y="57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89480" y="3576600"/>
              <a:ext cx="7596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5" y="0"/>
                  </a:moveTo>
                  <a:lnTo>
                    <a:pt x="48" y="28"/>
                  </a:lnTo>
                  <a:lnTo>
                    <a:pt x="25" y="59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489480" y="3576600"/>
              <a:ext cx="7596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5" y="0"/>
                  </a:moveTo>
                  <a:lnTo>
                    <a:pt x="48" y="28"/>
                  </a:lnTo>
                  <a:lnTo>
                    <a:pt x="25" y="59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11760" y="4748040"/>
              <a:ext cx="7920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25" y="0"/>
                  </a:moveTo>
                  <a:lnTo>
                    <a:pt x="50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11760" y="4748040"/>
              <a:ext cx="7920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25" y="0"/>
                  </a:moveTo>
                  <a:lnTo>
                    <a:pt x="50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565440" y="3378240"/>
              <a:ext cx="79560" cy="9036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25" y="0"/>
                  </a:moveTo>
                  <a:lnTo>
                    <a:pt x="50" y="29"/>
                  </a:lnTo>
                  <a:lnTo>
                    <a:pt x="25" y="57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565440" y="3378240"/>
              <a:ext cx="79560" cy="9036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25" y="0"/>
                  </a:moveTo>
                  <a:lnTo>
                    <a:pt x="50" y="29"/>
                  </a:lnTo>
                  <a:lnTo>
                    <a:pt x="25" y="57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720960" y="3730680"/>
              <a:ext cx="7956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25" y="0"/>
                  </a:moveTo>
                  <a:lnTo>
                    <a:pt x="50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720960" y="3730680"/>
              <a:ext cx="7956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25" y="0"/>
                  </a:moveTo>
                  <a:lnTo>
                    <a:pt x="50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618000" y="3639960"/>
              <a:ext cx="79200" cy="9072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25" y="0"/>
                  </a:moveTo>
                  <a:lnTo>
                    <a:pt x="50" y="29"/>
                  </a:lnTo>
                  <a:lnTo>
                    <a:pt x="25" y="57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618000" y="3639960"/>
              <a:ext cx="79200" cy="9072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25" y="0"/>
                  </a:moveTo>
                  <a:lnTo>
                    <a:pt x="50" y="29"/>
                  </a:lnTo>
                  <a:lnTo>
                    <a:pt x="25" y="57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24320" y="43466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5" y="0"/>
                  </a:moveTo>
                  <a:lnTo>
                    <a:pt x="48" y="29"/>
                  </a:lnTo>
                  <a:lnTo>
                    <a:pt x="25" y="59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324320" y="434664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5" y="0"/>
                  </a:moveTo>
                  <a:lnTo>
                    <a:pt x="48" y="29"/>
                  </a:lnTo>
                  <a:lnTo>
                    <a:pt x="25" y="59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869160" y="4440240"/>
              <a:ext cx="77760" cy="9216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25" y="0"/>
                  </a:moveTo>
                  <a:lnTo>
                    <a:pt x="49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869160" y="4440240"/>
              <a:ext cx="77760" cy="9216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25" y="0"/>
                  </a:moveTo>
                  <a:lnTo>
                    <a:pt x="49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595760" y="403848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3" y="0"/>
                  </a:moveTo>
                  <a:lnTo>
                    <a:pt x="48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95760" y="403848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3" y="0"/>
                  </a:moveTo>
                  <a:lnTo>
                    <a:pt x="48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03600" y="3730680"/>
              <a:ext cx="7956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25" y="0"/>
                  </a:moveTo>
                  <a:lnTo>
                    <a:pt x="50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503600" y="3730680"/>
              <a:ext cx="7956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25" y="0"/>
                  </a:moveTo>
                  <a:lnTo>
                    <a:pt x="50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181320" y="3792600"/>
              <a:ext cx="7632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9"/>
                  </a:lnTo>
                  <a:lnTo>
                    <a:pt x="23" y="57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181320" y="3792600"/>
              <a:ext cx="7632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3" y="0"/>
                  </a:moveTo>
                  <a:lnTo>
                    <a:pt x="48" y="29"/>
                  </a:lnTo>
                  <a:lnTo>
                    <a:pt x="23" y="57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629160" y="3992400"/>
              <a:ext cx="7920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25" y="0"/>
                  </a:moveTo>
                  <a:lnTo>
                    <a:pt x="50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629160" y="3992400"/>
              <a:ext cx="7920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25" y="0"/>
                  </a:moveTo>
                  <a:lnTo>
                    <a:pt x="50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363920" y="357660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3" y="0"/>
                  </a:moveTo>
                  <a:lnTo>
                    <a:pt x="48" y="28"/>
                  </a:lnTo>
                  <a:lnTo>
                    <a:pt x="23" y="59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363920" y="357660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3" y="0"/>
                  </a:moveTo>
                  <a:lnTo>
                    <a:pt x="48" y="28"/>
                  </a:lnTo>
                  <a:lnTo>
                    <a:pt x="23" y="59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76920" y="4548240"/>
              <a:ext cx="7632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5" y="0"/>
                  </a:moveTo>
                  <a:lnTo>
                    <a:pt x="48" y="28"/>
                  </a:lnTo>
                  <a:lnTo>
                    <a:pt x="25" y="57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76920" y="4548240"/>
              <a:ext cx="76320" cy="903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25" y="0"/>
                  </a:moveTo>
                  <a:lnTo>
                    <a:pt x="48" y="28"/>
                  </a:lnTo>
                  <a:lnTo>
                    <a:pt x="25" y="57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983280" y="490068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5" y="0"/>
                  </a:moveTo>
                  <a:lnTo>
                    <a:pt x="48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983280" y="490068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5" y="0"/>
                  </a:moveTo>
                  <a:lnTo>
                    <a:pt x="48" y="29"/>
                  </a:lnTo>
                  <a:lnTo>
                    <a:pt x="25" y="58"/>
                  </a:lnTo>
                  <a:lnTo>
                    <a:pt x="0" y="29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43920" y="4748040"/>
              <a:ext cx="7596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3" y="0"/>
                  </a:moveTo>
                  <a:lnTo>
                    <a:pt x="48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243920" y="4748040"/>
              <a:ext cx="7596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23" y="0"/>
                  </a:moveTo>
                  <a:lnTo>
                    <a:pt x="48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271600" y="3560760"/>
              <a:ext cx="5008680" cy="1309680"/>
            </a:xfrm>
            <a:prstGeom prst="line">
              <a:avLst/>
            </a:prstGeom>
            <a:ln w="237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253120" y="2685960"/>
              <a:ext cx="2146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 = 132,38x + 14,1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916960" y="3062160"/>
              <a:ext cx="9439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0,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451240" y="50036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451240" y="44956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374920" y="39877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74920" y="34783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374920" y="29732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374920" y="24638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436760" y="525132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491480" y="52513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,0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502720" y="52513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,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545640" y="52513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,0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583880" y="52513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,0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610960" y="52513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,0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652440" y="52513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,0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95360" y="52513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,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035600" y="5570640"/>
              <a:ext cx="2647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ux de croissance relat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16200000">
              <a:off x="386640" y="3568680"/>
              <a:ext cx="183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te architectur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FTH Vigue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E91F-D3F9-4266-BE8C-116E1BA9BDB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Circonférence et croissance en épaiss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96720" y="1089000"/>
            <a:ext cx="83520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entre la circonférence et le taux de croissance relative en épaisseur pour la période 2003-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052640" y="2211480"/>
            <a:ext cx="6976800" cy="3647880"/>
            <a:chOff x="1052640" y="2211480"/>
            <a:chExt cx="6976800" cy="3647880"/>
          </a:xfrm>
        </p:grpSpPr>
        <p:sp>
          <p:nvSpPr>
            <p:cNvPr id="805" name=""/>
            <p:cNvSpPr/>
            <p:nvPr/>
          </p:nvSpPr>
          <p:spPr>
            <a:xfrm>
              <a:off x="3874320" y="5597640"/>
              <a:ext cx="214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aux de croissance rel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16200000">
              <a:off x="641160" y="3855600"/>
              <a:ext cx="1107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irconfére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052640" y="2211480"/>
              <a:ext cx="6976800" cy="364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360440" y="4740120"/>
              <a:ext cx="638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360440" y="4191120"/>
              <a:ext cx="638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360440" y="3625920"/>
              <a:ext cx="638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360440" y="3076560"/>
              <a:ext cx="638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360440" y="2527200"/>
              <a:ext cx="638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427120" y="2527200"/>
              <a:ext cx="1800" cy="2762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389320" y="5289480"/>
              <a:ext cx="37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389320" y="4740120"/>
              <a:ext cx="37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389320" y="4191120"/>
              <a:ext cx="37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389320" y="3625920"/>
              <a:ext cx="37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389320" y="3076560"/>
              <a:ext cx="37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389320" y="2527200"/>
              <a:ext cx="37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360440" y="5289480"/>
              <a:ext cx="638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1360440" y="528948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427120" y="528948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3492360" y="528948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4557600" y="528948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5611680" y="528948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6676920" y="528948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7743960" y="528948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273560" y="3473280"/>
              <a:ext cx="74520" cy="9216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3" y="0"/>
                  </a:moveTo>
                  <a:lnTo>
                    <a:pt x="47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997360" y="3274920"/>
              <a:ext cx="74520" cy="9216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3" y="0"/>
                  </a:moveTo>
                  <a:lnTo>
                    <a:pt x="47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05240" y="3473280"/>
              <a:ext cx="74520" cy="9216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4" y="0"/>
                  </a:moveTo>
                  <a:lnTo>
                    <a:pt x="47" y="29"/>
                  </a:lnTo>
                  <a:lnTo>
                    <a:pt x="24" y="58"/>
                  </a:lnTo>
                  <a:lnTo>
                    <a:pt x="0" y="2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1880" y="3489480"/>
              <a:ext cx="74520" cy="9180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3" y="0"/>
                  </a:moveTo>
                  <a:lnTo>
                    <a:pt x="47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611680" y="4084560"/>
              <a:ext cx="74880" cy="9216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3" y="0"/>
                  </a:moveTo>
                  <a:lnTo>
                    <a:pt x="47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997360" y="3306600"/>
              <a:ext cx="74520" cy="9072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23" y="0"/>
                  </a:moveTo>
                  <a:lnTo>
                    <a:pt x="47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823000" y="3780000"/>
              <a:ext cx="74520" cy="9036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23" y="0"/>
                  </a:moveTo>
                  <a:lnTo>
                    <a:pt x="47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00800" y="3046320"/>
              <a:ext cx="74520" cy="9216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3" y="0"/>
                  </a:moveTo>
                  <a:lnTo>
                    <a:pt x="47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592440" y="3489480"/>
              <a:ext cx="73080" cy="91800"/>
            </a:xfrm>
            <a:custGeom>
              <a:avLst/>
              <a:gdLst/>
              <a:ahLst/>
              <a:rect l="l" t="t" r="r" b="b"/>
              <a:pathLst>
                <a:path w="46" h="58">
                  <a:moveTo>
                    <a:pt x="23" y="0"/>
                  </a:moveTo>
                  <a:lnTo>
                    <a:pt x="46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75240" y="3625920"/>
              <a:ext cx="74520" cy="9216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4" y="0"/>
                  </a:moveTo>
                  <a:lnTo>
                    <a:pt x="47" y="29"/>
                  </a:lnTo>
                  <a:lnTo>
                    <a:pt x="24" y="58"/>
                  </a:lnTo>
                  <a:lnTo>
                    <a:pt x="0" y="2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736720" y="3549600"/>
              <a:ext cx="74880" cy="9216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3" y="0"/>
                  </a:moveTo>
                  <a:lnTo>
                    <a:pt x="47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541680" y="2909880"/>
              <a:ext cx="74520" cy="9036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24" y="0"/>
                  </a:moveTo>
                  <a:lnTo>
                    <a:pt x="47" y="28"/>
                  </a:lnTo>
                  <a:lnTo>
                    <a:pt x="24" y="57"/>
                  </a:lnTo>
                  <a:lnTo>
                    <a:pt x="0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05320" y="3367080"/>
              <a:ext cx="74520" cy="9216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3" y="0"/>
                  </a:moveTo>
                  <a:lnTo>
                    <a:pt x="47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368520" y="4022640"/>
              <a:ext cx="74880" cy="9216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3" y="0"/>
                  </a:moveTo>
                  <a:lnTo>
                    <a:pt x="47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732200" y="3809880"/>
              <a:ext cx="74880" cy="9072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23" y="0"/>
                  </a:moveTo>
                  <a:lnTo>
                    <a:pt x="47" y="29"/>
                  </a:lnTo>
                  <a:lnTo>
                    <a:pt x="23" y="57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087800" y="3824280"/>
              <a:ext cx="74520" cy="9216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3" y="0"/>
                  </a:moveTo>
                  <a:lnTo>
                    <a:pt x="47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224240" y="3916440"/>
              <a:ext cx="74880" cy="9216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3" y="0"/>
                  </a:moveTo>
                  <a:lnTo>
                    <a:pt x="47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232080" y="3489480"/>
              <a:ext cx="74520" cy="9180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4" y="0"/>
                  </a:moveTo>
                  <a:lnTo>
                    <a:pt x="47" y="29"/>
                  </a:lnTo>
                  <a:lnTo>
                    <a:pt x="24" y="58"/>
                  </a:lnTo>
                  <a:lnTo>
                    <a:pt x="0" y="2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984400" y="3733920"/>
              <a:ext cx="74880" cy="9036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23" y="0"/>
                  </a:moveTo>
                  <a:lnTo>
                    <a:pt x="47" y="29"/>
                  </a:lnTo>
                  <a:lnTo>
                    <a:pt x="23" y="57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934240" y="4176720"/>
              <a:ext cx="74520" cy="9036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23" y="0"/>
                  </a:moveTo>
                  <a:lnTo>
                    <a:pt x="47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749680" y="3581280"/>
              <a:ext cx="74520" cy="9072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23" y="0"/>
                  </a:moveTo>
                  <a:lnTo>
                    <a:pt x="47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517920" y="3657600"/>
              <a:ext cx="74520" cy="9036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23" y="0"/>
                  </a:moveTo>
                  <a:lnTo>
                    <a:pt x="47" y="29"/>
                  </a:lnTo>
                  <a:lnTo>
                    <a:pt x="23" y="57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762280" y="3657600"/>
              <a:ext cx="73080" cy="90360"/>
            </a:xfrm>
            <a:custGeom>
              <a:avLst/>
              <a:gdLst/>
              <a:ahLst/>
              <a:rect l="l" t="t" r="r" b="b"/>
              <a:pathLst>
                <a:path w="46" h="57">
                  <a:moveTo>
                    <a:pt x="23" y="0"/>
                  </a:moveTo>
                  <a:lnTo>
                    <a:pt x="46" y="29"/>
                  </a:lnTo>
                  <a:lnTo>
                    <a:pt x="23" y="57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917960" y="4022640"/>
              <a:ext cx="74880" cy="9216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3" y="0"/>
                  </a:moveTo>
                  <a:lnTo>
                    <a:pt x="47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355920" y="4329000"/>
              <a:ext cx="74520" cy="9072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24" y="0"/>
                  </a:moveTo>
                  <a:lnTo>
                    <a:pt x="47" y="28"/>
                  </a:lnTo>
                  <a:lnTo>
                    <a:pt x="24" y="57"/>
                  </a:lnTo>
                  <a:lnTo>
                    <a:pt x="0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76840" y="3824280"/>
              <a:ext cx="74520" cy="9216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4" y="0"/>
                  </a:moveTo>
                  <a:lnTo>
                    <a:pt x="47" y="29"/>
                  </a:lnTo>
                  <a:lnTo>
                    <a:pt x="24" y="58"/>
                  </a:lnTo>
                  <a:lnTo>
                    <a:pt x="0" y="2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641760" y="4038480"/>
              <a:ext cx="74520" cy="9216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3" y="0"/>
                  </a:moveTo>
                  <a:lnTo>
                    <a:pt x="47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762280" y="3687840"/>
              <a:ext cx="73080" cy="92160"/>
            </a:xfrm>
            <a:custGeom>
              <a:avLst/>
              <a:gdLst/>
              <a:ahLst/>
              <a:rect l="l" t="t" r="r" b="b"/>
              <a:pathLst>
                <a:path w="46" h="58">
                  <a:moveTo>
                    <a:pt x="23" y="0"/>
                  </a:moveTo>
                  <a:lnTo>
                    <a:pt x="46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521240" y="3382920"/>
              <a:ext cx="74520" cy="9036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23" y="0"/>
                  </a:moveTo>
                  <a:lnTo>
                    <a:pt x="47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727440" y="3900600"/>
              <a:ext cx="74520" cy="9180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4" y="0"/>
                  </a:moveTo>
                  <a:lnTo>
                    <a:pt x="47" y="29"/>
                  </a:lnTo>
                  <a:lnTo>
                    <a:pt x="24" y="58"/>
                  </a:lnTo>
                  <a:lnTo>
                    <a:pt x="0" y="2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624640" y="4176720"/>
              <a:ext cx="74520" cy="9036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23" y="0"/>
                  </a:moveTo>
                  <a:lnTo>
                    <a:pt x="47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07080" y="4359240"/>
              <a:ext cx="72720" cy="92160"/>
            </a:xfrm>
            <a:custGeom>
              <a:avLst/>
              <a:gdLst/>
              <a:ahLst/>
              <a:rect l="l" t="t" r="r" b="b"/>
              <a:pathLst>
                <a:path w="46" h="58">
                  <a:moveTo>
                    <a:pt x="23" y="0"/>
                  </a:moveTo>
                  <a:lnTo>
                    <a:pt x="46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48040" y="3122640"/>
              <a:ext cx="73080" cy="92160"/>
            </a:xfrm>
            <a:custGeom>
              <a:avLst/>
              <a:gdLst/>
              <a:ahLst/>
              <a:rect l="l" t="t" r="r" b="b"/>
              <a:pathLst>
                <a:path w="46" h="58">
                  <a:moveTo>
                    <a:pt x="23" y="0"/>
                  </a:moveTo>
                  <a:lnTo>
                    <a:pt x="46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017800" y="3657600"/>
              <a:ext cx="74520" cy="9036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24" y="0"/>
                  </a:moveTo>
                  <a:lnTo>
                    <a:pt x="47" y="29"/>
                  </a:lnTo>
                  <a:lnTo>
                    <a:pt x="24" y="57"/>
                  </a:lnTo>
                  <a:lnTo>
                    <a:pt x="0" y="2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632480" y="3611520"/>
              <a:ext cx="74520" cy="9216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4" y="0"/>
                  </a:moveTo>
                  <a:lnTo>
                    <a:pt x="47" y="29"/>
                  </a:lnTo>
                  <a:lnTo>
                    <a:pt x="24" y="58"/>
                  </a:lnTo>
                  <a:lnTo>
                    <a:pt x="0" y="2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078520" y="4098960"/>
              <a:ext cx="74520" cy="9216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4" y="0"/>
                  </a:moveTo>
                  <a:lnTo>
                    <a:pt x="47" y="29"/>
                  </a:lnTo>
                  <a:lnTo>
                    <a:pt x="24" y="58"/>
                  </a:lnTo>
                  <a:lnTo>
                    <a:pt x="0" y="2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61040" y="4160880"/>
              <a:ext cx="72720" cy="92160"/>
            </a:xfrm>
            <a:custGeom>
              <a:avLst/>
              <a:gdLst/>
              <a:ahLst/>
              <a:rect l="l" t="t" r="r" b="b"/>
              <a:pathLst>
                <a:path w="46" h="58">
                  <a:moveTo>
                    <a:pt x="23" y="0"/>
                  </a:moveTo>
                  <a:lnTo>
                    <a:pt x="46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456000" y="4114800"/>
              <a:ext cx="74520" cy="9216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3" y="0"/>
                  </a:moveTo>
                  <a:lnTo>
                    <a:pt x="47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129280" y="2986200"/>
              <a:ext cx="73080" cy="90360"/>
            </a:xfrm>
            <a:custGeom>
              <a:avLst/>
              <a:gdLst/>
              <a:ahLst/>
              <a:rect l="l" t="t" r="r" b="b"/>
              <a:pathLst>
                <a:path w="46" h="57">
                  <a:moveTo>
                    <a:pt x="23" y="0"/>
                  </a:moveTo>
                  <a:lnTo>
                    <a:pt x="46" y="29"/>
                  </a:lnTo>
                  <a:lnTo>
                    <a:pt x="23" y="57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641760" y="3565440"/>
              <a:ext cx="74520" cy="9216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3" y="0"/>
                  </a:moveTo>
                  <a:lnTo>
                    <a:pt x="47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442200" y="3916440"/>
              <a:ext cx="74520" cy="9216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3" y="0"/>
                  </a:moveTo>
                  <a:lnTo>
                    <a:pt x="47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00800" y="3946680"/>
              <a:ext cx="74520" cy="9180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3" y="0"/>
                  </a:moveTo>
                  <a:lnTo>
                    <a:pt x="47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987720" y="3916440"/>
              <a:ext cx="74520" cy="9216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4" y="0"/>
                  </a:moveTo>
                  <a:lnTo>
                    <a:pt x="47" y="29"/>
                  </a:lnTo>
                  <a:lnTo>
                    <a:pt x="24" y="58"/>
                  </a:lnTo>
                  <a:lnTo>
                    <a:pt x="0" y="2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302080" y="4282920"/>
              <a:ext cx="74880" cy="9072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23" y="0"/>
                  </a:moveTo>
                  <a:lnTo>
                    <a:pt x="47" y="29"/>
                  </a:lnTo>
                  <a:lnTo>
                    <a:pt x="23" y="57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814920" y="3336840"/>
              <a:ext cx="74520" cy="9072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23" y="0"/>
                  </a:moveTo>
                  <a:lnTo>
                    <a:pt x="47" y="29"/>
                  </a:lnTo>
                  <a:lnTo>
                    <a:pt x="23" y="57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538360" y="3214800"/>
              <a:ext cx="74520" cy="9180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3" y="0"/>
                  </a:moveTo>
                  <a:lnTo>
                    <a:pt x="47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122960" y="3824280"/>
              <a:ext cx="74880" cy="9216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4" y="0"/>
                  </a:moveTo>
                  <a:lnTo>
                    <a:pt x="47" y="29"/>
                  </a:lnTo>
                  <a:lnTo>
                    <a:pt x="24" y="58"/>
                  </a:lnTo>
                  <a:lnTo>
                    <a:pt x="0" y="2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19600" y="3397320"/>
              <a:ext cx="74520" cy="9216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3" y="0"/>
                  </a:moveTo>
                  <a:lnTo>
                    <a:pt x="47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662200" y="3108240"/>
              <a:ext cx="74520" cy="9072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23" y="0"/>
                  </a:moveTo>
                  <a:lnTo>
                    <a:pt x="47" y="28"/>
                  </a:lnTo>
                  <a:lnTo>
                    <a:pt x="23" y="57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727440" y="3230640"/>
              <a:ext cx="74520" cy="9036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24" y="0"/>
                  </a:moveTo>
                  <a:lnTo>
                    <a:pt x="47" y="28"/>
                  </a:lnTo>
                  <a:lnTo>
                    <a:pt x="24" y="57"/>
                  </a:lnTo>
                  <a:lnTo>
                    <a:pt x="0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306600" y="2649600"/>
              <a:ext cx="74880" cy="9216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3" y="0"/>
                  </a:moveTo>
                  <a:lnTo>
                    <a:pt x="47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657680" y="4160880"/>
              <a:ext cx="74520" cy="9216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3" y="0"/>
                  </a:moveTo>
                  <a:lnTo>
                    <a:pt x="47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394080" y="4343400"/>
              <a:ext cx="73080" cy="92160"/>
            </a:xfrm>
            <a:custGeom>
              <a:avLst/>
              <a:gdLst/>
              <a:ahLst/>
              <a:rect l="l" t="t" r="r" b="b"/>
              <a:pathLst>
                <a:path w="46" h="58">
                  <a:moveTo>
                    <a:pt x="23" y="0"/>
                  </a:moveTo>
                  <a:lnTo>
                    <a:pt x="46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554280" y="3703680"/>
              <a:ext cx="74880" cy="9036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24" y="0"/>
                  </a:moveTo>
                  <a:lnTo>
                    <a:pt x="47" y="28"/>
                  </a:lnTo>
                  <a:lnTo>
                    <a:pt x="24" y="57"/>
                  </a:lnTo>
                  <a:lnTo>
                    <a:pt x="0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443400" y="2970360"/>
              <a:ext cx="74520" cy="9180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3" y="0"/>
                  </a:moveTo>
                  <a:lnTo>
                    <a:pt x="47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173480" y="4054320"/>
              <a:ext cx="74520" cy="9072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24" y="0"/>
                  </a:moveTo>
                  <a:lnTo>
                    <a:pt x="47" y="28"/>
                  </a:lnTo>
                  <a:lnTo>
                    <a:pt x="24" y="57"/>
                  </a:lnTo>
                  <a:lnTo>
                    <a:pt x="0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777000" y="4160880"/>
              <a:ext cx="74520" cy="9216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3" y="0"/>
                  </a:moveTo>
                  <a:lnTo>
                    <a:pt x="47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46720" y="3763800"/>
              <a:ext cx="74520" cy="9216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4" y="0"/>
                  </a:moveTo>
                  <a:lnTo>
                    <a:pt x="47" y="29"/>
                  </a:lnTo>
                  <a:lnTo>
                    <a:pt x="24" y="58"/>
                  </a:lnTo>
                  <a:lnTo>
                    <a:pt x="0" y="2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348080" y="3535200"/>
              <a:ext cx="74520" cy="9072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23" y="0"/>
                  </a:moveTo>
                  <a:lnTo>
                    <a:pt x="47" y="29"/>
                  </a:lnTo>
                  <a:lnTo>
                    <a:pt x="23" y="57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97360" y="3794040"/>
              <a:ext cx="74520" cy="9216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3" y="0"/>
                  </a:moveTo>
                  <a:lnTo>
                    <a:pt x="47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456000" y="3840120"/>
              <a:ext cx="74520" cy="9216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3" y="0"/>
                  </a:moveTo>
                  <a:lnTo>
                    <a:pt x="47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211640" y="3413160"/>
              <a:ext cx="74520" cy="9216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3" y="0"/>
                  </a:moveTo>
                  <a:lnTo>
                    <a:pt x="47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578640" y="3733920"/>
              <a:ext cx="74520" cy="9036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23" y="0"/>
                  </a:moveTo>
                  <a:lnTo>
                    <a:pt x="47" y="29"/>
                  </a:lnTo>
                  <a:lnTo>
                    <a:pt x="23" y="57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888240" y="4038480"/>
              <a:ext cx="74520" cy="9216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3" y="0"/>
                  </a:moveTo>
                  <a:lnTo>
                    <a:pt x="47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148520" y="3962520"/>
              <a:ext cx="74520" cy="9180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23" y="0"/>
                  </a:moveTo>
                  <a:lnTo>
                    <a:pt x="47" y="29"/>
                  </a:lnTo>
                  <a:lnTo>
                    <a:pt x="23" y="5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55960" y="3473280"/>
              <a:ext cx="5128920" cy="61128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910840" y="2573280"/>
              <a:ext cx="19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 = -568,57x + 159,8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217920" y="28018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353280" y="2778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355440" y="2801880"/>
              <a:ext cx="852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= 0,14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252520" y="51832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179800" y="46339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105640" y="408456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105640" y="351936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105640" y="297036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105640" y="2421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213920" y="5427720"/>
              <a:ext cx="375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0,0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304360" y="54277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,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369240" y="54277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,0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434480" y="54277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,0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488560" y="54277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,0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553800" y="54277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,0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20840" y="54277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,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16200000">
              <a:off x="849960" y="3915360"/>
              <a:ext cx="1363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irconfér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035600" y="5570640"/>
              <a:ext cx="2647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ux de croissance relat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FTH Vigueu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25ED-E660-4D86-AD9C-736D0D986E04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Corrélation note architecturale / croissance</a:t>
            </a:r>
            <a:br>
              <a:rPr sz="2400"/>
            </a:b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en fonction  de la période</a:t>
            </a:r>
            <a:endParaRPr b="1" lang="en-US" sz="2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33440" y="946080"/>
            <a:ext cx="82296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olution de la relation "croissance relative en épaisseur - note architecturale" en fonction de la péri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36360" y="1663560"/>
            <a:ext cx="5191200" cy="4303800"/>
            <a:chOff x="36360" y="1663560"/>
            <a:chExt cx="5191200" cy="4303800"/>
          </a:xfrm>
        </p:grpSpPr>
        <p:grpSp>
          <p:nvGrpSpPr>
            <p:cNvPr id="916" name=""/>
            <p:cNvGrpSpPr/>
            <p:nvPr/>
          </p:nvGrpSpPr>
          <p:grpSpPr>
            <a:xfrm>
              <a:off x="36360" y="1663560"/>
              <a:ext cx="5191200" cy="4303800"/>
              <a:chOff x="36360" y="1663560"/>
              <a:chExt cx="5191200" cy="4303800"/>
            </a:xfrm>
          </p:grpSpPr>
          <p:sp>
            <p:nvSpPr>
              <p:cNvPr id="917" name=""/>
              <p:cNvSpPr/>
              <p:nvPr/>
            </p:nvSpPr>
            <p:spPr>
              <a:xfrm>
                <a:off x="222120" y="1663560"/>
                <a:ext cx="5005440" cy="430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92000" y="4191120"/>
                <a:ext cx="4276800" cy="32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92000" y="3799080"/>
                <a:ext cx="4276800" cy="14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92000" y="3408480"/>
                <a:ext cx="4276800" cy="32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92000" y="3017880"/>
                <a:ext cx="4276800" cy="14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92000" y="2625840"/>
                <a:ext cx="4276800" cy="14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92000" y="2232000"/>
                <a:ext cx="4276800" cy="32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68320" y="3451320"/>
                <a:ext cx="106200" cy="11332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868320" y="3451320"/>
                <a:ext cx="106200" cy="1133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120680" y="3365640"/>
                <a:ext cx="106560" cy="121896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120680" y="3365640"/>
                <a:ext cx="106560" cy="1218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373040" y="3365640"/>
                <a:ext cx="98640" cy="121896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373040" y="3365640"/>
                <a:ext cx="98640" cy="1218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620720" y="3292560"/>
                <a:ext cx="103320" cy="12920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620720" y="3292560"/>
                <a:ext cx="103320" cy="1292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873080" y="3292560"/>
                <a:ext cx="103320" cy="12920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873080" y="3292560"/>
                <a:ext cx="103320" cy="1292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125800" y="3133800"/>
                <a:ext cx="106200" cy="14508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125800" y="3133800"/>
                <a:ext cx="106200" cy="1450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381040" y="3060720"/>
                <a:ext cx="95400" cy="1523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381040" y="3060720"/>
                <a:ext cx="95400" cy="1523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622600" y="3017880"/>
                <a:ext cx="106200" cy="15667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622600" y="3017880"/>
                <a:ext cx="106200" cy="1566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878200" y="3060720"/>
                <a:ext cx="106200" cy="1523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878200" y="3060720"/>
                <a:ext cx="106200" cy="1523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132000" y="2941560"/>
                <a:ext cx="106560" cy="16430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132000" y="2941560"/>
                <a:ext cx="106560" cy="1643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384360" y="2941560"/>
                <a:ext cx="96840" cy="16430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384360" y="2941560"/>
                <a:ext cx="96840" cy="1643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630600" y="2941560"/>
                <a:ext cx="104760" cy="16430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630600" y="2941560"/>
                <a:ext cx="104760" cy="1643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137120" y="2741760"/>
                <a:ext cx="106200" cy="18428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137120" y="2741760"/>
                <a:ext cx="106200" cy="1842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4633920" y="2625840"/>
                <a:ext cx="106200" cy="195876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4633920" y="2625840"/>
                <a:ext cx="106200" cy="1958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4889520" y="3451320"/>
                <a:ext cx="106200" cy="11332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889520" y="3451320"/>
                <a:ext cx="106200" cy="1133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92000" y="2232000"/>
                <a:ext cx="3240" cy="235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52400" y="4584600"/>
                <a:ext cx="396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52400" y="4191120"/>
                <a:ext cx="39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52400" y="3799080"/>
                <a:ext cx="39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52400" y="3408480"/>
                <a:ext cx="396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52400" y="3017880"/>
                <a:ext cx="39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52400" y="2625840"/>
                <a:ext cx="39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52400" y="2232000"/>
                <a:ext cx="396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92000" y="4584600"/>
                <a:ext cx="4276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792000" y="4584240"/>
                <a:ext cx="324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V="1">
                <a:off x="1047600" y="4584240"/>
                <a:ext cx="324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V="1">
                <a:off x="1303200" y="4584240"/>
                <a:ext cx="180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V="1">
                <a:off x="1544760" y="4584240"/>
                <a:ext cx="288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V="1">
                <a:off x="1800360" y="4584240"/>
                <a:ext cx="144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V="1">
                <a:off x="2052720" y="4584240"/>
                <a:ext cx="144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V="1">
                <a:off x="2305080" y="4584240"/>
                <a:ext cx="324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V="1">
                <a:off x="2549520" y="4584240"/>
                <a:ext cx="144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V="1">
                <a:off x="2805120" y="4584240"/>
                <a:ext cx="144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V="1">
                <a:off x="3057480" y="4584240"/>
                <a:ext cx="324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V="1">
                <a:off x="3311640" y="4584240"/>
                <a:ext cx="288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V="1">
                <a:off x="3554280" y="4584240"/>
                <a:ext cx="324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3808440" y="4584240"/>
                <a:ext cx="144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V="1">
                <a:off x="4064040" y="4584240"/>
                <a:ext cx="144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V="1">
                <a:off x="4316400" y="4584240"/>
                <a:ext cx="324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V="1">
                <a:off x="4560840" y="4584240"/>
                <a:ext cx="324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4816440" y="4584240"/>
                <a:ext cx="144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V="1">
                <a:off x="5068800" y="4584240"/>
                <a:ext cx="324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02280" y="450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76280" y="411804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,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76280" y="372600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,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76280" y="333216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,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76280" y="294336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,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76280" y="255276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,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76280" y="216072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,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rot="18960000">
                <a:off x="249840" y="506196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8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18960000">
                <a:off x="538200" y="49273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18960000">
                <a:off x="530640" y="479088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rot="18960000">
                <a:off x="746640" y="506196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8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rot="18960000">
                <a:off x="1035000" y="49273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rot="18960000">
                <a:off x="1027800" y="47905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18960000">
                <a:off x="1253160" y="506520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8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rot="18960000">
                <a:off x="1539720" y="4930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18960000">
                <a:off x="1532520" y="479376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rot="18960000">
                <a:off x="1753200" y="506520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18960000">
                <a:off x="2039760" y="4930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18960000">
                <a:off x="2032560" y="479376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18960000">
                <a:off x="2257920" y="506520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9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18960000">
                <a:off x="2546280" y="4930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18960000">
                <a:off x="2539080" y="479376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18960000">
                <a:off x="2767680" y="506520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9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18960000">
                <a:off x="3054240" y="4930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18960000">
                <a:off x="3047040" y="479376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18960000">
                <a:off x="3263040" y="506520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9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18960000">
                <a:off x="3551040" y="4930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18960000">
                <a:off x="3543840" y="479376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18960000">
                <a:off x="3772440" y="506520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9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18960000">
                <a:off x="4059360" y="4930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18960000">
                <a:off x="4051800" y="479376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rot="18960000">
                <a:off x="4269240" y="506520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18960000">
                <a:off x="4556160" y="4930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18960000">
                <a:off x="4548600" y="47941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022480" y="554364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140920" y="5543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é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232720" y="5543640"/>
                <a:ext cx="1675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riode de croiss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16200000">
                <a:off x="84600" y="335412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16200000">
                <a:off x="124200" y="32475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²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22120" y="1663560"/>
                <a:ext cx="5005440" cy="430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92000" y="4191120"/>
                <a:ext cx="4276800" cy="32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92000" y="3799080"/>
                <a:ext cx="4276800" cy="14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92000" y="3408480"/>
                <a:ext cx="4276800" cy="32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92000" y="3017880"/>
                <a:ext cx="4276800" cy="14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92000" y="2625840"/>
                <a:ext cx="4276800" cy="14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92000" y="2232000"/>
                <a:ext cx="4276800" cy="32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868320" y="3451320"/>
                <a:ext cx="106200" cy="11332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868320" y="3451320"/>
                <a:ext cx="106200" cy="1133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120680" y="3365640"/>
                <a:ext cx="106560" cy="121896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120680" y="3365640"/>
                <a:ext cx="106560" cy="1218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373040" y="3365640"/>
                <a:ext cx="98640" cy="121896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373040" y="3365640"/>
                <a:ext cx="98640" cy="1218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620720" y="3292560"/>
                <a:ext cx="103320" cy="12920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620720" y="3292560"/>
                <a:ext cx="103320" cy="1292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873080" y="3292560"/>
                <a:ext cx="103320" cy="12920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873080" y="3292560"/>
                <a:ext cx="103320" cy="1292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125800" y="3133800"/>
                <a:ext cx="106200" cy="14508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125800" y="3133800"/>
                <a:ext cx="106200" cy="1450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381040" y="3060720"/>
                <a:ext cx="95400" cy="1523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381040" y="3060720"/>
                <a:ext cx="95400" cy="1523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622600" y="3017880"/>
                <a:ext cx="106200" cy="15667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622600" y="3017880"/>
                <a:ext cx="106200" cy="1566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878200" y="3060720"/>
                <a:ext cx="106200" cy="1523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878200" y="3060720"/>
                <a:ext cx="106200" cy="1523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132000" y="2941560"/>
                <a:ext cx="106560" cy="16430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132000" y="2941560"/>
                <a:ext cx="106560" cy="1643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384360" y="2941560"/>
                <a:ext cx="96840" cy="16430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384360" y="2941560"/>
                <a:ext cx="96840" cy="1643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630600" y="2941560"/>
                <a:ext cx="104760" cy="16430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630600" y="2941560"/>
                <a:ext cx="104760" cy="1643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4137120" y="2741760"/>
                <a:ext cx="106200" cy="18428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137120" y="2741760"/>
                <a:ext cx="106200" cy="1842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633920" y="2625840"/>
                <a:ext cx="106200" cy="195876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633920" y="2625840"/>
                <a:ext cx="106200" cy="1958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889520" y="3451320"/>
                <a:ext cx="106200" cy="11332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889520" y="3451320"/>
                <a:ext cx="106200" cy="1133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92000" y="2232000"/>
                <a:ext cx="3240" cy="235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52400" y="4584600"/>
                <a:ext cx="396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52400" y="4191120"/>
                <a:ext cx="39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52400" y="3799080"/>
                <a:ext cx="39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52400" y="3408480"/>
                <a:ext cx="396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52400" y="3017880"/>
                <a:ext cx="39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52400" y="2625840"/>
                <a:ext cx="39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52400" y="2232000"/>
                <a:ext cx="396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92000" y="4584600"/>
                <a:ext cx="4276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V="1">
                <a:off x="792000" y="4584240"/>
                <a:ext cx="324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V="1">
                <a:off x="1047600" y="4584240"/>
                <a:ext cx="324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V="1">
                <a:off x="1303200" y="4584240"/>
                <a:ext cx="180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V="1">
                <a:off x="1544760" y="4584240"/>
                <a:ext cx="288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V="1">
                <a:off x="1800360" y="4584240"/>
                <a:ext cx="144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V="1">
                <a:off x="2052720" y="4584240"/>
                <a:ext cx="144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V="1">
                <a:off x="2305080" y="4584240"/>
                <a:ext cx="324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V="1">
                <a:off x="2549520" y="4584240"/>
                <a:ext cx="144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V="1">
                <a:off x="2805120" y="4584240"/>
                <a:ext cx="144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V="1">
                <a:off x="3057480" y="4584240"/>
                <a:ext cx="324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V="1">
                <a:off x="3311640" y="4584240"/>
                <a:ext cx="288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V="1">
                <a:off x="3554280" y="4584240"/>
                <a:ext cx="324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V="1">
                <a:off x="3808440" y="4584240"/>
                <a:ext cx="144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V="1">
                <a:off x="4064040" y="4584240"/>
                <a:ext cx="144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V="1">
                <a:off x="4316400" y="4584240"/>
                <a:ext cx="324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V="1">
                <a:off x="4560840" y="4584240"/>
                <a:ext cx="324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V="1">
                <a:off x="4816440" y="4584240"/>
                <a:ext cx="144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V="1">
                <a:off x="5068800" y="4584240"/>
                <a:ext cx="3240" cy="3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02280" y="450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476280" y="411804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,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476280" y="372600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,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76280" y="333216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,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476280" y="294336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,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76280" y="255276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,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76280" y="216072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,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rot="18960000">
                <a:off x="249840" y="506196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8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rot="18960000">
                <a:off x="538200" y="49273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rot="18960000">
                <a:off x="530640" y="479088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18960000">
                <a:off x="746640" y="506196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8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rot="18960000">
                <a:off x="1035000" y="49273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18960000">
                <a:off x="1027800" y="47905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rot="18960000">
                <a:off x="1253160" y="506520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8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rot="18960000">
                <a:off x="1539720" y="4930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rot="18960000">
                <a:off x="1532520" y="479376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rot="18960000">
                <a:off x="1753200" y="506520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rot="18960000">
                <a:off x="2039760" y="4930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rot="18960000">
                <a:off x="2032560" y="479376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rot="18960000">
                <a:off x="2257920" y="506520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9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18960000">
                <a:off x="2546280" y="4930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rot="18960000">
                <a:off x="2539080" y="479376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rot="18960000">
                <a:off x="2767680" y="506520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9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rot="18960000">
                <a:off x="3054240" y="4930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rot="18960000">
                <a:off x="3047040" y="479376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rot="18960000">
                <a:off x="3263040" y="506520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9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rot="18960000">
                <a:off x="3551040" y="4930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rot="18960000">
                <a:off x="3543840" y="479376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18960000">
                <a:off x="3772440" y="506520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9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rot="18960000">
                <a:off x="4059360" y="4930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rot="18960000">
                <a:off x="4051800" y="479376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rot="18960000">
                <a:off x="4269240" y="506520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rot="18960000">
                <a:off x="4556160" y="4930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7" name=""/>
            <p:cNvSpPr/>
            <p:nvPr/>
          </p:nvSpPr>
          <p:spPr>
            <a:xfrm rot="18960000">
              <a:off x="4548600" y="47941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022480" y="55436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140920" y="5543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232720" y="5543640"/>
              <a:ext cx="1675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riode de croiss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 rot="16200000">
              <a:off x="84600" y="33541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rot="16200000">
              <a:off x="124200" y="32475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92000" y="4191120"/>
              <a:ext cx="4276800" cy="324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92000" y="3799080"/>
              <a:ext cx="4276800" cy="144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92000" y="3408480"/>
              <a:ext cx="4276800" cy="324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92000" y="3017880"/>
              <a:ext cx="4276800" cy="144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92000" y="2625840"/>
              <a:ext cx="4276800" cy="144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92000" y="2232000"/>
              <a:ext cx="4276800" cy="324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68320" y="3451320"/>
              <a:ext cx="106200" cy="1133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68320" y="3451320"/>
              <a:ext cx="106200" cy="1133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120680" y="3365640"/>
              <a:ext cx="106560" cy="12189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120680" y="3365640"/>
              <a:ext cx="106560" cy="121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373040" y="3365640"/>
              <a:ext cx="98640" cy="12189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373040" y="3365640"/>
              <a:ext cx="98640" cy="121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620720" y="3292560"/>
              <a:ext cx="103320" cy="12920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620720" y="3292560"/>
              <a:ext cx="103320" cy="1292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873080" y="3292560"/>
              <a:ext cx="103320" cy="12920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873080" y="3292560"/>
              <a:ext cx="103320" cy="1292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125800" y="3133800"/>
              <a:ext cx="106200" cy="14508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125800" y="3133800"/>
              <a:ext cx="106200" cy="1450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381040" y="3060720"/>
              <a:ext cx="95400" cy="1523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381040" y="3060720"/>
              <a:ext cx="95400" cy="1523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622600" y="3017880"/>
              <a:ext cx="106200" cy="1566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622600" y="3017880"/>
              <a:ext cx="106200" cy="1566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878200" y="3060720"/>
              <a:ext cx="106200" cy="1523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878200" y="3060720"/>
              <a:ext cx="106200" cy="1523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132000" y="2941560"/>
              <a:ext cx="106560" cy="16430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132000" y="2941560"/>
              <a:ext cx="106560" cy="1643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384360" y="2941560"/>
              <a:ext cx="96840" cy="16430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384360" y="2941560"/>
              <a:ext cx="96840" cy="1643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630600" y="2941560"/>
              <a:ext cx="104760" cy="16430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630600" y="2941560"/>
              <a:ext cx="104760" cy="1643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137120" y="2741760"/>
              <a:ext cx="106200" cy="18428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137120" y="2741760"/>
              <a:ext cx="106200" cy="1842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633920" y="2625840"/>
              <a:ext cx="106200" cy="19587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633920" y="2625840"/>
              <a:ext cx="106200" cy="195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889520" y="3451320"/>
              <a:ext cx="106200" cy="1133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889520" y="3451320"/>
              <a:ext cx="106200" cy="1133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92000" y="2232000"/>
              <a:ext cx="3240" cy="235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52400" y="4584600"/>
              <a:ext cx="39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52400" y="4191120"/>
              <a:ext cx="39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52400" y="3799080"/>
              <a:ext cx="39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52400" y="3408480"/>
              <a:ext cx="39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52400" y="3017880"/>
              <a:ext cx="39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52400" y="2625840"/>
              <a:ext cx="39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52400" y="2232000"/>
              <a:ext cx="39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92000" y="4584600"/>
              <a:ext cx="4276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792000" y="4584240"/>
              <a:ext cx="3240" cy="3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1047600" y="4584240"/>
              <a:ext cx="3240" cy="3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1303200" y="4584240"/>
              <a:ext cx="1800" cy="3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1544760" y="4584240"/>
              <a:ext cx="2880" cy="3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1800360" y="4584240"/>
              <a:ext cx="1440" cy="3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2052720" y="4584240"/>
              <a:ext cx="1440" cy="3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2305080" y="4584240"/>
              <a:ext cx="3240" cy="3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2549520" y="4584240"/>
              <a:ext cx="1440" cy="3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2805120" y="4584240"/>
              <a:ext cx="1440" cy="3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3057480" y="4584240"/>
              <a:ext cx="3240" cy="3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3311640" y="4584240"/>
              <a:ext cx="2880" cy="3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3554280" y="4584240"/>
              <a:ext cx="3240" cy="3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3808440" y="4584240"/>
              <a:ext cx="1440" cy="3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4064040" y="4584240"/>
              <a:ext cx="1440" cy="3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V="1">
              <a:off x="4316400" y="4584240"/>
              <a:ext cx="3240" cy="3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4560840" y="4584240"/>
              <a:ext cx="3240" cy="3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4816440" y="4584240"/>
              <a:ext cx="1440" cy="3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5068800" y="4584240"/>
              <a:ext cx="3240" cy="3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02280" y="450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76280" y="41180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,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76280" y="37260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,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76280" y="33321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,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76280" y="2943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,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76280" y="25527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,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76280" y="21607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,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 rot="18960000">
              <a:off x="249840" y="50619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8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rot="18960000">
              <a:off x="538200" y="4927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 rot="18960000">
              <a:off x="530640" y="47908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 rot="18960000">
              <a:off x="746640" y="50619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8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18960000">
              <a:off x="1035000" y="4927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 rot="18960000">
              <a:off x="1027800" y="47905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 rot="18960000">
              <a:off x="1253160" y="50652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 rot="18960000">
              <a:off x="1539720" y="4930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 rot="18960000">
              <a:off x="1532520" y="47937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18960000">
              <a:off x="1753200" y="50652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 rot="18960000">
              <a:off x="2039760" y="4930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 rot="18960000">
              <a:off x="2032560" y="47937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18960000">
              <a:off x="2257920" y="50652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 rot="18960000">
              <a:off x="2546280" y="4930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 rot="18960000">
              <a:off x="2539080" y="47937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 rot="18960000">
              <a:off x="2767680" y="50652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 rot="18960000">
              <a:off x="3054240" y="4930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 rot="18960000">
              <a:off x="3047040" y="47937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 rot="18960000">
              <a:off x="3263040" y="50652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18960000">
              <a:off x="3551040" y="4930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 rot="18960000">
              <a:off x="3543840" y="47937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 rot="18960000">
              <a:off x="3772440" y="50652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 rot="18960000">
              <a:off x="4059360" y="4930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 rot="18960000">
              <a:off x="4051800" y="47937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18960000">
              <a:off x="4269240" y="50652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 rot="18960000">
              <a:off x="4556160" y="4930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 rot="18960000">
              <a:off x="4548600" y="47941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022480" y="55436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140920" y="5543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232720" y="5543640"/>
              <a:ext cx="1675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riode de croiss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16200000">
              <a:off x="84600" y="33541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 rot="16200000">
              <a:off x="124200" y="32475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5365800" y="1682640"/>
            <a:ext cx="3558960" cy="4208760"/>
          </a:xfrm>
          <a:prstGeom prst="rect">
            <a:avLst/>
          </a:prstGeom>
          <a:solidFill>
            <a:srgbClr val="ffff99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minution du caractère explicatif de l’architecture pour une longue période de croissance considérée (limite de la méthode quand à l’histoire de la croiss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minution du caractère explicatif de l’architecture pour une très courte période de croissance considé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roissance faible = err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mesure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1173240" y="2590920"/>
            <a:ext cx="1676160" cy="4111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692720" y="2414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4740120" y="2316240"/>
            <a:ext cx="290520" cy="6858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4788360" y="1836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FTH Vigue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080E-015E-45CC-87BF-0D1B750525F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Diagnostic global et croissance</a:t>
            </a: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pic>
        <p:nvPicPr>
          <p:cNvPr id="1231" name="" descr=""/>
          <p:cNvPicPr/>
          <p:nvPr/>
        </p:nvPicPr>
        <p:blipFill>
          <a:blip r:embed="rId1"/>
          <a:stretch/>
        </p:blipFill>
        <p:spPr>
          <a:xfrm>
            <a:off x="844560" y="1122480"/>
            <a:ext cx="4703760" cy="425124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1549440" y="5392800"/>
            <a:ext cx="31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nostic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rot="16200000">
            <a:off x="-1698120" y="307476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issance relative 2003-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222200" y="5808600"/>
            <a:ext cx="3694320" cy="35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Test de Kruskall-Wallis : p &lt; 0,001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4213080" y="1254240"/>
            <a:ext cx="0" cy="367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398840" y="2232000"/>
            <a:ext cx="81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rbres du pas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254320" y="1263600"/>
            <a:ext cx="0" cy="367524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3170160" y="1593720"/>
            <a:ext cx="96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Arial"/>
              </a:rPr>
              <a:t>arbres du pré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580000" y="2908440"/>
            <a:ext cx="3397320" cy="764280"/>
          </a:xfrm>
          <a:prstGeom prst="rect">
            <a:avLst/>
          </a:prstGeom>
          <a:solidFill>
            <a:srgbClr val="ffff99">
              <a:alpha val="43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diagnostic global est corrélé à la croiss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FTH Vigue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ACFB-A7A2-4240-B7F4-C16D2769767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99">
              <a:alpha val="2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Comic Sans MS"/>
                <a:ea typeface="Courier New"/>
              </a:rPr>
              <a:t>Amélioration du diagnostic et perspectives</a:t>
            </a: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FTH Vigue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6E65-BFB5-434C-AEA3-87432024E03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Réduction de critères</a:t>
            </a: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pic>
        <p:nvPicPr>
          <p:cNvPr id="1243" name="" descr=""/>
          <p:cNvPicPr/>
          <p:nvPr/>
        </p:nvPicPr>
        <p:blipFill>
          <a:blip r:embed="rId1"/>
          <a:stretch/>
        </p:blipFill>
        <p:spPr>
          <a:xfrm>
            <a:off x="477720" y="1622520"/>
            <a:ext cx="8229600" cy="311292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0" y="11588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rice de corrélation entre critères, note archi, croissance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01840" y="4797360"/>
            <a:ext cx="4767120" cy="1465560"/>
          </a:xfrm>
          <a:prstGeom prst="rect">
            <a:avLst/>
          </a:prstGeom>
          <a:solidFill>
            <a:srgbClr val="ffff99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ression de critères secondair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direction du tro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ymétrie de la cour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traumatis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li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FTH Vigue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6BE5-F0E3-4624-A14D-3F946E437A2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Simplification du diagnostic</a:t>
            </a: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1438200" y="1959120"/>
            <a:ext cx="1334520" cy="2655720"/>
            <a:chOff x="1438200" y="1959120"/>
            <a:chExt cx="1334520" cy="2655720"/>
          </a:xfrm>
        </p:grpSpPr>
        <p:sp>
          <p:nvSpPr>
            <p:cNvPr id="1248" name=""/>
            <p:cNvSpPr/>
            <p:nvPr/>
          </p:nvSpPr>
          <p:spPr>
            <a:xfrm>
              <a:off x="1444680" y="2538360"/>
              <a:ext cx="15228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596960" y="2608200"/>
              <a:ext cx="12708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1724040" y="2633400"/>
              <a:ext cx="203040" cy="29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1793880" y="2754360"/>
              <a:ext cx="203040" cy="44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793880" y="3205080"/>
              <a:ext cx="0" cy="139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V="1">
              <a:off x="1552680" y="3154320"/>
              <a:ext cx="19080" cy="141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438200" y="2538360"/>
              <a:ext cx="133560" cy="64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546200" y="4557600"/>
              <a:ext cx="2667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 rot="1236000">
              <a:off x="1704600" y="2106720"/>
              <a:ext cx="971640" cy="723960"/>
            </a:xfrm>
            <a:prstGeom prst="ellipse">
              <a:avLst/>
            </a:prstGeom>
            <a:solidFill>
              <a:srgbClr val="ccf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"/>
          <p:cNvGrpSpPr/>
          <p:nvPr/>
        </p:nvGrpSpPr>
        <p:grpSpPr>
          <a:xfrm>
            <a:off x="6800760" y="2005200"/>
            <a:ext cx="1294560" cy="2460600"/>
            <a:chOff x="6800760" y="2005200"/>
            <a:chExt cx="1294560" cy="2460600"/>
          </a:xfrm>
        </p:grpSpPr>
        <p:sp>
          <p:nvSpPr>
            <p:cNvPr id="1258" name=""/>
            <p:cNvSpPr/>
            <p:nvPr/>
          </p:nvSpPr>
          <p:spPr>
            <a:xfrm>
              <a:off x="6807240" y="2389320"/>
              <a:ext cx="120600" cy="4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156440" y="3056040"/>
              <a:ext cx="0" cy="1396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6915240" y="3004920"/>
              <a:ext cx="19080" cy="141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800760" y="2389320"/>
              <a:ext cx="133560" cy="64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08760" y="4408560"/>
              <a:ext cx="2667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934320" y="2440080"/>
              <a:ext cx="126720" cy="44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7061040" y="2509920"/>
              <a:ext cx="8892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7194240" y="2535120"/>
              <a:ext cx="19080" cy="36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7162920" y="2788920"/>
              <a:ext cx="43164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7188120" y="2738160"/>
              <a:ext cx="349200" cy="15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rot="1236000">
              <a:off x="6972480" y="2106360"/>
              <a:ext cx="671400" cy="522360"/>
            </a:xfrm>
            <a:prstGeom prst="ellipse">
              <a:avLst/>
            </a:prstGeom>
            <a:solidFill>
              <a:srgbClr val="ccf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1236000">
              <a:off x="7353360" y="2430000"/>
              <a:ext cx="671400" cy="522360"/>
            </a:xfrm>
            <a:prstGeom prst="ellipse">
              <a:avLst/>
            </a:prstGeom>
            <a:solidFill>
              <a:srgbClr val="ccf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0" name=""/>
          <p:cNvSpPr/>
          <p:nvPr/>
        </p:nvSpPr>
        <p:spPr>
          <a:xfrm>
            <a:off x="906480" y="474660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rtalité charp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951000" y="474660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Σ rejets &lt; 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6303960" y="4746600"/>
            <a:ext cx="21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rtalité charp &lt;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1514520" y="5308560"/>
            <a:ext cx="420480" cy="36036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867360" y="5308560"/>
            <a:ext cx="420840" cy="36036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437000" y="5308560"/>
            <a:ext cx="420840" cy="36036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977760" y="5853240"/>
            <a:ext cx="18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agnostic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608880" y="5853240"/>
            <a:ext cx="12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3852720" y="5853240"/>
            <a:ext cx="18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agnostic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3956400" y="2283480"/>
            <a:ext cx="1018800" cy="2090160"/>
            <a:chOff x="3956400" y="2283480"/>
            <a:chExt cx="1018800" cy="2090160"/>
          </a:xfrm>
        </p:grpSpPr>
        <p:sp>
          <p:nvSpPr>
            <p:cNvPr id="1280" name=""/>
            <p:cNvSpPr/>
            <p:nvPr/>
          </p:nvSpPr>
          <p:spPr>
            <a:xfrm>
              <a:off x="4168800" y="2513160"/>
              <a:ext cx="6336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232160" y="2563920"/>
              <a:ext cx="25560" cy="52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257720" y="3097080"/>
              <a:ext cx="95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V="1">
              <a:off x="4352760" y="2563920"/>
              <a:ext cx="12960" cy="52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V="1">
              <a:off x="4365720" y="2538000"/>
              <a:ext cx="56880" cy="25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422600" y="2544840"/>
              <a:ext cx="0" cy="179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175280" y="2513160"/>
              <a:ext cx="12600" cy="18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187880" y="4329000"/>
              <a:ext cx="234720" cy="25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721400" y="2532240"/>
              <a:ext cx="6336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784760" y="2583000"/>
              <a:ext cx="25200" cy="52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43520" y="3103560"/>
              <a:ext cx="31680" cy="125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727520" y="2532240"/>
              <a:ext cx="12600" cy="18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740120" y="4348080"/>
              <a:ext cx="235080" cy="25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809960" y="3090960"/>
              <a:ext cx="127080" cy="2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rot="1355400">
              <a:off x="4208400" y="2376360"/>
              <a:ext cx="420840" cy="252720"/>
            </a:xfrm>
            <a:prstGeom prst="ellipse">
              <a:avLst/>
            </a:prstGeom>
            <a:solidFill>
              <a:srgbClr val="ccf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532400" y="2363760"/>
              <a:ext cx="420480" cy="252360"/>
            </a:xfrm>
            <a:prstGeom prst="ellipse">
              <a:avLst/>
            </a:prstGeom>
            <a:solidFill>
              <a:srgbClr val="ccf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 rot="20795400">
              <a:off x="3979800" y="2328480"/>
              <a:ext cx="420840" cy="252360"/>
            </a:xfrm>
            <a:prstGeom prst="ellipse">
              <a:avLst/>
            </a:prstGeom>
            <a:solidFill>
              <a:srgbClr val="ccf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78480" y="1265400"/>
            <a:ext cx="9018360" cy="368280"/>
          </a:xfrm>
          <a:prstGeom prst="rect">
            <a:avLst/>
          </a:prstGeom>
          <a:solidFill>
            <a:srgbClr val="ffff99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immédiat pour les charpentières à moitié mortes et pour les arbres décap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FTH Vigue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161B-9D6C-4E5A-9F43-998F196FEC8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Vers un diagnostic expert...</a:t>
            </a: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5408640" y="3516480"/>
            <a:ext cx="3527280" cy="19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... ne retenant plus que le diagnostic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0" name=""/>
          <p:cNvGrpSpPr/>
          <p:nvPr/>
        </p:nvGrpSpPr>
        <p:grpSpPr>
          <a:xfrm>
            <a:off x="-190080" y="1160640"/>
            <a:ext cx="5363280" cy="4409640"/>
            <a:chOff x="-190080" y="1160640"/>
            <a:chExt cx="5363280" cy="4409640"/>
          </a:xfrm>
        </p:grpSpPr>
        <p:pic>
          <p:nvPicPr>
            <p:cNvPr id="1301" name="" descr=""/>
            <p:cNvPicPr/>
            <p:nvPr/>
          </p:nvPicPr>
          <p:blipFill>
            <a:blip r:embed="rId1"/>
            <a:stretch/>
          </p:blipFill>
          <p:spPr>
            <a:xfrm>
              <a:off x="630000" y="1160640"/>
              <a:ext cx="4543200" cy="40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2" name=""/>
            <p:cNvSpPr/>
            <p:nvPr/>
          </p:nvSpPr>
          <p:spPr>
            <a:xfrm rot="16200000">
              <a:off x="-235800" y="1949040"/>
              <a:ext cx="39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rot="16200000">
              <a:off x="-912600" y="2623680"/>
              <a:ext cx="259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te architectur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025360" y="5202000"/>
              <a:ext cx="259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agnostic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1044720" y="5778360"/>
            <a:ext cx="3693960" cy="35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Test de Kruskall-Wallis : p &lt; 0,001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300640" y="1190520"/>
            <a:ext cx="3397320" cy="1434600"/>
          </a:xfrm>
          <a:prstGeom prst="rect">
            <a:avLst/>
          </a:prstGeom>
          <a:solidFill>
            <a:srgbClr val="ffff99">
              <a:alpha val="43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diagnostic global est corrélé à la note architecturale (coeff. de corrélation de 50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FTH Vigue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F929-A587-4DAD-8B30-A12746C5C5B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7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99">
              <a:alpha val="2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Comic Sans MS"/>
                <a:ea typeface="Courier New"/>
              </a:rPr>
              <a:t>Conclusion</a:t>
            </a: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FTH Vigue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88B0-C79C-4F18-AE42-1CCA9284678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Objectifs généraux</a:t>
            </a: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quer le stade de développement des arbr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bres d’aven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bres du pré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bres du pass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er les transitions entre les divers états (en particulier prés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ablir un lien avec la croissance en épaiss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ser l’outil de diagno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FTH Vigue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F1FD-DA06-42EB-B3F6-2095350437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outil est bien adapté à la forêt tropicale hu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éthode est transmissible et reproduc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 améliorations peuvent encore être apportées : pondération et simplification d’autres critè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diagnostic expert pourra à terme remplacer la note architectu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 corrélations peuvent aussi être faites avec les caractéristiques du milieu (topographie, pédolog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278280" y="5099040"/>
            <a:ext cx="8666280" cy="459720"/>
          </a:xfrm>
          <a:prstGeom prst="rect">
            <a:avLst/>
          </a:prstGeom>
          <a:solidFill>
            <a:srgbClr val="ffff99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simplicité de mise en œuvre fait de cet outil un outil d’aven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FTH Vigue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6531-BF85-4990-9A30-62387CFE9D7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Objectifs de l’étude</a:t>
            </a: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97440" y="2009880"/>
            <a:ext cx="1792440" cy="10112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9320" y="1971720"/>
            <a:ext cx="1792440" cy="10112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87640" y="4078440"/>
            <a:ext cx="1792440" cy="10112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1160" y="160164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allé, Oldeman &amp; Tomlinson (197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26240" y="1563840"/>
            <a:ext cx="1636560" cy="444240"/>
          </a:xfrm>
          <a:prstGeom prst="wedgeRectCallout">
            <a:avLst>
              <a:gd name="adj1" fmla="val -49708"/>
              <a:gd name="adj2" fmla="val 1378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94720" y="1647720"/>
            <a:ext cx="14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roductibil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80720" y="2089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911320" y="2478240"/>
            <a:ext cx="1757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00840" y="2081160"/>
            <a:ext cx="12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21520" y="1944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548240" y="3200400"/>
            <a:ext cx="985680" cy="81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38080" y="32367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00480" y="255096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éli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1520" y="2486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00080" y="3103560"/>
            <a:ext cx="123984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31520" y="32367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26280" y="331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59800" y="5423040"/>
            <a:ext cx="437328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diagnostic global est-il l’outil d’aveni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39480" y="4462560"/>
            <a:ext cx="180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ositif PARAC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FTH Vigue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FFA6-06F1-43D3-97E2-88A99BA3A3C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Comment ?</a:t>
            </a: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4222800" cy="32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donne un diagnostic pour chaque arbre en le notant suivant des critères architectur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de et stat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ères génér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ères de mort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ères de transpa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915080" y="2360520"/>
            <a:ext cx="3632040" cy="27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FTH Vigue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D6A8-4241-4054-868E-F078A5E6C5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Mise en œuvre sur le terrain</a:t>
            </a: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e 1 : formation aux critères de la cl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 de 11 arbres avec le form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e 2 : reproductibilité de la méth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 de 51 arbres par 3 équipes d’observ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e 3 : acquisition de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 de 75 arbres par 1 équipe d’observ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FTH Vigue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9241-EA8E-46D7-A446-B6D71EFBC7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>
            <a:alphaModFix amt="28000"/>
          </a:blip>
          <a:stretch/>
        </p:blipFill>
        <p:spPr>
          <a:xfrm>
            <a:off x="0" y="-3348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99">
              <a:alpha val="2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Comic Sans MS"/>
                <a:ea typeface="Courier New"/>
              </a:rPr>
              <a:t>Principes de la notation architecturale</a:t>
            </a: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FTH Vigue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503A-2627-4FF2-A07A-D66ECAAED8A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Principe de la notation architecturale</a:t>
            </a: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22280"/>
            <a:ext cx="83502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tade, statut social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éléments d’architecture,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Hallé et al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ritères globaux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: direction tronc, symétrie, traumatismes, li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ritères de mortali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: tronc, charpentières, branches, rameaux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éléments d’architecture, protocole « DEPEFEU »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DSF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ritères de transparenc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: échancrures, fenêtres, cimettes, transparence global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protocole « DEPEFEU »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DSF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33960" y="5557680"/>
            <a:ext cx="477108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s’intéresse ici à l’ensemble de la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FTH Vigue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D69B-D899-48FF-AD79-E1BA054DF30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Stade</a:t>
            </a:r>
            <a:endParaRPr b="1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2240" y="1479600"/>
            <a:ext cx="4495680" cy="3591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8680" y="5057640"/>
            <a:ext cx="4527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31800" y="4352760"/>
            <a:ext cx="358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5800" y="4352760"/>
            <a:ext cx="57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20080" y="4352760"/>
            <a:ext cx="357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46680" y="2365200"/>
            <a:ext cx="40813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2100" spc="-1" strike="noStrike">
                <a:solidFill>
                  <a:srgbClr val="ff3300"/>
                </a:solidFill>
                <a:latin typeface="Arial"/>
              </a:rPr>
              <a:t> 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as de charpentiè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ff3300"/>
                </a:solidFill>
                <a:latin typeface="Arial"/>
              </a:rPr>
              <a:t> 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arpentières en for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100" spc="-1" strike="noStrike">
                <a:solidFill>
                  <a:srgbClr val="ff3300"/>
                </a:solidFill>
                <a:latin typeface="Arial"/>
              </a:rPr>
              <a:t> 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arpentières formée      (arbre réitéré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FTH Vigue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F6A2-B82A-4D16-ACAE-91EB81358ED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r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3:55:43Z</dcterms:created>
  <dc:creator>molino</dc:creator>
  <dc:description/>
  <dc:language>en-US</dc:language>
  <cp:lastModifiedBy>Eric Marcon</cp:lastModifiedBy>
  <dcterms:modified xsi:type="dcterms:W3CDTF">2005-10-05T21:33:02Z</dcterms:modified>
  <cp:revision>1047</cp:revision>
  <dc:subject/>
  <dc:title>Diapositive 1</dc:title>
</cp:coreProperties>
</file>