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DB6-88E1-44F2-B2B8-BD8FEEB4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387-C725-4BE1-B0AB-F9AA73E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BB5-4765-48E6-AF1B-550F64401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C648-E5D7-44D5-A670-0FB8B700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3830-A7B7-40F0-89D1-C84C46C7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51E-F13E-4AEC-A1DD-1CCA2A67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E5A-9C4C-4A13-9213-7591A1D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49E8-BA42-4855-8D63-3E063A09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56C-C377-4063-89A0-EF287C14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54E-535D-4975-9EC1-3AE870C7D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90D8-BCD4-454D-B063-15C8E99B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C4DD-88E0-4E6D-B8FD-2E17A602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7259-29E0-4E93-9280-2B11EA8475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858000" y="1981080"/>
            <a:ext cx="1904760" cy="4419360"/>
            <a:chOff x="6858000" y="1981080"/>
            <a:chExt cx="1904760" cy="4419360"/>
          </a:xfrm>
        </p:grpSpPr>
        <p:pic>
          <p:nvPicPr>
            <p:cNvPr id="42" name="" descr=""/>
            <p:cNvPicPr/>
            <p:nvPr/>
          </p:nvPicPr>
          <p:blipFill>
            <a:blip r:embed="rId1"/>
            <a:srcRect l="52846" t="55018" r="29744" b="286"/>
            <a:stretch/>
          </p:blipFill>
          <p:spPr>
            <a:xfrm>
              <a:off x="6944040" y="1981080"/>
              <a:ext cx="1818720" cy="433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858000" y="5184360"/>
              <a:ext cx="823320" cy="121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80880" y="533520"/>
            <a:ext cx="2612880" cy="5835600"/>
            <a:chOff x="380880" y="533520"/>
            <a:chExt cx="2612880" cy="58356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rcRect l="53126" t="2084" r="31941" b="51412"/>
            <a:stretch/>
          </p:blipFill>
          <p:spPr>
            <a:xfrm>
              <a:off x="457200" y="533520"/>
              <a:ext cx="2536560" cy="57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380880" y="4768920"/>
              <a:ext cx="1219320" cy="160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438280" y="609120"/>
            <a:ext cx="47246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Croissance diamétrique d’</a:t>
            </a:r>
            <a:r>
              <a:rPr b="1" i="1" lang="fr-FR" sz="2800" spc="-1" strike="noStrike">
                <a:solidFill>
                  <a:srgbClr val="006600"/>
                </a:solidFill>
                <a:latin typeface="Times New Roman"/>
              </a:rPr>
              <a:t>Eschweilera coriacea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 (mahot noir) et d'</a:t>
            </a:r>
            <a:r>
              <a:rPr b="1" i="1" lang="fr-FR" sz="2800" spc="-1" strike="noStrike">
                <a:solidFill>
                  <a:srgbClr val="006600"/>
                </a:solidFill>
                <a:latin typeface="Times New Roman"/>
              </a:rPr>
              <a:t>Eperua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fr-FR" sz="2800" spc="-1" strike="noStrike">
                <a:solidFill>
                  <a:srgbClr val="006600"/>
                </a:solidFill>
                <a:latin typeface="Times New Roman"/>
              </a:rPr>
              <a:t>falcata</a:t>
            </a: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 (wapa), </a:t>
            </a:r>
            <a:br>
              <a:rPr sz="2800"/>
            </a:br>
            <a:r>
              <a:rPr b="1" lang="fr-FR" sz="2800" spc="-1" strike="noStrike">
                <a:solidFill>
                  <a:srgbClr val="006600"/>
                </a:solidFill>
                <a:latin typeface="Times New Roman"/>
              </a:rPr>
              <a:t>en lien avec le développement du houppier et le milie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4038480"/>
            <a:ext cx="693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rcice FTH 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adré par Bruno FER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Times New Roman"/>
              </a:rPr>
              <a:t>Laboratoire d'Etude des </a:t>
            </a:r>
            <a:br>
              <a:rPr sz="2400"/>
            </a:br>
            <a:r>
              <a:rPr b="0" lang="fr-FR" sz="2400" spc="-1" strike="noStrike">
                <a:solidFill>
                  <a:srgbClr val="006600"/>
                </a:solidFill>
                <a:latin typeface="Times New Roman"/>
              </a:rPr>
              <a:t>Ressources Forêt-Bois</a:t>
            </a:r>
            <a:br>
              <a:rPr sz="2400"/>
            </a:br>
            <a:r>
              <a:rPr b="0" lang="fr-FR" sz="2400" spc="-1" strike="noStrike">
                <a:solidFill>
                  <a:srgbClr val="006600"/>
                </a:solidFill>
                <a:latin typeface="Times New Roman"/>
              </a:rPr>
              <a:t>(UMR INRA-ENGREF à Na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58920" y="3048120"/>
            <a:ext cx="1371240" cy="3200040"/>
            <a:chOff x="358920" y="3048120"/>
            <a:chExt cx="1371240" cy="3200040"/>
          </a:xfrm>
        </p:grpSpPr>
        <p:pic>
          <p:nvPicPr>
            <p:cNvPr id="50" name="" descr=""/>
            <p:cNvPicPr/>
            <p:nvPr/>
          </p:nvPicPr>
          <p:blipFill>
            <a:blip r:embed="rId3"/>
            <a:srcRect l="6642" t="3417" r="80913" b="51223"/>
            <a:stretch/>
          </p:blipFill>
          <p:spPr>
            <a:xfrm>
              <a:off x="444240" y="3048120"/>
              <a:ext cx="1285920" cy="314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58920" y="5339160"/>
              <a:ext cx="414360" cy="90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82800" y="6477120"/>
            <a:ext cx="220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Times New Roman"/>
              </a:rPr>
              <a:t>Dessins de Mario Charriè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828800" y="53352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alendrier du terr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43440" y="2057400"/>
            <a:ext cx="5741640" cy="610200"/>
            <a:chOff x="2143440" y="2057400"/>
            <a:chExt cx="5741640" cy="610200"/>
          </a:xfrm>
        </p:grpSpPr>
        <p:sp>
          <p:nvSpPr>
            <p:cNvPr id="122" name=""/>
            <p:cNvSpPr/>
            <p:nvPr/>
          </p:nvSpPr>
          <p:spPr>
            <a:xfrm>
              <a:off x="2143440" y="2057400"/>
              <a:ext cx="19270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ercredi 13 (a.m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87400" y="2057400"/>
              <a:ext cx="339768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Trajet de Kourou à St Lauren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Installation au carbet de l’AD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991080" y="2805120"/>
            <a:ext cx="6604200" cy="945000"/>
            <a:chOff x="991080" y="2805120"/>
            <a:chExt cx="6604200" cy="945000"/>
          </a:xfrm>
        </p:grpSpPr>
        <p:grpSp>
          <p:nvGrpSpPr>
            <p:cNvPr id="125" name=""/>
            <p:cNvGrpSpPr/>
            <p:nvPr/>
          </p:nvGrpSpPr>
          <p:grpSpPr>
            <a:xfrm>
              <a:off x="2170440" y="2805120"/>
              <a:ext cx="5267160" cy="305280"/>
              <a:chOff x="2170440" y="2805120"/>
              <a:chExt cx="5267160" cy="305280"/>
            </a:xfrm>
          </p:grpSpPr>
          <p:sp>
            <p:nvSpPr>
              <p:cNvPr id="126" name=""/>
              <p:cNvSpPr/>
              <p:nvPr/>
            </p:nvSpPr>
            <p:spPr>
              <a:xfrm>
                <a:off x="2170440" y="2805120"/>
                <a:ext cx="8586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Jeudi 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89560" y="2805120"/>
                <a:ext cx="2948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Prise de données au BAFOG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2135880" y="3139920"/>
              <a:ext cx="5459400" cy="610200"/>
              <a:chOff x="2135880" y="3139920"/>
              <a:chExt cx="5459400" cy="610200"/>
            </a:xfrm>
          </p:grpSpPr>
          <p:sp>
            <p:nvSpPr>
              <p:cNvPr id="129" name=""/>
              <p:cNvSpPr/>
              <p:nvPr/>
            </p:nvSpPr>
            <p:spPr>
              <a:xfrm>
                <a:off x="2135880" y="3139920"/>
                <a:ext cx="1270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Vendredi 1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88480" y="3139920"/>
                <a:ext cx="310680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Trajet de St Laurent à Paraco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991080" y="286380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BAF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990720" y="3948120"/>
            <a:ext cx="6274800" cy="1614960"/>
            <a:chOff x="990720" y="3948120"/>
            <a:chExt cx="6274800" cy="1614960"/>
          </a:xfrm>
        </p:grpSpPr>
        <p:grpSp>
          <p:nvGrpSpPr>
            <p:cNvPr id="133" name=""/>
            <p:cNvGrpSpPr/>
            <p:nvPr/>
          </p:nvGrpSpPr>
          <p:grpSpPr>
            <a:xfrm>
              <a:off x="2125440" y="3948120"/>
              <a:ext cx="5140080" cy="305280"/>
              <a:chOff x="2125440" y="3948120"/>
              <a:chExt cx="5140080" cy="30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2125440" y="3948120"/>
                <a:ext cx="1084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Samedi 16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88120" y="3948120"/>
                <a:ext cx="2777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Prise de données à Paraco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2125080" y="4282920"/>
              <a:ext cx="3934080" cy="305280"/>
              <a:chOff x="2125080" y="4282920"/>
              <a:chExt cx="3934080" cy="305280"/>
            </a:xfrm>
          </p:grpSpPr>
          <p:sp>
            <p:nvSpPr>
              <p:cNvPr id="137" name=""/>
              <p:cNvSpPr/>
              <p:nvPr/>
            </p:nvSpPr>
            <p:spPr>
              <a:xfrm>
                <a:off x="2125080" y="4282920"/>
                <a:ext cx="13676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Dimanche 17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93160" y="4282920"/>
                <a:ext cx="1566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2141640" y="4617720"/>
              <a:ext cx="3917160" cy="305280"/>
              <a:chOff x="2141640" y="4617720"/>
              <a:chExt cx="3917160" cy="3052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41640" y="4617720"/>
                <a:ext cx="930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Lundi 18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92800" y="4617720"/>
                <a:ext cx="15660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136960" y="4952880"/>
              <a:ext cx="4070520" cy="610200"/>
              <a:chOff x="2136960" y="4952880"/>
              <a:chExt cx="4070520" cy="610200"/>
            </a:xfrm>
          </p:grpSpPr>
          <p:sp>
            <p:nvSpPr>
              <p:cNvPr id="143" name=""/>
              <p:cNvSpPr/>
              <p:nvPr/>
            </p:nvSpPr>
            <p:spPr>
              <a:xfrm>
                <a:off x="2136960" y="4952880"/>
                <a:ext cx="942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Mardi 19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490640" y="4952880"/>
                <a:ext cx="171684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(suite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000000"/>
                    </a:solidFill>
                    <a:latin typeface="Times New Roman"/>
                  </a:rPr>
                  <a:t>Retour à Kourou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990720" y="435600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arac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Groupe d’étudia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1828800"/>
            <a:ext cx="51055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de contrainte particulière : aimer marcher, observer, réfléch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mbre : 4 à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971800" y="2895480"/>
            <a:ext cx="4641840" cy="3124440"/>
            <a:chOff x="2971800" y="2895480"/>
            <a:chExt cx="4641840" cy="312444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4800600" y="2895480"/>
              <a:ext cx="2813040" cy="312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2971800" y="4495680"/>
              <a:ext cx="1676160" cy="838440"/>
            </a:xfrm>
            <a:prstGeom prst="wedgeEllipseCallout">
              <a:avLst>
                <a:gd name="adj1" fmla="val 74907"/>
                <a:gd name="adj2" fmla="val -7537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Comic Sans MS"/>
                </a:rPr>
                <a:t>A bientô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forestie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bien de temps faut-il laisser la forêt se reconstituer entre 2 exploitations, pour que la gestion soit « durable » 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327672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chercheur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à quelle vitesse poussent les arbres, selon les espèces, la densité du peuplement, les facteurs du milieu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14600" y="4064040"/>
            <a:ext cx="5029200" cy="2384280"/>
            <a:chOff x="2514600" y="4064040"/>
            <a:chExt cx="5029200" cy="2384280"/>
          </a:xfrm>
        </p:grpSpPr>
        <p:sp>
          <p:nvSpPr>
            <p:cNvPr id="57" name=""/>
            <p:cNvSpPr/>
            <p:nvPr/>
          </p:nvSpPr>
          <p:spPr>
            <a:xfrm>
              <a:off x="3898800" y="4064040"/>
              <a:ext cx="2362320" cy="45684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2514600" y="4571640"/>
              <a:ext cx="5029200" cy="1876680"/>
              <a:chOff x="2514600" y="4571640"/>
              <a:chExt cx="5029200" cy="1876680"/>
            </a:xfrm>
          </p:grpSpPr>
          <p:sp>
            <p:nvSpPr>
              <p:cNvPr id="59" name=""/>
              <p:cNvSpPr/>
              <p:nvPr/>
            </p:nvSpPr>
            <p:spPr>
              <a:xfrm>
                <a:off x="4876920" y="4571640"/>
                <a:ext cx="380880" cy="609480"/>
              </a:xfrm>
              <a:prstGeom prst="downArrow">
                <a:avLst>
                  <a:gd name="adj1" fmla="val 50000"/>
                  <a:gd name="adj2" fmla="val 40005"/>
                </a:avLst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14600" y="5257080"/>
                <a:ext cx="50292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6600"/>
                    </a:solidFill>
                    <a:latin typeface="Times New Roman"/>
                  </a:rPr>
                  <a:t>Thème de recherche de B. Ferry. Les effets de ces facteurs sont discrets et mal connu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6600"/>
                    </a:solidFill>
                    <a:latin typeface="Times New Roman"/>
                  </a:rPr>
                  <a:t>Pour les mettre en évidence, il faut prendre finement en compte les effets des autres facteur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Objectif de l’exerc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éliser la croissance diamétrique de 2 espèces fréquentes en forêt guyanaise, à l’aide de mesures et descriptions de l’arbre - notamment le houppi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267080"/>
            <a:ext cx="7696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er les effets de différentes conditions d’alimentation en eau dans le sol : disponibilité en eau en saison sèche, engorgement en saison des plu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19320" y="3200400"/>
            <a:ext cx="4952880" cy="990720"/>
            <a:chOff x="1219320" y="3200400"/>
            <a:chExt cx="4952880" cy="990720"/>
          </a:xfrm>
        </p:grpSpPr>
        <p:sp>
          <p:nvSpPr>
            <p:cNvPr id="65" name=""/>
            <p:cNvSpPr/>
            <p:nvPr/>
          </p:nvSpPr>
          <p:spPr>
            <a:xfrm>
              <a:off x="1219320" y="335268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00200" y="3200400"/>
              <a:ext cx="45720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mahot noir (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Eschweilera coriacea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wapa (</a:t>
              </a:r>
              <a:r>
                <a:rPr b="0" i="1" lang="fr-FR" sz="2000" spc="-1" strike="noStrike">
                  <a:solidFill>
                    <a:srgbClr val="000000"/>
                  </a:solidFill>
                  <a:latin typeface="Times New Roman"/>
                </a:rPr>
                <a:t>Eperua falcata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Loca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914400" y="3578400"/>
            <a:ext cx="8000640" cy="2822040"/>
            <a:chOff x="914400" y="3578400"/>
            <a:chExt cx="8000640" cy="2822040"/>
          </a:xfrm>
        </p:grpSpPr>
        <p:pic>
          <p:nvPicPr>
            <p:cNvPr id="69" name="" descr=""/>
            <p:cNvPicPr/>
            <p:nvPr/>
          </p:nvPicPr>
          <p:blipFill>
            <a:blip r:embed="rId1"/>
            <a:srcRect l="0" t="0" r="156" b="51636"/>
            <a:stretch/>
          </p:blipFill>
          <p:spPr>
            <a:xfrm>
              <a:off x="914400" y="3578400"/>
              <a:ext cx="8000640" cy="28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451400" y="3662640"/>
              <a:ext cx="3621240" cy="1178280"/>
            </a:xfrm>
            <a:custGeom>
              <a:avLst/>
              <a:gdLst/>
              <a:ahLst/>
              <a:rect l="l" t="t" r="r" b="b"/>
              <a:pathLst>
                <a:path w="2064" h="672">
                  <a:moveTo>
                    <a:pt x="0" y="96"/>
                  </a:moveTo>
                  <a:lnTo>
                    <a:pt x="288" y="288"/>
                  </a:lnTo>
                  <a:lnTo>
                    <a:pt x="2016" y="672"/>
                  </a:lnTo>
                  <a:lnTo>
                    <a:pt x="2064" y="288"/>
                  </a:lnTo>
                  <a:lnTo>
                    <a:pt x="2064" y="0"/>
                  </a:lnTo>
                  <a:lnTo>
                    <a:pt x="0" y="48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980720" y="2590560"/>
            <a:ext cx="3048120" cy="1584720"/>
            <a:chOff x="1980720" y="2590560"/>
            <a:chExt cx="3048120" cy="1584720"/>
          </a:xfrm>
        </p:grpSpPr>
        <p:sp>
          <p:nvSpPr>
            <p:cNvPr id="72" name="PlaceHolder 2"/>
            <p:cNvSpPr>
              <a:spLocks noGrp="1"/>
            </p:cNvSpPr>
            <p:nvPr>
              <p:ph/>
            </p:nvPr>
          </p:nvSpPr>
          <p:spPr>
            <a:xfrm>
              <a:off x="1980720" y="2590560"/>
              <a:ext cx="3048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BAFOG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ls épais,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non hydromorp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rot="16985400">
              <a:off x="1933200" y="3454200"/>
              <a:ext cx="1000080" cy="380880"/>
            </a:xfrm>
            <a:custGeom>
              <a:avLst/>
              <a:gdLst>
                <a:gd name="textAreaLeft" fmla="*/ 156240 w 1000080"/>
                <a:gd name="textAreaRight" fmla="*/ 875160 w 100008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952880" y="2590920"/>
            <a:ext cx="3200400" cy="2274840"/>
            <a:chOff x="4952880" y="2590920"/>
            <a:chExt cx="3200400" cy="2274840"/>
          </a:xfrm>
        </p:grpSpPr>
        <p:sp>
          <p:nvSpPr>
            <p:cNvPr id="75" name=""/>
            <p:cNvSpPr/>
            <p:nvPr/>
          </p:nvSpPr>
          <p:spPr>
            <a:xfrm>
              <a:off x="4952880" y="2590920"/>
              <a:ext cx="320040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lvl="1" marL="743040" indent="-285840">
                <a:spcBef>
                  <a:spcPts val="499"/>
                </a:spcBef>
                <a:buClr>
                  <a:srgbClr val="000000"/>
                </a:buClr>
                <a:buFont typeface="Times New Roman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Times New Roman"/>
                </a:rPr>
                <a:t>Paracou</a:t>
              </a:r>
              <a:r>
                <a:rPr b="0" lang="fr-FR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ls minces, 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peu hydromorp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143000" indent="-228600">
                <a:spcBef>
                  <a:spcPts val="45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imes New Roman"/>
                </a:rPr>
                <a:t>Sols de bas-fonds, très hydromorph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16939800">
              <a:off x="5105520" y="4150440"/>
              <a:ext cx="990360" cy="381240"/>
            </a:xfrm>
            <a:custGeom>
              <a:avLst/>
              <a:gdLst>
                <a:gd name="textAreaLeft" fmla="*/ 154800 w 990360"/>
                <a:gd name="textAreaRight" fmla="*/ 866880 w 990360"/>
                <a:gd name="textAreaTop" fmla="*/ 95400 h 381240"/>
                <a:gd name="textAreaBottom" fmla="*/ 2862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990720" y="160020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ositifs sylvicoles --&gt; arbres identifiés et localisés, dont la croissance est suivie depuis au moins 15 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Echantillonn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39116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rtie importante du travail, mais qui ne fait pas partie de l’exercice par manque de temp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oix des arbres à mesurer dans les bases de données des disposit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2 espèces x 3 milieux x 25 arbr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choisis dans une même gamme de diamètres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90720" y="4876920"/>
            <a:ext cx="5490720" cy="825480"/>
            <a:chOff x="990720" y="4876920"/>
            <a:chExt cx="5490720" cy="825480"/>
          </a:xfrm>
        </p:grpSpPr>
        <p:sp>
          <p:nvSpPr>
            <p:cNvPr id="81" name=""/>
            <p:cNvSpPr/>
            <p:nvPr/>
          </p:nvSpPr>
          <p:spPr>
            <a:xfrm>
              <a:off x="990720" y="510552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47080" y="4876920"/>
              <a:ext cx="473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150 arbres</a:t>
              </a:r>
              <a:br>
                <a:rPr sz="2400"/>
              </a:b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(modulable selon la taille du group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761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Mesures &amp; observ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0320" y="2362320"/>
            <a:ext cx="2520720" cy="4060800"/>
            <a:chOff x="5710320" y="2362320"/>
            <a:chExt cx="2520720" cy="4060800"/>
          </a:xfrm>
        </p:grpSpPr>
        <p:sp>
          <p:nvSpPr>
            <p:cNvPr id="85" name=""/>
            <p:cNvSpPr/>
            <p:nvPr/>
          </p:nvSpPr>
          <p:spPr>
            <a:xfrm flipH="1">
              <a:off x="7748640" y="3478320"/>
              <a:ext cx="257040" cy="2189160"/>
            </a:xfrm>
            <a:custGeom>
              <a:avLst/>
              <a:gdLst/>
              <a:ahLst/>
              <a:rect l="l" t="t" r="r" b="b"/>
              <a:pathLst>
                <a:path w="80" h="407">
                  <a:moveTo>
                    <a:pt x="0" y="407"/>
                  </a:moveTo>
                  <a:cubicBezTo>
                    <a:pt x="4" y="404"/>
                    <a:pt x="17" y="396"/>
                    <a:pt x="24" y="386"/>
                  </a:cubicBezTo>
                  <a:cubicBezTo>
                    <a:pt x="31" y="376"/>
                    <a:pt x="37" y="363"/>
                    <a:pt x="39" y="347"/>
                  </a:cubicBezTo>
                  <a:cubicBezTo>
                    <a:pt x="41" y="331"/>
                    <a:pt x="39" y="310"/>
                    <a:pt x="39" y="290"/>
                  </a:cubicBezTo>
                  <a:cubicBezTo>
                    <a:pt x="39" y="270"/>
                    <a:pt x="41" y="250"/>
                    <a:pt x="42" y="224"/>
                  </a:cubicBezTo>
                  <a:cubicBezTo>
                    <a:pt x="43" y="198"/>
                    <a:pt x="49" y="154"/>
                    <a:pt x="48" y="131"/>
                  </a:cubicBezTo>
                  <a:cubicBezTo>
                    <a:pt x="47" y="108"/>
                    <a:pt x="40" y="100"/>
                    <a:pt x="39" y="86"/>
                  </a:cubicBezTo>
                  <a:cubicBezTo>
                    <a:pt x="38" y="72"/>
                    <a:pt x="41" y="56"/>
                    <a:pt x="39" y="44"/>
                  </a:cubicBezTo>
                  <a:cubicBezTo>
                    <a:pt x="37" y="32"/>
                    <a:pt x="25" y="18"/>
                    <a:pt x="27" y="11"/>
                  </a:cubicBezTo>
                  <a:cubicBezTo>
                    <a:pt x="29" y="4"/>
                    <a:pt x="43" y="0"/>
                    <a:pt x="51" y="2"/>
                  </a:cubicBezTo>
                  <a:cubicBezTo>
                    <a:pt x="59" y="4"/>
                    <a:pt x="76" y="13"/>
                    <a:pt x="78" y="23"/>
                  </a:cubicBezTo>
                  <a:cubicBezTo>
                    <a:pt x="80" y="33"/>
                    <a:pt x="65" y="52"/>
                    <a:pt x="63" y="65"/>
                  </a:cubicBezTo>
                  <a:cubicBezTo>
                    <a:pt x="61" y="78"/>
                    <a:pt x="63" y="87"/>
                    <a:pt x="63" y="104"/>
                  </a:cubicBezTo>
                  <a:cubicBezTo>
                    <a:pt x="63" y="121"/>
                    <a:pt x="67" y="151"/>
                    <a:pt x="66" y="170"/>
                  </a:cubicBezTo>
                  <a:cubicBezTo>
                    <a:pt x="65" y="189"/>
                    <a:pt x="58" y="202"/>
                    <a:pt x="57" y="221"/>
                  </a:cubicBezTo>
                  <a:cubicBezTo>
                    <a:pt x="56" y="240"/>
                    <a:pt x="57" y="266"/>
                    <a:pt x="57" y="287"/>
                  </a:cubicBezTo>
                  <a:cubicBezTo>
                    <a:pt x="57" y="308"/>
                    <a:pt x="58" y="331"/>
                    <a:pt x="60" y="347"/>
                  </a:cubicBezTo>
                  <a:cubicBezTo>
                    <a:pt x="62" y="363"/>
                    <a:pt x="69" y="376"/>
                    <a:pt x="72" y="386"/>
                  </a:cubicBezTo>
                  <a:cubicBezTo>
                    <a:pt x="75" y="396"/>
                    <a:pt x="75" y="401"/>
                    <a:pt x="75" y="407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12120" y="2595600"/>
              <a:ext cx="646200" cy="1395360"/>
            </a:xfrm>
            <a:custGeom>
              <a:avLst/>
              <a:gdLst/>
              <a:ahLst/>
              <a:rect l="l" t="t" r="r" b="b"/>
              <a:pathLst>
                <a:path w="299" h="244">
                  <a:moveTo>
                    <a:pt x="155" y="244"/>
                  </a:moveTo>
                  <a:cubicBezTo>
                    <a:pt x="150" y="242"/>
                    <a:pt x="131" y="238"/>
                    <a:pt x="122" y="232"/>
                  </a:cubicBezTo>
                  <a:cubicBezTo>
                    <a:pt x="113" y="226"/>
                    <a:pt x="113" y="215"/>
                    <a:pt x="101" y="208"/>
                  </a:cubicBezTo>
                  <a:cubicBezTo>
                    <a:pt x="89" y="201"/>
                    <a:pt x="65" y="191"/>
                    <a:pt x="53" y="187"/>
                  </a:cubicBezTo>
                  <a:cubicBezTo>
                    <a:pt x="41" y="183"/>
                    <a:pt x="35" y="187"/>
                    <a:pt x="29" y="184"/>
                  </a:cubicBezTo>
                  <a:cubicBezTo>
                    <a:pt x="23" y="181"/>
                    <a:pt x="17" y="176"/>
                    <a:pt x="14" y="166"/>
                  </a:cubicBezTo>
                  <a:cubicBezTo>
                    <a:pt x="11" y="156"/>
                    <a:pt x="13" y="137"/>
                    <a:pt x="11" y="124"/>
                  </a:cubicBezTo>
                  <a:cubicBezTo>
                    <a:pt x="9" y="111"/>
                    <a:pt x="0" y="97"/>
                    <a:pt x="2" y="88"/>
                  </a:cubicBezTo>
                  <a:cubicBezTo>
                    <a:pt x="4" y="79"/>
                    <a:pt x="16" y="72"/>
                    <a:pt x="23" y="67"/>
                  </a:cubicBezTo>
                  <a:cubicBezTo>
                    <a:pt x="30" y="62"/>
                    <a:pt x="35" y="63"/>
                    <a:pt x="44" y="58"/>
                  </a:cubicBezTo>
                  <a:cubicBezTo>
                    <a:pt x="53" y="53"/>
                    <a:pt x="67" y="39"/>
                    <a:pt x="77" y="34"/>
                  </a:cubicBezTo>
                  <a:cubicBezTo>
                    <a:pt x="87" y="29"/>
                    <a:pt x="95" y="28"/>
                    <a:pt x="104" y="28"/>
                  </a:cubicBezTo>
                  <a:cubicBezTo>
                    <a:pt x="113" y="28"/>
                    <a:pt x="125" y="34"/>
                    <a:pt x="134" y="31"/>
                  </a:cubicBezTo>
                  <a:cubicBezTo>
                    <a:pt x="143" y="28"/>
                    <a:pt x="151" y="15"/>
                    <a:pt x="158" y="10"/>
                  </a:cubicBezTo>
                  <a:cubicBezTo>
                    <a:pt x="165" y="5"/>
                    <a:pt x="169" y="0"/>
                    <a:pt x="179" y="1"/>
                  </a:cubicBezTo>
                  <a:cubicBezTo>
                    <a:pt x="189" y="2"/>
                    <a:pt x="207" y="12"/>
                    <a:pt x="221" y="16"/>
                  </a:cubicBezTo>
                  <a:cubicBezTo>
                    <a:pt x="235" y="20"/>
                    <a:pt x="254" y="24"/>
                    <a:pt x="266" y="28"/>
                  </a:cubicBezTo>
                  <a:cubicBezTo>
                    <a:pt x="278" y="32"/>
                    <a:pt x="289" y="38"/>
                    <a:pt x="293" y="43"/>
                  </a:cubicBezTo>
                  <a:cubicBezTo>
                    <a:pt x="297" y="48"/>
                    <a:pt x="289" y="53"/>
                    <a:pt x="290" y="61"/>
                  </a:cubicBezTo>
                  <a:cubicBezTo>
                    <a:pt x="291" y="69"/>
                    <a:pt x="299" y="86"/>
                    <a:pt x="299" y="94"/>
                  </a:cubicBezTo>
                  <a:cubicBezTo>
                    <a:pt x="299" y="102"/>
                    <a:pt x="287" y="104"/>
                    <a:pt x="287" y="112"/>
                  </a:cubicBezTo>
                  <a:cubicBezTo>
                    <a:pt x="287" y="120"/>
                    <a:pt x="299" y="131"/>
                    <a:pt x="299" y="142"/>
                  </a:cubicBezTo>
                  <a:cubicBezTo>
                    <a:pt x="299" y="153"/>
                    <a:pt x="295" y="173"/>
                    <a:pt x="290" y="181"/>
                  </a:cubicBezTo>
                  <a:cubicBezTo>
                    <a:pt x="285" y="189"/>
                    <a:pt x="270" y="188"/>
                    <a:pt x="266" y="193"/>
                  </a:cubicBezTo>
                  <a:cubicBezTo>
                    <a:pt x="262" y="198"/>
                    <a:pt x="268" y="207"/>
                    <a:pt x="263" y="211"/>
                  </a:cubicBezTo>
                  <a:cubicBezTo>
                    <a:pt x="258" y="215"/>
                    <a:pt x="241" y="216"/>
                    <a:pt x="233" y="220"/>
                  </a:cubicBezTo>
                  <a:cubicBezTo>
                    <a:pt x="225" y="224"/>
                    <a:pt x="218" y="232"/>
                    <a:pt x="212" y="235"/>
                  </a:cubicBezTo>
                  <a:cubicBezTo>
                    <a:pt x="206" y="238"/>
                    <a:pt x="202" y="237"/>
                    <a:pt x="194" y="238"/>
                  </a:cubicBezTo>
                  <a:cubicBezTo>
                    <a:pt x="186" y="239"/>
                    <a:pt x="170" y="242"/>
                    <a:pt x="161" y="241"/>
                  </a:cubicBezTo>
                  <a:cubicBezTo>
                    <a:pt x="152" y="240"/>
                    <a:pt x="144" y="234"/>
                    <a:pt x="137" y="229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765840" y="3586320"/>
              <a:ext cx="447840" cy="2124000"/>
            </a:xfrm>
            <a:custGeom>
              <a:avLst/>
              <a:gdLst/>
              <a:ahLst/>
              <a:rect l="l" t="t" r="r" b="b"/>
              <a:pathLst>
                <a:path w="332" h="1385">
                  <a:moveTo>
                    <a:pt x="0" y="1385"/>
                  </a:moveTo>
                  <a:cubicBezTo>
                    <a:pt x="10" y="1375"/>
                    <a:pt x="44" y="1360"/>
                    <a:pt x="58" y="1315"/>
                  </a:cubicBezTo>
                  <a:cubicBezTo>
                    <a:pt x="72" y="1270"/>
                    <a:pt x="77" y="1167"/>
                    <a:pt x="83" y="1113"/>
                  </a:cubicBezTo>
                  <a:cubicBezTo>
                    <a:pt x="89" y="1059"/>
                    <a:pt x="92" y="1050"/>
                    <a:pt x="95" y="993"/>
                  </a:cubicBezTo>
                  <a:cubicBezTo>
                    <a:pt x="98" y="936"/>
                    <a:pt x="99" y="859"/>
                    <a:pt x="102" y="772"/>
                  </a:cubicBezTo>
                  <a:cubicBezTo>
                    <a:pt x="104" y="685"/>
                    <a:pt x="114" y="537"/>
                    <a:pt x="116" y="460"/>
                  </a:cubicBezTo>
                  <a:cubicBezTo>
                    <a:pt x="118" y="383"/>
                    <a:pt x="116" y="361"/>
                    <a:pt x="113" y="312"/>
                  </a:cubicBezTo>
                  <a:cubicBezTo>
                    <a:pt x="110" y="263"/>
                    <a:pt x="103" y="210"/>
                    <a:pt x="95" y="168"/>
                  </a:cubicBezTo>
                  <a:cubicBezTo>
                    <a:pt x="87" y="126"/>
                    <a:pt x="61" y="81"/>
                    <a:pt x="65" y="58"/>
                  </a:cubicBezTo>
                  <a:cubicBezTo>
                    <a:pt x="70" y="34"/>
                    <a:pt x="113" y="16"/>
                    <a:pt x="124" y="28"/>
                  </a:cubicBezTo>
                  <a:cubicBezTo>
                    <a:pt x="135" y="40"/>
                    <a:pt x="125" y="111"/>
                    <a:pt x="131" y="132"/>
                  </a:cubicBezTo>
                  <a:cubicBezTo>
                    <a:pt x="137" y="153"/>
                    <a:pt x="128" y="173"/>
                    <a:pt x="161" y="153"/>
                  </a:cubicBezTo>
                  <a:cubicBezTo>
                    <a:pt x="194" y="133"/>
                    <a:pt x="332" y="0"/>
                    <a:pt x="332" y="9"/>
                  </a:cubicBezTo>
                  <a:cubicBezTo>
                    <a:pt x="332" y="18"/>
                    <a:pt x="194" y="150"/>
                    <a:pt x="164" y="210"/>
                  </a:cubicBezTo>
                  <a:cubicBezTo>
                    <a:pt x="134" y="270"/>
                    <a:pt x="154" y="307"/>
                    <a:pt x="153" y="370"/>
                  </a:cubicBezTo>
                  <a:cubicBezTo>
                    <a:pt x="152" y="433"/>
                    <a:pt x="161" y="526"/>
                    <a:pt x="160" y="591"/>
                  </a:cubicBezTo>
                  <a:cubicBezTo>
                    <a:pt x="159" y="656"/>
                    <a:pt x="151" y="700"/>
                    <a:pt x="149" y="762"/>
                  </a:cubicBezTo>
                  <a:cubicBezTo>
                    <a:pt x="147" y="824"/>
                    <a:pt x="145" y="898"/>
                    <a:pt x="146" y="966"/>
                  </a:cubicBezTo>
                  <a:cubicBezTo>
                    <a:pt x="147" y="1034"/>
                    <a:pt x="150" y="1115"/>
                    <a:pt x="155" y="1173"/>
                  </a:cubicBezTo>
                  <a:cubicBezTo>
                    <a:pt x="160" y="1231"/>
                    <a:pt x="171" y="1280"/>
                    <a:pt x="175" y="1315"/>
                  </a:cubicBezTo>
                  <a:cubicBezTo>
                    <a:pt x="179" y="1350"/>
                    <a:pt x="182" y="1365"/>
                    <a:pt x="182" y="1385"/>
                  </a:cubicBezTo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78560" y="2673360"/>
              <a:ext cx="942840" cy="1095480"/>
            </a:xfrm>
            <a:custGeom>
              <a:avLst/>
              <a:gdLst/>
              <a:ahLst/>
              <a:rect l="l" t="t" r="r" b="b"/>
              <a:pathLst>
                <a:path w="701" h="754">
                  <a:moveTo>
                    <a:pt x="360" y="683"/>
                  </a:moveTo>
                  <a:cubicBezTo>
                    <a:pt x="347" y="693"/>
                    <a:pt x="313" y="744"/>
                    <a:pt x="285" y="749"/>
                  </a:cubicBezTo>
                  <a:cubicBezTo>
                    <a:pt x="257" y="754"/>
                    <a:pt x="219" y="745"/>
                    <a:pt x="189" y="713"/>
                  </a:cubicBezTo>
                  <a:cubicBezTo>
                    <a:pt x="159" y="681"/>
                    <a:pt x="129" y="584"/>
                    <a:pt x="105" y="556"/>
                  </a:cubicBezTo>
                  <a:cubicBezTo>
                    <a:pt x="81" y="528"/>
                    <a:pt x="61" y="556"/>
                    <a:pt x="46" y="546"/>
                  </a:cubicBezTo>
                  <a:cubicBezTo>
                    <a:pt x="32" y="536"/>
                    <a:pt x="17" y="519"/>
                    <a:pt x="10" y="486"/>
                  </a:cubicBezTo>
                  <a:cubicBezTo>
                    <a:pt x="3" y="452"/>
                    <a:pt x="0" y="384"/>
                    <a:pt x="3" y="345"/>
                  </a:cubicBezTo>
                  <a:cubicBezTo>
                    <a:pt x="6" y="306"/>
                    <a:pt x="17" y="277"/>
                    <a:pt x="30" y="251"/>
                  </a:cubicBezTo>
                  <a:cubicBezTo>
                    <a:pt x="43" y="225"/>
                    <a:pt x="68" y="207"/>
                    <a:pt x="84" y="188"/>
                  </a:cubicBezTo>
                  <a:cubicBezTo>
                    <a:pt x="100" y="169"/>
                    <a:pt x="108" y="156"/>
                    <a:pt x="123" y="137"/>
                  </a:cubicBezTo>
                  <a:cubicBezTo>
                    <a:pt x="138" y="118"/>
                    <a:pt x="160" y="93"/>
                    <a:pt x="177" y="74"/>
                  </a:cubicBezTo>
                  <a:cubicBezTo>
                    <a:pt x="194" y="55"/>
                    <a:pt x="209" y="36"/>
                    <a:pt x="228" y="24"/>
                  </a:cubicBezTo>
                  <a:cubicBezTo>
                    <a:pt x="247" y="12"/>
                    <a:pt x="268" y="4"/>
                    <a:pt x="291" y="2"/>
                  </a:cubicBezTo>
                  <a:cubicBezTo>
                    <a:pt x="314" y="0"/>
                    <a:pt x="346" y="0"/>
                    <a:pt x="369" y="11"/>
                  </a:cubicBezTo>
                  <a:cubicBezTo>
                    <a:pt x="392" y="22"/>
                    <a:pt x="403" y="57"/>
                    <a:pt x="429" y="68"/>
                  </a:cubicBezTo>
                  <a:cubicBezTo>
                    <a:pt x="455" y="79"/>
                    <a:pt x="507" y="62"/>
                    <a:pt x="528" y="77"/>
                  </a:cubicBezTo>
                  <a:cubicBezTo>
                    <a:pt x="549" y="92"/>
                    <a:pt x="542" y="143"/>
                    <a:pt x="558" y="161"/>
                  </a:cubicBezTo>
                  <a:cubicBezTo>
                    <a:pt x="574" y="179"/>
                    <a:pt x="610" y="175"/>
                    <a:pt x="624" y="185"/>
                  </a:cubicBezTo>
                  <a:cubicBezTo>
                    <a:pt x="638" y="195"/>
                    <a:pt x="634" y="207"/>
                    <a:pt x="642" y="221"/>
                  </a:cubicBezTo>
                  <a:cubicBezTo>
                    <a:pt x="650" y="235"/>
                    <a:pt x="667" y="258"/>
                    <a:pt x="672" y="272"/>
                  </a:cubicBezTo>
                  <a:cubicBezTo>
                    <a:pt x="677" y="286"/>
                    <a:pt x="667" y="283"/>
                    <a:pt x="672" y="305"/>
                  </a:cubicBezTo>
                  <a:cubicBezTo>
                    <a:pt x="677" y="327"/>
                    <a:pt x="701" y="369"/>
                    <a:pt x="701" y="405"/>
                  </a:cubicBezTo>
                  <a:cubicBezTo>
                    <a:pt x="701" y="442"/>
                    <a:pt x="691" y="509"/>
                    <a:pt x="679" y="536"/>
                  </a:cubicBezTo>
                  <a:cubicBezTo>
                    <a:pt x="667" y="563"/>
                    <a:pt x="631" y="559"/>
                    <a:pt x="621" y="576"/>
                  </a:cubicBezTo>
                  <a:cubicBezTo>
                    <a:pt x="611" y="593"/>
                    <a:pt x="626" y="623"/>
                    <a:pt x="614" y="637"/>
                  </a:cubicBezTo>
                  <a:cubicBezTo>
                    <a:pt x="602" y="650"/>
                    <a:pt x="555" y="657"/>
                    <a:pt x="541" y="667"/>
                  </a:cubicBezTo>
                  <a:cubicBezTo>
                    <a:pt x="527" y="677"/>
                    <a:pt x="549" y="690"/>
                    <a:pt x="528" y="695"/>
                  </a:cubicBezTo>
                  <a:cubicBezTo>
                    <a:pt x="507" y="700"/>
                    <a:pt x="441" y="709"/>
                    <a:pt x="414" y="698"/>
                  </a:cubicBezTo>
                  <a:cubicBezTo>
                    <a:pt x="387" y="687"/>
                    <a:pt x="375" y="628"/>
                    <a:pt x="366" y="626"/>
                  </a:cubicBezTo>
                  <a:cubicBezTo>
                    <a:pt x="357" y="624"/>
                    <a:pt x="361" y="674"/>
                    <a:pt x="360" y="686"/>
                  </a:cubicBezTo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95880" y="3408480"/>
              <a:ext cx="220680" cy="2301840"/>
            </a:xfrm>
            <a:custGeom>
              <a:avLst/>
              <a:gdLst/>
              <a:ahLst/>
              <a:rect l="l" t="t" r="r" b="b"/>
              <a:pathLst>
                <a:path w="164" h="1374">
                  <a:moveTo>
                    <a:pt x="0" y="1362"/>
                  </a:moveTo>
                  <a:cubicBezTo>
                    <a:pt x="10" y="1359"/>
                    <a:pt x="52" y="1374"/>
                    <a:pt x="63" y="1341"/>
                  </a:cubicBezTo>
                  <a:cubicBezTo>
                    <a:pt x="74" y="1308"/>
                    <a:pt x="66" y="1224"/>
                    <a:pt x="66" y="1163"/>
                  </a:cubicBezTo>
                  <a:cubicBezTo>
                    <a:pt x="66" y="1102"/>
                    <a:pt x="66" y="1039"/>
                    <a:pt x="66" y="972"/>
                  </a:cubicBezTo>
                  <a:cubicBezTo>
                    <a:pt x="66" y="905"/>
                    <a:pt x="73" y="831"/>
                    <a:pt x="73" y="751"/>
                  </a:cubicBezTo>
                  <a:cubicBezTo>
                    <a:pt x="73" y="671"/>
                    <a:pt x="64" y="566"/>
                    <a:pt x="63" y="489"/>
                  </a:cubicBezTo>
                  <a:cubicBezTo>
                    <a:pt x="62" y="412"/>
                    <a:pt x="65" y="345"/>
                    <a:pt x="66" y="288"/>
                  </a:cubicBezTo>
                  <a:cubicBezTo>
                    <a:pt x="67" y="231"/>
                    <a:pt x="70" y="188"/>
                    <a:pt x="66" y="147"/>
                  </a:cubicBezTo>
                  <a:cubicBezTo>
                    <a:pt x="61" y="107"/>
                    <a:pt x="32" y="60"/>
                    <a:pt x="36" y="37"/>
                  </a:cubicBezTo>
                  <a:cubicBezTo>
                    <a:pt x="41" y="13"/>
                    <a:pt x="75" y="0"/>
                    <a:pt x="95" y="7"/>
                  </a:cubicBezTo>
                  <a:cubicBezTo>
                    <a:pt x="114" y="13"/>
                    <a:pt x="156" y="55"/>
                    <a:pt x="160" y="77"/>
                  </a:cubicBezTo>
                  <a:cubicBezTo>
                    <a:pt x="164" y="99"/>
                    <a:pt x="130" y="97"/>
                    <a:pt x="120" y="138"/>
                  </a:cubicBezTo>
                  <a:cubicBezTo>
                    <a:pt x="110" y="179"/>
                    <a:pt x="105" y="258"/>
                    <a:pt x="102" y="324"/>
                  </a:cubicBezTo>
                  <a:cubicBezTo>
                    <a:pt x="99" y="390"/>
                    <a:pt x="98" y="465"/>
                    <a:pt x="99" y="534"/>
                  </a:cubicBezTo>
                  <a:cubicBezTo>
                    <a:pt x="100" y="603"/>
                    <a:pt x="107" y="670"/>
                    <a:pt x="109" y="741"/>
                  </a:cubicBezTo>
                  <a:cubicBezTo>
                    <a:pt x="111" y="812"/>
                    <a:pt x="109" y="891"/>
                    <a:pt x="109" y="962"/>
                  </a:cubicBezTo>
                  <a:cubicBezTo>
                    <a:pt x="109" y="1032"/>
                    <a:pt x="115" y="1103"/>
                    <a:pt x="117" y="1163"/>
                  </a:cubicBezTo>
                  <a:cubicBezTo>
                    <a:pt x="119" y="1223"/>
                    <a:pt x="117" y="1290"/>
                    <a:pt x="123" y="1323"/>
                  </a:cubicBezTo>
                  <a:cubicBezTo>
                    <a:pt x="129" y="1356"/>
                    <a:pt x="147" y="1356"/>
                    <a:pt x="153" y="1364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10320" y="2362320"/>
              <a:ext cx="928440" cy="1476360"/>
            </a:xfrm>
            <a:custGeom>
              <a:avLst/>
              <a:gdLst/>
              <a:ahLst/>
              <a:rect l="l" t="t" r="r" b="b"/>
              <a:pathLst>
                <a:path w="690" h="909">
                  <a:moveTo>
                    <a:pt x="325" y="859"/>
                  </a:moveTo>
                  <a:cubicBezTo>
                    <a:pt x="316" y="859"/>
                    <a:pt x="287" y="872"/>
                    <a:pt x="268" y="862"/>
                  </a:cubicBezTo>
                  <a:cubicBezTo>
                    <a:pt x="249" y="852"/>
                    <a:pt x="242" y="821"/>
                    <a:pt x="213" y="799"/>
                  </a:cubicBezTo>
                  <a:cubicBezTo>
                    <a:pt x="184" y="777"/>
                    <a:pt x="126" y="743"/>
                    <a:pt x="97" y="729"/>
                  </a:cubicBezTo>
                  <a:cubicBezTo>
                    <a:pt x="67" y="716"/>
                    <a:pt x="53" y="729"/>
                    <a:pt x="38" y="719"/>
                  </a:cubicBezTo>
                  <a:cubicBezTo>
                    <a:pt x="24" y="709"/>
                    <a:pt x="4" y="686"/>
                    <a:pt x="2" y="659"/>
                  </a:cubicBezTo>
                  <a:cubicBezTo>
                    <a:pt x="0" y="632"/>
                    <a:pt x="22" y="598"/>
                    <a:pt x="28" y="559"/>
                  </a:cubicBezTo>
                  <a:cubicBezTo>
                    <a:pt x="34" y="520"/>
                    <a:pt x="40" y="469"/>
                    <a:pt x="37" y="427"/>
                  </a:cubicBezTo>
                  <a:cubicBezTo>
                    <a:pt x="34" y="385"/>
                    <a:pt x="6" y="338"/>
                    <a:pt x="7" y="307"/>
                  </a:cubicBezTo>
                  <a:cubicBezTo>
                    <a:pt x="8" y="276"/>
                    <a:pt x="26" y="261"/>
                    <a:pt x="43" y="238"/>
                  </a:cubicBezTo>
                  <a:cubicBezTo>
                    <a:pt x="60" y="215"/>
                    <a:pt x="81" y="190"/>
                    <a:pt x="106" y="172"/>
                  </a:cubicBezTo>
                  <a:cubicBezTo>
                    <a:pt x="131" y="154"/>
                    <a:pt x="169" y="150"/>
                    <a:pt x="196" y="130"/>
                  </a:cubicBezTo>
                  <a:cubicBezTo>
                    <a:pt x="223" y="110"/>
                    <a:pt x="237" y="73"/>
                    <a:pt x="268" y="52"/>
                  </a:cubicBezTo>
                  <a:cubicBezTo>
                    <a:pt x="299" y="31"/>
                    <a:pt x="344" y="0"/>
                    <a:pt x="382" y="1"/>
                  </a:cubicBezTo>
                  <a:cubicBezTo>
                    <a:pt x="420" y="2"/>
                    <a:pt x="455" y="40"/>
                    <a:pt x="499" y="61"/>
                  </a:cubicBezTo>
                  <a:cubicBezTo>
                    <a:pt x="543" y="82"/>
                    <a:pt x="617" y="103"/>
                    <a:pt x="646" y="127"/>
                  </a:cubicBezTo>
                  <a:cubicBezTo>
                    <a:pt x="675" y="151"/>
                    <a:pt x="668" y="185"/>
                    <a:pt x="673" y="205"/>
                  </a:cubicBezTo>
                  <a:cubicBezTo>
                    <a:pt x="678" y="225"/>
                    <a:pt x="678" y="230"/>
                    <a:pt x="678" y="247"/>
                  </a:cubicBezTo>
                  <a:cubicBezTo>
                    <a:pt x="678" y="264"/>
                    <a:pt x="690" y="286"/>
                    <a:pt x="671" y="307"/>
                  </a:cubicBezTo>
                  <a:cubicBezTo>
                    <a:pt x="652" y="328"/>
                    <a:pt x="575" y="340"/>
                    <a:pt x="562" y="376"/>
                  </a:cubicBezTo>
                  <a:cubicBezTo>
                    <a:pt x="549" y="412"/>
                    <a:pt x="590" y="478"/>
                    <a:pt x="595" y="520"/>
                  </a:cubicBezTo>
                  <a:cubicBezTo>
                    <a:pt x="600" y="562"/>
                    <a:pt x="600" y="605"/>
                    <a:pt x="595" y="631"/>
                  </a:cubicBezTo>
                  <a:cubicBezTo>
                    <a:pt x="590" y="657"/>
                    <a:pt x="563" y="663"/>
                    <a:pt x="565" y="676"/>
                  </a:cubicBezTo>
                  <a:cubicBezTo>
                    <a:pt x="567" y="689"/>
                    <a:pt x="603" y="690"/>
                    <a:pt x="610" y="712"/>
                  </a:cubicBezTo>
                  <a:cubicBezTo>
                    <a:pt x="617" y="734"/>
                    <a:pt x="625" y="793"/>
                    <a:pt x="606" y="810"/>
                  </a:cubicBezTo>
                  <a:cubicBezTo>
                    <a:pt x="587" y="827"/>
                    <a:pt x="519" y="818"/>
                    <a:pt x="496" y="814"/>
                  </a:cubicBezTo>
                  <a:cubicBezTo>
                    <a:pt x="473" y="810"/>
                    <a:pt x="472" y="778"/>
                    <a:pt x="466" y="787"/>
                  </a:cubicBezTo>
                  <a:cubicBezTo>
                    <a:pt x="460" y="796"/>
                    <a:pt x="472" y="848"/>
                    <a:pt x="460" y="868"/>
                  </a:cubicBezTo>
                  <a:cubicBezTo>
                    <a:pt x="448" y="888"/>
                    <a:pt x="419" y="909"/>
                    <a:pt x="397" y="907"/>
                  </a:cubicBezTo>
                  <a:cubicBezTo>
                    <a:pt x="375" y="905"/>
                    <a:pt x="340" y="867"/>
                    <a:pt x="325" y="856"/>
                  </a:cubicBezTo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083440" y="3430440"/>
              <a:ext cx="147600" cy="299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838080" y="1752480"/>
            <a:ext cx="1447560" cy="4419000"/>
            <a:chOff x="838080" y="1752480"/>
            <a:chExt cx="1447560" cy="441900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6642" t="3417" r="80913" b="51223"/>
            <a:stretch/>
          </p:blipFill>
          <p:spPr>
            <a:xfrm>
              <a:off x="928080" y="1752480"/>
              <a:ext cx="1357560" cy="434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38080" y="4916520"/>
              <a:ext cx="437400" cy="125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438280" y="1752480"/>
            <a:ext cx="4953960" cy="990720"/>
            <a:chOff x="2438280" y="1752480"/>
            <a:chExt cx="4953960" cy="990720"/>
          </a:xfrm>
        </p:grpSpPr>
        <p:sp>
          <p:nvSpPr>
            <p:cNvPr id="96" name=""/>
            <p:cNvSpPr/>
            <p:nvPr/>
          </p:nvSpPr>
          <p:spPr>
            <a:xfrm rot="16227600">
              <a:off x="6703920" y="1750680"/>
              <a:ext cx="609480" cy="76176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38280" y="1752480"/>
              <a:ext cx="3886200" cy="9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00"/>
                  </a:solidFill>
                  <a:latin typeface="Times New Roman"/>
                </a:rPr>
                <a:t>Eclairement du houppier (indice de Dawkin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25760" y="2743200"/>
            <a:ext cx="3555720" cy="1130400"/>
            <a:chOff x="1625760" y="2743200"/>
            <a:chExt cx="3555720" cy="1130400"/>
          </a:xfrm>
        </p:grpSpPr>
        <p:sp>
          <p:nvSpPr>
            <p:cNvPr id="99" name=""/>
            <p:cNvSpPr/>
            <p:nvPr/>
          </p:nvSpPr>
          <p:spPr>
            <a:xfrm>
              <a:off x="2438280" y="2743200"/>
              <a:ext cx="27432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00"/>
                  </a:solidFill>
                  <a:latin typeface="Times New Roman"/>
                </a:rPr>
                <a:t>Traces de cas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625760" y="3124080"/>
              <a:ext cx="736560" cy="749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438280" y="5105520"/>
            <a:ext cx="2590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63300"/>
                </a:solidFill>
                <a:latin typeface="Times New Roman"/>
              </a:rPr>
              <a:t>Hydromorphie du sol (couleur à 20 cm de pro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438280" y="2646000"/>
            <a:ext cx="5867640" cy="3907080"/>
            <a:chOff x="2438280" y="2646000"/>
            <a:chExt cx="5867640" cy="3907080"/>
          </a:xfrm>
        </p:grpSpPr>
        <p:grpSp>
          <p:nvGrpSpPr>
            <p:cNvPr id="103" name=""/>
            <p:cNvGrpSpPr/>
            <p:nvPr/>
          </p:nvGrpSpPr>
          <p:grpSpPr>
            <a:xfrm>
              <a:off x="5562720" y="2646000"/>
              <a:ext cx="2743200" cy="3907080"/>
              <a:chOff x="5562720" y="2646000"/>
              <a:chExt cx="2743200" cy="3907080"/>
            </a:xfrm>
          </p:grpSpPr>
          <p:sp>
            <p:nvSpPr>
              <p:cNvPr id="104" name=""/>
              <p:cNvSpPr/>
              <p:nvPr/>
            </p:nvSpPr>
            <p:spPr>
              <a:xfrm>
                <a:off x="5562720" y="6066000"/>
                <a:ext cx="258480" cy="487080"/>
              </a:xfrm>
              <a:custGeom>
                <a:avLst/>
                <a:gdLst/>
                <a:ahLst/>
                <a:rect l="l" t="t" r="r" b="b"/>
                <a:pathLst>
                  <a:path w="168" h="328">
                    <a:moveTo>
                      <a:pt x="104" y="48"/>
                    </a:moveTo>
                    <a:lnTo>
                      <a:pt x="120" y="24"/>
                    </a:lnTo>
                    <a:lnTo>
                      <a:pt x="112" y="0"/>
                    </a:lnTo>
                    <a:lnTo>
                      <a:pt x="72" y="0"/>
                    </a:lnTo>
                    <a:lnTo>
                      <a:pt x="72" y="40"/>
                    </a:lnTo>
                    <a:lnTo>
                      <a:pt x="80" y="48"/>
                    </a:lnTo>
                    <a:lnTo>
                      <a:pt x="56" y="56"/>
                    </a:lnTo>
                    <a:lnTo>
                      <a:pt x="48" y="96"/>
                    </a:lnTo>
                    <a:lnTo>
                      <a:pt x="40" y="152"/>
                    </a:lnTo>
                    <a:lnTo>
                      <a:pt x="32" y="216"/>
                    </a:lnTo>
                    <a:lnTo>
                      <a:pt x="0" y="288"/>
                    </a:lnTo>
                    <a:lnTo>
                      <a:pt x="0" y="312"/>
                    </a:lnTo>
                    <a:lnTo>
                      <a:pt x="40" y="312"/>
                    </a:lnTo>
                    <a:lnTo>
                      <a:pt x="24" y="296"/>
                    </a:lnTo>
                    <a:lnTo>
                      <a:pt x="64" y="200"/>
                    </a:lnTo>
                    <a:lnTo>
                      <a:pt x="64" y="312"/>
                    </a:lnTo>
                    <a:lnTo>
                      <a:pt x="112" y="328"/>
                    </a:lnTo>
                    <a:lnTo>
                      <a:pt x="112" y="312"/>
                    </a:lnTo>
                    <a:lnTo>
                      <a:pt x="88" y="296"/>
                    </a:lnTo>
                    <a:lnTo>
                      <a:pt x="88" y="192"/>
                    </a:lnTo>
                    <a:lnTo>
                      <a:pt x="112" y="112"/>
                    </a:lnTo>
                    <a:lnTo>
                      <a:pt x="144" y="128"/>
                    </a:lnTo>
                    <a:lnTo>
                      <a:pt x="152" y="56"/>
                    </a:lnTo>
                    <a:lnTo>
                      <a:pt x="168" y="40"/>
                    </a:lnTo>
                    <a:lnTo>
                      <a:pt x="160" y="24"/>
                    </a:lnTo>
                    <a:lnTo>
                      <a:pt x="128" y="16"/>
                    </a:lnTo>
                    <a:lnTo>
                      <a:pt x="128" y="40"/>
                    </a:lnTo>
                    <a:lnTo>
                      <a:pt x="136" y="48"/>
                    </a:lnTo>
                    <a:lnTo>
                      <a:pt x="136" y="64"/>
                    </a:lnTo>
                    <a:lnTo>
                      <a:pt x="128" y="96"/>
                    </a:lnTo>
                    <a:lnTo>
                      <a:pt x="120" y="80"/>
                    </a:lnTo>
                    <a:lnTo>
                      <a:pt x="112" y="72"/>
                    </a:lnTo>
                    <a:lnTo>
                      <a:pt x="104" y="48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V="1">
                <a:off x="5784840" y="2646000"/>
                <a:ext cx="1100160" cy="341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V="1">
                <a:off x="5784840" y="3715920"/>
                <a:ext cx="1185840" cy="234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5784840" y="5675040"/>
                <a:ext cx="1112760" cy="39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305920" y="2646360"/>
                <a:ext cx="0" cy="3063960"/>
              </a:xfrm>
              <a:prstGeom prst="line">
                <a:avLst/>
              </a:prstGeom>
              <a:ln w="38160">
                <a:solidFill>
                  <a:srgbClr val="cc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466040" y="2658960"/>
                <a:ext cx="0" cy="110340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26080" y="4000680"/>
                <a:ext cx="890640" cy="0"/>
              </a:xfrm>
              <a:prstGeom prst="line">
                <a:avLst/>
              </a:prstGeom>
              <a:ln w="38160">
                <a:solidFill>
                  <a:srgbClr val="0099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2438280" y="3657600"/>
              <a:ext cx="3048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>
                <a:spcBef>
                  <a:spcPts val="601"/>
                </a:spcBef>
                <a:buClr>
                  <a:srgbClr val="0066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6600"/>
                  </a:solidFill>
                  <a:latin typeface="Times New Roman"/>
                </a:rPr>
                <a:t>Hauteur de l’arbre, hauteur et diamètre du houppi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vail en fin de journé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1828800"/>
            <a:ext cx="5943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isie des données sur ordinateur portable (électricité à l’ADNG et à Paraco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5334120"/>
            <a:ext cx="6477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bliographie : chacun aura un article à lire et à restituer au groupe en fin de période de ter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MarioFred" descr=""/>
          <p:cNvPicPr/>
          <p:nvPr/>
        </p:nvPicPr>
        <p:blipFill>
          <a:blip r:embed="rId1"/>
          <a:stretch/>
        </p:blipFill>
        <p:spPr>
          <a:xfrm>
            <a:off x="2743200" y="2819520"/>
            <a:ext cx="3657600" cy="23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raitement des donné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9343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nstruction d’un modèle de croissance (bibliographie + réflexion)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= f(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Eclairt, Sol.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justement des coefficients par ré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ximiser la part de variance expliqu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érifier la robustesse du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Résultats à disc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Qualité de prédiction de la croissance par le modèle, par rapport à d’autres modè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mportance relative des différentes variables explicatives, selon l’espèce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Y a-t-il un effet du sol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rprétation en termes de mécanismes (limitation en ressources, chablis...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0T09:37:28Z</dcterms:created>
  <dc:creator>Bruno</dc:creator>
  <dc:description/>
  <dc:language>en-US</dc:language>
  <cp:lastModifiedBy>Bruno Ferry</cp:lastModifiedBy>
  <dcterms:modified xsi:type="dcterms:W3CDTF">2006-09-07T10:42:55Z</dcterms:modified>
  <cp:revision>31</cp:revision>
  <dc:subject/>
  <dc:title>Relations station-production</dc:title>
</cp:coreProperties>
</file>