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92C-E77A-48BD-8B9D-4DC1048C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2CF-8F8E-412E-B197-66F6DA7E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E65-82F9-4AA1-91DB-AA54D6D3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1426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1426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890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890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82A-0687-483A-8B7B-AA203B57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C35-1822-406B-A521-177F07EF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020-7921-4E33-A83A-9F082793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A6A-4DD0-4F9E-B8C3-10EB3ADB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468-631A-4A21-A699-5F6B11C9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0AA-5382-45BD-94E0-729E4309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8A1-DBEA-4472-B8D1-8C6E2B6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76E-4ADC-4B72-B009-C8E7697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2FD-7FCE-494A-8BC1-1F68CD6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226D-F92F-4EF2-B90E-AC386CCE9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cc"/>
                </a:solidFill>
                <a:latin typeface="Times New Roman"/>
              </a:rPr>
              <a:t>Présentation de la Guy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5334120"/>
            <a:ext cx="27432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Eric Mar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6/09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d’après l’Atlas de la Guy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4797360"/>
            <a:ext cx="1957320" cy="1859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Bag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32160" y="0"/>
            <a:ext cx="4783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imm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7320" y="1143000"/>
            <a:ext cx="76438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00 000 habitants, dont la moitié à Cayenne, en croissance rap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moitié a moins de 20 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unau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censement in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cono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aux de couverture de 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es crevettes et de l’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CSG : 50% du P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8800" y="3048120"/>
            <a:ext cx="486900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oc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plateau des Guyanes, en bordure de l’Amazo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354560" cy="444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" y="3429000"/>
            <a:ext cx="381780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eu de 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eaucoup de forê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peu de savane sur la bande côt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e occupation humaine limitée à la côte et aux fleu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1956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ilieu phys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697200" y="0"/>
            <a:ext cx="5446800" cy="7086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Forê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58024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Agri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Cô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405320" cy="322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4251600" cy="258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421020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lima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empérature constante 26-27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Z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atre sais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oût-novembre : saison s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vembre-février : petite saison des plu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évrier-avril : petit été de 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ril-août : saison des plu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565800" cy="3051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lima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5257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ent et plu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10080" y="1600200"/>
            <a:ext cx="3279960" cy="477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3222720" cy="417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His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00 : Première exploration de la Guyane par Vincente P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643 : Poncet de Bretigny, fonde la ville de Cay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partir de 1689, les premiers esclaves sont amenés en Guyane pour tenter de valoriser les ter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783 : L’expédition de Kour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48 :  Abolition de l'esclavage et début de la grande ruée vers l'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52 : Création de l'administration pénitentiaire dans le but de peupler la Guy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58 : Ouverture du centre de détention de St Laurent du Mar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947 : Fin du bagne. Département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964 : Création du C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4:10:43Z</dcterms:created>
  <dc:creator>Eric Marcon</dc:creator>
  <dc:description/>
  <dc:language>en-US</dc:language>
  <cp:lastModifiedBy>Stéphane TRAISSAC</cp:lastModifiedBy>
  <dcterms:modified xsi:type="dcterms:W3CDTF">2007-09-27T20:48:41Z</dcterms:modified>
  <cp:revision>14</cp:revision>
  <dc:subject>Endomycorhizes</dc:subject>
  <dc:title>Présentation de la Guyane</dc:title>
</cp:coreProperties>
</file>