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26D-730C-4FD2-9003-73D52958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39F-DF7A-4638-B7BF-5AE570D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EC6-B6B0-47C4-8113-3D3CB352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1426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90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804-B35B-4315-B745-8D35963F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572-615A-4598-904C-FEE6A67D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B5B-CC82-485E-8108-52FB174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CCC-CB75-4D28-85FE-C087EE7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54D-6285-45D4-A69F-3E40E946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A66-13B4-4A6E-B079-887EA1E5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EEE-489A-4860-A705-16569DC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90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7FA-1847-4358-86DD-B51216A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1426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9BA-7456-4992-87AB-7A4E635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560-06D1-4653-A86B-272F72A30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Times New Roman"/>
              </a:rPr>
              <a:t>Présentation de la Guy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5334120"/>
            <a:ext cx="2743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Eric Mar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6/09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d’après l’Atlas de la Guy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4797360"/>
            <a:ext cx="195732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 Bag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32160" y="0"/>
            <a:ext cx="4783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im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7320" y="1143000"/>
            <a:ext cx="76438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00 000 habitants, dont la moitié à Cayenne, en croissance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moitié a moins de 20 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unau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censement incer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cono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aux de couverture de 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 crevettes et de l’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CSG : 50% du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486900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oc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plateau des Guyanes, en bordure de l’Amazo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354560" cy="444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381780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u de 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eaucoup de forê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peu de savane sur la bande cô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e occupation humaine limitée à la côte et aux fleu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956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ilieu phy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97200" y="0"/>
            <a:ext cx="54468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Forê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8024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Agri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a Cô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405320" cy="322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251600" cy="258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42102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lima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empérature constante 26-27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Z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tre sais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oût-novembre : saison sè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vembre-février : petite saison des plu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évrier-avril : petit été de m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ril-août : saison des plu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565800" cy="305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lima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nt et plu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279960" cy="477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3222720" cy="417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His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00 : Première exploration de la Guyane par Vincente P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643 : Poncet de Bretigny, fonde la ville de Ca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partir de 1689, les premiers esclaves sont amenés en Guyane pour tenter de valoriser les ter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83 : L’expédition de Kour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48 :  Abolition de l'esclavage et début de la grande ruée vers l'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2 : Création de l'administration pénitentiaire dans le but de peupler la Guy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858 : Ouverture du centre de détention de St Laurent du Mar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47 : Fin du bagne. Département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64 : Création du C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4:10:43Z</dcterms:created>
  <dc:creator>Eric Marcon</dc:creator>
  <dc:description/>
  <dc:language>en-US</dc:language>
  <cp:lastModifiedBy>Stéphane TRAISSAC</cp:lastModifiedBy>
  <dcterms:modified xsi:type="dcterms:W3CDTF">2007-09-27T20:48:41Z</dcterms:modified>
  <cp:revision>14</cp:revision>
  <dc:subject>Endomycorhizes</dc:subject>
  <dc:title>Présentation de la Guyane</dc:title>
</cp:coreProperties>
</file>