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CAF-CADF-414A-B7DE-4F84C6255A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F68D-3121-4DB0-B3CC-3BE4B430B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A84C-CE56-4BD6-90D1-06D04C6E3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F47-E275-45B4-A37D-53E6C058A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3B0F-09CF-427D-841D-73BAD60B1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7CE-698D-4682-8D52-28BE830CA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77D5-3ADE-4AA3-98A4-9BAA454A1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FBAE-4165-4741-9E32-3B4903FD10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3550-8210-4FD6-B84D-E34ADE92D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4A0-6D52-4669-AA9E-85CCF2CDB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711-4497-4D84-A425-0B9BBFEF8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2FCB-51E3-4907-8DE9-85CF7B922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311-A506-4267-91FA-0A139BB714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9F4-9F48-4440-9A83-DB03D382D0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413-6120-4D28-8013-CFF865757F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FA2-CEA2-4BA9-9C32-45F54A8F9E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006-A4D7-4A7A-9D06-9CBEBFFE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5A2-BC1D-45D5-B12C-0420BC5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6F9-A808-42EE-A623-92C84EBC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9DF-6461-4F99-896F-3ACDFEA2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F4B-C6C0-477C-BADD-19EBB745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37A-D412-48BA-AA05-6ED99088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486-1A9B-4A81-86F8-A067A88C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431A-BC5E-4D4A-BC04-7CCB00D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1A9F-1324-42A0-8E22-7F282C6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3749-15DC-4E2B-9063-83DBDD4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3AB-8B9B-4441-8F31-4FFBBD9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5DB-F648-4C09-861A-68DEB60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62AD-F3AD-47A1-B0DE-93A512C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8C82-3692-4319-BC27-E81DA3C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1EE5-2072-4FBA-BFF2-4418345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2AB-2012-43BE-A706-50AE98BF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6B3-CFF5-466B-9618-3BA17151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1CC-5198-4FC2-8269-64976BC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B5C-E071-4FC1-94DC-1D2E5029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C90-80F5-49FC-AECB-25F858F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4D0-231F-4079-B1FF-D0C4C51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E65-3BF2-42CC-9CD2-F15FDF7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3A1-FB6E-4AE3-9618-128389D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F43-1282-41BD-AAC1-7F32737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B7A-359A-472E-8C17-109AF98A4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BFE-D28D-4099-A18E-893420966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Mesures de la biodiversité</a:t>
            </a:r>
            <a:endParaRPr b="0" lang="en-US" sz="48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1640" y="6308640"/>
            <a:ext cx="4680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9617"/>
                </a:solidFill>
                <a:latin typeface="Times New Roman"/>
              </a:rPr>
              <a:t>Eric Marcon, Avril 2006</a:t>
            </a:r>
            <a:endParaRPr b="0" lang="en-US" sz="1600" spc="-1" strike="noStrike">
              <a:solidFill>
                <a:srgbClr val="e39617"/>
              </a:solidFill>
              <a:latin typeface="Times New Roman"/>
            </a:endParaRPr>
          </a:p>
        </p:txBody>
      </p:sp>
      <p:pic>
        <p:nvPicPr>
          <p:cNvPr id="92" name="Picture 15" descr="LogoUmrPetit"/>
          <p:cNvPicPr/>
          <p:nvPr/>
        </p:nvPicPr>
        <p:blipFill>
          <a:blip r:embed="rId2"/>
          <a:stretch/>
        </p:blipFill>
        <p:spPr>
          <a:xfrm>
            <a:off x="250920" y="4869000"/>
            <a:ext cx="1873080" cy="17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Nombre d’espè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Difficulté : estimati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er la courbe aire-espèces observ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ser la distribution des fré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non para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Probabilité que deux individus tirés au hasard soient d’espèces différent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Equité, mais aussi richess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48243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Nombre de chaînes de caractères de longueur fixe possibles connaissant la fréquence de chaque caractèr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ae9"/>
                </a:solidFill>
                <a:latin typeface="Times New Roman"/>
              </a:rPr>
              <a:t>Problème : non 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4321080" cy="178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1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dissimilarité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fréquen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Calcul de l’indice : distance moyenne entre deux individus pris au hasard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2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la varianc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Simps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Utilité d’une distance ultramét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ximum théo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Coclus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Le pharmacien et l’écolog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as de vérité un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s les écologues ont rais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Quelques propriétés indispensables :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pré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mpos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ifficulté pour obtenir les donné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Que mesure-t-on ?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écompositi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Que mesure-t-on ?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17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5146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858760" y="4853880"/>
            <a:ext cx="34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 : Emboîtement des objets d'étude de la bio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133360" cy="2562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605600" y="4587120"/>
            <a:ext cx="593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 : Importances de la richesse (en haut) et de l’équitabilité (en bas) pour la définition de la 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235260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767600" y="4796640"/>
            <a:ext cx="535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 : Diversité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habitat B possède la plus grande richesse (figure issue de Morin et Findlay, 2001)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Gradients de divers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1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4257720" cy="2409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954080" y="4510800"/>
            <a:ext cx="523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 : Nombre d'espèces de coraux dans les récifs (figure issue de Morin et Findlay, 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2352600" cy="3219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880280" y="4915800"/>
            <a:ext cx="53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5 : Diversité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 (figure issue de Morin et Findlay, 200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lpha + Bêta (si possible…)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Importance de la décomposabilité : indépendance de l’échelle d’observation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Indice de Rao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38:31Z</dcterms:created>
  <dc:creator>Eric Marcon</dc:creator>
  <dc:description/>
  <dc:language>en-US</dc:language>
  <cp:lastModifiedBy>Stéphane TRAISSAC</cp:lastModifiedBy>
  <dcterms:modified xsi:type="dcterms:W3CDTF">2007-09-27T21:19:00Z</dcterms:modified>
  <cp:revision>5</cp:revision>
  <dc:subject/>
  <dc:title>Mesures de la biodiversité</dc:title>
</cp:coreProperties>
</file>