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6CD0-4A0D-4E74-BE4C-80BB19BB35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it A et a, deux allèles de fréquence respectivement p et q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² :la fréquence d'un génotype homozygot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our leux allé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² : la fréquence d'un génotype homozygot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our leux allè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pq : la fréquence d'un génotype hétérozygot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oi d'Hardy-Weinberg es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une population isolée d'effectif limité, non soumise à la sélection, et dans laquelle il n'y a pas de mutations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es fréquences alléliques restent constantes.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es accouplements sont panmictiques, les fréquences génotypiques se déduisent des fréquences allél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te loi décrit la structure génétique de nombreuses populations pour lesquelles les hypothèses de départ ne sont pas prospect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truction des courbes de prédiction des fréquences génotyp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énotype : l’ensemble des allèles d’un indivi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diversité génétique H est très peu sensible aux allèles rares (P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roche de 0). La taille de la population à échantillonner est de l’ordre de 40 à 50 individ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a formule de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fr-FR" sz="9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est facilement adaptable au cas de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allèles avec fréquences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fr-FR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fr-FR" sz="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fr-FR" sz="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, ..., p</a:t>
            </a:r>
            <a:r>
              <a:rPr b="0" i="1" lang="fr-FR" sz="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drela odorata H=0.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shia ferriginosa H=0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weitenia macrophila H=0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Lonchocarpus costaricensis H=0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Soient deux population 1 e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Soient un locus biallélique (A, a) avec p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 et q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 les fréquences respectives des allèles A et a dans la popul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Et avec p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 et q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  les fréquences respectives des allèles A et a dans la popula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La colonisation d'une région préalablement inoccupée par une espèce peut conduire à la formation de deux populations (ou sous-populations) qui tendront à avoir des fréquences alléliques similaires si le flux migratoire pers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Cependant si le flux cesse, les deux populations évoluent de manière indépendante et peuvent acquérir, sous le simple effet du hasard, des constitutions génétiques différ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estimer le taux d’hétérozygotes théorique il faut estimer la diversité intra population (taux d’hétérozygote dans la pop1=1(-la proba de tirer des homozygotes aa +la proba de tirer des homozygotes a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dem pour la po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cule de la diversité moyenne sur les deux p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cule de la diversité dans une population virtuelle qui regroupe les individus de la pop1 et de la pop2 (cas où les pop 1 et 2 échangeraient librement des gèn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-(frequence des homozygotes AA dans la pop virtuelle + fréquence des homo aa dans la pop virtu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autre façon de voir la chos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FS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représente la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proportion de la diversité totale expliquée par l’écart des fréquences alléliques entre populatio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 On est donc conceptuellement dans le cadre de l’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nalyse de la varianc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 lien intuitif peut être démontré mathématiqu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met de tester </a:t>
            </a:r>
            <a:r>
              <a:rPr b="0" lang="fr-FR" sz="1200" spc="-1" strike="noStrike">
                <a:solidFill>
                  <a:srgbClr val="cc0099"/>
                </a:solidFill>
                <a:latin typeface="Arial"/>
              </a:rPr>
              <a:t>statistiquemen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la différenciation en posant comme hypothèse nulle que HT=Hs à l’équilibre de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l y a donc un lien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ntre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 la variance des fréquences alléliques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et la différenciation des populations. Ce lien permet de tester statistiquement la différenciation </a:t>
            </a: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sur la base d’un modèle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, car on peut établir un attendu théorique pour la diversité et pour la différenc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drela odorata fst entre 20 et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shia ferriginosa 30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weitenia macrophila 38, 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Lonchocarpus costaricensis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Swietenia macrophylla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eliaceae): as in the Amazonian forest (see above), this species has been subject to extensive extraction for timber and is increasingly threate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Cedrela odorata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eliaceae)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an economically important timber species, which is already the subject of a number of tree improvement programmes and provenance trials in central America. It is monoecious , insect pollinated, and has wind dispersed se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Vochysia ferruginea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Vochysiaceae)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a multipurpose, self compatable, tree species, pollinated by insects and hummingbirds, with wind- and animal-dispersed seed. It is a promising timber species suited to commercial development as regenerated forest on degraded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Lonchocarpus costaricensi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Leguminoseae)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an important species for fuelwood, timber and the production of a natural nematicide. It is endemic to the Pacific coast of Costa Rica. It is bee-pollin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importance d’étudier la diversité génétique réside dans la capacité adaptive des espèces à répondre aux variations environne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diversité génétique indique la présence ou l’absence de variants génétiques dans des entités génétiques différ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fférentes mesures sont utilis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intérieur d’une population, la diversité sera mesurée par le niveau de polymorphis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tre les populations, la diversité sera mesurée par la différenciation génét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richesse allélique est sensible à la taille de la population : si la population contient beaucoup d’allèles rares, il est nécessaire d’échantillonner un grand nombre d’individ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existe d’autres indices de diversité qui prennent en compte les fréquences allél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dra quelques années pour fonder la génétique des populations. En 1908, la loi dite de Hardy et Weinberg, permettant de calculer les fréquences génotypiques dans une population à l'équilibre, est proposée indépendamment par le mathématicien anglais Godfrey H. Hardy (1877-1947) et le médecin allemand Wilhelm Weinberg (1862-193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137-B885-4912-914C-8494996F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962-5F47-4419-BC42-314CB3F5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4F8-0AC9-4F6B-96F3-B8C9B563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5A4-F81E-44B0-8AC6-AC48D63A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9A0-C648-40D8-8182-A536F5DA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F5C-D561-4D7B-91C6-A753333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3CA-DB11-4E2D-AF08-35ABA23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427-A23E-4EFD-AB1A-B546874D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CC5-8D24-4E90-AC09-50FC9436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14B-831A-4EBC-B465-8D65D25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1C2-09FE-4AF2-A8B0-3482C40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5F4-D347-48FC-8425-62CD1E2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ABD1-67B6-4A13-A99A-B7DC8BC3C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r.wikipedia.org/wiki/All&#232;le" TargetMode="External"/><Relationship Id="rId2" Type="http://schemas.openxmlformats.org/officeDocument/2006/relationships/hyperlink" Target="http://fr.wikipedia.org/wiki/G&#233;notyp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Hardy-Weinberg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fr.wikipedia.org/wiki/Image:Hardy-Weinberg.gif" TargetMode="External"/><Relationship Id="rId4" Type="http://schemas.openxmlformats.org/officeDocument/2006/relationships/hyperlink" Target="http://fr.wikipedia.org/wiki/Fr&#233;quence_d%27all&#232;le" TargetMode="External"/><Relationship Id="rId5" Type="http://schemas.openxmlformats.org/officeDocument/2006/relationships/hyperlink" Target="http://fr.wikipedia.org/wiki/G&#233;notyp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ULE FTH 2007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versité géné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050"/>
                </a:solidFill>
                <a:latin typeface="Arial"/>
              </a:rPr>
              <a:t>Des notes en trois chapitres sur le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van Scotti, Caroline Scotti-Saint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003640" y="2421000"/>
            <a:ext cx="2808360" cy="1368360"/>
            <a:chOff x="5003640" y="2421000"/>
            <a:chExt cx="2808360" cy="1368360"/>
          </a:xfrm>
        </p:grpSpPr>
        <p:sp>
          <p:nvSpPr>
            <p:cNvPr id="168" name=""/>
            <p:cNvSpPr/>
            <p:nvPr/>
          </p:nvSpPr>
          <p:spPr>
            <a:xfrm>
              <a:off x="5219280" y="2421000"/>
              <a:ext cx="25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339933"/>
                  </a:solidFill>
                  <a:uFillTx/>
                  <a:latin typeface="Arial"/>
                </a:rPr>
                <a:t>Fréquence allél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005080" y="2862000"/>
                  <a:ext cx="96192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5003640" y="3292560"/>
                  <a:ext cx="93816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589440" y="3078000"/>
                  <a:ext cx="11527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6516360" y="2997000"/>
              <a:ext cx="1295640" cy="64764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24000" y="333360"/>
            <a:ext cx="856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Loi de Hardy-Weinberg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quilib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réquence des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lèl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et des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énotyp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u cours des génération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50920" y="2486160"/>
            <a:ext cx="4032000" cy="3390840"/>
            <a:chOff x="250920" y="2486160"/>
            <a:chExt cx="4032000" cy="3390840"/>
          </a:xfrm>
        </p:grpSpPr>
        <p:grpSp>
          <p:nvGrpSpPr>
            <p:cNvPr id="175" name=""/>
            <p:cNvGrpSpPr/>
            <p:nvPr/>
          </p:nvGrpSpPr>
          <p:grpSpPr>
            <a:xfrm>
              <a:off x="250920" y="2917800"/>
              <a:ext cx="4032000" cy="2959200"/>
              <a:chOff x="250920" y="2917800"/>
              <a:chExt cx="4032000" cy="2959200"/>
            </a:xfrm>
          </p:grpSpPr>
          <mc:AlternateContent>
            <mc:Choice xmlns:a14="http://schemas.microsoft.com/office/drawing/2010/main" Requires="a14">
              <p:sp>
                <p:nvSpPr>
                  <p:cNvPr id="176" name=""/>
                  <p:cNvSpPr txBox="1"/>
                  <p:nvPr/>
                </p:nvSpPr>
                <p:spPr>
                  <a:xfrm>
                    <a:off x="1546200" y="4249800"/>
                    <a:ext cx="110340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7" name=""/>
              <p:cNvSpPr/>
              <p:nvPr/>
            </p:nvSpPr>
            <p:spPr>
              <a:xfrm>
                <a:off x="682560" y="364500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330200" y="306864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71640" y="3284640"/>
                <a:ext cx="0" cy="252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42920" y="472608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22560" y="2917800"/>
                <a:ext cx="12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Gamèt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-176760" y="440424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Gamète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3052800" y="5329080"/>
                    <a:ext cx="101448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573200" y="5442120"/>
                    <a:ext cx="1125720" cy="29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"/>
                  <p:cNvSpPr txBox="1"/>
                  <p:nvPr/>
                </p:nvSpPr>
                <p:spPr>
                  <a:xfrm>
                    <a:off x="2941560" y="4365720"/>
                    <a:ext cx="1125720" cy="29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6" name=""/>
              <p:cNvSpPr/>
              <p:nvPr/>
            </p:nvSpPr>
            <p:spPr>
              <a:xfrm>
                <a:off x="1690560" y="3141720"/>
                <a:ext cx="10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1280" y="3836880"/>
                <a:ext cx="10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01840" y="3141720"/>
                <a:ext cx="10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q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9480" y="4981680"/>
                <a:ext cx="10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q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3640" y="386244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76720" y="386244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63640" y="500688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74920" y="500688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4000" y="2997360"/>
                <a:ext cx="3887640" cy="287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84360" y="2486160"/>
              <a:ext cx="33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Cas d’un locus bi-allél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148360" y="4221000"/>
            <a:ext cx="3600360" cy="2159280"/>
            <a:chOff x="5148360" y="4221000"/>
            <a:chExt cx="3600360" cy="2159280"/>
          </a:xfrm>
        </p:grpSpPr>
        <p:sp>
          <p:nvSpPr>
            <p:cNvPr id="197" name=""/>
            <p:cNvSpPr/>
            <p:nvPr/>
          </p:nvSpPr>
          <p:spPr>
            <a:xfrm>
              <a:off x="5148360" y="4221000"/>
              <a:ext cx="33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339933"/>
                  </a:solidFill>
                  <a:uFillTx/>
                  <a:latin typeface="Arial"/>
                </a:rPr>
                <a:t>Fréquence génotyp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5148360" y="4587840"/>
                  <a:ext cx="1176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5156280" y="5054760"/>
                  <a:ext cx="27273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q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p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p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187960" y="5497560"/>
                  <a:ext cx="10954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6443640" y="587700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fr-FR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Arial"/>
                </a:rPr>
                <a:t>+2pq+q</a:t>
              </a:r>
              <a:r>
                <a:rPr b="0" i="1" lang="fr-FR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3640" y="5877000"/>
              <a:ext cx="2305080" cy="5032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Le principe de Hardy-Weinberg pour deux allèles : l'axe horizontal indique les deux fréquences d'allèle p et q, l'axe vertical indique la fréquence des génotypes et les trois génotypes possibles sont représentés par des glyphes différe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690480"/>
            <a:ext cx="5472000" cy="4394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44360" y="5276880"/>
            <a:ext cx="84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axe horizontal indique les deux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réquences d'allè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axe vertical indique la fréquence des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énotyp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trois génotypes possibles sont représentés par des courbes diffé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89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Prédiction des fréquences génotypiques de la génération t+1 à partir des fréquences alléliques de la génératio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351240" y="4216320"/>
            <a:ext cx="2520720" cy="1230480"/>
            <a:chOff x="3351240" y="4216320"/>
            <a:chExt cx="2520720" cy="1230480"/>
          </a:xfrm>
        </p:grpSpPr>
        <p:sp>
          <p:nvSpPr>
            <p:cNvPr id="208" name=""/>
            <p:cNvSpPr/>
            <p:nvPr/>
          </p:nvSpPr>
          <p:spPr>
            <a:xfrm>
              <a:off x="3527280" y="4832280"/>
              <a:ext cx="19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4030560" y="4216320"/>
                  <a:ext cx="8175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p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351240" y="4832280"/>
                  <a:ext cx="234936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pq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5513400" y="465948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800680" y="4906800"/>
            <a:ext cx="2486160" cy="1050120"/>
            <a:chOff x="5800680" y="4906800"/>
            <a:chExt cx="2486160" cy="1050120"/>
          </a:xfrm>
        </p:grpSpPr>
        <p:sp>
          <p:nvSpPr>
            <p:cNvPr id="213" name=""/>
            <p:cNvSpPr/>
            <p:nvPr/>
          </p:nvSpPr>
          <p:spPr>
            <a:xfrm rot="1341000">
              <a:off x="7378560" y="54082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Arial"/>
                </a:rPr>
                <a:t>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00680" y="4906800"/>
              <a:ext cx="1656000" cy="792000"/>
            </a:xfrm>
            <a:prstGeom prst="ellipse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872320" y="4235400"/>
            <a:ext cx="2086920" cy="1438200"/>
            <a:chOff x="5872320" y="4235400"/>
            <a:chExt cx="2086920" cy="143820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932440" y="4971960"/>
                  <a:ext cx="14774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+</m:t>
                              </m:r>
                              <m:r>
                                <m:t xml:space="preserve">q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5872320" y="4832280"/>
              <a:ext cx="165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01040" y="4645080"/>
              <a:ext cx="3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872320" y="4235400"/>
                  <a:ext cx="17492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0" name=""/>
          <p:cNvGrpSpPr/>
          <p:nvPr/>
        </p:nvGrpSpPr>
        <p:grpSpPr>
          <a:xfrm>
            <a:off x="366840" y="4270320"/>
            <a:ext cx="3155400" cy="1225440"/>
            <a:chOff x="366840" y="4270320"/>
            <a:chExt cx="3155400" cy="1225440"/>
          </a:xfrm>
        </p:grpSpPr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1693800" y="4270320"/>
                  <a:ext cx="64908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766880" y="4867200"/>
                  <a:ext cx="648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143000" y="4905360"/>
                  <a:ext cx="62496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543040" y="4876920"/>
                  <a:ext cx="61884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1276200" y="4875120"/>
              <a:ext cx="19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22520" y="501984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43240" y="503388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63680" y="46879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66840" y="4591080"/>
                  <a:ext cx="8251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2700360" y="5805360"/>
            <a:ext cx="3527280" cy="936720"/>
            <a:chOff x="2700360" y="5805360"/>
            <a:chExt cx="3527280" cy="936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936880" y="5878440"/>
                  <a:ext cx="294012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700360" y="5805360"/>
              <a:ext cx="3527280" cy="936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32000" y="1844640"/>
            <a:ext cx="5689440" cy="1800000"/>
            <a:chOff x="3132000" y="1844640"/>
            <a:chExt cx="5689440" cy="1800000"/>
          </a:xfrm>
        </p:grpSpPr>
        <p:sp>
          <p:nvSpPr>
            <p:cNvPr id="234" name=""/>
            <p:cNvSpPr/>
            <p:nvPr/>
          </p:nvSpPr>
          <p:spPr>
            <a:xfrm>
              <a:off x="3205080" y="1844640"/>
              <a:ext cx="56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ff"/>
                  </a:solidFill>
                  <a:latin typeface="Arial"/>
                </a:rPr>
                <a:t>Taux d’hétérozygotie attendue à l’équilibre de H-W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65160" y="2631960"/>
              <a:ext cx="44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fréquence des génotypes hétérozygo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6800" y="3135240"/>
              <a:ext cx="41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omme des fréquences génotyp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38240" y="3063600"/>
              <a:ext cx="381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2000" y="288432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He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32000" y="2493720"/>
              <a:ext cx="4897440" cy="11509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0" y="0"/>
            <a:ext cx="8980560" cy="2198520"/>
            <a:chOff x="0" y="0"/>
            <a:chExt cx="8980560" cy="219852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87640" cy="21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3995640" y="1440"/>
              <a:ext cx="216072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516720" y="0"/>
              <a:ext cx="2463840" cy="148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03640" y="0"/>
                <a:ext cx="29401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076720" y="0"/>
            <a:ext cx="3024360" cy="83664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360" y="1890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Arial"/>
              </a:rPr>
              <a:t>Taux d’hétérozygotie attend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1309680"/>
            <a:ext cx="88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rime la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fréquence attendue d’hétérozygot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une population panmi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3902040"/>
            <a:ext cx="88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ellement équivalente à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l’indice de diversité de Si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3398760"/>
            <a:ext cx="8424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ntité également appelée “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Diversité génétique de Ne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2173320"/>
            <a:ext cx="842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thématiquement équivalent à la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probabilité de tirer au hasard deux gamètes de génotype différ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la population des gamè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4622760"/>
            <a:ext cx="9144000" cy="1905120"/>
            <a:chOff x="0" y="4622760"/>
            <a:chExt cx="9144000" cy="1905120"/>
          </a:xfrm>
        </p:grpSpPr>
        <p:sp>
          <p:nvSpPr>
            <p:cNvPr id="252" name=""/>
            <p:cNvSpPr/>
            <p:nvPr/>
          </p:nvSpPr>
          <p:spPr>
            <a:xfrm>
              <a:off x="0" y="57024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Existence d’organismes </a:t>
              </a:r>
              <a:r>
                <a:rPr b="1" lang="fr-FR" sz="2400" spc="-1" strike="noStrike">
                  <a:solidFill>
                    <a:srgbClr val="0000ff"/>
                  </a:solidFill>
                  <a:latin typeface="Arial"/>
                </a:rPr>
                <a:t>diploïdes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 générés par le croisement de deux gam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42920" y="4622760"/>
              <a:ext cx="72010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ais dérivée d’une </a:t>
              </a:r>
              <a:r>
                <a:rPr b="0" lang="fr-FR" sz="2400" spc="-1" strike="noStrike">
                  <a:solidFill>
                    <a:srgbClr val="0000ff"/>
                  </a:solidFill>
                  <a:latin typeface="Arial"/>
                </a:rPr>
                <a:t>réalité biologique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3636360" y="5301360"/>
              <a:ext cx="792000" cy="216000"/>
            </a:xfrm>
            <a:custGeom>
              <a:avLst/>
              <a:gdLst>
                <a:gd name="textAreaLeft" fmla="*/ 123480 w 792000"/>
                <a:gd name="textAreaRight" fmla="*/ 693000 w 7920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411280" y="1484280"/>
                <a:ext cx="1519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2340000" y="22600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6.7 % des individus en moyenne sont hétérozygotes pour un locus pris au has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1612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Homm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36925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Espèces tropicales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195800" y="3529080"/>
                <a:ext cx="240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68360" y="52135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Chêne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24160" y="5040360"/>
                <a:ext cx="1346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250920" y="333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Arial"/>
              </a:rPr>
              <a:t>Quelques chiffres pour illustr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1280" y="206064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cc00"/>
                </a:solidFill>
                <a:latin typeface="Arial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cc00"/>
                </a:solidFill>
                <a:latin typeface="Arial"/>
              </a:rPr>
              <a:t>DIFFERENCIATION GENE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4540320"/>
            <a:ext cx="882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différenciation génétique mesure </a:t>
            </a: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l’écart entre le taux d’hétérozygotes attend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l’hypothèse que les populations </a:t>
            </a: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échangent librement des gèn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le</a:t>
            </a: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 taux d’hétérozygotes moyen obser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8000" y="765000"/>
            <a:ext cx="1584360" cy="1440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9080" y="693720"/>
            <a:ext cx="158400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133524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69560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16360" y="133524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16956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831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0720" y="831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90972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72000" y="1054080"/>
            <a:ext cx="4321080" cy="1074600"/>
            <a:chOff x="4572000" y="1054080"/>
            <a:chExt cx="4321080" cy="1074600"/>
          </a:xfrm>
        </p:grpSpPr>
        <p:sp>
          <p:nvSpPr>
            <p:cNvPr id="276" name=""/>
            <p:cNvSpPr/>
            <p:nvPr/>
          </p:nvSpPr>
          <p:spPr>
            <a:xfrm>
              <a:off x="4572000" y="1054080"/>
              <a:ext cx="43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A l’équilibre de Hardy Weinberg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9640" y="1486080"/>
              <a:ext cx="34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Fréquence alléliques égales dans les deux popul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763640" y="14860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08000" y="2422440"/>
            <a:ext cx="8640720" cy="1511280"/>
            <a:chOff x="108000" y="2422440"/>
            <a:chExt cx="8640720" cy="1511280"/>
          </a:xfrm>
        </p:grpSpPr>
        <p:sp>
          <p:nvSpPr>
            <p:cNvPr id="280" name=""/>
            <p:cNvSpPr/>
            <p:nvPr/>
          </p:nvSpPr>
          <p:spPr>
            <a:xfrm>
              <a:off x="4427640" y="2573280"/>
              <a:ext cx="43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Si barrière aux flux de gènes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75280" y="314964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Fréquence alléliques différentes  dans les deux popul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8000" y="2494080"/>
              <a:ext cx="1584360" cy="1439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29080" y="2422440"/>
              <a:ext cx="1584000" cy="144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8360" y="306396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p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8360" y="3424320"/>
              <a:ext cx="1081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q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16360" y="306396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p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16360" y="342432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q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360" y="25606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60720" y="25606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63640" y="3214800"/>
              <a:ext cx="7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050560" y="2710080"/>
              <a:ext cx="28908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8000" y="2782800"/>
              <a:ext cx="50328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55640" y="189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cus bi-allélique 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34920" y="115920"/>
            <a:ext cx="4032360" cy="3027240"/>
            <a:chOff x="34920" y="115920"/>
            <a:chExt cx="4032360" cy="3027240"/>
          </a:xfrm>
        </p:grpSpPr>
        <p:sp>
          <p:nvSpPr>
            <p:cNvPr id="295" name=""/>
            <p:cNvSpPr/>
            <p:nvPr/>
          </p:nvSpPr>
          <p:spPr>
            <a:xfrm>
              <a:off x="34920" y="115920"/>
              <a:ext cx="4032360" cy="295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69840" y="189720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OP théor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86840" y="2395440"/>
              <a:ext cx="1575000" cy="734760"/>
              <a:chOff x="186840" y="2395440"/>
              <a:chExt cx="1575000" cy="73476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609480" y="2395440"/>
                <a:ext cx="1152360" cy="734760"/>
                <a:chOff x="609480" y="2395440"/>
                <a:chExt cx="1152360" cy="734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09480" y="2395440"/>
                  <a:ext cx="1152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(p</a:t>
                  </a:r>
                  <a:r>
                    <a:rPr b="0" lang="fr-FR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A1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+p</a:t>
                  </a:r>
                  <a:r>
                    <a:rPr b="0" lang="fr-FR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A2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88400" y="2761920"/>
                  <a:ext cx="86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004400" y="2761920"/>
                  <a:ext cx="2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86840" y="2511360"/>
                <a:ext cx="5479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274840" y="2408400"/>
              <a:ext cx="1574640" cy="734760"/>
              <a:chOff x="2274840" y="2408400"/>
              <a:chExt cx="1574640" cy="7347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2697120" y="2408400"/>
                <a:ext cx="1152360" cy="734760"/>
                <a:chOff x="2697120" y="2408400"/>
                <a:chExt cx="1152360" cy="734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697120" y="2408400"/>
                  <a:ext cx="1152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(p</a:t>
                  </a:r>
                  <a:r>
                    <a:rPr b="0" lang="fr-FR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a1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+p</a:t>
                  </a:r>
                  <a:r>
                    <a:rPr b="0" lang="fr-FR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a2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76040" y="2774880"/>
                  <a:ext cx="86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092040" y="2774880"/>
                  <a:ext cx="2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2274840" y="2524320"/>
                <a:ext cx="52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"/>
          <p:cNvSpPr/>
          <p:nvPr/>
        </p:nvSpPr>
        <p:spPr>
          <a:xfrm>
            <a:off x="4716360" y="227808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08000" y="331920"/>
            <a:ext cx="1728720" cy="1439640"/>
            <a:chOff x="108000" y="331920"/>
            <a:chExt cx="1728720" cy="1439640"/>
          </a:xfrm>
        </p:grpSpPr>
        <p:sp>
          <p:nvSpPr>
            <p:cNvPr id="311" name=""/>
            <p:cNvSpPr/>
            <p:nvPr/>
          </p:nvSpPr>
          <p:spPr>
            <a:xfrm>
              <a:off x="108000" y="331920"/>
              <a:ext cx="1584360" cy="1439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90180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p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1262160"/>
              <a:ext cx="1081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q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8360" y="3985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268360" y="260280"/>
            <a:ext cx="1656000" cy="1440000"/>
            <a:chOff x="2268360" y="260280"/>
            <a:chExt cx="1656000" cy="1440000"/>
          </a:xfrm>
        </p:grpSpPr>
        <p:sp>
          <p:nvSpPr>
            <p:cNvPr id="316" name=""/>
            <p:cNvSpPr/>
            <p:nvPr/>
          </p:nvSpPr>
          <p:spPr>
            <a:xfrm>
              <a:off x="2268360" y="260280"/>
              <a:ext cx="1584360" cy="1440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56000" y="90180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p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56000" y="126216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=q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00360" y="3985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5003640" y="1052640"/>
            <a:ext cx="2592720" cy="440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1-(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03640" y="1557360"/>
            <a:ext cx="251964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1-(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727280" y="5157720"/>
                <a:ext cx="547200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221440" y="3079800"/>
                <a:ext cx="1871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643280" y="4777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- Diversité intra- popul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00720" y="26370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- Diversité moyenne intra-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0" y="436572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Diversité totale  de la population théorique à l’équilib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19280" y="4941720"/>
            <a:ext cx="5580000" cy="172908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Arial"/>
              </a:rPr>
              <a:t>Différenciation génét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1814400"/>
            <a:ext cx="59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Différentiation génétique = H</a:t>
            </a:r>
            <a:r>
              <a:rPr b="0" lang="fr-FR" sz="2400" spc="-1" strike="noStrike" baseline="-25000">
                <a:solidFill>
                  <a:srgbClr val="cc0099"/>
                </a:solidFill>
                <a:latin typeface="Arial"/>
              </a:rPr>
              <a:t>T </a:t>
            </a: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- H</a:t>
            </a:r>
            <a:r>
              <a:rPr b="0" lang="fr-FR" sz="2400" spc="-1" strike="noStrike" baseline="-25000">
                <a:solidFill>
                  <a:srgbClr val="cc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24000" y="2766960"/>
            <a:ext cx="8820000" cy="2572560"/>
            <a:chOff x="324000" y="2766960"/>
            <a:chExt cx="8820000" cy="2572560"/>
          </a:xfrm>
        </p:grpSpPr>
        <p:sp>
          <p:nvSpPr>
            <p:cNvPr id="335" name=""/>
            <p:cNvSpPr/>
            <p:nvPr/>
          </p:nvSpPr>
          <p:spPr>
            <a:xfrm>
              <a:off x="324000" y="2766960"/>
              <a:ext cx="792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S’il y a des barrières aux flux de gènes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, toutes les populations ne partagent pas les mêmes allèles avec les mêmes fré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5280" y="3919320"/>
              <a:ext cx="792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a diversité cumulative est donc inévitablement supérieure à la diversité de la moyenne des population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4920" y="4566960"/>
              <a:ext cx="431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H</a:t>
              </a:r>
              <a:r>
                <a:rPr b="1" lang="fr-FR" sz="1800" spc="-1" strike="noStrike" baseline="-25000">
                  <a:solidFill>
                    <a:srgbClr val="cc0099"/>
                  </a:solidFill>
                  <a:latin typeface="Arial"/>
                </a:rPr>
                <a:t>T</a:t>
              </a: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&gt;H</a:t>
              </a:r>
              <a:r>
                <a:rPr b="1" lang="fr-FR" sz="1800" spc="-1" strike="noStrike" baseline="-25000">
                  <a:solidFill>
                    <a:srgbClr val="cc0099"/>
                  </a:solidFill>
                  <a:latin typeface="Arial"/>
                </a:rPr>
                <a:t>S </a:t>
              </a: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si barrière aux flux de gè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4920" y="4933800"/>
              <a:ext cx="586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H</a:t>
              </a:r>
              <a:r>
                <a:rPr b="1" lang="fr-FR" sz="1800" spc="-1" strike="noStrike" baseline="-25000">
                  <a:solidFill>
                    <a:srgbClr val="cc0099"/>
                  </a:solidFill>
                  <a:latin typeface="Arial"/>
                </a:rPr>
                <a:t>T</a:t>
              </a: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=H</a:t>
              </a:r>
              <a:r>
                <a:rPr b="1" lang="fr-FR" sz="1800" spc="-1" strike="noStrike" baseline="-25000">
                  <a:solidFill>
                    <a:srgbClr val="cc0099"/>
                  </a:solidFill>
                  <a:latin typeface="Arial"/>
                </a:rPr>
                <a:t>S </a:t>
              </a:r>
              <a:r>
                <a:rPr b="1" lang="fr-FR" sz="1800" spc="-1" strike="noStrike">
                  <a:solidFill>
                    <a:srgbClr val="cc0099"/>
                  </a:solidFill>
                  <a:latin typeface="Arial"/>
                </a:rPr>
                <a:t>si population à l’équilibre de Hardy-Weinbe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3564360" y="3415320"/>
              <a:ext cx="360360" cy="505080"/>
            </a:xfrm>
            <a:custGeom>
              <a:avLst/>
              <a:gdLst>
                <a:gd name="textAreaLeft" fmla="*/ 56160 w 360360"/>
                <a:gd name="textAreaRight" fmla="*/ 315360 w 360360"/>
                <a:gd name="textAreaTop" fmla="*/ 126360 h 505080"/>
                <a:gd name="textAreaBottom" fmla="*/ 37908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0" y="2622600"/>
            <a:ext cx="9144000" cy="2736720"/>
            <a:chOff x="0" y="2622600"/>
            <a:chExt cx="9144000" cy="2736720"/>
          </a:xfrm>
        </p:grpSpPr>
        <p:sp>
          <p:nvSpPr>
            <p:cNvPr id="341" name=""/>
            <p:cNvSpPr/>
            <p:nvPr/>
          </p:nvSpPr>
          <p:spPr>
            <a:xfrm>
              <a:off x="0" y="2622600"/>
              <a:ext cx="9144000" cy="27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2695320"/>
              <a:ext cx="914400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Une autre façon de voir la chose : </a:t>
              </a:r>
              <a:r>
                <a:rPr b="1" lang="fr-FR" sz="20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fr-FR" sz="2000" spc="-1" strike="noStrike" baseline="-25000">
                  <a:solidFill>
                    <a:srgbClr val="0000ff"/>
                  </a:solidFill>
                  <a:latin typeface="Arial"/>
                </a:rPr>
                <a:t>ST</a:t>
              </a:r>
              <a:r>
                <a:rPr b="1" lang="fr-FR" sz="2000" spc="-1" strike="noStrike">
                  <a:solidFill>
                    <a:srgbClr val="0000ff"/>
                  </a:solidFill>
                  <a:latin typeface="Arial"/>
                </a:rPr>
                <a:t> de Wright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fr-FR" sz="2000" spc="-1" strike="noStrike" baseline="-25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représente la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 proportion de la diversité totale expliquée par l’écart des fréquences alléliques entre populations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2987640" y="4064040"/>
                  <a:ext cx="23763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bar>
                        </m:num>
                        <m:den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"/>
            <p:cNvSpPr/>
            <p:nvPr/>
          </p:nvSpPr>
          <p:spPr>
            <a:xfrm>
              <a:off x="2700360" y="3990960"/>
              <a:ext cx="3024000" cy="1268280"/>
            </a:xfrm>
            <a:prstGeom prst="rect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28000" y="5396040"/>
            <a:ext cx="8002080" cy="1347480"/>
            <a:chOff x="828000" y="5396040"/>
            <a:chExt cx="8002080" cy="1347480"/>
          </a:xfrm>
        </p:grpSpPr>
        <p:sp>
          <p:nvSpPr>
            <p:cNvPr id="346" name=""/>
            <p:cNvSpPr/>
            <p:nvPr/>
          </p:nvSpPr>
          <p:spPr>
            <a:xfrm>
              <a:off x="828000" y="6222960"/>
              <a:ext cx="800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Permet de tester </a:t>
              </a:r>
              <a:r>
                <a:rPr b="0" lang="fr-FR" sz="2800" spc="-1" strike="noStrike">
                  <a:solidFill>
                    <a:srgbClr val="cc0099"/>
                  </a:solidFill>
                  <a:latin typeface="Arial"/>
                </a:rPr>
                <a:t>statistiquement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la différenci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3850200" y="5576040"/>
              <a:ext cx="720360" cy="360360"/>
            </a:xfrm>
            <a:custGeom>
              <a:avLst/>
              <a:gdLst>
                <a:gd name="textAreaLeft" fmla="*/ 112320 w 720360"/>
                <a:gd name="textAreaRight" fmla="*/ 630360 w 7203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0" y="549360"/>
            <a:ext cx="8820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sure 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l’écart entre le taux d’hétérozygotes attendu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l’hypothèse que les populations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échangent librement des gènes (H</a:t>
            </a:r>
            <a:r>
              <a:rPr b="0" lang="fr-FR" sz="2000" spc="-1" strike="noStrike" baseline="-25000">
                <a:solidFill>
                  <a:srgbClr val="cc0099"/>
                </a:solidFill>
                <a:latin typeface="Arial"/>
              </a:rPr>
              <a:t>T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 le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 taux d’hétérozygotes moyen observé (H</a:t>
            </a:r>
            <a:r>
              <a:rPr b="0" lang="fr-FR" sz="2000" spc="-1" strike="noStrike" baseline="-25000">
                <a:solidFill>
                  <a:srgbClr val="cc0099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00"/>
                </a:solidFill>
                <a:latin typeface="Arial"/>
              </a:rPr>
              <a:t>Illustratio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765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Les gymnospermes sont moins différenciés entre populations que les angiospe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4130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é au système de reproduction : Allogamie supérieure chez les gymnospe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9162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Les populations de ligneux sont moins différenciées que les ann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421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Populations d’espèces boréales et tempérées moins différenciées que les populations d’espèces trop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1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</a:rPr>
              <a:t>Les espèces à répartition endémique sont plus différenciées que les espèces à distribution contin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3860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pèces tropicales réparties dans des petites populations. Beaucoup d’espèces r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4724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Variation entre popula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5084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ifères : entre 5 et 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ênes entre 3 et 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76720" y="59421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bres tropicaux (4) entre 20 et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. Des diapos « bien », qui vous expliquent t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14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. Une autre façon, un peu plus tordue, de voir la chos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cul des fréquences génotypiques à partir des fréquences des allèl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n conditions d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roisement aléatoi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050920" y="3770280"/>
                <a:ext cx="11034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1187280" y="31654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258912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259092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42465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27280" y="20858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è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535320" y="33055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è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557520" y="4849920"/>
                <a:ext cx="1014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077920" y="4962600"/>
                <a:ext cx="11257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446640" y="3886200"/>
                <a:ext cx="1125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195640" y="26622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3357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06920" y="26622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14560" y="4502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33829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81440" y="33829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68360" y="452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80000" y="452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35640" y="2230560"/>
                <a:ext cx="961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433840" y="2660760"/>
                <a:ext cx="9385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020000" y="2446200"/>
                <a:ext cx="1152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292720" y="3706920"/>
                <a:ext cx="1176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300640" y="4173480"/>
                <a:ext cx="2727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332320" y="4616280"/>
                <a:ext cx="10954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8000" y="5950080"/>
                <a:ext cx="531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étérozygosité “attendu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rime la fréquence attendue d’hétérozygotes dans une population panmictique; mathématiquement équivalent à la probabilité de tirer au hasard deux gamètes de génotype différent dans la population des gamè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611280" y="2637000"/>
                <a:ext cx="80024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250920" y="4005360"/>
            <a:ext cx="8569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quantité est également appelée “Diversité génétique de Nei”; elle est formellement équivalente à l’indice de diversité de Shannon mais est dérivée d’une réalité biologique: l’existence d’organismes diploïdes générés par le croisement de deux gamè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ormule d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facilement adaptable au cas d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llèles avec fréquence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, ..., p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versité et différen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79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on le formalisme emprunté à l’analyse de la variance, il est possible de lier la diversité génétique (variabilité des fréquences alléliques à l’intérieur d’une population) et la différenciation génétique (variabilité des fréquences alléliques entre popu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52840" y="3130560"/>
                <a:ext cx="5275080" cy="31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m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m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m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0" y="3527280"/>
            <a:ext cx="349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n populations A, B, C,...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et m allèles 1,2,3,...,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diversité génétique est une fonction de la variance des éléments de chaqu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lon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différenciation génétique est une fonction de la variance des éléments de chaqu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i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versité et différen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87948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estimer la différenciation il est pratique d’introduire un paramètre, l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Wright, qui exprim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le manque d’hétérozygotes, par rapport à l’attendu, causé par des restrictions imposées au libre croiseme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intra population: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roisement préférenti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; entre populations: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barrières au flux de gèn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940360" y="2852640"/>
                <a:ext cx="1176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948280" y="3319560"/>
                <a:ext cx="2727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979960" y="3762360"/>
                <a:ext cx="1095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39640" y="5562720"/>
                <a:ext cx="6496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qF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39640" y="5084640"/>
                <a:ext cx="2246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720" y="6016680"/>
                <a:ext cx="2644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1309680" y="3075120"/>
            <a:ext cx="41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équences génotypiques attendues avec croisement lib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4156200"/>
            <a:ext cx="41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 avec restrictions au croisement li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51280" y="350028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92360" y="4508640"/>
            <a:ext cx="7189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fférenciation entre pop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87948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différenciation entre populations est exprimée par la valeur d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Wright appliquée au niveau des comparaisons entre popul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68360" y="2489040"/>
                <a:ext cx="237636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ba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4356000" y="2205000"/>
            <a:ext cx="478800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art entre la diversité de l’ensemble des populations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et la moyenne des diversités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de chaque population.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’il y a des barrières au flux de gèn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toutes les populations ne partagent pas les mêmes allèles avec les mêmes fréquences: la diversité cumulative est donc inévitablement supérieure à la diversité de la moyenne des pop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773080" y="2781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4869000"/>
            <a:ext cx="79912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utre façon de voir la chose: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présente la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proportion de la diversité totale expliquée par l’écart des fréquences alléliques entre popula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On est donc conceptuellement dans le cadre de l’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nalyse de la vari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 lien intuitif peut être démontré mathématiqu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fférenciation et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 la base de la formule de la fréquence attendue des homozygotes en présence de restriction au flux de gè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470320" y="1557360"/>
                <a:ext cx="3971880" cy="32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-36360" y="4913280"/>
            <a:ext cx="9144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y a donc un lie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irect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la variance des fréquences allél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la différenciation des populations. Ce lien permet de tester statistiquement la différenciati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ur la base d’un modè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car on peut établir un attendu théorique pour la diversité et pour la différenci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. Cadeau: les notes du cours au tabl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38360" y="404640"/>
            <a:ext cx="7181640" cy="106556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16000" y="476280"/>
            <a:ext cx="14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rcRect l="0" t="55411" r="0" b="0"/>
          <a:stretch/>
        </p:blipFill>
        <p:spPr>
          <a:xfrm>
            <a:off x="1638360" y="909720"/>
            <a:ext cx="7181640" cy="4751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16000" y="476280"/>
            <a:ext cx="14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42920" y="99864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00"/>
                </a:solidFill>
                <a:latin typeface="Arial"/>
              </a:rPr>
              <a:t>Quelques indices de diversité gén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479736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Ivan Scotti, Caroline Scotti-Sain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Laboratoire de génétique éc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59500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Kourou FT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4560" y="2060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Parallèle avec la divers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22050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50021"/>
                </a:solidFill>
                <a:latin typeface="Arial"/>
              </a:rPr>
              <a:t>On raisonne maintenant au niveau </a:t>
            </a: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INTRA SPECIF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32130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Importance d’étudier la diversité géné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4724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Faculté adaptative des espè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419640" y="404640"/>
            <a:ext cx="1584000" cy="1440000"/>
            <a:chOff x="3419640" y="404640"/>
            <a:chExt cx="1584000" cy="1440000"/>
          </a:xfrm>
        </p:grpSpPr>
        <p:sp>
          <p:nvSpPr>
            <p:cNvPr id="59" name=""/>
            <p:cNvSpPr/>
            <p:nvPr/>
          </p:nvSpPr>
          <p:spPr>
            <a:xfrm>
              <a:off x="3419640" y="404640"/>
              <a:ext cx="1584000" cy="1440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280" y="98748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5400000">
            <a:off x="3743280" y="3968640"/>
            <a:ext cx="792000" cy="433440"/>
          </a:xfrm>
          <a:custGeom>
            <a:avLst/>
            <a:gdLst>
              <a:gd name="textAreaLeft" fmla="*/ 99000 w 792000"/>
              <a:gd name="textAreaRight" fmla="*/ 693000 w 792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549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00"/>
                </a:solidFill>
                <a:latin typeface="Arial"/>
              </a:rPr>
              <a:t>A l’intérieur de l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8720" y="3573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00"/>
                </a:solidFill>
                <a:latin typeface="Arial"/>
              </a:rPr>
              <a:t>Entre plusieurs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413000"/>
            <a:ext cx="115128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01920" y="1554120"/>
            <a:ext cx="133200" cy="190440"/>
          </a:xfrm>
          <a:custGeom>
            <a:avLst/>
            <a:gdLst>
              <a:gd name="textAreaLeft" fmla="*/ 54720 w 133200"/>
              <a:gd name="textAreaRight" fmla="*/ 78480 w 13320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01920" y="183816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9720" y="1554120"/>
            <a:ext cx="133560" cy="190440"/>
          </a:xfrm>
          <a:custGeom>
            <a:avLst/>
            <a:gdLst>
              <a:gd name="textAreaLeft" fmla="*/ 55080 w 133560"/>
              <a:gd name="textAreaRight" fmla="*/ 78480 w 13356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19320" y="1554120"/>
            <a:ext cx="135000" cy="190440"/>
          </a:xfrm>
          <a:custGeom>
            <a:avLst/>
            <a:gdLst>
              <a:gd name="textAreaLeft" fmla="*/ 55440 w 135000"/>
              <a:gd name="textAreaRight" fmla="*/ 79560 w 13500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9720" y="1838160"/>
            <a:ext cx="133560" cy="189000"/>
          </a:xfrm>
          <a:custGeom>
            <a:avLst/>
            <a:gdLst>
              <a:gd name="textAreaLeft" fmla="*/ 55080 w 133560"/>
              <a:gd name="textAreaRight" fmla="*/ 78480 w 13356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19320" y="1838160"/>
            <a:ext cx="135000" cy="189000"/>
          </a:xfrm>
          <a:custGeom>
            <a:avLst/>
            <a:gdLst>
              <a:gd name="textAreaLeft" fmla="*/ 55440 w 135000"/>
              <a:gd name="textAreaRight" fmla="*/ 79560 w 1350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01920" y="217008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01920" y="245268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9720" y="2452680"/>
            <a:ext cx="133560" cy="189000"/>
          </a:xfrm>
          <a:custGeom>
            <a:avLst/>
            <a:gdLst>
              <a:gd name="textAreaLeft" fmla="*/ 55080 w 133560"/>
              <a:gd name="textAreaRight" fmla="*/ 78480 w 13356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19320" y="2452680"/>
            <a:ext cx="135000" cy="189000"/>
          </a:xfrm>
          <a:custGeom>
            <a:avLst/>
            <a:gdLst>
              <a:gd name="textAreaLeft" fmla="*/ 55440 w 135000"/>
              <a:gd name="textAreaRight" fmla="*/ 79560 w 1350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11520" y="217008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9320" y="2168640"/>
            <a:ext cx="135000" cy="188640"/>
          </a:xfrm>
          <a:custGeom>
            <a:avLst/>
            <a:gdLst>
              <a:gd name="textAreaLeft" fmla="*/ 55440 w 135000"/>
              <a:gd name="textAreaRight" fmla="*/ 79560 w 135000"/>
              <a:gd name="textAreaTop" fmla="*/ 77760 h 188640"/>
              <a:gd name="textAreaBottom" fmla="*/ 1108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4581360"/>
            <a:ext cx="1151280" cy="136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20840" y="4722840"/>
            <a:ext cx="133200" cy="190440"/>
          </a:xfrm>
          <a:custGeom>
            <a:avLst/>
            <a:gdLst>
              <a:gd name="textAreaLeft" fmla="*/ 54720 w 133200"/>
              <a:gd name="textAreaRight" fmla="*/ 78480 w 13320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20840" y="500688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8640" y="4722840"/>
            <a:ext cx="133560" cy="190440"/>
          </a:xfrm>
          <a:custGeom>
            <a:avLst/>
            <a:gdLst>
              <a:gd name="textAreaLeft" fmla="*/ 55080 w 133560"/>
              <a:gd name="textAreaRight" fmla="*/ 78480 w 13356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38240" y="4722840"/>
            <a:ext cx="135000" cy="190440"/>
          </a:xfrm>
          <a:custGeom>
            <a:avLst/>
            <a:gdLst>
              <a:gd name="textAreaLeft" fmla="*/ 55440 w 135000"/>
              <a:gd name="textAreaRight" fmla="*/ 79560 w 13500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28640" y="5006880"/>
            <a:ext cx="133560" cy="189000"/>
          </a:xfrm>
          <a:custGeom>
            <a:avLst/>
            <a:gdLst>
              <a:gd name="textAreaLeft" fmla="*/ 55080 w 133560"/>
              <a:gd name="textAreaRight" fmla="*/ 78480 w 13356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38240" y="5006880"/>
            <a:ext cx="135000" cy="189000"/>
          </a:xfrm>
          <a:custGeom>
            <a:avLst/>
            <a:gdLst>
              <a:gd name="textAreaLeft" fmla="*/ 55440 w 135000"/>
              <a:gd name="textAreaRight" fmla="*/ 79560 w 1350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0840" y="533880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0840" y="562140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28640" y="5621400"/>
            <a:ext cx="133560" cy="189000"/>
          </a:xfrm>
          <a:custGeom>
            <a:avLst/>
            <a:gdLst>
              <a:gd name="textAreaLeft" fmla="*/ 55080 w 133560"/>
              <a:gd name="textAreaRight" fmla="*/ 78480 w 13356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38240" y="5621400"/>
            <a:ext cx="135000" cy="189000"/>
          </a:xfrm>
          <a:custGeom>
            <a:avLst/>
            <a:gdLst>
              <a:gd name="textAreaLeft" fmla="*/ 55440 w 135000"/>
              <a:gd name="textAreaRight" fmla="*/ 79560 w 1350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30440" y="5338800"/>
            <a:ext cx="133200" cy="189000"/>
          </a:xfrm>
          <a:custGeom>
            <a:avLst/>
            <a:gdLst>
              <a:gd name="textAreaLeft" fmla="*/ 54720 w 133200"/>
              <a:gd name="textAreaRight" fmla="*/ 78480 w 1332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38240" y="5337000"/>
            <a:ext cx="135000" cy="189000"/>
          </a:xfrm>
          <a:custGeom>
            <a:avLst/>
            <a:gdLst>
              <a:gd name="textAreaLeft" fmla="*/ 55440 w 135000"/>
              <a:gd name="textAreaRight" fmla="*/ 79560 w 13500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4581360"/>
            <a:ext cx="1079640" cy="136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59120" y="4722840"/>
            <a:ext cx="125640" cy="190440"/>
          </a:xfrm>
          <a:custGeom>
            <a:avLst/>
            <a:gdLst>
              <a:gd name="textAreaLeft" fmla="*/ 51840 w 125640"/>
              <a:gd name="textAreaRight" fmla="*/ 73800 w 12564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9120" y="5006880"/>
            <a:ext cx="125640" cy="189000"/>
          </a:xfrm>
          <a:custGeom>
            <a:avLst/>
            <a:gdLst>
              <a:gd name="textAreaLeft" fmla="*/ 51840 w 125640"/>
              <a:gd name="textAreaRight" fmla="*/ 73800 w 12564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08600" y="4722840"/>
            <a:ext cx="125280" cy="190440"/>
          </a:xfrm>
          <a:custGeom>
            <a:avLst/>
            <a:gdLst>
              <a:gd name="textAreaLeft" fmla="*/ 51480 w 125280"/>
              <a:gd name="textAreaRight" fmla="*/ 73800 w 12528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99120" y="4722840"/>
            <a:ext cx="125280" cy="190440"/>
          </a:xfrm>
          <a:custGeom>
            <a:avLst/>
            <a:gdLst>
              <a:gd name="textAreaLeft" fmla="*/ 51480 w 125280"/>
              <a:gd name="textAreaRight" fmla="*/ 73800 w 125280"/>
              <a:gd name="textAreaTop" fmla="*/ 78480 h 190440"/>
              <a:gd name="textAreaBottom" fmla="*/ 1119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8600" y="5006880"/>
            <a:ext cx="125280" cy="189000"/>
          </a:xfrm>
          <a:custGeom>
            <a:avLst/>
            <a:gdLst>
              <a:gd name="textAreaLeft" fmla="*/ 51480 w 125280"/>
              <a:gd name="textAreaRight" fmla="*/ 73800 w 12528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9120" y="5338800"/>
            <a:ext cx="125640" cy="189000"/>
          </a:xfrm>
          <a:custGeom>
            <a:avLst/>
            <a:gdLst>
              <a:gd name="textAreaLeft" fmla="*/ 51840 w 125640"/>
              <a:gd name="textAreaRight" fmla="*/ 73800 w 12564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9120" y="5621400"/>
            <a:ext cx="125640" cy="189000"/>
          </a:xfrm>
          <a:custGeom>
            <a:avLst/>
            <a:gdLst>
              <a:gd name="textAreaLeft" fmla="*/ 51840 w 125640"/>
              <a:gd name="textAreaRight" fmla="*/ 73800 w 12564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99120" y="5006880"/>
            <a:ext cx="125280" cy="189000"/>
          </a:xfrm>
          <a:custGeom>
            <a:avLst/>
            <a:gdLst>
              <a:gd name="textAreaLeft" fmla="*/ 51480 w 125280"/>
              <a:gd name="textAreaRight" fmla="*/ 73800 w 12528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08600" y="5291280"/>
            <a:ext cx="125280" cy="188640"/>
          </a:xfrm>
          <a:custGeom>
            <a:avLst/>
            <a:gdLst>
              <a:gd name="textAreaLeft" fmla="*/ 51480 w 125280"/>
              <a:gd name="textAreaRight" fmla="*/ 73800 w 125280"/>
              <a:gd name="textAreaTop" fmla="*/ 77760 h 188640"/>
              <a:gd name="textAreaBottom" fmla="*/ 1108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9120" y="5291280"/>
            <a:ext cx="125280" cy="188640"/>
          </a:xfrm>
          <a:custGeom>
            <a:avLst/>
            <a:gdLst>
              <a:gd name="textAreaLeft" fmla="*/ 51480 w 125280"/>
              <a:gd name="textAreaRight" fmla="*/ 73800 w 125280"/>
              <a:gd name="textAreaTop" fmla="*/ 77760 h 188640"/>
              <a:gd name="textAreaBottom" fmla="*/ 1108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08600" y="5621400"/>
            <a:ext cx="125280" cy="189000"/>
          </a:xfrm>
          <a:custGeom>
            <a:avLst/>
            <a:gdLst>
              <a:gd name="textAreaLeft" fmla="*/ 51480 w 125280"/>
              <a:gd name="textAreaRight" fmla="*/ 73800 w 12528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99120" y="5621400"/>
            <a:ext cx="125280" cy="189000"/>
          </a:xfrm>
          <a:custGeom>
            <a:avLst/>
            <a:gdLst>
              <a:gd name="textAreaLeft" fmla="*/ 51480 w 125280"/>
              <a:gd name="textAreaRight" fmla="*/ 73800 w 125280"/>
              <a:gd name="textAreaTop" fmla="*/ 77760 h 189000"/>
              <a:gd name="textAreaBottom" fmla="*/ 1112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91628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Paramètres de polymorph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4941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Paramètre de différe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522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620640"/>
            <a:ext cx="288720" cy="360360"/>
          </a:xfrm>
          <a:custGeom>
            <a:avLst/>
            <a:gdLst>
              <a:gd name="textAreaLeft" fmla="*/ 118800 w 288720"/>
              <a:gd name="textAreaRight" fmla="*/ 169920 w 2887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659040"/>
            <a:ext cx="288720" cy="360360"/>
          </a:xfrm>
          <a:custGeom>
            <a:avLst/>
            <a:gdLst>
              <a:gd name="textAreaLeft" fmla="*/ 118800 w 288720"/>
              <a:gd name="textAreaRight" fmla="*/ 169920 w 2887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673440"/>
            <a:ext cx="289080" cy="360360"/>
          </a:xfrm>
          <a:custGeom>
            <a:avLst/>
            <a:gdLst>
              <a:gd name="textAreaLeft" fmla="*/ 119160 w 289080"/>
              <a:gd name="textAreaRight" fmla="*/ 169920 w 289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981000"/>
            <a:ext cx="7561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cc00"/>
                </a:solidFill>
                <a:latin typeface="Arial"/>
              </a:rPr>
              <a:t>I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cc00"/>
                </a:solidFill>
                <a:latin typeface="Arial"/>
              </a:rPr>
              <a:t>PARAMETRES DE POLYMORPHIS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508720" y="3500280"/>
            <a:ext cx="1655640" cy="201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00"/>
                </a:solidFill>
                <a:latin typeface="Arial"/>
              </a:rPr>
              <a:t>A) Richesse allé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3716280"/>
            <a:ext cx="217800" cy="289080"/>
          </a:xfrm>
          <a:custGeom>
            <a:avLst/>
            <a:gdLst>
              <a:gd name="textAreaLeft" fmla="*/ 89640 w 217800"/>
              <a:gd name="textAreaRight" fmla="*/ 128160 w 2178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4148280"/>
            <a:ext cx="217800" cy="288720"/>
          </a:xfrm>
          <a:custGeom>
            <a:avLst/>
            <a:gdLst>
              <a:gd name="textAreaLeft" fmla="*/ 89640 w 217800"/>
              <a:gd name="textAreaRight" fmla="*/ 128160 w 2178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6200" y="371628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0920" y="371628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6200" y="4148280"/>
            <a:ext cx="217440" cy="28872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0920" y="4148280"/>
            <a:ext cx="217440" cy="28872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4653000"/>
            <a:ext cx="217800" cy="288720"/>
          </a:xfrm>
          <a:custGeom>
            <a:avLst/>
            <a:gdLst>
              <a:gd name="textAreaLeft" fmla="*/ 89640 w 217800"/>
              <a:gd name="textAreaRight" fmla="*/ 128160 w 2178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5084640"/>
            <a:ext cx="217800" cy="289080"/>
          </a:xfrm>
          <a:custGeom>
            <a:avLst/>
            <a:gdLst>
              <a:gd name="textAreaLeft" fmla="*/ 89640 w 217800"/>
              <a:gd name="textAreaRight" fmla="*/ 128160 w 2178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6200" y="508464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0920" y="508464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2160" y="558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9080" y="5589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4653000"/>
            <a:ext cx="217440" cy="28872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0920" y="465120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3440" y="3500280"/>
            <a:ext cx="1582560" cy="208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9080" y="3716280"/>
            <a:ext cx="217800" cy="289080"/>
          </a:xfrm>
          <a:custGeom>
            <a:avLst/>
            <a:gdLst>
              <a:gd name="textAreaLeft" fmla="*/ 89640 w 217800"/>
              <a:gd name="textAreaRight" fmla="*/ 128160 w 2178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9080" y="4148280"/>
            <a:ext cx="217800" cy="288720"/>
          </a:xfrm>
          <a:custGeom>
            <a:avLst/>
            <a:gdLst>
              <a:gd name="textAreaLeft" fmla="*/ 89640 w 217800"/>
              <a:gd name="textAreaRight" fmla="*/ 128160 w 2178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99280" y="3716280"/>
            <a:ext cx="217800" cy="289080"/>
          </a:xfrm>
          <a:custGeom>
            <a:avLst/>
            <a:gdLst>
              <a:gd name="textAreaLeft" fmla="*/ 89640 w 217800"/>
              <a:gd name="textAreaRight" fmla="*/ 128160 w 2178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02560" y="371628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99280" y="4148280"/>
            <a:ext cx="217800" cy="288720"/>
          </a:xfrm>
          <a:custGeom>
            <a:avLst/>
            <a:gdLst>
              <a:gd name="textAreaLeft" fmla="*/ 89640 w 217800"/>
              <a:gd name="textAreaRight" fmla="*/ 128160 w 2178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9080" y="4653000"/>
            <a:ext cx="217800" cy="288720"/>
          </a:xfrm>
          <a:custGeom>
            <a:avLst/>
            <a:gdLst>
              <a:gd name="textAreaLeft" fmla="*/ 89640 w 217800"/>
              <a:gd name="textAreaRight" fmla="*/ 128160 w 2178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9080" y="5084640"/>
            <a:ext cx="217800" cy="289080"/>
          </a:xfrm>
          <a:custGeom>
            <a:avLst/>
            <a:gdLst>
              <a:gd name="textAreaLeft" fmla="*/ 89640 w 217800"/>
              <a:gd name="textAreaRight" fmla="*/ 128160 w 2178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02560" y="4148280"/>
            <a:ext cx="217440" cy="28872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458136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458136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01080" y="508464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360" y="5084640"/>
            <a:ext cx="217440" cy="2890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27734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locus ayant 4 formes allél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9955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bre individu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393372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50021"/>
                </a:solidFill>
                <a:latin typeface="Arial"/>
              </a:rPr>
              <a:t>Ne tient pas compte de l’abond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58972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50021"/>
                </a:solidFill>
                <a:latin typeface="Arial"/>
              </a:rPr>
              <a:t>Un allèle rare a le même poids qu’un allèle comm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637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Pour un locus donn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1417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50021"/>
                </a:solidFill>
                <a:latin typeface="Arial"/>
              </a:rPr>
              <a:t>Sensible à la taille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472428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560" y="2708280"/>
            <a:ext cx="3780000" cy="338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76688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Si plusieurs loc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9018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Nombre d’allèles différents présents dans un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18381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Nombre moyen d’allèle par 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00"/>
                </a:solidFill>
                <a:latin typeface="Arial"/>
              </a:rPr>
              <a:t>B) Taux d’hétérozygotie obser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4000" y="620640"/>
            <a:ext cx="7199280" cy="2448000"/>
            <a:chOff x="324000" y="620640"/>
            <a:chExt cx="7199280" cy="2448000"/>
          </a:xfrm>
        </p:grpSpPr>
        <p:sp>
          <p:nvSpPr>
            <p:cNvPr id="154" name=""/>
            <p:cNvSpPr/>
            <p:nvPr/>
          </p:nvSpPr>
          <p:spPr>
            <a:xfrm>
              <a:off x="1689480" y="1917720"/>
              <a:ext cx="56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Nombre d’hétérozygotes dans la pop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00" y="620640"/>
              <a:ext cx="26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99"/>
                  </a:solidFill>
                  <a:latin typeface="Arial"/>
                </a:rPr>
                <a:t>Pour un locus donné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33840" y="2349720"/>
              <a:ext cx="532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8920" y="242100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Nombre total d’indivi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3120" y="2125800"/>
              <a:ext cx="72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1640" y="1555920"/>
              <a:ext cx="6551640" cy="1512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9640" y="4221000"/>
            <a:ext cx="3600720" cy="863640"/>
            <a:chOff x="539640" y="4221000"/>
            <a:chExt cx="3600720" cy="8636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524400" y="4222800"/>
                  <a:ext cx="54432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539640" y="4292640"/>
              <a:ext cx="338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99"/>
                  </a:solidFill>
                  <a:latin typeface="Arial"/>
                </a:rPr>
                <a:t>Au niveau multi locus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4221000"/>
              <a:ext cx="57636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00"/>
                </a:solidFill>
                <a:latin typeface="Arial"/>
              </a:rPr>
              <a:t>C) Taux d’hétérozygotie attendue (théor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2128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opulation est </a:t>
            </a: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panmictiqu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le choix du conjoint se fait de manière alé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s les individus participant au processus de reproduction appartiennent à la </a:t>
            </a: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même 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opulation est </a:t>
            </a: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isolé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aucun gène n'est introduit par des migrants extér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aille de la population est </a:t>
            </a: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inf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n'y a </a:t>
            </a: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pas de mutation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locus considé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n'y a </a:t>
            </a:r>
            <a:r>
              <a:rPr b="1" lang="fr-FR" sz="1800" spc="-1" strike="noStrike">
                <a:solidFill>
                  <a:srgbClr val="cc0099"/>
                </a:solidFill>
                <a:latin typeface="Arial"/>
              </a:rPr>
              <a:t>pas de sélection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ssant sur le locus considé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052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Postulat de base de l’équilibre de Hardy-Weinber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9:25:25Z</dcterms:created>
  <dc:creator>EcoFoG</dc:creator>
  <dc:description/>
  <dc:language>en-US</dc:language>
  <cp:lastModifiedBy>Stéphane TRAISSAC</cp:lastModifiedBy>
  <dcterms:modified xsi:type="dcterms:W3CDTF">2007-09-27T21:20:02Z</dcterms:modified>
  <cp:revision>26</cp:revision>
  <dc:subject/>
  <dc:title>Diapositive 1</dc:title>
</cp:coreProperties>
</file>