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11.jpeg" ContentType="image/jpeg"/>
  <Override PartName="/ppt/media/image7.png" ContentType="image/png"/>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A96D-79AB-4B9F-96A0-8C8710A2ED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www.futura-sciences.com/comprendre/g/definition-ecologie_133.php"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fr.wikipedia.org/wiki/Biome" TargetMode="External"/><Relationship Id="rId2" Type="http://schemas.openxmlformats.org/officeDocument/2006/relationships/hyperlink" Target="http://fr.wikipedia.org/wiki/Biodiversit&#233;" TargetMode="External"/><Relationship Id="rId3" Type="http://schemas.openxmlformats.org/officeDocument/2006/relationships/hyperlink" Target="http://fr.wikipedia.org/wiki/Am&#233;rique" TargetMode="External"/><Relationship Id="rId4" Type="http://schemas.openxmlformats.org/officeDocument/2006/relationships/hyperlink" Target="http://fr.wikipedia.org/wiki/Afrique" TargetMode="External"/><Relationship Id="rId5" Type="http://schemas.openxmlformats.org/officeDocument/2006/relationships/hyperlink" Target="http://fr.wikipedia.org/wiki/Asie" TargetMode="External"/><Relationship Id="rId6" Type="http://schemas.openxmlformats.org/officeDocument/2006/relationships/hyperlink" Target="http://fr.wikipedia.org/wiki/For&#234;t_amazonienne#_note-Turner_2001" TargetMode="External"/><Relationship Id="rId7" Type="http://schemas.openxmlformats.org/officeDocument/2006/relationships/slide" Target="../slides/slide5.xml"/><Relationship Id="rId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volution cumulative</a:t>
            </a:r>
            <a:r>
              <a:rPr b="0" lang="fr-FR" sz="1200" spc="-1" strike="noStrike">
                <a:solidFill>
                  <a:srgbClr val="000000"/>
                </a:solidFill>
                <a:latin typeface="Arial"/>
              </a:rPr>
              <a:t>: Environnement des FTH est stable depuis longtemps et n’a pas subi des événements climatiques importants et contraignants (glaciations, hiver). D’où une accumulation importante d’espèces et un faible taux d’extinction. Diversité résulte d’un environnement stable (long et court terme). Ces biomes sont « en place » depuis longtemps et ont permis la spéciation et la co-évolution (adaptation mutuelle de deux ou plusieurs espè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giospermes ont une longue histoire dans les tropiques et ont évolué depuis le Crétacé (135 millions d’années dans la région Indo malaise). Les FTH telles qu’on les connaît se sont installées au début du tertiaire (65 MA, Cox &amp; more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ductivité</a:t>
            </a:r>
            <a:r>
              <a:rPr b="0" lang="fr-FR" sz="1200" spc="-1" strike="noStrike">
                <a:solidFill>
                  <a:srgbClr val="000000"/>
                </a:solidFill>
                <a:latin typeface="Arial"/>
              </a:rPr>
              <a:t>: conditions climatiques très favorables à la croissance de plantes. Peu d’énergie est consacré à des mécanismes de régulation interne et beaucoup aux mécanismes de reproduction. Population avec forte diversité génétique ce qui réduit les risques d’extinction. Productivité à long terme favorise des populations v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rive génétique et isolement</a:t>
            </a:r>
            <a:r>
              <a:rPr b="0" lang="fr-FR" sz="1200" spc="-1" strike="noStrike">
                <a:solidFill>
                  <a:srgbClr val="000000"/>
                </a:solidFill>
                <a:latin typeface="Arial"/>
              </a:rPr>
              <a:t>: mécanismes de spéci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ertubation: définie comme un événement discret dans le temps qui perturbe la structure de l’écosystème, la communauté ou la population et modifie la disponibilité des ressources et du substrat ou l’environnement physique (Pickett &amp; White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erturbations varient selon l’échelle spatiale, fréquence et l’intensi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lection d’espèces pionnières (stratégie r opportunistes) et d’espèces climaciques (stratégie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té est favorisée avec invasion de nouvelles espèces. La perturbation doit permettre l’installation de ces nouvelles espèces empêchant ainsi que des espèces dominent une communauté. Existence d’un compromis entre colonisation et compétition. Perturbation interrompt ainsi l’élimination d’espèces par compétition, ce qui maintient les populations dans un état de non-équili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currence d’ouvertures crée une mosaïque de stades successionnels permettant ainsi le maintien d’espèces pionnières dans des forêts ma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iche écologique: hypervolume où chaque dimension de l'espace est une ressource (alimentaire, spatiale, etc.) de l'environnement (Hutchinson, 195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espèce occupe une niche différente -&gt; compétition limit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gmentation diversité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 de spécialisation des res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onditions contrôleés, on a fait subir aux plantules de chacune des espèces des conditions d’hydromorphie et de sécheresse (+ contrôle). Et mesure de traits fonctionnels (liés à la photosynthèse) et de performance (croissance, sur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P montre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espèces en blanc (sols hydromorphes) en noir (sols non hydromorp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xe 1 représente axe de tolérance à l’engorgement hydrique: maintien de tx de croissance élevée et activité photoS élevé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xe 2: axe de tolérance à sécheres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réponse des espèces aux conditions d’hydromporhie et de sécheresse est cohérente avec l’association des espèces avec les habi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ort de densité entre sols hydromorphes et sols non hydromor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ort &gt; 1: sp princip. Dans sols hyd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ort &lt; 1: sp princ dans sols non hyd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étérogénéité des habitats (échelle différente par rapport aux 2 diapos précé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nvironnement (milieu physique) varie bcp en FTH avec gradients climatiques, topographiques, pédologiques et hydrologiques. Cette hétérogénéité spatiale crée bcp d’habi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té gamma (région/continent): en Amazonie, 20 types forestiers ont été définis. On distingue deux grands ensembles : terra firme (forêts de liane, de bambous, de palmiers, forêts sur sable blanc) et forêts inond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té beta: gradient hydrologiques ex au Venezuela (Terborgh 1992).</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chelle spatiale de quelques mètres. Théorie testée au niveau de l’espè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nzen Connell (1970, 19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bivorie en détruisant les plantules va augmenter les distances entre individus de la même espèce. L’espace disponible sous l’arbre parent sera utilisé par d’autres espè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tance de recrutement varie selon les espèces et leurs capacités à disperser les gr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mplique que les herbivores soient spécifiques à leurs hô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b pour les forêts dominées par une seule espèce? Hyp: : ces espèces seraient mieux protégés contre les attaques des herb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lon la </a:t>
            </a:r>
            <a:r>
              <a:rPr b="0" i="1" lang="fr-FR" sz="800" spc="-1" strike="noStrike">
                <a:solidFill>
                  <a:srgbClr val="000000"/>
                </a:solidFill>
                <a:latin typeface="Arial"/>
              </a:rPr>
              <a:t>niche assembly perspective</a:t>
            </a:r>
            <a:r>
              <a:rPr b="0" lang="fr-FR" sz="800" spc="-1" strike="noStrike">
                <a:solidFill>
                  <a:srgbClr val="000000"/>
                </a:solidFill>
                <a:latin typeface="Arial"/>
              </a:rPr>
              <a:t> (voir Hubbell, 2001), les communautés sont à l’équilibre, constituées d’espèces séparées selon leurs besoins et performances écologiques en relation avec la régénération (Grubb, 1977), l’utilisation des ressources (Tilman, 1985), la réponse à une perturbation et au stress (Grime, 1977). La coexistence d’espèces en sympatrie repose sur la </a:t>
            </a:r>
            <a:r>
              <a:rPr b="0" lang="fr-FR" sz="800" spc="-1" strike="noStrike" u="sng">
                <a:solidFill>
                  <a:srgbClr val="000000"/>
                </a:solidFill>
                <a:uFillTx/>
                <a:latin typeface="Arial"/>
              </a:rPr>
              <a:t>différenciation des niches</a:t>
            </a:r>
            <a:r>
              <a:rPr b="0" lang="fr-FR" sz="800" spc="-1" strike="noStrike">
                <a:solidFill>
                  <a:srgbClr val="000000"/>
                </a:solidFill>
                <a:latin typeface="Arial"/>
              </a:rPr>
              <a:t> réalisées, la niche étant considérée au sens de Hutchinson comme l’ensemble des besoins et des performances d’une espèce mesurés le long d’autant d’axes indépendants. Dans le schéma de Palmer, les conditions non respectées sont les numéros 2, 3, 4. Selon cette hypothèse, la gamme de micro-environnements présente dans le peuplement, en particulier dans les trouées en fth, permet aux espèces présentant des processus de régénération et des exigences aux stades juvéniles différentes de s’installer avec succès et de se maintenir. Les communautés sont dans ce schéma des </a:t>
            </a:r>
            <a:r>
              <a:rPr b="0" lang="fr-FR" sz="800" spc="-1" strike="noStrike" u="sng">
                <a:solidFill>
                  <a:srgbClr val="000000"/>
                </a:solidFill>
                <a:uFillTx/>
                <a:latin typeface="Arial"/>
              </a:rPr>
              <a:t>assemblages d’espèces déterminés par des règles de coexistence</a:t>
            </a:r>
            <a:r>
              <a:rPr b="0" lang="fr-FR" sz="800" spc="-1" strike="noStrike">
                <a:solidFill>
                  <a:srgbClr val="000000"/>
                </a:solidFill>
                <a:latin typeface="Arial"/>
              </a:rPr>
              <a:t> basées sur les niches des espèces (Keddy, 1992; Wilson et Roxburgh, 199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lon la </a:t>
            </a:r>
            <a:r>
              <a:rPr b="0" i="1" lang="fr-FR" sz="800" spc="-1" strike="noStrike">
                <a:solidFill>
                  <a:srgbClr val="000000"/>
                </a:solidFill>
                <a:latin typeface="Arial"/>
              </a:rPr>
              <a:t>dispersal assembly perspective</a:t>
            </a:r>
            <a:r>
              <a:rPr b="0" lang="fr-FR" sz="800" spc="-1" strike="noStrike">
                <a:solidFill>
                  <a:srgbClr val="000000"/>
                </a:solidFill>
                <a:latin typeface="Arial"/>
              </a:rPr>
              <a:t>, la dynamique des communautés est sous contrôle principal de processus stochastiques liés à la mortalité, au recrutement et à l’immigration (Hubbell, 2001). Le mécanisme principal permettant la coexistence des espèces selon ce schéma est la </a:t>
            </a:r>
            <a:r>
              <a:rPr b="0" lang="fr-FR" sz="800" spc="-1" strike="noStrike" u="sng">
                <a:solidFill>
                  <a:srgbClr val="000000"/>
                </a:solidFill>
                <a:uFillTx/>
                <a:latin typeface="Arial"/>
              </a:rPr>
              <a:t>limitation par le recrutement</a:t>
            </a:r>
            <a:r>
              <a:rPr b="0" lang="fr-FR" sz="800" spc="-1" strike="noStrike">
                <a:solidFill>
                  <a:srgbClr val="000000"/>
                </a:solidFill>
                <a:latin typeface="Arial"/>
              </a:rPr>
              <a:t>, définie par : « l’échec du recrutement d’une espèce dans des conditions favorables à sa croissance et à sa survie » (Hubbell</a:t>
            </a:r>
            <a:r>
              <a:rPr b="0" i="1" lang="fr-FR" sz="800" spc="-1" strike="noStrike">
                <a:solidFill>
                  <a:srgbClr val="000000"/>
                </a:solidFill>
                <a:latin typeface="Arial"/>
              </a:rPr>
              <a:t> et al.</a:t>
            </a:r>
            <a:r>
              <a:rPr b="0" lang="fr-FR" sz="800" spc="-1" strike="noStrike">
                <a:solidFill>
                  <a:srgbClr val="000000"/>
                </a:solidFill>
                <a:latin typeface="Arial"/>
              </a:rPr>
              <a:t>, 1999). Dans ce schéma, la composition d’une communauté (</a:t>
            </a:r>
            <a:r>
              <a:rPr b="0" i="1" lang="fr-FR" sz="800" spc="-1" strike="noStrike">
                <a:solidFill>
                  <a:srgbClr val="000000"/>
                </a:solidFill>
                <a:latin typeface="Arial"/>
              </a:rPr>
              <a:t>actual species pool</a:t>
            </a:r>
            <a:r>
              <a:rPr b="0" lang="fr-FR" sz="800" spc="-1" strike="noStrike">
                <a:solidFill>
                  <a:srgbClr val="000000"/>
                </a:solidFill>
                <a:latin typeface="Arial"/>
              </a:rPr>
              <a:t>, Zobel, 1997) est dépendante de la probabilité de recrutement des espèces présentes localement (</a:t>
            </a:r>
            <a:r>
              <a:rPr b="0" i="1" lang="fr-FR" sz="800" spc="-1" strike="noStrike">
                <a:solidFill>
                  <a:srgbClr val="000000"/>
                </a:solidFill>
                <a:latin typeface="Arial"/>
              </a:rPr>
              <a:t>local species pool</a:t>
            </a:r>
            <a:r>
              <a:rPr b="0" lang="fr-FR" sz="800" spc="-1" strike="noStrike">
                <a:solidFill>
                  <a:srgbClr val="000000"/>
                </a:solidFill>
                <a:latin typeface="Arial"/>
              </a:rPr>
              <a:t>). La communauté est dans ce cas un </a:t>
            </a:r>
            <a:r>
              <a:rPr b="0" lang="fr-FR" sz="800" spc="-1" strike="noStrike" u="sng">
                <a:solidFill>
                  <a:srgbClr val="000000"/>
                </a:solidFill>
                <a:uFillTx/>
                <a:latin typeface="Arial"/>
              </a:rPr>
              <a:t>assemblage d’espèces déterminé par la dispersion, non par la niche</a:t>
            </a:r>
            <a:r>
              <a:rPr b="0" lang="fr-FR" sz="800" spc="-1" strike="noStrike">
                <a:solidFill>
                  <a:srgbClr val="000000"/>
                </a:solidFill>
                <a:latin typeface="Arial"/>
              </a:rPr>
              <a:t>. Dans le schéma de Palmer, les conditions non respectées sont les numéros 6 et 7. Cette conception s’inscrit dans le cadre plus large des théories neutres en écologie des communautés. Elle peut être mise en parallèle l’hypothèse de neutralité en génétique des populations. L’exemple le plus connu de théorie neutre en écologie est celui de la théorie de la géographie insulaire de Mac Arthur et Wilson (MacArthur et Wilson, 1967), dans laquelle les espèces sont considérées comme équivalentes et traitées de façon similaire. Dans sa théorie neutre de la biodiversité et de la biogéographie, Hubbell suppose la neutralité au niveau individuel (Hubbell, 2001). La communauté considérée est un ensemble d’individus occupant un même niveau trophique. Les individus sont équivalents du point de vue écologique, au sens où les interactions au sein du niveau trophique considéré sont régies indépendamment de l’espèce. Dans ce schéma, </a:t>
            </a:r>
            <a:r>
              <a:rPr b="0" lang="fr-FR" sz="800" spc="-1" strike="noStrike" u="sng">
                <a:solidFill>
                  <a:srgbClr val="000000"/>
                </a:solidFill>
                <a:uFillTx/>
                <a:latin typeface="Arial"/>
              </a:rPr>
              <a:t>la dispersion est fondamentale et constitue la principale limitation spatiale</a:t>
            </a:r>
            <a:r>
              <a:rPr b="0" lang="fr-FR" sz="800" spc="-1" strike="noStrike">
                <a:solidFill>
                  <a:srgbClr val="000000"/>
                </a:solidFill>
                <a:latin typeface="Arial"/>
              </a:rPr>
              <a:t> à la colonisation de sites favorables. Elle détermine la quantité de propagules présentes localement et dont dépend la probabilité de recrutement. Cette hypothèse est également utilisée dans les modèles de loterie compétitive : la probabilité de recrutement d’une espèce </a:t>
            </a:r>
            <a:r>
              <a:rPr b="0" i="1" lang="fr-FR" sz="800" spc="-1" strike="noStrike">
                <a:solidFill>
                  <a:srgbClr val="000000"/>
                </a:solidFill>
                <a:latin typeface="Arial"/>
              </a:rPr>
              <a:t>i</a:t>
            </a:r>
            <a:r>
              <a:rPr b="0" lang="fr-FR" sz="800" spc="-1" strike="noStrike">
                <a:solidFill>
                  <a:srgbClr val="000000"/>
                </a:solidFill>
                <a:latin typeface="Arial"/>
              </a:rPr>
              <a:t> en un site vacant ne dépend que de l’abondance relative de ses propagules (Chesson et Warner, 1981). Le modèle de Chesson et Warner, 1981) est similaire au modèle de Hubbell et n’en diffère que par l’avantage reproductif donné aux espèces rares (Hubbell, 2001).</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Arial"/>
              </a:rPr>
              <a:t>« La biodiversité peut être vue sous deux angles complémentaires. Le premier, familier au public, est celui de la recherche spécifique des écosystèmes; le public est sensibilisé à la disparition d’espèces comme aux invasions biologiques. </a:t>
            </a:r>
            <a:r>
              <a:rPr b="1" i="1" lang="fr-FR" sz="800" spc="-1" strike="noStrike">
                <a:solidFill>
                  <a:srgbClr val="000000"/>
                </a:solidFill>
                <a:latin typeface="Arial"/>
              </a:rPr>
              <a:t>Mais la biodiversité, c’est aussi la multiplicité des interactions dynamiques entre des gènes et protéines dans les organismes, des espèces dans un milieu, des bactéries aux grands mammifères et du plus petit écosystème jusqu’à la biosphère dans son ensemble ».</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fr-FR" sz="800" spc="-1" strike="noStrike">
                <a:solidFill>
                  <a:srgbClr val="000000"/>
                </a:solidFill>
                <a:latin typeface="Arial"/>
              </a:rPr>
              <a:t>[1</a:t>
            </a:r>
            <a:r>
              <a:rPr b="0" lang="fr-FR" sz="500" spc="-1" strike="noStrike">
                <a:solidFill>
                  <a:srgbClr val="000000"/>
                </a:solidFill>
                <a:latin typeface="Arial"/>
              </a:rPr>
              <a:t>]  Discours de Mme la Ministre Claudie Haigneré, journées de l’IFB, Tours, 18 décembre 2002</a:t>
            </a:r>
            <a:endParaRPr b="0" lang="en-US" sz="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Fonctionnement des écosystèmes : Flux de masse, d’énergie et d’information entre l’écosystème et l’extérieu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iomasse et productivité</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cess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ractions entre espèces (par exemple chaîne trophi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ractions entre organismes vivants et facteurs du mili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ycles biogéochimiques (N, C, eau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Ensemble des éléments composant la vie (dans un espace donné) avec leurs interaction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erme de biodiversité est relativement récent puisqu’il a été introduit pour la première fois par le biologiste Walter G. Rosen et popularisé par la suite par Edward O. Wilson lors du forum sur la diversité biologique de la National Research Council de l’Académie des Sciences américaine en 1986, et ensuite à travers son livre Biodiversity (1988). La terminologie biological diversity(diversité biologique), utilisée avant cela, avait été introduite par le tropicaliste Thomas Lovejoy en 1980. Ceci est un exemple, comme il en existe d’autre en sciences, de remplacement d’un terme par un autre sans aucun changement sémantique mais plutôt pour des raisons d’efficacité en termes de communic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La biodiversité existe à tous les niveaux d’organisation biologique: populations, espèces, communauté, écosystèmes.</a:t>
            </a: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La diversité spécifique</a:t>
            </a:r>
            <a:r>
              <a:rPr b="0" lang="fr-FR" sz="1000" spc="-1" strike="noStrike">
                <a:solidFill>
                  <a:srgbClr val="000000"/>
                </a:solidFill>
                <a:latin typeface="Arial"/>
              </a:rPr>
              <a:t> : caractérisée par le nombre d’espèces vivant dans un milieu donné.</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La diversité génétique </a:t>
            </a:r>
            <a:r>
              <a:rPr b="0" lang="fr-FR" sz="1000" spc="-1" strike="noStrike">
                <a:solidFill>
                  <a:srgbClr val="000000"/>
                </a:solidFill>
                <a:latin typeface="Arial"/>
              </a:rPr>
              <a:t>: correspondant à la diversité des gènes au sein d’une espèce donnée. Chaque individu étant, jusqu’à un certain degré, génétiquement différent au sein même de l’espèce à laquelle il appartient (sauf pour les espèces produisant des clones : bactéries, pucer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La diversité des écosystèmes </a:t>
            </a:r>
            <a:r>
              <a:rPr b="0" lang="fr-FR" sz="1000" spc="-1" strike="noStrike">
                <a:solidFill>
                  <a:srgbClr val="000000"/>
                </a:solidFill>
                <a:latin typeface="Arial"/>
              </a:rPr>
              <a:t>: qui correspond à la diversité située à un niveau supérieur et englobant les deux autres. </a:t>
            </a:r>
            <a:endParaRPr b="0" lang="en-US" sz="10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La biodiversité existe à tous les niveaux d’organisation biologique: populations, espèces, communauté, écosystèm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Depuis la Conférence des Nations Unies sur l’Environnement et le Développement (Rio, 1992), la diversité du vivant est devenue une préoccupation planétaire : 188 Etats Parties y ont signé la Convention sur la Diversité Biologique qui, depuis, coordonne des travaux scientifiques et techniques régulier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La biodiversité d’aujourd’hui est le fruit de milliards d’années d’évolution, formée par les processus naturels et subissant de plus en plus l’influence de l’homm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 ce jour, près de deux millions d’espèces ont été identifiées. De nombreux scientifiques pensent qu’il existe près de 13 millions d’espèces sur Terre mais d’autres estimations situent leur nombre entre 3 et 100 million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u cours des quelques centaines d’années écoulées, la biodiversité a été confrontée à de grands défis, dont, une demande grandissante exercée sur les ressources biologiques, due à la croissance démographique et à l’augmentation de la consommation. Cette exploitation accrue des ressources biologiques a abouti à une érosion des espèces à un rythme estimé actuellement 100 fois plus rapide que celui de l’évolution naturell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Les trois principales pressions exercées sur la biodiversité sont la destruction, la fragmentation et l’altération des habitats, l’introduction d’espèces allogènes et la surexploitation d’espèces. Elles concernent tous les milieux, y compris « la nature ordinaire ». Cependant ces facteurs ont un impact d’autant plus fort que les espèces concernées sont de taille réduite et isolées ou rares, endémiques ou spécialistes de certain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milieux.</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Or cette érosion n’est pas inéluctable. Elle résulte de choix politiques, économiques et sociaux. La Stratégie Nationale du Développement Durable est la première illustration de ces nouveaux choix politiques, la Stratégie Nationale pour la Biodiversité constitue l’étape suivant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éories non exclusives. Elles interviennent à des échelles de temps et d’espace différentes. La spéciation allopatrique, phénomène à grande échelle spatiale et temporelle, est un mécanisme essentiel pour générer de la diversité. C’est à partir de pool d’espèce que d’autres mécanismes écologiques interviennent pour maintenir la diversit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es difficultés est de définir l’importance de chacun de ces mécanismes pour expliquer la grande diversité d’espè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servation: ex ecotones (une zone de transition de végétation, habituellement étroite et clairement définie qui sépare deux communautés végétales distinctes, par ex. : les zones riveraines. Elle peut être assez large entre deux biomes différents, par ex. : la prairie-parc entre les prairies et la forêt boréale) doivent être intégrées dans les réserves pour que les mécanismes de spéciation allopatrique puissent être préservés. Choix: sur des critères d’endémisme (terme employé en </a:t>
            </a:r>
            <a:r>
              <a:rPr b="0" lang="fr-FR" sz="1200" spc="-1" strike="noStrike" u="sng">
                <a:solidFill>
                  <a:srgbClr val="009999"/>
                </a:solidFill>
                <a:uFillTx/>
                <a:latin typeface="Arial"/>
                <a:hlinkClick r:id="rId1"/>
              </a:rPr>
              <a:t>écologie</a:t>
            </a:r>
            <a:r>
              <a:rPr b="0" lang="fr-FR" sz="1200" spc="-1" strike="noStrike">
                <a:solidFill>
                  <a:srgbClr val="000000"/>
                </a:solidFill>
                <a:latin typeface="Arial"/>
              </a:rPr>
              <a:t> pour décrire la tendance des plantes et des animaux à être naturellement confinés dans une région particulière), de richesse et occurrence d’espèces rares ou menacées 80 % du bassin amazonien devraient être protégé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5 millions d’espèces décr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stimés varient de 3-30 mill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encia: 473 espèces (&gt; 5 cm) et 307 espèces &gt; 10 cm. 52 familles: fabaceae: 47 esp, Lauraceae: 38, Sapotaceae: 34, Annonaceae: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existence d’espèces du même genre: 82 % des espèces ont un congénérique présent dans parcelle 50 ha (Pasol: total nb sp: 8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forêt tropicale humide est le </a:t>
            </a:r>
            <a:r>
              <a:rPr b="0" lang="fr-FR" sz="1200" spc="-1" strike="noStrike" u="sng">
                <a:solidFill>
                  <a:srgbClr val="009999"/>
                </a:solidFill>
                <a:uFillTx/>
                <a:latin typeface="Arial"/>
                <a:hlinkClick r:id="rId1"/>
              </a:rPr>
              <a:t>biome</a:t>
            </a:r>
            <a:r>
              <a:rPr b="0" lang="fr-FR" sz="1200" spc="-1" strike="noStrike">
                <a:solidFill>
                  <a:srgbClr val="000000"/>
                </a:solidFill>
                <a:latin typeface="Arial"/>
              </a:rPr>
              <a:t> qui possède la plus importante </a:t>
            </a:r>
            <a:r>
              <a:rPr b="0" lang="fr-FR" sz="1200" spc="-1" strike="noStrike" u="sng">
                <a:solidFill>
                  <a:srgbClr val="009999"/>
                </a:solidFill>
                <a:uFillTx/>
                <a:latin typeface="Arial"/>
                <a:hlinkClick r:id="rId2"/>
              </a:rPr>
              <a:t>biodiversité</a:t>
            </a:r>
            <a:r>
              <a:rPr b="0" lang="fr-FR" sz="1200" spc="-1" strike="noStrike">
                <a:solidFill>
                  <a:srgbClr val="000000"/>
                </a:solidFill>
                <a:latin typeface="Arial"/>
              </a:rPr>
              <a:t> spécifique, et les forêts tropicales d'</a:t>
            </a:r>
            <a:r>
              <a:rPr b="0" lang="fr-FR" sz="1200" spc="-1" strike="noStrike" u="sng">
                <a:solidFill>
                  <a:srgbClr val="009999"/>
                </a:solidFill>
                <a:uFillTx/>
                <a:latin typeface="Arial"/>
                <a:hlinkClick r:id="rId3"/>
              </a:rPr>
              <a:t>Amérique</a:t>
            </a:r>
            <a:r>
              <a:rPr b="0" lang="fr-FR" sz="1200" spc="-1" strike="noStrike">
                <a:solidFill>
                  <a:srgbClr val="000000"/>
                </a:solidFill>
                <a:latin typeface="Arial"/>
              </a:rPr>
              <a:t> possèdent plus d'espèces que les forêts humide d'</a:t>
            </a:r>
            <a:r>
              <a:rPr b="0" lang="fr-FR" sz="1200" spc="-1" strike="noStrike" u="sng">
                <a:solidFill>
                  <a:srgbClr val="009999"/>
                </a:solidFill>
                <a:uFillTx/>
                <a:latin typeface="Arial"/>
                <a:hlinkClick r:id="rId4"/>
              </a:rPr>
              <a:t>Afrique</a:t>
            </a:r>
            <a:r>
              <a:rPr b="0" lang="fr-FR" sz="1200" spc="-1" strike="noStrike">
                <a:solidFill>
                  <a:srgbClr val="000000"/>
                </a:solidFill>
                <a:latin typeface="Arial"/>
              </a:rPr>
              <a:t> ou d'</a:t>
            </a:r>
            <a:r>
              <a:rPr b="0" lang="fr-FR" sz="1200" spc="-1" strike="noStrike" u="sng">
                <a:solidFill>
                  <a:srgbClr val="009999"/>
                </a:solidFill>
                <a:uFillTx/>
                <a:latin typeface="Arial"/>
                <a:hlinkClick r:id="rId5"/>
              </a:rPr>
              <a:t>Asie</a:t>
            </a:r>
            <a:r>
              <a:rPr b="0" lang="fr-FR" sz="1200" spc="-1" strike="noStrike" u="sng">
                <a:solidFill>
                  <a:srgbClr val="009999"/>
                </a:solidFill>
                <a:uFillTx/>
                <a:latin typeface="Arial"/>
                <a:hlinkClick r:id="rId6"/>
              </a:rPr>
              <a:t>[1]</a:t>
            </a:r>
            <a:r>
              <a:rPr b="0" lang="fr-FR" sz="1200" spc="-1" strike="noStrike">
                <a:solidFill>
                  <a:srgbClr val="000000"/>
                </a:solidFill>
                <a:latin typeface="Arial"/>
              </a:rPr>
              <a:t>. Etant la plus grande région de forêt tropicale humide d'Amérique, la forêt amazonienne possède une biodiversité inégal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région abrite environ 2,5 millions d'espèces d'insectes, dix mille de plantes et 2000 oiseaux et mammifères. Actuellement, au moins 40 000 espèces de plantes, 3000 poissons, 1294 oiseaux, 427 mammifères, 427 amphibiens et 378 reptiles ont été scientifiquement classés dans la région[2]. Les scientifiques on décrit entre 96 660 et 128 843 espèces invertébrés uniquement au Brési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iversité d'espèces de plantes est la plus importante sur Terre. Certains experts estiment qu'un kilomètre carré pourrait contenir plus de 75 000 types d'arbres et 150 000 d'espèces de plantes supérieurs. Un kilomètre carré de forêt amazonienne peut contenir 90 790 tonnes de plantes vivantes. Actuellement, une estimation de 438 000 espèces de plantes ayant un intérêt économique et social ont été repertoriées dans la région, beaucoup plus restant à être découvertes ou classifié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écanismes écologiques se déroulent à des échelles de temps et d’espace très diffé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mécanismes comme la spéciation se sont déroulées sur plusieurs millions d’années. D’autres mécanismes écologiques (liées au maintien) se déroulent sur des pas de temps beaucoup plus cou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té </a:t>
            </a:r>
            <a:r>
              <a:rPr b="0" i="1" lang="fr-FR" sz="1200" spc="-1" strike="noStrike">
                <a:solidFill>
                  <a:srgbClr val="000000"/>
                </a:solidFill>
                <a:latin typeface="Arial"/>
              </a:rPr>
              <a:t>gamma</a:t>
            </a:r>
            <a:r>
              <a:rPr b="0" lang="fr-FR" sz="1200" spc="-1" strike="noStrike">
                <a:solidFill>
                  <a:srgbClr val="000000"/>
                </a:solidFill>
                <a:latin typeface="Arial"/>
              </a:rPr>
              <a:t> pour décrire les changements de composition spécifique entre grands territoires, entre continents par exemple. La diversité </a:t>
            </a:r>
            <a:r>
              <a:rPr b="0" i="1" lang="fr-FR" sz="1200" spc="-1" strike="noStrike">
                <a:solidFill>
                  <a:srgbClr val="000000"/>
                </a:solidFill>
                <a:latin typeface="Arial"/>
              </a:rPr>
              <a:t>gamma</a:t>
            </a:r>
            <a:r>
              <a:rPr b="0" lang="fr-FR" sz="1200" spc="-1" strike="noStrike">
                <a:solidFill>
                  <a:srgbClr val="000000"/>
                </a:solidFill>
                <a:latin typeface="Arial"/>
              </a:rPr>
              <a:t> est la diversité spécifique totale d'une région éten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s dernières décennies, de nombreuses hypothèses ont été proposées pour expliquer les richesses spécifiques, les abondances relatives observées localement et la distribution de cette diversité à des échelles variées. Plusieurs tentatives de classification de ces hypothèses ont été envisagées (Grubb, 1977, Connell, 1978, Wilson, 1990, Tilman et Pacala, 1993, Palmer, 1994, Chesson, 2000, Wright, 2001). Palmer recense 120 hypothèses de ce type (Palmer, 1994). Elles ne sont en général pas exclusives et ont des fondements communs d’où la difficulté d’une classification univ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iérarchie des processus qui peuvent expliquer l’origine de la diversité et de son main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té Alpha: diversification des niches, interactions biotiques et gap dynamics (perturb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té Beta: processus clefs sont la diversification des habitats (topographie et géolo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té Gamma, processus clefs: spéciation sympatrique et allopatriq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BBB01-2869-40C8-A724-AF5A703DB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38DFB-2C02-433E-B9A4-BF532924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A0660-096F-40D2-8AFB-BBCC68335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3397C-0324-4328-B496-F364973D7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E418B-08C3-4A29-9F11-C22D15634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598CE-010F-4BC4-81E8-01FF44DA0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0DA2F-70FB-4AEB-8193-E90E768E9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BE9D2-8A91-43D1-ADDA-955295C97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D3810-CF36-4ADC-A5B5-AF20F8E46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D81D3-4754-43C1-B95A-F542649D3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CBC2-D636-4B20-9B1D-41C6C46BB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C77A5-57AF-42F9-B034-DA847D59C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43EC-6DC8-4B4E-8E9E-77FC8761E7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diversité des espèces d’arbres en forêts tropicales humides</a:t>
            </a:r>
            <a:br>
              <a:rPr sz="4000"/>
            </a:br>
            <a:br>
              <a:rPr sz="4000"/>
            </a:br>
            <a:r>
              <a:rPr b="0" lang="en-US" sz="4000" spc="-1" strike="noStrike">
                <a:solidFill>
                  <a:srgbClr val="000000"/>
                </a:solidFill>
                <a:latin typeface="Arial"/>
              </a:rPr>
              <a:t>Int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69" name=""/>
          <p:cNvGraphicFramePr/>
          <p:nvPr/>
        </p:nvGraphicFramePr>
        <p:xfrm>
          <a:off x="108000" y="1600200"/>
          <a:ext cx="8785080" cy="2871720"/>
        </p:xfrm>
        <a:graphic>
          <a:graphicData uri="http://schemas.openxmlformats.org/drawingml/2006/table">
            <a:tbl>
              <a:tblPr/>
              <a:tblGrid>
                <a:gridCol w="2187360"/>
                <a:gridCol w="2198880"/>
                <a:gridCol w="2200320"/>
                <a:gridCol w="2198520"/>
              </a:tblGrid>
              <a:tr h="660240">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fférentiation génétique</a:t>
                      </a:r>
                      <a:endParaRPr b="0" lang="en-US" sz="1800" spc="-1" strike="noStrike">
                        <a:solidFill>
                          <a:srgbClr val="000000"/>
                        </a:solidFill>
                        <a:latin typeface="Arial"/>
                      </a:endParaRPr>
                    </a:p>
                  </a:txBody>
                  <a:tcPr anchor="t" marL="36000" marR="36000">
                    <a:lnL w="432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hangements environnementaux</a:t>
                      </a:r>
                      <a:endParaRPr b="0" lang="en-US" sz="1800" spc="-1" strike="noStrike">
                        <a:solidFill>
                          <a:srgbClr val="000000"/>
                        </a:solidFill>
                        <a:latin typeface="Arial"/>
                      </a:endParaRPr>
                    </a:p>
                  </a:txBody>
                  <a:tcPr anchor="t" marL="36000" marR="36000">
                    <a:lnL w="5760">
                      <a:solidFill>
                        <a:srgbClr val="000000"/>
                      </a:solidFill>
                    </a:lnL>
                    <a:lnR w="4320">
                      <a:solidFill>
                        <a:srgbClr val="000000"/>
                      </a:solidFill>
                    </a:lnR>
                    <a:lnT w="5760">
                      <a:solidFill>
                        <a:srgbClr val="000000"/>
                      </a:solidFill>
                    </a:lnT>
                    <a:lnB w="5760">
                      <a:solidFill>
                        <a:srgbClr val="000000"/>
                      </a:solidFill>
                    </a:lnB>
                    <a:noFill/>
                  </a:tcPr>
                </a:tc>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versité des niches / habitats</a:t>
                      </a:r>
                      <a:endParaRPr b="0" lang="en-US" sz="1800" spc="-1" strike="noStrike">
                        <a:solidFill>
                          <a:srgbClr val="000000"/>
                        </a:solidFill>
                        <a:latin typeface="Arial"/>
                      </a:endParaRPr>
                    </a:p>
                  </a:txBody>
                  <a:tcPr anchor="t" marL="36000" marR="36000">
                    <a:lnL w="4320">
                      <a:solidFill>
                        <a:srgbClr val="000000"/>
                      </a:solidFill>
                    </a:lnL>
                    <a:lnR w="4320">
                      <a:solidFill>
                        <a:srgbClr val="000000"/>
                      </a:solidFill>
                    </a:lnR>
                    <a:lnT w="5760">
                      <a:solidFill>
                        <a:srgbClr val="000000"/>
                      </a:solidFill>
                    </a:lnT>
                    <a:lnB w="5760">
                      <a:solidFill>
                        <a:srgbClr val="000000"/>
                      </a:solidFill>
                    </a:lnB>
                    <a:noFill/>
                  </a:tcPr>
                </a:tc>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nteractions biotiques</a:t>
                      </a:r>
                      <a:endParaRPr b="0" lang="en-US" sz="1800" spc="-1" strike="noStrike">
                        <a:solidFill>
                          <a:srgbClr val="000000"/>
                        </a:solidFill>
                        <a:latin typeface="Arial"/>
                      </a:endParaRPr>
                    </a:p>
                  </a:txBody>
                  <a:tcPr anchor="t" marL="36000" marR="36000">
                    <a:lnL w="4320">
                      <a:solidFill>
                        <a:srgbClr val="000000"/>
                      </a:solidFill>
                    </a:lnL>
                    <a:lnR w="4320">
                      <a:solidFill>
                        <a:srgbClr val="000000"/>
                      </a:solidFill>
                    </a:lnR>
                    <a:lnT w="5760">
                      <a:solidFill>
                        <a:srgbClr val="000000"/>
                      </a:solidFill>
                    </a:lnT>
                    <a:lnB w="5760">
                      <a:solidFill>
                        <a:srgbClr val="000000"/>
                      </a:solidFill>
                    </a:lnB>
                    <a:noFill/>
                  </a:tcPr>
                </a:tc>
              </a:tr>
              <a:tr h="858960">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Evolution (« cumulative evolution »)</a:t>
                      </a:r>
                      <a:endParaRPr b="0" lang="en-US" sz="1800" spc="-1" strike="noStrike">
                        <a:solidFill>
                          <a:srgbClr val="000000"/>
                        </a:solidFill>
                        <a:latin typeface="Arial"/>
                      </a:endParaRPr>
                    </a:p>
                  </a:txBody>
                  <a:tcPr anchor="t" marL="36000" marR="36000">
                    <a:lnL w="432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Théorie des refuges (Pleistocène)</a:t>
                      </a:r>
                      <a:endParaRPr b="0" lang="en-US" sz="1800" spc="-1" strike="noStrike">
                        <a:solidFill>
                          <a:srgbClr val="000000"/>
                        </a:solidFill>
                        <a:latin typeface="Arial"/>
                      </a:endParaRPr>
                    </a:p>
                  </a:txBody>
                  <a:tcPr anchor="t" marL="36000" marR="36000">
                    <a:lnL w="5760">
                      <a:solidFill>
                        <a:srgbClr val="000000"/>
                      </a:solidFill>
                    </a:lnL>
                    <a:lnR w="4320">
                      <a:solidFill>
                        <a:srgbClr val="000000"/>
                      </a:solidFill>
                    </a:lnR>
                    <a:lnT w="5760">
                      <a:solidFill>
                        <a:srgbClr val="000000"/>
                      </a:solidFill>
                    </a:lnT>
                    <a:lnB w="5760">
                      <a:solidFill>
                        <a:srgbClr val="000000"/>
                      </a:solidFill>
                    </a:lnB>
                    <a:noFill/>
                  </a:tcPr>
                </a:tc>
                <a:tc rowSpan="3">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éories des niches</a:t>
                      </a:r>
                      <a:endParaRPr b="0" lang="en-US" sz="1800" spc="-1" strike="noStrike">
                        <a:solidFill>
                          <a:srgbClr val="000000"/>
                        </a:solidFill>
                        <a:latin typeface="Arial"/>
                      </a:endParaRPr>
                    </a:p>
                  </a:txBody>
                  <a:tcPr anchor="t" marL="36000" marR="36000">
                    <a:lnL w="4320">
                      <a:solidFill>
                        <a:srgbClr val="000000"/>
                      </a:solidFill>
                    </a:lnL>
                    <a:lnR w="4320">
                      <a:solidFill>
                        <a:srgbClr val="000000"/>
                      </a:solidFill>
                    </a:lnR>
                    <a:lnT w="5760">
                      <a:solidFill>
                        <a:srgbClr val="000000"/>
                      </a:solidFill>
                    </a:lnT>
                    <a:lnB w="13680">
                      <a:solidFill>
                        <a:srgbClr val="000000"/>
                      </a:solidFill>
                    </a:lnB>
                    <a:noFill/>
                  </a:tcPr>
                </a:tc>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Herbivorie</a:t>
                      </a:r>
                      <a:endParaRPr b="0" lang="en-US" sz="1800" spc="-1" strike="noStrike">
                        <a:solidFill>
                          <a:srgbClr val="000000"/>
                        </a:solidFill>
                        <a:latin typeface="Arial"/>
                      </a:endParaRPr>
                    </a:p>
                  </a:txBody>
                  <a:tcPr anchor="t" marL="36000" marR="36000">
                    <a:lnL w="4320">
                      <a:solidFill>
                        <a:srgbClr val="000000"/>
                      </a:solidFill>
                    </a:lnL>
                    <a:lnR w="4320">
                      <a:solidFill>
                        <a:srgbClr val="000000"/>
                      </a:solidFill>
                    </a:lnR>
                    <a:lnT w="5760">
                      <a:solidFill>
                        <a:srgbClr val="000000"/>
                      </a:solidFill>
                    </a:lnT>
                    <a:lnB w="5760">
                      <a:solidFill>
                        <a:srgbClr val="000000"/>
                      </a:solidFill>
                    </a:lnB>
                    <a:noFill/>
                  </a:tcPr>
                </a:tc>
              </a:tr>
              <a:tr h="660600">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ductivité</a:t>
                      </a:r>
                      <a:endParaRPr b="0" lang="en-US" sz="1800" spc="-1" strike="noStrike">
                        <a:solidFill>
                          <a:srgbClr val="000000"/>
                        </a:solidFill>
                        <a:latin typeface="Arial"/>
                      </a:endParaRPr>
                    </a:p>
                  </a:txBody>
                  <a:tcPr anchor="t" marL="36000" marR="36000">
                    <a:lnL w="4320">
                      <a:solidFill>
                        <a:srgbClr val="000000"/>
                      </a:solidFill>
                    </a:lnL>
                    <a:lnR w="5760">
                      <a:solidFill>
                        <a:srgbClr val="000000"/>
                      </a:solidFill>
                    </a:lnR>
                    <a:lnT w="5760">
                      <a:solidFill>
                        <a:srgbClr val="000000"/>
                      </a:solidFill>
                    </a:lnT>
                    <a:lnB w="5760">
                      <a:solidFill>
                        <a:srgbClr val="000000"/>
                      </a:solidFill>
                    </a:lnB>
                    <a:noFill/>
                  </a:tcPr>
                </a:tc>
                <a:tc rowSpan="2">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turbation intermédiaire</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ynamique des trouées</a:t>
                      </a:r>
                      <a:endParaRPr b="0" lang="en-US" sz="1600" spc="-1" strike="noStrike">
                        <a:solidFill>
                          <a:srgbClr val="000000"/>
                        </a:solidFill>
                        <a:latin typeface="Arial"/>
                      </a:endParaRPr>
                    </a:p>
                  </a:txBody>
                  <a:tcPr anchor="t" marL="36000" marR="36000">
                    <a:lnL w="5760">
                      <a:solidFill>
                        <a:srgbClr val="000000"/>
                      </a:solidFill>
                    </a:lnL>
                    <a:lnR w="432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mitation par le recrutement</a:t>
                      </a:r>
                      <a:endParaRPr b="0" lang="en-US" sz="1800" spc="-1" strike="noStrike">
                        <a:solidFill>
                          <a:srgbClr val="000000"/>
                        </a:solidFill>
                        <a:latin typeface="Arial"/>
                      </a:endParaRPr>
                    </a:p>
                  </a:txBody>
                  <a:tcPr anchor="t" marL="36000" marR="36000">
                    <a:lnL w="4320">
                      <a:solidFill>
                        <a:srgbClr val="000000"/>
                      </a:solidFill>
                    </a:lnL>
                    <a:lnR w="4320">
                      <a:solidFill>
                        <a:srgbClr val="000000"/>
                      </a:solidFill>
                    </a:lnR>
                    <a:lnT w="5760">
                      <a:solidFill>
                        <a:srgbClr val="000000"/>
                      </a:solidFill>
                    </a:lnT>
                    <a:lnB w="5760">
                      <a:solidFill>
                        <a:srgbClr val="000000"/>
                      </a:solidFill>
                    </a:lnB>
                    <a:noFill/>
                  </a:tcPr>
                </a:tc>
              </a:tr>
              <a:tr h="691920">
                <a:tc>
                  <a:txBody>
                    <a:bodyPr lIns="36000" rIns="36000" tIns="18000" bIns="18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érive génétique et isolement</a:t>
                      </a:r>
                      <a:endParaRPr b="0" lang="en-US" sz="1800" spc="-1" strike="noStrike">
                        <a:solidFill>
                          <a:srgbClr val="000000"/>
                        </a:solidFill>
                        <a:latin typeface="Arial"/>
                      </a:endParaRPr>
                    </a:p>
                  </a:txBody>
                  <a:tcPr anchor="t" marL="36000" marR="36000">
                    <a:lnL w="432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18000" bIns="18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4320">
                      <a:solidFill>
                        <a:srgbClr val="000000"/>
                      </a:solidFill>
                    </a:lnL>
                    <a:lnR w="432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179640" y="4941720"/>
            <a:ext cx="873036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ologie des mécanismes clefs à l’origine de la diversité des espèces en F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 de son mainti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é de Hill &amp; Hill 200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turbations intermédiaires</a:t>
            </a:r>
            <a:endParaRPr b="0" lang="en-US" sz="4400" spc="-1" strike="noStrike">
              <a:solidFill>
                <a:srgbClr val="000000"/>
              </a:solidFill>
              <a:latin typeface="Arial"/>
            </a:endParaRPr>
          </a:p>
        </p:txBody>
      </p:sp>
      <p:pic>
        <p:nvPicPr>
          <p:cNvPr id="72" name="" descr=""/>
          <p:cNvPicPr/>
          <p:nvPr/>
        </p:nvPicPr>
        <p:blipFill>
          <a:blip r:embed="rId1"/>
          <a:stretch/>
        </p:blipFill>
        <p:spPr>
          <a:xfrm>
            <a:off x="468360" y="1773360"/>
            <a:ext cx="8424720" cy="34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619280" y="549360"/>
            <a:ext cx="5892840" cy="4197240"/>
          </a:xfrm>
          <a:prstGeom prst="rect">
            <a:avLst/>
          </a:prstGeom>
          <a:ln w="0">
            <a:noFill/>
          </a:ln>
        </p:spPr>
      </p:pic>
      <p:sp>
        <p:nvSpPr>
          <p:cNvPr id="74" name=""/>
          <p:cNvSpPr/>
          <p:nvPr/>
        </p:nvSpPr>
        <p:spPr>
          <a:xfrm>
            <a:off x="144360" y="4724280"/>
            <a:ext cx="882036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chesse spécifique des arbres de 2 à 10 cm de D130 dans 99 quadrats de 400 m² du dispositif de Paracou, en fonction du niveau de perturbation estimé par le pourcentage d’individus héliophiles. La richesse spécifique est calculée par la méthode de raréfaction de Hurlbert (1971) pour un effectif standard de 40 arbres. Paramètres de la régression : </a:t>
            </a:r>
            <a:r>
              <a:rPr b="0" i="1" lang="fr-FR" sz="1800" spc="-1" strike="noStrike">
                <a:solidFill>
                  <a:srgbClr val="000000"/>
                </a:solidFill>
                <a:latin typeface="Arial"/>
              </a:rPr>
              <a:t>y = 22,860 + 0,448 x – 0,007x² </a:t>
            </a:r>
            <a:r>
              <a:rPr b="0" lang="fr-FR" sz="1800" spc="-1" strike="noStrike">
                <a:solidFill>
                  <a:srgbClr val="000000"/>
                </a:solidFill>
                <a:latin typeface="Arial"/>
              </a:rPr>
              <a:t>; F</a:t>
            </a:r>
            <a:r>
              <a:rPr b="0" i="1" lang="fr-FR" sz="1800" spc="-1" strike="noStrike">
                <a:solidFill>
                  <a:srgbClr val="000000"/>
                </a:solidFill>
                <a:latin typeface="Arial"/>
              </a:rPr>
              <a:t>2,96</a:t>
            </a:r>
            <a:r>
              <a:rPr b="0" lang="fr-FR" sz="1800" spc="-1" strike="noStrike">
                <a:solidFill>
                  <a:srgbClr val="000000"/>
                </a:solidFill>
                <a:latin typeface="Arial"/>
              </a:rPr>
              <a:t> = 55,86 ; </a:t>
            </a:r>
            <a:r>
              <a:rPr b="0" i="1" lang="fr-FR" sz="1800" spc="-1" strike="noStrike">
                <a:solidFill>
                  <a:srgbClr val="000000"/>
                </a:solidFill>
                <a:latin typeface="Arial"/>
              </a:rPr>
              <a:t>p</a:t>
            </a:r>
            <a:r>
              <a:rPr b="0" lang="fr-FR" sz="1800" spc="-1" strike="noStrike">
                <a:solidFill>
                  <a:srgbClr val="000000"/>
                </a:solidFill>
                <a:latin typeface="Arial"/>
              </a:rPr>
              <a:t> &lt;0.0001. (adapté de Molino &amp; Sabatier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84360" y="1639800"/>
            <a:ext cx="7669080" cy="4813560"/>
          </a:xfrm>
          <a:prstGeom prst="rect">
            <a:avLst/>
          </a:prstGeom>
          <a:ln w="0">
            <a:noFill/>
          </a:ln>
        </p:spPr>
      </p:pic>
      <p:sp>
        <p:nvSpPr>
          <p:cNvPr id="76" name=""/>
          <p:cNvSpPr/>
          <p:nvPr/>
        </p:nvSpPr>
        <p:spPr>
          <a:xfrm>
            <a:off x="971640" y="270000"/>
            <a:ext cx="7499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bes de raréfaction en fonction de l’habit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hypothèse de diversification  des niches (Connell, 1978)  </a:t>
            </a:r>
            <a:endParaRPr b="0" lang="en-US" sz="4000" spc="-1" strike="noStrike">
              <a:solidFill>
                <a:srgbClr val="000000"/>
              </a:solidFill>
              <a:latin typeface="Arial"/>
            </a:endParaRPr>
          </a:p>
        </p:txBody>
      </p:sp>
      <p:sp>
        <p:nvSpPr>
          <p:cNvPr id="78" name="PlaceHolder 2"/>
          <p:cNvSpPr>
            <a:spLocks noGrp="1"/>
          </p:cNvSpPr>
          <p:nvPr>
            <p:ph/>
          </p:nvPr>
        </p:nvSpPr>
        <p:spPr>
          <a:xfrm>
            <a:off x="457200" y="1741320"/>
            <a:ext cx="82296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iche écologique: hypervolume où chaque dimension de l'espace est une ressource de l'environnement (Hutchinson, 1957)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que espèce occupe une niche différente  compétition limité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gmentation diversité si:</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1835280" y="6400800"/>
            <a:ext cx="58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és à décrire une niche</a:t>
            </a:r>
            <a:endParaRPr b="0" lang="en-US" sz="2400" spc="-1" strike="noStrike">
              <a:solidFill>
                <a:srgbClr val="000000"/>
              </a:solidFill>
              <a:latin typeface="Arial"/>
            </a:endParaRPr>
          </a:p>
        </p:txBody>
      </p:sp>
      <p:sp>
        <p:nvSpPr>
          <p:cNvPr id="80" name=""/>
          <p:cNvSpPr/>
          <p:nvPr/>
        </p:nvSpPr>
        <p:spPr>
          <a:xfrm>
            <a:off x="5651640" y="4797360"/>
            <a:ext cx="3492360" cy="177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Niches plus étroi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radient de ressources plus importa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 name=""/>
          <p:cNvGrpSpPr/>
          <p:nvPr/>
        </p:nvGrpSpPr>
        <p:grpSpPr>
          <a:xfrm>
            <a:off x="1332000" y="4797360"/>
            <a:ext cx="4709880" cy="1152720"/>
            <a:chOff x="1332000" y="4797360"/>
            <a:chExt cx="4709880" cy="1152720"/>
          </a:xfrm>
        </p:grpSpPr>
        <p:grpSp>
          <p:nvGrpSpPr>
            <p:cNvPr id="82" name=""/>
            <p:cNvGrpSpPr/>
            <p:nvPr/>
          </p:nvGrpSpPr>
          <p:grpSpPr>
            <a:xfrm>
              <a:off x="1332000" y="5126040"/>
              <a:ext cx="1670040" cy="495360"/>
              <a:chOff x="1332000" y="5126040"/>
              <a:chExt cx="1670040" cy="495360"/>
            </a:xfrm>
          </p:grpSpPr>
          <p:sp>
            <p:nvSpPr>
              <p:cNvPr id="83" name=""/>
              <p:cNvSpPr/>
              <p:nvPr/>
            </p:nvSpPr>
            <p:spPr>
              <a:xfrm>
                <a:off x="1332000" y="5621400"/>
                <a:ext cx="16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322720" y="5126040"/>
                <a:ext cx="678960" cy="49536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801440" y="5126040"/>
                <a:ext cx="678960" cy="49536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332000" y="5126040"/>
                <a:ext cx="678960" cy="49536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
            <p:cNvSpPr/>
            <p:nvPr/>
          </p:nvSpPr>
          <p:spPr>
            <a:xfrm flipV="1">
              <a:off x="3157560" y="5332320"/>
              <a:ext cx="262080" cy="1634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157560" y="5495760"/>
              <a:ext cx="262080" cy="165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3419640" y="5445000"/>
              <a:ext cx="2622240" cy="505080"/>
              <a:chOff x="3419640" y="5445000"/>
              <a:chExt cx="2622240" cy="505080"/>
            </a:xfrm>
          </p:grpSpPr>
          <p:sp>
            <p:nvSpPr>
              <p:cNvPr id="90" name=""/>
              <p:cNvSpPr/>
              <p:nvPr/>
            </p:nvSpPr>
            <p:spPr>
              <a:xfrm>
                <a:off x="3419640" y="5456160"/>
                <a:ext cx="67752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419640" y="5948280"/>
                <a:ext cx="259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92" name=""/>
              <p:cNvGrpSpPr/>
              <p:nvPr/>
            </p:nvGrpSpPr>
            <p:grpSpPr>
              <a:xfrm>
                <a:off x="3889440" y="5445000"/>
                <a:ext cx="2152440" cy="505080"/>
                <a:chOff x="3889440" y="5445000"/>
                <a:chExt cx="2152440" cy="505080"/>
              </a:xfrm>
            </p:grpSpPr>
            <p:sp>
              <p:nvSpPr>
                <p:cNvPr id="93" name=""/>
                <p:cNvSpPr/>
                <p:nvPr/>
              </p:nvSpPr>
              <p:spPr>
                <a:xfrm>
                  <a:off x="3889440" y="5456160"/>
                  <a:ext cx="67788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829040" y="5456160"/>
                  <a:ext cx="67788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359240" y="5456160"/>
                  <a:ext cx="67788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364000" y="5445000"/>
                  <a:ext cx="67788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 name=""/>
            <p:cNvGrpSpPr/>
            <p:nvPr/>
          </p:nvGrpSpPr>
          <p:grpSpPr>
            <a:xfrm>
              <a:off x="3679920" y="4797360"/>
              <a:ext cx="1698480" cy="503280"/>
              <a:chOff x="3679920" y="4797360"/>
              <a:chExt cx="1698480" cy="503280"/>
            </a:xfrm>
          </p:grpSpPr>
          <p:sp>
            <p:nvSpPr>
              <p:cNvPr id="98" name=""/>
              <p:cNvSpPr/>
              <p:nvPr/>
            </p:nvSpPr>
            <p:spPr>
              <a:xfrm>
                <a:off x="3679920" y="4797360"/>
                <a:ext cx="31572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708360" y="5300640"/>
                <a:ext cx="16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924360" y="4797360"/>
                <a:ext cx="31572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140360" y="4797360"/>
                <a:ext cx="31572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356000" y="4797360"/>
                <a:ext cx="31608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72000" y="4797360"/>
                <a:ext cx="31608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788000" y="4797360"/>
                <a:ext cx="31572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003640" y="4797360"/>
                <a:ext cx="316080" cy="493920"/>
              </a:xfrm>
              <a:custGeom>
                <a:avLst/>
                <a:gdLst/>
                <a:ahLst/>
                <a:rect l="l" t="t" r="r" b="b"/>
                <a:pathLst>
                  <a:path w="2631" h="2306">
                    <a:moveTo>
                      <a:pt x="0" y="2260"/>
                    </a:moveTo>
                    <a:cubicBezTo>
                      <a:pt x="94" y="2218"/>
                      <a:pt x="189" y="2177"/>
                      <a:pt x="272" y="2079"/>
                    </a:cubicBezTo>
                    <a:cubicBezTo>
                      <a:pt x="355" y="1981"/>
                      <a:pt x="431" y="1845"/>
                      <a:pt x="499" y="1671"/>
                    </a:cubicBezTo>
                    <a:cubicBezTo>
                      <a:pt x="567" y="1497"/>
                      <a:pt x="620" y="1248"/>
                      <a:pt x="681" y="1036"/>
                    </a:cubicBezTo>
                    <a:cubicBezTo>
                      <a:pt x="742" y="824"/>
                      <a:pt x="779" y="559"/>
                      <a:pt x="862" y="400"/>
                    </a:cubicBezTo>
                    <a:cubicBezTo>
                      <a:pt x="945" y="241"/>
                      <a:pt x="1059" y="143"/>
                      <a:pt x="1180" y="83"/>
                    </a:cubicBezTo>
                    <a:cubicBezTo>
                      <a:pt x="1301" y="23"/>
                      <a:pt x="1467" y="0"/>
                      <a:pt x="1588" y="38"/>
                    </a:cubicBezTo>
                    <a:cubicBezTo>
                      <a:pt x="1709" y="76"/>
                      <a:pt x="1822" y="189"/>
                      <a:pt x="1905" y="310"/>
                    </a:cubicBezTo>
                    <a:cubicBezTo>
                      <a:pt x="1988" y="431"/>
                      <a:pt x="2034" y="589"/>
                      <a:pt x="2087" y="763"/>
                    </a:cubicBezTo>
                    <a:cubicBezTo>
                      <a:pt x="2140" y="937"/>
                      <a:pt x="2185" y="1172"/>
                      <a:pt x="2223" y="1353"/>
                    </a:cubicBezTo>
                    <a:cubicBezTo>
                      <a:pt x="2261" y="1534"/>
                      <a:pt x="2284" y="1724"/>
                      <a:pt x="2314" y="1852"/>
                    </a:cubicBezTo>
                    <a:cubicBezTo>
                      <a:pt x="2344" y="1980"/>
                      <a:pt x="2351" y="2048"/>
                      <a:pt x="2404" y="2124"/>
                    </a:cubicBezTo>
                    <a:cubicBezTo>
                      <a:pt x="2457" y="2200"/>
                      <a:pt x="2544" y="2253"/>
                      <a:pt x="2631" y="23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00000" y="1125360"/>
            <a:ext cx="3645000" cy="3111840"/>
          </a:xfrm>
          <a:prstGeom prst="rect">
            <a:avLst/>
          </a:prstGeom>
          <a:ln w="0">
            <a:noFill/>
          </a:ln>
        </p:spPr>
      </p:pic>
      <p:pic>
        <p:nvPicPr>
          <p:cNvPr id="107" name="" descr=""/>
          <p:cNvPicPr/>
          <p:nvPr/>
        </p:nvPicPr>
        <p:blipFill>
          <a:blip r:embed="rId2"/>
          <a:stretch/>
        </p:blipFill>
        <p:spPr>
          <a:xfrm>
            <a:off x="5003640" y="476280"/>
            <a:ext cx="3480120" cy="5041800"/>
          </a:xfrm>
          <a:prstGeom prst="rect">
            <a:avLst/>
          </a:prstGeom>
          <a:ln w="0">
            <a:noFill/>
          </a:ln>
        </p:spPr>
      </p:pic>
      <p:sp>
        <p:nvSpPr>
          <p:cNvPr id="108" name=""/>
          <p:cNvSpPr/>
          <p:nvPr/>
        </p:nvSpPr>
        <p:spPr>
          <a:xfrm>
            <a:off x="3203640" y="6102000"/>
            <a:ext cx="388764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araloto et al.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92000" y="-1914480"/>
            <a:ext cx="7560000" cy="10686960"/>
          </a:xfrm>
          <a:prstGeom prst="rect">
            <a:avLst/>
          </a:prstGeom>
          <a:ln w="0">
            <a:noFill/>
          </a:ln>
        </p:spPr>
      </p:pic>
      <p:sp>
        <p:nvSpPr>
          <p:cNvPr id="1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théorie des ni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interactions biotiques:</a:t>
            </a:r>
            <a:br>
              <a:rPr sz="4000"/>
            </a:br>
            <a:r>
              <a:rPr b="0" lang="fr-FR" sz="4000" spc="-1" strike="noStrike">
                <a:solidFill>
                  <a:srgbClr val="000000"/>
                </a:solidFill>
                <a:latin typeface="Arial"/>
              </a:rPr>
              <a:t>la théorie de Janzen-Connell</a:t>
            </a:r>
            <a:endParaRPr b="0" lang="en-US" sz="4000" spc="-1" strike="noStrike">
              <a:solidFill>
                <a:srgbClr val="000000"/>
              </a:solidFill>
              <a:latin typeface="Arial"/>
            </a:endParaRPr>
          </a:p>
        </p:txBody>
      </p:sp>
      <p:pic>
        <p:nvPicPr>
          <p:cNvPr id="112" name="" descr=""/>
          <p:cNvPicPr/>
          <p:nvPr/>
        </p:nvPicPr>
        <p:blipFill>
          <a:blip r:embed="rId1"/>
          <a:stretch/>
        </p:blipFill>
        <p:spPr>
          <a:xfrm>
            <a:off x="1476360" y="1916280"/>
            <a:ext cx="6316560" cy="4422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théorie neutraliste</a:t>
            </a:r>
            <a:br>
              <a:rPr sz="4000"/>
            </a:br>
            <a:r>
              <a:rPr b="0" lang="fr-FR" sz="4000" spc="-1" strike="noStrike">
                <a:solidFill>
                  <a:srgbClr val="000000"/>
                </a:solidFill>
                <a:latin typeface="Arial"/>
              </a:rPr>
              <a:t>(Hubbell 1979)</a:t>
            </a:r>
            <a:endParaRPr b="0" lang="en-US" sz="4000" spc="-1" strike="noStrike">
              <a:solidFill>
                <a:srgbClr val="000000"/>
              </a:solidFill>
              <a:latin typeface="Arial"/>
            </a:endParaRPr>
          </a:p>
        </p:txBody>
      </p:sp>
      <p:sp>
        <p:nvSpPr>
          <p:cNvPr id="114" name="PlaceHolder 2"/>
          <p:cNvSpPr>
            <a:spLocks noGrp="1"/>
          </p:cNvSpPr>
          <p:nvPr>
            <p:ph/>
          </p:nvPr>
        </p:nvSpPr>
        <p:spPr>
          <a:xfrm>
            <a:off x="395280" y="2349000"/>
            <a:ext cx="8229600" cy="3302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ation par le recrutement: absence locale d’espèces dans des sites favorables à leur développ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ersion limitée, chance, faible abondanc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espèces moins compétitrices peuvent s’install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orêt à l’équilib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éorie de la nich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éorie de Janzen-Connel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orêts non à l’équilib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erturbation intermédiai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ocessus stochast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Biodiversité</a:t>
            </a:r>
            <a:endParaRPr b="0" lang="en-US" sz="2800" spc="-1" strike="noStrike">
              <a:solidFill>
                <a:srgbClr val="000000"/>
              </a:solidFill>
              <a:latin typeface="Arial"/>
            </a:endParaRPr>
          </a:p>
        </p:txBody>
      </p:sp>
      <p:sp>
        <p:nvSpPr>
          <p:cNvPr id="5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539640" y="1413000"/>
            <a:ext cx="7772400" cy="7920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issu vivant de la planète: ensemble des éléments composant la vie </a:t>
            </a:r>
            <a:r>
              <a:rPr b="1" lang="fr-FR" sz="2000" spc="-1" strike="noStrike" u="sng">
                <a:solidFill>
                  <a:srgbClr val="000000"/>
                </a:solidFill>
                <a:uFillTx/>
                <a:latin typeface="Arial"/>
              </a:rPr>
              <a:t>avec leurs interactions</a:t>
            </a:r>
            <a:r>
              <a:rPr b="1" lang="fr-FR" sz="2000" spc="-1" strike="noStrike">
                <a:solidFill>
                  <a:srgbClr val="000000"/>
                </a:solidFill>
                <a:latin typeface="Arial"/>
              </a:rPr>
              <a:t> (Barbault)</a:t>
            </a:r>
            <a:endParaRPr b="0" lang="en-US" sz="2000" spc="-1" strike="noStrike">
              <a:solidFill>
                <a:srgbClr val="000000"/>
              </a:solidFill>
              <a:latin typeface="Arial"/>
            </a:endParaRPr>
          </a:p>
          <a:p>
            <a:pPr marL="260640" indent="-260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
          <p:cNvSpPr/>
          <p:nvPr/>
        </p:nvSpPr>
        <p:spPr>
          <a:xfrm>
            <a:off x="611280" y="2708280"/>
            <a:ext cx="8064360" cy="3816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547640" y="3860640"/>
            <a:ext cx="2521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ersité génétique</a:t>
            </a:r>
            <a:endParaRPr b="0" lang="en-US" sz="1800" spc="-1" strike="noStrike">
              <a:solidFill>
                <a:srgbClr val="000000"/>
              </a:solidFill>
              <a:latin typeface="Arial"/>
            </a:endParaRPr>
          </a:p>
        </p:txBody>
      </p:sp>
      <p:sp>
        <p:nvSpPr>
          <p:cNvPr id="54" name=""/>
          <p:cNvSpPr/>
          <p:nvPr/>
        </p:nvSpPr>
        <p:spPr>
          <a:xfrm>
            <a:off x="5075280" y="3860640"/>
            <a:ext cx="2521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ersité des espèces</a:t>
            </a:r>
            <a:endParaRPr b="0" lang="en-US" sz="1800" spc="-1" strike="noStrike">
              <a:solidFill>
                <a:srgbClr val="000000"/>
              </a:solidFill>
              <a:latin typeface="Arial"/>
            </a:endParaRPr>
          </a:p>
        </p:txBody>
      </p:sp>
      <p:sp>
        <p:nvSpPr>
          <p:cNvPr id="55" name=""/>
          <p:cNvSpPr/>
          <p:nvPr/>
        </p:nvSpPr>
        <p:spPr>
          <a:xfrm>
            <a:off x="2627280" y="5221440"/>
            <a:ext cx="3889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ersité des écosystèmes-pays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éories non exclus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ce des échelles de temps et e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ersité forte à toutes les échelles spati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aissances nécessaires pour une meilleure conser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lques chiffres</a:t>
            </a:r>
            <a:endParaRPr b="0" lang="en-US" sz="4400" spc="-1" strike="noStrike">
              <a:solidFill>
                <a:srgbClr val="000000"/>
              </a:solidFill>
              <a:latin typeface="Arial"/>
            </a:endParaRPr>
          </a:p>
        </p:txBody>
      </p:sp>
      <p:sp>
        <p:nvSpPr>
          <p:cNvPr id="57" name="PlaceHolder 2"/>
          <p:cNvSpPr>
            <a:spLocks noGrp="1"/>
          </p:cNvSpPr>
          <p:nvPr>
            <p:ph/>
          </p:nvPr>
        </p:nvSpPr>
        <p:spPr>
          <a:xfrm>
            <a:off x="468360" y="1855800"/>
            <a:ext cx="8229600" cy="3805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TH: écosystème les plus diversifiés avec récifs coralliens (50% des espèces sur 7% surfa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50 000 à 60 000 espèces d’arbres en FTH (Turner 2006)</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73 espèces d’arbres (&gt;5 c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307 espèces d’arbres (&gt;10 cm dhp) (Valencia et al. 1994)</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tude de la faune de la voûte forestière de 19 arbres au Panama: 950 espèces de coléoptères, 80% inconnu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777960"/>
            <a:ext cx="9144000" cy="47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1017720" y="1744560"/>
            <a:ext cx="6146640" cy="431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484360" y="2706840"/>
            <a:ext cx="3960720" cy="3674880"/>
          </a:xfrm>
          <a:prstGeom prst="rect">
            <a:avLst/>
          </a:prstGeom>
          <a:ln w="0">
            <a:noFill/>
          </a:ln>
        </p:spPr>
      </p:pic>
      <p:sp>
        <p:nvSpPr>
          <p:cNvPr id="62" name=""/>
          <p:cNvSpPr/>
          <p:nvPr/>
        </p:nvSpPr>
        <p:spPr>
          <a:xfrm>
            <a:off x="1619280" y="836640"/>
            <a:ext cx="47530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rquoi autant d’espèces en F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i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ô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té - Fonctionnement</a:t>
            </a:r>
            <a:endParaRPr b="0" lang="en-US" sz="4400" spc="-1" strike="noStrike">
              <a:solidFill>
                <a:srgbClr val="000000"/>
              </a:solidFill>
              <a:latin typeface="Arial"/>
            </a:endParaRPr>
          </a:p>
        </p:txBody>
      </p:sp>
      <p:pic>
        <p:nvPicPr>
          <p:cNvPr id="64" name="" descr=""/>
          <p:cNvPicPr/>
          <p:nvPr/>
        </p:nvPicPr>
        <p:blipFill>
          <a:blip r:embed="rId1"/>
          <a:stretch/>
        </p:blipFill>
        <p:spPr>
          <a:xfrm>
            <a:off x="395280" y="1565280"/>
            <a:ext cx="8645400" cy="437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théories de la diversité</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20 théories proposées (Palmer 199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canismes écologiques (échelles de temps et d’esp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échelles spatiales pour la diversité:</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versité </a:t>
            </a:r>
            <a:r>
              <a:rPr b="0" lang="el-GR" sz="2000" spc="-1" strike="noStrike">
                <a:solidFill>
                  <a:srgbClr val="000000"/>
                </a:solidFill>
                <a:latin typeface="Arial"/>
                <a:ea typeface="Arial"/>
              </a:rPr>
              <a:t>α</a:t>
            </a:r>
            <a:r>
              <a:rPr b="0" lang="fr-FR" sz="2000" spc="-1" strike="noStrike">
                <a:solidFill>
                  <a:srgbClr val="000000"/>
                </a:solidFill>
                <a:latin typeface="Arial"/>
                <a:ea typeface="Arial"/>
              </a:rPr>
              <a:t>: </a:t>
            </a:r>
            <a:r>
              <a:rPr b="0" lang="fr-FR" sz="2000" spc="-1" strike="noStrike">
                <a:solidFill>
                  <a:srgbClr val="000000"/>
                </a:solidFill>
                <a:latin typeface="Arial"/>
              </a:rPr>
              <a:t>Nombre d’espèces qui coexistent dans un habitat uniforme de taille fix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Diversité </a:t>
            </a:r>
            <a:r>
              <a:rPr b="0" lang="el-GR" sz="2000" spc="-1" strike="noStrike">
                <a:solidFill>
                  <a:srgbClr val="000000"/>
                </a:solidFill>
                <a:latin typeface="Arial"/>
                <a:ea typeface="Arial"/>
              </a:rPr>
              <a:t>β</a:t>
            </a:r>
            <a:r>
              <a:rPr b="0" lang="fr-FR" sz="2000" spc="-1" strike="noStrike">
                <a:solidFill>
                  <a:srgbClr val="000000"/>
                </a:solidFill>
                <a:latin typeface="Arial"/>
                <a:ea typeface="Arial"/>
              </a:rPr>
              <a:t>: </a:t>
            </a:r>
            <a:r>
              <a:rPr b="0" lang="fr-FR" sz="2000" spc="-1" strike="noStrike">
                <a:solidFill>
                  <a:srgbClr val="000000"/>
                </a:solidFill>
                <a:latin typeface="Arial"/>
              </a:rPr>
              <a:t>Taux de remplacement des espèces dans un gradient topographique, climatique, ou d’habitats dans une zone géographique donnée, généralement mesuré par le nombre de nouvelles espèces trouvées le long d’un grad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Diversité </a:t>
            </a:r>
            <a:r>
              <a:rPr b="0" lang="el-GR" sz="2000" spc="-1" strike="noStrike">
                <a:solidFill>
                  <a:srgbClr val="000000"/>
                </a:solidFill>
                <a:latin typeface="Arial"/>
                <a:ea typeface="Arial"/>
              </a:rPr>
              <a:t>γ</a:t>
            </a:r>
            <a:r>
              <a:rPr b="0" lang="fr-FR" sz="2000" spc="-1" strike="noStrike">
                <a:solidFill>
                  <a:srgbClr val="000000"/>
                </a:solidFill>
                <a:latin typeface="Arial"/>
                <a:ea typeface="Arial"/>
              </a:rPr>
              <a:t>: </a:t>
            </a:r>
            <a:r>
              <a:rPr b="0" lang="fr-FR" sz="2000" spc="-1" strike="noStrike">
                <a:solidFill>
                  <a:srgbClr val="000000"/>
                </a:solidFill>
                <a:latin typeface="Arial"/>
              </a:rPr>
              <a:t>Taux d’addition de nouvelles espèces lorsque l’on échantillonne le même habitat (régional, continental) à différents endroi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826920" y="404640"/>
            <a:ext cx="7272360" cy="633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18:53:00Z</dcterms:created>
  <dc:creator> </dc:creator>
  <dc:description/>
  <dc:language>en-US</dc:language>
  <cp:lastModifiedBy>Stéphane TRAISSAC</cp:lastModifiedBy>
  <dcterms:modified xsi:type="dcterms:W3CDTF">2007-09-27T21:20:38Z</dcterms:modified>
  <cp:revision>74</cp:revision>
  <dc:subject/>
  <dc:title>La diversité des espèces d’arbres en forêts tropicales humides  Introduction</dc:title>
</cp:coreProperties>
</file>