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wmf" ContentType="image/x-wmf"/>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CB311-5EE1-412C-90AF-403A021F1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E6C0A-4AE7-44BC-A50C-010CEF11B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00759-B71C-499E-98D4-8085F9D71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628C3-367B-4073-BA4D-2BFEF4994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5357D-1BD5-4E02-9F52-3E8F74658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3D1DB-77EF-4AFB-919A-2D8216A0E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DC88B-ECDD-4F0E-B0DE-8D67B0787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AFF19-8092-4404-AE71-60064DFB5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3476D-4CCF-42BA-8011-D7170D0F3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FC126-078E-4763-8675-6F965B08C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47454-BC8A-4E45-8B24-DE9A34187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1619-0FB1-45A4-B376-D2B118CAE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74DE-FEF8-45D9-BA10-4173E1509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c Amazonien</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njeux</a:t>
            </a:r>
            <a:endParaRPr b="0" lang="en-US" sz="3200" spc="-1" strike="noStrike">
              <a:solidFill>
                <a:srgbClr val="000000"/>
              </a:solidFill>
              <a:latin typeface="Arial"/>
            </a:endParaRPr>
          </a:p>
        </p:txBody>
      </p:sp>
      <p:pic>
        <p:nvPicPr>
          <p:cNvPr id="43" name="" descr=""/>
          <p:cNvPicPr/>
          <p:nvPr/>
        </p:nvPicPr>
        <p:blipFill>
          <a:blip r:embed="rId1"/>
          <a:stretch/>
        </p:blipFill>
        <p:spPr>
          <a:xfrm>
            <a:off x="611280" y="333360"/>
            <a:ext cx="8007120" cy="23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 projet de parc  replace l’homme au centre des préoccupations environnementales en préconisant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ssocier les autorités coutumières à la gestion du territoire</a:t>
            </a:r>
            <a:r>
              <a:rPr b="0" lang="en-US" sz="2400" spc="-1" strike="noStrike">
                <a:solidFill>
                  <a:srgbClr val="000000"/>
                </a:solidFill>
                <a:latin typeface="Arial"/>
              </a:rPr>
              <a:t> : Les autorités coutumières des sociétés traditionnelles du sud de la Guyane seront représentées au Conseil d’Administ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ssurer le bien-être des populations</a:t>
            </a:r>
            <a:r>
              <a:rPr b="0" lang="en-US" sz="2400" spc="-1" strike="noStrike">
                <a:solidFill>
                  <a:srgbClr val="000000"/>
                </a:solidFill>
                <a:latin typeface="Arial"/>
              </a:rPr>
              <a:t> : Le bien-être des populations forestières passe par une bonne intégration sociale et des conditions sanitaires convenables. Un autre enjeu essentiel  est le rattrapage de l’important retard en infrastructures des commun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maintenir et valoriser les cultures matérielles et immatérielles</a:t>
            </a:r>
            <a:r>
              <a:rPr b="0" lang="en-US" sz="2400" spc="-1" strike="noStrike">
                <a:solidFill>
                  <a:srgbClr val="000000"/>
                </a:solidFill>
                <a:latin typeface="Arial"/>
              </a:rPr>
              <a:t> : Le parc participera à la conservation des pratiques et des savoirs  traditionn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 pérenniser les pratiques de subsistance</a:t>
            </a:r>
            <a:r>
              <a:rPr b="0" lang="en-US" sz="2800" spc="-1" strike="noStrike">
                <a:solidFill>
                  <a:srgbClr val="000000"/>
                </a:solidFill>
                <a:latin typeface="Arial"/>
              </a:rPr>
              <a:t> : Il s’agit d’assurer la pérennité des pratiques de subsistance des communautés d’habitants et des résidents tout en préservant les ressources naturelles qu’ils exploit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 favoriser les activités économiques durables</a:t>
            </a:r>
            <a:r>
              <a:rPr b="0" lang="en-US" sz="2800" spc="-1" strike="noStrike">
                <a:solidFill>
                  <a:srgbClr val="000000"/>
                </a:solidFill>
                <a:latin typeface="Arial"/>
              </a:rPr>
              <a:t> : Le parc amazonien dans le sud de la Guyane doit favoriser le développement de certaines activités économiques : Le tourisme,</a:t>
            </a:r>
            <a:r>
              <a:rPr b="0" i="1" lang="en-US" sz="2800" spc="-1" strike="noStrike">
                <a:solidFill>
                  <a:srgbClr val="000000"/>
                </a:solidFill>
                <a:latin typeface="Arial"/>
              </a:rPr>
              <a:t> </a:t>
            </a:r>
            <a:r>
              <a:rPr b="0" lang="en-US" sz="2800" spc="-1" strike="noStrike">
                <a:solidFill>
                  <a:srgbClr val="000000"/>
                </a:solidFill>
                <a:latin typeface="Arial"/>
              </a:rPr>
              <a:t>l’artisanat, l’agriculture. L’enjeu est de permettre leur développement pour faire émerger une filière commercial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508720" y="260280"/>
            <a:ext cx="3276360" cy="2457360"/>
          </a:xfrm>
          <a:prstGeom prst="rect">
            <a:avLst/>
          </a:prstGeom>
          <a:ln w="0">
            <a:noFill/>
          </a:ln>
        </p:spPr>
      </p:pic>
      <p:pic>
        <p:nvPicPr>
          <p:cNvPr id="57" name="" descr=""/>
          <p:cNvPicPr/>
          <p:nvPr/>
        </p:nvPicPr>
        <p:blipFill>
          <a:blip r:embed="rId2"/>
          <a:stretch/>
        </p:blipFill>
        <p:spPr>
          <a:xfrm>
            <a:off x="4356000" y="3429000"/>
            <a:ext cx="4284720" cy="3213000"/>
          </a:xfrm>
          <a:prstGeom prst="rect">
            <a:avLst/>
          </a:prstGeom>
          <a:ln w="0">
            <a:noFill/>
          </a:ln>
        </p:spPr>
      </p:pic>
      <p:pic>
        <p:nvPicPr>
          <p:cNvPr id="58" name="" descr=""/>
          <p:cNvPicPr/>
          <p:nvPr/>
        </p:nvPicPr>
        <p:blipFill>
          <a:blip r:embed="rId3"/>
          <a:stretch/>
        </p:blipFill>
        <p:spPr>
          <a:xfrm>
            <a:off x="179280" y="3860640"/>
            <a:ext cx="3813120" cy="2789280"/>
          </a:xfrm>
          <a:prstGeom prst="rect">
            <a:avLst/>
          </a:prstGeom>
          <a:ln w="0">
            <a:noFill/>
          </a:ln>
        </p:spPr>
      </p:pic>
      <p:pic>
        <p:nvPicPr>
          <p:cNvPr id="59" name="" descr=""/>
          <p:cNvPicPr/>
          <p:nvPr/>
        </p:nvPicPr>
        <p:blipFill>
          <a:blip r:embed="rId4"/>
          <a:stretch/>
        </p:blipFill>
        <p:spPr>
          <a:xfrm>
            <a:off x="395280" y="260280"/>
            <a:ext cx="528012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17920" y="333360"/>
            <a:ext cx="4475160" cy="626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enjeux politiques nationaux et internationau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uyane</a:t>
            </a:r>
            <a:endParaRPr b="0" lang="en-US" sz="4400" spc="-1" strike="noStrike">
              <a:solidFill>
                <a:srgbClr val="000000"/>
              </a:solidFill>
              <a:latin typeface="Arial"/>
            </a:endParaRPr>
          </a:p>
        </p:txBody>
      </p:sp>
      <p:pic>
        <p:nvPicPr>
          <p:cNvPr id="63" name="" descr=""/>
          <p:cNvPicPr/>
          <p:nvPr/>
        </p:nvPicPr>
        <p:blipFill>
          <a:blip r:embed="rId1"/>
          <a:stretch/>
        </p:blipFill>
        <p:spPr>
          <a:xfrm>
            <a:off x="1143000" y="2666880"/>
            <a:ext cx="2638440" cy="3810240"/>
          </a:xfrm>
          <a:prstGeom prst="rect">
            <a:avLst/>
          </a:prstGeom>
          <a:ln w="0">
            <a:noFill/>
          </a:ln>
        </p:spPr>
      </p:pic>
      <p:sp>
        <p:nvSpPr>
          <p:cNvPr id="64" name=""/>
          <p:cNvSpPr/>
          <p:nvPr/>
        </p:nvSpPr>
        <p:spPr>
          <a:xfrm>
            <a:off x="1374120" y="1779480"/>
            <a:ext cx="2692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e région enclavé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Amérique du Sud</a:t>
            </a:r>
            <a:endParaRPr b="0" lang="en-US" sz="2000" spc="-1" strike="noStrike">
              <a:solidFill>
                <a:srgbClr val="000000"/>
              </a:solidFill>
              <a:latin typeface="Arial"/>
            </a:endParaRPr>
          </a:p>
        </p:txBody>
      </p:sp>
      <p:pic>
        <p:nvPicPr>
          <p:cNvPr id="65" name="" descr=""/>
          <p:cNvPicPr/>
          <p:nvPr/>
        </p:nvPicPr>
        <p:blipFill>
          <a:blip r:embed="rId2"/>
          <a:stretch/>
        </p:blipFill>
        <p:spPr>
          <a:xfrm>
            <a:off x="4800600" y="2895480"/>
            <a:ext cx="3198960" cy="3505320"/>
          </a:xfrm>
          <a:prstGeom prst="rect">
            <a:avLst/>
          </a:prstGeom>
          <a:ln w="0">
            <a:noFill/>
          </a:ln>
        </p:spPr>
      </p:pic>
      <p:sp>
        <p:nvSpPr>
          <p:cNvPr id="66" name=""/>
          <p:cNvSpPr/>
          <p:nvPr/>
        </p:nvSpPr>
        <p:spPr>
          <a:xfrm>
            <a:off x="4613400" y="1855800"/>
            <a:ext cx="3867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e superficie proc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celle d’un pays – 84 000 km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êt guyanaise est </a:t>
            </a:r>
            <a:r>
              <a:rPr b="0" lang="en-US" sz="2400" spc="-1" strike="noStrike" u="sng">
                <a:solidFill>
                  <a:srgbClr val="000000"/>
                </a:solidFill>
                <a:uFillTx/>
                <a:latin typeface="Arial"/>
              </a:rPr>
              <a:t>le seul massif tropical amazonien de la Communauté Européenn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e appartient au plateau des Guyanes (qui s’étend du Brésil au Guyana), zone amazonienne très singulière, notamment en raison de sa forte et originale biodiversité.  Le parc amazonien en Guyane, frontalier au parc des Tumucumaque  (de l’Etat d’Amapa), renforcera la dynamique de coopération  dans le domaine des aires protégées entre la Guyane et le Brésil et sans doute permettra de commencer une coopération dans le domaine de l’environnement avec le Suri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vent être classés parc national par décret en Conseil d’Etat les espaces qui constituent de grands ensembles présentant un intérêt spécial, pour tout ou partie exceptionnel, en matière de biodiversité et de paysages et dont il convient de protéger le patrimoine naturel, culturel et paysager dans le cadre d’un développement dura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élimitation de tout ou partie du territoire d’une ou plusieurs communes emporte le classement du sol, du sous-sol, des eaux qui s’y trouvent et de l’espace aérien surjac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lassement d’espaces maritimes, dans la limite de la mer territoriale et des eaux intérieures françaises, emporte celui du domaine public maritime, des eaux et de l’espace aérien surjacent, dans la mesure de sa compatibilité avec les engagements internationaux de l’Et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arc amazonien d’une surface de 3,39 millions d’hectares abrite une zone cœur de 2,03 millions d’hectares. Il concerne cinq communes. Les treize ans de concertation ont permis de bien cibler les différents  enjeux nationaux et internationaux,  écologiques et humains forts attachés à ce territo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640" y="501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jeux écologiques</a:t>
            </a:r>
            <a:endParaRPr b="0" lang="en-US" sz="4400" spc="-1" strike="noStrike">
              <a:solidFill>
                <a:srgbClr val="000000"/>
              </a:solidFill>
              <a:latin typeface="Arial"/>
            </a:endParaRPr>
          </a:p>
        </p:txBody>
      </p:sp>
      <p:pic>
        <p:nvPicPr>
          <p:cNvPr id="47" name="" descr=""/>
          <p:cNvPicPr/>
          <p:nvPr/>
        </p:nvPicPr>
        <p:blipFill>
          <a:blip r:embed="rId1"/>
          <a:stretch/>
        </p:blipFill>
        <p:spPr>
          <a:xfrm>
            <a:off x="1692360" y="620640"/>
            <a:ext cx="5927760" cy="419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éserver un important massif de forêt guyanaise</a:t>
            </a:r>
            <a:r>
              <a:rPr b="0" lang="en-US" sz="2400" spc="-1" strike="noStrike">
                <a:solidFill>
                  <a:srgbClr val="000000"/>
                </a:solidFill>
                <a:latin typeface="Arial"/>
              </a:rPr>
              <a:t> : La forêt  joue donc un rôle essentiel dans la régulation du climat local, elle constitue un puits de carbone  important pour réduire les émissions de gaz carbonique engendrées par les activités humaines.  Elle piège une importante quantité de mercure d’origine naturelle et anthropique.  Il y a donc l’obligation de préserver sur le long terme, dans son intégralité, une grande surface de forêt tropicale.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téger les sources des fleuves de la Guyane : </a:t>
            </a:r>
            <a:r>
              <a:rPr b="0" lang="en-US" sz="2400" spc="-1" strike="noStrike">
                <a:solidFill>
                  <a:srgbClr val="000000"/>
                </a:solidFill>
                <a:latin typeface="Arial"/>
              </a:rPr>
              <a:t>La préservation englobe, de fait, un réseau hydrographique dense et caractéristique de la zone équatoriale. Ce schéma garantit une grande partie des futures ressources en eau du littoral ainsi que la préservation de la riche faune piscicole dont dépendent actuellement les habitants du fleu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éserver les milieux rares : </a:t>
            </a:r>
            <a:br>
              <a:rPr sz="2800"/>
            </a:br>
            <a:r>
              <a:rPr b="0" lang="en-US" sz="2800" spc="-1" strike="noStrike">
                <a:solidFill>
                  <a:srgbClr val="000000"/>
                </a:solidFill>
                <a:latin typeface="Arial"/>
              </a:rPr>
              <a:t>Il existe en Guyane deux autres types de milieux rares représentant une très faible superficie et possédant une grande biodiversité :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savanes-roches et inselbergs e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 monts forestiers de plus de 500 m d’altitud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s milieux présentent généralement des endémismes et des particularités originales. La densité des savanes-roches et inselbergs est particulièrement élevée dans le parc et la zone cœur englobe plus de quatre vingt dix pour cent des monts foresti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surfaces</a:t>
            </a:r>
            <a:endParaRPr b="0" lang="en-US" sz="4400" spc="-1" strike="noStrike">
              <a:solidFill>
                <a:srgbClr val="000000"/>
              </a:solidFill>
              <a:latin typeface="Arial"/>
            </a:endParaRPr>
          </a:p>
        </p:txBody>
      </p:sp>
      <p:graphicFrame>
        <p:nvGraphicFramePr>
          <p:cNvPr id="51" name=""/>
          <p:cNvGraphicFramePr/>
          <p:nvPr/>
        </p:nvGraphicFramePr>
        <p:xfrm>
          <a:off x="250920" y="1197000"/>
          <a:ext cx="8229600" cy="4784760"/>
        </p:xfrm>
        <a:graphic>
          <a:graphicData uri="http://schemas.openxmlformats.org/drawingml/2006/table">
            <a:tbl>
              <a:tblPr/>
              <a:tblGrid>
                <a:gridCol w="1657080"/>
                <a:gridCol w="1873440"/>
                <a:gridCol w="1754280"/>
                <a:gridCol w="1585800"/>
                <a:gridCol w="1359000"/>
              </a:tblGrid>
              <a:tr h="936000">
                <a:tc gridSpan="3">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faces des espaces du parc (en ha)</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703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mun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rface communal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veloppe max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œur de Parc</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tio Cœur</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mop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049 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049 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00 2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5,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u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44 4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73 3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2 7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3,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ripasoula</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876 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693 2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14 6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3,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païcht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67 9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44 3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8 4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9,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int Eli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83 8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1 8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1 8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352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391 6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027 68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20760" y="0"/>
            <a:ext cx="4713480" cy="659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jeux humai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0:56:46Z</dcterms:created>
  <dc:creator>Directeur</dc:creator>
  <dc:description/>
  <dc:language>en-US</dc:language>
  <cp:lastModifiedBy>Stéphane TRAISSAC</cp:lastModifiedBy>
  <dcterms:modified xsi:type="dcterms:W3CDTF">2007-09-27T21:05:54Z</dcterms:modified>
  <cp:revision>9</cp:revision>
  <dc:subject/>
  <dc:title>Parc Amazonien</dc:title>
</cp:coreProperties>
</file>