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22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28.jpeg" ContentType="image/jpeg"/>
  <Override PartName="/ppt/media/image27.jpeg" ContentType="image/jpeg"/>
  <Override PartName="/ppt/media/image24.jpeg" ContentType="image/jpeg"/>
  <Override PartName="/ppt/media/image4.wmf" ContentType="image/x-wmf"/>
  <Override PartName="/ppt/media/image23.jpeg" ContentType="image/jpeg"/>
  <Override PartName="/ppt/media/image21.wmf" ContentType="image/x-wmf"/>
  <Override PartName="/ppt/media/image19.wmf" ContentType="image/x-wmf"/>
  <Override PartName="/ppt/media/image15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9724-A0F4-4773-99B1-313C9E967A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test de student est signific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hyp: soit un peuplement plu vieilli, soit des différences de conditions pé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ntagne To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érence recrutement – mortalité plus marqu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étérogénéité de la balance plus impor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exploité 2 se dét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tx de recrutement très imp à la Montagne To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yp:peuplement plus vieilli, donc + de gros 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nc qd ils tombent, chablis + i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rutement aussi + imp car + de lum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yp à vérifier sur+ de t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tention: peuplement très différents. Ex wapa, fréquent sauf absent à la 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roissement  à MT équivalent à ceux de P T1 après exploi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chniques d’exploitation conventionnelles de moins bonne qualité à la MT qu’à Paracou il y a qq anné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ffect ini (tt qual) 8-10 ti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ne 5-6 ti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Critique du travai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èle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essimiste vu la dynamique naturelle mais optimiste vu les réactions deux ans après l’explo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tation de 65 ans fixée selon les résultats de Paracou avec marge de sécur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 plac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FOG: 16 ha, ONF, depuis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acou: 125 ha, CIRAD, depuis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orêts pilotes de Risquetout et d’Organabo, 48 ha, 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ntagne To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ditions environnementales diffé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érentes modalités d’inter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acettes installées pour représenter hétérogénéité des conditions écolog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re contexte:n peuplement spécifique, série schi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lacette témoin de 6 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lacettes exploitées (5 tiges/ha) de 4 ha, une seule étudi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ventaire = comptage des tiges, diamètre DBH, mortalité, recrutement (nouvelles tiges de diam &gt; 31,5 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cke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721-E053-457C-8F87-4FC8D8D6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5676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FAE-0115-471F-8714-8504EF4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B1A-E821-4A00-8B7A-B8BD49C0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C28-BDD1-4F0E-85EF-88E27C7E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47D1-07D3-44AD-93B9-5E3887ED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3BC-A820-450B-AB97-F14F415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D24C-8808-4013-AFF7-34626DB8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62D1-C6EF-47F6-9459-1CA10E0C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9B8-99EB-40FB-ABF7-09A18FED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63640" y="585720"/>
            <a:ext cx="8062560" cy="23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BA9B-8D13-4EEE-A82B-27930DA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F5CC-FE67-49BC-97E2-1D33F07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119-E80F-46DC-8E11-37E63C76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4E2-ED2E-4910-812E-BB01E70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783E-E31B-4D59-A651-0019B411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395676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F009-06FB-413A-9FA3-94BF8E43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DE15-9F73-41B3-B882-F7689480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1A5-DA55-49FC-82A4-9D3F212C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ED4E-3ADA-4777-9CB0-93C68EF6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2017-FF9C-4D49-A1E3-83080CFA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3143-7C66-41D6-9B30-3DB7AB0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E8B4-EB8D-4CEE-A682-652F7851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D532-9FBC-45F3-9555-9F8186F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DC3-1C2B-470F-BD55-3FB3E60A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63640" y="585720"/>
            <a:ext cx="8062560" cy="23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1380-47BC-465B-963D-2E34EFC0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EC7D-9CF9-44D0-80E4-CB3B301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80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3F86-D40B-4030-9ABE-D02B11B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53E4-1516-4891-9036-C62EE1B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5676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BFC1-669D-46FC-AA85-7F03866A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80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16BF-D38D-4B9F-9047-2C2A023F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39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40080" y="162828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39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40080" y="3956760"/>
            <a:ext cx="24768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DEB8-C8B7-4C6A-9493-60F33951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992-22CC-468B-BA6D-F98AB0ED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EAF-5FCC-410C-AA5F-506BE21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3640" y="585720"/>
            <a:ext cx="8062560" cy="23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E7C-463A-4445-B51D-2BE3F98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2B4-F6FC-4A78-BD63-84F11F8C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5676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C39-28FA-46BE-A44C-93997BE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559080"/>
            <a:ext cx="80625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628280"/>
            <a:ext cx="375408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56760"/>
            <a:ext cx="76932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A6A-258E-4403-9903-720C472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252160" cy="6858000"/>
            <a:chOff x="0" y="0"/>
            <a:chExt cx="2252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364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21480" y="0"/>
              <a:ext cx="193068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02760" y="1197000"/>
            <a:ext cx="8372520" cy="318960"/>
            <a:chOff x="302760" y="1197000"/>
            <a:chExt cx="8372520" cy="318960"/>
          </a:xfrm>
        </p:grpSpPr>
        <p:sp>
          <p:nvSpPr>
            <p:cNvPr id="4" name=""/>
            <p:cNvSpPr/>
            <p:nvPr/>
          </p:nvSpPr>
          <p:spPr>
            <a:xfrm>
              <a:off x="734400" y="1197000"/>
              <a:ext cx="7940880" cy="317160"/>
            </a:xfrm>
            <a:prstGeom prst="roundRect">
              <a:avLst>
                <a:gd name="adj" fmla="val 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02400" y="1197000"/>
              <a:ext cx="446040" cy="318960"/>
            </a:xfrm>
            <a:prstGeom prst="flowChartDelay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8/09/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T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3A2-B25F-4BC2-81C4-EBC218B2F0E8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A63-F681-4934-BA7B-C46F84EA3BD1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B524-B315-47B5-A934-44929CD0A2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8136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5657760" y="277920"/>
          <a:ext cx="219096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7760" y="277920"/>
                    <a:ext cx="2190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9640" y="1557360"/>
            <a:ext cx="798984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ivi de l’impact de l’exploitation  forestière sur la dynamique d’un peuplement naturel en forêt  tropicale humide de Guy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789360"/>
            <a:ext cx="3384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Placettes permanent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Montagne Tort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920" y="5157720"/>
            <a:ext cx="90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rnaud Augé-Sabatier, Ludovic Le Maresquier, Clotilde Lebreton, Ombeline de Zélicou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us l’encadrement de Stéphane Guitet, Pierre-Julien Trombe (ONF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8320" y="59500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dule FTH Septembre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27120" y="285840"/>
            <a:ext cx="3373560" cy="81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E2A-2C80-4DAF-A606-64539F88D5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itement des données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éparation des donn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ri, apurement, ajout des données à la base de données sous A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nalyse descriptive sous R : indices de description (N, G, V,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nalyse dynamique: comparaison entre les campagnes, comparaison avec Paracou, comparaison de moyen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DA5-639C-4658-9DC2-E79FD2199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itions initiales avant exploit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82640" y="2320920"/>
          <a:ext cx="7920000" cy="3230640"/>
        </p:xfrm>
        <a:graphic>
          <a:graphicData uri="http://schemas.openxmlformats.org/drawingml/2006/table">
            <a:tbl>
              <a:tblPr/>
              <a:tblGrid>
                <a:gridCol w="1892160"/>
                <a:gridCol w="814320"/>
                <a:gridCol w="1311480"/>
                <a:gridCol w="1260360"/>
                <a:gridCol w="1320840"/>
                <a:gridCol w="1320840"/>
              </a:tblGrid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araco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ontagne Tort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émo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loit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loit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 (nb de tiges/ha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26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06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58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10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79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 exploitables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 exploitables 3 essences principa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 (m²/ha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1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0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7,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558080" y="5602320"/>
            <a:ext cx="62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lus de tiges à Paracou, mais moins de tiges exploitab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Une surface terrière quasiment identiq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463760"/>
            <a:ext cx="852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88920">
              <a:buClr>
                <a:srgbClr val="003366"/>
              </a:buClr>
              <a:buSzPct val="125000"/>
              <a:buFont typeface="Arial"/>
              <a:buChar char="•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araison du nombre de tiges et de la surface terriè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23B-459D-4D69-AF6D-4C59F441DA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69920" y="1990800"/>
          <a:ext cx="5167080" cy="262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990800"/>
                    <a:ext cx="51670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913200" y="4108320"/>
          <a:ext cx="499752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3200" y="4108320"/>
                    <a:ext cx="49975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59400" y="2760840"/>
            <a:ext cx="33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lus de petites tiges et moins de grosses tiges à Paraco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463760"/>
            <a:ext cx="852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88920">
              <a:buClr>
                <a:srgbClr val="003366"/>
              </a:buClr>
              <a:buSzPct val="125000"/>
              <a:buFont typeface="Arial"/>
              <a:buChar char="•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structure diamètrique avant exploi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4320" y="536400"/>
            <a:ext cx="8136000" cy="5796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itions initiales avant exploi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964-3463-425A-A6CF-50C8640BE8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06160" y="585720"/>
            <a:ext cx="8600760" cy="5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raison des paramètres dynamiques avant exploit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8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ux de mortalité et de recrutement dans les peuplements natur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52560" y="2514600"/>
          <a:ext cx="773424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514600"/>
                    <a:ext cx="77342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"/>
          <p:cNvGrpSpPr/>
          <p:nvPr/>
        </p:nvGrpSpPr>
        <p:grpSpPr>
          <a:xfrm>
            <a:off x="3314880" y="3162240"/>
            <a:ext cx="2527200" cy="1524240"/>
            <a:chOff x="3314880" y="3162240"/>
            <a:chExt cx="2527200" cy="1524240"/>
          </a:xfrm>
        </p:grpSpPr>
        <p:sp>
          <p:nvSpPr>
            <p:cNvPr id="246" name=""/>
            <p:cNvSpPr/>
            <p:nvPr/>
          </p:nvSpPr>
          <p:spPr>
            <a:xfrm flipV="1">
              <a:off x="3314880" y="3162240"/>
              <a:ext cx="2527200" cy="1524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00680" y="3873600"/>
              <a:ext cx="495000" cy="2412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59800" y="525924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érence de comportement à l’état initial selon localis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767800">
            <a:off x="4533480" y="2695320"/>
            <a:ext cx="811080" cy="18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0640" y="4292640"/>
            <a:ext cx="889200" cy="246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3366"/>
                </a:solidFill>
                <a:latin typeface="Arial"/>
              </a:rPr>
              <a:t>Paracou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05040" y="4012920"/>
            <a:ext cx="1320840" cy="3682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0640" y="3733920"/>
            <a:ext cx="800280" cy="398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Montagne Tortu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603520" y="3556080"/>
            <a:ext cx="1485720" cy="216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CEE-FA33-4FF5-9061-B6AB447457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30240" y="1811160"/>
            <a:ext cx="3149640" cy="1044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280040" y="1955880"/>
            <a:ext cx="39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roissement plus important à la Montagne Tort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463760"/>
            <a:ext cx="852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88920">
              <a:buClr>
                <a:srgbClr val="003366"/>
              </a:buClr>
              <a:buSzPct val="125000"/>
              <a:buFont typeface="Arial"/>
              <a:buChar char="•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ux d’accroissement moyen annuel (en cm/an) avant exploi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84080" y="3006720"/>
          <a:ext cx="7874280" cy="335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080" y="3006720"/>
                    <a:ext cx="78742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 txBox="1"/>
          <p:nvPr/>
        </p:nvSpPr>
        <p:spPr>
          <a:xfrm>
            <a:off x="317880" y="585720"/>
            <a:ext cx="8608320" cy="50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raison des paramètres dynamiques avant exploit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577-3117-466E-9E9D-BB7350518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ractéristiques de l’exploit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838080" y="1341360"/>
          <a:ext cx="5810400" cy="3837240"/>
        </p:xfrm>
        <a:graphic>
          <a:graphicData uri="http://schemas.openxmlformats.org/drawingml/2006/table">
            <a:tbl>
              <a:tblPr/>
              <a:tblGrid>
                <a:gridCol w="2171880"/>
                <a:gridCol w="1146240"/>
                <a:gridCol w="1245960"/>
                <a:gridCol w="12463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araco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ontagne Tort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loit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loit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 exploitées (Nb de tiges/ha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 exploitée (m²/ha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g (cm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4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8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égâts directs (% de G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act total 2 ans après (% de G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6772320" y="21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35880" y="1844640"/>
            <a:ext cx="222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 tiges exploitées de plus gros diamètre à la Montagne Tort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98320" y="5267160"/>
            <a:ext cx="50774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pact final plus important à la Montagne Tort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thèses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mètres des tiges exploitées plus import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loitation de moins bonne qual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56480" y="3530520"/>
            <a:ext cx="2082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s dégâts immédiats plus importants à Paraco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62240" y="3898800"/>
            <a:ext cx="3581640" cy="673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49640" y="3505320"/>
            <a:ext cx="3556080" cy="444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414-FCBA-497A-A76C-E2419165C5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6360" y="585720"/>
            <a:ext cx="888948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Une dynamique différente après exploit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11360" y="1857240"/>
          <a:ext cx="8064360" cy="34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857240"/>
                    <a:ext cx="806436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F4B-A657-4DEE-9CFA-810035047C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41440" y="1539720"/>
            <a:ext cx="839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èle matrici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 classe de diamètre à 3 paramètres (recrutement, croissance, mortalité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é dépend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ble à un pool de 17 EGE commer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Modélisation de la dynamique forestière (logiciel StoMat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6120" y="2895480"/>
            <a:ext cx="8420040" cy="2277360"/>
            <a:chOff x="546120" y="2895480"/>
            <a:chExt cx="8420040" cy="2277360"/>
          </a:xfrm>
        </p:grpSpPr>
        <p:sp>
          <p:nvSpPr>
            <p:cNvPr id="274" name=""/>
            <p:cNvSpPr/>
            <p:nvPr/>
          </p:nvSpPr>
          <p:spPr>
            <a:xfrm>
              <a:off x="8102520" y="3911760"/>
              <a:ext cx="86364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[60+[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46120" y="2895480"/>
              <a:ext cx="8241840" cy="2277360"/>
              <a:chOff x="546120" y="2895480"/>
              <a:chExt cx="8241840" cy="2277360"/>
            </a:xfrm>
          </p:grpSpPr>
          <p:sp>
            <p:nvSpPr>
              <p:cNvPr id="276" name=""/>
              <p:cNvSpPr/>
              <p:nvPr/>
            </p:nvSpPr>
            <p:spPr>
              <a:xfrm>
                <a:off x="1436040" y="4063680"/>
                <a:ext cx="648360" cy="150480"/>
              </a:xfrm>
              <a:prstGeom prst="rightArrow">
                <a:avLst>
                  <a:gd name="adj1" fmla="val 50000"/>
                  <a:gd name="adj2" fmla="val 107715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2720" y="4051080"/>
                <a:ext cx="648360" cy="150480"/>
              </a:xfrm>
              <a:prstGeom prst="rightArrow">
                <a:avLst>
                  <a:gd name="adj1" fmla="val 50000"/>
                  <a:gd name="adj2" fmla="val 107715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13360" y="4075920"/>
                <a:ext cx="648360" cy="150840"/>
              </a:xfrm>
              <a:prstGeom prst="rightArrow">
                <a:avLst>
                  <a:gd name="adj1" fmla="val 50000"/>
                  <a:gd name="adj2" fmla="val 107458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1440" y="4051080"/>
                <a:ext cx="648360" cy="150480"/>
              </a:xfrm>
              <a:prstGeom prst="rightArrow">
                <a:avLst>
                  <a:gd name="adj1" fmla="val 50000"/>
                  <a:gd name="adj2" fmla="val 107715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62800" y="4063680"/>
                <a:ext cx="648360" cy="150480"/>
              </a:xfrm>
              <a:prstGeom prst="rightArrow">
                <a:avLst>
                  <a:gd name="adj1" fmla="val 50000"/>
                  <a:gd name="adj2" fmla="val 107715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25320" y="37371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p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26160" y="37245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p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39600" y="37245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p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77080" y="37371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p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90520" y="37371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p5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6120" y="3912840"/>
                <a:ext cx="86472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8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[10-20[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84760" y="3937680"/>
                <a:ext cx="86472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8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[20-30[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24120" y="3937680"/>
                <a:ext cx="86472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8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[30-40[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50160" y="3950640"/>
                <a:ext cx="86472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8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[40-50[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4680" y="3925440"/>
                <a:ext cx="86472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8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[50-60[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2120" y="2895480"/>
                <a:ext cx="1437120" cy="603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89200" y="3008520"/>
                <a:ext cx="11444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87680" y="2983320"/>
                <a:ext cx="153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recrutement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4280" y="3397680"/>
                <a:ext cx="381240" cy="565200"/>
              </a:xfrm>
              <a:custGeom>
                <a:avLst/>
                <a:gdLst>
                  <a:gd name="textAreaLeft" fmla="*/ 51120 w 381240"/>
                  <a:gd name="textAreaRight" fmla="*/ 330120 w 381240"/>
                  <a:gd name="textAreaTop" fmla="*/ 126360 h 565200"/>
                  <a:gd name="textAreaBottom" fmla="*/ 38232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9656" stAng="-5400000" swAng="-5400000"/>
                    <a:lnTo>
                      <a:pt x="0" y="9784"/>
                    </a:lnTo>
                    <a:arcTo wR="21600" hR="9656" stAng="10800000" swAng="-3099610"/>
                    <a:lnTo>
                      <a:pt x="14400" y="21048"/>
                    </a:lnTo>
                    <a:lnTo>
                      <a:pt x="21600" y="19376"/>
                    </a:lnTo>
                    <a:lnTo>
                      <a:pt x="14400" y="16600"/>
                    </a:lnTo>
                    <a:lnTo>
                      <a:pt x="14400" y="18760"/>
                    </a:lnTo>
                    <a:arcTo wR="21600" hR="9656" stAng="7700390" swAng="3089424"/>
                    <a:lnTo>
                      <a:pt x="0" y="9720"/>
                    </a:lnTo>
                    <a:arcTo wR="21600" hR="9656" stAng="-10789814" swAng="5389814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9656" stAng="-5400000" swAng="-5400000"/>
                    <a:lnTo>
                      <a:pt x="0" y="9656"/>
                    </a:lnTo>
                    <a:arcTo wR="21600" hR="9656" stAng="10800000" swAng="-10186"/>
                    <a:lnTo>
                      <a:pt x="0" y="9720"/>
                    </a:lnTo>
                    <a:arcTo wR="21600" hR="9656" stAng="-10789814" swAng="5389814"/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6560" y="48045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50360" y="48045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1960" y="48045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52880" y="479196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5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53920" y="4791960"/>
                <a:ext cx="53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253720" y="4767120"/>
                <a:ext cx="53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6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52920" y="4289760"/>
                <a:ext cx="88920" cy="552600"/>
              </a:xfrm>
              <a:prstGeom prst="downArrow">
                <a:avLst>
                  <a:gd name="adj1" fmla="val 50000"/>
                  <a:gd name="adj2" fmla="val 155364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41160" y="4302000"/>
                <a:ext cx="88920" cy="552960"/>
              </a:xfrm>
              <a:prstGeom prst="downArrow">
                <a:avLst>
                  <a:gd name="adj1" fmla="val 50000"/>
                  <a:gd name="adj2" fmla="val 15546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18320" y="4314960"/>
                <a:ext cx="88920" cy="552600"/>
              </a:xfrm>
              <a:prstGeom prst="downArrow">
                <a:avLst>
                  <a:gd name="adj1" fmla="val 50000"/>
                  <a:gd name="adj2" fmla="val 155364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4720" y="4327200"/>
                <a:ext cx="88920" cy="552600"/>
              </a:xfrm>
              <a:prstGeom prst="downArrow">
                <a:avLst>
                  <a:gd name="adj1" fmla="val 50000"/>
                  <a:gd name="adj2" fmla="val 155364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56640" y="4302000"/>
                <a:ext cx="88920" cy="552960"/>
              </a:xfrm>
              <a:prstGeom prst="downArrow">
                <a:avLst>
                  <a:gd name="adj1" fmla="val 50000"/>
                  <a:gd name="adj2" fmla="val 15546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70080" y="4277160"/>
                <a:ext cx="88920" cy="552600"/>
              </a:xfrm>
              <a:prstGeom prst="downArrow">
                <a:avLst>
                  <a:gd name="adj1" fmla="val 50000"/>
                  <a:gd name="adj2" fmla="val 155364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872-A5B8-4925-9C50-BB27CDA0DB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mulation 17 EGE sur 65 a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628640"/>
          <a:ext cx="7693200" cy="44578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amétr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utes qualités (N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4,54 tiges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nne qualité  (N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0,68 tiges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talité P et croissance 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talité MT et croissance 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,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talité P et croissance M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talité MT et croissance M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AD9-40EB-40F1-B27A-2465C164D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itiques et limites du modèl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50680" y="2288880"/>
            <a:ext cx="7692840" cy="31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cation à seulement 17 ess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é commerciale non prise en compte dans le modè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écessité de répétitions pour avoir les bonnes lois de distribution pour le paramét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51040" y="4533840"/>
            <a:ext cx="742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478-0FB2-412C-BEB1-01E3E41181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loitation en Guyane : quelques chiffr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7,5 millions d’ha de forêt tropicale humid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,3 millions d’ha destinés à être aménagé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ont 850 000 aménagés ou en cours d’amé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75 % de l’exploitation forestière dans l’Est de la Guyane sur des schistes de Paramaca et granites, et conditions climatiques de forte pluviométr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élèvements moyens de 2 à 3 tiges / h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bjectif O.N.F. fixé à 5 tiges / 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otations fixées provisoirement par l’O.N.F. à 65 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68D-F6D6-46D2-8A80-AFC8F3B1D2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paraison Paracou – Montagne Tort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ploitation 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≠ mais i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pact simil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ynamique plus forte à confir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voir plus de recul pour la M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lage des modèles à perfection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ifficulté de modéliser (diversité biologique, etc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otation sur 65 ans à confir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808-BEC7-4F3E-8C19-9078DE57A9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38840" y="1628640"/>
            <a:ext cx="1614600" cy="2152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-12600" y="-139680"/>
            <a:ext cx="9144000" cy="60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288040" y="-139680"/>
            <a:ext cx="3855960" cy="289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732120" y="4062240"/>
            <a:ext cx="1868760" cy="2795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0" y="4049640"/>
            <a:ext cx="374328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-12600" y="-12708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5516640" y="4056120"/>
            <a:ext cx="3614760" cy="2809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8"/>
          <a:srcRect l="37699" t="32565" r="46428" b="17105"/>
          <a:stretch/>
        </p:blipFill>
        <p:spPr>
          <a:xfrm>
            <a:off x="3909960" y="-101520"/>
            <a:ext cx="1346400" cy="28605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552840" y="13352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I !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911-3F3B-439E-8FB9-A517ACA0B2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exte de l’étu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9819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mment intégrer les problématiques de  rendement économique et durabilité environnementale en forêt aménagée guyanais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nnaître l’impact de l’exploitation sur la structure, la composition, la qualité, la dynamique du peuplement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our déterminer des paramètres sylvicoles (intensité et rota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ise en place d’un réseau de placettes permanentes, suivies par l’ONF et le CIRAD-Forêt (BAFOG, Paracou,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C74-E6F7-48C5-A011-493DD6F35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471600"/>
            <a:ext cx="9144000" cy="6462720"/>
            <a:chOff x="0" y="471600"/>
            <a:chExt cx="9144000" cy="6462720"/>
          </a:xfrm>
        </p:grpSpPr>
        <p:grpSp>
          <p:nvGrpSpPr>
            <p:cNvPr id="155" name=""/>
            <p:cNvGrpSpPr/>
            <p:nvPr/>
          </p:nvGrpSpPr>
          <p:grpSpPr>
            <a:xfrm>
              <a:off x="0" y="471600"/>
              <a:ext cx="9144000" cy="6462720"/>
              <a:chOff x="0" y="471600"/>
              <a:chExt cx="9144000" cy="64627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0" y="471600"/>
                <a:ext cx="9144000" cy="6462720"/>
                <a:chOff x="0" y="471600"/>
                <a:chExt cx="9144000" cy="6462720"/>
              </a:xfrm>
            </p:grpSpPr>
            <p:pic>
              <p:nvPicPr>
                <p:cNvPr id="15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471600"/>
                  <a:ext cx="9144000" cy="646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>
                  <a:off x="3705120" y="686160"/>
                  <a:ext cx="5029200" cy="73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819520" y="700200"/>
                  <a:ext cx="1066680" cy="38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724960" y="685800"/>
                <a:ext cx="0" cy="7621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413240" y="4819680"/>
              <a:ext cx="1726920" cy="520200"/>
              <a:chOff x="4413240" y="4819680"/>
              <a:chExt cx="1726920" cy="520200"/>
            </a:xfrm>
          </p:grpSpPr>
          <p:sp>
            <p:nvSpPr>
              <p:cNvPr id="162" name=""/>
              <p:cNvSpPr/>
              <p:nvPr/>
            </p:nvSpPr>
            <p:spPr>
              <a:xfrm>
                <a:off x="4413240" y="481968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Montagne Tortu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02080" y="5111640"/>
                <a:ext cx="380880" cy="0"/>
              </a:xfrm>
              <a:prstGeom prst="line">
                <a:avLst/>
              </a:prstGeom>
              <a:ln w="22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682960" y="4959360"/>
                <a:ext cx="457200" cy="151920"/>
              </a:xfrm>
              <a:prstGeom prst="line">
                <a:avLst/>
              </a:prstGeom>
              <a:ln w="25560">
                <a:solidFill>
                  <a:srgbClr val="cc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443480" y="168120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RBOC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06480" y="91116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Javouhe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148896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BAFO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19480" y="1138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Organab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62600" y="203508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Paracou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2440" y="248112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ontagne Plom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00600" y="278604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isquetou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40280" y="541512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égina – St Georg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3280" y="465300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Conamar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33840" y="20160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ariabilité des conditions géologiques et pluviométr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en Guyane frança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37280" y="4878360"/>
            <a:ext cx="11124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85040" y="5192640"/>
            <a:ext cx="11088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75560" y="4692600"/>
            <a:ext cx="11088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94320" y="4354560"/>
            <a:ext cx="11124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03760" y="2940120"/>
            <a:ext cx="111240" cy="11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9360" y="2711520"/>
            <a:ext cx="111240" cy="11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4120" y="2178000"/>
            <a:ext cx="11124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6720" y="2101680"/>
            <a:ext cx="11088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6560" y="1601640"/>
            <a:ext cx="11088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2160" y="1268280"/>
            <a:ext cx="11088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1644480"/>
            <a:ext cx="111240" cy="11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32760" y="1079640"/>
            <a:ext cx="150840" cy="736560"/>
          </a:xfrm>
          <a:prstGeom prst="upArrow">
            <a:avLst>
              <a:gd name="adj1" fmla="val 50000"/>
              <a:gd name="adj2" fmla="val 1220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10360" y="68256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342-2D3B-4B36-B05E-3B0B747EE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Des premiers résultats obtenus à Paracou (traitement 1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vec un prélèvement de 10 tiges/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e rotation de 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50 an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nécessaire avant de retrouver 80 à 90 % du stock commercial pré-exploit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uverture du peuplement favorisant la croissance et le recrut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iminution de la diversité florist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s dégâts d’exploitation constatés 2 ans après le chan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(Gourlet-Fleury, 20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645-9D57-4C29-ABDA-C1841B993A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30120" y="585720"/>
            <a:ext cx="859572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bjectif du stag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67920" y="1615680"/>
            <a:ext cx="8163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quérir des données sur l’impact d’une exploitation sur un site du réseau : Montagne Tort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3440" y="4152960"/>
            <a:ext cx="6707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5040" y="3755880"/>
            <a:ext cx="771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n quantifiant l’impact de l’exploitation sur les dynamiques naturelles 2 ans après intervention et en comparant avec Parac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9BA-4153-48DA-A9EA-AAA6289DC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25560" y="1611360"/>
            <a:ext cx="7466040" cy="5246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 Montagne Tortue, 3 placettes à l’Est du territoire Guyanai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64800" y="1730160"/>
            <a:ext cx="4164120" cy="49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orte pluviométrie: &gt; 3500 m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bstrat chimique riche: roches volcaniques de Parama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ploitation de 4 à 5 tiges/h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ampagne 2007: le 3e inventaire comp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2002: installation des placettes et inventaire init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2005: inventaire complet avant exploitation, inventaire partiel après exploi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2007: inventaire complet 2 ans après exploi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03240" y="1130400"/>
            <a:ext cx="8240760" cy="5410080"/>
            <a:chOff x="903240" y="1130400"/>
            <a:chExt cx="8240760" cy="5410080"/>
          </a:xfrm>
        </p:grpSpPr>
        <p:grpSp>
          <p:nvGrpSpPr>
            <p:cNvPr id="198" name=""/>
            <p:cNvGrpSpPr/>
            <p:nvPr/>
          </p:nvGrpSpPr>
          <p:grpSpPr>
            <a:xfrm>
              <a:off x="7421400" y="3492360"/>
              <a:ext cx="1722600" cy="2056680"/>
              <a:chOff x="7421400" y="3492360"/>
              <a:chExt cx="1722600" cy="205668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7421400" y="3492360"/>
                <a:ext cx="1068480" cy="2056680"/>
                <a:chOff x="7421400" y="3492360"/>
                <a:chExt cx="1068480" cy="20566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421400" y="3919320"/>
                  <a:ext cx="319680" cy="106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23560" y="4239360"/>
                  <a:ext cx="319680" cy="106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23560" y="4459680"/>
                  <a:ext cx="319680" cy="1065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423560" y="4773240"/>
                  <a:ext cx="319680" cy="106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21400" y="5251320"/>
                  <a:ext cx="319680" cy="1065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21400" y="5442480"/>
                  <a:ext cx="319680" cy="10656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23560" y="3492360"/>
                  <a:ext cx="1066320" cy="32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003366"/>
                      </a:solidFill>
                      <a:uFillTx/>
                      <a:latin typeface="Times New Roman"/>
                    </a:rPr>
                    <a:t>Légende :</a:t>
                  </a:r>
                  <a:endParaRPr b="0" lang="en-US" sz="1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954920" y="3782520"/>
                <a:ext cx="1189080" cy="164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</a:rPr>
                  <a:t>Piste forestièr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</a:rPr>
                  <a:t>Placette témoin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</a:rPr>
                  <a:t>Zone témoin complémentair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</a:rPr>
                  <a:t>Zone témoin tampon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</a:rPr>
                  <a:t>Placette traité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</a:rPr>
                  <a:t>Zone tampon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903240" y="1130400"/>
              <a:ext cx="6400800" cy="5410080"/>
              <a:chOff x="903240" y="1130400"/>
              <a:chExt cx="6400800" cy="5410080"/>
            </a:xfrm>
          </p:grpSpPr>
          <p:graphicFrame>
            <p:nvGraphicFramePr>
              <p:cNvPr id="209" name=""/>
              <p:cNvGraphicFramePr/>
              <p:nvPr/>
            </p:nvGraphicFramePr>
            <p:xfrm>
              <a:off x="903240" y="1282680"/>
              <a:ext cx="6400800" cy="5208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903240" y="1282680"/>
                        <a:ext cx="6400800" cy="520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1" name=""/>
              <p:cNvSpPr/>
              <p:nvPr/>
            </p:nvSpPr>
            <p:spPr>
              <a:xfrm>
                <a:off x="6784920" y="1130400"/>
                <a:ext cx="457200" cy="541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03240" y="1130400"/>
                <a:ext cx="457200" cy="541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E6D-144A-44CE-B605-B9955A1293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entaire de la campagne 200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1628280"/>
            <a:ext cx="3770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 arbres des 3 placettes sont spatialisés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sure de la circonfér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mation de l’état sanitai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seignement de la qualité commerc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dentification et spatialisation des recr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94320" y="2035080"/>
            <a:ext cx="426384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715-D7D2-4EA3-BE90-EF23293A1F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127160" y="1596960"/>
            <a:ext cx="7115040" cy="4768200"/>
            <a:chOff x="1127160" y="1596960"/>
            <a:chExt cx="7115040" cy="4768200"/>
          </a:xfrm>
        </p:grpSpPr>
        <p:grpSp>
          <p:nvGrpSpPr>
            <p:cNvPr id="217" name=""/>
            <p:cNvGrpSpPr/>
            <p:nvPr/>
          </p:nvGrpSpPr>
          <p:grpSpPr>
            <a:xfrm>
              <a:off x="1127160" y="1596960"/>
              <a:ext cx="7115040" cy="4768200"/>
              <a:chOff x="1127160" y="1596960"/>
              <a:chExt cx="7115040" cy="4768200"/>
            </a:xfrm>
          </p:grpSpPr>
          <p:pic>
            <p:nvPicPr>
              <p:cNvPr id="2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160" y="1596960"/>
                <a:ext cx="7115040" cy="47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2260080" y="2648880"/>
                <a:ext cx="244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crue ,2375 , 32 cm, vivant, code 0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780920" y="2496600"/>
              <a:ext cx="2878200" cy="798840"/>
            </a:xfrm>
            <a:prstGeom prst="wedgeEllipseCallout">
              <a:avLst>
                <a:gd name="adj1" fmla="val 38754"/>
                <a:gd name="adj2" fmla="val 92083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863640" y="585720"/>
            <a:ext cx="806256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rrai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19280" y="1984320"/>
            <a:ext cx="2938320" cy="3917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697360" y="1920960"/>
            <a:ext cx="2784600" cy="39686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5724360" y="2208240"/>
            <a:ext cx="1814760" cy="982800"/>
            <a:chOff x="5724360" y="2208240"/>
            <a:chExt cx="1814760" cy="982800"/>
          </a:xfrm>
        </p:grpSpPr>
        <p:sp>
          <p:nvSpPr>
            <p:cNvPr id="225" name=""/>
            <p:cNvSpPr/>
            <p:nvPr/>
          </p:nvSpPr>
          <p:spPr>
            <a:xfrm>
              <a:off x="5724360" y="2208240"/>
              <a:ext cx="1814760" cy="982800"/>
            </a:xfrm>
            <a:prstGeom prst="wedgeEllipseCallout">
              <a:avLst>
                <a:gd name="adj1" fmla="val 57749"/>
                <a:gd name="adj2" fmla="val -49703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94360" y="2324160"/>
              <a:ext cx="150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ïe, encore   un taon…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264440" y="1131840"/>
            <a:ext cx="819000" cy="63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FB8-743D-47E9-AA3D-73E32EF99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65 0.00347 C 0.07934 0.01528 0.10902 0.02732 0.1052 0.04792 C 0.10121 0.06852 0.05 0.1125 0.02604 0.12755 C 0.00191 0.1426 -0.03143 0.11065 -0.03924 0.13866 C -0.04705 0.16667 -0.0066 0.2551 -0.02118 0.29607 C -0.03577 0.33704 -0.11094 0.34954 -0.12674 0.38496 C -0.14271 0.42037 -0.10521 0.48773 -0.11563 0.50903 C -0.12605 0.53033 -0.17136 0.5331 -0.18924 0.51273 C -0.2073 0.49236 -0.19566 0.40926 -0.22275 0.38681 C -0.24966 0.36435 -0.31372 0.34584 -0.35035 0.37755 C -0.38716 0.40926 -0.4158 0.54584 -0.44341 0.57755 C -0.47101 0.60926 -0.50712 0.59028 -0.51563 0.56829 C -0.52414 0.5463 -0.49063 0.47732 -0.49497 0.44607 C -0.49896 0.41482 -0.51667 0.38982 -0.54063 0.38125 C -0.56493 0.37269 -0.60452 0.36991 -0.63924 0.39422 C -0.67396 0.41852 -0.72448 0.49144 -0.74896 0.52755 C -0.77344 0.56366 -0.78021 0.59699 -0.78646 0.61088 E">
                                      <p:cBhvr>
                                        <p:cTn id="4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4:27Z</dcterms:created>
  <dc:creator>LEBRETON Clotilde</dc:creator>
  <dc:description/>
  <dc:language>en-US</dc:language>
  <cp:lastModifiedBy>Stéphane TRAISSAC</cp:lastModifiedBy>
  <dcterms:modified xsi:type="dcterms:W3CDTF">2007-09-27T21:59:39Z</dcterms:modified>
  <cp:revision>68</cp:revision>
  <dc:subject/>
  <dc:title>Suivi de l’impact de l’exploitation  forestière sur la dynamique d’un peuplement naturel en forêt  tropical</dc:title>
</cp:coreProperties>
</file>