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6.png" ContentType="image/png"/>
  <Override PartName="/ppt/media/image12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E680-C96E-4833-86E3-488FCB818C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AC0C-191A-4BEF-9D92-E22CBF2737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F880-4921-4431-A609-063D4393DC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pédition de Kourou : le double de la population sur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pulation &gt; à 30 000 en 19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7482-1D78-4BB9-8998-CC6361D961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E387-08C9-4301-B587-16ED5E5363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pédition de Kourou : le double de la population sur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pulation &gt; à 30 000 en 19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5D9F-C881-4F51-AC07-6A1421E4C6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pédition de Kourou : le double de la population sur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pulation &gt; à 30 000 en 19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EBB-8E75-407F-8B44-2F7FE57CE0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y a deux mille ans deux grande tradition culturelle influence le peuplement de la côte : la tradition  arauquinoïde du moyen orénoque dans l’ouest et tradition polychrome du bas amazone, à l’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4565-F312-423D-9976-1DE09BA20B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y a deux mille ans deux grande tradition culturelle influence le peuplement de la côte : la tradition  arauquinoïde du moyen orénoque dans l’ouest et tradition polychrome du bas amazone, à l’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0E42-58F2-466D-AEBC-0649C92368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y a deux mille ans deux grande tradition culturelle influence le peuplement de la côte : la tradition  arauquinoïde du moyen orénoque dans l’ouest et tradition polychrome du bas amazone, à l’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4A1C-4568-41AF-9855-D577EDA917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y a deux mille ans deux grande tradition culturelle influence le peuplement de la côte : la tradition  arauquinoïde du moyen orénoque dans l’ouest et tradition polychrome du bas amazone, à l’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7E48-B431-4E69-ADC4-A9314558FB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° 1  :  le b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: escl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 : l’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FEF6-92DF-475F-BCFA-D2ACB78BC8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d de la Guyane est le nord du  bassin versant de l’amazone : la guyane à ses fleu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2A65-1AA9-45F7-831A-15936609E9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D5F7-64A8-43A3-A39B-F08370FB7B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D659-68B4-4619-BE84-2B57BF0CC6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182D-35C1-4325-AA80-48EAEDC3E3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riculture = jaune + vert très clair, cantonnée sur la cô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orêt aménagée vert c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Zone rotégée en vert fonc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Zone minière en vio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1897-36BE-4274-A6DE-069FD2FF58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rres basses – massif central – montagne inini Camopi – pénéplaine méridionale – les tumuc hu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éologie compliquée : très grossièrement une bande cotière d’alluvion quaternaire et le reste un très vieux socle, rempli d’or 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6E4A-5991-4469-BBD0-720BE4B6B5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884E-B9D3-4EF1-BC47-F5C7868C40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3B73-7544-4F68-887F-C7794E7776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9AE2-5542-4E7F-91F8-908B811E41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0867-52B8-4DB3-9BA8-8071DC3F6B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pédition de Kourou : le double de la population sur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pulation &gt; à 30 000 en 19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A03-869F-4578-BC2B-2DA73B93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8D7-23E8-4F9C-BE44-1F04BBE2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4BD-E90D-4730-882E-44794310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1426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1426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90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90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A02-4FB7-411B-8CE0-A09A2F07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132-1496-4754-9B4F-FBF506AE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E95-6A14-4F5A-B9CE-C1C49AB9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77C-6072-41D3-8912-809CDAB1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054-393F-4FB0-9151-93EC8A8F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33C-B4A7-49F4-A1C6-16051C0C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2FB-4147-47C5-9191-415A913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6A8-D0CA-4DFF-9566-1B87459D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E62-46B1-4F82-9EA9-7D391BC2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E699-5A79-4D4A-97C0-24D8370C8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cc"/>
                </a:solidFill>
                <a:latin typeface="Times New Roman"/>
              </a:rPr>
              <a:t>Présentation de la Guy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4300560" y="5927760"/>
            <a:ext cx="4843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Stéphane Traiss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d’après l’Atlas de la Guy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 31/09/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" descr="nouveau logo umr petit"/>
          <p:cNvPicPr/>
          <p:nvPr/>
        </p:nvPicPr>
        <p:blipFill>
          <a:blip r:embed="rId1"/>
          <a:stretch/>
        </p:blipFill>
        <p:spPr>
          <a:xfrm>
            <a:off x="179280" y="4797360"/>
            <a:ext cx="19573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His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40096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00 : Première exploration de la Guyane par Vincente P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66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nstallation définitive de la France en Guy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43 : Poncet de Bretigny, fonde la ville de Cay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partir de 1689, les premiers esclaves sont amenés en Guyane pour tenter de valoriser les ter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783 : L’expédition de Kourou, 12 000 personnes, 1785 viv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848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Abolition de l'esclavage et début de la grande ruée vers l'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2 : Création de l'administration pénitentiaire dans le but de peupler la Guyane et de la développer économiqu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8 : Ouverture du centre de détention de St Laurent du Mar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42720"/>
            <a:ext cx="4214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Bag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Bagne"/>
          <p:cNvPicPr/>
          <p:nvPr/>
        </p:nvPicPr>
        <p:blipFill>
          <a:blip r:embed="rId1"/>
          <a:stretch/>
        </p:blipFill>
        <p:spPr>
          <a:xfrm>
            <a:off x="4232160" y="303120"/>
            <a:ext cx="4783320" cy="65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400068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Guyanes en 18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Espace réservé du contenu 4" descr="hpqscan0002 (2).jpg"/>
          <p:cNvPicPr/>
          <p:nvPr/>
        </p:nvPicPr>
        <p:blipFill>
          <a:blip r:embed="rId1"/>
          <a:stretch/>
        </p:blipFill>
        <p:spPr>
          <a:xfrm>
            <a:off x="4211640" y="0"/>
            <a:ext cx="4575240" cy="6870600"/>
          </a:xfrm>
          <a:prstGeom prst="rect">
            <a:avLst/>
          </a:prstGeom>
          <a:ln w="0">
            <a:noFill/>
          </a:ln>
        </p:spPr>
      </p:pic>
      <p:sp>
        <p:nvSpPr>
          <p:cNvPr id="100" name="Espace réservé du contenu 2"/>
          <p:cNvSpPr/>
          <p:nvPr/>
        </p:nvSpPr>
        <p:spPr>
          <a:xfrm>
            <a:off x="857160" y="6143760"/>
            <a:ext cx="3357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VASS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in atlas historique de la guyane, Le Roux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His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40096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00 : Première exploration de la Guyane par Vincente P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66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nstallation définitive de la France en Guy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43 : Poncet de Bretigny, fonde la ville de Cay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partir de 1689, les premiers esclaves sont amenés en Guyane pour tenter de valoriser les ter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783 : L’expédition de Kourou, 12 000 personnes, 1785 viv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848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Abolition de l'esclavage et début de la grande ruée vers l'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2 : Création de l'administration pénitentiaire dans le but de peupler la Guyane et de la développer économiqu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8 : Ouverture du centre de détention de St Laurent du Mar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70-1920 : La Guyane vit son « âge d’or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946 -477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Fin du bagne. Département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964 : Création du C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His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40096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00 : Première exploration de la Guyane par Vincente P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66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nstallation définitive de la France en Guy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43 : Poncet de Bretigny, fonde la ville de Cay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partir de 1689, les premiers esclaves sont amenés en Guyane pour tenter de valoriser les ter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783 : L’expédition de Kourou, 12 000 personnes, 1785 viv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848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Abolition de l'esclavage et début de la grande ruée vers l'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2 : Création de l'administration pénitentiaire dans le but de peupler la Guyane et de la développer économiqu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8 : Ouverture du centre de détention de St Laurent du Mar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70-1920 : La Guyane vit son « âge d’or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946 -477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Fin du bagne. Département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964 : Création du C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ZoneTexte 3"/>
          <p:cNvSpPr/>
          <p:nvPr/>
        </p:nvSpPr>
        <p:spPr>
          <a:xfrm>
            <a:off x="989280" y="214200"/>
            <a:ext cx="326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Mistral"/>
              </a:rPr>
              <a:t> </a:t>
            </a:r>
            <a:r>
              <a:rPr b="0" lang="fr-FR" sz="4800" spc="-1" strike="noStrike">
                <a:solidFill>
                  <a:srgbClr val="ff0000"/>
                </a:solidFill>
                <a:latin typeface="Mistral"/>
              </a:rPr>
              <a:t>et l’avant-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ZoneTexte 4"/>
          <p:cNvSpPr/>
          <p:nvPr/>
        </p:nvSpPr>
        <p:spPr>
          <a:xfrm>
            <a:off x="5204160" y="214200"/>
            <a:ext cx="60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Mistral"/>
              </a:rPr>
              <a:t> </a:t>
            </a:r>
            <a:r>
              <a:rPr b="0" lang="fr-FR" sz="4800" spc="-1" strike="noStrike">
                <a:solidFill>
                  <a:srgbClr val="ff0000"/>
                </a:solidFill>
                <a:latin typeface="Mistr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235320" y="0"/>
            <a:ext cx="6138720" cy="693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42600"/>
            <a:ext cx="36147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euplement amérindien avant la conquè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space réservé du contenu 6" descr="hpqscan0004.jpg"/>
          <p:cNvPicPr/>
          <p:nvPr/>
        </p:nvPicPr>
        <p:blipFill>
          <a:blip r:embed="rId1"/>
          <a:stretch/>
        </p:blipFill>
        <p:spPr>
          <a:xfrm rot="21540000">
            <a:off x="3627000" y="-21960"/>
            <a:ext cx="5457960" cy="6853320"/>
          </a:xfrm>
          <a:prstGeom prst="rect">
            <a:avLst/>
          </a:prstGeom>
          <a:ln w="0">
            <a:noFill/>
          </a:ln>
        </p:spPr>
      </p:pic>
      <p:sp>
        <p:nvSpPr>
          <p:cNvPr id="110" name="ZoneTexte 8"/>
          <p:cNvSpPr/>
          <p:nvPr/>
        </p:nvSpPr>
        <p:spPr>
          <a:xfrm>
            <a:off x="214200" y="3857760"/>
            <a:ext cx="30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l’ouest la tradition arauquinoï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l’est la tradition polych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9"/>
          <p:cNvSpPr/>
          <p:nvPr/>
        </p:nvSpPr>
        <p:spPr>
          <a:xfrm>
            <a:off x="1000080" y="628668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téphen Rostain, Archéologia, janv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1000080"/>
            <a:ext cx="8305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00 apr JC : Révolution néolith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mage 9" descr="hpqscan0005.jpg"/>
          <p:cNvPicPr/>
          <p:nvPr/>
        </p:nvPicPr>
        <p:blipFill>
          <a:blip r:embed="rId1"/>
          <a:stretch/>
        </p:blipFill>
        <p:spPr>
          <a:xfrm>
            <a:off x="0" y="1714680"/>
            <a:ext cx="5481720" cy="4000320"/>
          </a:xfrm>
          <a:prstGeom prst="rect">
            <a:avLst/>
          </a:prstGeom>
          <a:ln w="0">
            <a:noFill/>
          </a:ln>
        </p:spPr>
      </p:pic>
      <p:pic>
        <p:nvPicPr>
          <p:cNvPr id="115" name="Image 10" descr="hpqscan0001.jpg"/>
          <p:cNvPicPr/>
          <p:nvPr/>
        </p:nvPicPr>
        <p:blipFill>
          <a:blip r:embed="rId2"/>
          <a:stretch/>
        </p:blipFill>
        <p:spPr>
          <a:xfrm>
            <a:off x="5572080" y="2071800"/>
            <a:ext cx="3510000" cy="478620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13"/>
          <p:cNvSpPr/>
          <p:nvPr/>
        </p:nvSpPr>
        <p:spPr>
          <a:xfrm>
            <a:off x="285840" y="5786280"/>
            <a:ext cx="50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onstitution de l’implantation d’une communautée arauquinoïde entre 1000 et 1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ZoneTexte 14"/>
          <p:cNvSpPr/>
          <p:nvPr/>
        </p:nvSpPr>
        <p:spPr>
          <a:xfrm>
            <a:off x="6929280" y="157176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téphen Rostain, Archéologia, janv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 11" descr="hpqscan0002.jpg"/>
          <p:cNvPicPr/>
          <p:nvPr/>
        </p:nvPicPr>
        <p:blipFill>
          <a:blip r:embed="rId1"/>
          <a:stretch/>
        </p:blipFill>
        <p:spPr>
          <a:xfrm>
            <a:off x="5568840" y="1143000"/>
            <a:ext cx="3575160" cy="2500200"/>
          </a:xfrm>
          <a:prstGeom prst="rect">
            <a:avLst/>
          </a:prstGeom>
          <a:ln w="0">
            <a:noFill/>
          </a:ln>
        </p:spPr>
      </p:pic>
      <p:pic>
        <p:nvPicPr>
          <p:cNvPr id="119" name="Image 12" descr="hpqscan0006.jpg"/>
          <p:cNvPicPr/>
          <p:nvPr/>
        </p:nvPicPr>
        <p:blipFill>
          <a:blip r:embed="rId2"/>
          <a:stretch/>
        </p:blipFill>
        <p:spPr>
          <a:xfrm>
            <a:off x="0" y="428760"/>
            <a:ext cx="5513400" cy="5786280"/>
          </a:xfrm>
          <a:prstGeom prst="rect">
            <a:avLst/>
          </a:prstGeom>
          <a:ln w="0">
            <a:noFill/>
          </a:ln>
        </p:spPr>
      </p:pic>
      <p:sp>
        <p:nvSpPr>
          <p:cNvPr id="120" name="ZoneTexte 8"/>
          <p:cNvSpPr/>
          <p:nvPr/>
        </p:nvSpPr>
        <p:spPr>
          <a:xfrm>
            <a:off x="5643720" y="3929040"/>
            <a:ext cx="32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0 à 100 hb/k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 000 personnes sur la côte occidentale de guy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ZoneTexte 13"/>
          <p:cNvSpPr/>
          <p:nvPr/>
        </p:nvSpPr>
        <p:spPr>
          <a:xfrm>
            <a:off x="0" y="621504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téphen Rostain, Archéologia, janv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000080"/>
            <a:ext cx="8305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00 apr JC : Révolution néolith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ouleversement au deuxième millénaire et apparition de la culture Koriabo le long des fleuve de Guy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sparition de cultures à partir de 12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clin « achevé » par l’arrivée des europé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age 6" descr="hpqscan0003.jpg"/>
          <p:cNvPicPr/>
          <p:nvPr/>
        </p:nvPicPr>
        <p:blipFill>
          <a:blip r:embed="rId1"/>
          <a:stretch/>
        </p:blipFill>
        <p:spPr>
          <a:xfrm>
            <a:off x="609480" y="3879720"/>
            <a:ext cx="5465880" cy="222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ZoneTexte 8"/>
          <p:cNvSpPr/>
          <p:nvPr/>
        </p:nvSpPr>
        <p:spPr>
          <a:xfrm>
            <a:off x="642960" y="614376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.Jaffrelot, Archéologia, janv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imm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Immigration"/>
          <p:cNvPicPr/>
          <p:nvPr/>
        </p:nvPicPr>
        <p:blipFill>
          <a:blip r:embed="rId1"/>
          <a:stretch/>
        </p:blipFill>
        <p:spPr>
          <a:xfrm>
            <a:off x="-133200" y="1143000"/>
            <a:ext cx="9277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oc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plateau des Guyanes, en bordure de l’Amazonie et du bassin amazo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Echelle"/>
          <p:cNvPicPr/>
          <p:nvPr/>
        </p:nvPicPr>
        <p:blipFill>
          <a:blip r:embed="rId1"/>
          <a:stretch/>
        </p:blipFill>
        <p:spPr>
          <a:xfrm>
            <a:off x="4643280" y="2411280"/>
            <a:ext cx="4354560" cy="444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Situation"/>
          <p:cNvPicPr/>
          <p:nvPr/>
        </p:nvPicPr>
        <p:blipFill>
          <a:blip r:embed="rId2"/>
          <a:stretch/>
        </p:blipFill>
        <p:spPr>
          <a:xfrm>
            <a:off x="457200" y="3429000"/>
            <a:ext cx="381780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00 000 habitants, dont la moitié à Cayenne, en croissance rap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moitié a moins de 20 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unau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censement in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opulations"/>
          <p:cNvPicPr/>
          <p:nvPr/>
        </p:nvPicPr>
        <p:blipFill>
          <a:blip r:embed="rId1"/>
          <a:stretch/>
        </p:blipFill>
        <p:spPr>
          <a:xfrm>
            <a:off x="403848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cono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aux de couverture de 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s crevettes et de l’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CSG : 50% du P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Port"/>
          <p:cNvPicPr/>
          <p:nvPr/>
        </p:nvPicPr>
        <p:blipFill>
          <a:blip r:embed="rId1"/>
          <a:stretch/>
        </p:blipFill>
        <p:spPr>
          <a:xfrm>
            <a:off x="1828800" y="3048120"/>
            <a:ext cx="486900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214560" y="928800"/>
            <a:ext cx="37335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Zonage agric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ZoneTexte 6"/>
          <p:cNvSpPr/>
          <p:nvPr/>
        </p:nvSpPr>
        <p:spPr>
          <a:xfrm>
            <a:off x="0" y="307188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ande hétérogénéité, d’activité et d’a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Image 3" descr="hpqscan0003 (2).jpg"/>
          <p:cNvPicPr/>
          <p:nvPr/>
        </p:nvPicPr>
        <p:blipFill>
          <a:blip r:embed="rId1"/>
          <a:stretch/>
        </p:blipFill>
        <p:spPr>
          <a:xfrm>
            <a:off x="3427560" y="0"/>
            <a:ext cx="5716440" cy="66834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4"/>
          <p:cNvSpPr/>
          <p:nvPr/>
        </p:nvSpPr>
        <p:spPr>
          <a:xfrm>
            <a:off x="1000080" y="628668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DRG de la Guyane, FEADER 2007-20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ultures"/>
          <p:cNvPicPr/>
          <p:nvPr/>
        </p:nvPicPr>
        <p:blipFill>
          <a:blip r:embed="rId1"/>
          <a:stretch/>
        </p:blipFill>
        <p:spPr>
          <a:xfrm>
            <a:off x="3429000" y="0"/>
            <a:ext cx="58024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37339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.A.R de la Guy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Image 4" descr="Sar500000.JPG"/>
          <p:cNvPicPr/>
          <p:nvPr/>
        </p:nvPicPr>
        <p:blipFill>
          <a:blip r:embed="rId2"/>
          <a:stretch/>
        </p:blipFill>
        <p:spPr>
          <a:xfrm>
            <a:off x="3429000" y="-571680"/>
            <a:ext cx="5929200" cy="7508880"/>
          </a:xfrm>
          <a:prstGeom prst="rect">
            <a:avLst/>
          </a:prstGeom>
          <a:ln w="0">
            <a:noFill/>
          </a:ln>
        </p:spPr>
      </p:pic>
      <p:pic>
        <p:nvPicPr>
          <p:cNvPr id="142" name="Image 5" descr="Sar500000.JPG"/>
          <p:cNvPicPr/>
          <p:nvPr/>
        </p:nvPicPr>
        <p:blipFill>
          <a:blip r:embed="rId3"/>
          <a:stretch/>
        </p:blipFill>
        <p:spPr>
          <a:xfrm>
            <a:off x="0" y="5643720"/>
            <a:ext cx="3419640" cy="121428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6"/>
          <p:cNvSpPr/>
          <p:nvPr/>
        </p:nvSpPr>
        <p:spPr>
          <a:xfrm>
            <a:off x="370440" y="3286080"/>
            <a:ext cx="23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Forêt aménag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Zone protég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Zone min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uyanepluvio-1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643200" y="214200"/>
            <a:ext cx="5500800" cy="6702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786800" y="214200"/>
            <a:ext cx="185724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 rot="20931600">
            <a:off x="6573960" y="89352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ilieu phys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eu de 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eaucoup de forê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peu de savane sur la bande côt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e occupation humaine limitée à la côte et aux fleu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01840" y="52560"/>
            <a:ext cx="5942160" cy="680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2"/>
          <a:stretch/>
        </p:blipFill>
        <p:spPr>
          <a:xfrm>
            <a:off x="-357120" y="428760"/>
            <a:ext cx="4149720" cy="628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es variations du trait de cô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ote"/>
          <p:cNvPicPr/>
          <p:nvPr/>
        </p:nvPicPr>
        <p:blipFill>
          <a:blip r:embed="rId1"/>
          <a:stretch/>
        </p:blipFill>
        <p:spPr>
          <a:xfrm>
            <a:off x="214200" y="3286080"/>
            <a:ext cx="4405320" cy="322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ote Sinamary 1"/>
          <p:cNvPicPr/>
          <p:nvPr/>
        </p:nvPicPr>
        <p:blipFill>
          <a:blip r:embed="rId2"/>
          <a:stretch/>
        </p:blipFill>
        <p:spPr>
          <a:xfrm>
            <a:off x="4724280" y="1066680"/>
            <a:ext cx="4251600" cy="258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ote Sinamary 2"/>
          <p:cNvPicPr/>
          <p:nvPr/>
        </p:nvPicPr>
        <p:blipFill>
          <a:blip r:embed="rId3"/>
          <a:stretch/>
        </p:blipFill>
        <p:spPr>
          <a:xfrm>
            <a:off x="4724280" y="3886200"/>
            <a:ext cx="42102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e 24"/>
          <p:cNvGrpSpPr/>
          <p:nvPr/>
        </p:nvGrpSpPr>
        <p:grpSpPr>
          <a:xfrm>
            <a:off x="-214200" y="1143000"/>
            <a:ext cx="4857480" cy="1928880"/>
            <a:chOff x="-214200" y="1143000"/>
            <a:chExt cx="4857480" cy="1928880"/>
          </a:xfrm>
        </p:grpSpPr>
        <p:grpSp>
          <p:nvGrpSpPr>
            <p:cNvPr id="68" name="Groupe 11"/>
            <p:cNvGrpSpPr/>
            <p:nvPr/>
          </p:nvGrpSpPr>
          <p:grpSpPr>
            <a:xfrm>
              <a:off x="-214200" y="1143000"/>
              <a:ext cx="2786040" cy="1859760"/>
              <a:chOff x="-214200" y="1143000"/>
              <a:chExt cx="2786040" cy="1859760"/>
            </a:xfrm>
          </p:grpSpPr>
          <p:pic>
            <p:nvPicPr>
              <p:cNvPr id="69" name="Image 6" descr="hpqscan0003.jpg"/>
              <p:cNvPicPr/>
              <p:nvPr/>
            </p:nvPicPr>
            <p:blipFill>
              <a:blip r:embed="rId4"/>
              <a:stretch/>
            </p:blipFill>
            <p:spPr>
              <a:xfrm rot="16357800">
                <a:off x="281880" y="897840"/>
                <a:ext cx="1737000" cy="236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Rectangle 7"/>
              <p:cNvSpPr/>
              <p:nvPr/>
            </p:nvSpPr>
            <p:spPr>
              <a:xfrm>
                <a:off x="-214200" y="1214280"/>
                <a:ext cx="285480" cy="178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Rectangle 8"/>
              <p:cNvSpPr/>
              <p:nvPr/>
            </p:nvSpPr>
            <p:spPr>
              <a:xfrm>
                <a:off x="2286360" y="1285920"/>
                <a:ext cx="285480" cy="171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9"/>
              <p:cNvSpPr/>
              <p:nvPr/>
            </p:nvSpPr>
            <p:spPr>
              <a:xfrm>
                <a:off x="-214200" y="1143000"/>
                <a:ext cx="278604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10"/>
              <p:cNvSpPr/>
              <p:nvPr/>
            </p:nvSpPr>
            <p:spPr>
              <a:xfrm>
                <a:off x="-214200" y="2857680"/>
                <a:ext cx="2786040" cy="14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e 18"/>
            <p:cNvGrpSpPr/>
            <p:nvPr/>
          </p:nvGrpSpPr>
          <p:grpSpPr>
            <a:xfrm>
              <a:off x="-214200" y="1214280"/>
              <a:ext cx="4857480" cy="1857600"/>
              <a:chOff x="-214200" y="1214280"/>
              <a:chExt cx="4857480" cy="1857600"/>
            </a:xfrm>
          </p:grpSpPr>
          <p:sp>
            <p:nvSpPr>
              <p:cNvPr id="75" name="Rectangle 22"/>
              <p:cNvSpPr/>
              <p:nvPr/>
            </p:nvSpPr>
            <p:spPr>
              <a:xfrm>
                <a:off x="2071800" y="1214280"/>
                <a:ext cx="257148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Rectangle 20"/>
              <p:cNvSpPr/>
              <p:nvPr/>
            </p:nvSpPr>
            <p:spPr>
              <a:xfrm>
                <a:off x="2286000" y="1285560"/>
                <a:ext cx="214200" cy="178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21"/>
              <p:cNvSpPr/>
              <p:nvPr/>
            </p:nvSpPr>
            <p:spPr>
              <a:xfrm>
                <a:off x="4429080" y="1356840"/>
                <a:ext cx="214200" cy="171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8" name="Image 19" descr="hpqscan0003.jpg"/>
              <p:cNvPicPr/>
              <p:nvPr/>
            </p:nvPicPr>
            <p:blipFill>
              <a:blip r:embed="rId5"/>
              <a:stretch/>
            </p:blipFill>
            <p:spPr>
              <a:xfrm rot="16357800">
                <a:off x="2613240" y="1015920"/>
                <a:ext cx="1737000" cy="22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Rectangle 23"/>
              <p:cNvSpPr/>
              <p:nvPr/>
            </p:nvSpPr>
            <p:spPr>
              <a:xfrm>
                <a:off x="-214200" y="2928960"/>
                <a:ext cx="4857480" cy="14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ZoneTexte 25"/>
          <p:cNvSpPr/>
          <p:nvPr/>
        </p:nvSpPr>
        <p:spPr>
          <a:xfrm>
            <a:off x="483120" y="2948040"/>
            <a:ext cx="3144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urants marins Amazone - Guy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lima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empérature constante 26-27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Z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atre sais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oût-novembre : saison s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vembre-février : petite saison des plu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évrier-avril : petit été de 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ril-août : saison des plu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ZIC"/>
          <p:cNvPicPr/>
          <p:nvPr/>
        </p:nvPicPr>
        <p:blipFill>
          <a:blip r:embed="rId1"/>
          <a:stretch/>
        </p:blipFill>
        <p:spPr>
          <a:xfrm>
            <a:off x="5181480" y="1981080"/>
            <a:ext cx="3565800" cy="30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lima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5257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nt et plu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Pluie"/>
          <p:cNvPicPr/>
          <p:nvPr/>
        </p:nvPicPr>
        <p:blipFill>
          <a:blip r:embed="rId1"/>
          <a:stretch/>
        </p:blipFill>
        <p:spPr>
          <a:xfrm>
            <a:off x="5410080" y="1600200"/>
            <a:ext cx="3279960" cy="477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Vents"/>
          <p:cNvPicPr/>
          <p:nvPr/>
        </p:nvPicPr>
        <p:blipFill>
          <a:blip r:embed="rId2"/>
          <a:stretch/>
        </p:blipFill>
        <p:spPr>
          <a:xfrm>
            <a:off x="609480" y="1752480"/>
            <a:ext cx="322272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His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928800"/>
            <a:ext cx="84726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00 : Première exploration de la Guyane par Vincente P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166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nstallation définitive de la France en Guy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43 : Poncet de Bretigny, fonde la ville de Cay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071720" y="857160"/>
            <a:ext cx="6929280" cy="528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Guyanes en 16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71840" y="6143760"/>
            <a:ext cx="33573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ERRI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in Atlas historique de la Guyane, Le Roux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mage 3" descr="hpqscan0001 (2).jpg"/>
          <p:cNvPicPr/>
          <p:nvPr/>
        </p:nvPicPr>
        <p:blipFill>
          <a:blip r:embed="rId1"/>
          <a:stretch/>
        </p:blipFill>
        <p:spPr>
          <a:xfrm rot="21540000">
            <a:off x="1357200" y="92880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4:10:43Z</dcterms:created>
  <dc:creator>Eric Marcon</dc:creator>
  <dc:description/>
  <dc:language>en-US</dc:language>
  <cp:lastModifiedBy>Stephane Traissac</cp:lastModifiedBy>
  <dcterms:modified xsi:type="dcterms:W3CDTF">2009-09-25T11:43:05Z</dcterms:modified>
  <cp:revision>66</cp:revision>
  <dc:subject>Endomycorhizes</dc:subject>
  <dc:title>Présentation de la Guyane</dc:title>
</cp:coreProperties>
</file>