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540A-F59E-446E-A113-5C342082A0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ED16-5333-46E0-9E12-4666773E07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E12F-7BC1-4075-9512-02CBCD6050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777C-A9C2-443F-8434-C2662F89EC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52E9-BEAE-4A47-A24F-9BA27DFB97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2BC9-3671-4DFD-876C-5F830BAC34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B0C2-6738-49FA-87CC-9C1576D816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75A0-A02D-4FCC-9774-49FB4305E0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409E-633C-4B36-9430-D093218A33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B8EF-DD49-446C-811C-15944773DE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067D-C390-4CE3-B80D-55E6F13FB4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322B-37CE-41A4-BF1A-D484457319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9457-FA01-4AAB-A1C3-FF77ACEAFD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48F6-1D59-42EE-AE89-EEAB74ED3C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10F6-AFA3-4D22-BF49-C498596338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E5AB-00A9-4030-8B3A-1CB85752BC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62B-512F-4711-93D2-7709A476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FE0-DDF0-45A0-836D-06E6BA97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D39A8-BA77-4E17-850A-88FF2491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49423-DAA9-47E1-B52C-AD98E3E5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04294-A5DA-4BA2-BBC1-3704120A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558B9-CFF6-4B01-8082-3E6E1B60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EF6EE-320C-4F68-8D72-8ADA6792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B62D7-F0B4-4824-A681-23C8D2BA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75D67-97DE-43F9-99F0-790DC8F2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61C65-F75A-4896-89F4-12FB19D2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5FEE2-8438-4220-9C1E-09DBB1E0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210C4-8FC1-408A-AAD8-4D078875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A03-DDA3-4CAE-BA73-D3D35B8B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9CDD6-F3A3-461E-BC25-A7F5D024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0802F-163B-42D8-885C-ADFBD7F6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7E0B2-80BC-4992-93CC-97201DE7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D207F-83D3-4622-B6C1-11CF1A1C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35CCD-1D61-4384-B5A7-05055F1F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A8D39-5430-48F3-8BE6-E85D4DB0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809F1-DDA1-43DE-B1CC-3C228719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1FEE0-E39C-4116-A7C5-1985B6F0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86F01-CEA5-41E2-8282-6749B0B3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29151-5910-4281-9BEF-2B78917C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E69-17C3-4BC8-AE7D-A57A87ED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967DD-193D-40A4-ACB0-02BC9A9C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FE2AE-D85F-4C90-8A7E-3ED5AE3D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9E39F-CB5B-4A24-9AA7-39B304C7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2CE6A-6238-48BD-817B-666425C5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13D6A-B007-4455-80A9-84327C58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27090-7762-4E22-9335-1EFCA181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E91C4-B611-4EAC-BDE2-E7831FD0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AFCC7-8C95-4287-91E4-9EBDDB08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9C7D5-EE8E-4E02-B690-454B921D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1A4B7-57EB-44E8-910B-1EDDD737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BEAA-BE17-48B2-8003-232C81D6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F8D24-99C8-4A96-922B-C23EDB08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E5229-2480-4267-B597-B8281A9E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B450D-1F8B-4E99-A8DC-71E01B7A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BF301-92BB-4C26-A89F-6B6755CB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D4A0B-29FD-4235-88EA-B6E18E01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3CF6E-943D-4866-866F-D7A28E82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86610-BF91-42CA-9CCD-ED0A5C32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BCD77-B1F8-4A80-B4C3-E1244814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6C94C-B47D-444E-B7EE-285D78E8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2BD4C-5F84-49E7-B37A-75868FFA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4DD8-3796-499A-ABF0-6366E70C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94850-9489-49EF-95F4-B833BAAD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0FF4D-AF15-44ED-AA96-DD1AB26B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C0B13-0190-425F-BBBC-5DC01747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F96E6-00C3-465B-924D-FEA6A127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1E917-F180-44F5-90B6-52A37890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B68F0-D6E0-46E8-A9CC-DBE075FF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B5715-F705-489F-A796-BEE956D6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56D97-85F1-4BD1-B137-47371679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67FD4-71FE-4D2F-BCF5-ADD38C81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8FDBC-1F3B-4BE1-83CD-BCD5B4DD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386E-BE08-4194-8E89-035BD914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561A43-EBCB-4196-A981-CAC4ED5D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B641FF-FC8E-4F4A-A763-05C3EAC2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7698C-F8AE-4C58-B4CB-D615FA6D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4C74B-C038-42E0-B6B2-B4E7F481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8AB68-4273-43B5-B448-B4FA4451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18075-72DA-4858-A13A-5D8707BC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EC51F-0B6A-4430-B360-F14BB5BB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357412-E30C-47CB-941F-7EEC7EC7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2610D-EA24-4058-BA77-80C1B742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1EB329-5202-4DB7-A59E-1A0948D3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B550-6864-4519-9A0C-4FA3A8FB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BC310-59C1-4FF8-B4AC-286D0FCA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24EEB-D3A9-49E0-AE05-2ACD44B1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41E057-112F-487C-A1F7-AFC1C65D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C06518-FAB2-4757-89AF-F8FA513D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698FA-1A80-48B8-982E-AEDF0AAD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808A1-A1E1-4661-91EB-332C4E71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D7DA42-5309-4CEF-8467-425949A5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36D92-25F3-453C-A60F-458AC45F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7B647B-CCE9-4A24-8F88-6772FA87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B06B2D-84A3-4C51-A1C4-8C16F95C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5631-C0EA-41AF-ABB7-A43A01B9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345475-9194-41EC-9F96-CC62A151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363F37-2C05-4282-B21E-ED73564E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5FAA9C-6C59-4758-8E0F-A226C97E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6524D-33F8-480D-8378-F9B288B2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5C4D73-791E-4E3C-B9A3-084A0AF6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8CCEEF-0EDF-4EFA-802C-94FB688D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9B3A80-6D2E-4B3A-9097-38DE5F44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ECDB29-C165-4FE8-B0DA-5A95385D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89B838-361E-425C-A494-7883792C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FCA78C-BAED-4AED-A364-044FBBD4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26BE-683D-40D2-96FB-0E46B709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DF7929-0930-4135-8F63-BFF05774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3D5760-CC48-48EF-88AC-813C42D8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493F51-8FC3-4ECB-B246-5BFA0F5D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6B8618-021D-4F54-B5D7-BB1AA903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EB858A-8365-4449-B8BD-AB88B4A7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9291CD-8F7E-4F31-93A1-848B3C69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796FAA-87CE-4391-B9F6-0015F7DC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7F6890-5F86-4546-B1E6-23CDF488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B87719-F75A-4459-87E8-6CAB0FF6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C5A271-6F57-45C7-8EBF-05C07D5A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E925-1A35-496C-ADE8-52CD96E6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1BDD3-9012-41E6-95B1-C5CA7DC6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2795CB-9376-4E94-AFA7-F974AC92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A65AB8-AB57-486F-A770-C9D43C6F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AE64E0-A519-42FC-8797-052883D4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7A3117-FCE3-4C21-8E5E-DC2C6D99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ACB9C3-FA9F-4C63-8C97-D4EBE026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EB6629-91BE-45DD-AA01-232FE104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AE3596-A7CA-45C0-8711-AEEDED5B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CD85D8-D644-4EF6-8D59-170726D6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88DFD8-F61A-4665-82C4-F301AE29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0F1-8CEA-4F8C-AAF7-91EDD95A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C6BB-30C7-4D56-9E3E-B0C6A597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49243D-2BC8-40ED-92DF-E0D2D09A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C093CF-C241-46B2-B707-13B24D8C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FD122A-55A1-4892-966E-33AEF974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07B630-CBC1-4B5D-8B2C-BBD6AC84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423D4B-1B37-48D2-A130-ABC3B5C6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63F117-1D0B-4577-9DC2-31FBF35B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F95900-B543-4F4B-B71E-EEC14E2B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6A57C2-17EB-4186-848A-0CDBB20F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9035B7-74FB-4383-9C9C-BACB9223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0CD3C0-BD4E-41FF-9378-674AE675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1012-A703-40A6-98AF-576649DF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9B45C5-DD7B-4B28-9510-0BEB894A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A3A00B-05AC-4A46-8B55-964304BC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386593-9777-487B-8E52-27E920DD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E85C15-6331-4087-BE18-478F7D65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4F3C2D-3CAB-420D-AEFF-0981DC84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F77A8C-562D-448C-BBC0-6D9474E3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CBE30E-1732-41B0-B48A-A6CD628B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1AF821-C36B-4464-B69D-D8C1E202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B78423-56F6-4A29-8709-7720BC2F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7B1B79-7F44-4AD3-B284-C0D6DF5D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9E37-3FF0-4D62-A063-1E3254A6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5D6701-0B89-430F-85ED-DC451A7D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537301-EA27-4DEE-9D42-62D87696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4B3137-5E28-4FA0-B2CA-454D2AA2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0E5D09-CD0A-4CA2-B5C4-57BA8A1D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54B881-9A96-405E-BB38-B1009ECA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247FF2-AC42-4F4B-B582-1D308A45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E1F333-B22F-4A0D-9200-A42F9BB6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E699E2-20F5-4ECE-90E3-67A6C97A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21CE37-F990-417C-84D5-781B2375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06E6B0-ADF6-4982-A6F6-134E3163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2990-C2A5-4E33-99E4-E2421CEE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489F6C-7A78-41C1-B47A-5B785771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CBAB88-D5DC-4C8B-8F01-29C2F201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B3AB1E-02E6-4B13-AA11-7A8994E1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5676A2-3275-4C98-8426-B1A30D6E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88C2ED-B473-4047-9922-399EE5C4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E1954B-D952-4C12-9769-269E9C92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29C951-E394-42A2-AF5C-90CC32F2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D98311-67D4-4621-ABA5-D5F15A58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7B547C-F269-4D72-9732-8F389505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404AD-D401-4B0C-A1BE-294C6FAA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CF49-19C5-4CCE-A0EA-C02AAF66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0AC8F9-ED16-4093-BB45-1CB822B6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CF2DE7-A815-4C55-BDC8-E197D295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8B6490-6691-47D6-A2F2-448FD7C5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F84B4D-C9AC-49CC-AFC3-9ACD79E0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E959DA-E7C6-485E-9AC7-25C664D0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25C300-AB85-4050-AE95-F1850B36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CDAB89-5EE5-41C5-9A23-B6F24069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1B4215-A507-465E-BB53-F7DE9FDF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1FCEA1-4175-4451-BEA0-E35B7C90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F4C86A-7387-4C89-A340-B4430ACB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25497-AABA-4D28-9F93-F5E68EB1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3E28DF-79A4-44AF-99B0-13A01D88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62710F-218D-4BD4-8A65-B9CF6C0D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278435-167B-4894-A4F9-E0EA10C5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370BBC-438A-4932-A0D6-88BACCF3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2B01E6-EA1A-4898-BD9A-87A4146C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B23592-6A1B-4093-963B-0C135D3B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7BA203-4363-4D7F-AF31-F307BEF9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06C686-FDB4-4AE8-945B-EAF56AC2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B29692-B413-4A3F-87EF-F3EADED7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73A1FF-5488-480B-8AA8-69B6E8F5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2017C-EB13-40E1-9564-FF022BA9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A6F41D-4156-42CF-A350-ED9DCED3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399E27-2CD3-43B6-A390-BAC674D6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260CAC-82BA-494B-907B-EB965E49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FCEDB7-8E58-415E-A974-FFD7B5DC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B65277-C54A-45A3-BE75-59A73CA6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BA4344-CE6A-4A31-883F-67DBD085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4088CA-9181-43CD-8C69-13771ABB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2C5FCA-B409-40AC-AF48-65A64A49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7FFF19-C148-41BC-BA6D-F0BA343F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FF35CF-6747-47F7-A8B9-F4AD7D9B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26C5D-A85D-47BF-A032-11A6B5E6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7D7C08-4550-43DB-8779-4A539A28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4FC0F2-233E-486F-8810-53A007EF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94A135-B824-4D76-83F1-5165D7ED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E0F557-8A69-47CF-B8DD-C3C3CC94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278B38-A15C-46F5-8E38-E59293F6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F12CF8-AA12-4C14-936C-0DB30482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958CD2-D35A-46BC-9EC0-AE58B3D6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67360E-0832-4268-AAE9-04A15796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83A534-4B17-4E96-A29C-AB1B3AA6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C67917-CA77-4317-AFA8-0A1AA99E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303BF-A839-4709-9EB3-9AA986B5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6E004A-A05D-4CB6-A5EB-552E81BA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8CEDD0-9B6D-4A73-926A-3316CA09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07C219-21EB-4808-B524-7AB88C8A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178C6C-4A9F-4A67-BB2B-78E979B6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DF5D24-7375-464D-A38B-4AEC8354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E6ABD8-8E53-480A-BDA2-AC53D29B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2FD1A5-B9E0-4DAF-953D-33A47990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00BE20-34F8-4388-BE8A-00E0616E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717FD9-5E95-4C8D-B241-2808BACE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047FA-4C00-446F-A0BC-383E3E2F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01C-1871-4C00-A2E8-5DBE51DB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68F78-5566-42DB-A761-3463B3E5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9B0EC-406F-463B-BAD3-6E217686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DB02A-A54D-4BB6-9CDF-82541FFA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EEBFF-72EC-48CE-98F7-DB306829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D656A-8858-4CA8-A1E6-D72EBE3A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AA002-C2A5-4B93-9F9B-48F7405E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AA26-444D-492A-ACCE-EA07647F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CAE7D-DC1D-4700-AC65-60FA6A8B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CB9A4-75C8-416E-B14F-A739E24E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266D0-ADEE-4C16-887E-A875629F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CFF-5F26-4168-A2BD-47168FDA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55F33-5859-4242-9FF3-2BF5A4A6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078D3-66D8-4D93-B650-DD2B4621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4E9BE-6019-42C2-8A0B-3A4F0DF8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AD67D-147D-45A3-952D-B2E902ED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2CED7-2C34-4B35-A093-D6EAE632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B54EB-7F27-4058-ACF9-23D448AA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8D5EC-BB57-45FE-B84F-2FFD043C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CC405-4AEB-4EEF-AD00-DDA07AE7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230B0-1B5D-4A72-AE7D-BA867875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A6771-FED8-461B-9AB8-78CDF392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A9E-7A73-4AC0-850E-D07D0638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0B3BC-8A7F-4E26-9515-9BF86F53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24A06-74F8-41BD-B7E8-2C579570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8627D-1B1B-477B-B2AF-758BC54A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9169E-F8AF-4068-8A62-B176FAE3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B4EA7-D474-4C17-842D-4D6826C5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5746F-9521-4377-B88E-2C3E817A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F3A05-063C-4A12-983F-48F94C97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70335-0994-4F47-B893-2982CA38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554FB-DCCE-42E6-9AD9-F5325C73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76C39-B4C5-4192-BA32-DDC66C17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77F-DDC8-407B-94B6-1E6CBC12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3788A-7564-4065-8208-F57DD942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119B5-7850-4361-8E77-F4F7553D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367C0-2BD4-455B-9D41-581FFCD9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531E0-9CCA-4AF8-BA4C-EFBB7A72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DB3FD-490A-417E-B8EA-AE4BEEE9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953B8-EBE6-4B24-95C3-22DB826B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96A7A-05FF-4548-93C3-F5CAE4FA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05312-C7F9-462B-B008-E2C4C37E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F144E-EA4C-4D68-8191-8856D413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D8CE0-030C-48F2-88C3-FBAA8AA7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4B5-3CA1-427E-A67A-82E04581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E1609-FD1C-4B9F-879C-E3D519AB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3B474-67AF-44F8-95A5-CEF23877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4C744-D0CF-430E-92D4-005B2C34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C1F0E-8589-4C4F-9557-99186590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85C34-8860-4973-9D87-8F9EEAD6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DB67D-734C-4275-9AC0-340E0AE4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FF6EF-9D25-4E51-ADC7-BD720E31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6D51E-AA47-4AAB-B6B0-340BB641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38462-12DD-4E39-AF28-FEAB5EB3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EBB1C-B2A8-4458-ABF6-7ADADD1B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C88-9345-4A02-8665-422CE18F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F849B-DB19-43E5-8E2C-878358C0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456E0-432F-4433-A668-735D06D4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B9FA9-2E20-4AB1-A875-7CB0EC7B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C0F2B-BF68-4F70-9FF2-7A9CD41A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B6EC6-8988-44BC-9A91-4A32B8DE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A2D26-1FB9-4B1F-BD0A-0F1F1D6A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6C6BE-4037-4AC6-9386-E29A7C00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76F77-4CC9-49BB-B618-C924D780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B296E-ACAA-4D89-914D-5FC8F198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E22EB-FA3F-436B-AFE1-8AC9F372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CD5-5031-4A76-83D9-D479B758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5BBC5-2C32-43A0-A048-8D80A92F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ED4EB-A974-41F7-82E3-9BA910F5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CABC9-D4AC-42AA-9FA2-377E9CCA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2DAA6-C84F-4CA0-BAE9-70520AEC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EA67A-51F8-40E3-A51E-85542464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E2D92-652B-43AE-952C-A835192C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22B78-7C31-47F1-A764-4C1CC86E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1915A-763E-43CB-A6DA-A70C3310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34E2E-1F13-4ED2-B170-F39467FC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E8EF7-D4FD-4659-A456-09784C52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A816-9FB8-408C-9612-18F403B555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1E86-8F27-4A1D-81BE-7B10B3CAC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6D91-261A-4A10-82FE-B377740C8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390A-8F97-4A8C-9CEB-A83AEA1BD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EB7A-A928-40D2-8A2A-DFECF4F13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55F3-F774-4F44-A0B7-E4E9C25FB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9B08-9851-4C4B-9CCD-67B56B8B36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5DA4-8F68-4923-8D89-9C94438E6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DA7E-9270-46B8-9787-DE97AA6A2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BFE4-5057-4D0D-8D26-D5CCEE5872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1EE9-8628-4F4A-8E4E-82DCC215E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C64B-0E3F-4115-B39C-3A09DACBB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0821-BDC5-40E2-A27B-DDBE46040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C00D-32AF-419F-ACD8-98E4F8A91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94EE-A3F2-49C8-85E1-81E5C6CBE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6588-395E-4595-A6D5-0DB18AEA9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9483-1A2B-4E3A-89A2-5548B19B3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65A9-A185-4076-A4A5-098F39251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8CBB-76E0-4198-8852-24BC7377C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78BA-23AB-4AF4-B272-6320510C7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3FDD-F1A1-4CA0-9835-BA8383E70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4A1C-6190-446F-B8A5-5D524730E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7FFD-71F3-4ED5-9D39-F44020BAF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E012-E3D3-4838-8255-BC04A1230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33cc"/>
                </a:solidFill>
                <a:latin typeface="Arial"/>
              </a:rPr>
              <a:t>Mesures de la biodiversité</a:t>
            </a:r>
            <a:endParaRPr b="0" lang="en-US" sz="48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211640" y="6308640"/>
            <a:ext cx="468000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39617"/>
                </a:solidFill>
                <a:latin typeface="Times New Roman"/>
              </a:rPr>
              <a:t>Eric Marcon, Avril 2006</a:t>
            </a:r>
            <a:endParaRPr b="0" lang="en-US" sz="1600" spc="-1" strike="noStrike">
              <a:solidFill>
                <a:srgbClr val="e39617"/>
              </a:solidFill>
              <a:latin typeface="Times New Roman"/>
            </a:endParaRPr>
          </a:p>
        </p:txBody>
      </p:sp>
      <p:pic>
        <p:nvPicPr>
          <p:cNvPr id="1005" name="Picture 15" descr="LogoUmrPetit"/>
          <p:cNvPicPr/>
          <p:nvPr/>
        </p:nvPicPr>
        <p:blipFill>
          <a:blip r:embed="rId1"/>
          <a:stretch/>
        </p:blipFill>
        <p:spPr>
          <a:xfrm>
            <a:off x="250920" y="4869000"/>
            <a:ext cx="1873080" cy="178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Mesures de la diversité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Richesse spécifique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Nombre d’espèces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Difficulté : estimation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rapoler la courbe aire-espèces observ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maliser la distribution des fréqu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timation non paramé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Mesures de la diversité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Indice de Simpson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Probabilité que deux individus tirés au hasard soient d’espèces différentes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Equité, mais aussi richesse.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</p:txBody>
      </p:sp>
      <p:pic>
        <p:nvPicPr>
          <p:cNvPr id="1042" name="Picture 4" descr=""/>
          <p:cNvPicPr/>
          <p:nvPr/>
        </p:nvPicPr>
        <p:blipFill>
          <a:blip r:embed="rId1"/>
          <a:stretch/>
        </p:blipFill>
        <p:spPr>
          <a:xfrm>
            <a:off x="2340000" y="2637000"/>
            <a:ext cx="48243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Mesures de la diversité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Indice de Shannon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Nombre de chaînes de caractères de longueur fixe possibles connaissant la fréquence de chaque caractère.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Problème : non décomposabl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</p:txBody>
      </p:sp>
      <p:pic>
        <p:nvPicPr>
          <p:cNvPr id="1045" name="Picture 4" descr=""/>
          <p:cNvPicPr/>
          <p:nvPr/>
        </p:nvPicPr>
        <p:blipFill>
          <a:blip r:embed="rId1"/>
          <a:stretch/>
        </p:blipFill>
        <p:spPr>
          <a:xfrm>
            <a:off x="3419640" y="3429000"/>
            <a:ext cx="4321080" cy="1784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Mesures de la diversité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Indice de Rao (1)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Matrice de dissimilarité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Matrice de fréquences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Calcul de l’indice : distance moyenne entre deux individus pris au hasard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Mesures de la diversité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Indice de Rao (2)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Analogie avec la varianc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Analogie avec Simpson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Utilité d’une distance ultramétriqu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Maximum théoriqu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Décomposabl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Le pharmacien et l’écologue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Pas de vérité uniqu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s les écologues ont raison… (la richesse n’est pas la diversi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originalité n’est pas la diversité (Rao pour réconcilier les points de v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iter le mysticisme: quel est l’intérêt de la diversité? (et quels sont les avantages de la spécialisation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Quelques propriétés indispensables :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erprét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ompos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Difficulté pour obtenir les données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40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Que mesure-t-on ? 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Richesse et équitabilité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Diversité Alpha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Diversité Bêta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Diversité Gamma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Décomposition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Que mesure-t-on ?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Le plus souvent, la diversité spécifiqu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Mais pas seulement : diversité génétique dans une population / une espèce, disversité de communautés dans un écosystème…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</p:txBody>
      </p:sp>
      <p:sp>
        <p:nvSpPr>
          <p:cNvPr id="1010" name="Rectangle 5"/>
          <p:cNvSpPr/>
          <p:nvPr/>
        </p:nvSpPr>
        <p:spPr>
          <a:xfrm>
            <a:off x="0" y="175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Picture 4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2514600" cy="309564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6"/>
          <p:cNvSpPr/>
          <p:nvPr/>
        </p:nvSpPr>
        <p:spPr>
          <a:xfrm>
            <a:off x="2858760" y="4853880"/>
            <a:ext cx="342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1 : Emboîtement des objets d'étude de la biodivers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Richesse et équitabilité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Les idées sous-jacentes : difficulté à deviner ce que sera un individu pris au hasard.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</p:txBody>
      </p:sp>
      <p:sp>
        <p:nvSpPr>
          <p:cNvPr id="1015" name="Rectangle 5"/>
          <p:cNvSpPr/>
          <p:nvPr/>
        </p:nvSpPr>
        <p:spPr>
          <a:xfrm>
            <a:off x="0" y="20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Picture 4" descr=""/>
          <p:cNvPicPr/>
          <p:nvPr/>
        </p:nvPicPr>
        <p:blipFill>
          <a:blip r:embed="rId1"/>
          <a:stretch/>
        </p:blipFill>
        <p:spPr>
          <a:xfrm>
            <a:off x="3780000" y="1628640"/>
            <a:ext cx="2133360" cy="2562480"/>
          </a:xfrm>
          <a:prstGeom prst="rect">
            <a:avLst/>
          </a:prstGeom>
          <a:ln w="0">
            <a:noFill/>
          </a:ln>
        </p:spPr>
      </p:pic>
      <p:sp>
        <p:nvSpPr>
          <p:cNvPr id="1017" name="Rectangle 6"/>
          <p:cNvSpPr/>
          <p:nvPr/>
        </p:nvSpPr>
        <p:spPr>
          <a:xfrm>
            <a:off x="1605600" y="4587120"/>
            <a:ext cx="593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2 : Importances de la richesse (en haut) et de l’équitabilité (en bas) pour la définition de la divers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Diversité Alpha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20" name="Rectangle 5"/>
          <p:cNvSpPr/>
          <p:nvPr/>
        </p:nvSpPr>
        <p:spPr>
          <a:xfrm>
            <a:off x="0" y="16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1" name="Picture 4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2352600" cy="3200400"/>
          </a:xfrm>
          <a:prstGeom prst="rect">
            <a:avLst/>
          </a:prstGeom>
          <a:ln w="0">
            <a:noFill/>
          </a:ln>
        </p:spPr>
      </p:pic>
      <p:sp>
        <p:nvSpPr>
          <p:cNvPr id="1022" name="Rectangle 6"/>
          <p:cNvSpPr/>
          <p:nvPr/>
        </p:nvSpPr>
        <p:spPr>
          <a:xfrm>
            <a:off x="1767600" y="4796640"/>
            <a:ext cx="5356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3 : Diversité </a:t>
            </a:r>
            <a:r>
              <a:rPr b="1" lang="fr-FR" sz="1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évaluée par la richesse spécifiqu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habitat B possède la plus grande richesse (figure issue de Morin et Findlay, 2001).</a:t>
            </a:r>
            <a:r>
              <a:rPr b="0" lang="fr-FR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Gradients de diversité (ou du moins de richesse)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25" name="Rectangle 5"/>
          <p:cNvSpPr/>
          <p:nvPr/>
        </p:nvSpPr>
        <p:spPr>
          <a:xfrm>
            <a:off x="0" y="21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6" name="Picture 4" descr=""/>
          <p:cNvPicPr/>
          <p:nvPr/>
        </p:nvPicPr>
        <p:blipFill>
          <a:blip r:embed="rId1"/>
          <a:stretch/>
        </p:blipFill>
        <p:spPr>
          <a:xfrm>
            <a:off x="3132000" y="1989000"/>
            <a:ext cx="4257720" cy="2409840"/>
          </a:xfrm>
          <a:prstGeom prst="rect">
            <a:avLst/>
          </a:prstGeom>
          <a:ln w="0">
            <a:noFill/>
          </a:ln>
        </p:spPr>
      </p:pic>
      <p:sp>
        <p:nvSpPr>
          <p:cNvPr id="1027" name="Rectangle 6"/>
          <p:cNvSpPr/>
          <p:nvPr/>
        </p:nvSpPr>
        <p:spPr>
          <a:xfrm>
            <a:off x="1954080" y="4510800"/>
            <a:ext cx="523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4 : Nombre d'espèces de coraux dans les récifs (figure issue de Morin et Findlay, 20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Diversité Bêta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169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1" name="Picture 4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2352600" cy="3219480"/>
          </a:xfrm>
          <a:prstGeom prst="rect">
            <a:avLst/>
          </a:prstGeom>
          <a:ln w="0">
            <a:noFill/>
          </a:ln>
        </p:spPr>
      </p:pic>
      <p:sp>
        <p:nvSpPr>
          <p:cNvPr id="1032" name="Rectangle 6"/>
          <p:cNvSpPr/>
          <p:nvPr/>
        </p:nvSpPr>
        <p:spPr>
          <a:xfrm>
            <a:off x="1880280" y="4915800"/>
            <a:ext cx="538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5 : Diversité </a:t>
            </a:r>
            <a:r>
              <a:rPr b="1" lang="fr-FR" sz="1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évaluée par la richesse spécifique (figure issue de Morin et Findlay, 2001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Diversité Gamma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Alpha + Bêta (si possible…)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Importance de la décomposabilité : indépendance de l’échelle d’observation.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Parfois, la diversité gamma a un sens différent : pas de consensus comme pour alpha et bêta.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35" name="Rectangle 5"/>
          <p:cNvSpPr/>
          <p:nvPr/>
        </p:nvSpPr>
        <p:spPr>
          <a:xfrm>
            <a:off x="0" y="15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08125"/>
                </a:solidFill>
                <a:latin typeface="Arial"/>
              </a:rPr>
              <a:t>Mesures de la diversité</a:t>
            </a:r>
            <a:endParaRPr b="0" lang="en-US" sz="40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Richesse spécifique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Indice de Simpson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Indice de Shannon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Indice de Rao 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8:38:31Z</dcterms:created>
  <dc:creator>Eric Marcon</dc:creator>
  <dc:description/>
  <dc:language>en-US</dc:language>
  <cp:lastModifiedBy>Eric Marcon</cp:lastModifiedBy>
  <dcterms:modified xsi:type="dcterms:W3CDTF">2008-09-04T20:45:54Z</dcterms:modified>
  <cp:revision>6</cp:revision>
  <dc:subject/>
  <dc:title>Mesures de la biodiversité</dc:title>
</cp:coreProperties>
</file>