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2821-8A62-4BAC-8C87-1FE01DA3E6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3131-B3F3-4CDC-AE0A-C3EB5DEE63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97E7-ACE7-4D25-BAD8-B45846EA31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22D1-0A07-4C78-9635-3865BF21E9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E5D8-F97C-4B6D-A241-BA43FF5EE6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20C9-969F-4B85-9CB2-9F8E4D19B0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E7DD-A087-41A1-AB66-F69BA3671A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4819-B405-4B9B-BDBD-4BC68C3210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D73B-B543-48EC-906F-3915AE03E4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679E-FB60-4A72-9C4F-18FF811583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7FB7-133B-48B5-AEB6-5764EC2926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0376-F35F-4DED-B483-68B64DACF5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69A5-F78B-4D08-A685-9BC3E8DC71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1B20-DC60-454D-9048-3A9C70B06B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18EE-EA1E-4344-9E38-03980CF840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95D9-F69D-4E11-8F4B-D79B81C5C7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93B-0568-46D0-98E4-974A6402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65D-3F1C-4CEE-9A30-96E87B12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9EA91-A3A8-4948-B615-9D576132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9820C-08EF-4046-B98B-20213B52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14173-98EE-4042-9FD9-AC6B6F44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42BF9-0F07-4A0A-B60A-8B3C0ED1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81DD7-B11D-4B2E-8EAF-BAAEA278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0B248-7426-4FCE-B9C3-73054F93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71C70-53DE-4EEE-8EF8-DA62A76B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A2DC1-4A0E-4E83-8A37-AB2A24B1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5B253-C972-4CC4-98B3-86C0D71A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CB2F9-3430-48AB-B8CC-D3E2C752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0F7-A4D9-42BA-B8C5-085A8CA9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B02E5-DA0B-4323-AABA-C8F5CF61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A9F1E-A799-4796-9545-43659D5A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8A08E-E728-4CB2-B99B-9995C7F7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8D55A-B180-4594-BFA9-CA8646F4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D6EE9-67A7-4678-AC16-67A39C42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0E3AB-9880-4CF6-950B-256FCFE3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FA3A0-8723-4CB0-8057-CA459F6D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C3294-E790-4C4F-883E-C88B00F8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2A185-E40D-4F3D-BF71-CCC064AB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34C2A-CD3D-4F28-B342-D2FD1491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4CC-E95B-404D-8086-72BAA139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199F8-DBF7-4377-946C-55850D92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B300C-B415-4985-AE1D-4307A38D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B64E3-DE68-4819-B0FB-2F9881D4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9A575-1A63-4A3F-82A0-9F303CBA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5AB91-FA2F-46AC-A867-AAEBE927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A9749-9023-461F-AA8C-D7DB0F5B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5DE0D-F359-4DE2-87ED-C44D1908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4CC62-32F1-4A96-A6F2-1E18B361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D2670-2C25-49EF-9C3A-3E8E5F10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D115D-0AF5-4C2F-B59F-E4D3B36C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002F-1DAA-476E-8C1F-BB788C63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08D3F-B838-4B59-A895-A3B33762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C079D-7776-4C7D-B2DA-E8CCE7D6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6DE68-7602-430C-9BE2-D4BF1626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7DCF3-20A9-4D14-984D-D3181C39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886FC-45E4-4220-811B-F512BF35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F6E7F-73B5-45B8-9C15-5A48EE8F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7178A-E5B6-4B9E-A34B-0C69FA29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63ACC-15B4-4F21-A82D-EE281BA9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5EBF9-FEEC-40B3-A26B-A4338393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21473-D66F-46AD-B484-BAB74AE2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9A40-64A8-4984-86B5-0D676206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7404E-B1CD-4781-A674-B4DD5897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E7B13-1ABD-4660-A6AE-85E2CC40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797F7-BA44-457D-8DF6-4CF47FA1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A4814-A473-4E46-934D-88BF5514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D32FE-194B-4FF7-9B2D-453F7C81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5C4C1-FCE6-4271-AF18-1E663113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BDE06-4FD6-4AE1-AABC-73FD041A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5FBAD-9791-4A0E-A4CA-D0032185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61815-3DE2-4CDA-9CEE-170DBFE0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9891B-22E8-4A5E-8D9F-999353E1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9471-4381-41C4-A224-D63556AB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918C7-0B20-409D-AE6D-5CA0A7E2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712D6-1C61-4F4B-8863-A9950B90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454F0-032B-4ABA-8E48-0E4C28A7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B33D4-D2BE-4BA1-AF77-F31B40B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CF1C5-F7F8-4C71-A7AB-C28C71A9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6006E-EBAE-4F92-B4EF-5D9B712A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31014-84D0-48ED-BCC9-0BAF709E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62581-81A0-4300-A17D-99F3CD18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36DB0-D403-48F0-AFC6-540E87E3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2C522-6F65-4AAC-9848-D1BE77DE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6C0C-D2B5-4A01-BECF-1A6F53FC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8DCE7-C091-4B40-91F9-0B12FC62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43323-A90B-4EAF-9536-DD19E171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7B51C-519D-415D-812E-77EFE03F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F9404-EE6F-4E24-91D1-2AE9D3C3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B5E1D-4E4C-4BFA-B603-0FBC1006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20E4F-B322-4A46-8589-69A49A3A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7712F-EFD2-4ABE-AFC3-8FE2DF78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A9E4A-2BD2-4736-9398-7A077349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7F5C2B-3D5C-487B-9199-ADABA7DD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45FA9-2A2B-4F6E-8E70-9454BD30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63DD-2699-4A9B-AEC2-B9F9299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0641A-47AA-4806-9131-30822425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2CBF3-2416-439F-884B-E2EE6D0E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403BE-A5A8-449F-AA03-595BB2D4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D71E8-4540-4E58-A7FC-8E3DCFB7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7BE13-70A7-49BE-8962-29F46BAF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38318-0371-4722-83DF-FF9B79BB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1253F-D273-484E-A4E7-E9C73D18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3BDA7-FF02-4D15-B169-C9F34DD2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7875E-7D54-456D-963C-20CBB4C8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B0042-BC12-44DE-AD1D-6DDDA2F1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C8D0-FA66-4378-9591-599BBFB3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3C8DE-5A52-4AB6-B27D-8639EE9F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7E2121-126B-4E1F-A44A-23331CF7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5A213-EBCB-47BF-8C27-2A82CD61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1D7FE1-83FE-46AD-B0AD-7D2FA381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F416A-33B6-4C36-83AB-9B879543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943B9-E220-4A8D-9DD3-C7338AE3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A3FBA-1784-49FD-BD40-95D5A992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281EC3-D277-4FBB-BABE-FDEFA79E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0F24E-312B-4FA5-9CD9-D41CEA51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69F8A-DAE5-4A5E-A172-B6D6A8A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4E0D-8C87-4A5B-B782-F66A7456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F81B3A-546D-450E-A51B-8E8A4116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6AE9C-E9D9-45DB-AA1A-D6A1139A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6577BA-EE87-492C-A5FA-2F29115C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7B495-892E-4F22-8F9F-8A73A7DD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7B580-3C89-47C2-B837-477A7CBD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0A4E5-A041-4559-9016-3104B736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9F2D5-2836-4606-9165-AD5EC277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2F830-B88F-45BA-A8E7-FCD74E04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14023-4365-4868-B9D1-A780BD9E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6C6BF7-55B2-4E2E-82AA-8E5F98B0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034-04AB-479B-967E-D4056C94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40D1-65EC-4750-9CE6-6AC42FCA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ED8840-C253-4709-9AF7-0696CE4C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809A4-1629-4F57-8C14-FF89A9DA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775C1-7A6A-4211-A615-901CAE15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345F0-50C0-4F53-87B8-45E53C4A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B43CC-08B8-498A-A4F0-DC2D9518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137A6-655E-4FD8-AD0A-3BBD6047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E3360-7510-4891-8481-48246213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73C896-CBEC-423F-B886-80B001B1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E92C1F-CE86-4F9A-AF07-AE281F65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84C84-40B7-45E8-A7C3-5455709A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B5D6-FDAE-4E2B-8D6C-BC7E5520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33229D-5569-4BA8-AF1A-11E13145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BB51A-1FCE-4F59-9D2F-6E670797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94939-CC6A-4CFA-AD82-EA03A433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54AE8-9DD3-4521-A139-8EAE5035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23A4B-B3BA-4355-991B-52DD74EE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C7E764-D8C4-4804-BDA9-9E645291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61744B-AE8E-408C-BAD6-E21D558C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C8E4D2-C783-420A-8F15-BA7C8362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9253A-472F-4417-8D78-8A72DCC3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9A1EAD-60D1-43EB-93EB-CE2854AA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DE37-1DC7-4873-9739-F7D96EE6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D73B2B-E3F5-4292-BEA5-1F058193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1444B-F7B0-4532-9FE0-25C86878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B064A3-4EFC-4762-A6EB-BC110D46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5EBBC-30F4-4BC8-8B97-92BB62D8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3504CD-99C0-4E78-B826-986AAA81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22CB93-63CF-4CAD-8831-F3628FCD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E0734B-78A1-4B59-84BC-2A89866F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FB18D-F558-4F7D-A714-89F4237C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D6E3E-8BCC-4CA0-8167-10EF93DF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0947F0-4170-401E-80C1-EEDE9331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1286-159F-4DDF-AA2D-256A1731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D942C6-C0EF-4BF2-8298-27C251BD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37D9C4-43CD-484E-BE32-7A4D131E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EFF9FE-E002-477E-98E7-90D2B697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413ABA-1EE9-4152-9EC1-25F34730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85FF5-CAF2-4B8D-923E-4825D29B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BDDF5C-DBBE-4AE7-8C1F-6A3B2BF7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2606B-EBFC-4E0F-AB50-34E479D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30D68-D38F-464B-8873-221160F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D15D8-C6A4-4ADC-885C-6D28919C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04A00-BF53-4F07-99D8-B855C45F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365D-39B0-4B27-98EF-6284503F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36518-4828-4276-A0A3-CB283D5A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BE83E-9821-4974-A3B0-5BA8CB35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5CC09D-5990-4BA8-8D29-1058C629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9C8BAB-11D3-4DB0-9B6E-CBA78989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CBC6C2-F06F-45F9-A33E-FB109B67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4336C3-77BA-459F-9EC5-976E0FBE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483CB0-5529-4782-B54E-922AAD39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0985B6-11D6-4127-B614-9E3DDE3D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1B5E15-2CE6-45C1-BB57-5B8DCED0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07E8CE-E0E4-4F11-A71C-585E2778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0806-6FCE-4911-B104-0A76C251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84A0D-E800-432A-B26B-B997EBCB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0E904C-9835-43DD-93E8-A146224D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F8BE28-9C79-484A-87E2-23A32EFA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2BC094-B5A6-49BB-AB45-51BE3984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A019DA-D00B-4827-AD9E-5A21C3D6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8925BE-3569-4796-8F81-0DC0773B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99EB65-56B6-4127-8DA7-5B087C2A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77E58D-7E08-4584-B2B3-06A6525E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013599-E342-4DCB-B1CB-95D4D8D1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D73642-52EE-4855-B206-A2AA9006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DAC3-F7D8-4915-AA19-87209748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C613E-59FC-42CC-AE82-A8C3D3B7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ED2F45-194D-467F-A67A-A7D6549C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75CD37-CE29-4377-8027-081A8C09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3B7674-823C-44D8-ABCE-BF425156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E5B474-37C6-415B-89F4-5379EA9B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1733C1-9B5E-4FB5-B94A-81D0BE24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FB0C3F-86CD-4148-96B7-F17CB243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CFF8AD-369D-4EF9-85C3-4812AAD2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AEEB8F-DB73-4A3C-92BF-7DD6AF88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39A337-138C-4FBD-8CFF-FC0552C6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1D45-2C78-4EA4-8688-3821949A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CAC86F-8DED-4A10-AB8D-A5D99DC3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6CA1EB-4F0E-4331-BDF6-8F3CD83C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C9E738-AA44-41DF-B685-6CC7EABA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008A8D-07EB-4A1A-8872-E6EA98F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487A8E-9FD1-46AB-B497-4C5EE38A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4BD6EC-51D0-4EF0-A548-C71C25B6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498A20-85DD-4100-B383-53D1F964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C3C2C0-A960-4ABE-B94A-A2AC79FF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97B436-476A-4360-BF19-11EC108A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1CED5F-E8A8-41DF-A408-B6CAACB2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5457-DD5A-4D2B-86C0-8CB02250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5B8358-5F03-4D4C-951F-E7324FBB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59A0B0-7624-4E03-BC87-26552769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F991FC-68E2-4FE7-AAD3-699AA2BF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8634CF-83C0-4ECC-B796-7716DEB5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C0F8E8-F995-452E-968B-C570D8F5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915DE1-55F3-4373-B487-F0286987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73FBCF-40F2-4289-9C11-4E380779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446DCA-BED9-4BE1-8337-113972E3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F4D155-3653-4150-B64C-05800C4A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337D8-E1D2-4BB8-9903-DDE28172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1E7-7C1C-49CF-A720-F873FF5D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240B-C779-4A4B-B93E-A4F89514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D102-5CAD-4AE6-B22B-3247C101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956D-E722-49F9-8B1A-B4290EBE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B7EA-3A2E-441E-AA1B-E4597B73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C81F-FDBF-458A-B9B6-208B1765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0AD4C-ACA4-4FDF-9CEB-CB4AB7C8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9879-BF29-442E-92E3-DBE023EB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2761A-D3BF-47FF-8525-CABCBBD9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0B7A9-A00F-484B-A32B-BA860C96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6CDFE-1233-4A67-A50F-0543AF06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353-8F77-4927-9327-05322A10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CF828-0010-4603-80AC-05A3459C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558F-D005-4694-9D88-38D24309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E6D19-36B4-4C45-82C7-DBDC00DD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A740-E049-4221-BEC2-C048C4DD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C5A20-1D01-4657-B6AE-3D3814E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ABF9B-B7A2-43CB-B837-21BA8162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2F16-1375-4BEF-BB8E-861850AD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3D252-6FAB-4931-93F6-A6D82780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AFD0-2807-4CDD-85D8-7EA02D25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ACBB8-160B-4AFA-8E99-DCD500DA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B32-149B-4F60-ACDB-A0AF6B20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0736C-A2E9-4CA1-B979-6F2C6ACA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387FC-1C59-4850-9D6A-AAA56B79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0377A-B2E3-4A26-BB42-4533A22F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13CA-C0D0-428C-A454-B4FD0418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2302-6527-47A2-B4D3-7CB0BC44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1CAF0-5437-46BE-A228-8595942D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BF2C7-2F3A-4FA5-8E76-3EC4A1A8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3F836-2C2D-4D6D-817C-7FF299F8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4006F-DCF5-4695-9422-42208220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5FD79-7621-4F6E-907D-70DE0E27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CB5-77C0-4CAE-86F8-19A41835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6CA8B-B8CD-4ABB-BB0A-FA544EA3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6F5A6-572D-4D31-9E21-B0930109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D14DF-DEDB-490D-ADA6-1D5CBD4F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51FEA-8E1E-410E-BEFA-7F9F44DE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F0DD8-AFC1-4D8C-9C0B-962ECE9E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6A9C3-320D-4297-9A0C-04BA0FF0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7FF38-F3A4-49C5-AB69-1195D267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C1679-F01E-48E0-AC2C-BE193D70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193BD-21C1-497D-87AF-E20E9EB5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45C9A-48CD-4FCA-819D-6060F0F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E19-5F9A-4E3B-A1C3-075E621E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F5CB9-1633-4C3F-A3D6-1FA78E8B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A6901-72BE-41C6-95DE-0560EF3B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F20C0-2300-4BD2-A8C6-F7149EA1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C23B4-2F97-406A-8C82-1076681C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61E3-6248-4010-B10F-39807787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58669-E6E5-42B5-99C0-AC54B4C9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A70DE-5A10-481B-A436-002005C5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2BF00-B627-4C1C-A63A-311A1126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9B759-BDC2-4546-82C6-34463A67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BCFF6-EE2A-46FB-AB3C-42535FB1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57B-28A4-4207-9BEE-548B2BDF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3D316-A379-491D-BEF5-742A9DAC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3FE38-0E21-48C3-9130-F31C5F0C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AA8B9-C197-48F2-8D52-52C5FBBD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73977-89E7-4D4E-B83B-4F3ECFDA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086E3-8D0C-4DA6-9F4F-967C56D2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959AB-A84D-4CA6-8DCA-E024F6C9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7D947-25B5-421A-AAD9-B49E9DFF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06C70-6183-4306-842B-723913C1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C8E67-EFD5-4CCF-A5BC-2AB64DAB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EE53D-0B1A-4570-B7A3-D4881F0E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8FC-3328-46C2-AAD1-AE361B48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-360" y="6610320"/>
            <a:ext cx="635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6DF7F-F272-4D14-B67D-AC69A5A2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B8774-1585-4A68-BDA9-57561602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245A8-7C96-40FF-A2D2-00C89441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2A57F-5961-4841-9728-E10045A0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4360" y="3433320"/>
            <a:ext cx="78264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93B58-217C-42A0-9654-F1F34B0A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5120" y="18864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436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95120" y="3433320"/>
            <a:ext cx="381924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DE8A2-5B84-4B79-9BAE-EA03C375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072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77080" y="18864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436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072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77080" y="3433320"/>
            <a:ext cx="2520000" cy="2962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41D34-3624-4EB6-B7AC-A89D75A7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CA9D5-4F77-41D3-97EC-E5BD77B9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1EC67-D670-48B7-AD55-00BE044C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661032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21279-C875-46A2-BE3A-3BE5AD4D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1057-28AF-445B-9E32-23244D07F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601E-0F50-4C4D-B176-86AFF9B71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68BB-8D2D-4912-8F1F-5B4A93953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C057-F64B-45B5-A643-A26729F21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BFDA-7458-4691-846B-624B86FB5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F972-5018-4D68-9C3F-83FCC9623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3899-B10C-4007-B7F8-CA5AAC2B4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AF5E-5332-4C22-8AA5-179D7487D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4080-BB50-452C-9529-66F8F4B34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4CCB-C404-4BF4-B73B-0A035F78A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D250-7433-4412-A088-3E0E3F6EB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14DB-327A-442B-9310-7213B04C8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35E2-F63A-40FC-B7D4-94A70083B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93FD-6C63-497C-9F7D-56D88BA6C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3924-69B9-4176-8D8E-78A0D6044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6144-E87A-43EB-8888-6C88B2215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C498-52CA-4785-9FC9-5CE8C21AF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B57F-3F74-4194-9EC3-6C1A91C0A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349E-29FF-48BE-B768-DFB81BA4E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1CC3-2D95-4A38-B692-B6EC01314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F9AC-70E3-43DC-BC62-B34123688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91B7-8833-4E8E-99CD-D5F4FA597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1B21-794F-40D5-83D3-AEDC9A336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7"/>
          <p:cNvSpPr/>
          <p:nvPr/>
        </p:nvSpPr>
        <p:spPr>
          <a:xfrm flipV="1">
            <a:off x="611280" y="259920"/>
            <a:ext cx="0" cy="619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1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961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0C8F-E8B3-461E-889F-85EE14674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33cc"/>
                </a:solidFill>
                <a:latin typeface="Arial"/>
              </a:rPr>
              <a:t>Mesures de la biodiversité</a:t>
            </a:r>
            <a:endParaRPr b="0" lang="en-US" sz="48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211640" y="6308640"/>
            <a:ext cx="46800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39617"/>
                </a:solidFill>
                <a:latin typeface="Times New Roman"/>
              </a:rPr>
              <a:t>Eric Marcon, Avril 2006</a:t>
            </a:r>
            <a:endParaRPr b="0" lang="en-US" sz="1600" spc="-1" strike="noStrike">
              <a:solidFill>
                <a:srgbClr val="e39617"/>
              </a:solidFill>
              <a:latin typeface="Times New Roman"/>
            </a:endParaRPr>
          </a:p>
        </p:txBody>
      </p:sp>
      <p:pic>
        <p:nvPicPr>
          <p:cNvPr id="1005" name="Picture 15" descr="LogoUmrPetit"/>
          <p:cNvPicPr/>
          <p:nvPr/>
        </p:nvPicPr>
        <p:blipFill>
          <a:blip r:embed="rId1"/>
          <a:stretch/>
        </p:blipFill>
        <p:spPr>
          <a:xfrm>
            <a:off x="250920" y="4869000"/>
            <a:ext cx="1873080" cy="17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Richesse spécifique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Nombre d’espèc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Difficulté : estimation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rapoler la courbe aire-espèces observ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liser la distribution des fréqu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imation non paramé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Simps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Probabilité que deux individus tirés au hasard soient d’espèces différent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Equité, mais aussi richesse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  <p:pic>
        <p:nvPicPr>
          <p:cNvPr id="1042" name="Picture 4" descr=""/>
          <p:cNvPicPr/>
          <p:nvPr/>
        </p:nvPicPr>
        <p:blipFill>
          <a:blip r:embed="rId1"/>
          <a:stretch/>
        </p:blipFill>
        <p:spPr>
          <a:xfrm>
            <a:off x="2340000" y="2637000"/>
            <a:ext cx="48243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Shann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Nombre de chaînes de caractères de longueur fixe possibles connaissant la fréquence de chaque caractère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Problème : non décomposabl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  <p:pic>
        <p:nvPicPr>
          <p:cNvPr id="1045" name="Picture 4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4321080" cy="1784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Rao (1)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Matrice de dissimilarité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Matrice de fréquenc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Calcul de l’indice : distance moyenne entre deux individus pris au hasard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Rao (2)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Analogie avec la varianc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Analogie avec Simpson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Utilité d’une distance ultramétriqu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Maximum théoriqu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Décomposabl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Le pharmacien et l’écologue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Pas de vérité uniqu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s les écologues ont raison… (la richesse n’est pas la diversi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originalité n’est pas la diversité (Rao pour réconcilier les points de v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iter le mysticisme: quel est l’intérêt de la diversité? (et quels sont les avantages de la spécialisation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Quelques propriétés indispensables :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prét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ompos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8ae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Difficulté pour obtenir les données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40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Que mesure-t-on ? 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Richesse et équitabilité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Alph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Bêt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Gamm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écompositi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Que mesure-t-on ?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Le plus souvent, la diversité spécifique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Mais pas seulement : diversité génétique dans une population / une espèce, disversité de communautés dans un écosystème…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  <p:sp>
        <p:nvSpPr>
          <p:cNvPr id="1010" name="Rectangle 5"/>
          <p:cNvSpPr/>
          <p:nvPr/>
        </p:nvSpPr>
        <p:spPr>
          <a:xfrm>
            <a:off x="0" y="175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Picture 4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514600" cy="309564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6"/>
          <p:cNvSpPr/>
          <p:nvPr/>
        </p:nvSpPr>
        <p:spPr>
          <a:xfrm>
            <a:off x="2858760" y="4853880"/>
            <a:ext cx="342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1 : Emboîtement des objets d'étude de la biodivers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Richesse et équitabilité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Les idées sous-jacentes : difficulté à deviner ce que sera un individu pris au hasard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</p:txBody>
      </p:sp>
      <p:sp>
        <p:nvSpPr>
          <p:cNvPr id="1015" name="Rectangle 5"/>
          <p:cNvSpPr/>
          <p:nvPr/>
        </p:nvSpPr>
        <p:spPr>
          <a:xfrm>
            <a:off x="0" y="20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Picture 4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2133360" cy="2562480"/>
          </a:xfrm>
          <a:prstGeom prst="rect">
            <a:avLst/>
          </a:prstGeom>
          <a:ln w="0">
            <a:noFill/>
          </a:ln>
        </p:spPr>
      </p:pic>
      <p:sp>
        <p:nvSpPr>
          <p:cNvPr id="1017" name="Rectangle 6"/>
          <p:cNvSpPr/>
          <p:nvPr/>
        </p:nvSpPr>
        <p:spPr>
          <a:xfrm>
            <a:off x="1605600" y="4587120"/>
            <a:ext cx="593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 : Importances de la richesse (en haut) et de l’équitabilité (en bas) pour la définition de la divers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Alph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20" name="Rectangle 5"/>
          <p:cNvSpPr/>
          <p:nvPr/>
        </p:nvSpPr>
        <p:spPr>
          <a:xfrm>
            <a:off x="0" y="16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1" name="Picture 4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2352600" cy="3200400"/>
          </a:xfrm>
          <a:prstGeom prst="rect">
            <a:avLst/>
          </a:prstGeom>
          <a:ln w="0">
            <a:noFill/>
          </a:ln>
        </p:spPr>
      </p:pic>
      <p:sp>
        <p:nvSpPr>
          <p:cNvPr id="1022" name="Rectangle 6"/>
          <p:cNvSpPr/>
          <p:nvPr/>
        </p:nvSpPr>
        <p:spPr>
          <a:xfrm>
            <a:off x="1767600" y="4796640"/>
            <a:ext cx="535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3 : Diversité </a:t>
            </a:r>
            <a:r>
              <a:rPr b="1" lang="fr-FR" sz="1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valuée par la richesse spécifiq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habitat B possède la plus grande richesse (figure issue de Morin et Findlay, 2001).</a:t>
            </a:r>
            <a:r>
              <a:rPr b="0" lang="fr-FR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Gradients de diversité (ou du moins de richesse)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25" name="Rectangle 5"/>
          <p:cNvSpPr/>
          <p:nvPr/>
        </p:nvSpPr>
        <p:spPr>
          <a:xfrm>
            <a:off x="0" y="21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Picture 4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4257720" cy="240984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6"/>
          <p:cNvSpPr/>
          <p:nvPr/>
        </p:nvSpPr>
        <p:spPr>
          <a:xfrm>
            <a:off x="1954080" y="4510800"/>
            <a:ext cx="523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4 : Nombre d'espèces de coraux dans les récifs (figure issue de Morin et Findlay, 20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Bêt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16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1" name="Picture 4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2352600" cy="321948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6"/>
          <p:cNvSpPr/>
          <p:nvPr/>
        </p:nvSpPr>
        <p:spPr>
          <a:xfrm>
            <a:off x="1880280" y="4915800"/>
            <a:ext cx="53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5 : Diversité </a:t>
            </a:r>
            <a:r>
              <a:rPr b="1" lang="fr-FR" sz="1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fr-F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valuée par la richesse spécifique (figure issue de Morin et Findlay, 2001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 rot="16200000">
            <a:off x="-2870280" y="3130560"/>
            <a:ext cx="6350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08125"/>
                </a:solidFill>
                <a:latin typeface="Arial"/>
              </a:rPr>
              <a:t>Notions</a:t>
            </a:r>
            <a:endParaRPr b="0" lang="en-US" sz="32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826400" cy="6211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Diversité Gamma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Alpha + Bêta (si possible…)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Importance de la décomposabilité : indépendance de l’échelle d’observation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78ae9"/>
                </a:solidFill>
                <a:latin typeface="Times New Roman"/>
              </a:rPr>
              <a:t>Parfois, la diversité gamma a un sens différent : pas de consensus comme pour alpha et bêta.</a:t>
            </a:r>
            <a:endParaRPr b="0" lang="en-US" sz="2800" spc="-1" strike="noStrike">
              <a:solidFill>
                <a:srgbClr val="178ae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  <p:sp>
        <p:nvSpPr>
          <p:cNvPr id="1035" name="Rectangle 5"/>
          <p:cNvSpPr/>
          <p:nvPr/>
        </p:nvSpPr>
        <p:spPr>
          <a:xfrm>
            <a:off x="0" y="15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08125"/>
                </a:solidFill>
                <a:latin typeface="Arial"/>
              </a:rPr>
              <a:t>Mesures de la diversité</a:t>
            </a:r>
            <a:endParaRPr b="0" lang="en-US" sz="4000" spc="-1" strike="noStrike">
              <a:solidFill>
                <a:srgbClr val="308125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Richesse spécifique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Simps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Shannon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3961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39617"/>
                </a:solidFill>
                <a:latin typeface="Times New Roman"/>
              </a:rPr>
              <a:t>Indice de Rao </a:t>
            </a:r>
            <a:endParaRPr b="0" lang="en-US" sz="3200" spc="-1" strike="noStrike">
              <a:solidFill>
                <a:srgbClr val="e39617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38:31Z</dcterms:created>
  <dc:creator>Eric Marcon</dc:creator>
  <dc:description/>
  <dc:language>en-US</dc:language>
  <cp:lastModifiedBy>Eric Marcon</cp:lastModifiedBy>
  <dcterms:modified xsi:type="dcterms:W3CDTF">2008-09-04T20:45:54Z</dcterms:modified>
  <cp:revision>6</cp:revision>
  <dc:subject/>
  <dc:title>Mesures de la biodiversité</dc:title>
</cp:coreProperties>
</file>