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jpeg" ContentType="image/jpeg"/>
  <Override PartName="/ppt/media/image12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7.png" ContentType="image/png"/>
  <Override PartName="/ppt/media/image34.jpeg" ContentType="image/jpeg"/>
  <Override PartName="/ppt/media/image40.wmf" ContentType="image/x-wmf"/>
  <Override PartName="/ppt/media/image11.jpeg" ContentType="image/jpe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42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F904-15CA-4D2D-94A1-97B4DEAEE1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97A8-86F6-4162-BE31-309B2F1A18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6F6-DF60-4FFB-B25E-78EC4B9A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D55-9720-4977-96E0-7095F81F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DB1-827C-4DCB-B72E-CD775D46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5CE-9351-456D-9B9A-51C3BFC6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192-3FE3-4800-9100-C80CA64C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E23-7F02-4EB1-999F-CCBB7EE3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8F3-677D-4A7F-9551-F640D4CB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B6B-6408-45E9-A27C-49BE4AD1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5CD-4A1C-4426-80C7-295FB761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A52-4F0A-4D66-B762-6F109B78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0E5-9D3A-40EF-9C73-4277ECD1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D79-4DD0-48E9-A544-DAFA506F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DD5F-ECAB-4118-A052-25897615A57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ecofog.cirad.fr/Mariwenn/photos/Lauraceae/Sextonia/rubra/slides/indexZ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cience" TargetMode="External"/><Relationship Id="rId2" Type="http://schemas.openxmlformats.org/officeDocument/2006/relationships/hyperlink" Target="http://en.wikipedia.org/wiki/Model_(abstract)" TargetMode="External"/><Relationship Id="rId3" Type="http://schemas.openxmlformats.org/officeDocument/2006/relationships/hyperlink" Target="http://en.wikipedia.org/wiki/Natural_world" TargetMode="External"/><Relationship Id="rId4" Type="http://schemas.openxmlformats.org/officeDocument/2006/relationships/hyperlink" Target="http://en.wikipedia.org/wiki/Phenomena" TargetMode="External"/><Relationship Id="rId5" Type="http://schemas.openxmlformats.org/officeDocument/2006/relationships/hyperlink" Target="http://en.wikipedia.org/wiki/Experiment" TargetMode="External"/><Relationship Id="rId6" Type="http://schemas.openxmlformats.org/officeDocument/2006/relationships/hyperlink" Target="http://en.wikipedia.org/wiki/Empiricis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4/Golden_ratio_line.svg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en.wikipedia.org/wiki/Image:Pentagram-phi.svg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General concepts and some examples in tropical rainforest tr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(with major contributions from EcoFoG’s Ecological Genetics La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3" descr="EcoFoG2007-grand.gif"/>
          <p:cNvPicPr/>
          <p:nvPr/>
        </p:nvPicPr>
        <p:blipFill>
          <a:blip r:embed="rId1"/>
          <a:stretch/>
        </p:blipFill>
        <p:spPr>
          <a:xfrm>
            <a:off x="7358040" y="357120"/>
            <a:ext cx="13273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Image 4" descr="EGLAB.tif"/>
          <p:cNvPicPr/>
          <p:nvPr/>
        </p:nvPicPr>
        <p:blipFill>
          <a:blip r:embed="rId2"/>
          <a:stretch/>
        </p:blipFill>
        <p:spPr>
          <a:xfrm>
            <a:off x="214200" y="349200"/>
            <a:ext cx="15750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tition of 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phique 3" descr=""/>
          <p:cNvPicPr/>
          <p:nvPr/>
        </p:nvPicPr>
        <p:blipFill>
          <a:blip r:embed="rId1"/>
          <a:stretch/>
        </p:blipFill>
        <p:spPr>
          <a:xfrm>
            <a:off x="993600" y="1639800"/>
            <a:ext cx="6870960" cy="436428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4"/>
          <p:cNvSpPr/>
          <p:nvPr/>
        </p:nvSpPr>
        <p:spPr>
          <a:xfrm>
            <a:off x="3373200" y="621504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mrick, Godt (199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214800" y="2571840"/>
            <a:ext cx="5067360" cy="357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2797200" cy="210492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3"/>
          <p:cNvSpPr/>
          <p:nvPr/>
        </p:nvSpPr>
        <p:spPr>
          <a:xfrm>
            <a:off x="4286160" y="100008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alibri"/>
              </a:rPr>
              <a:t>Divergence (</a:t>
            </a:r>
            <a:r>
              <a:rPr b="1" lang="en-GB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GB" sz="2400" spc="-1" strike="noStrike">
                <a:solidFill>
                  <a:srgbClr val="c00000"/>
                </a:solidFill>
                <a:latin typeface="Calibri"/>
              </a:rPr>
              <a:t>-diversity) higher for tropical plant pop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tition of 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Graphique 4" descr=""/>
          <p:cNvPicPr/>
          <p:nvPr/>
        </p:nvPicPr>
        <p:blipFill>
          <a:blip r:embed="rId1"/>
          <a:stretch/>
        </p:blipFill>
        <p:spPr>
          <a:xfrm>
            <a:off x="920880" y="1352520"/>
            <a:ext cx="7089480" cy="44388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5"/>
          <p:cNvSpPr/>
          <p:nvPr/>
        </p:nvSpPr>
        <p:spPr>
          <a:xfrm>
            <a:off x="3373200" y="621504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mrick, Godt (199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tition of 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Graphique 3" descr=""/>
          <p:cNvPicPr/>
          <p:nvPr/>
        </p:nvPicPr>
        <p:blipFill>
          <a:blip r:embed="rId1"/>
          <a:stretch/>
        </p:blipFill>
        <p:spPr>
          <a:xfrm>
            <a:off x="853920" y="1494000"/>
            <a:ext cx="7369200" cy="459576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5"/>
          <p:cNvSpPr/>
          <p:nvPr/>
        </p:nvSpPr>
        <p:spPr>
          <a:xfrm>
            <a:off x="3373200" y="621504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mrick, Godt (199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tition of 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Graphique 4" descr=""/>
          <p:cNvPicPr/>
          <p:nvPr/>
        </p:nvPicPr>
        <p:blipFill>
          <a:blip r:embed="rId1"/>
          <a:stretch/>
        </p:blipFill>
        <p:spPr>
          <a:xfrm>
            <a:off x="920880" y="1420920"/>
            <a:ext cx="722952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tition of 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Graphique 3" descr=""/>
          <p:cNvPicPr/>
          <p:nvPr/>
        </p:nvPicPr>
        <p:blipFill>
          <a:blip r:embed="rId1"/>
          <a:stretch/>
        </p:blipFill>
        <p:spPr>
          <a:xfrm>
            <a:off x="993600" y="1279440"/>
            <a:ext cx="7156800" cy="42991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5"/>
          <p:cNvSpPr/>
          <p:nvPr/>
        </p:nvSpPr>
        <p:spPr>
          <a:xfrm>
            <a:off x="3373200" y="621504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mrick, Godt (199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s of the distribution of genetic diversity in tropical t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ZoneTexte 2" descr=""/>
          <p:cNvPicPr/>
          <p:nvPr/>
        </p:nvPicPr>
        <p:blipFill>
          <a:blip r:embed="rId1"/>
          <a:stretch/>
        </p:blipFill>
        <p:spPr>
          <a:xfrm>
            <a:off x="1066680" y="2981160"/>
            <a:ext cx="7059600" cy="1882800"/>
          </a:xfrm>
          <a:prstGeom prst="rect">
            <a:avLst/>
          </a:prstGeom>
          <a:ln w="0">
            <a:noFill/>
          </a:ln>
        </p:spPr>
      </p:pic>
      <p:sp>
        <p:nvSpPr>
          <p:cNvPr id="104" name="ZoneTexte 3"/>
          <p:cNvSpPr/>
          <p:nvPr/>
        </p:nvSpPr>
        <p:spPr>
          <a:xfrm>
            <a:off x="1071720" y="254160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eographical sca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4"/>
          <p:cNvSpPr/>
          <p:nvPr/>
        </p:nvSpPr>
        <p:spPr>
          <a:xfrm>
            <a:off x="5572080" y="25416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ype of vari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trait diversity, population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extonia ru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 2" descr="diameter by family.emf"/>
          <p:cNvPicPr/>
          <p:nvPr/>
        </p:nvPicPr>
        <p:blipFill>
          <a:blip r:embed="rId1"/>
          <a:stretch/>
        </p:blipFill>
        <p:spPr>
          <a:xfrm>
            <a:off x="285840" y="893880"/>
            <a:ext cx="5761080" cy="574992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3"/>
          <p:cNvSpPr/>
          <p:nvPr/>
        </p:nvSpPr>
        <p:spPr>
          <a:xfrm>
            <a:off x="5929200" y="3282840"/>
            <a:ext cx="29289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00000"/>
                </a:solidFill>
                <a:latin typeface="Calibri"/>
              </a:rPr>
              <a:t>P</a:t>
            </a:r>
            <a:r>
              <a:rPr b="0" lang="en-GB" sz="2400" spc="-1" strike="noStrike" baseline="-25000">
                <a:solidFill>
                  <a:srgbClr val="c00000"/>
                </a:solidFill>
                <a:latin typeface="Calibri"/>
              </a:rPr>
              <a:t>family effect, 29 D.F.</a:t>
            </a:r>
            <a:r>
              <a:rPr b="0" lang="en-GB" sz="2400" spc="-1" strike="noStrike">
                <a:solidFill>
                  <a:srgbClr val="c00000"/>
                </a:solidFill>
                <a:latin typeface="Calibri"/>
              </a:rPr>
              <a:t> &lt; 10</a:t>
            </a:r>
            <a:r>
              <a:rPr b="0" lang="en-GB" sz="2400" spc="-1" strike="noStrike" baseline="30000">
                <a:solidFill>
                  <a:srgbClr val="c00000"/>
                </a:solidFill>
                <a:latin typeface="Calibri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gnificant differentiation of half-sib families for several quantitative tra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oneTexte 4"/>
          <p:cNvSpPr/>
          <p:nvPr/>
        </p:nvSpPr>
        <p:spPr>
          <a:xfrm>
            <a:off x="6000840" y="585468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Balancing selection or mutation/drift equilibriu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Diapositive suivan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86680" y="642960"/>
            <a:ext cx="1990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trait diversity, population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perua falc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ZoneTexte 3"/>
          <p:cNvSpPr/>
          <p:nvPr/>
        </p:nvSpPr>
        <p:spPr>
          <a:xfrm>
            <a:off x="5357880" y="4214880"/>
            <a:ext cx="3357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00000"/>
                </a:solidFill>
                <a:latin typeface="Calibri"/>
              </a:rPr>
              <a:t>P</a:t>
            </a:r>
            <a:r>
              <a:rPr b="0" lang="en-GB" sz="2400" spc="-1" strike="noStrike" baseline="-25000">
                <a:solidFill>
                  <a:srgbClr val="c00000"/>
                </a:solidFill>
                <a:latin typeface="Calibri"/>
              </a:rPr>
              <a:t>environmental effect, 2 D.F.</a:t>
            </a:r>
            <a:r>
              <a:rPr b="0" lang="en-GB" sz="2400" spc="-1" strike="noStrike">
                <a:solidFill>
                  <a:srgbClr val="c00000"/>
                </a:solidFill>
                <a:latin typeface="Calibri"/>
              </a:rPr>
              <a:t> = 0.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gnificant differentiation of half-sib families for several quantitative trai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based on their ori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Image 4" descr="diam_by_env.emf"/>
          <p:cNvPicPr/>
          <p:nvPr/>
        </p:nvPicPr>
        <p:blipFill>
          <a:blip r:embed="rId1"/>
          <a:stretch/>
        </p:blipFill>
        <p:spPr>
          <a:xfrm>
            <a:off x="285840" y="857160"/>
            <a:ext cx="5230800" cy="5214960"/>
          </a:xfrm>
          <a:prstGeom prst="rect">
            <a:avLst/>
          </a:prstGeom>
          <a:ln w="0">
            <a:noFill/>
          </a:ln>
        </p:spPr>
      </p:pic>
      <p:sp>
        <p:nvSpPr>
          <p:cNvPr id="114" name="ZoneTexte 5"/>
          <p:cNvSpPr/>
          <p:nvPr/>
        </p:nvSpPr>
        <p:spPr>
          <a:xfrm>
            <a:off x="1428840" y="62866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Disruptive select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Diapositive suivante"/>
          <p:cNvPicPr/>
          <p:nvPr/>
        </p:nvPicPr>
        <p:blipFill>
          <a:blip r:embed="rId2"/>
          <a:stretch/>
        </p:blipFill>
        <p:spPr>
          <a:xfrm>
            <a:off x="5572080" y="600120"/>
            <a:ext cx="27226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neutral molecular diversity, population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Jacaranda copa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 4" descr="Image1.png"/>
          <p:cNvPicPr/>
          <p:nvPr/>
        </p:nvPicPr>
        <p:blipFill>
          <a:blip r:embed="rId1"/>
          <a:stretch/>
        </p:blipFill>
        <p:spPr>
          <a:xfrm>
            <a:off x="71280" y="1876320"/>
            <a:ext cx="5761080" cy="310536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5"/>
          <p:cNvSpPr/>
          <p:nvPr/>
        </p:nvSpPr>
        <p:spPr>
          <a:xfrm>
            <a:off x="857160" y="542916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alibri"/>
              </a:rPr>
              <a:t>Spatial autocorrelation on saplings: effect of disturbances on the distribution of geno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1500120" y="628668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Genetic drift / assortative mat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Diapositive suivante"/>
          <p:cNvPicPr/>
          <p:nvPr/>
        </p:nvPicPr>
        <p:blipFill>
          <a:blip r:embed="rId2"/>
          <a:stretch/>
        </p:blipFill>
        <p:spPr>
          <a:xfrm>
            <a:off x="5929200" y="1214280"/>
            <a:ext cx="2668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17680" y="923760"/>
            <a:ext cx="7697520" cy="329112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2"/>
          <p:cNvSpPr/>
          <p:nvPr/>
        </p:nvSpPr>
        <p:spPr>
          <a:xfrm>
            <a:off x="3429000" y="507204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andall Hugues et al. (2008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Ecology letters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609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neutral molecular diversity, landscape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Dicorynia guianen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25480" y="1500120"/>
            <a:ext cx="6746760" cy="4524480"/>
          </a:xfrm>
          <a:prstGeom prst="rect">
            <a:avLst/>
          </a:prstGeom>
          <a:ln w="0">
            <a:noFill/>
          </a:ln>
        </p:spPr>
      </p:pic>
      <p:sp>
        <p:nvSpPr>
          <p:cNvPr id="123" name="ZoneTexte 3"/>
          <p:cNvSpPr/>
          <p:nvPr/>
        </p:nvSpPr>
        <p:spPr>
          <a:xfrm>
            <a:off x="3786120" y="6130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ron et al (2000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Molecular ecology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0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4"/>
          <p:cNvSpPr/>
          <p:nvPr/>
        </p:nvSpPr>
        <p:spPr>
          <a:xfrm>
            <a:off x="5214960" y="535788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Restricted gene flow (migration)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IMG_0004 * Auteur : Heidy Schimann * Auteur : Heidy Schimann * 2272 x 1704 * (1.34MB)"/>
          <p:cNvPicPr/>
          <p:nvPr/>
        </p:nvPicPr>
        <p:blipFill>
          <a:blip r:embed="rId2"/>
          <a:stretch/>
        </p:blipFill>
        <p:spPr>
          <a:xfrm>
            <a:off x="5715000" y="3357720"/>
            <a:ext cx="15238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6760" y="1071360"/>
            <a:ext cx="364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&gt;neutral molecular diversity, landscape level: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Simarouba amar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3"/>
          <p:cNvSpPr/>
          <p:nvPr/>
        </p:nvSpPr>
        <p:spPr>
          <a:xfrm>
            <a:off x="214200" y="607212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rdesty et al (2006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Ecology letters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3859200" cy="650088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4"/>
          <p:cNvSpPr/>
          <p:nvPr/>
        </p:nvSpPr>
        <p:spPr>
          <a:xfrm>
            <a:off x="428760" y="5286240"/>
            <a:ext cx="38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Strong gene flo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5" descr="S7300532.JPG"/>
          <p:cNvPicPr/>
          <p:nvPr/>
        </p:nvPicPr>
        <p:blipFill>
          <a:blip r:embed="rId2"/>
          <a:stretch/>
        </p:blipFill>
        <p:spPr>
          <a:xfrm>
            <a:off x="1714680" y="2214720"/>
            <a:ext cx="2143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38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&gt;quantitative traits, regional level: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edrela odorata in </a:t>
            </a: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Mesoameric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3"/>
          <p:cNvSpPr/>
          <p:nvPr/>
        </p:nvSpPr>
        <p:spPr>
          <a:xfrm>
            <a:off x="2571840" y="628668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avarro et al (2004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Forest ecology and management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9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929120" y="928800"/>
            <a:ext cx="3344760" cy="432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285840" y="1928880"/>
            <a:ext cx="3929040" cy="1871640"/>
          </a:xfrm>
          <a:prstGeom prst="rect">
            <a:avLst/>
          </a:prstGeom>
          <a:ln w="0">
            <a:noFill/>
          </a:ln>
        </p:spPr>
      </p:pic>
      <p:sp>
        <p:nvSpPr>
          <p:cNvPr id="135" name="ZoneTexte 5"/>
          <p:cNvSpPr/>
          <p:nvPr/>
        </p:nvSpPr>
        <p:spPr>
          <a:xfrm>
            <a:off x="2714760" y="550080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Directional selection + drif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http://www.dcsp.org/BilderCoP/Cedrela%20odorata.jpg"/>
          <p:cNvPicPr/>
          <p:nvPr/>
        </p:nvPicPr>
        <p:blipFill>
          <a:blip r:embed="rId3"/>
          <a:stretch/>
        </p:blipFill>
        <p:spPr>
          <a:xfrm>
            <a:off x="571680" y="3929040"/>
            <a:ext cx="18874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neutral molecular diversity, regional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Vouacapoua americ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4572000" cy="4384800"/>
          </a:xfrm>
          <a:prstGeom prst="rect">
            <a:avLst/>
          </a:prstGeom>
          <a:ln w="0">
            <a:noFill/>
          </a:ln>
        </p:spPr>
      </p:pic>
      <p:sp>
        <p:nvSpPr>
          <p:cNvPr id="139" name="ZoneTexte 3"/>
          <p:cNvSpPr/>
          <p:nvPr/>
        </p:nvSpPr>
        <p:spPr>
          <a:xfrm>
            <a:off x="4071960" y="621504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utech et al. (2003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Evolution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57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275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oneTexte 4"/>
          <p:cNvSpPr/>
          <p:nvPr/>
        </p:nvSpPr>
        <p:spPr>
          <a:xfrm>
            <a:off x="6215040" y="257184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(historical) fragmentation due to restricted gene flo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neutral molecular diversity, regional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Jacaranda copa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8" descr="Phylogénie"/>
          <p:cNvPicPr/>
          <p:nvPr/>
        </p:nvPicPr>
        <p:blipFill>
          <a:blip r:embed="rId1"/>
          <a:srcRect l="0" t="0" r="46028" b="14625"/>
          <a:stretch/>
        </p:blipFill>
        <p:spPr>
          <a:xfrm>
            <a:off x="4000680" y="1357200"/>
            <a:ext cx="3571560" cy="424656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4"/>
          <p:cNvSpPr/>
          <p:nvPr/>
        </p:nvSpPr>
        <p:spPr>
          <a:xfrm>
            <a:off x="3500280" y="62150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Genetic drift / sudden population expans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Diapositive suivante"/>
          <p:cNvPicPr/>
          <p:nvPr/>
        </p:nvPicPr>
        <p:blipFill>
          <a:blip r:embed="rId2"/>
          <a:stretch/>
        </p:blipFill>
        <p:spPr>
          <a:xfrm>
            <a:off x="500040" y="3143160"/>
            <a:ext cx="21844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adaptive molecular diversity, regional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perua falcata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. grandifl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Group 11"/>
          <p:cNvGrpSpPr/>
          <p:nvPr/>
        </p:nvGrpSpPr>
        <p:grpSpPr>
          <a:xfrm>
            <a:off x="4357800" y="3286080"/>
            <a:ext cx="4097160" cy="2733840"/>
            <a:chOff x="4357800" y="3286080"/>
            <a:chExt cx="4097160" cy="2733840"/>
          </a:xfrm>
        </p:grpSpPr>
        <p:pic>
          <p:nvPicPr>
            <p:cNvPr id="147" name="Picture 5" descr="grandiflora1"/>
            <p:cNvPicPr/>
            <p:nvPr/>
          </p:nvPicPr>
          <p:blipFill>
            <a:blip r:embed="rId1"/>
            <a:srcRect l="2332" t="7894" r="1154" b="1774"/>
            <a:stretch/>
          </p:blipFill>
          <p:spPr>
            <a:xfrm>
              <a:off x="4357800" y="3286080"/>
              <a:ext cx="4097160" cy="27338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48" name="Line 7"/>
            <p:cNvSpPr/>
            <p:nvPr/>
          </p:nvSpPr>
          <p:spPr>
            <a:xfrm flipV="1">
              <a:off x="6588360" y="4002480"/>
              <a:ext cx="182160" cy="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9" name="Picture 18" descr="falcata1"/>
          <p:cNvPicPr/>
          <p:nvPr/>
        </p:nvPicPr>
        <p:blipFill>
          <a:blip r:embed="rId2"/>
          <a:srcRect l="3315" t="8141" r="4724" b="3505"/>
          <a:stretch/>
        </p:blipFill>
        <p:spPr>
          <a:xfrm>
            <a:off x="285840" y="1643040"/>
            <a:ext cx="3282840" cy="4456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0" name="ZoneTexte 6"/>
          <p:cNvSpPr/>
          <p:nvPr/>
        </p:nvSpPr>
        <p:spPr>
          <a:xfrm>
            <a:off x="3714840" y="1785960"/>
            <a:ext cx="392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the same gene, two congeneric species show divergent patterns of genetic diver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785880" y="635796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Genetic drift and disruptive + balancing select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Vous avez atteint la dernière diapositive"/>
          <p:cNvPicPr/>
          <p:nvPr/>
        </p:nvPicPr>
        <p:blipFill>
          <a:blip r:embed="rId3"/>
          <a:stretch/>
        </p:blipFill>
        <p:spPr>
          <a:xfrm>
            <a:off x="7286760" y="1143000"/>
            <a:ext cx="13446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neutral molecular diversity, continental leve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Image 2" descr="phylogéographie comparée"/>
          <p:cNvPicPr/>
          <p:nvPr/>
        </p:nvPicPr>
        <p:blipFill>
          <a:blip r:embed="rId1"/>
          <a:stretch/>
        </p:blipFill>
        <p:spPr>
          <a:xfrm>
            <a:off x="928800" y="1285920"/>
            <a:ext cx="6500880" cy="5072040"/>
          </a:xfrm>
          <a:prstGeom prst="rect">
            <a:avLst/>
          </a:prstGeom>
          <a:ln w="0">
            <a:noFill/>
          </a:ln>
        </p:spPr>
      </p:pic>
      <p:sp>
        <p:nvSpPr>
          <p:cNvPr id="155" name="ZoneTexte 3"/>
          <p:cNvSpPr/>
          <p:nvPr/>
        </p:nvSpPr>
        <p:spPr>
          <a:xfrm>
            <a:off x="6072120" y="492912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(historical) restriction to gene flow + drif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index * Auteur : Yves Caraglio * Auteur : Yves Caraglio * 1536 x 2048 * (598KB)"/>
          <p:cNvPicPr/>
          <p:nvPr/>
        </p:nvPicPr>
        <p:blipFill>
          <a:blip r:embed="rId2"/>
          <a:stretch/>
        </p:blipFill>
        <p:spPr>
          <a:xfrm>
            <a:off x="285840" y="4572000"/>
            <a:ext cx="1209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neutral molecular diversity, continental leve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6500880" cy="3532320"/>
          </a:xfrm>
          <a:prstGeom prst="rect">
            <a:avLst/>
          </a:prstGeom>
          <a:ln w="0">
            <a:noFill/>
          </a:ln>
        </p:spPr>
      </p:pic>
      <p:sp>
        <p:nvSpPr>
          <p:cNvPr id="159" name="ZoneTexte 4"/>
          <p:cNvSpPr/>
          <p:nvPr/>
        </p:nvSpPr>
        <p:spPr>
          <a:xfrm>
            <a:off x="1428840" y="121428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Ceiba pentandr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: an example of transcontinental mi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oneTexte 5"/>
          <p:cNvSpPr/>
          <p:nvPr/>
        </p:nvSpPr>
        <p:spPr>
          <a:xfrm>
            <a:off x="4214880" y="592920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ick et al (2007)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Molecular ecology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, 303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oneTexte 6"/>
          <p:cNvSpPr/>
          <p:nvPr/>
        </p:nvSpPr>
        <p:spPr>
          <a:xfrm>
            <a:off x="3357720" y="55008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Strong (historical) gene flo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http://tbn0.google.com/images?q=tbn:yYnki-1q9282BM:http://www.mexicauprising.net/images/Ceiba%2520pentandra.JPG"/>
          <p:cNvPicPr/>
          <p:nvPr/>
        </p:nvPicPr>
        <p:blipFill>
          <a:blip r:embed="rId2"/>
          <a:stretch/>
        </p:blipFill>
        <p:spPr>
          <a:xfrm>
            <a:off x="7072200" y="2635200"/>
            <a:ext cx="1071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this all good for!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oneTexte 2"/>
          <p:cNvSpPr/>
          <p:nvPr/>
        </p:nvSpPr>
        <p:spPr>
          <a:xfrm>
            <a:off x="714240" y="1643040"/>
            <a:ext cx="7572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Provenance certific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regional and local genetic variants can be used to track the origin of forest (wood and non-wood) produ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Ecosystem managemen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genetic diversity contributes to interactions among species in a community and has an impact on its st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Population managemen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taking advantage of the knowledge on how strongly selection acts upon populations to predict their adaptability to changing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Prioritisation of conservation strategi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highlighting the most diverse (refuge / introgression) stands for conservation and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Management of stand dynamic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knowing how many trees can reproduce and disseminate allows one to predict the impact of exploitation on future re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Management of quality trai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knowledge of the genetic basis of quantitative traits leads to better management of extant + / - t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ed reading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"/>
          <p:cNvSpPr/>
          <p:nvPr/>
        </p:nvSpPr>
        <p:spPr>
          <a:xfrm>
            <a:off x="857160" y="1785960"/>
            <a:ext cx="75726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aron H, Dumas S, Marque G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, et al. (2000) Spatial and temporal distribution of chloroplast DNA polymorphism in a tropical tree species. Molecular Ecology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 1089-109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utech C, Maggia L, Tardy C, Joly HI, Jarne P (2003) Tracking a genetic signal of extinction-recolonization events in a neotropical tree species: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Vouacapoua americana Aublet in French guiana. Evolution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57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 2753-2764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ick CW, Bermingham E, Lemes MR, Gribel R (2007) Extreme long-distance dispersal of the lowland tropical rainforest tree Ceiba pentandra L. (Malvaceae) in Africa and the Neotropics.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Molecular Ecology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 3039-304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o S, Wares J, Carroll J (2008) Population divergence in plant species reflects latitudinal biodiversity gradient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Biology letters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 382-38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amrick JL, Godt M (1990) Allozyme diversity in plant species. In: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Plant Population Genetics, Breeding, and Genetic Resources (eds. Brown AHD, Clegg MT, Kahler A, Weir  B), pp. 43-63. Sinauer Associates, Sunderland, M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drick P (2000)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enetics of populations, 2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edn. Jones and Bartlett, Sudbury, M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veless MD, Hamrick JL (1984) Ecological Determinants of Genetic Structure in Plant Population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nnual Review of Ecology and Systematics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 65-9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ndall Hughes A, Inouye BD, Johnson MTJ, Underwood N, Vellend M (2008) Ecological consequences of genetic diversity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cology Letters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 609-62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ffects of evolutionary forces on diversity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75160" y="272880"/>
          <a:ext cx="5354640" cy="6431040"/>
        </p:xfrm>
        <a:graphic>
          <a:graphicData uri="http://schemas.openxmlformats.org/drawingml/2006/table">
            <a:tbl>
              <a:tblPr/>
              <a:tblGrid>
                <a:gridCol w="1717560"/>
                <a:gridCol w="1047600"/>
                <a:gridCol w="1251000"/>
                <a:gridCol w="1338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fo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diversity (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ithin-population diversity (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tion divergence (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bilising se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ruptive se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lanced se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9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ortative ma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mb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Theory* of Evolution applied to intra-specific processes (also known as the “Modern synthesis” or “Neodarwinian synthesis”) </a:t>
            </a:r>
            <a:r>
              <a:rPr b="0" lang="en-GB" sz="1500" spc="-1" strike="noStrike" u="sng">
                <a:solidFill>
                  <a:srgbClr val="000000"/>
                </a:solidFill>
                <a:uFillTx/>
                <a:latin typeface="Calibri"/>
              </a:rPr>
              <a:t>formally and mathematically explains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volutionary patterns and processes combining </a:t>
            </a: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Mendelian segregation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and the action of five evolutionary force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Drif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Assortative ma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cienc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THEORY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is a testable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model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of the manner of interaction of a set of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natural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henomena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capable of predicting future occurrences or observations of the same kind, and capable of being tested through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experimen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or otherwise verified through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empirical observat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2" descr="Selection.bmp"/>
          <p:cNvPicPr/>
          <p:nvPr/>
        </p:nvPicPr>
        <p:blipFill>
          <a:blip r:embed="rId1"/>
          <a:srcRect l="5386" t="2085" r="5386" b="28128"/>
          <a:stretch/>
        </p:blipFill>
        <p:spPr>
          <a:xfrm>
            <a:off x="4572000" y="2428920"/>
            <a:ext cx="4214880" cy="3282840"/>
          </a:xfrm>
          <a:prstGeom prst="rect">
            <a:avLst/>
          </a:prstGeom>
          <a:ln w="0">
            <a:noFill/>
          </a:ln>
        </p:spPr>
      </p:pic>
      <p:pic>
        <p:nvPicPr>
          <p:cNvPr id="58" name="Image 3" descr="DérigeGenetique.bmp"/>
          <p:cNvPicPr/>
          <p:nvPr/>
        </p:nvPicPr>
        <p:blipFill>
          <a:blip r:embed="rId2"/>
          <a:stretch/>
        </p:blipFill>
        <p:spPr>
          <a:xfrm>
            <a:off x="214200" y="285840"/>
            <a:ext cx="3621240" cy="528624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4"/>
          <p:cNvSpPr/>
          <p:nvPr/>
        </p:nvSpPr>
        <p:spPr>
          <a:xfrm>
            <a:off x="428760" y="57862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rift and gene frequ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5643720" y="178596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lection and trait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utral theory of molecular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533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teady-state equilibrium of genetic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976400" y="2500200"/>
            <a:ext cx="51912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5495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MAGIC NUMB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3995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Some numbers are exceedingly frequently observed in n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They should underlie some general phenomenon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Image:Golden ratio line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585720"/>
            <a:ext cx="2571480" cy="148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A pentagram colored to distinguish its line segments of different lengths. The four lengths are in golden ratio to one anothe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3840" y="5000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\varphi = {1+\sqrt{5} \over 2},"/>
          <p:cNvPicPr/>
          <p:nvPr/>
        </p:nvPicPr>
        <p:blipFill>
          <a:blip r:embed="rId5"/>
          <a:stretch/>
        </p:blipFill>
        <p:spPr>
          <a:xfrm>
            <a:off x="3643200" y="857160"/>
            <a:ext cx="1009800" cy="4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Fibonacci series in plant growth"/>
          <p:cNvPicPr/>
          <p:nvPr/>
        </p:nvPicPr>
        <p:blipFill>
          <a:blip r:embed="rId6"/>
          <a:stretch/>
        </p:blipFill>
        <p:spPr>
          <a:xfrm>
            <a:off x="500040" y="2643120"/>
            <a:ext cx="2085840" cy="173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Fibonacci spirals in a sunflower seed"/>
          <p:cNvPicPr/>
          <p:nvPr/>
        </p:nvPicPr>
        <p:blipFill>
          <a:blip r:embed="rId7"/>
          <a:stretch/>
        </p:blipFill>
        <p:spPr>
          <a:xfrm>
            <a:off x="6786720" y="2643120"/>
            <a:ext cx="1733400" cy="173376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9"/>
          <p:cNvSpPr/>
          <p:nvPr/>
        </p:nvSpPr>
        <p:spPr>
          <a:xfrm>
            <a:off x="3643200" y="1500120"/>
            <a:ext cx="27147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mit (n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of the ratio of two subsequent elements (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of the Fibonacci ser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,1,2,3,5,8,13,21,34,55... Where 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= 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+ 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10"/>
          <p:cNvSpPr/>
          <p:nvPr/>
        </p:nvSpPr>
        <p:spPr>
          <a:xfrm>
            <a:off x="4643280" y="8571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golden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495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OPULATION GENETICS ALSO HAS ITS MAGIC NUMB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3995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Some genetic patterns are ruled by universal const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oneTexte 3"/>
          <p:cNvSpPr/>
          <p:nvPr/>
        </p:nvSpPr>
        <p:spPr>
          <a:xfrm>
            <a:off x="1217160" y="1000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785880" y="785880"/>
                <a:ext cx="22860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Nμ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Nμ</m:t>
                            </m:r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μ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ZoneTexte 5"/>
          <p:cNvSpPr/>
          <p:nvPr/>
        </p:nvSpPr>
        <p:spPr>
          <a:xfrm>
            <a:off x="2928960" y="7016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alibri"/>
              </a:rPr>
              <a:t>conditions for drift prevailing over mi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6"/>
          <p:cNvSpPr/>
          <p:nvPr/>
        </p:nvSpPr>
        <p:spPr>
          <a:xfrm>
            <a:off x="3500280" y="14158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alibri"/>
              </a:rPr>
              <a:t>conditions for selection prevailing over dri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7"/>
          <p:cNvSpPr/>
          <p:nvPr/>
        </p:nvSpPr>
        <p:spPr>
          <a:xfrm>
            <a:off x="3857760" y="23446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alibri"/>
              </a:rPr>
              <a:t>genetic diversity expected without sele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oneTexte 8"/>
          <p:cNvSpPr/>
          <p:nvPr/>
        </p:nvSpPr>
        <p:spPr>
          <a:xfrm>
            <a:off x="3071880" y="35002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alibri"/>
              </a:rPr>
              <a:t>fundamental population diversity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52560" y="519120"/>
            <a:ext cx="723888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Graphique 1" descr=""/>
          <p:cNvPicPr/>
          <p:nvPr/>
        </p:nvPicPr>
        <p:blipFill>
          <a:blip r:embed="rId1"/>
          <a:stretch/>
        </p:blipFill>
        <p:spPr>
          <a:xfrm>
            <a:off x="1420920" y="1706400"/>
            <a:ext cx="6302160" cy="412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tition of 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3"/>
          <p:cNvSpPr/>
          <p:nvPr/>
        </p:nvSpPr>
        <p:spPr>
          <a:xfrm>
            <a:off x="3373200" y="621504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mrick, Godt (199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1:38:20Z</dcterms:created>
  <dc:creator>Ivan Scotti</dc:creator>
  <dc:description/>
  <dc:language>en-US</dc:language>
  <cp:lastModifiedBy>Stephane Traissac</cp:lastModifiedBy>
  <dcterms:modified xsi:type="dcterms:W3CDTF">2009-09-25T04:40:26Z</dcterms:modified>
  <cp:revision>113</cp:revision>
  <dc:subject/>
  <dc:title>Diapositive 1</dc:title>
</cp:coreProperties>
</file>