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4.jpeg" ContentType="image/jpeg"/>
  <Override PartName="/ppt/media/image25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2.png" ContentType="image/png"/>
  <Override PartName="/ppt/media/image6.wmf" ContentType="image/x-wmf"/>
  <Override PartName="/ppt/media/image13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5C6-C31D-40EF-81B9-93EA5AAEAE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E3B9-5A79-4AB7-BAFB-6D5025772C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936A-D9F8-46B8-8342-61E05415AB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tenaire ONF…. 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Ynamique et GEstion des POPulations d’arbres en forêt guyanaise aménagée : DYGE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Obj crt terme comparaison des connaissance acquise à Parac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fference de dynamique entre les pop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83C7-C8DA-400B-AC4E-1F5365F1C7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issemination a faible distance du pied mère (&lt; 20m) + graine avec dormance 4 sema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trouve fréquemment sur sols et pentes bien drainé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45C-D296-48B7-9ACB-026911E6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45D-6162-4B57-BF6E-0E9E0C7F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43B-1D23-4F2D-89C1-8668E93D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474-B19F-4D11-A25A-F029B0F4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3356-9E71-4C07-A50C-0F0F2694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ABCE-F55E-474D-8800-C971C4F1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F120-6CD1-4D2D-8E2A-FFADFCF4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A9A0-E7AE-4856-A166-F0671D86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CB2A-8BB0-499E-9AA5-99694A68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A43E-7607-4DC6-99E7-D1531A8A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826E-1B6B-401F-BE13-8F13462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0F0-A356-435A-A7BE-2A0B78A8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4BE1-5F87-410A-9259-D7DBCCC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8E4C-ED3B-48F6-B7A3-E99448C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EC37-426A-405D-9655-41E99227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3277-3D0C-499A-AED3-93D8C832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FB48-CF65-4325-9024-7F44A00A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E36-DA42-4534-AEC6-C04160B3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AF1-EA10-4909-AA86-0375E904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357-52FD-42D1-A87A-0B10A775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3EA-4CD0-4EEF-AB6B-17728BE9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686-E993-40D8-8C7D-A84BFEC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458-0696-4ECA-B74F-8DE5249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B0A-8980-48BC-82D2-272D705B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27F4-D415-4080-8AE1-24B848312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AE54-E324-4BB9-9BA3-FE086A55B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Users\julie\Desktop\oto\DSC03432.JPG"/>
          <p:cNvPicPr/>
          <p:nvPr/>
        </p:nvPicPr>
        <p:blipFill>
          <a:blip r:embed="rId1"/>
          <a:stretch/>
        </p:blipFill>
        <p:spPr>
          <a:xfrm>
            <a:off x="3071880" y="2143080"/>
            <a:ext cx="3000240" cy="400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Comparaison de structure et dynamique de populations d’Angélique et de Wacap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2120" y="2286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mpte-rendu de projet  du module Forêts Tropicales Humides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3520" y="6248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Jérôme Maurice- Samuel Guibert- Julie Go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C:\Users\julie\Desktop\oto\DSC03453.JPG"/>
          <p:cNvPicPr/>
          <p:nvPr/>
        </p:nvPicPr>
        <p:blipFill>
          <a:blip r:embed="rId2"/>
          <a:stretch/>
        </p:blipFill>
        <p:spPr>
          <a:xfrm>
            <a:off x="47520" y="3429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Users\julie\Desktop\oto\DSC03463.JPG"/>
          <p:cNvPicPr/>
          <p:nvPr/>
        </p:nvPicPr>
        <p:blipFill>
          <a:blip r:embed="rId3"/>
          <a:srcRect l="20313" t="5207" r="0" b="9378"/>
          <a:stretch/>
        </p:blipFill>
        <p:spPr>
          <a:xfrm>
            <a:off x="6194520" y="3429000"/>
            <a:ext cx="28782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Densités à l’ha par espèce</a:t>
            </a:r>
            <a:br>
              <a:rPr sz="3200"/>
            </a:br>
            <a:r>
              <a:rPr b="0" i="1" lang="fr-FR" sz="2800" spc="-1" strike="noStrike">
                <a:solidFill>
                  <a:srgbClr val="ffffff"/>
                </a:solidFill>
                <a:latin typeface="Calibri"/>
              </a:rPr>
              <a:t>comparaison Paracou/RS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71468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Densités d’adultes plus importantes sur RSG qu’à Paracou pour  les 2 espèces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Densités de juvéniles de Wacapou plus faibles et inchangées d’Angéliqu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71680" y="2428920"/>
          <a:ext cx="3929040" cy="2730600"/>
        </p:xfrm>
        <a:graphic>
          <a:graphicData uri="http://schemas.openxmlformats.org/drawingml/2006/table">
            <a:tbl>
              <a:tblPr/>
              <a:tblGrid>
                <a:gridCol w="1231560"/>
                <a:gridCol w="1309680"/>
                <a:gridCol w="860760"/>
                <a:gridCol w="527040"/>
              </a:tblGrid>
              <a:tr h="5587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è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de_d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c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éliq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l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vén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cap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l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vén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Structures diamétriques</a:t>
            </a:r>
            <a:br>
              <a:rPr sz="3200"/>
            </a:br>
            <a:r>
              <a:rPr b="0" i="1" lang="fr-FR" sz="2800" spc="-1" strike="noStrike">
                <a:solidFill>
                  <a:srgbClr val="ffffff"/>
                </a:solidFill>
                <a:latin typeface="Calibri"/>
              </a:rPr>
              <a:t> comparaison Paracou/RS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pulations de Paracou proches de l’équili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pulations de RSG déséquilibré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tructures bimodales proche d’un comportement héliophile)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Angélique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Wacapou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233960" cy="2643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57120" y="4071960"/>
            <a:ext cx="42339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Relation sol/espè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680" y="2000160"/>
            <a:ext cx="400032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Y’a-t-il une préférence de chaque espèces des variations de type de sol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Test du khi² non significat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éthode de Harms adaptée (Translation toroïdale)  : plus robuste et prise en compte des structures agrég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oneTexte 7"/>
          <p:cNvSpPr/>
          <p:nvPr/>
        </p:nvSpPr>
        <p:spPr>
          <a:xfrm>
            <a:off x="5286240" y="1428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épartition Wacapou/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353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1642680"/>
            <a:ext cx="80722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bondance d’Angélique ainsi que de Wacapou sans différence significative entre les sols Alt et DVL (RSG)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Zones plate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Zones p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oneTexte 10"/>
          <p:cNvSpPr/>
          <p:nvPr/>
        </p:nvSpPr>
        <p:spPr>
          <a:xfrm>
            <a:off x="4143240" y="350028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G P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0" y="3857760"/>
            <a:ext cx="46432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ucture spati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811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alibri"/>
              </a:rPr>
              <a:t>Méthode de Ripl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Indice L(d) construit à partir du nombre de points compris dans un cercle de rayon « d » autour de chaque point du sem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Intervalle de confiance : méthode de Monte-Car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Distance d’étude maxim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928880" y="3500280"/>
            <a:ext cx="50720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85520" y="213840"/>
            <a:ext cx="37861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RSG – Angélique adultes (17h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F:\angp16sup10.jpg"/>
          <p:cNvPicPr/>
          <p:nvPr/>
        </p:nvPicPr>
        <p:blipFill>
          <a:blip r:embed="rId1"/>
          <a:srcRect l="19461" t="0" r="23942" b="1139"/>
          <a:stretch/>
        </p:blipFill>
        <p:spPr>
          <a:xfrm>
            <a:off x="4786200" y="785880"/>
            <a:ext cx="4143600" cy="4143240"/>
          </a:xfrm>
          <a:prstGeom prst="rect">
            <a:avLst/>
          </a:prstGeom>
          <a:ln w="0">
            <a:noFill/>
          </a:ln>
        </p:spPr>
      </p:pic>
      <p:sp>
        <p:nvSpPr>
          <p:cNvPr id="142" name="Espace réservé du contenu 3"/>
          <p:cNvSpPr/>
          <p:nvPr/>
        </p:nvSpPr>
        <p:spPr>
          <a:xfrm>
            <a:off x="4643280" y="14292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aracou P16 – Angélique adultes (25 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F:\Clé\angp74_17ha.jpg"/>
          <p:cNvPicPr/>
          <p:nvPr/>
        </p:nvPicPr>
        <p:blipFill>
          <a:blip r:embed="rId2"/>
          <a:stretch/>
        </p:blipFill>
        <p:spPr>
          <a:xfrm>
            <a:off x="1214280" y="785880"/>
            <a:ext cx="2829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Graphique 4" descr=""/>
          <p:cNvPicPr/>
          <p:nvPr/>
        </p:nvPicPr>
        <p:blipFill>
          <a:blip r:embed="rId1"/>
          <a:stretch/>
        </p:blipFill>
        <p:spPr>
          <a:xfrm>
            <a:off x="4638600" y="-6480"/>
            <a:ext cx="4511880" cy="3372120"/>
          </a:xfrm>
          <a:prstGeom prst="rect">
            <a:avLst/>
          </a:prstGeom>
          <a:ln w="0">
            <a:noFill/>
          </a:ln>
        </p:spPr>
      </p:pic>
      <p:pic>
        <p:nvPicPr>
          <p:cNvPr id="148" name="Graphique 5" descr=""/>
          <p:cNvPicPr/>
          <p:nvPr/>
        </p:nvPicPr>
        <p:blipFill>
          <a:blip r:embed="rId2"/>
          <a:stretch/>
        </p:blipFill>
        <p:spPr>
          <a:xfrm>
            <a:off x="4638600" y="3425760"/>
            <a:ext cx="4511880" cy="3438720"/>
          </a:xfrm>
          <a:prstGeom prst="rect">
            <a:avLst/>
          </a:prstGeom>
          <a:ln w="0">
            <a:noFill/>
          </a:ln>
        </p:spPr>
      </p:pic>
      <p:pic>
        <p:nvPicPr>
          <p:cNvPr id="149" name="Graphique 6" descr=""/>
          <p:cNvPicPr/>
          <p:nvPr/>
        </p:nvPicPr>
        <p:blipFill>
          <a:blip r:embed="rId3"/>
          <a:stretch/>
        </p:blipFill>
        <p:spPr>
          <a:xfrm>
            <a:off x="-6480" y="-6480"/>
            <a:ext cx="4584960" cy="3372120"/>
          </a:xfrm>
          <a:prstGeom prst="rect">
            <a:avLst/>
          </a:prstGeom>
          <a:ln w="0">
            <a:noFill/>
          </a:ln>
        </p:spPr>
      </p:pic>
      <p:pic>
        <p:nvPicPr>
          <p:cNvPr id="150" name="Graphique 7" descr=""/>
          <p:cNvPicPr/>
          <p:nvPr/>
        </p:nvPicPr>
        <p:blipFill>
          <a:blip r:embed="rId4"/>
          <a:stretch/>
        </p:blipFill>
        <p:spPr>
          <a:xfrm>
            <a:off x="-6480" y="3425760"/>
            <a:ext cx="4584960" cy="3438720"/>
          </a:xfrm>
          <a:prstGeom prst="rect">
            <a:avLst/>
          </a:prstGeom>
          <a:ln w="0">
            <a:noFill/>
          </a:ln>
        </p:spPr>
      </p:pic>
      <p:sp>
        <p:nvSpPr>
          <p:cNvPr id="151" name="ZoneTexte 8"/>
          <p:cNvSpPr/>
          <p:nvPr/>
        </p:nvSpPr>
        <p:spPr>
          <a:xfrm>
            <a:off x="3214800" y="928800"/>
            <a:ext cx="5713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9"/>
          <p:cNvSpPr/>
          <p:nvPr/>
        </p:nvSpPr>
        <p:spPr>
          <a:xfrm>
            <a:off x="8643960" y="157176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11"/>
          <p:cNvSpPr/>
          <p:nvPr/>
        </p:nvSpPr>
        <p:spPr>
          <a:xfrm>
            <a:off x="8643960" y="500076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12"/>
          <p:cNvSpPr/>
          <p:nvPr/>
        </p:nvSpPr>
        <p:spPr>
          <a:xfrm>
            <a:off x="4071960" y="500076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uctures spatiales - Inter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oneTexte 5"/>
          <p:cNvSpPr/>
          <p:nvPr/>
        </p:nvSpPr>
        <p:spPr>
          <a:xfrm>
            <a:off x="500040" y="1643040"/>
            <a:ext cx="8072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Indice L(d) construit à partir du nombre de </a:t>
            </a:r>
            <a:r>
              <a:rPr b="0" lang="fr-FR" sz="2200" spc="-1" strike="noStrike" u="sng">
                <a:solidFill>
                  <a:srgbClr val="ffffff"/>
                </a:solidFill>
                <a:uFillTx/>
                <a:latin typeface="Calibri"/>
              </a:rPr>
              <a:t>semenciers</a:t>
            </a: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 (diamètre &gt; 25cm)  compris dans un cercle de rayon « d » autour de chaque </a:t>
            </a:r>
            <a:r>
              <a:rPr b="0" lang="fr-FR" sz="2200" spc="-1" strike="noStrike" u="sng">
                <a:solidFill>
                  <a:srgbClr val="ffffff"/>
                </a:solidFill>
                <a:uFillTx/>
                <a:latin typeface="Calibri"/>
              </a:rPr>
              <a:t>juvénile</a:t>
            </a: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 du semis de poi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Intervalle de confiance : méthode de Monte-Car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214720" y="3357720"/>
            <a:ext cx="50958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Graphique 4" descr=""/>
          <p:cNvPicPr/>
          <p:nvPr/>
        </p:nvPicPr>
        <p:blipFill>
          <a:blip r:embed="rId1"/>
          <a:stretch/>
        </p:blipFill>
        <p:spPr>
          <a:xfrm>
            <a:off x="-6480" y="3565440"/>
            <a:ext cx="4511880" cy="3299040"/>
          </a:xfrm>
          <a:prstGeom prst="rect">
            <a:avLst/>
          </a:prstGeom>
          <a:ln w="0">
            <a:noFill/>
          </a:ln>
        </p:spPr>
      </p:pic>
      <p:pic>
        <p:nvPicPr>
          <p:cNvPr id="162" name="Graphique 5" descr=""/>
          <p:cNvPicPr/>
          <p:nvPr/>
        </p:nvPicPr>
        <p:blipFill>
          <a:blip r:embed="rId2"/>
          <a:stretch/>
        </p:blipFill>
        <p:spPr>
          <a:xfrm>
            <a:off x="-6480" y="-6480"/>
            <a:ext cx="4511880" cy="3511800"/>
          </a:xfrm>
          <a:prstGeom prst="rect">
            <a:avLst/>
          </a:prstGeom>
          <a:ln w="0">
            <a:noFill/>
          </a:ln>
        </p:spPr>
      </p:pic>
      <p:pic>
        <p:nvPicPr>
          <p:cNvPr id="163" name="Graphique 6" descr=""/>
          <p:cNvPicPr/>
          <p:nvPr/>
        </p:nvPicPr>
        <p:blipFill>
          <a:blip r:embed="rId3"/>
          <a:stretch/>
        </p:blipFill>
        <p:spPr>
          <a:xfrm>
            <a:off x="4565520" y="3565440"/>
            <a:ext cx="4584960" cy="3299040"/>
          </a:xfrm>
          <a:prstGeom prst="rect">
            <a:avLst/>
          </a:prstGeom>
          <a:ln w="0">
            <a:noFill/>
          </a:ln>
        </p:spPr>
      </p:pic>
      <p:pic>
        <p:nvPicPr>
          <p:cNvPr id="164" name="Graphique 7" descr=""/>
          <p:cNvPicPr/>
          <p:nvPr/>
        </p:nvPicPr>
        <p:blipFill>
          <a:blip r:embed="rId4"/>
          <a:stretch/>
        </p:blipFill>
        <p:spPr>
          <a:xfrm>
            <a:off x="4565520" y="-6480"/>
            <a:ext cx="4584960" cy="35118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8"/>
          <p:cNvSpPr/>
          <p:nvPr/>
        </p:nvSpPr>
        <p:spPr>
          <a:xfrm>
            <a:off x="7786800" y="107172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9"/>
          <p:cNvSpPr/>
          <p:nvPr/>
        </p:nvSpPr>
        <p:spPr>
          <a:xfrm>
            <a:off x="8643960" y="507204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10"/>
          <p:cNvSpPr/>
          <p:nvPr/>
        </p:nvSpPr>
        <p:spPr>
          <a:xfrm>
            <a:off x="3857760" y="4896000"/>
            <a:ext cx="500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dm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Graphique 7" descr=""/>
          <p:cNvPicPr/>
          <p:nvPr/>
        </p:nvPicPr>
        <p:blipFill>
          <a:blip r:embed="rId1"/>
          <a:stretch/>
        </p:blipFill>
        <p:spPr>
          <a:xfrm>
            <a:off x="4565520" y="41083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72" name="Graphique 8" descr=""/>
          <p:cNvPicPr/>
          <p:nvPr/>
        </p:nvPicPr>
        <p:blipFill>
          <a:blip r:embed="rId2"/>
          <a:stretch/>
        </p:blipFill>
        <p:spPr>
          <a:xfrm>
            <a:off x="-6480" y="7063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73" name="Graphique 9" descr=""/>
          <p:cNvPicPr/>
          <p:nvPr/>
        </p:nvPicPr>
        <p:blipFill>
          <a:blip r:embed="rId3"/>
          <a:stretch/>
        </p:blipFill>
        <p:spPr>
          <a:xfrm>
            <a:off x="4565520" y="7063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174" name="Graphique 10" descr=""/>
          <p:cNvPicPr/>
          <p:nvPr/>
        </p:nvPicPr>
        <p:blipFill>
          <a:blip r:embed="rId4"/>
          <a:stretch/>
        </p:blipFill>
        <p:spPr>
          <a:xfrm>
            <a:off x="-6480" y="410832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roblématique et objecti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cologie des deux espè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ispositif ter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nalyse des donné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mparaison des sites Paracou – Régina St Georges (RS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erspectives du pro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Y’a-t-il des différences de répartition spatiale et de dynamique entre les deux site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OUI !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Wacapou : structure en plaques dans les deux si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Calibri"/>
              </a:rPr>
              <a:t>Angéliqu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: structure e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agrégats</a:t>
            </a:r>
            <a:r>
              <a:rPr b="0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 à Paracou, en </a:t>
            </a:r>
            <a:r>
              <a:rPr b="1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plaques</a:t>
            </a:r>
            <a:r>
              <a:rPr b="0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 à </a:t>
            </a:r>
            <a:r>
              <a:rPr b="1" lang="fr-FR" sz="2400" spc="-1" strike="noStrike" u="sng">
                <a:solidFill>
                  <a:srgbClr val="ff9900"/>
                </a:solidFill>
                <a:uFillTx/>
                <a:latin typeface="Calibri"/>
              </a:rPr>
              <a:t>Régina</a:t>
            </a:r>
            <a:r>
              <a:rPr b="1" lang="fr-FR" sz="2400" spc="-1" strike="noStrike">
                <a:solidFill>
                  <a:srgbClr val="ff99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plus les peuplements sont déséquilibrés à Rég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162680" cy="4152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828880" cy="4171680"/>
          </a:xfrm>
          <a:prstGeom prst="rect">
            <a:avLst/>
          </a:prstGeom>
          <a:ln w="0">
            <a:noFill/>
          </a:ln>
        </p:spPr>
      </p:pic>
      <p:sp>
        <p:nvSpPr>
          <p:cNvPr id="179" name="ZoneTexte 3"/>
          <p:cNvSpPr/>
          <p:nvPr/>
        </p:nvSpPr>
        <p:spPr>
          <a:xfrm>
            <a:off x="785880" y="57168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géliques adultes à Régina (17 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L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4"/>
          <p:cNvSpPr/>
          <p:nvPr/>
        </p:nvSpPr>
        <p:spPr>
          <a:xfrm>
            <a:off x="5072040" y="500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géliques adultes à Paracou (25 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GREG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7724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00"/>
                </a:solidFill>
                <a:latin typeface="Calibri"/>
              </a:rPr>
              <a:t>Hypothèse : dans les plaques, la dynamique de l’angélique et proche de celle du wacap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niveau des intertypes, l’attraction juvénile/semenciers est plus marquée à Paracou qu’à Rég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Taille des agrégats + densité importante = mise à distance juvén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o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assage d’agrégats à  desPLAQUES 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L’angélique aurait un comportement différent selon qu’elle se situe à l’intérieur de plaques ou d’agrégats 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ifférences de structure spatiale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t de dynamique pour l’angélique et le wacapou entre l’Est et Parac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pulations d’angélique plus déséquilibrées dans l’Est et de plus forte dens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’application des règles existantes à Paracou entrainerait une augmentation de ce déséquili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istes pour l’évolution des pratiques sylvico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Augmentation du diamètre minimum d’exploit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Eviter les prélèvements des individus en périphérie de pla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( rôle actif dans la dynamique du peuplement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 de votre attention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C:\Users\julie\Desktop\oto\DSC03573.JPG"/>
          <p:cNvPicPr/>
          <p:nvPr/>
        </p:nvPicPr>
        <p:blipFill>
          <a:blip r:embed="rId1"/>
          <a:stretch/>
        </p:blipFill>
        <p:spPr>
          <a:xfrm>
            <a:off x="428760" y="357120"/>
            <a:ext cx="8323200" cy="6242040"/>
          </a:xfrm>
          <a:prstGeom prst="rect">
            <a:avLst/>
          </a:prstGeom>
          <a:ln w="0">
            <a:noFill/>
          </a:ln>
        </p:spPr>
      </p:pic>
      <p:sp>
        <p:nvSpPr>
          <p:cNvPr id="186" name="ZoneTexte 5"/>
          <p:cNvSpPr/>
          <p:nvPr/>
        </p:nvSpPr>
        <p:spPr>
          <a:xfrm>
            <a:off x="500040" y="4287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Merc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Problématiqu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objecti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 massif de Régina-Saint Georges (RS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mparaison avec le modèle Paraco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ègles inadaptées pour RS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optimisation de la dynamique des peuplements lors de l’exploi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YGEP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Ecologie des deux espè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Dicorynia guianensis</a:t>
            </a:r>
            <a:r>
              <a:rPr b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 ( Caesalpiniaceae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 u="sng">
                <a:solidFill>
                  <a:srgbClr val="ffffff"/>
                </a:solidFill>
                <a:uFillTx/>
                <a:latin typeface="Calibri"/>
              </a:rPr>
              <a:t>Données écologiques</a:t>
            </a:r>
            <a:r>
              <a:rPr b="1" lang="fr-FR" sz="17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1 espèce exploitée pour bois d’oeuv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Essence de lumière (stade jeun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Puis semi-tolérante à l’omb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Dissémination anémochore (&lt;20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Germination dans les trouées et sous couver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C:\Users\julie\Desktop\oto\Photos clé\P1040919.JPG"/>
          <p:cNvPicPr/>
          <p:nvPr/>
        </p:nvPicPr>
        <p:blipFill>
          <a:blip r:embed="rId1"/>
          <a:srcRect l="17968" t="10412" r="23437" b="4165"/>
          <a:stretch/>
        </p:blipFill>
        <p:spPr>
          <a:xfrm>
            <a:off x="5786280" y="1214280"/>
            <a:ext cx="271476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Calibri"/>
              </a:rPr>
              <a:t>Dynamique du modèle Angél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grégats de 60 m environ espacés d’une centaine de mèt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6294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Vouacapoua americana</a:t>
            </a:r>
            <a:r>
              <a:rPr b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 (Caesalpiniaceae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Données écologiqu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spèce tolérante à l’ombre à tous stade de développ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issémination barochore puis zoochore ( &lt; 30 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Graines sans dorm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olérante à des types variés de s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9" descr="C:\Users\julie\Desktop\oto\DSC03463.JPG"/>
          <p:cNvPicPr/>
          <p:nvPr/>
        </p:nvPicPr>
        <p:blipFill>
          <a:blip r:embed="rId1"/>
          <a:srcRect l="20313" t="5207" r="0" b="9378"/>
          <a:stretch/>
        </p:blipFill>
        <p:spPr>
          <a:xfrm>
            <a:off x="5715000" y="3357720"/>
            <a:ext cx="28782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42720" y="357120"/>
            <a:ext cx="66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Calibri"/>
              </a:rPr>
              <a:t>Dynamique du modèle Wacap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-  structure agrégé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-  agrégats emboîtés à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lusieurs éche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Flèche </a:t>
            </a:r>
            <a:r>
              <a:rPr b="0" lang="fr-FR" sz="2000" spc="-1" strike="noStrike">
                <a:solidFill>
                  <a:srgbClr val="00b050"/>
                </a:solidFill>
                <a:latin typeface="Calibri"/>
              </a:rPr>
              <a:t>verte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Dissémination courte d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Flèche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jaune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Dissémination longue distance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372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Dispositif ter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6127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ieu : massif Régina/Saint-Geo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Parcelle 74 RSG : 17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lacette 6ha (200x300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En comparaison, parcelle 16 de Paracou : 25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C:\Users\julie\Desktop\agseules.jpg"/>
          <p:cNvPicPr/>
          <p:nvPr/>
        </p:nvPicPr>
        <p:blipFill>
          <a:blip r:embed="rId1"/>
          <a:srcRect l="15740" t="10419" r="11282" b="36459"/>
          <a:stretch/>
        </p:blipFill>
        <p:spPr>
          <a:xfrm>
            <a:off x="5715000" y="2571840"/>
            <a:ext cx="3220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ctions ter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2000160"/>
            <a:ext cx="7601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ayonn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Inventaire Angélique et Wacap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dultes dbh &gt; 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juvéniles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collet &gt; 1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Relevés pédolog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6688080" y="25812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1771560" y="5648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2181240" y="5648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6"/>
          <p:cNvSpPr/>
          <p:nvPr/>
        </p:nvSpPr>
        <p:spPr>
          <a:xfrm>
            <a:off x="7469280" y="259092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0"/>
          <p:cNvSpPr/>
          <p:nvPr/>
        </p:nvSpPr>
        <p:spPr>
          <a:xfrm>
            <a:off x="7469280" y="33526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C:\Users\julie\Desktop\oto\DSC03458.JPG"/>
          <p:cNvPicPr/>
          <p:nvPr/>
        </p:nvPicPr>
        <p:blipFill>
          <a:blip r:embed="rId1"/>
          <a:stretch/>
        </p:blipFill>
        <p:spPr>
          <a:xfrm>
            <a:off x="5286240" y="392904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Users\julie\Desktop\oto\DSC03436.JPG"/>
          <p:cNvPicPr/>
          <p:nvPr/>
        </p:nvPicPr>
        <p:blipFill>
          <a:blip r:embed="rId2"/>
          <a:stretch/>
        </p:blipFill>
        <p:spPr>
          <a:xfrm>
            <a:off x="6143760" y="357120"/>
            <a:ext cx="2571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6:34:16Z</dcterms:created>
  <dc:creator>julie</dc:creator>
  <dc:description/>
  <dc:language>en-US</dc:language>
  <cp:lastModifiedBy>julie</cp:lastModifiedBy>
  <dcterms:modified xsi:type="dcterms:W3CDTF">2009-09-25T01:19:57Z</dcterms:modified>
  <cp:revision>23</cp:revision>
  <dc:subject/>
  <dc:title>Diapositive 1</dc:title>
</cp:coreProperties>
</file>