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4.png" ContentType="image/png"/>
  <Override PartName="/ppt/media/image4.jpeg" ContentType="image/jpeg"/>
  <Override PartName="/ppt/media/image25.png" ContentType="image/png"/>
  <Override PartName="/ppt/media/image18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2.png" ContentType="image/png"/>
  <Override PartName="/ppt/media/image6.wmf" ContentType="image/x-wmf"/>
  <Override PartName="/ppt/media/image13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32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8509-277E-4984-A31F-69CA3CF63FD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FF9E-3C41-4FC8-AED6-7354381B5B8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5EBB-0528-4E3D-8161-93E6819F810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artenaire ONF….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DYnamique et GEstion des POPulations d’arbres en forêt guyanaise aménagée : DYGEP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Obj crt terme comparaison des connaissance acquise à Paraco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ifference de dynamique entre les popu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D4AB-A5A2-4E57-B49E-4EBDADBC5C3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issemination a faible distance du pied mère (&lt; 20m) + graine avec dormance 4 sema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etrouve fréquemment sur sols et pentes bien drainé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0C4A-0B09-4D52-93FD-8A8CD734A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1B0F-3EDC-450E-B5BF-94A8F00D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528C-944B-4A2F-B4BE-8AC62303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A15A-6C9D-4506-931E-B387EB577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638B-710E-4DE9-8864-04501035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4FB2-5F21-45DA-9C59-9175C34A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0CD6-B3F3-4BD9-918C-1CEA0F00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5EC9-D3F6-4C65-99CC-9ED7F8E6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16C1-A93D-47E7-8CF9-AE0825B1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4690-10B6-43E9-8DE6-C3A9A200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3E8F-2CFA-4F6F-90BB-3FBB82A8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9A32-1942-4C7D-856D-BC82F623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E43E-BD9A-41D4-A224-AAADE816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E8E7-4661-43E6-952B-12595B18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DAED-3534-4DBF-8BBF-F9DF8519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AF18-D69C-486F-B138-79065CD25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04A2-62B1-4F53-BD4E-74768320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094E-2AFE-45FF-94E9-F47983A3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E681-7D61-437F-B1FC-61FC55C4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BE41-5900-4B78-9FF9-344031AF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05E2-EEB2-402A-8CED-D0A9941A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5C9A-204E-4824-BB47-820E1184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4B98-4B89-4552-A5A8-1DAFA24F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E2A6-E6F9-450C-B8FC-CA1A6F95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D534-DE7D-43D3-9D50-92B4758F14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3D23-85A1-4944-BBD3-76B3340C66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C:\Users\julie\Desktop\oto\DSC03432.JPG"/>
          <p:cNvPicPr/>
          <p:nvPr/>
        </p:nvPicPr>
        <p:blipFill>
          <a:blip r:embed="rId1"/>
          <a:stretch/>
        </p:blipFill>
        <p:spPr>
          <a:xfrm>
            <a:off x="3071880" y="2143080"/>
            <a:ext cx="3000240" cy="4000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alibri"/>
              </a:rPr>
              <a:t>Comparaison de structure et dynamique de populations d’Angélique et de Wacap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762120" y="2286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Compte-rendu de projet  du module Forêts Tropicales Humides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533520" y="62485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Jérôme Maurice- Samuel Guibert- Julie Go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C:\Users\julie\Desktop\oto\DSC03453.JPG"/>
          <p:cNvPicPr/>
          <p:nvPr/>
        </p:nvPicPr>
        <p:blipFill>
          <a:blip r:embed="rId2"/>
          <a:stretch/>
        </p:blipFill>
        <p:spPr>
          <a:xfrm>
            <a:off x="47520" y="342900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C:\Users\julie\Desktop\oto\DSC03463.JPG"/>
          <p:cNvPicPr/>
          <p:nvPr/>
        </p:nvPicPr>
        <p:blipFill>
          <a:blip r:embed="rId3"/>
          <a:srcRect l="20313" t="5207" r="0" b="9378"/>
          <a:stretch/>
        </p:blipFill>
        <p:spPr>
          <a:xfrm>
            <a:off x="6194520" y="3429000"/>
            <a:ext cx="287820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Densités à l’ha par espèce</a:t>
            </a:r>
            <a:br>
              <a:rPr sz="3200"/>
            </a:br>
            <a:r>
              <a:rPr b="0" i="1" lang="fr-FR" sz="2800" spc="-1" strike="noStrike">
                <a:solidFill>
                  <a:srgbClr val="ffffff"/>
                </a:solidFill>
                <a:latin typeface="Calibri"/>
              </a:rPr>
              <a:t>comparaison Paracou/RS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00720" y="171468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Densités d’adultes plus importantes sur RSG qu’à Paracou pour  les 2 espèces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Densités de juvéniles de Wacapou plus faibles et inchangées d’Angéliqu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71680" y="2428920"/>
          <a:ext cx="3929040" cy="2730600"/>
        </p:xfrm>
        <a:graphic>
          <a:graphicData uri="http://schemas.openxmlformats.org/drawingml/2006/table">
            <a:tbl>
              <a:tblPr/>
              <a:tblGrid>
                <a:gridCol w="1231560"/>
                <a:gridCol w="1309680"/>
                <a:gridCol w="860760"/>
                <a:gridCol w="527040"/>
              </a:tblGrid>
              <a:tr h="55872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pè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de_d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c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S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288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géliqu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ul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vén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288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cap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ul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vén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Structures diamétriques</a:t>
            </a:r>
            <a:br>
              <a:rPr sz="3200"/>
            </a:br>
            <a:r>
              <a:rPr b="0" i="1" lang="fr-FR" sz="2800" spc="-1" strike="noStrike">
                <a:solidFill>
                  <a:srgbClr val="ffffff"/>
                </a:solidFill>
                <a:latin typeface="Calibri"/>
              </a:rPr>
              <a:t> comparaison Paracou/RS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opulations de Paracou proches de l’équilib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opulations de RSG déséquilibré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Structures bimodales proche d’un comportement héliophile)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Angélique </a:t>
            </a:r>
            <a:r>
              <a:rPr b="0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Wacapou </a:t>
            </a:r>
            <a:r>
              <a:rPr b="0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357120" y="1357200"/>
            <a:ext cx="4233960" cy="2643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357120" y="4071960"/>
            <a:ext cx="423396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Relation sol/espè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71680" y="2000160"/>
            <a:ext cx="4000320" cy="28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Y’a-t-il une préférence de chaque espèces des variations de type de sol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Test du khi² non significat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Méthode de Harms adaptée (Translation toroïdale)  : plus robuste et prise en compte des structures agrégé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oneTexte 7"/>
          <p:cNvSpPr/>
          <p:nvPr/>
        </p:nvSpPr>
        <p:spPr>
          <a:xfrm>
            <a:off x="5286240" y="14288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épartition Wacapou/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4929120" y="1857240"/>
            <a:ext cx="33530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Résulta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85480" y="1642680"/>
            <a:ext cx="807228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bondance d’Angélique ainsi que de Wacapou sans différence significative entre les sols Alt et DVL (RSG) 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Zones plateau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Zones p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oneTexte 10"/>
          <p:cNvSpPr/>
          <p:nvPr/>
        </p:nvSpPr>
        <p:spPr>
          <a:xfrm>
            <a:off x="4143240" y="350028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G P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4643280" y="3857760"/>
            <a:ext cx="4500720" cy="3000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0" y="3857760"/>
            <a:ext cx="46432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Structure spati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600200"/>
            <a:ext cx="8115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Calibri"/>
              </a:rPr>
              <a:t>Méthode de Riple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alibri"/>
              </a:rPr>
              <a:t>Indice L(d) construit à partir du nombre de points compris dans un cercle de rayon « d » autour de chaque point du semi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alibri"/>
              </a:rPr>
              <a:t>Intervalle de confiance : méthode de Monte-Carl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alibri"/>
              </a:rPr>
              <a:t>Distance d’étude maxima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928880" y="3500280"/>
            <a:ext cx="50720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785520" y="213840"/>
            <a:ext cx="37861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alibri"/>
              </a:rPr>
              <a:t>RSG – Angélique adultes (17h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3" descr="F:\angp16sup10.jpg"/>
          <p:cNvPicPr/>
          <p:nvPr/>
        </p:nvPicPr>
        <p:blipFill>
          <a:blip r:embed="rId1"/>
          <a:srcRect l="19461" t="0" r="23942" b="1139"/>
          <a:stretch/>
        </p:blipFill>
        <p:spPr>
          <a:xfrm>
            <a:off x="4786200" y="785880"/>
            <a:ext cx="4143600" cy="4143240"/>
          </a:xfrm>
          <a:prstGeom prst="rect">
            <a:avLst/>
          </a:prstGeom>
          <a:ln w="0">
            <a:noFill/>
          </a:ln>
        </p:spPr>
      </p:pic>
      <p:sp>
        <p:nvSpPr>
          <p:cNvPr id="142" name="Espace réservé du contenu 3"/>
          <p:cNvSpPr/>
          <p:nvPr/>
        </p:nvSpPr>
        <p:spPr>
          <a:xfrm>
            <a:off x="4643280" y="142920"/>
            <a:ext cx="4500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Paracou P16 – Angélique adultes (25 h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F:\Clé\angp74_17ha.jpg"/>
          <p:cNvPicPr/>
          <p:nvPr/>
        </p:nvPicPr>
        <p:blipFill>
          <a:blip r:embed="rId2"/>
          <a:stretch/>
        </p:blipFill>
        <p:spPr>
          <a:xfrm>
            <a:off x="1214280" y="785880"/>
            <a:ext cx="282924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Graphique 4" descr=""/>
          <p:cNvPicPr/>
          <p:nvPr/>
        </p:nvPicPr>
        <p:blipFill>
          <a:blip r:embed="rId1"/>
          <a:stretch/>
        </p:blipFill>
        <p:spPr>
          <a:xfrm>
            <a:off x="4638600" y="-6480"/>
            <a:ext cx="4511880" cy="3372120"/>
          </a:xfrm>
          <a:prstGeom prst="rect">
            <a:avLst/>
          </a:prstGeom>
          <a:ln w="0">
            <a:noFill/>
          </a:ln>
        </p:spPr>
      </p:pic>
      <p:pic>
        <p:nvPicPr>
          <p:cNvPr id="148" name="Graphique 5" descr=""/>
          <p:cNvPicPr/>
          <p:nvPr/>
        </p:nvPicPr>
        <p:blipFill>
          <a:blip r:embed="rId2"/>
          <a:stretch/>
        </p:blipFill>
        <p:spPr>
          <a:xfrm>
            <a:off x="4638600" y="3425760"/>
            <a:ext cx="4511880" cy="3438720"/>
          </a:xfrm>
          <a:prstGeom prst="rect">
            <a:avLst/>
          </a:prstGeom>
          <a:ln w="0">
            <a:noFill/>
          </a:ln>
        </p:spPr>
      </p:pic>
      <p:pic>
        <p:nvPicPr>
          <p:cNvPr id="149" name="Graphique 6" descr=""/>
          <p:cNvPicPr/>
          <p:nvPr/>
        </p:nvPicPr>
        <p:blipFill>
          <a:blip r:embed="rId3"/>
          <a:stretch/>
        </p:blipFill>
        <p:spPr>
          <a:xfrm>
            <a:off x="-6480" y="-6480"/>
            <a:ext cx="4584960" cy="3372120"/>
          </a:xfrm>
          <a:prstGeom prst="rect">
            <a:avLst/>
          </a:prstGeom>
          <a:ln w="0">
            <a:noFill/>
          </a:ln>
        </p:spPr>
      </p:pic>
      <p:pic>
        <p:nvPicPr>
          <p:cNvPr id="150" name="Graphique 7" descr=""/>
          <p:cNvPicPr/>
          <p:nvPr/>
        </p:nvPicPr>
        <p:blipFill>
          <a:blip r:embed="rId4"/>
          <a:stretch/>
        </p:blipFill>
        <p:spPr>
          <a:xfrm>
            <a:off x="-6480" y="3425760"/>
            <a:ext cx="4584960" cy="3438720"/>
          </a:xfrm>
          <a:prstGeom prst="rect">
            <a:avLst/>
          </a:prstGeom>
          <a:ln w="0">
            <a:noFill/>
          </a:ln>
        </p:spPr>
      </p:pic>
      <p:sp>
        <p:nvSpPr>
          <p:cNvPr id="151" name="ZoneTexte 8"/>
          <p:cNvSpPr/>
          <p:nvPr/>
        </p:nvSpPr>
        <p:spPr>
          <a:xfrm>
            <a:off x="3214800" y="928800"/>
            <a:ext cx="5713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c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c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oneTexte 9"/>
          <p:cNvSpPr/>
          <p:nvPr/>
        </p:nvSpPr>
        <p:spPr>
          <a:xfrm>
            <a:off x="8643960" y="1571760"/>
            <a:ext cx="500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c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c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oneTexte 11"/>
          <p:cNvSpPr/>
          <p:nvPr/>
        </p:nvSpPr>
        <p:spPr>
          <a:xfrm>
            <a:off x="8643960" y="5000760"/>
            <a:ext cx="500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c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c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oneTexte 12"/>
          <p:cNvSpPr/>
          <p:nvPr/>
        </p:nvSpPr>
        <p:spPr>
          <a:xfrm>
            <a:off x="4071960" y="5000760"/>
            <a:ext cx="500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c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c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Structures spatiales - Inter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oneTexte 5"/>
          <p:cNvSpPr/>
          <p:nvPr/>
        </p:nvSpPr>
        <p:spPr>
          <a:xfrm>
            <a:off x="500040" y="1643040"/>
            <a:ext cx="80726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alibri"/>
              </a:rPr>
              <a:t>Indice L(d) construit à partir du nombre de </a:t>
            </a:r>
            <a:r>
              <a:rPr b="0" lang="fr-FR" sz="2200" spc="-1" strike="noStrike" u="sng">
                <a:solidFill>
                  <a:srgbClr val="ffffff"/>
                </a:solidFill>
                <a:uFillTx/>
                <a:latin typeface="Calibri"/>
              </a:rPr>
              <a:t>semenciers</a:t>
            </a:r>
            <a:r>
              <a:rPr b="0" lang="fr-FR" sz="2200" spc="-1" strike="noStrike">
                <a:solidFill>
                  <a:srgbClr val="ffffff"/>
                </a:solidFill>
                <a:latin typeface="Calibri"/>
              </a:rPr>
              <a:t> (diamètre &gt; 25cm)  compris dans un cercle de rayon « d » autour de chaque </a:t>
            </a:r>
            <a:r>
              <a:rPr b="0" lang="fr-FR" sz="2200" spc="-1" strike="noStrike" u="sng">
                <a:solidFill>
                  <a:srgbClr val="ffffff"/>
                </a:solidFill>
                <a:uFillTx/>
                <a:latin typeface="Calibri"/>
              </a:rPr>
              <a:t>juvénile</a:t>
            </a:r>
            <a:r>
              <a:rPr b="0" lang="fr-FR" sz="2200" spc="-1" strike="noStrike">
                <a:solidFill>
                  <a:srgbClr val="ffffff"/>
                </a:solidFill>
                <a:latin typeface="Calibri"/>
              </a:rPr>
              <a:t> du semis de poi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alibri"/>
              </a:rPr>
              <a:t>Intervalle de confiance : méthode de Monte-Car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2214720" y="3357720"/>
            <a:ext cx="509580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Graphique 4" descr=""/>
          <p:cNvPicPr/>
          <p:nvPr/>
        </p:nvPicPr>
        <p:blipFill>
          <a:blip r:embed="rId1"/>
          <a:stretch/>
        </p:blipFill>
        <p:spPr>
          <a:xfrm>
            <a:off x="-6480" y="3565440"/>
            <a:ext cx="4511880" cy="3299040"/>
          </a:xfrm>
          <a:prstGeom prst="rect">
            <a:avLst/>
          </a:prstGeom>
          <a:ln w="0">
            <a:noFill/>
          </a:ln>
        </p:spPr>
      </p:pic>
      <p:pic>
        <p:nvPicPr>
          <p:cNvPr id="162" name="Graphique 5" descr=""/>
          <p:cNvPicPr/>
          <p:nvPr/>
        </p:nvPicPr>
        <p:blipFill>
          <a:blip r:embed="rId2"/>
          <a:stretch/>
        </p:blipFill>
        <p:spPr>
          <a:xfrm>
            <a:off x="-6480" y="-6480"/>
            <a:ext cx="4511880" cy="3511800"/>
          </a:xfrm>
          <a:prstGeom prst="rect">
            <a:avLst/>
          </a:prstGeom>
          <a:ln w="0">
            <a:noFill/>
          </a:ln>
        </p:spPr>
      </p:pic>
      <p:pic>
        <p:nvPicPr>
          <p:cNvPr id="163" name="Graphique 6" descr=""/>
          <p:cNvPicPr/>
          <p:nvPr/>
        </p:nvPicPr>
        <p:blipFill>
          <a:blip r:embed="rId3"/>
          <a:stretch/>
        </p:blipFill>
        <p:spPr>
          <a:xfrm>
            <a:off x="4565520" y="3565440"/>
            <a:ext cx="4584960" cy="3299040"/>
          </a:xfrm>
          <a:prstGeom prst="rect">
            <a:avLst/>
          </a:prstGeom>
          <a:ln w="0">
            <a:noFill/>
          </a:ln>
        </p:spPr>
      </p:pic>
      <p:pic>
        <p:nvPicPr>
          <p:cNvPr id="164" name="Graphique 7" descr=""/>
          <p:cNvPicPr/>
          <p:nvPr/>
        </p:nvPicPr>
        <p:blipFill>
          <a:blip r:embed="rId4"/>
          <a:stretch/>
        </p:blipFill>
        <p:spPr>
          <a:xfrm>
            <a:off x="4565520" y="-6480"/>
            <a:ext cx="4584960" cy="3511800"/>
          </a:xfrm>
          <a:prstGeom prst="rect">
            <a:avLst/>
          </a:prstGeom>
          <a:ln w="0">
            <a:noFill/>
          </a:ln>
        </p:spPr>
      </p:pic>
      <p:sp>
        <p:nvSpPr>
          <p:cNvPr id="165" name="ZoneTexte 8"/>
          <p:cNvSpPr/>
          <p:nvPr/>
        </p:nvSpPr>
        <p:spPr>
          <a:xfrm>
            <a:off x="7786800" y="1071720"/>
            <a:ext cx="500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c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c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ZoneTexte 9"/>
          <p:cNvSpPr/>
          <p:nvPr/>
        </p:nvSpPr>
        <p:spPr>
          <a:xfrm>
            <a:off x="8643960" y="5072040"/>
            <a:ext cx="500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c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c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oneTexte 10"/>
          <p:cNvSpPr/>
          <p:nvPr/>
        </p:nvSpPr>
        <p:spPr>
          <a:xfrm>
            <a:off x="3857760" y="4896000"/>
            <a:ext cx="500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c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c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0040" y="-28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dm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Graphique 7" descr=""/>
          <p:cNvPicPr/>
          <p:nvPr/>
        </p:nvPicPr>
        <p:blipFill>
          <a:blip r:embed="rId1"/>
          <a:stretch/>
        </p:blipFill>
        <p:spPr>
          <a:xfrm>
            <a:off x="4565520" y="4108320"/>
            <a:ext cx="4584960" cy="2756160"/>
          </a:xfrm>
          <a:prstGeom prst="rect">
            <a:avLst/>
          </a:prstGeom>
          <a:ln w="0">
            <a:noFill/>
          </a:ln>
        </p:spPr>
      </p:pic>
      <p:pic>
        <p:nvPicPr>
          <p:cNvPr id="172" name="Graphique 8" descr=""/>
          <p:cNvPicPr/>
          <p:nvPr/>
        </p:nvPicPr>
        <p:blipFill>
          <a:blip r:embed="rId2"/>
          <a:stretch/>
        </p:blipFill>
        <p:spPr>
          <a:xfrm>
            <a:off x="-6480" y="706320"/>
            <a:ext cx="4584960" cy="2756160"/>
          </a:xfrm>
          <a:prstGeom prst="rect">
            <a:avLst/>
          </a:prstGeom>
          <a:ln w="0">
            <a:noFill/>
          </a:ln>
        </p:spPr>
      </p:pic>
      <p:pic>
        <p:nvPicPr>
          <p:cNvPr id="173" name="Graphique 9" descr=""/>
          <p:cNvPicPr/>
          <p:nvPr/>
        </p:nvPicPr>
        <p:blipFill>
          <a:blip r:embed="rId3"/>
          <a:stretch/>
        </p:blipFill>
        <p:spPr>
          <a:xfrm>
            <a:off x="4565520" y="706320"/>
            <a:ext cx="4584960" cy="2756160"/>
          </a:xfrm>
          <a:prstGeom prst="rect">
            <a:avLst/>
          </a:prstGeom>
          <a:ln w="0">
            <a:noFill/>
          </a:ln>
        </p:spPr>
      </p:pic>
      <p:pic>
        <p:nvPicPr>
          <p:cNvPr id="174" name="Graphique 10" descr=""/>
          <p:cNvPicPr/>
          <p:nvPr/>
        </p:nvPicPr>
        <p:blipFill>
          <a:blip r:embed="rId4"/>
          <a:stretch/>
        </p:blipFill>
        <p:spPr>
          <a:xfrm>
            <a:off x="-6480" y="4108320"/>
            <a:ext cx="458496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roblématique et objectif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cologie des deux espè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ispositif terr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nalyse des donné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omparaison des sites Paracou – Régina St Georges (RS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erspectives du proj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Discus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Y’a-t-il des différences de répartition spatiale et de dynamique entre les deux sites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OUI !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Wacapou : structure en plaques dans les deux si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Calibri"/>
              </a:rPr>
              <a:t>Angélique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: structure en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400" spc="-1" strike="noStrike" u="sng">
                <a:solidFill>
                  <a:srgbClr val="ff9900"/>
                </a:solidFill>
                <a:uFillTx/>
                <a:latin typeface="Calibri"/>
              </a:rPr>
              <a:t>agrégats</a:t>
            </a:r>
            <a:r>
              <a:rPr b="0" lang="fr-FR" sz="2400" spc="-1" strike="noStrike" u="sng">
                <a:solidFill>
                  <a:srgbClr val="ff9900"/>
                </a:solidFill>
                <a:uFillTx/>
                <a:latin typeface="Calibri"/>
              </a:rPr>
              <a:t> à Paracou, en </a:t>
            </a:r>
            <a:r>
              <a:rPr b="1" lang="fr-FR" sz="2400" spc="-1" strike="noStrike" u="sng">
                <a:solidFill>
                  <a:srgbClr val="ff9900"/>
                </a:solidFill>
                <a:uFillTx/>
                <a:latin typeface="Calibri"/>
              </a:rPr>
              <a:t>plaques</a:t>
            </a:r>
            <a:r>
              <a:rPr b="0" lang="fr-FR" sz="2400" spc="-1" strike="noStrike" u="sng">
                <a:solidFill>
                  <a:srgbClr val="ff9900"/>
                </a:solidFill>
                <a:uFillTx/>
                <a:latin typeface="Calibri"/>
              </a:rPr>
              <a:t> à </a:t>
            </a:r>
            <a:r>
              <a:rPr b="1" lang="fr-FR" sz="2400" spc="-1" strike="noStrike" u="sng">
                <a:solidFill>
                  <a:srgbClr val="ff9900"/>
                </a:solidFill>
                <a:uFillTx/>
                <a:latin typeface="Calibri"/>
              </a:rPr>
              <a:t>Régina</a:t>
            </a:r>
            <a:r>
              <a:rPr b="1" lang="fr-FR" sz="2400" spc="-1" strike="noStrike">
                <a:solidFill>
                  <a:srgbClr val="ff99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De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plus les peuplements sont déséquilibrés à Rég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4716360" y="1773360"/>
            <a:ext cx="4162680" cy="4152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2828880" cy="4171680"/>
          </a:xfrm>
          <a:prstGeom prst="rect">
            <a:avLst/>
          </a:prstGeom>
          <a:ln w="0">
            <a:noFill/>
          </a:ln>
        </p:spPr>
      </p:pic>
      <p:sp>
        <p:nvSpPr>
          <p:cNvPr id="179" name="ZoneTexte 3"/>
          <p:cNvSpPr/>
          <p:nvPr/>
        </p:nvSpPr>
        <p:spPr>
          <a:xfrm>
            <a:off x="785880" y="571680"/>
            <a:ext cx="32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ngéliques adultes à Régina (17 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LA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ZoneTexte 4"/>
          <p:cNvSpPr/>
          <p:nvPr/>
        </p:nvSpPr>
        <p:spPr>
          <a:xfrm>
            <a:off x="5072040" y="500040"/>
            <a:ext cx="32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ngéliques adultes à Paracou (25 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GREG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77724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9900"/>
                </a:solidFill>
                <a:latin typeface="Calibri"/>
              </a:rPr>
              <a:t>Hypothèse : dans les plaques, la dynamique de l’angélique et proche de celle du wacap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u niveau des intertypes, l’attraction juvénile/semenciers est plus marquée à Paracou qu’à Rég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Taille des agrégats + densité importante = mise à distance juvéni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So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Passage d’agrégats à  desPLAQUES !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L’angélique aurait un comportement différent selon qu’elle se situe à l’intérieur de plaques ou d’agrégats 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ifférences de structure spatiale</a:t>
            </a: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t de dynamique pour l’angélique et le wacapou entre l’Est et Parac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opulations d’angélique plus déséquilibrées dans l’Est et de plus forte densi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’application des règles existantes à Paracou entrainerait une augmentation de ce déséquilib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istes pour l’évolution des pratiques sylvico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Augmentation du diamètre minimum d’exploitabi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Eviter les prélèvements des individus en périphérie de pla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( rôle actif dans la dynamique du peuplement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erci de votre attention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5" descr="C:\Users\julie\Desktop\oto\DSC03573.JPG"/>
          <p:cNvPicPr/>
          <p:nvPr/>
        </p:nvPicPr>
        <p:blipFill>
          <a:blip r:embed="rId1"/>
          <a:stretch/>
        </p:blipFill>
        <p:spPr>
          <a:xfrm>
            <a:off x="428760" y="357120"/>
            <a:ext cx="8323200" cy="6242040"/>
          </a:xfrm>
          <a:prstGeom prst="rect">
            <a:avLst/>
          </a:prstGeom>
          <a:ln w="0">
            <a:noFill/>
          </a:ln>
        </p:spPr>
      </p:pic>
      <p:sp>
        <p:nvSpPr>
          <p:cNvPr id="186" name="ZoneTexte 5"/>
          <p:cNvSpPr/>
          <p:nvPr/>
        </p:nvSpPr>
        <p:spPr>
          <a:xfrm>
            <a:off x="500040" y="42876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Arial"/>
              </a:rPr>
              <a:t>Merci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Problématiqu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et objectif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e massif de Régina-Saint Georges (RSG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omparaison avec le modèle Paracou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ègles inadaptées pour RS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optimisation de la dynamique des peuplements lors de l’exploi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YGEP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alibri"/>
              </a:rPr>
              <a:t>Ecologie des deux espè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ffffff"/>
                </a:solidFill>
                <a:uFillTx/>
                <a:latin typeface="Calibri"/>
              </a:rPr>
              <a:t>Dicorynia guianensis</a:t>
            </a:r>
            <a:r>
              <a:rPr b="1" lang="fr-FR" sz="2000" spc="-1" strike="noStrike" u="sng">
                <a:solidFill>
                  <a:srgbClr val="ffffff"/>
                </a:solidFill>
                <a:uFillTx/>
                <a:latin typeface="Calibri"/>
              </a:rPr>
              <a:t> ( Caesalpiniaceae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 u="sng">
                <a:solidFill>
                  <a:srgbClr val="ffffff"/>
                </a:solidFill>
                <a:uFillTx/>
                <a:latin typeface="Calibri"/>
              </a:rPr>
              <a:t>Données écologiques</a:t>
            </a:r>
            <a:r>
              <a:rPr b="1" lang="fr-FR" sz="17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Calibri"/>
              </a:rPr>
              <a:t>1 espèce exploitée pour bois d’oeuvr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Calibri"/>
              </a:rPr>
              <a:t>Essence de lumière (stade jeune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Calibri"/>
              </a:rPr>
              <a:t>Puis semi-tolérante à l’ombr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Calibri"/>
              </a:rPr>
              <a:t>Dissémination anémochore (&lt;20m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Calibri"/>
              </a:rPr>
              <a:t>Germination dans les trouées et sous couver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C:\Users\julie\Desktop\oto\Photos clé\P1040919.JPG"/>
          <p:cNvPicPr/>
          <p:nvPr/>
        </p:nvPicPr>
        <p:blipFill>
          <a:blip r:embed="rId1"/>
          <a:srcRect l="17968" t="10412" r="23437" b="4165"/>
          <a:stretch/>
        </p:blipFill>
        <p:spPr>
          <a:xfrm>
            <a:off x="5786280" y="1214280"/>
            <a:ext cx="271476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ffff"/>
                </a:solidFill>
                <a:uFillTx/>
                <a:latin typeface="Calibri"/>
              </a:rPr>
              <a:t>Dynamique du modèle Angél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grégats de 60 m environ espacés d’une centaine de mèt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662940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ffffff"/>
                </a:solidFill>
                <a:uFillTx/>
                <a:latin typeface="Calibri"/>
              </a:rPr>
              <a:t>Vouacapoua americana</a:t>
            </a:r>
            <a:r>
              <a:rPr b="1" lang="fr-FR" sz="2000" spc="-1" strike="noStrike" u="sng">
                <a:solidFill>
                  <a:srgbClr val="ffffff"/>
                </a:solidFill>
                <a:uFillTx/>
                <a:latin typeface="Calibri"/>
              </a:rPr>
              <a:t> (Caesalpiniaceae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fffff"/>
                </a:solidFill>
                <a:uFillTx/>
                <a:latin typeface="Calibri"/>
              </a:rPr>
              <a:t>Données écologiqu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spèce tolérante à l’ombre à tous stade de développ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issémination barochore puis zoochore ( &lt; 30 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Graines sans dorma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tolérante à des types variés de s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9" descr="C:\Users\julie\Desktop\oto\DSC03463.JPG"/>
          <p:cNvPicPr/>
          <p:nvPr/>
        </p:nvPicPr>
        <p:blipFill>
          <a:blip r:embed="rId1"/>
          <a:srcRect l="20313" t="5207" r="0" b="9378"/>
          <a:stretch/>
        </p:blipFill>
        <p:spPr>
          <a:xfrm>
            <a:off x="5715000" y="3357720"/>
            <a:ext cx="287820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142720" y="357120"/>
            <a:ext cx="66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fffff"/>
                </a:solidFill>
                <a:uFillTx/>
                <a:latin typeface="Calibri"/>
              </a:rPr>
              <a:t>Dynamique du modèle Wacap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-  structure agrégé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-  agrégats emboîtés à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plusieurs échel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                                                  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Flèche </a:t>
            </a:r>
            <a:r>
              <a:rPr b="0" lang="fr-FR" sz="2000" spc="-1" strike="noStrike">
                <a:solidFill>
                  <a:srgbClr val="00b050"/>
                </a:solidFill>
                <a:latin typeface="Calibri"/>
              </a:rPr>
              <a:t>verte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                                                  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Dissémination courte dist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                                                  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Flèche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jaune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                                                  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Dissémination longue distance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4372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Dispositif terr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19160"/>
            <a:ext cx="61279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Lieu : massif Régina/Saint-Geor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Parcelle 74 RSG : 17 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lacette 6ha (200x300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En comparaison, parcelle 16 de Paracou : 25 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C:\Users\julie\Desktop\agseules.jpg"/>
          <p:cNvPicPr/>
          <p:nvPr/>
        </p:nvPicPr>
        <p:blipFill>
          <a:blip r:embed="rId1"/>
          <a:srcRect l="15740" t="10419" r="11282" b="36459"/>
          <a:stretch/>
        </p:blipFill>
        <p:spPr>
          <a:xfrm>
            <a:off x="5715000" y="2571840"/>
            <a:ext cx="32209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Actions terr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2000160"/>
            <a:ext cx="760104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Layonn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Inventaire Angélique et Wacap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dultes dbh &gt; 10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juvéniles </a:t>
            </a:r>
            <a:r>
              <a:rPr b="0" lang="fr-FR" sz="24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collet &gt; 1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Relevés pédolog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41"/>
          <p:cNvSpPr/>
          <p:nvPr/>
        </p:nvSpPr>
        <p:spPr>
          <a:xfrm>
            <a:off x="6688080" y="258120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4"/>
          <p:cNvSpPr/>
          <p:nvPr/>
        </p:nvSpPr>
        <p:spPr>
          <a:xfrm>
            <a:off x="1771560" y="56484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6"/>
          <p:cNvSpPr/>
          <p:nvPr/>
        </p:nvSpPr>
        <p:spPr>
          <a:xfrm>
            <a:off x="2181240" y="564840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6"/>
          <p:cNvSpPr/>
          <p:nvPr/>
        </p:nvSpPr>
        <p:spPr>
          <a:xfrm>
            <a:off x="7469280" y="259092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0"/>
          <p:cNvSpPr/>
          <p:nvPr/>
        </p:nvSpPr>
        <p:spPr>
          <a:xfrm>
            <a:off x="7469280" y="335268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C:\Users\julie\Desktop\oto\DSC03458.JPG"/>
          <p:cNvPicPr/>
          <p:nvPr/>
        </p:nvPicPr>
        <p:blipFill>
          <a:blip r:embed="rId1"/>
          <a:stretch/>
        </p:blipFill>
        <p:spPr>
          <a:xfrm>
            <a:off x="5286240" y="392904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C:\Users\julie\Desktop\oto\DSC03436.JPG"/>
          <p:cNvPicPr/>
          <p:nvPr/>
        </p:nvPicPr>
        <p:blipFill>
          <a:blip r:embed="rId2"/>
          <a:stretch/>
        </p:blipFill>
        <p:spPr>
          <a:xfrm>
            <a:off x="6143760" y="357120"/>
            <a:ext cx="2571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6:34:16Z</dcterms:created>
  <dc:creator>julie</dc:creator>
  <dc:description/>
  <dc:language>en-US</dc:language>
  <cp:lastModifiedBy>julie</cp:lastModifiedBy>
  <dcterms:modified xsi:type="dcterms:W3CDTF">2009-09-25T01:19:57Z</dcterms:modified>
  <cp:revision>23</cp:revision>
  <dc:subject/>
  <dc:title>Diapositive 1</dc:title>
</cp:coreProperties>
</file>